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D79A1-DF7B-433F-8C5B-6B57CD46E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1B156-719E-4AFE-AC08-7461B636B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24C7E-513F-435E-8043-8152095F7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861C6-140A-494F-A8AE-BD33F7F91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4171D-2FF4-4640-94A4-3CD7FA34D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BC38A-0A3C-43E5-9C72-4B04EACDE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8E7CC-E0C6-4A44-AEC3-518D19BA1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588D7-33A9-4671-887B-7D5A1DA43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F4B93-80BD-4EAC-9C74-DBD4A2DC6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5F33B-D8D5-4322-878B-439373988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4C9EF-7C8B-4D03-9515-F1A00A305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B85DC-90D7-4D45-B083-02C112E20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BF989-D34D-4141-BAA8-A6D32D4E5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A108D-9A14-4831-8669-062A6672C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BFBD4-0137-4933-ABFC-ED93F5518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4CC7B-64E4-4E9B-B632-05A73D330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E4FB3-9F6F-4364-B7EC-7879E28B9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B60DB-3C51-4F4D-B7A5-6A3D8535D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3FB20-0301-46C8-8A64-D2F1243DF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8CBF4-6129-457D-9792-C551E0C43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C67C0-0905-4270-AA64-0DB1996A1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9A69E-06D2-49D4-AD22-B2BEAEBA3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E2BA3-E435-46E1-8940-34AE4653A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597C7-92BF-470B-B503-20FA473E7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736F2-DB52-44CD-8630-22DB2E1DE382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CA7CC-3B83-4910-B4F6-57078EB3EE99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583FC-FEF0-4AFA-B7C0-153E85335535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49280" y="526104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alibri"/>
                <a:ea typeface="宋体"/>
              </a:rPr>
              <a:t>Click to edit Master title styl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49280" y="480348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863a"/>
                </a:solidFill>
                <a:latin typeface="Calibri"/>
                <a:ea typeface="宋体"/>
              </a:rPr>
              <a:t>Click to edit Master subtitle sty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4"/>
          <p:cNvSpPr/>
          <p:nvPr/>
        </p:nvSpPr>
        <p:spPr>
          <a:xfrm>
            <a:off x="2892600" y="3276720"/>
            <a:ext cx="77760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PPT</a:t>
            </a:r>
            <a:r>
              <a:rPr b="1" i="1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下载：</a:t>
            </a:r>
            <a:r>
              <a:rPr b="1" i="1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moban/     </a:t>
            </a:r>
            <a:r>
              <a:rPr b="1" i="1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行业</a:t>
            </a:r>
            <a:r>
              <a:rPr b="1" i="1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PPT</a:t>
            </a:r>
            <a:r>
              <a:rPr b="1" i="1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1" i="1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节日</a:t>
            </a:r>
            <a:r>
              <a:rPr b="1" i="1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PPT</a:t>
            </a:r>
            <a:r>
              <a:rPr b="1" i="1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1" i="1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jieri/           PPT</a:t>
            </a:r>
            <a:r>
              <a:rPr b="1" i="1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素材下载：</a:t>
            </a:r>
            <a:r>
              <a:rPr b="1" i="1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PPT</a:t>
            </a:r>
            <a:r>
              <a:rPr b="1" i="1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背景图片：</a:t>
            </a:r>
            <a:r>
              <a:rPr b="1" i="1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beijing/      PPT</a:t>
            </a:r>
            <a:r>
              <a:rPr b="1" i="1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图表下载：</a:t>
            </a:r>
            <a:r>
              <a:rPr b="1" i="1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优秀</a:t>
            </a:r>
            <a:r>
              <a:rPr b="1" i="1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PPT</a:t>
            </a:r>
            <a:r>
              <a:rPr b="1" i="1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下载：</a:t>
            </a:r>
            <a:r>
              <a:rPr b="1" i="1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xiazai/        PPT</a:t>
            </a:r>
            <a:r>
              <a:rPr b="1" i="1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1" i="1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ord</a:t>
            </a:r>
            <a:r>
              <a:rPr b="1" i="1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1" i="1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word/              Excel</a:t>
            </a:r>
            <a:r>
              <a:rPr b="1" i="1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</a:t>
            </a:r>
            <a:r>
              <a:rPr b="1" i="1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资料下载：</a:t>
            </a:r>
            <a:r>
              <a:rPr b="1" i="1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ziliao/                PPT</a:t>
            </a:r>
            <a:r>
              <a:rPr b="1" i="1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课件下载：</a:t>
            </a:r>
            <a:r>
              <a:rPr b="1" i="1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范文下载：</a:t>
            </a:r>
            <a:r>
              <a:rPr b="1" i="1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fanwen/             </a:t>
            </a:r>
            <a:r>
              <a:rPr b="1" i="1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试卷下载：</a:t>
            </a:r>
            <a:r>
              <a:rPr b="1" i="1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案下载：</a:t>
            </a:r>
            <a:r>
              <a:rPr b="1" i="1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文本框 3076"/>
          <p:cNvSpPr/>
          <p:nvPr/>
        </p:nvSpPr>
        <p:spPr>
          <a:xfrm>
            <a:off x="3636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文本框 3077"/>
          <p:cNvSpPr/>
          <p:nvPr/>
        </p:nvSpPr>
        <p:spPr>
          <a:xfrm>
            <a:off x="1547640" y="4192560"/>
            <a:ext cx="506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鲜艳玫瑰淡雅背景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Slide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49280" y="1444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6923c"/>
                </a:solidFill>
                <a:latin typeface="Arial"/>
              </a:rPr>
              <a:t>Make Effective Presen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6923c"/>
                </a:solidFill>
                <a:latin typeface="Arial"/>
              </a:rPr>
              <a:t>Using Awesome Backgr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6923c"/>
                </a:solidFill>
                <a:latin typeface="Arial"/>
              </a:rPr>
              <a:t>Engage your Audi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6923c"/>
                </a:solidFill>
                <a:latin typeface="Arial"/>
              </a:rPr>
              <a:t>Capture Audience Atten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1320" y="274320"/>
            <a:ext cx="6710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Slide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2281320" y="1444320"/>
            <a:ext cx="6710400" cy="42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6923c"/>
                </a:solidFill>
                <a:latin typeface="Arial"/>
              </a:rPr>
              <a:t>Make Effective Presen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6923c"/>
                </a:solidFill>
                <a:latin typeface="Arial"/>
              </a:rPr>
              <a:t>Using Awesome Backgr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6923c"/>
                </a:solidFill>
                <a:latin typeface="Arial"/>
              </a:rPr>
              <a:t>Engage your Audi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6923c"/>
                </a:solidFill>
                <a:latin typeface="Arial"/>
              </a:rPr>
              <a:t>Capture Audience Atten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文本框 5123"/>
          <p:cNvSpPr/>
          <p:nvPr/>
        </p:nvSpPr>
        <p:spPr>
          <a:xfrm>
            <a:off x="1824120" y="449892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D6E2C-3925-4A09-A1D7-3648AA908A90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Slide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444320"/>
            <a:ext cx="404028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6923c"/>
                </a:solidFill>
                <a:latin typeface="Arial"/>
              </a:rPr>
              <a:t>Product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40" y="2072880"/>
            <a:ext cx="4040280" cy="37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6923c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6923c"/>
                </a:solidFill>
                <a:latin typeface="Arial"/>
              </a:rPr>
              <a:t>Featur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6923c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6923c"/>
                </a:solidFill>
                <a:latin typeface="Arial"/>
              </a:rPr>
              <a:t>Feature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6923c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6923c"/>
                </a:solidFill>
                <a:latin typeface="Arial"/>
              </a:rPr>
              <a:t>Feature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644720" y="1444320"/>
            <a:ext cx="404172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6923c"/>
                </a:solidFill>
                <a:latin typeface="Arial"/>
              </a:rPr>
              <a:t>Product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644720" y="2072880"/>
            <a:ext cx="4041720" cy="37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6923c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6923c"/>
                </a:solidFill>
                <a:latin typeface="Arial"/>
              </a:rPr>
              <a:t>Featur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6923c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6923c"/>
                </a:solidFill>
                <a:latin typeface="Arial"/>
              </a:rPr>
              <a:t>Feature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6923c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6923c"/>
                </a:solidFill>
                <a:latin typeface="Arial"/>
              </a:rPr>
              <a:t>Feature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1T19:17:0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1-24T03:35:59Z</dcterms:modified>
  <cp:revision>20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58</vt:lpwstr>
  </property>
</Properties>
</file>