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D3F8-CB66-4707-AF92-9F22601BE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CA5F-18B4-4FA2-9D6C-EAFC7965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1CC5-1003-4F41-B5D0-837A6A5C4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AB8D-2A41-43BC-AA4C-DF066016A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7955-626C-40AD-B4A1-734EF8748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56A2-6F19-4DBF-BE7F-4037DCBB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4444-F7D8-40DE-9D29-491AC5D2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7BA6-5565-4B12-AEC2-D18CEE16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4439-4444-4504-8906-51CDAB14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F984-3C5B-4E84-AEBA-818AEC65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0D02-E5E7-40A1-AA92-E3D0D676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1382-58EB-43BE-888B-A8F5A09F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636A-769E-4AE2-90BE-CE507144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1FDB-C5AF-49DA-B4B4-61611643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5B15-9444-4095-B8B8-6EE1C04F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10C2-E384-4F44-A868-F11DDF17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3934-504A-4E08-9B12-4965B5ADB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2465-D81B-43C4-BAFA-F63FFEB1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4DD7-29F9-4FAA-AE4B-648FF29B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D3C7-9AB1-4E16-AB20-84A8F602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283F-D417-4A47-915A-B98E6533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F963-141E-40FE-B4A6-110D5601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8F36-158C-4BD7-AF8A-212DFA45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69D7-36BF-419B-884E-D6137A37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849923-436A-41B1-8147-C2D2FEE98C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9013FB-A3CE-498D-8469-B91CC32B7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1805F3-2158-416C-9FA9-3CC9FC8F664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2AA3D5-8440-442A-A7E2-97992E227EB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3073"/>
          <p:cNvSpPr/>
          <p:nvPr/>
        </p:nvSpPr>
        <p:spPr>
          <a:xfrm>
            <a:off x="76320" y="478152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3074"/>
          <p:cNvSpPr/>
          <p:nvPr/>
        </p:nvSpPr>
        <p:spPr>
          <a:xfrm>
            <a:off x="1809360" y="13320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迎春納福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完整版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09D763-5D34-457A-A6F4-C25B7E51EE7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4097"/>
          <p:cNvSpPr/>
          <p:nvPr/>
        </p:nvSpPr>
        <p:spPr>
          <a:xfrm>
            <a:off x="1371600" y="5904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02:42:0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4:39Z</dcterms:modified>
  <cp:revision>1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