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8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07DC-9BFB-4923-98E3-7C9735F7A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FF78-D4D0-44C6-AF5F-B2DBC6384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CD3CEB-88A1-40E6-9B87-20D92B9CA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2D8951-0B92-4A4A-B596-1CC2B219A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822853-A256-459B-8AA6-964E663DA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B04DB8-9E2F-4CB3-9B14-6C9B861A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B3AB5-5094-4D50-BCD4-AEE85108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B9F382-A3D2-4E1D-AA4B-46512663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9EBDA7-1DD2-4D11-8493-2F154BCB2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CED25F-87C3-408D-8041-ECE8AB44B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CD2529-F228-4FD4-BC2F-000175977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B1D532-53FE-486B-9794-007DE76C2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CDB0-944F-4523-BD0B-BC9FFC14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E0E89-3657-4B7C-B738-4EF3F8DD5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FE163C-B71E-4355-8252-798015FE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E289B7-9ECA-44BF-823E-D25C4B86D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08E256-F33D-4C44-836E-A056B1D9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756D72-3683-4733-83A0-464F744C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E32D23-CC49-42A8-9CE2-15047A20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B59F02-233E-4FAF-9F67-DEDE0DFD0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34D1D2-CD42-43F6-8202-C19A2F52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8F95AD-D4A4-4031-A6FE-0546E32BE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C5CEDA-ED7C-4010-A771-B98D7B761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7BD6-2BAB-436B-B74F-F9B471776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91E81-B6B4-4FA4-AAD1-28408B410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5178E9-BDF3-45C0-BEC5-BFC1CBCC8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CF00FE-CC60-4917-9C9C-86FF08E9D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99515A-26E1-4E20-8B89-A3A122F83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9FE483-1F46-451A-B0FD-F262DE6A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D72AF-CF45-41EE-BC08-7259DE09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76DD9-83A2-4E2B-BFB8-4958C2194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1393D8-CD8C-4AC5-8F6D-CB3F3E08E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4C8A6E-663F-40C2-B31A-F9FE3FEE0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1E135D-FEFE-44DD-998B-D28C3ABE4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A957-D8F0-476A-A5E5-22AE4F23F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5403BB-DBCC-4C94-B4BA-D5C6C399F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3C651-53BE-4342-A60D-D9566E951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5B11CB-0A97-4972-8E70-B1EF761B0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476082-6BAB-4216-AECD-DE4D8EA05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25D951-4A4D-472A-960C-0D52444D9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D0B355-1580-4F3C-A1F9-E5692CBA6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4C7FCB-3BE7-4132-BFCD-E06C2D2A5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767482-5AB7-4672-8787-992389AB2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C5AF1-D87D-4615-8B41-9DD59E083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BF05E2-7216-4C72-AB14-162B2D5E1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DA63E-EF83-4A5E-A8C1-4A13B99AD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2D6604-4C2A-4ADB-AC40-07DB16A3C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33B2A4-D732-4B11-A7D8-8F7301BBB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EFEC66-EA6B-4B32-93AE-0ED248AA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FA6552-ED8D-44F4-93CA-A22A725C9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E71A34-0FDE-4923-B99C-A7D040F23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939EFB-FFE9-447C-8AC6-72A9CE9A0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4B8622-E661-466D-8580-3FF0BD006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9F2E61-3CFD-4771-97D4-D0BAF751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CA0611-213A-4F64-82B9-B003B902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CA71BB-7BDF-4936-9FEC-6DB26EF64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7FDC-FC6B-459B-A160-6B03DCCAC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592029-1F63-4619-972D-3592AFC85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43DB23-1684-4381-B782-E503FEC87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ADFD3B-3ED3-46F7-83CC-3E060DDF7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FA876F5-BE63-45CE-A3A9-72451F78E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8D5DA-937E-477E-9DF7-DD75870E9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563D8C-77CE-451E-B15B-98DD2991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0C3344-76C8-4D78-AA2A-D803FDA93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22FFBC-5789-487C-ACE0-4A778952D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13820-E328-4A91-ADD2-2F5937177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B05A-5966-4692-ADF4-F6BEE7010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CB74-AD96-42D2-B20D-B15B21B03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461A-63D0-46AA-907B-B5D2D7B8D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AA11B-C831-4497-9CBE-FEF1954E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CE4A-A51C-4855-A57F-9A6B55CC9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DDC2-843F-4398-B239-EDF5F8BB0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40C9C-55CD-4875-86A9-C63010D2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CBA35-4BE9-441F-BF5E-63F9E4971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18E49-3FAF-42B4-813F-A4D346F6A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37F8F-0DCA-41E6-8E0D-BBB8D18F0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71C99-6D81-4D3D-95D0-A3A8BA74C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1FF323-6B34-4CD7-946C-7CD60678F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191A9-5F99-4716-9A63-773C7385B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CF61-6F71-4FDF-8A2A-E4D356AC8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71304E-5108-443C-895A-528CEDEFD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9BECB-8D10-4DC2-AE65-565D148D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327CF1-CD3E-4CAB-802A-5F0837AB2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BC0CC-2B1D-409E-8154-B714403E9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60800-E611-49AF-819A-4F1C57B5C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92399D-8EBC-479A-A369-D060B4063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ABC0EF-492A-4E91-BC78-3F494898B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E67F64-E1D2-4B17-BEFF-F20B4278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E993BB-129F-4589-A0BA-48212C39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67D0E1-3EEB-4098-B12C-EDE1D096C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34E4-26F3-4332-86B0-9710D60C2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ED8C9-2775-4435-9745-2F94722CC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7A0163-63FA-4100-BD52-91C1B0E3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88A90-39EA-4D79-A981-845A35CF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071D0-9C1A-4115-B907-556258C6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FD521-3F98-4D55-B07B-800C852E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7A8475-F3D1-4AE0-AD49-0B9F56D4D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986EC8-DD1C-4622-B1F6-39A7F7B2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53288B-8DD2-43F9-BE76-E4A3A6F7A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13996B-BEB9-4F74-815F-8B1884FE9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76C841-7D55-4F0D-86C1-B5BECF5C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6A7-EF4A-4C25-BB29-227AC1390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32AD3-812C-4F60-B7B6-68455BC54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49D06A-0D92-460E-85A8-9A9C10DA8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843FC-B9FA-456A-8FA5-C3DE1E587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D9647D-9E8C-45EF-9986-B2DE6D04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FB372-4721-4BD1-9B8A-3064C0982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AEFD9-3F1E-41AF-97CE-59974E83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1E7C61-2A5C-42FC-9CC6-2620305D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166CB9-CD2B-4FF8-9C3D-EBE2E19C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96976-BBDB-40ED-A9C9-A59EE3B7F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DDD24-F628-41B7-959F-42D3DEDAF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3FB7-54AC-454F-AB78-19BA00FA9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3D563-F1A5-4FFF-9CFC-B74F758B9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87728F-6EEA-489C-836A-DC7C37000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8A361-5249-406C-8D10-B6FC0812B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FDB04B-8215-46D4-B73F-0940231E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99B44-1B8A-4B23-A8E4-7FD71DA13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CFC94-1C23-44F3-BED8-78CB180C4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1D79CE-770E-4F50-9EC4-7CEA5A004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88DE41-00FF-4E78-BDB0-987261760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E8E6D4-D557-49BE-AF43-A66F03AE9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310913-CE10-466B-8C46-B69187986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C48-176A-4C73-8ECF-B310EB8AE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642C29-FE6E-4E50-A5CF-A52E6B84A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C8014-84DE-46AE-9C57-F817FF869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BACB75-2476-4E57-A9F9-39FD67768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72B2AF-66A8-4F38-ACB7-F6402407E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8ABF10-10CB-4CE0-BDC8-CFA57CCF4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F6E81F-A326-44CE-BAAD-799AD6190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FB20C7-B248-4836-86BD-B4C9CEF17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54628-2EEB-46AF-B7CC-F296FE4FA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F143D7-9FAE-4A19-A985-E0922951A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8A0BA-5BB6-40E8-8256-57A4E8649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D040-F103-4768-9299-335E0630A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2228B3-4A08-452D-BB93-66B58DC6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31B135-0165-4A3C-B67F-8F5102F14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6932EA-82C2-4FC7-8797-24FBC455E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0735B4-0575-43EE-858C-A9DDDEBE3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8D1E69-1876-46ED-BEE3-4D4681CFB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D2446D-378A-4B3D-9BDA-09C0F8307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673BCD-AC17-4DA7-B122-EEE3393BF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F3AC2B-73F9-4F32-8399-88FB0D9C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65DD96-F457-4787-B760-567E80812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439650-9409-4C15-BD68-F4B0C4DD9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F672-56B7-4D81-8E23-DBC0489F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E42422-02B4-488C-8C02-43B39C03A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0AC21F-694C-4093-9CF3-3B98966D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F4134C-101F-49BE-85FE-1E1D3BBE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EE4761-49B5-41BD-9F49-F1DDE14CC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9CA2D-A910-425A-B685-6F6954C92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CC5F1-A618-4299-93B1-B753BEE97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C82B85-F118-4269-8C45-86308181B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D4ACA4-EA66-4B3F-9EBC-0BA18D6D6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826FDE-ED7A-4986-8276-85EE26344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282CB0-D149-4535-9B70-5C165F4D2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38AF2-F02E-4D72-AA2C-0FF9B74496C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9191-5FE4-4579-A577-07F5ACC280C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17590-396B-4188-A276-43904E5E3CE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7477-FDDD-4DA9-A771-C0E526AC0B8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06D53-3162-4AFF-B5E7-B3C36E1CDFF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15B36-B0DF-4910-84EF-18AE8F27EC5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A00E-B824-464E-8A7A-A6B101E3C51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433E3-47AB-4103-9FC7-C7691A970D1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AD236-FE0A-4378-AA60-3DB8EB48939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CF95E-9235-45AE-B368-A38ACD190CE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47ED-B3A0-416D-8AB8-B392CF2F1217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F240F-1785-4E0A-ABF1-F155839D4E5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D4978-A726-4194-B07D-046F1E8F34B4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4A4AB-C1B5-45C2-A512-7F28F9DB503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74971-0554-4C81-8D96-55502077B9F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457E-52D4-42A4-A170-7229F31CE92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5FD52-1DDA-4FFD-8E20-E22D6C1D512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3D110-BBBF-4B59-A775-356BDB2BE49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62116-C325-4C2C-944F-33AE6A95156C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63B1B-BEC1-445E-8001-AE6B37DBD6E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EF76-EDC4-4D5D-B7E4-0A69FEB458E5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07527-EC63-4F3C-872E-97BB8FBC2A0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D8C1-BDA6-4AB2-85DD-172317085CD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EB2F8-9371-4294-9E04-B554009E09F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CE62-F003-42C8-A4E3-A21C3A0A8DE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E4BA5-4DE8-41DA-84B7-1E3A4840662B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hyperlink" Target="http://www.eeppt.com" TargetMode="External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图片 5" descr="背景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34" name="帘子" descr="帘子.png"/>
          <p:cNvPicPr/>
          <p:nvPr/>
        </p:nvPicPr>
        <p:blipFill>
          <a:blip r:embed="rId2"/>
          <a:stretch/>
        </p:blipFill>
        <p:spPr>
          <a:xfrm>
            <a:off x="3240" y="0"/>
            <a:ext cx="9137520" cy="2876400"/>
          </a:xfrm>
          <a:prstGeom prst="rect">
            <a:avLst/>
          </a:prstGeom>
          <a:ln w="0">
            <a:noFill/>
          </a:ln>
        </p:spPr>
      </p:pic>
      <p:pic>
        <p:nvPicPr>
          <p:cNvPr id="535" name="恭" descr=""/>
          <p:cNvPicPr/>
          <p:nvPr/>
        </p:nvPicPr>
        <p:blipFill>
          <a:blip r:embed="rId3"/>
          <a:stretch/>
        </p:blipFill>
        <p:spPr>
          <a:xfrm>
            <a:off x="-826920" y="2876400"/>
            <a:ext cx="717480" cy="717840"/>
          </a:xfrm>
          <a:prstGeom prst="rect">
            <a:avLst/>
          </a:prstGeom>
          <a:ln w="0">
            <a:noFill/>
          </a:ln>
        </p:spPr>
      </p:pic>
      <p:pic>
        <p:nvPicPr>
          <p:cNvPr id="536" name="新" descr=""/>
          <p:cNvPicPr/>
          <p:nvPr/>
        </p:nvPicPr>
        <p:blipFill>
          <a:blip r:embed="rId4"/>
          <a:stretch/>
        </p:blipFill>
        <p:spPr>
          <a:xfrm>
            <a:off x="9655200" y="2879640"/>
            <a:ext cx="716040" cy="717480"/>
          </a:xfrm>
          <a:prstGeom prst="rect">
            <a:avLst/>
          </a:prstGeom>
          <a:ln w="0">
            <a:noFill/>
          </a:ln>
        </p:spPr>
      </p:pic>
      <p:pic>
        <p:nvPicPr>
          <p:cNvPr id="537" name="禧" descr=""/>
          <p:cNvPicPr/>
          <p:nvPr/>
        </p:nvPicPr>
        <p:blipFill>
          <a:blip r:embed="rId5"/>
          <a:stretch/>
        </p:blipFill>
        <p:spPr>
          <a:xfrm>
            <a:off x="10185480" y="2876400"/>
            <a:ext cx="716040" cy="717840"/>
          </a:xfrm>
          <a:prstGeom prst="rect">
            <a:avLst/>
          </a:prstGeom>
          <a:ln w="0">
            <a:noFill/>
          </a:ln>
        </p:spPr>
      </p:pic>
      <p:pic>
        <p:nvPicPr>
          <p:cNvPr id="538" name="贺" descr=""/>
          <p:cNvPicPr/>
          <p:nvPr/>
        </p:nvPicPr>
        <p:blipFill>
          <a:blip r:embed="rId6"/>
          <a:stretch/>
        </p:blipFill>
        <p:spPr>
          <a:xfrm>
            <a:off x="2725560" y="1711440"/>
            <a:ext cx="2216160" cy="2514600"/>
          </a:xfrm>
          <a:prstGeom prst="rect">
            <a:avLst/>
          </a:prstGeom>
          <a:ln w="0">
            <a:noFill/>
          </a:ln>
        </p:spPr>
      </p:pic>
      <p:pic>
        <p:nvPicPr>
          <p:cNvPr id="539" name="钱币" descr=""/>
          <p:cNvPicPr/>
          <p:nvPr/>
        </p:nvPicPr>
        <p:blipFill>
          <a:blip r:embed="rId7"/>
          <a:stretch/>
        </p:blipFill>
        <p:spPr>
          <a:xfrm rot="17587800">
            <a:off x="6600600" y="3282840"/>
            <a:ext cx="1819440" cy="1222200"/>
          </a:xfrm>
          <a:prstGeom prst="rect">
            <a:avLst/>
          </a:prstGeom>
          <a:ln w="0">
            <a:noFill/>
          </a:ln>
        </p:spPr>
      </p:pic>
      <p:sp>
        <p:nvSpPr>
          <p:cNvPr id="540" name="文本框 14344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文本框 14345"/>
          <p:cNvSpPr/>
          <p:nvPr/>
        </p:nvSpPr>
        <p:spPr>
          <a:xfrm>
            <a:off x="2522520" y="884160"/>
            <a:ext cx="383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元旦动画幻灯片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xit" presetID="47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6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2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mph" presetID="8" repeatCount="10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1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0.00624 -7.40741E-007 C 0.00954 -0.01458 0.0125 -0.02917 0.01875 -0.03704 C 0.02483 -0.04514 0.03594 -0.05046 0.0441 -0.04768 C 0.05105 -0.04468 0.05799 -0.02778 0.06268 -0.01968 C 0.06754 -0.01157 0.06615 -0.00324 0.07205 -7.40741E-007 C 0.07813 0.00347 0.08994 0.00671 0.09723 -7.40741E-007 C 0.10435 -0.00648 0.10764 -0.03241 0.11476 -0.03935 C 0.12205 -0.04653 0.13334 -0.04977 0.14098 -0.04282 C 0.14896 -0.03611 0.15348 -0.00579 0.16251 0.00116 C 0.17136 0.00833 0.18629 0.00718 0.19462 -7.40741E-007 C 0.20296 -0.00694 0.20539 -0.03449 0.21355 -0.04167 C 0.22188 -0.04907 0.23646 -0.05139 0.24323 -0.04398 C 0.24983 -0.03657 0.24827 -0.00625 0.25382 0.00232 C 0.26025 0.01111 0.27362 0.0088 0.28004 0.00718 C 0.28664 0.00532 0.2915 -0.00393 0.29428 -0.0081 C 0.2974 -0.01204 0.29844 -0.01481 0.29931 -0.01736 E">
                                      <p:cBhvr>
                                        <p:cTn id="13" dur="3000" fill="hold"/>
                                        <p:tgtEl>
                                          <p:spTgt spid="5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mph" presetID="8" repeatCount="9000">
                                  <p:stCondLst>
                                    <p:cond delay="500"/>
                                  </p:stCondLst>
                                  <p:childTnLst>
                                    <p:animRot by="21600000">
                                      <p:cBhvr>
                                        <p:cTn id="1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2.5E-006 0.0007 C -0.00868 -0.0118 -0.01666 -0.02453 -0.02656 -0.03194 C -0.03628 -0.03958 -0.04982 -0.04652 -0.05885 -0.04467 C -0.06771 -0.04328 -0.075 -0.03125 -0.08003 -0.02268 C -0.08489 -0.01481 -0.08437 -0.00046 -0.08975 0.0044 C -0.09531 0.00926 -0.10486 0.01297 -0.1125 0.00602 C -0.12014 -0.00046 -0.12743 -0.02847 -0.13489 -0.03541 C -0.14288 -0.04282 -0.1526 -0.04444 -0.15955 -0.03703 C -0.16666 -0.03009 -0.16909 0.0007 -0.17725 0.00811 C -0.18559 0.01482 -0.20087 0.01158 -0.20989 0.0044 C -0.21857 -0.00277 -0.22343 -0.0287 -0.2309 -0.03541 C -0.23871 -0.04213 -0.24757 -0.04328 -0.25503 -0.03541 C -0.26284 -0.02824 -0.26666 0.00371 -0.27604 0.00996 C -0.28611 0.0169 -0.30312 0.01042 -0.31337 0.00255 C -0.32413 -0.00555 -0.33073 -0.03194 -0.33784 -0.03912 C -0.34531 -0.04652 -0.35173 -0.04282 -0.35746 -0.04097 C -0.36284 -0.03912 -0.36666 -0.03634 -0.3717 -0.02824 C -0.37673 -0.02014 -0.37847 0.00209 -0.38646 0.00811 C -0.39427 0.01389 -0.41093 0.01574 -0.41875 0.00811 C -0.42656 0.00047 -0.42656 -0.02847 -0.43333 -0.03703 C -0.43993 -0.04629 -0.45278 -0.04745 -0.4592 -0.04467 C -0.46597 -0.0412 -0.47031 -0.02615 -0.47378 -0.01736 C -0.47778 -0.00879 -0.47812 0.00139 -0.48194 0.00602 C -0.48628 0.01088 -0.49305 0.01621 -0.49826 0.01158 C -0.50382 0.00741 -0.51041 -0.01435 -0.51389 -0.01921 E">
                                      <p:cBhvr>
                                        <p:cTn id="17" dur="5000" fill="hold"/>
                                        <p:tgtEl>
                                          <p:spTgt spid="5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" dur="indefinite" nodeType="withEffect" fill="hold" presetClass="emph" presetID="8" repeatCount="9000">
                                  <p:stCondLst>
                                    <p:cond delay="1500"/>
                                  </p:stCondLst>
                                  <p:childTnLst>
                                    <p:animRot by="21600000">
                                      <p:cBhvr>
                                        <p:cTn id="1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0.01736 -7.40741E-007 C -0.02482 -0.00995 -0.03107 -0.01991 -0.04045 -0.0243 C -0.0493 -0.0287 -0.06354 -0.03102 -0.07205 -0.02824 C -0.08038 -0.02593 -0.08541 -0.01435 -0.09062 -0.0081 C -0.096 -0.00208 -0.09774 0.00625 -0.10416 0.00926 C -0.11041 0.0125 -0.12135 0.01574 -0.12916 0.01065 C -0.13732 0.00556 -0.14305 -0.01412 -0.15104 -0.02014 C -0.15885 -0.02639 -0.1684 -0.02824 -0.17621 -0.02708 C -0.1842 -0.02593 -0.19253 -0.01805 -0.19826 -0.01204 C -0.20347 -0.00625 -0.20382 0.00394 -0.20816 0.0081 C -0.2125 0.01227 -0.21962 0.01296 -0.22482 0.01296 C -0.22986 0.01389 -0.23594 0.01806 -0.24149 0.01204 C -0.24757 0.00602 -0.25312 -0.0162 -0.26024 -0.02292 C -0.26701 -0.02986 -0.27621 -0.03148 -0.28368 -0.0294 C -0.29097 -0.02708 -0.29809 -0.01528 -0.30382 -0.0081 C -0.30972 -0.00093 -0.31232 0.00926 -0.3191 0.01296 C -0.32517 0.01713 -0.33298 0.02222 -0.34201 0.01574 C -0.35104 0.01042 -0.36441 -0.01227 -0.37239 -0.02014 C -0.38107 -0.02824 -0.38628 -0.02963 -0.39253 -0.03102 C -0.39844 -0.03148 -0.40503 -0.03079 -0.40972 -0.02708 C -0.41406 -0.02292 -0.4158 -0.01412 -0.41927 -0.0081 C -0.42326 -0.00208 -0.42587 0.00625 -0.43125 0.00926 C -0.4368 0.0125 -0.44583 0.01574 -0.45295 0.01065 C -0.46007 0.00532 -0.46666 -0.0088 -0.47205 -0.02292 E">
                                      <p:cBhvr>
                                        <p:cTn id="21" dur="5000" fill="hold"/>
                                        <p:tgtEl>
                                          <p:spTgt spid="5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4" presetSubtype="16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9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DC60-037D-4B8E-84F8-4BB66775ECD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图片 3" descr="背景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7" name="帘子" descr="帘子.png"/>
          <p:cNvPicPr/>
          <p:nvPr/>
        </p:nvPicPr>
        <p:blipFill>
          <a:blip r:embed="rId2"/>
          <a:stretch/>
        </p:blipFill>
        <p:spPr>
          <a:xfrm>
            <a:off x="6480" y="0"/>
            <a:ext cx="9137520" cy="2876400"/>
          </a:xfrm>
          <a:prstGeom prst="rect">
            <a:avLst/>
          </a:prstGeom>
          <a:ln w="0">
            <a:noFill/>
          </a:ln>
        </p:spPr>
      </p:pic>
      <p:pic>
        <p:nvPicPr>
          <p:cNvPr id="548" name="帘子2" descr="帘子.png"/>
          <p:cNvPicPr/>
          <p:nvPr/>
        </p:nvPicPr>
        <p:blipFill>
          <a:blip r:embed="rId3"/>
          <a:stretch/>
        </p:blipFill>
        <p:spPr>
          <a:xfrm>
            <a:off x="6480" y="6081840"/>
            <a:ext cx="9137520" cy="631800"/>
          </a:xfrm>
          <a:prstGeom prst="rect">
            <a:avLst/>
          </a:prstGeom>
          <a:ln w="0">
            <a:noFill/>
          </a:ln>
        </p:spPr>
      </p:pic>
      <p:pic>
        <p:nvPicPr>
          <p:cNvPr id="549" name="帘子2" descr="帘子.png"/>
          <p:cNvPicPr/>
          <p:nvPr/>
        </p:nvPicPr>
        <p:blipFill>
          <a:blip r:embed="rId4"/>
          <a:stretch/>
        </p:blipFill>
        <p:spPr>
          <a:xfrm>
            <a:off x="6480" y="6270480"/>
            <a:ext cx="9137520" cy="587520"/>
          </a:xfrm>
          <a:prstGeom prst="rect">
            <a:avLst/>
          </a:prstGeom>
          <a:ln w="0">
            <a:noFill/>
          </a:ln>
        </p:spPr>
      </p:pic>
      <p:sp>
        <p:nvSpPr>
          <p:cNvPr id="550" name="文本框 15365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withEffect" fill="hold" presetClass="exit" presetID="47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2T11:39:4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0:29Z</dcterms:modified>
  <cp:revision>2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