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855575" cy="7235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715-3D4A-4964-A9E9-4AB76737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1156824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4183200"/>
            <a:ext cx="1156824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339-4195-4016-9B53-9383B747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7072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58D-16F0-49C6-AF4B-75F45AD3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000" y="168912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65400" y="168912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418320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4000" y="418320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65400" y="418320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DD0-CDBC-4764-8352-D2244BB2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FB11-B905-42C5-BBE5-27583E53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89120"/>
            <a:ext cx="1156824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FA97-34C9-417C-B138-7BF9A10D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1156824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9BAF-ADF6-4226-A976-BFEBAB7D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1082-7882-485F-8B79-F7FB5285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0125-BADC-4DC1-882B-98533409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960" y="288720"/>
            <a:ext cx="115682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B5CF-CADF-4B16-A9A6-45959EFB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6547-D063-44AE-9E43-F3E7CD45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89120"/>
            <a:ext cx="1156824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D44-6B71-48E5-9C27-AF48C416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7072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D381-0936-4C04-BA0C-12BDA63B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4183200"/>
            <a:ext cx="1156824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77D4-4CDF-4197-9D09-FCA79211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1156824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4183200"/>
            <a:ext cx="1156824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A650-A50B-46B5-969D-38B44D01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7072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C0CB-7FE6-4CFA-B248-E7E95CF0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4000" y="168912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465400" y="168912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418320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4000" y="418320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465400" y="418320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42FE-B8F4-454D-8D25-1BC4F595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1156824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BDD-613A-44ED-98EF-5C992934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943-27A8-496E-A6BB-4005CC38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E16-E45E-4CEA-B82E-59CEF147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960" y="288720"/>
            <a:ext cx="115682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E70-BB4B-4B8F-931E-4021675B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F56-A0DD-483B-BDDC-A473DB76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7072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7F7-AF38-4D21-94F0-4A1C7EBC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4183200"/>
            <a:ext cx="11568240" cy="2277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041-812A-402C-A18D-7114FAC3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960" y="288720"/>
            <a:ext cx="1156824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89120"/>
            <a:ext cx="11568240" cy="47750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 fontScale="92000"/>
          </a:bodyPr>
          <a:p>
            <a:pPr marL="395640" indent="-39564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52704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144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584720" indent="-52884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113200" indent="-105732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113200" indent="-105732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113200" indent="-105732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2960" y="6708600"/>
            <a:ext cx="2998800" cy="3844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90560" y="6708600"/>
            <a:ext cx="4070520" cy="3844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12400" y="6708600"/>
            <a:ext cx="2998800" cy="38448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lstStyle>
            <a:lvl1pPr indent="0" algn="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5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6C9B0426-AA16-44BD-9367-8301FC9E0E9D}" type="slidenum">
              <a:rPr b="0" lang="zh-CN" sz="15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BD696EFD-1DEA-42CB-AB43-DC317AD65FB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2B531B4B-2B4A-469D-A37D-011E55EABD2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0" t="0" r="0" b="988"/>
          <a:stretch/>
        </p:blipFill>
        <p:spPr>
          <a:xfrm>
            <a:off x="-3240" y="-25560"/>
            <a:ext cx="12857400" cy="4435560"/>
          </a:xfrm>
          <a:prstGeom prst="rect">
            <a:avLst/>
          </a:prstGeom>
          <a:ln w="0">
            <a:noFill/>
          </a:ln>
        </p:spPr>
      </p:pic>
      <p:sp>
        <p:nvSpPr>
          <p:cNvPr id="83" name="矩形 10"/>
          <p:cNvSpPr/>
          <p:nvPr/>
        </p:nvSpPr>
        <p:spPr>
          <a:xfrm>
            <a:off x="5632560" y="1819440"/>
            <a:ext cx="1584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造字工房劲黑（非商用）常规体"/>
                <a:ea typeface="造字工房劲黑（非商用）常规体"/>
              </a:rPr>
              <a:t>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4444920" y="1025640"/>
            <a:ext cx="39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造字工房朗倩（非商用）粗体"/>
                <a:ea typeface="造字工房朗倩（非商用）粗体"/>
              </a:rPr>
              <a:t>春节送礼那点事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2"/>
          <p:cNvSpPr/>
          <p:nvPr/>
        </p:nvSpPr>
        <p:spPr>
          <a:xfrm>
            <a:off x="4876920" y="4626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【</a:t>
            </a:r>
            <a:r>
              <a:rPr b="0" lang="en-US" sz="3600" spc="-1" strike="noStrike">
                <a:solidFill>
                  <a:srgbClr val="000000"/>
                </a:solidFill>
                <a:latin typeface="造字工房朗倩（非商用）粗体"/>
                <a:ea typeface="造字工房朗倩（非商用）粗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造字工房朗倩（非商用）粗体"/>
                <a:ea typeface="造字工房朗倩（非商用）粗体"/>
              </a:rPr>
              <a:t>领导篇 </a:t>
            </a:r>
            <a:r>
              <a:rPr b="0" lang="en-US" sz="36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3"/>
          <p:cNvSpPr/>
          <p:nvPr/>
        </p:nvSpPr>
        <p:spPr>
          <a:xfrm>
            <a:off x="4824360" y="5275440"/>
            <a:ext cx="3205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造字工房朗倩（非商用）常规体"/>
                <a:ea typeface="造字工房朗倩（非商用）常规体"/>
              </a:rPr>
              <a:t>送什么？    怎么送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4572000" y="5851440"/>
            <a:ext cx="3708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造字工房悦圆（非商用）常规体"/>
                <a:ea typeface="造字工房悦圆（非商用）常规体"/>
              </a:rPr>
              <a:t>牛人教你</a:t>
            </a:r>
            <a:r>
              <a:rPr b="0" lang="en-US" sz="2300" spc="-1" strike="noStrike">
                <a:solidFill>
                  <a:srgbClr val="000000"/>
                </a:solidFill>
                <a:latin typeface="造字工房悦圆（非商用）常规体"/>
                <a:ea typeface="造字工房悦圆（非商用）常规体"/>
              </a:rPr>
              <a:t>8</a:t>
            </a:r>
            <a:r>
              <a:rPr b="0" lang="zh-CN" sz="2300" spc="-1" strike="noStrike">
                <a:solidFill>
                  <a:srgbClr val="000000"/>
                </a:solidFill>
                <a:latin typeface="造字工房悦圆（非商用）常规体"/>
                <a:ea typeface="造字工房悦圆（非商用）常规体"/>
              </a:rPr>
              <a:t>招吃遍天下领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17"/>
          <p:cNvGrpSpPr/>
          <p:nvPr/>
        </p:nvGrpSpPr>
        <p:grpSpPr>
          <a:xfrm>
            <a:off x="2736720" y="5497560"/>
            <a:ext cx="7380360" cy="1440"/>
            <a:chOff x="2736720" y="5497560"/>
            <a:chExt cx="7380360" cy="1440"/>
          </a:xfrm>
        </p:grpSpPr>
        <p:grpSp>
          <p:nvGrpSpPr>
            <p:cNvPr id="89" name=""/>
            <p:cNvGrpSpPr/>
            <p:nvPr/>
          </p:nvGrpSpPr>
          <p:grpSpPr>
            <a:xfrm>
              <a:off x="2736720" y="5497560"/>
              <a:ext cx="2088000" cy="1440"/>
              <a:chOff x="2736720" y="5497560"/>
              <a:chExt cx="2088000" cy="1440"/>
            </a:xfrm>
          </p:grpSpPr>
          <p:sp>
            <p:nvSpPr>
              <p:cNvPr id="90" name="直接连接符 16"/>
              <p:cNvSpPr/>
              <p:nvPr/>
            </p:nvSpPr>
            <p:spPr>
              <a:xfrm>
                <a:off x="2736720" y="5497560"/>
                <a:ext cx="208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 txBox="1"/>
              <p:nvPr/>
            </p:nvSpPr>
            <p:spPr>
              <a:xfrm>
                <a:off x="2736720" y="5497560"/>
                <a:ext cx="2088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1147680"/>
                    <a:tab algn="l" pos="2295360"/>
                    <a:tab algn="l" pos="3443400"/>
                    <a:tab algn="l" pos="4591080"/>
                    <a:tab algn="l" pos="5738760"/>
                    <a:tab algn="l" pos="6886440"/>
                    <a:tab algn="l" pos="8034480"/>
                    <a:tab algn="l" pos="9182160"/>
                    <a:tab algn="l" pos="103298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8137080" y="5497560"/>
              <a:ext cx="1980000" cy="1440"/>
              <a:chOff x="8137080" y="5497560"/>
              <a:chExt cx="1980000" cy="1440"/>
            </a:xfrm>
          </p:grpSpPr>
          <p:sp>
            <p:nvSpPr>
              <p:cNvPr id="93" name="直接连接符 18"/>
              <p:cNvSpPr/>
              <p:nvPr/>
            </p:nvSpPr>
            <p:spPr>
              <a:xfrm>
                <a:off x="8137080" y="5497560"/>
                <a:ext cx="1980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8137080" y="5497560"/>
                <a:ext cx="1980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1147680"/>
                    <a:tab algn="l" pos="2295360"/>
                    <a:tab algn="l" pos="3443400"/>
                    <a:tab algn="l" pos="4591080"/>
                    <a:tab algn="l" pos="5738760"/>
                    <a:tab algn="l" pos="6886440"/>
                    <a:tab algn="l" pos="8034480"/>
                    <a:tab algn="l" pos="9182160"/>
                    <a:tab algn="l" pos="103298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文本框 3082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3083"/>
          <p:cNvSpPr/>
          <p:nvPr/>
        </p:nvSpPr>
        <p:spPr>
          <a:xfrm>
            <a:off x="3166920" y="235080"/>
            <a:ext cx="68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羊年春节给领导送礼的艺术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"/>
          <p:cNvSpPr/>
          <p:nvPr/>
        </p:nvSpPr>
        <p:spPr>
          <a:xfrm>
            <a:off x="0" y="0"/>
            <a:ext cx="12852360" cy="4438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8" descr=""/>
          <p:cNvPicPr/>
          <p:nvPr/>
        </p:nvPicPr>
        <p:blipFill>
          <a:blip r:embed="rId1"/>
          <a:srcRect l="0" t="0" r="0" b="10265"/>
          <a:stretch/>
        </p:blipFill>
        <p:spPr>
          <a:xfrm>
            <a:off x="-7920" y="0"/>
            <a:ext cx="6595920" cy="4438800"/>
          </a:xfrm>
          <a:prstGeom prst="rect">
            <a:avLst/>
          </a:prstGeom>
          <a:ln w="0">
            <a:noFill/>
          </a:ln>
        </p:spPr>
      </p:pic>
      <p:sp>
        <p:nvSpPr>
          <p:cNvPr id="202" name="等腰三角形 3"/>
          <p:cNvSpPr/>
          <p:nvPr/>
        </p:nvSpPr>
        <p:spPr>
          <a:xfrm>
            <a:off x="3475080" y="234000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等腰三角形 4"/>
          <p:cNvSpPr/>
          <p:nvPr/>
        </p:nvSpPr>
        <p:spPr>
          <a:xfrm flipH="1" flipV="1">
            <a:off x="-8640" y="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403080" y="2400480"/>
            <a:ext cx="3170880" cy="2082600"/>
            <a:chOff x="3403080" y="2400480"/>
            <a:chExt cx="3170880" cy="2082600"/>
          </a:xfrm>
        </p:grpSpPr>
        <p:sp>
          <p:nvSpPr>
            <p:cNvPr id="205" name="直接连接符 5"/>
            <p:cNvSpPr/>
            <p:nvPr/>
          </p:nvSpPr>
          <p:spPr>
            <a:xfrm flipH="1">
              <a:off x="3403080" y="2400480"/>
              <a:ext cx="3170520" cy="208260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3403440" y="2400480"/>
              <a:ext cx="3170520" cy="20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9000" y="0"/>
            <a:ext cx="3172320" cy="2082960"/>
            <a:chOff x="9000" y="0"/>
            <a:chExt cx="3172320" cy="2082960"/>
          </a:xfrm>
        </p:grpSpPr>
        <p:sp>
          <p:nvSpPr>
            <p:cNvPr id="208" name="直接连接符 6"/>
            <p:cNvSpPr/>
            <p:nvPr/>
          </p:nvSpPr>
          <p:spPr>
            <a:xfrm flipH="1">
              <a:off x="9000" y="0"/>
              <a:ext cx="3171960" cy="208296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9360" y="0"/>
              <a:ext cx="3171960" cy="208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7"/>
          <p:cNvSpPr/>
          <p:nvPr/>
        </p:nvSpPr>
        <p:spPr>
          <a:xfrm>
            <a:off x="7075440" y="666720"/>
            <a:ext cx="5256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八招    偷梁换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你可以在送礼的时候对受礼者说是出厂价，批发价，优惠价买下的，象征性的向受礼者收一些费用，收到的效果与送礼一般无二，受礼者因交了钱，收东西时会心安理得一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9"/>
          <p:cNvGrpSpPr/>
          <p:nvPr/>
        </p:nvGrpSpPr>
        <p:grpSpPr>
          <a:xfrm>
            <a:off x="1260360" y="4843440"/>
            <a:ext cx="10333080" cy="1612800"/>
            <a:chOff x="1260360" y="4843440"/>
            <a:chExt cx="10333080" cy="1612800"/>
          </a:xfrm>
        </p:grpSpPr>
        <p:pic>
          <p:nvPicPr>
            <p:cNvPr id="212" name="图片 10" descr=""/>
            <p:cNvPicPr/>
            <p:nvPr/>
          </p:nvPicPr>
          <p:blipFill>
            <a:blip r:embed="rId2"/>
            <a:stretch/>
          </p:blipFill>
          <p:spPr>
            <a:xfrm>
              <a:off x="1260360" y="4843440"/>
              <a:ext cx="161388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11"/>
            <p:cNvSpPr/>
            <p:nvPr/>
          </p:nvSpPr>
          <p:spPr>
            <a:xfrm>
              <a:off x="3127680" y="5461560"/>
              <a:ext cx="84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造字工房朗倩（非商用）粗体"/>
                  <a:ea typeface="造字工房朗倩（非商用）粗体"/>
                </a:rPr>
                <a:t>点睛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造字工房朗倩（非商用）粗体"/>
                  <a:ea typeface="造字工房朗倩（非商用）粗体"/>
                </a:rPr>
                <a:t>此方法要非常注意尺度，虽然收了钱，也要让对方领情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"/>
          <p:cNvSpPr/>
          <p:nvPr/>
        </p:nvSpPr>
        <p:spPr>
          <a:xfrm>
            <a:off x="0" y="0"/>
            <a:ext cx="12852360" cy="4438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6" descr=""/>
          <p:cNvPicPr/>
          <p:nvPr/>
        </p:nvPicPr>
        <p:blipFill>
          <a:blip r:embed="rId1"/>
          <a:stretch/>
        </p:blipFill>
        <p:spPr>
          <a:xfrm>
            <a:off x="19080" y="0"/>
            <a:ext cx="6643800" cy="4438800"/>
          </a:xfrm>
          <a:prstGeom prst="rect">
            <a:avLst/>
          </a:prstGeom>
          <a:ln w="0">
            <a:noFill/>
          </a:ln>
        </p:spPr>
      </p:pic>
      <p:sp>
        <p:nvSpPr>
          <p:cNvPr id="99" name="等腰三角形 7"/>
          <p:cNvSpPr/>
          <p:nvPr/>
        </p:nvSpPr>
        <p:spPr>
          <a:xfrm>
            <a:off x="3475080" y="234000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8"/>
          <p:cNvSpPr/>
          <p:nvPr/>
        </p:nvSpPr>
        <p:spPr>
          <a:xfrm flipH="1" flipV="1">
            <a:off x="18000" y="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7075440" y="666720"/>
            <a:ext cx="5256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一招</a:t>
            </a: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借花献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Calibri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如果你送土特产品，可以说是老家来人捎来的，分一些给对方尝尝鲜，东西不多，自己又没花钱，不是特意买的。请他收下，一般来说受礼者那种因为害怕你目的性太强的拒礼心态，可望缓和</a:t>
            </a:r>
            <a:r>
              <a:rPr b="1" lang="zh-CN" sz="23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21"/>
          <p:cNvGrpSpPr/>
          <p:nvPr/>
        </p:nvGrpSpPr>
        <p:grpSpPr>
          <a:xfrm>
            <a:off x="2825640" y="4843440"/>
            <a:ext cx="7201080" cy="1612800"/>
            <a:chOff x="2825640" y="4843440"/>
            <a:chExt cx="7201080" cy="1612800"/>
          </a:xfrm>
        </p:grpSpPr>
        <p:pic>
          <p:nvPicPr>
            <p:cNvPr id="103" name="图片 12" descr=""/>
            <p:cNvPicPr/>
            <p:nvPr/>
          </p:nvPicPr>
          <p:blipFill>
            <a:blip r:embed="rId2"/>
            <a:stretch/>
          </p:blipFill>
          <p:spPr>
            <a:xfrm>
              <a:off x="2825640" y="4843440"/>
              <a:ext cx="161352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3"/>
            <p:cNvSpPr/>
            <p:nvPr/>
          </p:nvSpPr>
          <p:spPr>
            <a:xfrm>
              <a:off x="4692960" y="5357520"/>
              <a:ext cx="53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造字工房朗倩（非商用）粗体"/>
                  <a:ea typeface="造字工房朗倩（非商用）粗体"/>
                </a:rPr>
                <a:t>点睛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造字工房朗倩（非商用）粗体"/>
                  <a:ea typeface="造字工房朗倩（非商用）粗体"/>
                </a:rPr>
                <a:t>土特产类礼品适合朴实老领导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492000" y="2340000"/>
            <a:ext cx="3170880" cy="2082600"/>
            <a:chOff x="3492000" y="2340000"/>
            <a:chExt cx="3170880" cy="2082600"/>
          </a:xfrm>
        </p:grpSpPr>
        <p:sp>
          <p:nvSpPr>
            <p:cNvPr id="106" name="直接连接符 17"/>
            <p:cNvSpPr/>
            <p:nvPr/>
          </p:nvSpPr>
          <p:spPr>
            <a:xfrm flipH="1">
              <a:off x="3492000" y="2340000"/>
              <a:ext cx="3170520" cy="208260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3492360" y="2340000"/>
              <a:ext cx="3170520" cy="20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4560" y="15840"/>
            <a:ext cx="3172320" cy="2082960"/>
            <a:chOff x="34560" y="15840"/>
            <a:chExt cx="3172320" cy="2082960"/>
          </a:xfrm>
        </p:grpSpPr>
        <p:sp>
          <p:nvSpPr>
            <p:cNvPr id="109" name="直接连接符 20"/>
            <p:cNvSpPr/>
            <p:nvPr/>
          </p:nvSpPr>
          <p:spPr>
            <a:xfrm flipH="1">
              <a:off x="34560" y="15840"/>
              <a:ext cx="3171960" cy="208296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34920" y="15840"/>
              <a:ext cx="3171960" cy="208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"/>
          <p:cNvSpPr/>
          <p:nvPr/>
        </p:nvSpPr>
        <p:spPr>
          <a:xfrm>
            <a:off x="0" y="0"/>
            <a:ext cx="12852360" cy="4438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2" descr=""/>
          <p:cNvPicPr/>
          <p:nvPr/>
        </p:nvPicPr>
        <p:blipFill>
          <a:blip r:embed="rId1"/>
          <a:srcRect l="7795" t="0" r="0" b="6880"/>
          <a:stretch/>
        </p:blipFill>
        <p:spPr>
          <a:xfrm>
            <a:off x="0" y="0"/>
            <a:ext cx="6597720" cy="4438800"/>
          </a:xfrm>
          <a:prstGeom prst="rect">
            <a:avLst/>
          </a:prstGeom>
          <a:ln w="0">
            <a:noFill/>
          </a:ln>
        </p:spPr>
      </p:pic>
      <p:sp>
        <p:nvSpPr>
          <p:cNvPr id="113" name="等腰三角形 3"/>
          <p:cNvSpPr/>
          <p:nvPr/>
        </p:nvSpPr>
        <p:spPr>
          <a:xfrm>
            <a:off x="3475080" y="234000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等腰三角形 4"/>
          <p:cNvSpPr/>
          <p:nvPr/>
        </p:nvSpPr>
        <p:spPr>
          <a:xfrm flipH="1" flipV="1">
            <a:off x="-8640" y="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403080" y="2400480"/>
            <a:ext cx="3170880" cy="2082600"/>
            <a:chOff x="3403080" y="2400480"/>
            <a:chExt cx="3170880" cy="2082600"/>
          </a:xfrm>
        </p:grpSpPr>
        <p:sp>
          <p:nvSpPr>
            <p:cNvPr id="116" name="直接连接符 5"/>
            <p:cNvSpPr/>
            <p:nvPr/>
          </p:nvSpPr>
          <p:spPr>
            <a:xfrm flipH="1">
              <a:off x="3403080" y="2400480"/>
              <a:ext cx="3170520" cy="208260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3403440" y="2400480"/>
              <a:ext cx="3170520" cy="20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9000" y="0"/>
            <a:ext cx="3172320" cy="2082960"/>
            <a:chOff x="9000" y="0"/>
            <a:chExt cx="3172320" cy="2082960"/>
          </a:xfrm>
        </p:grpSpPr>
        <p:sp>
          <p:nvSpPr>
            <p:cNvPr id="119" name="直接连接符 6"/>
            <p:cNvSpPr/>
            <p:nvPr/>
          </p:nvSpPr>
          <p:spPr>
            <a:xfrm flipH="1">
              <a:off x="9000" y="0"/>
              <a:ext cx="3171960" cy="208296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9360" y="0"/>
              <a:ext cx="3171960" cy="208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7"/>
          <p:cNvSpPr/>
          <p:nvPr/>
        </p:nvSpPr>
        <p:spPr>
          <a:xfrm>
            <a:off x="7075440" y="666720"/>
            <a:ext cx="52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二招</a:t>
            </a: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暗度陈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Calibri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如果你送的是酒一类的东西，不妨假借说是别人送你两瓶酒，来和对方对饮小酌，这样喝一瓶送一瓶，礼也送了，关系也近了，还不露痕迹，岂不妙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10"/>
          <p:cNvGrpSpPr/>
          <p:nvPr/>
        </p:nvGrpSpPr>
        <p:grpSpPr>
          <a:xfrm>
            <a:off x="1965240" y="4843440"/>
            <a:ext cx="8923320" cy="1612800"/>
            <a:chOff x="1965240" y="4843440"/>
            <a:chExt cx="8923320" cy="1612800"/>
          </a:xfrm>
        </p:grpSpPr>
        <p:pic>
          <p:nvPicPr>
            <p:cNvPr id="123" name="图片 8" descr=""/>
            <p:cNvPicPr/>
            <p:nvPr/>
          </p:nvPicPr>
          <p:blipFill>
            <a:blip r:embed="rId2"/>
            <a:stretch/>
          </p:blipFill>
          <p:spPr>
            <a:xfrm>
              <a:off x="1965240" y="4843440"/>
              <a:ext cx="161352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9"/>
            <p:cNvSpPr/>
            <p:nvPr/>
          </p:nvSpPr>
          <p:spPr>
            <a:xfrm>
              <a:off x="3832200" y="523440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造字工房朗倩（非商用）粗体"/>
                  <a:ea typeface="造字工房朗倩（非商用）粗体"/>
                </a:rPr>
                <a:t>点睛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造字工房朗倩（非商用）粗体"/>
                  <a:ea typeface="造字工房朗倩（非商用）粗体"/>
                </a:rPr>
                <a:t>这里的酒最好是比较特殊的，如茅台特供等，领导没喝过，自然会和你共酌，喝一瓶，留一瓶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"/>
          <p:cNvSpPr/>
          <p:nvPr/>
        </p:nvSpPr>
        <p:spPr>
          <a:xfrm>
            <a:off x="0" y="0"/>
            <a:ext cx="12852360" cy="4438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0" descr=""/>
          <p:cNvPicPr/>
          <p:nvPr/>
        </p:nvPicPr>
        <p:blipFill>
          <a:blip r:embed="rId1"/>
          <a:srcRect l="8868" t="7432" r="0" b="0"/>
          <a:stretch/>
        </p:blipFill>
        <p:spPr>
          <a:xfrm flipH="1">
            <a:off x="9000" y="0"/>
            <a:ext cx="6564600" cy="4438800"/>
          </a:xfrm>
          <a:prstGeom prst="rect">
            <a:avLst/>
          </a:prstGeom>
          <a:ln w="0">
            <a:noFill/>
          </a:ln>
        </p:spPr>
      </p:pic>
      <p:sp>
        <p:nvSpPr>
          <p:cNvPr id="127" name="等腰三角形 2"/>
          <p:cNvSpPr/>
          <p:nvPr/>
        </p:nvSpPr>
        <p:spPr>
          <a:xfrm>
            <a:off x="3475080" y="234000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等腰三角形 3"/>
          <p:cNvSpPr/>
          <p:nvPr/>
        </p:nvSpPr>
        <p:spPr>
          <a:xfrm flipH="1" flipV="1">
            <a:off x="-8640" y="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403080" y="2400480"/>
            <a:ext cx="3170880" cy="2082600"/>
            <a:chOff x="3403080" y="2400480"/>
            <a:chExt cx="3170880" cy="2082600"/>
          </a:xfrm>
        </p:grpSpPr>
        <p:sp>
          <p:nvSpPr>
            <p:cNvPr id="130" name="直接连接符 4"/>
            <p:cNvSpPr/>
            <p:nvPr/>
          </p:nvSpPr>
          <p:spPr>
            <a:xfrm flipH="1">
              <a:off x="3403080" y="2400480"/>
              <a:ext cx="3170520" cy="208260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403440" y="2400480"/>
              <a:ext cx="3170520" cy="20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9000" y="0"/>
            <a:ext cx="3172320" cy="2082960"/>
            <a:chOff x="9000" y="0"/>
            <a:chExt cx="3172320" cy="2082960"/>
          </a:xfrm>
        </p:grpSpPr>
        <p:sp>
          <p:nvSpPr>
            <p:cNvPr id="133" name="直接连接符 5"/>
            <p:cNvSpPr/>
            <p:nvPr/>
          </p:nvSpPr>
          <p:spPr>
            <a:xfrm flipH="1">
              <a:off x="9000" y="0"/>
              <a:ext cx="3171960" cy="208296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9360" y="0"/>
              <a:ext cx="3171960" cy="208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Box 8"/>
          <p:cNvSpPr/>
          <p:nvPr/>
        </p:nvSpPr>
        <p:spPr>
          <a:xfrm>
            <a:off x="7075440" y="666720"/>
            <a:ext cx="5256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三招    隔山打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Calibri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如果你找不到好的理由给领导送礼，何尝不通过给领导孩子买礼物的方式进而把意思传达，不过这里有个小窍门，送给孩子的礼品最好是时常使用的，如儿童卫士手表，点读机等，让领导看到孩子，就能提起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1"/>
          <p:cNvGrpSpPr/>
          <p:nvPr/>
        </p:nvGrpSpPr>
        <p:grpSpPr>
          <a:xfrm>
            <a:off x="1965240" y="4843440"/>
            <a:ext cx="8923320" cy="1612800"/>
            <a:chOff x="1965240" y="4843440"/>
            <a:chExt cx="8923320" cy="1612800"/>
          </a:xfrm>
        </p:grpSpPr>
        <p:pic>
          <p:nvPicPr>
            <p:cNvPr id="137" name="图片 12" descr=""/>
            <p:cNvPicPr/>
            <p:nvPr/>
          </p:nvPicPr>
          <p:blipFill>
            <a:blip r:embed="rId2"/>
            <a:stretch/>
          </p:blipFill>
          <p:spPr>
            <a:xfrm>
              <a:off x="1965240" y="4843440"/>
              <a:ext cx="161352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13"/>
            <p:cNvSpPr/>
            <p:nvPr/>
          </p:nvSpPr>
          <p:spPr>
            <a:xfrm>
              <a:off x="3832200" y="523440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造字工房朗倩（非商用）粗体"/>
                  <a:ea typeface="造字工房朗倩（非商用）粗体"/>
                </a:rPr>
                <a:t>点睛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造字工房朗倩（非商用）粗体"/>
                  <a:ea typeface="造字工房朗倩（非商用）粗体"/>
                </a:rPr>
                <a:t>送给孩子的礼物一定是孩子喜欢，爱用的，如</a:t>
              </a:r>
              <a:r>
                <a:rPr b="0" lang="en-US" sz="2400" spc="-1" strike="noStrike">
                  <a:solidFill>
                    <a:srgbClr val="000000"/>
                  </a:solidFill>
                  <a:latin typeface="造字工房朗倩（非商用）粗体"/>
                  <a:ea typeface="造字工房朗倩（非商用）粗体"/>
                </a:rPr>
                <a:t>360</a:t>
              </a:r>
              <a:r>
                <a:rPr b="0" lang="zh-CN" sz="2400" spc="-1" strike="noStrike">
                  <a:solidFill>
                    <a:srgbClr val="000000"/>
                  </a:solidFill>
                  <a:latin typeface="造字工房朗倩（非商用）粗体"/>
                  <a:ea typeface="造字工房朗倩（非商用）粗体"/>
                </a:rPr>
                <a:t>儿童卫士手表，让领导看到孩子会想起你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0" y="0"/>
            <a:ext cx="12852360" cy="4438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6" descr=""/>
          <p:cNvPicPr/>
          <p:nvPr/>
        </p:nvPicPr>
        <p:blipFill>
          <a:blip r:embed="rId1"/>
          <a:srcRect l="7069" t="16764" r="27664" b="16764"/>
          <a:stretch/>
        </p:blipFill>
        <p:spPr>
          <a:xfrm>
            <a:off x="9360" y="0"/>
            <a:ext cx="6564600" cy="4438800"/>
          </a:xfrm>
          <a:prstGeom prst="rect">
            <a:avLst/>
          </a:prstGeom>
          <a:ln w="0">
            <a:noFill/>
          </a:ln>
        </p:spPr>
      </p:pic>
      <p:sp>
        <p:nvSpPr>
          <p:cNvPr id="141" name="等腰三角形 2"/>
          <p:cNvSpPr/>
          <p:nvPr/>
        </p:nvSpPr>
        <p:spPr>
          <a:xfrm>
            <a:off x="3475080" y="234000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等腰三角形 3"/>
          <p:cNvSpPr/>
          <p:nvPr/>
        </p:nvSpPr>
        <p:spPr>
          <a:xfrm flipH="1" flipV="1">
            <a:off x="-8640" y="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403080" y="2400480"/>
            <a:ext cx="3170880" cy="2082600"/>
            <a:chOff x="3403080" y="2400480"/>
            <a:chExt cx="3170880" cy="2082600"/>
          </a:xfrm>
        </p:grpSpPr>
        <p:sp>
          <p:nvSpPr>
            <p:cNvPr id="144" name="直接连接符 4"/>
            <p:cNvSpPr/>
            <p:nvPr/>
          </p:nvSpPr>
          <p:spPr>
            <a:xfrm flipH="1">
              <a:off x="3403080" y="2400480"/>
              <a:ext cx="3170520" cy="208260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3403440" y="2400480"/>
              <a:ext cx="3170520" cy="20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9000" y="0"/>
            <a:ext cx="3172320" cy="2082960"/>
            <a:chOff x="9000" y="0"/>
            <a:chExt cx="3172320" cy="2082960"/>
          </a:xfrm>
        </p:grpSpPr>
        <p:sp>
          <p:nvSpPr>
            <p:cNvPr id="147" name="直接连接符 5"/>
            <p:cNvSpPr/>
            <p:nvPr/>
          </p:nvSpPr>
          <p:spPr>
            <a:xfrm flipH="1">
              <a:off x="9000" y="0"/>
              <a:ext cx="3171960" cy="208296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9360" y="0"/>
              <a:ext cx="3171960" cy="208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8"/>
          <p:cNvSpPr/>
          <p:nvPr/>
        </p:nvSpPr>
        <p:spPr>
          <a:xfrm>
            <a:off x="7075440" y="666720"/>
            <a:ext cx="5256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四招    借马引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如果你送礼而对方却又是八竿子打不着的关系，你不妨选受礼者的生诞婚日，邀上几位熟人同去祝贺，那样受礼者便不好拒收了，当时候知道这个主意是你出的时，必然改变对你的看法借助大家的力量达到送礼联谊的目的，实为上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9"/>
          <p:cNvGrpSpPr/>
          <p:nvPr/>
        </p:nvGrpSpPr>
        <p:grpSpPr>
          <a:xfrm>
            <a:off x="1747800" y="4843440"/>
            <a:ext cx="9358200" cy="1612800"/>
            <a:chOff x="1747800" y="4843440"/>
            <a:chExt cx="9358200" cy="1612800"/>
          </a:xfrm>
        </p:grpSpPr>
        <p:pic>
          <p:nvPicPr>
            <p:cNvPr id="151" name="图片 10" descr=""/>
            <p:cNvPicPr/>
            <p:nvPr/>
          </p:nvPicPr>
          <p:blipFill>
            <a:blip r:embed="rId2"/>
            <a:stretch/>
          </p:blipFill>
          <p:spPr>
            <a:xfrm>
              <a:off x="1747800" y="4843440"/>
              <a:ext cx="161352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11"/>
            <p:cNvSpPr/>
            <p:nvPr/>
          </p:nvSpPr>
          <p:spPr>
            <a:xfrm>
              <a:off x="3614760" y="5461560"/>
              <a:ext cx="749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造字工房朗倩（非商用）粗体"/>
                  <a:ea typeface="造字工房朗倩（非商用）粗体"/>
                </a:rPr>
                <a:t>点睛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造字工房朗倩（非商用）粗体"/>
                  <a:ea typeface="造字工房朗倩（非商用）粗体"/>
                </a:rPr>
                <a:t>选择朋友时，一定注意这个人能帮你道破天机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7179"/>
          <p:cNvSpPr/>
          <p:nvPr/>
        </p:nvSpPr>
        <p:spPr>
          <a:xfrm>
            <a:off x="1314360" y="63547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0" y="0"/>
            <a:ext cx="12852360" cy="4438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7" descr=""/>
          <p:cNvPicPr/>
          <p:nvPr/>
        </p:nvPicPr>
        <p:blipFill>
          <a:blip r:embed="rId1"/>
          <a:srcRect l="12949" t="10262" r="21787" b="23477"/>
          <a:stretch/>
        </p:blipFill>
        <p:spPr>
          <a:xfrm>
            <a:off x="9360" y="0"/>
            <a:ext cx="6564600" cy="4438800"/>
          </a:xfrm>
          <a:prstGeom prst="rect">
            <a:avLst/>
          </a:prstGeom>
          <a:ln w="0">
            <a:noFill/>
          </a:ln>
        </p:spPr>
      </p:pic>
      <p:sp>
        <p:nvSpPr>
          <p:cNvPr id="156" name="等腰三角形 2"/>
          <p:cNvSpPr/>
          <p:nvPr/>
        </p:nvSpPr>
        <p:spPr>
          <a:xfrm>
            <a:off x="3475080" y="234000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等腰三角形 3"/>
          <p:cNvSpPr/>
          <p:nvPr/>
        </p:nvSpPr>
        <p:spPr>
          <a:xfrm flipH="1" flipV="1">
            <a:off x="-8640" y="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403080" y="2400480"/>
            <a:ext cx="3170880" cy="2082600"/>
            <a:chOff x="3403080" y="2400480"/>
            <a:chExt cx="3170880" cy="2082600"/>
          </a:xfrm>
        </p:grpSpPr>
        <p:sp>
          <p:nvSpPr>
            <p:cNvPr id="159" name="直接连接符 4"/>
            <p:cNvSpPr/>
            <p:nvPr/>
          </p:nvSpPr>
          <p:spPr>
            <a:xfrm flipH="1">
              <a:off x="3403080" y="2400480"/>
              <a:ext cx="3170520" cy="208260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3403440" y="2400480"/>
              <a:ext cx="3170520" cy="20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9000" y="0"/>
            <a:ext cx="3172320" cy="2082960"/>
            <a:chOff x="9000" y="0"/>
            <a:chExt cx="3172320" cy="2082960"/>
          </a:xfrm>
        </p:grpSpPr>
        <p:sp>
          <p:nvSpPr>
            <p:cNvPr id="162" name="直接连接符 5"/>
            <p:cNvSpPr/>
            <p:nvPr/>
          </p:nvSpPr>
          <p:spPr>
            <a:xfrm flipH="1">
              <a:off x="9000" y="0"/>
              <a:ext cx="3171960" cy="208296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9360" y="0"/>
              <a:ext cx="3171960" cy="208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8"/>
          <p:cNvSpPr/>
          <p:nvPr/>
        </p:nvSpPr>
        <p:spPr>
          <a:xfrm>
            <a:off x="7075440" y="666720"/>
            <a:ext cx="5256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五招    移花接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张先生有事委托刘先生去办，想送点礼物疏通一下，又怕刘先生拒绝。张先生的太太与刘先生的女朋友很熟，张先生便用起了夫人外交，让夫人带点礼物去拜访，一举成功，看来有时直接出击不如迂回运动能收奇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2"/>
          <p:cNvGrpSpPr/>
          <p:nvPr/>
        </p:nvGrpSpPr>
        <p:grpSpPr>
          <a:xfrm>
            <a:off x="1747800" y="4843440"/>
            <a:ext cx="9358200" cy="1612800"/>
            <a:chOff x="1747800" y="4843440"/>
            <a:chExt cx="9358200" cy="1612800"/>
          </a:xfrm>
        </p:grpSpPr>
        <p:pic>
          <p:nvPicPr>
            <p:cNvPr id="166" name="图片 13" descr=""/>
            <p:cNvPicPr/>
            <p:nvPr/>
          </p:nvPicPr>
          <p:blipFill>
            <a:blip r:embed="rId2"/>
            <a:stretch/>
          </p:blipFill>
          <p:spPr>
            <a:xfrm>
              <a:off x="1747800" y="4843440"/>
              <a:ext cx="161352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14"/>
            <p:cNvSpPr/>
            <p:nvPr/>
          </p:nvSpPr>
          <p:spPr>
            <a:xfrm>
              <a:off x="3614760" y="5419080"/>
              <a:ext cx="749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造字工房朗倩（非商用）粗体"/>
                  <a:ea typeface="造字工房朗倩（非商用）粗体"/>
                </a:rPr>
                <a:t>点睛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造字工房朗倩（非商用）粗体"/>
                  <a:ea typeface="造字工房朗倩（非商用）粗体"/>
                </a:rPr>
                <a:t>虽然是夫人外交，但礼品也要投双方所好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0" y="0"/>
            <a:ext cx="12852360" cy="4438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7" descr=""/>
          <p:cNvPicPr/>
          <p:nvPr/>
        </p:nvPicPr>
        <p:blipFill>
          <a:blip r:embed="rId1"/>
          <a:srcRect l="0" t="0" r="0" b="5010"/>
          <a:stretch/>
        </p:blipFill>
        <p:spPr>
          <a:xfrm flipH="1">
            <a:off x="-8280" y="0"/>
            <a:ext cx="6581880" cy="4438800"/>
          </a:xfrm>
          <a:prstGeom prst="rect">
            <a:avLst/>
          </a:prstGeom>
          <a:ln w="0">
            <a:noFill/>
          </a:ln>
        </p:spPr>
      </p:pic>
      <p:sp>
        <p:nvSpPr>
          <p:cNvPr id="170" name="等腰三角形 3"/>
          <p:cNvSpPr/>
          <p:nvPr/>
        </p:nvSpPr>
        <p:spPr>
          <a:xfrm>
            <a:off x="3475080" y="234000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等腰三角形 4"/>
          <p:cNvSpPr/>
          <p:nvPr/>
        </p:nvSpPr>
        <p:spPr>
          <a:xfrm flipH="1" flipV="1">
            <a:off x="-8640" y="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403080" y="2400480"/>
            <a:ext cx="3170880" cy="2082600"/>
            <a:chOff x="3403080" y="2400480"/>
            <a:chExt cx="3170880" cy="2082600"/>
          </a:xfrm>
        </p:grpSpPr>
        <p:sp>
          <p:nvSpPr>
            <p:cNvPr id="173" name="直接连接符 5"/>
            <p:cNvSpPr/>
            <p:nvPr/>
          </p:nvSpPr>
          <p:spPr>
            <a:xfrm flipH="1">
              <a:off x="3403080" y="2400480"/>
              <a:ext cx="3170520" cy="208260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3403440" y="2400480"/>
              <a:ext cx="3170520" cy="20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9000" y="0"/>
            <a:ext cx="3172320" cy="2082960"/>
            <a:chOff x="9000" y="0"/>
            <a:chExt cx="3172320" cy="2082960"/>
          </a:xfrm>
        </p:grpSpPr>
        <p:sp>
          <p:nvSpPr>
            <p:cNvPr id="176" name="直接连接符 6"/>
            <p:cNvSpPr/>
            <p:nvPr/>
          </p:nvSpPr>
          <p:spPr>
            <a:xfrm flipH="1">
              <a:off x="9000" y="0"/>
              <a:ext cx="3171960" cy="208296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9360" y="0"/>
              <a:ext cx="3171960" cy="208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Box 8"/>
          <p:cNvSpPr/>
          <p:nvPr/>
        </p:nvSpPr>
        <p:spPr>
          <a:xfrm>
            <a:off x="7075440" y="666720"/>
            <a:ext cx="5256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六招    草船借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如果对方不肯收，不妨说，我家里搁着也是搁着，让他拿去用，日后买了再还，只要你不催着他还，天长地久也变成了送，这样也可以减少受礼者的心理负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12"/>
          <p:cNvGrpSpPr/>
          <p:nvPr/>
        </p:nvGrpSpPr>
        <p:grpSpPr>
          <a:xfrm>
            <a:off x="1747800" y="4843440"/>
            <a:ext cx="9358200" cy="1612800"/>
            <a:chOff x="1747800" y="4843440"/>
            <a:chExt cx="9358200" cy="1612800"/>
          </a:xfrm>
        </p:grpSpPr>
        <p:pic>
          <p:nvPicPr>
            <p:cNvPr id="180" name="图片 13" descr=""/>
            <p:cNvPicPr/>
            <p:nvPr/>
          </p:nvPicPr>
          <p:blipFill>
            <a:blip r:embed="rId2"/>
            <a:stretch/>
          </p:blipFill>
          <p:spPr>
            <a:xfrm>
              <a:off x="1747800" y="4843440"/>
              <a:ext cx="161352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14"/>
            <p:cNvSpPr/>
            <p:nvPr/>
          </p:nvSpPr>
          <p:spPr>
            <a:xfrm>
              <a:off x="3614760" y="5236200"/>
              <a:ext cx="749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造字工房朗倩（非商用）粗体"/>
                  <a:ea typeface="造字工房朗倩（非商用）粗体"/>
                </a:rPr>
                <a:t>点睛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造字工房朗倩（非商用）粗体"/>
                  <a:ea typeface="造字工房朗倩（非商用）粗体"/>
                </a:rPr>
                <a:t>这种替对方找借口的方式适用于爱占小便宜，却胆子又小的领导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1"/>
          <p:cNvSpPr/>
          <p:nvPr/>
        </p:nvSpPr>
        <p:spPr>
          <a:xfrm>
            <a:off x="0" y="0"/>
            <a:ext cx="12852360" cy="4438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8" descr=""/>
          <p:cNvPicPr/>
          <p:nvPr/>
        </p:nvPicPr>
        <p:blipFill>
          <a:blip r:embed="rId1"/>
          <a:srcRect l="3781" t="21353" r="0" b="0"/>
          <a:stretch/>
        </p:blipFill>
        <p:spPr>
          <a:xfrm>
            <a:off x="-7920" y="0"/>
            <a:ext cx="6602400" cy="4437000"/>
          </a:xfrm>
          <a:prstGeom prst="rect">
            <a:avLst/>
          </a:prstGeom>
          <a:ln w="0">
            <a:noFill/>
          </a:ln>
        </p:spPr>
      </p:pic>
      <p:sp>
        <p:nvSpPr>
          <p:cNvPr id="184" name="等腰三角形 3"/>
          <p:cNvSpPr/>
          <p:nvPr/>
        </p:nvSpPr>
        <p:spPr>
          <a:xfrm>
            <a:off x="3475080" y="234000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4"/>
          <p:cNvSpPr/>
          <p:nvPr/>
        </p:nvSpPr>
        <p:spPr>
          <a:xfrm flipH="1" flipV="1">
            <a:off x="-8640" y="0"/>
            <a:ext cx="3187800" cy="20988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403080" y="2400480"/>
            <a:ext cx="3170880" cy="2082600"/>
            <a:chOff x="3403080" y="2400480"/>
            <a:chExt cx="3170880" cy="2082600"/>
          </a:xfrm>
        </p:grpSpPr>
        <p:sp>
          <p:nvSpPr>
            <p:cNvPr id="187" name="直接连接符 5"/>
            <p:cNvSpPr/>
            <p:nvPr/>
          </p:nvSpPr>
          <p:spPr>
            <a:xfrm flipH="1">
              <a:off x="3403080" y="2400480"/>
              <a:ext cx="3170520" cy="208260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3403440" y="2400480"/>
              <a:ext cx="3170520" cy="20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000" y="0"/>
            <a:ext cx="3172320" cy="2082960"/>
            <a:chOff x="9000" y="0"/>
            <a:chExt cx="3172320" cy="2082960"/>
          </a:xfrm>
        </p:grpSpPr>
        <p:sp>
          <p:nvSpPr>
            <p:cNvPr id="190" name="直接连接符 6"/>
            <p:cNvSpPr/>
            <p:nvPr/>
          </p:nvSpPr>
          <p:spPr>
            <a:xfrm flipH="1">
              <a:off x="9000" y="0"/>
              <a:ext cx="3171960" cy="208296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9360" y="0"/>
              <a:ext cx="3171960" cy="208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7"/>
          <p:cNvSpPr/>
          <p:nvPr/>
        </p:nvSpPr>
        <p:spPr>
          <a:xfrm>
            <a:off x="7075440" y="666720"/>
            <a:ext cx="5256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七招    斗转星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一位下属想回报上司栽培但怕上司不接受，偶然发现上司镜框镶的字画是一副拓片，跟家里雅致的陈设不太协调。正好他叔父是全国小有名气的书法家，手里还有他赠送的字画他马上把字画拿来主动放到镜框里，上司不但没有反对，反而十分喜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12"/>
          <p:cNvGrpSpPr/>
          <p:nvPr/>
        </p:nvGrpSpPr>
        <p:grpSpPr>
          <a:xfrm>
            <a:off x="1639800" y="4843440"/>
            <a:ext cx="9574200" cy="1612800"/>
            <a:chOff x="1639800" y="4843440"/>
            <a:chExt cx="9574200" cy="1612800"/>
          </a:xfrm>
        </p:grpSpPr>
        <p:pic>
          <p:nvPicPr>
            <p:cNvPr id="194" name="图片 13" descr=""/>
            <p:cNvPicPr/>
            <p:nvPr/>
          </p:nvPicPr>
          <p:blipFill>
            <a:blip r:embed="rId2"/>
            <a:stretch/>
          </p:blipFill>
          <p:spPr>
            <a:xfrm>
              <a:off x="1639800" y="4843440"/>
              <a:ext cx="161352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14"/>
            <p:cNvSpPr/>
            <p:nvPr/>
          </p:nvSpPr>
          <p:spPr>
            <a:xfrm>
              <a:off x="3506760" y="5461560"/>
              <a:ext cx="770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造字工房朗倩（非商用）粗体"/>
                  <a:ea typeface="造字工房朗倩（非商用）粗体"/>
                </a:rPr>
                <a:t>点睛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造字工房朗倩（非商用）粗体"/>
                  <a:ea typeface="造字工房朗倩（非商用）粗体"/>
                </a:rPr>
                <a:t>往往此类投其所好要独具慧眼否则容易弄巧成拙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3103CFFE-79DA-4725-B4A2-B6E755F4CB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16:3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10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