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WHOOSH.WAV" ContentType="audio/x-wav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F5DB-3204-4DE2-B4C7-1DA851B40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6302-4799-4AA7-AB7D-0C5E6367F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1F3C-AE44-42E3-9ADE-8F6D9702A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4E3B-E515-4A3E-80B1-711A461B4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AFF80-CA38-44B0-BE38-0AB877E99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1281F-D0B9-4F88-B3EC-6B07CFA4D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8DB8B-AAD5-47CC-9305-A5BA44911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54B63-AB85-4F80-9A69-D75DBDD15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95804-A0C1-423E-8AD8-67420AFD5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FCF34-9521-448C-9A7B-49B412F53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1EF37-CE0F-43EA-9E70-B25D16B87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0180-3356-464E-9435-818B9982B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3654F-F457-410D-B54F-6CF62CF5B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DD315-C117-4AFE-A903-4711F4C7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F219E-AA30-4B4F-92BA-C579A7F41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A138D-22B7-42C2-8A87-D394A2C6E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840A2-7216-40D0-8BC2-7A153C7C0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FA2B-A8C1-4119-BB54-C89B58279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4624-399C-4841-8A0D-F399EF069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F0A8-D9FF-4020-AB9A-B9137BBBF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DA50-7BA4-4E59-AEE5-8ED719DAC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B660-852D-4C0F-A974-7150A3750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6EE7-40C8-471E-BBEA-AFC4B2A75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2790-811F-49A3-B448-6B07AE06D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30758-05D9-4F27-8175-DC682769B82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5603B-44BE-4C4C-982A-0A4F792E0767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91235-EC78-4969-BB82-4A2EE15DA63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307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  <p:sp>
        <p:nvSpPr>
          <p:cNvPr id="83" name="文本框 3074"/>
          <p:cNvSpPr/>
          <p:nvPr/>
        </p:nvSpPr>
        <p:spPr>
          <a:xfrm>
            <a:off x="228600" y="5734080"/>
            <a:ext cx="412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乌江中心小学    李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文本框 3075"/>
          <p:cNvSpPr/>
          <p:nvPr/>
        </p:nvSpPr>
        <p:spPr>
          <a:xfrm>
            <a:off x="250920" y="549360"/>
            <a:ext cx="28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文本框 3076"/>
          <p:cNvSpPr/>
          <p:nvPr/>
        </p:nvSpPr>
        <p:spPr>
          <a:xfrm>
            <a:off x="1649520" y="0"/>
            <a:ext cx="546120" cy="46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一年中的节日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----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中国的传统节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文本框 3077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文本框 3078"/>
          <p:cNvSpPr/>
          <p:nvPr/>
        </p:nvSpPr>
        <p:spPr>
          <a:xfrm>
            <a:off x="2931120" y="4797360"/>
            <a:ext cx="30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一年中的节日端午节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9d4a9"/>
            </a:gs>
            <a:gs pos="100000">
              <a:srgbClr val="008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文本框 11265"/>
          <p:cNvSpPr/>
          <p:nvPr/>
        </p:nvSpPr>
        <p:spPr>
          <a:xfrm>
            <a:off x="0" y="0"/>
            <a:ext cx="9144000" cy="26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6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端午节的意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端午节的第一个意义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就是纪念历史上伟大的民族诗人屈原。屈原，名平，是战国时代的楚国人，生于楚威王五年夏历正月初七，或谓生于楚宣王二十七年，卒于楚襄王九年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端午节的第二个意义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是伍子胥的忌辰。伍子胥名员，楚国人，父兄均为楚王所杀，后来子胥弃暗投明，奔向吴国，助吴伐楚，五战而入楚都郢城。当时楚平王已死，子胥掘墓鞭尸三百，以报杀父兄之仇。吴王阖庐死后，其子夫差继位，吴军士气高昂，百战百胜，越国大败，越王勾践请和，夫差许之。子胥建议，应彻底消灭越国，夫差不听，吴国大宰，受越国贿赂，谗言陷害子胥，夫差信之，赐子胥宝剑，子胥以此死。子胥本为忠良，视死如归，在死前对邻舍人说：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"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我死后，将我眼睛挖出悬挂在吴京之东门上，以看越国军队入城灭吴。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"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便自刎而死，夫差闻言大怒，令取子胥之尸体装在皮革里于五月五日投入大江，因此相传端午节亦为纪念伍子胥之日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端午节第三个意义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是为纪念东汉孝女曹娥救父投江而死。曹娥是东汉上虞人，父亲溺于江中，数日不见尸体，当时孝女曹娥年仅十四岁，昼夜沿江号哭。过了十七天，在五月五日也投江，五日后抱出父尸。就此传为神话，继而相传至县府知事，令度尚为之立碑，让他的弟子邯郸淳作诔辞颂扬。孝女曹娥之墓，在今浙江绍兴，后传曹娥碑为晋王义所书。后人为纪念曹娥的孝节，在曹娥投江之处兴建曹娥庙，她所居住的村镇改名为曹娥镇，曹娥殉父之处定名为曹娥江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端午节第四个意义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是纪念现代革命女诗人秋瑾。秋瑾是六月五日殉国，后人为敬仰其诗，复哀其忠勇事迹，乃与诗人节合并举行纪念，而诗人节亦因纪念爱国诗人屈原而定为端午节。秋瑾字睿卿竞雄，号鉴湖女侠，小字玉姑，浙江绍兴人，幼年擅长诗、词、歌、赋，且喜骑马击剑，有花木兰、秦良玉在世之啤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28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岁时参加革命，影响极大，预谋起义，开会时为清兵所捕，不屈，于光绪三十三年六月五日在绍兴轩亨口英勇就义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文本框 4097"/>
          <p:cNvSpPr/>
          <p:nvPr/>
        </p:nvSpPr>
        <p:spPr>
          <a:xfrm>
            <a:off x="0" y="0"/>
            <a:ext cx="91440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屈原的故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端午节的由来，一定会让大家联想到的传说之一，是诗人屈原的故事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屈原是战国时代楚国的三闾大夫，他是一位爱民而且又受到尊崇的官吏，但是由于一位充满嫉妒的官吏陷害，从此在朝廷中被皇帝所冷落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心怀大志，一直为国家大事担心的屈原，因为眼看着国家急难而无法拯救他的国家、无法实现他的理想，整天都非常忧愁，常常独自在江边徘徊叹息。有一天，一位在江边钓鱼的渔夫                                       问他为什麽这麽失意落魄，屈原叹气的说：「举世皆醉唯                                         我独醒，举世皆浊唯我独清。」心中的感叹和无奈，在这两                                        句话中都说得很明白了。 不久，这位怀才不遇的诗人就投汨                                        罗江自杀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楚国的人民知道这个消                                        息之後，都不约而同的赶到江边来，想找寻他们所敬爱的                                      屈原，可是一直都找不到屈原的身体。为了不让水中的鱼                                         虾把屈原的身体吃掉，他们就在江上划着龙舟、敲锣打鼓                                      ，希望能将鱼虾赶跑；还用粽叶包米饭，作成粽子，投到                                      江里喂给鱼虾吃，希望屈原的身体不要受到伤害。一老医师则拿了一坛雄黄酒倒进江里，说是要药晕了蛟龙，使它不能伤害屈大夫。过不了多久，水面上浮起了一条昏晕的蛟龙，龙须上还沾着一片屈大夫的衣襟。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端午节最重要的活动是龙舟竞赛，比赛的队伍在热烈的鼓声中划着他们多彩的龙舟前进。这项活动的灵感是来自于当时汩罗江畔的居民，在江中划船救屈原，而这个传统也一直保持了数个世纪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图片 4098" descr=""/>
          <p:cNvPicPr/>
          <p:nvPr/>
        </p:nvPicPr>
        <p:blipFill>
          <a:blip r:embed="rId2"/>
          <a:stretch/>
        </p:blipFill>
        <p:spPr>
          <a:xfrm>
            <a:off x="3429000" y="2057400"/>
            <a:ext cx="20509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512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50000">
              <a:srgbClr val="ffffff"/>
            </a:gs>
            <a:gs pos="100000">
              <a:srgbClr val="ff99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文本框 6145"/>
          <p:cNvSpPr/>
          <p:nvPr/>
        </p:nvSpPr>
        <p:spPr>
          <a:xfrm>
            <a:off x="0" y="0"/>
            <a:ext cx="9144000" cy="25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端午节的由来來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端午节，又称为五五节，因为端午节是在农历的五月五日，是三个重要的中国节庆之一，其他两个分別是中秋节和农历新年。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幼圆"/>
              </a:rPr>
              <a:t>农历五月初五为端午节，又称端阳节、午日节、五月节、艾节、端五、重午、午日、夏节。虽然名称不同，但各地人民过节的习俗是相同的。端午节是我国二千多年的旧习俗，每到这一天，家家户户都悬钟馗像，挂艾叶菖蒲，赛龙舟，吃粽子，饮雄黄酒，游百病，佩香囊，备牲醴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文本框 6146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文本框 7169"/>
          <p:cNvSpPr/>
          <p:nvPr/>
        </p:nvSpPr>
        <p:spPr>
          <a:xfrm>
            <a:off x="0" y="0"/>
            <a:ext cx="3962520" cy="34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端午别称知多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端阳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据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荆楚岁时记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载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因仲夏登高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顺阳在上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五月正是仲夏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它的第一个午日正是登高顺阳天气好的日子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故称五月初五为“端阳节”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菖蒲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古人认为“重午”是犯禁忌的日子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此时五毒尽出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因此端午风俗多为驱邢避毒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如在门上悬挂菖蒲、艾叶等，故端午节也称“菖蒲节”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浴兰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端午时值仲夏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是皮肤病多发季节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古人以兰草汤沐浴去污为俗。汉代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大戴礼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云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:“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午日以兰汤沐浴”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解棕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古人端午吃棕时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有比较各人解下粽叶的长度、长者为胜的游戏，故又有“解粽节”之称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图片 7170" descr=""/>
          <p:cNvPicPr/>
          <p:nvPr/>
        </p:nvPicPr>
        <p:blipFill>
          <a:blip r:embed="rId1"/>
          <a:stretch/>
        </p:blipFill>
        <p:spPr>
          <a:xfrm>
            <a:off x="4572000" y="3962520"/>
            <a:ext cx="3657600" cy="2341440"/>
          </a:xfrm>
          <a:prstGeom prst="rect">
            <a:avLst/>
          </a:prstGeom>
          <a:ln w="0">
            <a:noFill/>
          </a:ln>
        </p:spPr>
      </p:pic>
      <p:sp>
        <p:nvSpPr>
          <p:cNvPr id="95" name="文本框 7171"/>
          <p:cNvSpPr/>
          <p:nvPr/>
        </p:nvSpPr>
        <p:spPr>
          <a:xfrm>
            <a:off x="4343400" y="0"/>
            <a:ext cx="4800600" cy="26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女儿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沈榜宛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杂记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载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:“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燕京自五月一日至五日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家家饰小闺女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尽态极妍。已出嫁之女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亦归宁簪以榴花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曰女儿节”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天中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古人认为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五月五日时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太阳重人中天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故称这一天为“天中节”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重午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午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属十二支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农历五月为午月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五、午同音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五、五相重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故端午节又名“重午节”或“重五节”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有 些地方也叫“五月节”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文本框 8193"/>
          <p:cNvSpPr/>
          <p:nvPr/>
        </p:nvSpPr>
        <p:spPr>
          <a:xfrm>
            <a:off x="0" y="0"/>
            <a:ext cx="9144000" cy="49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粽子由来久、花样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粽子是端午节的节日食品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　　粽子是端午节的节日食品，世界各地的华人，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论是本地、中国、台湾、香港，还是海外的唐人街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都会按传统，在农历五月初五前准备各式粽子应节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　　但你知道吗，粽子的由来已久，汉代许慎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说文解字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一书中，已有“粽子”的记载，是一种用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叶裹米的食品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　　不过，在古代，粽子可是称为角黍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　　明清以后，粽子多用糯米包裹，这时就不叫角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黍，而称粽子了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文本框 8194"/>
          <p:cNvSpPr/>
          <p:nvPr/>
        </p:nvSpPr>
        <p:spPr>
          <a:xfrm>
            <a:off x="5943600" y="0"/>
            <a:ext cx="3200400" cy="12520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粽子的名称变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　　西晋周处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风土记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说，端午节用菰叶裹黍米栗枣，叫做筒粽，也叫角黍。明代李时珍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《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本草纲目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》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中，清楚说明用菰叶裹黍米，煮成尖角或棕榈叶形状食物，所以称“角黍”或“粽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图片 8195" descr=""/>
          <p:cNvPicPr/>
          <p:nvPr/>
        </p:nvPicPr>
        <p:blipFill>
          <a:blip r:embed="rId1"/>
          <a:stretch/>
        </p:blipFill>
        <p:spPr>
          <a:xfrm>
            <a:off x="304920" y="3886200"/>
            <a:ext cx="3733560" cy="2741760"/>
          </a:xfrm>
          <a:prstGeom prst="rect">
            <a:avLst/>
          </a:prstGeom>
          <a:ln w="0">
            <a:noFill/>
          </a:ln>
        </p:spPr>
      </p:pic>
      <p:sp>
        <p:nvSpPr>
          <p:cNvPr id="99" name="文本框 8196"/>
          <p:cNvSpPr/>
          <p:nvPr/>
        </p:nvSpPr>
        <p:spPr>
          <a:xfrm>
            <a:off x="4495680" y="3809880"/>
            <a:ext cx="4648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因地区不同， 由材料以至粽叶， 都有着很大的差别，连“裹” 的形状，也有很大的不同，如早期人们盛行以牛角祭天，因此汉晋 时 的 粽子，多做成角形， 作为祭祖用品之一。此外，一般还有正三角形、正四角形、尖三角形、方形、长形等各种形状。 而粽子的口味，也依地方的不同，而有差异，唐代时，长安街有许多粽子铺，有多种果仁馅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75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75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文本框 9217"/>
          <p:cNvSpPr/>
          <p:nvPr/>
        </p:nvSpPr>
        <p:spPr>
          <a:xfrm>
            <a:off x="0" y="0"/>
            <a:ext cx="9144000" cy="41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端午节诗词赏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乙卯重五诗</a:t>
            </a:r>
            <a:r>
              <a:rPr b="0" lang="zh-CN" sz="2800" spc="-1" strike="noStrike">
                <a:solidFill>
                  <a:srgbClr val="000000"/>
                </a:solidFill>
                <a:latin typeface="FZKT"/>
              </a:rPr>
              <a:t>　　陆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重五山村好，榴花忽已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粽包分两髻，艾束著危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旧俗方储药，羸躯亦点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日斜吾事毕，一笑向杯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图片 9218" descr=""/>
          <p:cNvPicPr/>
          <p:nvPr/>
        </p:nvPicPr>
        <p:blipFill>
          <a:blip r:embed="rId1"/>
          <a:stretch/>
        </p:blipFill>
        <p:spPr>
          <a:xfrm>
            <a:off x="914400" y="3809880"/>
            <a:ext cx="3124080" cy="2268720"/>
          </a:xfrm>
          <a:prstGeom prst="rect">
            <a:avLst/>
          </a:prstGeom>
          <a:ln w="0">
            <a:noFill/>
          </a:ln>
        </p:spPr>
      </p:pic>
      <p:sp>
        <p:nvSpPr>
          <p:cNvPr id="102" name="文本框 9219"/>
          <p:cNvSpPr/>
          <p:nvPr/>
        </p:nvSpPr>
        <p:spPr>
          <a:xfrm>
            <a:off x="4419720" y="685800"/>
            <a:ext cx="4724280" cy="22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首五律具体描写了南宋在端午节这天的生活习惯。作者吃了两角的粽子，高冠上插着艾枝。依旧俗，又忙着储药、配药方，为的是这一年能平安无病。到了晚上，他身心愉快地喝起酒来。从中可以反映出，江南端午风俗，既有纪念屈原的意思，又有卫生保健的内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" dur="75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8000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文本框 10241"/>
          <p:cNvSpPr/>
          <p:nvPr/>
        </p:nvSpPr>
        <p:spPr>
          <a:xfrm>
            <a:off x="0" y="0"/>
            <a:ext cx="9144000" cy="60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竞渡曲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FZKT"/>
              </a:rPr>
              <a:t>刘禹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　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沅江五月平堤流，邑人相将浮彩舟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　　灵均何年歌已矣，哀谣振楫从此起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　　扬桴击节雷阗阗，乱流齐进声轰然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　　蛟龙得雨耆鬣动，螮蝀饮河形影联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　　刺史临流褰翠帏，揭竿命爵分雄雌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　　先鸣余勇争鼓舞，未至衔枚颜色沮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　　百胜本自有前期，一飞由来无定所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　　风俗如狂重此时，纵观云委江之湄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　　彩旗夹岸照蛟室，罗袜凌波呈水嬉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　　曲终人散空愁暮，招屈亭前水车注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6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刘禹锡这首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竞渡曲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记叙的是沅江一次</a:t>
            </a:r>
            <a:r>
              <a:rPr b="0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赛龙舟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活动。在州刺史的主持下，各队龙舟决一胜负。胜者欢欣，败者沮丧。赛后女子在水中嬉戏，与岸边彩旗相映生辉，为节日增添了无限的生趣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图片 10242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4648320" y="1143000"/>
            <a:ext cx="419076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BD62B-5CE3-4C26-933A-56DCB491911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5T13:24:43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28:35Z</dcterms:modified>
  <cp:revision>1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  <property fmtid="{D5CDD505-2E9C-101B-9397-08002B2CF9AE}" pid="3" name="NXTAG2">
    <vt:lpwstr>000800e801000000000001024120</vt:lpwstr>
  </property>
</Properties>
</file>