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76EED-237D-4FAB-8C2B-53A26C86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63E7E-B179-40B9-8E60-8A5D15BA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6BD4D-27C4-4927-8CC3-840FEBF1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A0EF8-96B3-4CF4-B512-3EB43110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0E4F-1A33-46A4-8983-45670D0B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51CF4-B49E-4D37-B862-6408C0FA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321F2-61CC-41A3-9BBF-15BC4A7D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73B72-4883-4F28-95AD-5F2B9006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ACAED-EB90-4DA6-9E6F-5A2C6CE2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441B9-2EA6-482D-B586-D6E670C1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109F2-A8E3-4A98-B2E6-DAAD50F4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2B209-318B-49D8-B3CE-D8A33CB2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309A2-62B5-4882-8A3E-CD51637F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2026A-8B40-4F48-AFE0-841DA034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A0231-893C-43F9-831A-94A8130C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2B5DB-F2FD-4703-A24B-3900AE6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A09FE-FDDB-49B9-AB36-22ACA4CD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AAE31-DA00-4416-8D17-4207AF31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09E49-1381-4A23-9640-5627BAD4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79E45-B17E-4F1E-B086-26CA67CA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D678D-07F1-4C5F-8CB7-DCB7AF12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162F2-A771-4DE9-98C9-0D2B5AFE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F7A66-791F-420F-B18B-29EF9BB4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12CC-915E-4CBE-8A22-0E64D386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6DDF-03B0-4324-ADC6-67A4116A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AD48-B5D3-4AB3-A96B-CFE83F3F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D221F-C01F-4F6A-879B-E6F4B6ED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697B2-1B58-4D47-9E1A-7F5B1BC2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0586F-C3B9-4DE3-8E53-88C6F0D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1648E-3B6C-4D12-A4B0-07DF5BA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DC6-3C69-4B29-9C01-383F7F46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3604-A99B-4E11-B1C3-C9CC009C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442CE-2A4D-4A8B-A229-FD5EF33C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A6C6C-18C5-4491-939D-2C1004BF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68715-2FCA-4695-A88E-53DD2D4D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05896-A198-4256-BFFF-FB6391BD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C7805-4CF8-48B1-9C30-02A4431E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8D1BE-A506-4C72-B822-623A715D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A981-89F1-4080-BA15-230459BC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CAFF3-3EB7-4F7E-A8DB-A70FBB81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BDD37-E2A3-42E3-B41B-AAEA853F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650-1CB9-464A-B6C8-8D2EB248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D7027-0D66-4F67-90CA-C0F3EA45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B66C6-E363-4CEF-8BD3-FCC6F80E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7F568-D2D3-424C-885B-3C86C2CC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ED71B-5415-4804-9AF9-CEF32149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080A9-7F1C-46CE-9C75-10E26327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C62E9-3599-4062-B725-C50B68C4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F5ED2-94E1-4D72-A472-BD25977D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DB53B-A182-4AF4-A2E0-67C6A0E1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DA0A9-56FB-45EF-A34D-E04AA584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A7176-A39B-43A7-9E28-90C91A6B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CF7-78FF-4279-A62F-238483E4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0B9DC-A915-4065-B119-9E880742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12662-FDB7-4798-B629-68C0C092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BFEB0-8699-4799-83CF-478DE65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D85CC-9AED-45D0-93ED-449D05C3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5938F-D7D5-4915-97AB-12CFD511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240F1-BA05-43FD-B908-CAA74895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A8965-8E0B-419E-A298-0C7D354C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077E7-80D2-4579-BE32-C537175F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73634-571B-45FC-B4A4-D8E7E060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DD861-DD7A-4365-B615-925BCAF9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018-6CA0-493C-9B4C-B2994017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FBF1A-4E41-4233-94B3-E450992B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2FF2A-AF11-462B-A70A-53DC3CA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8B3FD-BB01-4091-B955-123C4043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5DA58-C895-4252-8839-B83D381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32ABD-64BA-4BB8-886A-340E4E2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F76CE-A01E-4BD0-9CA6-EC895016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84F28-C16B-4521-BAB4-F33DCEA8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ECCDB-FBFC-401C-89F4-9F050F04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23CD5-898E-44E0-B862-B085F61F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CEC50-0E6C-4657-B09C-D60821F0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499-BFB5-4009-B0B6-ADB4F7B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13001-2E8F-4966-85D0-5BE6E90C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2BE67-2549-4E42-8AE8-1C0E8EF3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123CD-16FD-4912-9BDD-632E781A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6F4BB-4A5F-4088-B8A2-B92BE021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BFBA4-29B6-4E3A-A51A-121C9C99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9A4C7-DF28-4884-A2FE-BC261144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70263-17E8-4A06-8791-C8CD4FB5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DFF35-B42D-4C1E-87CD-068086C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71C06-55D3-4E5B-BCE7-5F182E1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E5D0C-3007-4930-AF0F-F674AE13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D4E-676F-48D4-86AE-3C1C087A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86386-8950-4D31-9D89-6F17626B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86B-CA89-422B-9E7D-4E9D4429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0DB-C9C3-40C1-B414-AA27D03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76C-715A-4FDF-90B4-5E8159C1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36C-5F82-4985-BF40-C2865DC4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EFF-4649-4B9A-9AB7-C7397342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5D3-713C-4481-93B8-ED89A220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023F-3378-49F0-9F14-14F5BF9A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B228-9845-451A-9F72-CF22E618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E513-BCF9-4124-8BED-001550F2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CE65-74AC-4357-9C6B-3B0247C7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DD77-EF46-4629-9F14-56FE77BB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214D-F588-412C-8BDB-7367F151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3558-09B7-4B90-B7CA-6EA46B3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A5BC-1C72-4EDD-BA67-989F5E59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0565-2DB5-4072-BF9C-7FCF195C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D2C2-5A96-4ACC-809F-0570BDFC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63B1-D85C-4152-BABB-85413842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094D-9887-469A-BE87-271791FE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13A9-AA50-4891-AA12-037E6587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3B88-DA75-41C8-8914-40AB5731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DF30-CEFB-48DB-8908-D7F0425E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5A9C-E6CC-4D9F-A777-270DBE13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5152-5A88-4AA9-8E61-15E2EA7A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35B2-108F-4041-BEAF-FE660AF1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254B-5F4E-43B0-950F-6FD36AB7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87635-4457-4BCE-BF8E-7D20FB8A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49D2-3140-451A-B1E6-687E6234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95F5-E68B-4262-BDB3-64B32992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F1B2-2195-42A7-AF85-6B14ADDE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F39F-C1CB-4511-82F1-A4110556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A012-E67B-44F4-AF62-AA32A0E8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5E79-314C-4AEB-BAC3-1623B9E9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EA9C-7F31-4B09-A7D1-49A76505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2BC4D-1074-4190-A721-77882D9E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5A2A-EB52-4846-B44D-F4CDC60D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84718-633C-4CFD-BDD8-E6B99E58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FE72-C204-4B89-BBD9-F9045352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F733-BB9F-4A0E-8A61-60A9F475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8EC6-295E-4975-A559-47F15768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21E3-A57E-4A2D-B245-7C4D17EB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B4D7-A261-471C-B6A3-6A73B897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3B5DF-3003-414D-90AB-DD9EC5EE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0C5F5-48E3-42B1-A787-EEDF1550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68CF1-FCC3-4D12-A29C-A0F7EA47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CB9E-FAE6-4C36-84EA-AF1357EC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D9F26-7D6F-4878-85C6-8D4B9E3E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92881-3A93-4E5D-AD82-0A0767CE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64FE-0598-4C3B-8FFC-5855EAEF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AE9EF-4D73-4C38-9590-B4581B0D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7F9C-9269-4EAE-AB6D-8CED977A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523F4-D046-4E4A-B056-433079B1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4613-869F-4D09-B73C-52772B07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EA003-755D-4655-889A-9BCEF5B8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73882-8FB3-4018-9244-5D3A6292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47D84-7F7E-4F6D-B312-9396F9CC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BEA54-7691-4B14-92D4-CF9A9761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618F-1BA9-4AAC-A275-D52C819F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D434-4886-4C58-B37B-A79325E6946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72D3-17A8-4DB5-B27F-49BCB8FD18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DA25-D189-44EC-B4F9-20452B4B5D1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121D-C556-4523-8BD7-809A5B86353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51B1-57F3-460E-A855-36A8E92588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7014-BCE3-46B8-BC30-D1B668F787F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6DD0-9BE0-41D7-A963-0D1445E82C4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2443-CAF4-465D-9A83-58EF3EEF92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C263-B491-487D-AD82-E2D70869C14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193B-B80A-462D-89F2-437368D86E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6210-D224-47CB-9D93-D1373EB71DC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7C16-DA29-4419-8F54-B18AB25F54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4196-9331-4CB4-92C7-CF740F84C15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471F-22EC-4DD9-B80C-E245FBEB6A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图片2.png"/>
          <p:cNvPicPr/>
          <p:nvPr/>
        </p:nvPicPr>
        <p:blipFill>
          <a:blip r:embed="rId3"/>
          <a:stretch/>
        </p:blipFill>
        <p:spPr>
          <a:xfrm>
            <a:off x="0" y="0"/>
            <a:ext cx="3500280" cy="4772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" descr="图片2-.png"/>
          <p:cNvPicPr/>
          <p:nvPr/>
        </p:nvPicPr>
        <p:blipFill>
          <a:blip r:embed="rId4"/>
          <a:stretch/>
        </p:blipFill>
        <p:spPr>
          <a:xfrm>
            <a:off x="7629480" y="5505480"/>
            <a:ext cx="1514520" cy="1352520"/>
          </a:xfrm>
          <a:prstGeom prst="rect">
            <a:avLst/>
          </a:prstGeom>
          <a:ln w="0">
            <a:noFill/>
          </a:ln>
        </p:spPr>
      </p:pic>
      <p:grpSp>
        <p:nvGrpSpPr>
          <p:cNvPr id="79" name="组合 10"/>
          <p:cNvGrpSpPr/>
          <p:nvPr/>
        </p:nvGrpSpPr>
        <p:grpSpPr>
          <a:xfrm>
            <a:off x="2214720" y="1185840"/>
            <a:ext cx="2450880" cy="1600200"/>
            <a:chOff x="2214720" y="1185840"/>
            <a:chExt cx="2450880" cy="1600200"/>
          </a:xfrm>
        </p:grpSpPr>
        <p:pic>
          <p:nvPicPr>
            <p:cNvPr id="80" name="Picture 2" descr="C:\Documents and Settings\Administrator\桌面\情人节\情人节\情人节模板\12\未标题-3 .png"/>
            <p:cNvPicPr/>
            <p:nvPr/>
          </p:nvPicPr>
          <p:blipFill>
            <a:blip r:embed="rId5"/>
            <a:stretch/>
          </p:blipFill>
          <p:spPr>
            <a:xfrm>
              <a:off x="2214720" y="1253160"/>
              <a:ext cx="2450880" cy="15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矩形 5" descr=""/>
            <p:cNvPicPr/>
            <p:nvPr/>
          </p:nvPicPr>
          <p:blipFill>
            <a:blip r:embed="rId6"/>
            <a:stretch/>
          </p:blipFill>
          <p:spPr>
            <a:xfrm>
              <a:off x="2261520" y="1185840"/>
              <a:ext cx="238356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"/>
          <p:cNvGrpSpPr/>
          <p:nvPr/>
        </p:nvGrpSpPr>
        <p:grpSpPr>
          <a:xfrm>
            <a:off x="6550200" y="4857840"/>
            <a:ext cx="2450880" cy="1600200"/>
            <a:chOff x="6550200" y="4857840"/>
            <a:chExt cx="2450880" cy="1600200"/>
          </a:xfrm>
        </p:grpSpPr>
        <p:pic>
          <p:nvPicPr>
            <p:cNvPr id="121" name="Picture 2" descr="C:\Documents and Settings\Administrator\桌面\情人节\情人节\情人节模板\12\未标题-3 .png"/>
            <p:cNvPicPr/>
            <p:nvPr/>
          </p:nvPicPr>
          <p:blipFill>
            <a:blip r:embed="rId3"/>
            <a:stretch/>
          </p:blipFill>
          <p:spPr>
            <a:xfrm>
              <a:off x="6550200" y="4926600"/>
              <a:ext cx="2450880" cy="15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矩形 3" descr=""/>
            <p:cNvPicPr/>
            <p:nvPr/>
          </p:nvPicPr>
          <p:blipFill>
            <a:blip r:embed="rId4"/>
            <a:stretch/>
          </p:blipFill>
          <p:spPr>
            <a:xfrm>
              <a:off x="6595920" y="4857840"/>
              <a:ext cx="238356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图片 9" descr="图片2-.png"/>
          <p:cNvPicPr/>
          <p:nvPr/>
        </p:nvPicPr>
        <p:blipFill>
          <a:blip r:embed="rId5"/>
          <a:stretch/>
        </p:blipFill>
        <p:spPr>
          <a:xfrm>
            <a:off x="7629480" y="5505480"/>
            <a:ext cx="1514520" cy="135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912E-866B-4441-98BE-BC5789CC13A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155E-6884-4759-AFB0-FA68A43F34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53A3-3BAB-46FA-8650-EECC5CFE058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DF98-E0B1-4294-BED6-6980579BC9C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C21A-579B-4434-8C72-32D977061C6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6755-4425-44CB-A546-5B0D15E0A0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7ACD-5DC9-4C70-83B8-BB9B23907F8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F40D-8066-4B74-B0BF-23460ECF7F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7ED2-9E37-45B9-B341-EF0175BAF57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EC4A-DD0C-4298-B821-74E7980E3E3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标题 1"/>
          <p:cNvSpPr/>
          <p:nvPr/>
        </p:nvSpPr>
        <p:spPr>
          <a:xfrm>
            <a:off x="250920" y="4221000"/>
            <a:ext cx="8375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圆圈心形情人节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PPT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1638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圆角矩形 2" descr=""/>
          <p:cNvPicPr/>
          <p:nvPr/>
        </p:nvPicPr>
        <p:blipFill>
          <a:blip r:embed="rId1"/>
          <a:stretch/>
        </p:blipFill>
        <p:spPr>
          <a:xfrm>
            <a:off x="1133640" y="1542960"/>
            <a:ext cx="2176200" cy="4529160"/>
          </a:xfrm>
          <a:prstGeom prst="rect">
            <a:avLst/>
          </a:prstGeom>
          <a:ln w="0">
            <a:noFill/>
          </a:ln>
        </p:spPr>
      </p:pic>
      <p:pic>
        <p:nvPicPr>
          <p:cNvPr id="615" name="圆角矩形 3" descr=""/>
          <p:cNvPicPr/>
          <p:nvPr/>
        </p:nvPicPr>
        <p:blipFill>
          <a:blip r:embed="rId2"/>
          <a:stretch/>
        </p:blipFill>
        <p:spPr>
          <a:xfrm>
            <a:off x="3486240" y="1542960"/>
            <a:ext cx="2182680" cy="4529160"/>
          </a:xfrm>
          <a:prstGeom prst="rect">
            <a:avLst/>
          </a:prstGeom>
          <a:ln w="0">
            <a:noFill/>
          </a:ln>
        </p:spPr>
      </p:pic>
      <p:pic>
        <p:nvPicPr>
          <p:cNvPr id="616" name="圆角矩形 4" descr=""/>
          <p:cNvPicPr/>
          <p:nvPr/>
        </p:nvPicPr>
        <p:blipFill>
          <a:blip r:embed="rId3"/>
          <a:stretch/>
        </p:blipFill>
        <p:spPr>
          <a:xfrm>
            <a:off x="5772240" y="1542960"/>
            <a:ext cx="2182680" cy="4529160"/>
          </a:xfrm>
          <a:prstGeom prst="rect">
            <a:avLst/>
          </a:prstGeom>
          <a:ln w="0">
            <a:noFill/>
          </a:ln>
        </p:spPr>
      </p:pic>
      <p:sp>
        <p:nvSpPr>
          <p:cNvPr id="617" name="流程图: 摘录 5"/>
          <p:cNvSpPr/>
          <p:nvPr/>
        </p:nvSpPr>
        <p:spPr>
          <a:xfrm rot="5400000">
            <a:off x="3246120" y="3249720"/>
            <a:ext cx="320760" cy="298440"/>
          </a:xfrm>
          <a:prstGeom prst="flowChartExtra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流程图: 摘录 6"/>
          <p:cNvSpPr/>
          <p:nvPr/>
        </p:nvSpPr>
        <p:spPr>
          <a:xfrm rot="5400000">
            <a:off x="5602320" y="3275640"/>
            <a:ext cx="322560" cy="298440"/>
          </a:xfrm>
          <a:prstGeom prst="flowChartExtra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7"/>
          <p:cNvSpPr/>
          <p:nvPr/>
        </p:nvSpPr>
        <p:spPr>
          <a:xfrm>
            <a:off x="928800" y="4214880"/>
            <a:ext cx="7072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lnSpc>
                <a:spcPct val="100000"/>
              </a:lnSpc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appy Valentine's da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I could save time in a bottle the first thing that I'd like to do is to save everyday until eternity passes away just to spend them with you if I could make days last forever if words could make wishes come true I'd save everyday like a treasure and then again I would spend them with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1844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B506-3779-4A4C-ACC8-743CE6CEA6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副标题 2"/>
          <p:cNvSpPr/>
          <p:nvPr/>
        </p:nvSpPr>
        <p:spPr>
          <a:xfrm>
            <a:off x="3514680" y="5214960"/>
            <a:ext cx="4986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Wondershar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标题 1"/>
          <p:cNvSpPr/>
          <p:nvPr/>
        </p:nvSpPr>
        <p:spPr>
          <a:xfrm>
            <a:off x="1371600" y="3929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5"/>
          <p:cNvSpPr/>
          <p:nvPr/>
        </p:nvSpPr>
        <p:spPr>
          <a:xfrm rot="20268000">
            <a:off x="3818880" y="1744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7:09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51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