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5E9-4620-4492-9C3F-5C2B07FA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E48-5583-4906-88D0-FF49C0CA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5662A-F205-42BD-AB38-D4A6A6B7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0C2D6-E848-4978-9269-8C585FEC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5A5C9-CF35-464B-BDFF-0ACB3793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4C24F-E833-4868-80EE-9A6C1DDB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80459-A8D2-422E-9653-0ACF82D1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842AB-9FB8-4D9E-92E2-050DC39B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DFA84-E478-43CD-B839-E9BC0C17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B4A86-641E-403D-9BDF-7C8EF459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0524B-D920-4589-8F1A-D9B57238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EDFE6-BD3C-4671-91D5-D18193C1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23C-3885-41ED-AA16-331579C6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68B7C-9171-49B7-8A63-DCDC14D0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DCC0D-AE6D-4F55-8AF0-B7DED07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F9952-32BA-420F-8BBD-1C439655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BC217-E3E6-47A9-BB1A-1482496F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BFC2E-40F1-4685-A240-08CA21C4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671CC-D47F-4925-B543-87A4E042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3A9AF-2373-45CF-9494-C42703AF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67C0C-911A-4CC4-8E5D-BF58D42D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7944E-3449-476E-B7FD-7ACA5719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22835-97E9-4931-8C2C-A548A9A3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C93-3E13-4D43-B811-23C259C8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90A6B-4B8C-4243-9888-41971E88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7245C-919D-439C-AE44-2B404284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6D8F7-E50E-4472-A75E-F792EDD1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18997-BE1E-4DB4-9E78-FA7663CF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2F305-063C-4827-81CC-8721D204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C51E1-62BC-43DE-A71D-147A1E21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33D96-954D-4015-85B1-A8F87017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D17A8-AB78-43D0-904E-77637449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82A62-4304-4FA8-B7D2-0FCE379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4156B-24AF-41E0-8BD3-AE5CBAE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A390-3B2D-472C-B7F6-3E045CDE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126EF-031C-4D89-8E11-15C52A3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FD231-5816-4BC1-B0FE-FC7D535B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2E6A3-53E0-463C-BDBF-C5E138DC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4CE87-5D84-4D75-96A5-73511624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54560-0F4A-4AC0-9516-4E458F55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7E275-5C50-463B-9CAB-9B689853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A0168-E318-4938-B148-86BEBA20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846B9-9802-4553-93FB-299988FD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E8922-C659-4D52-988F-6E4477BF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29A2A-021B-47BE-9AD4-019B37A8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EC04-A3D5-4648-AB7F-B38259B7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55A60-EC9C-4A22-A60E-11860B2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9F3B3-52BB-4FA5-B162-F10BA539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1521A-B4CE-4809-965A-660AC5ED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CAD49-15F1-4C21-8A85-AFA38C7B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0E179-9EDD-4291-BE4F-970D3542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9FC9A-0A98-482E-BF87-8CAFC69B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A1DD4-A7CE-4064-886E-82ACCFAC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33431-4312-4C42-8632-BA964880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75EEA-D9C2-48EC-B097-42E42A98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9C06A-8CD6-498B-87E8-6AD55C7A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C2F0-4EBC-4FCB-8C2D-9F8559B3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51A94-1B79-4ACB-AA1A-A8601DF5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9E571-D9A2-43EA-8656-A788013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C346A-3B1E-4198-983F-7F2DF7E7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EB4FA-92B5-4DDC-92F3-68FAF221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8185D-780A-41E7-A24C-95448BE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F9B243-96BC-463A-B525-C32167CE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516FF-681D-41CD-BE30-75B3EF8A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B7CB5-218A-4B49-9BF5-4B260A8F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BA8F7-9111-46C3-86B4-9D470FCC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973CD-A9D0-4857-B1BE-843BC0C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BFBC-4F8C-4155-AFA3-32A8837A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D4708-FA01-4E65-A31F-57F4D8E7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7FBB2-A02C-4323-8998-346A6535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5EDBC-5E6D-4DBF-BCF8-14664671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21486D-11C3-4C4F-A061-26722C5F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729BF-7A4D-4BAE-8E04-B2A05DD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88BA3-7805-410D-B6B4-B33CE042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8E59C-49C6-4895-95AA-33D1314D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4E40D-1081-4BE5-857F-D0AA2FFB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2D27D-2F76-4B86-B5DF-5A9CFAD1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70A2E-299A-4FD5-BB63-A93B5823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630A-EE02-4A52-8F76-676EDEA8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667542-5D85-4774-AE09-386F38E5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7C344-6A9D-4C36-89A7-65CC4A78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F49E5-6B8B-41D5-95DF-10170182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1843B-0D88-4CA4-A9D4-3C0ACAE1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A5C94-7B80-424A-BC92-DB2C1EA7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44FDF-0FB1-43D8-8BC3-D1993387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F1712-B01B-4885-8305-2CECCBD9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4A20A-6D31-4315-8832-9428EB26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BABA8D-2CD9-40CF-B0FD-FB73CF93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0CB58-75EF-47B1-B73C-D891363F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D235-9EC4-4524-85BE-610A9C51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AC782-36CE-40B4-8F53-DFF4476F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04C24-8F3A-48C9-B676-6D4DCC85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52D88-77DB-4B34-9F61-A6E424E2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BF4B5-996A-482C-A699-F1F88B07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F08959-00C1-418B-A783-0B37BE27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6CCBA-EA9E-459F-8382-7990B79C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DB737-4243-416E-BBDA-BE9E8CF5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00FFB-CE63-44C9-BC39-3509BA16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3368F-922A-4AA7-823C-C1ECDE45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1A855-27CF-4B9B-B87D-98F8D509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22D0-2901-4600-ACD5-D5F3A991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F44DA-9A24-4932-8689-3BE456B7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F6664-FC02-4D1E-A289-B27FB258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8D92E-09B9-4DCA-9367-9A79D42D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E36F3C-D5C8-440D-9E0D-01B90D49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E2000-3954-47CD-B721-C7DF7D45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A3CE9-329C-484B-920B-FEA33C46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B5C77-D6FF-4EA3-B27D-FBC628CD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B8164-FDA5-4612-AB81-EE1AF65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2E281-C60F-4F03-B8D2-A156528A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E6B17-903C-4149-A4EC-213FAC89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D28-3E92-4B9E-A1E0-A6EEB389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3891-63FB-45E5-85A7-E8E4DE2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6BFB6-AF1D-42D2-91D7-A707EB3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DAD914-FDD2-4E63-9163-1F7AC3EB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F46C87-5CD7-4875-B8BF-DE94BFD5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9CAA9-4DA2-4B96-8F78-93913881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C6944-FC2E-4399-96E3-E95B9EE7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FA7D6-82D1-4AB2-BBF7-DB34450D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D4D07-2C88-4600-8C7F-242F08CC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715AD-5F0E-4108-8A35-7A172725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9E830-FB4C-4754-A17E-2DF143A1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789065-EBE8-4E2E-B78E-049D9452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0B0E-214B-450C-A60C-80440B09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43CE96-4C20-4FB2-BC09-5513DF56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927F0-2002-4553-B4E0-32910C39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156D2-0E67-4CAC-B315-F1327947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C9C11B-9A11-4FCF-9FFA-B4AD2CB7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6A2E6E-1AC2-407B-A2C3-8601EF43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BA484-C747-418D-BB36-71E0B798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07E50-90E5-4BBD-8153-5BAA8F7A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D38A7-C9D9-4297-910C-74240CB6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AFCA6-88CB-440E-B1B6-E3BBAF6E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61575-DA08-4866-8CE3-2A95927B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01B6-DE2D-4D9D-A717-70721FA2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D0F23A-1E89-45B8-B11E-866A3AF8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B9836B-CAB7-4B9E-919E-BC02DE71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5F729B-93FE-427E-BF88-9FDF255A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B1647-EEC5-4ACD-96C7-BF8ABD63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F06F7-0779-488F-8136-E039FD6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49ED7E-2A64-490A-8AF4-03D1693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9D14B-6F12-40D0-B39A-6C6E46A6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81840F-C05E-476A-B8EA-9724CE91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B9A57-37E3-4042-B462-5FF094A5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816CD-0259-4F5A-9198-7FB80221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2195-7D08-4A78-B0C4-27AFA7E8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A6410-F714-426B-8304-F971A62B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B369D-94EC-4908-8034-7B6F0A24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F7650-9057-405B-A948-7A6157B4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5C243-3B96-4EC1-8DE4-8AA65EA9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69120-44E7-4309-AC04-6042E121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94580-A6AE-4BF5-8A67-9F5D1617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00DBC-1E08-4F4A-B772-FC635F35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3E46CE-01D6-482D-8380-8BFCD77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3032AA-4066-4A0A-B8E0-30F11AF0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688C7E-C897-4984-BD46-38C10B01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F006-46A1-4DB0-B248-367302BD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7FE434-EA12-49C5-BC8A-73AA9EB3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9431B7-E26B-43EA-8CF8-C77D3976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C8D45-B0E6-4D0D-AFB4-13F7666A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2FD60-C7FA-43B0-8D6F-C84DDB38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895E5-B676-4BA3-9C7A-881F9496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79BCF-48AC-41EA-84CB-11905B50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B740E-E629-4B5C-9FF5-B29CB894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31B0A9-21FA-4199-9FD1-CEB68FBB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52F84-A5F3-445F-87CC-C836E502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B6C29-A983-4BF5-ADC7-1CD5B38F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04DA-2874-4453-BF57-B1B5CA97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8EF320-383D-4D1A-8B7E-C50BDEC3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CB78A9-6242-4656-8236-C040336F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590C34-5823-4E21-9898-ED920060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8DC6FA-544B-4F59-BB3E-31660A0F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99C41B-5239-4165-85AE-A38BD9C0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0A3195-18D7-46A9-AA4D-FFDB61DF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364E5C-BFA4-4572-9764-88A71CC8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94A216-A001-47BA-BB78-D4169DB3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F7EB1B-FE4B-4C66-8E3D-57C066C2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EEC376-049F-4BE9-9216-709912A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611B-7020-4356-9203-4110C021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06AE38-AC50-41E4-A090-DD9088D4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3BDB79-9A80-4606-AEF3-8FCC3A98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A9AFE4-C111-43F0-BBE5-949748C8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E50543-4BE4-4881-BC06-3DA212FD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E9F556-825A-4465-95AD-645E9833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E06DB2-3077-4F6F-8E81-B0815814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B925F-EEDD-4F85-90E6-008BAE99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B906FC-0AD1-4303-86C7-4BB028BE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AA9AF0-728D-42C8-92EA-DFCCDC87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4E3EA3-417F-47B7-9CFC-72714E08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774A-6979-432D-937A-35196144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91B4F8-44DB-4566-90C7-03FAEE96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B67DFA-9C6B-4DE6-A5EF-B78D0816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265355-3771-4DF8-A5FB-F9E5B65D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8A338-F2BA-49E8-81C5-8C88254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1D0855-E4A1-4A92-B4D6-ED516C25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069AB7-5669-40AC-86E7-EE560832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418B7A-881A-4524-BE4B-D8D0F64A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7BBA25-22E3-41D6-B10A-849856CA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99E52A-D80B-479E-8F6C-46141CB9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E49B1D-CE72-43BA-89C6-4A99633D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1635-8F3C-4753-845C-BF80BA65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3A1F24-6520-4C50-ACD8-8933F78F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6CD33E-5C5E-4F8F-9389-D1E4BA49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0337FD-461E-46DA-AE74-F2BE9FE4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A58E5A-DEAD-4536-8B62-84BC3124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C61CA4-F3DF-4671-8A12-8E3BCED6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C63C32-CF66-4B3C-ABF5-6482A297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7DD8BB-FC88-41DA-B4D2-1CAA8EA8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C33FA6-CDBC-4E99-8DA1-2AD886D3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9109A0-A8E7-4D1D-91E0-BA9C6140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89EC0E-DB23-44C6-A80F-9CE9FB37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96E7-32A7-41F9-AAE1-9181BD97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3C6759-D3D7-4E1F-AA4A-5B089B54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EAB6BC-009D-4B7A-89BB-40064F14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73B1C7-904D-40B6-9558-1017EB53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CED358-212A-446F-847E-21827CCE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42319B-5075-42FA-971B-C9F2950D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9CF552-9656-4F5E-BF3C-BDA2E42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56A5FC-5014-4E8B-9D30-D34AECC1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93BD6F-06B4-4FA1-97BD-02D925B3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DFDC72-E4D9-489C-A8E6-AE58D1C1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F0A0B3-5F04-48EA-A502-C77C9876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951-A37F-4239-BEA0-FCA9EC5A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C313-CD15-4FE2-BC24-14E250E7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EB235D-0D56-43C0-9E0A-2FD3C7FD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FB0E-64A4-44FE-89FB-DED740C9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CE3B6-6F3F-488F-BB21-B964F40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8FC9-0717-4542-9A2E-9C21619A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DDE5-79D9-43DE-B11C-9780A940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8354-D409-4DC1-972E-B5CE3AE6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02F1-CCE4-4397-A71D-62E8BCC1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5C92-8978-4C7B-8CB1-EC5B2666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94E44-A493-4545-A07C-BBF80432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558A-2A8E-440B-99ED-95DA2E7B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306-7815-4C08-A001-25DB164D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4EF9-B48E-4C07-BA09-1F92743A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A069-F110-458B-A9B3-EE9A7A90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E19C-714E-403A-904B-DCFD52C7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B825-06F5-4FD0-A519-86AE7222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ECB1-3C8A-4606-87A2-CAA67B9B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CC823-8393-4259-9513-D9CC156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0247-7F3C-4677-8E0E-DF664A6B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708C3-3A8F-4ABC-96F3-11784179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7E40-E734-4A5F-8049-B375A412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99A17-0BAD-4CE2-B29D-01776844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599-6138-4E0B-9BDF-5A1E1ED5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67305-1CEB-4321-9E10-9356DF08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7AB6C-E097-4081-88C9-580E9293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0558-0205-4BE2-9680-A4E729DF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994FA-E53D-48CC-BD39-C103346A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284E2-03F5-4294-9D70-554B8400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B1C5A-A195-4A4B-9141-865CDEB3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594D-BE40-4C56-BA21-45B8A99B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0B035-FBEE-4267-B791-05E7650E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512FC-563E-4D0A-86DA-4DF40F9B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8242D-3B87-48ED-880D-E7A69AD3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B6B-D9EA-4102-AEAC-F1C738F8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DF791-E515-475D-AB09-40C1F24A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BCC18-9BB2-49C4-903B-55520AF8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9080A-731B-42DD-BF79-A9BEFE48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AF917-AB08-4B94-A716-77907224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0F4CC-1F53-4CD3-8176-330D6062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05299-4E5A-4DF6-A979-C86832E7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9FCDC-15B2-481B-82D1-E3650BE3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DA429-36F4-4CCE-AE73-D3AB2FBC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70F07-6AA6-4A26-8EF6-A01A3A7C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05730-628F-46E7-8C00-6989A6A1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CD0-3124-4F32-9ADD-0A9FDDEC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A4A29-84B7-4BC7-B184-0B92BCED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BBD6D-5DD9-4DAC-9704-890A697B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BA945-9FBA-47CD-92D3-555CF676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ADF1F-E9DD-4786-81DF-A293AF1D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C6D41-AB65-4DDC-826E-1619C866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EBC12-F7C7-4737-B7E6-F040A694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6F523-9994-42D8-82A4-1ABEACC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01D66-0B52-48A5-99E4-B8155998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A5AE3-E60F-4846-9F58-25B93190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6ECF4-B35A-4379-98BC-554C2DB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B33D-8868-4A72-A39D-7C3C3F37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648E8-0925-4142-AAB7-91FC76DB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76D83-54C3-4433-A4F1-A56D6988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E6989-1F66-49B8-BC24-B3717E2F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0EA39-7EFC-4B60-BA53-BDFB62D0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D1C02-DDEF-4642-BBED-C74A37DB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D1802-C377-49D9-839F-6496D842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FD2FA-2E28-4802-9703-F4A7A644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5C30F-EABC-4585-AE02-61E1A57E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20AB8-AB11-440E-BD0F-36230112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D8C2E-EE06-436F-A474-2FCE15E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A90-A2C7-4CBF-A43D-05F02ED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F002F-C211-41D3-B631-7EE128D6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541F3-4E18-40B0-AA4D-21E057C1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14979-1421-4E3E-84AC-3241E414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157B6-369D-4F39-AC8B-0CB4D6CE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F431D-1BDC-448D-9BD6-6C7BEEC7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4A37E-60D0-4548-B817-E56E01A3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D2FEB-8B5B-4FA4-862D-BC1B6ECB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83500-D68C-4753-A036-60823245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763D3-CFF1-4114-8394-35C6ABD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BE461-2AF5-4C64-82A8-AEEDEE03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DC2B-D9CA-424F-A56E-8DEDB5795B5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73AB-CA8D-441E-BBB2-44C784927A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122C-2328-4020-B9AD-33FDC31A496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09A9-8D31-4F95-B494-F4D07A0EBE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E735-2122-4B7C-AD35-6AA2096DBF8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E214-94E5-42E9-AED2-698C46B3D7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60BF-89B3-4EF4-9338-33CA4FB9481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D3DA-44C7-4743-8306-1192E47539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ACD8-AFA6-444C-83C1-9FD3D16D350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BD77-BD6A-4F55-820C-34CAA98CD1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3411-D917-4B08-B3F4-3AEF773411F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3F1A-7142-4944-8B3B-FDA071E574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9665-8821-48F8-A9EB-F0EB65037A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7B65-984B-46DF-8C87-3957C7EA5E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79F0-4687-47EE-8C90-B5239FFB32B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C205-96DF-4026-91C9-36F57558D64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E395-04DF-41B0-A090-1AA595DD974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11B8-73B7-4A3F-BC86-536CC6851DB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161-9D11-4E1A-84B3-C886F3010FB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B9B2-F143-4CAA-824E-7A84817951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A352-BC4E-4359-B2EC-C8DA6B9B2C7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F77E-459A-4097-BB53-0B1422AD655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C453-6CDD-4B58-B176-8859A33B3FC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3586-C2BF-4397-BD89-C62C93CD4A0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74DF-00A4-4B94-86A9-B6BEEC8E250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714E-37F3-4F95-91F5-F95732C97F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8D05-C069-4C52-842E-64C6F37634E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F94A-70A6-4304-9333-FA5CC25AEF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8D0E-5DAE-446F-9E2F-64ED171B4C6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7A85-C8CA-45E8-88F8-15263F3E54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2928-A532-44CE-B116-1F85B009D6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7A50-EAD9-4B87-9139-6EF89B9589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F224-C60E-45F2-9765-BEE37C65E0B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438E-04B4-499A-BCD8-3D083B092D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FA77-25EF-493E-9B9A-83A33D88700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46CB-CE3F-4C48-9BDB-C21B4304B2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32AA-CC0F-4A02-9300-D122FFC5F45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336B-9F15-426D-A58A-B7F28CE10F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260E-F90D-4EF5-8994-4C10F746721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854B-A22F-45F3-813C-26A7A1292B8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99A4-FDCB-4C85-A339-5165753ADC8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BD33-7C84-49D9-BC08-E5EDF58CEB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9D7C-C1D1-4598-84BF-8E2B574BEA2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9B9D-4C70-4211-B404-6A3A95A4B89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E217-6A5E-4B79-83A4-E89A77404B0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F816-5486-4595-9695-B752B20779A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7FA7-B52D-4411-BC42-6E0BA95235D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4E44-17D2-48C1-9339-97ECDD27D2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C360-6BB9-45A2-9A91-7618DDB1AA3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0883-583E-4338-9F1E-12C5AA49B6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8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450036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Arial Unicode MS"/>
              </a:rPr>
              <a:t>愚人节的礼物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371600" y="5505480"/>
            <a:ext cx="6400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70c0"/>
              </a:solidFill>
              <a:latin typeface="微软雅黑"/>
            </a:endParaRPr>
          </a:p>
        </p:txBody>
      </p:sp>
      <p:sp>
        <p:nvSpPr>
          <p:cNvPr id="1027" name="文本框 2662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26628"/>
          <p:cNvSpPr/>
          <p:nvPr/>
        </p:nvSpPr>
        <p:spPr>
          <a:xfrm>
            <a:off x="2070000" y="331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愚人节的小丑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0c0"/>
              </a:solidFill>
              <a:latin typeface="Arial Unicode MS"/>
              <a:ea typeface="Arial Unicode MS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1" name="文本框 27651"/>
          <p:cNvSpPr/>
          <p:nvPr/>
        </p:nvSpPr>
        <p:spPr>
          <a:xfrm>
            <a:off x="969840" y="227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CD18-1C66-4915-80D3-4551C7E817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矩形 3"/>
          <p:cNvSpPr/>
          <p:nvPr/>
        </p:nvSpPr>
        <p:spPr>
          <a:xfrm>
            <a:off x="7920" y="66279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9933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9933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504d"/>
                </a:solidFill>
                <a:latin typeface="Arial"/>
              </a:rPr>
              <a:t>多谢观看！</a:t>
            </a:r>
            <a:endParaRPr b="0" lang="en-US" sz="4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1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2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