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F1E-A9E2-46D9-AC1F-E60760FD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53A-EE4C-435A-9676-0286A5F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661-4B5A-4045-8765-6BE58D03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1CD-F610-4F58-8B4A-12BE44E9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8514-3B40-464D-A396-5200F26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5F0-CE06-4580-A1B3-9B796A3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2963-6314-4B51-B14A-6E9B624C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5520-4FA2-46F0-AB43-012B6F0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DA50-852A-453E-BAE5-0F45668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3C5-C800-40BA-9D85-DF3C5675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30E7-CC6C-44A2-B659-E393F41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BEF-8282-4D01-835E-98327E4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141D-CED4-4C84-A9A0-712D2F6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62A7-8567-4F8E-8D57-DC670ED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BC54-FCB8-4779-A344-EEC6747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0768-4748-4E12-B412-40D05915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891C-8262-4B43-B806-D2A66EC3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5E7-E867-40B8-9B31-D5934B9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982-F2F6-48F3-BA6B-29F8428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020-288B-4156-8380-8A7B2D1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4C5-7D6D-464C-8441-E5002E7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AA1-66B7-431F-BE34-135E5BC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810-CD67-4532-A41D-B92CB24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0D5-BE61-4F06-9F64-8053574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1A6-F51B-4788-A700-F9143C28F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9C4-F395-4608-91CA-3A2FE9CE4BE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2A3-D7F7-45A3-A479-8CC4833350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41120" cy="45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506520" y="5646600"/>
            <a:ext cx="10160280" cy="125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684360" y="5715000"/>
            <a:ext cx="7848360" cy="8827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680840" y="33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愚人节面具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292720" y="69228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56196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0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415-AE2F-4A22-8137-4D71C302BE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8388360" y="414972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2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