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201-12BD-4BDC-88DA-86A5B8D0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140-69AB-4412-9678-E7F3C30E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171-5FDF-4F77-A100-BB0A2B84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C90-49A9-40F1-98E1-D5261D27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FC6D-B844-4C89-80B0-79077AF8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30E8-F303-498A-90E5-9920EF31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74E6-47C6-48F3-87AF-BB2CEDCF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7C20-C6E0-4434-BC83-E8376B91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5CD3-B1EC-4D4E-B0CC-3F52AC33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0C54-798D-4851-B691-D6FAA4CA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D9D0-A408-48DA-8CFF-38367D46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C17-7B3E-45FC-A6F1-B22CFAAE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985C-0E59-4E1B-9388-AC1EB556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F847-3F56-4795-8ED9-80A09C9F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BCEB-19CA-4FD2-A520-F87C7FF5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301B-C2DE-4C96-A116-5C8F0D92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D68C-07D0-460D-9879-A11C8B35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5B8-5C67-45E6-82B3-A428059F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ED2-453A-4629-AFBE-07063403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AA6C-DE9A-44BE-85A8-895E6A38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0B28-37BE-4222-94F8-29607D5D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064-0874-4C68-82BD-089E4727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223-9DED-4172-B4B9-A54876DC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581-06E3-4C23-92D5-9EAC06AA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41CF-7F5D-4776-9F21-7767B149FC7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3C10-BABD-4DCC-A924-F0272DF3D1C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B50F-A804-459B-A650-DA4D4CA7B7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 rot="10800000">
            <a:off x="0" y="3860280"/>
            <a:ext cx="6696000" cy="1283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4754520" y="750960"/>
            <a:ext cx="4389480" cy="4392720"/>
          </a:xfrm>
          <a:prstGeom prst="rect">
            <a:avLst/>
          </a:prstGeom>
          <a:ln w="0">
            <a:noFill/>
          </a:ln>
        </p:spPr>
      </p:pic>
      <p:sp>
        <p:nvSpPr>
          <p:cNvPr id="84" name="椭圆 3"/>
          <p:cNvSpPr/>
          <p:nvPr/>
        </p:nvSpPr>
        <p:spPr>
          <a:xfrm>
            <a:off x="317520" y="463680"/>
            <a:ext cx="574560" cy="574560"/>
          </a:xfrm>
          <a:prstGeom prst="ellips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5"/>
          <p:cNvSpPr/>
          <p:nvPr/>
        </p:nvSpPr>
        <p:spPr>
          <a:xfrm>
            <a:off x="538200" y="942840"/>
            <a:ext cx="360360" cy="360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7"/>
          <p:cNvSpPr/>
          <p:nvPr/>
        </p:nvSpPr>
        <p:spPr>
          <a:xfrm>
            <a:off x="514440" y="1297080"/>
            <a:ext cx="573120" cy="573120"/>
          </a:xfrm>
          <a:prstGeom prst="ellips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6"/>
          <p:cNvSpPr/>
          <p:nvPr/>
        </p:nvSpPr>
        <p:spPr>
          <a:xfrm>
            <a:off x="826920" y="627120"/>
            <a:ext cx="992520" cy="992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8"/>
          <p:cNvSpPr/>
          <p:nvPr/>
        </p:nvSpPr>
        <p:spPr>
          <a:xfrm>
            <a:off x="514440" y="-614520"/>
            <a:ext cx="1365120" cy="136692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689120" y="1924200"/>
            <a:ext cx="40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愚人节</a:t>
            </a:r>
            <a:r>
              <a:rPr b="1" lang="zh-CN" sz="40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模板打包在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848160" y="2932200"/>
            <a:ext cx="20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April Fool's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5435640" y="1870200"/>
            <a:ext cx="4319640" cy="2871720"/>
          </a:xfrm>
          <a:prstGeom prst="rect">
            <a:avLst/>
          </a:prstGeom>
          <a:ln w="0">
            <a:noFill/>
          </a:ln>
        </p:spPr>
      </p:pic>
      <p:sp>
        <p:nvSpPr>
          <p:cNvPr id="92" name="椭圆 16"/>
          <p:cNvSpPr/>
          <p:nvPr/>
        </p:nvSpPr>
        <p:spPr>
          <a:xfrm>
            <a:off x="600120" y="1870200"/>
            <a:ext cx="168120" cy="1681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7"/>
          <p:cNvSpPr/>
          <p:nvPr/>
        </p:nvSpPr>
        <p:spPr>
          <a:xfrm>
            <a:off x="1592280" y="369720"/>
            <a:ext cx="573120" cy="573120"/>
          </a:xfrm>
          <a:prstGeom prst="ellipse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085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0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dur="indefinite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50"/>
                            </p:stCondLst>
                            <p:childTnLst>
                              <p:par>
                                <p:cTn id="64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6"/>
          <p:cNvSpPr/>
          <p:nvPr/>
        </p:nvSpPr>
        <p:spPr>
          <a:xfrm>
            <a:off x="0" y="3724200"/>
            <a:ext cx="9144000" cy="1419480"/>
          </a:xfrm>
          <a:custGeom>
            <a:avLst/>
            <a:gdLst/>
            <a:ahLst/>
            <a:rect l="l" t="t" r="r" b="b"/>
            <a:pathLst>
              <a:path w="9144000" h="1419622">
                <a:moveTo>
                  <a:pt x="495300" y="0"/>
                </a:moveTo>
                <a:lnTo>
                  <a:pt x="8674100" y="6626"/>
                </a:lnTo>
                <a:lnTo>
                  <a:pt x="9144000" y="1419622"/>
                </a:lnTo>
                <a:lnTo>
                  <a:pt x="0" y="1419622"/>
                </a:lnTo>
                <a:lnTo>
                  <a:pt x="49530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35"/>
          <p:cNvSpPr/>
          <p:nvPr/>
        </p:nvSpPr>
        <p:spPr>
          <a:xfrm>
            <a:off x="3995640" y="843120"/>
            <a:ext cx="1152720" cy="115236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34"/>
          <p:cNvSpPr/>
          <p:nvPr/>
        </p:nvSpPr>
        <p:spPr>
          <a:xfrm>
            <a:off x="5843520" y="1971720"/>
            <a:ext cx="912960" cy="911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"/>
          <p:cNvSpPr/>
          <p:nvPr/>
        </p:nvSpPr>
        <p:spPr>
          <a:xfrm>
            <a:off x="1835280" y="2063880"/>
            <a:ext cx="5329080" cy="532908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3"/>
          <p:cNvSpPr/>
          <p:nvPr/>
        </p:nvSpPr>
        <p:spPr>
          <a:xfrm>
            <a:off x="317520" y="366840"/>
            <a:ext cx="272880" cy="274680"/>
          </a:xfrm>
          <a:prstGeom prst="ellips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5"/>
          <p:cNvSpPr/>
          <p:nvPr/>
        </p:nvSpPr>
        <p:spPr>
          <a:xfrm>
            <a:off x="422280" y="595440"/>
            <a:ext cx="171360" cy="171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7"/>
          <p:cNvSpPr/>
          <p:nvPr/>
        </p:nvSpPr>
        <p:spPr>
          <a:xfrm>
            <a:off x="411120" y="763560"/>
            <a:ext cx="273240" cy="273240"/>
          </a:xfrm>
          <a:prstGeom prst="ellips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6"/>
          <p:cNvSpPr/>
          <p:nvPr/>
        </p:nvSpPr>
        <p:spPr>
          <a:xfrm>
            <a:off x="560520" y="444600"/>
            <a:ext cx="471240" cy="473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411120" y="-146160"/>
            <a:ext cx="649440" cy="65088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16"/>
          <p:cNvSpPr/>
          <p:nvPr/>
        </p:nvSpPr>
        <p:spPr>
          <a:xfrm>
            <a:off x="450720" y="1035000"/>
            <a:ext cx="81000" cy="810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17"/>
          <p:cNvSpPr/>
          <p:nvPr/>
        </p:nvSpPr>
        <p:spPr>
          <a:xfrm>
            <a:off x="923760" y="322200"/>
            <a:ext cx="273240" cy="273240"/>
          </a:xfrm>
          <a:prstGeom prst="ellipse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2592360" cy="2594160"/>
          </a:xfrm>
          <a:prstGeom prst="rect">
            <a:avLst/>
          </a:prstGeom>
          <a:ln w="0">
            <a:noFill/>
          </a:ln>
        </p:spPr>
      </p:pic>
      <p:sp>
        <p:nvSpPr>
          <p:cNvPr id="107" name="椭圆 4"/>
          <p:cNvSpPr/>
          <p:nvPr/>
        </p:nvSpPr>
        <p:spPr>
          <a:xfrm>
            <a:off x="1260360" y="3363840"/>
            <a:ext cx="1150920" cy="115092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8"/>
          <p:cNvSpPr/>
          <p:nvPr/>
        </p:nvSpPr>
        <p:spPr>
          <a:xfrm>
            <a:off x="6588000" y="3363840"/>
            <a:ext cx="1152720" cy="115092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21"/>
          <p:cNvSpPr/>
          <p:nvPr/>
        </p:nvSpPr>
        <p:spPr>
          <a:xfrm>
            <a:off x="2124000" y="1851120"/>
            <a:ext cx="1150920" cy="115236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28"/>
          <p:cNvSpPr/>
          <p:nvPr/>
        </p:nvSpPr>
        <p:spPr>
          <a:xfrm>
            <a:off x="1379520" y="3483000"/>
            <a:ext cx="912960" cy="91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9"/>
          <p:cNvSpPr/>
          <p:nvPr/>
        </p:nvSpPr>
        <p:spPr>
          <a:xfrm>
            <a:off x="2243160" y="1971720"/>
            <a:ext cx="912960" cy="911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30"/>
          <p:cNvSpPr/>
          <p:nvPr/>
        </p:nvSpPr>
        <p:spPr>
          <a:xfrm>
            <a:off x="4114800" y="963720"/>
            <a:ext cx="912960" cy="9126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32"/>
          <p:cNvSpPr/>
          <p:nvPr/>
        </p:nvSpPr>
        <p:spPr>
          <a:xfrm>
            <a:off x="6708600" y="3483000"/>
            <a:ext cx="911520" cy="91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33"/>
          <p:cNvSpPr/>
          <p:nvPr/>
        </p:nvSpPr>
        <p:spPr>
          <a:xfrm>
            <a:off x="5724360" y="1851120"/>
            <a:ext cx="1151280" cy="115236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0"/>
          <p:cNvSpPr/>
          <p:nvPr/>
        </p:nvSpPr>
        <p:spPr>
          <a:xfrm>
            <a:off x="7821000" y="-1144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3"/>
          <p:cNvSpPr/>
          <p:nvPr/>
        </p:nvSpPr>
        <p:spPr>
          <a:xfrm>
            <a:off x="0" y="4587840"/>
            <a:ext cx="9144000" cy="555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3"/>
          <p:cNvSpPr/>
          <p:nvPr/>
        </p:nvSpPr>
        <p:spPr>
          <a:xfrm>
            <a:off x="317520" y="366840"/>
            <a:ext cx="272880" cy="274680"/>
          </a:xfrm>
          <a:prstGeom prst="ellips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5"/>
          <p:cNvSpPr/>
          <p:nvPr/>
        </p:nvSpPr>
        <p:spPr>
          <a:xfrm>
            <a:off x="422280" y="595440"/>
            <a:ext cx="171360" cy="171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7"/>
          <p:cNvSpPr/>
          <p:nvPr/>
        </p:nvSpPr>
        <p:spPr>
          <a:xfrm>
            <a:off x="411120" y="763560"/>
            <a:ext cx="273240" cy="273240"/>
          </a:xfrm>
          <a:prstGeom prst="ellips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6"/>
          <p:cNvSpPr/>
          <p:nvPr/>
        </p:nvSpPr>
        <p:spPr>
          <a:xfrm>
            <a:off x="560520" y="444600"/>
            <a:ext cx="471240" cy="473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8"/>
          <p:cNvSpPr/>
          <p:nvPr/>
        </p:nvSpPr>
        <p:spPr>
          <a:xfrm>
            <a:off x="411120" y="-146160"/>
            <a:ext cx="649440" cy="65088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6"/>
          <p:cNvSpPr/>
          <p:nvPr/>
        </p:nvSpPr>
        <p:spPr>
          <a:xfrm>
            <a:off x="450720" y="1035000"/>
            <a:ext cx="81000" cy="810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17"/>
          <p:cNvSpPr/>
          <p:nvPr/>
        </p:nvSpPr>
        <p:spPr>
          <a:xfrm>
            <a:off x="923760" y="322200"/>
            <a:ext cx="273240" cy="273240"/>
          </a:xfrm>
          <a:prstGeom prst="ellipse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 rot="10800000">
            <a:off x="0" y="3860280"/>
            <a:ext cx="6696000" cy="1283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3924360" y="750960"/>
            <a:ext cx="4389480" cy="4392720"/>
          </a:xfrm>
          <a:prstGeom prst="rect">
            <a:avLst/>
          </a:prstGeom>
          <a:ln w="0">
            <a:noFill/>
          </a:ln>
        </p:spPr>
      </p:pic>
      <p:sp>
        <p:nvSpPr>
          <p:cNvPr id="126" name="椭圆形标注 1"/>
          <p:cNvSpPr/>
          <p:nvPr/>
        </p:nvSpPr>
        <p:spPr>
          <a:xfrm>
            <a:off x="893880" y="322200"/>
            <a:ext cx="3395520" cy="3402000"/>
          </a:xfrm>
          <a:prstGeom prst="wedgeEllipseCallout">
            <a:avLst>
              <a:gd name="adj1" fmla="val 59018"/>
              <a:gd name="adj2" fmla="val 1901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愚人节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ril Fool's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ril Fool's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Fools'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也称万愚节、幽默节，是西方社会民间传统节日，节期在每年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。愚人节与古罗马的嬉乐节和印度的欢悦节有相似之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时间的选择上看与“春分”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）有关，因为这期间天气常常突然变化，恰似是大自然在愚弄人类。这一天，人们以多种方式开周围的人的玩笑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7821000" y="-1144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介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3"/>
          <p:cNvSpPr/>
          <p:nvPr/>
        </p:nvSpPr>
        <p:spPr>
          <a:xfrm>
            <a:off x="0" y="4587840"/>
            <a:ext cx="9144000" cy="555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3"/>
          <p:cNvSpPr/>
          <p:nvPr/>
        </p:nvSpPr>
        <p:spPr>
          <a:xfrm>
            <a:off x="317520" y="366840"/>
            <a:ext cx="272880" cy="274680"/>
          </a:xfrm>
          <a:prstGeom prst="ellips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5"/>
          <p:cNvSpPr/>
          <p:nvPr/>
        </p:nvSpPr>
        <p:spPr>
          <a:xfrm>
            <a:off x="422280" y="595440"/>
            <a:ext cx="171360" cy="171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411120" y="763560"/>
            <a:ext cx="273240" cy="273240"/>
          </a:xfrm>
          <a:prstGeom prst="ellips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6"/>
          <p:cNvSpPr/>
          <p:nvPr/>
        </p:nvSpPr>
        <p:spPr>
          <a:xfrm>
            <a:off x="560520" y="444600"/>
            <a:ext cx="471240" cy="473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8"/>
          <p:cNvSpPr/>
          <p:nvPr/>
        </p:nvSpPr>
        <p:spPr>
          <a:xfrm>
            <a:off x="411120" y="-146160"/>
            <a:ext cx="649440" cy="65088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16"/>
          <p:cNvSpPr/>
          <p:nvPr/>
        </p:nvSpPr>
        <p:spPr>
          <a:xfrm>
            <a:off x="450720" y="1035000"/>
            <a:ext cx="81000" cy="810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17"/>
          <p:cNvSpPr/>
          <p:nvPr/>
        </p:nvSpPr>
        <p:spPr>
          <a:xfrm>
            <a:off x="923760" y="322200"/>
            <a:ext cx="273240" cy="273240"/>
          </a:xfrm>
          <a:prstGeom prst="ellipse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7148880" y="-127080"/>
            <a:ext cx="1643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整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奇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泪滴形 23"/>
          <p:cNvSpPr/>
          <p:nvPr/>
        </p:nvSpPr>
        <p:spPr>
          <a:xfrm rot="8100000">
            <a:off x="1501200" y="1025280"/>
            <a:ext cx="1863720" cy="1863720"/>
          </a:xfrm>
          <a:custGeom>
            <a:avLst/>
            <a:gdLst/>
            <a:ahLst/>
            <a:rect l="l" t="t" r="r" b="b"/>
            <a:pathLst>
              <a:path w="2934" h="2934">
                <a:moveTo>
                  <a:pt x="0" y="1467"/>
                </a:moveTo>
                <a:cubicBezTo>
                  <a:pt x="0" y="657"/>
                  <a:pt x="657" y="0"/>
                  <a:pt x="1467" y="0"/>
                </a:cubicBezTo>
                <a:cubicBezTo>
                  <a:pt x="2224" y="0"/>
                  <a:pt x="2981" y="-268"/>
                  <a:pt x="3739" y="-805"/>
                </a:cubicBezTo>
                <a:cubicBezTo>
                  <a:pt x="3202" y="-48"/>
                  <a:pt x="2934" y="709"/>
                  <a:pt x="2934" y="1467"/>
                </a:cubicBezTo>
                <a:cubicBezTo>
                  <a:pt x="2934" y="2277"/>
                  <a:pt x="2277" y="2934"/>
                  <a:pt x="1467" y="2934"/>
                </a:cubicBezTo>
                <a:cubicBezTo>
                  <a:pt x="657" y="2934"/>
                  <a:pt x="0" y="2277"/>
                  <a:pt x="0" y="1467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163600" y="4049640"/>
            <a:ext cx="538200" cy="538200"/>
          </a:xfrm>
          <a:prstGeom prst="rect">
            <a:avLst/>
          </a:prstGeom>
          <a:ln w="0">
            <a:noFill/>
          </a:ln>
        </p:spPr>
      </p:pic>
      <p:sp>
        <p:nvSpPr>
          <p:cNvPr id="139" name="椭圆 25"/>
          <p:cNvSpPr/>
          <p:nvPr/>
        </p:nvSpPr>
        <p:spPr>
          <a:xfrm>
            <a:off x="1558800" y="1084320"/>
            <a:ext cx="1746360" cy="1746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愚人节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ril Fool's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ril Fool's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Fools'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也称万愚节、幽默节，是西方社会民间传统节日，节期在每年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泪滴形 26"/>
          <p:cNvSpPr/>
          <p:nvPr/>
        </p:nvSpPr>
        <p:spPr>
          <a:xfrm rot="8100000">
            <a:off x="3501360" y="1025280"/>
            <a:ext cx="1863720" cy="1863720"/>
          </a:xfrm>
          <a:custGeom>
            <a:avLst/>
            <a:gdLst/>
            <a:ahLst/>
            <a:rect l="l" t="t" r="r" b="b"/>
            <a:pathLst>
              <a:path w="2934" h="2934">
                <a:moveTo>
                  <a:pt x="0" y="1467"/>
                </a:moveTo>
                <a:cubicBezTo>
                  <a:pt x="0" y="657"/>
                  <a:pt x="657" y="0"/>
                  <a:pt x="1467" y="0"/>
                </a:cubicBezTo>
                <a:cubicBezTo>
                  <a:pt x="2224" y="0"/>
                  <a:pt x="2981" y="-268"/>
                  <a:pt x="3739" y="-805"/>
                </a:cubicBezTo>
                <a:cubicBezTo>
                  <a:pt x="3202" y="-48"/>
                  <a:pt x="2934" y="709"/>
                  <a:pt x="2934" y="1467"/>
                </a:cubicBezTo>
                <a:cubicBezTo>
                  <a:pt x="2934" y="2277"/>
                  <a:pt x="2277" y="2934"/>
                  <a:pt x="1467" y="2934"/>
                </a:cubicBezTo>
                <a:cubicBezTo>
                  <a:pt x="657" y="2934"/>
                  <a:pt x="0" y="2277"/>
                  <a:pt x="0" y="1467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4165560" y="4049640"/>
            <a:ext cx="536760" cy="538200"/>
          </a:xfrm>
          <a:prstGeom prst="rect">
            <a:avLst/>
          </a:prstGeom>
          <a:ln w="0">
            <a:noFill/>
          </a:ln>
        </p:spPr>
      </p:pic>
      <p:sp>
        <p:nvSpPr>
          <p:cNvPr id="142" name="椭圆 28"/>
          <p:cNvSpPr/>
          <p:nvPr/>
        </p:nvSpPr>
        <p:spPr>
          <a:xfrm>
            <a:off x="3559320" y="1084320"/>
            <a:ext cx="1746000" cy="1746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愚人节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ril Fool's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ril Fool's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Fools'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也称万愚节、幽默节，是西方社会民间传统节日，节期在每年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泪滴形 29"/>
          <p:cNvSpPr/>
          <p:nvPr/>
        </p:nvSpPr>
        <p:spPr>
          <a:xfrm rot="8100000">
            <a:off x="5517360" y="1025280"/>
            <a:ext cx="1863720" cy="1863720"/>
          </a:xfrm>
          <a:custGeom>
            <a:avLst/>
            <a:gdLst/>
            <a:ahLst/>
            <a:rect l="l" t="t" r="r" b="b"/>
            <a:pathLst>
              <a:path w="2934" h="2934">
                <a:moveTo>
                  <a:pt x="0" y="1467"/>
                </a:moveTo>
                <a:cubicBezTo>
                  <a:pt x="0" y="657"/>
                  <a:pt x="657" y="0"/>
                  <a:pt x="1467" y="0"/>
                </a:cubicBezTo>
                <a:cubicBezTo>
                  <a:pt x="2224" y="0"/>
                  <a:pt x="2981" y="-268"/>
                  <a:pt x="3739" y="-805"/>
                </a:cubicBezTo>
                <a:cubicBezTo>
                  <a:pt x="3202" y="-48"/>
                  <a:pt x="2934" y="709"/>
                  <a:pt x="2934" y="1467"/>
                </a:cubicBezTo>
                <a:cubicBezTo>
                  <a:pt x="2934" y="2277"/>
                  <a:pt x="2277" y="2934"/>
                  <a:pt x="1467" y="2934"/>
                </a:cubicBezTo>
                <a:cubicBezTo>
                  <a:pt x="657" y="2934"/>
                  <a:pt x="0" y="2277"/>
                  <a:pt x="0" y="1467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6181560" y="4049640"/>
            <a:ext cx="536760" cy="538200"/>
          </a:xfrm>
          <a:prstGeom prst="rect">
            <a:avLst/>
          </a:prstGeom>
          <a:ln w="0">
            <a:noFill/>
          </a:ln>
        </p:spPr>
      </p:pic>
      <p:sp>
        <p:nvSpPr>
          <p:cNvPr id="145" name="椭圆 31"/>
          <p:cNvSpPr/>
          <p:nvPr/>
        </p:nvSpPr>
        <p:spPr>
          <a:xfrm>
            <a:off x="5575320" y="1084320"/>
            <a:ext cx="1746360" cy="1746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愚人节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ril Fool's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ril Fool's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Fools' Day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也称万愚节、幽默节，是西方社会民间传统节日，节期在每年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4802-91EB-422F-B1FF-C231302760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3"/>
          <p:cNvSpPr/>
          <p:nvPr/>
        </p:nvSpPr>
        <p:spPr>
          <a:xfrm>
            <a:off x="0" y="4587840"/>
            <a:ext cx="9144000" cy="555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3"/>
          <p:cNvSpPr/>
          <p:nvPr/>
        </p:nvSpPr>
        <p:spPr>
          <a:xfrm>
            <a:off x="317520" y="366840"/>
            <a:ext cx="272880" cy="274680"/>
          </a:xfrm>
          <a:prstGeom prst="ellips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5"/>
          <p:cNvSpPr/>
          <p:nvPr/>
        </p:nvSpPr>
        <p:spPr>
          <a:xfrm>
            <a:off x="422280" y="595440"/>
            <a:ext cx="171360" cy="171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7"/>
          <p:cNvSpPr/>
          <p:nvPr/>
        </p:nvSpPr>
        <p:spPr>
          <a:xfrm>
            <a:off x="411120" y="763560"/>
            <a:ext cx="273240" cy="273240"/>
          </a:xfrm>
          <a:prstGeom prst="ellips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6"/>
          <p:cNvSpPr/>
          <p:nvPr/>
        </p:nvSpPr>
        <p:spPr>
          <a:xfrm>
            <a:off x="560520" y="444600"/>
            <a:ext cx="471240" cy="473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8"/>
          <p:cNvSpPr/>
          <p:nvPr/>
        </p:nvSpPr>
        <p:spPr>
          <a:xfrm>
            <a:off x="411120" y="-146160"/>
            <a:ext cx="649440" cy="65088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6"/>
          <p:cNvSpPr/>
          <p:nvPr/>
        </p:nvSpPr>
        <p:spPr>
          <a:xfrm>
            <a:off x="450720" y="1035000"/>
            <a:ext cx="81000" cy="810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7"/>
          <p:cNvSpPr/>
          <p:nvPr/>
        </p:nvSpPr>
        <p:spPr>
          <a:xfrm>
            <a:off x="923760" y="322200"/>
            <a:ext cx="273240" cy="273240"/>
          </a:xfrm>
          <a:prstGeom prst="ellipse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7887600" y="-1270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广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36"/>
          <p:cNvSpPr/>
          <p:nvPr/>
        </p:nvSpPr>
        <p:spPr>
          <a:xfrm>
            <a:off x="1116000" y="1779480"/>
            <a:ext cx="1150920" cy="115272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50920" y="2932200"/>
            <a:ext cx="1441440" cy="1728720"/>
            <a:chOff x="250920" y="2932200"/>
            <a:chExt cx="1441440" cy="1728720"/>
          </a:xfrm>
        </p:grpSpPr>
        <p:sp>
          <p:nvSpPr>
            <p:cNvPr id="161" name="直接连接符 39"/>
            <p:cNvSpPr/>
            <p:nvPr/>
          </p:nvSpPr>
          <p:spPr>
            <a:xfrm flipV="1">
              <a:off x="250920" y="2932200"/>
              <a:ext cx="1441440" cy="1728720"/>
            </a:xfrm>
            <a:prstGeom prst="line">
              <a:avLst/>
            </a:prstGeom>
            <a:ln w="3240">
              <a:solidFill>
                <a:srgbClr val="ffc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250920" y="2932200"/>
              <a:ext cx="1441440" cy="172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椭圆 42"/>
          <p:cNvSpPr/>
          <p:nvPr/>
        </p:nvSpPr>
        <p:spPr>
          <a:xfrm>
            <a:off x="2700360" y="843120"/>
            <a:ext cx="1789200" cy="179064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98440" y="1738440"/>
            <a:ext cx="601920" cy="209520"/>
            <a:chOff x="2098440" y="1738440"/>
            <a:chExt cx="601920" cy="209520"/>
          </a:xfrm>
        </p:grpSpPr>
        <p:sp>
          <p:nvSpPr>
            <p:cNvPr id="165" name="直接连接符 43"/>
            <p:cNvSpPr/>
            <p:nvPr/>
          </p:nvSpPr>
          <p:spPr>
            <a:xfrm flipV="1">
              <a:off x="2098800" y="1738440"/>
              <a:ext cx="601560" cy="209520"/>
            </a:xfrm>
            <a:prstGeom prst="line">
              <a:avLst/>
            </a:prstGeom>
            <a:ln w="3240">
              <a:solidFill>
                <a:srgbClr val="ffc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 rot="10800000">
              <a:off x="2098440" y="1738440"/>
              <a:ext cx="601560" cy="2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椭圆 50"/>
          <p:cNvSpPr/>
          <p:nvPr/>
        </p:nvSpPr>
        <p:spPr>
          <a:xfrm>
            <a:off x="2803680" y="955800"/>
            <a:ext cx="1584000" cy="1584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分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227480" y="2371680"/>
            <a:ext cx="241200" cy="331920"/>
            <a:chOff x="4227480" y="2371680"/>
            <a:chExt cx="241200" cy="331920"/>
          </a:xfrm>
        </p:grpSpPr>
        <p:sp>
          <p:nvSpPr>
            <p:cNvPr id="169" name="直接连接符 51"/>
            <p:cNvSpPr/>
            <p:nvPr/>
          </p:nvSpPr>
          <p:spPr>
            <a:xfrm>
              <a:off x="4227480" y="2371680"/>
              <a:ext cx="241200" cy="331920"/>
            </a:xfrm>
            <a:prstGeom prst="line">
              <a:avLst/>
            </a:prstGeom>
            <a:ln w="3240">
              <a:solidFill>
                <a:srgbClr val="ffc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4227480" y="2371680"/>
              <a:ext cx="2412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椭圆 55"/>
          <p:cNvSpPr/>
          <p:nvPr/>
        </p:nvSpPr>
        <p:spPr>
          <a:xfrm>
            <a:off x="4282920" y="2517840"/>
            <a:ext cx="1265400" cy="126504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56"/>
          <p:cNvSpPr/>
          <p:nvPr/>
        </p:nvSpPr>
        <p:spPr>
          <a:xfrm>
            <a:off x="4387680" y="2611440"/>
            <a:ext cx="1079640" cy="1081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选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61"/>
          <p:cNvSpPr/>
          <p:nvPr/>
        </p:nvSpPr>
        <p:spPr>
          <a:xfrm>
            <a:off x="4824360" y="393840"/>
            <a:ext cx="2146320" cy="214632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2"/>
          <p:cNvSpPr/>
          <p:nvPr/>
        </p:nvSpPr>
        <p:spPr>
          <a:xfrm>
            <a:off x="4927680" y="485640"/>
            <a:ext cx="1941480" cy="194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授权发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创大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新免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549760" y="2540160"/>
            <a:ext cx="347760" cy="610920"/>
            <a:chOff x="5549760" y="2540160"/>
            <a:chExt cx="347760" cy="610920"/>
          </a:xfrm>
        </p:grpSpPr>
        <p:sp>
          <p:nvSpPr>
            <p:cNvPr id="176" name="直接连接符 63"/>
            <p:cNvSpPr/>
            <p:nvPr/>
          </p:nvSpPr>
          <p:spPr>
            <a:xfrm flipH="1">
              <a:off x="5549760" y="2540160"/>
              <a:ext cx="347760" cy="610920"/>
            </a:xfrm>
            <a:prstGeom prst="line">
              <a:avLst/>
            </a:prstGeom>
            <a:ln w="3240">
              <a:solidFill>
                <a:srgbClr val="ffc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5549760" y="2540160"/>
              <a:ext cx="347760" cy="61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椭圆 70"/>
          <p:cNvSpPr/>
          <p:nvPr/>
        </p:nvSpPr>
        <p:spPr>
          <a:xfrm>
            <a:off x="6413400" y="2611440"/>
            <a:ext cx="897120" cy="896760"/>
          </a:xfrm>
          <a:prstGeom prst="ellipse">
            <a:avLst/>
          </a:prstGeom>
          <a:noFill/>
          <a:ln w="3240">
            <a:solidFill>
              <a:srgbClr val="ffc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71"/>
          <p:cNvSpPr/>
          <p:nvPr/>
        </p:nvSpPr>
        <p:spPr>
          <a:xfrm>
            <a:off x="6486480" y="2676600"/>
            <a:ext cx="765360" cy="7668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常更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656400" y="2225520"/>
            <a:ext cx="204840" cy="384480"/>
            <a:chOff x="6656400" y="2225520"/>
            <a:chExt cx="204840" cy="384480"/>
          </a:xfrm>
        </p:grpSpPr>
        <p:sp>
          <p:nvSpPr>
            <p:cNvPr id="181" name="直接连接符 72"/>
            <p:cNvSpPr/>
            <p:nvPr/>
          </p:nvSpPr>
          <p:spPr>
            <a:xfrm>
              <a:off x="6656400" y="2225520"/>
              <a:ext cx="204840" cy="384480"/>
            </a:xfrm>
            <a:prstGeom prst="line">
              <a:avLst/>
            </a:prstGeom>
            <a:ln w="3240">
              <a:solidFill>
                <a:srgbClr val="ffc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656400" y="2225520"/>
              <a:ext cx="204840" cy="38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178760" y="3376440"/>
            <a:ext cx="633240" cy="1355760"/>
            <a:chOff x="7178760" y="3376440"/>
            <a:chExt cx="633240" cy="1355760"/>
          </a:xfrm>
        </p:grpSpPr>
        <p:sp>
          <p:nvSpPr>
            <p:cNvPr id="184" name="直接连接符 76"/>
            <p:cNvSpPr/>
            <p:nvPr/>
          </p:nvSpPr>
          <p:spPr>
            <a:xfrm>
              <a:off x="7178760" y="3376440"/>
              <a:ext cx="633240" cy="1355760"/>
            </a:xfrm>
            <a:prstGeom prst="line">
              <a:avLst/>
            </a:prstGeom>
            <a:ln w="3240">
              <a:solidFill>
                <a:srgbClr val="ffc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7178760" y="3376440"/>
              <a:ext cx="633240" cy="13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2058"/>
          <p:cNvSpPr/>
          <p:nvPr/>
        </p:nvSpPr>
        <p:spPr>
          <a:xfrm>
            <a:off x="1668600" y="335592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0"/>
          <p:cNvSpPr/>
          <p:nvPr/>
        </p:nvSpPr>
        <p:spPr>
          <a:xfrm>
            <a:off x="1647720" y="385920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7195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8:4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27Z</dcterms:modified>
  <cp:revision>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