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9E3B-EDBE-4613-B66D-01333736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D7F-AB8C-430F-BCA1-C8AD57BA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3BFE-1CCC-45E1-9521-CAD2C31E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3DAA-7FE3-4AF0-B34B-F8FAE39F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2B72-6DB7-4581-980E-7F91DB87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32DE-9581-4AC8-A16E-C833A7BF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7F50-5A4E-47F0-83AC-05595F79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81E5-BE37-421B-9C1F-1A648014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ADA4-4A13-402F-89AE-49F8F5F5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6F54-CE65-44B4-9866-B585B475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D799-21F6-4DE2-9F7C-0D8C685C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26EA-DAF6-466B-8057-0A1590EC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4637-7593-4D2F-B1E5-7116E47D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0E1C-6DAC-44A4-BEF0-F4C809E0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2F76-684C-4061-B14E-F753E0B0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8E31-175B-4D4C-B071-E2DF7E02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DCEC-BCF0-4228-A88C-D48D9A39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D689-6FBD-4400-BD03-DBF4D82C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F821-F273-406A-B0EF-EFE697D6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255F-3075-4CE2-9C54-E5551643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B52B-BA35-440D-8740-FF61DBD4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833D-C6AC-4B0C-A553-E255659C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DC78-FC8C-43EF-BFA6-67841B9E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7977-A6C4-4EEB-9CA6-217C2A77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0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6C64-CFF1-4A11-B182-9152156CD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0456-84A0-4196-8923-95ED96E0283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473B-F76B-4E67-83AC-8C540024D9A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hyperlink" Target="http://www.eeppt.com" TargetMode="External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209520" y="476280"/>
            <a:ext cx="8934480" cy="5546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2"/>
          <a:stretch/>
        </p:blipFill>
        <p:spPr>
          <a:xfrm>
            <a:off x="4284720" y="2293920"/>
            <a:ext cx="4843440" cy="453852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3075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2701440" y="11736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愚人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324000" y="-39600"/>
            <a:ext cx="2095200" cy="1955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4878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3"/>
          <a:stretch/>
        </p:blipFill>
        <p:spPr>
          <a:xfrm>
            <a:off x="2525760" y="6597720"/>
            <a:ext cx="4091040" cy="152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1476360" y="288144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愚人（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pril Fool's Day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）节  愚人节较普遍的说法是起源于法国。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56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年；法国首先采用新改革的纪年法格里历（即目前通用的公历），以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为一年之始。但一些因循守旧的人反对这种改革，依然按照旧历固执地在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这一天送礼品，庆祝新年。主张改革的人对这些守旧者的做法大加嘲弄。聪明滑稽的人在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就给他们送假礼品，邀请他们参加假招待会，并把上当受骗的保守分子称为“四月傻瓜”或“上钩的鱼”。从此人们在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便互相愚弄，成为法国流行的风俗。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世纪初，愚人节习俗传到英国，接着又被英国的早期移民带到了美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4"/>
          <a:stretch/>
        </p:blipFill>
        <p:spPr>
          <a:xfrm>
            <a:off x="684360" y="1916280"/>
            <a:ext cx="7723080" cy="925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3647160" y="1963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愚人节的介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24000" y="-39600"/>
            <a:ext cx="2095200" cy="1955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4878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2525760" y="6597720"/>
            <a:ext cx="4091040" cy="152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4"/>
          <a:stretch/>
        </p:blipFill>
        <p:spPr>
          <a:xfrm>
            <a:off x="539640" y="1916280"/>
            <a:ext cx="3959280" cy="9252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1072440" y="198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整蛊妙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39640" y="263700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的愚人节又要到了，愚人节最典型的活动就是大家互相开玩笑，用假话捉弄对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有的人把细线拴着的钱包丢在大街上，自己在暗处拉着线的另一端。一旦有人捡起钱包，他们就出其不意地猛然把钱包拽走。还有人把砖头放在破帽子下面搁在马路当中，然后等着看谁来了会踢它。小孩儿们会告诉父母说自己的书包破了个洞，或者脸上有个黑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大人俯身来看时，他们就一边喊着“四月傻瓜”，一边笑着跑开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5"/>
          <a:stretch/>
        </p:blipFill>
        <p:spPr>
          <a:xfrm>
            <a:off x="5148360" y="1967040"/>
            <a:ext cx="3430440" cy="3767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6"/>
          <a:stretch/>
        </p:blipFill>
        <p:spPr>
          <a:xfrm>
            <a:off x="5213520" y="2205000"/>
            <a:ext cx="3174840" cy="2583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1"/>
          <p:cNvSpPr/>
          <p:nvPr/>
        </p:nvSpPr>
        <p:spPr>
          <a:xfrm>
            <a:off x="2742840" y="574668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Arial"/>
              </a:rPr>
              <a:t>新招 奇招 怪招 请问度娘去吧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-39600"/>
            <a:ext cx="2095200" cy="1955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4878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2525760" y="6597720"/>
            <a:ext cx="4091040" cy="152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4"/>
          <a:stretch/>
        </p:blipFill>
        <p:spPr>
          <a:xfrm>
            <a:off x="539640" y="1916280"/>
            <a:ext cx="3959280" cy="925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1072440" y="198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整蛊图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5"/>
          <a:stretch/>
        </p:blipFill>
        <p:spPr>
          <a:xfrm>
            <a:off x="1671480" y="3164040"/>
            <a:ext cx="232416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"/>
          <p:cNvPicPr/>
          <p:nvPr/>
        </p:nvPicPr>
        <p:blipFill>
          <a:blip r:embed="rId6"/>
          <a:stretch/>
        </p:blipFill>
        <p:spPr>
          <a:xfrm>
            <a:off x="5043600" y="3078000"/>
            <a:ext cx="2336760" cy="2222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7"/>
          <a:stretch/>
        </p:blipFill>
        <p:spPr>
          <a:xfrm>
            <a:off x="-684360" y="2997360"/>
            <a:ext cx="10161720" cy="260352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6154"/>
          <p:cNvSpPr/>
          <p:nvPr/>
        </p:nvSpPr>
        <p:spPr>
          <a:xfrm>
            <a:off x="826920" y="1486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88A5-5610-435B-BDC8-B37881D1871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24000" y="-39600"/>
            <a:ext cx="2095200" cy="1955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4878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3"/>
          <a:stretch/>
        </p:blipFill>
        <p:spPr>
          <a:xfrm>
            <a:off x="2525760" y="6597720"/>
            <a:ext cx="4091040" cy="152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4"/>
          <a:stretch/>
        </p:blipFill>
        <p:spPr>
          <a:xfrm>
            <a:off x="539640" y="1916280"/>
            <a:ext cx="3959280" cy="9252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1072440" y="198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整蛊图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5"/>
          <a:stretch/>
        </p:blipFill>
        <p:spPr>
          <a:xfrm>
            <a:off x="1658880" y="3068640"/>
            <a:ext cx="2336760" cy="2336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6"/>
          <a:stretch/>
        </p:blipFill>
        <p:spPr>
          <a:xfrm>
            <a:off x="5076720" y="3068640"/>
            <a:ext cx="2336760" cy="2336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7"/>
          <a:stretch/>
        </p:blipFill>
        <p:spPr>
          <a:xfrm>
            <a:off x="-684360" y="2997360"/>
            <a:ext cx="1016172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10:28:5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26Z</dcterms:modified>
  <cp:revision>8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