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RICOCHET.WAV" ContentType="audio/x-wav"/>
  <Override PartName="/ppt/media/image6.png" ContentType="image/png"/>
  <Override PartName="/ppt/media/CHIMES.WAV" ContentType="audio/x-wav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  <p:custShowLst>
    <p:custShow name="自定义放映2" id="0">
      <p:sldLst>
        <p:sld r:id="rId9"/>
        <p:sld r:id="rId10"/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B93-87A0-4A71-85AF-370E975D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035-FEE8-4A1B-9475-D15B648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3D3-E523-42FC-9682-CD0033BC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9EF-5CBA-420F-922B-D1920AB3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E769-C4CA-4426-ACAE-AD239276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2DED-DE91-4588-8291-273E811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F415-FFB1-4391-A4F4-EC0E4749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D284-C64E-44A5-8437-3DCBE68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B6D-0008-4AE6-B139-9C11FAB9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E643-6F4D-48C5-A3F9-A4B2C02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12B9-44C0-474B-B75B-A93F9AF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0DC-A118-4EFE-84E9-AD4FE45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EFD9-BB1A-4757-94F6-35EDEEC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E0F8-B5A5-42EE-985B-DF91497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0E5F-AD44-4632-9926-1A095F99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951F-5EFB-4401-AC72-67ED6A8B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76B1-809C-4DBD-94F4-942EFC3F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B77B-7578-4571-B975-24CDFE1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DF5B-50B9-4EC7-83B4-B47C2A5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6440-50EA-4239-8DB4-6A8DFC4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293D-0F8E-48F7-A419-6052D3E6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56E1-F1DE-443C-9704-02B94D0D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718-5FB7-42A8-AC64-9ED21036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A18C-18E5-406C-9940-242E5A3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2CF3-14C4-4758-BFF1-BADE4E7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AA50-26AF-42AA-8C1C-5F8E083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1EDE-095B-4214-BEB0-D3E07D88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BE9C-CCB8-44B0-B9A8-524696D0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C898-0CF3-4A69-93AA-68B40EC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EB6D-E55C-48E7-8734-E5223100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551-EF43-4963-9CE6-5D109C6D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915-5E0F-42FF-AE32-4655DBAF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713-27E1-4F7E-8E99-B31C7653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251-30DC-4ECF-838E-A073A76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C00-09F3-4FBE-BC6B-7285282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F45-E1F2-4C5C-AD7F-4A00D4A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17" descr="education 2-2"/>
          <p:cNvPicPr/>
          <p:nvPr/>
        </p:nvPicPr>
        <p:blipFill>
          <a:blip r:embed="rId3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93B7-6E03-41D7-B717-8409871C06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66BD-09D9-412F-8A1F-3C4BF8E2091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1C9-0612-4DCB-A78D-8ACFAD8988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7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" name="Picture 16" descr="education 2-2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education 2-1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7BEE-F8B4-40C3-BCD3-B8F0C9BB50E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5" descr="《称象》曹冲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360" y="620280"/>
            <a:ext cx="381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称 象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7002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7002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2351880" y="18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幼圆"/>
              </a:rPr>
              <a:t>语文曹冲称象课件幻灯片免费下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等船下沉到画线的地方，（                  ）船上的石头。这样，就称出了大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708360" y="1159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156360" y="1052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06728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227640" y="386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BE4-7B6B-4562-81C2-9C1101518585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413080" y="134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读下面的词语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称象    柱子    议论      大秤   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一艘    船舷    官员们    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割        线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048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0800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得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děi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造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杆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gǎn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大秤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0" y="115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675080" y="393372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8076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称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0" y="47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我是曹冲，还会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(                        )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一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沿水面画线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49" name="曹冲称象.avi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400800" cy="465768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8200"/>
          <p:cNvSpPr/>
          <p:nvPr/>
        </p:nvSpPr>
        <p:spPr>
          <a:xfrm>
            <a:off x="971640" y="112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二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装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2" name="曹冲称象1.avi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三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沉画线处，称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4" name="曹冲称象2.avi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257800" cy="385272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8200"/>
          <p:cNvSpPr/>
          <p:nvPr/>
        </p:nvSpPr>
        <p:spPr>
          <a:xfrm>
            <a:off x="1547640" y="1268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四步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计算石头总重量</a:t>
            </a: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7" name="Picture 6" descr="秤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3512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260280"/>
            <a:ext cx="9144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觉得曹冲是一个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)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长大了，要做一个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                                       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120920" y="105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聪明、爱动脑筋，遇到问题善于动脑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3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