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9D0D-D59E-4762-929A-51988919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8A4-6304-4BAC-ABBE-A6B05A39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F78-624A-4F19-8666-9D28FBA2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802D-47D4-4DC5-9E82-90464788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8037-3B53-41C7-BABC-0080BD9C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BFDA-47B5-44BB-A5D8-DCEB5C92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7148-FF64-46D0-BDBC-C21438A6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1675-7AD3-4A7F-B8A4-5F92B856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7D59-9248-47D3-8AF7-F3DA97FF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D8E7-D7CD-4B4E-8987-5270DF1F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C675-6B92-41E7-8BF0-093A169C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C0E8-5721-44A2-8FCE-61195AE1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43B6-E3C8-40E5-B90B-937F87AA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6B47-9C1B-42AB-ACB6-3546937D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B600-80E6-4248-B57D-6B9282C0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479E-5C38-4E2C-B356-813DC8F4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6F5B-BFA6-4F5C-8BBB-7D729062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F9A9-B94C-4F7F-8CA3-E08B19B6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E53-95DB-4BB4-9C8A-BB2B5E48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147-3990-43D8-814E-0543AA29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D24D-4721-4B1F-AAAC-2196ABA7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F939-26A0-4640-AAF3-415A55D3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244-9082-467A-945E-BD533E30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404-CDEF-47CA-9754-4EE250A7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5AE7-A7C2-4A71-B76C-A2A60ACE67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82E1-D729-4D9E-A6D8-DDFB8EECD47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B068-F910-4DBF-8956-09A9AE4112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&#25152;&#35265;.swf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9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《所见》插图"/>
          <p:cNvPicPr/>
          <p:nvPr/>
        </p:nvPicPr>
        <p:blipFill>
          <a:blip r:embed="rId17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447920" y="11430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所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14400" y="19810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牧  童  骑   黄    牛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90720" y="2743200"/>
            <a:ext cx="350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歌  声     振   林 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990720" y="3581280"/>
            <a:ext cx="350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意  欲  捕   鸣    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990720" y="4419720"/>
            <a:ext cx="350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忽  然   闭   口  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600200" y="838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ypyyb"/>
                <a:ea typeface="zypyyb"/>
              </a:rPr>
              <a:t>suo j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990720" y="16765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ypyyb"/>
                <a:ea typeface="zypyyb"/>
              </a:rPr>
              <a:t>mu tong qi huang ni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990720" y="24382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ypyyb"/>
                <a:ea typeface="zypyyb"/>
              </a:rPr>
              <a:t>ge sheng zhen lin y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990720" y="3276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ypyyb"/>
                <a:ea typeface="zypyyb"/>
              </a:rPr>
              <a:t>yi  yu  bu  ming c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990720" y="4114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ypyyb"/>
                <a:ea typeface="zypyyb"/>
              </a:rPr>
              <a:t>hu  ran  bi  kou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6629400" y="1523880"/>
            <a:ext cx="1447920" cy="609840"/>
          </a:xfrm>
          <a:prstGeom prst="horizontalScroll">
            <a:avLst>
              <a:gd name="adj" fmla="val 12500"/>
            </a:avLst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6629400" y="2590920"/>
            <a:ext cx="1447920" cy="609480"/>
          </a:xfrm>
          <a:prstGeom prst="horizontalScroll">
            <a:avLst>
              <a:gd name="adj" fmla="val 12500"/>
            </a:avLst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5"/>
          <p:cNvSpPr/>
          <p:nvPr/>
        </p:nvSpPr>
        <p:spPr>
          <a:xfrm>
            <a:off x="6629400" y="3657600"/>
            <a:ext cx="1447920" cy="609480"/>
          </a:xfrm>
          <a:prstGeom prst="horizontalScroll">
            <a:avLst>
              <a:gd name="adj" fmla="val 12500"/>
            </a:avLst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6">
            <a:hlinkClick r:id="" action="ppaction://hlinkshowjump?jump=endshow"/>
          </p:cNvPr>
          <p:cNvSpPr/>
          <p:nvPr/>
        </p:nvSpPr>
        <p:spPr>
          <a:xfrm>
            <a:off x="6629400" y="50292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056" h="21600">
                <a:moveTo>
                  <a:pt x="44527" y="10800"/>
                </a:moveTo>
                <a:lnTo>
                  <a:pt x="34021" y="17806"/>
                </a:lnTo>
                <a:lnTo>
                  <a:pt x="34021" y="3794"/>
                </a:lnTo>
                <a:close/>
              </a:path>
              <a:path fill="darken" w="82056" h="21600">
                <a:moveTo>
                  <a:pt x="46372" y="3794"/>
                </a:moveTo>
                <a:lnTo>
                  <a:pt x="46372" y="17806"/>
                </a:lnTo>
                <a:lnTo>
                  <a:pt x="48034" y="17806"/>
                </a:lnTo>
                <a:lnTo>
                  <a:pt x="48034" y="379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2"/>
          <p:cNvSpPr/>
          <p:nvPr/>
        </p:nvSpPr>
        <p:spPr>
          <a:xfrm>
            <a:off x="1568160" y="44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语文课件古诗两首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PM_001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>
            <a:hlinkClick r:id="rId2"/>
          </p:cNvPr>
          <p:cNvSpPr/>
          <p:nvPr/>
        </p:nvSpPr>
        <p:spPr>
          <a:xfrm>
            <a:off x="1828800" y="1905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生字学习与朗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828800" y="2743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诗意解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方正彩云简体"/>
                <a:ea typeface="方正彩云简体"/>
              </a:rPr>
              <a:t>所 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807732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PM_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514600" y="1676520"/>
            <a:ext cx="457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牧童骑在黄牛背上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歌声在树林中回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心想捕捉鸣叫的知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马上站在树下一声不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676520" y="914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诗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8305920" y="6019920"/>
            <a:ext cx="585720" cy="509400"/>
          </a:xfrm>
          <a:custGeom>
            <a:avLst/>
            <a:gdLst>
              <a:gd name="textAreaLeft" fmla="*/ 32760 w 585720"/>
              <a:gd name="textAreaRight" fmla="*/ 552960 w 58572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4834" h="21600">
                <a:moveTo>
                  <a:pt x="0" y="0"/>
                </a:moveTo>
                <a:lnTo>
                  <a:pt x="24834" y="0"/>
                </a:lnTo>
                <a:lnTo>
                  <a:pt x="24834" y="21600"/>
                </a:lnTo>
                <a:lnTo>
                  <a:pt x="0" y="21600"/>
                </a:lnTo>
                <a:close/>
              </a:path>
              <a:path fill="lightenLess" w="24834" h="21600">
                <a:moveTo>
                  <a:pt x="0" y="0"/>
                </a:moveTo>
                <a:lnTo>
                  <a:pt x="24834" y="0"/>
                </a:lnTo>
                <a:lnTo>
                  <a:pt x="23434" y="1400"/>
                </a:lnTo>
                <a:lnTo>
                  <a:pt x="1400" y="1400"/>
                </a:lnTo>
                <a:close/>
              </a:path>
              <a:path fill="darken" w="24834" h="21600">
                <a:moveTo>
                  <a:pt x="24834" y="0"/>
                </a:moveTo>
                <a:lnTo>
                  <a:pt x="24834" y="21600"/>
                </a:lnTo>
                <a:lnTo>
                  <a:pt x="23434" y="20200"/>
                </a:lnTo>
                <a:lnTo>
                  <a:pt x="23434" y="1400"/>
                </a:lnTo>
                <a:close/>
              </a:path>
              <a:path fill="darkenLess" w="24834" h="21600">
                <a:moveTo>
                  <a:pt x="24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4" y="20200"/>
                </a:lnTo>
                <a:close/>
              </a:path>
              <a:path fill="lighten" w="24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4" h="21600">
                <a:moveTo>
                  <a:pt x="5410" y="10800"/>
                </a:moveTo>
                <a:lnTo>
                  <a:pt x="19423" y="3794"/>
                </a:lnTo>
                <a:lnTo>
                  <a:pt x="19423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文本框 8200"/>
          <p:cNvSpPr/>
          <p:nvPr/>
        </p:nvSpPr>
        <p:spPr>
          <a:xfrm>
            <a:off x="2340000" y="6453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PM_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3581280" y="15238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581280" y="25909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补充诗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581280" y="3657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补充诗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78487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袁枚简介.wav" descr=""/>
          <p:cNvPicPr/>
          <p:nvPr/>
        </p:nvPicPr>
        <p:blipFill>
          <a:blip r:embed="rId2"/>
          <a:stretch/>
        </p:blipFill>
        <p:spPr>
          <a:xfrm>
            <a:off x="5638680" y="1676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PM_015"/>
          <p:cNvPicPr/>
          <p:nvPr/>
        </p:nvPicPr>
        <p:blipFill>
          <a:blip r:embed="rId1"/>
          <a:stretch/>
        </p:blipFill>
        <p:spPr>
          <a:xfrm>
            <a:off x="-380880" y="0"/>
            <a:ext cx="9905760" cy="72057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277880" y="1523880"/>
            <a:ext cx="2905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</a:rPr>
              <a:t>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993300"/>
                </a:solidFill>
                <a:latin typeface="楷体_GB2312"/>
              </a:rPr>
              <a:t>袁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</a:rPr>
              <a:t>养鸡纵鸡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</a:rPr>
              <a:t>鸡肥乃烹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</a:rPr>
              <a:t>主人计固佳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</a:rPr>
              <a:t>不可与鸡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8153280" y="57150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文本框 8200"/>
          <p:cNvSpPr/>
          <p:nvPr/>
        </p:nvSpPr>
        <p:spPr>
          <a:xfrm>
            <a:off x="2916360" y="5229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PM_001"/>
          <p:cNvPicPr/>
          <p:nvPr/>
        </p:nvPicPr>
        <p:blipFill>
          <a:blip r:embed="rId1"/>
          <a:stretch/>
        </p:blipFill>
        <p:spPr>
          <a:xfrm>
            <a:off x="533520" y="173160"/>
            <a:ext cx="8610480" cy="6529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990720" y="1371600"/>
            <a:ext cx="65530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箴作诗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             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袁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倚马休夸速藻佳，相如终竟压邹枚。</a:t>
            </a:r>
            <a:br>
              <a:rPr sz="2800"/>
            </a:b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物须见少方为贵，诗到能迟转是才。</a:t>
            </a:r>
            <a:br>
              <a:rPr sz="2800"/>
            </a:b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清角声高非易奏，优昙花好不轻开。</a:t>
            </a:r>
            <a:br>
              <a:rPr sz="2800"/>
            </a:b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须知极乐神仙境，修炼多从苦处来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822960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0031-F1C3-4EEA-9E5F-76BB33D6C7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PM_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133720" y="1219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一想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牧童是怎样捉蝉的呢？他捉到了蝉吗？把这些编成一个故事，讲给大家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8077320" y="60199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06:44:1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24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