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D76-C2A4-41E4-A4F6-BE0273C4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507F-211F-4B7A-8B20-7BB6DDBC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D0A8-5F94-4E36-BAFF-A076C4AC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F4C-F2FD-45B2-A02E-973949C9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ECF9-243A-40DF-A01B-04FDB838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2552-2E0A-4465-8DB4-DAEA6F16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4E72-C075-4BE1-A98B-CDE0B1CE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6E3C-46FC-49E2-8C55-0DC7C7EC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36B5-C630-419D-94C4-F442119D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3715-2058-45FF-942C-41349CEF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6ADE-2E97-4F64-B5DE-71442BEF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73C-B8C1-44DC-B297-79A5C250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A799-9270-4ADF-873D-630BFB81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3E69-553F-4F59-BE89-B84011DD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F69B-D3B3-479F-A4AE-704575E7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6085-4EC1-499A-9862-03CDA0B4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AD59-3191-480B-9CF3-A248A431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CDBD8-675E-435F-9A11-86262E43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9420D-6384-48A7-B1BF-455131D1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14B80-FF48-41B3-86E9-03F64681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F7DE7-B74B-40D0-871C-85C5BB73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0F256-F6AC-47E9-9128-87182149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BAC-6EAB-462B-9913-8E9662C2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47FA9-5870-4EF2-BDF4-57E7E613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657F5-E7C7-4767-BF0B-3D345CBD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79D9A-E159-456D-A727-A659DAD6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2F163-3411-4540-9AB7-FB90B26A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ECDF2-BE90-467F-A43F-4251A611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5EBCE-8DD4-403A-8C85-3D6B29A4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0F105-3535-4939-A099-B0725C39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68A-481E-44D2-8F1A-A4917F06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087D-8488-48A6-BB6B-C487234D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149-D7C4-4043-983A-F603EF55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A2A-61CE-488B-A5D8-E6A2C286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F9F-36FD-4FD0-890A-943AEA55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77C4-9134-4CFA-A440-EF864951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3A81-6C3F-4186-B5C6-729D5E24B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94D0-EC63-4273-8803-5FD5B342A6E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28E5-9E96-422E-AE5A-252A84A7E8E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C0A4-1562-49D0-B418-C01BE8052E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语文课件四个太阳幻灯片下载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冻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脸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该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因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8F1D-96BF-4D2D-B763-EE132826BD95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季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46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eec94"/>
                </a:solidFill>
                <a:latin typeface="Times New Roman"/>
              </a:rPr>
              <a:t>挂</a:t>
            </a:r>
            <a:endParaRPr b="1" lang="en-US" sz="30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街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熟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伙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拌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甜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尝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温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06:17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26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