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BAF-A523-47C1-83A7-FB6558B2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D21-EEB6-4EC1-935D-28DD296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8AC-A7D2-43CE-A919-6905269A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B23-A2FE-4D7E-9EDB-6C80542A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5F7-E5CA-4903-830D-E777CEDC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5522-57DC-4EE9-92FC-D1924824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9D9C-DE96-4783-8B72-8E8566F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A82-D6C2-4F1C-BD39-8BEB03C2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2EEF-1B1C-443B-B0FB-6F0E024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C3F-3AFF-4BEC-8FFF-17C4409E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9BE8-D2C1-4E84-B1A3-B0FECBE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FD-6A4A-4703-93BA-EDCE6E2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3389-F4BC-41D7-B38E-F300835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8B5-B5BD-4C51-ACC9-06A7272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096-CE74-476F-9DEB-B998050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496C-5BF2-42C9-A5B9-1BC1FB9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9793-3C59-4A29-9DC6-AF2FD507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C84-8D5A-48EC-B725-617167A8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EB6-55B8-4DA7-A287-2E44D4D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2BD-2F95-4AB5-B35C-D455755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671-2B95-41EF-B7D2-221D1A89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722-86D3-428F-9EFE-37712EBC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75C-0BC2-47B5-849F-DE0729D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E81-E1F6-40A6-AD8C-7BAAD73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0BB-31D0-40E8-9AB5-60E28C5A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0BE0-7D40-4CE2-9BC1-7ECA6BB054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97B-9149-4D2A-9B44-56CF915D67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x.edu.sh.cn/ziyuan/zongheziyuan/tupian/dwtp/dwtp_26.htm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z0768.cn/bbs/viewthread.php?tid=9016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hinawriter.com.cn/wszl/neirong/Article_Print.asp?ArticleID=221" TargetMode="External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dz.cn/srx/Photo/Class1/List_4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318.com/edu/pic/cz/jnj/rjbxkbywsc/200605/edu_372856.html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318.com/edu/pic/cz/jnj/rjbxkbywsc/200605/edu_372856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hstudio.com/blog/more.asp?name=&#21860;&#37202;&#30334;&#21512;&amp;id=1617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0&amp;tn=baiduimagedetail&amp;word=%C6%D1%C9%C8&amp;in=241&amp;cl=2&amp;cm=1&amp;sc=0&amp;lm=-1&amp;pn=240&amp;rn=1" TargetMode="External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200571522656314"/>
          <p:cNvPicPr/>
          <p:nvPr/>
        </p:nvPicPr>
        <p:blipFill>
          <a:blip r:embed="rId16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2018520" y="141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语文课件识字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20057152264383"/>
          <p:cNvPicPr/>
          <p:nvPr/>
        </p:nvPicPr>
        <p:blipFill>
          <a:blip r:embed="rId1"/>
          <a:stretch/>
        </p:blipFill>
        <p:spPr>
          <a:xfrm>
            <a:off x="0" y="-14706720"/>
            <a:ext cx="9194760" cy="2229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765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ng </a:t>
            </a:r>
            <a:br>
              <a:rPr sz="36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火      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2629080" y="522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p0000101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46680" cy="4879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572000" y="304812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ng </a:t>
            </a:r>
            <a:br>
              <a:rPr sz="36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火      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200571522656314"/>
          <p:cNvPicPr/>
          <p:nvPr/>
        </p:nvPicPr>
        <p:blipFill>
          <a:blip r:embed="rId1"/>
          <a:stretch/>
        </p:blipFill>
        <p:spPr>
          <a:xfrm>
            <a:off x="-1828800" y="-533520"/>
            <a:ext cx="6019920" cy="1177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20057152264383"/>
          <p:cNvPicPr/>
          <p:nvPr/>
        </p:nvPicPr>
        <p:blipFill>
          <a:blip r:embed="rId2"/>
          <a:stretch/>
        </p:blipFill>
        <p:spPr>
          <a:xfrm>
            <a:off x="4191120" y="-14782680"/>
            <a:ext cx="6400800" cy="2229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990720" y="144792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竹椅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火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5_cC8AXaNUnDc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83720" cy="8607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438280" y="533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981080" y="228600"/>
            <a:ext cx="24894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zhī nǚ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织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2004820036306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556000"/>
            <a:ext cx="3886200" cy="430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3200400" y="4724280"/>
            <a:ext cx="53352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20040921074310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0040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牵牛和织女"/>
          <p:cNvPicPr/>
          <p:nvPr/>
        </p:nvPicPr>
        <p:blipFill>
          <a:blip r:embed="rId3"/>
          <a:stretch/>
        </p:blipFill>
        <p:spPr>
          <a:xfrm>
            <a:off x="3200400" y="0"/>
            <a:ext cx="5943600" cy="435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68580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iān               zhī nǚ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牵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牛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          织  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4419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ǒu   xīng</a:t>
            </a:r>
            <a:br>
              <a:rPr sz="4000"/>
            </a:b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   </a:t>
            </a:r>
            <a:r>
              <a:rPr b="1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斗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北斗星"/>
          <p:cNvPicPr/>
          <p:nvPr/>
        </p:nvPicPr>
        <p:blipFill>
          <a:blip r:embed="rId2"/>
          <a:stretch/>
        </p:blipFill>
        <p:spPr>
          <a:xfrm>
            <a:off x="1143000" y="380880"/>
            <a:ext cx="611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200571522656314"/>
          <p:cNvPicPr/>
          <p:nvPr/>
        </p:nvPicPr>
        <p:blipFill>
          <a:blip r:embed="rId1"/>
          <a:stretch/>
        </p:blipFill>
        <p:spPr>
          <a:xfrm>
            <a:off x="4343400" y="-304920"/>
            <a:ext cx="4800600" cy="1177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星星"/>
          <p:cNvPicPr/>
          <p:nvPr/>
        </p:nvPicPr>
        <p:blipFill>
          <a:blip r:embed="rId2"/>
          <a:stretch/>
        </p:blipFill>
        <p:spPr>
          <a:xfrm>
            <a:off x="0" y="-228600"/>
            <a:ext cx="5715000" cy="708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0" y="5410080"/>
            <a:ext cx="5867280" cy="198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织女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北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斗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026" descr="20057152264383"/>
          <p:cNvPicPr/>
          <p:nvPr/>
        </p:nvPicPr>
        <p:blipFill>
          <a:blip r:embed="rId1"/>
          <a:stretch/>
        </p:blipFill>
        <p:spPr>
          <a:xfrm>
            <a:off x="0" y="-2666880"/>
            <a:ext cx="9144000" cy="16230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0" y="-403272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971640" y="141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20065871929963">
            <a:hlinkClick r:id="rId1"/>
          </p:cNvPr>
          <p:cNvPicPr/>
          <p:nvPr/>
        </p:nvPicPr>
        <p:blipFill>
          <a:blip r:embed="rId2"/>
          <a:srcRect l="0" t="430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0" y="990720"/>
            <a:ext cx="1752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81080" y="380880"/>
            <a:ext cx="2514600" cy="152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án  xī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952880" y="380880"/>
            <a:ext cx="3886200" cy="152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  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 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亮   晶   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56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繁  蒲  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 flipH="1">
            <a:off x="152280" y="2438280"/>
            <a:ext cx="8763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织  丁  奶  扇  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星  女  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04160" y="4952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1240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94960" y="5181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996-A50D-4786-85D1-C2B9C34D80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星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星  明星  星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奶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奶奶  牛奶  奶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丁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园丁  人丁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兴旺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扇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电扇  风扇  一扇门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织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织布  织女  织毛衣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女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女孩  母女  女儿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北方  北京  北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风   东北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北斗星     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(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永中楷体"/>
              </a:rPr>
              <a:t>dòu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)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牛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士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20065871929963">
            <a:hlinkClick r:id="rId1"/>
          </p:cNvPr>
          <p:cNvPicPr/>
          <p:nvPr/>
        </p:nvPicPr>
        <p:blipFill>
          <a:blip r:embed="rId2"/>
          <a:srcRect l="0" t="430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57200" y="990720"/>
            <a:ext cx="1752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95480" y="9907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91320" y="990720"/>
            <a:ext cx="2514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们是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60784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爷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3664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463440" y="2209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小丁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69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我看到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还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我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院子里乘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41772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10760" y="1447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小丁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05036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184080" y="25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奶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540800" y="3200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丁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526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50756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奶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6874920" y="4114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丁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763640" y="33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791320" y="4495680"/>
            <a:ext cx="25146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ǐ</a:t>
            </a:r>
            <a:br>
              <a:rPr sz="66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160146835"/>
          <p:cNvPicPr/>
          <p:nvPr/>
        </p:nvPicPr>
        <p:blipFill>
          <a:blip r:embed="rId2"/>
          <a:stretch/>
        </p:blipFill>
        <p:spPr>
          <a:xfrm>
            <a:off x="0" y="765000"/>
            <a:ext cx="6516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6920" y="3124080"/>
            <a:ext cx="35053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yǐ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5791320" y="4495680"/>
            <a:ext cx="25146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ǐ</a:t>
            </a:r>
            <a:br>
              <a:rPr sz="66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981080" y="762120"/>
            <a:ext cx="2454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ú  s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0067152025503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6272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6019920" y="1066680"/>
            <a:ext cx="245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ú  s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u=636629042,2993757051&amp;gp=-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8128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0:48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0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