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gif" ContentType="image/gi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779-76ED-43BB-A7F8-491E37AB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14D4-9833-46BF-84A1-13DAA82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79A-3ADC-43C9-9E39-6F2DD2C3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1C38-7C5F-41D0-8867-75E1F5B6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9F7D-5413-4738-BAD4-9159417D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94B7-9432-47EF-8871-CA677B64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8144-3B65-4071-8203-13EAF9E6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3D0-D674-4271-8876-8EBF2900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E116-C486-4732-BB13-1E505922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EA93-F50E-4AD2-B556-F79F8139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B617-0103-4DBF-9876-FCCA674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2B2-BD1F-4936-B9F0-0CC12002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202D-1F81-428A-8529-4C2D75C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75C49-976F-4ECF-B870-DB472C9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83E1-1346-4CBC-87D0-7DAAE1BC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21B8-9769-45C9-A188-2BCE2A21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86CA-75E1-4ED4-B64A-7F15E1FD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002-023E-4610-A495-1A8E3336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FD4-7A0A-47F4-AD3A-82C27C7D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9F8B-634A-433D-987A-F06120A3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B713-3C7F-447A-ADA4-686C9179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5904-6523-4B06-A2F9-0A868EE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8D0-DAEF-4F22-AB6C-07388A15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1C30-AD1F-4133-912E-167C020B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28B2-1091-478C-BBB8-82D6E459F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A636-069C-4030-9BBA-E9071A24DE2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64D2-FE23-4F54-9095-6DF803E2AC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8_htekUv7ILgcx"/>
          <p:cNvPicPr/>
          <p:nvPr/>
        </p:nvPicPr>
        <p:blipFill>
          <a:blip r:embed="rId1"/>
          <a:srcRect l="0" t="0" r="1122" b="68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2496600" y="1066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语文课件识字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8153280" y="6400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2000122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2433600" y="699840"/>
            <a:ext cx="25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根据课文内容填空，并写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个字谜的谜底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762120" cy="65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3"/>
          <a:stretch/>
        </p:blipFill>
        <p:spPr>
          <a:xfrm>
            <a:off x="3352680" y="2666880"/>
            <a:ext cx="762120" cy="65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120672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57832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381560" y="2589840"/>
            <a:ext cx="14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1130400" y="34279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4" descr=""/>
          <p:cNvPicPr/>
          <p:nvPr/>
        </p:nvPicPr>
        <p:blipFill>
          <a:blip r:embed="rId4"/>
          <a:stretch/>
        </p:blipFill>
        <p:spPr>
          <a:xfrm>
            <a:off x="1828800" y="3505320"/>
            <a:ext cx="762120" cy="655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"/>
          <p:cNvPicPr/>
          <p:nvPr/>
        </p:nvPicPr>
        <p:blipFill>
          <a:blip r:embed="rId5"/>
          <a:stretch/>
        </p:blipFill>
        <p:spPr>
          <a:xfrm>
            <a:off x="1828800" y="5410080"/>
            <a:ext cx="762120" cy="65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"/>
          <p:cNvPicPr/>
          <p:nvPr/>
        </p:nvPicPr>
        <p:blipFill>
          <a:blip r:embed="rId6"/>
          <a:stretch/>
        </p:blipFill>
        <p:spPr>
          <a:xfrm>
            <a:off x="1828800" y="4419720"/>
            <a:ext cx="762120" cy="6555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"/>
          <p:cNvPicPr/>
          <p:nvPr/>
        </p:nvPicPr>
        <p:blipFill>
          <a:blip r:embed="rId7"/>
          <a:stretch/>
        </p:blipFill>
        <p:spPr>
          <a:xfrm>
            <a:off x="4191120" y="4419720"/>
            <a:ext cx="761760" cy="655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762120" cy="655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9" descr=""/>
          <p:cNvPicPr/>
          <p:nvPr/>
        </p:nvPicPr>
        <p:blipFill>
          <a:blip r:embed="rId9"/>
          <a:stretch/>
        </p:blipFill>
        <p:spPr>
          <a:xfrm>
            <a:off x="5105520" y="4419720"/>
            <a:ext cx="761760" cy="655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0" descr=""/>
          <p:cNvPicPr/>
          <p:nvPr/>
        </p:nvPicPr>
        <p:blipFill>
          <a:blip r:embed="rId10"/>
          <a:stretch/>
        </p:blipFill>
        <p:spPr>
          <a:xfrm>
            <a:off x="4191120" y="5334120"/>
            <a:ext cx="76176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1"/>
          <p:cNvSpPr/>
          <p:nvPr/>
        </p:nvSpPr>
        <p:spPr>
          <a:xfrm>
            <a:off x="2597400" y="33516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4435200" y="141516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打一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   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1130400" y="42660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52567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2871000" y="533304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能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2871000" y="4266000"/>
            <a:ext cx="10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8" descr=""/>
          <p:cNvPicPr/>
          <p:nvPr/>
        </p:nvPicPr>
        <p:blipFill>
          <a:blip r:embed="rId11"/>
          <a:stretch/>
        </p:blipFill>
        <p:spPr>
          <a:xfrm>
            <a:off x="5105520" y="5364000"/>
            <a:ext cx="761760" cy="655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0"/>
          <p:cNvSpPr/>
          <p:nvPr/>
        </p:nvSpPr>
        <p:spPr>
          <a:xfrm>
            <a:off x="189324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1"/>
          <p:cNvSpPr/>
          <p:nvPr/>
        </p:nvSpPr>
        <p:spPr>
          <a:xfrm>
            <a:off x="3417120" y="25898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2"/>
          <p:cNvSpPr/>
          <p:nvPr/>
        </p:nvSpPr>
        <p:spPr>
          <a:xfrm>
            <a:off x="1893240" y="34279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3"/>
          <p:cNvSpPr/>
          <p:nvPr/>
        </p:nvSpPr>
        <p:spPr>
          <a:xfrm>
            <a:off x="4457880" y="3427920"/>
            <a:ext cx="148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庄稼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4"/>
          <p:cNvSpPr/>
          <p:nvPr/>
        </p:nvSpPr>
        <p:spPr>
          <a:xfrm>
            <a:off x="3417120" y="34279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5"/>
          <p:cNvSpPr/>
          <p:nvPr/>
        </p:nvSpPr>
        <p:spPr>
          <a:xfrm>
            <a:off x="1893240" y="43423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6"/>
          <p:cNvSpPr/>
          <p:nvPr/>
        </p:nvSpPr>
        <p:spPr>
          <a:xfrm>
            <a:off x="4255560" y="43423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7"/>
          <p:cNvSpPr/>
          <p:nvPr/>
        </p:nvSpPr>
        <p:spPr>
          <a:xfrm>
            <a:off x="5169960" y="434232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8"/>
          <p:cNvSpPr/>
          <p:nvPr/>
        </p:nvSpPr>
        <p:spPr>
          <a:xfrm>
            <a:off x="1893240" y="53330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9"/>
          <p:cNvSpPr/>
          <p:nvPr/>
        </p:nvSpPr>
        <p:spPr>
          <a:xfrm>
            <a:off x="4255560" y="53330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0"/>
          <p:cNvSpPr/>
          <p:nvPr/>
        </p:nvSpPr>
        <p:spPr>
          <a:xfrm>
            <a:off x="5169960" y="533304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1"/>
          <p:cNvSpPr/>
          <p:nvPr/>
        </p:nvSpPr>
        <p:spPr>
          <a:xfrm>
            <a:off x="5627160" y="1294200"/>
            <a:ext cx="61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8200"/>
          <p:cNvSpPr/>
          <p:nvPr/>
        </p:nvSpPr>
        <p:spPr>
          <a:xfrm>
            <a:off x="1447920" y="1752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2000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3"/>
          <p:cNvSpPr/>
          <p:nvPr/>
        </p:nvSpPr>
        <p:spPr>
          <a:xfrm>
            <a:off x="2012760" y="83700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四、猜一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3063240" y="2894040"/>
            <a:ext cx="2785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空中一只鸟，老是跟你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长线牵牢，跟你来赛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来飞得高，雨来往下掉。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谜底：（      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817360" y="4919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风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5C6D-D930-4780-9704-8D9FBBDCFD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2000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2012760" y="837000"/>
            <a:ext cx="157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五、读一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10360" y="2607120"/>
            <a:ext cx="4368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骆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萝卜，一大箩， 路上走来小骆驼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伙一起用力拖。 “别再拖，别再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拖呀拖，汗水落， 再拖箩筐就要破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拖得累了坐一坐。 小骆驼，驮萝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一坐，再来拖。 他说干活最快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喜欢小骆驼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733920" y="3200400"/>
            <a:ext cx="360" cy="2362320"/>
            <a:chOff x="3733920" y="3200400"/>
            <a:chExt cx="360" cy="2362320"/>
          </a:xfrm>
        </p:grpSpPr>
        <p:sp>
          <p:nvSpPr>
            <p:cNvPr id="173" name="Line 6"/>
            <p:cNvSpPr/>
            <p:nvPr/>
          </p:nvSpPr>
          <p:spPr>
            <a:xfrm>
              <a:off x="3733920" y="3200400"/>
              <a:ext cx="0" cy="23623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733920" y="3200400"/>
              <a:ext cx="36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69821212349557"/>
          <p:cNvPicPr/>
          <p:nvPr/>
        </p:nvPicPr>
        <p:blipFill>
          <a:blip r:embed="rId1"/>
          <a:srcRect l="0" t="2584" r="0" b="6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52000" y="914400"/>
            <a:ext cx="2009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奔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驰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田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你我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他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池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塘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545977"/>
          <p:cNvPicPr/>
          <p:nvPr/>
        </p:nvPicPr>
        <p:blipFill>
          <a:blip r:embed="rId1"/>
          <a:srcRect l="0" t="6529" r="244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1870560" y="53341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有马能行千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上传的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1946520" y="45720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</a:rPr>
              <a:t>有人不是你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200"/>
          <p:cNvSpPr/>
          <p:nvPr/>
        </p:nvSpPr>
        <p:spPr>
          <a:xfrm>
            <a:off x="2362320" y="6324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06072300231429"/>
          <p:cNvPicPr/>
          <p:nvPr/>
        </p:nvPicPr>
        <p:blipFill>
          <a:blip r:embed="rId1"/>
          <a:srcRect l="0" t="0" r="1043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>
            <a:off x="2022840" y="76212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有土能种庄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xin_2512022615510752684261"/>
          <p:cNvPicPr/>
          <p:nvPr/>
        </p:nvPicPr>
        <p:blipFill>
          <a:blip r:embed="rId1"/>
          <a:stretch/>
        </p:blipFill>
        <p:spPr>
          <a:xfrm>
            <a:off x="2476440" y="0"/>
            <a:ext cx="6667560" cy="66769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413360" y="40384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有水能养鱼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20001204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1590120" y="2819520"/>
            <a:ext cx="418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奔驰 池塘 行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千里 庄</a:t>
            </a: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稼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养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1240920" y="434880"/>
            <a:ext cx="45856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驰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马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奔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池 塘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土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彳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千 庄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广</a:t>
            </a:r>
            <a:r>
              <a:rPr b="1" lang="zh-CN" sz="5700" spc="-1" strike="noStrike">
                <a:solidFill>
                  <a:srgbClr val="000000"/>
                </a:solidFill>
                <a:latin typeface="Arial"/>
              </a:rPr>
              <a:t> 养 虾</a:t>
            </a:r>
            <a:r>
              <a:rPr b="1" lang="zh-CN" sz="5700" spc="-1" strike="noStrike">
                <a:solidFill>
                  <a:srgbClr val="ff0000"/>
                </a:solidFill>
                <a:latin typeface="Arial"/>
              </a:rPr>
              <a:t>虫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200"/>
          <p:cNvSpPr/>
          <p:nvPr/>
        </p:nvSpPr>
        <p:spPr>
          <a:xfrm>
            <a:off x="1600200" y="60199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20001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2190240" y="837000"/>
            <a:ext cx="19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、选字填空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31920" y="2817720"/>
            <a:ext cx="520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池    地    他    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奔（    ）  田（    ）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（    ）塘   你我（    ）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121480" y="3581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321880" y="3581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13112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779080" y="44197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20001222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3504960" y="837000"/>
            <a:ext cx="88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二、看拼音，写词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390960" y="2209320"/>
            <a:ext cx="667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ēn   chí     chí  tánɡ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644040" y="4266720"/>
            <a:ext cx="609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iān   lǐ      tián   dì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93760" y="3200040"/>
            <a:ext cx="68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ǎnɡ  xiā    cūn zhuā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16680" y="5333400"/>
            <a:ext cx="562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xínɡ  rén     yú   xi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51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8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