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gif" ContentType="image/gif"/>
  <Override PartName="/ppt/media/image8.jpeg" ContentType="image/jpeg"/>
  <Override PartName="/ppt/media/camera.wav" ContentType="audio/x-wav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599-9067-4A2D-956F-81671668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2F8-AA24-4779-BBDF-CF26B982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4C1-B663-4ADC-A8FD-1D9DC533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355-44D1-474C-A0D0-1A9903A6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6F8C-3C20-4DD7-B696-F267DD2A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832D-0103-4D71-A7D4-403A2882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6E64-B297-43AA-915C-282565E9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83D-C4FA-4C9D-AF23-7F3D0D11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603B-52B7-4107-8725-1D28DB3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160-A5DB-4F40-A32E-F0310F43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EC20-7F01-478E-9BA5-B02C155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3CC-8DA6-4C0E-8A3E-FABFC9DE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175A-F299-42AB-9966-E3489A6D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E996-1242-40D5-A008-0E00E24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8E31-E0F9-40BD-9CEC-2CD53D7E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0138-3043-444C-B94A-D93050D3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2ED9-6486-49EF-8469-BA930CEB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C81-A5A2-4CCE-8227-F2A5F2A3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5EE-B0A5-4B82-8999-1731B3C5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927-E46F-4679-96BE-86BBE3E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0A4-FD5F-4826-8B1E-464F1485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1E5-6F04-4768-B104-3F42201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E64-6B0E-4C79-BF98-F812B44A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4FE-398A-4759-AC2C-330004CF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FEF-975B-4B3C-A459-5D5E15099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024C-BE03-4374-9ED9-274DC7FEF8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422-B40D-48D7-9300-DAF17BE1E21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2050920" y="2060640"/>
            <a:ext cx="568656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语文园地</a:t>
            </a:r>
            <a:r>
              <a:rPr b="0" lang="en-US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PPT</a:t>
            </a:r>
            <a:r>
              <a:rPr b="0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课件免费下载</a:t>
            </a:r>
            <a:endParaRPr b="0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3" name="Text Box 3"/>
          <p:cNvSpPr/>
          <p:nvPr/>
        </p:nvSpPr>
        <p:spPr>
          <a:xfrm rot="21093600">
            <a:off x="1869840" y="386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 rot="20671200">
            <a:off x="4394160" y="39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 rot="382800">
            <a:off x="3169800" y="522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第三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8102160" y="616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XC3A7006"/>
          <p:cNvPicPr/>
          <p:nvPr/>
        </p:nvPicPr>
        <p:blipFill>
          <a:blip r:embed="rId1"/>
          <a:stretch/>
        </p:blipFill>
        <p:spPr>
          <a:xfrm>
            <a:off x="2195640" y="260280"/>
            <a:ext cx="6624360" cy="6264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71600" y="3569400"/>
            <a:ext cx="5461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春天在哪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62160" y="370044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隶书"/>
              </a:rPr>
              <a:t>小鸟小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春天在哪里.mp3" descr=""/>
          <p:cNvPicPr/>
          <p:nvPr/>
        </p:nvPicPr>
        <p:blipFill>
          <a:blip r:embed="rId2"/>
          <a:stretch/>
        </p:blipFill>
        <p:spPr>
          <a:xfrm>
            <a:off x="611280" y="551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35" name="小鸟小鸟.MP3" descr=""/>
          <p:cNvPicPr/>
          <p:nvPr/>
        </p:nvPicPr>
        <p:blipFill>
          <a:blip r:embed="rId3"/>
          <a:stretch/>
        </p:blipFill>
        <p:spPr>
          <a:xfrm>
            <a:off x="1332000" y="551664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200"/>
          <p:cNvSpPr/>
          <p:nvPr/>
        </p:nvSpPr>
        <p:spPr>
          <a:xfrm>
            <a:off x="2268360" y="6093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3526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0091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XC3A7009"/>
          <p:cNvPicPr/>
          <p:nvPr/>
        </p:nvPicPr>
        <p:blipFill>
          <a:blip r:embed="rId1"/>
          <a:stretch/>
        </p:blipFill>
        <p:spPr>
          <a:xfrm>
            <a:off x="1619280" y="549360"/>
            <a:ext cx="6913440" cy="56163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734760" y="1073160"/>
            <a:ext cx="72900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春   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752-19C3-46CA-8175-78ABDA8E27D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0" y="10666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春姑娘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真高兴，你们送给我这么多美丽的图画、动人的歌曲，还有那么好听的故事，谢谢你们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8C6F3CDE241BE8BC885D2056AC27AF5E"/>
          <p:cNvPicPr/>
          <p:nvPr/>
        </p:nvPicPr>
        <p:blipFill>
          <a:blip r:embed="rId2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"/>
          <p:cNvSpPr/>
          <p:nvPr/>
        </p:nvSpPr>
        <p:spPr>
          <a:xfrm>
            <a:off x="73087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WordArt 129"/>
          <p:cNvSpPr txBox="1"/>
          <p:nvPr/>
        </p:nvSpPr>
        <p:spPr>
          <a:xfrm rot="20451600">
            <a:off x="179280" y="549360"/>
            <a:ext cx="36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2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发现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2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" name="Picture 135" descr="未标题-1 拷贝"/>
          <p:cNvPicPr/>
          <p:nvPr/>
        </p:nvPicPr>
        <p:blipFill>
          <a:blip r:embed="rId1"/>
          <a:stretch/>
        </p:blipFill>
        <p:spPr>
          <a:xfrm>
            <a:off x="6588000" y="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4" descr="歌"/>
          <p:cNvPicPr/>
          <p:nvPr/>
        </p:nvPicPr>
        <p:blipFill>
          <a:blip r:embed="rId2"/>
          <a:stretch/>
        </p:blipFill>
        <p:spPr>
          <a:xfrm>
            <a:off x="4680" y="2421000"/>
            <a:ext cx="7848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1979640" y="692280"/>
            <a:ext cx="518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g             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2" descr="评价"/>
          <p:cNvPicPr/>
          <p:nvPr/>
        </p:nvPicPr>
        <p:blipFill>
          <a:blip r:embed="rId1"/>
          <a:stretch/>
        </p:blipFill>
        <p:spPr>
          <a:xfrm>
            <a:off x="611280" y="1413000"/>
            <a:ext cx="8353440" cy="86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车"/>
          <p:cNvPicPr/>
          <p:nvPr/>
        </p:nvPicPr>
        <p:blipFill>
          <a:blip r:embed="rId2"/>
          <a:stretch/>
        </p:blipFill>
        <p:spPr>
          <a:xfrm>
            <a:off x="250920" y="2852640"/>
            <a:ext cx="8424720" cy="93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钱"/>
          <p:cNvPicPr/>
          <p:nvPr/>
        </p:nvPicPr>
        <p:blipFill>
          <a:blip r:embed="rId3"/>
          <a:stretch/>
        </p:blipFill>
        <p:spPr>
          <a:xfrm>
            <a:off x="250920" y="4508640"/>
            <a:ext cx="864072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763640" y="220500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g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908000" y="3933720"/>
            <a:ext cx="57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        q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8200"/>
          <p:cNvSpPr/>
          <p:nvPr/>
        </p:nvSpPr>
        <p:spPr>
          <a:xfrm>
            <a:off x="971640" y="609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452680" y="320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识字方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975120" y="1700280"/>
            <a:ext cx="362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我发现的两种识字方法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284720" y="278136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熟字加偏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熟字换偏旁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3263760" y="2851560"/>
            <a:ext cx="397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评（评比，评价，批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访（家访，拜访，访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挤（挤进，拥挤，挤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邮（邮票，邮车，邮件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轿（轿子，花轿，轿车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钱（金钱，钱包，零用钱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0" y="0"/>
            <a:ext cx="5508720" cy="2879640"/>
          </a:xfrm>
          <a:prstGeom prst="irregularSeal2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1187280" y="981000"/>
            <a:ext cx="216072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巩固练习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0" y="0"/>
            <a:ext cx="4356000" cy="2565360"/>
          </a:xfrm>
          <a:prstGeom prst="irregularSeal2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971640" y="836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056600" y="2491560"/>
            <a:ext cx="7002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１）你会给下列的字加偏旁， 组词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例：　　　沙（沙）（细沙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　　　　　　（抄）（抄写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白（　）（　　）果（　）（　　）鸟（　）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　（　）（　　）　（　）（　　）　（　）（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140360" y="836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会加偏旁，我也会组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谁发现得多，得的红花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64840" y="4724280"/>
            <a:ext cx="793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２）比一比，说一说，再组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情（       ）       静（       ）      景（      ）      报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睛（       ）       净（        ）     惊（      ）      服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920240" y="2498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68040" y="119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668040" y="256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666960" y="37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8C6F3CDE241BE8BC885D2056AC27AF5E"/>
          <p:cNvPicPr/>
          <p:nvPr/>
        </p:nvPicPr>
        <p:blipFill>
          <a:blip r:embed="rId1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200"/>
          <p:cNvSpPr/>
          <p:nvPr/>
        </p:nvSpPr>
        <p:spPr>
          <a:xfrm>
            <a:off x="900000" y="5805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332000" y="350028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春回大地　春暖花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春风拂面  柳绿花红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百花盛开　万物复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万里无云</a:t>
            </a:r>
            <a:r>
              <a:rPr b="0" lang="zh-CN" sz="4000" spc="-1" strike="noStrike">
                <a:solidFill>
                  <a:srgbClr val="e9b72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WordArt 5"/>
          <p:cNvSpPr txBox="1"/>
          <p:nvPr/>
        </p:nvSpPr>
        <p:spPr>
          <a:xfrm rot="489600">
            <a:off x="4355640" y="549360"/>
            <a:ext cx="390060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日积月累</a:t>
            </a:r>
            <a:endParaRPr b="0" lang="en-US" sz="2400" spc="-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0" name="Picture 9" descr="5DF9723BC7BDCF975CD6F66EA3785F7E"/>
          <p:cNvPicPr/>
          <p:nvPr/>
        </p:nvPicPr>
        <p:blipFill>
          <a:blip r:embed="rId1"/>
          <a:stretch/>
        </p:blipFill>
        <p:spPr>
          <a:xfrm>
            <a:off x="684360" y="476280"/>
            <a:ext cx="170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{353942E6-A353-4CB8-ABDA-FCCA357FE5AA}0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4569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141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4598"/>
          <p:cNvPicPr/>
          <p:nvPr/>
        </p:nvPicPr>
        <p:blipFill>
          <a:blip r:embed="rId3"/>
          <a:stretch/>
        </p:blipFill>
        <p:spPr>
          <a:xfrm>
            <a:off x="0" y="0"/>
            <a:ext cx="385128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19772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园果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00000" y="1052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村种了许多果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0" y="162864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春天，果树开花了。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花开了，苹果花也开了。我们村成了花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0" y="2565360"/>
            <a:ext cx="68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秋天，果子熟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shó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了。梨熟了，苹果也熟了。我们村成了果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3" descr="8C6F3CDE241BE8BC885D2056AC27AF5E"/>
          <p:cNvPicPr/>
          <p:nvPr/>
        </p:nvPicPr>
        <p:blipFill>
          <a:blip r:embed="rId4"/>
          <a:stretch/>
        </p:blipFill>
        <p:spPr>
          <a:xfrm>
            <a:off x="7885080" y="5516640"/>
            <a:ext cx="862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6T12:53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18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