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0604-E3A6-4ADF-A040-C084324A9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128F-BD41-43B2-8833-AE35541FB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E403-C15D-4412-A415-A025A7F08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BD83-09D5-485B-A891-D4018FE32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35F24-007C-4A0E-A55C-37E6BF78C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2D80E-2081-4658-815B-331F6C06C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F507C-F2EA-4EB0-8916-AA8CAB799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1C22F-F5A0-42E0-8BEC-B06FC5D6B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E7A35-D2C4-49F8-BF34-A57E395B4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658EA-1D0F-4789-9B90-40A0FA993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4325A-3FC7-499C-BCDF-5E14B0AE1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CE88-8036-42E4-909F-369F8809D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D5EC4-7CB5-4980-A50B-F0B3D540B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E2842-9C30-4B51-B1F6-4EC7DB41A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A9AA0-E220-4A72-98CE-1A7B33352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0AE28-2FE4-4453-A2AF-6E48CCED0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BA8C4-9FC3-4308-B608-01EACEE34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910D-603A-4759-BC9F-5C0263CED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771C-BD48-4305-BCEA-D6995BE6D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47BD-EBF4-44F7-876F-674D977D8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6DFC-CB72-4250-8471-ECD1A9701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A4D6-6B44-49D6-BBEE-399B61FD2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3FEC-9E3B-4C58-AB37-BF5B448CC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3AF5-D3F9-4A3D-ADAD-475F680CE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BBC67-FE4E-41A4-8D80-100C3A2017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EB8D9-E92F-4358-AAD8-67BA6423BAC0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495BE-131E-48E4-93AA-E33FAF76B64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6"/>
          <p:cNvSpPr/>
          <p:nvPr/>
        </p:nvSpPr>
        <p:spPr>
          <a:xfrm>
            <a:off x="1371600" y="1981080"/>
            <a:ext cx="6797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隶书"/>
              </a:rPr>
              <a:t>语文园地四课件幻灯片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8"/>
          <p:cNvSpPr/>
          <p:nvPr/>
        </p:nvSpPr>
        <p:spPr>
          <a:xfrm>
            <a:off x="762120" y="304920"/>
            <a:ext cx="320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人教新课标一年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语文下册第四单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5"/>
          <p:cNvSpPr/>
          <p:nvPr/>
        </p:nvSpPr>
        <p:spPr>
          <a:xfrm>
            <a:off x="533520" y="380880"/>
            <a:ext cx="7467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我会用词语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1143000" y="1600200"/>
            <a:ext cx="5715000" cy="382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美丽的夏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……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精彩的球赛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……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可口的松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……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透明的翅膀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5"/>
          <p:cNvSpPr/>
          <p:nvPr/>
        </p:nvSpPr>
        <p:spPr>
          <a:xfrm>
            <a:off x="1066680" y="1371600"/>
            <a:ext cx="7467840" cy="416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有趣的问题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闷热的天气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亮晶晶的眼睛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绿油油的荷叶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69960" y="223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457200" y="304920"/>
            <a:ext cx="7467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我会用词语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口语交际：续讲故事</a:t>
            </a: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858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有一天，小兔在乡间的小路上散步，两旁的景色可美啦。小松鼠急急忙忙向他走来了。小松鼠为什么急急忙忙呢？向小兔走来是想干什么呢？请同学们帮帮忙，仔细看图，充分发挥自己的想象力，把这个故事续讲完，看谁讲得好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提示：小松鼠可能为了什么事才急急忙忙找小兔？小兔会怎么说？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怎样帮助小松鼠？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文本框 8200"/>
          <p:cNvSpPr/>
          <p:nvPr/>
        </p:nvSpPr>
        <p:spPr>
          <a:xfrm>
            <a:off x="914400" y="548640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画一画</a:t>
            </a:r>
            <a:br>
              <a:rPr sz="40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学生自由画画，老师巡视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先画好的同学放在实物投影仪下让同学们欣赏，评价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小组交流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评出“小画家”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E16EA-B3D9-4968-9B58-FDED0F89CCD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拓展活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根据自己画的画，把这个故事完整的讲给家人或朋友听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教学目标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380880" y="10663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通过认字，引导学生发现识字方法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通过读句子，发现多音字；读音不同，意思也不同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引导学生积累好词好句，优秀段篇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口语交际，培养语言表达能力和动手实践能力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矩形 6"/>
          <p:cNvSpPr/>
          <p:nvPr/>
        </p:nvSpPr>
        <p:spPr>
          <a:xfrm>
            <a:off x="1428840" y="2498760"/>
            <a:ext cx="64764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9ed3d7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9ed3d7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9ed3d7"/>
                </a:solidFill>
                <a:latin typeface="Calibri"/>
                <a:ea typeface="宋体"/>
              </a:rPr>
              <a:t>     </a:t>
            </a:r>
            <a:r>
              <a:rPr b="0" lang="zh-CN" sz="100" spc="-1" strike="noStrike">
                <a:solidFill>
                  <a:srgbClr val="9ed3d7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9ed3d7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9ed3d7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9ed3d7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9ed3d7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9ed3d7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9ed3d7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9ed3d7"/>
                </a:solidFill>
                <a:latin typeface="Calibri"/>
                <a:ea typeface="宋体"/>
              </a:rPr>
              <a:t>           PPT</a:t>
            </a:r>
            <a:r>
              <a:rPr b="0" lang="zh-CN" sz="100" spc="-1" strike="noStrike">
                <a:solidFill>
                  <a:srgbClr val="9ed3d7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9ed3d7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9ed3d7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9ed3d7"/>
                </a:solidFill>
                <a:latin typeface="Calibri"/>
                <a:ea typeface="宋体"/>
              </a:rPr>
              <a:t>      PPT</a:t>
            </a:r>
            <a:r>
              <a:rPr b="0" lang="zh-CN" sz="100" spc="-1" strike="noStrike">
                <a:solidFill>
                  <a:srgbClr val="9ed3d7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9ed3d7"/>
                </a:solidFill>
                <a:latin typeface="Calibri"/>
                <a:ea typeface="宋体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9ed3d7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9ed3d7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9ed3d7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9ed3d7"/>
                </a:solidFill>
                <a:latin typeface="Calibri"/>
                <a:ea typeface="宋体"/>
              </a:rPr>
              <a:t>        PPT</a:t>
            </a:r>
            <a:r>
              <a:rPr b="0" lang="zh-CN" sz="100" spc="-1" strike="noStrike">
                <a:solidFill>
                  <a:srgbClr val="9ed3d7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9ed3d7"/>
                </a:solidFill>
                <a:latin typeface="Calibri"/>
                <a:ea typeface="宋体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9ed3d7"/>
                </a:solidFill>
                <a:latin typeface="Calibri"/>
                <a:ea typeface="宋体"/>
              </a:rPr>
              <a:t>Word</a:t>
            </a:r>
            <a:r>
              <a:rPr b="0" lang="zh-CN" sz="100" spc="-1" strike="noStrike">
                <a:solidFill>
                  <a:srgbClr val="9ed3d7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9ed3d7"/>
                </a:solidFill>
                <a:latin typeface="Calibri"/>
                <a:ea typeface="宋体"/>
              </a:rPr>
              <a:t>              Excel</a:t>
            </a:r>
            <a:r>
              <a:rPr b="0" lang="zh-CN" sz="100" spc="-1" strike="noStrike">
                <a:solidFill>
                  <a:srgbClr val="9ed3d7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9ed3d7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9ed3d7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9ed3d7"/>
                </a:solidFill>
                <a:latin typeface="Calibri"/>
                <a:ea typeface="宋体"/>
              </a:rPr>
              <a:t>                PPT</a:t>
            </a:r>
            <a:r>
              <a:rPr b="0" lang="zh-CN" sz="100" spc="-1" strike="noStrike">
                <a:solidFill>
                  <a:srgbClr val="9ed3d7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9ed3d7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9ed3d7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9ed3d7"/>
                </a:solidFill>
                <a:latin typeface="Calibri"/>
                <a:ea typeface="宋体"/>
              </a:rPr>
              <a:t>             </a:t>
            </a:r>
            <a:r>
              <a:rPr b="0" lang="zh-CN" sz="100" spc="-1" strike="noStrike">
                <a:solidFill>
                  <a:srgbClr val="9ed3d7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9ed3d7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9ed3d7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9ed3d7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9ed3d7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914400" y="304920"/>
            <a:ext cx="4191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</a:rPr>
              <a:t>我的发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1752480" y="2971800"/>
            <a:ext cx="6324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膀  腰   肚   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7"/>
          <p:cNvSpPr/>
          <p:nvPr/>
        </p:nvSpPr>
        <p:spPr>
          <a:xfrm>
            <a:off x="1219320" y="1828800"/>
            <a:ext cx="6781680" cy="825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月字旁的字跟身体有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5"/>
          <p:cNvSpPr/>
          <p:nvPr/>
        </p:nvSpPr>
        <p:spPr>
          <a:xfrm>
            <a:off x="1371600" y="289548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趴、蹲、跑、跳、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1523880" y="1676520"/>
            <a:ext cx="655344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足字旁的字和脚有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1127160" y="250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8"/>
          <p:cNvSpPr/>
          <p:nvPr/>
        </p:nvSpPr>
        <p:spPr>
          <a:xfrm>
            <a:off x="914400" y="304920"/>
            <a:ext cx="4191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</a:rPr>
              <a:t>我的发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文本框 8200"/>
          <p:cNvSpPr/>
          <p:nvPr/>
        </p:nvSpPr>
        <p:spPr>
          <a:xfrm>
            <a:off x="990720" y="502920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5"/>
          <p:cNvSpPr/>
          <p:nvPr/>
        </p:nvSpPr>
        <p:spPr>
          <a:xfrm>
            <a:off x="685800" y="3048120"/>
            <a:ext cx="777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睁、眼、睛、眠、睡、眨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1981080" y="1676520"/>
            <a:ext cx="655344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目字旁的字跟眼睛有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1203480" y="4032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533520" y="304920"/>
            <a:ext cx="4190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</a:rPr>
              <a:t>我的发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5"/>
          <p:cNvSpPr/>
          <p:nvPr/>
        </p:nvSpPr>
        <p:spPr>
          <a:xfrm>
            <a:off x="914400" y="2590920"/>
            <a:ext cx="777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捕、摇、挤、搬、擦、抄、拾、摔、拨、拦、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1371600" y="1523880"/>
            <a:ext cx="609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提手旁的字跟手有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746280" y="1746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685800" y="228600"/>
            <a:ext cx="4191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</a:rPr>
              <a:t>我的发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5"/>
          <p:cNvSpPr/>
          <p:nvPr/>
        </p:nvSpPr>
        <p:spPr>
          <a:xfrm>
            <a:off x="685800" y="685800"/>
            <a:ext cx="8458200" cy="202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形声字规律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形声字，分两半。形一半，表意思；声一半，示读音。形旁相同是同类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5"/>
          <p:cNvSpPr/>
          <p:nvPr/>
        </p:nvSpPr>
        <p:spPr>
          <a:xfrm>
            <a:off x="914400" y="609480"/>
            <a:ext cx="7391520" cy="3049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我会认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擦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黑板   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抄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作业   收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摔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倒    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拨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开   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拦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住  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摸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文本框 8200"/>
          <p:cNvSpPr/>
          <p:nvPr/>
        </p:nvSpPr>
        <p:spPr>
          <a:xfrm>
            <a:off x="1143000" y="46483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5"/>
          <p:cNvSpPr/>
          <p:nvPr/>
        </p:nvSpPr>
        <p:spPr>
          <a:xfrm>
            <a:off x="228600" y="228600"/>
            <a:ext cx="9982080" cy="4533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我会读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小松鼠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长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着一条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长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长的尾巴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听音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乐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是一件快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乐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的事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望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着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窗外的大雨，奶奶心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很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着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急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2286000" y="60948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zhǎ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4343400" y="76212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ch</a:t>
            </a:r>
            <a:r>
              <a:rPr b="0" lang="en-US" sz="3600" spc="-1" strike="noStrike">
                <a:solidFill>
                  <a:srgbClr val="ff0000"/>
                </a:solidFill>
                <a:latin typeface="宋体"/>
              </a:rPr>
              <a:t>á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1219320" y="175248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yu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3733920" y="175248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l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09480" y="26668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z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1219320" y="35812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zh</a:t>
            </a:r>
            <a:r>
              <a:rPr b="0" lang="en-US" sz="3600" spc="-1" strike="noStrike">
                <a:solidFill>
                  <a:srgbClr val="ff0000"/>
                </a:solidFill>
                <a:latin typeface="宋体"/>
              </a:rPr>
              <a:t>á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9T02:49:31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1-24T03:34:22Z</dcterms:modified>
  <cp:revision>27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  <property fmtid="{D5CDD505-2E9C-101B-9397-08002B2CF9AE}" pid="3" name="Version">
    <vt:r8>1</vt:r8>
  </property>
</Properties>
</file>