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cashreg.wav" ContentType="audio/x-wav"/>
  <Override PartName="/ppt/media/image4.jpeg" ContentType="image/jpeg"/>
  <Override PartName="/ppt/media/image3.jpeg" ContentType="image/jpeg"/>
  <Override PartName="/ppt/media/hamme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BCA-E908-4808-BC2D-34837B9B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AB1-4C95-4FB5-AFE6-1DA7BA76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924-90E9-4C5B-9E9F-C4E14319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1F3-DED8-4771-A223-7CFA9D30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A562-A74D-40A7-9A06-A3711B55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9B2D-4A50-41F9-A79F-4E3DF33D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8FAC-56BD-46D3-B80C-9410CEAC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873E-37CF-4AC1-AD03-957FDE0A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0AB1-898C-427C-B548-6076D53B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D98D-96CD-4AC0-A427-392FFF3B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3A02-9557-4BEF-85A6-BC569995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B41-26AB-4599-B01B-A907F022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C60F-8B94-4E52-A9D3-FEE9DE34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5856-FB79-4E8C-AB58-2C639A82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17CD-C2B5-47ED-8FD0-0C9E10CD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FBE5-5286-4F63-8E4C-6EE1169E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EA12-F5C6-404B-AFF0-E0D34294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2C3-CA0B-4402-B412-BDAB4903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A1C-4B4A-40A9-A18C-D930C3C3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9AE-3D45-4864-9374-AC66960A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F9A-1FFB-4564-AEA8-49C2F63A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6A7-C430-4352-8A66-0E87A485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DC5-0AB5-44B6-9FA2-4E3AFE95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F40-5198-4415-9E98-D7DB24E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4770-E9E5-49CE-A661-ECA8AC8E8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ACD7-A19F-4A3C-A7AF-370E5CA2B53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271A-0492-4741-9398-9357C14CF9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audio" Target="../media/chimes.wav"/><Relationship Id="rId18" Type="http://schemas.openxmlformats.org/officeDocument/2006/relationships/audio" Target="../media/cashreg.wav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幼圆"/>
              </a:rPr>
              <a:t>语文园地五课件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幼圆"/>
              </a:rPr>
              <a:t>汉语拼音字母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 B    C    D    E    F   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    I    J    K     L   M    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P   Q        R    S   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V    W       X    Y    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85800" y="19051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144792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ɑ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b     c     d    e    f     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80880" y="2590920"/>
            <a:ext cx="944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   i     j      k     l     m    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09480" y="3581280"/>
            <a:ext cx="944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o   p    q       r     s    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09480" y="4648320"/>
            <a:ext cx="944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u   v     w      x    y    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幼圆"/>
              </a:rPr>
              <a:t>汉语拼音字母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 B    C    D    E    F   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    I    J    K     L   M    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P   Q        R    S   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V    W       X    Y    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85800" y="19051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57200" y="144792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ɑ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b     c     d    e    f     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80880" y="2590920"/>
            <a:ext cx="944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   i     j      k     l     m    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3581280"/>
            <a:ext cx="944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o   p    q       r     s    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09480" y="4648320"/>
            <a:ext cx="944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u   v     w      x    y    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CDE8-FC33-40AB-9A95-F70199B7A1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有两件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1920" y="1295280"/>
            <a:ext cx="5410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人有两件宝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双手和大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双手会做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大脑会思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用手不用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事情做不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029200" y="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98108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幼圆"/>
              </a:rPr>
              <a:t>ī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幼圆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k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419720" y="1295280"/>
            <a:ext cx="6172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用手不用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啥也办不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用手又用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才能有创  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一切创造靠劳动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劳动要用手和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572000" y="1828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01992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u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g  z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105520" y="4495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iè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781680" y="4419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 l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1"/>
          <p:cNvSpPr/>
          <p:nvPr/>
        </p:nvSpPr>
        <p:spPr>
          <a:xfrm>
            <a:off x="762120" y="60948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04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ɑǐ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                   shò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2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矮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胖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暗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美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闲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新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124080" y="289548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                      ch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ǒ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971800" y="51055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xi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á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                      ji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0"/>
            <a:ext cx="4343040" cy="990720"/>
            <a:chOff x="0" y="0"/>
            <a:chExt cx="4343040" cy="990720"/>
          </a:xfrm>
        </p:grpSpPr>
        <p:sp>
          <p:nvSpPr>
            <p:cNvPr id="90" name="AutoShape 7"/>
            <p:cNvSpPr/>
            <p:nvPr/>
          </p:nvSpPr>
          <p:spPr>
            <a:xfrm>
              <a:off x="0" y="0"/>
              <a:ext cx="3257280" cy="990720"/>
            </a:xfrm>
            <a:prstGeom prst="cloudCallout">
              <a:avLst>
                <a:gd name="adj1" fmla="val -6250"/>
                <a:gd name="adj2" fmla="val 888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339120" y="123480"/>
              <a:ext cx="4003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ff"/>
                  </a:solidFill>
                  <a:latin typeface="Arial"/>
                  <a:ea typeface="华文彩云"/>
                </a:rPr>
                <a:t>我的发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56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         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         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         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04920" y="83808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矮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胖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暗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5791320" y="0"/>
            <a:ext cx="4571640" cy="1066680"/>
            <a:chOff x="5791320" y="0"/>
            <a:chExt cx="4571640" cy="1066680"/>
          </a:xfrm>
        </p:grpSpPr>
        <p:sp>
          <p:nvSpPr>
            <p:cNvPr id="95" name="AutoShape 9"/>
            <p:cNvSpPr/>
            <p:nvPr/>
          </p:nvSpPr>
          <p:spPr>
            <a:xfrm>
              <a:off x="5791320" y="0"/>
              <a:ext cx="3428640" cy="1066680"/>
            </a:xfrm>
            <a:prstGeom prst="cloudCallout">
              <a:avLst>
                <a:gd name="adj1" fmla="val -6250"/>
                <a:gd name="adj2" fmla="val 888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6148080" y="133200"/>
              <a:ext cx="4214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ff"/>
                  </a:solidFill>
                  <a:latin typeface="Arial"/>
                  <a:ea typeface="华文彩云"/>
                </a:rPr>
                <a:t>我的发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685800" y="175248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矮</a:t>
            </a:r>
            <a:r>
              <a:rPr b="0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暗</a:t>
            </a:r>
            <a:r>
              <a:rPr b="0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闲</a:t>
            </a:r>
            <a:r>
              <a:rPr b="0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5562720" y="380880"/>
            <a:ext cx="4571640" cy="1067040"/>
            <a:chOff x="5562720" y="380880"/>
            <a:chExt cx="4571640" cy="1067040"/>
          </a:xfrm>
        </p:grpSpPr>
        <p:sp>
          <p:nvSpPr>
            <p:cNvPr id="99" name="AutoShape 5"/>
            <p:cNvSpPr/>
            <p:nvPr/>
          </p:nvSpPr>
          <p:spPr>
            <a:xfrm>
              <a:off x="5562720" y="380880"/>
              <a:ext cx="3428640" cy="1067040"/>
            </a:xfrm>
            <a:prstGeom prst="cloudCallout">
              <a:avLst>
                <a:gd name="adj1" fmla="val -6250"/>
                <a:gd name="adj2" fmla="val 888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5919480" y="514080"/>
              <a:ext cx="4214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Arial"/>
                  <a:ea typeface="华文彩云"/>
                </a:rPr>
                <a:t>  </a:t>
              </a:r>
              <a:r>
                <a:rPr b="1" lang="zh-CN" sz="4400" spc="-1" strike="noStrike">
                  <a:solidFill>
                    <a:srgbClr val="6600ff"/>
                  </a:solidFill>
                  <a:latin typeface="Arial"/>
                  <a:ea typeface="华文彩云"/>
                </a:rPr>
                <a:t>我会认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8200"/>
          <p:cNvSpPr/>
          <p:nvPr/>
        </p:nvSpPr>
        <p:spPr>
          <a:xfrm>
            <a:off x="762120" y="1295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     笑     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     远     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371600" y="304920"/>
            <a:ext cx="14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648320" y="15228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848720" y="2286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晚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572000" y="2666880"/>
            <a:ext cx="14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600200" y="26668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600200" y="5029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7924680" y="26668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饿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304812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水   打伞   打电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鱼   打球   打个问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14400" y="457200"/>
            <a:ext cx="4191120" cy="1143000"/>
          </a:xfrm>
          <a:prstGeom prst="wedgeRoundRectCallout">
            <a:avLst>
              <a:gd name="adj1" fmla="val 5342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彩云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334120" y="541440"/>
            <a:ext cx="2971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00"/>
                </a:solidFill>
                <a:latin typeface="Arial"/>
                <a:ea typeface="楷体_GB2312"/>
              </a:rPr>
              <a:t>打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100"/>
                            </p:stCondLst>
                            <p:childTnLst>
                              <p:par>
                                <p:cTn id="19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179280" y="189000"/>
            <a:ext cx="2087640" cy="865080"/>
            <a:chOff x="179280" y="189000"/>
            <a:chExt cx="2087640" cy="865080"/>
          </a:xfrm>
        </p:grpSpPr>
        <p:sp>
          <p:nvSpPr>
            <p:cNvPr id="115" name="AutoShape 3"/>
            <p:cNvSpPr/>
            <p:nvPr/>
          </p:nvSpPr>
          <p:spPr>
            <a:xfrm>
              <a:off x="179280" y="189000"/>
              <a:ext cx="2087640" cy="8650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WordArt 4"/>
            <p:cNvSpPr txBox="1"/>
            <p:nvPr/>
          </p:nvSpPr>
          <p:spPr>
            <a:xfrm>
              <a:off x="292680" y="304920"/>
              <a:ext cx="1866960" cy="62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我会读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117" name="Text Box 5"/>
          <p:cNvSpPr/>
          <p:nvPr/>
        </p:nvSpPr>
        <p:spPr>
          <a:xfrm>
            <a:off x="503280" y="1268280"/>
            <a:ext cx="8640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   p   m   f       d   t   n   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   k   h             j   q   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h   ch   sh   r   z   c   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         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8200"/>
          <p:cNvSpPr/>
          <p:nvPr/>
        </p:nvSpPr>
        <p:spPr>
          <a:xfrm>
            <a:off x="1295280" y="48006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24000" y="1557360"/>
            <a:ext cx="8712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   e           i   u   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  ei   ui     o   ou   ie   üe   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   en   in   un   ü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g   eng   ing   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79280" y="189000"/>
            <a:ext cx="2087640" cy="865080"/>
            <a:chOff x="179280" y="189000"/>
            <a:chExt cx="2087640" cy="865080"/>
          </a:xfrm>
        </p:grpSpPr>
        <p:sp>
          <p:nvSpPr>
            <p:cNvPr id="121" name="AutoShape 4"/>
            <p:cNvSpPr/>
            <p:nvPr/>
          </p:nvSpPr>
          <p:spPr>
            <a:xfrm>
              <a:off x="179280" y="189000"/>
              <a:ext cx="2087640" cy="8650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WordArt 5"/>
            <p:cNvSpPr txBox="1"/>
            <p:nvPr/>
          </p:nvSpPr>
          <p:spPr>
            <a:xfrm>
              <a:off x="292680" y="304920"/>
              <a:ext cx="1866960" cy="62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我会读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395280" y="2781360"/>
            <a:ext cx="360360" cy="502920"/>
            <a:chOff x="395280" y="2781360"/>
            <a:chExt cx="360360" cy="502920"/>
          </a:xfrm>
        </p:grpSpPr>
        <p:sp>
          <p:nvSpPr>
            <p:cNvPr id="124" name="WordArt 7"/>
            <p:cNvSpPr txBox="1"/>
            <p:nvPr/>
          </p:nvSpPr>
          <p:spPr>
            <a:xfrm>
              <a:off x="395280" y="2893320"/>
              <a:ext cx="360360" cy="39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ā</a:t>
              </a:r>
              <a:endPara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395280" y="2781360"/>
              <a:ext cx="299160" cy="167400"/>
            </a:xfrm>
            <a:prstGeom prst="rect">
              <a:avLst/>
            </a:prstGeom>
            <a:solidFill>
              <a:srgbClr val="ff99ff">
                <a:alpha val="99000"/>
              </a:srgbClr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9"/>
          <p:cNvGrpSpPr/>
          <p:nvPr/>
        </p:nvGrpSpPr>
        <p:grpSpPr>
          <a:xfrm>
            <a:off x="3492360" y="2781360"/>
            <a:ext cx="330480" cy="502920"/>
            <a:chOff x="3492360" y="2781360"/>
            <a:chExt cx="330480" cy="502920"/>
          </a:xfrm>
        </p:grpSpPr>
        <p:sp>
          <p:nvSpPr>
            <p:cNvPr id="127" name="WordArt 10"/>
            <p:cNvSpPr txBox="1"/>
            <p:nvPr/>
          </p:nvSpPr>
          <p:spPr>
            <a:xfrm>
              <a:off x="3492360" y="2893320"/>
              <a:ext cx="330480" cy="39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ā</a:t>
              </a:r>
              <a:endPara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3492360" y="2781360"/>
              <a:ext cx="274320" cy="167400"/>
            </a:xfrm>
            <a:prstGeom prst="rect">
              <a:avLst/>
            </a:prstGeom>
            <a:solidFill>
              <a:srgbClr val="ff99ff">
                <a:alpha val="99000"/>
              </a:srgbClr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2"/>
          <p:cNvGrpSpPr/>
          <p:nvPr/>
        </p:nvGrpSpPr>
        <p:grpSpPr>
          <a:xfrm>
            <a:off x="468360" y="1700280"/>
            <a:ext cx="358560" cy="504360"/>
            <a:chOff x="468360" y="1700280"/>
            <a:chExt cx="358560" cy="504360"/>
          </a:xfrm>
        </p:grpSpPr>
        <p:sp>
          <p:nvSpPr>
            <p:cNvPr id="130" name="WordArt 13"/>
            <p:cNvSpPr txBox="1"/>
            <p:nvPr/>
          </p:nvSpPr>
          <p:spPr>
            <a:xfrm>
              <a:off x="468360" y="1812600"/>
              <a:ext cx="35856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ā</a:t>
              </a:r>
              <a:endPara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468360" y="1700280"/>
              <a:ext cx="297720" cy="168120"/>
            </a:xfrm>
            <a:prstGeom prst="rect">
              <a:avLst/>
            </a:prstGeom>
            <a:solidFill>
              <a:srgbClr val="ff99ff">
                <a:alpha val="99000"/>
              </a:srgbClr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5"/>
          <p:cNvGrpSpPr/>
          <p:nvPr/>
        </p:nvGrpSpPr>
        <p:grpSpPr>
          <a:xfrm>
            <a:off x="395280" y="4941720"/>
            <a:ext cx="360360" cy="576000"/>
            <a:chOff x="395280" y="4941720"/>
            <a:chExt cx="360360" cy="576000"/>
          </a:xfrm>
        </p:grpSpPr>
        <p:sp>
          <p:nvSpPr>
            <p:cNvPr id="133" name="WordArt 16"/>
            <p:cNvSpPr txBox="1"/>
            <p:nvPr/>
          </p:nvSpPr>
          <p:spPr>
            <a:xfrm>
              <a:off x="395280" y="5070240"/>
              <a:ext cx="360360" cy="44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ā</a:t>
              </a:r>
              <a:endPara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395280" y="4941720"/>
              <a:ext cx="299160" cy="191880"/>
            </a:xfrm>
            <a:prstGeom prst="rect">
              <a:avLst/>
            </a:prstGeom>
            <a:solidFill>
              <a:srgbClr val="ff99ff">
                <a:alpha val="99000"/>
              </a:srgbClr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8"/>
          <p:cNvGrpSpPr/>
          <p:nvPr/>
        </p:nvGrpSpPr>
        <p:grpSpPr>
          <a:xfrm>
            <a:off x="395280" y="3860640"/>
            <a:ext cx="360360" cy="505080"/>
            <a:chOff x="395280" y="3860640"/>
            <a:chExt cx="360360" cy="505080"/>
          </a:xfrm>
        </p:grpSpPr>
        <p:sp>
          <p:nvSpPr>
            <p:cNvPr id="136" name="WordArt 19"/>
            <p:cNvSpPr txBox="1"/>
            <p:nvPr/>
          </p:nvSpPr>
          <p:spPr>
            <a:xfrm>
              <a:off x="395280" y="3973320"/>
              <a:ext cx="360360" cy="39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ā</a:t>
              </a:r>
              <a:endPara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137" name="Rectangle 20"/>
            <p:cNvSpPr/>
            <p:nvPr/>
          </p:nvSpPr>
          <p:spPr>
            <a:xfrm>
              <a:off x="395280" y="3860640"/>
              <a:ext cx="299160" cy="168120"/>
            </a:xfrm>
            <a:prstGeom prst="rect">
              <a:avLst/>
            </a:prstGeom>
            <a:solidFill>
              <a:srgbClr val="ff99ff">
                <a:alpha val="99000"/>
              </a:srgbClr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179280" y="189000"/>
            <a:ext cx="2087640" cy="865080"/>
            <a:chOff x="179280" y="189000"/>
            <a:chExt cx="2087640" cy="865080"/>
          </a:xfrm>
        </p:grpSpPr>
        <p:sp>
          <p:nvSpPr>
            <p:cNvPr id="139" name="AutoShape 3"/>
            <p:cNvSpPr/>
            <p:nvPr/>
          </p:nvSpPr>
          <p:spPr>
            <a:xfrm>
              <a:off x="179280" y="189000"/>
              <a:ext cx="2087640" cy="8650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4"/>
            <p:cNvSpPr txBox="1"/>
            <p:nvPr/>
          </p:nvSpPr>
          <p:spPr>
            <a:xfrm>
              <a:off x="292680" y="304920"/>
              <a:ext cx="1866960" cy="62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我会读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141" name="Text Box 5"/>
          <p:cNvSpPr/>
          <p:nvPr/>
        </p:nvSpPr>
        <p:spPr>
          <a:xfrm>
            <a:off x="250920" y="1700280"/>
            <a:ext cx="87138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hi   chi   shi   ri   zi   ci   s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i   wu   y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e   yue   yu  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in   yun   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4211640" y="4437000"/>
            <a:ext cx="36036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ā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284720" y="4292640"/>
            <a:ext cx="276120" cy="216000"/>
          </a:xfrm>
          <a:prstGeom prst="rect">
            <a:avLst/>
          </a:prstGeom>
          <a:solidFill>
            <a:srgbClr val="ff99ff">
              <a:alpha val="99000"/>
            </a:srgbClr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8200"/>
          <p:cNvSpPr/>
          <p:nvPr/>
        </p:nvSpPr>
        <p:spPr>
          <a:xfrm>
            <a:off x="838080" y="13716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46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