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44E-564C-4BA7-A0FF-9098F1AB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CCC-384C-4D87-83F8-3D937D65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839-E442-4D62-BCA7-5F4BB355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1BF-F60F-42E4-A141-8CFB79BB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6245-F1AC-40FC-BD20-1D8A7175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85C-FD2F-4A13-9254-72DF8B8A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782D-6BD6-4C4A-8075-3631C72E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1AE-F3A6-420F-B6DF-3C629BA2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919-1FC0-405B-9035-D28FAE2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62FF-FDDF-4BCB-A263-EA22021E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25F-19E0-4054-9793-F4186B8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17E-F9F4-4D4C-9891-2B397767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133-766C-4072-AB06-F91FB18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13F1-9B1C-4231-B083-C375695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EB78-04E4-47A5-9830-F5A64E7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1891-520F-4ABD-AAD2-68EB4FB8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9838-ACE5-4F74-8B28-153C4E8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DC8-C713-48F1-A154-EF9EDA30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951-0399-47C0-BEE8-E131FBBC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F0C-65D0-45BB-87F3-9232F83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B12-B1B2-42F3-BA61-73064B5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E0B-6FEC-46F9-AB68-3604B48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699E-87AB-4F73-AF45-DDE3A237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822-3AE1-4E39-81CF-49EE088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2D1-E713-48F9-ACE7-B322829B02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7C68-0FA6-4348-AC99-019706D1964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28F2-6EB3-44DF-A844-36ADD74CE9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3143160" y="383868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7128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0" y="4338720"/>
            <a:ext cx="3000240" cy="1440"/>
            <a:chOff x="3214800" y="4338720"/>
            <a:chExt cx="3000240" cy="1440"/>
          </a:xfrm>
        </p:grpSpPr>
        <p:sp>
          <p:nvSpPr>
            <p:cNvPr id="85" name="直接连接符 6"/>
            <p:cNvSpPr/>
            <p:nvPr/>
          </p:nvSpPr>
          <p:spPr>
            <a:xfrm>
              <a:off x="3214800" y="4338720"/>
              <a:ext cx="3000240" cy="144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214800" y="4338720"/>
              <a:ext cx="3000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3076"/>
          <p:cNvSpPr/>
          <p:nvPr/>
        </p:nvSpPr>
        <p:spPr>
          <a:xfrm>
            <a:off x="17928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769760" y="29257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元宵节的灯笼简约喜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357120" y="1000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 flipH="1">
            <a:off x="4429080" y="35924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2"/>
          <p:cNvSpPr/>
          <p:nvPr/>
        </p:nvSpPr>
        <p:spPr>
          <a:xfrm>
            <a:off x="4500720" y="26640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 flipH="1">
            <a:off x="4428360" y="44496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4"/>
          <p:cNvSpPr/>
          <p:nvPr/>
        </p:nvSpPr>
        <p:spPr>
          <a:xfrm>
            <a:off x="4712040" y="187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50" descr="1.png"/>
          <p:cNvPicPr/>
          <p:nvPr/>
        </p:nvPicPr>
        <p:blipFill>
          <a:blip r:embed="rId2"/>
          <a:stretch/>
        </p:blipFill>
        <p:spPr>
          <a:xfrm>
            <a:off x="3110040" y="1571760"/>
            <a:ext cx="426960" cy="34099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1" descr="2.png"/>
          <p:cNvPicPr/>
          <p:nvPr/>
        </p:nvPicPr>
        <p:blipFill>
          <a:blip r:embed="rId3"/>
          <a:stretch/>
        </p:blipFill>
        <p:spPr>
          <a:xfrm>
            <a:off x="3571920" y="1663560"/>
            <a:ext cx="776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6" descr="1.png"/>
          <p:cNvPicPr/>
          <p:nvPr/>
        </p:nvPicPr>
        <p:blipFill>
          <a:blip r:embed="rId2"/>
          <a:stretch/>
        </p:blipFill>
        <p:spPr>
          <a:xfrm>
            <a:off x="306864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37" descr="2.png"/>
          <p:cNvPicPr/>
          <p:nvPr/>
        </p:nvPicPr>
        <p:blipFill>
          <a:blip r:embed="rId3"/>
          <a:stretch/>
        </p:blipFill>
        <p:spPr>
          <a:xfrm>
            <a:off x="121428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8" descr="1.png"/>
          <p:cNvPicPr/>
          <p:nvPr/>
        </p:nvPicPr>
        <p:blipFill>
          <a:blip r:embed="rId4"/>
          <a:stretch/>
        </p:blipFill>
        <p:spPr>
          <a:xfrm>
            <a:off x="6780240" y="228600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9" descr="2.png"/>
          <p:cNvPicPr/>
          <p:nvPr/>
        </p:nvPicPr>
        <p:blipFill>
          <a:blip r:embed="rId5"/>
          <a:stretch/>
        </p:blipFill>
        <p:spPr>
          <a:xfrm>
            <a:off x="4925880" y="2286000"/>
            <a:ext cx="2006640" cy="2108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7212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5355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3497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0" descr="1.png"/>
          <p:cNvPicPr/>
          <p:nvPr/>
        </p:nvPicPr>
        <p:blipFill>
          <a:blip r:embed="rId2"/>
          <a:stretch/>
        </p:blipFill>
        <p:spPr>
          <a:xfrm>
            <a:off x="2049480" y="428760"/>
            <a:ext cx="5665680" cy="55260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1" descr="2.png"/>
          <p:cNvPicPr/>
          <p:nvPr/>
        </p:nvPicPr>
        <p:blipFill>
          <a:blip r:embed="rId3"/>
          <a:stretch/>
        </p:blipFill>
        <p:spPr>
          <a:xfrm>
            <a:off x="4135320" y="2668680"/>
            <a:ext cx="1579680" cy="1638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5997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1"/>
          <p:cNvSpPr/>
          <p:nvPr/>
        </p:nvSpPr>
        <p:spPr>
          <a:xfrm>
            <a:off x="44265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0" descr="1.png"/>
          <p:cNvPicPr/>
          <p:nvPr/>
        </p:nvPicPr>
        <p:blipFill>
          <a:blip r:embed="rId2"/>
          <a:stretch/>
        </p:blipFill>
        <p:spPr>
          <a:xfrm>
            <a:off x="3714840" y="517680"/>
            <a:ext cx="2585880" cy="52686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1" descr="2.png"/>
          <p:cNvPicPr/>
          <p:nvPr/>
        </p:nvPicPr>
        <p:blipFill>
          <a:blip r:embed="rId3"/>
          <a:stretch/>
        </p:blipFill>
        <p:spPr>
          <a:xfrm>
            <a:off x="2071800" y="1803240"/>
            <a:ext cx="508788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568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0" descr="1.png"/>
          <p:cNvPicPr/>
          <p:nvPr/>
        </p:nvPicPr>
        <p:blipFill>
          <a:blip r:embed="rId2"/>
          <a:stretch/>
        </p:blipFill>
        <p:spPr>
          <a:xfrm>
            <a:off x="2000160" y="285840"/>
            <a:ext cx="5591160" cy="6010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5783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5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8204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FB2-36CA-486F-AC12-BCB2462769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0" descr="1.png"/>
          <p:cNvPicPr/>
          <p:nvPr/>
        </p:nvPicPr>
        <p:blipFill>
          <a:blip r:embed="rId2"/>
          <a:stretch/>
        </p:blipFill>
        <p:spPr>
          <a:xfrm>
            <a:off x="4575240" y="3243240"/>
            <a:ext cx="3397320" cy="33861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1" descr="2.png"/>
          <p:cNvPicPr/>
          <p:nvPr/>
        </p:nvPicPr>
        <p:blipFill>
          <a:blip r:embed="rId3"/>
          <a:stretch/>
        </p:blipFill>
        <p:spPr>
          <a:xfrm>
            <a:off x="4614840" y="528480"/>
            <a:ext cx="3386160" cy="3397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" descr="1.png"/>
          <p:cNvPicPr/>
          <p:nvPr/>
        </p:nvPicPr>
        <p:blipFill>
          <a:blip r:embed="rId4"/>
          <a:stretch/>
        </p:blipFill>
        <p:spPr>
          <a:xfrm>
            <a:off x="1932120" y="500040"/>
            <a:ext cx="3396960" cy="3386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3" descr="2.png"/>
          <p:cNvPicPr/>
          <p:nvPr/>
        </p:nvPicPr>
        <p:blipFill>
          <a:blip r:embed="rId5"/>
          <a:stretch/>
        </p:blipFill>
        <p:spPr>
          <a:xfrm>
            <a:off x="1871640" y="3203640"/>
            <a:ext cx="3386160" cy="3397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59266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6069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8Z</dcterms:modified>
  <cp:revision>36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