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4C93-8718-4E91-8E69-D33766B6A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63C-057E-4D19-8631-FBA6602B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9F2C6-1186-4329-8D1D-7289FE6E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64E9F-AC7F-403A-A42D-8EA7DC0A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F5446E-BB9D-4D9D-8CEC-B45871C0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B421D-DE82-46F2-8D62-F76DA86C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EFED6-61EB-48FA-B8E0-97BEA4E6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1E25A-6ED2-4BCB-8EE5-3C34174C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88EE1-5A3E-4FAA-95C2-11BEA5C5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6A009-089F-4A6D-9D9D-69C35A8F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DA2F1-FC8A-487F-AB09-A46992D7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66093-1531-4BEF-80C3-23012F4F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AC2C-1633-4366-9907-7F3E9137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FAD4D-2352-4E47-A8B6-7CDBDB9DC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12EA2-28DB-49D3-99EF-B26BD146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FCDAF-9B55-468A-9B6F-9FB99519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94BA2-A193-4B61-A242-F4C29D0B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FD4C4-2CFE-4D33-8D49-EDC3E453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2104C-D386-42CC-A412-C396BAAA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E674C-9201-4283-81CA-76E1949C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1177E-BB87-4A08-892F-AB8942C9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366FB-AF1E-44DD-9240-35956CD9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E31D6-E831-4A85-B001-2506B422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0426-93E3-46DA-A626-B5826891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B2DB8-C392-4466-B402-635CE2CB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B87EC-7FF0-466B-B156-4571FA7C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378AE-4C24-4A59-B0C8-B99C4299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D8031-EC73-4A5A-A361-B4E4F889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01AD0-1350-4348-9E10-F06CC3DD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6250E-33EB-4756-B7F1-5C2C89DB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1916C4-738B-4526-95CF-66789C7C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3C394-904F-4A80-9992-72E857E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E5077-7472-4C79-8B11-10DB4983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587A22-DE87-4DC3-91DB-DD9EFC9A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82C6-0B04-4AC5-B48F-778D2622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A3CCF-A821-4E2A-9023-483AB304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FC324-EEE1-4056-97B7-DDC2E7CE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93A05-8F87-4DA5-89B2-CCD1E7DF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D6BA7-944D-44D8-9B4E-8F737C01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B58C2-D292-4CF4-A508-995B92F3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BCEC0-A16A-46A8-883D-8345ACA6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5A75D-D8B1-420B-B919-4268B028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AD957-4758-4A75-BDE8-C69E5E02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F0164-6A13-4B66-905B-B14C3622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4EC90-F85A-47C8-AF04-4C875ADA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8CF9-EE40-46F0-8274-E6FBD8C5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48F83-8F4B-435B-BE4D-535A11F9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E6A53-4CB2-431A-9449-79C24C3D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F4441-08ED-4B8A-8633-361A7C6B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CF85F-1111-45C1-BF81-0679D52C0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9E535-7893-46C3-9BFF-D319D085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556C07-A36B-4F80-8503-7869EA297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8CA70-5929-41A5-9EEC-35BD7073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1CAAE5-9130-42D4-8F15-CEDAA585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5F046-6543-4AF2-B6CF-BC96A250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7655B3-9A5C-4B55-9D5D-848D3422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596E-2E20-4D3C-A608-DDEA535A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7026D4-3654-41DB-87AA-826DEC5F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A21866-D79C-4314-9558-ECCDE93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4ACAA3-F93C-43C1-A0C7-CAA28192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5E431-21F9-43A8-9822-3DEADD6A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F403F-D139-4AAE-9D0B-4DC72B88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D373E-CF3E-43E0-AFF7-F0FE90C9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AD69C3-3B04-4277-B081-5DFEBE7E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056F08-F39D-4178-8274-1F768FDD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7A759-B0FE-4D4B-9181-DA86A92B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1A82F-333F-4206-BA34-6ED7B1D3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57D9-8372-4C1B-8BEA-35B86A7D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2A2FF-0F0E-4448-A878-1AE91D59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4916A-3E55-44AE-AEBC-9709D4D1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E90C3-7B5D-4A80-AC14-F59598F0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0F58F-C23D-43B3-A27E-E6982A7B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CD225-FDE6-4886-AB4D-389B7D4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29BEE-4769-4775-BD0A-85EDC098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7FBBCE-6E6D-4DB1-9787-8EA880FB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2BCD7-849D-4444-AC7B-024A4E7A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14E5C-776F-4988-85B0-65355343A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12F3-9597-44AA-A861-569A506F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C5FB-01F0-433A-A3B5-57DDE19F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864D-DDFB-4CB7-A61A-527477AF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20A5-8A30-4993-B919-C7355BDF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E6D6-573E-4850-97FA-B716CD24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6544-C71B-4CEF-ABA1-761F72E5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6606-5BA3-47E5-8487-00DDB0BA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4865-3854-4C37-888C-C8BC152A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9477-10E6-4FAB-9222-B70AF42F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6811A-ADD6-4628-B158-06E41714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8473-536F-4EA5-96D1-56E8B54F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E9B8D-959A-405B-8E4D-ACEDD532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AA734-66E4-4970-984B-AADFB8C1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459B4-BE66-45FD-8D3A-C7C606DE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5AF-BBCA-46F9-B584-80432CE6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D6B54-A959-408F-A615-AF64662A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AC65B-1819-4623-A506-D533825F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AD8DA-5605-4F18-B78F-F564D95F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EF739-7313-4638-9B76-16274AF7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9E0B-F6D5-4443-B03C-F12C5748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D766-6CCC-41EB-BC49-74F451BD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2A6D-6510-4933-9361-B6DECFC6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2679A-E12A-4461-B4EB-686B72B3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69165-96CE-4556-9FD5-C61E1226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2B0FC-BE06-4FE9-813B-3B7A19419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DA17-0E62-4320-8556-2C5BD35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99A9E-60C7-4F00-8384-A7728AAE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AAF55-68FC-4C42-8C88-07D6A970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B5400-CB3F-4759-9BF1-32C74A27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3BEF6-F6D1-4317-8087-35AEC17E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E1B8-D59D-4733-B302-EEED0F37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32F1-4C76-4141-8D20-EA9D8A56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5C8A2-D170-472B-AE1C-CE5544AF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774C7-B6A2-4B9C-9805-9E4F98A1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940E8-5977-48DB-9DFA-588DCF2C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52C13-D9ED-4CE1-AD31-B2C09178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C18-7C70-472F-90DB-20FF642C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FDA49-71F4-4612-90D9-7971CD53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13A11-9A8E-4082-A6B0-9D1695C5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D8648-5CFB-435E-9102-5AADD124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2A594-038D-4F3B-A110-6647DC5F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77CC-FBB3-4E9D-B010-354DD3DF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571C7-3D88-425C-A5F2-3FDA71EF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B0D99-1DA7-4A40-9704-884D27ED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77717-A977-496B-AD1F-610BE2A6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02487-3432-4A36-8A6D-49149DE7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D937-0D0C-4514-89FB-6EA4CE9F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496-08FA-475E-8B32-80043926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4A83C-9082-4958-B17C-92C05651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65801-77BC-42C0-AEC8-7358B561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2C8A3-0BCE-4099-B508-09749B80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5F428-C615-4C95-BC32-FFAA46D6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68E79-E8A2-482F-A6D4-2A98725C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8D59A-BEB1-4651-98B1-57238F51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AF061-ABD4-4EAE-BEEF-1ECF10FB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382C-5397-42F6-B6CF-525F8C3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CC1FA-5CE4-418B-813F-6946FD6E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33597-A407-4977-94AB-B6B9411B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853-0837-4E7B-86B4-BD15D3E0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66C59-8095-4DE8-BD4C-C2EAA225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70C8A-A09E-475F-8645-EE2B9D80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47695-163F-4E1D-8F7D-D9802D74A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17A7A-8368-4F72-9385-2D80E3BC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52D5F-4D75-4895-9A51-51B76F0C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E1BEF-86B6-4ADE-A327-BEBCA0B2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C7128-2574-40A1-B4B6-F46D3C0D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EC18A-D6AF-414C-AB9E-69B7B4FC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1AA88-D6C6-49B5-93E9-DFD24185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6D0EA-7AB1-4184-8347-312E4E98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CB6-0DA4-43E9-A5D7-9769CD40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7B8C-4C2D-412F-A9D1-C0BF1959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DFC42-D58A-45CC-B8DD-32F440AA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568B7-3767-4E35-8D7B-F2B09E2D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647F8-FFA8-4A6A-9F46-830484B2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6C8CC-464C-4879-8C3B-D38E3F97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BC4F5-120F-4E57-A3A3-0EC8612A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D8307-AA8A-427E-81DD-7B0A53A7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5C493-A737-4852-B21D-EC69379E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A0DAF-8B1F-4863-A821-9A11E0C5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37EFA-1B79-4673-B371-D5063D4F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F6DB-4C3F-4AFC-983A-99380B05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FE94C-1D6D-4D25-A73B-367AC68E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09EBD-F4BB-4749-BC5D-2EF3EFA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81F60-DFCD-41F4-97D0-64C260F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97DFD1-B9CB-435A-8823-DF750B09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9256B-FD6D-42B7-A683-0E9A3F13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5BD8D-0F9D-4F8C-B81F-2A223C4A5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589BF-EDD4-42C3-9764-CFA84207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A1E19-B02E-42EA-8369-508166E9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3AE48-736B-4E76-96AA-DEE13FEF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FF1C4-0FA1-48AB-8B80-35C1848A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41CA-3102-4330-B2E8-20F6787B7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2E43-8998-48A3-8A3E-6956650854E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B494-B6D8-4387-BF50-A1E2A519692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48BA-41BD-42E0-9115-7BA8E7E6F89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C8A7-B4AB-4EF0-ACC0-27675F1B60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8F5A-F3B4-4E02-9193-79D6D6B62A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151E-7A69-4D3D-A53B-B729A3E7F0B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5002-F14E-46C6-A8CE-A183EA2671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C860B-052F-462D-BE8E-B3693ED911A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279F-A063-45E7-80EC-A4E2DB706B6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0C94-D42A-4D77-AB8E-FDD0FB47EC7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3640-D9D4-448E-8D13-79644397497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F782-2AE6-4E02-9668-8528536CC8A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E0F1-9859-4D3E-8710-BD78155FEC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BDB2-DFEE-4BB1-8C31-B299E806157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FCD5-25A4-46F9-A637-F1A1360CB95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68E3-9A10-4EF7-8E4D-950FA04C7A5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566E-BD90-4A04-A4BF-8DBB26CBF63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DC1E-D9FB-423E-ABFE-14407345EC7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8794-A63D-4E6A-BEE1-37EC3E90B7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3D54-8637-4698-A78E-474FC8EDEF0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AAEF-FC14-40CC-8D0F-D988E340D0E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D85A-4B8A-48E4-9FE5-9F98FB7C584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C284-E4FF-47F3-8F57-1E533BDDA33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4B99-F2A0-4603-9CF2-BB7B9BED5C9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62CF-2333-4F6E-9F33-29775177C92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组合 1"/>
          <p:cNvGrpSpPr/>
          <p:nvPr/>
        </p:nvGrpSpPr>
        <p:grpSpPr>
          <a:xfrm>
            <a:off x="2590920" y="1523880"/>
            <a:ext cx="4592520" cy="2279880"/>
            <a:chOff x="2590920" y="1523880"/>
            <a:chExt cx="4592520" cy="2279880"/>
          </a:xfrm>
        </p:grpSpPr>
        <p:sp>
          <p:nvSpPr>
            <p:cNvPr id="575" name="矩形 3"/>
            <p:cNvSpPr/>
            <p:nvPr/>
          </p:nvSpPr>
          <p:spPr>
            <a:xfrm>
              <a:off x="3276720" y="2668320"/>
              <a:ext cx="78516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moban/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行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hangye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节日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模板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jieri/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素材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背景图片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beijing/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图表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tubiao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优秀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xiazai/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powerpoint/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 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word/              Excel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程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excel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资料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ziliao/                PPT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课件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kejian/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范文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fanwen/             </a:t>
              </a: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试卷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shiti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教案下载：</a:t>
              </a: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www.1ppt.com/jiaoan/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Picture 3" descr="I:\免费\鲁果原创\素材天下网 sucaitianxia.com-yuanxiaojie4副本.png"/>
            <p:cNvPicPr/>
            <p:nvPr/>
          </p:nvPicPr>
          <p:blipFill>
            <a:blip r:embed="rId2"/>
            <a:stretch/>
          </p:blipFill>
          <p:spPr>
            <a:xfrm>
              <a:off x="2590920" y="1523880"/>
              <a:ext cx="4592520" cy="227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文本框 1536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15365"/>
          <p:cNvSpPr/>
          <p:nvPr/>
        </p:nvSpPr>
        <p:spPr>
          <a:xfrm>
            <a:off x="3099600" y="12193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元宵节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31A-02CE-4E86-A949-E949DA12EE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文本框 16385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4:34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27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