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AD59-AF7B-4F5F-A553-0D932045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DDA8-8FD9-4121-A067-3CAD0021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16C-5C65-45F3-9C6B-55C23020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232-94A3-47C8-8528-DC33C26F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B29D-70DA-4E67-AB1B-63F1496F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7E06-30ED-4C47-B9E5-F7585473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2F6F-A773-4325-AB1C-15BE1F00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29DC-CF04-4777-9EEC-8FA08471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9048-6BA4-476F-A888-503E2C53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EB0A-643B-4F63-95FD-46F52021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EA01-383F-4C52-8E4B-6E753F3C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9E70-38C7-4CDD-8E32-9B72DC1D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86FC-51F6-4F40-A68F-55E03161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EC78-9B3F-40A5-B581-2C84ED72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2257-B915-4995-A98A-EE0777AE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EB95-E9F0-4676-AB79-19AF0310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FF26-B862-4C72-AB6F-A250FC4A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56C-A4F0-4B5C-9260-BAB4B7C6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4C8-CCAD-426D-8CCD-CE5AEE76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30C-9856-4F2E-A54D-17509376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8B3-C248-4BE6-AFCE-C2BBB799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0000-2595-4B55-8C23-3C209C45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392-012D-4966-997E-158A02CE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020-4135-4DB6-BEC9-AAA526B7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DBE3-BD95-4548-A1B3-16F8979F8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D7C3-3B5C-422F-BDF1-2F7B1F9BDF6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295C-E4DF-418E-993A-4B26900514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31CD-ADBF-451C-9246-B60C3E8408A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3073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074"/>
          <p:cNvSpPr/>
          <p:nvPr/>
        </p:nvSpPr>
        <p:spPr>
          <a:xfrm>
            <a:off x="1550160" y="3808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元宵节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2:57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25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