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D13D-00CB-446B-8483-424BE5A2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5F1-5E91-45D6-B294-2AC60605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D8EB-74E5-4D34-B800-4273983A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C78-769C-4E59-A0CE-128AE814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456F-EF01-4D46-8690-E54FDFF9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CAD1-9FB5-4AC9-A2AB-49F71D9C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623E-67BA-4877-B467-8DCE970C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2A56-D744-45E3-BE6A-0F80CCEF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9213-B02E-4461-B923-AA37031F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014F-7A80-4016-AEE0-7A075365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44D1-E110-483A-AD99-AE206FD5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182-5C3B-47A1-8B3A-CEA2C236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B9EE-44A7-46F1-A82B-825E0522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C36E-BC92-4B5B-86AB-27D762A6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F1CF-D845-44AE-B08D-AED49A50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4C15-B3AE-4B02-A3AC-B8972D37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BB6E-0ABB-4ED5-BB46-F53967C4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507-DEB2-41DF-A7D0-F48FDAD0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425-BEBD-4B5D-9297-8BEADB1B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323-BEC2-41F2-A169-EA775FF1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9BF6-DD2C-4E15-BB99-8BC6D217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484-221F-4904-86E3-78E38504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691-ECB3-4AE2-A840-0225994B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D63-25DD-4704-AE68-2F5CC37B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6DFF-95F3-4E24-8DCD-BD72CE04A17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8439-4A53-47CE-974E-E1D60FAD9EC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E049-0C60-4044-8DC4-1864F3913B4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23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9"/>
          <p:cNvSpPr/>
          <p:nvPr/>
        </p:nvSpPr>
        <p:spPr>
          <a:xfrm rot="1764600">
            <a:off x="-3308400" y="3027240"/>
            <a:ext cx="15662160" cy="6791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0"/>
          <p:cNvSpPr/>
          <p:nvPr/>
        </p:nvSpPr>
        <p:spPr>
          <a:xfrm rot="1764600">
            <a:off x="-12600" y="-2553840"/>
            <a:ext cx="15662160" cy="6791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7"/>
          <p:cNvGrpSpPr/>
          <p:nvPr/>
        </p:nvGrpSpPr>
        <p:grpSpPr>
          <a:xfrm>
            <a:off x="5083200" y="3327480"/>
            <a:ext cx="2575080" cy="654120"/>
            <a:chOff x="5083200" y="3327480"/>
            <a:chExt cx="2575080" cy="654120"/>
          </a:xfrm>
        </p:grpSpPr>
        <p:sp>
          <p:nvSpPr>
            <p:cNvPr id="85" name="矩形 13"/>
            <p:cNvSpPr/>
            <p:nvPr/>
          </p:nvSpPr>
          <p:spPr>
            <a:xfrm>
              <a:off x="5083200" y="3332880"/>
              <a:ext cx="2575080" cy="64872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8d8d8"/>
                  </a:solidFill>
                  <a:latin typeface="HelveticaNeue LT 107 XBlkCn"/>
                  <a:ea typeface="宋体"/>
                </a:rPr>
                <a:t>LETTER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6"/>
            <p:cNvSpPr/>
            <p:nvPr/>
          </p:nvSpPr>
          <p:spPr>
            <a:xfrm>
              <a:off x="7572600" y="3327480"/>
              <a:ext cx="85680" cy="6541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20"/>
          <p:cNvGrpSpPr/>
          <p:nvPr/>
        </p:nvGrpSpPr>
        <p:grpSpPr>
          <a:xfrm>
            <a:off x="4552920" y="1847880"/>
            <a:ext cx="3105360" cy="838080"/>
            <a:chOff x="4552920" y="1847880"/>
            <a:chExt cx="3105360" cy="838080"/>
          </a:xfrm>
        </p:grpSpPr>
        <p:sp>
          <p:nvSpPr>
            <p:cNvPr id="88" name="矩形 11"/>
            <p:cNvSpPr/>
            <p:nvPr/>
          </p:nvSpPr>
          <p:spPr>
            <a:xfrm>
              <a:off x="4552920" y="1847880"/>
              <a:ext cx="3105360" cy="838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1b2371"/>
                  </a:solidFill>
                  <a:latin typeface="HelveticaNeue LT 107 XBlkCn"/>
                  <a:ea typeface="宋体"/>
                </a:rPr>
                <a:t>RESUME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4"/>
            <p:cNvSpPr/>
            <p:nvPr/>
          </p:nvSpPr>
          <p:spPr>
            <a:xfrm>
              <a:off x="7572600" y="1882440"/>
              <a:ext cx="85680" cy="76896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22"/>
          <p:cNvGrpSpPr/>
          <p:nvPr/>
        </p:nvGrpSpPr>
        <p:grpSpPr>
          <a:xfrm>
            <a:off x="3951360" y="2685960"/>
            <a:ext cx="3706920" cy="647640"/>
            <a:chOff x="3951360" y="2685960"/>
            <a:chExt cx="3706920" cy="647640"/>
          </a:xfrm>
        </p:grpSpPr>
        <p:sp>
          <p:nvSpPr>
            <p:cNvPr id="91" name="矩形 12"/>
            <p:cNvSpPr/>
            <p:nvPr/>
          </p:nvSpPr>
          <p:spPr>
            <a:xfrm>
              <a:off x="3951360" y="2685960"/>
              <a:ext cx="3706920" cy="6476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1b2371"/>
                  </a:solidFill>
                  <a:latin typeface="HelveticaNeue LT 107 XBlkCn"/>
                  <a:ea typeface="宋体"/>
                </a:rPr>
                <a:t>APPLICATIO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5"/>
            <p:cNvSpPr/>
            <p:nvPr/>
          </p:nvSpPr>
          <p:spPr>
            <a:xfrm>
              <a:off x="7572600" y="2720520"/>
              <a:ext cx="85680" cy="57852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27"/>
          <p:cNvSpPr/>
          <p:nvPr/>
        </p:nvSpPr>
        <p:spPr>
          <a:xfrm>
            <a:off x="4552920" y="1854360"/>
            <a:ext cx="3105360" cy="83808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8"/>
          <p:cNvSpPr/>
          <p:nvPr/>
        </p:nvSpPr>
        <p:spPr>
          <a:xfrm>
            <a:off x="3530520" y="2685960"/>
            <a:ext cx="4127760" cy="64764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29"/>
          <p:cNvSpPr/>
          <p:nvPr/>
        </p:nvSpPr>
        <p:spPr>
          <a:xfrm>
            <a:off x="292104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30"/>
          <p:cNvSpPr/>
          <p:nvPr/>
        </p:nvSpPr>
        <p:spPr>
          <a:xfrm>
            <a:off x="461628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EDUCATION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BACKGRO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31"/>
          <p:cNvSpPr/>
          <p:nvPr/>
        </p:nvSpPr>
        <p:spPr>
          <a:xfrm>
            <a:off x="629280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32"/>
          <p:cNvSpPr/>
          <p:nvPr/>
        </p:nvSpPr>
        <p:spPr>
          <a:xfrm>
            <a:off x="793440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HON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309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3091"/>
          <p:cNvSpPr/>
          <p:nvPr/>
        </p:nvSpPr>
        <p:spPr>
          <a:xfrm>
            <a:off x="4035240" y="414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炫彩英文简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left)" transition="in">
                                      <p:cBhvr additive="repl">
                                        <p:cTn id="25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22" presetSubtype="8">
                                  <p:stCondLst>
                                    <p:cond delay="1250"/>
                                  </p:stCondLst>
                                  <p:childTnLst>
                                    <p:animEffect filter="wipe(left)" transition="in">
                                      <p:cBhvr additive="repl">
                                        <p:cTn id="31" dur="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3137040" y="2624040"/>
            <a:ext cx="1158840" cy="20973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  <a:ea typeface="宋体"/>
              </a:rPr>
              <a:t>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"/>
          <p:cNvSpPr/>
          <p:nvPr/>
        </p:nvSpPr>
        <p:spPr>
          <a:xfrm>
            <a:off x="4329000" y="2624040"/>
            <a:ext cx="1157400" cy="1605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  <a:ea typeface="宋体"/>
              </a:rPr>
              <a:t>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5514840" y="2624040"/>
            <a:ext cx="1157400" cy="2824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  <a:ea typeface="宋体"/>
              </a:rPr>
              <a:t>ADDR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6696000" y="2624040"/>
            <a:ext cx="1157400" cy="209736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d8d8"/>
                </a:solidFill>
                <a:latin typeface="HelveticaNeue LT 97 BlackCn"/>
                <a:ea typeface="宋体"/>
              </a:rPr>
              <a:t>PH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7877160" y="2624040"/>
            <a:ext cx="1157400" cy="39481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  <a:ea typeface="宋体"/>
              </a:rPr>
              <a:t>NATIVE P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3137040" y="2624040"/>
            <a:ext cx="5887800" cy="460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2"/>
          <p:cNvSpPr/>
          <p:nvPr/>
        </p:nvSpPr>
        <p:spPr>
          <a:xfrm>
            <a:off x="2921040" y="-6732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3"/>
          <p:cNvSpPr/>
          <p:nvPr/>
        </p:nvSpPr>
        <p:spPr>
          <a:xfrm>
            <a:off x="4616280" y="-6732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EDUCATION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BACKGRO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4"/>
          <p:cNvSpPr/>
          <p:nvPr/>
        </p:nvSpPr>
        <p:spPr>
          <a:xfrm>
            <a:off x="6292800" y="-6732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5"/>
          <p:cNvSpPr/>
          <p:nvPr/>
        </p:nvSpPr>
        <p:spPr>
          <a:xfrm>
            <a:off x="7934400" y="-6732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NeueLT Pro 67 MdCn"/>
                <a:ea typeface="宋体"/>
              </a:rPr>
              <a:t>HON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6"/>
          <p:cNvSpPr/>
          <p:nvPr/>
        </p:nvSpPr>
        <p:spPr>
          <a:xfrm>
            <a:off x="3598200" y="1243080"/>
            <a:ext cx="497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d8d8"/>
                </a:solidFill>
                <a:latin typeface="HelveticaNeue LT 97 BlackCn"/>
                <a:ea typeface="宋体"/>
              </a:rPr>
              <a:t>PERSONAL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"/>
          <p:cNvSpPr/>
          <p:nvPr/>
        </p:nvSpPr>
        <p:spPr>
          <a:xfrm>
            <a:off x="3628440" y="938160"/>
            <a:ext cx="4905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8d8d8"/>
                </a:solidFill>
                <a:latin typeface="HelveticaNeue LT 97 BlackCn"/>
                <a:ea typeface="宋体"/>
              </a:rPr>
              <a:t>EDUCATIO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8d8d8"/>
                </a:solidFill>
                <a:latin typeface="HelveticaNeue LT 97 BlackCn"/>
                <a:ea typeface="宋体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"/>
          <p:cNvSpPr/>
          <p:nvPr/>
        </p:nvSpPr>
        <p:spPr>
          <a:xfrm>
            <a:off x="2365200" y="2584440"/>
            <a:ext cx="2017800" cy="16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2365200" y="4194000"/>
            <a:ext cx="20178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UNIVERS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2365200" y="5051520"/>
            <a:ext cx="2017800" cy="62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5079960" y="2584440"/>
            <a:ext cx="2017800" cy="16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5079960" y="4194000"/>
            <a:ext cx="20178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UNIVERS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5079960" y="5051520"/>
            <a:ext cx="2017800" cy="62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/>
          <p:cNvSpPr/>
          <p:nvPr/>
        </p:nvSpPr>
        <p:spPr>
          <a:xfrm>
            <a:off x="7778880" y="2584440"/>
            <a:ext cx="2016000" cy="16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7778880" y="4194000"/>
            <a:ext cx="20160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UNIVERS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0"/>
          <p:cNvSpPr/>
          <p:nvPr/>
        </p:nvSpPr>
        <p:spPr>
          <a:xfrm>
            <a:off x="7778880" y="5051520"/>
            <a:ext cx="2016000" cy="62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1"/>
          <p:cNvSpPr/>
          <p:nvPr/>
        </p:nvSpPr>
        <p:spPr>
          <a:xfrm>
            <a:off x="2695680" y="522612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  <a:ea typeface="宋体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3589560" y="522612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  <a:ea typeface="宋体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DEMON.C\Desktop\badge.png"/>
          <p:cNvPicPr/>
          <p:nvPr/>
        </p:nvPicPr>
        <p:blipFill>
          <a:blip r:embed="rId2"/>
          <a:stretch/>
        </p:blipFill>
        <p:spPr>
          <a:xfrm>
            <a:off x="3359160" y="5219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DEMON.C\Desktop\3D-glasses.png"/>
          <p:cNvPicPr/>
          <p:nvPr/>
        </p:nvPicPr>
        <p:blipFill>
          <a:blip r:embed="rId3"/>
          <a:stretch/>
        </p:blipFill>
        <p:spPr>
          <a:xfrm>
            <a:off x="2449440" y="521964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126" name="矩形 20"/>
          <p:cNvSpPr/>
          <p:nvPr/>
        </p:nvSpPr>
        <p:spPr>
          <a:xfrm>
            <a:off x="5419800" y="521964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  <a:ea typeface="宋体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6313680" y="521964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  <a:ea typeface="宋体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Users\DEMON.C\Desktop\badge.png"/>
          <p:cNvPicPr/>
          <p:nvPr/>
        </p:nvPicPr>
        <p:blipFill>
          <a:blip r:embed="rId4"/>
          <a:stretch/>
        </p:blipFill>
        <p:spPr>
          <a:xfrm>
            <a:off x="6083280" y="5214960"/>
            <a:ext cx="285840" cy="28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DEMON.C\Desktop\3D-glasses.png"/>
          <p:cNvPicPr/>
          <p:nvPr/>
        </p:nvPicPr>
        <p:blipFill>
          <a:blip r:embed="rId5"/>
          <a:stretch/>
        </p:blipFill>
        <p:spPr>
          <a:xfrm>
            <a:off x="5173560" y="5214960"/>
            <a:ext cx="285840" cy="284040"/>
          </a:xfrm>
          <a:prstGeom prst="rect">
            <a:avLst/>
          </a:prstGeom>
          <a:ln w="0">
            <a:noFill/>
          </a:ln>
        </p:spPr>
      </p:pic>
      <p:sp>
        <p:nvSpPr>
          <p:cNvPr id="130" name="矩形 24"/>
          <p:cNvSpPr/>
          <p:nvPr/>
        </p:nvSpPr>
        <p:spPr>
          <a:xfrm>
            <a:off x="8128080" y="521496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  <a:ea typeface="宋体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5"/>
          <p:cNvSpPr/>
          <p:nvPr/>
        </p:nvSpPr>
        <p:spPr>
          <a:xfrm>
            <a:off x="9022680" y="521496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  <a:ea typeface="宋体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Users\DEMON.C\Desktop\badge.png"/>
          <p:cNvPicPr/>
          <p:nvPr/>
        </p:nvPicPr>
        <p:blipFill>
          <a:blip r:embed="rId6"/>
          <a:stretch/>
        </p:blipFill>
        <p:spPr>
          <a:xfrm>
            <a:off x="8791560" y="5210280"/>
            <a:ext cx="285840" cy="28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DEMON.C\Desktop\3D-glasses.png"/>
          <p:cNvPicPr/>
          <p:nvPr/>
        </p:nvPicPr>
        <p:blipFill>
          <a:blip r:embed="rId7"/>
          <a:stretch/>
        </p:blipFill>
        <p:spPr>
          <a:xfrm>
            <a:off x="7883640" y="52102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Users\DEMON.C\Desktop\school_emblems_1.png"/>
          <p:cNvPicPr/>
          <p:nvPr/>
        </p:nvPicPr>
        <p:blipFill>
          <a:blip r:embed="rId8"/>
          <a:stretch/>
        </p:blipFill>
        <p:spPr>
          <a:xfrm>
            <a:off x="8085240" y="2730600"/>
            <a:ext cx="1326960" cy="1396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Users\DEMON.C\Desktop\12.png"/>
          <p:cNvPicPr/>
          <p:nvPr/>
        </p:nvPicPr>
        <p:blipFill>
          <a:blip r:embed="rId9"/>
          <a:stretch/>
        </p:blipFill>
        <p:spPr>
          <a:xfrm>
            <a:off x="2698920" y="2759040"/>
            <a:ext cx="1268280" cy="1228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:\Users\DEMON.C\Desktop\school_emblems_1.png"/>
          <p:cNvPicPr/>
          <p:nvPr/>
        </p:nvPicPr>
        <p:blipFill>
          <a:blip r:embed="rId10"/>
          <a:stretch/>
        </p:blipFill>
        <p:spPr>
          <a:xfrm>
            <a:off x="5608800" y="2786040"/>
            <a:ext cx="9698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"/>
          <p:cNvSpPr/>
          <p:nvPr/>
        </p:nvSpPr>
        <p:spPr>
          <a:xfrm>
            <a:off x="5023440" y="601560"/>
            <a:ext cx="214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  <a:ea typeface="宋体"/>
              </a:rPr>
              <a:t>GO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2"/>
          <p:cNvSpPr/>
          <p:nvPr/>
        </p:nvSpPr>
        <p:spPr>
          <a:xfrm>
            <a:off x="2762280" y="2266920"/>
            <a:ext cx="1709640" cy="170964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2813040" y="4286160"/>
            <a:ext cx="160812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DIRECTOR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2813040" y="5043600"/>
            <a:ext cx="1608120" cy="758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6"/>
          <p:cNvSpPr/>
          <p:nvPr/>
        </p:nvSpPr>
        <p:spPr>
          <a:xfrm>
            <a:off x="5229360" y="2266920"/>
            <a:ext cx="1711080" cy="170964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/>
          <p:cNvSpPr/>
          <p:nvPr/>
        </p:nvSpPr>
        <p:spPr>
          <a:xfrm>
            <a:off x="5280120" y="4286160"/>
            <a:ext cx="160956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NA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/>
          <p:cNvSpPr/>
          <p:nvPr/>
        </p:nvSpPr>
        <p:spPr>
          <a:xfrm>
            <a:off x="5280120" y="5043600"/>
            <a:ext cx="1609560" cy="758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N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9"/>
          <p:cNvSpPr/>
          <p:nvPr/>
        </p:nvSpPr>
        <p:spPr>
          <a:xfrm>
            <a:off x="7686720" y="2266920"/>
            <a:ext cx="1709640" cy="170964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Neue LT 107 XBlkCn"/>
                <a:ea typeface="宋体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0"/>
          <p:cNvSpPr/>
          <p:nvPr/>
        </p:nvSpPr>
        <p:spPr>
          <a:xfrm>
            <a:off x="7737480" y="4286160"/>
            <a:ext cx="160812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GENERAL MA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1"/>
          <p:cNvSpPr/>
          <p:nvPr/>
        </p:nvSpPr>
        <p:spPr>
          <a:xfrm>
            <a:off x="7737480" y="5043600"/>
            <a:ext cx="1608120" cy="758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等腰三角形 12"/>
          <p:cNvSpPr/>
          <p:nvPr/>
        </p:nvSpPr>
        <p:spPr>
          <a:xfrm>
            <a:off x="347976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等腰三角形 13"/>
          <p:cNvSpPr/>
          <p:nvPr/>
        </p:nvSpPr>
        <p:spPr>
          <a:xfrm>
            <a:off x="595944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等腰三角形 14"/>
          <p:cNvSpPr/>
          <p:nvPr/>
        </p:nvSpPr>
        <p:spPr>
          <a:xfrm>
            <a:off x="840420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3179520" y="1336680"/>
            <a:ext cx="58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371"/>
                </a:solidFill>
                <a:latin typeface="HelveticaNeue LT 97 BlackCn"/>
                <a:ea typeface="宋体"/>
              </a:rPr>
              <a:t>TO GET A SUITABLE JOB IN A HIGH GROWTH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6159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圆角矩形 8"/>
          <p:cNvSpPr/>
          <p:nvPr/>
        </p:nvSpPr>
        <p:spPr>
          <a:xfrm>
            <a:off x="2470320" y="4938840"/>
            <a:ext cx="204768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等腰三角形 9"/>
          <p:cNvSpPr/>
          <p:nvPr/>
        </p:nvSpPr>
        <p:spPr>
          <a:xfrm flipV="1">
            <a:off x="335592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 15"/>
          <p:cNvSpPr/>
          <p:nvPr/>
        </p:nvSpPr>
        <p:spPr>
          <a:xfrm>
            <a:off x="5072040" y="4938840"/>
            <a:ext cx="204804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等腰三角形 16"/>
          <p:cNvSpPr/>
          <p:nvPr/>
        </p:nvSpPr>
        <p:spPr>
          <a:xfrm flipV="1">
            <a:off x="595800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 22"/>
          <p:cNvSpPr/>
          <p:nvPr/>
        </p:nvSpPr>
        <p:spPr>
          <a:xfrm>
            <a:off x="7707240" y="4938840"/>
            <a:ext cx="204624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等腰三角形 23"/>
          <p:cNvSpPr/>
          <p:nvPr/>
        </p:nvSpPr>
        <p:spPr>
          <a:xfrm flipV="1">
            <a:off x="859320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"/>
          <p:cNvSpPr/>
          <p:nvPr/>
        </p:nvSpPr>
        <p:spPr>
          <a:xfrm>
            <a:off x="4413960" y="855720"/>
            <a:ext cx="33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d8d8"/>
                </a:solidFill>
                <a:latin typeface="HelveticaNeue LT 97 BlackCn"/>
                <a:ea typeface="宋体"/>
              </a:rPr>
              <a:t>HONOU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"/>
          <p:cNvSpPr/>
          <p:nvPr/>
        </p:nvSpPr>
        <p:spPr>
          <a:xfrm>
            <a:off x="3440880" y="169704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HelveticaNeue LT 97 BlackCn"/>
                <a:ea typeface="宋体"/>
              </a:rPr>
              <a:t>DO YOU HAVE SOMETHING IMPORTANT TO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3"/>
          <p:cNvSpPr/>
          <p:nvPr/>
        </p:nvSpPr>
        <p:spPr>
          <a:xfrm>
            <a:off x="2470320" y="2552760"/>
            <a:ext cx="204768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"/>
          <p:cNvSpPr/>
          <p:nvPr/>
        </p:nvSpPr>
        <p:spPr>
          <a:xfrm>
            <a:off x="2470320" y="3279600"/>
            <a:ext cx="2047680" cy="473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5"/>
          <p:cNvSpPr/>
          <p:nvPr/>
        </p:nvSpPr>
        <p:spPr>
          <a:xfrm>
            <a:off x="2470320" y="3753000"/>
            <a:ext cx="204768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2470320" y="4227480"/>
            <a:ext cx="2047680" cy="4748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/>
          <p:cNvSpPr/>
          <p:nvPr/>
        </p:nvSpPr>
        <p:spPr>
          <a:xfrm>
            <a:off x="2470320" y="4702320"/>
            <a:ext cx="204768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10"/>
          <p:cNvSpPr/>
          <p:nvPr/>
        </p:nvSpPr>
        <p:spPr>
          <a:xfrm>
            <a:off x="5072040" y="2552760"/>
            <a:ext cx="204804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1"/>
          <p:cNvSpPr/>
          <p:nvPr/>
        </p:nvSpPr>
        <p:spPr>
          <a:xfrm>
            <a:off x="5072040" y="3279600"/>
            <a:ext cx="2048040" cy="473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5072040" y="3753000"/>
            <a:ext cx="20480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3"/>
          <p:cNvSpPr/>
          <p:nvPr/>
        </p:nvSpPr>
        <p:spPr>
          <a:xfrm>
            <a:off x="5072040" y="4227480"/>
            <a:ext cx="2048040" cy="4748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5072040" y="4702320"/>
            <a:ext cx="20480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17"/>
          <p:cNvSpPr/>
          <p:nvPr/>
        </p:nvSpPr>
        <p:spPr>
          <a:xfrm>
            <a:off x="7707240" y="2552760"/>
            <a:ext cx="204624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  <a:ea typeface="宋体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8"/>
          <p:cNvSpPr/>
          <p:nvPr/>
        </p:nvSpPr>
        <p:spPr>
          <a:xfrm>
            <a:off x="7707240" y="3279600"/>
            <a:ext cx="2046240" cy="473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9"/>
          <p:cNvSpPr/>
          <p:nvPr/>
        </p:nvSpPr>
        <p:spPr>
          <a:xfrm>
            <a:off x="7707240" y="3753000"/>
            <a:ext cx="20462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0"/>
          <p:cNvSpPr/>
          <p:nvPr/>
        </p:nvSpPr>
        <p:spPr>
          <a:xfrm>
            <a:off x="7707240" y="4227480"/>
            <a:ext cx="2046240" cy="4748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1"/>
          <p:cNvSpPr/>
          <p:nvPr/>
        </p:nvSpPr>
        <p:spPr>
          <a:xfrm>
            <a:off x="7707240" y="4702320"/>
            <a:ext cx="20462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E:\XX素材XX\Dortmund-32x32\star.png"/>
          <p:cNvPicPr/>
          <p:nvPr/>
        </p:nvPicPr>
        <p:blipFill>
          <a:blip r:embed="rId2"/>
          <a:stretch/>
        </p:blipFill>
        <p:spPr>
          <a:xfrm>
            <a:off x="2597040" y="3363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E:\XX素材XX\Dortmund-32x32\lightbulb.png"/>
          <p:cNvPicPr/>
          <p:nvPr/>
        </p:nvPicPr>
        <p:blipFill>
          <a:blip r:embed="rId3"/>
          <a:stretch/>
        </p:blipFill>
        <p:spPr>
          <a:xfrm>
            <a:off x="2597040" y="3838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E:\XX素材XX\Dortmund-32x32\bestseller.png"/>
          <p:cNvPicPr/>
          <p:nvPr/>
        </p:nvPicPr>
        <p:blipFill>
          <a:blip r:embed="rId4"/>
          <a:stretch/>
        </p:blipFill>
        <p:spPr>
          <a:xfrm>
            <a:off x="2597040" y="4327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E:\XX素材XX\Dortmund-32x32\milestone.png"/>
          <p:cNvPicPr/>
          <p:nvPr/>
        </p:nvPicPr>
        <p:blipFill>
          <a:blip r:embed="rId5"/>
          <a:stretch/>
        </p:blipFill>
        <p:spPr>
          <a:xfrm>
            <a:off x="2597040" y="47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E:\XX素材XX\Dortmund-32x32\paypal.png"/>
          <p:cNvPicPr/>
          <p:nvPr/>
        </p:nvPicPr>
        <p:blipFill>
          <a:blip r:embed="rId6"/>
          <a:stretch/>
        </p:blipFill>
        <p:spPr>
          <a:xfrm>
            <a:off x="5251320" y="33685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E:\XX素材XX\Dortmund-32x32\process.png"/>
          <p:cNvPicPr/>
          <p:nvPr/>
        </p:nvPicPr>
        <p:blipFill>
          <a:blip r:embed="rId7"/>
          <a:stretch/>
        </p:blipFill>
        <p:spPr>
          <a:xfrm>
            <a:off x="5251320" y="4324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E:\XX素材XX\Dortmund-32x32\pen.png"/>
          <p:cNvPicPr/>
          <p:nvPr/>
        </p:nvPicPr>
        <p:blipFill>
          <a:blip r:embed="rId8"/>
          <a:stretch/>
        </p:blipFill>
        <p:spPr>
          <a:xfrm>
            <a:off x="5251320" y="384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E:\XX素材XX\Dortmund-32x32\heart.png"/>
          <p:cNvPicPr/>
          <p:nvPr/>
        </p:nvPicPr>
        <p:blipFill>
          <a:blip r:embed="rId9"/>
          <a:stretch/>
        </p:blipFill>
        <p:spPr>
          <a:xfrm>
            <a:off x="5251320" y="4788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E:\XX素材XX\Dortmund-32x32\communication.png"/>
          <p:cNvPicPr/>
          <p:nvPr/>
        </p:nvPicPr>
        <p:blipFill>
          <a:blip r:embed="rId10"/>
          <a:stretch/>
        </p:blipFill>
        <p:spPr>
          <a:xfrm>
            <a:off x="7880400" y="43257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E:\XX素材XX\Dortmund-32x32\cost.png"/>
          <p:cNvPicPr/>
          <p:nvPr/>
        </p:nvPicPr>
        <p:blipFill>
          <a:blip r:embed="rId11"/>
          <a:stretch/>
        </p:blipFill>
        <p:spPr>
          <a:xfrm>
            <a:off x="7880400" y="4803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E:\XX素材XX\Dortmund-32x32\bookmark.png"/>
          <p:cNvPicPr/>
          <p:nvPr/>
        </p:nvPicPr>
        <p:blipFill>
          <a:blip r:embed="rId12"/>
          <a:stretch/>
        </p:blipFill>
        <p:spPr>
          <a:xfrm>
            <a:off x="7880400" y="385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E:\XX素材XX\Dortmund-32x32\check.png"/>
          <p:cNvPicPr/>
          <p:nvPr/>
        </p:nvPicPr>
        <p:blipFill>
          <a:blip r:embed="rId13"/>
          <a:stretch/>
        </p:blipFill>
        <p:spPr>
          <a:xfrm>
            <a:off x="7880400" y="33638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7715-F8A5-47F0-8765-FAAA2B049E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44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2"/>
          <p:cNvSpPr/>
          <p:nvPr/>
        </p:nvSpPr>
        <p:spPr>
          <a:xfrm>
            <a:off x="961200" y="2295360"/>
            <a:ext cx="102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HelveticaNeue LT 97 BlackCn"/>
                <a:ea typeface="宋体"/>
              </a:rPr>
              <a:t>HOPE YOU WILL MAKE PERFECT RESUM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5224320" y="5522760"/>
            <a:ext cx="173700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6:15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3:37Z</dcterms:modified>
  <cp:revision>4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