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281E-09E3-4431-B3D1-363AEF510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1DE-70B1-4E57-947A-4DB712A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CBAB-2571-4DEB-948E-3D2467B9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4D9-8BC5-4F39-B9E0-84C0452F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B2F9-12D7-4C93-BD3C-1EFCFD15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7A7D-D682-4157-AC31-974CD2B8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B765-A0D9-4789-9B45-11EA7ABB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81E3-E818-4263-9175-D8DD315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93A0-F010-4310-9201-E224E04E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3646-134E-431A-BB6D-E88F1442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A702-694C-46F2-9FA6-D27D39B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A70-2EAC-4925-9A5C-17BA942B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5E9-096F-4DA9-9F57-5E1DABC7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BF89-537F-49A5-9326-45BC4AE9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E369-5470-4DD1-B4CC-F0B3F1BB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F227-B44E-4CB1-BA2E-EA9DFF93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6177-3B28-4468-B885-6B5D9395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CFFA-6ED3-4700-B494-87045B6A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4133-9A3D-4BBC-BBCC-080BA012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94FD-2DD2-4A6B-BBC4-EB2F84E0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0940-0C83-417A-9E3C-93F22E4D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2154D-5F11-4D24-B488-6D878C9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3431-B5B8-45E2-BFC9-653E814D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70AF1-64C5-4542-A89A-FD4C0240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EC73F-3D48-4F96-B0B9-619F5CA1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CE61F-0150-4F9A-A710-E58A19D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3853-CF9C-4011-AED1-A51C329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E3415-6820-4D07-9AA9-B436DDDF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2433-DC5B-466A-A82F-D9E77D37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420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6280" y="167652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6212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420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6280" y="4000680"/>
            <a:ext cx="24778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BB92-F404-44D6-B3B7-2ADE7048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2AE-82BD-4CAA-A7D5-EA3942E4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BCB-9E92-40E0-90A5-ED9ACB39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09120"/>
            <a:ext cx="822960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73CD-896A-46BC-9CB8-C1752FF7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9A4-B0B9-4B51-A5D8-F7E0D0C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00068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AC6-EE11-4525-9910-5C70D3A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676520"/>
            <a:ext cx="375552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00680"/>
            <a:ext cx="7696080" cy="21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D56-A19F-4292-AA75-77479A1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331-8C25-4C41-B84B-6682675124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98B-892F-451C-B9F5-D0F8255956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AF4B-F44F-40F3-B533-05368ED50F0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468-294A-4DB8-ACBB-E0506F554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3124080"/>
            <a:ext cx="5333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Brush Script MT"/>
              </a:rPr>
              <a:t>A Pie Down Low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09680" y="4495680"/>
            <a:ext cx="4724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Your Subtitle Goes Her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图片 2051" descr="grandma_bake_pie_hg_clr"/>
          <p:cNvPicPr/>
          <p:nvPr/>
        </p:nvPicPr>
        <p:blipFill>
          <a:blip r:embed="rId1"/>
          <a:stretch/>
        </p:blipFill>
        <p:spPr>
          <a:xfrm>
            <a:off x="6924600" y="2228760"/>
            <a:ext cx="1685880" cy="371484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图片 4099" descr="curious_cardinal_and_pie_lg_clr"/>
          <p:cNvPicPr/>
          <p:nvPr/>
        </p:nvPicPr>
        <p:blipFill>
          <a:blip r:embed="rId1"/>
          <a:stretch/>
        </p:blipFill>
        <p:spPr>
          <a:xfrm>
            <a:off x="7543800" y="5257800"/>
            <a:ext cx="14860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2" name="图片 5123" descr="mums_apple_pie_hr"/>
          <p:cNvPicPr/>
          <p:nvPr/>
        </p:nvPicPr>
        <p:blipFill>
          <a:blip r:embed="rId2"/>
          <a:stretch/>
        </p:blipFill>
        <p:spPr>
          <a:xfrm>
            <a:off x="7010280" y="5216400"/>
            <a:ext cx="1600200" cy="1108080"/>
          </a:xfrm>
          <a:prstGeom prst="rect">
            <a:avLst/>
          </a:prstGeom>
          <a:ln w="0">
            <a:noFill/>
          </a:ln>
        </p:spPr>
      </p:pic>
      <p:sp>
        <p:nvSpPr>
          <p:cNvPr id="133" name="文本框 8198"/>
          <p:cNvSpPr/>
          <p:nvPr/>
        </p:nvSpPr>
        <p:spPr>
          <a:xfrm>
            <a:off x="1143000" y="243828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4E86-CF6C-4E73-AEF8-06D4B57CE4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05120" y="3276360"/>
            <a:ext cx="5333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Brush Script MT"/>
              </a:rPr>
              <a:t>Transitional Page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7:34:5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