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BC2-F045-422A-8D85-BF9612A3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8DB-59B6-46D0-83DF-C1359378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820-360B-42BB-ABB0-62A91F62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469-9FFB-4072-92B3-A448DF39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5977-4033-4A2C-BF7C-F0BB77CD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42CA-717F-4E44-8DCB-A0395FC4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FAEA-0AFB-468E-B855-E0EF46E9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CFA6-4A04-4E65-B5BB-6A51518F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4840-FFBF-48A6-A899-613530B2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D09D-5058-4AB9-86A8-055AD0FB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317-0EBC-404B-B2DD-A89E9480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DBA-1DF6-42F6-BFC9-09FD99BC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A319-2FF2-4B1A-8C35-22C0E7D6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8956-7B78-41BE-BDFE-32E7496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7CE4-1F27-4459-961D-63DB36F2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60ED-59A2-499F-A5E7-4033ABF3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370E-24E3-4044-95F3-594FAAC4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C5C1-15EF-4951-BEDB-8351A6E1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D2FB-96CE-4417-9C98-EE27899F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2AC2-C30D-44FB-80FD-FC1AE06F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6D40-101E-4CFF-A5E5-39180278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83B62-492C-441D-872F-498C2251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61C-5A3B-4F6D-9337-87C370D2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EA42-15BE-4ABC-ABFB-4835B59C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0403-702D-49C5-86F2-A0BECA33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F6CF-414E-49AC-8EFF-151E21E0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F079-90D8-4FC2-80FD-7E0B9FE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2B76-E3BA-4A5E-8537-C974555D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A1C25-9190-4F87-A0E8-880737D9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59BB-DD6C-4C90-812C-14A34947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947E4-6C3C-40FF-B654-10E4C019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0FE04-7F19-4BF2-938A-73D2B2B9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7C2D4-C519-40B1-8C35-3F0735F6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7A6-A7A5-4C0F-94CE-626F545A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47072-B9A0-4105-984C-C241BCE4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28B93-5934-4201-A105-B86E1C18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6578D-9D9A-4F31-ADCF-E1CC2310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4030-9DB9-4656-9A6F-83A5A5A5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970E1-76EC-453D-A749-E7C8EE7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41122-D5A7-4E3F-AB38-9D1B4C9F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FB66-A549-479A-BA2F-632A2D6E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C765C-2EC2-4104-9285-25BD188E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16350-F90F-4FD4-9C64-CD1D3DFD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695-5116-4B53-BD23-48C2414B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AB0-E3FB-4BFE-88F3-C219116D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D00-45D1-458F-9396-59B41A91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2BA-4029-4E87-9566-0FD4D181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D90-E8ED-4C7D-B885-93A979EA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E9A8-BC11-4BE4-B281-C27802C3866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10.png"/>
          <p:cNvPicPr/>
          <p:nvPr/>
        </p:nvPicPr>
        <p:blipFill>
          <a:blip r:embed="rId3"/>
          <a:stretch/>
        </p:blipFill>
        <p:spPr>
          <a:xfrm>
            <a:off x="108000" y="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F65F-1B6B-4E89-9550-83ED14FEE5D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394F-E6CF-4AD7-96FE-201CF6169572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8FCE-C865-41AF-ABEC-965233C50F1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9E24-CEA0-43FC-8F8F-5A9B5E7124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F1E1-89BD-4263-A77D-F513B761D7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7" descr="10.png"/>
          <p:cNvPicPr/>
          <p:nvPr/>
        </p:nvPicPr>
        <p:blipFill>
          <a:blip r:embed="rId2"/>
          <a:stretch/>
        </p:blipFill>
        <p:spPr>
          <a:xfrm>
            <a:off x="10800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"/>
          <p:cNvPicPr/>
          <p:nvPr/>
        </p:nvPicPr>
        <p:blipFill>
          <a:blip r:embed="rId4"/>
          <a:stretch/>
        </p:blipFill>
        <p:spPr>
          <a:xfrm>
            <a:off x="2124000" y="2513160"/>
            <a:ext cx="4708440" cy="12762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6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4575240" cy="3859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9"/>
          <p:cNvSpPr/>
          <p:nvPr/>
        </p:nvSpPr>
        <p:spPr>
          <a:xfrm>
            <a:off x="1853640" y="177588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钩沉党史之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1853640" y="177588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钩沉党史之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5215680" y="177588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追寻辉煌瞬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5215680" y="177588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追寻辉煌瞬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13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5131"/>
          <p:cNvSpPr/>
          <p:nvPr/>
        </p:nvSpPr>
        <p:spPr>
          <a:xfrm>
            <a:off x="1582560" y="47628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中国红党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动态片头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75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0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23" presetSubtype="16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750"/>
                            </p:stCondLst>
                            <p:childTnLst>
                              <p:par>
                                <p:cTn id="33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">
                                  <p:stCondLst>
                                    <p:cond delay="75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23" presetSubtype="16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2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03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