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B37-2508-4DDB-ABAC-58B4F3FC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A23-FA37-4376-9AF9-234152A3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57A-7324-4CEA-8310-4042F2B7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D7D-6869-4C8F-96ED-B4AF1C19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7792-CBEE-4834-8970-9E5267AE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3055-DDAF-47E3-A339-8FB56F33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3266-22D2-44AE-BD6F-D388CEC6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42CF-CDA6-4AF3-BC97-0DBF898C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8E32-916F-4271-B189-07F9BBCC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13D7-4B20-4FB4-9BBC-8836DEB1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ECAB-21E5-4F94-B8A3-0AC7F923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760-2494-4701-A411-BA008192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1B42-901C-4940-B405-2FAB950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5EEF-2F32-42E4-B63B-44671AF9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EE06-447D-46E6-990E-CC5566DF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8CD2-9145-4464-AC46-E1861B71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F826-E5B4-4F89-9A8C-D037EEE7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2DE-D8A2-41F5-9A29-AAEA8813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873-E909-4F47-92E0-16963B01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672-707B-490F-B3E9-687CF0E8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75D-024F-4F93-9F67-83E2DD13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FCB-FCA5-4207-AC72-252D14AA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024-52CD-4DE4-A042-9CADEE88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02F-5AF3-41EA-9E67-76CDA528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0F3B-1ACB-403C-9CDC-CA84B55D6E7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A907-190B-4879-87D4-E997FC3E767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8DEC-CE94-4FA1-8026-19B7883CF7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五边形 7"/>
          <p:cNvSpPr/>
          <p:nvPr/>
        </p:nvSpPr>
        <p:spPr>
          <a:xfrm>
            <a:off x="0" y="0"/>
            <a:ext cx="8153280" cy="685800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59" y="0"/>
                </a:lnTo>
                <a:lnTo>
                  <a:pt x="21600" y="10800"/>
                </a:lnTo>
                <a:lnTo>
                  <a:pt x="138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8"/>
          <p:cNvSpPr/>
          <p:nvPr/>
        </p:nvSpPr>
        <p:spPr>
          <a:xfrm>
            <a:off x="5078520" y="-12600"/>
            <a:ext cx="7132680" cy="6864120"/>
          </a:xfrm>
          <a:custGeom>
            <a:avLst/>
            <a:gdLst/>
            <a:ahLst/>
            <a:rect l="l" t="t" r="r" b="b"/>
            <a:pathLst>
              <a:path w="7033846" h="6865034">
                <a:moveTo>
                  <a:pt x="7019778" y="0"/>
                </a:moveTo>
                <a:lnTo>
                  <a:pt x="0" y="0"/>
                </a:lnTo>
                <a:lnTo>
                  <a:pt x="2996418" y="3446585"/>
                </a:lnTo>
                <a:lnTo>
                  <a:pt x="0" y="6865034"/>
                </a:lnTo>
                <a:lnTo>
                  <a:pt x="7033846" y="6865034"/>
                </a:lnTo>
                <a:cubicBezTo>
                  <a:pt x="7029157" y="4576689"/>
                  <a:pt x="7024467" y="2288345"/>
                  <a:pt x="7019778" y="0"/>
                </a:cubicBezTo>
                <a:close/>
              </a:path>
            </a:pathLst>
          </a:custGeom>
          <a:solidFill>
            <a:srgbClr val="7f7f7f"/>
          </a:solidFill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4038480" y="633240"/>
            <a:ext cx="3670560" cy="5542200"/>
          </a:xfrm>
          <a:prstGeom prst="rect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黑体"/>
                <a:ea typeface="黑体"/>
              </a:rPr>
              <a:t>简历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4038480" y="633240"/>
            <a:ext cx="3670560" cy="1239840"/>
          </a:xfrm>
          <a:prstGeom prst="rect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我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4038480" y="4950000"/>
            <a:ext cx="3670560" cy="1239840"/>
          </a:xfrm>
          <a:prstGeom prst="rect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4"/>
          <p:cNvGrpSpPr/>
          <p:nvPr/>
        </p:nvGrpSpPr>
        <p:grpSpPr>
          <a:xfrm>
            <a:off x="5952240" y="5443200"/>
            <a:ext cx="1594800" cy="337680"/>
            <a:chOff x="5952240" y="5443200"/>
            <a:chExt cx="1594800" cy="337680"/>
          </a:xfrm>
        </p:grpSpPr>
        <p:sp>
          <p:nvSpPr>
            <p:cNvPr id="88" name="椭圆 15"/>
            <p:cNvSpPr/>
            <p:nvPr/>
          </p:nvSpPr>
          <p:spPr>
            <a:xfrm rot="4414800">
              <a:off x="5984280" y="5475240"/>
              <a:ext cx="266760" cy="266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16"/>
            <p:cNvSpPr/>
            <p:nvPr/>
          </p:nvSpPr>
          <p:spPr>
            <a:xfrm rot="4414800">
              <a:off x="6405480" y="5475240"/>
              <a:ext cx="266760" cy="2667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17"/>
            <p:cNvSpPr/>
            <p:nvPr/>
          </p:nvSpPr>
          <p:spPr>
            <a:xfrm rot="4414800">
              <a:off x="7247880" y="5481720"/>
              <a:ext cx="266760" cy="2667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18"/>
            <p:cNvSpPr/>
            <p:nvPr/>
          </p:nvSpPr>
          <p:spPr>
            <a:xfrm rot="4414800">
              <a:off x="6826680" y="5481720"/>
              <a:ext cx="266760" cy="266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9"/>
          <p:cNvSpPr/>
          <p:nvPr/>
        </p:nvSpPr>
        <p:spPr>
          <a:xfrm>
            <a:off x="4195800" y="5010120"/>
            <a:ext cx="234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st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08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085"/>
          <p:cNvSpPr/>
          <p:nvPr/>
        </p:nvSpPr>
        <p:spPr>
          <a:xfrm>
            <a:off x="2941200" y="9360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紫灰搭配简约实用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5"/>
          <p:cNvSpPr/>
          <p:nvPr/>
        </p:nvSpPr>
        <p:spPr>
          <a:xfrm>
            <a:off x="669960" y="2805120"/>
            <a:ext cx="2587680" cy="131292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身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"/>
          <p:cNvSpPr/>
          <p:nvPr/>
        </p:nvSpPr>
        <p:spPr>
          <a:xfrm>
            <a:off x="3571920" y="3014640"/>
            <a:ext cx="80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是一名大学生，距离毕业还有</a:t>
            </a:r>
            <a:r>
              <a:rPr b="1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年</a:t>
            </a:r>
            <a:r>
              <a:rPr b="1" lang="zh-CN" sz="4000" spc="-1" strike="noStrike">
                <a:solidFill>
                  <a:srgbClr val="7030a0"/>
                </a:solidFill>
                <a:latin typeface="Franklin Gothic Book"/>
                <a:ea typeface="黑体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8"/>
          <p:cNvSpPr/>
          <p:nvPr/>
        </p:nvSpPr>
        <p:spPr>
          <a:xfrm>
            <a:off x="3728880" y="4129200"/>
            <a:ext cx="7743960" cy="1440"/>
          </a:xfrm>
          <a:custGeom>
            <a:avLst/>
            <a:gdLst/>
            <a:ahLst/>
            <a:rect l="l" t="t" r="r" b="b"/>
            <a:pathLst>
              <a:path w="7743825" h="635">
                <a:moveTo>
                  <a:pt x="0" y="0"/>
                </a:moveTo>
                <a:lnTo>
                  <a:pt x="7743825" y="0"/>
                </a:lnTo>
              </a:path>
            </a:pathLst>
          </a:cu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4"/>
          <p:cNvGrpSpPr/>
          <p:nvPr/>
        </p:nvGrpSpPr>
        <p:grpSpPr>
          <a:xfrm>
            <a:off x="767880" y="4447080"/>
            <a:ext cx="2390760" cy="506520"/>
            <a:chOff x="767880" y="4447080"/>
            <a:chExt cx="2390760" cy="506520"/>
          </a:xfrm>
        </p:grpSpPr>
        <p:sp>
          <p:nvSpPr>
            <p:cNvPr id="100" name="椭圆 10"/>
            <p:cNvSpPr/>
            <p:nvPr/>
          </p:nvSpPr>
          <p:spPr>
            <a:xfrm rot="15214800">
              <a:off x="2709720" y="450504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11"/>
            <p:cNvSpPr/>
            <p:nvPr/>
          </p:nvSpPr>
          <p:spPr>
            <a:xfrm rot="15214800">
              <a:off x="2078280" y="450504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12"/>
            <p:cNvSpPr/>
            <p:nvPr/>
          </p:nvSpPr>
          <p:spPr>
            <a:xfrm rot="15214800">
              <a:off x="815760" y="449568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13"/>
            <p:cNvSpPr/>
            <p:nvPr/>
          </p:nvSpPr>
          <p:spPr>
            <a:xfrm rot="15214800">
              <a:off x="1446840" y="449568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768240" y="2793960"/>
            <a:ext cx="2586240" cy="131292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爱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3643200" y="260676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大爱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（毕业就想和她在一起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喜欢摄影摄像，是一名设计屌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5"/>
          <p:cNvSpPr/>
          <p:nvPr/>
        </p:nvSpPr>
        <p:spPr>
          <a:xfrm>
            <a:off x="3728880" y="4129200"/>
            <a:ext cx="6586560" cy="56880"/>
          </a:xfrm>
          <a:custGeom>
            <a:avLst/>
            <a:gdLst/>
            <a:ahLst/>
            <a:rect l="l" t="t" r="r" b="b"/>
            <a:pathLst>
              <a:path w="7743825" h="57150">
                <a:moveTo>
                  <a:pt x="0" y="0"/>
                </a:moveTo>
                <a:lnTo>
                  <a:pt x="7743825" y="0"/>
                </a:lnTo>
              </a:path>
            </a:pathLst>
          </a:cu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1"/>
          <p:cNvGrpSpPr/>
          <p:nvPr/>
        </p:nvGrpSpPr>
        <p:grpSpPr>
          <a:xfrm>
            <a:off x="767880" y="4447080"/>
            <a:ext cx="2390760" cy="506520"/>
            <a:chOff x="767880" y="4447080"/>
            <a:chExt cx="2390760" cy="506520"/>
          </a:xfrm>
        </p:grpSpPr>
        <p:sp>
          <p:nvSpPr>
            <p:cNvPr id="109" name="椭圆 12"/>
            <p:cNvSpPr/>
            <p:nvPr/>
          </p:nvSpPr>
          <p:spPr>
            <a:xfrm rot="15214800">
              <a:off x="2709720" y="450504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3"/>
            <p:cNvSpPr/>
            <p:nvPr/>
          </p:nvSpPr>
          <p:spPr>
            <a:xfrm rot="15214800">
              <a:off x="2078280" y="450504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14"/>
            <p:cNvSpPr/>
            <p:nvPr/>
          </p:nvSpPr>
          <p:spPr>
            <a:xfrm rot="15214800">
              <a:off x="815760" y="449568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15"/>
            <p:cNvSpPr/>
            <p:nvPr/>
          </p:nvSpPr>
          <p:spPr>
            <a:xfrm rot="15214800">
              <a:off x="1446840" y="449568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"/>
          <p:cNvSpPr/>
          <p:nvPr/>
        </p:nvSpPr>
        <p:spPr>
          <a:xfrm>
            <a:off x="1828800" y="3492360"/>
            <a:ext cx="9001080" cy="64260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只能说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"/>
          <p:cNvSpPr/>
          <p:nvPr/>
        </p:nvSpPr>
        <p:spPr>
          <a:xfrm>
            <a:off x="1828800" y="838080"/>
            <a:ext cx="871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是不是好学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5"/>
          <p:cNvSpPr/>
          <p:nvPr/>
        </p:nvSpPr>
        <p:spPr>
          <a:xfrm rot="1070400">
            <a:off x="9234000" y="532080"/>
            <a:ext cx="1114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  <a:ea typeface="黑体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7"/>
          <p:cNvGrpSpPr/>
          <p:nvPr/>
        </p:nvGrpSpPr>
        <p:grpSpPr>
          <a:xfrm>
            <a:off x="4755600" y="2405880"/>
            <a:ext cx="2388960" cy="506160"/>
            <a:chOff x="4755600" y="2405880"/>
            <a:chExt cx="2388960" cy="506160"/>
          </a:xfrm>
        </p:grpSpPr>
        <p:sp>
          <p:nvSpPr>
            <p:cNvPr id="118" name="椭圆 8"/>
            <p:cNvSpPr/>
            <p:nvPr/>
          </p:nvSpPr>
          <p:spPr>
            <a:xfrm rot="15214800">
              <a:off x="6696000" y="2463480"/>
              <a:ext cx="400320" cy="399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9"/>
            <p:cNvSpPr/>
            <p:nvPr/>
          </p:nvSpPr>
          <p:spPr>
            <a:xfrm rot="15214800">
              <a:off x="6064920" y="2463480"/>
              <a:ext cx="400320" cy="3996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0"/>
            <p:cNvSpPr/>
            <p:nvPr/>
          </p:nvSpPr>
          <p:spPr>
            <a:xfrm rot="15214800">
              <a:off x="4803480" y="2454120"/>
              <a:ext cx="400320" cy="3996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11"/>
            <p:cNvSpPr/>
            <p:nvPr/>
          </p:nvSpPr>
          <p:spPr>
            <a:xfrm rot="15214800">
              <a:off x="5434200" y="2454120"/>
              <a:ext cx="400320" cy="39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"/>
          <p:cNvSpPr/>
          <p:nvPr/>
        </p:nvSpPr>
        <p:spPr>
          <a:xfrm>
            <a:off x="1828800" y="3492360"/>
            <a:ext cx="9001080" cy="119124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……………………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1658880" y="83808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只有这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"/>
          <p:cNvSpPr/>
          <p:nvPr/>
        </p:nvSpPr>
        <p:spPr>
          <a:xfrm rot="1070400">
            <a:off x="9234000" y="532080"/>
            <a:ext cx="1114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  <a:ea typeface="黑体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7"/>
          <p:cNvGrpSpPr/>
          <p:nvPr/>
        </p:nvGrpSpPr>
        <p:grpSpPr>
          <a:xfrm>
            <a:off x="4755600" y="2405880"/>
            <a:ext cx="2388960" cy="506160"/>
            <a:chOff x="4755600" y="2405880"/>
            <a:chExt cx="2388960" cy="506160"/>
          </a:xfrm>
        </p:grpSpPr>
        <p:sp>
          <p:nvSpPr>
            <p:cNvPr id="127" name="椭圆 8"/>
            <p:cNvSpPr/>
            <p:nvPr/>
          </p:nvSpPr>
          <p:spPr>
            <a:xfrm rot="15214800">
              <a:off x="6696000" y="2463480"/>
              <a:ext cx="400320" cy="399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9"/>
            <p:cNvSpPr/>
            <p:nvPr/>
          </p:nvSpPr>
          <p:spPr>
            <a:xfrm rot="15214800">
              <a:off x="6064920" y="2463480"/>
              <a:ext cx="400320" cy="3996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10"/>
            <p:cNvSpPr/>
            <p:nvPr/>
          </p:nvSpPr>
          <p:spPr>
            <a:xfrm rot="15214800">
              <a:off x="4803480" y="2454120"/>
              <a:ext cx="400320" cy="3996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11"/>
            <p:cNvSpPr/>
            <p:nvPr/>
          </p:nvSpPr>
          <p:spPr>
            <a:xfrm rot="15214800">
              <a:off x="5434200" y="2454120"/>
              <a:ext cx="400320" cy="39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7178"/>
          <p:cNvSpPr/>
          <p:nvPr/>
        </p:nvSpPr>
        <p:spPr>
          <a:xfrm>
            <a:off x="1762200" y="3027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FC3A-AA20-4009-B738-6B4BC2915C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2479680" y="514440"/>
            <a:ext cx="7429320" cy="131292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  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的</a:t>
            </a:r>
            <a:r>
              <a:rPr b="1" lang="en-US" sz="8000" spc="-1" strike="noStrike">
                <a:solidFill>
                  <a:srgbClr val="7030a0"/>
                </a:solidFill>
                <a:latin typeface="Franklin Gothic Book"/>
                <a:ea typeface="Franklin Gothic Book"/>
              </a:rPr>
              <a:t>P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经历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5"/>
          <p:cNvGrpSpPr/>
          <p:nvPr/>
        </p:nvGrpSpPr>
        <p:grpSpPr>
          <a:xfrm>
            <a:off x="4998600" y="2012040"/>
            <a:ext cx="2390760" cy="506520"/>
            <a:chOff x="4998600" y="2012040"/>
            <a:chExt cx="2390760" cy="506520"/>
          </a:xfrm>
        </p:grpSpPr>
        <p:sp>
          <p:nvSpPr>
            <p:cNvPr id="139" name="椭圆 6"/>
            <p:cNvSpPr/>
            <p:nvPr/>
          </p:nvSpPr>
          <p:spPr>
            <a:xfrm rot="15214800">
              <a:off x="6940440" y="207000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7"/>
            <p:cNvSpPr/>
            <p:nvPr/>
          </p:nvSpPr>
          <p:spPr>
            <a:xfrm rot="15214800">
              <a:off x="6309000" y="207000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8"/>
            <p:cNvSpPr/>
            <p:nvPr/>
          </p:nvSpPr>
          <p:spPr>
            <a:xfrm rot="15214800">
              <a:off x="5046480" y="206064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9"/>
            <p:cNvSpPr/>
            <p:nvPr/>
          </p:nvSpPr>
          <p:spPr>
            <a:xfrm rot="15214800">
              <a:off x="5677560" y="206064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08:45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3:55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