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4403388" cy="71993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505-7FF4-4409-A576-A73B03E9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549-8193-4EC1-AD95-E50A374A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F3A-2C89-4C5D-B7B7-4816DBB0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264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45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264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45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AEF-6F5D-4D9E-B0B2-7C092BD1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8658-C677-4DAD-9D77-C0E50167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C5C5-CD65-44F5-9B3B-8F430F5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958-532F-467C-B864-7BB1C1EF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6F73-AF39-45C8-93A9-EC08F98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93F3-05C1-487C-BF1B-7C9C1AF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288720"/>
            <a:ext cx="1296036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7847-1E07-4C9D-9086-591AC246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7CB8-EE3A-448C-9789-CABF11F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A58-6F04-478A-BC72-32EF3EB3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B8E9-E222-4B49-9D6A-831B577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F57-ED40-4A6C-89C6-8B26C70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AC91-8A20-4070-94A0-DCECEE2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1DFE-A15B-42BB-9EB9-930FB0E3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264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45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264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4845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A501-9C9B-4946-920F-24855BBA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CB3-8A4B-448A-A30C-AD528FC0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609-D34C-4E38-B96E-9CA3E002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EDE-751B-401E-8D08-9FF2320C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288720"/>
            <a:ext cx="1296036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29B-235D-4B60-8E9D-C7EA4E78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4E4-E455-4CD9-BC6F-94BC318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4AA-E1EE-45A2-9855-82ACABC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C80-2E41-44F4-825B-60383CE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360" y="6557760"/>
            <a:ext cx="33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23000" y="6557760"/>
            <a:ext cx="4559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21560" y="6557760"/>
            <a:ext cx="33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56D-2F97-4CC7-B979-9027AE7F33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F7AC-21DD-4401-B904-9FA333CF18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4EBD-57F6-4CC9-A1FB-BBBF126840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0D80-D7CB-442E-A089-15A4FF697A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073" descr="背景"/>
          <p:cNvPicPr/>
          <p:nvPr/>
        </p:nvPicPr>
        <p:blipFill>
          <a:blip r:embed="rId1"/>
          <a:stretch/>
        </p:blipFill>
        <p:spPr>
          <a:xfrm>
            <a:off x="0" y="0"/>
            <a:ext cx="14473080" cy="7199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074" descr="未标题-1 拷贝"/>
          <p:cNvPicPr/>
          <p:nvPr/>
        </p:nvPicPr>
        <p:blipFill>
          <a:blip r:embed="rId2"/>
          <a:stretch/>
        </p:blipFill>
        <p:spPr>
          <a:xfrm>
            <a:off x="0" y="-382680"/>
            <a:ext cx="6170760" cy="39117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075" descr="月"/>
          <p:cNvPicPr/>
          <p:nvPr/>
        </p:nvPicPr>
        <p:blipFill>
          <a:blip r:embed="rId3"/>
          <a:stretch/>
        </p:blipFill>
        <p:spPr>
          <a:xfrm>
            <a:off x="576360" y="-936720"/>
            <a:ext cx="4248000" cy="3745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076" descr="飞禽"/>
          <p:cNvPicPr/>
          <p:nvPr/>
        </p:nvPicPr>
        <p:blipFill>
          <a:blip r:embed="rId4"/>
          <a:stretch/>
        </p:blipFill>
        <p:spPr>
          <a:xfrm>
            <a:off x="14905080" y="1152360"/>
            <a:ext cx="3313080" cy="2862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077" descr="枝条"/>
          <p:cNvPicPr/>
          <p:nvPr/>
        </p:nvPicPr>
        <p:blipFill>
          <a:blip r:embed="rId5"/>
          <a:stretch/>
        </p:blipFill>
        <p:spPr>
          <a:xfrm>
            <a:off x="9721800" y="-41400"/>
            <a:ext cx="4896000" cy="3065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078" descr="星点"/>
          <p:cNvPicPr/>
          <p:nvPr/>
        </p:nvPicPr>
        <p:blipFill>
          <a:blip r:embed="rId6"/>
          <a:stretch/>
        </p:blipFill>
        <p:spPr>
          <a:xfrm>
            <a:off x="4680000" y="2879640"/>
            <a:ext cx="6192720" cy="3932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079" descr="螺旋菌"/>
          <p:cNvPicPr/>
          <p:nvPr/>
        </p:nvPicPr>
        <p:blipFill>
          <a:blip r:embed="rId7"/>
          <a:stretch/>
        </p:blipFill>
        <p:spPr>
          <a:xfrm>
            <a:off x="10441080" y="3600360"/>
            <a:ext cx="4967280" cy="40878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080" descr="飞禽"/>
          <p:cNvPicPr/>
          <p:nvPr/>
        </p:nvPicPr>
        <p:blipFill>
          <a:blip r:embed="rId8"/>
          <a:stretch/>
        </p:blipFill>
        <p:spPr>
          <a:xfrm>
            <a:off x="5545080" y="1655640"/>
            <a:ext cx="1582920" cy="1319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81" descr="音符22 拷贝"/>
          <p:cNvPicPr/>
          <p:nvPr/>
        </p:nvPicPr>
        <p:blipFill>
          <a:blip r:embed="rId9"/>
          <a:stretch/>
        </p:blipFill>
        <p:spPr>
          <a:xfrm>
            <a:off x="11665080" y="1944720"/>
            <a:ext cx="203040" cy="243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82" descr="美女"/>
          <p:cNvPicPr/>
          <p:nvPr/>
        </p:nvPicPr>
        <p:blipFill>
          <a:blip r:embed="rId10"/>
          <a:stretch/>
        </p:blipFill>
        <p:spPr>
          <a:xfrm>
            <a:off x="-3559320" y="1008000"/>
            <a:ext cx="3559320" cy="6504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083" descr="诗"/>
          <p:cNvPicPr/>
          <p:nvPr/>
        </p:nvPicPr>
        <p:blipFill>
          <a:blip r:embed="rId11"/>
          <a:srcRect l="0" t="0" r="76247" b="0"/>
          <a:stretch/>
        </p:blipFill>
        <p:spPr>
          <a:xfrm>
            <a:off x="216000" y="2664000"/>
            <a:ext cx="3240000" cy="933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084" descr="诗"/>
          <p:cNvPicPr/>
          <p:nvPr/>
        </p:nvPicPr>
        <p:blipFill>
          <a:blip r:embed="rId12"/>
          <a:srcRect l="24292" t="3067" r="53014" b="0"/>
          <a:stretch/>
        </p:blipFill>
        <p:spPr>
          <a:xfrm>
            <a:off x="2232000" y="3416400"/>
            <a:ext cx="309564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85" descr="诗"/>
          <p:cNvPicPr/>
          <p:nvPr/>
        </p:nvPicPr>
        <p:blipFill>
          <a:blip r:embed="rId13"/>
          <a:srcRect l="47580" t="6308" r="30249" b="0"/>
          <a:stretch/>
        </p:blipFill>
        <p:spPr>
          <a:xfrm>
            <a:off x="4321080" y="4176720"/>
            <a:ext cx="3024360" cy="8748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086" descr="诗"/>
          <p:cNvPicPr/>
          <p:nvPr/>
        </p:nvPicPr>
        <p:blipFill>
          <a:blip r:embed="rId14"/>
          <a:srcRect l="70648" t="6134" r="6658" b="0"/>
          <a:stretch/>
        </p:blipFill>
        <p:spPr>
          <a:xfrm>
            <a:off x="6265800" y="4956120"/>
            <a:ext cx="3095640" cy="8762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087" descr="音符222222 拷贝"/>
          <p:cNvPicPr/>
          <p:nvPr/>
        </p:nvPicPr>
        <p:blipFill>
          <a:blip r:embed="rId15"/>
          <a:stretch/>
        </p:blipFill>
        <p:spPr>
          <a:xfrm>
            <a:off x="11593440" y="1944720"/>
            <a:ext cx="189000" cy="270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088" descr="音符22222 拷贝"/>
          <p:cNvPicPr/>
          <p:nvPr/>
        </p:nvPicPr>
        <p:blipFill>
          <a:blip r:embed="rId16"/>
          <a:stretch/>
        </p:blipFill>
        <p:spPr>
          <a:xfrm>
            <a:off x="11315880" y="1816200"/>
            <a:ext cx="349200" cy="4888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089" descr="音符2222 拷贝"/>
          <p:cNvPicPr/>
          <p:nvPr/>
        </p:nvPicPr>
        <p:blipFill>
          <a:blip r:embed="rId17"/>
          <a:stretch/>
        </p:blipFill>
        <p:spPr>
          <a:xfrm>
            <a:off x="11377440" y="1800360"/>
            <a:ext cx="225720" cy="603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090" descr="音符222 拷贝"/>
          <p:cNvPicPr/>
          <p:nvPr/>
        </p:nvPicPr>
        <p:blipFill>
          <a:blip r:embed="rId18"/>
          <a:stretch/>
        </p:blipFill>
        <p:spPr>
          <a:xfrm>
            <a:off x="11593440" y="1944720"/>
            <a:ext cx="216000" cy="203040"/>
          </a:xfrm>
          <a:prstGeom prst="rect">
            <a:avLst/>
          </a:prstGeom>
          <a:ln w="0">
            <a:noFill/>
          </a:ln>
        </p:spPr>
      </p:pic>
      <p:pic>
        <p:nvPicPr>
          <p:cNvPr id="104" name="1.mp3" descr=""/>
          <p:cNvPicPr/>
          <p:nvPr/>
        </p:nvPicPr>
        <p:blipFill>
          <a:blip r:embed="rId19"/>
          <a:stretch/>
        </p:blipFill>
        <p:spPr>
          <a:xfrm>
            <a:off x="7048440" y="344664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3092"/>
          <p:cNvSpPr/>
          <p:nvPr/>
        </p:nvSpPr>
        <p:spPr>
          <a:xfrm>
            <a:off x="216000" y="6697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093"/>
          <p:cNvSpPr/>
          <p:nvPr/>
        </p:nvSpPr>
        <p:spPr>
          <a:xfrm>
            <a:off x="5511240" y="1297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秋幻灯片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1"/>
                            </p:stCondLst>
                            <p:childTnLst>
                              <p:par>
                                <p:cTn id="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34 -0.03618 C -0.1181 -0.03088 -0.10785 -0.02559 -0.13661 -0.04324 C -0.16536 -0.06088 -0.23752 -0.14868 -0.30131 -0.14207 C -0.36488 -0.13545 -0.44794 -0.00529 -0.51845 -0.00331 C -0.58918 -0.00132 -0.64933 -0.12839 -0.72535 -0.13037 C -0.80136 -0.13236 -0.93257 -0.03463 -0.97444 -0.015 E">
                                      <p:cBhvr>
                                        <p:cTn id="15" dur="6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1"/>
                            </p:stCondLst>
                            <p:childTnLst>
                              <p:par>
                                <p:cTn id="1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1"/>
                            </p:stCondLst>
                            <p:childTnLst>
                              <p:par>
                                <p:cTn id="23" dur="indefinite" autoRev="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9859E-006 -1.81337E-006 L 0.06346 0.02361 L 0.07294 0.06354 L 0.03768 0.09663 L 6.39859E-006 0.10126 L -0.05398 0.11075 L -0.09628 0.10126 L -0.12922 0.08008 L -0.17858 0.0706 L -0.19389 0.04015 L -0.19268 0.02361 L -0.17737 0.01412 L -0.15159 -0.0022 L -0.10807 -0.00463 L -0.08339 -0.00706 L -0.03877 -0.00706 L 6.39859E-006 -1.81337E-006 Z">
                                      <p:cBhvr>
                                        <p:cTn id="24" dur="8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001"/>
                            </p:stCondLst>
                            <p:childTnLst>
                              <p:par>
                                <p:cTn id="2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92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92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192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192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3001"/>
                            </p:stCondLst>
                            <p:childTnLst>
                              <p:par>
                                <p:cTn id="3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6001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9001"/>
                            </p:stCondLst>
                            <p:childTnLst>
                              <p:par>
                                <p:cTn id="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356 0.00861 L 0.95307 0.01853 E">
                                      <p:cBhvr>
                                        <p:cTn id="48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9001"/>
                            </p:stCondLst>
                            <p:childTnLst>
                              <p:par>
                                <p:cTn id="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001"/>
                            </p:stCondLst>
                            <p:childTnLst>
                              <p:par>
                                <p:cTn id="5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1"/>
                            </p:stCondLst>
                            <p:childTnLst>
                              <p:par>
                                <p:cTn id="6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8001"/>
                            </p:stCondLst>
                            <p:childTnLst>
                              <p:par>
                                <p:cTn id="6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1001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1501"/>
                            </p:stCondLst>
                            <p:childTnLst>
                              <p:par>
                                <p:cTn id="78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8836E-006 -3.89195E-006 C -0.02503 -0.02513 -0.05006 -0.05005 -0.08546 -0.0463 C -0.12085 -0.04255 -0.17444 0.02514 -0.21248 0.02294 C -0.25053 0.02073 -0.28041 -0.03947 -0.31404 -0.06019 C -0.34767 -0.08092 -0.39354 -0.09503 -0.41449 -0.10165 C -0.43544 -0.10827 -0.43688 -0.09989 -0.43996 -0.09944 C -0.44305 -0.099 -0.43809 -0.09922 -0.43302 -0.09944 E">
                                      <p:cBhvr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3501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4001"/>
                            </p:stCondLst>
                            <p:childTnLst>
                              <p:par>
                                <p:cTn id="85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0948 C -0.02018 -0.03969 -0.03341 -0.0699 -0.06462 -0.06946 C -0.09582 -0.06901 -0.16066 -0.01124 -0.19396 -0.00705 C -0.22726 -0.00286 -0.2352 -0.02822 -0.26442 -0.0441 C -0.29364 -0.05997 -0.35109 -0.09195 -0.3695 -0.10187 E">
                                      <p:cBhvr>
                                        <p:cTn id="8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6001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6501"/>
                            </p:stCondLst>
                            <p:childTnLst>
                              <p:par>
                                <p:cTn id="92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1 -0.01874 C -0.05811 -0.03462 -0.09681 -0.05027 -0.12681 -0.0441 C -0.1568 -0.03792 -0.16959 0.02205 -0.19958 0.01831 C -0.22957 0.01456 -0.28813 -0.05292 -0.30698 -0.06725 E">
                                      <p:cBhvr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8501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9001"/>
                            </p:stCondLst>
                            <p:childTnLst>
                              <p:par>
                                <p:cTn id="99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9 -0.02866 C -0.01621 -0.04454 -0.0194 -0.0602 -0.03936 -0.05645 C -0.05932 -0.0527 -0.10376 -0.00904 -0.13298 -0.00551 C -0.1622 -0.00198 -0.19583 -0.02756 -0.2149 -0.03572 C -0.23398 -0.04388 -0.24324 -0.05204 -0.24732 -0.05402 C -0.2514 -0.05601 -0.24534 -0.0516 -0.23916 -0.04719 E">
                                      <p:cBhvr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1001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501"/>
                            </p:stCondLst>
                            <p:childTnLst>
                              <p:par>
                                <p:cTn id="106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151E-006 3.49504E-006 C -0.01753 -0.01323 -0.03506 -0.02624 -0.05425 -0.01853 C -0.07343 -0.01081 -0.09295 0.04101 -0.11545 0.0463 C -0.13794 0.0516 -0.17775 0.01896 -0.18932 0.01389 E">
                                      <p:cBhvr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3:0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