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B6865-FF30-45B6-AD09-FF09E8E4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DB2A-BE40-479D-9311-C192238C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1F14F-20C0-42FC-8DE5-D0982C43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C70BA-EC9F-4702-B0DF-967E10A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C236-1CD3-46BD-8D8E-62C89B7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A702F-CF6C-48AC-8F1B-9662284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CBF0B-CCD8-48F3-A904-CC958F5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5C676-A21C-4584-AA35-7134FD24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1841-4EDD-455F-84B6-CEE666F4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AFEC7-7F9C-42D0-9B5F-A8E53853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35FC3-0B78-48CF-9E7A-F8051440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93BDC-4CDC-4AC1-BB58-C5973D64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F1930-BED4-451E-89B1-847466F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86C1-76D0-44A0-AA43-BB232794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B0CB-F913-4522-8EB4-3FFCCA0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DAB8-515B-4057-BEFD-ACE4809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A711A-BD91-4417-8FF9-35927CE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83A17-D301-444D-8B29-307FD2C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D3443-D2B5-488B-8D8E-BF4284C4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F1147-BDAB-4A91-B334-6662FBD2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E002-7FF7-4BF8-9623-A5B2CB8B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A3B91-70CB-4500-A82D-13ADBBEE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86ED4-0D31-444B-AF6E-895DB06C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A5E7A-54F5-407B-A12D-4F3D5CD7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C3C81-0930-4ABC-B78B-41A5E3F0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A43BD-8E39-47F6-80B9-55A4C4A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DC7B1-B235-4C4E-8A3A-D823091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65290-EF58-446E-B41C-B81756A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95D8-7341-46B9-9D8D-80C547A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70767-713B-4E87-B632-9D9F5F7C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A52-EC78-4648-9D82-E84C5AD8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218F-031D-4F56-83B2-9C72EB7E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CEB1B-49A0-4A9D-B7C7-9336904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59835-42DE-43F8-947F-925DF1B8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40480-5A75-4C3E-B231-0BEC2565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F298-2C8C-4441-803B-05B91242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44CEA-E53A-4D18-8305-B742DBD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EEFB5-FC8E-4D9E-AE8B-7F19771F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B4C8E-AE45-44E8-B6B5-D3592D0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37731-C311-4B91-BD9E-D45F172D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A4C5-E620-4520-9150-89D05EB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157-9177-4906-81B5-9BAC82F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62679-B9F4-446F-BB98-01AC437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3522A-A760-4D31-80D9-7C65438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9CD4-75A1-4F6D-AB2C-98078D0E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14A07-C8BA-4083-A744-CFA6EBFA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71F62-C990-4066-8915-D20F5716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D99B1-3899-4433-8FFB-BDB482D8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3F07-0484-43D1-8B64-560ED34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C09DC-002A-4E6D-9756-DC7E1CF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5F89C-F95E-4760-930A-C5D5D31D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97924-A096-4F68-BC27-7430EF1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AD4-9867-4D7A-8910-E851205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2D7A5-C388-421E-8A35-5A8204F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0C29-873F-4994-879B-878A411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9566-8EC9-43A0-A04C-5554C26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8E972-6740-49AD-B2FE-A1D2DCC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FAC1D-89F2-4ACF-85E2-9E658EAF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CC78-8DFC-4BC4-97E5-FC9655F6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2A9A9-9A29-4843-9F68-394DD0BD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159F3-99C3-4190-9D4B-C8986C78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198AF-DB9C-49A4-9638-6DF493C3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94943-5BAF-42CE-8D6F-C15EB681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11B-B1B8-4D6A-AA27-DE34223C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4D3E4-E6E0-40F6-80C8-0C373BF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69BF1-A4A8-4A46-9BA3-5A1FB7B6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F3AA42-690B-4BBD-BCD9-56EFA7F2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0E058-38FE-4B51-8D56-DFC32CB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8748C-4522-456C-899A-FFD5B2C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D580F-40BD-4DAE-8A94-04B16186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05AD2-71A8-4B14-B9D9-86D48822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F6E47-73C7-45D6-BCF2-4F93E916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07542-96D3-4B3A-817B-01978815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94D72-3D14-40D1-A28C-1922CB50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55C-586D-48B7-8231-6982E885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B9921-5FEE-4AB2-AEEE-A82A7F3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EB8BB-7607-4613-8042-1199BE6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0B587-58DB-4D5A-872D-45BB4F7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8F30A-7135-4173-8A43-F806294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0B9BF-8F0C-4121-8018-B0BC94E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6C2C9-3D5B-45EB-98CD-02A8DFA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A9C0A-65FD-438D-8509-204901D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379D8-1038-45E8-AFC2-C7AD11F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51562-EFB7-4975-8068-54A522E9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F819E-064F-4DC1-8F12-7C8BA86D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2B8-A49A-4A15-9984-3A054F4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EE89A-EAD6-40BB-AAFF-A4D0F2D4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5B7B1-F1FC-407E-B030-746EB323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0BF23-E776-4E1C-8CBE-EB3910A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13C21-7934-4509-8367-B17A149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DEA17-0A82-484B-8266-9F37481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39AF4-4DCF-4C46-AFED-F2386516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258E1-FB65-4D5B-AE34-F20258B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DF1D1-BEA9-4074-9BC2-554C416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93A38-4C8B-47C0-9D47-D1CBCC9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C6ECF-E0AD-4C91-AEA1-E641A6B8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277-C85C-46F9-83B4-4768887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289BD-5211-4BA0-A1D2-052885C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A46C59-60FB-4FD8-80A7-8B65E0B1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1F48A-C71B-44B3-B0C4-D5393794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8AAC5-5942-4DE4-863D-D4E5D7B8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34DD8-4746-468A-8AC7-D1C9BAF7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FAB6B-58D3-4056-87BB-AE345C8B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5F2E3-2596-44A7-AFC0-45409D9A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A94B7-37BC-4BB1-8366-6E9142AF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26087-1B08-448B-8007-77DC026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0D382-BA76-44B9-B200-392DF36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9A6-64C9-4B46-A9F3-4BFA1628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F6879-5235-4849-BB10-583F9CB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F83C2-3562-4DC6-B875-13C6D98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A33B2-F1FC-4E2E-95CD-9FAC192A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D8E7E-79E7-45E8-A2A0-9AC75422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93CE7-82B1-46C5-BDF5-7EC9B35B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A546F-9886-479F-B7B0-E04B194C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968B2-225F-484F-B86B-C5BD2BE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47757-0804-48FA-832D-A1B9F23F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45590-C2CF-43AF-B049-790425B2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F6B94-2DCB-469A-A783-63ECB98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147-FACC-49ED-B745-FC40739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241F9-6DCF-4270-8FEF-C09659F3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2F5DB-6281-419A-9BFF-1D59156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09C0E2-4C9D-45A5-BB5B-BFAFB40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E76EA-81CD-45FF-BAB5-7D205D4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A7AFE-3921-469A-BACC-64E48523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E79D2-BFF0-474F-B7C2-7E2FD407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BCDFE-FC82-47BB-9AC2-DAA0234E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C4BF6-157F-450A-A15C-264D0E33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A428B-44D4-49C9-8A94-BBD8275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E467A-2B89-4063-8E1E-36A862E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BF3-B95E-41D1-BAD4-D699816D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DD75B-9E01-4072-AB38-21AFD03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8227A-8862-49FB-B5AB-A6D3094E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8F17D-7DDB-46A2-815F-87EA4CFB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6210B-3B84-4AD9-B88E-03F85A1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70D78-4B83-4AB7-80A3-045D34C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58C49-BA0D-4635-A6A8-24C6342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89381-35D4-4CE4-9D3E-E9F2F56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00137-68BC-442D-A2BE-4935A930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5B824-00E7-44D9-875C-7ADE4E00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B802B-57CB-4BFE-9DDF-7C5C1273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BB6-5A00-4A72-93BA-F15A48C9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ADF86-2DEA-42EC-971C-7E586F5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14B7F-D68C-487A-AA59-B50F0D68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3E62AD-8E5F-4176-BA32-47D18128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9C170-7A99-4973-ABB7-E39A01A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BE744-8740-4734-B23D-E4AF4823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ABA1F-B66A-4DA1-8EF6-3C762AB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E98A2-71A4-497F-9082-99473F2B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FC1F5-A1B9-4733-861B-86AE7AE2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7AF42-FE25-410C-BDA6-3C87531F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7568A-2258-4A84-920B-F746F880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2CA-3DF7-4213-BF8C-53441D4E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41EE0-91D0-4EF8-B0C3-28CD0A90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E0BA9-3C3F-4DC6-84A5-2A423BF3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E8F7E-E249-4596-B387-3413E49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A5C24-C3E8-4DFC-876E-5E60CD83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633EA-31B3-4467-8DAF-73FA964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E31E2-F3D7-42A5-96D8-E85D8D5F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0C9D0-0DCD-4D99-AE5E-64F07CA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246B0-FC0A-40DE-B133-96A25D9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C33F6-C722-4ED1-8B87-8FC536F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A2FAA-4C5A-4785-A623-4E3C791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2A2D-20B8-40DA-B30D-9B9CF4C5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AF610-59E6-4CFF-A8DA-F37B663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26422-6B63-4890-B465-F1D93409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92298-F044-4E0A-B284-0E7D675D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5643E9-2774-44B2-9643-055811E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4A2BD-16F5-42BE-AA1C-0F10550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F5A46-44CC-4795-9FB1-9F973C1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2CA9C-E14D-4C31-BDC7-58A1CB5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8FF4B-61AB-4EAF-81A3-0CFDA578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CA114-D333-4E5D-A9C3-5B5F749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0B43D-547D-4812-81E3-6CF5CED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AD1-1F35-44D3-BF03-BC8CB5E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BD6567-57EC-43DB-9CA4-3402A19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3060F-D29B-435C-8028-13C9666B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A7181-D194-4FD8-A9E8-3957A9E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79EEA-33A0-4FA9-817D-DA4FB664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E8677-6929-4497-993C-6E9FD665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B7D6A7-E358-4CCB-9BCC-865A3AE9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55C01C-2A73-4181-B0FB-A54A3D4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3AEB13-6905-45D1-A346-F729754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1B2045-8B20-4EA0-89CB-87A24B6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423B4-0887-4A8C-A1D8-A4E09AF6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2F7-EBF7-435F-AE26-00581659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84234-52AC-4C9C-BBF3-040A9E37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99981-3730-4F5E-9478-5641769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655BFC-E6E5-44CE-9D67-5C9CE49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F507C-A824-4939-8118-9F2FADF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035F9C-7B48-49CC-ABA7-252C365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BDF640-14A0-4B87-92ED-CA6E5893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93E7D4-256A-4413-859D-30D6BC9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1E6E8-88D1-4122-8BAF-E6150E8B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0DC1C1-1636-4603-9458-541697F9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54AA8-E301-4F68-95AD-9356014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1B1C-BAAE-4D4F-A11D-3DD42E2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C3CBA-1CD5-498D-A4DD-866D576C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CBF70-E794-4C80-A06B-539D2011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EFEC8-4A9D-4271-9306-7CA9699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5BE19-7E6C-484D-981B-1CC816F6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382BD-008A-4634-A7E1-D4FBEC4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44E2A-CE31-4622-B7E0-BFA2F3D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8D2954-BD8A-4851-AB80-2733F9F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8E58C-1BFC-4886-BA1E-D53A81FC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F62100-A4A7-473B-BA41-F5CE91A7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D9AF-16E4-498D-9C8B-3EDF4EC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0A72-B9CC-4508-8C19-F5BA835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F5E-A5D2-4B53-BFD7-8A57185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0D8D-EA0F-42B9-A841-E528A1D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74E3-D66E-4591-9A84-03FC947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785-0CB4-45D6-8B21-DB7944E9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0AC-E554-4299-A010-0D232A54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371-7AD6-49E3-9399-4CC4AA6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8C6E-F72E-4889-AA9D-C15E8732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C371-CE3C-4F5E-BDBE-6DDA2B7C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4843-5518-456D-A46E-F23BAA84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A24F-9548-415E-B536-11DED1F8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C089-0DC0-43A8-ACBA-647918C0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36ED-4638-41B5-AA26-3B6B9D85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1F5F-8F61-4D17-8F55-3047E5A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23B3-4195-4529-96F4-F288C8C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68D7-6956-44F7-8463-0BB8E32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FE48-F457-48A9-B936-2DF631DA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CAA4-B37D-4F77-9225-2472A940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E03C-68B5-4B1F-8ED2-7E7FCDF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7195C-6C7B-43FA-BECB-B2AF4E62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760F-FA50-479B-B3FC-A2B79E6D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D110-446F-4BBF-888A-612032E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D2AF-8B4F-46C5-A97F-917F788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291B-F123-49D0-B03A-7F043C8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CF07-5246-4135-A0BA-B629A97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77A03-EC2D-494E-A51E-E88043E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2A4B-B883-4124-A69A-291E44A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869B-8D13-43F7-ADCB-463281EE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3573-17FE-441A-8C93-0419039F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0166-B721-458C-BD83-E79F1D9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A368-89B2-4D9E-83A4-7A2239F6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305B-9B7A-4D5E-819E-8A518085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BE16-5CD0-40B2-8ABA-594BF77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F156-0EA0-435A-8C0B-96B6988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F8278-8EEF-49BF-A1B5-DB80179A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A1F2-83F4-4006-A108-9F0905D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BBB0-96FB-4406-9B1E-BC5D854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A7F8-C673-4E76-A35D-815E004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8F2D-BF21-49AE-88A7-12D62612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1F0F-FF4F-476A-BE04-3931295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32CA-A0ED-4647-B7AA-931CC86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84D31-D063-44B6-9C50-B7682620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384E-A299-4050-945A-AE51AF2A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2DD3-4688-41A4-A551-F085AE5C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AFF8-E9F7-41D6-90DC-1EBB5F68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D334-2713-4B50-8FC4-D7A81F84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C70D-8252-47F4-856F-476696D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96D4-6397-4359-9045-26F23D9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91CF-9F59-4111-A83A-DB949FE5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DA1D-FA70-4E70-BB51-3FFF19D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922F-84EE-495D-A43E-BF8CC05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9368-3BC5-4320-AEB3-E954A9E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AB51F-8B77-4F88-B57C-5DBF9BD5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3332-EDF0-4DB6-86DC-929438B6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FF7ED-B088-4643-ACAE-1A5B22B5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7976-49C5-4712-9109-616C7F42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BADA-8E5B-4D9A-B8F6-581FDD2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8A26-40E3-479F-859D-05D3ABEE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85D5-A309-4449-8816-C20A1AE8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9E4F-44C4-4931-A2C9-B2259E0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3A51-5B03-4B0E-A3DE-4C83A110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C6E37-CEB0-4F06-919A-0D841A00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AF41-02C0-44A4-930F-717765C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6B35-920B-4B0D-B7B4-2EE779B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DD3C0-0B9B-4CF0-9810-1960048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D176-391B-438D-8D27-AB06BB47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D783-8B46-4515-A28D-CF231538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396E-86FB-4D37-B9FB-CD55D9F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5F49F-71B9-4BAE-8A72-58B75BF2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6857-79D9-4570-B976-5595E2FA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CD33666-7758-4679-BD72-1C4E05086C8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864D769-8A18-4DFF-AB37-963631481164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4F1BAC6-3F85-4EB9-9A2D-36AE9627DDEC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0F89EA0-C577-4F62-9982-11AFC9EC576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28E8AD3-D504-4087-B5EA-0C32ACD1A6A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4C8ED5C-588A-471C-B938-910495A498E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dt" idx="34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9019A3B-4BBB-47DA-B71D-0C72EACC34F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35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6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4636127-3E5B-4CA6-8222-E0F8D5B3881F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94256AF-D19D-45FB-83BF-1DE188C6080C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E4D357F-0C9E-4814-8625-D80FBDB3616A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CBB717F-1C45-4561-BEFB-8400B9047276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F4FA798F-2BF3-4AA3-A9CD-7FB775C73B68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5071D1F-3981-475D-B1EC-CE201D9DE4D2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5F9E4CB-18AF-49EA-89A3-4CC0B9B0DE42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85F7523-0B7E-4BE1-8882-8579235E3A99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7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8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9081835-BC96-4A60-93EB-5711BAE070D9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9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35EE999-7E24-421F-A652-3F5C3C7F59C3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50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51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949FD88-B6AD-45AE-8A48-1FB2D9C9A3BE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5EC989F-1E4F-49E8-BDA7-E47CD2BBF544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A4DE557-1EEF-4E1D-9D5B-1A7D85527F03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52BD1DA-7878-4431-A844-7913159B114A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9FEC397-4F35-48A4-A7E0-997B79A8013C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754129D-313C-4CF1-99D6-F097F673D809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6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7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5DDB2CB-B30E-493D-BC60-A9D128AC4020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C9D0EA9-91C1-4C92-8B35-705AD035E39A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0337384-69D1-4C4B-9C12-2C33C23DCCF7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7857D00-4711-47B8-BEFE-270CE9D2A7B1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12FA387-9203-46A5-8613-FBF85A63BCE5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FD330B14-D5D0-4152-9660-AC38F473FA34}" type="datetime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5DC709B-EA7B-46BB-89AA-C6E617678E24}" type="slidenum">
              <a:rPr b="0" lang="zh-CN" sz="8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A677DE2-1012-483B-9165-46F4ADC42BC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06642E2-6CAF-4052-986C-DFF91DF8DA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DED580A-C333-4ECD-969C-E1346400D258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C991CAE-BA95-467F-BD0E-066BDD72941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B213EF2-F360-4B9D-902E-D4361F45FF9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CD42FF9-0BE6-4D80-BFE0-4246AF51494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CDE9441-B17D-4342-BC6F-0392CEAB87D3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141D82F-F498-4F84-82FA-468892D3464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13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44E904A-9595-42D9-9C41-BEA64469C5E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4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5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325EB21-DA66-4271-B354-87EBB90A045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dt" idx="16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DC5B33C-86D1-493C-8219-FCB32D5846B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7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8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496A1FC-21C8-4742-8CBE-CCFB35A5F4F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dt" idx="19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B9A52FE5-083C-4D88-A72B-E79C817BE2A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ftr" idx="20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21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823F202-4208-48CE-A60C-60F4705E16B5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dt" idx="22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1C9F995-C12A-435B-95D2-FD5835C0110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23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24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9956071-FD09-4BCB-BD6D-3CBBF17F053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47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42920" indent="-147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4" name="图片 10" descr=""/>
          <p:cNvPicPr/>
          <p:nvPr/>
        </p:nvPicPr>
        <p:blipFill>
          <a:blip r:embed="rId16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3" descr=""/>
          <p:cNvPicPr/>
          <p:nvPr/>
        </p:nvPicPr>
        <p:blipFill>
          <a:blip r:embed="rId17"/>
          <a:stretch/>
        </p:blipFill>
        <p:spPr>
          <a:xfrm>
            <a:off x="648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4" descr=""/>
          <p:cNvPicPr/>
          <p:nvPr/>
        </p:nvPicPr>
        <p:blipFill>
          <a:blip r:embed="rId18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5" descr=""/>
          <p:cNvPicPr/>
          <p:nvPr/>
        </p:nvPicPr>
        <p:blipFill>
          <a:blip r:embed="rId19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6" descr=""/>
          <p:cNvPicPr/>
          <p:nvPr/>
        </p:nvPicPr>
        <p:blipFill>
          <a:blip r:embed="rId20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98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图片 12" descr=""/>
          <p:cNvPicPr/>
          <p:nvPr/>
        </p:nvPicPr>
        <p:blipFill>
          <a:blip r:embed="rId21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991" name="TextBox 13" descr=""/>
          <p:cNvPicPr/>
          <p:nvPr/>
        </p:nvPicPr>
        <p:blipFill>
          <a:blip r:embed="rId22"/>
          <a:stretch/>
        </p:blipFill>
        <p:spPr>
          <a:xfrm>
            <a:off x="1987560" y="731880"/>
            <a:ext cx="2151000" cy="2577960"/>
          </a:xfrm>
          <a:prstGeom prst="rect">
            <a:avLst/>
          </a:prstGeom>
          <a:ln w="0">
            <a:noFill/>
          </a:ln>
        </p:spPr>
      </p:pic>
      <p:sp>
        <p:nvSpPr>
          <p:cNvPr id="992" name="文本框 25610"/>
          <p:cNvSpPr/>
          <p:nvPr/>
        </p:nvSpPr>
        <p:spPr>
          <a:xfrm>
            <a:off x="289080" y="327672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25611"/>
          <p:cNvSpPr/>
          <p:nvPr/>
        </p:nvSpPr>
        <p:spPr>
          <a:xfrm>
            <a:off x="1737360" y="684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中秋节贺卡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ABA63E0F-1FC9-4C5F-8E4B-8E42E84D2D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5:44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2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IP等级">
    <vt:lpwstr>2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4</vt:lpwstr>
  </property>
  <property fmtid="{D5CDD505-2E9C-101B-9397-08002B2CF9AE}" pid="13" name="模板缩略图">
    <vt:lpwstr>A30220121126B34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401</vt:lpwstr>
  </property>
  <property fmtid="{D5CDD505-2E9C-101B-9397-08002B2CF9AE}" pid="18" name="附件缩略图">
    <vt:lpwstr>A30220121126B3401.png</vt:lpwstr>
  </property>
  <property fmtid="{D5CDD505-2E9C-101B-9397-08002B2CF9AE}" pid="19" name="附件路径">
    <vt:lpwstr>A30220121126B3401.dotx</vt:lpwstr>
  </property>
</Properties>
</file>