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DFB30-D4DB-43DC-BBDD-D4697C63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6324F-9BA8-4D9A-9B8F-C43147C4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CEB83-73E6-401C-8EDD-8478F7CF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CD38D-906F-43B2-B356-90FB7090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120B2-81CD-4808-89C9-D232839A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29405-27D3-470C-B3D9-060ABAA3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D8CC1-F09E-4AC7-9619-E944AFAB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01D50-70E8-4AD7-B8CA-CB1D0912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A2F2F-DB4D-4D24-8D57-14EA6D6D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CFCAA-E6F1-4E8D-A575-DC38CC2C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05431-1AA2-438D-9AD5-F08B8572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00D99-2451-44F8-A33F-D8C3FF5B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5E954-6210-4AA4-A959-3B5A8752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049AD-1A73-45A0-8FCD-36923189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E502C-E5C6-4F55-97E0-81C02774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8A64C-5664-45BE-A646-8BAD925D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8E222-2FDB-4171-8A8A-8758AD68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DD221-239F-4BDF-B9E3-50067426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FB379-146A-4F7D-8EC8-3A3E40DD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31A8A-451A-48DC-AE7A-CDE1B47E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C22F0-BFEF-4B2E-94A7-AF13CE2E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E71C2-EFD9-450A-B391-1E62AFCE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B9456-7883-4749-A050-7E523A2F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B3673-8898-4698-9522-F7647713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0AC22-193D-4352-AF40-2894444D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33242-B1EE-49D8-81A3-D9A9AB95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A3B91-4904-4B30-818A-617E24E5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EC4BB-67ED-48E9-9D08-B33AC376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66F7A-4B41-4969-8698-3F1D437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66F5F-7284-4331-A5DE-7F8F29D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2E1-780A-4EC9-8A37-08DE7DCC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EF8BE-E292-49D3-968D-B6AB47C3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68AA8-74F1-48DA-8612-D3285566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3FE7E-C189-4886-81F9-53823ED9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6CB08-AC11-4BC8-ACC1-F0733DFF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02113-4935-4DC5-B5B5-57EDAAE9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A577C-31E8-4B09-B427-C4E302A7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C46DA-88D6-4B0A-93EE-5511A33B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D8F39-399C-42ED-B472-454B12B6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7A41A-1F77-440E-A986-C227A903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6A3C8-9DA3-4669-9096-0247FCA5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F3D-C9E1-4F12-A666-D60BD2F3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EC683-AD29-4501-A73F-F83C1C6B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FC09E-E0D7-4A77-96C2-9BF0723A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A3890-F42C-44CE-94FA-A8B3117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71965-3F9D-4C9A-9667-773082FE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877A7-F6FC-45C3-9F56-6A6883B3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0D1FF-2901-44E2-8476-3549BE7F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3C90C-1AB0-40E8-94B7-E9FDC29E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25345-1D77-4F11-A907-9C4EFD24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1D84E-6C04-4971-B49D-3DE63864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89280-6643-4F4A-839B-F77027CA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001-1A20-4389-B135-8CA700AC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08C5C-1535-492C-9769-2FF6BBA9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0D9B6-4A75-4619-A9C7-AFCD39A2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B03AE-2A66-423B-A5B9-EFE2BF30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D0480-43F2-4C68-834B-3542CED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0FBD2-479F-4E39-BB7D-AC304116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60004-0D02-424E-9A4E-FA049FCD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C20EB-A717-4D8F-85B3-C8306503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58C74-DEB8-47D8-A241-6FC002E9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FD3C5-66C6-4ED3-9094-FBA3A4B3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921FF-D978-42F0-9B20-B40C114F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7B0-4F73-47B5-A0AA-4E6FB94A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3270A-EA54-4F1E-9D0F-CAC6DDF0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D9F5D-22DD-4B70-92CB-E467D758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84775-D30D-4421-89A0-B4F83493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BAEF7-3CA7-4E60-98C9-4DB6F586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0E401-93AB-48BA-B68F-7833D99A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2044A-32DB-4603-B873-7F96EA42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F3A79-0625-4B18-AC9F-FD6FF818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BBC38-2F6E-4268-A7D6-8B804329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A7B86-CAC7-41DC-A2FD-BCB8247F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AF881-605F-4F1B-9B52-503D01A9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0F4-A93D-4002-AC6F-4A86F13B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92974-B71E-4FCA-9844-EC414CC0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C32A5-5AC4-4B3B-9864-90682CB0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7D0EC-BD0E-494B-A127-2C0662A3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E21EF-1DDC-4FA4-99E3-2B80ED99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0D3BC-5292-47EF-A612-ABF70BF2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C09C3-1F2D-456B-8A93-0D1B88C3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2C921-9622-4DAC-A91C-8788A659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D5B3D-C66D-4764-83A2-70D62257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64C4A-C828-40DF-ABE0-118D2EEF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1DEE0-4C3D-4EF8-B1DB-7919CC6A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722-BED7-4202-A0C0-8707FE0A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C3D1A-F639-43D0-B040-4579A8DB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CB802-E20E-4628-8D9D-8E7E32E5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FFE88-1A31-4607-B6BF-D22E90DF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23CBB-164B-4EC0-AD74-D1F51A7A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5B6F5-B061-4678-9748-597513EB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DB56B-7A9F-43CE-AD31-B1A5860F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9EEAB-FDBA-4A8F-AB21-690D74EF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1A6C0-3A1B-4BF7-82AF-A3FBB74A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50AC4-24A6-4756-93A0-89914B7A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1DE27-22EB-4051-B5D7-6FF76C15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626-B54D-4FC3-BB0F-A4442258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BD955-3D0D-4BAE-B764-C33B8121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EDF68-922B-496D-8244-CC1DF6B9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8649F-5E6B-4FFF-A959-347326BF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4D18D-B5A0-4697-9538-0EEBAE24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B1807-C6D0-47F7-A8D8-C417D331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200DA-5060-4178-B736-A013AE8B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3C2A9-7E1E-42AB-961F-EE516718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A2A409-01A2-474F-A9F6-AEF2EF51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36A29-9942-47F2-92E1-5EAC91BD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5A1CF-E777-43D5-AA9F-89D808A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5F4-00DE-482C-B32E-332950B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A40160-1DDC-44DC-9D2B-03CE0B4A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82362-3FC0-4C20-8DE7-C033C64A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7F8A6-284C-449B-B091-41CE9EF0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71096-8F5A-4F8A-B930-61F58008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F9F15-2FB6-4A6E-AAEF-B1F4ABE5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630B4-8DD9-4909-BD2F-A55D1533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9DED6-83DC-4271-A131-5CD932E9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A6C94D-7B99-42C2-96F3-5438D50D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062DB-F718-4690-9A10-F2734CE6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5B9EF-51C3-4D1F-A0FA-3385C0B9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FBC-5F4A-4D97-896C-10EA0FBF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307EB-A59C-4D75-8ECE-3026D9D4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E8DA64-AF40-4239-AE19-C37EB16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D0934-B957-4D5C-BC92-274EC38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5500C-0E4A-4C24-ACE4-5780EED1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6331E-9C5A-44B5-A77D-BFA1116E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55591-5F37-4DBF-8CCA-EDD06075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77E30-FB18-480C-B7C6-8938C27D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83320-3957-44ED-88FA-25BF4892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E908B0-D181-4644-B21E-AEAE8600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524F6B-32CB-44F7-9BA2-4248BA91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306-C8A3-4846-9D71-4E68A512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23CE5-F843-408C-82C4-C42C7E98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CAD2AF-75F1-4CED-B98D-19C4C357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2DDF5-C064-458D-B419-C8A70995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A1FEA-7C95-4055-96F9-0BF34493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3BF45-2BD8-4817-B93F-07B19258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DA7C6-6394-485F-8887-999E5D8F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B456C-A8C0-496B-8AD2-19AF0EF0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38BAA-BAA9-44EC-A47A-6F828BBB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85B1D8-931E-4EA4-BE91-2A5C87BA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9BCED-0B8B-4C4A-A7C6-E7A8DF01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254-79CA-4401-B8D3-4A1AA15E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DAFD80-23C9-4ED0-9619-0BCD8CBA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D5282-8B4B-4839-8517-6394A212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A7FDBA-004F-412B-8DB5-CE211B52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DBD17-57AA-4E80-83D4-27AFF46A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5243F-CD84-4CC5-9B81-2969393B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F5975D-4537-4701-98EF-43E156CA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2C426A-8656-42EA-8B5A-6FBBE1A9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D41D1F-547C-4788-975A-5D6BFA27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6B68FC-8BB2-45B2-B130-1B4AB87A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9ABB2-2D08-40B2-A3F1-D3DCC628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4D7-CD85-4D6C-A281-42F65F45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F5F7B-E9E4-4101-AA68-0DF2C0AD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EFCF9D-5F61-4634-A6F8-8E4915D6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E82181-3741-4C07-8F06-9290265E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C1E50-37E7-4944-A7EB-B5A27020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2715F-FA0F-4680-870A-F24C64F3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D3C3E-D5E9-4FFD-B7EA-3D270AD0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FAA0A-493F-4B6C-A8B6-0DED50C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514ED8-125D-40E6-96DC-0CD23E65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AFB87F-E878-44E5-B1F9-77A2EC1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C6E756-9173-4C34-99FC-EEA0FAFB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0B90-F7F6-42E2-80FE-EB7EAD6B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34960-2F8C-48ED-AC95-F8CD889F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A13FE-7A28-4B74-BCFB-855E1FE5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F2BEC2-BFA5-4AC7-8BF9-C3E85139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F5B910-82F9-4D7C-9CDA-B6CA95E5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B1B1ED-C56D-4113-AF50-0700F2C3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551C3E-B82F-41B4-A643-9AFEC87F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AF076-75F5-46FD-8724-1BBEB7FB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92C180-C4F2-4C74-9B41-7366A363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03C9FF-9C49-432B-A390-E9EDCB4E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30213-7758-4A31-8DE5-7E01DB9C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6B7E-13D3-452F-899F-BBE8AB4C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4A3E86-8804-4F25-82B2-097CB664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AB34F-5C32-4A7C-B047-410C69EB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AE8B15-26FF-45AC-8889-020037EC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D118A4-AB98-4A47-8260-51750B1C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40EDD6-D0CF-42F7-9DAD-78FB0479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E6197-D35E-475F-80D1-DD6B8B87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66A590-C3FE-4A5C-A799-D8FAE0CD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C31EEF-EF69-4C5F-9A20-A5CB834B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98ED6F-E072-41CA-97EA-48A4DECA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53E762-B6F3-411C-8A24-1BC32F74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B0BD-35DC-48A7-9768-8BBFA330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730170-8D90-42AE-851C-FBEA0A07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28FF02-D1B9-4860-97A1-6EEB3CE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90385B-534A-42BB-BF73-A29BABD6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0E72DA-1CF6-4467-916D-85299EB6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0D24EC-1DD1-434B-9BC9-BA874F41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D6CE51-2533-482F-848F-73B4F8A9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75C05D-9DBB-4AC1-AB00-C5D3ACEB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D29279-F3DA-4759-858A-DB11D168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119298-C734-4BD1-AC5E-D2D6EC87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67F789-53A1-4DA0-8D30-B83293A6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0D2E-E6FC-4630-B158-BA9581CF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E0CC4C-5D11-45B1-BCC8-43864BBE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49F697-57CC-4DFA-9875-4827D7B4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B69B63-8E37-470D-991B-04832377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801569-D832-48F9-9D38-91D8170A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7707FE-EBF8-4E04-A8CF-A9C2037A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2AB676-C0DD-47DE-A1FA-3B7C4DAF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EC77C8-2493-434B-B93E-A954138E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3156FD-BE3E-4F1B-9A27-B4F65768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03DF42-354D-4F4F-ABBE-15EB43FF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01D8-A1B4-4C31-B729-5816810C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6AD7-627D-41A9-BE49-3D8F193C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DB11-2DE8-4762-89A7-C22ABF61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F5F3-8D0F-4EBC-AEC7-24CC60C3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198F-9443-4F1E-98AB-DD4C01C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756B-46A1-4134-9C4C-6EE3C0BD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0D07-AB57-4575-B84D-5D7B462B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B06D-6D47-4206-8CF5-970EFB39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C898-0032-4F9F-9355-F157B30C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20477-7B30-4F08-BE7F-EBF0117C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DBD6-46F8-402A-A7A3-2E377F59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459C-DE7C-447C-AC67-BD0A6F66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76B5-CB76-4CBE-8F33-75CB4E6E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BE83-8E47-4A65-B354-0E644C16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852CC-943F-4331-956A-BE8310BF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A49ED-4341-4F78-BECA-729B54C4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EB45-3481-40C3-B5EF-556E49FF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BF8F-C0FA-4D22-98E8-0A3C17B0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8D51-1E6D-4906-AA9A-2EA91C45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6792-71EB-48F4-B077-8F54D4D6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A512-E443-4366-9290-38DD6A4D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9B0A3-3CB5-4AAC-8F71-4F4EA175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F9FB-B9D1-4AB3-B317-2148FD4C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5DD0-C872-44D7-9E1D-6182E542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A5103-FBEF-450D-90F7-88DD888C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49B0C-EFA6-4AAA-8CDE-35B1A7CF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14F6-7345-446A-B2F6-6DC89FC0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2B7D-9987-4DF6-8B87-8E1FA563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0649F-C98D-4A51-A253-B333500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B99F0-A8E7-4B9F-8622-C3CCEE5E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BCD37-5D55-402E-B85F-3703D5CB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C4DB1-CA8D-4EB3-9CE6-CE8F29FB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206BD-73E5-4644-9925-8C9457A3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7859E-C26E-4F26-9149-CD8A95BA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DB9A4-97F3-4BB3-800C-4CDC3E02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3142-E1D9-495B-A51E-AED705D7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0B268-1360-4090-AF0E-5C86FF56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C3C01-C37D-4A20-B203-0AB21A5C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476A-DFEA-430C-934C-E534564F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436A-B668-4B66-A8AA-DFEFD379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94CC-4775-496D-A0A2-7E4E795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C3335-50F9-4813-9602-88A3FA72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F23A6-864F-4876-8A9B-B10EEB43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33BFD-3023-4DA2-B4EA-BCFFC410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1D0F5-3D8C-4140-B128-912D7C49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B2FF7-6D1F-46DD-8F89-C5BF9EA9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8ABBF-E8C7-4413-A6FB-52C0B945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7E0B5-0D79-4015-8B5F-A813B4CB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E845B-FBA6-4C92-90D6-6BE02C68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E86C9-4C98-4AC1-B254-63E6BBDC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13FE7-5570-4122-B99D-EEA4A8AB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0EACD-E13F-41C1-80AD-9A5AE01B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42666-50B0-44F7-A01F-32CBAB98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C1324-AF1E-4849-8FE6-AE92419E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48555-70B0-4842-B65F-47186927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6F43F-769A-432A-879E-122A3FEB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C1716-4BD5-4CA9-AC56-4198D5CC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52ACD-BA70-4101-98E4-27F9FA69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D807F-A6CE-4595-B248-A894F271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2F061-9AF7-44D9-811B-6557CCB4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1265B-7D6B-47E9-856C-5509ED96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90E03-414D-46D0-8F2F-9B7607B5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E3A8D-C1A0-4D78-BD47-75B314F2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4F06D-F325-433E-AC7E-EA830AB7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99503-2DA2-4230-98D1-6C27099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4D04F-9C62-4964-BE23-FA0C79FB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9E5C1-22C2-4F82-94F3-1C605AD9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58A1-FCC5-4E44-AC33-5D09DA7E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3D25E-111E-4B5E-BFFC-4E5992E3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D563A-F9DF-4B40-BC09-DADF31E2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AEE72-9B75-471C-B5FA-BC15A864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A0BC-41A8-48D7-B916-032BE5638B1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485F-3FD7-4C95-B3FE-513891B6FA8F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BB2F-2D63-4847-9512-ECA070B70D8D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D2D-C277-4504-8EA6-4670359EB76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1E98-0BB5-4ECB-B692-08ED6BF543A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0BA6-7CF9-4CA6-92FE-9AD92DF2084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7E35-B2DB-46B6-8AA0-3B8EDF661B8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9349-87B5-41D0-BF7D-7B7512D829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C357-8D4E-4AB4-A2BE-9742A31B948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0825-608E-49D2-BCA3-5570B5619D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349B-7A84-4858-A25D-29881A2D183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5574-C988-493B-B8C6-286E03639A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1A6D-C8BC-44D3-88B0-C42786614D6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964D-B17F-4BE7-BE99-11DA2C225C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F521-6EEB-418C-B0D2-566ADC8D0FE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EA6A-7163-43C0-A626-19C5664BFF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4D38-5AA5-4E56-82EB-E815F482D70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DA4D-2997-4364-87CC-F842734A8AE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F384-8E72-4278-84E5-937ABB76B16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E858-1362-464D-B4F3-016C482AEC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FA29-A8F6-437E-B5EB-8A39C765230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4DF8-A655-4573-A5A0-2AB2BF849AC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F93D-7C02-49CB-A126-6C0467D659E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C5AE-4DAE-4B50-AE05-907C4E8E40A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AB66-E9A3-46E8-9B81-2F99109737D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E8C5-41A4-49BB-9919-833523905F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A9E6-9538-483F-B874-5DDD7E87692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EEE5-30D3-47C3-B271-0D9541FA51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3DA7-B531-487E-9999-BD05B56EDDA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5BBB-C6DE-4AA6-AB66-1ACAB0164FAE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BBD5-9D08-41E9-82FD-913A2B59530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3D79-2145-477A-BA64-F2A371A2980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F958-2780-496E-B339-A252808CD4DD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72D7-5147-4B91-A075-B0EFEAF85AF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F3C0-72A4-483C-BE30-347E3F48436F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3"/>
          <p:cNvSpPr/>
          <p:nvPr/>
        </p:nvSpPr>
        <p:spPr>
          <a:xfrm>
            <a:off x="5793480" y="2421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中秋佳节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8"/>
          <p:cNvSpPr/>
          <p:nvPr/>
        </p:nvSpPr>
        <p:spPr>
          <a:xfrm>
            <a:off x="221760" y="3573360"/>
            <a:ext cx="8899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bfbfbf"/>
                </a:solidFill>
                <a:latin typeface="Calibri"/>
                <a:ea typeface="宋体"/>
              </a:rPr>
              <a:t>节日</a:t>
            </a:r>
            <a:r>
              <a:rPr b="0" lang="en-US" sz="400" spc="-1" strike="noStrike">
                <a:solidFill>
                  <a:srgbClr val="bfbfbf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bfbfbf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>
                <a:solidFill>
                  <a:srgbClr val="bfbfbf"/>
                </a:solidFill>
                <a:latin typeface="Calibri"/>
              </a:rPr>
              <a:t>www.1ppt.com/jieri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2560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25604"/>
          <p:cNvSpPr/>
          <p:nvPr/>
        </p:nvSpPr>
        <p:spPr>
          <a:xfrm>
            <a:off x="4542840" y="155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秋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2"/>
          <p:cNvSpPr/>
          <p:nvPr/>
        </p:nvSpPr>
        <p:spPr>
          <a:xfrm>
            <a:off x="376776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3767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3839040" y="42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"/>
          <p:cNvSpPr/>
          <p:nvPr/>
        </p:nvSpPr>
        <p:spPr>
          <a:xfrm>
            <a:off x="3839040" y="522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2"/>
          <p:cNvSpPr/>
          <p:nvPr/>
        </p:nvSpPr>
        <p:spPr>
          <a:xfrm>
            <a:off x="3848040" y="234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3991680" y="443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文本框 28675"/>
          <p:cNvSpPr/>
          <p:nvPr/>
        </p:nvSpPr>
        <p:spPr>
          <a:xfrm>
            <a:off x="900000" y="404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2"/>
          <p:cNvSpPr/>
          <p:nvPr/>
        </p:nvSpPr>
        <p:spPr>
          <a:xfrm>
            <a:off x="124740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4128120" y="5079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686412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2"/>
          <p:cNvSpPr/>
          <p:nvPr/>
        </p:nvSpPr>
        <p:spPr>
          <a:xfrm>
            <a:off x="4136040" y="90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3"/>
          <p:cNvSpPr/>
          <p:nvPr/>
        </p:nvSpPr>
        <p:spPr>
          <a:xfrm>
            <a:off x="2055240" y="354060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"/>
          <p:cNvSpPr/>
          <p:nvPr/>
        </p:nvSpPr>
        <p:spPr>
          <a:xfrm>
            <a:off x="3508200" y="3933720"/>
            <a:ext cx="729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5354280" y="3870360"/>
            <a:ext cx="729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6"/>
          <p:cNvSpPr/>
          <p:nvPr/>
        </p:nvSpPr>
        <p:spPr>
          <a:xfrm>
            <a:off x="6965640" y="3905280"/>
            <a:ext cx="7290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EF14-2B49-48CA-935A-15F6C1C507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2"/>
          <p:cNvSpPr/>
          <p:nvPr/>
        </p:nvSpPr>
        <p:spPr>
          <a:xfrm>
            <a:off x="1923840" y="4791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"/>
          <p:cNvSpPr/>
          <p:nvPr/>
        </p:nvSpPr>
        <p:spPr>
          <a:xfrm>
            <a:off x="628848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4084920" y="558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"/>
          <p:cNvSpPr/>
          <p:nvPr/>
        </p:nvSpPr>
        <p:spPr>
          <a:xfrm>
            <a:off x="59904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6"/>
          <p:cNvSpPr/>
          <p:nvPr/>
        </p:nvSpPr>
        <p:spPr>
          <a:xfrm>
            <a:off x="3047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7"/>
          <p:cNvSpPr/>
          <p:nvPr/>
        </p:nvSpPr>
        <p:spPr>
          <a:xfrm>
            <a:off x="5351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8"/>
          <p:cNvSpPr/>
          <p:nvPr/>
        </p:nvSpPr>
        <p:spPr>
          <a:xfrm>
            <a:off x="7655400" y="162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9"/>
          <p:cNvSpPr/>
          <p:nvPr/>
        </p:nvSpPr>
        <p:spPr>
          <a:xfrm>
            <a:off x="23410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0"/>
          <p:cNvSpPr/>
          <p:nvPr/>
        </p:nvSpPr>
        <p:spPr>
          <a:xfrm>
            <a:off x="450180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1"/>
          <p:cNvSpPr/>
          <p:nvPr/>
        </p:nvSpPr>
        <p:spPr>
          <a:xfrm>
            <a:off x="67114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