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8AC-44A3-4040-B7E6-D7194C37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E47-CD0D-45BD-A98B-EAB61AC9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49A09-5310-46A5-89B9-538037B4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DAE4B-17A1-4AB3-A34C-0A687A2C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09031-56C4-4628-8643-3D7BF16D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22DA6-DBF6-4DB7-B8A9-82FD7BF5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D8E79-A19B-43F7-B742-7234CD04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28FD9-4FB8-4159-AD96-3B05BA8A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D3F89-25AA-4612-A123-840259A3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FBD88-9761-4E54-B0FF-4A72174C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52028-5B57-42F0-8F93-896D8582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C9B5C-521F-4CAC-860B-158B8ED8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186-011C-4218-8A1D-0042BF03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B58A0-B23F-41F0-8BF0-86F4F39D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A5E96-EFEA-4F86-8223-DEFB054B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B73F5-A467-4A3E-9170-D1F52F1D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099C1-BC5D-437C-ADA3-8BF0F5A6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54949-D862-4028-BA66-31DCE6D1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67DD9-EBD3-4C43-8843-C28FACE6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F8DF0-5BB2-4AB3-A59F-82F34B2D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3E6A6-4B61-4F39-B3C9-F2AAFD22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B5FB3-2C91-40D3-9E35-A5871731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B705C-97C1-493C-B8DD-F03CDB58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60D-1606-49D6-98D5-0D25A294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6AA4A-B10C-498A-99CA-91CEFC24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FBB8B-05D6-4C47-89A5-63A9D8AA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ACABB-319C-4E38-A175-8B246904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0DE15-469E-423A-9BFE-1753DAAE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9BCC5-9E2F-4B70-892D-805DF7C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40F8-A390-4E06-80FA-4CEB94D4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74410-AF6C-4D8B-88BA-21331A10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CA629-A951-44F0-8B9C-E0329E84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68161-8E70-4919-A41D-054FF091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C3E71-080D-4957-9B5D-3466551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6CCA-991A-4914-BF89-09D70447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D4EBC-9585-4EBA-B029-95FD265D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B2CA8-674C-4390-81A9-02E5003F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F31CC-FC6C-4CBC-9375-9E402408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4CBF0-0CCA-4F37-A128-EDA45653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2D91F-B761-4F74-AEF8-772B49D5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9E85D-773E-4633-B027-2EC46417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D13BE-4220-40F0-8A5C-122322A1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91333-DF39-45A4-A3AD-10BD2B20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83037-A76A-4A52-9874-993D2AF2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7F213-9082-49C5-8059-5A8E4B0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9A2E-6A2F-4E9A-8F8E-EC0A183C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F94D2-0218-4B7C-B91C-6788D985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0238F-F865-4FF7-8AAD-D27D7DD4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B6B3F-4041-45B2-AB5A-EA9C7396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2EE0E-9045-48FA-B694-DBFA710E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64AEF-352A-42F6-90AC-D6D6DA26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BE582-37F0-4D9B-ABD1-EA31F35B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758AC-87A1-40B9-A8B8-C02C9764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6035F-8236-4953-8DC6-87AA14A4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3AD59-1E75-44F8-9FFA-FD5B5466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A40BB-2922-4F45-B16E-A03AAD78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81B9-663F-4D37-B962-6327ED0C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B851C-10AF-42B8-BCF0-7B903C9F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013BF-5304-464A-AF0A-D6CB2E4D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8F789-D2A4-46BE-8482-FAE712D1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9D0E2-53FB-4305-A5BE-E2F5D2F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90EFC-470B-431F-9139-60BD9044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5514A-D0EB-4470-9AAE-63FDD90D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E6B58-6358-4E32-9427-CEB6DC5E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583A-FCC7-4A65-98DF-4594976C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20CD-8ADE-4FA4-A2A5-338163CD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85E5-0E2A-46FE-A72C-CC46D59A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227B-9384-4318-80C5-F6A732B0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F53-8117-4151-BA12-453D8150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B089-E01D-4D87-9D28-E7985B59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EF9B-77EE-452B-9383-5BB36E61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593D-38B0-48FD-9961-781D303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AC48-0F3A-40AB-99D2-F55EEC2D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DC8F-5BE8-48B9-A13E-3661EF92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44C9-A7E6-4D27-8F49-7F40EF07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8F7E-8C22-4F07-A2B0-37120828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2CF5-079A-4F45-96D5-A09E88D4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2E66-1420-488B-A23A-0A624A2A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992E-BE00-44DF-A0BD-E8052D46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0DA-9938-42C6-BF37-4C06B84E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3D856-3C78-4DAD-842D-04D7B9E8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895C-3629-4D86-8B95-BCF066AF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CEDE-0267-4C0B-8733-D7DADB62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D2F2-26A1-4F6C-AEF0-1363BB9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7D61-02B6-491A-A7EF-CA88E28C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E829-AAB5-4DB3-9A4D-EFFED5AB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CE13-5074-4871-98EC-6B1E6FFB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E649-1D2B-4F44-AB80-F232A06B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86E7-1B78-4897-909E-DC969F2E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401A-6398-41A9-A5AE-960F82A3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E2F-CCEC-40C5-9A9B-047C8037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4348-62A7-4AC6-821D-29D95220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0BCD-F562-4590-B619-70EB30DC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7E859-6C67-4FE6-A03E-69822F14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C1E4-5DDF-4C70-A540-ADDA92D0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9ECEE-3097-4671-96C1-102822C8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009B-99CE-4BB0-A021-7175EBD3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67EF0-A21D-442A-8C28-FA419B07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B36E-A00B-420C-A763-DD8C7CF0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A0F8-7413-466D-9403-2B64DAD4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B8BE-5A6D-4C91-A22F-3896D03D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072-28AF-4A0A-A279-702A5D20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ED5E5-B97E-4A75-A009-E4B7C362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6AE60-A4DD-4B3E-87AE-6B479A91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5EC72-41A3-47C9-B12B-0B1F32D2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E7BE6-DC87-4A98-9CA5-52C814A9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BB9E-9A80-48F7-84FE-9DCAFCB3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3F3C0-A688-4B1D-8524-702799B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0364B-75CE-4A31-9D5C-B0CE4F93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256E3-152A-4D49-A72F-BFC4CBD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E173E-D493-4B87-B20D-3B2B4052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D6E5C-D282-4E06-9301-E8E229CB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599-78AB-40A9-9AFF-46C7537E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9C73F-7FC6-42AA-B03C-7213E680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5DCA-417C-4AD6-8089-4C696DAB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A60EA-9E11-46C2-8E5F-0C7E91FF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07992-4A07-4E49-9AA3-8DC7D0A6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C1F3-CBF0-4C16-8E9B-6657A31A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9B156-A3B4-47E4-A5C3-D14AFE02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DE6F-E7F2-4D42-8271-A66C366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8E432-C497-41F9-803B-81C4BDA1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8350B-C257-4A6F-89FF-D55774D7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6B096-7995-44F3-A06B-9B11DE70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129-76F5-4B47-873A-7EE15204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CA795-B266-44AB-93EC-8FAA224E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25E9B-B9B0-4BC9-9456-15497EDE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577EA-9008-49B5-9328-64C80BDA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EE249-1838-48A1-B2EA-5B19E1E0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01F7-9C85-46F4-B63D-28B38D5A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35D40-EAA4-4A2A-9F09-29D502D8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CA1D1-0593-4432-8B30-CCBDC648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05345-F423-44FF-A755-D65F521D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82C36-4B71-4969-AF10-5A25E527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0D45E-EE1E-46B2-833A-0B01B4E0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EE5-333B-45DA-9E03-BC77738A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A6BAE-B607-42D8-9B23-2C31B083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A4479-89A5-4C25-B707-2F9EE30A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A3BD-3809-46A2-AC74-8B21480A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41C23-9666-4942-AB60-554E5982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4038-88AA-4144-BF99-1F84087E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782F-66E8-45A5-A714-3E2E62AE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F73AC-ECBC-44D6-B208-71FF348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0C748-59D5-4349-9D5F-A69F82CC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88835-7429-4F54-A0D8-E3C0D686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D51B9-A0F4-43FE-AF60-3FDC735C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059-87B6-48AF-8656-AED8F5E5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F05CB-A296-457E-8120-E45496F0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95DAE-5C13-4565-BAF6-741FACB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28F3A-2A12-46D8-A8D8-460F7B88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015BE-B3CE-4395-ACF1-61E1E273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A7877-9A81-4D2A-86BF-193F39D2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3C5F3-3D93-41BD-A7B6-AE7BAD16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6CDCC-C31C-4622-B492-87050ED0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DA064-BE7E-49D1-A96F-13DF58E8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B7FDA-3679-4E65-8622-0EC8B356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9F80D-1FD7-4B4E-A656-14D08DB3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5EBE-363C-4E65-BC16-3781EB9C60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88F-77B6-41AE-84DD-DD8D22C5E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854B-4AC8-4355-BED9-B5C2190E4F7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E5B9-15E8-4679-89F9-238EB37C73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09A8-351A-4BA5-A16F-B1A23478719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2785-05AA-4912-BBD0-8416A3D8E74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F1B2-2CCA-45C0-8B95-A9A51F43840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FCBF-78D6-4E27-8E1E-2D34E8A05C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D954-BE7D-4E1D-B7B5-73F8B251630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0132-3E64-4D81-A9BA-42C4260EE1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9FA2-C746-4487-8664-906EC5BCCD0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34A0-BE6B-4DD0-A0B6-2B2CF1A73D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918F-B727-4802-944E-805BF9BDB34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E13F-A2AA-4858-A5F1-EA472199D24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48FF-4AAD-47A6-BFA4-FF62E7AA44A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AB57-71B1-476D-9D21-39FDBE7061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9158-57D0-4B19-AFE8-0A45A09D23B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1744-9C1A-4EF7-8D6A-6948C2C3F4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9D6-C501-460D-969C-0689B175555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5E83-6DAF-4F83-87D6-BF2D4510C39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4307-0EE8-4275-A7F1-B6FE2DCC19C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32F9-FD04-4B1E-A14F-752EF30102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36A0-07DF-4096-B1D6-4535286D590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AF9E-BC91-4128-BE5F-25E4131F23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85DE-E442-429F-9C58-F78CA8ABFD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1F08-8BCB-46FF-8BE2-71F0830183B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EA5D-88E7-4DFB-B326-19601F7104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21"/>
          <p:cNvSpPr/>
          <p:nvPr/>
        </p:nvSpPr>
        <p:spPr>
          <a:xfrm>
            <a:off x="1928880" y="3487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16"/>
          <p:cNvSpPr/>
          <p:nvPr/>
        </p:nvSpPr>
        <p:spPr>
          <a:xfrm>
            <a:off x="4871880" y="5221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154"/>
          <p:cNvSpPr/>
          <p:nvPr/>
        </p:nvSpPr>
        <p:spPr>
          <a:xfrm>
            <a:off x="4870440" y="9477360"/>
            <a:ext cx="215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 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图片 4" descr=""/>
          <p:cNvPicPr/>
          <p:nvPr/>
        </p:nvPicPr>
        <p:blipFill>
          <a:blip r:embed="rId2"/>
          <a:srcRect l="20556" t="0" r="0" b="8203"/>
          <a:stretch/>
        </p:blipFill>
        <p:spPr>
          <a:xfrm>
            <a:off x="0" y="4124160"/>
            <a:ext cx="4583160" cy="20084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7" descr=""/>
          <p:cNvPicPr/>
          <p:nvPr/>
        </p:nvPicPr>
        <p:blipFill>
          <a:blip r:embed="rId3"/>
          <a:stretch/>
        </p:blipFill>
        <p:spPr>
          <a:xfrm>
            <a:off x="1476360" y="973080"/>
            <a:ext cx="6437160" cy="4803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8" descr=""/>
          <p:cNvPicPr/>
          <p:nvPr/>
        </p:nvPicPr>
        <p:blipFill>
          <a:blip r:embed="rId4"/>
          <a:stretch/>
        </p:blipFill>
        <p:spPr>
          <a:xfrm>
            <a:off x="4495680" y="1203480"/>
            <a:ext cx="2362320" cy="14443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9" descr=""/>
          <p:cNvPicPr/>
          <p:nvPr/>
        </p:nvPicPr>
        <p:blipFill>
          <a:blip r:embed="rId5"/>
          <a:stretch/>
        </p:blipFill>
        <p:spPr>
          <a:xfrm>
            <a:off x="6299280" y="181080"/>
            <a:ext cx="1882800" cy="34909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10" descr=""/>
          <p:cNvPicPr/>
          <p:nvPr/>
        </p:nvPicPr>
        <p:blipFill>
          <a:blip r:embed="rId6"/>
          <a:stretch/>
        </p:blipFill>
        <p:spPr>
          <a:xfrm>
            <a:off x="7481880" y="1052640"/>
            <a:ext cx="1627200" cy="168588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3" descr=""/>
          <p:cNvPicPr/>
          <p:nvPr/>
        </p:nvPicPr>
        <p:blipFill>
          <a:blip r:embed="rId7"/>
          <a:srcRect l="0" t="0" r="72738" b="8204"/>
          <a:stretch/>
        </p:blipFill>
        <p:spPr>
          <a:xfrm>
            <a:off x="7570800" y="4130640"/>
            <a:ext cx="1573200" cy="20080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14" descr=""/>
          <p:cNvPicPr/>
          <p:nvPr/>
        </p:nvPicPr>
        <p:blipFill>
          <a:blip r:embed="rId8"/>
          <a:stretch/>
        </p:blipFill>
        <p:spPr>
          <a:xfrm>
            <a:off x="-109440" y="1231920"/>
            <a:ext cx="1541520" cy="779400"/>
          </a:xfrm>
          <a:prstGeom prst="rect">
            <a:avLst/>
          </a:prstGeom>
          <a:ln w="0">
            <a:noFill/>
          </a:ln>
        </p:spPr>
      </p:pic>
      <p:sp>
        <p:nvSpPr>
          <p:cNvPr id="548" name="TextBox 17"/>
          <p:cNvSpPr/>
          <p:nvPr/>
        </p:nvSpPr>
        <p:spPr>
          <a:xfrm>
            <a:off x="3847680" y="2590920"/>
            <a:ext cx="310068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中秋八月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美景伴人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愿皎月添你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桂香增你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玉兔伴你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嫦娥共你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祝愿佳节快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花好月圆合家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图片 11" descr=""/>
          <p:cNvPicPr/>
          <p:nvPr/>
        </p:nvPicPr>
        <p:blipFill>
          <a:blip r:embed="rId9"/>
          <a:stretch/>
        </p:blipFill>
        <p:spPr>
          <a:xfrm>
            <a:off x="1187280" y="396720"/>
            <a:ext cx="2468880" cy="2436840"/>
          </a:xfrm>
          <a:prstGeom prst="rect">
            <a:avLst/>
          </a:prstGeom>
          <a:ln w="0">
            <a:noFill/>
          </a:ln>
        </p:spPr>
      </p:pic>
      <p:grpSp>
        <p:nvGrpSpPr>
          <p:cNvPr id="550" name="组合 2"/>
          <p:cNvGrpSpPr/>
          <p:nvPr/>
        </p:nvGrpSpPr>
        <p:grpSpPr>
          <a:xfrm>
            <a:off x="1630440" y="2206800"/>
            <a:ext cx="2160360" cy="1433160"/>
            <a:chOff x="1630440" y="2206800"/>
            <a:chExt cx="2160360" cy="1433160"/>
          </a:xfrm>
        </p:grpSpPr>
        <p:pic>
          <p:nvPicPr>
            <p:cNvPr id="551" name="图片 12" descr=""/>
            <p:cNvPicPr/>
            <p:nvPr/>
          </p:nvPicPr>
          <p:blipFill>
            <a:blip r:embed="rId10"/>
            <a:stretch/>
          </p:blipFill>
          <p:spPr>
            <a:xfrm>
              <a:off x="1630440" y="2206800"/>
              <a:ext cx="2160360" cy="9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矩形 1"/>
            <p:cNvSpPr/>
            <p:nvPr/>
          </p:nvSpPr>
          <p:spPr>
            <a:xfrm>
              <a:off x="1880640" y="2845080"/>
              <a:ext cx="14436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文本框 14353"/>
          <p:cNvSpPr/>
          <p:nvPr/>
        </p:nvSpPr>
        <p:spPr>
          <a:xfrm>
            <a:off x="108000" y="5724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4354"/>
          <p:cNvSpPr/>
          <p:nvPr/>
        </p:nvSpPr>
        <p:spPr>
          <a:xfrm>
            <a:off x="2184480" y="252360"/>
            <a:ext cx="45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秋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画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25 0.97508 L -4.16667E-006 -6.33437E-007 E">
                                      <p:cBhvr>
                                        <p:cTn id="8" dur="4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25 0.97508 L -3.61111E-006 9.13811E-007 E">
                                      <p:cBhvr>
                                        <p:cTn id="10" dur="4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1000" fill="hold"/>
                                        <p:tgtEl>
                                          <p:spTgt spid="550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209 -0.00026 L 2.77778E-006 -2.25337E-006 E">
                                      <p:cBhvr>
                                        <p:cTn id="2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157 -0.59721 L 1.94444E-006 -6.80664E-006 E">
                                      <p:cBhvr>
                                        <p:cTn id="44" dur="2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00157 -0.59721 L 1.94444E-006 -6.80664E-006 E">
                                      <p:cBhvr>
                                        <p:cTn id="46" dur="2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32">
                                  <p:stCondLst>
                                    <p:cond delay="3200"/>
                                  </p:stCondLst>
                                  <p:childTnLst>
                                    <p:animRot by="120000">
                                      <p:cBhvr>
                                        <p:cTn id="48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1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32">
                                  <p:stCondLst>
                                    <p:cond delay="3400"/>
                                  </p:stCondLst>
                                  <p:childTnLst>
                                    <p:animRot by="120000">
                                      <p:cBhvr>
                                        <p:cTn id="5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path" presetID="0">
                                  <p:stCondLst>
                                    <p:cond delay="3500"/>
                                  </p:stCondLst>
                                  <p:iterate type="wd">
                                    <p:tmAbs val="4.99999988824129"/>
                                  </p:iterate>
                                  <p:childTnLst>
                                    <p:animMotion origin="layout" path="M -0.16336 -0.71796 C -0.14461 -0.73378 -0.10937 -0.81162 -0.05069 -0.81059 C 0.00799 -0.80955 0.1632 -0.70394 0.18907 -0.71121 C 0.21494 -0.71796 0.14775 -0.85054 0.10487 -0.8534 C 0.06198 -0.85625 -0.00746 -0.73975 -0.06822 -0.72781 C -0.12899 -0.71536 -0.23732 -0.75376 -0.26024 -0.77971 C -0.28316 -0.80566 -0.23958 -0.86741 -0.20625 -0.88402 C -0.17291 -0.90062 -0.121 -0.88454 -0.06024 -0.87935 C 0.000530000000000003 -0.87416 0.11598 -0.8905 0.15886 -0.8534 C 0.20174 -0.81629 0.26806 -0.64608 0.19688 -0.65672 C 0.1257 -0.6671 -0.17986 -0.89777 -0.26822 -0.91723 C -0.35659 -0.93669 -0.33263 -0.81136 -0.33316 -0.7727 C -0.33368 -0.7343 -0.30416 -0.69875 -0.27135 -0.68474 C -0.23854 -0.67177 -0.17847 -0.69071 -0.13645 -0.69227 C -0.09444 -0.69486 -0.10503 -0.71536 -0.01875 -0.69642 C 0.06754 -0.67774 0.34046 -0.55838 0.38108 -0.57862 C 0.42171 -0.5986 0.25886 -0.78282 0.22553 -0.81759 C 0.19219 -0.85236 0.19028 -0.80799 0.18108 -0.78697 C 0.17188 -0.76596 0.19931 -0.71925 0.16997 -0.69201 C 0.14063 -0.66476 0.05365 -0.61002 0.00487 -0.62351 C -0.04392 -0.637 -0.08142 -0.76544 -0.12326 -0.77322 C -0.1651 -0.78101 -0.23611 -0.64816 -0.246 -0.67099 C -0.2559 -0.69382 -0.20816 -0.96627 -0.18211 -0.91074 C -0.15607 -0.85522 -0.1085 -0.45693 -0.08941 -0.33757 E">
                                      <p:cBhvr>
                                        <p:cTn id="62" dur="25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autoRev="1" nodeType="withEffect" fill="hold" presetClass="emph" presetID="6" repeatCount="indefinite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4" dur="1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9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06:35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9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