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035-BC2F-4998-8BDD-69843211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42F-1EE6-40B9-9142-16EEDAD5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FA9F9-5D20-469A-B6E2-092BBE1D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2AB4D-5EF2-4E22-99AD-940001F9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E5234-EA01-45C1-B6F8-B3918546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2D816-FE6B-43E5-A6D6-987DDA6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9812E-EFC1-4E5B-AC30-D6E9C655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8817A-04DE-4034-B25B-D0309666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68C81-211D-4361-BDA5-1498D769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DAC3E-7A8D-4DB5-B13F-984998D9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7392C-288F-491A-BE20-5A569BD0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47CF0-C879-4E81-85A0-BB20D6D4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CA2-DDF0-43DC-936B-7303C25E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C8F10-6436-4815-861C-1CEF2AF1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89F50-21CD-4F74-B7F1-DAF9C9C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517D1-06F8-49EA-A906-AC3DE7C7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0E1B7-7CCD-432B-8AFA-15BFCBCB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5C17E-CD1D-4ACF-A10E-6FE3F509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883B8-C29A-4476-A9D9-6AB90E8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17222-A7FA-46A8-BF52-2F3DBCF3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232EF-EA59-4E3B-B3F8-4CE5675B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BFC22-732B-4AE5-BDFE-374A6BD0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FADC2-55DE-4499-A62D-06C028F2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24A-8F13-4838-A044-B082A80B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03222-D083-46CA-AE65-C8DF6F77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D6A66-DAC8-476D-A313-C8FE1D19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51CBA-22DE-40A3-BA63-180C11C3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C5B27-108F-465B-8790-BDB1C2E3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4C66B-72A4-4544-9735-C4C2BC85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8E67F-8DEB-4D86-BC30-D4691325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A4E73-7B1E-4E21-A778-1A207B5C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342D9-73EE-46F3-A5E1-3348D88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40549-A45F-4687-BE85-5635A84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C97EF-5E90-4BB1-AB03-9B6E36BC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9118-EF90-46BF-ADD0-0A8CBAD3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0C4A4-0D1B-4953-9163-5D21ACBF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D7DBB-D2E8-49F7-869D-22EAA51C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DC5A2-DAB2-447D-87E7-AA8F066E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F6920-5E62-4ACA-86CB-66EFF289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DF77F-0B26-4B70-B3D0-FDBD5044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EFFB6-686A-43B6-A611-42C88A41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E24C4-ACF8-44F9-A83B-BE4652C3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0271E-051A-4CEA-A35C-4CDF4733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65397-3310-4B43-AAE1-C0462C9C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DF8DE-6179-474F-830D-E3C8C19D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E5CA-67C1-4EC0-A2FF-DAF3F7C1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31561-60E9-4DCF-B6EA-31B8970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B757F-B00D-4FC9-B125-8D0EE67C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A9B30-4E41-469E-859F-FB8AE8A8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A717D-9AE7-46B9-A048-88CB9E5F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654F2-840B-4DFC-8F80-8E333DD6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26A6D-0602-493F-8379-4A8F7C13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021D9-A7AB-4492-B56D-985F2E34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05E71-4178-43D3-B3B9-C11A2B58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AFA5E-5C84-4119-8501-6A786C5B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0EDAF-F666-4393-A1BA-6EE5AFC3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632C-BB9A-4B60-B0ED-4F0E4D65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43A68-D6B5-4336-86B9-58822685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FF598-514B-4586-81E3-0B067661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52253-3838-4541-911A-BF393BD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42736-8D1A-4938-9431-F47C790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C2873-8357-4DDC-9D49-41C9B3C6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AD240-8C82-4F3B-BBA2-964DADEF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DAC12-E16C-41CA-A41C-1BA89FBB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1D127-97DD-478E-A263-254AE751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0EB62A-8271-496A-AD33-899B839E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6E3EA-982D-408F-AE02-8238592F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5AF9-7225-4DD9-B680-D69E222A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47072-8320-4B9A-8330-643DEC77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DE4AA-3A84-42AD-A91F-2DB68CBD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C977D-3D5C-4F82-8796-590BCD41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3EF1C-55CA-4321-8BCA-5AC7FB6D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BC287-5068-4F48-A61E-91DCEC55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8253E-5F47-4BE5-A37B-420FA056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499C5-92BC-4630-BB3E-6F2F9F83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2B537-2E20-417C-8122-2AE2B0E6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9F139-097F-49D5-9375-849A64B8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4688-5C40-4308-9F4E-2DE53055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3877-EEEC-4510-AF7F-1A669AA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E901-B7F0-4FF1-99DA-7AF86915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979-5D68-42E9-A9D7-76A522A7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2B33-5B87-4629-AE2C-B677613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574E-75C6-42B5-A47A-6544B48A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F0B8-672A-4D56-B667-5B2FAC81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AAD9-14EC-4581-96B9-826A75A0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8721-0587-4AAE-B053-14E6B220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55BF-CE32-4738-B84E-2273CC2F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8DD3-5583-4721-A0F1-C4AD413D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9A75-BA63-4275-A7C3-263C652F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343B-B7ED-4E65-80E4-D47BFCDA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8956A-776E-433A-9A63-39CAA186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378-5309-4127-98E2-58F15EFF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3F01-DC33-4EA7-9DDB-CA83986F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4549-576F-4469-BF72-0BB6EA59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24D9-3680-47AF-9B69-2CB9364B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258F-F650-4361-9B62-3F77845A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1B217-FE65-4D89-A630-E81BE23F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3551-29AC-4DF7-86ED-1F82A0E0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4A6B-1C2A-4DF8-B503-854349D7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5E11E-6322-46F7-A7CA-A0C3FC83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22E3-F8E7-4BB8-B294-3955E81D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047E2-EA0D-4916-9D12-AF6F4625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091-C653-4180-B0A9-05F669C2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A0CB-9993-4ACD-8BDC-199F0309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FB4B-2442-4694-8441-E7AC0BE0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31C0-3688-4D53-939E-D5395E3B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060C9-E581-4CB9-8A5B-B80BF107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2DBA-EEA2-49B2-8D27-F9D51965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16637-CB3B-4893-94A1-E0AD28DA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215F-CBD0-4920-80B9-8465F194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79AB3-8575-4875-A1A6-9722BB4F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46E6D-BC99-418D-90C6-846E274A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7C70D-5A65-4E85-8109-929A1D2C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AC5-FDE7-418E-8DD9-D18E1EF2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D4F3A-095E-40A5-9FC3-0EBB3D7A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DC368-6E95-4994-9B1B-0E9B5305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94F7-6FEF-4083-8181-FE02CECA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144DA-3C6E-4398-98B5-DCCCCE4F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CFBD1-1FF7-42AD-B399-75EE548A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F2D1C-5307-4AC6-BB8A-9C11E44E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9029A-402F-4527-B4DE-47D7CA5C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C16F2-69C2-427F-BF73-48190DED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9ED07-AA21-40AD-A760-10841D80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25CAB-2F56-41CF-BD1C-5356A188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8BC-FE62-4013-98BD-8C12D8D8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256A-F5AA-46C7-86EB-F3DAD55C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C0974-75A2-4189-8769-1DD40BE1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56671-70ED-4C28-B54C-4A0B13F4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A0473-9392-41E8-8FCA-023E2681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D62A8-7D71-470B-BCE8-7A404900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7418D-0016-4E34-9C23-CAA0E652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E014E-7659-4622-BE78-94058641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5860A-66E6-46F7-8147-902578BC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C3B25-5FC8-47B4-B033-25B2ECDB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EFA51-A085-47D8-99DB-04C7B6A5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2E8-7C51-4A1B-A028-D5F18FF9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6D0F0-B653-4783-B01E-0574B7F7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87432-E599-427E-9F12-0B6B4F6F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785D9-79C7-4E3E-B335-CFE19B15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E112C-4837-4B83-8A7B-029B6BDF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918E2-6BFB-4812-8E12-5E1D6992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D46DC-EA52-4470-A4AA-268215C2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0B2D5-F303-4FE6-ADBC-5DE45705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4F2A0-A980-43F6-9789-480B749C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BFF09-1709-4203-9915-99850214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8D02F-7C1F-4469-B4B6-458459A3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E0A-6FF4-4880-83F4-0786223C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C57D0-332E-49EE-AA1A-5732AFF9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2079A-21F8-447D-BD28-F1A4C532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2A972-42C5-4179-9905-8F3FE559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D61AA-0AC6-425A-8C15-E017654A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A476C-E825-4B4F-87DC-BCB260EC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64DAC-61B2-4673-9024-FBD32C59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375BE-CD8F-4ACA-80FC-A3FAC585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B62D3-33EE-40CA-B6B4-73AC008C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3AFB1-8F0B-426B-BB10-B3EFD28D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EBD6E-7FB2-42B8-9E1F-A4D051F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CDF-8B15-4A34-96E9-FA80B3F2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3FEEE-BBB6-4AD8-B430-AD0AB8FE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2580F-732F-4DA1-9D33-9CF39DD0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6DF3C-4437-4D39-9BEC-1D5DDF2A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3DD55-1D1D-449B-881D-5807EDDD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4050F-C119-442F-B01C-3D39EE9E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416DE-3371-482B-85C0-B7FF8940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22B54-A746-4E14-AB20-E54FAED0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9B7CC-AE00-4BB4-9799-621222B4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4F5A4-4F39-42A9-99BC-A4DED4C9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8DEA2-3B4B-4858-8DC8-31522CEB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1DD-5B9A-4485-9DC9-0BA20B4ACF2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DC7A-3956-4489-85AD-EE9CD21ED8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B8BA-5D63-4143-BBD5-6ADD2268753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E758-F299-41EB-89FD-82496023BA8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736C-E471-4745-8952-8CAFA0E141E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14CA-AC96-4688-8A47-919FC294134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E83C-7461-478D-A812-224B873666E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5C67-899A-4E7A-BF38-7629008CD12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6129-F456-41AD-A091-B1B4AD40E18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B388-B974-4EAA-B2B4-414AA47BE4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7DA4-847B-49A5-88A5-E3141F6A537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7D7E-0F80-45A1-A868-877F63285E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1B56-FA1C-41AD-9017-AC26C859DA99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CB67-0405-43BB-A602-ACC7575D5A5E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F962-78FE-4C76-BB54-F6B2394AC85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656E-5498-43E8-81CA-6639DD3156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A899-2BF6-4BFB-B588-4864F4D93A5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7EB8-129D-4F01-93E4-AED8791851A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C15F-AD59-44B2-8E5A-07904A31089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30D4-283C-43D8-A4F5-8540217640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0A5C-6E0B-4891-9927-C537A5D88AF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CD97-1B41-49F0-8857-E7952B41375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DCA1-5E9E-4333-8774-1CD65931921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DE31-67E2-44E8-ADDD-DEF892B8DF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F311-F4C3-4847-A784-2967F1F6B41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5EC6-6A7D-4141-A2AF-6396045B69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7ADE-0F22-48AD-B685-7E2D5BF0847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A85D-34F1-47EB-9D28-C86BF53300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4.pn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image" Target="../media/image26.png"/><Relationship Id="rId35" Type="http://schemas.openxmlformats.org/officeDocument/2006/relationships/image" Target="../media/image21.png"/><Relationship Id="rId36" Type="http://schemas.openxmlformats.org/officeDocument/2006/relationships/image" Target="../media/image21.png"/><Relationship Id="rId37" Type="http://schemas.openxmlformats.org/officeDocument/2006/relationships/image" Target="../media/image22.png"/><Relationship Id="rId38" Type="http://schemas.openxmlformats.org/officeDocument/2006/relationships/image" Target="../media/image21.png"/><Relationship Id="rId39" Type="http://schemas.openxmlformats.org/officeDocument/2006/relationships/image" Target="../media/image27.png"/><Relationship Id="rId40" Type="http://schemas.openxmlformats.org/officeDocument/2006/relationships/image" Target="../media/image25.png"/><Relationship Id="rId41" Type="http://schemas.openxmlformats.org/officeDocument/2006/relationships/image" Target="../media/image21.png"/><Relationship Id="rId42" Type="http://schemas.openxmlformats.org/officeDocument/2006/relationships/image" Target="../media/image21.png"/><Relationship Id="rId43" Type="http://schemas.openxmlformats.org/officeDocument/2006/relationships/image" Target="../media/image21.png"/><Relationship Id="rId44" Type="http://schemas.openxmlformats.org/officeDocument/2006/relationships/image" Target="../media/image25.png"/><Relationship Id="rId45" Type="http://schemas.openxmlformats.org/officeDocument/2006/relationships/image" Target="../media/image25.png"/><Relationship Id="rId46" Type="http://schemas.openxmlformats.org/officeDocument/2006/relationships/image" Target="../media/image21.png"/><Relationship Id="rId47" Type="http://schemas.openxmlformats.org/officeDocument/2006/relationships/image" Target="../media/image21.png"/><Relationship Id="rId48" Type="http://schemas.openxmlformats.org/officeDocument/2006/relationships/image" Target="../media/image21.png"/><Relationship Id="rId49" Type="http://schemas.openxmlformats.org/officeDocument/2006/relationships/image" Target="../media/image22.png"/><Relationship Id="rId50" Type="http://schemas.openxmlformats.org/officeDocument/2006/relationships/image" Target="../media/image21.png"/><Relationship Id="rId51" Type="http://schemas.openxmlformats.org/officeDocument/2006/relationships/image" Target="../media/image23.png"/><Relationship Id="rId52" Type="http://schemas.openxmlformats.org/officeDocument/2006/relationships/image" Target="../media/image24.png"/><Relationship Id="rId53" Type="http://schemas.openxmlformats.org/officeDocument/2006/relationships/image" Target="../media/image21.png"/><Relationship Id="rId54" Type="http://schemas.openxmlformats.org/officeDocument/2006/relationships/image" Target="../media/image21.png"/><Relationship Id="rId55" Type="http://schemas.openxmlformats.org/officeDocument/2006/relationships/image" Target="../media/image21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11.png"/><Relationship Id="rId59" Type="http://schemas.openxmlformats.org/officeDocument/2006/relationships/image" Target="../media/image12.png"/><Relationship Id="rId60" Type="http://schemas.openxmlformats.org/officeDocument/2006/relationships/image" Target="../media/image21.png"/><Relationship Id="rId61" Type="http://schemas.openxmlformats.org/officeDocument/2006/relationships/image" Target="../media/image21.png"/><Relationship Id="rId62" Type="http://schemas.openxmlformats.org/officeDocument/2006/relationships/image" Target="../media/image23.png"/><Relationship Id="rId63" Type="http://schemas.openxmlformats.org/officeDocument/2006/relationships/image" Target="../media/image23.png"/><Relationship Id="rId64" Type="http://schemas.openxmlformats.org/officeDocument/2006/relationships/image" Target="../media/image21.png"/><Relationship Id="rId65" Type="http://schemas.openxmlformats.org/officeDocument/2006/relationships/image" Target="../media/image21.png"/><Relationship Id="rId66" Type="http://schemas.openxmlformats.org/officeDocument/2006/relationships/image" Target="../media/image21.png"/><Relationship Id="rId67" Type="http://schemas.openxmlformats.org/officeDocument/2006/relationships/image" Target="../media/image21.png"/><Relationship Id="rId68" Type="http://schemas.openxmlformats.org/officeDocument/2006/relationships/image" Target="../media/image23.png"/><Relationship Id="rId69" Type="http://schemas.openxmlformats.org/officeDocument/2006/relationships/image" Target="../media/image21.png"/><Relationship Id="rId70" Type="http://schemas.openxmlformats.org/officeDocument/2006/relationships/image" Target="../media/image21.png"/><Relationship Id="rId71" Type="http://schemas.openxmlformats.org/officeDocument/2006/relationships/image" Target="../media/image21.png"/><Relationship Id="rId72" Type="http://schemas.openxmlformats.org/officeDocument/2006/relationships/image" Target="../media/image21.png"/><Relationship Id="rId73" Type="http://schemas.openxmlformats.org/officeDocument/2006/relationships/image" Target="../media/image28.png"/><Relationship Id="rId74" Type="http://schemas.openxmlformats.org/officeDocument/2006/relationships/image" Target="../media/image28.png"/><Relationship Id="rId75" Type="http://schemas.openxmlformats.org/officeDocument/2006/relationships/image" Target="../media/image28.png"/><Relationship Id="rId76" Type="http://schemas.openxmlformats.org/officeDocument/2006/relationships/image" Target="../media/image28.png"/><Relationship Id="rId77" Type="http://schemas.openxmlformats.org/officeDocument/2006/relationships/image" Target="../media/image28.png"/><Relationship Id="rId78" Type="http://schemas.openxmlformats.org/officeDocument/2006/relationships/image" Target="../media/image28.png"/><Relationship Id="rId79" Type="http://schemas.openxmlformats.org/officeDocument/2006/relationships/image" Target="../media/image28.png"/><Relationship Id="rId80" Type="http://schemas.openxmlformats.org/officeDocument/2006/relationships/image" Target="../media/image28.png"/><Relationship Id="rId81" Type="http://schemas.openxmlformats.org/officeDocument/2006/relationships/image" Target="../media/image28.png"/><Relationship Id="rId82" Type="http://schemas.openxmlformats.org/officeDocument/2006/relationships/image" Target="../media/image28.png"/><Relationship Id="rId83" Type="http://schemas.openxmlformats.org/officeDocument/2006/relationships/image" Target="../media/image28.png"/><Relationship Id="rId84" Type="http://schemas.openxmlformats.org/officeDocument/2006/relationships/image" Target="../media/image28.png"/><Relationship Id="rId85" Type="http://schemas.openxmlformats.org/officeDocument/2006/relationships/image" Target="../media/image28.png"/><Relationship Id="rId86" Type="http://schemas.openxmlformats.org/officeDocument/2006/relationships/image" Target="../media/image28.png"/><Relationship Id="rId87" Type="http://schemas.openxmlformats.org/officeDocument/2006/relationships/image" Target="../media/image28.png"/><Relationship Id="rId88" Type="http://schemas.openxmlformats.org/officeDocument/2006/relationships/image" Target="../media/image28.png"/><Relationship Id="rId89" Type="http://schemas.openxmlformats.org/officeDocument/2006/relationships/image" Target="../media/image29.png"/><Relationship Id="rId9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320B-C2F4-402C-871A-326797786E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22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2"/>
          <p:cNvGrpSpPr/>
          <p:nvPr/>
        </p:nvGrpSpPr>
        <p:grpSpPr>
          <a:xfrm>
            <a:off x="6918480" y="96840"/>
            <a:ext cx="1145880" cy="1152360"/>
            <a:chOff x="6918480" y="96840"/>
            <a:chExt cx="1145880" cy="1152360"/>
          </a:xfrm>
        </p:grpSpPr>
        <p:pic>
          <p:nvPicPr>
            <p:cNvPr id="580" name="椭圆 41" descr=""/>
            <p:cNvPicPr/>
            <p:nvPr/>
          </p:nvPicPr>
          <p:blipFill>
            <a:blip r:embed="rId1"/>
            <a:stretch/>
          </p:blipFill>
          <p:spPr>
            <a:xfrm>
              <a:off x="6918480" y="96840"/>
              <a:ext cx="11458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4"/>
            <p:cNvSpPr/>
            <p:nvPr/>
          </p:nvSpPr>
          <p:spPr>
            <a:xfrm>
              <a:off x="7086240" y="268200"/>
              <a:ext cx="8125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图片 3" descr=""/>
          <p:cNvPicPr/>
          <p:nvPr/>
        </p:nvPicPr>
        <p:blipFill>
          <a:blip r:embed="rId2"/>
          <a:srcRect l="6248" t="5472" r="0" b="464"/>
          <a:stretch/>
        </p:blipFill>
        <p:spPr>
          <a:xfrm>
            <a:off x="3240" y="-2556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7" descr=""/>
          <p:cNvPicPr/>
          <p:nvPr/>
        </p:nvPicPr>
        <p:blipFill>
          <a:blip r:embed="rId3"/>
          <a:stretch/>
        </p:blipFill>
        <p:spPr>
          <a:xfrm rot="1231200">
            <a:off x="4223880" y="-339480"/>
            <a:ext cx="2316240" cy="163692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9" descr=""/>
          <p:cNvPicPr/>
          <p:nvPr/>
        </p:nvPicPr>
        <p:blipFill>
          <a:blip r:embed="rId4"/>
          <a:stretch/>
        </p:blipFill>
        <p:spPr>
          <a:xfrm>
            <a:off x="6446880" y="-25560"/>
            <a:ext cx="931680" cy="65736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10" descr=""/>
          <p:cNvPicPr/>
          <p:nvPr/>
        </p:nvPicPr>
        <p:blipFill>
          <a:blip r:embed="rId5"/>
          <a:stretch/>
        </p:blipFill>
        <p:spPr>
          <a:xfrm>
            <a:off x="3325680" y="3728880"/>
            <a:ext cx="316080" cy="1368720"/>
          </a:xfrm>
          <a:prstGeom prst="rect">
            <a:avLst/>
          </a:prstGeom>
          <a:ln w="0">
            <a:noFill/>
          </a:ln>
        </p:spPr>
      </p:pic>
      <p:pic>
        <p:nvPicPr>
          <p:cNvPr id="586" name="TextBox 11" descr=""/>
          <p:cNvPicPr/>
          <p:nvPr/>
        </p:nvPicPr>
        <p:blipFill>
          <a:blip r:embed="rId6"/>
          <a:stretch/>
        </p:blipFill>
        <p:spPr>
          <a:xfrm>
            <a:off x="566640" y="1407960"/>
            <a:ext cx="2090880" cy="523728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2" descr=""/>
          <p:cNvPicPr/>
          <p:nvPr/>
        </p:nvPicPr>
        <p:blipFill>
          <a:blip r:embed="rId7"/>
          <a:stretch/>
        </p:blipFill>
        <p:spPr>
          <a:xfrm rot="21274800">
            <a:off x="7535520" y="-101520"/>
            <a:ext cx="1674720" cy="118404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1" descr=""/>
          <p:cNvPicPr/>
          <p:nvPr/>
        </p:nvPicPr>
        <p:blipFill>
          <a:blip r:embed="rId8"/>
          <a:srcRect l="0" t="0" r="0" b="7358"/>
          <a:stretch/>
        </p:blipFill>
        <p:spPr>
          <a:xfrm>
            <a:off x="4332240" y="2543040"/>
            <a:ext cx="4637160" cy="434196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30" descr=""/>
          <p:cNvPicPr/>
          <p:nvPr/>
        </p:nvPicPr>
        <p:blipFill>
          <a:blip r:embed="rId9"/>
          <a:stretch/>
        </p:blipFill>
        <p:spPr>
          <a:xfrm>
            <a:off x="2881440" y="765000"/>
            <a:ext cx="753840" cy="91944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1" descr=""/>
          <p:cNvPicPr/>
          <p:nvPr/>
        </p:nvPicPr>
        <p:blipFill>
          <a:blip r:embed="rId10"/>
          <a:stretch/>
        </p:blipFill>
        <p:spPr>
          <a:xfrm>
            <a:off x="3470400" y="1557360"/>
            <a:ext cx="703080" cy="71928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32" descr=""/>
          <p:cNvPicPr/>
          <p:nvPr/>
        </p:nvPicPr>
        <p:blipFill>
          <a:blip r:embed="rId11"/>
          <a:stretch/>
        </p:blipFill>
        <p:spPr>
          <a:xfrm>
            <a:off x="2494080" y="1981080"/>
            <a:ext cx="1141200" cy="251784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33" descr=""/>
          <p:cNvPicPr/>
          <p:nvPr/>
        </p:nvPicPr>
        <p:blipFill>
          <a:blip r:embed="rId12"/>
          <a:stretch/>
        </p:blipFill>
        <p:spPr>
          <a:xfrm>
            <a:off x="3390840" y="2776680"/>
            <a:ext cx="849240" cy="87156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6" descr=""/>
          <p:cNvPicPr/>
          <p:nvPr/>
        </p:nvPicPr>
        <p:blipFill>
          <a:blip r:embed="rId13"/>
          <a:stretch/>
        </p:blipFill>
        <p:spPr>
          <a:xfrm rot="21126000">
            <a:off x="6508440" y="5187960"/>
            <a:ext cx="855720" cy="178596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34" descr=""/>
          <p:cNvPicPr/>
          <p:nvPr/>
        </p:nvPicPr>
        <p:blipFill>
          <a:blip r:embed="rId14"/>
          <a:stretch/>
        </p:blipFill>
        <p:spPr>
          <a:xfrm>
            <a:off x="6929280" y="5873760"/>
            <a:ext cx="331920" cy="100008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35" descr=""/>
          <p:cNvPicPr/>
          <p:nvPr/>
        </p:nvPicPr>
        <p:blipFill>
          <a:blip r:embed="rId15"/>
          <a:stretch/>
        </p:blipFill>
        <p:spPr>
          <a:xfrm>
            <a:off x="6292800" y="5467320"/>
            <a:ext cx="1114560" cy="99396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36" descr=""/>
          <p:cNvPicPr/>
          <p:nvPr/>
        </p:nvPicPr>
        <p:blipFill>
          <a:blip r:embed="rId16"/>
          <a:stretch/>
        </p:blipFill>
        <p:spPr>
          <a:xfrm>
            <a:off x="4694400" y="2617920"/>
            <a:ext cx="793440" cy="88236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37" descr=""/>
          <p:cNvPicPr/>
          <p:nvPr/>
        </p:nvPicPr>
        <p:blipFill>
          <a:blip r:embed="rId17"/>
          <a:stretch/>
        </p:blipFill>
        <p:spPr>
          <a:xfrm>
            <a:off x="5159520" y="3232080"/>
            <a:ext cx="2555640" cy="228456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4" descr=""/>
          <p:cNvPicPr/>
          <p:nvPr/>
        </p:nvPicPr>
        <p:blipFill>
          <a:blip r:embed="rId18"/>
          <a:stretch/>
        </p:blipFill>
        <p:spPr>
          <a:xfrm>
            <a:off x="5835600" y="4654440"/>
            <a:ext cx="871560" cy="96372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38" descr=""/>
          <p:cNvPicPr/>
          <p:nvPr/>
        </p:nvPicPr>
        <p:blipFill>
          <a:blip r:embed="rId19"/>
          <a:stretch/>
        </p:blipFill>
        <p:spPr>
          <a:xfrm>
            <a:off x="7896240" y="4894200"/>
            <a:ext cx="353880" cy="201312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39" descr=""/>
          <p:cNvPicPr/>
          <p:nvPr/>
        </p:nvPicPr>
        <p:blipFill>
          <a:blip r:embed="rId20"/>
          <a:stretch/>
        </p:blipFill>
        <p:spPr>
          <a:xfrm>
            <a:off x="7426440" y="4465800"/>
            <a:ext cx="871560" cy="96192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8" descr=""/>
          <p:cNvPicPr/>
          <p:nvPr/>
        </p:nvPicPr>
        <p:blipFill>
          <a:blip r:embed="rId21"/>
          <a:stretch/>
        </p:blipFill>
        <p:spPr>
          <a:xfrm>
            <a:off x="6138720" y="488880"/>
            <a:ext cx="1328760" cy="941400"/>
          </a:xfrm>
          <a:prstGeom prst="rect">
            <a:avLst/>
          </a:prstGeom>
          <a:ln w="0">
            <a:noFill/>
          </a:ln>
        </p:spPr>
      </p:pic>
      <p:grpSp>
        <p:nvGrpSpPr>
          <p:cNvPr id="602" name="Group 25"/>
          <p:cNvGrpSpPr/>
          <p:nvPr/>
        </p:nvGrpSpPr>
        <p:grpSpPr>
          <a:xfrm>
            <a:off x="7418520" y="1030320"/>
            <a:ext cx="68040" cy="73080"/>
            <a:chOff x="7418520" y="1030320"/>
            <a:chExt cx="68040" cy="73080"/>
          </a:xfrm>
        </p:grpSpPr>
        <p:pic>
          <p:nvPicPr>
            <p:cNvPr id="603" name="椭圆 43" descr=""/>
            <p:cNvPicPr/>
            <p:nvPr/>
          </p:nvPicPr>
          <p:blipFill>
            <a:blip r:embed="rId22"/>
            <a:stretch/>
          </p:blipFill>
          <p:spPr>
            <a:xfrm>
              <a:off x="7418520" y="1030320"/>
              <a:ext cx="6804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7"/>
            <p:cNvSpPr/>
            <p:nvPr/>
          </p:nvSpPr>
          <p:spPr>
            <a:xfrm>
              <a:off x="743076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8"/>
          <p:cNvGrpSpPr/>
          <p:nvPr/>
        </p:nvGrpSpPr>
        <p:grpSpPr>
          <a:xfrm>
            <a:off x="7497720" y="957240"/>
            <a:ext cx="66600" cy="73080"/>
            <a:chOff x="7497720" y="957240"/>
            <a:chExt cx="66600" cy="73080"/>
          </a:xfrm>
        </p:grpSpPr>
        <p:pic>
          <p:nvPicPr>
            <p:cNvPr id="606" name="椭圆 44" descr=""/>
            <p:cNvPicPr/>
            <p:nvPr/>
          </p:nvPicPr>
          <p:blipFill>
            <a:blip r:embed="rId23"/>
            <a:stretch/>
          </p:blipFill>
          <p:spPr>
            <a:xfrm>
              <a:off x="7497720" y="95724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30"/>
            <p:cNvSpPr/>
            <p:nvPr/>
          </p:nvSpPr>
          <p:spPr>
            <a:xfrm>
              <a:off x="7505640" y="969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31"/>
          <p:cNvGrpSpPr/>
          <p:nvPr/>
        </p:nvGrpSpPr>
        <p:grpSpPr>
          <a:xfrm>
            <a:off x="7467480" y="981000"/>
            <a:ext cx="66600" cy="73080"/>
            <a:chOff x="7467480" y="981000"/>
            <a:chExt cx="66600" cy="73080"/>
          </a:xfrm>
        </p:grpSpPr>
        <p:pic>
          <p:nvPicPr>
            <p:cNvPr id="609" name="椭圆 45" descr=""/>
            <p:cNvPicPr/>
            <p:nvPr/>
          </p:nvPicPr>
          <p:blipFill>
            <a:blip r:embed="rId24"/>
            <a:stretch/>
          </p:blipFill>
          <p:spPr>
            <a:xfrm>
              <a:off x="7467480" y="98100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33"/>
            <p:cNvSpPr/>
            <p:nvPr/>
          </p:nvSpPr>
          <p:spPr>
            <a:xfrm>
              <a:off x="7476840" y="99036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34"/>
          <p:cNvGrpSpPr/>
          <p:nvPr/>
        </p:nvGrpSpPr>
        <p:grpSpPr>
          <a:xfrm>
            <a:off x="7400880" y="1030320"/>
            <a:ext cx="66600" cy="73080"/>
            <a:chOff x="7400880" y="1030320"/>
            <a:chExt cx="66600" cy="73080"/>
          </a:xfrm>
        </p:grpSpPr>
        <p:pic>
          <p:nvPicPr>
            <p:cNvPr id="612" name="椭圆 46" descr=""/>
            <p:cNvPicPr/>
            <p:nvPr/>
          </p:nvPicPr>
          <p:blipFill>
            <a:blip r:embed="rId25"/>
            <a:stretch/>
          </p:blipFill>
          <p:spPr>
            <a:xfrm>
              <a:off x="740088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36"/>
            <p:cNvSpPr/>
            <p:nvPr/>
          </p:nvSpPr>
          <p:spPr>
            <a:xfrm>
              <a:off x="7410240" y="104292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37"/>
          <p:cNvGrpSpPr/>
          <p:nvPr/>
        </p:nvGrpSpPr>
        <p:grpSpPr>
          <a:xfrm>
            <a:off x="7467480" y="1054080"/>
            <a:ext cx="66600" cy="73080"/>
            <a:chOff x="7467480" y="1054080"/>
            <a:chExt cx="66600" cy="73080"/>
          </a:xfrm>
        </p:grpSpPr>
        <p:pic>
          <p:nvPicPr>
            <p:cNvPr id="615" name="椭圆 47" descr=""/>
            <p:cNvPicPr/>
            <p:nvPr/>
          </p:nvPicPr>
          <p:blipFill>
            <a:blip r:embed="rId26"/>
            <a:stretch/>
          </p:blipFill>
          <p:spPr>
            <a:xfrm>
              <a:off x="7467480" y="10540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39"/>
            <p:cNvSpPr/>
            <p:nvPr/>
          </p:nvSpPr>
          <p:spPr>
            <a:xfrm>
              <a:off x="7476840" y="106344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40"/>
          <p:cNvGrpSpPr/>
          <p:nvPr/>
        </p:nvGrpSpPr>
        <p:grpSpPr>
          <a:xfrm>
            <a:off x="7418520" y="1042920"/>
            <a:ext cx="68040" cy="66600"/>
            <a:chOff x="7418520" y="1042920"/>
            <a:chExt cx="68040" cy="66600"/>
          </a:xfrm>
        </p:grpSpPr>
        <p:pic>
          <p:nvPicPr>
            <p:cNvPr id="618" name="椭圆 48" descr=""/>
            <p:cNvPicPr/>
            <p:nvPr/>
          </p:nvPicPr>
          <p:blipFill>
            <a:blip r:embed="rId27"/>
            <a:stretch/>
          </p:blipFill>
          <p:spPr>
            <a:xfrm>
              <a:off x="7418520" y="1042920"/>
              <a:ext cx="680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42"/>
            <p:cNvSpPr/>
            <p:nvPr/>
          </p:nvSpPr>
          <p:spPr>
            <a:xfrm>
              <a:off x="7430760" y="1050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43"/>
          <p:cNvGrpSpPr/>
          <p:nvPr/>
        </p:nvGrpSpPr>
        <p:grpSpPr>
          <a:xfrm>
            <a:off x="7418520" y="1054080"/>
            <a:ext cx="55440" cy="55440"/>
            <a:chOff x="7418520" y="1054080"/>
            <a:chExt cx="55440" cy="55440"/>
          </a:xfrm>
        </p:grpSpPr>
        <p:pic>
          <p:nvPicPr>
            <p:cNvPr id="621" name="椭圆 49" descr=""/>
            <p:cNvPicPr/>
            <p:nvPr/>
          </p:nvPicPr>
          <p:blipFill>
            <a:blip r:embed="rId28"/>
            <a:stretch/>
          </p:blipFill>
          <p:spPr>
            <a:xfrm>
              <a:off x="7418520" y="1054080"/>
              <a:ext cx="5544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45"/>
            <p:cNvSpPr/>
            <p:nvPr/>
          </p:nvSpPr>
          <p:spPr>
            <a:xfrm>
              <a:off x="7429680" y="1060560"/>
              <a:ext cx="3492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46"/>
          <p:cNvGrpSpPr/>
          <p:nvPr/>
        </p:nvGrpSpPr>
        <p:grpSpPr>
          <a:xfrm>
            <a:off x="7467480" y="1030320"/>
            <a:ext cx="66600" cy="73080"/>
            <a:chOff x="7467480" y="1030320"/>
            <a:chExt cx="66600" cy="73080"/>
          </a:xfrm>
        </p:grpSpPr>
        <p:pic>
          <p:nvPicPr>
            <p:cNvPr id="624" name="椭圆 50" descr=""/>
            <p:cNvPicPr/>
            <p:nvPr/>
          </p:nvPicPr>
          <p:blipFill>
            <a:blip r:embed="rId29"/>
            <a:stretch/>
          </p:blipFill>
          <p:spPr>
            <a:xfrm>
              <a:off x="746748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 Box 48"/>
            <p:cNvSpPr/>
            <p:nvPr/>
          </p:nvSpPr>
          <p:spPr>
            <a:xfrm>
              <a:off x="7476840" y="104292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49"/>
          <p:cNvGrpSpPr/>
          <p:nvPr/>
        </p:nvGrpSpPr>
        <p:grpSpPr>
          <a:xfrm>
            <a:off x="7486560" y="1017720"/>
            <a:ext cx="66600" cy="72720"/>
            <a:chOff x="7486560" y="1017720"/>
            <a:chExt cx="66600" cy="72720"/>
          </a:xfrm>
        </p:grpSpPr>
        <p:pic>
          <p:nvPicPr>
            <p:cNvPr id="627" name="椭圆 51" descr=""/>
            <p:cNvPicPr/>
            <p:nvPr/>
          </p:nvPicPr>
          <p:blipFill>
            <a:blip r:embed="rId30"/>
            <a:stretch/>
          </p:blipFill>
          <p:spPr>
            <a:xfrm>
              <a:off x="7486560" y="1017720"/>
              <a:ext cx="6660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51"/>
            <p:cNvSpPr/>
            <p:nvPr/>
          </p:nvSpPr>
          <p:spPr>
            <a:xfrm>
              <a:off x="7497720" y="1029960"/>
              <a:ext cx="4752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52"/>
          <p:cNvGrpSpPr/>
          <p:nvPr/>
        </p:nvGrpSpPr>
        <p:grpSpPr>
          <a:xfrm>
            <a:off x="7467480" y="1054080"/>
            <a:ext cx="66600" cy="73080"/>
            <a:chOff x="7467480" y="1054080"/>
            <a:chExt cx="66600" cy="73080"/>
          </a:xfrm>
        </p:grpSpPr>
        <p:pic>
          <p:nvPicPr>
            <p:cNvPr id="630" name="椭圆 52" descr=""/>
            <p:cNvPicPr/>
            <p:nvPr/>
          </p:nvPicPr>
          <p:blipFill>
            <a:blip r:embed="rId31"/>
            <a:stretch/>
          </p:blipFill>
          <p:spPr>
            <a:xfrm>
              <a:off x="7467480" y="10540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 Box 54"/>
            <p:cNvSpPr/>
            <p:nvPr/>
          </p:nvSpPr>
          <p:spPr>
            <a:xfrm>
              <a:off x="7476840" y="106344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55"/>
          <p:cNvGrpSpPr/>
          <p:nvPr/>
        </p:nvGrpSpPr>
        <p:grpSpPr>
          <a:xfrm>
            <a:off x="7467480" y="1030320"/>
            <a:ext cx="49320" cy="55440"/>
            <a:chOff x="7467480" y="1030320"/>
            <a:chExt cx="49320" cy="55440"/>
          </a:xfrm>
        </p:grpSpPr>
        <p:pic>
          <p:nvPicPr>
            <p:cNvPr id="633" name="椭圆 53" descr=""/>
            <p:cNvPicPr/>
            <p:nvPr/>
          </p:nvPicPr>
          <p:blipFill>
            <a:blip r:embed="rId32"/>
            <a:stretch/>
          </p:blipFill>
          <p:spPr>
            <a:xfrm>
              <a:off x="7467480" y="1030320"/>
              <a:ext cx="4932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57"/>
            <p:cNvSpPr/>
            <p:nvPr/>
          </p:nvSpPr>
          <p:spPr>
            <a:xfrm>
              <a:off x="7475400" y="1039680"/>
              <a:ext cx="3492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58"/>
          <p:cNvGrpSpPr/>
          <p:nvPr/>
        </p:nvGrpSpPr>
        <p:grpSpPr>
          <a:xfrm>
            <a:off x="7467480" y="944640"/>
            <a:ext cx="49320" cy="55440"/>
            <a:chOff x="7467480" y="944640"/>
            <a:chExt cx="49320" cy="55440"/>
          </a:xfrm>
        </p:grpSpPr>
        <p:pic>
          <p:nvPicPr>
            <p:cNvPr id="636" name="椭圆 54" descr=""/>
            <p:cNvPicPr/>
            <p:nvPr/>
          </p:nvPicPr>
          <p:blipFill>
            <a:blip r:embed="rId33"/>
            <a:stretch/>
          </p:blipFill>
          <p:spPr>
            <a:xfrm>
              <a:off x="7467480" y="944640"/>
              <a:ext cx="4932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60"/>
            <p:cNvSpPr/>
            <p:nvPr/>
          </p:nvSpPr>
          <p:spPr>
            <a:xfrm>
              <a:off x="7475400" y="955800"/>
              <a:ext cx="3492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61"/>
          <p:cNvGrpSpPr/>
          <p:nvPr/>
        </p:nvGrpSpPr>
        <p:grpSpPr>
          <a:xfrm>
            <a:off x="7564320" y="1030320"/>
            <a:ext cx="61920" cy="73080"/>
            <a:chOff x="7564320" y="1030320"/>
            <a:chExt cx="61920" cy="73080"/>
          </a:xfrm>
        </p:grpSpPr>
        <p:pic>
          <p:nvPicPr>
            <p:cNvPr id="639" name="椭圆 55" descr=""/>
            <p:cNvPicPr/>
            <p:nvPr/>
          </p:nvPicPr>
          <p:blipFill>
            <a:blip r:embed="rId34"/>
            <a:stretch/>
          </p:blipFill>
          <p:spPr>
            <a:xfrm>
              <a:off x="7564320" y="1030320"/>
              <a:ext cx="6192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 Box 63"/>
            <p:cNvSpPr/>
            <p:nvPr/>
          </p:nvSpPr>
          <p:spPr>
            <a:xfrm>
              <a:off x="7572240" y="104292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64"/>
          <p:cNvGrpSpPr/>
          <p:nvPr/>
        </p:nvGrpSpPr>
        <p:grpSpPr>
          <a:xfrm>
            <a:off x="7639200" y="957240"/>
            <a:ext cx="66600" cy="73080"/>
            <a:chOff x="7639200" y="957240"/>
            <a:chExt cx="66600" cy="73080"/>
          </a:xfrm>
        </p:grpSpPr>
        <p:pic>
          <p:nvPicPr>
            <p:cNvPr id="642" name="椭圆 56" descr=""/>
            <p:cNvPicPr/>
            <p:nvPr/>
          </p:nvPicPr>
          <p:blipFill>
            <a:blip r:embed="rId35"/>
            <a:stretch/>
          </p:blipFill>
          <p:spPr>
            <a:xfrm>
              <a:off x="7639200" y="95724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 Box 66"/>
            <p:cNvSpPr/>
            <p:nvPr/>
          </p:nvSpPr>
          <p:spPr>
            <a:xfrm>
              <a:off x="7647120" y="969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67"/>
          <p:cNvGrpSpPr/>
          <p:nvPr/>
        </p:nvGrpSpPr>
        <p:grpSpPr>
          <a:xfrm>
            <a:off x="7607160" y="981000"/>
            <a:ext cx="68400" cy="73080"/>
            <a:chOff x="7607160" y="981000"/>
            <a:chExt cx="68400" cy="73080"/>
          </a:xfrm>
        </p:grpSpPr>
        <p:pic>
          <p:nvPicPr>
            <p:cNvPr id="645" name="椭圆 57" descr=""/>
            <p:cNvPicPr/>
            <p:nvPr/>
          </p:nvPicPr>
          <p:blipFill>
            <a:blip r:embed="rId36"/>
            <a:stretch/>
          </p:blipFill>
          <p:spPr>
            <a:xfrm>
              <a:off x="7607160" y="981000"/>
              <a:ext cx="684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69"/>
            <p:cNvSpPr/>
            <p:nvPr/>
          </p:nvSpPr>
          <p:spPr>
            <a:xfrm>
              <a:off x="7618320" y="990360"/>
              <a:ext cx="4752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70"/>
          <p:cNvGrpSpPr/>
          <p:nvPr/>
        </p:nvGrpSpPr>
        <p:grpSpPr>
          <a:xfrm>
            <a:off x="7540560" y="1030320"/>
            <a:ext cx="66600" cy="73080"/>
            <a:chOff x="7540560" y="1030320"/>
            <a:chExt cx="66600" cy="73080"/>
          </a:xfrm>
        </p:grpSpPr>
        <p:pic>
          <p:nvPicPr>
            <p:cNvPr id="648" name="椭圆 58" descr=""/>
            <p:cNvPicPr/>
            <p:nvPr/>
          </p:nvPicPr>
          <p:blipFill>
            <a:blip r:embed="rId37"/>
            <a:stretch/>
          </p:blipFill>
          <p:spPr>
            <a:xfrm>
              <a:off x="754056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72"/>
            <p:cNvSpPr/>
            <p:nvPr/>
          </p:nvSpPr>
          <p:spPr>
            <a:xfrm>
              <a:off x="755172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73"/>
          <p:cNvGrpSpPr/>
          <p:nvPr/>
        </p:nvGrpSpPr>
        <p:grpSpPr>
          <a:xfrm>
            <a:off x="7607160" y="1054080"/>
            <a:ext cx="68400" cy="73080"/>
            <a:chOff x="7607160" y="1054080"/>
            <a:chExt cx="68400" cy="73080"/>
          </a:xfrm>
        </p:grpSpPr>
        <p:pic>
          <p:nvPicPr>
            <p:cNvPr id="651" name="椭圆 59" descr=""/>
            <p:cNvPicPr/>
            <p:nvPr/>
          </p:nvPicPr>
          <p:blipFill>
            <a:blip r:embed="rId38"/>
            <a:stretch/>
          </p:blipFill>
          <p:spPr>
            <a:xfrm>
              <a:off x="7607160" y="1054080"/>
              <a:ext cx="684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75"/>
            <p:cNvSpPr/>
            <p:nvPr/>
          </p:nvSpPr>
          <p:spPr>
            <a:xfrm>
              <a:off x="7618320" y="1063440"/>
              <a:ext cx="4752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76"/>
          <p:cNvGrpSpPr/>
          <p:nvPr/>
        </p:nvGrpSpPr>
        <p:grpSpPr>
          <a:xfrm>
            <a:off x="7564320" y="1042920"/>
            <a:ext cx="61920" cy="66600"/>
            <a:chOff x="7564320" y="1042920"/>
            <a:chExt cx="61920" cy="66600"/>
          </a:xfrm>
        </p:grpSpPr>
        <p:pic>
          <p:nvPicPr>
            <p:cNvPr id="654" name="椭圆 60" descr=""/>
            <p:cNvPicPr/>
            <p:nvPr/>
          </p:nvPicPr>
          <p:blipFill>
            <a:blip r:embed="rId39"/>
            <a:stretch/>
          </p:blipFill>
          <p:spPr>
            <a:xfrm>
              <a:off x="7564320" y="1042920"/>
              <a:ext cx="6192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78"/>
            <p:cNvSpPr/>
            <p:nvPr/>
          </p:nvSpPr>
          <p:spPr>
            <a:xfrm>
              <a:off x="7572240" y="105084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79"/>
          <p:cNvGrpSpPr/>
          <p:nvPr/>
        </p:nvGrpSpPr>
        <p:grpSpPr>
          <a:xfrm>
            <a:off x="7564320" y="1054080"/>
            <a:ext cx="49320" cy="55440"/>
            <a:chOff x="7564320" y="1054080"/>
            <a:chExt cx="49320" cy="55440"/>
          </a:xfrm>
        </p:grpSpPr>
        <p:pic>
          <p:nvPicPr>
            <p:cNvPr id="657" name="椭圆 61" descr=""/>
            <p:cNvPicPr/>
            <p:nvPr/>
          </p:nvPicPr>
          <p:blipFill>
            <a:blip r:embed="rId40"/>
            <a:stretch/>
          </p:blipFill>
          <p:spPr>
            <a:xfrm>
              <a:off x="7564320" y="1054080"/>
              <a:ext cx="4932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81"/>
            <p:cNvSpPr/>
            <p:nvPr/>
          </p:nvSpPr>
          <p:spPr>
            <a:xfrm>
              <a:off x="7569000" y="1060560"/>
              <a:ext cx="3492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82"/>
          <p:cNvGrpSpPr/>
          <p:nvPr/>
        </p:nvGrpSpPr>
        <p:grpSpPr>
          <a:xfrm>
            <a:off x="7607160" y="1030320"/>
            <a:ext cx="68400" cy="73080"/>
            <a:chOff x="7607160" y="1030320"/>
            <a:chExt cx="68400" cy="73080"/>
          </a:xfrm>
        </p:grpSpPr>
        <p:pic>
          <p:nvPicPr>
            <p:cNvPr id="660" name="椭圆 62" descr=""/>
            <p:cNvPicPr/>
            <p:nvPr/>
          </p:nvPicPr>
          <p:blipFill>
            <a:blip r:embed="rId41"/>
            <a:stretch/>
          </p:blipFill>
          <p:spPr>
            <a:xfrm>
              <a:off x="7607160" y="1030320"/>
              <a:ext cx="684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84"/>
            <p:cNvSpPr/>
            <p:nvPr/>
          </p:nvSpPr>
          <p:spPr>
            <a:xfrm>
              <a:off x="761832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85"/>
          <p:cNvGrpSpPr/>
          <p:nvPr/>
        </p:nvGrpSpPr>
        <p:grpSpPr>
          <a:xfrm>
            <a:off x="7626240" y="1017720"/>
            <a:ext cx="66600" cy="72720"/>
            <a:chOff x="7626240" y="1017720"/>
            <a:chExt cx="66600" cy="72720"/>
          </a:xfrm>
        </p:grpSpPr>
        <p:pic>
          <p:nvPicPr>
            <p:cNvPr id="663" name="椭圆 63" descr=""/>
            <p:cNvPicPr/>
            <p:nvPr/>
          </p:nvPicPr>
          <p:blipFill>
            <a:blip r:embed="rId42"/>
            <a:stretch/>
          </p:blipFill>
          <p:spPr>
            <a:xfrm>
              <a:off x="7626240" y="1017720"/>
              <a:ext cx="6660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87"/>
            <p:cNvSpPr/>
            <p:nvPr/>
          </p:nvSpPr>
          <p:spPr>
            <a:xfrm>
              <a:off x="7638840" y="1029960"/>
              <a:ext cx="4608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88"/>
          <p:cNvGrpSpPr/>
          <p:nvPr/>
        </p:nvGrpSpPr>
        <p:grpSpPr>
          <a:xfrm>
            <a:off x="7607160" y="1054080"/>
            <a:ext cx="68400" cy="73080"/>
            <a:chOff x="7607160" y="1054080"/>
            <a:chExt cx="68400" cy="73080"/>
          </a:xfrm>
        </p:grpSpPr>
        <p:pic>
          <p:nvPicPr>
            <p:cNvPr id="666" name="椭圆 64" descr=""/>
            <p:cNvPicPr/>
            <p:nvPr/>
          </p:nvPicPr>
          <p:blipFill>
            <a:blip r:embed="rId43"/>
            <a:stretch/>
          </p:blipFill>
          <p:spPr>
            <a:xfrm>
              <a:off x="7607160" y="1054080"/>
              <a:ext cx="684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90"/>
            <p:cNvSpPr/>
            <p:nvPr/>
          </p:nvSpPr>
          <p:spPr>
            <a:xfrm>
              <a:off x="7618320" y="1063440"/>
              <a:ext cx="4752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91"/>
          <p:cNvGrpSpPr/>
          <p:nvPr/>
        </p:nvGrpSpPr>
        <p:grpSpPr>
          <a:xfrm>
            <a:off x="7607160" y="1030320"/>
            <a:ext cx="49320" cy="55440"/>
            <a:chOff x="7607160" y="1030320"/>
            <a:chExt cx="49320" cy="55440"/>
          </a:xfrm>
        </p:grpSpPr>
        <p:pic>
          <p:nvPicPr>
            <p:cNvPr id="669" name="椭圆 65" descr=""/>
            <p:cNvPicPr/>
            <p:nvPr/>
          </p:nvPicPr>
          <p:blipFill>
            <a:blip r:embed="rId44"/>
            <a:stretch/>
          </p:blipFill>
          <p:spPr>
            <a:xfrm>
              <a:off x="7607160" y="1030320"/>
              <a:ext cx="4932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 Box 93"/>
            <p:cNvSpPr/>
            <p:nvPr/>
          </p:nvSpPr>
          <p:spPr>
            <a:xfrm>
              <a:off x="7615080" y="1039680"/>
              <a:ext cx="363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94"/>
          <p:cNvGrpSpPr/>
          <p:nvPr/>
        </p:nvGrpSpPr>
        <p:grpSpPr>
          <a:xfrm>
            <a:off x="7607160" y="944640"/>
            <a:ext cx="49320" cy="55440"/>
            <a:chOff x="7607160" y="944640"/>
            <a:chExt cx="49320" cy="55440"/>
          </a:xfrm>
        </p:grpSpPr>
        <p:pic>
          <p:nvPicPr>
            <p:cNvPr id="672" name="椭圆 66" descr=""/>
            <p:cNvPicPr/>
            <p:nvPr/>
          </p:nvPicPr>
          <p:blipFill>
            <a:blip r:embed="rId45"/>
            <a:stretch/>
          </p:blipFill>
          <p:spPr>
            <a:xfrm>
              <a:off x="7607160" y="944640"/>
              <a:ext cx="4932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Text Box 96"/>
            <p:cNvSpPr/>
            <p:nvPr/>
          </p:nvSpPr>
          <p:spPr>
            <a:xfrm>
              <a:off x="7615080" y="955800"/>
              <a:ext cx="363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97"/>
          <p:cNvGrpSpPr/>
          <p:nvPr/>
        </p:nvGrpSpPr>
        <p:grpSpPr>
          <a:xfrm>
            <a:off x="7486560" y="1030320"/>
            <a:ext cx="66600" cy="73080"/>
            <a:chOff x="7486560" y="1030320"/>
            <a:chExt cx="66600" cy="73080"/>
          </a:xfrm>
        </p:grpSpPr>
        <p:pic>
          <p:nvPicPr>
            <p:cNvPr id="675" name="椭圆 67" descr=""/>
            <p:cNvPicPr/>
            <p:nvPr/>
          </p:nvPicPr>
          <p:blipFill>
            <a:blip r:embed="rId46"/>
            <a:stretch/>
          </p:blipFill>
          <p:spPr>
            <a:xfrm>
              <a:off x="748656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99"/>
            <p:cNvSpPr/>
            <p:nvPr/>
          </p:nvSpPr>
          <p:spPr>
            <a:xfrm>
              <a:off x="749772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100"/>
          <p:cNvGrpSpPr/>
          <p:nvPr/>
        </p:nvGrpSpPr>
        <p:grpSpPr>
          <a:xfrm>
            <a:off x="7564320" y="957240"/>
            <a:ext cx="68400" cy="73080"/>
            <a:chOff x="7564320" y="957240"/>
            <a:chExt cx="68400" cy="73080"/>
          </a:xfrm>
        </p:grpSpPr>
        <p:pic>
          <p:nvPicPr>
            <p:cNvPr id="678" name="椭圆 68" descr=""/>
            <p:cNvPicPr/>
            <p:nvPr/>
          </p:nvPicPr>
          <p:blipFill>
            <a:blip r:embed="rId47"/>
            <a:stretch/>
          </p:blipFill>
          <p:spPr>
            <a:xfrm>
              <a:off x="7564320" y="957240"/>
              <a:ext cx="684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 Box 102"/>
            <p:cNvSpPr/>
            <p:nvPr/>
          </p:nvSpPr>
          <p:spPr>
            <a:xfrm>
              <a:off x="7572240" y="969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103"/>
          <p:cNvGrpSpPr/>
          <p:nvPr/>
        </p:nvGrpSpPr>
        <p:grpSpPr>
          <a:xfrm>
            <a:off x="7534440" y="981000"/>
            <a:ext cx="66600" cy="73080"/>
            <a:chOff x="7534440" y="981000"/>
            <a:chExt cx="66600" cy="73080"/>
          </a:xfrm>
        </p:grpSpPr>
        <p:pic>
          <p:nvPicPr>
            <p:cNvPr id="681" name="椭圆 69" descr=""/>
            <p:cNvPicPr/>
            <p:nvPr/>
          </p:nvPicPr>
          <p:blipFill>
            <a:blip r:embed="rId48"/>
            <a:stretch/>
          </p:blipFill>
          <p:spPr>
            <a:xfrm>
              <a:off x="7534440" y="98100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105"/>
            <p:cNvSpPr/>
            <p:nvPr/>
          </p:nvSpPr>
          <p:spPr>
            <a:xfrm>
              <a:off x="7543800" y="99036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106"/>
          <p:cNvGrpSpPr/>
          <p:nvPr/>
        </p:nvGrpSpPr>
        <p:grpSpPr>
          <a:xfrm>
            <a:off x="7467480" y="1030320"/>
            <a:ext cx="66600" cy="73080"/>
            <a:chOff x="7467480" y="1030320"/>
            <a:chExt cx="66600" cy="73080"/>
          </a:xfrm>
        </p:grpSpPr>
        <p:pic>
          <p:nvPicPr>
            <p:cNvPr id="684" name="椭圆 70" descr=""/>
            <p:cNvPicPr/>
            <p:nvPr/>
          </p:nvPicPr>
          <p:blipFill>
            <a:blip r:embed="rId49"/>
            <a:stretch/>
          </p:blipFill>
          <p:spPr>
            <a:xfrm>
              <a:off x="746748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108"/>
            <p:cNvSpPr/>
            <p:nvPr/>
          </p:nvSpPr>
          <p:spPr>
            <a:xfrm>
              <a:off x="7476840" y="104292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109"/>
          <p:cNvGrpSpPr/>
          <p:nvPr/>
        </p:nvGrpSpPr>
        <p:grpSpPr>
          <a:xfrm>
            <a:off x="7534440" y="1054080"/>
            <a:ext cx="66600" cy="73080"/>
            <a:chOff x="7534440" y="1054080"/>
            <a:chExt cx="66600" cy="73080"/>
          </a:xfrm>
        </p:grpSpPr>
        <p:pic>
          <p:nvPicPr>
            <p:cNvPr id="687" name="椭圆 71" descr=""/>
            <p:cNvPicPr/>
            <p:nvPr/>
          </p:nvPicPr>
          <p:blipFill>
            <a:blip r:embed="rId50"/>
            <a:stretch/>
          </p:blipFill>
          <p:spPr>
            <a:xfrm>
              <a:off x="7534440" y="10540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111"/>
            <p:cNvSpPr/>
            <p:nvPr/>
          </p:nvSpPr>
          <p:spPr>
            <a:xfrm>
              <a:off x="7543800" y="106344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112"/>
          <p:cNvGrpSpPr/>
          <p:nvPr/>
        </p:nvGrpSpPr>
        <p:grpSpPr>
          <a:xfrm>
            <a:off x="7486560" y="1042920"/>
            <a:ext cx="66600" cy="66600"/>
            <a:chOff x="7486560" y="1042920"/>
            <a:chExt cx="66600" cy="66600"/>
          </a:xfrm>
        </p:grpSpPr>
        <p:pic>
          <p:nvPicPr>
            <p:cNvPr id="690" name="椭圆 72" descr=""/>
            <p:cNvPicPr/>
            <p:nvPr/>
          </p:nvPicPr>
          <p:blipFill>
            <a:blip r:embed="rId51"/>
            <a:stretch/>
          </p:blipFill>
          <p:spPr>
            <a:xfrm>
              <a:off x="7486560" y="1042920"/>
              <a:ext cx="666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114"/>
            <p:cNvSpPr/>
            <p:nvPr/>
          </p:nvSpPr>
          <p:spPr>
            <a:xfrm>
              <a:off x="7497720" y="1050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115"/>
          <p:cNvGrpSpPr/>
          <p:nvPr/>
        </p:nvGrpSpPr>
        <p:grpSpPr>
          <a:xfrm>
            <a:off x="7486560" y="1054080"/>
            <a:ext cx="54000" cy="55440"/>
            <a:chOff x="7486560" y="1054080"/>
            <a:chExt cx="54000" cy="55440"/>
          </a:xfrm>
        </p:grpSpPr>
        <p:pic>
          <p:nvPicPr>
            <p:cNvPr id="693" name="椭圆 73" descr=""/>
            <p:cNvPicPr/>
            <p:nvPr/>
          </p:nvPicPr>
          <p:blipFill>
            <a:blip r:embed="rId52"/>
            <a:stretch/>
          </p:blipFill>
          <p:spPr>
            <a:xfrm>
              <a:off x="7486560" y="1054080"/>
              <a:ext cx="5400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117"/>
            <p:cNvSpPr/>
            <p:nvPr/>
          </p:nvSpPr>
          <p:spPr>
            <a:xfrm>
              <a:off x="7494480" y="1060560"/>
              <a:ext cx="3636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8"/>
          <p:cNvGrpSpPr/>
          <p:nvPr/>
        </p:nvGrpSpPr>
        <p:grpSpPr>
          <a:xfrm>
            <a:off x="7534440" y="1030320"/>
            <a:ext cx="66600" cy="73080"/>
            <a:chOff x="7534440" y="1030320"/>
            <a:chExt cx="66600" cy="73080"/>
          </a:xfrm>
        </p:grpSpPr>
        <p:pic>
          <p:nvPicPr>
            <p:cNvPr id="696" name="椭圆 74" descr=""/>
            <p:cNvPicPr/>
            <p:nvPr/>
          </p:nvPicPr>
          <p:blipFill>
            <a:blip r:embed="rId53"/>
            <a:stretch/>
          </p:blipFill>
          <p:spPr>
            <a:xfrm>
              <a:off x="753444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 Box 120"/>
            <p:cNvSpPr/>
            <p:nvPr/>
          </p:nvSpPr>
          <p:spPr>
            <a:xfrm>
              <a:off x="7543800" y="104292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21"/>
          <p:cNvGrpSpPr/>
          <p:nvPr/>
        </p:nvGrpSpPr>
        <p:grpSpPr>
          <a:xfrm>
            <a:off x="7553160" y="1017720"/>
            <a:ext cx="66600" cy="72720"/>
            <a:chOff x="7553160" y="1017720"/>
            <a:chExt cx="66600" cy="72720"/>
          </a:xfrm>
        </p:grpSpPr>
        <p:pic>
          <p:nvPicPr>
            <p:cNvPr id="699" name="椭圆 75" descr=""/>
            <p:cNvPicPr/>
            <p:nvPr/>
          </p:nvPicPr>
          <p:blipFill>
            <a:blip r:embed="rId54"/>
            <a:stretch/>
          </p:blipFill>
          <p:spPr>
            <a:xfrm>
              <a:off x="7553160" y="1017720"/>
              <a:ext cx="6660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 Box 123"/>
            <p:cNvSpPr/>
            <p:nvPr/>
          </p:nvSpPr>
          <p:spPr>
            <a:xfrm>
              <a:off x="7564320" y="1029960"/>
              <a:ext cx="4608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124"/>
          <p:cNvGrpSpPr/>
          <p:nvPr/>
        </p:nvGrpSpPr>
        <p:grpSpPr>
          <a:xfrm>
            <a:off x="7534440" y="1054080"/>
            <a:ext cx="66600" cy="73080"/>
            <a:chOff x="7534440" y="1054080"/>
            <a:chExt cx="66600" cy="73080"/>
          </a:xfrm>
        </p:grpSpPr>
        <p:pic>
          <p:nvPicPr>
            <p:cNvPr id="702" name="椭圆 76" descr=""/>
            <p:cNvPicPr/>
            <p:nvPr/>
          </p:nvPicPr>
          <p:blipFill>
            <a:blip r:embed="rId55"/>
            <a:stretch/>
          </p:blipFill>
          <p:spPr>
            <a:xfrm>
              <a:off x="7534440" y="10540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126"/>
            <p:cNvSpPr/>
            <p:nvPr/>
          </p:nvSpPr>
          <p:spPr>
            <a:xfrm>
              <a:off x="7543800" y="106344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127"/>
          <p:cNvGrpSpPr/>
          <p:nvPr/>
        </p:nvGrpSpPr>
        <p:grpSpPr>
          <a:xfrm>
            <a:off x="7534440" y="1030320"/>
            <a:ext cx="48960" cy="55440"/>
            <a:chOff x="7534440" y="1030320"/>
            <a:chExt cx="48960" cy="55440"/>
          </a:xfrm>
        </p:grpSpPr>
        <p:pic>
          <p:nvPicPr>
            <p:cNvPr id="705" name="椭圆 77" descr=""/>
            <p:cNvPicPr/>
            <p:nvPr/>
          </p:nvPicPr>
          <p:blipFill>
            <a:blip r:embed="rId56"/>
            <a:stretch/>
          </p:blipFill>
          <p:spPr>
            <a:xfrm>
              <a:off x="7534440" y="1030320"/>
              <a:ext cx="4896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Text Box 129"/>
            <p:cNvSpPr/>
            <p:nvPr/>
          </p:nvSpPr>
          <p:spPr>
            <a:xfrm>
              <a:off x="7542000" y="1039680"/>
              <a:ext cx="345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30"/>
          <p:cNvGrpSpPr/>
          <p:nvPr/>
        </p:nvGrpSpPr>
        <p:grpSpPr>
          <a:xfrm>
            <a:off x="7534440" y="944640"/>
            <a:ext cx="48960" cy="55440"/>
            <a:chOff x="7534440" y="944640"/>
            <a:chExt cx="48960" cy="55440"/>
          </a:xfrm>
        </p:grpSpPr>
        <p:pic>
          <p:nvPicPr>
            <p:cNvPr id="708" name="椭圆 78" descr=""/>
            <p:cNvPicPr/>
            <p:nvPr/>
          </p:nvPicPr>
          <p:blipFill>
            <a:blip r:embed="rId57"/>
            <a:stretch/>
          </p:blipFill>
          <p:spPr>
            <a:xfrm>
              <a:off x="7534440" y="944640"/>
              <a:ext cx="4896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 Box 132"/>
            <p:cNvSpPr/>
            <p:nvPr/>
          </p:nvSpPr>
          <p:spPr>
            <a:xfrm>
              <a:off x="7542000" y="955800"/>
              <a:ext cx="345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0" name="图片 79" descr=""/>
          <p:cNvPicPr/>
          <p:nvPr/>
        </p:nvPicPr>
        <p:blipFill>
          <a:blip r:embed="rId58"/>
          <a:stretch/>
        </p:blipFill>
        <p:spPr>
          <a:xfrm>
            <a:off x="2489040" y="1987560"/>
            <a:ext cx="1141560" cy="251604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80" descr=""/>
          <p:cNvPicPr/>
          <p:nvPr/>
        </p:nvPicPr>
        <p:blipFill>
          <a:blip r:embed="rId59"/>
          <a:stretch/>
        </p:blipFill>
        <p:spPr>
          <a:xfrm>
            <a:off x="3386160" y="2784600"/>
            <a:ext cx="849240" cy="871560"/>
          </a:xfrm>
          <a:prstGeom prst="rect">
            <a:avLst/>
          </a:prstGeom>
          <a:ln w="0">
            <a:noFill/>
          </a:ln>
        </p:spPr>
      </p:pic>
      <p:grpSp>
        <p:nvGrpSpPr>
          <p:cNvPr id="712" name="Group 135"/>
          <p:cNvGrpSpPr/>
          <p:nvPr/>
        </p:nvGrpSpPr>
        <p:grpSpPr>
          <a:xfrm>
            <a:off x="4694400" y="5516640"/>
            <a:ext cx="66600" cy="73080"/>
            <a:chOff x="4694400" y="5516640"/>
            <a:chExt cx="66600" cy="73080"/>
          </a:xfrm>
        </p:grpSpPr>
        <p:pic>
          <p:nvPicPr>
            <p:cNvPr id="713" name="椭圆 81" descr=""/>
            <p:cNvPicPr/>
            <p:nvPr/>
          </p:nvPicPr>
          <p:blipFill>
            <a:blip r:embed="rId60"/>
            <a:stretch/>
          </p:blipFill>
          <p:spPr>
            <a:xfrm>
              <a:off x="4694400" y="551664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137"/>
            <p:cNvSpPr/>
            <p:nvPr/>
          </p:nvSpPr>
          <p:spPr>
            <a:xfrm>
              <a:off x="4700880" y="552780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38"/>
          <p:cNvGrpSpPr/>
          <p:nvPr/>
        </p:nvGrpSpPr>
        <p:grpSpPr>
          <a:xfrm>
            <a:off x="6168960" y="6669000"/>
            <a:ext cx="66600" cy="73080"/>
            <a:chOff x="6168960" y="6669000"/>
            <a:chExt cx="66600" cy="73080"/>
          </a:xfrm>
        </p:grpSpPr>
        <p:pic>
          <p:nvPicPr>
            <p:cNvPr id="716" name="椭圆 82" descr=""/>
            <p:cNvPicPr/>
            <p:nvPr/>
          </p:nvPicPr>
          <p:blipFill>
            <a:blip r:embed="rId61"/>
            <a:stretch/>
          </p:blipFill>
          <p:spPr>
            <a:xfrm>
              <a:off x="6168960" y="666900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140"/>
            <p:cNvSpPr/>
            <p:nvPr/>
          </p:nvSpPr>
          <p:spPr>
            <a:xfrm>
              <a:off x="6176880" y="668016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1"/>
          <p:cNvGrpSpPr/>
          <p:nvPr/>
        </p:nvGrpSpPr>
        <p:grpSpPr>
          <a:xfrm>
            <a:off x="5810400" y="6497640"/>
            <a:ext cx="66600" cy="68400"/>
            <a:chOff x="5810400" y="6497640"/>
            <a:chExt cx="66600" cy="68400"/>
          </a:xfrm>
        </p:grpSpPr>
        <p:pic>
          <p:nvPicPr>
            <p:cNvPr id="719" name="椭圆 83" descr=""/>
            <p:cNvPicPr/>
            <p:nvPr/>
          </p:nvPicPr>
          <p:blipFill>
            <a:blip r:embed="rId62"/>
            <a:stretch/>
          </p:blipFill>
          <p:spPr>
            <a:xfrm>
              <a:off x="5810400" y="6497640"/>
              <a:ext cx="6660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143"/>
            <p:cNvSpPr/>
            <p:nvPr/>
          </p:nvSpPr>
          <p:spPr>
            <a:xfrm>
              <a:off x="5818320" y="6507000"/>
              <a:ext cx="460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144"/>
          <p:cNvGrpSpPr/>
          <p:nvPr/>
        </p:nvGrpSpPr>
        <p:grpSpPr>
          <a:xfrm>
            <a:off x="6699240" y="6340320"/>
            <a:ext cx="66600" cy="66600"/>
            <a:chOff x="6699240" y="6340320"/>
            <a:chExt cx="66600" cy="66600"/>
          </a:xfrm>
        </p:grpSpPr>
        <p:pic>
          <p:nvPicPr>
            <p:cNvPr id="722" name="椭圆 84" descr=""/>
            <p:cNvPicPr/>
            <p:nvPr/>
          </p:nvPicPr>
          <p:blipFill>
            <a:blip r:embed="rId63"/>
            <a:stretch/>
          </p:blipFill>
          <p:spPr>
            <a:xfrm>
              <a:off x="6699240" y="6340320"/>
              <a:ext cx="666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Text Box 146"/>
            <p:cNvSpPr/>
            <p:nvPr/>
          </p:nvSpPr>
          <p:spPr>
            <a:xfrm>
              <a:off x="6708600" y="634824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147"/>
          <p:cNvGrpSpPr/>
          <p:nvPr/>
        </p:nvGrpSpPr>
        <p:grpSpPr>
          <a:xfrm>
            <a:off x="7364520" y="6162840"/>
            <a:ext cx="66600" cy="72720"/>
            <a:chOff x="7364520" y="6162840"/>
            <a:chExt cx="66600" cy="72720"/>
          </a:xfrm>
        </p:grpSpPr>
        <p:pic>
          <p:nvPicPr>
            <p:cNvPr id="725" name="椭圆 85" descr=""/>
            <p:cNvPicPr/>
            <p:nvPr/>
          </p:nvPicPr>
          <p:blipFill>
            <a:blip r:embed="rId64"/>
            <a:stretch/>
          </p:blipFill>
          <p:spPr>
            <a:xfrm>
              <a:off x="7364520" y="6162840"/>
              <a:ext cx="6660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 Box 149"/>
            <p:cNvSpPr/>
            <p:nvPr/>
          </p:nvSpPr>
          <p:spPr>
            <a:xfrm>
              <a:off x="7373880" y="6175080"/>
              <a:ext cx="4608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50"/>
          <p:cNvGrpSpPr/>
          <p:nvPr/>
        </p:nvGrpSpPr>
        <p:grpSpPr>
          <a:xfrm>
            <a:off x="7827840" y="5821200"/>
            <a:ext cx="66600" cy="73080"/>
            <a:chOff x="7827840" y="5821200"/>
            <a:chExt cx="66600" cy="73080"/>
          </a:xfrm>
        </p:grpSpPr>
        <p:pic>
          <p:nvPicPr>
            <p:cNvPr id="728" name="椭圆 86" descr=""/>
            <p:cNvPicPr/>
            <p:nvPr/>
          </p:nvPicPr>
          <p:blipFill>
            <a:blip r:embed="rId65"/>
            <a:stretch/>
          </p:blipFill>
          <p:spPr>
            <a:xfrm>
              <a:off x="7827840" y="582120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152"/>
            <p:cNvSpPr/>
            <p:nvPr/>
          </p:nvSpPr>
          <p:spPr>
            <a:xfrm>
              <a:off x="7839000" y="5830560"/>
              <a:ext cx="460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53"/>
          <p:cNvGrpSpPr/>
          <p:nvPr/>
        </p:nvGrpSpPr>
        <p:grpSpPr>
          <a:xfrm>
            <a:off x="8759880" y="6583320"/>
            <a:ext cx="66600" cy="73080"/>
            <a:chOff x="8759880" y="6583320"/>
            <a:chExt cx="66600" cy="73080"/>
          </a:xfrm>
        </p:grpSpPr>
        <p:pic>
          <p:nvPicPr>
            <p:cNvPr id="731" name="椭圆 87" descr=""/>
            <p:cNvPicPr/>
            <p:nvPr/>
          </p:nvPicPr>
          <p:blipFill>
            <a:blip r:embed="rId66"/>
            <a:stretch/>
          </p:blipFill>
          <p:spPr>
            <a:xfrm>
              <a:off x="8759880" y="6583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 Box 155"/>
            <p:cNvSpPr/>
            <p:nvPr/>
          </p:nvSpPr>
          <p:spPr>
            <a:xfrm>
              <a:off x="8769240" y="659448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156"/>
          <p:cNvGrpSpPr/>
          <p:nvPr/>
        </p:nvGrpSpPr>
        <p:grpSpPr>
          <a:xfrm>
            <a:off x="8534520" y="5114880"/>
            <a:ext cx="66600" cy="73080"/>
            <a:chOff x="8534520" y="5114880"/>
            <a:chExt cx="66600" cy="73080"/>
          </a:xfrm>
        </p:grpSpPr>
        <p:pic>
          <p:nvPicPr>
            <p:cNvPr id="734" name="椭圆 88" descr=""/>
            <p:cNvPicPr/>
            <p:nvPr/>
          </p:nvPicPr>
          <p:blipFill>
            <a:blip r:embed="rId67"/>
            <a:stretch/>
          </p:blipFill>
          <p:spPr>
            <a:xfrm>
              <a:off x="8534520" y="51148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 Box 158"/>
            <p:cNvSpPr/>
            <p:nvPr/>
          </p:nvSpPr>
          <p:spPr>
            <a:xfrm>
              <a:off x="8543880" y="5124240"/>
              <a:ext cx="460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159"/>
          <p:cNvGrpSpPr/>
          <p:nvPr/>
        </p:nvGrpSpPr>
        <p:grpSpPr>
          <a:xfrm>
            <a:off x="8296200" y="5505480"/>
            <a:ext cx="66600" cy="66600"/>
            <a:chOff x="8296200" y="5505480"/>
            <a:chExt cx="66600" cy="66600"/>
          </a:xfrm>
        </p:grpSpPr>
        <p:pic>
          <p:nvPicPr>
            <p:cNvPr id="737" name="椭圆 89" descr=""/>
            <p:cNvPicPr/>
            <p:nvPr/>
          </p:nvPicPr>
          <p:blipFill>
            <a:blip r:embed="rId68"/>
            <a:stretch/>
          </p:blipFill>
          <p:spPr>
            <a:xfrm>
              <a:off x="8296200" y="5505480"/>
              <a:ext cx="666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 Box 161"/>
            <p:cNvSpPr/>
            <p:nvPr/>
          </p:nvSpPr>
          <p:spPr>
            <a:xfrm>
              <a:off x="8304120" y="551340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162"/>
          <p:cNvGrpSpPr/>
          <p:nvPr/>
        </p:nvGrpSpPr>
        <p:grpSpPr>
          <a:xfrm>
            <a:off x="5327640" y="4913280"/>
            <a:ext cx="66600" cy="73080"/>
            <a:chOff x="5327640" y="4913280"/>
            <a:chExt cx="66600" cy="73080"/>
          </a:xfrm>
        </p:grpSpPr>
        <p:pic>
          <p:nvPicPr>
            <p:cNvPr id="740" name="椭圆 90" descr=""/>
            <p:cNvPicPr/>
            <p:nvPr/>
          </p:nvPicPr>
          <p:blipFill>
            <a:blip r:embed="rId69"/>
            <a:stretch/>
          </p:blipFill>
          <p:spPr>
            <a:xfrm>
              <a:off x="5327640" y="49132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 Box 164"/>
            <p:cNvSpPr/>
            <p:nvPr/>
          </p:nvSpPr>
          <p:spPr>
            <a:xfrm>
              <a:off x="5340240" y="4922640"/>
              <a:ext cx="460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165"/>
          <p:cNvGrpSpPr/>
          <p:nvPr/>
        </p:nvGrpSpPr>
        <p:grpSpPr>
          <a:xfrm>
            <a:off x="6168960" y="4438800"/>
            <a:ext cx="66600" cy="72720"/>
            <a:chOff x="6168960" y="4438800"/>
            <a:chExt cx="66600" cy="72720"/>
          </a:xfrm>
        </p:grpSpPr>
        <p:pic>
          <p:nvPicPr>
            <p:cNvPr id="743" name="椭圆 91" descr=""/>
            <p:cNvPicPr/>
            <p:nvPr/>
          </p:nvPicPr>
          <p:blipFill>
            <a:blip r:embed="rId70"/>
            <a:stretch/>
          </p:blipFill>
          <p:spPr>
            <a:xfrm>
              <a:off x="6168960" y="4438800"/>
              <a:ext cx="6660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Text Box 167"/>
            <p:cNvSpPr/>
            <p:nvPr/>
          </p:nvSpPr>
          <p:spPr>
            <a:xfrm>
              <a:off x="6176880" y="444780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168"/>
          <p:cNvGrpSpPr/>
          <p:nvPr/>
        </p:nvGrpSpPr>
        <p:grpSpPr>
          <a:xfrm>
            <a:off x="4559400" y="5273640"/>
            <a:ext cx="68040" cy="73080"/>
            <a:chOff x="4559400" y="5273640"/>
            <a:chExt cx="68040" cy="73080"/>
          </a:xfrm>
        </p:grpSpPr>
        <p:pic>
          <p:nvPicPr>
            <p:cNvPr id="746" name="椭圆 92" descr=""/>
            <p:cNvPicPr/>
            <p:nvPr/>
          </p:nvPicPr>
          <p:blipFill>
            <a:blip r:embed="rId71"/>
            <a:stretch/>
          </p:blipFill>
          <p:spPr>
            <a:xfrm>
              <a:off x="4559400" y="5273640"/>
              <a:ext cx="6804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Text Box 170"/>
            <p:cNvSpPr/>
            <p:nvPr/>
          </p:nvSpPr>
          <p:spPr>
            <a:xfrm>
              <a:off x="4568400" y="5283000"/>
              <a:ext cx="4572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171"/>
          <p:cNvGrpSpPr/>
          <p:nvPr/>
        </p:nvGrpSpPr>
        <p:grpSpPr>
          <a:xfrm>
            <a:off x="4968720" y="4925880"/>
            <a:ext cx="66600" cy="73080"/>
            <a:chOff x="4968720" y="4925880"/>
            <a:chExt cx="66600" cy="73080"/>
          </a:xfrm>
        </p:grpSpPr>
        <p:pic>
          <p:nvPicPr>
            <p:cNvPr id="749" name="椭圆 93" descr=""/>
            <p:cNvPicPr/>
            <p:nvPr/>
          </p:nvPicPr>
          <p:blipFill>
            <a:blip r:embed="rId72"/>
            <a:stretch/>
          </p:blipFill>
          <p:spPr>
            <a:xfrm>
              <a:off x="4968720" y="49258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 Box 173"/>
            <p:cNvSpPr/>
            <p:nvPr/>
          </p:nvSpPr>
          <p:spPr>
            <a:xfrm>
              <a:off x="4979880" y="49370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174"/>
          <p:cNvGrpSpPr/>
          <p:nvPr/>
        </p:nvGrpSpPr>
        <p:grpSpPr>
          <a:xfrm>
            <a:off x="5029200" y="2773440"/>
            <a:ext cx="73080" cy="79200"/>
            <a:chOff x="5029200" y="2773440"/>
            <a:chExt cx="73080" cy="79200"/>
          </a:xfrm>
        </p:grpSpPr>
        <p:pic>
          <p:nvPicPr>
            <p:cNvPr id="752" name="椭圆 94" descr=""/>
            <p:cNvPicPr/>
            <p:nvPr/>
          </p:nvPicPr>
          <p:blipFill>
            <a:blip r:embed="rId73"/>
            <a:stretch/>
          </p:blipFill>
          <p:spPr>
            <a:xfrm>
              <a:off x="5029200" y="277344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Text Box 176"/>
            <p:cNvSpPr/>
            <p:nvPr/>
          </p:nvSpPr>
          <p:spPr>
            <a:xfrm>
              <a:off x="5041800" y="2786040"/>
              <a:ext cx="507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77"/>
          <p:cNvGrpSpPr/>
          <p:nvPr/>
        </p:nvGrpSpPr>
        <p:grpSpPr>
          <a:xfrm>
            <a:off x="5029200" y="2773440"/>
            <a:ext cx="73080" cy="79200"/>
            <a:chOff x="5029200" y="2773440"/>
            <a:chExt cx="73080" cy="79200"/>
          </a:xfrm>
        </p:grpSpPr>
        <p:pic>
          <p:nvPicPr>
            <p:cNvPr id="755" name="椭圆 97" descr=""/>
            <p:cNvPicPr/>
            <p:nvPr/>
          </p:nvPicPr>
          <p:blipFill>
            <a:blip r:embed="rId74"/>
            <a:stretch/>
          </p:blipFill>
          <p:spPr>
            <a:xfrm>
              <a:off x="5029200" y="277344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Text Box 179"/>
            <p:cNvSpPr/>
            <p:nvPr/>
          </p:nvSpPr>
          <p:spPr>
            <a:xfrm>
              <a:off x="5041800" y="2786040"/>
              <a:ext cx="507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80"/>
          <p:cNvGrpSpPr/>
          <p:nvPr/>
        </p:nvGrpSpPr>
        <p:grpSpPr>
          <a:xfrm>
            <a:off x="5029200" y="2773440"/>
            <a:ext cx="73080" cy="79200"/>
            <a:chOff x="5029200" y="2773440"/>
            <a:chExt cx="73080" cy="79200"/>
          </a:xfrm>
        </p:grpSpPr>
        <p:pic>
          <p:nvPicPr>
            <p:cNvPr id="758" name="椭圆 98" descr=""/>
            <p:cNvPicPr/>
            <p:nvPr/>
          </p:nvPicPr>
          <p:blipFill>
            <a:blip r:embed="rId75"/>
            <a:stretch/>
          </p:blipFill>
          <p:spPr>
            <a:xfrm>
              <a:off x="5029200" y="277344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182"/>
            <p:cNvSpPr/>
            <p:nvPr/>
          </p:nvSpPr>
          <p:spPr>
            <a:xfrm>
              <a:off x="5041800" y="2786040"/>
              <a:ext cx="507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183"/>
          <p:cNvGrpSpPr/>
          <p:nvPr/>
        </p:nvGrpSpPr>
        <p:grpSpPr>
          <a:xfrm>
            <a:off x="5029200" y="2773440"/>
            <a:ext cx="73080" cy="79200"/>
            <a:chOff x="5029200" y="2773440"/>
            <a:chExt cx="73080" cy="79200"/>
          </a:xfrm>
        </p:grpSpPr>
        <p:pic>
          <p:nvPicPr>
            <p:cNvPr id="761" name="椭圆 99" descr=""/>
            <p:cNvPicPr/>
            <p:nvPr/>
          </p:nvPicPr>
          <p:blipFill>
            <a:blip r:embed="rId76"/>
            <a:stretch/>
          </p:blipFill>
          <p:spPr>
            <a:xfrm>
              <a:off x="5029200" y="277344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Text Box 185"/>
            <p:cNvSpPr/>
            <p:nvPr/>
          </p:nvSpPr>
          <p:spPr>
            <a:xfrm>
              <a:off x="5041800" y="2786040"/>
              <a:ext cx="507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86"/>
          <p:cNvGrpSpPr/>
          <p:nvPr/>
        </p:nvGrpSpPr>
        <p:grpSpPr>
          <a:xfrm>
            <a:off x="4986360" y="2730600"/>
            <a:ext cx="73080" cy="79200"/>
            <a:chOff x="4986360" y="2730600"/>
            <a:chExt cx="73080" cy="79200"/>
          </a:xfrm>
        </p:grpSpPr>
        <p:pic>
          <p:nvPicPr>
            <p:cNvPr id="764" name="椭圆 100" descr=""/>
            <p:cNvPicPr/>
            <p:nvPr/>
          </p:nvPicPr>
          <p:blipFill>
            <a:blip r:embed="rId77"/>
            <a:stretch/>
          </p:blipFill>
          <p:spPr>
            <a:xfrm>
              <a:off x="4986360" y="273060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188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89"/>
          <p:cNvGrpSpPr/>
          <p:nvPr/>
        </p:nvGrpSpPr>
        <p:grpSpPr>
          <a:xfrm>
            <a:off x="4986360" y="2730600"/>
            <a:ext cx="73080" cy="79200"/>
            <a:chOff x="4986360" y="2730600"/>
            <a:chExt cx="73080" cy="79200"/>
          </a:xfrm>
        </p:grpSpPr>
        <p:pic>
          <p:nvPicPr>
            <p:cNvPr id="767" name="椭圆 101" descr=""/>
            <p:cNvPicPr/>
            <p:nvPr/>
          </p:nvPicPr>
          <p:blipFill>
            <a:blip r:embed="rId78"/>
            <a:stretch/>
          </p:blipFill>
          <p:spPr>
            <a:xfrm>
              <a:off x="4986360" y="273060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191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192"/>
          <p:cNvGrpSpPr/>
          <p:nvPr/>
        </p:nvGrpSpPr>
        <p:grpSpPr>
          <a:xfrm>
            <a:off x="4986360" y="2730600"/>
            <a:ext cx="73080" cy="79200"/>
            <a:chOff x="4986360" y="2730600"/>
            <a:chExt cx="73080" cy="79200"/>
          </a:xfrm>
        </p:grpSpPr>
        <p:pic>
          <p:nvPicPr>
            <p:cNvPr id="770" name="椭圆 102" descr=""/>
            <p:cNvPicPr/>
            <p:nvPr/>
          </p:nvPicPr>
          <p:blipFill>
            <a:blip r:embed="rId79"/>
            <a:stretch/>
          </p:blipFill>
          <p:spPr>
            <a:xfrm>
              <a:off x="4986360" y="273060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 Box 194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195"/>
          <p:cNvGrpSpPr/>
          <p:nvPr/>
        </p:nvGrpSpPr>
        <p:grpSpPr>
          <a:xfrm>
            <a:off x="4986360" y="2730600"/>
            <a:ext cx="73080" cy="79200"/>
            <a:chOff x="4986360" y="2730600"/>
            <a:chExt cx="73080" cy="79200"/>
          </a:xfrm>
        </p:grpSpPr>
        <p:pic>
          <p:nvPicPr>
            <p:cNvPr id="773" name="椭圆 103" descr=""/>
            <p:cNvPicPr/>
            <p:nvPr/>
          </p:nvPicPr>
          <p:blipFill>
            <a:blip r:embed="rId80"/>
            <a:stretch/>
          </p:blipFill>
          <p:spPr>
            <a:xfrm>
              <a:off x="4986360" y="273060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197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198"/>
          <p:cNvGrpSpPr/>
          <p:nvPr/>
        </p:nvGrpSpPr>
        <p:grpSpPr>
          <a:xfrm>
            <a:off x="4937040" y="2682720"/>
            <a:ext cx="73080" cy="79200"/>
            <a:chOff x="4937040" y="2682720"/>
            <a:chExt cx="73080" cy="79200"/>
          </a:xfrm>
        </p:grpSpPr>
        <p:pic>
          <p:nvPicPr>
            <p:cNvPr id="776" name="椭圆 104" descr=""/>
            <p:cNvPicPr/>
            <p:nvPr/>
          </p:nvPicPr>
          <p:blipFill>
            <a:blip r:embed="rId81"/>
            <a:stretch/>
          </p:blipFill>
          <p:spPr>
            <a:xfrm>
              <a:off x="4937040" y="268272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200"/>
            <p:cNvSpPr/>
            <p:nvPr/>
          </p:nvSpPr>
          <p:spPr>
            <a:xfrm>
              <a:off x="4948200" y="2693880"/>
              <a:ext cx="522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201"/>
          <p:cNvGrpSpPr/>
          <p:nvPr/>
        </p:nvGrpSpPr>
        <p:grpSpPr>
          <a:xfrm>
            <a:off x="4937040" y="2682720"/>
            <a:ext cx="73080" cy="79200"/>
            <a:chOff x="4937040" y="2682720"/>
            <a:chExt cx="73080" cy="79200"/>
          </a:xfrm>
        </p:grpSpPr>
        <p:pic>
          <p:nvPicPr>
            <p:cNvPr id="779" name="椭圆 105" descr=""/>
            <p:cNvPicPr/>
            <p:nvPr/>
          </p:nvPicPr>
          <p:blipFill>
            <a:blip r:embed="rId82"/>
            <a:stretch/>
          </p:blipFill>
          <p:spPr>
            <a:xfrm>
              <a:off x="4937040" y="268272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Text Box 203"/>
            <p:cNvSpPr/>
            <p:nvPr/>
          </p:nvSpPr>
          <p:spPr>
            <a:xfrm>
              <a:off x="4948200" y="2693880"/>
              <a:ext cx="522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204"/>
          <p:cNvGrpSpPr/>
          <p:nvPr/>
        </p:nvGrpSpPr>
        <p:grpSpPr>
          <a:xfrm>
            <a:off x="4937040" y="2682720"/>
            <a:ext cx="73080" cy="79200"/>
            <a:chOff x="4937040" y="2682720"/>
            <a:chExt cx="73080" cy="79200"/>
          </a:xfrm>
        </p:grpSpPr>
        <p:pic>
          <p:nvPicPr>
            <p:cNvPr id="782" name="椭圆 106" descr=""/>
            <p:cNvPicPr/>
            <p:nvPr/>
          </p:nvPicPr>
          <p:blipFill>
            <a:blip r:embed="rId83"/>
            <a:stretch/>
          </p:blipFill>
          <p:spPr>
            <a:xfrm>
              <a:off x="4937040" y="268272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 Box 206"/>
            <p:cNvSpPr/>
            <p:nvPr/>
          </p:nvSpPr>
          <p:spPr>
            <a:xfrm>
              <a:off x="4948200" y="2693880"/>
              <a:ext cx="522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207"/>
          <p:cNvGrpSpPr/>
          <p:nvPr/>
        </p:nvGrpSpPr>
        <p:grpSpPr>
          <a:xfrm>
            <a:off x="4937040" y="2682720"/>
            <a:ext cx="73080" cy="79200"/>
            <a:chOff x="4937040" y="2682720"/>
            <a:chExt cx="73080" cy="79200"/>
          </a:xfrm>
        </p:grpSpPr>
        <p:pic>
          <p:nvPicPr>
            <p:cNvPr id="785" name="椭圆 107" descr=""/>
            <p:cNvPicPr/>
            <p:nvPr/>
          </p:nvPicPr>
          <p:blipFill>
            <a:blip r:embed="rId84"/>
            <a:stretch/>
          </p:blipFill>
          <p:spPr>
            <a:xfrm>
              <a:off x="4937040" y="268272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Text Box 209"/>
            <p:cNvSpPr/>
            <p:nvPr/>
          </p:nvSpPr>
          <p:spPr>
            <a:xfrm>
              <a:off x="4948200" y="2693880"/>
              <a:ext cx="522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210"/>
          <p:cNvGrpSpPr/>
          <p:nvPr/>
        </p:nvGrpSpPr>
        <p:grpSpPr>
          <a:xfrm>
            <a:off x="4883040" y="2633760"/>
            <a:ext cx="73080" cy="79200"/>
            <a:chOff x="4883040" y="2633760"/>
            <a:chExt cx="73080" cy="79200"/>
          </a:xfrm>
        </p:grpSpPr>
        <p:pic>
          <p:nvPicPr>
            <p:cNvPr id="788" name="椭圆 108" descr=""/>
            <p:cNvPicPr/>
            <p:nvPr/>
          </p:nvPicPr>
          <p:blipFill>
            <a:blip r:embed="rId85"/>
            <a:stretch/>
          </p:blipFill>
          <p:spPr>
            <a:xfrm>
              <a:off x="4883040" y="263376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Text Box 212"/>
            <p:cNvSpPr/>
            <p:nvPr/>
          </p:nvSpPr>
          <p:spPr>
            <a:xfrm>
              <a:off x="4894200" y="2643120"/>
              <a:ext cx="5220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213"/>
          <p:cNvGrpSpPr/>
          <p:nvPr/>
        </p:nvGrpSpPr>
        <p:grpSpPr>
          <a:xfrm>
            <a:off x="4883040" y="2633760"/>
            <a:ext cx="73080" cy="79200"/>
            <a:chOff x="4883040" y="2633760"/>
            <a:chExt cx="73080" cy="79200"/>
          </a:xfrm>
        </p:grpSpPr>
        <p:pic>
          <p:nvPicPr>
            <p:cNvPr id="791" name="椭圆 109" descr=""/>
            <p:cNvPicPr/>
            <p:nvPr/>
          </p:nvPicPr>
          <p:blipFill>
            <a:blip r:embed="rId86"/>
            <a:stretch/>
          </p:blipFill>
          <p:spPr>
            <a:xfrm>
              <a:off x="4883040" y="263376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215"/>
            <p:cNvSpPr/>
            <p:nvPr/>
          </p:nvSpPr>
          <p:spPr>
            <a:xfrm>
              <a:off x="4894200" y="2643120"/>
              <a:ext cx="5220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216"/>
          <p:cNvGrpSpPr/>
          <p:nvPr/>
        </p:nvGrpSpPr>
        <p:grpSpPr>
          <a:xfrm>
            <a:off x="4883040" y="2633760"/>
            <a:ext cx="73080" cy="79200"/>
            <a:chOff x="4883040" y="2633760"/>
            <a:chExt cx="73080" cy="79200"/>
          </a:xfrm>
        </p:grpSpPr>
        <p:pic>
          <p:nvPicPr>
            <p:cNvPr id="794" name="椭圆 110" descr=""/>
            <p:cNvPicPr/>
            <p:nvPr/>
          </p:nvPicPr>
          <p:blipFill>
            <a:blip r:embed="rId87"/>
            <a:stretch/>
          </p:blipFill>
          <p:spPr>
            <a:xfrm>
              <a:off x="4883040" y="263376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Text Box 218"/>
            <p:cNvSpPr/>
            <p:nvPr/>
          </p:nvSpPr>
          <p:spPr>
            <a:xfrm>
              <a:off x="4894200" y="2643120"/>
              <a:ext cx="5220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219"/>
          <p:cNvGrpSpPr/>
          <p:nvPr/>
        </p:nvGrpSpPr>
        <p:grpSpPr>
          <a:xfrm>
            <a:off x="4883040" y="2633760"/>
            <a:ext cx="73080" cy="79200"/>
            <a:chOff x="4883040" y="2633760"/>
            <a:chExt cx="73080" cy="79200"/>
          </a:xfrm>
        </p:grpSpPr>
        <p:pic>
          <p:nvPicPr>
            <p:cNvPr id="797" name="椭圆 111" descr=""/>
            <p:cNvPicPr/>
            <p:nvPr/>
          </p:nvPicPr>
          <p:blipFill>
            <a:blip r:embed="rId88"/>
            <a:stretch/>
          </p:blipFill>
          <p:spPr>
            <a:xfrm>
              <a:off x="4883040" y="263376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Text Box 221"/>
            <p:cNvSpPr/>
            <p:nvPr/>
          </p:nvSpPr>
          <p:spPr>
            <a:xfrm>
              <a:off x="4894200" y="2643120"/>
              <a:ext cx="5220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222"/>
          <p:cNvGrpSpPr/>
          <p:nvPr/>
        </p:nvGrpSpPr>
        <p:grpSpPr>
          <a:xfrm>
            <a:off x="9180000" y="1143000"/>
            <a:ext cx="916560" cy="1278000"/>
            <a:chOff x="9180000" y="1143000"/>
            <a:chExt cx="916560" cy="1278000"/>
          </a:xfrm>
        </p:grpSpPr>
        <p:pic>
          <p:nvPicPr>
            <p:cNvPr id="800" name="图片 95" descr=""/>
            <p:cNvPicPr/>
            <p:nvPr/>
          </p:nvPicPr>
          <p:blipFill>
            <a:blip r:embed="rId89"/>
            <a:stretch/>
          </p:blipFill>
          <p:spPr>
            <a:xfrm rot="19229400">
              <a:off x="9313560" y="1274400"/>
              <a:ext cx="649080" cy="65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矩形 96"/>
            <p:cNvSpPr/>
            <p:nvPr/>
          </p:nvSpPr>
          <p:spPr>
            <a:xfrm>
              <a:off x="9486360" y="1794240"/>
              <a:ext cx="33948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文本框 1558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5586"/>
          <p:cNvSpPr/>
          <p:nvPr/>
        </p:nvSpPr>
        <p:spPr>
          <a:xfrm>
            <a:off x="2112840" y="117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秋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画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"/>
                            </p:stCondLst>
                            <p:childTnLst>
                              <p:par>
                                <p:cTn id="74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1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2 0.44282 L -3.58974E-006 1.48148E-006 E">
                                      <p:cBhvr>
                                        <p:cTn id="91" dur="5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1"/>
                            </p:stCondLst>
                            <p:childTnLst>
                              <p:par>
                                <p:cTn id="93" dur="indefinite" nodeType="after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241 0.00902 C 0.00193 0.01805 0.00113 0.04166 -0.0008 0.0625 C -0.00272 0.08333 -0.00448 0.10972 -0.00913 0.13402 C -0.01378 0.15833 -0.0181 0.17847 -0.02836 0.20763 C -0.03862 0.2368 -0.06218 0.28842 -0.07099 0.30949 E">
                                      <p:cBhvr>
                                        <p:cTn id="10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7.69231E-007 4.44444E-006 C -0.00657 0.01643 -0.00545 0.03217 -0.0149 0.05463 C -0.02436 0.07685 -0.04006 0.10185 -0.05689 0.13379 C -0.07372 0.1655 -0.0726 0.16527 -0.11522 0.24606 C -0.15801 0.32662 -0.27179 0.54004 -0.31298 0.61736 E">
                                      <p:cBhvr>
                                        <p:cTn id="102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577 0.01944 C -0.00609 0.02824 -0.00737 0.05208 -0.00802 0.07292 C -0.00866 0.09375 -0.00978 0.11967 -0.00994 0.14514 C -0.0101 0.1706 -0.00882 0.16088 -0.00898 0.22569 C -0.00914 0.29051 -0.01058 0.46991 -0.0109 0.53403 E">
                                      <p:cBhvr>
                                        <p:cTn id="107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56 0.01643 C -0.00881 0.03241 -0.01073 0.04954 -0.01698 0.06921 C -0.02323 0.08889 -0.03189 0.11273 -0.04054 0.13518 C -0.0492 0.15764 -0.05304 0.16458 -0.06939 0.20463 C -0.08573 0.24467 -0.1242 0.33981 -0.13862 0.37546 E">
                                      <p:cBhvr>
                                        <p:cTn id="112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16 -0.01736 C -0.00641 -0.00139 -0.01266 0.01458 -0.01458 0.03541 C -0.0165 0.05625 -0.0125 0.08287 -0.0117 0.10787 C -0.01089 0.13287 -0.01266 0.14606 -0.00977 0.18564 C -0.00689 0.22523 0.00241 0.31203 0.00561 0.34537 E">
                                      <p:cBhvr>
                                        <p:cTn id="117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35897E-006 -4.44444E-006 C -0.00272 0.01783 -0.00416 0.04329 -0.00625 0.05926 C -0.00817 0.075 -0.00977 0.08334 -0.01185 0.09514 C -0.01394 0.10672 -0.01298 0.10301 -0.01843 0.1294 C -0.02387 0.15602 -0.025 0.15579 -0.04423 0.2544 C -0.06346 0.35278 -0.11506 0.62362 -0.13349 0.72107 E">
                                      <p:cBhvr>
                                        <p:cTn id="122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37 -0.00023 C -0.00112 0.01041 -0.01554 0.04305 -0.02388 0.06342 C -0.03221 0.08379 -0.03622 0.09861 -0.04695 0.12176 C -0.05769 0.1449 -0.04647 0.11342 -0.0883 0.20231 C -0.13013 0.2912 -0.25432 0.56065 -0.29791 0.65509 E">
                                      <p:cBhvr>
                                        <p:cTn id="127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0256E-006 4.81481E-006 C -0.00081 0.00925 -0.00321 0.03495 -0.00513 0.05578 C -0.00706 0.07662 -0.00657 0.07199 -0.01154 0.125 C -0.01651 0.178 -0.02709 0.28379 -0.03494 0.37384 C -0.04279 0.46388 -0.05401 0.60486 -0.05898 0.6655 E">
                                      <p:cBhvr>
                                        <p:cTn id="129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5641E-006 3.7037E-006 C -0.00625 0.01597 -0.00929 0.03194 -0.01442 0.05277 C -0.01955 0.07361 -0.02436 0.09976 -0.03093 0.12453 C -0.0375 0.1493 -0.03974 0.15856 -0.054 0.20092 C -0.06827 0.24328 -0.10352 0.34166 -0.1165 0.3787 E">
                                      <p:cBhvr>
                                        <p:cTn id="134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02564E-006 1.85185E-006 C 0.0008 0.00856 0.00321 0.03171 0.00465 0.05116 C 0.00609 0.0706 0.00561 0.09282 0.00849 0.11643 C 0.01138 0.14004 0.00657 0.13426 0.02196 0.19282 C 0.03734 0.25139 0.08446 0.41065 0.1008 0.46782 E">
                                      <p:cBhvr>
                                        <p:cTn id="136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5641E-006 4.44444E-006 C -0.00625 0.01597 -0.00737 0.0324 -0.01442 0.05277 C -0.02147 0.07314 -0.02997 0.09791 -0.04247 0.12222 C -0.05497 0.14652 -0.05513 0.12777 -0.08958 0.19861 C -0.12404 0.26944 -0.21586 0.47453 -0.2492 0.54722 E">
                                      <p:cBhvr>
                                        <p:cTn id="138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02564E-006 3.7037E-007 C -0.00625 0.01597 -0.01026 0.03218 -0.01442 0.05278 C -0.01859 0.07338 -0.02243 0.09884 -0.02516 0.12315 C -0.02788 0.14745 -0.02131 0.08796 -0.03077 0.19884 C -0.04022 0.30972 -0.07131 0.66574 -0.08189 0.78843 E">
                                      <p:cBhvr>
                                        <p:cTn id="143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24 0.00902 C -0.00385 0.025 -0.00561 0.04189 -0.01202 0.0618 C -0.01843 0.08171 -0.02516 0.10463 -0.03638 0.12916 C -0.0476 0.1537 -0.04535 0.13726 -0.07965 0.20972 C -0.11394 0.28217 -0.20833 0.49004 -0.24215 0.56388 E">
                                      <p:cBhvr>
                                        <p:cTn id="151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577 0.01944 C -0.00561 0.0287 -0.00513 0.05463 -0.00513 0.07569 C -0.00513 0.09676 -0.00689 0.11921 -0.00609 0.14653 C -0.00529 0.17384 -0.00449 0.14514 -0.00032 0.23958 C 0.00385 0.33403 0.01491 0.61458 0.01891 0.71319 E">
                                      <p:cBhvr>
                                        <p:cTn id="156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0" repeatCount="indefinite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07692E-006 -3.33333E-006 C -0.00048 0.01713 -0.00032 0.03403 -0.00096 0.05718 C -0.0016 0.08033 -0.00304 0.10973 -0.00416 0.13936 C -0.00513 0.16898 -0.00464 0.14885 -0.00737 0.23565 C -0.01009 0.32269 -0.01795 0.57246 -0.02067 0.66088 E">
                                      <p:cBhvr>
                                        <p:cTn id="161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0" repeatCount="indefinite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61538E-006 4.44444E-006 C -0.00625 0.01597 -0.0125 0.03194 -0.01443 0.05277 C -0.01635 0.07361 -0.01459 0.09652 -0.01154 0.125 C -0.0085 0.15347 -0.01138 0.13564 0.00432 0.22361 C 0.02003 0.31157 0.06666 0.56342 0.08317 0.65277 E">
                                      <p:cBhvr>
                                        <p:cTn id="16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16 -0.01736 C -0.00641 -0.00139 -0.00898 0.01319 -0.01459 0.03541 C -0.0202 0.05764 -0.02228 0.07129 -0.03382 0.1162 C -0.04536 0.16111 -0.05641 0.19143 -0.08382 0.30463 C -0.11122 0.41828 -0.17436 0.69398 -0.19824 0.79676 E">
                                      <p:cBhvr>
                                        <p:cTn id="177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02564E-006 -4.44444E-006 C -0.00064 0.00926 -0.00417 0.03357 -0.00369 0.05556 C -0.00321 0.07755 -0.00481 0.08727 0.00304 0.13195 C 0.0109 0.17662 0.02195 0.21042 0.04343 0.32362 C 0.0649 0.43681 0.11346 0.70926 0.13189 0.81112 E">
                                      <p:cBhvr>
                                        <p:cTn id="182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00336 -0.00023 C -0.00289 0.01574 -0.00465 0.03333 -0.01106 0.05254 C -0.01747 0.07176 -0.02805 0.08819 -0.03542 0.11481 C -0.04279 0.14143 -0.03622 0.09537 -0.05561 0.21203 C -0.075 0.3287 -0.13173 0.68912 -0.15177 0.81481 E">
                                      <p:cBhvr>
                                        <p:cTn id="187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 repeatCount="indefinite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82051E-006 4.44444E-006 C -0.00625 0.01597 -0.0125 0.03194 -0.01443 0.05277 C -0.01635 0.07361 -0.02116 0.07314 -0.01154 0.125 C -0.00193 0.17685 0.02756 0.29074 0.04311 0.36388 C 0.05865 0.43703 0.07355 0.52222 0.08157 0.56388 E">
                                      <p:cBhvr>
                                        <p:cTn id="192" dur="2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5.12821E-007 4.81481E-006 C 0.00032 0.00925 0.00048 0.03472 0.0016 0.05578 C 0.00272 0.07685 0.00112 0.09259 0.00641 0.12662 C 0.0117 0.16064 0.01779 0.18148 0.03333 0.25995 C 0.04888 0.33842 0.0859 0.52708 0.09968 0.59745 E">
                                      <p:cBhvr>
                                        <p:cTn id="197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 repeatCount="indefinite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2.82051E-006 3.7037E-006 C -0.00161 0.00972 -0.00786 0.02615 -0.00978 0.05787 C -0.0117 0.08958 -0.01154 0.15486 -0.0117 0.18981 C -0.01186 0.22476 -0.0125 0.23796 -0.01074 0.26759 C -0.00898 0.29722 -0.00305 0.34676 -0.00112 0.36759 E">
                                      <p:cBhvr>
                                        <p:cTn id="202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 repeatCount="indefinite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5897E-006 1.85185E-006 C -0.00625 0.01597 -0.01058 0.03171 -0.01443 0.05278 C -0.01827 0.07384 -0.02052 0.10185 -0.02324 0.12616 C -0.02597 0.15046 -0.03045 0.12083 -0.03077 0.19861 C -0.03109 0.27639 -0.02629 0.51065 -0.02516 0.59282 E">
                                      <p:cBhvr>
                                        <p:cTn id="207" dur="200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35897E-006 3.7037E-007 C 0.00016 0.01898 0.00064 0.08056 0.0008 0.11343 C 0.00096 0.1463 0.00064 0.17361 0.0008 0.19676 C 0.00096 0.21991 -0.00065 0.21944 0.00176 0.25231 C 0.00416 0.28518 0.0125 0.36458 0.01522 0.39398 E">
                                      <p:cBhvr>
                                        <p:cTn id="209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024 0.00902 C 0.00256 0.01689 0.00256 0.04305 0.00352 0.05694 C 0.00448 0.07083 0.00609 0.07916 0.00833 0.09305 C 0.01057 0.10694 0.01234 0.11921 0.01698 0.14027 C 0.02163 0.16134 0.01698 0.15717 0.03621 0.21944 C 0.05544 0.28171 0.11234 0.45254 0.13237 0.51388 E">
                                      <p:cBhvr>
                                        <p:cTn id="214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 repeatCount="indefinite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577 0.01944 C -0.00577 0.02847 -0.00641 0.05278 -0.00577 0.0743 C -0.00513 0.09583 -0.00513 0.10625 -0.00192 0.1493 C 0.00128 0.19236 0.01699 0.23102 0.01346 0.33264 C 0.00994 0.43426 -0.01555 0.66991 -0.02308 0.7588 E">
                                      <p:cBhvr>
                                        <p:cTn id="219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 repeatCount="indefinite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256 0.01643 C -0.00881 0.03241 -0.01185 0.04815 -0.01698 0.06921 C -0.02211 0.09028 -0.02788 0.11944 -0.03333 0.14352 C -0.03878 0.16759 -0.02371 0.11528 -0.04968 0.21296 C -0.07564 0.31065 -0.16009 0.62199 -0.1891 0.72963 E">
                                      <p:cBhvr>
                                        <p:cTn id="224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 repeatCount="indefinite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2.5641E-006 4.44444E-006 C -0.00625 0.01597 -0.00833 0.02777 -0.01442 0.05277 C -0.02051 0.07777 -0.02339 0.10069 -0.0367 0.15 C -0.05 0.1993 -0.0766 0.29027 -0.09439 0.34861 C -0.11218 0.40694 -0.13317 0.46851 -0.14343 0.5 E">
                                      <p:cBhvr>
                                        <p:cTn id="229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016 -0.01736 C -0.00641 -0.00139 -0.01089 0.01412 -0.01458 0.03541 C -0.01827 0.05671 -0.02003 0.08564 -0.02275 0.11064 C -0.02548 0.13564 -0.02516 0.11041 -0.03141 0.18564 C -0.03766 0.26088 -0.05416 0.48356 -0.06025 0.56203 E">
                                      <p:cBhvr>
                                        <p:cTn id="234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0" repeatCount="indefinite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4.10256E-006 -4.44444E-006 C -0.00625 0.01598 -0.00898 0.03172 -0.01443 0.05278 C -0.01988 0.07385 -0.02404 0.09885 -0.03302 0.12639 C -0.04199 0.15394 -0.02645 0.14491 -0.06859 0.21806 C -0.11074 0.29121 -0.24071 0.49306 -0.2859 0.56528 E">
                                      <p:cBhvr>
                                        <p:cTn id="239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00337 -0.00023 C -0.00288 0.01574 -0.00464 0.03171 -0.01105 0.05254 C -0.01746 0.07338 -0.0133 0.08495 -0.03509 0.12453 C -0.05689 0.16412 -0.09423 0.21898 -0.14182 0.28981 C -0.18942 0.36065 -0.28349 0.49537 -0.32067 0.54953 E">
                                      <p:cBhvr>
                                        <p:cTn id="244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 repeatCount="indefinite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0256E-006 4.44444E-006 C -0.00064 0.00902 -0.00224 0.03425 -0.00352 0.05416 C -0.0048 0.07407 -0.00689 0.10208 -0.00737 0.11944 C -0.00785 0.1368 -0.00625 0.13773 -0.00641 0.15833 C -0.00657 0.17893 -0.00336 0.16689 -0.00833 0.24305 C -0.0133 0.31921 -0.03044 0.53773 -0.03621 0.61527 E">
                                      <p:cBhvr>
                                        <p:cTn id="249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2.30769E-006 4.81481E-006 C -0.00048 0.00902 -0.00305 0.03217 -0.00289 0.05439 C -0.00273 0.07662 -0.00337 0.08171 0.00096 0.13356 C 0.00529 0.18541 0.01298 0.2868 0.02307 0.3655 C 0.03317 0.44421 0.05352 0.55578 0.06154 0.60578 E">
                                      <p:cBhvr>
                                        <p:cTn id="254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0" repeatCount="indefinite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4.10256E-006 3.7037E-006 C -0.00625 0.01597 -0.01025 0.03217 -0.01442 0.05277 C -0.01859 0.07338 -0.01955 0.09282 -0.02468 0.12314 C -0.0298 0.15347 -0.03637 0.17476 -0.04487 0.23426 C -0.05336 0.29375 -0.06923 0.42893 -0.07564 0.48009 E">
                                      <p:cBhvr>
                                        <p:cTn id="259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 repeatCount="indefinite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82051E-006 1.85185E-006 C -0.00625 0.01597 -0.00897 0.03241 -0.01442 0.05278 C -0.01987 0.07315 -0.02644 0.09907 -0.03253 0.12199 C -0.03862 0.14491 -0.02644 0.12662 -0.0508 0.19004 C -0.07516 0.25347 -0.15208 0.4375 -0.17868 0.50254 E">
                                      <p:cBhvr>
                                        <p:cTn id="264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82051E-006 3.7037E-007 C -0.00625 0.01597 -0.01041 0.03148 -0.01442 0.05278 C -0.01843 0.07407 -0.01795 0.09815 -0.02388 0.12731 C -0.0298 0.15648 -0.03141 0.16319 -0.04984 0.22731 C -0.06827 0.29143 -0.11682 0.45278 -0.13445 0.51204 E">
                                      <p:cBhvr>
                                        <p:cTn id="269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0" repeatCount="indefinite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141 0.02037 L -1.53846E-006 -3.7037E-006 E">
                                      <p:cBhvr>
                                        <p:cTn id="291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3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323" dur="500" fill="hold"/>
                                        <p:tgtEl>
                                          <p:spTgt spid="59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325" dur="500" fill="hold"/>
                                        <p:tgtEl>
                                          <p:spTgt spid="59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0">
                                  <p:stCondLst>
                                    <p:cond delay="8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3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7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7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6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6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autoRev="1" nodeType="with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1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dur="indefinite" autoRev="1" nodeType="withEffect" fill="hold" presetClass="emph" presetID="6" repeatCount="3000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58" dur="1000" fill="hold"/>
                                        <p:tgtEl>
                                          <p:spTgt spid="601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9" dur="indefinite" autoRev="1" nodeType="withEffect" fill="hold" presetClass="emph" presetID="6" repeatCount="3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0" dur="1000" fill="hold"/>
                                        <p:tgtEl>
                                          <p:spTgt spid="583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autoRev="1" nodeType="withEffect" fill="hold" presetClass="emph" presetID="6" repeatCount="3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66" dur="1500" fill="hold"/>
                                        <p:tgtEl>
                                          <p:spTgt spid="587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0" repeatCount="indefinite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 repeatCount="indefinite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 repeatCount="indefinite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 repeatCount="indefinite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 repeatCount="indefinite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 repeatCount="indefinite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 repeatCount="indefinite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10" repeatCount="indefinite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0" repeatCount="indefinite">
                                  <p:stCondLst>
                                    <p:cond delay="385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1" dur="1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3" dur="1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5" dur="1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7" dur="1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path" presetID="0" repeatCount="indefinite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9" dur="1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1" dur="1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path" presetID="0" repeatCount="indefinite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3" dur="1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5" dur="1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7" dur="1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path" presetID="0" repeatCount="indefinite">
                                  <p:stCondLst>
                                    <p:cond delay="355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9" dur="1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path" presetID="0" repeatCount="indefinite">
                                  <p:stCondLst>
                                    <p:cond delay="3850"/>
                                  </p:stCondLst>
                                  <p:childTnLst>
                                    <p:animMotion origin="layout" path="M -0.00128 0.00416 L 0.00032 0.38705 E">
                                      <p:cBhvr>
                                        <p:cTn id="421" dur="1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 repeatCount="indefinite">
                                  <p:stCondLst>
                                    <p:cond delay="365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path" presetID="0" repeatCount="indefinite">
                                  <p:stCondLst>
                                    <p:cond delay="365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26" dur="1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0" repeatCount="indefinite">
                                  <p:stCondLst>
                                    <p:cond delay="38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path" presetID="0" repeatCount="indefinite">
                                  <p:stCondLst>
                                    <p:cond delay="385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31" dur="1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01121E-006 -5.20231E-007 C -0.05253 0.00555 -0.19232 -0.01919 -0.3153 0.03353 C -0.43827 0.08624 -0.45317 0.14543 -0.48952 0.17503 E">
                                      <p:cBhvr>
                                        <p:cTn id="433" dur="3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35" dur="100" fill="hold"/>
                                        <p:tgtEl>
                                          <p:spTgt spid="799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49119 0.17662 C -0.51859 0.14815 -0.5867 -0.00254 -0.65529 0.00649 C -0.72388 0.01551 -0.82452 0.18866 -0.90273 0.23056 C -0.98093 0.27246 -1.07837 0.25255 -1.12452 0.25834 E">
                                      <p:cBhvr>
                                        <p:cTn id="437" dur="4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447" dur="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449" dur="5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451" dur="5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453" dur="5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475" dur="5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477" dur="5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479" dur="5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481" dur="5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503" dur="5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505" dur="5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507" dur="5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509" dur="5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531" dur="5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533" dur="5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535" dur="5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537" dur="5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6:5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21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IP等级">
    <vt:lpwstr>2</vt:lpwstr>
  </property>
  <property fmtid="{D5CDD505-2E9C-101B-9397-08002B2CF9AE}" pid="4" name="_模板ID">
    <vt:lpwstr/>
  </property>
  <property fmtid="{D5CDD505-2E9C-101B-9397-08002B2CF9AE}" pid="5" name="价格">
    <vt:lpwstr>55</vt:lpwstr>
  </property>
  <property fmtid="{D5CDD505-2E9C-101B-9397-08002B2CF9AE}" pid="6" name="使用说明">
    <vt:lpwstr>请使用PPT打开</vt:lpwstr>
  </property>
  <property fmtid="{D5CDD505-2E9C-101B-9397-08002B2CF9AE}" pid="7" name="使用软件">
    <vt:lpwstr>ppt</vt:lpwstr>
  </property>
  <property fmtid="{D5CDD505-2E9C-101B-9397-08002B2CF9AE}" pid="8" name="关键字">
    <vt:lpwstr>背景 文本框 文字 白色 橙色 蝴蝶 黄色 中秋 形状 排版 线条 排列 说明 版式 灰 并列 列表 其他关系 V2 PPT动画模板 开场动画 内容动画</vt:lpwstr>
  </property>
  <property fmtid="{D5CDD505-2E9C-101B-9397-08002B2CF9AE}" pid="9" name="操作代码">
    <vt:lpwstr>1</vt:lpwstr>
  </property>
  <property fmtid="{D5CDD505-2E9C-101B-9397-08002B2CF9AE}" pid="10" name="是否可购买">
    <vt:lpwstr>1</vt:lpwstr>
  </property>
  <property fmtid="{D5CDD505-2E9C-101B-9397-08002B2CF9AE}" pid="11" name="显示VIP等级">
    <vt:lpwstr>2</vt:lpwstr>
  </property>
  <property fmtid="{D5CDD505-2E9C-101B-9397-08002B2CF9AE}" pid="12" name="标题">
    <vt:lpwstr>中秋节动画</vt:lpwstr>
  </property>
  <property fmtid="{D5CDD505-2E9C-101B-9397-08002B2CF9AE}" pid="13" name="模板ID">
    <vt:lpwstr>A60620130813A07</vt:lpwstr>
  </property>
  <property fmtid="{D5CDD505-2E9C-101B-9397-08002B2CF9AE}" pid="14" name="模板缩略图">
    <vt:lpwstr>A60620130813A07.png</vt:lpwstr>
  </property>
  <property fmtid="{D5CDD505-2E9C-101B-9397-08002B2CF9AE}" pid="15" name="相关案例">
    <vt:lpwstr>854</vt:lpwstr>
  </property>
  <property fmtid="{D5CDD505-2E9C-101B-9397-08002B2CF9AE}" pid="16" name="缩略图标题">
    <vt:lpwstr>A60620130813A0701.mp4</vt:lpwstr>
  </property>
  <property fmtid="{D5CDD505-2E9C-101B-9397-08002B2CF9AE}" pid="17" name="适用软件">
    <vt:lpwstr>PowerPoint 2007 及以上版本</vt:lpwstr>
  </property>
  <property fmtid="{D5CDD505-2E9C-101B-9397-08002B2CF9AE}" pid="18" name="附件ID">
    <vt:lpwstr>A60620130813A0701</vt:lpwstr>
  </property>
  <property fmtid="{D5CDD505-2E9C-101B-9397-08002B2CF9AE}" pid="19" name="附件缩略图">
    <vt:lpwstr>A60620130813A0701.png</vt:lpwstr>
  </property>
  <property fmtid="{D5CDD505-2E9C-101B-9397-08002B2CF9AE}" pid="20" name="附件路径">
    <vt:lpwstr>A60620130813A0701.pptx</vt:lpwstr>
  </property>
</Properties>
</file>