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7.jpeg" ContentType="image/jpeg"/>
  <Override PartName="/ppt/media/image35.gif" ContentType="image/gif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5C6-C1BF-4500-B78F-9A8FB44D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DB6-BD57-4FDC-92DF-168A525A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AC9-2835-47AF-AE85-A8E7091B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512-AA62-4797-A7FA-584B0755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0597-7665-4FA5-9D43-DDE6C941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7008-2232-4630-9439-83BC500D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EAF1-2E6C-44BF-9C41-1C25FE90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A4A5-2751-44D0-99DC-AAE767C1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19D2-C5A0-4E4A-998B-4C18B702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7053-AD7F-472F-86FD-7A225A8B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B98C-1875-45E2-A645-6A630CE6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62D-E4B5-4338-8815-08A6AC9C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5E82-838B-4AAC-83C7-FA14F4A0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D5E6-7449-4DA5-BFD5-65E02EAE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3DE2-5149-41FA-AE19-6529AE8B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22A5-055C-4332-A118-A7CDBFFA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E302-D9C2-46CB-B4C7-DBF9F758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BF9F9-624F-45FD-A5CC-1389C24A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34517-7F26-40B8-8422-49E9C757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ED55E-0981-4DDA-8041-C9E87E4B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E7D76-8836-473F-92CD-BECCF24E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BDA77-4FA7-4BA2-8281-D530DBC1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9C8-4D3A-43EA-B6AC-88D47E1F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B900-BFB2-4F2D-8CD1-56471AA8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D9593-B750-4903-82BF-A24DDA9A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1131-5C6F-454D-9A0D-7B7521BA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FA72C-B62F-4D55-841E-7D33365F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FE35F-E490-495E-A917-F8DE6B21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C2E5B-F5C6-4541-9AA9-24ED005A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5EB6F-B91B-4B9D-803D-9396068C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B15-2E9F-4206-A24E-21D2C9B9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01D-742E-4F8E-9E86-E4C7B40C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CA7-E46C-4A31-AC10-84DF14EE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E6E-9943-44EB-A5B4-BCCA16FC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8F3-830C-4C25-9B85-F117E644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22B-E436-45A1-8630-FB5C202D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E46A-A96B-442F-828B-F87C4CD2B1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F936-EA63-4CE9-85F6-681D7182C7E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4BBE-5781-4952-B2A7-6034B949D5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AA51-FCF8-4670-89C0-B543FA1A9FAA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baike.baidu.com/view/1170569.htm" TargetMode="External"/><Relationship Id="rId3" Type="http://schemas.openxmlformats.org/officeDocument/2006/relationships/hyperlink" Target="http://baike.baidu.com/view/112189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baike.baidu.com/view/414513.htm" TargetMode="External"/><Relationship Id="rId3" Type="http://schemas.openxmlformats.org/officeDocument/2006/relationships/hyperlink" Target="http://baike.baidu.com/view/76401.htm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baike.baidu.com/view/2517.htm" TargetMode="External"/><Relationship Id="rId3" Type="http://schemas.openxmlformats.org/officeDocument/2006/relationships/hyperlink" Target="http://baike.baidu.com/view/353977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baike.baidu.com/view/10644.htm" TargetMode="External"/><Relationship Id="rId3" Type="http://schemas.openxmlformats.org/officeDocument/2006/relationships/hyperlink" Target="http://baike.baidu.com/view/25782.htm" TargetMode="External"/><Relationship Id="rId4" Type="http://schemas.openxmlformats.org/officeDocument/2006/relationships/hyperlink" Target="http://baike.baidu.com/view/11114.htm" TargetMode="External"/><Relationship Id="rId5" Type="http://schemas.openxmlformats.org/officeDocument/2006/relationships/hyperlink" Target="http://baike.baidu.com/view/16674.htm" TargetMode="External"/><Relationship Id="rId6" Type="http://schemas.openxmlformats.org/officeDocument/2006/relationships/hyperlink" Target="http://baike.baidu.com/view/73645.htm" TargetMode="External"/><Relationship Id="rId7" Type="http://schemas.openxmlformats.org/officeDocument/2006/relationships/hyperlink" Target="http://baike.baidu.com/view/34817.htm" TargetMode="External"/><Relationship Id="rId8" Type="http://schemas.openxmlformats.org/officeDocument/2006/relationships/hyperlink" Target="http://baike.baidu.com/view/51207.htm" TargetMode="External"/><Relationship Id="rId9" Type="http://schemas.openxmlformats.org/officeDocument/2006/relationships/hyperlink" Target="http://baike.baidu.com/view/17592.htm" TargetMode="External"/><Relationship Id="rId10" Type="http://schemas.openxmlformats.org/officeDocument/2006/relationships/hyperlink" Target="http://baike.baidu.com/view/109145.htm" TargetMode="External"/><Relationship Id="rId11" Type="http://schemas.openxmlformats.org/officeDocument/2006/relationships/hyperlink" Target="http://baike.baidu.com/view/553902.htm" TargetMode="Externa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baike.baidu.com/view/40898.htm" TargetMode="External"/><Relationship Id="rId3" Type="http://schemas.openxmlformats.org/officeDocument/2006/relationships/hyperlink" Target="http://baike.baidu.com/view/3688.htm" TargetMode="External"/><Relationship Id="rId4" Type="http://schemas.openxmlformats.org/officeDocument/2006/relationships/hyperlink" Target="http://baike.baidu.com/view/15837.htm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baike.baidu.com/view/1949.htm" TargetMode="External"/><Relationship Id="rId3" Type="http://schemas.openxmlformats.org/officeDocument/2006/relationships/hyperlink" Target="http://baike.baidu.com/view/110500.htm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图片 4099" descr="水调歌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王菲-明月几时有.mp3" descr=""/>
          <p:cNvPicPr/>
          <p:nvPr/>
        </p:nvPicPr>
        <p:blipFill>
          <a:blip r:embed="rId2"/>
          <a:stretch/>
        </p:blipFill>
        <p:spPr>
          <a:xfrm>
            <a:off x="611280" y="5850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4101"/>
          <p:cNvSpPr/>
          <p:nvPr/>
        </p:nvSpPr>
        <p:spPr>
          <a:xfrm>
            <a:off x="1332000" y="6237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文本框 4102"/>
          <p:cNvSpPr/>
          <p:nvPr/>
        </p:nvSpPr>
        <p:spPr>
          <a:xfrm>
            <a:off x="1963080" y="1890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中秋节主题班会幻灯片在线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232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3313" descr="11111111111166666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111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舞火龙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　　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2"/>
              </a:rPr>
              <a:t>舞火龙</a:t>
            </a:r>
            <a:r>
              <a:rPr b="0" lang="zh-CN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，是香港中秋节最富传统特色的习俗。从每年农历八月十四晚起，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3"/>
              </a:rPr>
              <a:t>铜锣湾</a:t>
            </a:r>
            <a:r>
              <a:rPr b="0" lang="zh-CN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大坑地区就一连三晚举行盛大的舞火龙活动。这火龙长达</a:t>
            </a:r>
            <a:r>
              <a:rPr b="0" lang="en-US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70</a:t>
            </a:r>
            <a:r>
              <a:rPr b="0" lang="zh-CN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多米，用珍珠草扎成</a:t>
            </a:r>
            <a:r>
              <a:rPr b="0" lang="en-US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32</a:t>
            </a:r>
            <a:r>
              <a:rPr b="0" lang="zh-CN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节的龙身，插满了长寿香。盛会之夜，这个区的大街小巷，一条条蜿蜒起伏的火龙在灯光与龙鼓音乐下欢腾起舞，很是热闹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　　香港中秋舞火龙的起源还有过一段传说：很早以前，大坑区在一次风灾袭击后，出现了一条蟒蛇，四处作恶，村民们四出搜捕，终于把它击毙。不料次日蟒蛇不翼而飞。数天后，大坑便发生瘟疫。这时，村中父老忽获菩萨托梦，说是只要在中秋佳节舞动火龙，便可将瘟疫驱除。事有巧合，此举竟然奏效。从此，舞火龙就流传至今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　　不管这传说有多少迷信成份，但中国是龙的故土，在香港大坑中秋节舞火龙已有一百多年的历史，这是值得珍视的。如今大坑区的舞火龙活动规模颇大，除总教练、教练、总指挥及指挥外，安全组等等。轮番舞龙者达三万多人。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2" name="图片 13315" descr="35accc333380bc06ad4b5f02[1]"/>
          <p:cNvPicPr/>
          <p:nvPr/>
        </p:nvPicPr>
        <p:blipFill>
          <a:blip r:embed="rId4"/>
          <a:stretch/>
        </p:blipFill>
        <p:spPr>
          <a:xfrm>
            <a:off x="5651640" y="4221000"/>
            <a:ext cx="3057480" cy="22942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3316" descr="0011431f300709284c1a10[1]"/>
          <p:cNvPicPr/>
          <p:nvPr/>
        </p:nvPicPr>
        <p:blipFill>
          <a:blip r:embed="rId5"/>
          <a:stretch/>
        </p:blipFill>
        <p:spPr>
          <a:xfrm>
            <a:off x="5651640" y="2349360"/>
            <a:ext cx="3047760" cy="17258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3317" descr="20080405184644[1]"/>
          <p:cNvPicPr/>
          <p:nvPr/>
        </p:nvPicPr>
        <p:blipFill>
          <a:blip r:embed="rId6"/>
          <a:stretch/>
        </p:blipFill>
        <p:spPr>
          <a:xfrm>
            <a:off x="5651640" y="404640"/>
            <a:ext cx="30956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4337" descr="11111111111444444444444"/>
          <p:cNvPicPr/>
          <p:nvPr/>
        </p:nvPicPr>
        <p:blipFill>
          <a:blip r:embed="rId1"/>
          <a:stretch/>
        </p:blipFill>
        <p:spPr>
          <a:xfrm>
            <a:off x="0" y="0"/>
            <a:ext cx="117730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华文行楷"/>
              </a:rPr>
              <a:t>好吃的月饼。。。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824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c"/>
                </a:solidFill>
                <a:latin typeface="华文新魏"/>
                <a:ea typeface="华文新魏"/>
              </a:rPr>
              <a:t>　　中秋节美食首推月饼，其起源说法多种。一说元代末年，江苏泰州的反元起义领袖张士诚（或说是朱元璋的谋士刘伯温）利用中秋民众互赠圆饼之际，在饼中夹带“八月十五夜杀鞑子”的字条，大家见了饼中字条，一传十，十传百，如约于这天夜里一起手刃无恶不作的“鞑子”（元兵），过后家家吃饼庆祝起义胜利，并正式称中秋节的圆饼为月饼。在后来很长历史时期，甚至在上世纪末，许多月饼上还贴有一方小纸片！只可惜，近年所产月饼已不见小纸片踪影，月饼所含代代相传的“文化密码”荡然无存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文本框 14340"/>
          <p:cNvSpPr/>
          <p:nvPr/>
        </p:nvSpPr>
        <p:spPr>
          <a:xfrm>
            <a:off x="4788000" y="3589200"/>
            <a:ext cx="4356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c"/>
                </a:solidFill>
                <a:latin typeface="华文新魏"/>
                <a:ea typeface="华文新魏"/>
              </a:rPr>
              <a:t>另有一说为，明洪武初年，大将徐达攻下元朝残余势力盘踞的元大都北京，捷报传到首都南京，正在下棋的明太祖朱元璋欣喜若狂，即传谕中秋节普天同庆，并将当初反元大起义时传递信息的月饼赏赐臣民。月饼从此成为中秋节“法定”的食品，非食不可了。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Arial"/>
              </a:rPr>
              <a:t>馋了吧。。。。。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70" name="图片 15362" descr="20089109148[1]"/>
          <p:cNvPicPr/>
          <p:nvPr/>
        </p:nvPicPr>
        <p:blipFill>
          <a:blip r:embed="rId1"/>
          <a:stretch/>
        </p:blipFill>
        <p:spPr>
          <a:xfrm>
            <a:off x="5148360" y="270828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5363" descr="200891091237[1]"/>
          <p:cNvPicPr/>
          <p:nvPr/>
        </p:nvPicPr>
        <p:blipFill>
          <a:blip r:embed="rId2"/>
          <a:stretch/>
        </p:blipFill>
        <p:spPr>
          <a:xfrm>
            <a:off x="1042920" y="1268280"/>
            <a:ext cx="3024360" cy="21783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5364" descr="200891092929[1]"/>
          <p:cNvPicPr/>
          <p:nvPr/>
        </p:nvPicPr>
        <p:blipFill>
          <a:blip r:embed="rId3"/>
          <a:stretch/>
        </p:blipFill>
        <p:spPr>
          <a:xfrm>
            <a:off x="1116000" y="3429000"/>
            <a:ext cx="3657600" cy="292572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5365" descr="饼七"/>
          <p:cNvPicPr/>
          <p:nvPr/>
        </p:nvPicPr>
        <p:blipFill>
          <a:blip r:embed="rId4"/>
          <a:stretch/>
        </p:blipFill>
        <p:spPr>
          <a:xfrm>
            <a:off x="5292720" y="333360"/>
            <a:ext cx="27162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6385" descr="20089109113[1]"/>
          <p:cNvPicPr/>
          <p:nvPr/>
        </p:nvPicPr>
        <p:blipFill>
          <a:blip r:embed="rId1"/>
          <a:stretch/>
        </p:blipFill>
        <p:spPr>
          <a:xfrm rot="19539600">
            <a:off x="1476000" y="177768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6386" descr="饼五"/>
          <p:cNvPicPr/>
          <p:nvPr/>
        </p:nvPicPr>
        <p:blipFill>
          <a:blip r:embed="rId2"/>
          <a:stretch/>
        </p:blipFill>
        <p:spPr>
          <a:xfrm>
            <a:off x="0" y="0"/>
            <a:ext cx="2664000" cy="28526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6387" descr="饼四"/>
          <p:cNvPicPr/>
          <p:nvPr/>
        </p:nvPicPr>
        <p:blipFill>
          <a:blip r:embed="rId3"/>
          <a:stretch/>
        </p:blipFill>
        <p:spPr>
          <a:xfrm rot="2215800">
            <a:off x="5292360" y="765000"/>
            <a:ext cx="3600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7409" descr="饼二"/>
          <p:cNvPicPr/>
          <p:nvPr/>
        </p:nvPicPr>
        <p:blipFill>
          <a:blip r:embed="rId1"/>
          <a:stretch/>
        </p:blipFill>
        <p:spPr>
          <a:xfrm>
            <a:off x="4643280" y="692280"/>
            <a:ext cx="3168720" cy="16524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7410" descr="饼六"/>
          <p:cNvPicPr/>
          <p:nvPr/>
        </p:nvPicPr>
        <p:blipFill>
          <a:blip r:embed="rId2"/>
          <a:stretch/>
        </p:blipFill>
        <p:spPr>
          <a:xfrm>
            <a:off x="0" y="0"/>
            <a:ext cx="3809880" cy="419112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7411" descr="饼一"/>
          <p:cNvPicPr/>
          <p:nvPr/>
        </p:nvPicPr>
        <p:blipFill>
          <a:blip r:embed="rId3"/>
          <a:stretch/>
        </p:blipFill>
        <p:spPr>
          <a:xfrm>
            <a:off x="4284720" y="3213000"/>
            <a:ext cx="3809880" cy="2845080"/>
          </a:xfrm>
          <a:prstGeom prst="rect">
            <a:avLst/>
          </a:prstGeom>
          <a:ln w="0">
            <a:noFill/>
          </a:ln>
        </p:spPr>
      </p:pic>
      <p:sp>
        <p:nvSpPr>
          <p:cNvPr id="180" name="文本框 17412"/>
          <p:cNvSpPr/>
          <p:nvPr/>
        </p:nvSpPr>
        <p:spPr>
          <a:xfrm>
            <a:off x="252360" y="50864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8433" descr="9999999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华文行楷"/>
              </a:rPr>
              <a:t>一起游戏吧。。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游戏规则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19457" descr="33333333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华文新魏"/>
              </a:rPr>
              <a:t>一、知识问答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  <a:ea typeface="黑体"/>
              </a:rPr>
              <a:t>必答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c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c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c"/>
                </a:solidFill>
                <a:latin typeface="Arial"/>
                <a:ea typeface="黑体"/>
              </a:rPr>
              <a:t>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c"/>
                </a:solidFill>
                <a:latin typeface="Arial"/>
                <a:ea typeface="黑体"/>
              </a:rPr>
              <a:t>4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c"/>
                </a:solidFill>
                <a:latin typeface="Arial"/>
                <a:ea typeface="黑体"/>
              </a:rPr>
              <a:t>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c"/>
                </a:solidFill>
                <a:latin typeface="Arial"/>
                <a:ea typeface="黑体"/>
              </a:rPr>
              <a:t>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c"/>
                </a:solidFill>
                <a:latin typeface="Arial"/>
                <a:ea typeface="黑体"/>
              </a:rPr>
              <a:t>7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c"/>
                </a:solidFill>
                <a:latin typeface="Arial"/>
                <a:ea typeface="黑体"/>
              </a:rPr>
              <a:t>8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20481" descr="33333333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文本框 20482"/>
          <p:cNvSpPr/>
          <p:nvPr/>
        </p:nvSpPr>
        <p:spPr>
          <a:xfrm>
            <a:off x="468360" y="476280"/>
            <a:ext cx="4535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抢答喽。。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c"/>
                </a:solidFill>
                <a:latin typeface="Arial"/>
                <a:ea typeface="黑体"/>
              </a:rPr>
              <a:t>1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c"/>
                </a:solidFill>
                <a:latin typeface="Arial"/>
                <a:ea typeface="黑体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c"/>
                </a:solidFill>
                <a:latin typeface="Arial"/>
                <a:ea typeface="黑体"/>
              </a:rPr>
              <a:t>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c"/>
                </a:solidFill>
                <a:latin typeface="Arial"/>
                <a:ea typeface="黑体"/>
              </a:rPr>
              <a:t>4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c"/>
                </a:solidFill>
                <a:latin typeface="Arial"/>
                <a:ea typeface="黑体"/>
              </a:rPr>
              <a:t>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c"/>
                </a:solidFill>
                <a:latin typeface="Arial"/>
                <a:ea typeface="黑体"/>
              </a:rPr>
              <a:t>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c"/>
                </a:solidFill>
                <a:latin typeface="Arial"/>
                <a:ea typeface="黑体"/>
              </a:rPr>
              <a:t>7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文本框 20483"/>
          <p:cNvSpPr/>
          <p:nvPr/>
        </p:nvSpPr>
        <p:spPr>
          <a:xfrm>
            <a:off x="1763640" y="260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indefinite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5" dur="indefinite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6" dur="indefinite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21505" descr="古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华文行楷"/>
              </a:rPr>
              <a:t>                                   </a:t>
            </a:r>
            <a:r>
              <a:rPr b="0" lang="zh-CN" sz="3600" spc="-1" strike="noStrike">
                <a:solidFill>
                  <a:srgbClr val="cc0066"/>
                </a:solidFill>
                <a:latin typeface="Arial"/>
                <a:ea typeface="华文行楷"/>
              </a:rPr>
              <a:t>二、和月亮一起</a:t>
            </a:r>
            <a:br>
              <a:rPr sz="3600"/>
            </a:br>
            <a:r>
              <a:rPr b="0" lang="zh-CN" sz="3600" spc="-1" strike="noStrike">
                <a:solidFill>
                  <a:srgbClr val="cc0066"/>
                </a:solidFill>
                <a:latin typeface="Arial"/>
                <a:ea typeface="华文行楷"/>
              </a:rPr>
              <a:t>                                                   朗诵诗歌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540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一起欣赏啦。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文本框 21508"/>
          <p:cNvSpPr/>
          <p:nvPr/>
        </p:nvSpPr>
        <p:spPr>
          <a:xfrm>
            <a:off x="324000" y="3357720"/>
            <a:ext cx="626400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0405"/>
                </a:solidFill>
                <a:latin typeface="Arial"/>
              </a:rPr>
              <a:t>《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十五夜望月</a:t>
            </a:r>
            <a:r>
              <a:rPr b="1" lang="en-US" sz="2800" spc="-1" strike="noStrike">
                <a:solidFill>
                  <a:srgbClr val="100405"/>
                </a:solidFill>
                <a:latin typeface="Arial"/>
              </a:rPr>
              <a:t>》 </a:t>
            </a: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（唐）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王建</a:t>
            </a: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　     　   中庭地白树栖鸦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冷露无声湿桂花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　　         今夜月明人尽望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不知秋思落谁家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　　　　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6" name="图片 22531" descr="111111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2532"/>
          <p:cNvSpPr/>
          <p:nvPr/>
        </p:nvSpPr>
        <p:spPr>
          <a:xfrm>
            <a:off x="250920" y="0"/>
            <a:ext cx="4105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0405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中秋月</a:t>
            </a:r>
            <a:r>
              <a:rPr b="1" lang="en-US" sz="2800" spc="-1" strike="noStrike">
                <a:solidFill>
                  <a:srgbClr val="100405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100405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（宋）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苏轼</a:t>
            </a: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　暮云收尽溢清寒， 银汉无声转玉盘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　此生此夜不长好， 明月明年何处看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文本框 22533"/>
          <p:cNvSpPr/>
          <p:nvPr/>
        </p:nvSpPr>
        <p:spPr>
          <a:xfrm>
            <a:off x="4427640" y="4292640"/>
            <a:ext cx="3889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中秋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（宋）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戴石屏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　　把酒冰壶接胜游，今年喜不负中秋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　　故人心似中秋月，肯为狂夫照白头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文本框 22534"/>
          <p:cNvSpPr/>
          <p:nvPr/>
        </p:nvSpPr>
        <p:spPr>
          <a:xfrm>
            <a:off x="3851280" y="260280"/>
            <a:ext cx="507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0405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古朗月行</a:t>
            </a:r>
            <a:r>
              <a:rPr b="1" lang="en-US" sz="2800" spc="-1" strike="noStrike">
                <a:solidFill>
                  <a:srgbClr val="100405"/>
                </a:solidFill>
                <a:latin typeface="Arial"/>
              </a:rPr>
              <a:t>》 </a:t>
            </a:r>
            <a:r>
              <a:rPr b="0" lang="en-US" sz="2800" spc="-1" strike="noStrike">
                <a:solidFill>
                  <a:srgbClr val="100405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唐</a:t>
            </a:r>
            <a:r>
              <a:rPr b="0" lang="en-US" sz="2800" spc="-1" strike="noStrike">
                <a:solidFill>
                  <a:srgbClr val="100405"/>
                </a:solidFill>
                <a:latin typeface="Arial"/>
              </a:rPr>
              <a:t>) </a:t>
            </a: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李白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小时不识月，呼作白玉盘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又疑瑶台镜，飞在青云端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仙人垂两足，桂树何团团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白兔捣药成，问言与谁餐？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蟾蜍蚀圆影，大明夜已残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羿昔落九乌，天人清且安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阴精此沦惑，去去不足观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忧来其如何，凄怆摧心肝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文本框 22535"/>
          <p:cNvSpPr/>
          <p:nvPr/>
        </p:nvSpPr>
        <p:spPr>
          <a:xfrm>
            <a:off x="468360" y="2276640"/>
            <a:ext cx="331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望月怀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（唐）张九龄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　　海上生明月，天涯共此时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　　情人怨遥夜，竟夕起相思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　　灭烛怜光满，披衣觉露滋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　　不堪盈手赠，还寝梦佳期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5121" descr="yueli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0066"/>
                </a:solidFill>
                <a:latin typeface="Arial"/>
                <a:ea typeface="华文行楷"/>
              </a:rPr>
              <a:t>我们是  一家人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23553" descr="1111111111111111111333333333333333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3360" y="-360"/>
            <a:ext cx="854064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华文行楷"/>
              </a:rPr>
              <a:t>三、唱歌啦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835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</a:rPr>
              <a:t>月亮代表我的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</a:rPr>
              <a:t>看月亮爬上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</a:rPr>
              <a:t>十五的月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</a:rPr>
              <a:t>花好月圆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</a:rPr>
              <a:t>月半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</a:rPr>
              <a:t>月亮之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</a:rPr>
              <a:t>白月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文本框 23556"/>
          <p:cNvSpPr/>
          <p:nvPr/>
        </p:nvSpPr>
        <p:spPr>
          <a:xfrm>
            <a:off x="3995640" y="2492280"/>
            <a:ext cx="4680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</a:rPr>
              <a:t>月亮走我也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</a:rPr>
              <a:t>彩云追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</a:rPr>
              <a:t>但愿人长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</a:rPr>
              <a:t>你看你看月亮的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</a:rPr>
              <a:t>上弦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</a:rPr>
              <a:t>满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24577" descr="月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54064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隶书"/>
              </a:rPr>
              <a:t>祝贺冠军</a:t>
            </a:r>
            <a:br>
              <a:rPr sz="8000"/>
            </a:br>
            <a:r>
              <a:rPr b="0" lang="zh-CN" sz="80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仿宋_GB2312"/>
              </a:rPr>
              <a:t>发月饼啦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0AB8-2A1A-4353-97E2-88AA0DFF11E7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25601" descr="1010101010101010101010101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杨千嬅-花好月圆夜(with任贤齐 电影`花好月圆`国语主题曲).mp3" descr=""/>
          <p:cNvPicPr/>
          <p:nvPr/>
        </p:nvPicPr>
        <p:blipFill>
          <a:blip r:embed="rId2"/>
          <a:stretch/>
        </p:blipFill>
        <p:spPr>
          <a:xfrm>
            <a:off x="7740720" y="567072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48115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6145" descr="11111111111112222222222222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66"/>
                </a:solidFill>
                <a:latin typeface="Arial"/>
                <a:ea typeface="华文行楷"/>
              </a:rPr>
              <a:t>中秋节的来历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136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新魏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 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每年农历八月十五日，是我国传统的中秋佳节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秋节有悠久的历史，和其它传统节日一样，也是慢慢发展形成的，古代帝王有春天祭日，秋天祭月的礼制，早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新魏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周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新魏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一书中，已有“中秋”一词的记载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这时是一年秋季的中期，所以被称为中秋。这也是我国仅次于春节的第二大传统节日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    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中国的农历里，一年分为四季，每季又分为孟、仲、季三个部分，因 而中秋也称仲秋。八月十五的月亮比其它几个月的满月更圆，更明亮，所以又叫做月夕、秋节、仲秋节、八月节、八月会、追月节、玩月节、拜月节、女儿节或团圆节，是流行于全国众多民族中的传统文化节日。此夜，人们仰望天空如玉如盘的朗朗明月，自然会期盼家人团聚。远在他乡的游子，也借此寄托自己对故乡和亲人的思念之情。所以，中秋也称“团圆节”。</a:t>
            </a:r>
            <a:r>
              <a:rPr b="0" lang="zh-CN" sz="1800" spc="-1" strike="noStrike">
                <a:solidFill>
                  <a:srgbClr val="007572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7169" descr="1010101010101010101010101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华文行楷"/>
              </a:rPr>
              <a:t>对着明月，讲故事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6800" y="1980720"/>
            <a:ext cx="83772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66"/>
                </a:solidFill>
                <a:latin typeface="Arial"/>
                <a:ea typeface="楷体_GB2312"/>
              </a:rPr>
              <a:t>嫦娥奔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华文新魏"/>
                <a:ea typeface="华文新魏"/>
              </a:rPr>
              <a:t>　　无论有多少版本，一点是共通的：嫦娥是射日英雄后羿之妻，王母感后羿射日之功，赠之不死仙药。而嫦娥因故吃了仙药，无法逗留地面，飞天奔月而去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华文新魏"/>
                <a:ea typeface="华文新魏"/>
              </a:rPr>
              <a:t>　　有的版本中仙药是一粒，被嫦娥得之。而更多版本是两粒：人服一粒长生，服二粒成仙。后羿拿回家给嫦娥保管，准备夫妻分食，然而却被意外打破了这个计划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华文新魏"/>
                <a:ea typeface="华文新魏"/>
              </a:rPr>
              <a:t>　　意外是什么？无数版本的意外让嫦娥的形象在千百年来飘忽不定。有传说是嫦娥因不知详情而全服下；有人说嫦娥是好奇偷食；也人说嫦娥是故意盗之；一种悲伤的说法是后羿冷落嫦娥，嫦娥伤心而去；还有的传说是，后羿的部下蓬蒙趁后羿率众徒外出狩猎时手持宝剑闯入后院，威逼嫦娥交出宝物，嫦娥危急中将宝物吞下</a:t>
            </a:r>
            <a:r>
              <a:rPr b="0" lang="en-US" sz="2000" spc="-1" strike="noStrike">
                <a:solidFill>
                  <a:srgbClr val="ffff66"/>
                </a:solidFill>
                <a:latin typeface="华文新魏"/>
                <a:ea typeface="华文新魏"/>
              </a:rPr>
              <a:t>……</a:t>
            </a:r>
            <a:r>
              <a:rPr b="0" lang="zh-CN" sz="2000" spc="-1" strike="noStrike">
                <a:solidFill>
                  <a:srgbClr val="ffff66"/>
                </a:solidFill>
                <a:latin typeface="华文新魏"/>
                <a:ea typeface="华文新魏"/>
              </a:rPr>
              <a:t>无论如何，这个意外，造就了千古传说中一位最美丽浪漫、也最缥缈不定的月宫佳人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华文新魏"/>
                <a:ea typeface="华文新魏"/>
              </a:rPr>
              <a:t>　　服下仙药的嫦娥身子渐渐飘离地面，而广邈清冷的天空中，该去哪里呢？抬头望见皎洁的月光，嫦娥终于决定向那轮圆月冉冉飞去。</a:t>
            </a: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8193" descr="吴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8194"/>
          <p:cNvSpPr/>
          <p:nvPr/>
        </p:nvSpPr>
        <p:spPr>
          <a:xfrm>
            <a:off x="611280" y="765000"/>
            <a:ext cx="8281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00405"/>
                </a:solidFill>
                <a:latin typeface="楷体_GB2312"/>
                <a:ea typeface="楷体_GB2312"/>
              </a:rPr>
              <a:t>吴刚伐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0405"/>
                </a:solidFill>
                <a:latin typeface="华文行楷"/>
                <a:ea typeface="华文行楷"/>
              </a:rPr>
              <a:t>　</a:t>
            </a:r>
            <a:r>
              <a:rPr b="0" lang="zh-CN" sz="2400" spc="-1" strike="noStrike">
                <a:solidFill>
                  <a:srgbClr val="100405"/>
                </a:solidFill>
                <a:latin typeface="华文行楷"/>
                <a:ea typeface="华文行楷"/>
              </a:rPr>
              <a:t>　</a:t>
            </a:r>
            <a:r>
              <a:rPr b="0" lang="zh-CN" sz="2000" spc="-1" strike="noStrike">
                <a:solidFill>
                  <a:srgbClr val="100405"/>
                </a:solidFill>
                <a:latin typeface="华文新魏"/>
                <a:ea typeface="华文新魏"/>
              </a:rPr>
              <a:t>抬头仰望明月，可见当中有些黑影，这便是传说的吴刚在伐桂。吴刚砍桂的神话据说是在唐代演绎而成，在民间流传中也有不同版本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0405"/>
                </a:solidFill>
                <a:latin typeface="华文新魏"/>
                <a:ea typeface="华文新魏"/>
              </a:rPr>
              <a:t>　　传说吴刚是天庭中的一位粗鲁的天将，被嫦娥的美丽深深吸引。也不顾对方的拒绝，一次又一次地跑到月宫纠缠。嫦娥不堪其扰，于是指向月中桂树说，它枝条太长了，今夜你若能将它砍断，便答应你的追求。吴刚心花怒放，心想这算什么难题，抡起斧头就砍。可每次拔出斧头，桂树的树身便恢复如初。于是他一斧又一斧地砍，桂树总是不断。一至砍到今天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0405"/>
                </a:solidFill>
                <a:latin typeface="华文新魏"/>
                <a:ea typeface="华文新魏"/>
              </a:rPr>
              <a:t>　　也有传说中吴刚是位凡人：一位西河人姓吴名刚，本为樵夫，醉心于仙道，但始终不肯专心学习，因此天帝震怒，把他居留在月宫，令他在月宫伐株五百丈的桂树，并说：“如果你砍倒桂树，就可获仙术。”但吴刚每砍一斧，斧起而树创伤就马上愈合，日复一日，吴刚伐桂的愿望仍未达成，因此吴刚在月宫常年伐桂，始终砍不倒这棵树，而他也不断地砍下去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1554480"/>
            <a:ext cx="45396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5589360"/>
            <a:ext cx="73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9217" descr="000000000011111111111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华文行楷"/>
              </a:rPr>
              <a:t>中秋习俗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34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中秋祭月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　在我国是一种十分古老的习俗。据史书记载，早在周朝，古代帝王就有</a:t>
            </a:r>
            <a:r>
              <a:rPr b="0" lang="zh-CN" sz="18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2"/>
              </a:rPr>
              <a:t>春分</a:t>
            </a:r>
            <a:r>
              <a:rPr b="0" lang="zh-CN" sz="1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祭日、</a:t>
            </a:r>
            <a:r>
              <a:rPr b="0" lang="zh-CN" sz="18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3"/>
              </a:rPr>
              <a:t>夏至</a:t>
            </a:r>
            <a:r>
              <a:rPr b="0" lang="zh-CN" sz="1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祭地、</a:t>
            </a:r>
            <a:r>
              <a:rPr b="0" lang="zh-CN" sz="18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4"/>
              </a:rPr>
              <a:t>秋分</a:t>
            </a:r>
            <a:r>
              <a:rPr b="0" lang="zh-CN" sz="1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祭月、</a:t>
            </a:r>
            <a:r>
              <a:rPr b="0" lang="zh-CN" sz="18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5"/>
              </a:rPr>
              <a:t>冬至</a:t>
            </a:r>
            <a:r>
              <a:rPr b="0" lang="zh-CN" sz="1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祭天的习俗。其祭祀的场所称为日坛、地坛、月坛、天坛。分设在东南西北四个方向。北京的月坛就是明清皇帝祭月的地方。</a:t>
            </a:r>
            <a:r>
              <a:rPr b="0" lang="en-US" sz="1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《</a:t>
            </a:r>
            <a:r>
              <a:rPr b="0" lang="zh-CN" sz="18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6"/>
              </a:rPr>
              <a:t>礼记</a:t>
            </a:r>
            <a:r>
              <a:rPr b="0" lang="en-US" sz="1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》</a:t>
            </a:r>
            <a:r>
              <a:rPr b="0" lang="zh-CN" sz="1800" spc="-1" strike="noStrike">
                <a:solidFill>
                  <a:srgbClr val="ffff00"/>
                </a:solidFill>
                <a:latin typeface="华文新魏"/>
                <a:ea typeface="华文新魏"/>
              </a:rPr>
              <a:t>记载：“天子春朝日，秋夕月。朝日之朝，夕月之夕。”这里的夕月之夕，指的正是夜晚祭祀月亮。这种风俗不仅为宫廷及上层贵族所奉行，随着社会的发展，也逐渐影响到民间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文人赏月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赏月的风俗来源于祭月，严肃的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7"/>
              </a:rPr>
              <a:t>祭祀</a:t>
            </a:r>
            <a:r>
              <a:rPr b="0" lang="zh-CN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变成了轻松的欢娱。民间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8"/>
              </a:rPr>
              <a:t>中秋赏月</a:t>
            </a:r>
            <a:r>
              <a:rPr b="0" lang="zh-CN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活动约始魏晋时期，但未成习。到了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9"/>
              </a:rPr>
              <a:t>唐代</a:t>
            </a:r>
            <a:r>
              <a:rPr b="0" lang="zh-CN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中秋赏月、玩月颇为盛行，许多诗人的名篇中都有咏月的诗句。待到宋时，形成了以赏月活动为中心的中秋民俗节日，正式定为中秋节。与唐人不同，宋人赏月更多的是感物伤怀，常以阴晴圆缺，喻人情事态，即使中秋之夜，明月的清光也掩饰不住宋人的伤感。但对宋人来说，中秋还有另外一种形态，即中秋是世俗欢愉的节日：“中秋节前，诸店皆卖新酒，贵家结饰台榭，民家争占酒楼玩月，笙歌远闻千里，嬉戏连坐至晓”（</a:t>
            </a: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《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10"/>
              </a:rPr>
              <a:t>东京梦华录</a:t>
            </a: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》</a:t>
            </a:r>
            <a:r>
              <a:rPr b="0" lang="zh-CN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。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11"/>
              </a:rPr>
              <a:t>宋代</a:t>
            </a:r>
            <a:r>
              <a:rPr b="0" lang="zh-CN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中秋夜是不眠之夜，夜市通宵营业，玩月游人，达旦不绝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0241" descr="0000000000000000000000000000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32000" y="4210560"/>
            <a:ext cx="957240" cy="37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81612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  <a:ea typeface="楷体_GB2312"/>
              </a:rPr>
              <a:t>民间拜月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ffff66"/>
                </a:solidFill>
                <a:latin typeface="华文新魏"/>
                <a:ea typeface="华文新魏"/>
              </a:rPr>
              <a:t>相传古代齐国丑女无盐，幼年时曾虔诚拜月，长大后，以超群品德入宫，但未被宠幸。某年八月十五赏月，天子在月光下见到她，觉得她美丽出众，后立她为皇后，中秋拜月由此而来。月中嫦娥，以美貌著称，故少女拜月，愿“貌似嫦娥，面如皓月”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华文新魏"/>
                <a:ea typeface="华文新魏"/>
              </a:rPr>
              <a:t>　　明清之后，因时代的关系，社会生活中的现实功利因素突出，岁时节日中世俗的情趣俞益浓厚，以“赏月”为中心的抒情性与神话性的文人传统减弱，功利性的祭拜、祈求与世俗的情感、愿望构成普通民众中秋节俗的主要形态。因此，“民间拜月”成为人们渴望团聚、康乐和幸福；以月寄情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华文新魏"/>
                <a:ea typeface="华文新魏"/>
              </a:rPr>
              <a:t>　　在古代有“秋暮夕月”的习俗。夕月，即祭拜月神。设大香案，摆上月饼、西瓜、苹果、红枣、李子、葡萄等祭品，其中月饼和西瓜是绝对不能少的。西瓜还要切成莲花状。在月下，将月亮神像放在月亮的那个方向，红烛高燃，全家人依次拜祭月亮，然后由当家主妇切开团圆月饼。切的人预先算好全家共有多少人，在家的，在外地的，都要算在一起，不能切多也不能切少，大小要一样。</a:t>
            </a:r>
            <a:r>
              <a:rPr b="0" lang="zh-CN" sz="1800" spc="-1" strike="noStrike">
                <a:solidFill>
                  <a:srgbClr val="ffff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1265" descr="2222222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691920"/>
            <a:ext cx="426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  <a:ea typeface="楷体_GB2312"/>
              </a:rPr>
              <a:t>兔儿爷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Arial"/>
              </a:rPr>
              <a:t>　　</a:t>
            </a:r>
            <a:r>
              <a:rPr b="0" lang="zh-CN" sz="1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兔儿爷的起源约在明末。明人纪坤（约一六三六年前后在世）的</a:t>
            </a:r>
            <a:r>
              <a:rPr b="0" lang="en-US" sz="16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《</a:t>
            </a:r>
            <a:r>
              <a:rPr b="0" lang="zh-CN" sz="1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花王阁剩稿</a:t>
            </a:r>
            <a:r>
              <a:rPr b="0" lang="en-US" sz="16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》</a:t>
            </a:r>
            <a:r>
              <a:rPr b="0" lang="zh-CN" sz="1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：“京中秋节多以泥抟兔形，衣冠踞坐如人状，儿女祀而拜之。”到了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2"/>
              </a:rPr>
              <a:t>清代</a:t>
            </a:r>
            <a:r>
              <a:rPr b="0" lang="zh-CN" sz="1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3"/>
              </a:rPr>
              <a:t>兔儿爷</a:t>
            </a:r>
            <a:r>
              <a:rPr b="0" lang="zh-CN" sz="1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功能已由祭月转变为儿童的中秋节玩具。制作也日趋精致，有扮成武将头戴盔甲、身披戢袍的、也有背插纸旗或纸伞、或坐或立的。坐则有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4"/>
              </a:rPr>
              <a:t>麒麟</a:t>
            </a:r>
            <a:r>
              <a:rPr b="0" lang="zh-CN" sz="1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虎豹等等。也有扮成兔首人身之商贩，或是剃头师父、或是缝鞋、卖馄饨、茶汤的，不一而足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　　“每届中秋，市人之巧者，用黄土抟成蟾兔之像以出售，谓之兔儿爷。”旧时北京东四牌楼一带，常有兔儿爷摊子，专售中秋祭月用的兔儿爷。此外，南纸店，香烛也有出售的。 这兔儿爷，经过民间艺人的大胆创造，已经人格化了。它是兔首人身，手持玉杵。后来有人仿照戏曲人物，把兔儿爷雕造成金盔金甲的武士，有的骑着狮、象等猛兽，有的骑着孔雀，仙鹤等飞禽。特别是兔儿爷骑虎，虽属怪事，但却是民间艺人的大胆创造。还有一种肘关节和下颔能活动的兔儿爷，俗称“刮打刮打嘴”，更讨人喜欢。它虽为拜月的供品，但实在是孩子们的绝妙玩具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1" name="图片 11268" descr="ye"/>
          <p:cNvPicPr/>
          <p:nvPr/>
        </p:nvPicPr>
        <p:blipFill>
          <a:blip r:embed="rId5"/>
          <a:stretch/>
        </p:blipFill>
        <p:spPr>
          <a:xfrm rot="21304200">
            <a:off x="5333760" y="260280"/>
            <a:ext cx="3809880" cy="29196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1269" descr="er"/>
          <p:cNvPicPr/>
          <p:nvPr/>
        </p:nvPicPr>
        <p:blipFill>
          <a:blip r:embed="rId6"/>
          <a:stretch/>
        </p:blipFill>
        <p:spPr>
          <a:xfrm rot="495000">
            <a:off x="4500360" y="436572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1270" descr="tu"/>
          <p:cNvPicPr/>
          <p:nvPr/>
        </p:nvPicPr>
        <p:blipFill>
          <a:blip r:embed="rId7"/>
          <a:stretch/>
        </p:blipFill>
        <p:spPr>
          <a:xfrm rot="19991400">
            <a:off x="6912000" y="4941720"/>
            <a:ext cx="2232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2289" descr="dengbeij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67280" y="642600"/>
            <a:ext cx="11746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692280"/>
            <a:ext cx="42670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00405"/>
                </a:solidFill>
                <a:latin typeface="Arial"/>
                <a:ea typeface="楷体_GB2312"/>
              </a:rPr>
              <a:t>玩花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0405"/>
                </a:solidFill>
                <a:latin typeface="华文新魏"/>
                <a:ea typeface="华文新魏"/>
              </a:rPr>
              <a:t>　　中秋节，有许多的游戏活动，首先是玩花灯。中秋是我国三大灯节之一，过节要玩灯。当然，中秋没有像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2"/>
              </a:rPr>
              <a:t>元宵节</a:t>
            </a:r>
            <a:r>
              <a:rPr b="0" lang="zh-CN" sz="2000" spc="-1" strike="noStrike">
                <a:solidFill>
                  <a:srgbClr val="100405"/>
                </a:solidFill>
                <a:latin typeface="华文新魏"/>
                <a:ea typeface="华文新魏"/>
              </a:rPr>
              <a:t>那样的大型灯会，玩灯主要只是在家庭、儿童之间进行的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00405"/>
                </a:solidFill>
                <a:latin typeface="华文新魏"/>
                <a:ea typeface="华文新魏"/>
              </a:rPr>
              <a:t>花灯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0405"/>
                </a:solidFill>
                <a:latin typeface="华文新魏"/>
                <a:ea typeface="华文新魏"/>
              </a:rPr>
              <a:t>早在北宋</a:t>
            </a:r>
            <a:r>
              <a:rPr b="0" lang="en-US" sz="2000" spc="-1" strike="noStrike">
                <a:solidFill>
                  <a:srgbClr val="100405"/>
                </a:solidFill>
                <a:latin typeface="华文新魏"/>
                <a:ea typeface="华文新魏"/>
              </a:rPr>
              <a:t>《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3"/>
              </a:rPr>
              <a:t>武林旧事</a:t>
            </a:r>
            <a:r>
              <a:rPr b="0" lang="en-US" sz="2000" spc="-1" strike="noStrike">
                <a:solidFill>
                  <a:srgbClr val="100405"/>
                </a:solidFill>
                <a:latin typeface="华文新魏"/>
                <a:ea typeface="华文新魏"/>
              </a:rPr>
              <a:t>》</a:t>
            </a:r>
            <a:r>
              <a:rPr b="0" lang="zh-CN" sz="2000" spc="-1" strike="noStrike">
                <a:solidFill>
                  <a:srgbClr val="100405"/>
                </a:solidFill>
                <a:latin typeface="华文新魏"/>
                <a:ea typeface="华文新魏"/>
              </a:rPr>
              <a:t>中，记载中秋夜节俗，就有‘将“一点红”灯放入江中漂流玩耍的活动。中秋玩花灯，多集中在南方。如前述的佛山秋色会上，就有各种各式的彩灯：芝麻灯、蛋壳灯、刨花灯、稻草灯、鱼鳞灯、谷壳灯、瓜籽灯及鸟兽花树灯等，令人赞叹。</a:t>
            </a:r>
            <a:r>
              <a:rPr b="0" lang="zh-CN" sz="1800" spc="-1" strike="noStrike">
                <a:solidFill>
                  <a:srgbClr val="10040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7" name="图片 12292" descr="huadeng"/>
          <p:cNvPicPr/>
          <p:nvPr/>
        </p:nvPicPr>
        <p:blipFill>
          <a:blip r:embed="rId4"/>
          <a:stretch/>
        </p:blipFill>
        <p:spPr>
          <a:xfrm rot="1634400">
            <a:off x="5003280" y="692280"/>
            <a:ext cx="3343320" cy="214920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2293" descr="hua"/>
          <p:cNvPicPr/>
          <p:nvPr/>
        </p:nvPicPr>
        <p:blipFill>
          <a:blip r:embed="rId5"/>
          <a:stretch/>
        </p:blipFill>
        <p:spPr>
          <a:xfrm rot="20442000">
            <a:off x="7235640" y="407628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2294" descr="deng"/>
          <p:cNvPicPr/>
          <p:nvPr/>
        </p:nvPicPr>
        <p:blipFill>
          <a:blip r:embed="rId6"/>
          <a:stretch/>
        </p:blipFill>
        <p:spPr>
          <a:xfrm rot="646800">
            <a:off x="4642920" y="3716280"/>
            <a:ext cx="2016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0:59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25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