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5418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10D-CB70-4543-BD58-5FB27861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EFF-A10F-4E3F-9285-D51BB557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3BAF1-4809-4ABA-ABC0-28287826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2DE92-5588-4D91-B416-B6AA0FBF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7330E-FBF1-4A48-8534-1206F9E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DE7D9-BB72-40B2-A219-9BA6DC3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947B7-05D5-4123-922E-CFCBED7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6D2DB-0235-4722-8109-08B9FD2F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F72E4-E23E-4C91-9AF4-0496246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C8E36-9BDA-4239-9889-591E3067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F95B1-CBBD-4B1B-8C94-38C25D10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204FC-E73C-49D4-A1EB-52DB228B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39E-6A2E-47C9-9BE2-924A98C1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A1063-FFC2-4742-A632-D119845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39C1A-CEA7-49AA-92DD-403449E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EC9E9-3F78-4B5F-BD4C-7BA9BBA3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B724B-957A-45E7-8B12-119E0D73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83D9D-7090-4CBD-B85E-D02134D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FA62A-6656-46A5-9129-F718A08E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1C356-5658-4DE6-B4BD-39020EC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4BEC9-8EE0-4778-89DF-04F0A268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BFFCA-8FC1-402E-8160-05275727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0490F-F371-4A20-9495-4E3C59F9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7E8-A5D6-45ED-AB21-F841FB92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762B-0A8E-4645-8CDA-3A557D58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D4A4-A836-48F1-8360-3FB71F8F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FD2B2-27B2-4F5B-A501-F0C596E4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4657E-4063-4A9A-9F1D-A0B7069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29891-931F-48CB-A765-8FC6568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C0291-7DDA-46D0-AAC4-CA7E16E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36C60-0A93-4367-B005-B25A2211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CCE1D-4A4B-47BE-B092-AF6BEC84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73B8-F0BB-4C77-AA85-4D59F253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C60B1-5705-4B75-9486-D13E0AA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9002-AC87-4560-880F-6C5790EC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A873A-ABEC-4AC9-BA08-FF95BD7D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630C4-D8C5-4BFD-A080-320ADD9D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FD227-57BE-4DCC-9E7B-3EBAD4BE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157BE-6A1B-4C13-ADC4-4BC2C35A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9FCF6-F89F-4F1C-B7D7-B0482BA8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2C865-D33C-43A9-AB63-CCF6858A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A816-4008-463F-AEF0-B6ECBC54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37C2C-C304-4AB8-A9B5-84EEA63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AF387-57CA-430F-B8F8-CE327193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520D8-FF31-4D36-A060-12DF19E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EF93-0AD0-4F9B-9CF4-DDF20F6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D2E3-A1A4-4303-B24A-BDFCE45C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85821-D981-443D-AFBD-B9CF3B62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14976-5CA8-43EE-ACF9-8F678698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0CCA6-4C77-410A-B70D-50BC7DDF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9A584-8106-4A76-966D-3A1484AB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AA2F5-4214-4C5D-8B77-EA638AF9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79E5B-77BE-4D72-8535-57D580C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8DE94-CC1E-4DA1-93C4-CFBA7118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7E2B2-18C4-47E2-9C93-7C38A628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5C6D3-7E55-482A-BE97-F9A77670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B20C-6E82-4115-9BB1-C06D539E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B4EF4-C6C4-4C5C-A677-5B29505D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BD18E-53A4-4AAB-9F63-0629FFC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38876-F56B-4740-B356-CD84628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9BEBF9-E723-41F4-86F7-1F073A8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072194-08D7-4E3B-8F03-D986E2D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D5491-47E0-49A5-8935-401B7A5B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A7CDB-6184-488C-AF4E-68D91F89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C230-7C24-4D25-AC7F-3E067E7F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7637-1AA5-4541-A168-F45FA0A3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6BC-7D97-4019-B42C-243E4CD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301C-C813-4C90-BD2D-95BABD24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286-8FC9-4EB5-AA00-7722160F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9FFB-5A06-49AC-8A41-931ACB8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65E1-5FF1-4CB8-B821-D6090A62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36DA-0F09-459E-8CAD-0089756B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5251-902A-4BC9-85AB-F70F85FD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9684-32CC-4B44-9BD7-BB6F0230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01DEC-97E0-469B-8697-906611C8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C223-442E-42E8-845E-D264E5C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6B45-1D8F-4233-8417-604A3B28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90F1-728D-46D2-8C61-54FE0B4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69287-6E00-4DBB-95F7-BA3B016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0D5-A374-4BAA-8E6A-BA30AA3B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0949-2422-41D9-86CF-E1AD758C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C4E0-8EEC-45E4-A1E7-16FB725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D53F7-F32F-4359-8638-CA0AB5A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F3A6-FC39-4803-AFFD-7A43D218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CA0A-671A-415B-8F64-B725FDD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6AF2-69EB-4116-B1C7-D1CDC487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D2442-38E1-4757-9651-75DF265B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1EB38-6217-4C37-81D4-BA41F525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0AEA-BDA1-4A91-9CF0-DE4377E3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04C07-DD49-4943-A526-6BFAE9B8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12D8-F55A-4AEC-ADDE-847E9F9A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114C-92F0-474C-A032-FBE9ADEF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BF6C6-3EB8-41EE-89F8-BF81DEFF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747F-9EE3-4123-B90B-CC086F5B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9ACC-E6E1-4190-9571-F7C9FF6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E172-5A8D-42F7-AD37-50F76A3A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8A0A-1C4B-4E4E-A89F-D80EAE8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1952-1117-4B7A-A61C-E7079420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F1327-0B07-440A-A48F-2AE9DCF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6B211-7DCA-4E8D-A246-85A99FE5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84403-30A0-4FAE-A1F5-BD90F4A3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EC2-8701-4BAD-B554-A4B9FCA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2F2C-15A1-4A77-AECB-2D5702DF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3761-69A9-4113-A29B-EEBC87C2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4FA9-21F0-4F9A-A538-2E5481A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7A9D-5D63-49A8-8EC6-5511BD2A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2EC2-DBA3-411D-A738-378F62C3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7B202-86D7-4856-8CAA-46EB252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3D01-94F3-4DE1-ADB4-DEACA93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7947D-B5CA-49CB-9AAC-254C91B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B964-ED91-4E9F-A79F-6590F738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B360E-E963-4917-A806-411AAC9E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A1F-DF7C-4620-A392-6EF97295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0E0F5-7D49-4550-910F-AB30F07B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30F79-4628-4AD7-B8F0-B4294340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5DA3-2245-4CF3-B4C5-9B09770A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C8FB-B67A-45CD-B41C-BC555FF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9810-2544-4F3E-ACEC-064DA5CC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D67C9-8155-4CB4-A3A7-A0DD8E4A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C3542-3BB1-4879-B296-6A7F0B2D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807C-E67B-4D59-BE32-899F6D4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5588-7E88-456A-A4EF-D48DD631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6B6ED-5D98-427E-B5FC-16B9C94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87B-A4ED-4419-81D2-53E4D9E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7351-C5B8-4CAB-8E06-64EC5807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637E-4554-4706-948A-4029DE09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55E8D-8956-48FF-B7E9-7D5504F8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91112-92B7-4193-BA52-9BFAA093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45BEA-7DF8-44C1-BC9B-1A4C0037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8A7B-6F8D-4AC5-A17F-B234C5A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C347-88C3-4B1C-8BE5-E484BA87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3B920-5035-47CA-8CAA-EBFFDBED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92C39-D660-4A79-B21E-8352B261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1A754-75DC-42CB-933E-BC8BB5D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EF8-EB3B-447A-B224-399610A5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F4B2-39E9-44F4-8CC6-A6D1BAE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E2BD0-F9E9-4B3A-B607-95B07996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496EC-5057-4AD9-A70E-118A470C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EBC5-0D69-41FD-83E4-0FCB298F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1C902-1BCA-4325-AAF7-CFD053CB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6DA12-7F31-42ED-A988-39886AD1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E34A-21CE-4A58-BFA0-1E8CDCF4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D390A-A9E4-412F-A982-434BA77E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DBAB-44F7-4B05-8A13-46341C9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7536F-A2BE-48E6-858C-99E0DC8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9BA-BF2D-41E5-8282-6E11FD2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17080"/>
            <a:ext cx="822960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C017A-23E7-4339-A338-D4729FE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C13DD-6020-420B-8FFC-6B2CC0D7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17C42-F6D1-492A-A7AA-D562F925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A38FE-F903-463F-B334-2E7C32FA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131280"/>
            <a:ext cx="822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8480-47A7-42F0-821A-AF128F1A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324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131280"/>
            <a:ext cx="40158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19E5-7A2E-463B-86BE-92BB7A44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6324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131280"/>
            <a:ext cx="2649600" cy="17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6FC10-4A41-43B8-BD34-AD3455F9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F7043-A6F8-425E-99B1-BD1A572D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EAE1A-7DCF-4EEB-B80E-93EF3448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1FCD1-E476-4EDC-9EF4-411F574C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33800"/>
            <a:ext cx="2133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33800"/>
            <a:ext cx="289584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33800"/>
            <a:ext cx="2133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B8B-E2A2-4E1A-9E86-6965B0605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2E7C-C520-4653-A109-AAE2BF60B0E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F3B6-F548-472F-9449-57B02B61D59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2BE0-BFE5-44A6-AD7E-1A0239C8DEE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6E5-0714-4C84-BA4A-F07B16A816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6C01-A911-4E5E-91C4-202C8260738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1B01-4D0D-441E-AF2C-E843EB84EC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F5D-F0C3-4892-8066-C4D795DCC5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207B-7CB9-4F95-8B5F-C93FFAAB04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1DD-609C-4DB2-BC66-EE09C838A79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4478-24DA-4C68-8014-61D5C9AF36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1DD-60FA-471C-AD27-F6FDE378E5B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729C-3690-4EE5-9968-1D0069F72E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12FD-A6D9-4CB4-BE79-9CA2B93952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85DE-65DE-46E0-986B-E0CE7069BA1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CD6-ADB4-4C45-B19A-4FC8A4F708E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ACD-2D34-4946-9324-CF8A46BBBB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7B94-8FB2-4C29-AD0F-4C97204FB7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4DAD-AC70-43F7-9971-67CD048C86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0441-6D2A-4B5B-A4A5-EAB1360FC1C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534-495D-4C8B-BC24-DF0A71D1AC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D583-B5A0-4C17-8854-1D4AB5BD41A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6AB7-8A2F-4524-AEE5-B18FC3D304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63240"/>
            <a:ext cx="82296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BA84-3F03-4CDB-8A6E-1695495F6D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02092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02092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4142-AF13-488B-B907-9AAEB84F19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372B-76AD-4A78-86D3-1E65AE858B7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6826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6600"/>
                </a:solidFill>
                <a:latin typeface="Arial"/>
              </a:rPr>
              <a:t>中秋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cc66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070080"/>
            <a:ext cx="6400800" cy="13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9" name="文本框 14339"/>
          <p:cNvSpPr/>
          <p:nvPr/>
        </p:nvSpPr>
        <p:spPr>
          <a:xfrm>
            <a:off x="179280" y="501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9:0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