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BF3-E260-4A68-BEA7-A107A862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C9C-A48E-4BA2-B052-B1384109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29C4-ACB2-462F-9DC3-E52A416B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9C5B3-E3E5-495F-B718-89E8A32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8132B-48AA-4D52-9AE8-A6948AA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15CFC-73A6-4631-93B8-DE292BE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6A3DF-EB0A-4A46-9994-79EED31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2835C-3CAA-4409-9D3A-5E98C87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28040-2753-4502-A82B-7F13EC8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54389-6E22-4C91-B5C3-337CBDD2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EB0B1-FEF8-4375-A2C8-9C5572AD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8E193-EC55-4FCE-A315-ED86E28B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9AE-93DF-4336-8D80-6BD43E97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7E0AF-B132-46C5-B1C9-44480F7E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0B685-9B20-423D-B1F3-B62DA49C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B17DC-B7D8-431A-AE50-8F012DA5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0BE95-198E-44B9-BBCD-BE1C2A11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3DE9B-D544-4EF8-89FF-E60AF597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44F32-1151-4276-BA43-C2790AD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2AE6A-4F7B-4FC8-948C-C7A47B52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15B2-679C-400C-BFA8-BBFE60D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FB329-ECB4-44A0-882A-8DA325C5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011AD-0E6A-4C6E-8784-74585AF3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80F-1BF3-49B2-8072-88E22ACC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CB69-27B2-4FA6-B235-335619BE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D3A1-E72E-4639-8059-C3B8B9A0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47CFA-995B-4C3A-A9C9-4AA9D55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1A1AA-D22B-446D-B326-E9017E1F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E3407-B13B-4EE9-B0D8-883523BE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3F344-4D1E-4CE0-B851-749C2AC1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598A5-5494-4615-B8AF-511AB2C2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8352C-0990-499A-AE14-3DA03DC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52597-3736-44BB-A09C-85C3AD3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12E07-18BA-41C8-AC84-E20224E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3DE9-826E-4796-AF42-3E501173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9CF2-E3A8-4B6A-A85F-F36293EF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18A47-A9E5-4C9A-9B8F-9A8BD57E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24BEA-B4F1-45D3-8955-F5C03A58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A4DF8-BFA8-46B3-B04D-3629BB2C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F8FE6-795C-4CFC-8922-9219C7F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C5791-6843-4080-B501-248B7241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183E5-FCD1-4A5C-ADDA-58B7F243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9EF2A-2BC7-4AC1-AC4A-1C7B017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FD40D-1FBC-467B-ACA5-F892002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BFFA7-244F-4B9B-8B56-F90EAD4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091F-A23D-4FDE-B9A5-817D4814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D9D63-9D67-450B-8DC6-5DFA4A7D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0168D-371F-441E-BD93-E266CDC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536D2-F21E-4D9D-8FCF-E2E73030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6E6A3-E76B-4E71-BBC3-BBF5B65D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00583-9161-49BA-BD39-EB8B5E95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997A5-FEA3-4A51-9855-89E4EFC3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781A1-80C2-4248-95F4-49D69C7B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B47A4-E690-4D44-A394-A6DD408C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45038-1E5A-44A8-A4BD-4C4F5ADC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C46BA-4051-4A4E-8FC0-EBF2099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B681-8178-425F-9F61-DE7034D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C577D-DC8A-4C91-94EA-0A4FC367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CF7EC-E375-4BD7-A990-E70F192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5214E-1CBD-425B-AE97-7BF1AFD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01E95-05D9-4D19-91B7-BF3D7F0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530EF-6F0E-444B-950B-F29B1D01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940BC-4E34-46F6-BB2E-CF5821D4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8E6AD-9E05-4D55-A3C6-6D48D2B6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693BB-177C-4D94-B837-E7B5ABB8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970E6-2A72-4645-9043-B99ADDAC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60E25-0B30-416D-BACA-655508FD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D9AA-682A-4B3A-9FE6-02EEA4DB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13A03-9487-44A1-800A-C855B577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C16AD-4A31-4E0D-B28F-2C6DCADC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07E3A-4EDF-413D-8F50-FDF8ED8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8A853-AFB8-4BD4-AC2E-48741251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47342-CD5F-4EAB-9391-96D9554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861F4-1C63-4BC2-A6C7-D720616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F6B6D-4AA0-4E44-A78C-F857F69E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2071B-7D27-4063-B46F-6609E88B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896DC-5D65-4140-B141-05B71DBB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897B-8E13-428F-93AA-6FB1F32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B42B-B5F0-4452-A4BF-0BCAA26C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4ED-5A4C-44E6-9305-4C45576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8D5-CC2D-4127-A9C7-76BE8B3C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04AF-AE9B-455B-A433-32966826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8FBB-0ED4-4FB2-ACF2-0C502DE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238C-D3D9-4BC3-8065-09676DB5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1D94-0AA5-46E8-B6BA-57D46BD9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D226-0F38-4CB4-AB89-42630781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B1B7-7399-470C-94FC-C71E71F5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37AA-2540-4E67-BEB7-3F3A420E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8AEC-7905-4A64-A5FA-D1C54822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754C6-219B-4FC2-970B-E632B363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3F30-F308-4274-A7E0-5053380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201-288D-4403-ABAD-4C2A9D12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40B7-BC56-466D-AEDE-679F363B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5B3B-285E-4B94-B80D-25C617A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4AC8-1A57-4127-8D6E-9C29966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5BAE-AD1B-4F59-BC52-EB794EE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9F10-0757-4B3C-BF29-6332CCE9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F2E3-41FA-4E7D-9610-D7F753DC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520F-846F-4582-840A-7E5AAC84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AFB7-9835-4BFB-8639-FC7BA87F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BE43-DD62-496E-B6B5-3554941D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78D7-F920-44E9-98FC-893F66C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A7A-63AE-4D47-8319-77C9BC3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9804-6A7F-4D02-9B67-54F9DBF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E683-29C3-4784-A24F-EE66F5CB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38D0-4032-4414-8F41-153AFF51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EE94-7BBA-4410-9623-79EB0DF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ABE9E-6D58-4FDC-A1E8-0F898A8B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4FFB-A98D-44CE-AD72-B578324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021F-D8E5-4F31-B27F-9CFB44C7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33B3-C946-4205-B393-11746EDA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D8DD-D1C5-4BF3-887A-1C95BF24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509B5-01D0-4A1A-A880-2A820EB3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E6D-7F4A-4546-9066-4F68CD55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5D27-3EEA-4C76-A138-AB615A4B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9BE4-2F90-46B0-A5A2-9029BF7D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A4625-1E23-4AA9-B69A-B0EC012D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98116-A749-4A40-9ED4-161F7D52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23EF-3BCF-486B-AFE2-16C1516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F14C-662D-4B79-A80A-C0F3F94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56A6-F463-49B2-AF04-7B0FB8D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E2CB5-D19A-4C4E-9728-6CCA9FAB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6F644-F270-42AB-8F73-CAA16767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2908C-B6E8-4C62-9902-1AB6A730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51B-E66F-4CAA-8718-CB2C9B4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A224-5B58-4A8A-87DD-39E10B6E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AB6C-C14E-4842-B098-A637786D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B895E-F52D-4B9C-90E7-2E0D937D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D2BC4-6FE4-467D-8416-131A302D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2CC9-52CD-46C5-9757-6DAD4372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505F-18EF-4B26-882D-B0BE017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596F-5524-4217-8AE4-4CE1036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10F9-3980-41B3-AD3A-E93AD15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BC88-257C-4B43-9771-5AE2FDE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C036-05CB-4C65-AB21-70C22DE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6DB-86B8-468A-988C-BAFEED6B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0197-509E-48F1-80F7-4CDC1342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4D082-914A-4B5A-BA96-DFEB2AAF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051FA-2A64-42E7-8283-7B9FBEB4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1859-9835-46A0-AB20-B92831E2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7F75F-761C-442D-9871-E62568AE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9176-C244-4654-ACF2-3C267C5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2BDB-99B9-4860-B8AF-7D254A1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73788-7AAC-4321-B6FC-05CAD3EC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DB90-8066-4CF4-A324-688C3B5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89FD-D5BB-4397-90B9-2C95978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319-D7F1-4A33-BAED-E33917F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50F0D-EA1C-4034-9A33-F75C21E3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8AD80-B9FF-4AF5-8820-0FE5997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A1F3-D9E5-4964-B8C2-1C34E543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FBFF-70C4-4AEF-85CF-E96E7233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6CDF-5EEF-4BFC-A5E5-F4AC1D53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C8CF-B7BA-4F76-98B6-ADB741A4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E7F9-23E7-4C0C-B6C7-8E1CFC05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FE4C1-2FC2-4584-AA36-594483C7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AACC-F0DC-4F91-80E6-EB1AFB37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9486-C8B5-426D-AFCC-DD317B1C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67D-B8CD-4762-B2E0-2AAF77B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68410-655B-415F-94B4-714E0542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30C63-E953-4CFC-AF16-3A93053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DB4AE-949A-4FCC-BBC2-E2B45BD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85A9-D666-4182-AEC6-02CAA8DC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9119-576F-4583-BA78-07D5917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E72E2-DC15-45DB-94C6-257AB7B8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5085-43A6-4167-B280-56049CCD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C8988-1E7D-46FF-A8FE-406B986E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485E-3F28-44C0-B3B0-EF5C843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266CC-2D79-445C-947C-BEF10F1F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2776-7CD2-4AA0-B69F-CF7526A462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27EB-AD73-4B93-A5C7-EF70F25AD5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4824-E07C-4C17-8977-35168747397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F74A-7B43-45EF-8A5C-26417E09C7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2404-5254-44D8-B3EE-D118FCF08E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7A6B-000B-42B7-976C-6B6E9FF406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9D37-A4EA-4FC9-833E-A4641E5DE67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B13-58F8-423B-B379-CA4CF29489F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1DC5-83AC-43E6-9AE6-B633124C13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E19-4A66-4056-9C0D-C8F53146D5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CBC-BE88-4CB4-9953-115A134AE9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550-0A2A-4762-9477-8DC6C22A9C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944-77E9-4924-90E6-81385D9DAEA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31B7-3CBB-4D2C-9359-633370E6F8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932-D261-42F7-8CD3-870E9E3D9BA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2FBF-C089-4D82-A9C6-D19825E35A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D8F-5CBD-4339-8304-BE4723CAF86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B083-91BB-44D8-8BB1-FED83AE5A8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8D0F-4EEE-4AB8-A5FF-424436C44EA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D39F-30D9-4348-BD64-7BCAFAF9EE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B8FB-1AE1-457D-BE00-40FF6B6189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DAD4-6039-4C92-85A2-B19849C6E0F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B382-F56A-437B-9382-281839A4197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FA8-AF72-4406-9EC3-AF3FE35CB7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DC5A-7BA0-442E-9E2E-AC7E5E2ACD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60DE-FC87-48D9-A56E-FBE4AA1297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0B68-7D95-44C5-8CE4-9055E41FB2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16A3-FA9F-4289-9D57-74D0E31036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E:\模板素材\NiPic_37646_1e5ec8d893d159b9\未标1.jpg"/>
          <p:cNvPicPr/>
          <p:nvPr/>
        </p:nvPicPr>
        <p:blipFill>
          <a:blip r:embed="rId1"/>
          <a:stretch/>
        </p:blipFill>
        <p:spPr>
          <a:xfrm>
            <a:off x="-9360" y="-17640"/>
            <a:ext cx="9165960" cy="6897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3"/>
          <p:cNvGrpSpPr/>
          <p:nvPr/>
        </p:nvGrpSpPr>
        <p:grpSpPr>
          <a:xfrm>
            <a:off x="2395440" y="6548400"/>
            <a:ext cx="433440" cy="316080"/>
            <a:chOff x="2395440" y="6548400"/>
            <a:chExt cx="433440" cy="316080"/>
          </a:xfrm>
        </p:grpSpPr>
        <p:sp>
          <p:nvSpPr>
            <p:cNvPr id="576" name="Freeform 7"/>
            <p:cNvSpPr/>
            <p:nvPr/>
          </p:nvSpPr>
          <p:spPr>
            <a:xfrm flipH="1">
              <a:off x="2691720" y="6595560"/>
              <a:ext cx="432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 flipH="1">
              <a:off x="2697840" y="6602760"/>
              <a:ext cx="432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 flipH="1">
              <a:off x="2678760" y="6585480"/>
              <a:ext cx="252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 flipH="1">
              <a:off x="2625840" y="657504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 flipH="1">
              <a:off x="2625840" y="6576840"/>
              <a:ext cx="72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 flipH="1">
              <a:off x="2624400" y="6564240"/>
              <a:ext cx="95400" cy="12456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 flipH="1">
              <a:off x="2706840" y="6613200"/>
              <a:ext cx="324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 flipH="1">
              <a:off x="2696400" y="66016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 flipH="1">
              <a:off x="2692440" y="6599160"/>
              <a:ext cx="3240" cy="2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 flipH="1">
              <a:off x="2690280" y="65955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 flipH="1">
              <a:off x="2697480" y="66034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 flipH="1">
              <a:off x="2691720" y="65980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 flipH="1">
              <a:off x="2649960" y="657036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 flipH="1">
              <a:off x="2749680" y="66258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 flipH="1">
              <a:off x="2749680" y="6631200"/>
              <a:ext cx="36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 flipH="1">
              <a:off x="2747880" y="661608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 flipH="1">
              <a:off x="2736360" y="65840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 flipH="1">
              <a:off x="2735640" y="658224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 flipH="1">
              <a:off x="2697120" y="6548400"/>
              <a:ext cx="53280" cy="123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6"/>
            <p:cNvSpPr/>
            <p:nvPr/>
          </p:nvSpPr>
          <p:spPr>
            <a:xfrm flipH="1">
              <a:off x="2750760" y="663912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7"/>
            <p:cNvSpPr/>
            <p:nvPr/>
          </p:nvSpPr>
          <p:spPr>
            <a:xfrm flipH="1">
              <a:off x="2749680" y="66294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"/>
            <p:cNvSpPr/>
            <p:nvPr/>
          </p:nvSpPr>
          <p:spPr>
            <a:xfrm flipH="1">
              <a:off x="2748960" y="662760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9"/>
            <p:cNvSpPr/>
            <p:nvPr/>
          </p:nvSpPr>
          <p:spPr>
            <a:xfrm flipH="1">
              <a:off x="2747880" y="66240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0"/>
            <p:cNvSpPr/>
            <p:nvPr/>
          </p:nvSpPr>
          <p:spPr>
            <a:xfrm flipH="1">
              <a:off x="2748960" y="663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1"/>
            <p:cNvSpPr/>
            <p:nvPr/>
          </p:nvSpPr>
          <p:spPr>
            <a:xfrm flipH="1">
              <a:off x="2747880" y="66265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2"/>
            <p:cNvSpPr/>
            <p:nvPr/>
          </p:nvSpPr>
          <p:spPr>
            <a:xfrm flipH="1">
              <a:off x="2742480" y="659736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3"/>
            <p:cNvSpPr/>
            <p:nvPr/>
          </p:nvSpPr>
          <p:spPr>
            <a:xfrm flipH="1">
              <a:off x="2789280" y="671148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4"/>
            <p:cNvSpPr/>
            <p:nvPr/>
          </p:nvSpPr>
          <p:spPr>
            <a:xfrm flipH="1">
              <a:off x="2783160" y="6705000"/>
              <a:ext cx="252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5"/>
            <p:cNvSpPr/>
            <p:nvPr/>
          </p:nvSpPr>
          <p:spPr>
            <a:xfrm flipH="1">
              <a:off x="2798280" y="6718320"/>
              <a:ext cx="144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6"/>
            <p:cNvSpPr/>
            <p:nvPr/>
          </p:nvSpPr>
          <p:spPr>
            <a:xfrm flipH="1">
              <a:off x="2816640" y="675072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7"/>
            <p:cNvSpPr/>
            <p:nvPr/>
          </p:nvSpPr>
          <p:spPr>
            <a:xfrm flipH="1">
              <a:off x="2816640" y="675252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8"/>
            <p:cNvSpPr/>
            <p:nvPr/>
          </p:nvSpPr>
          <p:spPr>
            <a:xfrm flipH="1">
              <a:off x="2728800" y="6680880"/>
              <a:ext cx="99720" cy="1105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9"/>
            <p:cNvSpPr/>
            <p:nvPr/>
          </p:nvSpPr>
          <p:spPr>
            <a:xfrm flipH="1">
              <a:off x="2774880" y="6700680"/>
              <a:ext cx="50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0"/>
            <p:cNvSpPr/>
            <p:nvPr/>
          </p:nvSpPr>
          <p:spPr>
            <a:xfrm flipH="1">
              <a:off x="2787120" y="670788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1"/>
            <p:cNvSpPr/>
            <p:nvPr/>
          </p:nvSpPr>
          <p:spPr>
            <a:xfrm flipH="1">
              <a:off x="2789280" y="67078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2"/>
            <p:cNvSpPr/>
            <p:nvPr/>
          </p:nvSpPr>
          <p:spPr>
            <a:xfrm flipH="1">
              <a:off x="2790360" y="6710400"/>
              <a:ext cx="252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3"/>
            <p:cNvSpPr/>
            <p:nvPr/>
          </p:nvSpPr>
          <p:spPr>
            <a:xfrm flipH="1">
              <a:off x="2786400" y="67068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4"/>
            <p:cNvSpPr/>
            <p:nvPr/>
          </p:nvSpPr>
          <p:spPr>
            <a:xfrm flipH="1">
              <a:off x="2790720" y="670968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5"/>
            <p:cNvSpPr/>
            <p:nvPr/>
          </p:nvSpPr>
          <p:spPr>
            <a:xfrm flipH="1">
              <a:off x="2813040" y="673380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6"/>
            <p:cNvSpPr/>
            <p:nvPr/>
          </p:nvSpPr>
          <p:spPr>
            <a:xfrm flipH="1">
              <a:off x="2624040" y="6644520"/>
              <a:ext cx="432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7"/>
            <p:cNvSpPr/>
            <p:nvPr/>
          </p:nvSpPr>
          <p:spPr>
            <a:xfrm flipH="1">
              <a:off x="2631600" y="6651720"/>
              <a:ext cx="6120" cy="4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8"/>
            <p:cNvSpPr/>
            <p:nvPr/>
          </p:nvSpPr>
          <p:spPr>
            <a:xfrm flipH="1">
              <a:off x="2606760" y="6635520"/>
              <a:ext cx="324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"/>
            <p:cNvSpPr/>
            <p:nvPr/>
          </p:nvSpPr>
          <p:spPr>
            <a:xfrm flipH="1">
              <a:off x="2536920" y="66355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"/>
            <p:cNvSpPr/>
            <p:nvPr/>
          </p:nvSpPr>
          <p:spPr>
            <a:xfrm flipH="1">
              <a:off x="2534400" y="663660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1"/>
            <p:cNvSpPr/>
            <p:nvPr/>
          </p:nvSpPr>
          <p:spPr>
            <a:xfrm flipH="1">
              <a:off x="2445120" y="6628320"/>
              <a:ext cx="251640" cy="129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2"/>
            <p:cNvSpPr/>
            <p:nvPr/>
          </p:nvSpPr>
          <p:spPr>
            <a:xfrm flipH="1">
              <a:off x="2644560" y="6660360"/>
              <a:ext cx="504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3"/>
            <p:cNvSpPr/>
            <p:nvPr/>
          </p:nvSpPr>
          <p:spPr>
            <a:xfrm flipH="1">
              <a:off x="2629080" y="66499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4"/>
            <p:cNvSpPr/>
            <p:nvPr/>
          </p:nvSpPr>
          <p:spPr>
            <a:xfrm flipH="1">
              <a:off x="2625480" y="6648120"/>
              <a:ext cx="324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5"/>
            <p:cNvSpPr/>
            <p:nvPr/>
          </p:nvSpPr>
          <p:spPr>
            <a:xfrm flipH="1">
              <a:off x="2621160" y="6644520"/>
              <a:ext cx="3240" cy="2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6"/>
            <p:cNvSpPr/>
            <p:nvPr/>
          </p:nvSpPr>
          <p:spPr>
            <a:xfrm flipH="1">
              <a:off x="2632320" y="66524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7"/>
            <p:cNvSpPr/>
            <p:nvPr/>
          </p:nvSpPr>
          <p:spPr>
            <a:xfrm flipH="1">
              <a:off x="2622600" y="66481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8"/>
            <p:cNvSpPr/>
            <p:nvPr/>
          </p:nvSpPr>
          <p:spPr>
            <a:xfrm flipH="1">
              <a:off x="2566800" y="6631200"/>
              <a:ext cx="43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9"/>
            <p:cNvSpPr/>
            <p:nvPr/>
          </p:nvSpPr>
          <p:spPr>
            <a:xfrm flipH="1">
              <a:off x="2589120" y="674424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0"/>
            <p:cNvSpPr/>
            <p:nvPr/>
          </p:nvSpPr>
          <p:spPr>
            <a:xfrm flipH="1">
              <a:off x="2586600" y="673992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1"/>
            <p:cNvSpPr/>
            <p:nvPr/>
          </p:nvSpPr>
          <p:spPr>
            <a:xfrm flipH="1">
              <a:off x="2593800" y="6748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2"/>
            <p:cNvSpPr/>
            <p:nvPr/>
          </p:nvSpPr>
          <p:spPr>
            <a:xfrm flipH="1">
              <a:off x="2607120" y="676836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3"/>
            <p:cNvSpPr/>
            <p:nvPr/>
          </p:nvSpPr>
          <p:spPr>
            <a:xfrm flipH="1">
              <a:off x="2607120" y="6769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4"/>
            <p:cNvSpPr/>
            <p:nvPr/>
          </p:nvSpPr>
          <p:spPr>
            <a:xfrm flipH="1">
              <a:off x="2565720" y="6721200"/>
              <a:ext cx="55080" cy="10764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5"/>
            <p:cNvSpPr/>
            <p:nvPr/>
          </p:nvSpPr>
          <p:spPr>
            <a:xfrm flipH="1">
              <a:off x="2583000" y="67370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6"/>
            <p:cNvSpPr/>
            <p:nvPr/>
          </p:nvSpPr>
          <p:spPr>
            <a:xfrm flipH="1">
              <a:off x="2589120" y="67424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7"/>
            <p:cNvSpPr/>
            <p:nvPr/>
          </p:nvSpPr>
          <p:spPr>
            <a:xfrm flipH="1">
              <a:off x="2589840" y="67424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68"/>
            <p:cNvSpPr/>
            <p:nvPr/>
          </p:nvSpPr>
          <p:spPr>
            <a:xfrm flipH="1">
              <a:off x="2590920" y="6744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9"/>
            <p:cNvSpPr/>
            <p:nvPr/>
          </p:nvSpPr>
          <p:spPr>
            <a:xfrm flipH="1">
              <a:off x="2588400" y="6740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70"/>
            <p:cNvSpPr/>
            <p:nvPr/>
          </p:nvSpPr>
          <p:spPr>
            <a:xfrm flipH="1">
              <a:off x="2590920" y="6742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71"/>
            <p:cNvSpPr/>
            <p:nvPr/>
          </p:nvSpPr>
          <p:spPr>
            <a:xfrm flipH="1">
              <a:off x="2602440" y="6758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72"/>
            <p:cNvSpPr/>
            <p:nvPr/>
          </p:nvSpPr>
          <p:spPr>
            <a:xfrm flipH="1">
              <a:off x="2443680" y="676116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73"/>
            <p:cNvSpPr/>
            <p:nvPr/>
          </p:nvSpPr>
          <p:spPr>
            <a:xfrm flipH="1">
              <a:off x="2445480" y="676764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4"/>
            <p:cNvSpPr/>
            <p:nvPr/>
          </p:nvSpPr>
          <p:spPr>
            <a:xfrm flipH="1">
              <a:off x="2434320" y="6753960"/>
              <a:ext cx="252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5"/>
            <p:cNvSpPr/>
            <p:nvPr/>
          </p:nvSpPr>
          <p:spPr>
            <a:xfrm flipH="1">
              <a:off x="2402640" y="676476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76"/>
            <p:cNvSpPr/>
            <p:nvPr/>
          </p:nvSpPr>
          <p:spPr>
            <a:xfrm flipH="1">
              <a:off x="240156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7"/>
            <p:cNvSpPr/>
            <p:nvPr/>
          </p:nvSpPr>
          <p:spPr>
            <a:xfrm flipH="1">
              <a:off x="2395080" y="6749640"/>
              <a:ext cx="50760" cy="5436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8"/>
            <p:cNvSpPr/>
            <p:nvPr/>
          </p:nvSpPr>
          <p:spPr>
            <a:xfrm flipH="1">
              <a:off x="2447280" y="6775560"/>
              <a:ext cx="720" cy="43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9"/>
            <p:cNvSpPr/>
            <p:nvPr/>
          </p:nvSpPr>
          <p:spPr>
            <a:xfrm flipH="1">
              <a:off x="244440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0"/>
            <p:cNvSpPr/>
            <p:nvPr/>
          </p:nvSpPr>
          <p:spPr>
            <a:xfrm flipH="1">
              <a:off x="2442960" y="67640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1"/>
            <p:cNvSpPr/>
            <p:nvPr/>
          </p:nvSpPr>
          <p:spPr>
            <a:xfrm flipH="1">
              <a:off x="2441160" y="67611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2"/>
            <p:cNvSpPr/>
            <p:nvPr/>
          </p:nvSpPr>
          <p:spPr>
            <a:xfrm flipH="1">
              <a:off x="2444400" y="67676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3"/>
            <p:cNvSpPr/>
            <p:nvPr/>
          </p:nvSpPr>
          <p:spPr>
            <a:xfrm flipH="1">
              <a:off x="2441880" y="67640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4"/>
            <p:cNvSpPr/>
            <p:nvPr/>
          </p:nvSpPr>
          <p:spPr>
            <a:xfrm flipH="1">
              <a:off x="2414160" y="675504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"/>
            <p:cNvSpPr/>
            <p:nvPr/>
          </p:nvSpPr>
          <p:spPr>
            <a:xfrm flipH="1">
              <a:off x="2698200" y="6811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6"/>
            <p:cNvSpPr/>
            <p:nvPr/>
          </p:nvSpPr>
          <p:spPr>
            <a:xfrm flipH="1">
              <a:off x="2701800" y="681012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7"/>
            <p:cNvSpPr/>
            <p:nvPr/>
          </p:nvSpPr>
          <p:spPr>
            <a:xfrm flipH="1">
              <a:off x="2693520" y="68137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8"/>
            <p:cNvSpPr/>
            <p:nvPr/>
          </p:nvSpPr>
          <p:spPr>
            <a:xfrm flipH="1">
              <a:off x="267408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9"/>
            <p:cNvSpPr/>
            <p:nvPr/>
          </p:nvSpPr>
          <p:spPr>
            <a:xfrm flipH="1">
              <a:off x="267300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90"/>
            <p:cNvSpPr/>
            <p:nvPr/>
          </p:nvSpPr>
          <p:spPr>
            <a:xfrm flipH="1">
              <a:off x="2619360" y="6798600"/>
              <a:ext cx="105120" cy="3708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91"/>
            <p:cNvSpPr/>
            <p:nvPr/>
          </p:nvSpPr>
          <p:spPr>
            <a:xfrm flipH="1">
              <a:off x="2705400" y="680760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2"/>
            <p:cNvSpPr/>
            <p:nvPr/>
          </p:nvSpPr>
          <p:spPr>
            <a:xfrm flipH="1">
              <a:off x="2700720" y="681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93"/>
            <p:cNvSpPr/>
            <p:nvPr/>
          </p:nvSpPr>
          <p:spPr>
            <a:xfrm flipH="1">
              <a:off x="2700000" y="6811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4"/>
            <p:cNvSpPr/>
            <p:nvPr/>
          </p:nvSpPr>
          <p:spPr>
            <a:xfrm flipH="1">
              <a:off x="2698200" y="681300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5"/>
            <p:cNvSpPr/>
            <p:nvPr/>
          </p:nvSpPr>
          <p:spPr>
            <a:xfrm flipH="1">
              <a:off x="2701440" y="68119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6"/>
            <p:cNvSpPr/>
            <p:nvPr/>
          </p:nvSpPr>
          <p:spPr>
            <a:xfrm flipH="1">
              <a:off x="2699640" y="68130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7"/>
            <p:cNvSpPr/>
            <p:nvPr/>
          </p:nvSpPr>
          <p:spPr>
            <a:xfrm flipH="1">
              <a:off x="2683080" y="6820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8"/>
            <p:cNvSpPr/>
            <p:nvPr/>
          </p:nvSpPr>
          <p:spPr>
            <a:xfrm flipH="1">
              <a:off x="2610000" y="684684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9"/>
            <p:cNvSpPr/>
            <p:nvPr/>
          </p:nvSpPr>
          <p:spPr>
            <a:xfrm flipH="1">
              <a:off x="2616840" y="6846120"/>
              <a:ext cx="4320" cy="72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00"/>
            <p:cNvSpPr/>
            <p:nvPr/>
          </p:nvSpPr>
          <p:spPr>
            <a:xfrm flipH="1">
              <a:off x="2598840" y="6848640"/>
              <a:ext cx="324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1"/>
            <p:cNvSpPr/>
            <p:nvPr/>
          </p:nvSpPr>
          <p:spPr>
            <a:xfrm flipH="1">
              <a:off x="25570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2"/>
            <p:cNvSpPr/>
            <p:nvPr/>
          </p:nvSpPr>
          <p:spPr>
            <a:xfrm flipH="1">
              <a:off x="25552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03"/>
            <p:cNvSpPr/>
            <p:nvPr/>
          </p:nvSpPr>
          <p:spPr>
            <a:xfrm flipH="1">
              <a:off x="2458800" y="6814800"/>
              <a:ext cx="180000" cy="49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4"/>
            <p:cNvSpPr/>
            <p:nvPr/>
          </p:nvSpPr>
          <p:spPr>
            <a:xfrm flipH="1">
              <a:off x="2622960" y="6844320"/>
              <a:ext cx="324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05"/>
            <p:cNvSpPr/>
            <p:nvPr/>
          </p:nvSpPr>
          <p:spPr>
            <a:xfrm flipH="1">
              <a:off x="2615040" y="684684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6"/>
            <p:cNvSpPr/>
            <p:nvPr/>
          </p:nvSpPr>
          <p:spPr>
            <a:xfrm flipH="1">
              <a:off x="2613240" y="684864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07"/>
            <p:cNvSpPr/>
            <p:nvPr/>
          </p:nvSpPr>
          <p:spPr>
            <a:xfrm flipH="1">
              <a:off x="2609280" y="684864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8"/>
            <p:cNvSpPr/>
            <p:nvPr/>
          </p:nvSpPr>
          <p:spPr>
            <a:xfrm flipH="1">
              <a:off x="2616840" y="684756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09"/>
            <p:cNvSpPr/>
            <p:nvPr/>
          </p:nvSpPr>
          <p:spPr>
            <a:xfrm flipH="1">
              <a:off x="2612160" y="684936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0"/>
            <p:cNvSpPr/>
            <p:nvPr/>
          </p:nvSpPr>
          <p:spPr>
            <a:xfrm flipH="1">
              <a:off x="2576880" y="685116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11"/>
            <p:cNvSpPr/>
            <p:nvPr/>
          </p:nvSpPr>
          <p:spPr>
            <a:xfrm flipH="1">
              <a:off x="2734200" y="6707880"/>
              <a:ext cx="2484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12"/>
            <p:cNvSpPr/>
            <p:nvPr/>
          </p:nvSpPr>
          <p:spPr>
            <a:xfrm flipH="1">
              <a:off x="2749680" y="6723720"/>
              <a:ext cx="720" cy="72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3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4"/>
            <p:cNvSpPr/>
            <p:nvPr/>
          </p:nvSpPr>
          <p:spPr>
            <a:xfrm flipH="1">
              <a:off x="2749680" y="672300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5"/>
            <p:cNvSpPr/>
            <p:nvPr/>
          </p:nvSpPr>
          <p:spPr>
            <a:xfrm flipH="1">
              <a:off x="2741760" y="67219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6"/>
            <p:cNvSpPr/>
            <p:nvPr/>
          </p:nvSpPr>
          <p:spPr>
            <a:xfrm flipH="1">
              <a:off x="2741040" y="67219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7"/>
            <p:cNvSpPr/>
            <p:nvPr/>
          </p:nvSpPr>
          <p:spPr>
            <a:xfrm flipH="1">
              <a:off x="2730240" y="6703200"/>
              <a:ext cx="30240" cy="320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8"/>
            <p:cNvSpPr/>
            <p:nvPr/>
          </p:nvSpPr>
          <p:spPr>
            <a:xfrm flipH="1">
              <a:off x="2749680" y="67237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9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0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1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2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3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4"/>
            <p:cNvSpPr/>
            <p:nvPr/>
          </p:nvSpPr>
          <p:spPr>
            <a:xfrm flipH="1">
              <a:off x="27442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矩形 287"/>
          <p:cNvSpPr/>
          <p:nvPr/>
        </p:nvSpPr>
        <p:spPr>
          <a:xfrm>
            <a:off x="0" y="0"/>
            <a:ext cx="9144000" cy="6889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2" descr="E:\模板素材\01.png"/>
          <p:cNvPicPr/>
          <p:nvPr/>
        </p:nvPicPr>
        <p:blipFill>
          <a:blip r:embed="rId3"/>
          <a:srcRect l="23268" t="4930" r="22911" b="17801"/>
          <a:stretch/>
        </p:blipFill>
        <p:spPr>
          <a:xfrm>
            <a:off x="3343320" y="511200"/>
            <a:ext cx="2225520" cy="4600440"/>
          </a:xfrm>
          <a:prstGeom prst="rect">
            <a:avLst/>
          </a:prstGeom>
          <a:ln w="0">
            <a:noFill/>
          </a:ln>
        </p:spPr>
      </p:pic>
      <p:sp>
        <p:nvSpPr>
          <p:cNvPr id="696" name="椭圆 19"/>
          <p:cNvSpPr/>
          <p:nvPr/>
        </p:nvSpPr>
        <p:spPr>
          <a:xfrm>
            <a:off x="6508800" y="366840"/>
            <a:ext cx="14616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291"/>
          <p:cNvSpPr/>
          <p:nvPr/>
        </p:nvSpPr>
        <p:spPr>
          <a:xfrm>
            <a:off x="6742080" y="366840"/>
            <a:ext cx="14760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26"/>
          <p:cNvGrpSpPr/>
          <p:nvPr/>
        </p:nvGrpSpPr>
        <p:grpSpPr>
          <a:xfrm>
            <a:off x="4576680" y="5842080"/>
            <a:ext cx="587520" cy="428400"/>
            <a:chOff x="4576680" y="5842080"/>
            <a:chExt cx="587520" cy="428400"/>
          </a:xfrm>
        </p:grpSpPr>
        <p:sp>
          <p:nvSpPr>
            <p:cNvPr id="699" name="Freeform 7"/>
            <p:cNvSpPr/>
            <p:nvPr/>
          </p:nvSpPr>
          <p:spPr>
            <a:xfrm>
              <a:off x="4756680" y="5905800"/>
              <a:ext cx="576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"/>
            <p:cNvSpPr/>
            <p:nvPr/>
          </p:nvSpPr>
          <p:spPr>
            <a:xfrm>
              <a:off x="4748400" y="5915520"/>
              <a:ext cx="5760" cy="7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"/>
            <p:cNvSpPr/>
            <p:nvPr/>
          </p:nvSpPr>
          <p:spPr>
            <a:xfrm>
              <a:off x="4776120" y="5892480"/>
              <a:ext cx="360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"/>
            <p:cNvSpPr/>
            <p:nvPr/>
          </p:nvSpPr>
          <p:spPr>
            <a:xfrm>
              <a:off x="4851000" y="587808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1"/>
            <p:cNvSpPr/>
            <p:nvPr/>
          </p:nvSpPr>
          <p:spPr>
            <a:xfrm>
              <a:off x="4851000" y="5880600"/>
              <a:ext cx="1080" cy="46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2"/>
            <p:cNvSpPr/>
            <p:nvPr/>
          </p:nvSpPr>
          <p:spPr>
            <a:xfrm>
              <a:off x="4723920" y="5863680"/>
              <a:ext cx="129240" cy="16884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3"/>
            <p:cNvSpPr/>
            <p:nvPr/>
          </p:nvSpPr>
          <p:spPr>
            <a:xfrm>
              <a:off x="4737240" y="5929920"/>
              <a:ext cx="4680" cy="82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4"/>
            <p:cNvSpPr/>
            <p:nvPr/>
          </p:nvSpPr>
          <p:spPr>
            <a:xfrm>
              <a:off x="4755600" y="591444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"/>
            <p:cNvSpPr/>
            <p:nvPr/>
          </p:nvSpPr>
          <p:spPr>
            <a:xfrm>
              <a:off x="4756680" y="5910840"/>
              <a:ext cx="4680" cy="3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6"/>
            <p:cNvSpPr/>
            <p:nvPr/>
          </p:nvSpPr>
          <p:spPr>
            <a:xfrm>
              <a:off x="4762800" y="5905800"/>
              <a:ext cx="2160" cy="2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"/>
            <p:cNvSpPr/>
            <p:nvPr/>
          </p:nvSpPr>
          <p:spPr>
            <a:xfrm>
              <a:off x="4753080" y="591696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8"/>
            <p:cNvSpPr/>
            <p:nvPr/>
          </p:nvSpPr>
          <p:spPr>
            <a:xfrm>
              <a:off x="4761720" y="590940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9"/>
            <p:cNvSpPr/>
            <p:nvPr/>
          </p:nvSpPr>
          <p:spPr>
            <a:xfrm>
              <a:off x="4817160" y="587196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0"/>
            <p:cNvSpPr/>
            <p:nvPr/>
          </p:nvSpPr>
          <p:spPr>
            <a:xfrm>
              <a:off x="4682880" y="594684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1"/>
            <p:cNvSpPr/>
            <p:nvPr/>
          </p:nvSpPr>
          <p:spPr>
            <a:xfrm>
              <a:off x="4682880" y="5954400"/>
              <a:ext cx="36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2"/>
            <p:cNvSpPr/>
            <p:nvPr/>
          </p:nvSpPr>
          <p:spPr>
            <a:xfrm>
              <a:off x="4685400" y="59335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3"/>
            <p:cNvSpPr/>
            <p:nvPr/>
          </p:nvSpPr>
          <p:spPr>
            <a:xfrm>
              <a:off x="4701240" y="589032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4"/>
            <p:cNvSpPr/>
            <p:nvPr/>
          </p:nvSpPr>
          <p:spPr>
            <a:xfrm>
              <a:off x="4702320" y="588780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5"/>
            <p:cNvSpPr/>
            <p:nvPr/>
          </p:nvSpPr>
          <p:spPr>
            <a:xfrm>
              <a:off x="4682880" y="5842080"/>
              <a:ext cx="72360" cy="16776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6"/>
            <p:cNvSpPr/>
            <p:nvPr/>
          </p:nvSpPr>
          <p:spPr>
            <a:xfrm>
              <a:off x="4681800" y="596520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7"/>
            <p:cNvSpPr/>
            <p:nvPr/>
          </p:nvSpPr>
          <p:spPr>
            <a:xfrm>
              <a:off x="4682880" y="5951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8"/>
            <p:cNvSpPr/>
            <p:nvPr/>
          </p:nvSpPr>
          <p:spPr>
            <a:xfrm>
              <a:off x="4684320" y="594936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9"/>
            <p:cNvSpPr/>
            <p:nvPr/>
          </p:nvSpPr>
          <p:spPr>
            <a:xfrm>
              <a:off x="4685400" y="594468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0"/>
            <p:cNvSpPr/>
            <p:nvPr/>
          </p:nvSpPr>
          <p:spPr>
            <a:xfrm>
              <a:off x="4684320" y="595440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1"/>
            <p:cNvSpPr/>
            <p:nvPr/>
          </p:nvSpPr>
          <p:spPr>
            <a:xfrm>
              <a:off x="4685400" y="59482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"/>
            <p:cNvSpPr/>
            <p:nvPr/>
          </p:nvSpPr>
          <p:spPr>
            <a:xfrm>
              <a:off x="4692600" y="590832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3"/>
            <p:cNvSpPr/>
            <p:nvPr/>
          </p:nvSpPr>
          <p:spPr>
            <a:xfrm>
              <a:off x="4628520" y="6062760"/>
              <a:ext cx="21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4"/>
            <p:cNvSpPr/>
            <p:nvPr/>
          </p:nvSpPr>
          <p:spPr>
            <a:xfrm>
              <a:off x="4634640" y="6054480"/>
              <a:ext cx="3600" cy="3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5"/>
            <p:cNvSpPr/>
            <p:nvPr/>
          </p:nvSpPr>
          <p:spPr>
            <a:xfrm>
              <a:off x="4616280" y="6072480"/>
              <a:ext cx="216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6"/>
            <p:cNvSpPr/>
            <p:nvPr/>
          </p:nvSpPr>
          <p:spPr>
            <a:xfrm>
              <a:off x="4592160" y="61160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7"/>
            <p:cNvSpPr/>
            <p:nvPr/>
          </p:nvSpPr>
          <p:spPr>
            <a:xfrm>
              <a:off x="4592160" y="611856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8"/>
            <p:cNvSpPr/>
            <p:nvPr/>
          </p:nvSpPr>
          <p:spPr>
            <a:xfrm>
              <a:off x="4576680" y="6021720"/>
              <a:ext cx="135360" cy="14976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9"/>
            <p:cNvSpPr/>
            <p:nvPr/>
          </p:nvSpPr>
          <p:spPr>
            <a:xfrm>
              <a:off x="4642920" y="6048360"/>
              <a:ext cx="7200" cy="2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0"/>
            <p:cNvSpPr/>
            <p:nvPr/>
          </p:nvSpPr>
          <p:spPr>
            <a:xfrm>
              <a:off x="4632120" y="60580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1"/>
            <p:cNvSpPr/>
            <p:nvPr/>
          </p:nvSpPr>
          <p:spPr>
            <a:xfrm>
              <a:off x="4628520" y="60580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2"/>
            <p:cNvSpPr/>
            <p:nvPr/>
          </p:nvSpPr>
          <p:spPr>
            <a:xfrm>
              <a:off x="4624920" y="606168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3"/>
            <p:cNvSpPr/>
            <p:nvPr/>
          </p:nvSpPr>
          <p:spPr>
            <a:xfrm>
              <a:off x="4633200" y="605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4"/>
            <p:cNvSpPr/>
            <p:nvPr/>
          </p:nvSpPr>
          <p:spPr>
            <a:xfrm>
              <a:off x="4627440" y="606060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5"/>
            <p:cNvSpPr/>
            <p:nvPr/>
          </p:nvSpPr>
          <p:spPr>
            <a:xfrm>
              <a:off x="4597200" y="609300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6"/>
            <p:cNvSpPr/>
            <p:nvPr/>
          </p:nvSpPr>
          <p:spPr>
            <a:xfrm>
              <a:off x="4848840" y="5972400"/>
              <a:ext cx="57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7"/>
            <p:cNvSpPr/>
            <p:nvPr/>
          </p:nvSpPr>
          <p:spPr>
            <a:xfrm>
              <a:off x="4835520" y="5982120"/>
              <a:ext cx="8280" cy="5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8"/>
            <p:cNvSpPr/>
            <p:nvPr/>
          </p:nvSpPr>
          <p:spPr>
            <a:xfrm>
              <a:off x="4872960" y="5960160"/>
              <a:ext cx="46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9"/>
            <p:cNvSpPr/>
            <p:nvPr/>
          </p:nvSpPr>
          <p:spPr>
            <a:xfrm>
              <a:off x="4968360" y="5960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0"/>
            <p:cNvSpPr/>
            <p:nvPr/>
          </p:nvSpPr>
          <p:spPr>
            <a:xfrm>
              <a:off x="4971960" y="596160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1"/>
            <p:cNvSpPr/>
            <p:nvPr/>
          </p:nvSpPr>
          <p:spPr>
            <a:xfrm>
              <a:off x="4755600" y="5950440"/>
              <a:ext cx="340920" cy="17604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2"/>
            <p:cNvSpPr/>
            <p:nvPr/>
          </p:nvSpPr>
          <p:spPr>
            <a:xfrm>
              <a:off x="4819680" y="5994000"/>
              <a:ext cx="720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3"/>
            <p:cNvSpPr/>
            <p:nvPr/>
          </p:nvSpPr>
          <p:spPr>
            <a:xfrm>
              <a:off x="4843800" y="5979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4"/>
            <p:cNvSpPr/>
            <p:nvPr/>
          </p:nvSpPr>
          <p:spPr>
            <a:xfrm>
              <a:off x="4847400" y="5977080"/>
              <a:ext cx="468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5"/>
            <p:cNvSpPr/>
            <p:nvPr/>
          </p:nvSpPr>
          <p:spPr>
            <a:xfrm>
              <a:off x="4853520" y="5972400"/>
              <a:ext cx="468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6"/>
            <p:cNvSpPr/>
            <p:nvPr/>
          </p:nvSpPr>
          <p:spPr>
            <a:xfrm>
              <a:off x="4841280" y="598320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7"/>
            <p:cNvSpPr/>
            <p:nvPr/>
          </p:nvSpPr>
          <p:spPr>
            <a:xfrm>
              <a:off x="4852440" y="59770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8"/>
            <p:cNvSpPr/>
            <p:nvPr/>
          </p:nvSpPr>
          <p:spPr>
            <a:xfrm>
              <a:off x="4926240" y="5954400"/>
              <a:ext cx="576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9"/>
            <p:cNvSpPr/>
            <p:nvPr/>
          </p:nvSpPr>
          <p:spPr>
            <a:xfrm>
              <a:off x="4899600" y="610776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0"/>
            <p:cNvSpPr/>
            <p:nvPr/>
          </p:nvSpPr>
          <p:spPr>
            <a:xfrm>
              <a:off x="4903200" y="61016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1"/>
            <p:cNvSpPr/>
            <p:nvPr/>
          </p:nvSpPr>
          <p:spPr>
            <a:xfrm>
              <a:off x="4893480" y="61135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2"/>
            <p:cNvSpPr/>
            <p:nvPr/>
          </p:nvSpPr>
          <p:spPr>
            <a:xfrm>
              <a:off x="4876560" y="614016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"/>
            <p:cNvSpPr/>
            <p:nvPr/>
          </p:nvSpPr>
          <p:spPr>
            <a:xfrm>
              <a:off x="4876560" y="6141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4"/>
            <p:cNvSpPr/>
            <p:nvPr/>
          </p:nvSpPr>
          <p:spPr>
            <a:xfrm>
              <a:off x="4858200" y="6076080"/>
              <a:ext cx="74880" cy="14580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5"/>
            <p:cNvSpPr/>
            <p:nvPr/>
          </p:nvSpPr>
          <p:spPr>
            <a:xfrm>
              <a:off x="4907880" y="60980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6"/>
            <p:cNvSpPr/>
            <p:nvPr/>
          </p:nvSpPr>
          <p:spPr>
            <a:xfrm>
              <a:off x="4900680" y="61052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7"/>
            <p:cNvSpPr/>
            <p:nvPr/>
          </p:nvSpPr>
          <p:spPr>
            <a:xfrm>
              <a:off x="4899600" y="61052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8"/>
            <p:cNvSpPr/>
            <p:nvPr/>
          </p:nvSpPr>
          <p:spPr>
            <a:xfrm>
              <a:off x="4898160" y="610776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9"/>
            <p:cNvSpPr/>
            <p:nvPr/>
          </p:nvSpPr>
          <p:spPr>
            <a:xfrm>
              <a:off x="4901760" y="6102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0"/>
            <p:cNvSpPr/>
            <p:nvPr/>
          </p:nvSpPr>
          <p:spPr>
            <a:xfrm>
              <a:off x="4898160" y="610524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1"/>
            <p:cNvSpPr/>
            <p:nvPr/>
          </p:nvSpPr>
          <p:spPr>
            <a:xfrm>
              <a:off x="4882680" y="61268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2"/>
            <p:cNvSpPr/>
            <p:nvPr/>
          </p:nvSpPr>
          <p:spPr>
            <a:xfrm>
              <a:off x="5096520" y="61304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3"/>
            <p:cNvSpPr/>
            <p:nvPr/>
          </p:nvSpPr>
          <p:spPr>
            <a:xfrm>
              <a:off x="5095440" y="613908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4"/>
            <p:cNvSpPr/>
            <p:nvPr/>
          </p:nvSpPr>
          <p:spPr>
            <a:xfrm>
              <a:off x="5107680" y="6120720"/>
              <a:ext cx="360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5"/>
            <p:cNvSpPr/>
            <p:nvPr/>
          </p:nvSpPr>
          <p:spPr>
            <a:xfrm>
              <a:off x="5153400" y="61354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6"/>
            <p:cNvSpPr/>
            <p:nvPr/>
          </p:nvSpPr>
          <p:spPr>
            <a:xfrm>
              <a:off x="5154840" y="6136560"/>
              <a:ext cx="108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7"/>
            <p:cNvSpPr/>
            <p:nvPr/>
          </p:nvSpPr>
          <p:spPr>
            <a:xfrm>
              <a:off x="5095440" y="6114960"/>
              <a:ext cx="68760" cy="7344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8"/>
            <p:cNvSpPr/>
            <p:nvPr/>
          </p:nvSpPr>
          <p:spPr>
            <a:xfrm>
              <a:off x="5092920" y="6149880"/>
              <a:ext cx="1080" cy="57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9"/>
            <p:cNvSpPr/>
            <p:nvPr/>
          </p:nvSpPr>
          <p:spPr>
            <a:xfrm>
              <a:off x="5096520" y="613656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0"/>
            <p:cNvSpPr/>
            <p:nvPr/>
          </p:nvSpPr>
          <p:spPr>
            <a:xfrm>
              <a:off x="5097960" y="6134040"/>
              <a:ext cx="2160" cy="21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1"/>
            <p:cNvSpPr/>
            <p:nvPr/>
          </p:nvSpPr>
          <p:spPr>
            <a:xfrm>
              <a:off x="5100120" y="61304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2"/>
            <p:cNvSpPr/>
            <p:nvPr/>
          </p:nvSpPr>
          <p:spPr>
            <a:xfrm>
              <a:off x="5096520" y="613908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3"/>
            <p:cNvSpPr/>
            <p:nvPr/>
          </p:nvSpPr>
          <p:spPr>
            <a:xfrm>
              <a:off x="5100120" y="613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4"/>
            <p:cNvSpPr/>
            <p:nvPr/>
          </p:nvSpPr>
          <p:spPr>
            <a:xfrm>
              <a:off x="5137920" y="6122160"/>
              <a:ext cx="108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5"/>
            <p:cNvSpPr/>
            <p:nvPr/>
          </p:nvSpPr>
          <p:spPr>
            <a:xfrm>
              <a:off x="4752000" y="61981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6"/>
            <p:cNvSpPr/>
            <p:nvPr/>
          </p:nvSpPr>
          <p:spPr>
            <a:xfrm>
              <a:off x="4746960" y="619704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7"/>
            <p:cNvSpPr/>
            <p:nvPr/>
          </p:nvSpPr>
          <p:spPr>
            <a:xfrm>
              <a:off x="4759200" y="620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8"/>
            <p:cNvSpPr/>
            <p:nvPr/>
          </p:nvSpPr>
          <p:spPr>
            <a:xfrm>
              <a:off x="4785840" y="621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89"/>
            <p:cNvSpPr/>
            <p:nvPr/>
          </p:nvSpPr>
          <p:spPr>
            <a:xfrm>
              <a:off x="4786920" y="621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0"/>
            <p:cNvSpPr/>
            <p:nvPr/>
          </p:nvSpPr>
          <p:spPr>
            <a:xfrm>
              <a:off x="4718160" y="6181200"/>
              <a:ext cx="142560" cy="5040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1"/>
            <p:cNvSpPr/>
            <p:nvPr/>
          </p:nvSpPr>
          <p:spPr>
            <a:xfrm>
              <a:off x="4742280" y="619344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2"/>
            <p:cNvSpPr/>
            <p:nvPr/>
          </p:nvSpPr>
          <p:spPr>
            <a:xfrm>
              <a:off x="4749480" y="6198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3"/>
            <p:cNvSpPr/>
            <p:nvPr/>
          </p:nvSpPr>
          <p:spPr>
            <a:xfrm>
              <a:off x="4749480" y="61995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4"/>
            <p:cNvSpPr/>
            <p:nvPr/>
          </p:nvSpPr>
          <p:spPr>
            <a:xfrm>
              <a:off x="4752000" y="620064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5"/>
            <p:cNvSpPr/>
            <p:nvPr/>
          </p:nvSpPr>
          <p:spPr>
            <a:xfrm>
              <a:off x="4748400" y="61995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6"/>
            <p:cNvSpPr/>
            <p:nvPr/>
          </p:nvSpPr>
          <p:spPr>
            <a:xfrm>
              <a:off x="4750560" y="620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7"/>
            <p:cNvSpPr/>
            <p:nvPr/>
          </p:nvSpPr>
          <p:spPr>
            <a:xfrm>
              <a:off x="4772520" y="6210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8"/>
            <p:cNvSpPr/>
            <p:nvPr/>
          </p:nvSpPr>
          <p:spPr>
            <a:xfrm>
              <a:off x="4869360" y="624636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9"/>
            <p:cNvSpPr/>
            <p:nvPr/>
          </p:nvSpPr>
          <p:spPr>
            <a:xfrm>
              <a:off x="4858200" y="6245280"/>
              <a:ext cx="576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0"/>
            <p:cNvSpPr/>
            <p:nvPr/>
          </p:nvSpPr>
          <p:spPr>
            <a:xfrm>
              <a:off x="4883760" y="6248880"/>
              <a:ext cx="46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1"/>
            <p:cNvSpPr/>
            <p:nvPr/>
          </p:nvSpPr>
          <p:spPr>
            <a:xfrm>
              <a:off x="4943160" y="625248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2"/>
            <p:cNvSpPr/>
            <p:nvPr/>
          </p:nvSpPr>
          <p:spPr>
            <a:xfrm>
              <a:off x="4945320" y="6252480"/>
              <a:ext cx="216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3"/>
            <p:cNvSpPr/>
            <p:nvPr/>
          </p:nvSpPr>
          <p:spPr>
            <a:xfrm>
              <a:off x="4834080" y="6203160"/>
              <a:ext cx="244080" cy="67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4"/>
            <p:cNvSpPr/>
            <p:nvPr/>
          </p:nvSpPr>
          <p:spPr>
            <a:xfrm>
              <a:off x="4851000" y="6242760"/>
              <a:ext cx="46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5"/>
            <p:cNvSpPr/>
            <p:nvPr/>
          </p:nvSpPr>
          <p:spPr>
            <a:xfrm>
              <a:off x="4864320" y="6246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6"/>
            <p:cNvSpPr/>
            <p:nvPr/>
          </p:nvSpPr>
          <p:spPr>
            <a:xfrm>
              <a:off x="4866840" y="62488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7"/>
            <p:cNvSpPr/>
            <p:nvPr/>
          </p:nvSpPr>
          <p:spPr>
            <a:xfrm>
              <a:off x="4870440" y="62488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8"/>
            <p:cNvSpPr/>
            <p:nvPr/>
          </p:nvSpPr>
          <p:spPr>
            <a:xfrm>
              <a:off x="4861800" y="6247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09"/>
            <p:cNvSpPr/>
            <p:nvPr/>
          </p:nvSpPr>
          <p:spPr>
            <a:xfrm>
              <a:off x="4869360" y="62499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0"/>
            <p:cNvSpPr/>
            <p:nvPr/>
          </p:nvSpPr>
          <p:spPr>
            <a:xfrm>
              <a:off x="4916520" y="62524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1"/>
            <p:cNvSpPr/>
            <p:nvPr/>
          </p:nvSpPr>
          <p:spPr>
            <a:xfrm>
              <a:off x="4671000" y="6058080"/>
              <a:ext cx="33840" cy="29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12"/>
            <p:cNvSpPr/>
            <p:nvPr/>
          </p:nvSpPr>
          <p:spPr>
            <a:xfrm>
              <a:off x="4682880" y="6079680"/>
              <a:ext cx="1080" cy="108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13"/>
            <p:cNvSpPr/>
            <p:nvPr/>
          </p:nvSpPr>
          <p:spPr>
            <a:xfrm>
              <a:off x="46828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14"/>
            <p:cNvSpPr/>
            <p:nvPr/>
          </p:nvSpPr>
          <p:spPr>
            <a:xfrm>
              <a:off x="4682880" y="6078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15"/>
            <p:cNvSpPr/>
            <p:nvPr/>
          </p:nvSpPr>
          <p:spPr>
            <a:xfrm>
              <a:off x="4693680" y="6077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16"/>
            <p:cNvSpPr/>
            <p:nvPr/>
          </p:nvSpPr>
          <p:spPr>
            <a:xfrm>
              <a:off x="4695120" y="60775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17"/>
            <p:cNvSpPr/>
            <p:nvPr/>
          </p:nvSpPr>
          <p:spPr>
            <a:xfrm>
              <a:off x="4669560" y="6051960"/>
              <a:ext cx="41040" cy="432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18"/>
            <p:cNvSpPr/>
            <p:nvPr/>
          </p:nvSpPr>
          <p:spPr>
            <a:xfrm>
              <a:off x="4682880" y="60796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19"/>
            <p:cNvSpPr/>
            <p:nvPr/>
          </p:nvSpPr>
          <p:spPr>
            <a:xfrm>
              <a:off x="4682880" y="607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0"/>
            <p:cNvSpPr/>
            <p:nvPr/>
          </p:nvSpPr>
          <p:spPr>
            <a:xfrm>
              <a:off x="4682880" y="607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1"/>
            <p:cNvSpPr/>
            <p:nvPr/>
          </p:nvSpPr>
          <p:spPr>
            <a:xfrm>
              <a:off x="46828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2"/>
            <p:cNvSpPr/>
            <p:nvPr/>
          </p:nvSpPr>
          <p:spPr>
            <a:xfrm>
              <a:off x="46828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3"/>
            <p:cNvSpPr/>
            <p:nvPr/>
          </p:nvSpPr>
          <p:spPr>
            <a:xfrm>
              <a:off x="4682880" y="607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24"/>
            <p:cNvSpPr/>
            <p:nvPr/>
          </p:nvSpPr>
          <p:spPr>
            <a:xfrm>
              <a:off x="4690080" y="607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Box 22"/>
          <p:cNvSpPr/>
          <p:nvPr/>
        </p:nvSpPr>
        <p:spPr>
          <a:xfrm>
            <a:off x="6438960" y="326880"/>
            <a:ext cx="243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第一</a:t>
            </a:r>
            <a:r>
              <a:rPr b="1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2" descr="E:\模板素材\20130906124030457副本副本.png"/>
          <p:cNvPicPr/>
          <p:nvPr/>
        </p:nvPicPr>
        <p:blipFill>
          <a:blip r:embed="rId4"/>
          <a:srcRect l="24269" t="5597" r="22835" b="16716"/>
          <a:stretch/>
        </p:blipFill>
        <p:spPr>
          <a:xfrm>
            <a:off x="3392640" y="631800"/>
            <a:ext cx="2176200" cy="44719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3" descr="C:\Users\Admin\Pictures\图片1副本.png"/>
          <p:cNvPicPr/>
          <p:nvPr/>
        </p:nvPicPr>
        <p:blipFill>
          <a:blip r:embed="rId5"/>
          <a:srcRect l="0" t="9188" r="20645" b="0"/>
          <a:stretch/>
        </p:blipFill>
        <p:spPr>
          <a:xfrm>
            <a:off x="2863800" y="606600"/>
            <a:ext cx="2695680" cy="5070240"/>
          </a:xfrm>
          <a:prstGeom prst="rect">
            <a:avLst/>
          </a:prstGeom>
          <a:ln w="0">
            <a:noFill/>
          </a:ln>
        </p:spPr>
      </p:pic>
      <p:sp>
        <p:nvSpPr>
          <p:cNvPr id="820" name="Freeform 22"/>
          <p:cNvSpPr/>
          <p:nvPr/>
        </p:nvSpPr>
        <p:spPr>
          <a:xfrm>
            <a:off x="2611440" y="273528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solidFill>
            <a:srgbClr val="bfbfb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1"/>
          <p:cNvSpPr/>
          <p:nvPr/>
        </p:nvSpPr>
        <p:spPr>
          <a:xfrm rot="20580000">
            <a:off x="3949560" y="3201840"/>
            <a:ext cx="960480" cy="338400"/>
          </a:xfrm>
          <a:custGeom>
            <a:avLst/>
            <a:gdLst/>
            <a:ahLst/>
            <a:rect l="l" t="t" r="r" b="b"/>
            <a:pathLst>
              <a:path w="822139" h="288798">
                <a:moveTo>
                  <a:pt x="0" y="0"/>
                </a:moveTo>
                <a:cubicBezTo>
                  <a:pt x="337129" y="83131"/>
                  <a:pt x="548978" y="79179"/>
                  <a:pt x="822139" y="110893"/>
                </a:cubicBezTo>
                <a:cubicBezTo>
                  <a:pt x="821936" y="167531"/>
                  <a:pt x="821734" y="224170"/>
                  <a:pt x="821531" y="280808"/>
                </a:cubicBezTo>
                <a:cubicBezTo>
                  <a:pt x="689539" y="303999"/>
                  <a:pt x="173624" y="271442"/>
                  <a:pt x="30187" y="250039"/>
                </a:cubicBezTo>
                <a:lnTo>
                  <a:pt x="0" y="0"/>
                </a:lnTo>
                <a:close/>
              </a:path>
            </a:pathLst>
          </a:cu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4"/>
          <p:cNvSpPr/>
          <p:nvPr/>
        </p:nvSpPr>
        <p:spPr>
          <a:xfrm rot="513000">
            <a:off x="3061800" y="816120"/>
            <a:ext cx="1576440" cy="590400"/>
          </a:xfrm>
          <a:custGeom>
            <a:avLst/>
            <a:gdLst/>
            <a:ahLst/>
            <a:rect l="l" t="t" r="r" b="b"/>
            <a:pathLst>
              <a:path w="507" h="190">
                <a:moveTo>
                  <a:pt x="507" y="85"/>
                </a:moveTo>
                <a:cubicBezTo>
                  <a:pt x="507" y="81"/>
                  <a:pt x="502" y="82"/>
                  <a:pt x="498" y="84"/>
                </a:cubicBezTo>
                <a:cubicBezTo>
                  <a:pt x="492" y="86"/>
                  <a:pt x="487" y="87"/>
                  <a:pt x="481" y="89"/>
                </a:cubicBezTo>
                <a:cubicBezTo>
                  <a:pt x="465" y="92"/>
                  <a:pt x="448" y="93"/>
                  <a:pt x="432" y="90"/>
                </a:cubicBezTo>
                <a:cubicBezTo>
                  <a:pt x="422" y="87"/>
                  <a:pt x="412" y="83"/>
                  <a:pt x="404" y="76"/>
                </a:cubicBezTo>
                <a:cubicBezTo>
                  <a:pt x="364" y="45"/>
                  <a:pt x="324" y="42"/>
                  <a:pt x="298" y="69"/>
                </a:cubicBezTo>
                <a:cubicBezTo>
                  <a:pt x="294" y="68"/>
                  <a:pt x="291" y="69"/>
                  <a:pt x="289" y="70"/>
                </a:cubicBezTo>
                <a:cubicBezTo>
                  <a:pt x="288" y="65"/>
                  <a:pt x="285" y="60"/>
                  <a:pt x="281" y="58"/>
                </a:cubicBezTo>
                <a:cubicBezTo>
                  <a:pt x="277" y="55"/>
                  <a:pt x="271" y="55"/>
                  <a:pt x="266" y="56"/>
                </a:cubicBezTo>
                <a:cubicBezTo>
                  <a:pt x="266" y="55"/>
                  <a:pt x="266" y="55"/>
                  <a:pt x="266" y="54"/>
                </a:cubicBezTo>
                <a:cubicBezTo>
                  <a:pt x="264" y="36"/>
                  <a:pt x="246" y="29"/>
                  <a:pt x="240" y="27"/>
                </a:cubicBezTo>
                <a:cubicBezTo>
                  <a:pt x="238" y="21"/>
                  <a:pt x="235" y="17"/>
                  <a:pt x="230" y="15"/>
                </a:cubicBezTo>
                <a:cubicBezTo>
                  <a:pt x="222" y="11"/>
                  <a:pt x="211" y="14"/>
                  <a:pt x="207" y="15"/>
                </a:cubicBezTo>
                <a:cubicBezTo>
                  <a:pt x="196" y="9"/>
                  <a:pt x="186" y="7"/>
                  <a:pt x="178" y="10"/>
                </a:cubicBezTo>
                <a:cubicBezTo>
                  <a:pt x="174" y="12"/>
                  <a:pt x="170" y="14"/>
                  <a:pt x="168" y="17"/>
                </a:cubicBezTo>
                <a:cubicBezTo>
                  <a:pt x="154" y="4"/>
                  <a:pt x="137" y="6"/>
                  <a:pt x="125" y="14"/>
                </a:cubicBezTo>
                <a:cubicBezTo>
                  <a:pt x="120" y="10"/>
                  <a:pt x="102" y="0"/>
                  <a:pt x="84" y="8"/>
                </a:cubicBezTo>
                <a:cubicBezTo>
                  <a:pt x="64" y="16"/>
                  <a:pt x="60" y="29"/>
                  <a:pt x="59" y="35"/>
                </a:cubicBezTo>
                <a:cubicBezTo>
                  <a:pt x="54" y="33"/>
                  <a:pt x="44" y="31"/>
                  <a:pt x="37" y="35"/>
                </a:cubicBezTo>
                <a:cubicBezTo>
                  <a:pt x="32" y="36"/>
                  <a:pt x="29" y="39"/>
                  <a:pt x="28" y="43"/>
                </a:cubicBezTo>
                <a:cubicBezTo>
                  <a:pt x="27" y="47"/>
                  <a:pt x="27" y="51"/>
                  <a:pt x="28" y="53"/>
                </a:cubicBezTo>
                <a:cubicBezTo>
                  <a:pt x="23" y="56"/>
                  <a:pt x="10" y="64"/>
                  <a:pt x="7" y="74"/>
                </a:cubicBezTo>
                <a:cubicBezTo>
                  <a:pt x="5" y="83"/>
                  <a:pt x="10" y="89"/>
                  <a:pt x="13" y="92"/>
                </a:cubicBezTo>
                <a:cubicBezTo>
                  <a:pt x="9" y="94"/>
                  <a:pt x="3" y="98"/>
                  <a:pt x="1" y="104"/>
                </a:cubicBezTo>
                <a:cubicBezTo>
                  <a:pt x="0" y="108"/>
                  <a:pt x="0" y="112"/>
                  <a:pt x="3" y="116"/>
                </a:cubicBezTo>
                <a:cubicBezTo>
                  <a:pt x="7" y="123"/>
                  <a:pt x="18" y="124"/>
                  <a:pt x="23" y="125"/>
                </a:cubicBezTo>
                <a:cubicBezTo>
                  <a:pt x="23" y="129"/>
                  <a:pt x="22" y="138"/>
                  <a:pt x="27" y="144"/>
                </a:cubicBezTo>
                <a:cubicBezTo>
                  <a:pt x="29" y="148"/>
                  <a:pt x="33" y="150"/>
                  <a:pt x="37" y="151"/>
                </a:cubicBezTo>
                <a:cubicBezTo>
                  <a:pt x="46" y="152"/>
                  <a:pt x="53" y="152"/>
                  <a:pt x="58" y="152"/>
                </a:cubicBezTo>
                <a:cubicBezTo>
                  <a:pt x="62" y="152"/>
                  <a:pt x="65" y="153"/>
                  <a:pt x="66" y="153"/>
                </a:cubicBezTo>
                <a:cubicBezTo>
                  <a:pt x="69" y="154"/>
                  <a:pt x="72" y="156"/>
                  <a:pt x="74" y="158"/>
                </a:cubicBezTo>
                <a:cubicBezTo>
                  <a:pt x="80" y="162"/>
                  <a:pt x="86" y="167"/>
                  <a:pt x="97" y="166"/>
                </a:cubicBezTo>
                <a:cubicBezTo>
                  <a:pt x="103" y="165"/>
                  <a:pt x="107" y="164"/>
                  <a:pt x="111" y="164"/>
                </a:cubicBezTo>
                <a:cubicBezTo>
                  <a:pt x="118" y="162"/>
                  <a:pt x="123" y="161"/>
                  <a:pt x="128" y="162"/>
                </a:cubicBezTo>
                <a:cubicBezTo>
                  <a:pt x="129" y="163"/>
                  <a:pt x="131" y="164"/>
                  <a:pt x="133" y="166"/>
                </a:cubicBezTo>
                <a:cubicBezTo>
                  <a:pt x="138" y="170"/>
                  <a:pt x="146" y="177"/>
                  <a:pt x="160" y="176"/>
                </a:cubicBezTo>
                <a:cubicBezTo>
                  <a:pt x="171" y="184"/>
                  <a:pt x="186" y="190"/>
                  <a:pt x="195" y="184"/>
                </a:cubicBezTo>
                <a:cubicBezTo>
                  <a:pt x="197" y="183"/>
                  <a:pt x="199" y="182"/>
                  <a:pt x="200" y="180"/>
                </a:cubicBezTo>
                <a:cubicBezTo>
                  <a:pt x="205" y="177"/>
                  <a:pt x="208" y="175"/>
                  <a:pt x="218" y="175"/>
                </a:cubicBezTo>
                <a:cubicBezTo>
                  <a:pt x="232" y="176"/>
                  <a:pt x="251" y="163"/>
                  <a:pt x="260" y="154"/>
                </a:cubicBezTo>
                <a:cubicBezTo>
                  <a:pt x="265" y="148"/>
                  <a:pt x="272" y="147"/>
                  <a:pt x="281" y="151"/>
                </a:cubicBezTo>
                <a:cubicBezTo>
                  <a:pt x="290" y="155"/>
                  <a:pt x="305" y="153"/>
                  <a:pt x="318" y="137"/>
                </a:cubicBezTo>
                <a:cubicBezTo>
                  <a:pt x="322" y="132"/>
                  <a:pt x="325" y="127"/>
                  <a:pt x="329" y="122"/>
                </a:cubicBezTo>
                <a:cubicBezTo>
                  <a:pt x="338" y="109"/>
                  <a:pt x="345" y="98"/>
                  <a:pt x="353" y="100"/>
                </a:cubicBezTo>
                <a:cubicBezTo>
                  <a:pt x="357" y="101"/>
                  <a:pt x="363" y="104"/>
                  <a:pt x="369" y="108"/>
                </a:cubicBezTo>
                <a:cubicBezTo>
                  <a:pt x="382" y="116"/>
                  <a:pt x="401" y="127"/>
                  <a:pt x="423" y="125"/>
                </a:cubicBezTo>
                <a:cubicBezTo>
                  <a:pt x="447" y="124"/>
                  <a:pt x="455" y="117"/>
                  <a:pt x="457" y="113"/>
                </a:cubicBezTo>
                <a:cubicBezTo>
                  <a:pt x="458" y="112"/>
                  <a:pt x="468" y="110"/>
                  <a:pt x="470" y="110"/>
                </a:cubicBezTo>
                <a:cubicBezTo>
                  <a:pt x="474" y="108"/>
                  <a:pt x="479" y="106"/>
                  <a:pt x="483" y="104"/>
                </a:cubicBezTo>
                <a:cubicBezTo>
                  <a:pt x="488" y="101"/>
                  <a:pt x="494" y="98"/>
                  <a:pt x="498" y="95"/>
                </a:cubicBezTo>
                <a:cubicBezTo>
                  <a:pt x="501" y="93"/>
                  <a:pt x="506" y="90"/>
                  <a:pt x="507" y="87"/>
                </a:cubicBezTo>
                <a:cubicBezTo>
                  <a:pt x="507" y="86"/>
                  <a:pt x="507" y="86"/>
                  <a:pt x="507" y="85"/>
                </a:cubicBezTo>
                <a:close/>
                <a:moveTo>
                  <a:pt x="136" y="162"/>
                </a:moveTo>
                <a:cubicBezTo>
                  <a:pt x="133" y="160"/>
                  <a:pt x="131" y="158"/>
                  <a:pt x="129" y="157"/>
                </a:cubicBezTo>
                <a:cubicBezTo>
                  <a:pt x="123" y="156"/>
                  <a:pt x="117" y="157"/>
                  <a:pt x="110" y="159"/>
                </a:cubicBezTo>
                <a:cubicBezTo>
                  <a:pt x="106" y="159"/>
                  <a:pt x="102" y="160"/>
                  <a:pt x="96" y="161"/>
                </a:cubicBezTo>
                <a:cubicBezTo>
                  <a:pt x="87" y="162"/>
                  <a:pt x="83" y="158"/>
                  <a:pt x="77" y="154"/>
                </a:cubicBezTo>
                <a:cubicBezTo>
                  <a:pt x="75" y="152"/>
                  <a:pt x="72" y="150"/>
                  <a:pt x="68" y="148"/>
                </a:cubicBezTo>
                <a:cubicBezTo>
                  <a:pt x="66" y="148"/>
                  <a:pt x="63" y="147"/>
                  <a:pt x="59" y="147"/>
                </a:cubicBezTo>
                <a:cubicBezTo>
                  <a:pt x="54" y="147"/>
                  <a:pt x="47" y="147"/>
                  <a:pt x="38" y="146"/>
                </a:cubicBezTo>
                <a:cubicBezTo>
                  <a:pt x="35" y="145"/>
                  <a:pt x="33" y="144"/>
                  <a:pt x="31" y="141"/>
                </a:cubicBezTo>
                <a:cubicBezTo>
                  <a:pt x="26" y="135"/>
                  <a:pt x="28" y="123"/>
                  <a:pt x="28" y="122"/>
                </a:cubicBezTo>
                <a:cubicBezTo>
                  <a:pt x="29" y="119"/>
                  <a:pt x="29" y="119"/>
                  <a:pt x="29" y="119"/>
                </a:cubicBezTo>
                <a:cubicBezTo>
                  <a:pt x="26" y="119"/>
                  <a:pt x="26" y="119"/>
                  <a:pt x="26" y="119"/>
                </a:cubicBezTo>
                <a:cubicBezTo>
                  <a:pt x="22" y="120"/>
                  <a:pt x="10" y="119"/>
                  <a:pt x="7" y="113"/>
                </a:cubicBezTo>
                <a:cubicBezTo>
                  <a:pt x="5" y="111"/>
                  <a:pt x="5" y="108"/>
                  <a:pt x="6" y="106"/>
                </a:cubicBezTo>
                <a:cubicBezTo>
                  <a:pt x="8" y="99"/>
                  <a:pt x="18" y="95"/>
                  <a:pt x="18" y="95"/>
                </a:cubicBezTo>
                <a:cubicBezTo>
                  <a:pt x="23" y="93"/>
                  <a:pt x="23" y="93"/>
                  <a:pt x="23" y="93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0" y="84"/>
                  <a:pt x="12" y="75"/>
                </a:cubicBezTo>
                <a:cubicBezTo>
                  <a:pt x="14" y="67"/>
                  <a:pt x="27" y="59"/>
                  <a:pt x="32" y="57"/>
                </a:cubicBezTo>
                <a:cubicBezTo>
                  <a:pt x="34" y="56"/>
                  <a:pt x="34" y="56"/>
                  <a:pt x="34" y="56"/>
                </a:cubicBezTo>
                <a:cubicBezTo>
                  <a:pt x="33" y="53"/>
                  <a:pt x="33" y="53"/>
                  <a:pt x="33" y="53"/>
                </a:cubicBezTo>
                <a:cubicBezTo>
                  <a:pt x="32" y="52"/>
                  <a:pt x="32" y="48"/>
                  <a:pt x="33" y="45"/>
                </a:cubicBezTo>
                <a:cubicBezTo>
                  <a:pt x="34" y="42"/>
                  <a:pt x="36" y="40"/>
                  <a:pt x="39" y="39"/>
                </a:cubicBezTo>
                <a:cubicBezTo>
                  <a:pt x="47" y="36"/>
                  <a:pt x="60" y="41"/>
                  <a:pt x="60" y="41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38"/>
                  <a:pt x="64" y="38"/>
                </a:cubicBezTo>
                <a:cubicBezTo>
                  <a:pt x="64" y="38"/>
                  <a:pt x="63" y="21"/>
                  <a:pt x="86" y="12"/>
                </a:cubicBezTo>
                <a:cubicBezTo>
                  <a:pt x="105" y="5"/>
                  <a:pt x="123" y="19"/>
                  <a:pt x="123" y="19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37" y="11"/>
                  <a:pt x="153" y="9"/>
                  <a:pt x="165" y="20"/>
                </a:cubicBezTo>
                <a:cubicBezTo>
                  <a:pt x="165" y="21"/>
                  <a:pt x="165" y="21"/>
                  <a:pt x="164" y="21"/>
                </a:cubicBezTo>
                <a:cubicBezTo>
                  <a:pt x="152" y="19"/>
                  <a:pt x="144" y="27"/>
                  <a:pt x="141" y="33"/>
                </a:cubicBezTo>
                <a:cubicBezTo>
                  <a:pt x="129" y="21"/>
                  <a:pt x="113" y="22"/>
                  <a:pt x="103" y="27"/>
                </a:cubicBezTo>
                <a:cubicBezTo>
                  <a:pt x="92" y="32"/>
                  <a:pt x="86" y="43"/>
                  <a:pt x="87" y="52"/>
                </a:cubicBezTo>
                <a:cubicBezTo>
                  <a:pt x="88" y="53"/>
                  <a:pt x="88" y="54"/>
                  <a:pt x="88" y="55"/>
                </a:cubicBezTo>
                <a:cubicBezTo>
                  <a:pt x="70" y="54"/>
                  <a:pt x="56" y="57"/>
                  <a:pt x="51" y="63"/>
                </a:cubicBezTo>
                <a:cubicBezTo>
                  <a:pt x="49" y="66"/>
                  <a:pt x="49" y="69"/>
                  <a:pt x="50" y="71"/>
                </a:cubicBezTo>
                <a:cubicBezTo>
                  <a:pt x="50" y="74"/>
                  <a:pt x="52" y="76"/>
                  <a:pt x="53" y="77"/>
                </a:cubicBezTo>
                <a:cubicBezTo>
                  <a:pt x="53" y="78"/>
                  <a:pt x="54" y="79"/>
                  <a:pt x="54" y="80"/>
                </a:cubicBezTo>
                <a:cubicBezTo>
                  <a:pt x="54" y="80"/>
                  <a:pt x="52" y="81"/>
                  <a:pt x="48" y="82"/>
                </a:cubicBezTo>
                <a:cubicBezTo>
                  <a:pt x="37" y="84"/>
                  <a:pt x="30" y="92"/>
                  <a:pt x="30" y="98"/>
                </a:cubicBezTo>
                <a:cubicBezTo>
                  <a:pt x="30" y="101"/>
                  <a:pt x="32" y="104"/>
                  <a:pt x="35" y="105"/>
                </a:cubicBezTo>
                <a:cubicBezTo>
                  <a:pt x="39" y="106"/>
                  <a:pt x="44" y="106"/>
                  <a:pt x="47" y="106"/>
                </a:cubicBezTo>
                <a:cubicBezTo>
                  <a:pt x="49" y="106"/>
                  <a:pt x="52" y="106"/>
                  <a:pt x="53" y="107"/>
                </a:cubicBezTo>
                <a:cubicBezTo>
                  <a:pt x="53" y="107"/>
                  <a:pt x="52" y="108"/>
                  <a:pt x="52" y="109"/>
                </a:cubicBezTo>
                <a:cubicBezTo>
                  <a:pt x="50" y="111"/>
                  <a:pt x="49" y="114"/>
                  <a:pt x="50" y="117"/>
                </a:cubicBezTo>
                <a:cubicBezTo>
                  <a:pt x="50" y="119"/>
                  <a:pt x="52" y="121"/>
                  <a:pt x="55" y="123"/>
                </a:cubicBezTo>
                <a:cubicBezTo>
                  <a:pt x="59" y="125"/>
                  <a:pt x="64" y="123"/>
                  <a:pt x="71" y="122"/>
                </a:cubicBezTo>
                <a:cubicBezTo>
                  <a:pt x="77" y="120"/>
                  <a:pt x="84" y="119"/>
                  <a:pt x="90" y="120"/>
                </a:cubicBezTo>
                <a:cubicBezTo>
                  <a:pt x="97" y="122"/>
                  <a:pt x="98" y="125"/>
                  <a:pt x="98" y="125"/>
                </a:cubicBezTo>
                <a:cubicBezTo>
                  <a:pt x="99" y="127"/>
                  <a:pt x="97" y="128"/>
                  <a:pt x="95" y="130"/>
                </a:cubicBezTo>
                <a:cubicBezTo>
                  <a:pt x="92" y="133"/>
                  <a:pt x="91" y="136"/>
                  <a:pt x="92" y="140"/>
                </a:cubicBezTo>
                <a:cubicBezTo>
                  <a:pt x="94" y="144"/>
                  <a:pt x="100" y="147"/>
                  <a:pt x="106" y="146"/>
                </a:cubicBezTo>
                <a:cubicBezTo>
                  <a:pt x="108" y="145"/>
                  <a:pt x="109" y="145"/>
                  <a:pt x="111" y="145"/>
                </a:cubicBezTo>
                <a:cubicBezTo>
                  <a:pt x="119" y="143"/>
                  <a:pt x="128" y="141"/>
                  <a:pt x="133" y="146"/>
                </a:cubicBezTo>
                <a:cubicBezTo>
                  <a:pt x="139" y="155"/>
                  <a:pt x="155" y="159"/>
                  <a:pt x="167" y="152"/>
                </a:cubicBezTo>
                <a:cubicBezTo>
                  <a:pt x="177" y="146"/>
                  <a:pt x="179" y="134"/>
                  <a:pt x="175" y="125"/>
                </a:cubicBezTo>
                <a:cubicBezTo>
                  <a:pt x="172" y="117"/>
                  <a:pt x="163" y="114"/>
                  <a:pt x="152" y="117"/>
                </a:cubicBezTo>
                <a:cubicBezTo>
                  <a:pt x="147" y="119"/>
                  <a:pt x="143" y="125"/>
                  <a:pt x="143" y="129"/>
                </a:cubicBezTo>
                <a:cubicBezTo>
                  <a:pt x="143" y="133"/>
                  <a:pt x="144" y="136"/>
                  <a:pt x="147" y="138"/>
                </a:cubicBezTo>
                <a:cubicBezTo>
                  <a:pt x="148" y="138"/>
                  <a:pt x="150" y="138"/>
                  <a:pt x="150" y="137"/>
                </a:cubicBezTo>
                <a:cubicBezTo>
                  <a:pt x="151" y="135"/>
                  <a:pt x="150" y="134"/>
                  <a:pt x="149" y="133"/>
                </a:cubicBezTo>
                <a:cubicBezTo>
                  <a:pt x="148" y="133"/>
                  <a:pt x="148" y="131"/>
                  <a:pt x="148" y="130"/>
                </a:cubicBezTo>
                <a:cubicBezTo>
                  <a:pt x="148" y="127"/>
                  <a:pt x="150" y="123"/>
                  <a:pt x="154" y="122"/>
                </a:cubicBezTo>
                <a:cubicBezTo>
                  <a:pt x="162" y="119"/>
                  <a:pt x="168" y="121"/>
                  <a:pt x="171" y="127"/>
                </a:cubicBezTo>
                <a:cubicBezTo>
                  <a:pt x="174" y="133"/>
                  <a:pt x="172" y="143"/>
                  <a:pt x="165" y="148"/>
                </a:cubicBezTo>
                <a:cubicBezTo>
                  <a:pt x="154" y="154"/>
                  <a:pt x="142" y="150"/>
                  <a:pt x="137" y="143"/>
                </a:cubicBezTo>
                <a:cubicBezTo>
                  <a:pt x="131" y="135"/>
                  <a:pt x="119" y="138"/>
                  <a:pt x="110" y="140"/>
                </a:cubicBezTo>
                <a:cubicBezTo>
                  <a:pt x="108" y="140"/>
                  <a:pt x="107" y="140"/>
                  <a:pt x="105" y="141"/>
                </a:cubicBezTo>
                <a:cubicBezTo>
                  <a:pt x="101" y="141"/>
                  <a:pt x="98" y="140"/>
                  <a:pt x="97" y="138"/>
                </a:cubicBezTo>
                <a:cubicBezTo>
                  <a:pt x="96" y="136"/>
                  <a:pt x="97" y="135"/>
                  <a:pt x="98" y="134"/>
                </a:cubicBezTo>
                <a:cubicBezTo>
                  <a:pt x="103" y="130"/>
                  <a:pt x="104" y="127"/>
                  <a:pt x="103" y="124"/>
                </a:cubicBezTo>
                <a:cubicBezTo>
                  <a:pt x="103" y="120"/>
                  <a:pt x="99" y="117"/>
                  <a:pt x="91" y="115"/>
                </a:cubicBezTo>
                <a:cubicBezTo>
                  <a:pt x="85" y="113"/>
                  <a:pt x="77" y="115"/>
                  <a:pt x="69" y="117"/>
                </a:cubicBezTo>
                <a:cubicBezTo>
                  <a:pt x="65" y="118"/>
                  <a:pt x="59" y="119"/>
                  <a:pt x="57" y="118"/>
                </a:cubicBezTo>
                <a:cubicBezTo>
                  <a:pt x="56" y="117"/>
                  <a:pt x="55" y="116"/>
                  <a:pt x="55" y="116"/>
                </a:cubicBezTo>
                <a:cubicBezTo>
                  <a:pt x="54" y="115"/>
                  <a:pt x="55" y="113"/>
                  <a:pt x="56" y="112"/>
                </a:cubicBezTo>
                <a:cubicBezTo>
                  <a:pt x="57" y="110"/>
                  <a:pt x="58" y="108"/>
                  <a:pt x="58" y="106"/>
                </a:cubicBezTo>
                <a:cubicBezTo>
                  <a:pt x="57" y="101"/>
                  <a:pt x="52" y="101"/>
                  <a:pt x="47" y="101"/>
                </a:cubicBezTo>
                <a:cubicBezTo>
                  <a:pt x="44" y="101"/>
                  <a:pt x="40" y="101"/>
                  <a:pt x="37" y="100"/>
                </a:cubicBezTo>
                <a:cubicBezTo>
                  <a:pt x="35" y="100"/>
                  <a:pt x="35" y="99"/>
                  <a:pt x="35" y="98"/>
                </a:cubicBezTo>
                <a:cubicBezTo>
                  <a:pt x="35" y="95"/>
                  <a:pt x="40" y="89"/>
                  <a:pt x="49" y="87"/>
                </a:cubicBezTo>
                <a:cubicBezTo>
                  <a:pt x="55" y="85"/>
                  <a:pt x="58" y="84"/>
                  <a:pt x="59" y="81"/>
                </a:cubicBezTo>
                <a:cubicBezTo>
                  <a:pt x="60" y="79"/>
                  <a:pt x="58" y="77"/>
                  <a:pt x="57" y="75"/>
                </a:cubicBezTo>
                <a:cubicBezTo>
                  <a:pt x="56" y="73"/>
                  <a:pt x="55" y="72"/>
                  <a:pt x="54" y="70"/>
                </a:cubicBezTo>
                <a:cubicBezTo>
                  <a:pt x="54" y="69"/>
                  <a:pt x="54" y="68"/>
                  <a:pt x="55" y="67"/>
                </a:cubicBezTo>
                <a:cubicBezTo>
                  <a:pt x="58" y="62"/>
                  <a:pt x="70" y="58"/>
                  <a:pt x="89" y="60"/>
                </a:cubicBezTo>
                <a:cubicBezTo>
                  <a:pt x="89" y="60"/>
                  <a:pt x="89" y="60"/>
                  <a:pt x="90" y="60"/>
                </a:cubicBezTo>
                <a:cubicBezTo>
                  <a:pt x="92" y="66"/>
                  <a:pt x="97" y="70"/>
                  <a:pt x="104" y="72"/>
                </a:cubicBezTo>
                <a:cubicBezTo>
                  <a:pt x="111" y="74"/>
                  <a:pt x="119" y="73"/>
                  <a:pt x="123" y="68"/>
                </a:cubicBezTo>
                <a:cubicBezTo>
                  <a:pt x="127" y="63"/>
                  <a:pt x="129" y="58"/>
                  <a:pt x="127" y="54"/>
                </a:cubicBezTo>
                <a:cubicBezTo>
                  <a:pt x="126" y="50"/>
                  <a:pt x="123" y="48"/>
                  <a:pt x="119" y="48"/>
                </a:cubicBezTo>
                <a:cubicBezTo>
                  <a:pt x="117" y="48"/>
                  <a:pt x="116" y="49"/>
                  <a:pt x="116" y="50"/>
                </a:cubicBezTo>
                <a:cubicBezTo>
                  <a:pt x="116" y="51"/>
                  <a:pt x="117" y="53"/>
                  <a:pt x="118" y="53"/>
                </a:cubicBezTo>
                <a:cubicBezTo>
                  <a:pt x="120" y="53"/>
                  <a:pt x="122" y="54"/>
                  <a:pt x="123" y="56"/>
                </a:cubicBezTo>
                <a:cubicBezTo>
                  <a:pt x="123" y="58"/>
                  <a:pt x="122" y="61"/>
                  <a:pt x="119" y="65"/>
                </a:cubicBezTo>
                <a:cubicBezTo>
                  <a:pt x="116" y="68"/>
                  <a:pt x="111" y="69"/>
                  <a:pt x="105" y="67"/>
                </a:cubicBezTo>
                <a:cubicBezTo>
                  <a:pt x="101" y="66"/>
                  <a:pt x="94" y="63"/>
                  <a:pt x="92" y="52"/>
                </a:cubicBezTo>
                <a:cubicBezTo>
                  <a:pt x="91" y="44"/>
                  <a:pt x="96" y="36"/>
                  <a:pt x="105" y="32"/>
                </a:cubicBezTo>
                <a:cubicBezTo>
                  <a:pt x="114" y="27"/>
                  <a:pt x="129" y="27"/>
                  <a:pt x="139" y="39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4" y="37"/>
                  <a:pt x="150" y="23"/>
                  <a:pt x="165" y="27"/>
                </a:cubicBezTo>
                <a:cubicBezTo>
                  <a:pt x="167" y="27"/>
                  <a:pt x="167" y="27"/>
                  <a:pt x="167" y="27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68" y="25"/>
                  <a:pt x="171" y="18"/>
                  <a:pt x="180" y="15"/>
                </a:cubicBezTo>
                <a:cubicBezTo>
                  <a:pt x="187" y="13"/>
                  <a:pt x="196" y="14"/>
                  <a:pt x="206" y="20"/>
                </a:cubicBezTo>
                <a:cubicBezTo>
                  <a:pt x="207" y="20"/>
                  <a:pt x="207" y="20"/>
                  <a:pt x="207" y="20"/>
                </a:cubicBezTo>
                <a:cubicBezTo>
                  <a:pt x="208" y="20"/>
                  <a:pt x="208" y="20"/>
                  <a:pt x="208" y="20"/>
                </a:cubicBezTo>
                <a:cubicBezTo>
                  <a:pt x="208" y="20"/>
                  <a:pt x="220" y="15"/>
                  <a:pt x="228" y="19"/>
                </a:cubicBezTo>
                <a:cubicBezTo>
                  <a:pt x="232" y="21"/>
                  <a:pt x="234" y="25"/>
                  <a:pt x="236" y="30"/>
                </a:cubicBezTo>
                <a:cubicBezTo>
                  <a:pt x="236" y="31"/>
                  <a:pt x="236" y="31"/>
                  <a:pt x="236" y="31"/>
                </a:cubicBezTo>
                <a:cubicBezTo>
                  <a:pt x="238" y="32"/>
                  <a:pt x="238" y="32"/>
                  <a:pt x="238" y="32"/>
                </a:cubicBezTo>
                <a:cubicBezTo>
                  <a:pt x="238" y="32"/>
                  <a:pt x="259" y="37"/>
                  <a:pt x="261" y="55"/>
                </a:cubicBezTo>
                <a:cubicBezTo>
                  <a:pt x="261" y="56"/>
                  <a:pt x="261" y="58"/>
                  <a:pt x="261" y="59"/>
                </a:cubicBezTo>
                <a:cubicBezTo>
                  <a:pt x="261" y="59"/>
                  <a:pt x="261" y="60"/>
                  <a:pt x="261" y="60"/>
                </a:cubicBezTo>
                <a:cubicBezTo>
                  <a:pt x="260" y="67"/>
                  <a:pt x="255" y="75"/>
                  <a:pt x="248" y="79"/>
                </a:cubicBezTo>
                <a:cubicBezTo>
                  <a:pt x="240" y="84"/>
                  <a:pt x="230" y="83"/>
                  <a:pt x="222" y="77"/>
                </a:cubicBezTo>
                <a:cubicBezTo>
                  <a:pt x="218" y="74"/>
                  <a:pt x="216" y="69"/>
                  <a:pt x="217" y="64"/>
                </a:cubicBezTo>
                <a:cubicBezTo>
                  <a:pt x="217" y="59"/>
                  <a:pt x="221" y="55"/>
                  <a:pt x="224" y="53"/>
                </a:cubicBezTo>
                <a:cubicBezTo>
                  <a:pt x="227" y="53"/>
                  <a:pt x="229" y="53"/>
                  <a:pt x="232" y="55"/>
                </a:cubicBezTo>
                <a:cubicBezTo>
                  <a:pt x="233" y="56"/>
                  <a:pt x="234" y="56"/>
                  <a:pt x="235" y="55"/>
                </a:cubicBezTo>
                <a:cubicBezTo>
                  <a:pt x="236" y="53"/>
                  <a:pt x="236" y="52"/>
                  <a:pt x="235" y="51"/>
                </a:cubicBezTo>
                <a:cubicBezTo>
                  <a:pt x="231" y="48"/>
                  <a:pt x="227" y="47"/>
                  <a:pt x="223" y="49"/>
                </a:cubicBezTo>
                <a:cubicBezTo>
                  <a:pt x="217" y="51"/>
                  <a:pt x="213" y="57"/>
                  <a:pt x="212" y="64"/>
                </a:cubicBezTo>
                <a:cubicBezTo>
                  <a:pt x="211" y="70"/>
                  <a:pt x="213" y="77"/>
                  <a:pt x="219" y="81"/>
                </a:cubicBezTo>
                <a:cubicBezTo>
                  <a:pt x="229" y="88"/>
                  <a:pt x="240" y="89"/>
                  <a:pt x="251" y="83"/>
                </a:cubicBezTo>
                <a:cubicBezTo>
                  <a:pt x="259" y="78"/>
                  <a:pt x="265" y="70"/>
                  <a:pt x="266" y="61"/>
                </a:cubicBezTo>
                <a:cubicBezTo>
                  <a:pt x="270" y="60"/>
                  <a:pt x="275" y="60"/>
                  <a:pt x="278" y="62"/>
                </a:cubicBezTo>
                <a:cubicBezTo>
                  <a:pt x="282" y="65"/>
                  <a:pt x="285" y="69"/>
                  <a:pt x="285" y="74"/>
                </a:cubicBezTo>
                <a:cubicBezTo>
                  <a:pt x="285" y="80"/>
                  <a:pt x="285" y="80"/>
                  <a:pt x="285" y="80"/>
                </a:cubicBezTo>
                <a:cubicBezTo>
                  <a:pt x="289" y="76"/>
                  <a:pt x="289" y="76"/>
                  <a:pt x="289" y="76"/>
                </a:cubicBezTo>
                <a:cubicBezTo>
                  <a:pt x="289" y="76"/>
                  <a:pt x="296" y="70"/>
                  <a:pt x="304" y="76"/>
                </a:cubicBezTo>
                <a:cubicBezTo>
                  <a:pt x="309" y="79"/>
                  <a:pt x="311" y="84"/>
                  <a:pt x="311" y="87"/>
                </a:cubicBezTo>
                <a:cubicBezTo>
                  <a:pt x="312" y="94"/>
                  <a:pt x="309" y="101"/>
                  <a:pt x="306" y="104"/>
                </a:cubicBezTo>
                <a:cubicBezTo>
                  <a:pt x="303" y="108"/>
                  <a:pt x="296" y="112"/>
                  <a:pt x="289" y="112"/>
                </a:cubicBezTo>
                <a:cubicBezTo>
                  <a:pt x="284" y="112"/>
                  <a:pt x="280" y="110"/>
                  <a:pt x="277" y="107"/>
                </a:cubicBezTo>
                <a:cubicBezTo>
                  <a:pt x="273" y="103"/>
                  <a:pt x="273" y="99"/>
                  <a:pt x="274" y="96"/>
                </a:cubicBezTo>
                <a:cubicBezTo>
                  <a:pt x="276" y="93"/>
                  <a:pt x="279" y="90"/>
                  <a:pt x="282" y="89"/>
                </a:cubicBezTo>
                <a:cubicBezTo>
                  <a:pt x="284" y="89"/>
                  <a:pt x="287" y="89"/>
                  <a:pt x="289" y="92"/>
                </a:cubicBezTo>
                <a:cubicBezTo>
                  <a:pt x="289" y="93"/>
                  <a:pt x="291" y="93"/>
                  <a:pt x="292" y="92"/>
                </a:cubicBezTo>
                <a:cubicBezTo>
                  <a:pt x="293" y="91"/>
                  <a:pt x="293" y="90"/>
                  <a:pt x="293" y="88"/>
                </a:cubicBezTo>
                <a:cubicBezTo>
                  <a:pt x="290" y="85"/>
                  <a:pt x="286" y="83"/>
                  <a:pt x="282" y="84"/>
                </a:cubicBezTo>
                <a:cubicBezTo>
                  <a:pt x="276" y="85"/>
                  <a:pt x="271" y="89"/>
                  <a:pt x="270" y="95"/>
                </a:cubicBezTo>
                <a:cubicBezTo>
                  <a:pt x="268" y="100"/>
                  <a:pt x="269" y="106"/>
                  <a:pt x="274" y="110"/>
                </a:cubicBezTo>
                <a:cubicBezTo>
                  <a:pt x="278" y="115"/>
                  <a:pt x="283" y="117"/>
                  <a:pt x="289" y="117"/>
                </a:cubicBezTo>
                <a:cubicBezTo>
                  <a:pt x="298" y="117"/>
                  <a:pt x="306" y="112"/>
                  <a:pt x="310" y="108"/>
                </a:cubicBezTo>
                <a:cubicBezTo>
                  <a:pt x="315" y="103"/>
                  <a:pt x="317" y="94"/>
                  <a:pt x="316" y="87"/>
                </a:cubicBezTo>
                <a:cubicBezTo>
                  <a:pt x="315" y="80"/>
                  <a:pt x="312" y="75"/>
                  <a:pt x="307" y="72"/>
                </a:cubicBezTo>
                <a:cubicBezTo>
                  <a:pt x="306" y="71"/>
                  <a:pt x="305" y="70"/>
                  <a:pt x="303" y="70"/>
                </a:cubicBezTo>
                <a:cubicBezTo>
                  <a:pt x="328" y="47"/>
                  <a:pt x="364" y="51"/>
                  <a:pt x="401" y="80"/>
                </a:cubicBezTo>
                <a:cubicBezTo>
                  <a:pt x="432" y="105"/>
                  <a:pt x="473" y="97"/>
                  <a:pt x="494" y="91"/>
                </a:cubicBezTo>
                <a:cubicBezTo>
                  <a:pt x="447" y="126"/>
                  <a:pt x="402" y="104"/>
                  <a:pt x="374" y="90"/>
                </a:cubicBezTo>
                <a:cubicBezTo>
                  <a:pt x="365" y="86"/>
                  <a:pt x="358" y="82"/>
                  <a:pt x="353" y="82"/>
                </a:cubicBezTo>
                <a:cubicBezTo>
                  <a:pt x="339" y="79"/>
                  <a:pt x="332" y="89"/>
                  <a:pt x="325" y="99"/>
                </a:cubicBezTo>
                <a:cubicBezTo>
                  <a:pt x="321" y="106"/>
                  <a:pt x="316" y="113"/>
                  <a:pt x="308" y="119"/>
                </a:cubicBezTo>
                <a:cubicBezTo>
                  <a:pt x="288" y="133"/>
                  <a:pt x="268" y="121"/>
                  <a:pt x="267" y="121"/>
                </a:cubicBezTo>
                <a:cubicBezTo>
                  <a:pt x="265" y="119"/>
                  <a:pt x="265" y="119"/>
                  <a:pt x="265" y="119"/>
                </a:cubicBezTo>
                <a:cubicBezTo>
                  <a:pt x="264" y="122"/>
                  <a:pt x="264" y="122"/>
                  <a:pt x="264" y="122"/>
                </a:cubicBezTo>
                <a:cubicBezTo>
                  <a:pt x="252" y="143"/>
                  <a:pt x="230" y="136"/>
                  <a:pt x="229" y="136"/>
                </a:cubicBezTo>
                <a:cubicBezTo>
                  <a:pt x="227" y="135"/>
                  <a:pt x="227" y="135"/>
                  <a:pt x="227" y="135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4" y="142"/>
                  <a:pt x="220" y="146"/>
                  <a:pt x="215" y="148"/>
                </a:cubicBezTo>
                <a:cubicBezTo>
                  <a:pt x="209" y="151"/>
                  <a:pt x="201" y="151"/>
                  <a:pt x="194" y="148"/>
                </a:cubicBezTo>
                <a:cubicBezTo>
                  <a:pt x="194" y="146"/>
                  <a:pt x="194" y="145"/>
                  <a:pt x="194" y="143"/>
                </a:cubicBezTo>
                <a:cubicBezTo>
                  <a:pt x="193" y="138"/>
                  <a:pt x="190" y="135"/>
                  <a:pt x="187" y="133"/>
                </a:cubicBezTo>
                <a:cubicBezTo>
                  <a:pt x="191" y="129"/>
                  <a:pt x="193" y="119"/>
                  <a:pt x="193" y="119"/>
                </a:cubicBezTo>
                <a:cubicBezTo>
                  <a:pt x="195" y="109"/>
                  <a:pt x="191" y="99"/>
                  <a:pt x="182" y="93"/>
                </a:cubicBezTo>
                <a:cubicBezTo>
                  <a:pt x="172" y="87"/>
                  <a:pt x="160" y="85"/>
                  <a:pt x="150" y="90"/>
                </a:cubicBezTo>
                <a:cubicBezTo>
                  <a:pt x="149" y="86"/>
                  <a:pt x="146" y="81"/>
                  <a:pt x="141" y="79"/>
                </a:cubicBezTo>
                <a:cubicBezTo>
                  <a:pt x="136" y="77"/>
                  <a:pt x="131" y="78"/>
                  <a:pt x="125" y="82"/>
                </a:cubicBezTo>
                <a:cubicBezTo>
                  <a:pt x="124" y="83"/>
                  <a:pt x="123" y="84"/>
                  <a:pt x="124" y="85"/>
                </a:cubicBezTo>
                <a:cubicBezTo>
                  <a:pt x="125" y="87"/>
                  <a:pt x="126" y="87"/>
                  <a:pt x="127" y="86"/>
                </a:cubicBezTo>
                <a:cubicBezTo>
                  <a:pt x="132" y="83"/>
                  <a:pt x="136" y="83"/>
                  <a:pt x="139" y="84"/>
                </a:cubicBezTo>
                <a:cubicBezTo>
                  <a:pt x="144" y="86"/>
                  <a:pt x="146" y="94"/>
                  <a:pt x="146" y="94"/>
                </a:cubicBezTo>
                <a:cubicBezTo>
                  <a:pt x="147" y="97"/>
                  <a:pt x="147" y="97"/>
                  <a:pt x="147" y="97"/>
                </a:cubicBezTo>
                <a:cubicBezTo>
                  <a:pt x="147" y="97"/>
                  <a:pt x="150" y="96"/>
                  <a:pt x="150" y="96"/>
                </a:cubicBezTo>
                <a:cubicBezTo>
                  <a:pt x="158" y="90"/>
                  <a:pt x="170" y="91"/>
                  <a:pt x="179" y="97"/>
                </a:cubicBezTo>
                <a:cubicBezTo>
                  <a:pt x="186" y="102"/>
                  <a:pt x="190" y="110"/>
                  <a:pt x="188" y="118"/>
                </a:cubicBezTo>
                <a:cubicBezTo>
                  <a:pt x="187" y="122"/>
                  <a:pt x="184" y="131"/>
                  <a:pt x="182" y="131"/>
                </a:cubicBezTo>
                <a:cubicBezTo>
                  <a:pt x="182" y="131"/>
                  <a:pt x="182" y="131"/>
                  <a:pt x="182" y="131"/>
                </a:cubicBezTo>
                <a:cubicBezTo>
                  <a:pt x="181" y="136"/>
                  <a:pt x="181" y="136"/>
                  <a:pt x="181" y="136"/>
                </a:cubicBezTo>
                <a:cubicBezTo>
                  <a:pt x="181" y="136"/>
                  <a:pt x="187" y="138"/>
                  <a:pt x="189" y="144"/>
                </a:cubicBezTo>
                <a:cubicBezTo>
                  <a:pt x="189" y="148"/>
                  <a:pt x="188" y="152"/>
                  <a:pt x="185" y="156"/>
                </a:cubicBezTo>
                <a:cubicBezTo>
                  <a:pt x="183" y="160"/>
                  <a:pt x="176" y="167"/>
                  <a:pt x="163" y="170"/>
                </a:cubicBezTo>
                <a:cubicBezTo>
                  <a:pt x="149" y="173"/>
                  <a:pt x="141" y="166"/>
                  <a:pt x="136" y="162"/>
                </a:cubicBezTo>
                <a:close/>
                <a:moveTo>
                  <a:pt x="423" y="120"/>
                </a:moveTo>
                <a:cubicBezTo>
                  <a:pt x="402" y="121"/>
                  <a:pt x="385" y="111"/>
                  <a:pt x="371" y="103"/>
                </a:cubicBezTo>
                <a:cubicBezTo>
                  <a:pt x="365" y="100"/>
                  <a:pt x="359" y="96"/>
                  <a:pt x="354" y="95"/>
                </a:cubicBezTo>
                <a:cubicBezTo>
                  <a:pt x="343" y="92"/>
                  <a:pt x="334" y="105"/>
                  <a:pt x="325" y="119"/>
                </a:cubicBezTo>
                <a:cubicBezTo>
                  <a:pt x="321" y="124"/>
                  <a:pt x="318" y="129"/>
                  <a:pt x="314" y="134"/>
                </a:cubicBezTo>
                <a:cubicBezTo>
                  <a:pt x="303" y="147"/>
                  <a:pt x="290" y="150"/>
                  <a:pt x="283" y="147"/>
                </a:cubicBezTo>
                <a:cubicBezTo>
                  <a:pt x="272" y="142"/>
                  <a:pt x="263" y="143"/>
                  <a:pt x="256" y="151"/>
                </a:cubicBezTo>
                <a:cubicBezTo>
                  <a:pt x="248" y="159"/>
                  <a:pt x="230" y="171"/>
                  <a:pt x="218" y="170"/>
                </a:cubicBezTo>
                <a:cubicBezTo>
                  <a:pt x="207" y="169"/>
                  <a:pt x="203" y="173"/>
                  <a:pt x="197" y="176"/>
                </a:cubicBezTo>
                <a:cubicBezTo>
                  <a:pt x="196" y="177"/>
                  <a:pt x="194" y="179"/>
                  <a:pt x="192" y="180"/>
                </a:cubicBezTo>
                <a:cubicBezTo>
                  <a:pt x="186" y="183"/>
                  <a:pt x="175" y="180"/>
                  <a:pt x="167" y="174"/>
                </a:cubicBezTo>
                <a:cubicBezTo>
                  <a:pt x="180" y="171"/>
                  <a:pt x="187" y="163"/>
                  <a:pt x="189" y="159"/>
                </a:cubicBezTo>
                <a:cubicBezTo>
                  <a:pt x="191" y="157"/>
                  <a:pt x="192" y="155"/>
                  <a:pt x="193" y="153"/>
                </a:cubicBezTo>
                <a:cubicBezTo>
                  <a:pt x="201" y="156"/>
                  <a:pt x="210" y="156"/>
                  <a:pt x="217" y="152"/>
                </a:cubicBezTo>
                <a:cubicBezTo>
                  <a:pt x="223" y="150"/>
                  <a:pt x="227" y="146"/>
                  <a:pt x="230" y="141"/>
                </a:cubicBezTo>
                <a:cubicBezTo>
                  <a:pt x="236" y="142"/>
                  <a:pt x="256" y="145"/>
                  <a:pt x="267" y="126"/>
                </a:cubicBezTo>
                <a:cubicBezTo>
                  <a:pt x="274" y="129"/>
                  <a:pt x="292" y="136"/>
                  <a:pt x="311" y="123"/>
                </a:cubicBezTo>
                <a:cubicBezTo>
                  <a:pt x="319" y="117"/>
                  <a:pt x="325" y="109"/>
                  <a:pt x="329" y="102"/>
                </a:cubicBezTo>
                <a:cubicBezTo>
                  <a:pt x="336" y="92"/>
                  <a:pt x="341" y="85"/>
                  <a:pt x="353" y="87"/>
                </a:cubicBezTo>
                <a:cubicBezTo>
                  <a:pt x="357" y="87"/>
                  <a:pt x="364" y="91"/>
                  <a:pt x="372" y="95"/>
                </a:cubicBezTo>
                <a:cubicBezTo>
                  <a:pt x="391" y="104"/>
                  <a:pt x="418" y="118"/>
                  <a:pt x="449" y="115"/>
                </a:cubicBezTo>
                <a:cubicBezTo>
                  <a:pt x="444" y="117"/>
                  <a:pt x="437" y="120"/>
                  <a:pt x="423" y="12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6" descr="E:\模板素材\月饼.png"/>
          <p:cNvPicPr/>
          <p:nvPr/>
        </p:nvPicPr>
        <p:blipFill>
          <a:blip r:embed="rId7"/>
          <a:srcRect l="28395" t="15322" r="26335" b="54669"/>
          <a:stretch/>
        </p:blipFill>
        <p:spPr>
          <a:xfrm>
            <a:off x="3559320" y="1136520"/>
            <a:ext cx="1860480" cy="1773360"/>
          </a:xfrm>
          <a:prstGeom prst="rect">
            <a:avLst/>
          </a:prstGeom>
          <a:ln w="0">
            <a:noFill/>
          </a:ln>
        </p:spPr>
      </p:pic>
      <p:sp>
        <p:nvSpPr>
          <p:cNvPr id="824" name="Freeform 22"/>
          <p:cNvSpPr/>
          <p:nvPr/>
        </p:nvSpPr>
        <p:spPr>
          <a:xfrm flipH="1">
            <a:off x="3917160" y="376236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48"/>
          <p:cNvSpPr/>
          <p:nvPr/>
        </p:nvSpPr>
        <p:spPr>
          <a:xfrm>
            <a:off x="3801960" y="3784680"/>
            <a:ext cx="126216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255"/>
          <p:cNvGrpSpPr/>
          <p:nvPr/>
        </p:nvGrpSpPr>
        <p:grpSpPr>
          <a:xfrm>
            <a:off x="4738680" y="3619440"/>
            <a:ext cx="1566720" cy="1503360"/>
            <a:chOff x="4738680" y="3619440"/>
            <a:chExt cx="1566720" cy="1503360"/>
          </a:xfrm>
        </p:grpSpPr>
        <p:sp>
          <p:nvSpPr>
            <p:cNvPr id="827" name="椭圆 134"/>
            <p:cNvSpPr/>
            <p:nvPr/>
          </p:nvSpPr>
          <p:spPr>
            <a:xfrm>
              <a:off x="4738680" y="3619440"/>
              <a:ext cx="1477080" cy="1478520"/>
            </a:xfrm>
            <a:prstGeom prst="ellipse">
              <a:avLst/>
            </a:prstGeom>
            <a:noFill/>
            <a:ln w="25560">
              <a:solidFill>
                <a:srgbClr val="a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Box 135"/>
            <p:cNvSpPr/>
            <p:nvPr/>
          </p:nvSpPr>
          <p:spPr>
            <a:xfrm>
              <a:off x="4931280" y="3809880"/>
              <a:ext cx="1374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矩形 10"/>
          <p:cNvSpPr/>
          <p:nvPr/>
        </p:nvSpPr>
        <p:spPr>
          <a:xfrm flipH="1" rot="20127600">
            <a:off x="4766760" y="4092120"/>
            <a:ext cx="209520" cy="488880"/>
          </a:xfrm>
          <a:custGeom>
            <a:avLst/>
            <a:gdLst/>
            <a:ahLst/>
            <a:rect l="l" t="t" r="r" b="b"/>
            <a:pathLst>
              <a:path w="205853" h="482209">
                <a:moveTo>
                  <a:pt x="86084" y="0"/>
                </a:moveTo>
                <a:lnTo>
                  <a:pt x="0" y="482209"/>
                </a:lnTo>
                <a:lnTo>
                  <a:pt x="205853" y="482209"/>
                </a:lnTo>
                <a:lnTo>
                  <a:pt x="177081" y="107943"/>
                </a:lnTo>
                <a:cubicBezTo>
                  <a:pt x="153311" y="70073"/>
                  <a:pt x="122912" y="33277"/>
                  <a:pt x="8608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8"/>
          <p:cNvSpPr/>
          <p:nvPr/>
        </p:nvSpPr>
        <p:spPr>
          <a:xfrm rot="1472400">
            <a:off x="3727440" y="3835080"/>
            <a:ext cx="374760" cy="1357200"/>
          </a:xfrm>
          <a:custGeom>
            <a:avLst/>
            <a:gdLst/>
            <a:ahLst/>
            <a:rect l="l" t="t" r="r" b="b"/>
            <a:pathLst>
              <a:path w="375194" h="1358525">
                <a:moveTo>
                  <a:pt x="248361" y="0"/>
                </a:moveTo>
                <a:lnTo>
                  <a:pt x="375194" y="318417"/>
                </a:lnTo>
                <a:lnTo>
                  <a:pt x="338861" y="1267404"/>
                </a:lnTo>
                <a:lnTo>
                  <a:pt x="139373" y="1358525"/>
                </a:lnTo>
                <a:lnTo>
                  <a:pt x="0" y="1053401"/>
                </a:lnTo>
                <a:lnTo>
                  <a:pt x="2483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media1.wma" descr=""/>
          <p:cNvPicPr/>
          <p:nvPr/>
        </p:nvPicPr>
        <p:blipFill>
          <a:blip r:embed="rId9"/>
          <a:stretch/>
        </p:blipFill>
        <p:spPr>
          <a:xfrm>
            <a:off x="-1906560" y="8319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32" name="文本框 15619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5620"/>
          <p:cNvSpPr/>
          <p:nvPr/>
        </p:nvSpPr>
        <p:spPr>
          <a:xfrm>
            <a:off x="1287360" y="235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中秋甜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" dur="225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24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26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3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3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3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26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8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26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8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8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2">
                                  <p:stCondLst>
                                    <p:cond delay="31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9462 0.05232 L 5.55556E-007 -3.7037E-007 E">
                                      <p:cBhvr>
                                        <p:cTn id="63" dur="75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26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32">
                                  <p:stCondLst>
                                    <p:cond delay="3400"/>
                                  </p:stCondLst>
                                  <p:childTnLs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26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32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120000"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" fill="hold">
                                          <p:stCondLst>
                                            <p:cond delay="397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1" dur="2" fill="hold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1.11111E-006 -1.85185E-006 C -0.03229 0.02014 -0.06372 0.01945 -0.10261 0.02014 C -0.10295 0.02014 -0.11007 0.02199 -0.11094 0.02246 C -0.11215 0.02361 -0.11233 0.025 -0.11337 0.02593 C -0.11424 0.02685 -0.1158 0.02755 -0.11701 0.02824 C -0.1184 0.03287 -0.12205 0.03449 -0.12639 0.0375 C -0.13663 0.04421 -0.14774 0.0463 -0.1599 0.04861 C -0.16302 0.05324 -0.16424 0.05926 -0.16927 0.06227 C -0.17309 0.06482 -0.1783 0.06597 -0.18229 0.06829 E">
                                      <p:cBhvr>
                                        <p:cTn id="9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11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11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2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3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26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8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E:\模板素材\NiPic_37646_1e5ec8d893d159b9\未标1.jpg"/>
          <p:cNvPicPr/>
          <p:nvPr/>
        </p:nvPicPr>
        <p:blipFill>
          <a:blip r:embed="rId1"/>
          <a:stretch/>
        </p:blipFill>
        <p:spPr>
          <a:xfrm>
            <a:off x="-9360" y="-17640"/>
            <a:ext cx="9165960" cy="6897960"/>
          </a:xfrm>
          <a:prstGeom prst="rect">
            <a:avLst/>
          </a:prstGeom>
          <a:ln w="0">
            <a:noFill/>
          </a:ln>
        </p:spPr>
      </p:pic>
      <p:sp>
        <p:nvSpPr>
          <p:cNvPr id="835" name="椭圆 19"/>
          <p:cNvSpPr/>
          <p:nvPr/>
        </p:nvSpPr>
        <p:spPr>
          <a:xfrm>
            <a:off x="6508800" y="366840"/>
            <a:ext cx="14616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91"/>
          <p:cNvSpPr/>
          <p:nvPr/>
        </p:nvSpPr>
        <p:spPr>
          <a:xfrm>
            <a:off x="6742080" y="366840"/>
            <a:ext cx="147600" cy="147600"/>
          </a:xfrm>
          <a:prstGeom prst="ellipse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950160" y="326880"/>
            <a:ext cx="206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ＰＰＴ模板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C:\Users\Admin\Pictures\图片1副本.png"/>
          <p:cNvPicPr/>
          <p:nvPr/>
        </p:nvPicPr>
        <p:blipFill>
          <a:blip r:embed="rId2"/>
          <a:srcRect l="0" t="9188" r="20645" b="0"/>
          <a:stretch/>
        </p:blipFill>
        <p:spPr>
          <a:xfrm>
            <a:off x="2867040" y="627120"/>
            <a:ext cx="2695680" cy="5070240"/>
          </a:xfrm>
          <a:prstGeom prst="rect">
            <a:avLst/>
          </a:prstGeom>
          <a:ln w="0">
            <a:noFill/>
          </a:ln>
        </p:spPr>
      </p:pic>
      <p:sp>
        <p:nvSpPr>
          <p:cNvPr id="839" name="Freeform 22"/>
          <p:cNvSpPr/>
          <p:nvPr/>
        </p:nvSpPr>
        <p:spPr>
          <a:xfrm flipH="1">
            <a:off x="3917160" y="376236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2"/>
          <p:cNvSpPr/>
          <p:nvPr/>
        </p:nvSpPr>
        <p:spPr>
          <a:xfrm>
            <a:off x="2611440" y="2735280"/>
            <a:ext cx="2614680" cy="1255680"/>
          </a:xfrm>
          <a:custGeom>
            <a:avLst/>
            <a:gdLst/>
            <a:ahLst/>
            <a:rect l="l" t="t" r="r" b="b"/>
            <a:pathLst>
              <a:path w="804" h="386">
                <a:moveTo>
                  <a:pt x="782" y="143"/>
                </a:moveTo>
                <a:cubicBezTo>
                  <a:pt x="773" y="135"/>
                  <a:pt x="763" y="130"/>
                  <a:pt x="756" y="127"/>
                </a:cubicBezTo>
                <a:cubicBezTo>
                  <a:pt x="751" y="125"/>
                  <a:pt x="747" y="123"/>
                  <a:pt x="747" y="121"/>
                </a:cubicBezTo>
                <a:cubicBezTo>
                  <a:pt x="747" y="117"/>
                  <a:pt x="751" y="115"/>
                  <a:pt x="753" y="114"/>
                </a:cubicBezTo>
                <a:cubicBezTo>
                  <a:pt x="756" y="113"/>
                  <a:pt x="758" y="115"/>
                  <a:pt x="758" y="116"/>
                </a:cubicBezTo>
                <a:cubicBezTo>
                  <a:pt x="759" y="116"/>
                  <a:pt x="759" y="118"/>
                  <a:pt x="759" y="119"/>
                </a:cubicBezTo>
                <a:cubicBezTo>
                  <a:pt x="756" y="125"/>
                  <a:pt x="766" y="122"/>
                  <a:pt x="769" y="121"/>
                </a:cubicBezTo>
                <a:cubicBezTo>
                  <a:pt x="774" y="119"/>
                  <a:pt x="778" y="114"/>
                  <a:pt x="779" y="108"/>
                </a:cubicBezTo>
                <a:cubicBezTo>
                  <a:pt x="779" y="102"/>
                  <a:pt x="777" y="97"/>
                  <a:pt x="774" y="93"/>
                </a:cubicBezTo>
                <a:cubicBezTo>
                  <a:pt x="769" y="87"/>
                  <a:pt x="761" y="84"/>
                  <a:pt x="752" y="84"/>
                </a:cubicBezTo>
                <a:cubicBezTo>
                  <a:pt x="746" y="84"/>
                  <a:pt x="740" y="87"/>
                  <a:pt x="735" y="92"/>
                </a:cubicBezTo>
                <a:cubicBezTo>
                  <a:pt x="731" y="97"/>
                  <a:pt x="728" y="104"/>
                  <a:pt x="729" y="110"/>
                </a:cubicBezTo>
                <a:cubicBezTo>
                  <a:pt x="729" y="113"/>
                  <a:pt x="729" y="115"/>
                  <a:pt x="728" y="116"/>
                </a:cubicBezTo>
                <a:cubicBezTo>
                  <a:pt x="725" y="118"/>
                  <a:pt x="717" y="117"/>
                  <a:pt x="709" y="116"/>
                </a:cubicBezTo>
                <a:cubicBezTo>
                  <a:pt x="706" y="116"/>
                  <a:pt x="702" y="115"/>
                  <a:pt x="699" y="115"/>
                </a:cubicBezTo>
                <a:cubicBezTo>
                  <a:pt x="636" y="111"/>
                  <a:pt x="595" y="110"/>
                  <a:pt x="531" y="114"/>
                </a:cubicBezTo>
                <a:cubicBezTo>
                  <a:pt x="526" y="114"/>
                  <a:pt x="526" y="114"/>
                  <a:pt x="526" y="114"/>
                </a:cubicBezTo>
                <a:cubicBezTo>
                  <a:pt x="466" y="115"/>
                  <a:pt x="442" y="116"/>
                  <a:pt x="420" y="107"/>
                </a:cubicBezTo>
                <a:cubicBezTo>
                  <a:pt x="409" y="103"/>
                  <a:pt x="402" y="96"/>
                  <a:pt x="401" y="86"/>
                </a:cubicBezTo>
                <a:cubicBezTo>
                  <a:pt x="399" y="75"/>
                  <a:pt x="405" y="62"/>
                  <a:pt x="417" y="51"/>
                </a:cubicBezTo>
                <a:cubicBezTo>
                  <a:pt x="438" y="33"/>
                  <a:pt x="465" y="23"/>
                  <a:pt x="492" y="29"/>
                </a:cubicBezTo>
                <a:cubicBezTo>
                  <a:pt x="497" y="31"/>
                  <a:pt x="501" y="32"/>
                  <a:pt x="506" y="33"/>
                </a:cubicBezTo>
                <a:cubicBezTo>
                  <a:pt x="514" y="36"/>
                  <a:pt x="521" y="38"/>
                  <a:pt x="528" y="36"/>
                </a:cubicBezTo>
                <a:cubicBezTo>
                  <a:pt x="529" y="42"/>
                  <a:pt x="532" y="50"/>
                  <a:pt x="542" y="53"/>
                </a:cubicBezTo>
                <a:cubicBezTo>
                  <a:pt x="544" y="59"/>
                  <a:pt x="550" y="69"/>
                  <a:pt x="563" y="69"/>
                </a:cubicBezTo>
                <a:cubicBezTo>
                  <a:pt x="566" y="73"/>
                  <a:pt x="580" y="87"/>
                  <a:pt x="607" y="87"/>
                </a:cubicBezTo>
                <a:cubicBezTo>
                  <a:pt x="624" y="87"/>
                  <a:pt x="640" y="79"/>
                  <a:pt x="647" y="65"/>
                </a:cubicBezTo>
                <a:cubicBezTo>
                  <a:pt x="653" y="53"/>
                  <a:pt x="650" y="39"/>
                  <a:pt x="641" y="30"/>
                </a:cubicBezTo>
                <a:cubicBezTo>
                  <a:pt x="634" y="24"/>
                  <a:pt x="626" y="20"/>
                  <a:pt x="617" y="18"/>
                </a:cubicBezTo>
                <a:cubicBezTo>
                  <a:pt x="615" y="17"/>
                  <a:pt x="607" y="15"/>
                  <a:pt x="605" y="17"/>
                </a:cubicBezTo>
                <a:cubicBezTo>
                  <a:pt x="603" y="20"/>
                  <a:pt x="607" y="21"/>
                  <a:pt x="609" y="22"/>
                </a:cubicBezTo>
                <a:cubicBezTo>
                  <a:pt x="611" y="23"/>
                  <a:pt x="614" y="25"/>
                  <a:pt x="616" y="27"/>
                </a:cubicBezTo>
                <a:cubicBezTo>
                  <a:pt x="618" y="29"/>
                  <a:pt x="618" y="32"/>
                  <a:pt x="618" y="35"/>
                </a:cubicBezTo>
                <a:cubicBezTo>
                  <a:pt x="617" y="39"/>
                  <a:pt x="614" y="43"/>
                  <a:pt x="610" y="45"/>
                </a:cubicBezTo>
                <a:cubicBezTo>
                  <a:pt x="606" y="46"/>
                  <a:pt x="602" y="46"/>
                  <a:pt x="597" y="43"/>
                </a:cubicBezTo>
                <a:cubicBezTo>
                  <a:pt x="594" y="41"/>
                  <a:pt x="591" y="38"/>
                  <a:pt x="588" y="35"/>
                </a:cubicBezTo>
                <a:cubicBezTo>
                  <a:pt x="563" y="11"/>
                  <a:pt x="530" y="0"/>
                  <a:pt x="487" y="2"/>
                </a:cubicBezTo>
                <a:cubicBezTo>
                  <a:pt x="468" y="3"/>
                  <a:pt x="449" y="6"/>
                  <a:pt x="431" y="11"/>
                </a:cubicBezTo>
                <a:cubicBezTo>
                  <a:pt x="400" y="18"/>
                  <a:pt x="375" y="31"/>
                  <a:pt x="359" y="47"/>
                </a:cubicBezTo>
                <a:cubicBezTo>
                  <a:pt x="344" y="62"/>
                  <a:pt x="337" y="80"/>
                  <a:pt x="340" y="98"/>
                </a:cubicBezTo>
                <a:cubicBezTo>
                  <a:pt x="343" y="114"/>
                  <a:pt x="353" y="129"/>
                  <a:pt x="369" y="137"/>
                </a:cubicBezTo>
                <a:cubicBezTo>
                  <a:pt x="387" y="146"/>
                  <a:pt x="409" y="147"/>
                  <a:pt x="428" y="147"/>
                </a:cubicBezTo>
                <a:cubicBezTo>
                  <a:pt x="451" y="147"/>
                  <a:pt x="475" y="145"/>
                  <a:pt x="498" y="143"/>
                </a:cubicBezTo>
                <a:cubicBezTo>
                  <a:pt x="511" y="142"/>
                  <a:pt x="525" y="141"/>
                  <a:pt x="539" y="140"/>
                </a:cubicBezTo>
                <a:cubicBezTo>
                  <a:pt x="566" y="139"/>
                  <a:pt x="593" y="138"/>
                  <a:pt x="620" y="139"/>
                </a:cubicBezTo>
                <a:cubicBezTo>
                  <a:pt x="708" y="144"/>
                  <a:pt x="723" y="168"/>
                  <a:pt x="725" y="179"/>
                </a:cubicBezTo>
                <a:cubicBezTo>
                  <a:pt x="726" y="183"/>
                  <a:pt x="725" y="187"/>
                  <a:pt x="721" y="192"/>
                </a:cubicBezTo>
                <a:cubicBezTo>
                  <a:pt x="706" y="216"/>
                  <a:pt x="648" y="239"/>
                  <a:pt x="566" y="255"/>
                </a:cubicBezTo>
                <a:cubicBezTo>
                  <a:pt x="487" y="271"/>
                  <a:pt x="429" y="270"/>
                  <a:pt x="393" y="253"/>
                </a:cubicBezTo>
                <a:cubicBezTo>
                  <a:pt x="394" y="253"/>
                  <a:pt x="394" y="253"/>
                  <a:pt x="394" y="253"/>
                </a:cubicBezTo>
                <a:cubicBezTo>
                  <a:pt x="401" y="251"/>
                  <a:pt x="407" y="247"/>
                  <a:pt x="409" y="240"/>
                </a:cubicBezTo>
                <a:cubicBezTo>
                  <a:pt x="414" y="231"/>
                  <a:pt x="412" y="217"/>
                  <a:pt x="406" y="208"/>
                </a:cubicBezTo>
                <a:cubicBezTo>
                  <a:pt x="398" y="196"/>
                  <a:pt x="385" y="194"/>
                  <a:pt x="379" y="194"/>
                </a:cubicBezTo>
                <a:cubicBezTo>
                  <a:pt x="379" y="190"/>
                  <a:pt x="379" y="186"/>
                  <a:pt x="378" y="183"/>
                </a:cubicBezTo>
                <a:cubicBezTo>
                  <a:pt x="383" y="175"/>
                  <a:pt x="382" y="166"/>
                  <a:pt x="375" y="158"/>
                </a:cubicBezTo>
                <a:cubicBezTo>
                  <a:pt x="367" y="149"/>
                  <a:pt x="352" y="142"/>
                  <a:pt x="342" y="146"/>
                </a:cubicBezTo>
                <a:cubicBezTo>
                  <a:pt x="339" y="140"/>
                  <a:pt x="331" y="126"/>
                  <a:pt x="313" y="126"/>
                </a:cubicBezTo>
                <a:cubicBezTo>
                  <a:pt x="311" y="121"/>
                  <a:pt x="303" y="104"/>
                  <a:pt x="287" y="103"/>
                </a:cubicBezTo>
                <a:cubicBezTo>
                  <a:pt x="273" y="101"/>
                  <a:pt x="264" y="111"/>
                  <a:pt x="261" y="116"/>
                </a:cubicBezTo>
                <a:cubicBezTo>
                  <a:pt x="252" y="112"/>
                  <a:pt x="234" y="109"/>
                  <a:pt x="225" y="123"/>
                </a:cubicBezTo>
                <a:cubicBezTo>
                  <a:pt x="224" y="125"/>
                  <a:pt x="224" y="125"/>
                  <a:pt x="224" y="125"/>
                </a:cubicBezTo>
                <a:cubicBezTo>
                  <a:pt x="219" y="134"/>
                  <a:pt x="216" y="138"/>
                  <a:pt x="209" y="140"/>
                </a:cubicBezTo>
                <a:cubicBezTo>
                  <a:pt x="202" y="142"/>
                  <a:pt x="202" y="147"/>
                  <a:pt x="202" y="151"/>
                </a:cubicBezTo>
                <a:cubicBezTo>
                  <a:pt x="202" y="154"/>
                  <a:pt x="202" y="155"/>
                  <a:pt x="201" y="156"/>
                </a:cubicBezTo>
                <a:cubicBezTo>
                  <a:pt x="198" y="159"/>
                  <a:pt x="188" y="166"/>
                  <a:pt x="169" y="166"/>
                </a:cubicBezTo>
                <a:cubicBezTo>
                  <a:pt x="151" y="166"/>
                  <a:pt x="145" y="172"/>
                  <a:pt x="141" y="185"/>
                </a:cubicBezTo>
                <a:cubicBezTo>
                  <a:pt x="141" y="185"/>
                  <a:pt x="141" y="185"/>
                  <a:pt x="141" y="185"/>
                </a:cubicBezTo>
                <a:cubicBezTo>
                  <a:pt x="127" y="181"/>
                  <a:pt x="110" y="178"/>
                  <a:pt x="101" y="185"/>
                </a:cubicBezTo>
                <a:cubicBezTo>
                  <a:pt x="98" y="187"/>
                  <a:pt x="97" y="189"/>
                  <a:pt x="96" y="193"/>
                </a:cubicBezTo>
                <a:cubicBezTo>
                  <a:pt x="89" y="193"/>
                  <a:pt x="76" y="195"/>
                  <a:pt x="70" y="197"/>
                </a:cubicBezTo>
                <a:cubicBezTo>
                  <a:pt x="64" y="199"/>
                  <a:pt x="51" y="207"/>
                  <a:pt x="50" y="216"/>
                </a:cubicBezTo>
                <a:cubicBezTo>
                  <a:pt x="50" y="218"/>
                  <a:pt x="51" y="223"/>
                  <a:pt x="56" y="226"/>
                </a:cubicBezTo>
                <a:cubicBezTo>
                  <a:pt x="57" y="227"/>
                  <a:pt x="58" y="227"/>
                  <a:pt x="58" y="227"/>
                </a:cubicBezTo>
                <a:cubicBezTo>
                  <a:pt x="55" y="228"/>
                  <a:pt x="48" y="229"/>
                  <a:pt x="45" y="229"/>
                </a:cubicBezTo>
                <a:cubicBezTo>
                  <a:pt x="44" y="229"/>
                  <a:pt x="42" y="229"/>
                  <a:pt x="41" y="229"/>
                </a:cubicBezTo>
                <a:cubicBezTo>
                  <a:pt x="18" y="232"/>
                  <a:pt x="0" y="242"/>
                  <a:pt x="0" y="251"/>
                </a:cubicBezTo>
                <a:cubicBezTo>
                  <a:pt x="0" y="261"/>
                  <a:pt x="11" y="264"/>
                  <a:pt x="19" y="265"/>
                </a:cubicBezTo>
                <a:cubicBezTo>
                  <a:pt x="22" y="266"/>
                  <a:pt x="24" y="266"/>
                  <a:pt x="26" y="267"/>
                </a:cubicBezTo>
                <a:cubicBezTo>
                  <a:pt x="26" y="267"/>
                  <a:pt x="27" y="267"/>
                  <a:pt x="27" y="267"/>
                </a:cubicBezTo>
                <a:cubicBezTo>
                  <a:pt x="26" y="268"/>
                  <a:pt x="23" y="270"/>
                  <a:pt x="18" y="271"/>
                </a:cubicBezTo>
                <a:cubicBezTo>
                  <a:pt x="11" y="273"/>
                  <a:pt x="4" y="278"/>
                  <a:pt x="5" y="283"/>
                </a:cubicBezTo>
                <a:cubicBezTo>
                  <a:pt x="5" y="286"/>
                  <a:pt x="7" y="289"/>
                  <a:pt x="15" y="289"/>
                </a:cubicBezTo>
                <a:cubicBezTo>
                  <a:pt x="20" y="289"/>
                  <a:pt x="27" y="288"/>
                  <a:pt x="36" y="287"/>
                </a:cubicBezTo>
                <a:cubicBezTo>
                  <a:pt x="44" y="286"/>
                  <a:pt x="59" y="284"/>
                  <a:pt x="61" y="286"/>
                </a:cubicBezTo>
                <a:cubicBezTo>
                  <a:pt x="61" y="290"/>
                  <a:pt x="62" y="294"/>
                  <a:pt x="65" y="297"/>
                </a:cubicBezTo>
                <a:cubicBezTo>
                  <a:pt x="70" y="300"/>
                  <a:pt x="77" y="301"/>
                  <a:pt x="85" y="299"/>
                </a:cubicBezTo>
                <a:cubicBezTo>
                  <a:pt x="95" y="296"/>
                  <a:pt x="102" y="299"/>
                  <a:pt x="108" y="309"/>
                </a:cubicBezTo>
                <a:cubicBezTo>
                  <a:pt x="114" y="319"/>
                  <a:pt x="126" y="317"/>
                  <a:pt x="138" y="314"/>
                </a:cubicBezTo>
                <a:cubicBezTo>
                  <a:pt x="142" y="313"/>
                  <a:pt x="142" y="313"/>
                  <a:pt x="142" y="313"/>
                </a:cubicBezTo>
                <a:cubicBezTo>
                  <a:pt x="149" y="312"/>
                  <a:pt x="152" y="314"/>
                  <a:pt x="155" y="316"/>
                </a:cubicBezTo>
                <a:cubicBezTo>
                  <a:pt x="157" y="317"/>
                  <a:pt x="159" y="319"/>
                  <a:pt x="163" y="319"/>
                </a:cubicBezTo>
                <a:cubicBezTo>
                  <a:pt x="166" y="320"/>
                  <a:pt x="168" y="320"/>
                  <a:pt x="170" y="320"/>
                </a:cubicBezTo>
                <a:cubicBezTo>
                  <a:pt x="167" y="328"/>
                  <a:pt x="168" y="338"/>
                  <a:pt x="173" y="345"/>
                </a:cubicBezTo>
                <a:cubicBezTo>
                  <a:pt x="176" y="351"/>
                  <a:pt x="185" y="361"/>
                  <a:pt x="205" y="359"/>
                </a:cubicBezTo>
                <a:cubicBezTo>
                  <a:pt x="206" y="363"/>
                  <a:pt x="208" y="369"/>
                  <a:pt x="214" y="373"/>
                </a:cubicBezTo>
                <a:cubicBezTo>
                  <a:pt x="220" y="377"/>
                  <a:pt x="229" y="377"/>
                  <a:pt x="239" y="374"/>
                </a:cubicBezTo>
                <a:cubicBezTo>
                  <a:pt x="242" y="377"/>
                  <a:pt x="251" y="384"/>
                  <a:pt x="265" y="379"/>
                </a:cubicBezTo>
                <a:cubicBezTo>
                  <a:pt x="273" y="383"/>
                  <a:pt x="289" y="386"/>
                  <a:pt x="298" y="373"/>
                </a:cubicBezTo>
                <a:cubicBezTo>
                  <a:pt x="305" y="364"/>
                  <a:pt x="306" y="353"/>
                  <a:pt x="301" y="345"/>
                </a:cubicBezTo>
                <a:cubicBezTo>
                  <a:pt x="297" y="338"/>
                  <a:pt x="291" y="335"/>
                  <a:pt x="283" y="336"/>
                </a:cubicBezTo>
                <a:cubicBezTo>
                  <a:pt x="284" y="333"/>
                  <a:pt x="284" y="329"/>
                  <a:pt x="283" y="326"/>
                </a:cubicBezTo>
                <a:cubicBezTo>
                  <a:pt x="286" y="325"/>
                  <a:pt x="289" y="324"/>
                  <a:pt x="293" y="321"/>
                </a:cubicBezTo>
                <a:cubicBezTo>
                  <a:pt x="296" y="325"/>
                  <a:pt x="306" y="332"/>
                  <a:pt x="323" y="328"/>
                </a:cubicBezTo>
                <a:cubicBezTo>
                  <a:pt x="323" y="328"/>
                  <a:pt x="323" y="329"/>
                  <a:pt x="324" y="329"/>
                </a:cubicBezTo>
                <a:cubicBezTo>
                  <a:pt x="328" y="335"/>
                  <a:pt x="341" y="337"/>
                  <a:pt x="362" y="336"/>
                </a:cubicBezTo>
                <a:cubicBezTo>
                  <a:pt x="372" y="336"/>
                  <a:pt x="372" y="336"/>
                  <a:pt x="372" y="336"/>
                </a:cubicBezTo>
                <a:cubicBezTo>
                  <a:pt x="412" y="335"/>
                  <a:pt x="472" y="333"/>
                  <a:pt x="597" y="306"/>
                </a:cubicBezTo>
                <a:cubicBezTo>
                  <a:pt x="710" y="281"/>
                  <a:pt x="787" y="237"/>
                  <a:pt x="799" y="192"/>
                </a:cubicBezTo>
                <a:cubicBezTo>
                  <a:pt x="804" y="175"/>
                  <a:pt x="798" y="158"/>
                  <a:pt x="782" y="143"/>
                </a:cubicBezTo>
                <a:close/>
                <a:moveTo>
                  <a:pt x="642" y="63"/>
                </a:moveTo>
                <a:cubicBezTo>
                  <a:pt x="636" y="75"/>
                  <a:pt x="622" y="82"/>
                  <a:pt x="607" y="82"/>
                </a:cubicBezTo>
                <a:cubicBezTo>
                  <a:pt x="579" y="82"/>
                  <a:pt x="567" y="66"/>
                  <a:pt x="566" y="65"/>
                </a:cubicBezTo>
                <a:cubicBezTo>
                  <a:pt x="566" y="64"/>
                  <a:pt x="566" y="64"/>
                  <a:pt x="566" y="64"/>
                </a:cubicBezTo>
                <a:cubicBezTo>
                  <a:pt x="566" y="64"/>
                  <a:pt x="564" y="64"/>
                  <a:pt x="564" y="64"/>
                </a:cubicBezTo>
                <a:cubicBezTo>
                  <a:pt x="550" y="64"/>
                  <a:pt x="547" y="51"/>
                  <a:pt x="547" y="50"/>
                </a:cubicBezTo>
                <a:cubicBezTo>
                  <a:pt x="546" y="49"/>
                  <a:pt x="546" y="49"/>
                  <a:pt x="546" y="49"/>
                </a:cubicBezTo>
                <a:cubicBezTo>
                  <a:pt x="546" y="49"/>
                  <a:pt x="545" y="49"/>
                  <a:pt x="545" y="49"/>
                </a:cubicBezTo>
                <a:cubicBezTo>
                  <a:pt x="532" y="45"/>
                  <a:pt x="533" y="33"/>
                  <a:pt x="533" y="33"/>
                </a:cubicBezTo>
                <a:cubicBezTo>
                  <a:pt x="533" y="28"/>
                  <a:pt x="533" y="28"/>
                  <a:pt x="533" y="28"/>
                </a:cubicBezTo>
                <a:cubicBezTo>
                  <a:pt x="533" y="28"/>
                  <a:pt x="529" y="30"/>
                  <a:pt x="529" y="30"/>
                </a:cubicBezTo>
                <a:cubicBezTo>
                  <a:pt x="523" y="34"/>
                  <a:pt x="517" y="31"/>
                  <a:pt x="507" y="28"/>
                </a:cubicBezTo>
                <a:cubicBezTo>
                  <a:pt x="503" y="27"/>
                  <a:pt x="499" y="26"/>
                  <a:pt x="494" y="25"/>
                </a:cubicBezTo>
                <a:cubicBezTo>
                  <a:pt x="490" y="24"/>
                  <a:pt x="487" y="23"/>
                  <a:pt x="483" y="23"/>
                </a:cubicBezTo>
                <a:cubicBezTo>
                  <a:pt x="492" y="22"/>
                  <a:pt x="500" y="21"/>
                  <a:pt x="504" y="21"/>
                </a:cubicBezTo>
                <a:cubicBezTo>
                  <a:pt x="522" y="21"/>
                  <a:pt x="540" y="27"/>
                  <a:pt x="550" y="36"/>
                </a:cubicBezTo>
                <a:cubicBezTo>
                  <a:pt x="554" y="39"/>
                  <a:pt x="558" y="43"/>
                  <a:pt x="562" y="47"/>
                </a:cubicBezTo>
                <a:cubicBezTo>
                  <a:pt x="576" y="61"/>
                  <a:pt x="591" y="76"/>
                  <a:pt x="614" y="74"/>
                </a:cubicBezTo>
                <a:cubicBezTo>
                  <a:pt x="627" y="74"/>
                  <a:pt x="638" y="66"/>
                  <a:pt x="643" y="55"/>
                </a:cubicBezTo>
                <a:cubicBezTo>
                  <a:pt x="644" y="53"/>
                  <a:pt x="644" y="51"/>
                  <a:pt x="645" y="49"/>
                </a:cubicBezTo>
                <a:cubicBezTo>
                  <a:pt x="645" y="53"/>
                  <a:pt x="645" y="58"/>
                  <a:pt x="642" y="63"/>
                </a:cubicBezTo>
                <a:close/>
                <a:moveTo>
                  <a:pt x="372" y="132"/>
                </a:moveTo>
                <a:cubicBezTo>
                  <a:pt x="357" y="125"/>
                  <a:pt x="347" y="112"/>
                  <a:pt x="345" y="97"/>
                </a:cubicBezTo>
                <a:cubicBezTo>
                  <a:pt x="342" y="81"/>
                  <a:pt x="349" y="64"/>
                  <a:pt x="362" y="51"/>
                </a:cubicBezTo>
                <a:cubicBezTo>
                  <a:pt x="378" y="35"/>
                  <a:pt x="402" y="23"/>
                  <a:pt x="432" y="16"/>
                </a:cubicBezTo>
                <a:cubicBezTo>
                  <a:pt x="434" y="15"/>
                  <a:pt x="436" y="15"/>
                  <a:pt x="438" y="14"/>
                </a:cubicBezTo>
                <a:cubicBezTo>
                  <a:pt x="433" y="16"/>
                  <a:pt x="429" y="18"/>
                  <a:pt x="424" y="19"/>
                </a:cubicBezTo>
                <a:cubicBezTo>
                  <a:pt x="377" y="39"/>
                  <a:pt x="360" y="70"/>
                  <a:pt x="360" y="92"/>
                </a:cubicBezTo>
                <a:cubicBezTo>
                  <a:pt x="360" y="116"/>
                  <a:pt x="376" y="130"/>
                  <a:pt x="410" y="138"/>
                </a:cubicBezTo>
                <a:cubicBezTo>
                  <a:pt x="420" y="140"/>
                  <a:pt x="431" y="141"/>
                  <a:pt x="443" y="142"/>
                </a:cubicBezTo>
                <a:cubicBezTo>
                  <a:pt x="419" y="142"/>
                  <a:pt x="391" y="143"/>
                  <a:pt x="372" y="132"/>
                </a:cubicBezTo>
                <a:close/>
                <a:moveTo>
                  <a:pt x="540" y="135"/>
                </a:moveTo>
                <a:cubicBezTo>
                  <a:pt x="519" y="136"/>
                  <a:pt x="519" y="136"/>
                  <a:pt x="519" y="136"/>
                </a:cubicBezTo>
                <a:cubicBezTo>
                  <a:pt x="482" y="137"/>
                  <a:pt x="441" y="139"/>
                  <a:pt x="411" y="133"/>
                </a:cubicBezTo>
                <a:cubicBezTo>
                  <a:pt x="370" y="124"/>
                  <a:pt x="365" y="106"/>
                  <a:pt x="365" y="92"/>
                </a:cubicBezTo>
                <a:cubicBezTo>
                  <a:pt x="365" y="72"/>
                  <a:pt x="382" y="45"/>
                  <a:pt x="426" y="24"/>
                </a:cubicBezTo>
                <a:cubicBezTo>
                  <a:pt x="465" y="6"/>
                  <a:pt x="514" y="1"/>
                  <a:pt x="554" y="19"/>
                </a:cubicBezTo>
                <a:cubicBezTo>
                  <a:pt x="564" y="24"/>
                  <a:pt x="574" y="29"/>
                  <a:pt x="582" y="37"/>
                </a:cubicBezTo>
                <a:cubicBezTo>
                  <a:pt x="586" y="41"/>
                  <a:pt x="591" y="45"/>
                  <a:pt x="595" y="48"/>
                </a:cubicBezTo>
                <a:cubicBezTo>
                  <a:pt x="600" y="51"/>
                  <a:pt x="607" y="52"/>
                  <a:pt x="612" y="49"/>
                </a:cubicBezTo>
                <a:cubicBezTo>
                  <a:pt x="618" y="47"/>
                  <a:pt x="621" y="42"/>
                  <a:pt x="623" y="36"/>
                </a:cubicBezTo>
                <a:cubicBezTo>
                  <a:pt x="623" y="31"/>
                  <a:pt x="623" y="27"/>
                  <a:pt x="620" y="24"/>
                </a:cubicBezTo>
                <a:cubicBezTo>
                  <a:pt x="620" y="24"/>
                  <a:pt x="620" y="23"/>
                  <a:pt x="619" y="23"/>
                </a:cubicBezTo>
                <a:cubicBezTo>
                  <a:pt x="625" y="24"/>
                  <a:pt x="632" y="27"/>
                  <a:pt x="637" y="33"/>
                </a:cubicBezTo>
                <a:cubicBezTo>
                  <a:pt x="641" y="38"/>
                  <a:pt x="641" y="45"/>
                  <a:pt x="638" y="53"/>
                </a:cubicBezTo>
                <a:cubicBezTo>
                  <a:pt x="634" y="63"/>
                  <a:pt x="625" y="69"/>
                  <a:pt x="614" y="69"/>
                </a:cubicBezTo>
                <a:cubicBezTo>
                  <a:pt x="593" y="70"/>
                  <a:pt x="580" y="57"/>
                  <a:pt x="565" y="43"/>
                </a:cubicBezTo>
                <a:cubicBezTo>
                  <a:pt x="562" y="40"/>
                  <a:pt x="558" y="36"/>
                  <a:pt x="553" y="32"/>
                </a:cubicBezTo>
                <a:cubicBezTo>
                  <a:pt x="542" y="22"/>
                  <a:pt x="523" y="16"/>
                  <a:pt x="504" y="16"/>
                </a:cubicBezTo>
                <a:cubicBezTo>
                  <a:pt x="474" y="16"/>
                  <a:pt x="444" y="24"/>
                  <a:pt x="417" y="38"/>
                </a:cubicBezTo>
                <a:cubicBezTo>
                  <a:pt x="401" y="47"/>
                  <a:pt x="382" y="64"/>
                  <a:pt x="379" y="82"/>
                </a:cubicBezTo>
                <a:cubicBezTo>
                  <a:pt x="377" y="92"/>
                  <a:pt x="379" y="101"/>
                  <a:pt x="385" y="108"/>
                </a:cubicBezTo>
                <a:cubicBezTo>
                  <a:pt x="402" y="128"/>
                  <a:pt x="447" y="135"/>
                  <a:pt x="523" y="130"/>
                </a:cubicBezTo>
                <a:cubicBezTo>
                  <a:pt x="609" y="124"/>
                  <a:pt x="743" y="130"/>
                  <a:pt x="757" y="173"/>
                </a:cubicBezTo>
                <a:cubicBezTo>
                  <a:pt x="759" y="180"/>
                  <a:pt x="758" y="188"/>
                  <a:pt x="754" y="195"/>
                </a:cubicBezTo>
                <a:cubicBezTo>
                  <a:pt x="740" y="221"/>
                  <a:pt x="690" y="246"/>
                  <a:pt x="617" y="265"/>
                </a:cubicBezTo>
                <a:cubicBezTo>
                  <a:pt x="582" y="275"/>
                  <a:pt x="542" y="285"/>
                  <a:pt x="507" y="288"/>
                </a:cubicBezTo>
                <a:cubicBezTo>
                  <a:pt x="495" y="289"/>
                  <a:pt x="495" y="289"/>
                  <a:pt x="495" y="289"/>
                </a:cubicBezTo>
                <a:cubicBezTo>
                  <a:pt x="452" y="294"/>
                  <a:pt x="419" y="297"/>
                  <a:pt x="376" y="289"/>
                </a:cubicBezTo>
                <a:cubicBezTo>
                  <a:pt x="361" y="287"/>
                  <a:pt x="309" y="275"/>
                  <a:pt x="286" y="249"/>
                </a:cubicBezTo>
                <a:cubicBezTo>
                  <a:pt x="287" y="249"/>
                  <a:pt x="287" y="248"/>
                  <a:pt x="287" y="248"/>
                </a:cubicBezTo>
                <a:cubicBezTo>
                  <a:pt x="289" y="242"/>
                  <a:pt x="287" y="236"/>
                  <a:pt x="282" y="232"/>
                </a:cubicBezTo>
                <a:cubicBezTo>
                  <a:pt x="278" y="229"/>
                  <a:pt x="273" y="228"/>
                  <a:pt x="269" y="230"/>
                </a:cubicBezTo>
                <a:cubicBezTo>
                  <a:pt x="265" y="232"/>
                  <a:pt x="262" y="236"/>
                  <a:pt x="261" y="241"/>
                </a:cubicBezTo>
                <a:cubicBezTo>
                  <a:pt x="261" y="242"/>
                  <a:pt x="262" y="243"/>
                  <a:pt x="263" y="243"/>
                </a:cubicBezTo>
                <a:cubicBezTo>
                  <a:pt x="265" y="244"/>
                  <a:pt x="266" y="243"/>
                  <a:pt x="266" y="241"/>
                </a:cubicBezTo>
                <a:cubicBezTo>
                  <a:pt x="266" y="238"/>
                  <a:pt x="268" y="236"/>
                  <a:pt x="271" y="235"/>
                </a:cubicBezTo>
                <a:cubicBezTo>
                  <a:pt x="273" y="234"/>
                  <a:pt x="276" y="234"/>
                  <a:pt x="279" y="236"/>
                </a:cubicBezTo>
                <a:cubicBezTo>
                  <a:pt x="283" y="239"/>
                  <a:pt x="284" y="242"/>
                  <a:pt x="282" y="246"/>
                </a:cubicBezTo>
                <a:cubicBezTo>
                  <a:pt x="280" y="252"/>
                  <a:pt x="272" y="258"/>
                  <a:pt x="265" y="257"/>
                </a:cubicBezTo>
                <a:cubicBezTo>
                  <a:pt x="257" y="256"/>
                  <a:pt x="249" y="252"/>
                  <a:pt x="246" y="245"/>
                </a:cubicBezTo>
                <a:cubicBezTo>
                  <a:pt x="242" y="239"/>
                  <a:pt x="243" y="232"/>
                  <a:pt x="246" y="226"/>
                </a:cubicBezTo>
                <a:cubicBezTo>
                  <a:pt x="250" y="219"/>
                  <a:pt x="255" y="216"/>
                  <a:pt x="260" y="216"/>
                </a:cubicBezTo>
                <a:cubicBezTo>
                  <a:pt x="267" y="214"/>
                  <a:pt x="276" y="216"/>
                  <a:pt x="283" y="222"/>
                </a:cubicBezTo>
                <a:cubicBezTo>
                  <a:pt x="284" y="223"/>
                  <a:pt x="284" y="223"/>
                  <a:pt x="284" y="223"/>
                </a:cubicBezTo>
                <a:cubicBezTo>
                  <a:pt x="286" y="222"/>
                  <a:pt x="286" y="222"/>
                  <a:pt x="286" y="222"/>
                </a:cubicBezTo>
                <a:cubicBezTo>
                  <a:pt x="287" y="222"/>
                  <a:pt x="306" y="210"/>
                  <a:pt x="317" y="224"/>
                </a:cubicBezTo>
                <a:cubicBezTo>
                  <a:pt x="318" y="226"/>
                  <a:pt x="318" y="226"/>
                  <a:pt x="318" y="226"/>
                </a:cubicBezTo>
                <a:cubicBezTo>
                  <a:pt x="320" y="225"/>
                  <a:pt x="320" y="225"/>
                  <a:pt x="320" y="225"/>
                </a:cubicBezTo>
                <a:cubicBezTo>
                  <a:pt x="320" y="225"/>
                  <a:pt x="334" y="218"/>
                  <a:pt x="339" y="226"/>
                </a:cubicBezTo>
                <a:cubicBezTo>
                  <a:pt x="341" y="231"/>
                  <a:pt x="341" y="231"/>
                  <a:pt x="341" y="231"/>
                </a:cubicBezTo>
                <a:cubicBezTo>
                  <a:pt x="352" y="250"/>
                  <a:pt x="364" y="274"/>
                  <a:pt x="397" y="280"/>
                </a:cubicBezTo>
                <a:cubicBezTo>
                  <a:pt x="428" y="286"/>
                  <a:pt x="472" y="286"/>
                  <a:pt x="508" y="281"/>
                </a:cubicBezTo>
                <a:cubicBezTo>
                  <a:pt x="615" y="265"/>
                  <a:pt x="692" y="240"/>
                  <a:pt x="729" y="210"/>
                </a:cubicBezTo>
                <a:cubicBezTo>
                  <a:pt x="747" y="196"/>
                  <a:pt x="748" y="183"/>
                  <a:pt x="746" y="175"/>
                </a:cubicBezTo>
                <a:cubicBezTo>
                  <a:pt x="741" y="157"/>
                  <a:pt x="715" y="143"/>
                  <a:pt x="679" y="138"/>
                </a:cubicBezTo>
                <a:cubicBezTo>
                  <a:pt x="661" y="135"/>
                  <a:pt x="643" y="135"/>
                  <a:pt x="625" y="134"/>
                </a:cubicBezTo>
                <a:cubicBezTo>
                  <a:pt x="604" y="134"/>
                  <a:pt x="582" y="134"/>
                  <a:pt x="560" y="135"/>
                </a:cubicBezTo>
                <a:cubicBezTo>
                  <a:pt x="554" y="135"/>
                  <a:pt x="547" y="135"/>
                  <a:pt x="540" y="135"/>
                </a:cubicBezTo>
                <a:close/>
                <a:moveTo>
                  <a:pt x="401" y="210"/>
                </a:moveTo>
                <a:cubicBezTo>
                  <a:pt x="407" y="219"/>
                  <a:pt x="408" y="230"/>
                  <a:pt x="405" y="238"/>
                </a:cubicBezTo>
                <a:cubicBezTo>
                  <a:pt x="403" y="244"/>
                  <a:pt x="399" y="247"/>
                  <a:pt x="393" y="248"/>
                </a:cubicBezTo>
                <a:cubicBezTo>
                  <a:pt x="384" y="249"/>
                  <a:pt x="377" y="244"/>
                  <a:pt x="375" y="238"/>
                </a:cubicBezTo>
                <a:cubicBezTo>
                  <a:pt x="373" y="233"/>
                  <a:pt x="376" y="228"/>
                  <a:pt x="383" y="225"/>
                </a:cubicBezTo>
                <a:cubicBezTo>
                  <a:pt x="385" y="223"/>
                  <a:pt x="389" y="225"/>
                  <a:pt x="390" y="228"/>
                </a:cubicBezTo>
                <a:cubicBezTo>
                  <a:pt x="391" y="229"/>
                  <a:pt x="392" y="231"/>
                  <a:pt x="389" y="233"/>
                </a:cubicBezTo>
                <a:cubicBezTo>
                  <a:pt x="388" y="234"/>
                  <a:pt x="388" y="235"/>
                  <a:pt x="389" y="237"/>
                </a:cubicBezTo>
                <a:cubicBezTo>
                  <a:pt x="390" y="238"/>
                  <a:pt x="391" y="238"/>
                  <a:pt x="392" y="237"/>
                </a:cubicBezTo>
                <a:cubicBezTo>
                  <a:pt x="396" y="234"/>
                  <a:pt x="397" y="230"/>
                  <a:pt x="395" y="225"/>
                </a:cubicBezTo>
                <a:cubicBezTo>
                  <a:pt x="392" y="221"/>
                  <a:pt x="386" y="218"/>
                  <a:pt x="380" y="220"/>
                </a:cubicBezTo>
                <a:cubicBezTo>
                  <a:pt x="370" y="225"/>
                  <a:pt x="368" y="233"/>
                  <a:pt x="370" y="240"/>
                </a:cubicBezTo>
                <a:cubicBezTo>
                  <a:pt x="372" y="245"/>
                  <a:pt x="376" y="250"/>
                  <a:pt x="383" y="252"/>
                </a:cubicBezTo>
                <a:cubicBezTo>
                  <a:pt x="382" y="252"/>
                  <a:pt x="382" y="252"/>
                  <a:pt x="382" y="252"/>
                </a:cubicBezTo>
                <a:cubicBezTo>
                  <a:pt x="418" y="275"/>
                  <a:pt x="480" y="277"/>
                  <a:pt x="567" y="260"/>
                </a:cubicBezTo>
                <a:cubicBezTo>
                  <a:pt x="651" y="244"/>
                  <a:pt x="709" y="220"/>
                  <a:pt x="726" y="195"/>
                </a:cubicBezTo>
                <a:cubicBezTo>
                  <a:pt x="730" y="189"/>
                  <a:pt x="731" y="183"/>
                  <a:pt x="730" y="178"/>
                </a:cubicBezTo>
                <a:cubicBezTo>
                  <a:pt x="728" y="168"/>
                  <a:pt x="719" y="154"/>
                  <a:pt x="688" y="144"/>
                </a:cubicBezTo>
                <a:cubicBezTo>
                  <a:pt x="717" y="150"/>
                  <a:pt x="737" y="163"/>
                  <a:pt x="741" y="177"/>
                </a:cubicBezTo>
                <a:cubicBezTo>
                  <a:pt x="744" y="186"/>
                  <a:pt x="738" y="197"/>
                  <a:pt x="726" y="207"/>
                </a:cubicBezTo>
                <a:cubicBezTo>
                  <a:pt x="689" y="236"/>
                  <a:pt x="614" y="260"/>
                  <a:pt x="507" y="276"/>
                </a:cubicBezTo>
                <a:cubicBezTo>
                  <a:pt x="472" y="281"/>
                  <a:pt x="428" y="280"/>
                  <a:pt x="398" y="275"/>
                </a:cubicBezTo>
                <a:cubicBezTo>
                  <a:pt x="367" y="269"/>
                  <a:pt x="356" y="248"/>
                  <a:pt x="346" y="228"/>
                </a:cubicBezTo>
                <a:cubicBezTo>
                  <a:pt x="343" y="224"/>
                  <a:pt x="343" y="224"/>
                  <a:pt x="343" y="224"/>
                </a:cubicBezTo>
                <a:cubicBezTo>
                  <a:pt x="338" y="214"/>
                  <a:pt x="327" y="216"/>
                  <a:pt x="320" y="219"/>
                </a:cubicBezTo>
                <a:cubicBezTo>
                  <a:pt x="309" y="208"/>
                  <a:pt x="293" y="212"/>
                  <a:pt x="285" y="217"/>
                </a:cubicBezTo>
                <a:cubicBezTo>
                  <a:pt x="277" y="211"/>
                  <a:pt x="267" y="209"/>
                  <a:pt x="259" y="211"/>
                </a:cubicBezTo>
                <a:cubicBezTo>
                  <a:pt x="251" y="212"/>
                  <a:pt x="245" y="217"/>
                  <a:pt x="242" y="223"/>
                </a:cubicBezTo>
                <a:cubicBezTo>
                  <a:pt x="237" y="231"/>
                  <a:pt x="237" y="240"/>
                  <a:pt x="241" y="247"/>
                </a:cubicBezTo>
                <a:cubicBezTo>
                  <a:pt x="246" y="255"/>
                  <a:pt x="255" y="261"/>
                  <a:pt x="265" y="262"/>
                </a:cubicBezTo>
                <a:cubicBezTo>
                  <a:pt x="271" y="263"/>
                  <a:pt x="279" y="259"/>
                  <a:pt x="283" y="254"/>
                </a:cubicBezTo>
                <a:cubicBezTo>
                  <a:pt x="307" y="279"/>
                  <a:pt x="355" y="291"/>
                  <a:pt x="376" y="294"/>
                </a:cubicBezTo>
                <a:cubicBezTo>
                  <a:pt x="419" y="303"/>
                  <a:pt x="454" y="299"/>
                  <a:pt x="495" y="295"/>
                </a:cubicBezTo>
                <a:cubicBezTo>
                  <a:pt x="508" y="293"/>
                  <a:pt x="508" y="293"/>
                  <a:pt x="508" y="293"/>
                </a:cubicBezTo>
                <a:cubicBezTo>
                  <a:pt x="543" y="290"/>
                  <a:pt x="583" y="280"/>
                  <a:pt x="618" y="270"/>
                </a:cubicBezTo>
                <a:cubicBezTo>
                  <a:pt x="693" y="251"/>
                  <a:pt x="744" y="224"/>
                  <a:pt x="759" y="198"/>
                </a:cubicBezTo>
                <a:cubicBezTo>
                  <a:pt x="764" y="189"/>
                  <a:pt x="764" y="180"/>
                  <a:pt x="762" y="171"/>
                </a:cubicBezTo>
                <a:cubicBezTo>
                  <a:pt x="746" y="122"/>
                  <a:pt x="598" y="120"/>
                  <a:pt x="523" y="125"/>
                </a:cubicBezTo>
                <a:cubicBezTo>
                  <a:pt x="450" y="130"/>
                  <a:pt x="405" y="124"/>
                  <a:pt x="389" y="105"/>
                </a:cubicBezTo>
                <a:cubicBezTo>
                  <a:pt x="384" y="99"/>
                  <a:pt x="382" y="91"/>
                  <a:pt x="384" y="83"/>
                </a:cubicBezTo>
                <a:cubicBezTo>
                  <a:pt x="387" y="67"/>
                  <a:pt x="404" y="51"/>
                  <a:pt x="419" y="43"/>
                </a:cubicBezTo>
                <a:cubicBezTo>
                  <a:pt x="417" y="44"/>
                  <a:pt x="415" y="46"/>
                  <a:pt x="414" y="47"/>
                </a:cubicBezTo>
                <a:cubicBezTo>
                  <a:pt x="400" y="59"/>
                  <a:pt x="394" y="74"/>
                  <a:pt x="396" y="87"/>
                </a:cubicBezTo>
                <a:cubicBezTo>
                  <a:pt x="398" y="98"/>
                  <a:pt x="405" y="107"/>
                  <a:pt x="418" y="112"/>
                </a:cubicBezTo>
                <a:cubicBezTo>
                  <a:pt x="443" y="122"/>
                  <a:pt x="473" y="120"/>
                  <a:pt x="499" y="120"/>
                </a:cubicBezTo>
                <a:cubicBezTo>
                  <a:pt x="525" y="119"/>
                  <a:pt x="551" y="118"/>
                  <a:pt x="576" y="118"/>
                </a:cubicBezTo>
                <a:cubicBezTo>
                  <a:pt x="701" y="116"/>
                  <a:pt x="771" y="137"/>
                  <a:pt x="775" y="177"/>
                </a:cubicBezTo>
                <a:cubicBezTo>
                  <a:pt x="778" y="208"/>
                  <a:pt x="714" y="265"/>
                  <a:pt x="565" y="293"/>
                </a:cubicBezTo>
                <a:cubicBezTo>
                  <a:pt x="466" y="312"/>
                  <a:pt x="415" y="310"/>
                  <a:pt x="414" y="310"/>
                </a:cubicBezTo>
                <a:cubicBezTo>
                  <a:pt x="340" y="312"/>
                  <a:pt x="285" y="287"/>
                  <a:pt x="250" y="268"/>
                </a:cubicBezTo>
                <a:cubicBezTo>
                  <a:pt x="223" y="253"/>
                  <a:pt x="207" y="260"/>
                  <a:pt x="190" y="268"/>
                </a:cubicBezTo>
                <a:cubicBezTo>
                  <a:pt x="191" y="265"/>
                  <a:pt x="191" y="262"/>
                  <a:pt x="191" y="260"/>
                </a:cubicBezTo>
                <a:cubicBezTo>
                  <a:pt x="189" y="254"/>
                  <a:pt x="184" y="249"/>
                  <a:pt x="179" y="247"/>
                </a:cubicBezTo>
                <a:cubicBezTo>
                  <a:pt x="174" y="246"/>
                  <a:pt x="170" y="247"/>
                  <a:pt x="167" y="250"/>
                </a:cubicBezTo>
                <a:cubicBezTo>
                  <a:pt x="166" y="251"/>
                  <a:pt x="166" y="253"/>
                  <a:pt x="167" y="254"/>
                </a:cubicBezTo>
                <a:cubicBezTo>
                  <a:pt x="168" y="255"/>
                  <a:pt x="170" y="255"/>
                  <a:pt x="171" y="254"/>
                </a:cubicBezTo>
                <a:cubicBezTo>
                  <a:pt x="173" y="251"/>
                  <a:pt x="176" y="251"/>
                  <a:pt x="177" y="252"/>
                </a:cubicBezTo>
                <a:cubicBezTo>
                  <a:pt x="181" y="253"/>
                  <a:pt x="185" y="257"/>
                  <a:pt x="186" y="261"/>
                </a:cubicBezTo>
                <a:cubicBezTo>
                  <a:pt x="186" y="264"/>
                  <a:pt x="186" y="268"/>
                  <a:pt x="181" y="273"/>
                </a:cubicBezTo>
                <a:cubicBezTo>
                  <a:pt x="175" y="278"/>
                  <a:pt x="167" y="278"/>
                  <a:pt x="160" y="275"/>
                </a:cubicBezTo>
                <a:cubicBezTo>
                  <a:pt x="154" y="271"/>
                  <a:pt x="149" y="266"/>
                  <a:pt x="150" y="260"/>
                </a:cubicBezTo>
                <a:cubicBezTo>
                  <a:pt x="150" y="249"/>
                  <a:pt x="161" y="243"/>
                  <a:pt x="161" y="243"/>
                </a:cubicBezTo>
                <a:cubicBezTo>
                  <a:pt x="167" y="240"/>
                  <a:pt x="167" y="240"/>
                  <a:pt x="167" y="240"/>
                </a:cubicBezTo>
                <a:cubicBezTo>
                  <a:pt x="160" y="238"/>
                  <a:pt x="160" y="238"/>
                  <a:pt x="160" y="238"/>
                </a:cubicBezTo>
                <a:cubicBezTo>
                  <a:pt x="159" y="238"/>
                  <a:pt x="151" y="236"/>
                  <a:pt x="152" y="226"/>
                </a:cubicBezTo>
                <a:cubicBezTo>
                  <a:pt x="154" y="213"/>
                  <a:pt x="169" y="211"/>
                  <a:pt x="169" y="211"/>
                </a:cubicBezTo>
                <a:cubicBezTo>
                  <a:pt x="171" y="211"/>
                  <a:pt x="171" y="211"/>
                  <a:pt x="171" y="211"/>
                </a:cubicBezTo>
                <a:cubicBezTo>
                  <a:pt x="172" y="209"/>
                  <a:pt x="172" y="209"/>
                  <a:pt x="172" y="209"/>
                </a:cubicBezTo>
                <a:cubicBezTo>
                  <a:pt x="173" y="197"/>
                  <a:pt x="183" y="189"/>
                  <a:pt x="195" y="190"/>
                </a:cubicBezTo>
                <a:cubicBezTo>
                  <a:pt x="196" y="192"/>
                  <a:pt x="196" y="194"/>
                  <a:pt x="197" y="196"/>
                </a:cubicBezTo>
                <a:cubicBezTo>
                  <a:pt x="201" y="207"/>
                  <a:pt x="211" y="215"/>
                  <a:pt x="223" y="217"/>
                </a:cubicBezTo>
                <a:cubicBezTo>
                  <a:pt x="233" y="219"/>
                  <a:pt x="242" y="216"/>
                  <a:pt x="248" y="208"/>
                </a:cubicBezTo>
                <a:cubicBezTo>
                  <a:pt x="253" y="201"/>
                  <a:pt x="254" y="192"/>
                  <a:pt x="251" y="186"/>
                </a:cubicBezTo>
                <a:cubicBezTo>
                  <a:pt x="247" y="180"/>
                  <a:pt x="241" y="176"/>
                  <a:pt x="234" y="176"/>
                </a:cubicBezTo>
                <a:cubicBezTo>
                  <a:pt x="228" y="176"/>
                  <a:pt x="223" y="179"/>
                  <a:pt x="221" y="184"/>
                </a:cubicBezTo>
                <a:cubicBezTo>
                  <a:pt x="220" y="185"/>
                  <a:pt x="221" y="187"/>
                  <a:pt x="222" y="188"/>
                </a:cubicBezTo>
                <a:cubicBezTo>
                  <a:pt x="223" y="188"/>
                  <a:pt x="225" y="188"/>
                  <a:pt x="225" y="186"/>
                </a:cubicBezTo>
                <a:cubicBezTo>
                  <a:pt x="227" y="183"/>
                  <a:pt x="230" y="181"/>
                  <a:pt x="235" y="181"/>
                </a:cubicBezTo>
                <a:cubicBezTo>
                  <a:pt x="239" y="181"/>
                  <a:pt x="244" y="184"/>
                  <a:pt x="246" y="188"/>
                </a:cubicBezTo>
                <a:cubicBezTo>
                  <a:pt x="249" y="193"/>
                  <a:pt x="248" y="200"/>
                  <a:pt x="244" y="205"/>
                </a:cubicBezTo>
                <a:cubicBezTo>
                  <a:pt x="239" y="211"/>
                  <a:pt x="232" y="214"/>
                  <a:pt x="224" y="212"/>
                </a:cubicBezTo>
                <a:cubicBezTo>
                  <a:pt x="213" y="210"/>
                  <a:pt x="205" y="203"/>
                  <a:pt x="202" y="194"/>
                </a:cubicBezTo>
                <a:cubicBezTo>
                  <a:pt x="199" y="187"/>
                  <a:pt x="200" y="180"/>
                  <a:pt x="204" y="175"/>
                </a:cubicBezTo>
                <a:cubicBezTo>
                  <a:pt x="213" y="163"/>
                  <a:pt x="222" y="166"/>
                  <a:pt x="222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2" y="167"/>
                  <a:pt x="223" y="167"/>
                  <a:pt x="223" y="167"/>
                </a:cubicBezTo>
                <a:cubicBezTo>
                  <a:pt x="226" y="167"/>
                  <a:pt x="226" y="167"/>
                  <a:pt x="226" y="167"/>
                </a:cubicBezTo>
                <a:cubicBezTo>
                  <a:pt x="225" y="164"/>
                  <a:pt x="225" y="164"/>
                  <a:pt x="225" y="164"/>
                </a:cubicBezTo>
                <a:cubicBezTo>
                  <a:pt x="225" y="164"/>
                  <a:pt x="224" y="156"/>
                  <a:pt x="228" y="151"/>
                </a:cubicBezTo>
                <a:cubicBezTo>
                  <a:pt x="231" y="148"/>
                  <a:pt x="235" y="147"/>
                  <a:pt x="242" y="147"/>
                </a:cubicBezTo>
                <a:cubicBezTo>
                  <a:pt x="243" y="147"/>
                  <a:pt x="243" y="147"/>
                  <a:pt x="243" y="147"/>
                </a:cubicBezTo>
                <a:cubicBezTo>
                  <a:pt x="244" y="145"/>
                  <a:pt x="244" y="145"/>
                  <a:pt x="244" y="145"/>
                </a:cubicBezTo>
                <a:cubicBezTo>
                  <a:pt x="244" y="145"/>
                  <a:pt x="247" y="138"/>
                  <a:pt x="254" y="136"/>
                </a:cubicBezTo>
                <a:cubicBezTo>
                  <a:pt x="259" y="135"/>
                  <a:pt x="265" y="136"/>
                  <a:pt x="271" y="140"/>
                </a:cubicBezTo>
                <a:cubicBezTo>
                  <a:pt x="272" y="141"/>
                  <a:pt x="272" y="141"/>
                  <a:pt x="272" y="141"/>
                </a:cubicBezTo>
                <a:cubicBezTo>
                  <a:pt x="274" y="140"/>
                  <a:pt x="274" y="140"/>
                  <a:pt x="274" y="140"/>
                </a:cubicBezTo>
                <a:cubicBezTo>
                  <a:pt x="274" y="140"/>
                  <a:pt x="283" y="138"/>
                  <a:pt x="291" y="142"/>
                </a:cubicBezTo>
                <a:cubicBezTo>
                  <a:pt x="295" y="144"/>
                  <a:pt x="298" y="148"/>
                  <a:pt x="300" y="154"/>
                </a:cubicBezTo>
                <a:cubicBezTo>
                  <a:pt x="300" y="156"/>
                  <a:pt x="300" y="156"/>
                  <a:pt x="300" y="156"/>
                </a:cubicBezTo>
                <a:cubicBezTo>
                  <a:pt x="302" y="156"/>
                  <a:pt x="302" y="156"/>
                  <a:pt x="302" y="156"/>
                </a:cubicBezTo>
                <a:cubicBezTo>
                  <a:pt x="303" y="156"/>
                  <a:pt x="316" y="156"/>
                  <a:pt x="321" y="169"/>
                </a:cubicBezTo>
                <a:cubicBezTo>
                  <a:pt x="324" y="175"/>
                  <a:pt x="323" y="182"/>
                  <a:pt x="320" y="188"/>
                </a:cubicBezTo>
                <a:cubicBezTo>
                  <a:pt x="316" y="194"/>
                  <a:pt x="310" y="199"/>
                  <a:pt x="303" y="201"/>
                </a:cubicBezTo>
                <a:cubicBezTo>
                  <a:pt x="293" y="202"/>
                  <a:pt x="285" y="200"/>
                  <a:pt x="280" y="194"/>
                </a:cubicBezTo>
                <a:cubicBezTo>
                  <a:pt x="276" y="189"/>
                  <a:pt x="274" y="183"/>
                  <a:pt x="277" y="176"/>
                </a:cubicBezTo>
                <a:cubicBezTo>
                  <a:pt x="280" y="168"/>
                  <a:pt x="286" y="166"/>
                  <a:pt x="291" y="168"/>
                </a:cubicBezTo>
                <a:cubicBezTo>
                  <a:pt x="295" y="169"/>
                  <a:pt x="298" y="172"/>
                  <a:pt x="297" y="175"/>
                </a:cubicBezTo>
                <a:cubicBezTo>
                  <a:pt x="297" y="177"/>
                  <a:pt x="298" y="178"/>
                  <a:pt x="299" y="178"/>
                </a:cubicBezTo>
                <a:cubicBezTo>
                  <a:pt x="300" y="179"/>
                  <a:pt x="302" y="178"/>
                  <a:pt x="302" y="177"/>
                </a:cubicBezTo>
                <a:cubicBezTo>
                  <a:pt x="304" y="171"/>
                  <a:pt x="299" y="165"/>
                  <a:pt x="292" y="163"/>
                </a:cubicBezTo>
                <a:cubicBezTo>
                  <a:pt x="285" y="161"/>
                  <a:pt x="276" y="163"/>
                  <a:pt x="272" y="174"/>
                </a:cubicBezTo>
                <a:cubicBezTo>
                  <a:pt x="269" y="183"/>
                  <a:pt x="271" y="191"/>
                  <a:pt x="276" y="198"/>
                </a:cubicBezTo>
                <a:cubicBezTo>
                  <a:pt x="282" y="205"/>
                  <a:pt x="293" y="208"/>
                  <a:pt x="304" y="205"/>
                </a:cubicBezTo>
                <a:cubicBezTo>
                  <a:pt x="313" y="204"/>
                  <a:pt x="320" y="198"/>
                  <a:pt x="324" y="190"/>
                </a:cubicBezTo>
                <a:cubicBezTo>
                  <a:pt x="328" y="183"/>
                  <a:pt x="329" y="174"/>
                  <a:pt x="326" y="167"/>
                </a:cubicBezTo>
                <a:cubicBezTo>
                  <a:pt x="326" y="166"/>
                  <a:pt x="325" y="166"/>
                  <a:pt x="325" y="166"/>
                </a:cubicBezTo>
                <a:cubicBezTo>
                  <a:pt x="329" y="163"/>
                  <a:pt x="335" y="162"/>
                  <a:pt x="339" y="164"/>
                </a:cubicBezTo>
                <a:cubicBezTo>
                  <a:pt x="345" y="165"/>
                  <a:pt x="348" y="168"/>
                  <a:pt x="351" y="172"/>
                </a:cubicBezTo>
                <a:cubicBezTo>
                  <a:pt x="351" y="174"/>
                  <a:pt x="351" y="174"/>
                  <a:pt x="351" y="174"/>
                </a:cubicBezTo>
                <a:cubicBezTo>
                  <a:pt x="353" y="173"/>
                  <a:pt x="353" y="173"/>
                  <a:pt x="353" y="173"/>
                </a:cubicBezTo>
                <a:cubicBezTo>
                  <a:pt x="353" y="173"/>
                  <a:pt x="365" y="173"/>
                  <a:pt x="371" y="180"/>
                </a:cubicBezTo>
                <a:cubicBezTo>
                  <a:pt x="374" y="184"/>
                  <a:pt x="375" y="189"/>
                  <a:pt x="373" y="197"/>
                </a:cubicBezTo>
                <a:cubicBezTo>
                  <a:pt x="372" y="200"/>
                  <a:pt x="372" y="200"/>
                  <a:pt x="372" y="200"/>
                </a:cubicBezTo>
                <a:cubicBezTo>
                  <a:pt x="376" y="200"/>
                  <a:pt x="376" y="200"/>
                  <a:pt x="376" y="200"/>
                </a:cubicBezTo>
                <a:cubicBezTo>
                  <a:pt x="376" y="200"/>
                  <a:pt x="393" y="198"/>
                  <a:pt x="401" y="210"/>
                </a:cubicBezTo>
                <a:close/>
                <a:moveTo>
                  <a:pt x="169" y="171"/>
                </a:moveTo>
                <a:cubicBezTo>
                  <a:pt x="189" y="171"/>
                  <a:pt x="201" y="163"/>
                  <a:pt x="204" y="160"/>
                </a:cubicBezTo>
                <a:cubicBezTo>
                  <a:pt x="208" y="158"/>
                  <a:pt x="207" y="154"/>
                  <a:pt x="207" y="151"/>
                </a:cubicBezTo>
                <a:cubicBezTo>
                  <a:pt x="207" y="147"/>
                  <a:pt x="208" y="146"/>
                  <a:pt x="210" y="145"/>
                </a:cubicBezTo>
                <a:cubicBezTo>
                  <a:pt x="219" y="142"/>
                  <a:pt x="222" y="137"/>
                  <a:pt x="228" y="12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39" y="111"/>
                  <a:pt x="261" y="121"/>
                  <a:pt x="261" y="121"/>
                </a:cubicBezTo>
                <a:cubicBezTo>
                  <a:pt x="263" y="122"/>
                  <a:pt x="263" y="122"/>
                  <a:pt x="263" y="122"/>
                </a:cubicBezTo>
                <a:cubicBezTo>
                  <a:pt x="264" y="120"/>
                  <a:pt x="264" y="120"/>
                  <a:pt x="264" y="120"/>
                </a:cubicBezTo>
                <a:cubicBezTo>
                  <a:pt x="265" y="119"/>
                  <a:pt x="272" y="106"/>
                  <a:pt x="287" y="108"/>
                </a:cubicBezTo>
                <a:cubicBezTo>
                  <a:pt x="302" y="109"/>
                  <a:pt x="309" y="129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09" y="130"/>
                  <a:pt x="309" y="130"/>
                  <a:pt x="309" y="130"/>
                </a:cubicBezTo>
                <a:cubicBezTo>
                  <a:pt x="310" y="131"/>
                  <a:pt x="310" y="131"/>
                  <a:pt x="310" y="131"/>
                </a:cubicBezTo>
                <a:cubicBezTo>
                  <a:pt x="312" y="131"/>
                  <a:pt x="312" y="131"/>
                  <a:pt x="312" y="131"/>
                </a:cubicBezTo>
                <a:cubicBezTo>
                  <a:pt x="332" y="130"/>
                  <a:pt x="338" y="149"/>
                  <a:pt x="338" y="150"/>
                </a:cubicBezTo>
                <a:cubicBezTo>
                  <a:pt x="339" y="153"/>
                  <a:pt x="339" y="153"/>
                  <a:pt x="339" y="153"/>
                </a:cubicBezTo>
                <a:cubicBezTo>
                  <a:pt x="339" y="153"/>
                  <a:pt x="341" y="151"/>
                  <a:pt x="341" y="151"/>
                </a:cubicBezTo>
                <a:cubicBezTo>
                  <a:pt x="349" y="147"/>
                  <a:pt x="364" y="153"/>
                  <a:pt x="371" y="162"/>
                </a:cubicBezTo>
                <a:cubicBezTo>
                  <a:pt x="374" y="165"/>
                  <a:pt x="378" y="171"/>
                  <a:pt x="375" y="177"/>
                </a:cubicBezTo>
                <a:cubicBezTo>
                  <a:pt x="375" y="177"/>
                  <a:pt x="375" y="177"/>
                  <a:pt x="375" y="177"/>
                </a:cubicBezTo>
                <a:cubicBezTo>
                  <a:pt x="369" y="169"/>
                  <a:pt x="358" y="168"/>
                  <a:pt x="354" y="168"/>
                </a:cubicBezTo>
                <a:cubicBezTo>
                  <a:pt x="351" y="163"/>
                  <a:pt x="347" y="160"/>
                  <a:pt x="341" y="159"/>
                </a:cubicBezTo>
                <a:cubicBezTo>
                  <a:pt x="334" y="157"/>
                  <a:pt x="328" y="158"/>
                  <a:pt x="323" y="162"/>
                </a:cubicBezTo>
                <a:cubicBezTo>
                  <a:pt x="317" y="153"/>
                  <a:pt x="308" y="151"/>
                  <a:pt x="304" y="151"/>
                </a:cubicBezTo>
                <a:cubicBezTo>
                  <a:pt x="302" y="144"/>
                  <a:pt x="298" y="140"/>
                  <a:pt x="293" y="137"/>
                </a:cubicBezTo>
                <a:cubicBezTo>
                  <a:pt x="285" y="133"/>
                  <a:pt x="276" y="135"/>
                  <a:pt x="273" y="135"/>
                </a:cubicBezTo>
                <a:cubicBezTo>
                  <a:pt x="266" y="131"/>
                  <a:pt x="259" y="130"/>
                  <a:pt x="253" y="132"/>
                </a:cubicBezTo>
                <a:cubicBezTo>
                  <a:pt x="246" y="134"/>
                  <a:pt x="242" y="139"/>
                  <a:pt x="240" y="142"/>
                </a:cubicBezTo>
                <a:cubicBezTo>
                  <a:pt x="233" y="142"/>
                  <a:pt x="228" y="144"/>
                  <a:pt x="224" y="148"/>
                </a:cubicBezTo>
                <a:cubicBezTo>
                  <a:pt x="221" y="152"/>
                  <a:pt x="220" y="158"/>
                  <a:pt x="220" y="161"/>
                </a:cubicBezTo>
                <a:cubicBezTo>
                  <a:pt x="216" y="160"/>
                  <a:pt x="208" y="162"/>
                  <a:pt x="200" y="172"/>
                </a:cubicBezTo>
                <a:cubicBezTo>
                  <a:pt x="197" y="176"/>
                  <a:pt x="195" y="180"/>
                  <a:pt x="195" y="185"/>
                </a:cubicBezTo>
                <a:cubicBezTo>
                  <a:pt x="181" y="184"/>
                  <a:pt x="169" y="193"/>
                  <a:pt x="167" y="207"/>
                </a:cubicBezTo>
                <a:cubicBezTo>
                  <a:pt x="160" y="208"/>
                  <a:pt x="149" y="213"/>
                  <a:pt x="147" y="225"/>
                </a:cubicBezTo>
                <a:cubicBezTo>
                  <a:pt x="146" y="234"/>
                  <a:pt x="150" y="239"/>
                  <a:pt x="155" y="242"/>
                </a:cubicBezTo>
                <a:cubicBezTo>
                  <a:pt x="151" y="245"/>
                  <a:pt x="145" y="251"/>
                  <a:pt x="145" y="260"/>
                </a:cubicBezTo>
                <a:cubicBezTo>
                  <a:pt x="144" y="267"/>
                  <a:pt x="149" y="275"/>
                  <a:pt x="158" y="279"/>
                </a:cubicBezTo>
                <a:cubicBezTo>
                  <a:pt x="167" y="284"/>
                  <a:pt x="176" y="283"/>
                  <a:pt x="184" y="277"/>
                </a:cubicBezTo>
                <a:cubicBezTo>
                  <a:pt x="187" y="276"/>
                  <a:pt x="189" y="274"/>
                  <a:pt x="192" y="273"/>
                </a:cubicBezTo>
                <a:cubicBezTo>
                  <a:pt x="195" y="272"/>
                  <a:pt x="198" y="270"/>
                  <a:pt x="201" y="269"/>
                </a:cubicBezTo>
                <a:cubicBezTo>
                  <a:pt x="201" y="269"/>
                  <a:pt x="201" y="269"/>
                  <a:pt x="201" y="269"/>
                </a:cubicBezTo>
                <a:cubicBezTo>
                  <a:pt x="203" y="270"/>
                  <a:pt x="205" y="272"/>
                  <a:pt x="205" y="276"/>
                </a:cubicBezTo>
                <a:cubicBezTo>
                  <a:pt x="205" y="279"/>
                  <a:pt x="204" y="289"/>
                  <a:pt x="186" y="295"/>
                </a:cubicBezTo>
                <a:cubicBezTo>
                  <a:pt x="169" y="300"/>
                  <a:pt x="159" y="296"/>
                  <a:pt x="151" y="293"/>
                </a:cubicBezTo>
                <a:cubicBezTo>
                  <a:pt x="147" y="292"/>
                  <a:pt x="144" y="291"/>
                  <a:pt x="141" y="290"/>
                </a:cubicBezTo>
                <a:cubicBezTo>
                  <a:pt x="138" y="289"/>
                  <a:pt x="134" y="289"/>
                  <a:pt x="130" y="289"/>
                </a:cubicBezTo>
                <a:cubicBezTo>
                  <a:pt x="122" y="290"/>
                  <a:pt x="113" y="290"/>
                  <a:pt x="108" y="286"/>
                </a:cubicBezTo>
                <a:cubicBezTo>
                  <a:pt x="106" y="283"/>
                  <a:pt x="106" y="279"/>
                  <a:pt x="105" y="274"/>
                </a:cubicBezTo>
                <a:cubicBezTo>
                  <a:pt x="105" y="270"/>
                  <a:pt x="105" y="266"/>
                  <a:pt x="103" y="263"/>
                </a:cubicBezTo>
                <a:cubicBezTo>
                  <a:pt x="102" y="260"/>
                  <a:pt x="99" y="258"/>
                  <a:pt x="96" y="256"/>
                </a:cubicBezTo>
                <a:cubicBezTo>
                  <a:pt x="92" y="254"/>
                  <a:pt x="89" y="252"/>
                  <a:pt x="89" y="247"/>
                </a:cubicBezTo>
                <a:cubicBezTo>
                  <a:pt x="89" y="243"/>
                  <a:pt x="98" y="236"/>
                  <a:pt x="108" y="231"/>
                </a:cubicBezTo>
                <a:cubicBezTo>
                  <a:pt x="114" y="229"/>
                  <a:pt x="120" y="226"/>
                  <a:pt x="121" y="221"/>
                </a:cubicBezTo>
                <a:cubicBezTo>
                  <a:pt x="121" y="219"/>
                  <a:pt x="121" y="217"/>
                  <a:pt x="119" y="214"/>
                </a:cubicBezTo>
                <a:cubicBezTo>
                  <a:pt x="117" y="211"/>
                  <a:pt x="116" y="206"/>
                  <a:pt x="118" y="202"/>
                </a:cubicBezTo>
                <a:cubicBezTo>
                  <a:pt x="119" y="200"/>
                  <a:pt x="121" y="197"/>
                  <a:pt x="125" y="197"/>
                </a:cubicBezTo>
                <a:cubicBezTo>
                  <a:pt x="126" y="197"/>
                  <a:pt x="128" y="197"/>
                  <a:pt x="129" y="197"/>
                </a:cubicBezTo>
                <a:cubicBezTo>
                  <a:pt x="136" y="197"/>
                  <a:pt x="141" y="196"/>
                  <a:pt x="145" y="190"/>
                </a:cubicBezTo>
                <a:cubicBezTo>
                  <a:pt x="145" y="189"/>
                  <a:pt x="145" y="189"/>
                  <a:pt x="145" y="188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46" y="187"/>
                  <a:pt x="146" y="187"/>
                  <a:pt x="146" y="186"/>
                </a:cubicBezTo>
                <a:cubicBezTo>
                  <a:pt x="149" y="177"/>
                  <a:pt x="152" y="171"/>
                  <a:pt x="169" y="171"/>
                </a:cubicBezTo>
                <a:close/>
                <a:moveTo>
                  <a:pt x="795" y="191"/>
                </a:moveTo>
                <a:cubicBezTo>
                  <a:pt x="783" y="233"/>
                  <a:pt x="705" y="277"/>
                  <a:pt x="596" y="301"/>
                </a:cubicBezTo>
                <a:cubicBezTo>
                  <a:pt x="472" y="328"/>
                  <a:pt x="412" y="330"/>
                  <a:pt x="372" y="331"/>
                </a:cubicBezTo>
                <a:cubicBezTo>
                  <a:pt x="362" y="331"/>
                  <a:pt x="362" y="331"/>
                  <a:pt x="362" y="331"/>
                </a:cubicBezTo>
                <a:cubicBezTo>
                  <a:pt x="330" y="332"/>
                  <a:pt x="327" y="326"/>
                  <a:pt x="327" y="325"/>
                </a:cubicBezTo>
                <a:cubicBezTo>
                  <a:pt x="327" y="321"/>
                  <a:pt x="327" y="321"/>
                  <a:pt x="327" y="321"/>
                </a:cubicBezTo>
                <a:cubicBezTo>
                  <a:pt x="324" y="322"/>
                  <a:pt x="324" y="322"/>
                  <a:pt x="324" y="322"/>
                </a:cubicBezTo>
                <a:cubicBezTo>
                  <a:pt x="303" y="328"/>
                  <a:pt x="295" y="316"/>
                  <a:pt x="295" y="316"/>
                </a:cubicBezTo>
                <a:cubicBezTo>
                  <a:pt x="293" y="313"/>
                  <a:pt x="293" y="313"/>
                  <a:pt x="293" y="313"/>
                </a:cubicBezTo>
                <a:cubicBezTo>
                  <a:pt x="293" y="313"/>
                  <a:pt x="290" y="316"/>
                  <a:pt x="290" y="316"/>
                </a:cubicBezTo>
                <a:cubicBezTo>
                  <a:pt x="286" y="322"/>
                  <a:pt x="278" y="321"/>
                  <a:pt x="278" y="321"/>
                </a:cubicBezTo>
                <a:cubicBezTo>
                  <a:pt x="278" y="321"/>
                  <a:pt x="278" y="321"/>
                  <a:pt x="278" y="321"/>
                </a:cubicBezTo>
                <a:cubicBezTo>
                  <a:pt x="278" y="321"/>
                  <a:pt x="277" y="321"/>
                  <a:pt x="277" y="321"/>
                </a:cubicBezTo>
                <a:cubicBezTo>
                  <a:pt x="268" y="321"/>
                  <a:pt x="268" y="321"/>
                  <a:pt x="268" y="321"/>
                </a:cubicBezTo>
                <a:cubicBezTo>
                  <a:pt x="276" y="326"/>
                  <a:pt x="276" y="326"/>
                  <a:pt x="276" y="326"/>
                </a:cubicBezTo>
                <a:cubicBezTo>
                  <a:pt x="280" y="328"/>
                  <a:pt x="278" y="336"/>
                  <a:pt x="278" y="338"/>
                </a:cubicBezTo>
                <a:cubicBezTo>
                  <a:pt x="270" y="340"/>
                  <a:pt x="267" y="346"/>
                  <a:pt x="268" y="352"/>
                </a:cubicBezTo>
                <a:cubicBezTo>
                  <a:pt x="268" y="358"/>
                  <a:pt x="272" y="361"/>
                  <a:pt x="276" y="361"/>
                </a:cubicBezTo>
                <a:cubicBezTo>
                  <a:pt x="278" y="361"/>
                  <a:pt x="279" y="360"/>
                  <a:pt x="279" y="359"/>
                </a:cubicBezTo>
                <a:cubicBezTo>
                  <a:pt x="279" y="358"/>
                  <a:pt x="278" y="356"/>
                  <a:pt x="276" y="356"/>
                </a:cubicBezTo>
                <a:cubicBezTo>
                  <a:pt x="274" y="356"/>
                  <a:pt x="273" y="354"/>
                  <a:pt x="273" y="352"/>
                </a:cubicBezTo>
                <a:cubicBezTo>
                  <a:pt x="273" y="348"/>
                  <a:pt x="275" y="342"/>
                  <a:pt x="283" y="341"/>
                </a:cubicBezTo>
                <a:cubicBezTo>
                  <a:pt x="289" y="340"/>
                  <a:pt x="294" y="342"/>
                  <a:pt x="297" y="347"/>
                </a:cubicBezTo>
                <a:cubicBezTo>
                  <a:pt x="300" y="353"/>
                  <a:pt x="300" y="362"/>
                  <a:pt x="294" y="370"/>
                </a:cubicBezTo>
                <a:cubicBezTo>
                  <a:pt x="285" y="383"/>
                  <a:pt x="266" y="375"/>
                  <a:pt x="266" y="374"/>
                </a:cubicBezTo>
                <a:cubicBezTo>
                  <a:pt x="265" y="374"/>
                  <a:pt x="265" y="374"/>
                  <a:pt x="265" y="374"/>
                </a:cubicBezTo>
                <a:cubicBezTo>
                  <a:pt x="264" y="374"/>
                  <a:pt x="264" y="374"/>
                  <a:pt x="264" y="374"/>
                </a:cubicBezTo>
                <a:cubicBezTo>
                  <a:pt x="250" y="379"/>
                  <a:pt x="242" y="370"/>
                  <a:pt x="242" y="370"/>
                </a:cubicBezTo>
                <a:cubicBezTo>
                  <a:pt x="241" y="369"/>
                  <a:pt x="241" y="369"/>
                  <a:pt x="241" y="369"/>
                </a:cubicBezTo>
                <a:cubicBezTo>
                  <a:pt x="241" y="369"/>
                  <a:pt x="239" y="369"/>
                  <a:pt x="239" y="369"/>
                </a:cubicBezTo>
                <a:cubicBezTo>
                  <a:pt x="230" y="372"/>
                  <a:pt x="222" y="372"/>
                  <a:pt x="217" y="368"/>
                </a:cubicBezTo>
                <a:cubicBezTo>
                  <a:pt x="210" y="364"/>
                  <a:pt x="210" y="356"/>
                  <a:pt x="210" y="356"/>
                </a:cubicBezTo>
                <a:cubicBezTo>
                  <a:pt x="209" y="354"/>
                  <a:pt x="209" y="354"/>
                  <a:pt x="209" y="354"/>
                </a:cubicBezTo>
                <a:cubicBezTo>
                  <a:pt x="207" y="354"/>
                  <a:pt x="207" y="354"/>
                  <a:pt x="207" y="354"/>
                </a:cubicBezTo>
                <a:cubicBezTo>
                  <a:pt x="193" y="356"/>
                  <a:pt x="183" y="352"/>
                  <a:pt x="177" y="343"/>
                </a:cubicBezTo>
                <a:cubicBezTo>
                  <a:pt x="172" y="335"/>
                  <a:pt x="172" y="324"/>
                  <a:pt x="177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78" y="316"/>
                  <a:pt x="180" y="315"/>
                  <a:pt x="181" y="314"/>
                </a:cubicBezTo>
                <a:cubicBezTo>
                  <a:pt x="184" y="311"/>
                  <a:pt x="184" y="311"/>
                  <a:pt x="184" y="311"/>
                </a:cubicBezTo>
                <a:cubicBezTo>
                  <a:pt x="193" y="304"/>
                  <a:pt x="207" y="300"/>
                  <a:pt x="216" y="310"/>
                </a:cubicBezTo>
                <a:cubicBezTo>
                  <a:pt x="221" y="315"/>
                  <a:pt x="222" y="324"/>
                  <a:pt x="219" y="331"/>
                </a:cubicBezTo>
                <a:cubicBezTo>
                  <a:pt x="218" y="334"/>
                  <a:pt x="215" y="340"/>
                  <a:pt x="207" y="340"/>
                </a:cubicBezTo>
                <a:cubicBezTo>
                  <a:pt x="201" y="341"/>
                  <a:pt x="197" y="339"/>
                  <a:pt x="195" y="335"/>
                </a:cubicBezTo>
                <a:cubicBezTo>
                  <a:pt x="194" y="332"/>
                  <a:pt x="195" y="327"/>
                  <a:pt x="198" y="325"/>
                </a:cubicBezTo>
                <a:cubicBezTo>
                  <a:pt x="200" y="324"/>
                  <a:pt x="200" y="322"/>
                  <a:pt x="199" y="321"/>
                </a:cubicBezTo>
                <a:cubicBezTo>
                  <a:pt x="198" y="320"/>
                  <a:pt x="196" y="320"/>
                  <a:pt x="195" y="321"/>
                </a:cubicBezTo>
                <a:cubicBezTo>
                  <a:pt x="191" y="324"/>
                  <a:pt x="189" y="331"/>
                  <a:pt x="191" y="337"/>
                </a:cubicBezTo>
                <a:cubicBezTo>
                  <a:pt x="192" y="340"/>
                  <a:pt x="195" y="346"/>
                  <a:pt x="207" y="345"/>
                </a:cubicBezTo>
                <a:cubicBezTo>
                  <a:pt x="215" y="345"/>
                  <a:pt x="221" y="341"/>
                  <a:pt x="224" y="333"/>
                </a:cubicBezTo>
                <a:cubicBezTo>
                  <a:pt x="228" y="324"/>
                  <a:pt x="226" y="313"/>
                  <a:pt x="220" y="307"/>
                </a:cubicBezTo>
                <a:cubicBezTo>
                  <a:pt x="209" y="295"/>
                  <a:pt x="193" y="299"/>
                  <a:pt x="181" y="307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1" y="315"/>
                  <a:pt x="170" y="316"/>
                  <a:pt x="164" y="314"/>
                </a:cubicBezTo>
                <a:cubicBezTo>
                  <a:pt x="161" y="314"/>
                  <a:pt x="159" y="313"/>
                  <a:pt x="158" y="311"/>
                </a:cubicBezTo>
                <a:cubicBezTo>
                  <a:pt x="154" y="309"/>
                  <a:pt x="150" y="307"/>
                  <a:pt x="141" y="308"/>
                </a:cubicBezTo>
                <a:cubicBezTo>
                  <a:pt x="137" y="309"/>
                  <a:pt x="137" y="309"/>
                  <a:pt x="137" y="309"/>
                </a:cubicBezTo>
                <a:cubicBezTo>
                  <a:pt x="124" y="312"/>
                  <a:pt x="116" y="313"/>
                  <a:pt x="112" y="306"/>
                </a:cubicBezTo>
                <a:cubicBezTo>
                  <a:pt x="105" y="295"/>
                  <a:pt x="96" y="291"/>
                  <a:pt x="83" y="294"/>
                </a:cubicBezTo>
                <a:cubicBezTo>
                  <a:pt x="77" y="296"/>
                  <a:pt x="71" y="295"/>
                  <a:pt x="68" y="293"/>
                </a:cubicBezTo>
                <a:cubicBezTo>
                  <a:pt x="67" y="291"/>
                  <a:pt x="66" y="289"/>
                  <a:pt x="66" y="287"/>
                </a:cubicBezTo>
                <a:cubicBezTo>
                  <a:pt x="66" y="285"/>
                  <a:pt x="66" y="284"/>
                  <a:pt x="65" y="283"/>
                </a:cubicBezTo>
                <a:cubicBezTo>
                  <a:pt x="61" y="279"/>
                  <a:pt x="51" y="280"/>
                  <a:pt x="35" y="282"/>
                </a:cubicBezTo>
                <a:cubicBezTo>
                  <a:pt x="27" y="283"/>
                  <a:pt x="20" y="284"/>
                  <a:pt x="15" y="284"/>
                </a:cubicBezTo>
                <a:cubicBezTo>
                  <a:pt x="11" y="284"/>
                  <a:pt x="10" y="283"/>
                  <a:pt x="10" y="283"/>
                </a:cubicBezTo>
                <a:cubicBezTo>
                  <a:pt x="10" y="281"/>
                  <a:pt x="13" y="278"/>
                  <a:pt x="19" y="276"/>
                </a:cubicBezTo>
                <a:cubicBezTo>
                  <a:pt x="25" y="275"/>
                  <a:pt x="32" y="272"/>
                  <a:pt x="32" y="267"/>
                </a:cubicBezTo>
                <a:cubicBezTo>
                  <a:pt x="32" y="265"/>
                  <a:pt x="31" y="263"/>
                  <a:pt x="27" y="262"/>
                </a:cubicBezTo>
                <a:cubicBezTo>
                  <a:pt x="25" y="261"/>
                  <a:pt x="23" y="261"/>
                  <a:pt x="20" y="260"/>
                </a:cubicBezTo>
                <a:cubicBezTo>
                  <a:pt x="11" y="259"/>
                  <a:pt x="6" y="257"/>
                  <a:pt x="6" y="251"/>
                </a:cubicBezTo>
                <a:cubicBezTo>
                  <a:pt x="6" y="246"/>
                  <a:pt x="18" y="237"/>
                  <a:pt x="42" y="234"/>
                </a:cubicBezTo>
                <a:cubicBezTo>
                  <a:pt x="43" y="234"/>
                  <a:pt x="44" y="234"/>
                  <a:pt x="46" y="234"/>
                </a:cubicBezTo>
                <a:cubicBezTo>
                  <a:pt x="55" y="234"/>
                  <a:pt x="62" y="233"/>
                  <a:pt x="63" y="229"/>
                </a:cubicBezTo>
                <a:cubicBezTo>
                  <a:pt x="64" y="225"/>
                  <a:pt x="60" y="223"/>
                  <a:pt x="59" y="222"/>
                </a:cubicBezTo>
                <a:cubicBezTo>
                  <a:pt x="55" y="219"/>
                  <a:pt x="55" y="217"/>
                  <a:pt x="56" y="216"/>
                </a:cubicBezTo>
                <a:cubicBezTo>
                  <a:pt x="56" y="211"/>
                  <a:pt x="67" y="204"/>
                  <a:pt x="72" y="202"/>
                </a:cubicBezTo>
                <a:cubicBezTo>
                  <a:pt x="78" y="199"/>
                  <a:pt x="93" y="197"/>
                  <a:pt x="98" y="198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1" y="196"/>
                  <a:pt x="101" y="196"/>
                  <a:pt x="101" y="196"/>
                </a:cubicBezTo>
                <a:cubicBezTo>
                  <a:pt x="101" y="192"/>
                  <a:pt x="102" y="190"/>
                  <a:pt x="104" y="189"/>
                </a:cubicBezTo>
                <a:cubicBezTo>
                  <a:pt x="111" y="183"/>
                  <a:pt x="129" y="187"/>
                  <a:pt x="139" y="189"/>
                </a:cubicBezTo>
                <a:cubicBezTo>
                  <a:pt x="137" y="191"/>
                  <a:pt x="134" y="192"/>
                  <a:pt x="129" y="192"/>
                </a:cubicBezTo>
                <a:cubicBezTo>
                  <a:pt x="127" y="192"/>
                  <a:pt x="126" y="192"/>
                  <a:pt x="124" y="192"/>
                </a:cubicBezTo>
                <a:cubicBezTo>
                  <a:pt x="119" y="192"/>
                  <a:pt x="115" y="195"/>
                  <a:pt x="113" y="200"/>
                </a:cubicBezTo>
                <a:cubicBezTo>
                  <a:pt x="111" y="206"/>
                  <a:pt x="111" y="213"/>
                  <a:pt x="115" y="217"/>
                </a:cubicBezTo>
                <a:cubicBezTo>
                  <a:pt x="116" y="218"/>
                  <a:pt x="116" y="219"/>
                  <a:pt x="116" y="220"/>
                </a:cubicBezTo>
                <a:cubicBezTo>
                  <a:pt x="115" y="223"/>
                  <a:pt x="110" y="225"/>
                  <a:pt x="106" y="227"/>
                </a:cubicBezTo>
                <a:cubicBezTo>
                  <a:pt x="105" y="227"/>
                  <a:pt x="83" y="237"/>
                  <a:pt x="84" y="248"/>
                </a:cubicBezTo>
                <a:cubicBezTo>
                  <a:pt x="85" y="255"/>
                  <a:pt x="90" y="258"/>
                  <a:pt x="94" y="261"/>
                </a:cubicBezTo>
                <a:cubicBezTo>
                  <a:pt x="96" y="262"/>
                  <a:pt x="98" y="263"/>
                  <a:pt x="98" y="265"/>
                </a:cubicBezTo>
                <a:cubicBezTo>
                  <a:pt x="100" y="268"/>
                  <a:pt x="100" y="271"/>
                  <a:pt x="100" y="274"/>
                </a:cubicBezTo>
                <a:cubicBezTo>
                  <a:pt x="101" y="280"/>
                  <a:pt x="101" y="285"/>
                  <a:pt x="105" y="289"/>
                </a:cubicBezTo>
                <a:cubicBezTo>
                  <a:pt x="111" y="295"/>
                  <a:pt x="121" y="295"/>
                  <a:pt x="130" y="295"/>
                </a:cubicBezTo>
                <a:cubicBezTo>
                  <a:pt x="134" y="294"/>
                  <a:pt x="137" y="294"/>
                  <a:pt x="140" y="295"/>
                </a:cubicBezTo>
                <a:cubicBezTo>
                  <a:pt x="143" y="295"/>
                  <a:pt x="146" y="297"/>
                  <a:pt x="149" y="298"/>
                </a:cubicBezTo>
                <a:cubicBezTo>
                  <a:pt x="158" y="301"/>
                  <a:pt x="169" y="306"/>
                  <a:pt x="188" y="300"/>
                </a:cubicBezTo>
                <a:cubicBezTo>
                  <a:pt x="209" y="293"/>
                  <a:pt x="210" y="280"/>
                  <a:pt x="210" y="276"/>
                </a:cubicBezTo>
                <a:cubicBezTo>
                  <a:pt x="210" y="272"/>
                  <a:pt x="208" y="269"/>
                  <a:pt x="207" y="267"/>
                </a:cubicBezTo>
                <a:cubicBezTo>
                  <a:pt x="218" y="263"/>
                  <a:pt x="230" y="263"/>
                  <a:pt x="248" y="273"/>
                </a:cubicBezTo>
                <a:cubicBezTo>
                  <a:pt x="283" y="292"/>
                  <a:pt x="339" y="317"/>
                  <a:pt x="414" y="315"/>
                </a:cubicBezTo>
                <a:cubicBezTo>
                  <a:pt x="415" y="315"/>
                  <a:pt x="466" y="317"/>
                  <a:pt x="566" y="298"/>
                </a:cubicBezTo>
                <a:cubicBezTo>
                  <a:pt x="705" y="272"/>
                  <a:pt x="784" y="216"/>
                  <a:pt x="780" y="177"/>
                </a:cubicBezTo>
                <a:cubicBezTo>
                  <a:pt x="778" y="155"/>
                  <a:pt x="759" y="131"/>
                  <a:pt x="692" y="120"/>
                </a:cubicBezTo>
                <a:cubicBezTo>
                  <a:pt x="694" y="120"/>
                  <a:pt x="696" y="120"/>
                  <a:pt x="698" y="120"/>
                </a:cubicBezTo>
                <a:cubicBezTo>
                  <a:pt x="702" y="120"/>
                  <a:pt x="705" y="121"/>
                  <a:pt x="709" y="121"/>
                </a:cubicBezTo>
                <a:cubicBezTo>
                  <a:pt x="718" y="122"/>
                  <a:pt x="726" y="124"/>
                  <a:pt x="731" y="119"/>
                </a:cubicBezTo>
                <a:cubicBezTo>
                  <a:pt x="733" y="117"/>
                  <a:pt x="734" y="114"/>
                  <a:pt x="734" y="110"/>
                </a:cubicBezTo>
                <a:cubicBezTo>
                  <a:pt x="733" y="105"/>
                  <a:pt x="735" y="100"/>
                  <a:pt x="739" y="96"/>
                </a:cubicBezTo>
                <a:cubicBezTo>
                  <a:pt x="743" y="92"/>
                  <a:pt x="748" y="89"/>
                  <a:pt x="752" y="89"/>
                </a:cubicBezTo>
                <a:cubicBezTo>
                  <a:pt x="759" y="89"/>
                  <a:pt x="766" y="92"/>
                  <a:pt x="770" y="96"/>
                </a:cubicBezTo>
                <a:cubicBezTo>
                  <a:pt x="773" y="99"/>
                  <a:pt x="774" y="103"/>
                  <a:pt x="774" y="107"/>
                </a:cubicBezTo>
                <a:cubicBezTo>
                  <a:pt x="773" y="114"/>
                  <a:pt x="768" y="116"/>
                  <a:pt x="764" y="117"/>
                </a:cubicBezTo>
                <a:cubicBezTo>
                  <a:pt x="764" y="115"/>
                  <a:pt x="763" y="113"/>
                  <a:pt x="763" y="112"/>
                </a:cubicBezTo>
                <a:cubicBezTo>
                  <a:pt x="761" y="110"/>
                  <a:pt x="756" y="108"/>
                  <a:pt x="752" y="109"/>
                </a:cubicBezTo>
                <a:cubicBezTo>
                  <a:pt x="747" y="110"/>
                  <a:pt x="742" y="113"/>
                  <a:pt x="742" y="119"/>
                </a:cubicBezTo>
                <a:cubicBezTo>
                  <a:pt x="741" y="125"/>
                  <a:pt x="746" y="128"/>
                  <a:pt x="754" y="131"/>
                </a:cubicBezTo>
                <a:cubicBezTo>
                  <a:pt x="761" y="135"/>
                  <a:pt x="770" y="139"/>
                  <a:pt x="779" y="147"/>
                </a:cubicBezTo>
                <a:cubicBezTo>
                  <a:pt x="794" y="160"/>
                  <a:pt x="799" y="175"/>
                  <a:pt x="795" y="191"/>
                </a:cubicBezTo>
                <a:close/>
              </a:path>
            </a:pathLst>
          </a:custGeom>
          <a:solidFill>
            <a:srgbClr val="bfbfb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148"/>
          <p:cNvSpPr/>
          <p:nvPr/>
        </p:nvSpPr>
        <p:spPr>
          <a:xfrm>
            <a:off x="3801960" y="3784680"/>
            <a:ext cx="126216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 8"/>
          <p:cNvSpPr/>
          <p:nvPr/>
        </p:nvSpPr>
        <p:spPr>
          <a:xfrm rot="1472400">
            <a:off x="3727440" y="3835080"/>
            <a:ext cx="374760" cy="1357200"/>
          </a:xfrm>
          <a:custGeom>
            <a:avLst/>
            <a:gdLst/>
            <a:ahLst/>
            <a:rect l="l" t="t" r="r" b="b"/>
            <a:pathLst>
              <a:path w="375194" h="1358525">
                <a:moveTo>
                  <a:pt x="248361" y="0"/>
                </a:moveTo>
                <a:lnTo>
                  <a:pt x="375194" y="318417"/>
                </a:lnTo>
                <a:lnTo>
                  <a:pt x="338861" y="1267404"/>
                </a:lnTo>
                <a:lnTo>
                  <a:pt x="139373" y="1358525"/>
                </a:lnTo>
                <a:lnTo>
                  <a:pt x="0" y="1053401"/>
                </a:lnTo>
                <a:lnTo>
                  <a:pt x="2483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1"/>
          <p:cNvGrpSpPr/>
          <p:nvPr/>
        </p:nvGrpSpPr>
        <p:grpSpPr>
          <a:xfrm>
            <a:off x="4738680" y="3619440"/>
            <a:ext cx="1566720" cy="1503360"/>
            <a:chOff x="4738680" y="3619440"/>
            <a:chExt cx="1566720" cy="1503360"/>
          </a:xfrm>
        </p:grpSpPr>
        <p:sp>
          <p:nvSpPr>
            <p:cNvPr id="844" name="椭圆 134"/>
            <p:cNvSpPr/>
            <p:nvPr/>
          </p:nvSpPr>
          <p:spPr>
            <a:xfrm>
              <a:off x="4738680" y="3619440"/>
              <a:ext cx="1477080" cy="147852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Box 135"/>
            <p:cNvSpPr/>
            <p:nvPr/>
          </p:nvSpPr>
          <p:spPr>
            <a:xfrm>
              <a:off x="4931280" y="3809880"/>
              <a:ext cx="1374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矩形 10"/>
          <p:cNvSpPr/>
          <p:nvPr/>
        </p:nvSpPr>
        <p:spPr>
          <a:xfrm flipH="1" rot="20127600">
            <a:off x="4766760" y="4092120"/>
            <a:ext cx="209520" cy="488880"/>
          </a:xfrm>
          <a:custGeom>
            <a:avLst/>
            <a:gdLst/>
            <a:ahLst/>
            <a:rect l="l" t="t" r="r" b="b"/>
            <a:pathLst>
              <a:path w="205853" h="482209">
                <a:moveTo>
                  <a:pt x="86084" y="0"/>
                </a:moveTo>
                <a:lnTo>
                  <a:pt x="0" y="482209"/>
                </a:lnTo>
                <a:lnTo>
                  <a:pt x="205853" y="482209"/>
                </a:lnTo>
                <a:lnTo>
                  <a:pt x="177081" y="107943"/>
                </a:lnTo>
                <a:cubicBezTo>
                  <a:pt x="153311" y="70073"/>
                  <a:pt x="122912" y="33277"/>
                  <a:pt x="8608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11"/>
          <p:cNvSpPr/>
          <p:nvPr/>
        </p:nvSpPr>
        <p:spPr>
          <a:xfrm rot="20580000">
            <a:off x="3949560" y="3201840"/>
            <a:ext cx="960480" cy="338400"/>
          </a:xfrm>
          <a:custGeom>
            <a:avLst/>
            <a:gdLst/>
            <a:ahLst/>
            <a:rect l="l" t="t" r="r" b="b"/>
            <a:pathLst>
              <a:path w="822139" h="288798">
                <a:moveTo>
                  <a:pt x="0" y="0"/>
                </a:moveTo>
                <a:cubicBezTo>
                  <a:pt x="337129" y="83131"/>
                  <a:pt x="548978" y="79179"/>
                  <a:pt x="822139" y="110893"/>
                </a:cubicBezTo>
                <a:cubicBezTo>
                  <a:pt x="821936" y="167531"/>
                  <a:pt x="821734" y="224170"/>
                  <a:pt x="821531" y="280808"/>
                </a:cubicBezTo>
                <a:cubicBezTo>
                  <a:pt x="689539" y="303999"/>
                  <a:pt x="173624" y="271442"/>
                  <a:pt x="30187" y="250039"/>
                </a:cubicBezTo>
                <a:lnTo>
                  <a:pt x="0" y="0"/>
                </a:lnTo>
                <a:close/>
              </a:path>
            </a:pathLst>
          </a:cu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7"/>
          <p:cNvGrpSpPr/>
          <p:nvPr/>
        </p:nvGrpSpPr>
        <p:grpSpPr>
          <a:xfrm>
            <a:off x="2395440" y="6548400"/>
            <a:ext cx="433440" cy="316080"/>
            <a:chOff x="2395440" y="6548400"/>
            <a:chExt cx="433440" cy="316080"/>
          </a:xfrm>
        </p:grpSpPr>
        <p:sp>
          <p:nvSpPr>
            <p:cNvPr id="849" name="Freeform 7"/>
            <p:cNvSpPr/>
            <p:nvPr/>
          </p:nvSpPr>
          <p:spPr>
            <a:xfrm flipH="1">
              <a:off x="2691720" y="6595560"/>
              <a:ext cx="432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8"/>
            <p:cNvSpPr/>
            <p:nvPr/>
          </p:nvSpPr>
          <p:spPr>
            <a:xfrm flipH="1">
              <a:off x="2697840" y="6602760"/>
              <a:ext cx="432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"/>
            <p:cNvSpPr/>
            <p:nvPr/>
          </p:nvSpPr>
          <p:spPr>
            <a:xfrm flipH="1">
              <a:off x="2678760" y="6585480"/>
              <a:ext cx="252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0"/>
            <p:cNvSpPr/>
            <p:nvPr/>
          </p:nvSpPr>
          <p:spPr>
            <a:xfrm flipH="1">
              <a:off x="2625840" y="657504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1"/>
            <p:cNvSpPr/>
            <p:nvPr/>
          </p:nvSpPr>
          <p:spPr>
            <a:xfrm flipH="1">
              <a:off x="2625840" y="6576840"/>
              <a:ext cx="72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 flipH="1">
              <a:off x="2624400" y="6564240"/>
              <a:ext cx="95400" cy="12456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3"/>
            <p:cNvSpPr/>
            <p:nvPr/>
          </p:nvSpPr>
          <p:spPr>
            <a:xfrm flipH="1">
              <a:off x="2706840" y="6613200"/>
              <a:ext cx="324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4"/>
            <p:cNvSpPr/>
            <p:nvPr/>
          </p:nvSpPr>
          <p:spPr>
            <a:xfrm flipH="1">
              <a:off x="2696400" y="66016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"/>
            <p:cNvSpPr/>
            <p:nvPr/>
          </p:nvSpPr>
          <p:spPr>
            <a:xfrm flipH="1">
              <a:off x="2692440" y="6599160"/>
              <a:ext cx="3240" cy="2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6"/>
            <p:cNvSpPr/>
            <p:nvPr/>
          </p:nvSpPr>
          <p:spPr>
            <a:xfrm flipH="1">
              <a:off x="2690280" y="65955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7"/>
            <p:cNvSpPr/>
            <p:nvPr/>
          </p:nvSpPr>
          <p:spPr>
            <a:xfrm flipH="1">
              <a:off x="2697480" y="66034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8"/>
            <p:cNvSpPr/>
            <p:nvPr/>
          </p:nvSpPr>
          <p:spPr>
            <a:xfrm flipH="1">
              <a:off x="2691720" y="65980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"/>
            <p:cNvSpPr/>
            <p:nvPr/>
          </p:nvSpPr>
          <p:spPr>
            <a:xfrm flipH="1">
              <a:off x="2649960" y="657036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0"/>
            <p:cNvSpPr/>
            <p:nvPr/>
          </p:nvSpPr>
          <p:spPr>
            <a:xfrm flipH="1">
              <a:off x="2749680" y="66258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1"/>
            <p:cNvSpPr/>
            <p:nvPr/>
          </p:nvSpPr>
          <p:spPr>
            <a:xfrm flipH="1">
              <a:off x="2749680" y="6631200"/>
              <a:ext cx="36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2"/>
            <p:cNvSpPr/>
            <p:nvPr/>
          </p:nvSpPr>
          <p:spPr>
            <a:xfrm flipH="1">
              <a:off x="2747880" y="661608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3"/>
            <p:cNvSpPr/>
            <p:nvPr/>
          </p:nvSpPr>
          <p:spPr>
            <a:xfrm flipH="1">
              <a:off x="2736360" y="65840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4"/>
            <p:cNvSpPr/>
            <p:nvPr/>
          </p:nvSpPr>
          <p:spPr>
            <a:xfrm flipH="1">
              <a:off x="2735640" y="658224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5"/>
            <p:cNvSpPr/>
            <p:nvPr/>
          </p:nvSpPr>
          <p:spPr>
            <a:xfrm flipH="1">
              <a:off x="2697120" y="6548400"/>
              <a:ext cx="53280" cy="123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6"/>
            <p:cNvSpPr/>
            <p:nvPr/>
          </p:nvSpPr>
          <p:spPr>
            <a:xfrm flipH="1">
              <a:off x="2750760" y="663912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7"/>
            <p:cNvSpPr/>
            <p:nvPr/>
          </p:nvSpPr>
          <p:spPr>
            <a:xfrm flipH="1">
              <a:off x="2749680" y="66294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8"/>
            <p:cNvSpPr/>
            <p:nvPr/>
          </p:nvSpPr>
          <p:spPr>
            <a:xfrm flipH="1">
              <a:off x="2748960" y="662760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9"/>
            <p:cNvSpPr/>
            <p:nvPr/>
          </p:nvSpPr>
          <p:spPr>
            <a:xfrm flipH="1">
              <a:off x="2747880" y="66240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0"/>
            <p:cNvSpPr/>
            <p:nvPr/>
          </p:nvSpPr>
          <p:spPr>
            <a:xfrm flipH="1">
              <a:off x="2748960" y="663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1"/>
            <p:cNvSpPr/>
            <p:nvPr/>
          </p:nvSpPr>
          <p:spPr>
            <a:xfrm flipH="1">
              <a:off x="2747880" y="66265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2"/>
            <p:cNvSpPr/>
            <p:nvPr/>
          </p:nvSpPr>
          <p:spPr>
            <a:xfrm flipH="1">
              <a:off x="2742480" y="659736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3"/>
            <p:cNvSpPr/>
            <p:nvPr/>
          </p:nvSpPr>
          <p:spPr>
            <a:xfrm flipH="1">
              <a:off x="2789280" y="671148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4"/>
            <p:cNvSpPr/>
            <p:nvPr/>
          </p:nvSpPr>
          <p:spPr>
            <a:xfrm flipH="1">
              <a:off x="2783160" y="6705000"/>
              <a:ext cx="252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5"/>
            <p:cNvSpPr/>
            <p:nvPr/>
          </p:nvSpPr>
          <p:spPr>
            <a:xfrm flipH="1">
              <a:off x="2798280" y="6718320"/>
              <a:ext cx="144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6"/>
            <p:cNvSpPr/>
            <p:nvPr/>
          </p:nvSpPr>
          <p:spPr>
            <a:xfrm flipH="1">
              <a:off x="2816640" y="675072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7"/>
            <p:cNvSpPr/>
            <p:nvPr/>
          </p:nvSpPr>
          <p:spPr>
            <a:xfrm flipH="1">
              <a:off x="2816640" y="675252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8"/>
            <p:cNvSpPr/>
            <p:nvPr/>
          </p:nvSpPr>
          <p:spPr>
            <a:xfrm flipH="1">
              <a:off x="2728800" y="6680880"/>
              <a:ext cx="99720" cy="1105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9"/>
            <p:cNvSpPr/>
            <p:nvPr/>
          </p:nvSpPr>
          <p:spPr>
            <a:xfrm flipH="1">
              <a:off x="2774880" y="6700680"/>
              <a:ext cx="50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0"/>
            <p:cNvSpPr/>
            <p:nvPr/>
          </p:nvSpPr>
          <p:spPr>
            <a:xfrm flipH="1">
              <a:off x="2787120" y="670788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1"/>
            <p:cNvSpPr/>
            <p:nvPr/>
          </p:nvSpPr>
          <p:spPr>
            <a:xfrm flipH="1">
              <a:off x="2789280" y="67078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2"/>
            <p:cNvSpPr/>
            <p:nvPr/>
          </p:nvSpPr>
          <p:spPr>
            <a:xfrm flipH="1">
              <a:off x="2790360" y="6710400"/>
              <a:ext cx="252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3"/>
            <p:cNvSpPr/>
            <p:nvPr/>
          </p:nvSpPr>
          <p:spPr>
            <a:xfrm flipH="1">
              <a:off x="2786400" y="67068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4"/>
            <p:cNvSpPr/>
            <p:nvPr/>
          </p:nvSpPr>
          <p:spPr>
            <a:xfrm flipH="1">
              <a:off x="2790720" y="670968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5"/>
            <p:cNvSpPr/>
            <p:nvPr/>
          </p:nvSpPr>
          <p:spPr>
            <a:xfrm flipH="1">
              <a:off x="2813040" y="673380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6"/>
            <p:cNvSpPr/>
            <p:nvPr/>
          </p:nvSpPr>
          <p:spPr>
            <a:xfrm flipH="1">
              <a:off x="2624040" y="6644520"/>
              <a:ext cx="432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7"/>
            <p:cNvSpPr/>
            <p:nvPr/>
          </p:nvSpPr>
          <p:spPr>
            <a:xfrm flipH="1">
              <a:off x="2631600" y="6651720"/>
              <a:ext cx="6120" cy="4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8"/>
            <p:cNvSpPr/>
            <p:nvPr/>
          </p:nvSpPr>
          <p:spPr>
            <a:xfrm flipH="1">
              <a:off x="2606760" y="6635520"/>
              <a:ext cx="324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"/>
            <p:cNvSpPr/>
            <p:nvPr/>
          </p:nvSpPr>
          <p:spPr>
            <a:xfrm flipH="1">
              <a:off x="2536920" y="66355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0"/>
            <p:cNvSpPr/>
            <p:nvPr/>
          </p:nvSpPr>
          <p:spPr>
            <a:xfrm flipH="1">
              <a:off x="2534400" y="663660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1"/>
            <p:cNvSpPr/>
            <p:nvPr/>
          </p:nvSpPr>
          <p:spPr>
            <a:xfrm flipH="1">
              <a:off x="2445120" y="6628320"/>
              <a:ext cx="251640" cy="129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2"/>
            <p:cNvSpPr/>
            <p:nvPr/>
          </p:nvSpPr>
          <p:spPr>
            <a:xfrm flipH="1">
              <a:off x="2644560" y="6660360"/>
              <a:ext cx="504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3"/>
            <p:cNvSpPr/>
            <p:nvPr/>
          </p:nvSpPr>
          <p:spPr>
            <a:xfrm flipH="1">
              <a:off x="2629080" y="66499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4"/>
            <p:cNvSpPr/>
            <p:nvPr/>
          </p:nvSpPr>
          <p:spPr>
            <a:xfrm flipH="1">
              <a:off x="2625480" y="6648120"/>
              <a:ext cx="324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5"/>
            <p:cNvSpPr/>
            <p:nvPr/>
          </p:nvSpPr>
          <p:spPr>
            <a:xfrm flipH="1">
              <a:off x="2621160" y="6644520"/>
              <a:ext cx="3240" cy="2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6"/>
            <p:cNvSpPr/>
            <p:nvPr/>
          </p:nvSpPr>
          <p:spPr>
            <a:xfrm flipH="1">
              <a:off x="2632320" y="66524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7"/>
            <p:cNvSpPr/>
            <p:nvPr/>
          </p:nvSpPr>
          <p:spPr>
            <a:xfrm flipH="1">
              <a:off x="2622600" y="66481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8"/>
            <p:cNvSpPr/>
            <p:nvPr/>
          </p:nvSpPr>
          <p:spPr>
            <a:xfrm flipH="1">
              <a:off x="2566800" y="6631200"/>
              <a:ext cx="43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9"/>
            <p:cNvSpPr/>
            <p:nvPr/>
          </p:nvSpPr>
          <p:spPr>
            <a:xfrm flipH="1">
              <a:off x="2589120" y="674424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60"/>
            <p:cNvSpPr/>
            <p:nvPr/>
          </p:nvSpPr>
          <p:spPr>
            <a:xfrm flipH="1">
              <a:off x="2586600" y="673992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1"/>
            <p:cNvSpPr/>
            <p:nvPr/>
          </p:nvSpPr>
          <p:spPr>
            <a:xfrm flipH="1">
              <a:off x="2593800" y="6748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2"/>
            <p:cNvSpPr/>
            <p:nvPr/>
          </p:nvSpPr>
          <p:spPr>
            <a:xfrm flipH="1">
              <a:off x="2607120" y="676836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3"/>
            <p:cNvSpPr/>
            <p:nvPr/>
          </p:nvSpPr>
          <p:spPr>
            <a:xfrm flipH="1">
              <a:off x="2607120" y="6769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4"/>
            <p:cNvSpPr/>
            <p:nvPr/>
          </p:nvSpPr>
          <p:spPr>
            <a:xfrm flipH="1">
              <a:off x="2565720" y="6721200"/>
              <a:ext cx="55080" cy="10764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5"/>
            <p:cNvSpPr/>
            <p:nvPr/>
          </p:nvSpPr>
          <p:spPr>
            <a:xfrm flipH="1">
              <a:off x="2583000" y="67370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6"/>
            <p:cNvSpPr/>
            <p:nvPr/>
          </p:nvSpPr>
          <p:spPr>
            <a:xfrm flipH="1">
              <a:off x="2589120" y="67424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7"/>
            <p:cNvSpPr/>
            <p:nvPr/>
          </p:nvSpPr>
          <p:spPr>
            <a:xfrm flipH="1">
              <a:off x="2589840" y="67424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8"/>
            <p:cNvSpPr/>
            <p:nvPr/>
          </p:nvSpPr>
          <p:spPr>
            <a:xfrm flipH="1">
              <a:off x="2590920" y="6744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9"/>
            <p:cNvSpPr/>
            <p:nvPr/>
          </p:nvSpPr>
          <p:spPr>
            <a:xfrm flipH="1">
              <a:off x="2588400" y="6740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0"/>
            <p:cNvSpPr/>
            <p:nvPr/>
          </p:nvSpPr>
          <p:spPr>
            <a:xfrm flipH="1">
              <a:off x="2590920" y="6742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1"/>
            <p:cNvSpPr/>
            <p:nvPr/>
          </p:nvSpPr>
          <p:spPr>
            <a:xfrm flipH="1">
              <a:off x="2602440" y="6758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2"/>
            <p:cNvSpPr/>
            <p:nvPr/>
          </p:nvSpPr>
          <p:spPr>
            <a:xfrm flipH="1">
              <a:off x="2443680" y="676116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3"/>
            <p:cNvSpPr/>
            <p:nvPr/>
          </p:nvSpPr>
          <p:spPr>
            <a:xfrm flipH="1">
              <a:off x="2445480" y="676764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4"/>
            <p:cNvSpPr/>
            <p:nvPr/>
          </p:nvSpPr>
          <p:spPr>
            <a:xfrm flipH="1">
              <a:off x="2434320" y="6753960"/>
              <a:ext cx="252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5"/>
            <p:cNvSpPr/>
            <p:nvPr/>
          </p:nvSpPr>
          <p:spPr>
            <a:xfrm flipH="1">
              <a:off x="2402640" y="676476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6"/>
            <p:cNvSpPr/>
            <p:nvPr/>
          </p:nvSpPr>
          <p:spPr>
            <a:xfrm flipH="1">
              <a:off x="240156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7"/>
            <p:cNvSpPr/>
            <p:nvPr/>
          </p:nvSpPr>
          <p:spPr>
            <a:xfrm flipH="1">
              <a:off x="2395080" y="6749640"/>
              <a:ext cx="50760" cy="5436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8"/>
            <p:cNvSpPr/>
            <p:nvPr/>
          </p:nvSpPr>
          <p:spPr>
            <a:xfrm flipH="1">
              <a:off x="2447280" y="6775560"/>
              <a:ext cx="720" cy="43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9"/>
            <p:cNvSpPr/>
            <p:nvPr/>
          </p:nvSpPr>
          <p:spPr>
            <a:xfrm flipH="1">
              <a:off x="244440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"/>
            <p:cNvSpPr/>
            <p:nvPr/>
          </p:nvSpPr>
          <p:spPr>
            <a:xfrm flipH="1">
              <a:off x="2442960" y="67640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1"/>
            <p:cNvSpPr/>
            <p:nvPr/>
          </p:nvSpPr>
          <p:spPr>
            <a:xfrm flipH="1">
              <a:off x="2441160" y="67611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2"/>
            <p:cNvSpPr/>
            <p:nvPr/>
          </p:nvSpPr>
          <p:spPr>
            <a:xfrm flipH="1">
              <a:off x="2444400" y="67676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3"/>
            <p:cNvSpPr/>
            <p:nvPr/>
          </p:nvSpPr>
          <p:spPr>
            <a:xfrm flipH="1">
              <a:off x="2441880" y="67640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4"/>
            <p:cNvSpPr/>
            <p:nvPr/>
          </p:nvSpPr>
          <p:spPr>
            <a:xfrm flipH="1">
              <a:off x="2414160" y="675504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5"/>
            <p:cNvSpPr/>
            <p:nvPr/>
          </p:nvSpPr>
          <p:spPr>
            <a:xfrm flipH="1">
              <a:off x="2698200" y="6811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6"/>
            <p:cNvSpPr/>
            <p:nvPr/>
          </p:nvSpPr>
          <p:spPr>
            <a:xfrm flipH="1">
              <a:off x="2701800" y="681012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7"/>
            <p:cNvSpPr/>
            <p:nvPr/>
          </p:nvSpPr>
          <p:spPr>
            <a:xfrm flipH="1">
              <a:off x="2693520" y="68137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8"/>
            <p:cNvSpPr/>
            <p:nvPr/>
          </p:nvSpPr>
          <p:spPr>
            <a:xfrm flipH="1">
              <a:off x="267408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9"/>
            <p:cNvSpPr/>
            <p:nvPr/>
          </p:nvSpPr>
          <p:spPr>
            <a:xfrm flipH="1">
              <a:off x="267300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0"/>
            <p:cNvSpPr/>
            <p:nvPr/>
          </p:nvSpPr>
          <p:spPr>
            <a:xfrm flipH="1">
              <a:off x="2619360" y="6798600"/>
              <a:ext cx="105120" cy="3708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1"/>
            <p:cNvSpPr/>
            <p:nvPr/>
          </p:nvSpPr>
          <p:spPr>
            <a:xfrm flipH="1">
              <a:off x="2705400" y="680760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2"/>
            <p:cNvSpPr/>
            <p:nvPr/>
          </p:nvSpPr>
          <p:spPr>
            <a:xfrm flipH="1">
              <a:off x="2700720" y="681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3"/>
            <p:cNvSpPr/>
            <p:nvPr/>
          </p:nvSpPr>
          <p:spPr>
            <a:xfrm flipH="1">
              <a:off x="2700000" y="6811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4"/>
            <p:cNvSpPr/>
            <p:nvPr/>
          </p:nvSpPr>
          <p:spPr>
            <a:xfrm flipH="1">
              <a:off x="2698200" y="681300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5"/>
            <p:cNvSpPr/>
            <p:nvPr/>
          </p:nvSpPr>
          <p:spPr>
            <a:xfrm flipH="1">
              <a:off x="2701440" y="68119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6"/>
            <p:cNvSpPr/>
            <p:nvPr/>
          </p:nvSpPr>
          <p:spPr>
            <a:xfrm flipH="1">
              <a:off x="2699640" y="68130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7"/>
            <p:cNvSpPr/>
            <p:nvPr/>
          </p:nvSpPr>
          <p:spPr>
            <a:xfrm flipH="1">
              <a:off x="2683080" y="6820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8"/>
            <p:cNvSpPr/>
            <p:nvPr/>
          </p:nvSpPr>
          <p:spPr>
            <a:xfrm flipH="1">
              <a:off x="2610000" y="684684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9"/>
            <p:cNvSpPr/>
            <p:nvPr/>
          </p:nvSpPr>
          <p:spPr>
            <a:xfrm flipH="1">
              <a:off x="2616840" y="6846120"/>
              <a:ext cx="4320" cy="72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0"/>
            <p:cNvSpPr/>
            <p:nvPr/>
          </p:nvSpPr>
          <p:spPr>
            <a:xfrm flipH="1">
              <a:off x="2598840" y="6848640"/>
              <a:ext cx="324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1"/>
            <p:cNvSpPr/>
            <p:nvPr/>
          </p:nvSpPr>
          <p:spPr>
            <a:xfrm flipH="1">
              <a:off x="25570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2"/>
            <p:cNvSpPr/>
            <p:nvPr/>
          </p:nvSpPr>
          <p:spPr>
            <a:xfrm flipH="1">
              <a:off x="25552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3"/>
            <p:cNvSpPr/>
            <p:nvPr/>
          </p:nvSpPr>
          <p:spPr>
            <a:xfrm flipH="1">
              <a:off x="2458800" y="6814800"/>
              <a:ext cx="180000" cy="49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4"/>
            <p:cNvSpPr/>
            <p:nvPr/>
          </p:nvSpPr>
          <p:spPr>
            <a:xfrm flipH="1">
              <a:off x="2622960" y="6844320"/>
              <a:ext cx="324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5"/>
            <p:cNvSpPr/>
            <p:nvPr/>
          </p:nvSpPr>
          <p:spPr>
            <a:xfrm flipH="1">
              <a:off x="2615040" y="684684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6"/>
            <p:cNvSpPr/>
            <p:nvPr/>
          </p:nvSpPr>
          <p:spPr>
            <a:xfrm flipH="1">
              <a:off x="2613240" y="684864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7"/>
            <p:cNvSpPr/>
            <p:nvPr/>
          </p:nvSpPr>
          <p:spPr>
            <a:xfrm flipH="1">
              <a:off x="2609280" y="684864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8"/>
            <p:cNvSpPr/>
            <p:nvPr/>
          </p:nvSpPr>
          <p:spPr>
            <a:xfrm flipH="1">
              <a:off x="2616840" y="684756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9"/>
            <p:cNvSpPr/>
            <p:nvPr/>
          </p:nvSpPr>
          <p:spPr>
            <a:xfrm flipH="1">
              <a:off x="2612160" y="684936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0"/>
            <p:cNvSpPr/>
            <p:nvPr/>
          </p:nvSpPr>
          <p:spPr>
            <a:xfrm flipH="1">
              <a:off x="2576880" y="685116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1"/>
            <p:cNvSpPr/>
            <p:nvPr/>
          </p:nvSpPr>
          <p:spPr>
            <a:xfrm flipH="1">
              <a:off x="2734200" y="6707880"/>
              <a:ext cx="2484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12"/>
            <p:cNvSpPr/>
            <p:nvPr/>
          </p:nvSpPr>
          <p:spPr>
            <a:xfrm flipH="1">
              <a:off x="2749680" y="6723720"/>
              <a:ext cx="720" cy="72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3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4"/>
            <p:cNvSpPr/>
            <p:nvPr/>
          </p:nvSpPr>
          <p:spPr>
            <a:xfrm flipH="1">
              <a:off x="2749680" y="672300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5"/>
            <p:cNvSpPr/>
            <p:nvPr/>
          </p:nvSpPr>
          <p:spPr>
            <a:xfrm flipH="1">
              <a:off x="2741760" y="67219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6"/>
            <p:cNvSpPr/>
            <p:nvPr/>
          </p:nvSpPr>
          <p:spPr>
            <a:xfrm flipH="1">
              <a:off x="2741040" y="67219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17"/>
            <p:cNvSpPr/>
            <p:nvPr/>
          </p:nvSpPr>
          <p:spPr>
            <a:xfrm flipH="1">
              <a:off x="2730240" y="6703200"/>
              <a:ext cx="30240" cy="320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8"/>
            <p:cNvSpPr/>
            <p:nvPr/>
          </p:nvSpPr>
          <p:spPr>
            <a:xfrm flipH="1">
              <a:off x="2749680" y="67237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19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0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1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2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3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4"/>
            <p:cNvSpPr/>
            <p:nvPr/>
          </p:nvSpPr>
          <p:spPr>
            <a:xfrm flipH="1">
              <a:off x="27442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136"/>
          <p:cNvGrpSpPr/>
          <p:nvPr/>
        </p:nvGrpSpPr>
        <p:grpSpPr>
          <a:xfrm>
            <a:off x="3027240" y="6381720"/>
            <a:ext cx="586080" cy="428760"/>
            <a:chOff x="3027240" y="6381720"/>
            <a:chExt cx="586080" cy="428760"/>
          </a:xfrm>
        </p:grpSpPr>
        <p:sp>
          <p:nvSpPr>
            <p:cNvPr id="968" name="Freeform 7"/>
            <p:cNvSpPr/>
            <p:nvPr/>
          </p:nvSpPr>
          <p:spPr>
            <a:xfrm>
              <a:off x="3206880" y="6445440"/>
              <a:ext cx="576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"/>
            <p:cNvSpPr/>
            <p:nvPr/>
          </p:nvSpPr>
          <p:spPr>
            <a:xfrm>
              <a:off x="3198240" y="6455160"/>
              <a:ext cx="5760" cy="7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9"/>
            <p:cNvSpPr/>
            <p:nvPr/>
          </p:nvSpPr>
          <p:spPr>
            <a:xfrm>
              <a:off x="3226320" y="6432480"/>
              <a:ext cx="360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"/>
            <p:cNvSpPr/>
            <p:nvPr/>
          </p:nvSpPr>
          <p:spPr>
            <a:xfrm>
              <a:off x="3300840" y="641772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1"/>
            <p:cNvSpPr/>
            <p:nvPr/>
          </p:nvSpPr>
          <p:spPr>
            <a:xfrm>
              <a:off x="3300840" y="6420240"/>
              <a:ext cx="1080" cy="46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"/>
            <p:cNvSpPr/>
            <p:nvPr/>
          </p:nvSpPr>
          <p:spPr>
            <a:xfrm>
              <a:off x="3174120" y="6403320"/>
              <a:ext cx="128880" cy="1692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"/>
            <p:cNvSpPr/>
            <p:nvPr/>
          </p:nvSpPr>
          <p:spPr>
            <a:xfrm>
              <a:off x="3187440" y="6469920"/>
              <a:ext cx="4680" cy="82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4"/>
            <p:cNvSpPr/>
            <p:nvPr/>
          </p:nvSpPr>
          <p:spPr>
            <a:xfrm>
              <a:off x="3205800" y="645408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5"/>
            <p:cNvSpPr/>
            <p:nvPr/>
          </p:nvSpPr>
          <p:spPr>
            <a:xfrm>
              <a:off x="3206880" y="6450480"/>
              <a:ext cx="4680" cy="3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6"/>
            <p:cNvSpPr/>
            <p:nvPr/>
          </p:nvSpPr>
          <p:spPr>
            <a:xfrm>
              <a:off x="3213000" y="6445440"/>
              <a:ext cx="2160" cy="2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7"/>
            <p:cNvSpPr/>
            <p:nvPr/>
          </p:nvSpPr>
          <p:spPr>
            <a:xfrm>
              <a:off x="3203280" y="645660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8"/>
            <p:cNvSpPr/>
            <p:nvPr/>
          </p:nvSpPr>
          <p:spPr>
            <a:xfrm>
              <a:off x="3211560" y="644940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9"/>
            <p:cNvSpPr/>
            <p:nvPr/>
          </p:nvSpPr>
          <p:spPr>
            <a:xfrm>
              <a:off x="3267360" y="641160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0"/>
            <p:cNvSpPr/>
            <p:nvPr/>
          </p:nvSpPr>
          <p:spPr>
            <a:xfrm>
              <a:off x="3133080" y="648684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1"/>
            <p:cNvSpPr/>
            <p:nvPr/>
          </p:nvSpPr>
          <p:spPr>
            <a:xfrm>
              <a:off x="3133080" y="6494040"/>
              <a:ext cx="36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2"/>
            <p:cNvSpPr/>
            <p:nvPr/>
          </p:nvSpPr>
          <p:spPr>
            <a:xfrm>
              <a:off x="3135600" y="64735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3"/>
            <p:cNvSpPr/>
            <p:nvPr/>
          </p:nvSpPr>
          <p:spPr>
            <a:xfrm>
              <a:off x="3151440" y="642996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4"/>
            <p:cNvSpPr/>
            <p:nvPr/>
          </p:nvSpPr>
          <p:spPr>
            <a:xfrm>
              <a:off x="3152520" y="64274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5"/>
            <p:cNvSpPr/>
            <p:nvPr/>
          </p:nvSpPr>
          <p:spPr>
            <a:xfrm>
              <a:off x="3133080" y="6381720"/>
              <a:ext cx="72360" cy="16776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6"/>
            <p:cNvSpPr/>
            <p:nvPr/>
          </p:nvSpPr>
          <p:spPr>
            <a:xfrm>
              <a:off x="3132000" y="650484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7"/>
            <p:cNvSpPr/>
            <p:nvPr/>
          </p:nvSpPr>
          <p:spPr>
            <a:xfrm>
              <a:off x="3133080" y="6491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8"/>
            <p:cNvSpPr/>
            <p:nvPr/>
          </p:nvSpPr>
          <p:spPr>
            <a:xfrm>
              <a:off x="3134520" y="648900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9"/>
            <p:cNvSpPr/>
            <p:nvPr/>
          </p:nvSpPr>
          <p:spPr>
            <a:xfrm>
              <a:off x="3135600" y="64843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0"/>
            <p:cNvSpPr/>
            <p:nvPr/>
          </p:nvSpPr>
          <p:spPr>
            <a:xfrm>
              <a:off x="3134520" y="649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1"/>
            <p:cNvSpPr/>
            <p:nvPr/>
          </p:nvSpPr>
          <p:spPr>
            <a:xfrm>
              <a:off x="3135600" y="648792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2"/>
            <p:cNvSpPr/>
            <p:nvPr/>
          </p:nvSpPr>
          <p:spPr>
            <a:xfrm>
              <a:off x="3142800" y="644796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3"/>
            <p:cNvSpPr/>
            <p:nvPr/>
          </p:nvSpPr>
          <p:spPr>
            <a:xfrm>
              <a:off x="3079080" y="6602760"/>
              <a:ext cx="21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4"/>
            <p:cNvSpPr/>
            <p:nvPr/>
          </p:nvSpPr>
          <p:spPr>
            <a:xfrm>
              <a:off x="3084840" y="6594120"/>
              <a:ext cx="3600" cy="3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5"/>
            <p:cNvSpPr/>
            <p:nvPr/>
          </p:nvSpPr>
          <p:spPr>
            <a:xfrm>
              <a:off x="3066840" y="6612480"/>
              <a:ext cx="216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6"/>
            <p:cNvSpPr/>
            <p:nvPr/>
          </p:nvSpPr>
          <p:spPr>
            <a:xfrm>
              <a:off x="3042720" y="66560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7"/>
            <p:cNvSpPr/>
            <p:nvPr/>
          </p:nvSpPr>
          <p:spPr>
            <a:xfrm>
              <a:off x="3042720" y="665820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8"/>
            <p:cNvSpPr/>
            <p:nvPr/>
          </p:nvSpPr>
          <p:spPr>
            <a:xfrm>
              <a:off x="3027240" y="6561720"/>
              <a:ext cx="135000" cy="14976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9"/>
            <p:cNvSpPr/>
            <p:nvPr/>
          </p:nvSpPr>
          <p:spPr>
            <a:xfrm>
              <a:off x="3093480" y="6588360"/>
              <a:ext cx="7200" cy="2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0"/>
            <p:cNvSpPr/>
            <p:nvPr/>
          </p:nvSpPr>
          <p:spPr>
            <a:xfrm>
              <a:off x="3082680" y="65980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1"/>
            <p:cNvSpPr/>
            <p:nvPr/>
          </p:nvSpPr>
          <p:spPr>
            <a:xfrm>
              <a:off x="3079080" y="65980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2"/>
            <p:cNvSpPr/>
            <p:nvPr/>
          </p:nvSpPr>
          <p:spPr>
            <a:xfrm>
              <a:off x="3075480" y="660168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3"/>
            <p:cNvSpPr/>
            <p:nvPr/>
          </p:nvSpPr>
          <p:spPr>
            <a:xfrm>
              <a:off x="3083760" y="6596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3077640" y="66002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3047400" y="663300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6"/>
            <p:cNvSpPr/>
            <p:nvPr/>
          </p:nvSpPr>
          <p:spPr>
            <a:xfrm>
              <a:off x="3298680" y="6512040"/>
              <a:ext cx="57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7"/>
            <p:cNvSpPr/>
            <p:nvPr/>
          </p:nvSpPr>
          <p:spPr>
            <a:xfrm>
              <a:off x="3285360" y="6521760"/>
              <a:ext cx="8280" cy="5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8"/>
            <p:cNvSpPr/>
            <p:nvPr/>
          </p:nvSpPr>
          <p:spPr>
            <a:xfrm>
              <a:off x="3322800" y="6500160"/>
              <a:ext cx="46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9"/>
            <p:cNvSpPr/>
            <p:nvPr/>
          </p:nvSpPr>
          <p:spPr>
            <a:xfrm>
              <a:off x="3417840" y="6500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0"/>
            <p:cNvSpPr/>
            <p:nvPr/>
          </p:nvSpPr>
          <p:spPr>
            <a:xfrm>
              <a:off x="3421800" y="650124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1"/>
            <p:cNvSpPr/>
            <p:nvPr/>
          </p:nvSpPr>
          <p:spPr>
            <a:xfrm>
              <a:off x="3205800" y="6490440"/>
              <a:ext cx="340200" cy="176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2"/>
            <p:cNvSpPr/>
            <p:nvPr/>
          </p:nvSpPr>
          <p:spPr>
            <a:xfrm>
              <a:off x="3269520" y="6534000"/>
              <a:ext cx="720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3"/>
            <p:cNvSpPr/>
            <p:nvPr/>
          </p:nvSpPr>
          <p:spPr>
            <a:xfrm>
              <a:off x="3293640" y="6519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4"/>
            <p:cNvSpPr/>
            <p:nvPr/>
          </p:nvSpPr>
          <p:spPr>
            <a:xfrm>
              <a:off x="3297240" y="6517080"/>
              <a:ext cx="468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55"/>
            <p:cNvSpPr/>
            <p:nvPr/>
          </p:nvSpPr>
          <p:spPr>
            <a:xfrm>
              <a:off x="3303360" y="6512040"/>
              <a:ext cx="468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56"/>
            <p:cNvSpPr/>
            <p:nvPr/>
          </p:nvSpPr>
          <p:spPr>
            <a:xfrm>
              <a:off x="3291480" y="65228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7"/>
            <p:cNvSpPr/>
            <p:nvPr/>
          </p:nvSpPr>
          <p:spPr>
            <a:xfrm>
              <a:off x="3302280" y="65170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58"/>
            <p:cNvSpPr/>
            <p:nvPr/>
          </p:nvSpPr>
          <p:spPr>
            <a:xfrm>
              <a:off x="3375720" y="6494040"/>
              <a:ext cx="576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59"/>
            <p:cNvSpPr/>
            <p:nvPr/>
          </p:nvSpPr>
          <p:spPr>
            <a:xfrm>
              <a:off x="3349080" y="664740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0"/>
            <p:cNvSpPr/>
            <p:nvPr/>
          </p:nvSpPr>
          <p:spPr>
            <a:xfrm>
              <a:off x="3352680" y="664128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1"/>
            <p:cNvSpPr/>
            <p:nvPr/>
          </p:nvSpPr>
          <p:spPr>
            <a:xfrm>
              <a:off x="3343320" y="66535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2"/>
            <p:cNvSpPr/>
            <p:nvPr/>
          </p:nvSpPr>
          <p:spPr>
            <a:xfrm>
              <a:off x="3326400" y="668016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3"/>
            <p:cNvSpPr/>
            <p:nvPr/>
          </p:nvSpPr>
          <p:spPr>
            <a:xfrm>
              <a:off x="3326400" y="668124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4"/>
            <p:cNvSpPr/>
            <p:nvPr/>
          </p:nvSpPr>
          <p:spPr>
            <a:xfrm>
              <a:off x="3308040" y="6616080"/>
              <a:ext cx="74520" cy="14616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5"/>
            <p:cNvSpPr/>
            <p:nvPr/>
          </p:nvSpPr>
          <p:spPr>
            <a:xfrm>
              <a:off x="3357720" y="66376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6"/>
            <p:cNvSpPr/>
            <p:nvPr/>
          </p:nvSpPr>
          <p:spPr>
            <a:xfrm>
              <a:off x="3350520" y="66448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7"/>
            <p:cNvSpPr/>
            <p:nvPr/>
          </p:nvSpPr>
          <p:spPr>
            <a:xfrm>
              <a:off x="3349080" y="6644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8"/>
            <p:cNvSpPr/>
            <p:nvPr/>
          </p:nvSpPr>
          <p:spPr>
            <a:xfrm>
              <a:off x="3348000" y="66474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69"/>
            <p:cNvSpPr/>
            <p:nvPr/>
          </p:nvSpPr>
          <p:spPr>
            <a:xfrm>
              <a:off x="3351600" y="6642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0"/>
            <p:cNvSpPr/>
            <p:nvPr/>
          </p:nvSpPr>
          <p:spPr>
            <a:xfrm>
              <a:off x="3348000" y="66448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1"/>
            <p:cNvSpPr/>
            <p:nvPr/>
          </p:nvSpPr>
          <p:spPr>
            <a:xfrm>
              <a:off x="3332520" y="66668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2"/>
            <p:cNvSpPr/>
            <p:nvPr/>
          </p:nvSpPr>
          <p:spPr>
            <a:xfrm>
              <a:off x="3546000" y="66704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73"/>
            <p:cNvSpPr/>
            <p:nvPr/>
          </p:nvSpPr>
          <p:spPr>
            <a:xfrm>
              <a:off x="3544560" y="667908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74"/>
            <p:cNvSpPr/>
            <p:nvPr/>
          </p:nvSpPr>
          <p:spPr>
            <a:xfrm>
              <a:off x="3556800" y="6660720"/>
              <a:ext cx="360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75"/>
            <p:cNvSpPr/>
            <p:nvPr/>
          </p:nvSpPr>
          <p:spPr>
            <a:xfrm>
              <a:off x="3602520" y="6675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76"/>
            <p:cNvSpPr/>
            <p:nvPr/>
          </p:nvSpPr>
          <p:spPr>
            <a:xfrm>
              <a:off x="360396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7"/>
            <p:cNvSpPr/>
            <p:nvPr/>
          </p:nvSpPr>
          <p:spPr>
            <a:xfrm>
              <a:off x="3544560" y="6654600"/>
              <a:ext cx="68760" cy="7344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78"/>
            <p:cNvSpPr/>
            <p:nvPr/>
          </p:nvSpPr>
          <p:spPr>
            <a:xfrm>
              <a:off x="3542400" y="6689880"/>
              <a:ext cx="1080" cy="57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79"/>
            <p:cNvSpPr/>
            <p:nvPr/>
          </p:nvSpPr>
          <p:spPr>
            <a:xfrm>
              <a:off x="354600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0"/>
            <p:cNvSpPr/>
            <p:nvPr/>
          </p:nvSpPr>
          <p:spPr>
            <a:xfrm>
              <a:off x="3547080" y="6674040"/>
              <a:ext cx="2160" cy="21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1"/>
            <p:cNvSpPr/>
            <p:nvPr/>
          </p:nvSpPr>
          <p:spPr>
            <a:xfrm>
              <a:off x="3549600" y="66704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2"/>
            <p:cNvSpPr/>
            <p:nvPr/>
          </p:nvSpPr>
          <p:spPr>
            <a:xfrm>
              <a:off x="3546000" y="667908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3"/>
            <p:cNvSpPr/>
            <p:nvPr/>
          </p:nvSpPr>
          <p:spPr>
            <a:xfrm>
              <a:off x="3549600" y="667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84"/>
            <p:cNvSpPr/>
            <p:nvPr/>
          </p:nvSpPr>
          <p:spPr>
            <a:xfrm>
              <a:off x="3587040" y="6661800"/>
              <a:ext cx="108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5"/>
            <p:cNvSpPr/>
            <p:nvPr/>
          </p:nvSpPr>
          <p:spPr>
            <a:xfrm>
              <a:off x="3202200" y="67381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86"/>
            <p:cNvSpPr/>
            <p:nvPr/>
          </p:nvSpPr>
          <p:spPr>
            <a:xfrm>
              <a:off x="3197160" y="673704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7"/>
            <p:cNvSpPr/>
            <p:nvPr/>
          </p:nvSpPr>
          <p:spPr>
            <a:xfrm>
              <a:off x="3209400" y="674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88"/>
            <p:cNvSpPr/>
            <p:nvPr/>
          </p:nvSpPr>
          <p:spPr>
            <a:xfrm>
              <a:off x="323568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89"/>
            <p:cNvSpPr/>
            <p:nvPr/>
          </p:nvSpPr>
          <p:spPr>
            <a:xfrm>
              <a:off x="323712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0"/>
            <p:cNvSpPr/>
            <p:nvPr/>
          </p:nvSpPr>
          <p:spPr>
            <a:xfrm>
              <a:off x="3168360" y="6721200"/>
              <a:ext cx="142200" cy="5076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1"/>
            <p:cNvSpPr/>
            <p:nvPr/>
          </p:nvSpPr>
          <p:spPr>
            <a:xfrm>
              <a:off x="3192480" y="673344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2"/>
            <p:cNvSpPr/>
            <p:nvPr/>
          </p:nvSpPr>
          <p:spPr>
            <a:xfrm>
              <a:off x="3199680" y="6738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"/>
            <p:cNvSpPr/>
            <p:nvPr/>
          </p:nvSpPr>
          <p:spPr>
            <a:xfrm>
              <a:off x="3199680" y="67392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4"/>
            <p:cNvSpPr/>
            <p:nvPr/>
          </p:nvSpPr>
          <p:spPr>
            <a:xfrm>
              <a:off x="3202200" y="674064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5"/>
            <p:cNvSpPr/>
            <p:nvPr/>
          </p:nvSpPr>
          <p:spPr>
            <a:xfrm>
              <a:off x="3198240" y="673920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6"/>
            <p:cNvSpPr/>
            <p:nvPr/>
          </p:nvSpPr>
          <p:spPr>
            <a:xfrm>
              <a:off x="3200760" y="674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7"/>
            <p:cNvSpPr/>
            <p:nvPr/>
          </p:nvSpPr>
          <p:spPr>
            <a:xfrm>
              <a:off x="3222360" y="6750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8"/>
            <p:cNvSpPr/>
            <p:nvPr/>
          </p:nvSpPr>
          <p:spPr>
            <a:xfrm>
              <a:off x="3319200" y="678636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9"/>
            <p:cNvSpPr/>
            <p:nvPr/>
          </p:nvSpPr>
          <p:spPr>
            <a:xfrm>
              <a:off x="3308040" y="6785280"/>
              <a:ext cx="576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00"/>
            <p:cNvSpPr/>
            <p:nvPr/>
          </p:nvSpPr>
          <p:spPr>
            <a:xfrm>
              <a:off x="3333600" y="6788880"/>
              <a:ext cx="46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01"/>
            <p:cNvSpPr/>
            <p:nvPr/>
          </p:nvSpPr>
          <p:spPr>
            <a:xfrm>
              <a:off x="339264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02"/>
            <p:cNvSpPr/>
            <p:nvPr/>
          </p:nvSpPr>
          <p:spPr>
            <a:xfrm>
              <a:off x="339516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03"/>
            <p:cNvSpPr/>
            <p:nvPr/>
          </p:nvSpPr>
          <p:spPr>
            <a:xfrm>
              <a:off x="3283920" y="6742800"/>
              <a:ext cx="243720" cy="67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04"/>
            <p:cNvSpPr/>
            <p:nvPr/>
          </p:nvSpPr>
          <p:spPr>
            <a:xfrm>
              <a:off x="3300840" y="6782760"/>
              <a:ext cx="46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05"/>
            <p:cNvSpPr/>
            <p:nvPr/>
          </p:nvSpPr>
          <p:spPr>
            <a:xfrm>
              <a:off x="3314160" y="6786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6"/>
            <p:cNvSpPr/>
            <p:nvPr/>
          </p:nvSpPr>
          <p:spPr>
            <a:xfrm>
              <a:off x="3316680" y="67888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07"/>
            <p:cNvSpPr/>
            <p:nvPr/>
          </p:nvSpPr>
          <p:spPr>
            <a:xfrm>
              <a:off x="3320280" y="67888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08"/>
            <p:cNvSpPr/>
            <p:nvPr/>
          </p:nvSpPr>
          <p:spPr>
            <a:xfrm>
              <a:off x="3312000" y="6787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9"/>
            <p:cNvSpPr/>
            <p:nvPr/>
          </p:nvSpPr>
          <p:spPr>
            <a:xfrm>
              <a:off x="3319200" y="67899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0"/>
            <p:cNvSpPr/>
            <p:nvPr/>
          </p:nvSpPr>
          <p:spPr>
            <a:xfrm>
              <a:off x="3366000" y="67924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11"/>
            <p:cNvSpPr/>
            <p:nvPr/>
          </p:nvSpPr>
          <p:spPr>
            <a:xfrm>
              <a:off x="3121200" y="6598080"/>
              <a:ext cx="33480" cy="29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12"/>
            <p:cNvSpPr/>
            <p:nvPr/>
          </p:nvSpPr>
          <p:spPr>
            <a:xfrm>
              <a:off x="3133080" y="6619680"/>
              <a:ext cx="1080" cy="108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13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14"/>
            <p:cNvSpPr/>
            <p:nvPr/>
          </p:nvSpPr>
          <p:spPr>
            <a:xfrm>
              <a:off x="3133080" y="6618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15"/>
            <p:cNvSpPr/>
            <p:nvPr/>
          </p:nvSpPr>
          <p:spPr>
            <a:xfrm>
              <a:off x="3144240" y="66171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16"/>
            <p:cNvSpPr/>
            <p:nvPr/>
          </p:nvSpPr>
          <p:spPr>
            <a:xfrm>
              <a:off x="3145320" y="661716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17"/>
            <p:cNvSpPr/>
            <p:nvPr/>
          </p:nvSpPr>
          <p:spPr>
            <a:xfrm>
              <a:off x="3120120" y="6591960"/>
              <a:ext cx="40680" cy="432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18"/>
            <p:cNvSpPr/>
            <p:nvPr/>
          </p:nvSpPr>
          <p:spPr>
            <a:xfrm>
              <a:off x="3133080" y="66196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19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0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21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22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23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24"/>
            <p:cNvSpPr/>
            <p:nvPr/>
          </p:nvSpPr>
          <p:spPr>
            <a:xfrm>
              <a:off x="314064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255"/>
          <p:cNvGrpSpPr/>
          <p:nvPr/>
        </p:nvGrpSpPr>
        <p:grpSpPr>
          <a:xfrm>
            <a:off x="-3430440" y="73080"/>
            <a:ext cx="6691320" cy="6786360"/>
            <a:chOff x="-3430440" y="73080"/>
            <a:chExt cx="6691320" cy="6786360"/>
          </a:xfrm>
        </p:grpSpPr>
        <p:sp>
          <p:nvSpPr>
            <p:cNvPr id="1087" name="Freeform 6"/>
            <p:cNvSpPr/>
            <p:nvPr/>
          </p:nvSpPr>
          <p:spPr>
            <a:xfrm>
              <a:off x="-3430440" y="73080"/>
              <a:ext cx="6271200" cy="6786360"/>
            </a:xfrm>
            <a:custGeom>
              <a:avLst/>
              <a:gdLst/>
              <a:ahLst/>
              <a:rect l="l" t="t" r="r" b="b"/>
              <a:pathLst>
                <a:path w="4118" h="4455">
                  <a:moveTo>
                    <a:pt x="3770" y="2473"/>
                  </a:moveTo>
                  <a:cubicBezTo>
                    <a:pt x="3802" y="2481"/>
                    <a:pt x="3821" y="2505"/>
                    <a:pt x="3838" y="2531"/>
                  </a:cubicBezTo>
                  <a:cubicBezTo>
                    <a:pt x="3844" y="2539"/>
                    <a:pt x="3848" y="2550"/>
                    <a:pt x="3848" y="2561"/>
                  </a:cubicBezTo>
                  <a:cubicBezTo>
                    <a:pt x="3849" y="2648"/>
                    <a:pt x="3847" y="2737"/>
                    <a:pt x="3822" y="2821"/>
                  </a:cubicBezTo>
                  <a:cubicBezTo>
                    <a:pt x="3800" y="2894"/>
                    <a:pt x="3781" y="2970"/>
                    <a:pt x="3729" y="3031"/>
                  </a:cubicBezTo>
                  <a:cubicBezTo>
                    <a:pt x="3720" y="3042"/>
                    <a:pt x="3715" y="3057"/>
                    <a:pt x="3708" y="3069"/>
                  </a:cubicBezTo>
                  <a:cubicBezTo>
                    <a:pt x="3686" y="3101"/>
                    <a:pt x="3665" y="3133"/>
                    <a:pt x="3643" y="3164"/>
                  </a:cubicBezTo>
                  <a:cubicBezTo>
                    <a:pt x="3639" y="3169"/>
                    <a:pt x="3629" y="3170"/>
                    <a:pt x="3622" y="3174"/>
                  </a:cubicBezTo>
                  <a:cubicBezTo>
                    <a:pt x="3608" y="3183"/>
                    <a:pt x="3592" y="3191"/>
                    <a:pt x="3580" y="3203"/>
                  </a:cubicBezTo>
                  <a:cubicBezTo>
                    <a:pt x="3571" y="3212"/>
                    <a:pt x="3566" y="3226"/>
                    <a:pt x="3550" y="3225"/>
                  </a:cubicBezTo>
                  <a:cubicBezTo>
                    <a:pt x="3528" y="3223"/>
                    <a:pt x="3505" y="3233"/>
                    <a:pt x="3484" y="3218"/>
                  </a:cubicBezTo>
                  <a:cubicBezTo>
                    <a:pt x="3462" y="3203"/>
                    <a:pt x="3437" y="3193"/>
                    <a:pt x="3417" y="3177"/>
                  </a:cubicBezTo>
                  <a:cubicBezTo>
                    <a:pt x="3392" y="3157"/>
                    <a:pt x="3372" y="3133"/>
                    <a:pt x="3348" y="3111"/>
                  </a:cubicBezTo>
                  <a:cubicBezTo>
                    <a:pt x="3325" y="3090"/>
                    <a:pt x="3301" y="3069"/>
                    <a:pt x="3276" y="3049"/>
                  </a:cubicBezTo>
                  <a:cubicBezTo>
                    <a:pt x="3271" y="3045"/>
                    <a:pt x="3264" y="3043"/>
                    <a:pt x="3258" y="3042"/>
                  </a:cubicBezTo>
                  <a:cubicBezTo>
                    <a:pt x="3238" y="3040"/>
                    <a:pt x="3227" y="3029"/>
                    <a:pt x="3221" y="3010"/>
                  </a:cubicBezTo>
                  <a:cubicBezTo>
                    <a:pt x="3212" y="2984"/>
                    <a:pt x="3193" y="2968"/>
                    <a:pt x="3162" y="2950"/>
                  </a:cubicBezTo>
                  <a:cubicBezTo>
                    <a:pt x="3206" y="3036"/>
                    <a:pt x="3268" y="3094"/>
                    <a:pt x="3332" y="3147"/>
                  </a:cubicBezTo>
                  <a:cubicBezTo>
                    <a:pt x="3406" y="3208"/>
                    <a:pt x="3490" y="3258"/>
                    <a:pt x="3570" y="3311"/>
                  </a:cubicBezTo>
                  <a:cubicBezTo>
                    <a:pt x="3591" y="3324"/>
                    <a:pt x="3617" y="3329"/>
                    <a:pt x="3640" y="3337"/>
                  </a:cubicBezTo>
                  <a:cubicBezTo>
                    <a:pt x="3647" y="3340"/>
                    <a:pt x="3655" y="3341"/>
                    <a:pt x="3662" y="3345"/>
                  </a:cubicBezTo>
                  <a:cubicBezTo>
                    <a:pt x="3696" y="3363"/>
                    <a:pt x="3723" y="3357"/>
                    <a:pt x="3751" y="3332"/>
                  </a:cubicBezTo>
                  <a:cubicBezTo>
                    <a:pt x="3791" y="3295"/>
                    <a:pt x="3809" y="3243"/>
                    <a:pt x="3843" y="3202"/>
                  </a:cubicBezTo>
                  <a:cubicBezTo>
                    <a:pt x="3844" y="3201"/>
                    <a:pt x="3845" y="3200"/>
                    <a:pt x="3845" y="3199"/>
                  </a:cubicBezTo>
                  <a:cubicBezTo>
                    <a:pt x="3840" y="3162"/>
                    <a:pt x="3873" y="3145"/>
                    <a:pt x="3888" y="3118"/>
                  </a:cubicBezTo>
                  <a:cubicBezTo>
                    <a:pt x="3911" y="3077"/>
                    <a:pt x="3937" y="3036"/>
                    <a:pt x="3932" y="2984"/>
                  </a:cubicBezTo>
                  <a:cubicBezTo>
                    <a:pt x="3931" y="2985"/>
                    <a:pt x="3931" y="2985"/>
                    <a:pt x="3931" y="2985"/>
                  </a:cubicBezTo>
                  <a:cubicBezTo>
                    <a:pt x="3940" y="2984"/>
                    <a:pt x="3946" y="2987"/>
                    <a:pt x="3945" y="2998"/>
                  </a:cubicBezTo>
                  <a:cubicBezTo>
                    <a:pt x="3944" y="3011"/>
                    <a:pt x="3941" y="3024"/>
                    <a:pt x="3940" y="3037"/>
                  </a:cubicBezTo>
                  <a:cubicBezTo>
                    <a:pt x="3939" y="3069"/>
                    <a:pt x="3939" y="3069"/>
                    <a:pt x="3961" y="3090"/>
                  </a:cubicBezTo>
                  <a:cubicBezTo>
                    <a:pt x="3945" y="3123"/>
                    <a:pt x="3930" y="3156"/>
                    <a:pt x="3915" y="3188"/>
                  </a:cubicBezTo>
                  <a:cubicBezTo>
                    <a:pt x="3913" y="3187"/>
                    <a:pt x="3910" y="3186"/>
                    <a:pt x="3907" y="3185"/>
                  </a:cubicBezTo>
                  <a:cubicBezTo>
                    <a:pt x="3908" y="3178"/>
                    <a:pt x="3909" y="3171"/>
                    <a:pt x="3910" y="3163"/>
                  </a:cubicBezTo>
                  <a:cubicBezTo>
                    <a:pt x="3911" y="3161"/>
                    <a:pt x="3913" y="3160"/>
                    <a:pt x="3914" y="3158"/>
                  </a:cubicBezTo>
                  <a:cubicBezTo>
                    <a:pt x="3915" y="3153"/>
                    <a:pt x="3916" y="3149"/>
                    <a:pt x="3916" y="3145"/>
                  </a:cubicBezTo>
                  <a:cubicBezTo>
                    <a:pt x="3916" y="3144"/>
                    <a:pt x="3912" y="3143"/>
                    <a:pt x="3910" y="3142"/>
                  </a:cubicBezTo>
                  <a:cubicBezTo>
                    <a:pt x="3909" y="3148"/>
                    <a:pt x="3907" y="3153"/>
                    <a:pt x="3907" y="3158"/>
                  </a:cubicBezTo>
                  <a:cubicBezTo>
                    <a:pt x="3907" y="3160"/>
                    <a:pt x="3909" y="3162"/>
                    <a:pt x="3911" y="3164"/>
                  </a:cubicBezTo>
                  <a:cubicBezTo>
                    <a:pt x="3890" y="3162"/>
                    <a:pt x="3879" y="3175"/>
                    <a:pt x="3870" y="3191"/>
                  </a:cubicBezTo>
                  <a:cubicBezTo>
                    <a:pt x="3849" y="3227"/>
                    <a:pt x="3825" y="3263"/>
                    <a:pt x="3805" y="3300"/>
                  </a:cubicBezTo>
                  <a:cubicBezTo>
                    <a:pt x="3797" y="3315"/>
                    <a:pt x="3795" y="3334"/>
                    <a:pt x="3790" y="3351"/>
                  </a:cubicBezTo>
                  <a:cubicBezTo>
                    <a:pt x="3787" y="3360"/>
                    <a:pt x="3783" y="3369"/>
                    <a:pt x="3776" y="3375"/>
                  </a:cubicBezTo>
                  <a:cubicBezTo>
                    <a:pt x="3730" y="3412"/>
                    <a:pt x="3683" y="3448"/>
                    <a:pt x="3636" y="3485"/>
                  </a:cubicBezTo>
                  <a:cubicBezTo>
                    <a:pt x="3610" y="3505"/>
                    <a:pt x="3583" y="3500"/>
                    <a:pt x="3557" y="3487"/>
                  </a:cubicBezTo>
                  <a:cubicBezTo>
                    <a:pt x="3503" y="3461"/>
                    <a:pt x="3449" y="3433"/>
                    <a:pt x="3394" y="3407"/>
                  </a:cubicBezTo>
                  <a:cubicBezTo>
                    <a:pt x="3388" y="3404"/>
                    <a:pt x="3380" y="3403"/>
                    <a:pt x="3371" y="3404"/>
                  </a:cubicBezTo>
                  <a:cubicBezTo>
                    <a:pt x="3399" y="3436"/>
                    <a:pt x="3435" y="3459"/>
                    <a:pt x="3465" y="3489"/>
                  </a:cubicBezTo>
                  <a:cubicBezTo>
                    <a:pt x="3458" y="3487"/>
                    <a:pt x="3451" y="3485"/>
                    <a:pt x="3437" y="3481"/>
                  </a:cubicBezTo>
                  <a:cubicBezTo>
                    <a:pt x="3446" y="3493"/>
                    <a:pt x="3451" y="3501"/>
                    <a:pt x="3459" y="3507"/>
                  </a:cubicBezTo>
                  <a:cubicBezTo>
                    <a:pt x="3469" y="3516"/>
                    <a:pt x="3476" y="3524"/>
                    <a:pt x="3480" y="3539"/>
                  </a:cubicBezTo>
                  <a:cubicBezTo>
                    <a:pt x="3484" y="3551"/>
                    <a:pt x="3500" y="3561"/>
                    <a:pt x="3512" y="3572"/>
                  </a:cubicBezTo>
                  <a:cubicBezTo>
                    <a:pt x="3521" y="3564"/>
                    <a:pt x="3528" y="3558"/>
                    <a:pt x="3534" y="3553"/>
                  </a:cubicBezTo>
                  <a:cubicBezTo>
                    <a:pt x="3537" y="3555"/>
                    <a:pt x="3540" y="3557"/>
                    <a:pt x="3540" y="3559"/>
                  </a:cubicBezTo>
                  <a:cubicBezTo>
                    <a:pt x="3539" y="3596"/>
                    <a:pt x="3512" y="3618"/>
                    <a:pt x="3486" y="3638"/>
                  </a:cubicBezTo>
                  <a:cubicBezTo>
                    <a:pt x="3455" y="3662"/>
                    <a:pt x="3426" y="3684"/>
                    <a:pt x="3421" y="3727"/>
                  </a:cubicBezTo>
                  <a:cubicBezTo>
                    <a:pt x="3420" y="3735"/>
                    <a:pt x="3408" y="3743"/>
                    <a:pt x="3401" y="3751"/>
                  </a:cubicBezTo>
                  <a:cubicBezTo>
                    <a:pt x="3376" y="3742"/>
                    <a:pt x="3356" y="3746"/>
                    <a:pt x="3335" y="3759"/>
                  </a:cubicBezTo>
                  <a:cubicBezTo>
                    <a:pt x="3301" y="3781"/>
                    <a:pt x="3265" y="3777"/>
                    <a:pt x="3233" y="3756"/>
                  </a:cubicBezTo>
                  <a:cubicBezTo>
                    <a:pt x="3176" y="3720"/>
                    <a:pt x="3119" y="3683"/>
                    <a:pt x="3066" y="3642"/>
                  </a:cubicBezTo>
                  <a:cubicBezTo>
                    <a:pt x="3017" y="3605"/>
                    <a:pt x="2974" y="3561"/>
                    <a:pt x="2929" y="3520"/>
                  </a:cubicBezTo>
                  <a:cubicBezTo>
                    <a:pt x="2921" y="3513"/>
                    <a:pt x="2913" y="3506"/>
                    <a:pt x="2905" y="3499"/>
                  </a:cubicBezTo>
                  <a:cubicBezTo>
                    <a:pt x="2859" y="3459"/>
                    <a:pt x="2812" y="3421"/>
                    <a:pt x="2768" y="3378"/>
                  </a:cubicBezTo>
                  <a:cubicBezTo>
                    <a:pt x="2738" y="3349"/>
                    <a:pt x="2714" y="3314"/>
                    <a:pt x="2686" y="3281"/>
                  </a:cubicBezTo>
                  <a:cubicBezTo>
                    <a:pt x="2682" y="3276"/>
                    <a:pt x="2675" y="3272"/>
                    <a:pt x="2664" y="3264"/>
                  </a:cubicBezTo>
                  <a:cubicBezTo>
                    <a:pt x="2665" y="3306"/>
                    <a:pt x="2719" y="3316"/>
                    <a:pt x="2705" y="3361"/>
                  </a:cubicBezTo>
                  <a:cubicBezTo>
                    <a:pt x="2736" y="3352"/>
                    <a:pt x="2748" y="3371"/>
                    <a:pt x="2758" y="3390"/>
                  </a:cubicBezTo>
                  <a:cubicBezTo>
                    <a:pt x="2778" y="3428"/>
                    <a:pt x="2806" y="3456"/>
                    <a:pt x="2837" y="3484"/>
                  </a:cubicBezTo>
                  <a:cubicBezTo>
                    <a:pt x="2865" y="3508"/>
                    <a:pt x="2889" y="3537"/>
                    <a:pt x="2915" y="3564"/>
                  </a:cubicBezTo>
                  <a:cubicBezTo>
                    <a:pt x="2953" y="3603"/>
                    <a:pt x="2991" y="3641"/>
                    <a:pt x="3029" y="3680"/>
                  </a:cubicBezTo>
                  <a:cubicBezTo>
                    <a:pt x="3040" y="3691"/>
                    <a:pt x="3051" y="3702"/>
                    <a:pt x="3063" y="3714"/>
                  </a:cubicBezTo>
                  <a:cubicBezTo>
                    <a:pt x="3053" y="3711"/>
                    <a:pt x="3044" y="3709"/>
                    <a:pt x="3028" y="3705"/>
                  </a:cubicBezTo>
                  <a:cubicBezTo>
                    <a:pt x="3043" y="3726"/>
                    <a:pt x="3053" y="3727"/>
                    <a:pt x="3065" y="3715"/>
                  </a:cubicBezTo>
                  <a:cubicBezTo>
                    <a:pt x="3068" y="3723"/>
                    <a:pt x="3070" y="3738"/>
                    <a:pt x="3073" y="3738"/>
                  </a:cubicBezTo>
                  <a:cubicBezTo>
                    <a:pt x="3095" y="3739"/>
                    <a:pt x="3100" y="3754"/>
                    <a:pt x="3106" y="3771"/>
                  </a:cubicBezTo>
                  <a:cubicBezTo>
                    <a:pt x="3111" y="3785"/>
                    <a:pt x="3119" y="3799"/>
                    <a:pt x="3140" y="3798"/>
                  </a:cubicBezTo>
                  <a:cubicBezTo>
                    <a:pt x="3151" y="3798"/>
                    <a:pt x="3161" y="3812"/>
                    <a:pt x="3173" y="3820"/>
                  </a:cubicBezTo>
                  <a:cubicBezTo>
                    <a:pt x="3176" y="3817"/>
                    <a:pt x="3179" y="3813"/>
                    <a:pt x="3183" y="3810"/>
                  </a:cubicBezTo>
                  <a:cubicBezTo>
                    <a:pt x="3185" y="3811"/>
                    <a:pt x="3188" y="3811"/>
                    <a:pt x="3189" y="3812"/>
                  </a:cubicBezTo>
                  <a:cubicBezTo>
                    <a:pt x="3203" y="3842"/>
                    <a:pt x="3202" y="3847"/>
                    <a:pt x="3179" y="3871"/>
                  </a:cubicBezTo>
                  <a:cubicBezTo>
                    <a:pt x="3166" y="3884"/>
                    <a:pt x="3153" y="3897"/>
                    <a:pt x="3140" y="3910"/>
                  </a:cubicBezTo>
                  <a:cubicBezTo>
                    <a:pt x="3141" y="3913"/>
                    <a:pt x="3143" y="3916"/>
                    <a:pt x="3144" y="3919"/>
                  </a:cubicBezTo>
                  <a:cubicBezTo>
                    <a:pt x="3157" y="3916"/>
                    <a:pt x="3170" y="3913"/>
                    <a:pt x="3183" y="3910"/>
                  </a:cubicBezTo>
                  <a:cubicBezTo>
                    <a:pt x="3171" y="3932"/>
                    <a:pt x="3171" y="3932"/>
                    <a:pt x="3127" y="3938"/>
                  </a:cubicBezTo>
                  <a:cubicBezTo>
                    <a:pt x="3124" y="3931"/>
                    <a:pt x="3123" y="3919"/>
                    <a:pt x="3118" y="3917"/>
                  </a:cubicBezTo>
                  <a:cubicBezTo>
                    <a:pt x="3111" y="3913"/>
                    <a:pt x="3099" y="3913"/>
                    <a:pt x="3092" y="3916"/>
                  </a:cubicBezTo>
                  <a:cubicBezTo>
                    <a:pt x="3051" y="3939"/>
                    <a:pt x="3010" y="3963"/>
                    <a:pt x="2968" y="3985"/>
                  </a:cubicBezTo>
                  <a:cubicBezTo>
                    <a:pt x="2961" y="3990"/>
                    <a:pt x="2951" y="3990"/>
                    <a:pt x="2943" y="3994"/>
                  </a:cubicBezTo>
                  <a:cubicBezTo>
                    <a:pt x="2931" y="4000"/>
                    <a:pt x="2920" y="4007"/>
                    <a:pt x="2909" y="4014"/>
                  </a:cubicBezTo>
                  <a:cubicBezTo>
                    <a:pt x="2909" y="4014"/>
                    <a:pt x="2910" y="4013"/>
                    <a:pt x="2910" y="4013"/>
                  </a:cubicBezTo>
                  <a:cubicBezTo>
                    <a:pt x="2903" y="4010"/>
                    <a:pt x="2896" y="4004"/>
                    <a:pt x="2889" y="4002"/>
                  </a:cubicBezTo>
                  <a:cubicBezTo>
                    <a:pt x="2827" y="3992"/>
                    <a:pt x="2778" y="3961"/>
                    <a:pt x="2734" y="3918"/>
                  </a:cubicBezTo>
                  <a:cubicBezTo>
                    <a:pt x="2692" y="3878"/>
                    <a:pt x="2648" y="3839"/>
                    <a:pt x="2605" y="3800"/>
                  </a:cubicBezTo>
                  <a:cubicBezTo>
                    <a:pt x="2598" y="3793"/>
                    <a:pt x="2590" y="3784"/>
                    <a:pt x="2575" y="3797"/>
                  </a:cubicBezTo>
                  <a:cubicBezTo>
                    <a:pt x="2591" y="3823"/>
                    <a:pt x="2606" y="3849"/>
                    <a:pt x="2622" y="3876"/>
                  </a:cubicBezTo>
                  <a:cubicBezTo>
                    <a:pt x="2607" y="3875"/>
                    <a:pt x="2597" y="3854"/>
                    <a:pt x="2578" y="3866"/>
                  </a:cubicBezTo>
                  <a:cubicBezTo>
                    <a:pt x="2583" y="3875"/>
                    <a:pt x="2591" y="3882"/>
                    <a:pt x="2593" y="3891"/>
                  </a:cubicBezTo>
                  <a:cubicBezTo>
                    <a:pt x="2595" y="3900"/>
                    <a:pt x="2591" y="3913"/>
                    <a:pt x="2608" y="3914"/>
                  </a:cubicBezTo>
                  <a:cubicBezTo>
                    <a:pt x="2612" y="3901"/>
                    <a:pt x="2617" y="3888"/>
                    <a:pt x="2621" y="3875"/>
                  </a:cubicBezTo>
                  <a:cubicBezTo>
                    <a:pt x="2649" y="3898"/>
                    <a:pt x="2648" y="3928"/>
                    <a:pt x="2635" y="3961"/>
                  </a:cubicBezTo>
                  <a:cubicBezTo>
                    <a:pt x="2658" y="3973"/>
                    <a:pt x="2680" y="3984"/>
                    <a:pt x="2703" y="3996"/>
                  </a:cubicBezTo>
                  <a:cubicBezTo>
                    <a:pt x="2705" y="4027"/>
                    <a:pt x="2717" y="4062"/>
                    <a:pt x="2694" y="4093"/>
                  </a:cubicBezTo>
                  <a:cubicBezTo>
                    <a:pt x="2694" y="4093"/>
                    <a:pt x="2694" y="4093"/>
                    <a:pt x="2694" y="4093"/>
                  </a:cubicBezTo>
                  <a:cubicBezTo>
                    <a:pt x="2661" y="4087"/>
                    <a:pt x="2630" y="4092"/>
                    <a:pt x="2605" y="4116"/>
                  </a:cubicBezTo>
                  <a:cubicBezTo>
                    <a:pt x="2602" y="4119"/>
                    <a:pt x="2599" y="4124"/>
                    <a:pt x="2597" y="4124"/>
                  </a:cubicBezTo>
                  <a:cubicBezTo>
                    <a:pt x="2573" y="4118"/>
                    <a:pt x="2572" y="4140"/>
                    <a:pt x="2564" y="4159"/>
                  </a:cubicBezTo>
                  <a:cubicBezTo>
                    <a:pt x="2541" y="4115"/>
                    <a:pt x="2511" y="4138"/>
                    <a:pt x="2486" y="4146"/>
                  </a:cubicBezTo>
                  <a:cubicBezTo>
                    <a:pt x="2449" y="4159"/>
                    <a:pt x="2412" y="4154"/>
                    <a:pt x="2374" y="4157"/>
                  </a:cubicBezTo>
                  <a:cubicBezTo>
                    <a:pt x="2371" y="4157"/>
                    <a:pt x="2366" y="4149"/>
                    <a:pt x="2361" y="4143"/>
                  </a:cubicBezTo>
                  <a:cubicBezTo>
                    <a:pt x="2355" y="4150"/>
                    <a:pt x="2351" y="4156"/>
                    <a:pt x="2345" y="4163"/>
                  </a:cubicBezTo>
                  <a:cubicBezTo>
                    <a:pt x="2333" y="4150"/>
                    <a:pt x="2326" y="4124"/>
                    <a:pt x="2297" y="4142"/>
                  </a:cubicBezTo>
                  <a:cubicBezTo>
                    <a:pt x="2310" y="4164"/>
                    <a:pt x="2330" y="4192"/>
                    <a:pt x="2313" y="4214"/>
                  </a:cubicBezTo>
                  <a:cubicBezTo>
                    <a:pt x="2295" y="4236"/>
                    <a:pt x="2263" y="4244"/>
                    <a:pt x="2228" y="4235"/>
                  </a:cubicBezTo>
                  <a:cubicBezTo>
                    <a:pt x="2247" y="4258"/>
                    <a:pt x="2265" y="4282"/>
                    <a:pt x="2287" y="4309"/>
                  </a:cubicBezTo>
                  <a:cubicBezTo>
                    <a:pt x="2300" y="4295"/>
                    <a:pt x="2311" y="4282"/>
                    <a:pt x="2324" y="4267"/>
                  </a:cubicBezTo>
                  <a:cubicBezTo>
                    <a:pt x="2340" y="4278"/>
                    <a:pt x="2356" y="4288"/>
                    <a:pt x="2372" y="4298"/>
                  </a:cubicBezTo>
                  <a:cubicBezTo>
                    <a:pt x="2361" y="4299"/>
                    <a:pt x="2350" y="4300"/>
                    <a:pt x="2340" y="4301"/>
                  </a:cubicBezTo>
                  <a:cubicBezTo>
                    <a:pt x="2340" y="4304"/>
                    <a:pt x="2341" y="4307"/>
                    <a:pt x="2342" y="4310"/>
                  </a:cubicBezTo>
                  <a:cubicBezTo>
                    <a:pt x="2352" y="4308"/>
                    <a:pt x="2366" y="4317"/>
                    <a:pt x="2371" y="4297"/>
                  </a:cubicBezTo>
                  <a:cubicBezTo>
                    <a:pt x="2385" y="4300"/>
                    <a:pt x="2400" y="4300"/>
                    <a:pt x="2412" y="4305"/>
                  </a:cubicBezTo>
                  <a:cubicBezTo>
                    <a:pt x="2435" y="4315"/>
                    <a:pt x="2454" y="4314"/>
                    <a:pt x="2469" y="4294"/>
                  </a:cubicBezTo>
                  <a:cubicBezTo>
                    <a:pt x="2486" y="4273"/>
                    <a:pt x="2505" y="4263"/>
                    <a:pt x="2532" y="4276"/>
                  </a:cubicBezTo>
                  <a:cubicBezTo>
                    <a:pt x="2536" y="4266"/>
                    <a:pt x="2539" y="4257"/>
                    <a:pt x="2542" y="4250"/>
                  </a:cubicBezTo>
                  <a:cubicBezTo>
                    <a:pt x="2558" y="4247"/>
                    <a:pt x="2565" y="4264"/>
                    <a:pt x="2558" y="4284"/>
                  </a:cubicBezTo>
                  <a:cubicBezTo>
                    <a:pt x="2557" y="4286"/>
                    <a:pt x="2557" y="4289"/>
                    <a:pt x="2556" y="4295"/>
                  </a:cubicBezTo>
                  <a:cubicBezTo>
                    <a:pt x="2570" y="4293"/>
                    <a:pt x="2584" y="4290"/>
                    <a:pt x="2601" y="4288"/>
                  </a:cubicBezTo>
                  <a:cubicBezTo>
                    <a:pt x="2599" y="4295"/>
                    <a:pt x="2597" y="4301"/>
                    <a:pt x="2595" y="4307"/>
                  </a:cubicBezTo>
                  <a:cubicBezTo>
                    <a:pt x="2610" y="4311"/>
                    <a:pt x="2610" y="4311"/>
                    <a:pt x="2627" y="4300"/>
                  </a:cubicBezTo>
                  <a:cubicBezTo>
                    <a:pt x="2624" y="4267"/>
                    <a:pt x="2583" y="4267"/>
                    <a:pt x="2573" y="4234"/>
                  </a:cubicBezTo>
                  <a:cubicBezTo>
                    <a:pt x="2585" y="4231"/>
                    <a:pt x="2598" y="4225"/>
                    <a:pt x="2608" y="4228"/>
                  </a:cubicBezTo>
                  <a:cubicBezTo>
                    <a:pt x="2633" y="4235"/>
                    <a:pt x="2649" y="4226"/>
                    <a:pt x="2658" y="4205"/>
                  </a:cubicBezTo>
                  <a:cubicBezTo>
                    <a:pt x="2677" y="4206"/>
                    <a:pt x="2694" y="4208"/>
                    <a:pt x="2711" y="4209"/>
                  </a:cubicBezTo>
                  <a:cubicBezTo>
                    <a:pt x="2713" y="4241"/>
                    <a:pt x="2676" y="4267"/>
                    <a:pt x="2702" y="4301"/>
                  </a:cubicBezTo>
                  <a:cubicBezTo>
                    <a:pt x="2715" y="4270"/>
                    <a:pt x="2726" y="4241"/>
                    <a:pt x="2737" y="4212"/>
                  </a:cubicBezTo>
                  <a:cubicBezTo>
                    <a:pt x="2736" y="4213"/>
                    <a:pt x="2736" y="4213"/>
                    <a:pt x="2736" y="4213"/>
                  </a:cubicBezTo>
                  <a:cubicBezTo>
                    <a:pt x="2749" y="4202"/>
                    <a:pt x="2762" y="4192"/>
                    <a:pt x="2774" y="4182"/>
                  </a:cubicBezTo>
                  <a:cubicBezTo>
                    <a:pt x="2783" y="4208"/>
                    <a:pt x="2789" y="4210"/>
                    <a:pt x="2820" y="4203"/>
                  </a:cubicBezTo>
                  <a:cubicBezTo>
                    <a:pt x="2829" y="4201"/>
                    <a:pt x="2839" y="4206"/>
                    <a:pt x="2852" y="4208"/>
                  </a:cubicBezTo>
                  <a:cubicBezTo>
                    <a:pt x="2853" y="4197"/>
                    <a:pt x="2855" y="4182"/>
                    <a:pt x="2857" y="4165"/>
                  </a:cubicBezTo>
                  <a:cubicBezTo>
                    <a:pt x="2889" y="4165"/>
                    <a:pt x="2915" y="4154"/>
                    <a:pt x="2924" y="4116"/>
                  </a:cubicBezTo>
                  <a:cubicBezTo>
                    <a:pt x="2931" y="4126"/>
                    <a:pt x="2935" y="4133"/>
                    <a:pt x="2941" y="4137"/>
                  </a:cubicBezTo>
                  <a:cubicBezTo>
                    <a:pt x="2946" y="4140"/>
                    <a:pt x="2956" y="4142"/>
                    <a:pt x="2961" y="4140"/>
                  </a:cubicBezTo>
                  <a:cubicBezTo>
                    <a:pt x="2970" y="4135"/>
                    <a:pt x="2969" y="4114"/>
                    <a:pt x="2987" y="4122"/>
                  </a:cubicBezTo>
                  <a:cubicBezTo>
                    <a:pt x="2996" y="4126"/>
                    <a:pt x="3003" y="4133"/>
                    <a:pt x="3013" y="4140"/>
                  </a:cubicBezTo>
                  <a:cubicBezTo>
                    <a:pt x="3020" y="4136"/>
                    <a:pt x="3027" y="4130"/>
                    <a:pt x="3035" y="4127"/>
                  </a:cubicBezTo>
                  <a:cubicBezTo>
                    <a:pt x="3048" y="4121"/>
                    <a:pt x="3060" y="4118"/>
                    <a:pt x="3071" y="4131"/>
                  </a:cubicBezTo>
                  <a:cubicBezTo>
                    <a:pt x="3082" y="4146"/>
                    <a:pt x="3097" y="4148"/>
                    <a:pt x="3115" y="4126"/>
                  </a:cubicBezTo>
                  <a:cubicBezTo>
                    <a:pt x="3109" y="4165"/>
                    <a:pt x="3091" y="4188"/>
                    <a:pt x="3072" y="4210"/>
                  </a:cubicBezTo>
                  <a:cubicBezTo>
                    <a:pt x="3058" y="4228"/>
                    <a:pt x="3039" y="4242"/>
                    <a:pt x="3025" y="4259"/>
                  </a:cubicBezTo>
                  <a:cubicBezTo>
                    <a:pt x="2992" y="4300"/>
                    <a:pt x="2947" y="4322"/>
                    <a:pt x="2900" y="4341"/>
                  </a:cubicBezTo>
                  <a:cubicBezTo>
                    <a:pt x="2864" y="4356"/>
                    <a:pt x="2830" y="4373"/>
                    <a:pt x="2794" y="4386"/>
                  </a:cubicBezTo>
                  <a:cubicBezTo>
                    <a:pt x="2778" y="4392"/>
                    <a:pt x="2759" y="4394"/>
                    <a:pt x="2744" y="4391"/>
                  </a:cubicBezTo>
                  <a:cubicBezTo>
                    <a:pt x="2660" y="4370"/>
                    <a:pt x="2576" y="4348"/>
                    <a:pt x="2493" y="4325"/>
                  </a:cubicBezTo>
                  <a:cubicBezTo>
                    <a:pt x="2488" y="4324"/>
                    <a:pt x="2485" y="4319"/>
                    <a:pt x="2482" y="4316"/>
                  </a:cubicBezTo>
                  <a:cubicBezTo>
                    <a:pt x="2466" y="4325"/>
                    <a:pt x="2452" y="4334"/>
                    <a:pt x="2438" y="4343"/>
                  </a:cubicBezTo>
                  <a:cubicBezTo>
                    <a:pt x="2420" y="4330"/>
                    <a:pt x="2420" y="4330"/>
                    <a:pt x="2407" y="4348"/>
                  </a:cubicBezTo>
                  <a:cubicBezTo>
                    <a:pt x="2420" y="4346"/>
                    <a:pt x="2429" y="4344"/>
                    <a:pt x="2439" y="4342"/>
                  </a:cubicBezTo>
                  <a:cubicBezTo>
                    <a:pt x="2418" y="4368"/>
                    <a:pt x="2391" y="4383"/>
                    <a:pt x="2360" y="4392"/>
                  </a:cubicBezTo>
                  <a:cubicBezTo>
                    <a:pt x="2345" y="4396"/>
                    <a:pt x="2331" y="4406"/>
                    <a:pt x="2317" y="4413"/>
                  </a:cubicBezTo>
                  <a:cubicBezTo>
                    <a:pt x="2301" y="4422"/>
                    <a:pt x="2286" y="4431"/>
                    <a:pt x="2268" y="4441"/>
                  </a:cubicBezTo>
                  <a:cubicBezTo>
                    <a:pt x="2250" y="4415"/>
                    <a:pt x="2227" y="4418"/>
                    <a:pt x="2203" y="4425"/>
                  </a:cubicBezTo>
                  <a:cubicBezTo>
                    <a:pt x="2182" y="4432"/>
                    <a:pt x="2160" y="4438"/>
                    <a:pt x="2138" y="4443"/>
                  </a:cubicBezTo>
                  <a:cubicBezTo>
                    <a:pt x="2133" y="4445"/>
                    <a:pt x="2128" y="4446"/>
                    <a:pt x="2123" y="4445"/>
                  </a:cubicBezTo>
                  <a:cubicBezTo>
                    <a:pt x="2111" y="4443"/>
                    <a:pt x="2096" y="4431"/>
                    <a:pt x="2091" y="4454"/>
                  </a:cubicBezTo>
                  <a:cubicBezTo>
                    <a:pt x="2091" y="4455"/>
                    <a:pt x="2081" y="4455"/>
                    <a:pt x="2076" y="4453"/>
                  </a:cubicBezTo>
                  <a:cubicBezTo>
                    <a:pt x="2003" y="4435"/>
                    <a:pt x="1933" y="4412"/>
                    <a:pt x="1874" y="4363"/>
                  </a:cubicBezTo>
                  <a:cubicBezTo>
                    <a:pt x="1828" y="4325"/>
                    <a:pt x="1776" y="4312"/>
                    <a:pt x="1717" y="4324"/>
                  </a:cubicBezTo>
                  <a:cubicBezTo>
                    <a:pt x="1685" y="4330"/>
                    <a:pt x="1650" y="4327"/>
                    <a:pt x="1617" y="4328"/>
                  </a:cubicBezTo>
                  <a:cubicBezTo>
                    <a:pt x="1584" y="4330"/>
                    <a:pt x="1551" y="4331"/>
                    <a:pt x="1518" y="4334"/>
                  </a:cubicBezTo>
                  <a:cubicBezTo>
                    <a:pt x="1465" y="4339"/>
                    <a:pt x="1417" y="4325"/>
                    <a:pt x="1371" y="4304"/>
                  </a:cubicBezTo>
                  <a:cubicBezTo>
                    <a:pt x="1275" y="4260"/>
                    <a:pt x="1198" y="4194"/>
                    <a:pt x="1145" y="4102"/>
                  </a:cubicBezTo>
                  <a:cubicBezTo>
                    <a:pt x="1110" y="4040"/>
                    <a:pt x="1059" y="4007"/>
                    <a:pt x="987" y="4005"/>
                  </a:cubicBezTo>
                  <a:cubicBezTo>
                    <a:pt x="961" y="4005"/>
                    <a:pt x="935" y="3994"/>
                    <a:pt x="909" y="3988"/>
                  </a:cubicBezTo>
                  <a:cubicBezTo>
                    <a:pt x="819" y="3967"/>
                    <a:pt x="752" y="3909"/>
                    <a:pt x="684" y="3851"/>
                  </a:cubicBezTo>
                  <a:cubicBezTo>
                    <a:pt x="645" y="3818"/>
                    <a:pt x="622" y="3775"/>
                    <a:pt x="597" y="3732"/>
                  </a:cubicBezTo>
                  <a:cubicBezTo>
                    <a:pt x="577" y="3696"/>
                    <a:pt x="560" y="3660"/>
                    <a:pt x="564" y="3616"/>
                  </a:cubicBezTo>
                  <a:cubicBezTo>
                    <a:pt x="566" y="3599"/>
                    <a:pt x="560" y="3582"/>
                    <a:pt x="558" y="3565"/>
                  </a:cubicBezTo>
                  <a:cubicBezTo>
                    <a:pt x="553" y="3532"/>
                    <a:pt x="536" y="3511"/>
                    <a:pt x="504" y="3498"/>
                  </a:cubicBezTo>
                  <a:cubicBezTo>
                    <a:pt x="421" y="3465"/>
                    <a:pt x="349" y="3414"/>
                    <a:pt x="291" y="3348"/>
                  </a:cubicBezTo>
                  <a:cubicBezTo>
                    <a:pt x="262" y="3316"/>
                    <a:pt x="245" y="3273"/>
                    <a:pt x="220" y="3238"/>
                  </a:cubicBezTo>
                  <a:cubicBezTo>
                    <a:pt x="192" y="3201"/>
                    <a:pt x="185" y="3157"/>
                    <a:pt x="182" y="3114"/>
                  </a:cubicBezTo>
                  <a:cubicBezTo>
                    <a:pt x="179" y="3076"/>
                    <a:pt x="186" y="3037"/>
                    <a:pt x="184" y="2999"/>
                  </a:cubicBezTo>
                  <a:cubicBezTo>
                    <a:pt x="182" y="2957"/>
                    <a:pt x="188" y="2915"/>
                    <a:pt x="192" y="2873"/>
                  </a:cubicBezTo>
                  <a:cubicBezTo>
                    <a:pt x="195" y="2850"/>
                    <a:pt x="178" y="2830"/>
                    <a:pt x="159" y="2817"/>
                  </a:cubicBezTo>
                  <a:cubicBezTo>
                    <a:pt x="127" y="2796"/>
                    <a:pt x="108" y="2767"/>
                    <a:pt x="90" y="2735"/>
                  </a:cubicBezTo>
                  <a:cubicBezTo>
                    <a:pt x="70" y="2699"/>
                    <a:pt x="47" y="2665"/>
                    <a:pt x="25" y="2630"/>
                  </a:cubicBezTo>
                  <a:cubicBezTo>
                    <a:pt x="9" y="2604"/>
                    <a:pt x="0" y="2578"/>
                    <a:pt x="4" y="2545"/>
                  </a:cubicBezTo>
                  <a:cubicBezTo>
                    <a:pt x="7" y="2521"/>
                    <a:pt x="5" y="2494"/>
                    <a:pt x="8" y="2469"/>
                  </a:cubicBezTo>
                  <a:cubicBezTo>
                    <a:pt x="10" y="2455"/>
                    <a:pt x="10" y="2440"/>
                    <a:pt x="12" y="2426"/>
                  </a:cubicBezTo>
                  <a:cubicBezTo>
                    <a:pt x="15" y="2407"/>
                    <a:pt x="26" y="2388"/>
                    <a:pt x="7" y="2370"/>
                  </a:cubicBezTo>
                  <a:cubicBezTo>
                    <a:pt x="3" y="2366"/>
                    <a:pt x="6" y="2353"/>
                    <a:pt x="7" y="2344"/>
                  </a:cubicBezTo>
                  <a:cubicBezTo>
                    <a:pt x="13" y="2290"/>
                    <a:pt x="41" y="2246"/>
                    <a:pt x="69" y="2203"/>
                  </a:cubicBezTo>
                  <a:cubicBezTo>
                    <a:pt x="77" y="2190"/>
                    <a:pt x="87" y="2179"/>
                    <a:pt x="95" y="2167"/>
                  </a:cubicBezTo>
                  <a:cubicBezTo>
                    <a:pt x="111" y="2140"/>
                    <a:pt x="116" y="2114"/>
                    <a:pt x="101" y="2084"/>
                  </a:cubicBezTo>
                  <a:cubicBezTo>
                    <a:pt x="91" y="2062"/>
                    <a:pt x="85" y="2039"/>
                    <a:pt x="77" y="2016"/>
                  </a:cubicBezTo>
                  <a:cubicBezTo>
                    <a:pt x="74" y="2010"/>
                    <a:pt x="74" y="2002"/>
                    <a:pt x="71" y="1998"/>
                  </a:cubicBezTo>
                  <a:cubicBezTo>
                    <a:pt x="27" y="1941"/>
                    <a:pt x="39" y="1876"/>
                    <a:pt x="40" y="1812"/>
                  </a:cubicBezTo>
                  <a:cubicBezTo>
                    <a:pt x="40" y="1797"/>
                    <a:pt x="34" y="1781"/>
                    <a:pt x="36" y="1766"/>
                  </a:cubicBezTo>
                  <a:cubicBezTo>
                    <a:pt x="39" y="1737"/>
                    <a:pt x="44" y="1708"/>
                    <a:pt x="53" y="1681"/>
                  </a:cubicBezTo>
                  <a:cubicBezTo>
                    <a:pt x="84" y="1586"/>
                    <a:pt x="147" y="1513"/>
                    <a:pt x="221" y="1452"/>
                  </a:cubicBezTo>
                  <a:cubicBezTo>
                    <a:pt x="265" y="1415"/>
                    <a:pt x="275" y="1374"/>
                    <a:pt x="272" y="1322"/>
                  </a:cubicBezTo>
                  <a:cubicBezTo>
                    <a:pt x="268" y="1254"/>
                    <a:pt x="262" y="1186"/>
                    <a:pt x="263" y="1117"/>
                  </a:cubicBezTo>
                  <a:cubicBezTo>
                    <a:pt x="265" y="1071"/>
                    <a:pt x="287" y="1028"/>
                    <a:pt x="311" y="987"/>
                  </a:cubicBezTo>
                  <a:cubicBezTo>
                    <a:pt x="370" y="888"/>
                    <a:pt x="455" y="821"/>
                    <a:pt x="561" y="780"/>
                  </a:cubicBezTo>
                  <a:cubicBezTo>
                    <a:pt x="581" y="772"/>
                    <a:pt x="600" y="763"/>
                    <a:pt x="621" y="753"/>
                  </a:cubicBezTo>
                  <a:cubicBezTo>
                    <a:pt x="615" y="775"/>
                    <a:pt x="618" y="790"/>
                    <a:pt x="644" y="795"/>
                  </a:cubicBezTo>
                  <a:cubicBezTo>
                    <a:pt x="659" y="763"/>
                    <a:pt x="703" y="760"/>
                    <a:pt x="720" y="728"/>
                  </a:cubicBezTo>
                  <a:cubicBezTo>
                    <a:pt x="718" y="726"/>
                    <a:pt x="716" y="724"/>
                    <a:pt x="714" y="721"/>
                  </a:cubicBezTo>
                  <a:cubicBezTo>
                    <a:pt x="708" y="725"/>
                    <a:pt x="701" y="729"/>
                    <a:pt x="695" y="733"/>
                  </a:cubicBezTo>
                  <a:cubicBezTo>
                    <a:pt x="690" y="729"/>
                    <a:pt x="685" y="725"/>
                    <a:pt x="681" y="720"/>
                  </a:cubicBezTo>
                  <a:cubicBezTo>
                    <a:pt x="675" y="724"/>
                    <a:pt x="669" y="728"/>
                    <a:pt x="664" y="732"/>
                  </a:cubicBezTo>
                  <a:cubicBezTo>
                    <a:pt x="662" y="730"/>
                    <a:pt x="659" y="729"/>
                    <a:pt x="658" y="727"/>
                  </a:cubicBezTo>
                  <a:cubicBezTo>
                    <a:pt x="638" y="690"/>
                    <a:pt x="655" y="654"/>
                    <a:pt x="668" y="620"/>
                  </a:cubicBezTo>
                  <a:cubicBezTo>
                    <a:pt x="720" y="483"/>
                    <a:pt x="821" y="395"/>
                    <a:pt x="959" y="350"/>
                  </a:cubicBezTo>
                  <a:cubicBezTo>
                    <a:pt x="1037" y="324"/>
                    <a:pt x="1119" y="322"/>
                    <a:pt x="1200" y="338"/>
                  </a:cubicBezTo>
                  <a:cubicBezTo>
                    <a:pt x="1235" y="344"/>
                    <a:pt x="1258" y="336"/>
                    <a:pt x="1277" y="306"/>
                  </a:cubicBezTo>
                  <a:cubicBezTo>
                    <a:pt x="1318" y="243"/>
                    <a:pt x="1367" y="186"/>
                    <a:pt x="1431" y="146"/>
                  </a:cubicBezTo>
                  <a:cubicBezTo>
                    <a:pt x="1540" y="79"/>
                    <a:pt x="1658" y="48"/>
                    <a:pt x="1787" y="76"/>
                  </a:cubicBezTo>
                  <a:cubicBezTo>
                    <a:pt x="1831" y="85"/>
                    <a:pt x="1874" y="98"/>
                    <a:pt x="1917" y="112"/>
                  </a:cubicBezTo>
                  <a:cubicBezTo>
                    <a:pt x="1954" y="124"/>
                    <a:pt x="1986" y="124"/>
                    <a:pt x="2019" y="100"/>
                  </a:cubicBezTo>
                  <a:cubicBezTo>
                    <a:pt x="2076" y="59"/>
                    <a:pt x="2140" y="28"/>
                    <a:pt x="2210" y="14"/>
                  </a:cubicBezTo>
                  <a:cubicBezTo>
                    <a:pt x="2264" y="3"/>
                    <a:pt x="2318" y="0"/>
                    <a:pt x="2373" y="10"/>
                  </a:cubicBezTo>
                  <a:cubicBezTo>
                    <a:pt x="2433" y="21"/>
                    <a:pt x="2490" y="35"/>
                    <a:pt x="2539" y="72"/>
                  </a:cubicBezTo>
                  <a:cubicBezTo>
                    <a:pt x="2565" y="91"/>
                    <a:pt x="2588" y="113"/>
                    <a:pt x="2612" y="134"/>
                  </a:cubicBezTo>
                  <a:cubicBezTo>
                    <a:pt x="2623" y="143"/>
                    <a:pt x="2633" y="154"/>
                    <a:pt x="2644" y="164"/>
                  </a:cubicBezTo>
                  <a:cubicBezTo>
                    <a:pt x="2673" y="190"/>
                    <a:pt x="2705" y="195"/>
                    <a:pt x="2740" y="180"/>
                  </a:cubicBezTo>
                  <a:cubicBezTo>
                    <a:pt x="2801" y="154"/>
                    <a:pt x="2865" y="152"/>
                    <a:pt x="2929" y="152"/>
                  </a:cubicBezTo>
                  <a:cubicBezTo>
                    <a:pt x="3027" y="151"/>
                    <a:pt x="3108" y="195"/>
                    <a:pt x="3186" y="249"/>
                  </a:cubicBezTo>
                  <a:cubicBezTo>
                    <a:pt x="3240" y="285"/>
                    <a:pt x="3282" y="333"/>
                    <a:pt x="3311" y="391"/>
                  </a:cubicBezTo>
                  <a:cubicBezTo>
                    <a:pt x="3318" y="404"/>
                    <a:pt x="3328" y="416"/>
                    <a:pt x="3334" y="429"/>
                  </a:cubicBezTo>
                  <a:cubicBezTo>
                    <a:pt x="3353" y="474"/>
                    <a:pt x="3390" y="487"/>
                    <a:pt x="3436" y="490"/>
                  </a:cubicBezTo>
                  <a:cubicBezTo>
                    <a:pt x="3503" y="493"/>
                    <a:pt x="3566" y="514"/>
                    <a:pt x="3628" y="540"/>
                  </a:cubicBezTo>
                  <a:cubicBezTo>
                    <a:pt x="3719" y="577"/>
                    <a:pt x="3775" y="647"/>
                    <a:pt x="3819" y="730"/>
                  </a:cubicBezTo>
                  <a:cubicBezTo>
                    <a:pt x="3826" y="742"/>
                    <a:pt x="3833" y="753"/>
                    <a:pt x="3839" y="764"/>
                  </a:cubicBezTo>
                  <a:cubicBezTo>
                    <a:pt x="3840" y="764"/>
                    <a:pt x="3840" y="764"/>
                    <a:pt x="3840" y="764"/>
                  </a:cubicBezTo>
                  <a:cubicBezTo>
                    <a:pt x="3834" y="766"/>
                    <a:pt x="3828" y="768"/>
                    <a:pt x="3820" y="771"/>
                  </a:cubicBezTo>
                  <a:cubicBezTo>
                    <a:pt x="3795" y="742"/>
                    <a:pt x="3797" y="691"/>
                    <a:pt x="3737" y="694"/>
                  </a:cubicBezTo>
                  <a:cubicBezTo>
                    <a:pt x="3740" y="692"/>
                    <a:pt x="3743" y="689"/>
                    <a:pt x="3745" y="686"/>
                  </a:cubicBezTo>
                  <a:cubicBezTo>
                    <a:pt x="3750" y="685"/>
                    <a:pt x="3754" y="683"/>
                    <a:pt x="3761" y="681"/>
                  </a:cubicBezTo>
                  <a:cubicBezTo>
                    <a:pt x="3744" y="659"/>
                    <a:pt x="3727" y="637"/>
                    <a:pt x="3709" y="613"/>
                  </a:cubicBezTo>
                  <a:cubicBezTo>
                    <a:pt x="3696" y="619"/>
                    <a:pt x="3684" y="625"/>
                    <a:pt x="3672" y="630"/>
                  </a:cubicBezTo>
                  <a:cubicBezTo>
                    <a:pt x="3673" y="631"/>
                    <a:pt x="3673" y="631"/>
                    <a:pt x="3673" y="631"/>
                  </a:cubicBezTo>
                  <a:cubicBezTo>
                    <a:pt x="3648" y="600"/>
                    <a:pt x="3609" y="585"/>
                    <a:pt x="3588" y="549"/>
                  </a:cubicBezTo>
                  <a:cubicBezTo>
                    <a:pt x="3581" y="537"/>
                    <a:pt x="3560" y="531"/>
                    <a:pt x="3543" y="527"/>
                  </a:cubicBezTo>
                  <a:cubicBezTo>
                    <a:pt x="3504" y="517"/>
                    <a:pt x="3463" y="510"/>
                    <a:pt x="3423" y="502"/>
                  </a:cubicBezTo>
                  <a:cubicBezTo>
                    <a:pt x="3404" y="498"/>
                    <a:pt x="3385" y="493"/>
                    <a:pt x="3365" y="489"/>
                  </a:cubicBezTo>
                  <a:cubicBezTo>
                    <a:pt x="3349" y="485"/>
                    <a:pt x="3343" y="476"/>
                    <a:pt x="3335" y="462"/>
                  </a:cubicBezTo>
                  <a:cubicBezTo>
                    <a:pt x="3320" y="437"/>
                    <a:pt x="3299" y="415"/>
                    <a:pt x="3281" y="392"/>
                  </a:cubicBezTo>
                  <a:cubicBezTo>
                    <a:pt x="3273" y="382"/>
                    <a:pt x="3263" y="374"/>
                    <a:pt x="3259" y="364"/>
                  </a:cubicBezTo>
                  <a:cubicBezTo>
                    <a:pt x="3250" y="340"/>
                    <a:pt x="3234" y="331"/>
                    <a:pt x="3211" y="338"/>
                  </a:cubicBezTo>
                  <a:cubicBezTo>
                    <a:pt x="3199" y="318"/>
                    <a:pt x="3203" y="289"/>
                    <a:pt x="3169" y="291"/>
                  </a:cubicBezTo>
                  <a:cubicBezTo>
                    <a:pt x="3176" y="297"/>
                    <a:pt x="3182" y="302"/>
                    <a:pt x="3195" y="314"/>
                  </a:cubicBezTo>
                  <a:cubicBezTo>
                    <a:pt x="3168" y="314"/>
                    <a:pt x="3150" y="314"/>
                    <a:pt x="3131" y="314"/>
                  </a:cubicBezTo>
                  <a:cubicBezTo>
                    <a:pt x="3131" y="314"/>
                    <a:pt x="3130" y="315"/>
                    <a:pt x="3130" y="315"/>
                  </a:cubicBezTo>
                  <a:cubicBezTo>
                    <a:pt x="3157" y="292"/>
                    <a:pt x="3127" y="282"/>
                    <a:pt x="3117" y="265"/>
                  </a:cubicBezTo>
                  <a:cubicBezTo>
                    <a:pt x="3126" y="262"/>
                    <a:pt x="3133" y="260"/>
                    <a:pt x="3143" y="257"/>
                  </a:cubicBezTo>
                  <a:cubicBezTo>
                    <a:pt x="3139" y="253"/>
                    <a:pt x="3137" y="250"/>
                    <a:pt x="3134" y="249"/>
                  </a:cubicBezTo>
                  <a:cubicBezTo>
                    <a:pt x="3115" y="245"/>
                    <a:pt x="3096" y="241"/>
                    <a:pt x="3073" y="237"/>
                  </a:cubicBezTo>
                  <a:cubicBezTo>
                    <a:pt x="3057" y="239"/>
                    <a:pt x="3066" y="280"/>
                    <a:pt x="3034" y="265"/>
                  </a:cubicBezTo>
                  <a:cubicBezTo>
                    <a:pt x="3033" y="256"/>
                    <a:pt x="3032" y="245"/>
                    <a:pt x="3031" y="230"/>
                  </a:cubicBezTo>
                  <a:cubicBezTo>
                    <a:pt x="3010" y="233"/>
                    <a:pt x="2991" y="234"/>
                    <a:pt x="2972" y="236"/>
                  </a:cubicBezTo>
                  <a:cubicBezTo>
                    <a:pt x="2972" y="237"/>
                    <a:pt x="2972" y="237"/>
                    <a:pt x="2972" y="237"/>
                  </a:cubicBezTo>
                  <a:cubicBezTo>
                    <a:pt x="2967" y="220"/>
                    <a:pt x="2959" y="230"/>
                    <a:pt x="2952" y="235"/>
                  </a:cubicBezTo>
                  <a:cubicBezTo>
                    <a:pt x="2941" y="242"/>
                    <a:pt x="2937" y="262"/>
                    <a:pt x="2914" y="254"/>
                  </a:cubicBezTo>
                  <a:cubicBezTo>
                    <a:pt x="2920" y="242"/>
                    <a:pt x="2924" y="231"/>
                    <a:pt x="2930" y="218"/>
                  </a:cubicBezTo>
                  <a:cubicBezTo>
                    <a:pt x="2915" y="204"/>
                    <a:pt x="2900" y="196"/>
                    <a:pt x="2880" y="208"/>
                  </a:cubicBezTo>
                  <a:cubicBezTo>
                    <a:pt x="2877" y="210"/>
                    <a:pt x="2871" y="213"/>
                    <a:pt x="2870" y="212"/>
                  </a:cubicBezTo>
                  <a:cubicBezTo>
                    <a:pt x="2846" y="191"/>
                    <a:pt x="2813" y="211"/>
                    <a:pt x="2788" y="195"/>
                  </a:cubicBezTo>
                  <a:cubicBezTo>
                    <a:pt x="2785" y="193"/>
                    <a:pt x="2779" y="192"/>
                    <a:pt x="2777" y="193"/>
                  </a:cubicBezTo>
                  <a:cubicBezTo>
                    <a:pt x="2752" y="219"/>
                    <a:pt x="2712" y="198"/>
                    <a:pt x="2688" y="226"/>
                  </a:cubicBezTo>
                  <a:cubicBezTo>
                    <a:pt x="2659" y="183"/>
                    <a:pt x="2617" y="216"/>
                    <a:pt x="2582" y="201"/>
                  </a:cubicBezTo>
                  <a:cubicBezTo>
                    <a:pt x="2592" y="166"/>
                    <a:pt x="2556" y="163"/>
                    <a:pt x="2539" y="148"/>
                  </a:cubicBezTo>
                  <a:cubicBezTo>
                    <a:pt x="2523" y="133"/>
                    <a:pt x="2500" y="127"/>
                    <a:pt x="2476" y="120"/>
                  </a:cubicBezTo>
                  <a:cubicBezTo>
                    <a:pt x="2483" y="132"/>
                    <a:pt x="2496" y="143"/>
                    <a:pt x="2484" y="156"/>
                  </a:cubicBezTo>
                  <a:cubicBezTo>
                    <a:pt x="2476" y="165"/>
                    <a:pt x="2466" y="172"/>
                    <a:pt x="2454" y="182"/>
                  </a:cubicBezTo>
                  <a:cubicBezTo>
                    <a:pt x="2446" y="173"/>
                    <a:pt x="2422" y="175"/>
                    <a:pt x="2420" y="147"/>
                  </a:cubicBezTo>
                  <a:cubicBezTo>
                    <a:pt x="2431" y="148"/>
                    <a:pt x="2441" y="150"/>
                    <a:pt x="2451" y="151"/>
                  </a:cubicBezTo>
                  <a:cubicBezTo>
                    <a:pt x="2457" y="128"/>
                    <a:pt x="2440" y="123"/>
                    <a:pt x="2426" y="115"/>
                  </a:cubicBezTo>
                  <a:cubicBezTo>
                    <a:pt x="2426" y="115"/>
                    <a:pt x="2428" y="117"/>
                    <a:pt x="2428" y="117"/>
                  </a:cubicBezTo>
                  <a:cubicBezTo>
                    <a:pt x="2429" y="109"/>
                    <a:pt x="2430" y="100"/>
                    <a:pt x="2431" y="90"/>
                  </a:cubicBezTo>
                  <a:cubicBezTo>
                    <a:pt x="2424" y="89"/>
                    <a:pt x="2416" y="87"/>
                    <a:pt x="2407" y="86"/>
                  </a:cubicBezTo>
                  <a:cubicBezTo>
                    <a:pt x="2409" y="82"/>
                    <a:pt x="2411" y="79"/>
                    <a:pt x="2411" y="76"/>
                  </a:cubicBezTo>
                  <a:cubicBezTo>
                    <a:pt x="2411" y="69"/>
                    <a:pt x="2410" y="62"/>
                    <a:pt x="2409" y="55"/>
                  </a:cubicBezTo>
                  <a:cubicBezTo>
                    <a:pt x="2403" y="55"/>
                    <a:pt x="2397" y="56"/>
                    <a:pt x="2391" y="57"/>
                  </a:cubicBezTo>
                  <a:cubicBezTo>
                    <a:pt x="2390" y="57"/>
                    <a:pt x="2389" y="58"/>
                    <a:pt x="2388" y="59"/>
                  </a:cubicBezTo>
                  <a:cubicBezTo>
                    <a:pt x="2367" y="74"/>
                    <a:pt x="2345" y="81"/>
                    <a:pt x="2320" y="64"/>
                  </a:cubicBezTo>
                  <a:cubicBezTo>
                    <a:pt x="2324" y="72"/>
                    <a:pt x="2329" y="81"/>
                    <a:pt x="2333" y="88"/>
                  </a:cubicBezTo>
                  <a:cubicBezTo>
                    <a:pt x="2303" y="124"/>
                    <a:pt x="2299" y="124"/>
                    <a:pt x="2269" y="88"/>
                  </a:cubicBezTo>
                  <a:cubicBezTo>
                    <a:pt x="2273" y="83"/>
                    <a:pt x="2277" y="79"/>
                    <a:pt x="2281" y="74"/>
                  </a:cubicBezTo>
                  <a:cubicBezTo>
                    <a:pt x="2285" y="69"/>
                    <a:pt x="2288" y="63"/>
                    <a:pt x="2293" y="56"/>
                  </a:cubicBezTo>
                  <a:cubicBezTo>
                    <a:pt x="2268" y="44"/>
                    <a:pt x="2248" y="47"/>
                    <a:pt x="2228" y="62"/>
                  </a:cubicBezTo>
                  <a:cubicBezTo>
                    <a:pt x="2230" y="54"/>
                    <a:pt x="2231" y="46"/>
                    <a:pt x="2233" y="39"/>
                  </a:cubicBezTo>
                  <a:cubicBezTo>
                    <a:pt x="2231" y="38"/>
                    <a:pt x="2229" y="37"/>
                    <a:pt x="2227" y="36"/>
                  </a:cubicBezTo>
                  <a:cubicBezTo>
                    <a:pt x="2219" y="43"/>
                    <a:pt x="2211" y="50"/>
                    <a:pt x="2203" y="57"/>
                  </a:cubicBezTo>
                  <a:cubicBezTo>
                    <a:pt x="2204" y="59"/>
                    <a:pt x="2205" y="61"/>
                    <a:pt x="2206" y="63"/>
                  </a:cubicBezTo>
                  <a:cubicBezTo>
                    <a:pt x="2215" y="62"/>
                    <a:pt x="2223" y="60"/>
                    <a:pt x="2231" y="59"/>
                  </a:cubicBezTo>
                  <a:cubicBezTo>
                    <a:pt x="2240" y="90"/>
                    <a:pt x="2231" y="111"/>
                    <a:pt x="2200" y="125"/>
                  </a:cubicBezTo>
                  <a:cubicBezTo>
                    <a:pt x="2185" y="132"/>
                    <a:pt x="2178" y="156"/>
                    <a:pt x="2154" y="141"/>
                  </a:cubicBezTo>
                  <a:cubicBezTo>
                    <a:pt x="2166" y="119"/>
                    <a:pt x="2178" y="100"/>
                    <a:pt x="2190" y="80"/>
                  </a:cubicBezTo>
                  <a:cubicBezTo>
                    <a:pt x="2194" y="84"/>
                    <a:pt x="2197" y="89"/>
                    <a:pt x="2201" y="93"/>
                  </a:cubicBezTo>
                  <a:cubicBezTo>
                    <a:pt x="2186" y="84"/>
                    <a:pt x="2171" y="75"/>
                    <a:pt x="2152" y="63"/>
                  </a:cubicBezTo>
                  <a:cubicBezTo>
                    <a:pt x="2130" y="63"/>
                    <a:pt x="2122" y="86"/>
                    <a:pt x="2111" y="106"/>
                  </a:cubicBezTo>
                  <a:cubicBezTo>
                    <a:pt x="2125" y="96"/>
                    <a:pt x="2140" y="87"/>
                    <a:pt x="2154" y="77"/>
                  </a:cubicBezTo>
                  <a:cubicBezTo>
                    <a:pt x="2156" y="79"/>
                    <a:pt x="2158" y="81"/>
                    <a:pt x="2160" y="84"/>
                  </a:cubicBezTo>
                  <a:cubicBezTo>
                    <a:pt x="2155" y="95"/>
                    <a:pt x="2150" y="106"/>
                    <a:pt x="2143" y="122"/>
                  </a:cubicBezTo>
                  <a:cubicBezTo>
                    <a:pt x="2123" y="116"/>
                    <a:pt x="2104" y="110"/>
                    <a:pt x="2085" y="105"/>
                  </a:cubicBezTo>
                  <a:cubicBezTo>
                    <a:pt x="2078" y="103"/>
                    <a:pt x="2069" y="102"/>
                    <a:pt x="2062" y="105"/>
                  </a:cubicBezTo>
                  <a:cubicBezTo>
                    <a:pt x="2053" y="109"/>
                    <a:pt x="2040" y="124"/>
                    <a:pt x="2036" y="122"/>
                  </a:cubicBezTo>
                  <a:cubicBezTo>
                    <a:pt x="2022" y="113"/>
                    <a:pt x="2011" y="121"/>
                    <a:pt x="2003" y="127"/>
                  </a:cubicBezTo>
                  <a:cubicBezTo>
                    <a:pt x="1983" y="144"/>
                    <a:pt x="1962" y="141"/>
                    <a:pt x="1940" y="135"/>
                  </a:cubicBezTo>
                  <a:cubicBezTo>
                    <a:pt x="1920" y="128"/>
                    <a:pt x="1900" y="121"/>
                    <a:pt x="1879" y="116"/>
                  </a:cubicBezTo>
                  <a:cubicBezTo>
                    <a:pt x="1852" y="110"/>
                    <a:pt x="1825" y="105"/>
                    <a:pt x="1797" y="100"/>
                  </a:cubicBezTo>
                  <a:cubicBezTo>
                    <a:pt x="1778" y="97"/>
                    <a:pt x="1757" y="94"/>
                    <a:pt x="1738" y="95"/>
                  </a:cubicBezTo>
                  <a:cubicBezTo>
                    <a:pt x="1716" y="96"/>
                    <a:pt x="1694" y="101"/>
                    <a:pt x="1673" y="108"/>
                  </a:cubicBezTo>
                  <a:cubicBezTo>
                    <a:pt x="1660" y="112"/>
                    <a:pt x="1651" y="127"/>
                    <a:pt x="1634" y="123"/>
                  </a:cubicBezTo>
                  <a:cubicBezTo>
                    <a:pt x="1632" y="122"/>
                    <a:pt x="1627" y="132"/>
                    <a:pt x="1623" y="138"/>
                  </a:cubicBezTo>
                  <a:cubicBezTo>
                    <a:pt x="1601" y="116"/>
                    <a:pt x="1576" y="112"/>
                    <a:pt x="1547" y="120"/>
                  </a:cubicBezTo>
                  <a:cubicBezTo>
                    <a:pt x="1487" y="136"/>
                    <a:pt x="1455" y="183"/>
                    <a:pt x="1453" y="260"/>
                  </a:cubicBezTo>
                  <a:cubicBezTo>
                    <a:pt x="1481" y="241"/>
                    <a:pt x="1508" y="222"/>
                    <a:pt x="1539" y="200"/>
                  </a:cubicBezTo>
                  <a:cubicBezTo>
                    <a:pt x="1540" y="201"/>
                    <a:pt x="1547" y="205"/>
                    <a:pt x="1552" y="208"/>
                  </a:cubicBezTo>
                  <a:cubicBezTo>
                    <a:pt x="1559" y="188"/>
                    <a:pt x="1566" y="168"/>
                    <a:pt x="1573" y="147"/>
                  </a:cubicBezTo>
                  <a:cubicBezTo>
                    <a:pt x="1593" y="160"/>
                    <a:pt x="1609" y="170"/>
                    <a:pt x="1632" y="185"/>
                  </a:cubicBezTo>
                  <a:cubicBezTo>
                    <a:pt x="1634" y="193"/>
                    <a:pt x="1638" y="211"/>
                    <a:pt x="1642" y="226"/>
                  </a:cubicBezTo>
                  <a:cubicBezTo>
                    <a:pt x="1627" y="250"/>
                    <a:pt x="1592" y="218"/>
                    <a:pt x="1586" y="254"/>
                  </a:cubicBezTo>
                  <a:cubicBezTo>
                    <a:pt x="1574" y="249"/>
                    <a:pt x="1565" y="245"/>
                    <a:pt x="1556" y="241"/>
                  </a:cubicBezTo>
                  <a:cubicBezTo>
                    <a:pt x="1550" y="254"/>
                    <a:pt x="1545" y="266"/>
                    <a:pt x="1540" y="278"/>
                  </a:cubicBezTo>
                  <a:cubicBezTo>
                    <a:pt x="1538" y="277"/>
                    <a:pt x="1536" y="276"/>
                    <a:pt x="1533" y="276"/>
                  </a:cubicBezTo>
                  <a:cubicBezTo>
                    <a:pt x="1534" y="270"/>
                    <a:pt x="1536" y="264"/>
                    <a:pt x="1537" y="257"/>
                  </a:cubicBezTo>
                  <a:cubicBezTo>
                    <a:pt x="1528" y="255"/>
                    <a:pt x="1518" y="253"/>
                    <a:pt x="1513" y="252"/>
                  </a:cubicBezTo>
                  <a:cubicBezTo>
                    <a:pt x="1506" y="269"/>
                    <a:pt x="1498" y="284"/>
                    <a:pt x="1493" y="299"/>
                  </a:cubicBezTo>
                  <a:cubicBezTo>
                    <a:pt x="1491" y="306"/>
                    <a:pt x="1495" y="315"/>
                    <a:pt x="1496" y="324"/>
                  </a:cubicBezTo>
                  <a:cubicBezTo>
                    <a:pt x="1482" y="331"/>
                    <a:pt x="1465" y="340"/>
                    <a:pt x="1444" y="350"/>
                  </a:cubicBezTo>
                  <a:cubicBezTo>
                    <a:pt x="1439" y="338"/>
                    <a:pt x="1417" y="324"/>
                    <a:pt x="1440" y="302"/>
                  </a:cubicBezTo>
                  <a:cubicBezTo>
                    <a:pt x="1470" y="313"/>
                    <a:pt x="1470" y="313"/>
                    <a:pt x="1469" y="285"/>
                  </a:cubicBezTo>
                  <a:cubicBezTo>
                    <a:pt x="1458" y="291"/>
                    <a:pt x="1449" y="297"/>
                    <a:pt x="1439" y="302"/>
                  </a:cubicBezTo>
                  <a:cubicBezTo>
                    <a:pt x="1434" y="297"/>
                    <a:pt x="1429" y="291"/>
                    <a:pt x="1421" y="281"/>
                  </a:cubicBezTo>
                  <a:cubicBezTo>
                    <a:pt x="1416" y="301"/>
                    <a:pt x="1414" y="313"/>
                    <a:pt x="1410" y="325"/>
                  </a:cubicBezTo>
                  <a:cubicBezTo>
                    <a:pt x="1407" y="333"/>
                    <a:pt x="1402" y="343"/>
                    <a:pt x="1396" y="347"/>
                  </a:cubicBezTo>
                  <a:cubicBezTo>
                    <a:pt x="1376" y="360"/>
                    <a:pt x="1355" y="370"/>
                    <a:pt x="1332" y="382"/>
                  </a:cubicBezTo>
                  <a:cubicBezTo>
                    <a:pt x="1309" y="379"/>
                    <a:pt x="1311" y="334"/>
                    <a:pt x="1274" y="345"/>
                  </a:cubicBezTo>
                  <a:cubicBezTo>
                    <a:pt x="1273" y="358"/>
                    <a:pt x="1271" y="372"/>
                    <a:pt x="1269" y="387"/>
                  </a:cubicBezTo>
                  <a:cubicBezTo>
                    <a:pt x="1258" y="384"/>
                    <a:pt x="1248" y="382"/>
                    <a:pt x="1238" y="379"/>
                  </a:cubicBezTo>
                  <a:cubicBezTo>
                    <a:pt x="1238" y="379"/>
                    <a:pt x="1238" y="379"/>
                    <a:pt x="1238" y="379"/>
                  </a:cubicBezTo>
                  <a:cubicBezTo>
                    <a:pt x="1227" y="369"/>
                    <a:pt x="1218" y="354"/>
                    <a:pt x="1205" y="349"/>
                  </a:cubicBezTo>
                  <a:cubicBezTo>
                    <a:pt x="1170" y="337"/>
                    <a:pt x="1139" y="369"/>
                    <a:pt x="1147" y="405"/>
                  </a:cubicBezTo>
                  <a:cubicBezTo>
                    <a:pt x="1149" y="416"/>
                    <a:pt x="1153" y="427"/>
                    <a:pt x="1150" y="436"/>
                  </a:cubicBezTo>
                  <a:cubicBezTo>
                    <a:pt x="1147" y="446"/>
                    <a:pt x="1138" y="458"/>
                    <a:pt x="1129" y="461"/>
                  </a:cubicBezTo>
                  <a:cubicBezTo>
                    <a:pt x="1122" y="463"/>
                    <a:pt x="1111" y="453"/>
                    <a:pt x="1101" y="448"/>
                  </a:cubicBezTo>
                  <a:cubicBezTo>
                    <a:pt x="1088" y="468"/>
                    <a:pt x="1099" y="489"/>
                    <a:pt x="1113" y="513"/>
                  </a:cubicBezTo>
                  <a:cubicBezTo>
                    <a:pt x="1122" y="500"/>
                    <a:pt x="1130" y="489"/>
                    <a:pt x="1138" y="475"/>
                  </a:cubicBezTo>
                  <a:cubicBezTo>
                    <a:pt x="1159" y="495"/>
                    <a:pt x="1180" y="490"/>
                    <a:pt x="1202" y="473"/>
                  </a:cubicBezTo>
                  <a:cubicBezTo>
                    <a:pt x="1207" y="478"/>
                    <a:pt x="1213" y="483"/>
                    <a:pt x="1219" y="489"/>
                  </a:cubicBezTo>
                  <a:cubicBezTo>
                    <a:pt x="1236" y="459"/>
                    <a:pt x="1258" y="439"/>
                    <a:pt x="1291" y="429"/>
                  </a:cubicBezTo>
                  <a:cubicBezTo>
                    <a:pt x="1316" y="421"/>
                    <a:pt x="1338" y="405"/>
                    <a:pt x="1361" y="392"/>
                  </a:cubicBezTo>
                  <a:cubicBezTo>
                    <a:pt x="1366" y="389"/>
                    <a:pt x="1396" y="397"/>
                    <a:pt x="1401" y="402"/>
                  </a:cubicBezTo>
                  <a:cubicBezTo>
                    <a:pt x="1407" y="408"/>
                    <a:pt x="1413" y="414"/>
                    <a:pt x="1422" y="424"/>
                  </a:cubicBezTo>
                  <a:cubicBezTo>
                    <a:pt x="1425" y="414"/>
                    <a:pt x="1427" y="410"/>
                    <a:pt x="1428" y="405"/>
                  </a:cubicBezTo>
                  <a:cubicBezTo>
                    <a:pt x="1428" y="401"/>
                    <a:pt x="1428" y="397"/>
                    <a:pt x="1428" y="391"/>
                  </a:cubicBezTo>
                  <a:cubicBezTo>
                    <a:pt x="1441" y="385"/>
                    <a:pt x="1461" y="394"/>
                    <a:pt x="1472" y="374"/>
                  </a:cubicBezTo>
                  <a:cubicBezTo>
                    <a:pt x="1476" y="366"/>
                    <a:pt x="1497" y="370"/>
                    <a:pt x="1507" y="363"/>
                  </a:cubicBezTo>
                  <a:cubicBezTo>
                    <a:pt x="1529" y="349"/>
                    <a:pt x="1548" y="331"/>
                    <a:pt x="1571" y="313"/>
                  </a:cubicBezTo>
                  <a:cubicBezTo>
                    <a:pt x="1596" y="338"/>
                    <a:pt x="1619" y="311"/>
                    <a:pt x="1643" y="303"/>
                  </a:cubicBezTo>
                  <a:cubicBezTo>
                    <a:pt x="1656" y="298"/>
                    <a:pt x="1666" y="288"/>
                    <a:pt x="1683" y="297"/>
                  </a:cubicBezTo>
                  <a:cubicBezTo>
                    <a:pt x="1692" y="302"/>
                    <a:pt x="1700" y="296"/>
                    <a:pt x="1702" y="281"/>
                  </a:cubicBezTo>
                  <a:cubicBezTo>
                    <a:pt x="1704" y="263"/>
                    <a:pt x="1711" y="244"/>
                    <a:pt x="1717" y="227"/>
                  </a:cubicBezTo>
                  <a:cubicBezTo>
                    <a:pt x="1720" y="221"/>
                    <a:pt x="1729" y="218"/>
                    <a:pt x="1739" y="212"/>
                  </a:cubicBezTo>
                  <a:cubicBezTo>
                    <a:pt x="1734" y="230"/>
                    <a:pt x="1726" y="243"/>
                    <a:pt x="1727" y="255"/>
                  </a:cubicBezTo>
                  <a:cubicBezTo>
                    <a:pt x="1728" y="267"/>
                    <a:pt x="1740" y="277"/>
                    <a:pt x="1745" y="288"/>
                  </a:cubicBezTo>
                  <a:cubicBezTo>
                    <a:pt x="1747" y="294"/>
                    <a:pt x="1745" y="303"/>
                    <a:pt x="1745" y="317"/>
                  </a:cubicBezTo>
                  <a:cubicBezTo>
                    <a:pt x="1769" y="303"/>
                    <a:pt x="1791" y="290"/>
                    <a:pt x="1815" y="275"/>
                  </a:cubicBezTo>
                  <a:cubicBezTo>
                    <a:pt x="1819" y="281"/>
                    <a:pt x="1824" y="288"/>
                    <a:pt x="1831" y="294"/>
                  </a:cubicBezTo>
                  <a:cubicBezTo>
                    <a:pt x="1841" y="304"/>
                    <a:pt x="1921" y="306"/>
                    <a:pt x="1931" y="296"/>
                  </a:cubicBezTo>
                  <a:cubicBezTo>
                    <a:pt x="1963" y="265"/>
                    <a:pt x="1963" y="265"/>
                    <a:pt x="2001" y="264"/>
                  </a:cubicBezTo>
                  <a:cubicBezTo>
                    <a:pt x="2000" y="267"/>
                    <a:pt x="1999" y="271"/>
                    <a:pt x="1999" y="274"/>
                  </a:cubicBezTo>
                  <a:cubicBezTo>
                    <a:pt x="1998" y="278"/>
                    <a:pt x="1996" y="281"/>
                    <a:pt x="1995" y="288"/>
                  </a:cubicBezTo>
                  <a:cubicBezTo>
                    <a:pt x="2023" y="288"/>
                    <a:pt x="2041" y="304"/>
                    <a:pt x="2058" y="323"/>
                  </a:cubicBezTo>
                  <a:cubicBezTo>
                    <a:pt x="2068" y="335"/>
                    <a:pt x="2082" y="348"/>
                    <a:pt x="2096" y="351"/>
                  </a:cubicBezTo>
                  <a:cubicBezTo>
                    <a:pt x="2124" y="357"/>
                    <a:pt x="2136" y="378"/>
                    <a:pt x="2152" y="397"/>
                  </a:cubicBezTo>
                  <a:cubicBezTo>
                    <a:pt x="2160" y="407"/>
                    <a:pt x="2168" y="418"/>
                    <a:pt x="2179" y="424"/>
                  </a:cubicBezTo>
                  <a:cubicBezTo>
                    <a:pt x="2207" y="438"/>
                    <a:pt x="2227" y="435"/>
                    <a:pt x="2251" y="403"/>
                  </a:cubicBezTo>
                  <a:cubicBezTo>
                    <a:pt x="2280" y="362"/>
                    <a:pt x="2320" y="338"/>
                    <a:pt x="2360" y="312"/>
                  </a:cubicBezTo>
                  <a:cubicBezTo>
                    <a:pt x="2370" y="305"/>
                    <a:pt x="2379" y="297"/>
                    <a:pt x="2388" y="290"/>
                  </a:cubicBezTo>
                  <a:cubicBezTo>
                    <a:pt x="2399" y="290"/>
                    <a:pt x="2411" y="290"/>
                    <a:pt x="2428" y="290"/>
                  </a:cubicBezTo>
                  <a:cubicBezTo>
                    <a:pt x="2413" y="299"/>
                    <a:pt x="2401" y="306"/>
                    <a:pt x="2390" y="313"/>
                  </a:cubicBezTo>
                  <a:cubicBezTo>
                    <a:pt x="2422" y="309"/>
                    <a:pt x="2451" y="299"/>
                    <a:pt x="2483" y="309"/>
                  </a:cubicBezTo>
                  <a:cubicBezTo>
                    <a:pt x="2502" y="315"/>
                    <a:pt x="2519" y="304"/>
                    <a:pt x="2531" y="288"/>
                  </a:cubicBezTo>
                  <a:cubicBezTo>
                    <a:pt x="2539" y="277"/>
                    <a:pt x="2546" y="267"/>
                    <a:pt x="2559" y="259"/>
                  </a:cubicBezTo>
                  <a:cubicBezTo>
                    <a:pt x="2554" y="275"/>
                    <a:pt x="2549" y="290"/>
                    <a:pt x="2544" y="305"/>
                  </a:cubicBezTo>
                  <a:cubicBezTo>
                    <a:pt x="2578" y="343"/>
                    <a:pt x="2588" y="346"/>
                    <a:pt x="2618" y="331"/>
                  </a:cubicBezTo>
                  <a:cubicBezTo>
                    <a:pt x="2647" y="334"/>
                    <a:pt x="2651" y="367"/>
                    <a:pt x="2676" y="374"/>
                  </a:cubicBezTo>
                  <a:cubicBezTo>
                    <a:pt x="2699" y="380"/>
                    <a:pt x="2719" y="393"/>
                    <a:pt x="2740" y="403"/>
                  </a:cubicBezTo>
                  <a:cubicBezTo>
                    <a:pt x="2739" y="425"/>
                    <a:pt x="2738" y="443"/>
                    <a:pt x="2737" y="463"/>
                  </a:cubicBezTo>
                  <a:cubicBezTo>
                    <a:pt x="2730" y="463"/>
                    <a:pt x="2720" y="463"/>
                    <a:pt x="2712" y="463"/>
                  </a:cubicBezTo>
                  <a:cubicBezTo>
                    <a:pt x="2678" y="526"/>
                    <a:pt x="2644" y="588"/>
                    <a:pt x="2608" y="654"/>
                  </a:cubicBezTo>
                  <a:cubicBezTo>
                    <a:pt x="2622" y="654"/>
                    <a:pt x="2629" y="654"/>
                    <a:pt x="2640" y="654"/>
                  </a:cubicBezTo>
                  <a:cubicBezTo>
                    <a:pt x="2602" y="677"/>
                    <a:pt x="2579" y="708"/>
                    <a:pt x="2563" y="750"/>
                  </a:cubicBezTo>
                  <a:cubicBezTo>
                    <a:pt x="2571" y="748"/>
                    <a:pt x="2578" y="748"/>
                    <a:pt x="2578" y="745"/>
                  </a:cubicBezTo>
                  <a:cubicBezTo>
                    <a:pt x="2591" y="708"/>
                    <a:pt x="2626" y="691"/>
                    <a:pt x="2651" y="665"/>
                  </a:cubicBezTo>
                  <a:cubicBezTo>
                    <a:pt x="2659" y="657"/>
                    <a:pt x="2665" y="648"/>
                    <a:pt x="2671" y="640"/>
                  </a:cubicBezTo>
                  <a:cubicBezTo>
                    <a:pt x="2706" y="600"/>
                    <a:pt x="2739" y="557"/>
                    <a:pt x="2788" y="531"/>
                  </a:cubicBezTo>
                  <a:cubicBezTo>
                    <a:pt x="2821" y="514"/>
                    <a:pt x="2844" y="489"/>
                    <a:pt x="2837" y="445"/>
                  </a:cubicBezTo>
                  <a:cubicBezTo>
                    <a:pt x="2880" y="470"/>
                    <a:pt x="2925" y="452"/>
                    <a:pt x="2967" y="465"/>
                  </a:cubicBezTo>
                  <a:cubicBezTo>
                    <a:pt x="2985" y="471"/>
                    <a:pt x="3004" y="471"/>
                    <a:pt x="3030" y="475"/>
                  </a:cubicBezTo>
                  <a:cubicBezTo>
                    <a:pt x="3049" y="497"/>
                    <a:pt x="3075" y="523"/>
                    <a:pt x="3115" y="526"/>
                  </a:cubicBezTo>
                  <a:cubicBezTo>
                    <a:pt x="3126" y="527"/>
                    <a:pt x="3137" y="536"/>
                    <a:pt x="3145" y="544"/>
                  </a:cubicBezTo>
                  <a:cubicBezTo>
                    <a:pt x="3166" y="564"/>
                    <a:pt x="3185" y="586"/>
                    <a:pt x="3207" y="611"/>
                  </a:cubicBezTo>
                  <a:cubicBezTo>
                    <a:pt x="3224" y="598"/>
                    <a:pt x="3242" y="586"/>
                    <a:pt x="3260" y="573"/>
                  </a:cubicBezTo>
                  <a:cubicBezTo>
                    <a:pt x="3256" y="572"/>
                    <a:pt x="3253" y="570"/>
                    <a:pt x="3249" y="569"/>
                  </a:cubicBezTo>
                  <a:cubicBezTo>
                    <a:pt x="3268" y="575"/>
                    <a:pt x="3286" y="581"/>
                    <a:pt x="3307" y="587"/>
                  </a:cubicBezTo>
                  <a:cubicBezTo>
                    <a:pt x="3307" y="598"/>
                    <a:pt x="3308" y="613"/>
                    <a:pt x="3310" y="631"/>
                  </a:cubicBezTo>
                  <a:cubicBezTo>
                    <a:pt x="3302" y="625"/>
                    <a:pt x="3296" y="622"/>
                    <a:pt x="3289" y="617"/>
                  </a:cubicBezTo>
                  <a:cubicBezTo>
                    <a:pt x="3287" y="624"/>
                    <a:pt x="3286" y="630"/>
                    <a:pt x="3283" y="642"/>
                  </a:cubicBezTo>
                  <a:cubicBezTo>
                    <a:pt x="3272" y="630"/>
                    <a:pt x="3264" y="621"/>
                    <a:pt x="3255" y="610"/>
                  </a:cubicBezTo>
                  <a:cubicBezTo>
                    <a:pt x="3244" y="620"/>
                    <a:pt x="3235" y="630"/>
                    <a:pt x="3224" y="639"/>
                  </a:cubicBezTo>
                  <a:cubicBezTo>
                    <a:pt x="3209" y="652"/>
                    <a:pt x="3197" y="667"/>
                    <a:pt x="3172" y="667"/>
                  </a:cubicBezTo>
                  <a:cubicBezTo>
                    <a:pt x="3159" y="667"/>
                    <a:pt x="3147" y="688"/>
                    <a:pt x="3134" y="698"/>
                  </a:cubicBezTo>
                  <a:cubicBezTo>
                    <a:pt x="3102" y="725"/>
                    <a:pt x="3079" y="757"/>
                    <a:pt x="3059" y="794"/>
                  </a:cubicBezTo>
                  <a:cubicBezTo>
                    <a:pt x="3044" y="822"/>
                    <a:pt x="3017" y="844"/>
                    <a:pt x="2996" y="869"/>
                  </a:cubicBezTo>
                  <a:cubicBezTo>
                    <a:pt x="2972" y="898"/>
                    <a:pt x="2948" y="926"/>
                    <a:pt x="2924" y="955"/>
                  </a:cubicBezTo>
                  <a:cubicBezTo>
                    <a:pt x="2920" y="960"/>
                    <a:pt x="2920" y="969"/>
                    <a:pt x="2915" y="983"/>
                  </a:cubicBezTo>
                  <a:cubicBezTo>
                    <a:pt x="2929" y="979"/>
                    <a:pt x="2938" y="979"/>
                    <a:pt x="2944" y="974"/>
                  </a:cubicBezTo>
                  <a:cubicBezTo>
                    <a:pt x="2975" y="949"/>
                    <a:pt x="3004" y="921"/>
                    <a:pt x="3035" y="897"/>
                  </a:cubicBezTo>
                  <a:cubicBezTo>
                    <a:pt x="3080" y="861"/>
                    <a:pt x="3126" y="828"/>
                    <a:pt x="3171" y="793"/>
                  </a:cubicBezTo>
                  <a:cubicBezTo>
                    <a:pt x="3197" y="774"/>
                    <a:pt x="3231" y="762"/>
                    <a:pt x="3236" y="730"/>
                  </a:cubicBezTo>
                  <a:cubicBezTo>
                    <a:pt x="3261" y="727"/>
                    <a:pt x="3282" y="723"/>
                    <a:pt x="3304" y="723"/>
                  </a:cubicBezTo>
                  <a:cubicBezTo>
                    <a:pt x="3333" y="723"/>
                    <a:pt x="3362" y="728"/>
                    <a:pt x="3385" y="748"/>
                  </a:cubicBezTo>
                  <a:cubicBezTo>
                    <a:pt x="3402" y="763"/>
                    <a:pt x="3417" y="766"/>
                    <a:pt x="3434" y="746"/>
                  </a:cubicBezTo>
                  <a:cubicBezTo>
                    <a:pt x="3447" y="759"/>
                    <a:pt x="3459" y="771"/>
                    <a:pt x="3472" y="783"/>
                  </a:cubicBezTo>
                  <a:cubicBezTo>
                    <a:pt x="3475" y="781"/>
                    <a:pt x="3477" y="780"/>
                    <a:pt x="3480" y="778"/>
                  </a:cubicBezTo>
                  <a:cubicBezTo>
                    <a:pt x="3477" y="760"/>
                    <a:pt x="3470" y="742"/>
                    <a:pt x="3473" y="726"/>
                  </a:cubicBezTo>
                  <a:cubicBezTo>
                    <a:pt x="3476" y="710"/>
                    <a:pt x="3490" y="696"/>
                    <a:pt x="3499" y="682"/>
                  </a:cubicBezTo>
                  <a:cubicBezTo>
                    <a:pt x="3498" y="683"/>
                    <a:pt x="3498" y="683"/>
                    <a:pt x="3498" y="683"/>
                  </a:cubicBezTo>
                  <a:cubicBezTo>
                    <a:pt x="3513" y="680"/>
                    <a:pt x="3528" y="676"/>
                    <a:pt x="3543" y="672"/>
                  </a:cubicBezTo>
                  <a:cubicBezTo>
                    <a:pt x="3543" y="675"/>
                    <a:pt x="3544" y="677"/>
                    <a:pt x="3545" y="680"/>
                  </a:cubicBezTo>
                  <a:cubicBezTo>
                    <a:pt x="3530" y="690"/>
                    <a:pt x="3515" y="700"/>
                    <a:pt x="3499" y="712"/>
                  </a:cubicBezTo>
                  <a:cubicBezTo>
                    <a:pt x="3512" y="728"/>
                    <a:pt x="3523" y="740"/>
                    <a:pt x="3532" y="753"/>
                  </a:cubicBezTo>
                  <a:cubicBezTo>
                    <a:pt x="3537" y="760"/>
                    <a:pt x="3542" y="769"/>
                    <a:pt x="3542" y="777"/>
                  </a:cubicBezTo>
                  <a:cubicBezTo>
                    <a:pt x="3545" y="811"/>
                    <a:pt x="3554" y="821"/>
                    <a:pt x="3587" y="827"/>
                  </a:cubicBezTo>
                  <a:cubicBezTo>
                    <a:pt x="3592" y="827"/>
                    <a:pt x="3599" y="830"/>
                    <a:pt x="3603" y="835"/>
                  </a:cubicBezTo>
                  <a:cubicBezTo>
                    <a:pt x="3620" y="857"/>
                    <a:pt x="3636" y="879"/>
                    <a:pt x="3652" y="902"/>
                  </a:cubicBezTo>
                  <a:cubicBezTo>
                    <a:pt x="3664" y="919"/>
                    <a:pt x="3673" y="939"/>
                    <a:pt x="3686" y="955"/>
                  </a:cubicBezTo>
                  <a:cubicBezTo>
                    <a:pt x="3691" y="961"/>
                    <a:pt x="3704" y="960"/>
                    <a:pt x="3722" y="964"/>
                  </a:cubicBezTo>
                  <a:cubicBezTo>
                    <a:pt x="3723" y="970"/>
                    <a:pt x="3730" y="985"/>
                    <a:pt x="3729" y="1000"/>
                  </a:cubicBezTo>
                  <a:cubicBezTo>
                    <a:pt x="3727" y="1049"/>
                    <a:pt x="3746" y="1094"/>
                    <a:pt x="3755" y="1141"/>
                  </a:cubicBezTo>
                  <a:cubicBezTo>
                    <a:pt x="3758" y="1155"/>
                    <a:pt x="3765" y="1168"/>
                    <a:pt x="3772" y="1181"/>
                  </a:cubicBezTo>
                  <a:cubicBezTo>
                    <a:pt x="3783" y="1202"/>
                    <a:pt x="3790" y="1228"/>
                    <a:pt x="3807" y="1242"/>
                  </a:cubicBezTo>
                  <a:cubicBezTo>
                    <a:pt x="3836" y="1267"/>
                    <a:pt x="3838" y="1299"/>
                    <a:pt x="3850" y="1330"/>
                  </a:cubicBezTo>
                  <a:cubicBezTo>
                    <a:pt x="3858" y="1351"/>
                    <a:pt x="3879" y="1368"/>
                    <a:pt x="3887" y="1390"/>
                  </a:cubicBezTo>
                  <a:cubicBezTo>
                    <a:pt x="3904" y="1431"/>
                    <a:pt x="3946" y="1458"/>
                    <a:pt x="3950" y="1506"/>
                  </a:cubicBezTo>
                  <a:cubicBezTo>
                    <a:pt x="3951" y="1515"/>
                    <a:pt x="3958" y="1523"/>
                    <a:pt x="3961" y="1531"/>
                  </a:cubicBezTo>
                  <a:cubicBezTo>
                    <a:pt x="3970" y="1554"/>
                    <a:pt x="3982" y="1575"/>
                    <a:pt x="3979" y="1603"/>
                  </a:cubicBezTo>
                  <a:cubicBezTo>
                    <a:pt x="3976" y="1622"/>
                    <a:pt x="3989" y="1644"/>
                    <a:pt x="3994" y="1664"/>
                  </a:cubicBezTo>
                  <a:cubicBezTo>
                    <a:pt x="4011" y="1720"/>
                    <a:pt x="4027" y="1776"/>
                    <a:pt x="4043" y="1832"/>
                  </a:cubicBezTo>
                  <a:cubicBezTo>
                    <a:pt x="4046" y="1841"/>
                    <a:pt x="4050" y="1849"/>
                    <a:pt x="4051" y="1859"/>
                  </a:cubicBezTo>
                  <a:cubicBezTo>
                    <a:pt x="4055" y="1878"/>
                    <a:pt x="4060" y="1897"/>
                    <a:pt x="4060" y="1917"/>
                  </a:cubicBezTo>
                  <a:cubicBezTo>
                    <a:pt x="4059" y="1957"/>
                    <a:pt x="4060" y="1995"/>
                    <a:pt x="4074" y="2034"/>
                  </a:cubicBezTo>
                  <a:cubicBezTo>
                    <a:pt x="4082" y="2059"/>
                    <a:pt x="4084" y="2087"/>
                    <a:pt x="4081" y="2113"/>
                  </a:cubicBezTo>
                  <a:cubicBezTo>
                    <a:pt x="4078" y="2151"/>
                    <a:pt x="4084" y="2187"/>
                    <a:pt x="4091" y="2224"/>
                  </a:cubicBezTo>
                  <a:cubicBezTo>
                    <a:pt x="4094" y="2243"/>
                    <a:pt x="4092" y="2263"/>
                    <a:pt x="4093" y="2282"/>
                  </a:cubicBezTo>
                  <a:cubicBezTo>
                    <a:pt x="4096" y="2323"/>
                    <a:pt x="4098" y="2364"/>
                    <a:pt x="4102" y="2405"/>
                  </a:cubicBezTo>
                  <a:cubicBezTo>
                    <a:pt x="4107" y="2447"/>
                    <a:pt x="4118" y="2489"/>
                    <a:pt x="4101" y="2531"/>
                  </a:cubicBezTo>
                  <a:cubicBezTo>
                    <a:pt x="4099" y="2534"/>
                    <a:pt x="4099" y="2539"/>
                    <a:pt x="4100" y="2542"/>
                  </a:cubicBezTo>
                  <a:cubicBezTo>
                    <a:pt x="4114" y="2599"/>
                    <a:pt x="4092" y="2652"/>
                    <a:pt x="4090" y="2707"/>
                  </a:cubicBezTo>
                  <a:cubicBezTo>
                    <a:pt x="4088" y="2751"/>
                    <a:pt x="4082" y="2765"/>
                    <a:pt x="4058" y="2806"/>
                  </a:cubicBezTo>
                  <a:cubicBezTo>
                    <a:pt x="4064" y="2809"/>
                    <a:pt x="4070" y="2813"/>
                    <a:pt x="4080" y="2818"/>
                  </a:cubicBezTo>
                  <a:cubicBezTo>
                    <a:pt x="4069" y="2824"/>
                    <a:pt x="4062" y="2829"/>
                    <a:pt x="4052" y="2834"/>
                  </a:cubicBezTo>
                  <a:cubicBezTo>
                    <a:pt x="4054" y="2842"/>
                    <a:pt x="4056" y="2850"/>
                    <a:pt x="4059" y="2858"/>
                  </a:cubicBezTo>
                  <a:cubicBezTo>
                    <a:pt x="4051" y="2859"/>
                    <a:pt x="4043" y="2861"/>
                    <a:pt x="4035" y="2863"/>
                  </a:cubicBezTo>
                  <a:cubicBezTo>
                    <a:pt x="4024" y="2890"/>
                    <a:pt x="4012" y="2919"/>
                    <a:pt x="3998" y="2953"/>
                  </a:cubicBezTo>
                  <a:cubicBezTo>
                    <a:pt x="3985" y="2942"/>
                    <a:pt x="3977" y="2935"/>
                    <a:pt x="3969" y="2929"/>
                  </a:cubicBezTo>
                  <a:cubicBezTo>
                    <a:pt x="3975" y="2922"/>
                    <a:pt x="3984" y="2916"/>
                    <a:pt x="3983" y="2910"/>
                  </a:cubicBezTo>
                  <a:cubicBezTo>
                    <a:pt x="3981" y="2888"/>
                    <a:pt x="3988" y="2869"/>
                    <a:pt x="3997" y="2849"/>
                  </a:cubicBezTo>
                  <a:cubicBezTo>
                    <a:pt x="4002" y="2837"/>
                    <a:pt x="4004" y="2824"/>
                    <a:pt x="4007" y="2811"/>
                  </a:cubicBezTo>
                  <a:cubicBezTo>
                    <a:pt x="4014" y="2784"/>
                    <a:pt x="4012" y="2755"/>
                    <a:pt x="4031" y="2731"/>
                  </a:cubicBezTo>
                  <a:cubicBezTo>
                    <a:pt x="4038" y="2722"/>
                    <a:pt x="4037" y="2706"/>
                    <a:pt x="4041" y="2693"/>
                  </a:cubicBezTo>
                  <a:cubicBezTo>
                    <a:pt x="4050" y="2664"/>
                    <a:pt x="4032" y="2635"/>
                    <a:pt x="4042" y="2604"/>
                  </a:cubicBezTo>
                  <a:cubicBezTo>
                    <a:pt x="4052" y="2575"/>
                    <a:pt x="4048" y="2541"/>
                    <a:pt x="4050" y="2509"/>
                  </a:cubicBezTo>
                  <a:cubicBezTo>
                    <a:pt x="4050" y="2500"/>
                    <a:pt x="4048" y="2491"/>
                    <a:pt x="4046" y="2482"/>
                  </a:cubicBezTo>
                  <a:cubicBezTo>
                    <a:pt x="4045" y="2478"/>
                    <a:pt x="4041" y="2473"/>
                    <a:pt x="4042" y="2471"/>
                  </a:cubicBezTo>
                  <a:cubicBezTo>
                    <a:pt x="4070" y="2436"/>
                    <a:pt x="4041" y="2409"/>
                    <a:pt x="4030" y="2373"/>
                  </a:cubicBezTo>
                  <a:cubicBezTo>
                    <a:pt x="4011" y="2390"/>
                    <a:pt x="3995" y="2403"/>
                    <a:pt x="3978" y="2418"/>
                  </a:cubicBezTo>
                  <a:cubicBezTo>
                    <a:pt x="3985" y="2442"/>
                    <a:pt x="3991" y="2466"/>
                    <a:pt x="3999" y="2494"/>
                  </a:cubicBezTo>
                  <a:cubicBezTo>
                    <a:pt x="3992" y="2506"/>
                    <a:pt x="3981" y="2524"/>
                    <a:pt x="3970" y="2543"/>
                  </a:cubicBezTo>
                  <a:cubicBezTo>
                    <a:pt x="3976" y="2546"/>
                    <a:pt x="3983" y="2549"/>
                    <a:pt x="3989" y="2552"/>
                  </a:cubicBezTo>
                  <a:cubicBezTo>
                    <a:pt x="3989" y="2570"/>
                    <a:pt x="3989" y="2588"/>
                    <a:pt x="3989" y="2606"/>
                  </a:cubicBezTo>
                  <a:cubicBezTo>
                    <a:pt x="3990" y="2605"/>
                    <a:pt x="3990" y="2605"/>
                    <a:pt x="3990" y="2605"/>
                  </a:cubicBezTo>
                  <a:cubicBezTo>
                    <a:pt x="3979" y="2625"/>
                    <a:pt x="3968" y="2644"/>
                    <a:pt x="3956" y="2663"/>
                  </a:cubicBezTo>
                  <a:cubicBezTo>
                    <a:pt x="3952" y="2670"/>
                    <a:pt x="3945" y="2676"/>
                    <a:pt x="3939" y="2683"/>
                  </a:cubicBezTo>
                  <a:cubicBezTo>
                    <a:pt x="3940" y="2684"/>
                    <a:pt x="3940" y="2684"/>
                    <a:pt x="3940" y="2684"/>
                  </a:cubicBezTo>
                  <a:cubicBezTo>
                    <a:pt x="3938" y="2646"/>
                    <a:pt x="3933" y="2608"/>
                    <a:pt x="3933" y="2570"/>
                  </a:cubicBezTo>
                  <a:cubicBezTo>
                    <a:pt x="3933" y="2523"/>
                    <a:pt x="3937" y="2476"/>
                    <a:pt x="3939" y="2428"/>
                  </a:cubicBezTo>
                  <a:cubicBezTo>
                    <a:pt x="3927" y="2430"/>
                    <a:pt x="3919" y="2422"/>
                    <a:pt x="3921" y="2405"/>
                  </a:cubicBezTo>
                  <a:cubicBezTo>
                    <a:pt x="3847" y="2387"/>
                    <a:pt x="3774" y="2405"/>
                    <a:pt x="3701" y="2396"/>
                  </a:cubicBezTo>
                  <a:cubicBezTo>
                    <a:pt x="3700" y="2398"/>
                    <a:pt x="3700" y="2401"/>
                    <a:pt x="3699" y="2404"/>
                  </a:cubicBezTo>
                  <a:cubicBezTo>
                    <a:pt x="3719" y="2412"/>
                    <a:pt x="3739" y="2420"/>
                    <a:pt x="3760" y="2429"/>
                  </a:cubicBezTo>
                  <a:cubicBezTo>
                    <a:pt x="3756" y="2436"/>
                    <a:pt x="3752" y="2442"/>
                    <a:pt x="3748" y="2449"/>
                  </a:cubicBezTo>
                  <a:cubicBezTo>
                    <a:pt x="3756" y="2457"/>
                    <a:pt x="3764" y="2466"/>
                    <a:pt x="3771" y="2474"/>
                  </a:cubicBezTo>
                  <a:cubicBezTo>
                    <a:pt x="3754" y="2476"/>
                    <a:pt x="3736" y="2467"/>
                    <a:pt x="3719" y="2480"/>
                  </a:cubicBezTo>
                  <a:cubicBezTo>
                    <a:pt x="3734" y="2499"/>
                    <a:pt x="3748" y="2516"/>
                    <a:pt x="3762" y="2533"/>
                  </a:cubicBezTo>
                  <a:cubicBezTo>
                    <a:pt x="3750" y="2528"/>
                    <a:pt x="3739" y="2521"/>
                    <a:pt x="3727" y="2517"/>
                  </a:cubicBezTo>
                  <a:cubicBezTo>
                    <a:pt x="3719" y="2514"/>
                    <a:pt x="3705" y="2511"/>
                    <a:pt x="3701" y="2515"/>
                  </a:cubicBezTo>
                  <a:cubicBezTo>
                    <a:pt x="3675" y="2539"/>
                    <a:pt x="3652" y="2518"/>
                    <a:pt x="3629" y="2512"/>
                  </a:cubicBezTo>
                  <a:cubicBezTo>
                    <a:pt x="3621" y="2509"/>
                    <a:pt x="3614" y="2505"/>
                    <a:pt x="3606" y="2505"/>
                  </a:cubicBezTo>
                  <a:cubicBezTo>
                    <a:pt x="3566" y="2503"/>
                    <a:pt x="3539" y="2479"/>
                    <a:pt x="3541" y="2439"/>
                  </a:cubicBezTo>
                  <a:cubicBezTo>
                    <a:pt x="3543" y="2397"/>
                    <a:pt x="3551" y="2355"/>
                    <a:pt x="3556" y="2315"/>
                  </a:cubicBezTo>
                  <a:cubicBezTo>
                    <a:pt x="3612" y="2319"/>
                    <a:pt x="3664" y="2323"/>
                    <a:pt x="3715" y="2326"/>
                  </a:cubicBezTo>
                  <a:cubicBezTo>
                    <a:pt x="3731" y="2326"/>
                    <a:pt x="3747" y="2323"/>
                    <a:pt x="3763" y="2323"/>
                  </a:cubicBezTo>
                  <a:cubicBezTo>
                    <a:pt x="3780" y="2322"/>
                    <a:pt x="3801" y="2330"/>
                    <a:pt x="3813" y="2323"/>
                  </a:cubicBezTo>
                  <a:cubicBezTo>
                    <a:pt x="3833" y="2308"/>
                    <a:pt x="3838" y="2334"/>
                    <a:pt x="3854" y="2332"/>
                  </a:cubicBezTo>
                  <a:cubicBezTo>
                    <a:pt x="3888" y="2327"/>
                    <a:pt x="3923" y="2329"/>
                    <a:pt x="3957" y="2326"/>
                  </a:cubicBezTo>
                  <a:cubicBezTo>
                    <a:pt x="3962" y="2326"/>
                    <a:pt x="3967" y="2320"/>
                    <a:pt x="3977" y="2314"/>
                  </a:cubicBezTo>
                  <a:cubicBezTo>
                    <a:pt x="3966" y="2307"/>
                    <a:pt x="3959" y="2300"/>
                    <a:pt x="3951" y="2298"/>
                  </a:cubicBezTo>
                  <a:cubicBezTo>
                    <a:pt x="3928" y="2291"/>
                    <a:pt x="3905" y="2291"/>
                    <a:pt x="3880" y="2294"/>
                  </a:cubicBezTo>
                  <a:cubicBezTo>
                    <a:pt x="3839" y="2298"/>
                    <a:pt x="3797" y="2294"/>
                    <a:pt x="3755" y="2293"/>
                  </a:cubicBezTo>
                  <a:cubicBezTo>
                    <a:pt x="3727" y="2293"/>
                    <a:pt x="3698" y="2292"/>
                    <a:pt x="3670" y="2292"/>
                  </a:cubicBezTo>
                  <a:cubicBezTo>
                    <a:pt x="3641" y="2292"/>
                    <a:pt x="3612" y="2292"/>
                    <a:pt x="3583" y="2290"/>
                  </a:cubicBezTo>
                  <a:cubicBezTo>
                    <a:pt x="3561" y="2288"/>
                    <a:pt x="3547" y="2276"/>
                    <a:pt x="3544" y="2252"/>
                  </a:cubicBezTo>
                  <a:cubicBezTo>
                    <a:pt x="3542" y="2238"/>
                    <a:pt x="3536" y="2224"/>
                    <a:pt x="3534" y="2210"/>
                  </a:cubicBezTo>
                  <a:cubicBezTo>
                    <a:pt x="3528" y="2180"/>
                    <a:pt x="3526" y="2152"/>
                    <a:pt x="3554" y="2130"/>
                  </a:cubicBezTo>
                  <a:cubicBezTo>
                    <a:pt x="3563" y="2123"/>
                    <a:pt x="3566" y="2111"/>
                    <a:pt x="3572" y="2101"/>
                  </a:cubicBezTo>
                  <a:cubicBezTo>
                    <a:pt x="3598" y="2106"/>
                    <a:pt x="3622" y="2115"/>
                    <a:pt x="3647" y="2116"/>
                  </a:cubicBezTo>
                  <a:cubicBezTo>
                    <a:pt x="3678" y="2116"/>
                    <a:pt x="3710" y="2111"/>
                    <a:pt x="3741" y="2107"/>
                  </a:cubicBezTo>
                  <a:cubicBezTo>
                    <a:pt x="3746" y="2106"/>
                    <a:pt x="3751" y="2100"/>
                    <a:pt x="3756" y="2095"/>
                  </a:cubicBezTo>
                  <a:cubicBezTo>
                    <a:pt x="3779" y="2072"/>
                    <a:pt x="3775" y="2045"/>
                    <a:pt x="3775" y="2014"/>
                  </a:cubicBezTo>
                  <a:cubicBezTo>
                    <a:pt x="3775" y="1961"/>
                    <a:pt x="3764" y="1910"/>
                    <a:pt x="3752" y="1858"/>
                  </a:cubicBezTo>
                  <a:cubicBezTo>
                    <a:pt x="3741" y="1813"/>
                    <a:pt x="3731" y="1768"/>
                    <a:pt x="3719" y="1723"/>
                  </a:cubicBezTo>
                  <a:cubicBezTo>
                    <a:pt x="3715" y="1707"/>
                    <a:pt x="3710" y="1690"/>
                    <a:pt x="3701" y="1675"/>
                  </a:cubicBezTo>
                  <a:cubicBezTo>
                    <a:pt x="3686" y="1647"/>
                    <a:pt x="3667" y="1621"/>
                    <a:pt x="3650" y="1594"/>
                  </a:cubicBezTo>
                  <a:cubicBezTo>
                    <a:pt x="3654" y="1576"/>
                    <a:pt x="3648" y="1561"/>
                    <a:pt x="3637" y="1547"/>
                  </a:cubicBezTo>
                  <a:cubicBezTo>
                    <a:pt x="3617" y="1523"/>
                    <a:pt x="3598" y="1498"/>
                    <a:pt x="3578" y="1474"/>
                  </a:cubicBezTo>
                  <a:cubicBezTo>
                    <a:pt x="3571" y="1464"/>
                    <a:pt x="3564" y="1455"/>
                    <a:pt x="3557" y="1445"/>
                  </a:cubicBezTo>
                  <a:cubicBezTo>
                    <a:pt x="3547" y="1432"/>
                    <a:pt x="3532" y="1428"/>
                    <a:pt x="3519" y="1434"/>
                  </a:cubicBezTo>
                  <a:cubicBezTo>
                    <a:pt x="3456" y="1464"/>
                    <a:pt x="3392" y="1491"/>
                    <a:pt x="3347" y="1548"/>
                  </a:cubicBezTo>
                  <a:cubicBezTo>
                    <a:pt x="3349" y="1546"/>
                    <a:pt x="3349" y="1546"/>
                    <a:pt x="3349" y="1546"/>
                  </a:cubicBezTo>
                  <a:cubicBezTo>
                    <a:pt x="3310" y="1587"/>
                    <a:pt x="3271" y="1628"/>
                    <a:pt x="3229" y="1671"/>
                  </a:cubicBezTo>
                  <a:cubicBezTo>
                    <a:pt x="3241" y="1672"/>
                    <a:pt x="3248" y="1673"/>
                    <a:pt x="3257" y="1673"/>
                  </a:cubicBezTo>
                  <a:cubicBezTo>
                    <a:pt x="3246" y="1697"/>
                    <a:pt x="3227" y="1681"/>
                    <a:pt x="3210" y="1690"/>
                  </a:cubicBezTo>
                  <a:cubicBezTo>
                    <a:pt x="3207" y="1698"/>
                    <a:pt x="3204" y="1709"/>
                    <a:pt x="3201" y="1720"/>
                  </a:cubicBezTo>
                  <a:cubicBezTo>
                    <a:pt x="3203" y="1719"/>
                    <a:pt x="3203" y="1719"/>
                    <a:pt x="3203" y="1719"/>
                  </a:cubicBezTo>
                  <a:cubicBezTo>
                    <a:pt x="3182" y="1730"/>
                    <a:pt x="3164" y="1741"/>
                    <a:pt x="3170" y="1771"/>
                  </a:cubicBezTo>
                  <a:cubicBezTo>
                    <a:pt x="3173" y="1783"/>
                    <a:pt x="3166" y="1797"/>
                    <a:pt x="3149" y="1814"/>
                  </a:cubicBezTo>
                  <a:cubicBezTo>
                    <a:pt x="3152" y="1795"/>
                    <a:pt x="3153" y="1785"/>
                    <a:pt x="3155" y="1774"/>
                  </a:cubicBezTo>
                  <a:cubicBezTo>
                    <a:pt x="3152" y="1774"/>
                    <a:pt x="3150" y="1773"/>
                    <a:pt x="3147" y="1772"/>
                  </a:cubicBezTo>
                  <a:cubicBezTo>
                    <a:pt x="3138" y="1792"/>
                    <a:pt x="3129" y="1811"/>
                    <a:pt x="3117" y="1836"/>
                  </a:cubicBezTo>
                  <a:cubicBezTo>
                    <a:pt x="3132" y="1831"/>
                    <a:pt x="3138" y="1829"/>
                    <a:pt x="3146" y="1827"/>
                  </a:cubicBezTo>
                  <a:cubicBezTo>
                    <a:pt x="3147" y="1832"/>
                    <a:pt x="3149" y="1835"/>
                    <a:pt x="3149" y="1839"/>
                  </a:cubicBezTo>
                  <a:cubicBezTo>
                    <a:pt x="3153" y="1891"/>
                    <a:pt x="3216" y="1933"/>
                    <a:pt x="3260" y="1909"/>
                  </a:cubicBezTo>
                  <a:cubicBezTo>
                    <a:pt x="3288" y="1893"/>
                    <a:pt x="3312" y="1896"/>
                    <a:pt x="3339" y="1905"/>
                  </a:cubicBezTo>
                  <a:cubicBezTo>
                    <a:pt x="3347" y="1907"/>
                    <a:pt x="3358" y="1911"/>
                    <a:pt x="3365" y="1907"/>
                  </a:cubicBezTo>
                  <a:cubicBezTo>
                    <a:pt x="3395" y="1889"/>
                    <a:pt x="3425" y="1902"/>
                    <a:pt x="3454" y="1909"/>
                  </a:cubicBezTo>
                  <a:cubicBezTo>
                    <a:pt x="3466" y="1912"/>
                    <a:pt x="3481" y="1925"/>
                    <a:pt x="3485" y="1936"/>
                  </a:cubicBezTo>
                  <a:cubicBezTo>
                    <a:pt x="3495" y="1971"/>
                    <a:pt x="3504" y="2008"/>
                    <a:pt x="3507" y="2044"/>
                  </a:cubicBezTo>
                  <a:cubicBezTo>
                    <a:pt x="3511" y="2083"/>
                    <a:pt x="3505" y="2123"/>
                    <a:pt x="3509" y="2162"/>
                  </a:cubicBezTo>
                  <a:cubicBezTo>
                    <a:pt x="3512" y="2186"/>
                    <a:pt x="3516" y="2208"/>
                    <a:pt x="3508" y="2231"/>
                  </a:cubicBezTo>
                  <a:cubicBezTo>
                    <a:pt x="3506" y="2238"/>
                    <a:pt x="3508" y="2247"/>
                    <a:pt x="3508" y="2254"/>
                  </a:cubicBezTo>
                  <a:cubicBezTo>
                    <a:pt x="3532" y="2272"/>
                    <a:pt x="3532" y="2272"/>
                    <a:pt x="3537" y="2302"/>
                  </a:cubicBezTo>
                  <a:cubicBezTo>
                    <a:pt x="3498" y="2310"/>
                    <a:pt x="3498" y="2313"/>
                    <a:pt x="3509" y="2354"/>
                  </a:cubicBezTo>
                  <a:cubicBezTo>
                    <a:pt x="3515" y="2374"/>
                    <a:pt x="3515" y="2397"/>
                    <a:pt x="3516" y="2418"/>
                  </a:cubicBezTo>
                  <a:cubicBezTo>
                    <a:pt x="3517" y="2441"/>
                    <a:pt x="3509" y="2465"/>
                    <a:pt x="3532" y="2481"/>
                  </a:cubicBezTo>
                  <a:cubicBezTo>
                    <a:pt x="3519" y="2493"/>
                    <a:pt x="3508" y="2504"/>
                    <a:pt x="3498" y="2513"/>
                  </a:cubicBezTo>
                  <a:cubicBezTo>
                    <a:pt x="3516" y="2570"/>
                    <a:pt x="3515" y="2623"/>
                    <a:pt x="3493" y="2676"/>
                  </a:cubicBezTo>
                  <a:cubicBezTo>
                    <a:pt x="3418" y="2691"/>
                    <a:pt x="3346" y="2683"/>
                    <a:pt x="3274" y="2679"/>
                  </a:cubicBezTo>
                  <a:cubicBezTo>
                    <a:pt x="3247" y="2677"/>
                    <a:pt x="3221" y="2678"/>
                    <a:pt x="3196" y="2693"/>
                  </a:cubicBezTo>
                  <a:cubicBezTo>
                    <a:pt x="3180" y="2682"/>
                    <a:pt x="3163" y="2671"/>
                    <a:pt x="3141" y="2686"/>
                  </a:cubicBezTo>
                  <a:cubicBezTo>
                    <a:pt x="3139" y="2715"/>
                    <a:pt x="3138" y="2743"/>
                    <a:pt x="3155" y="2770"/>
                  </a:cubicBezTo>
                  <a:cubicBezTo>
                    <a:pt x="3169" y="2790"/>
                    <a:pt x="3180" y="2813"/>
                    <a:pt x="3192" y="2834"/>
                  </a:cubicBezTo>
                  <a:cubicBezTo>
                    <a:pt x="3196" y="2841"/>
                    <a:pt x="3198" y="2850"/>
                    <a:pt x="3203" y="2855"/>
                  </a:cubicBezTo>
                  <a:cubicBezTo>
                    <a:pt x="3228" y="2879"/>
                    <a:pt x="3254" y="2901"/>
                    <a:pt x="3279" y="2924"/>
                  </a:cubicBezTo>
                  <a:cubicBezTo>
                    <a:pt x="3285" y="2929"/>
                    <a:pt x="3294" y="2934"/>
                    <a:pt x="3296" y="2941"/>
                  </a:cubicBezTo>
                  <a:cubicBezTo>
                    <a:pt x="3311" y="2980"/>
                    <a:pt x="3349" y="2994"/>
                    <a:pt x="3378" y="3019"/>
                  </a:cubicBezTo>
                  <a:cubicBezTo>
                    <a:pt x="3383" y="3024"/>
                    <a:pt x="3390" y="3025"/>
                    <a:pt x="3397" y="3027"/>
                  </a:cubicBezTo>
                  <a:cubicBezTo>
                    <a:pt x="3399" y="3025"/>
                    <a:pt x="3400" y="3023"/>
                    <a:pt x="3402" y="3021"/>
                  </a:cubicBezTo>
                  <a:cubicBezTo>
                    <a:pt x="3393" y="3009"/>
                    <a:pt x="3385" y="2994"/>
                    <a:pt x="3373" y="2986"/>
                  </a:cubicBezTo>
                  <a:cubicBezTo>
                    <a:pt x="3339" y="2963"/>
                    <a:pt x="3315" y="2930"/>
                    <a:pt x="3286" y="2902"/>
                  </a:cubicBezTo>
                  <a:cubicBezTo>
                    <a:pt x="3283" y="2899"/>
                    <a:pt x="3279" y="2897"/>
                    <a:pt x="3277" y="2894"/>
                  </a:cubicBezTo>
                  <a:cubicBezTo>
                    <a:pt x="3256" y="2870"/>
                    <a:pt x="3224" y="2856"/>
                    <a:pt x="3219" y="2820"/>
                  </a:cubicBezTo>
                  <a:cubicBezTo>
                    <a:pt x="3219" y="2817"/>
                    <a:pt x="3215" y="2814"/>
                    <a:pt x="3212" y="2812"/>
                  </a:cubicBezTo>
                  <a:cubicBezTo>
                    <a:pt x="3177" y="2789"/>
                    <a:pt x="3177" y="2759"/>
                    <a:pt x="3194" y="2722"/>
                  </a:cubicBezTo>
                  <a:cubicBezTo>
                    <a:pt x="3212" y="2719"/>
                    <a:pt x="3232" y="2715"/>
                    <a:pt x="3251" y="2713"/>
                  </a:cubicBezTo>
                  <a:cubicBezTo>
                    <a:pt x="3271" y="2711"/>
                    <a:pt x="3293" y="2714"/>
                    <a:pt x="3310" y="2706"/>
                  </a:cubicBezTo>
                  <a:cubicBezTo>
                    <a:pt x="3329" y="2698"/>
                    <a:pt x="3347" y="2700"/>
                    <a:pt x="3362" y="2707"/>
                  </a:cubicBezTo>
                  <a:cubicBezTo>
                    <a:pt x="3379" y="2715"/>
                    <a:pt x="3399" y="2719"/>
                    <a:pt x="3415" y="2724"/>
                  </a:cubicBezTo>
                  <a:cubicBezTo>
                    <a:pt x="3441" y="2731"/>
                    <a:pt x="3472" y="2743"/>
                    <a:pt x="3498" y="2717"/>
                  </a:cubicBezTo>
                  <a:cubicBezTo>
                    <a:pt x="3503" y="2712"/>
                    <a:pt x="3512" y="2712"/>
                    <a:pt x="3518" y="2709"/>
                  </a:cubicBezTo>
                  <a:cubicBezTo>
                    <a:pt x="3525" y="2690"/>
                    <a:pt x="3527" y="2672"/>
                    <a:pt x="3536" y="2654"/>
                  </a:cubicBezTo>
                  <a:cubicBezTo>
                    <a:pt x="3549" y="2629"/>
                    <a:pt x="3547" y="2596"/>
                    <a:pt x="3550" y="2566"/>
                  </a:cubicBezTo>
                  <a:cubicBezTo>
                    <a:pt x="3553" y="2524"/>
                    <a:pt x="3560" y="2519"/>
                    <a:pt x="3601" y="2530"/>
                  </a:cubicBezTo>
                  <a:cubicBezTo>
                    <a:pt x="3633" y="2539"/>
                    <a:pt x="3665" y="2548"/>
                    <a:pt x="3697" y="2551"/>
                  </a:cubicBezTo>
                  <a:cubicBezTo>
                    <a:pt x="3722" y="2552"/>
                    <a:pt x="3737" y="2561"/>
                    <a:pt x="3749" y="2581"/>
                  </a:cubicBezTo>
                  <a:cubicBezTo>
                    <a:pt x="3756" y="2593"/>
                    <a:pt x="3762" y="2607"/>
                    <a:pt x="3770" y="2619"/>
                  </a:cubicBezTo>
                  <a:cubicBezTo>
                    <a:pt x="3773" y="2624"/>
                    <a:pt x="3781" y="2626"/>
                    <a:pt x="3787" y="2629"/>
                  </a:cubicBezTo>
                  <a:cubicBezTo>
                    <a:pt x="3790" y="2628"/>
                    <a:pt x="3792" y="2626"/>
                    <a:pt x="3794" y="2625"/>
                  </a:cubicBezTo>
                  <a:cubicBezTo>
                    <a:pt x="3791" y="2612"/>
                    <a:pt x="3781" y="2597"/>
                    <a:pt x="3784" y="2586"/>
                  </a:cubicBezTo>
                  <a:cubicBezTo>
                    <a:pt x="3793" y="2557"/>
                    <a:pt x="3777" y="2545"/>
                    <a:pt x="3759" y="2531"/>
                  </a:cubicBezTo>
                  <a:cubicBezTo>
                    <a:pt x="3788" y="2531"/>
                    <a:pt x="3792" y="2527"/>
                    <a:pt x="3784" y="2505"/>
                  </a:cubicBezTo>
                  <a:cubicBezTo>
                    <a:pt x="3780" y="2494"/>
                    <a:pt x="3775" y="2484"/>
                    <a:pt x="3770" y="2473"/>
                  </a:cubicBezTo>
                  <a:close/>
                  <a:moveTo>
                    <a:pt x="539" y="3042"/>
                  </a:moveTo>
                  <a:cubicBezTo>
                    <a:pt x="535" y="3038"/>
                    <a:pt x="531" y="3034"/>
                    <a:pt x="527" y="3030"/>
                  </a:cubicBezTo>
                  <a:cubicBezTo>
                    <a:pt x="526" y="3036"/>
                    <a:pt x="527" y="3038"/>
                    <a:pt x="529" y="3039"/>
                  </a:cubicBezTo>
                  <a:cubicBezTo>
                    <a:pt x="533" y="3040"/>
                    <a:pt x="537" y="3040"/>
                    <a:pt x="540" y="3041"/>
                  </a:cubicBezTo>
                  <a:cubicBezTo>
                    <a:pt x="532" y="3052"/>
                    <a:pt x="534" y="3061"/>
                    <a:pt x="549" y="3072"/>
                  </a:cubicBezTo>
                  <a:cubicBezTo>
                    <a:pt x="549" y="3060"/>
                    <a:pt x="550" y="3053"/>
                    <a:pt x="549" y="3046"/>
                  </a:cubicBezTo>
                  <a:cubicBezTo>
                    <a:pt x="549" y="3044"/>
                    <a:pt x="543" y="3043"/>
                    <a:pt x="539" y="3042"/>
                  </a:cubicBezTo>
                  <a:close/>
                  <a:moveTo>
                    <a:pt x="1271" y="1725"/>
                  </a:moveTo>
                  <a:cubicBezTo>
                    <a:pt x="1266" y="1737"/>
                    <a:pt x="1269" y="1746"/>
                    <a:pt x="1281" y="1752"/>
                  </a:cubicBezTo>
                  <a:cubicBezTo>
                    <a:pt x="1278" y="1744"/>
                    <a:pt x="1274" y="1735"/>
                    <a:pt x="1270" y="1726"/>
                  </a:cubicBezTo>
                  <a:cubicBezTo>
                    <a:pt x="1259" y="1713"/>
                    <a:pt x="1247" y="1701"/>
                    <a:pt x="1236" y="1688"/>
                  </a:cubicBezTo>
                  <a:cubicBezTo>
                    <a:pt x="1201" y="1634"/>
                    <a:pt x="1100" y="1534"/>
                    <a:pt x="1064" y="1521"/>
                  </a:cubicBezTo>
                  <a:cubicBezTo>
                    <a:pt x="1061" y="1538"/>
                    <a:pt x="1061" y="1549"/>
                    <a:pt x="1078" y="1562"/>
                  </a:cubicBezTo>
                  <a:cubicBezTo>
                    <a:pt x="1114" y="1589"/>
                    <a:pt x="1147" y="1621"/>
                    <a:pt x="1182" y="1650"/>
                  </a:cubicBezTo>
                  <a:cubicBezTo>
                    <a:pt x="1199" y="1664"/>
                    <a:pt x="1218" y="1675"/>
                    <a:pt x="1236" y="1688"/>
                  </a:cubicBezTo>
                  <a:cubicBezTo>
                    <a:pt x="1238" y="1709"/>
                    <a:pt x="1249" y="1722"/>
                    <a:pt x="1271" y="1725"/>
                  </a:cubicBezTo>
                  <a:close/>
                  <a:moveTo>
                    <a:pt x="879" y="3517"/>
                  </a:moveTo>
                  <a:cubicBezTo>
                    <a:pt x="865" y="3512"/>
                    <a:pt x="852" y="3508"/>
                    <a:pt x="851" y="3533"/>
                  </a:cubicBezTo>
                  <a:cubicBezTo>
                    <a:pt x="860" y="3528"/>
                    <a:pt x="869" y="3522"/>
                    <a:pt x="878" y="3516"/>
                  </a:cubicBezTo>
                  <a:cubicBezTo>
                    <a:pt x="883" y="3507"/>
                    <a:pt x="889" y="3499"/>
                    <a:pt x="895" y="3490"/>
                  </a:cubicBezTo>
                  <a:cubicBezTo>
                    <a:pt x="873" y="3491"/>
                    <a:pt x="874" y="3504"/>
                    <a:pt x="879" y="3517"/>
                  </a:cubicBezTo>
                  <a:close/>
                  <a:moveTo>
                    <a:pt x="868" y="2266"/>
                  </a:moveTo>
                  <a:cubicBezTo>
                    <a:pt x="863" y="2256"/>
                    <a:pt x="858" y="2247"/>
                    <a:pt x="840" y="2258"/>
                  </a:cubicBezTo>
                  <a:cubicBezTo>
                    <a:pt x="853" y="2261"/>
                    <a:pt x="861" y="2263"/>
                    <a:pt x="869" y="2265"/>
                  </a:cubicBezTo>
                  <a:cubicBezTo>
                    <a:pt x="872" y="2274"/>
                    <a:pt x="875" y="2284"/>
                    <a:pt x="880" y="2300"/>
                  </a:cubicBezTo>
                  <a:cubicBezTo>
                    <a:pt x="895" y="2273"/>
                    <a:pt x="882" y="2269"/>
                    <a:pt x="868" y="2266"/>
                  </a:cubicBezTo>
                  <a:close/>
                  <a:moveTo>
                    <a:pt x="1686" y="709"/>
                  </a:moveTo>
                  <a:cubicBezTo>
                    <a:pt x="1686" y="726"/>
                    <a:pt x="1688" y="742"/>
                    <a:pt x="1716" y="751"/>
                  </a:cubicBezTo>
                  <a:cubicBezTo>
                    <a:pt x="1703" y="733"/>
                    <a:pt x="1694" y="721"/>
                    <a:pt x="1686" y="709"/>
                  </a:cubicBezTo>
                  <a:cubicBezTo>
                    <a:pt x="1676" y="702"/>
                    <a:pt x="1665" y="694"/>
                    <a:pt x="1655" y="686"/>
                  </a:cubicBezTo>
                  <a:cubicBezTo>
                    <a:pt x="1657" y="709"/>
                    <a:pt x="1668" y="716"/>
                    <a:pt x="1686" y="709"/>
                  </a:cubicBezTo>
                  <a:close/>
                  <a:moveTo>
                    <a:pt x="1008" y="551"/>
                  </a:moveTo>
                  <a:cubicBezTo>
                    <a:pt x="1002" y="546"/>
                    <a:pt x="998" y="533"/>
                    <a:pt x="988" y="546"/>
                  </a:cubicBezTo>
                  <a:cubicBezTo>
                    <a:pt x="986" y="549"/>
                    <a:pt x="986" y="558"/>
                    <a:pt x="989" y="560"/>
                  </a:cubicBezTo>
                  <a:cubicBezTo>
                    <a:pt x="1000" y="568"/>
                    <a:pt x="1004" y="560"/>
                    <a:pt x="1008" y="551"/>
                  </a:cubicBezTo>
                  <a:cubicBezTo>
                    <a:pt x="1026" y="550"/>
                    <a:pt x="1026" y="550"/>
                    <a:pt x="1026" y="531"/>
                  </a:cubicBezTo>
                  <a:cubicBezTo>
                    <a:pt x="1019" y="539"/>
                    <a:pt x="1014" y="545"/>
                    <a:pt x="1008" y="551"/>
                  </a:cubicBezTo>
                  <a:close/>
                  <a:moveTo>
                    <a:pt x="853" y="483"/>
                  </a:moveTo>
                  <a:cubicBezTo>
                    <a:pt x="853" y="485"/>
                    <a:pt x="853" y="489"/>
                    <a:pt x="854" y="490"/>
                  </a:cubicBezTo>
                  <a:cubicBezTo>
                    <a:pt x="857" y="494"/>
                    <a:pt x="860" y="498"/>
                    <a:pt x="863" y="501"/>
                  </a:cubicBezTo>
                  <a:cubicBezTo>
                    <a:pt x="866" y="499"/>
                    <a:pt x="868" y="496"/>
                    <a:pt x="870" y="493"/>
                  </a:cubicBezTo>
                  <a:cubicBezTo>
                    <a:pt x="867" y="491"/>
                    <a:pt x="863" y="487"/>
                    <a:pt x="859" y="485"/>
                  </a:cubicBezTo>
                  <a:cubicBezTo>
                    <a:pt x="857" y="484"/>
                    <a:pt x="854" y="485"/>
                    <a:pt x="851" y="485"/>
                  </a:cubicBezTo>
                  <a:cubicBezTo>
                    <a:pt x="850" y="481"/>
                    <a:pt x="849" y="477"/>
                    <a:pt x="847" y="473"/>
                  </a:cubicBezTo>
                  <a:cubicBezTo>
                    <a:pt x="844" y="478"/>
                    <a:pt x="840" y="483"/>
                    <a:pt x="836" y="488"/>
                  </a:cubicBezTo>
                  <a:cubicBezTo>
                    <a:pt x="837" y="488"/>
                    <a:pt x="839" y="489"/>
                    <a:pt x="840" y="490"/>
                  </a:cubicBezTo>
                  <a:cubicBezTo>
                    <a:pt x="844" y="488"/>
                    <a:pt x="849" y="485"/>
                    <a:pt x="853" y="483"/>
                  </a:cubicBezTo>
                  <a:close/>
                  <a:moveTo>
                    <a:pt x="507" y="897"/>
                  </a:moveTo>
                  <a:cubicBezTo>
                    <a:pt x="505" y="908"/>
                    <a:pt x="503" y="920"/>
                    <a:pt x="502" y="931"/>
                  </a:cubicBezTo>
                  <a:cubicBezTo>
                    <a:pt x="514" y="921"/>
                    <a:pt x="524" y="910"/>
                    <a:pt x="506" y="898"/>
                  </a:cubicBezTo>
                  <a:cubicBezTo>
                    <a:pt x="507" y="887"/>
                    <a:pt x="507" y="876"/>
                    <a:pt x="508" y="857"/>
                  </a:cubicBezTo>
                  <a:cubicBezTo>
                    <a:pt x="487" y="877"/>
                    <a:pt x="488" y="888"/>
                    <a:pt x="507" y="897"/>
                  </a:cubicBezTo>
                  <a:close/>
                  <a:moveTo>
                    <a:pt x="2098" y="530"/>
                  </a:moveTo>
                  <a:cubicBezTo>
                    <a:pt x="2104" y="542"/>
                    <a:pt x="2113" y="551"/>
                    <a:pt x="2125" y="553"/>
                  </a:cubicBezTo>
                  <a:cubicBezTo>
                    <a:pt x="2127" y="550"/>
                    <a:pt x="2128" y="548"/>
                    <a:pt x="2130" y="545"/>
                  </a:cubicBezTo>
                  <a:cubicBezTo>
                    <a:pt x="2119" y="541"/>
                    <a:pt x="2108" y="536"/>
                    <a:pt x="2097" y="531"/>
                  </a:cubicBezTo>
                  <a:cubicBezTo>
                    <a:pt x="2097" y="517"/>
                    <a:pt x="2096" y="504"/>
                    <a:pt x="2076" y="498"/>
                  </a:cubicBezTo>
                  <a:cubicBezTo>
                    <a:pt x="2076" y="516"/>
                    <a:pt x="2082" y="526"/>
                    <a:pt x="2098" y="530"/>
                  </a:cubicBezTo>
                  <a:close/>
                  <a:moveTo>
                    <a:pt x="2555" y="113"/>
                  </a:moveTo>
                  <a:cubicBezTo>
                    <a:pt x="2563" y="122"/>
                    <a:pt x="2558" y="144"/>
                    <a:pt x="2584" y="137"/>
                  </a:cubicBezTo>
                  <a:cubicBezTo>
                    <a:pt x="2574" y="129"/>
                    <a:pt x="2564" y="122"/>
                    <a:pt x="2554" y="114"/>
                  </a:cubicBezTo>
                  <a:cubicBezTo>
                    <a:pt x="2539" y="104"/>
                    <a:pt x="2525" y="106"/>
                    <a:pt x="2505" y="113"/>
                  </a:cubicBezTo>
                  <a:cubicBezTo>
                    <a:pt x="2513" y="119"/>
                    <a:pt x="2518" y="125"/>
                    <a:pt x="2521" y="124"/>
                  </a:cubicBezTo>
                  <a:cubicBezTo>
                    <a:pt x="2532" y="121"/>
                    <a:pt x="2543" y="117"/>
                    <a:pt x="2555" y="113"/>
                  </a:cubicBezTo>
                  <a:close/>
                  <a:moveTo>
                    <a:pt x="2688" y="3741"/>
                  </a:moveTo>
                  <a:cubicBezTo>
                    <a:pt x="2680" y="3738"/>
                    <a:pt x="2672" y="3735"/>
                    <a:pt x="2663" y="3732"/>
                  </a:cubicBezTo>
                  <a:cubicBezTo>
                    <a:pt x="2662" y="3734"/>
                    <a:pt x="2660" y="3737"/>
                    <a:pt x="2658" y="3739"/>
                  </a:cubicBezTo>
                  <a:cubicBezTo>
                    <a:pt x="2666" y="3747"/>
                    <a:pt x="2673" y="3755"/>
                    <a:pt x="2687" y="3769"/>
                  </a:cubicBezTo>
                  <a:cubicBezTo>
                    <a:pt x="2687" y="3753"/>
                    <a:pt x="2687" y="3747"/>
                    <a:pt x="2688" y="3741"/>
                  </a:cubicBezTo>
                  <a:cubicBezTo>
                    <a:pt x="2695" y="3744"/>
                    <a:pt x="2702" y="3748"/>
                    <a:pt x="2713" y="3753"/>
                  </a:cubicBezTo>
                  <a:cubicBezTo>
                    <a:pt x="2708" y="3731"/>
                    <a:pt x="2698" y="3736"/>
                    <a:pt x="2688" y="3741"/>
                  </a:cubicBezTo>
                  <a:close/>
                  <a:moveTo>
                    <a:pt x="388" y="1923"/>
                  </a:moveTo>
                  <a:cubicBezTo>
                    <a:pt x="373" y="1958"/>
                    <a:pt x="373" y="1960"/>
                    <a:pt x="396" y="1975"/>
                  </a:cubicBezTo>
                  <a:cubicBezTo>
                    <a:pt x="393" y="1957"/>
                    <a:pt x="390" y="1939"/>
                    <a:pt x="387" y="1922"/>
                  </a:cubicBezTo>
                  <a:cubicBezTo>
                    <a:pt x="405" y="1917"/>
                    <a:pt x="407" y="1906"/>
                    <a:pt x="392" y="1890"/>
                  </a:cubicBezTo>
                  <a:cubicBezTo>
                    <a:pt x="391" y="1901"/>
                    <a:pt x="389" y="1912"/>
                    <a:pt x="388" y="1923"/>
                  </a:cubicBezTo>
                  <a:close/>
                  <a:moveTo>
                    <a:pt x="715" y="3283"/>
                  </a:moveTo>
                  <a:cubicBezTo>
                    <a:pt x="704" y="3297"/>
                    <a:pt x="699" y="3310"/>
                    <a:pt x="720" y="3322"/>
                  </a:cubicBezTo>
                  <a:cubicBezTo>
                    <a:pt x="718" y="3308"/>
                    <a:pt x="716" y="3295"/>
                    <a:pt x="715" y="3283"/>
                  </a:cubicBezTo>
                  <a:cubicBezTo>
                    <a:pt x="702" y="3277"/>
                    <a:pt x="689" y="3271"/>
                    <a:pt x="668" y="3261"/>
                  </a:cubicBezTo>
                  <a:cubicBezTo>
                    <a:pt x="682" y="3291"/>
                    <a:pt x="699" y="3286"/>
                    <a:pt x="715" y="3283"/>
                  </a:cubicBezTo>
                  <a:close/>
                  <a:moveTo>
                    <a:pt x="742" y="2687"/>
                  </a:moveTo>
                  <a:cubicBezTo>
                    <a:pt x="738" y="2697"/>
                    <a:pt x="730" y="2708"/>
                    <a:pt x="751" y="2721"/>
                  </a:cubicBezTo>
                  <a:cubicBezTo>
                    <a:pt x="747" y="2706"/>
                    <a:pt x="744" y="2697"/>
                    <a:pt x="741" y="2688"/>
                  </a:cubicBezTo>
                  <a:cubicBezTo>
                    <a:pt x="747" y="2672"/>
                    <a:pt x="746" y="2657"/>
                    <a:pt x="735" y="2643"/>
                  </a:cubicBezTo>
                  <a:cubicBezTo>
                    <a:pt x="735" y="2658"/>
                    <a:pt x="713" y="2676"/>
                    <a:pt x="742" y="2687"/>
                  </a:cubicBezTo>
                  <a:close/>
                  <a:moveTo>
                    <a:pt x="947" y="1898"/>
                  </a:moveTo>
                  <a:cubicBezTo>
                    <a:pt x="949" y="1903"/>
                    <a:pt x="952" y="1909"/>
                    <a:pt x="956" y="1918"/>
                  </a:cubicBezTo>
                  <a:cubicBezTo>
                    <a:pt x="961" y="1910"/>
                    <a:pt x="964" y="1905"/>
                    <a:pt x="969" y="1897"/>
                  </a:cubicBezTo>
                  <a:cubicBezTo>
                    <a:pt x="958" y="1898"/>
                    <a:pt x="952" y="1898"/>
                    <a:pt x="945" y="1899"/>
                  </a:cubicBezTo>
                  <a:cubicBezTo>
                    <a:pt x="955" y="1885"/>
                    <a:pt x="966" y="1871"/>
                    <a:pt x="978" y="1854"/>
                  </a:cubicBezTo>
                  <a:cubicBezTo>
                    <a:pt x="956" y="1852"/>
                    <a:pt x="948" y="1866"/>
                    <a:pt x="942" y="1878"/>
                  </a:cubicBezTo>
                  <a:cubicBezTo>
                    <a:pt x="939" y="1882"/>
                    <a:pt x="945" y="1891"/>
                    <a:pt x="947" y="1898"/>
                  </a:cubicBezTo>
                  <a:close/>
                  <a:moveTo>
                    <a:pt x="1567" y="2111"/>
                  </a:moveTo>
                  <a:cubicBezTo>
                    <a:pt x="1578" y="2116"/>
                    <a:pt x="1588" y="2123"/>
                    <a:pt x="1599" y="2125"/>
                  </a:cubicBezTo>
                  <a:cubicBezTo>
                    <a:pt x="1605" y="2127"/>
                    <a:pt x="1612" y="2121"/>
                    <a:pt x="1625" y="2116"/>
                  </a:cubicBezTo>
                  <a:cubicBezTo>
                    <a:pt x="1601" y="2104"/>
                    <a:pt x="1585" y="2105"/>
                    <a:pt x="1569" y="2112"/>
                  </a:cubicBezTo>
                  <a:cubicBezTo>
                    <a:pt x="1564" y="2117"/>
                    <a:pt x="1559" y="2123"/>
                    <a:pt x="1550" y="2133"/>
                  </a:cubicBezTo>
                  <a:cubicBezTo>
                    <a:pt x="1563" y="2134"/>
                    <a:pt x="1570" y="2134"/>
                    <a:pt x="1582" y="2135"/>
                  </a:cubicBezTo>
                  <a:cubicBezTo>
                    <a:pt x="1575" y="2124"/>
                    <a:pt x="1571" y="2117"/>
                    <a:pt x="1567" y="2111"/>
                  </a:cubicBezTo>
                  <a:close/>
                  <a:moveTo>
                    <a:pt x="950" y="3743"/>
                  </a:moveTo>
                  <a:cubicBezTo>
                    <a:pt x="938" y="3730"/>
                    <a:pt x="927" y="3717"/>
                    <a:pt x="916" y="3704"/>
                  </a:cubicBezTo>
                  <a:cubicBezTo>
                    <a:pt x="914" y="3706"/>
                    <a:pt x="911" y="3709"/>
                    <a:pt x="909" y="3711"/>
                  </a:cubicBezTo>
                  <a:cubicBezTo>
                    <a:pt x="922" y="3723"/>
                    <a:pt x="925" y="3745"/>
                    <a:pt x="951" y="3743"/>
                  </a:cubicBezTo>
                  <a:cubicBezTo>
                    <a:pt x="966" y="3785"/>
                    <a:pt x="972" y="3790"/>
                    <a:pt x="1002" y="3789"/>
                  </a:cubicBezTo>
                  <a:cubicBezTo>
                    <a:pt x="983" y="3773"/>
                    <a:pt x="967" y="3758"/>
                    <a:pt x="950" y="3743"/>
                  </a:cubicBezTo>
                  <a:close/>
                  <a:moveTo>
                    <a:pt x="518" y="1046"/>
                  </a:moveTo>
                  <a:cubicBezTo>
                    <a:pt x="512" y="1041"/>
                    <a:pt x="506" y="1036"/>
                    <a:pt x="495" y="1028"/>
                  </a:cubicBezTo>
                  <a:cubicBezTo>
                    <a:pt x="498" y="1049"/>
                    <a:pt x="505" y="1053"/>
                    <a:pt x="519" y="1045"/>
                  </a:cubicBezTo>
                  <a:cubicBezTo>
                    <a:pt x="521" y="1068"/>
                    <a:pt x="494" y="1064"/>
                    <a:pt x="488" y="1079"/>
                  </a:cubicBezTo>
                  <a:cubicBezTo>
                    <a:pt x="505" y="1092"/>
                    <a:pt x="509" y="1094"/>
                    <a:pt x="513" y="1089"/>
                  </a:cubicBezTo>
                  <a:cubicBezTo>
                    <a:pt x="519" y="1082"/>
                    <a:pt x="523" y="1073"/>
                    <a:pt x="525" y="1064"/>
                  </a:cubicBezTo>
                  <a:cubicBezTo>
                    <a:pt x="526" y="1059"/>
                    <a:pt x="521" y="1052"/>
                    <a:pt x="518" y="1046"/>
                  </a:cubicBezTo>
                  <a:close/>
                  <a:moveTo>
                    <a:pt x="3110" y="2123"/>
                  </a:moveTo>
                  <a:cubicBezTo>
                    <a:pt x="3085" y="2125"/>
                    <a:pt x="3059" y="2120"/>
                    <a:pt x="3029" y="2140"/>
                  </a:cubicBezTo>
                  <a:cubicBezTo>
                    <a:pt x="3046" y="2141"/>
                    <a:pt x="3056" y="2139"/>
                    <a:pt x="3063" y="2142"/>
                  </a:cubicBezTo>
                  <a:cubicBezTo>
                    <a:pt x="3087" y="2153"/>
                    <a:pt x="3100" y="2142"/>
                    <a:pt x="3110" y="2123"/>
                  </a:cubicBezTo>
                  <a:cubicBezTo>
                    <a:pt x="3126" y="2134"/>
                    <a:pt x="3138" y="2156"/>
                    <a:pt x="3164" y="2148"/>
                  </a:cubicBezTo>
                  <a:cubicBezTo>
                    <a:pt x="3150" y="2116"/>
                    <a:pt x="3150" y="2116"/>
                    <a:pt x="3110" y="2123"/>
                  </a:cubicBezTo>
                  <a:close/>
                  <a:moveTo>
                    <a:pt x="1083" y="1042"/>
                  </a:moveTo>
                  <a:cubicBezTo>
                    <a:pt x="1078" y="1014"/>
                    <a:pt x="1054" y="1007"/>
                    <a:pt x="1027" y="991"/>
                  </a:cubicBezTo>
                  <a:cubicBezTo>
                    <a:pt x="1041" y="1022"/>
                    <a:pt x="1055" y="1041"/>
                    <a:pt x="1084" y="1041"/>
                  </a:cubicBezTo>
                  <a:cubicBezTo>
                    <a:pt x="1102" y="1073"/>
                    <a:pt x="1128" y="1097"/>
                    <a:pt x="1159" y="1113"/>
                  </a:cubicBezTo>
                  <a:cubicBezTo>
                    <a:pt x="1161" y="1110"/>
                    <a:pt x="1164" y="1107"/>
                    <a:pt x="1166" y="1104"/>
                  </a:cubicBezTo>
                  <a:cubicBezTo>
                    <a:pt x="1139" y="1084"/>
                    <a:pt x="1111" y="1063"/>
                    <a:pt x="1083" y="1042"/>
                  </a:cubicBezTo>
                  <a:close/>
                  <a:moveTo>
                    <a:pt x="1912" y="2024"/>
                  </a:moveTo>
                  <a:cubicBezTo>
                    <a:pt x="1927" y="2024"/>
                    <a:pt x="1943" y="2025"/>
                    <a:pt x="1958" y="2025"/>
                  </a:cubicBezTo>
                  <a:cubicBezTo>
                    <a:pt x="1973" y="2024"/>
                    <a:pt x="1989" y="2035"/>
                    <a:pt x="2007" y="2026"/>
                  </a:cubicBezTo>
                  <a:cubicBezTo>
                    <a:pt x="1972" y="2004"/>
                    <a:pt x="1941" y="2004"/>
                    <a:pt x="1912" y="2024"/>
                  </a:cubicBezTo>
                  <a:cubicBezTo>
                    <a:pt x="1904" y="2017"/>
                    <a:pt x="1897" y="2011"/>
                    <a:pt x="1878" y="2020"/>
                  </a:cubicBezTo>
                  <a:cubicBezTo>
                    <a:pt x="1895" y="2022"/>
                    <a:pt x="1903" y="2023"/>
                    <a:pt x="1912" y="2024"/>
                  </a:cubicBezTo>
                  <a:close/>
                  <a:moveTo>
                    <a:pt x="2845" y="2495"/>
                  </a:moveTo>
                  <a:cubicBezTo>
                    <a:pt x="2848" y="2507"/>
                    <a:pt x="2852" y="2519"/>
                    <a:pt x="2856" y="2533"/>
                  </a:cubicBezTo>
                  <a:cubicBezTo>
                    <a:pt x="2878" y="2528"/>
                    <a:pt x="2894" y="2521"/>
                    <a:pt x="2893" y="2494"/>
                  </a:cubicBezTo>
                  <a:cubicBezTo>
                    <a:pt x="2884" y="2493"/>
                    <a:pt x="2875" y="2491"/>
                    <a:pt x="2867" y="2490"/>
                  </a:cubicBezTo>
                  <a:cubicBezTo>
                    <a:pt x="2879" y="2480"/>
                    <a:pt x="2895" y="2465"/>
                    <a:pt x="2907" y="2480"/>
                  </a:cubicBezTo>
                  <a:cubicBezTo>
                    <a:pt x="2925" y="2500"/>
                    <a:pt x="2939" y="2491"/>
                    <a:pt x="2956" y="2483"/>
                  </a:cubicBezTo>
                  <a:cubicBezTo>
                    <a:pt x="2964" y="2480"/>
                    <a:pt x="2973" y="2475"/>
                    <a:pt x="2981" y="2476"/>
                  </a:cubicBezTo>
                  <a:cubicBezTo>
                    <a:pt x="3023" y="2480"/>
                    <a:pt x="3065" y="2486"/>
                    <a:pt x="3106" y="2491"/>
                  </a:cubicBezTo>
                  <a:cubicBezTo>
                    <a:pt x="3124" y="2494"/>
                    <a:pt x="3142" y="2499"/>
                    <a:pt x="3160" y="2502"/>
                  </a:cubicBezTo>
                  <a:cubicBezTo>
                    <a:pt x="3187" y="2506"/>
                    <a:pt x="3215" y="2497"/>
                    <a:pt x="3242" y="2513"/>
                  </a:cubicBezTo>
                  <a:cubicBezTo>
                    <a:pt x="3248" y="2516"/>
                    <a:pt x="3260" y="2512"/>
                    <a:pt x="3269" y="2511"/>
                  </a:cubicBezTo>
                  <a:cubicBezTo>
                    <a:pt x="3280" y="2510"/>
                    <a:pt x="3292" y="2507"/>
                    <a:pt x="3304" y="2508"/>
                  </a:cubicBezTo>
                  <a:cubicBezTo>
                    <a:pt x="3359" y="2510"/>
                    <a:pt x="3414" y="2512"/>
                    <a:pt x="3469" y="2515"/>
                  </a:cubicBezTo>
                  <a:cubicBezTo>
                    <a:pt x="3463" y="2504"/>
                    <a:pt x="3455" y="2495"/>
                    <a:pt x="3446" y="2492"/>
                  </a:cubicBezTo>
                  <a:cubicBezTo>
                    <a:pt x="3423" y="2485"/>
                    <a:pt x="3400" y="2480"/>
                    <a:pt x="3377" y="2475"/>
                  </a:cubicBezTo>
                  <a:cubicBezTo>
                    <a:pt x="3375" y="2459"/>
                    <a:pt x="3375" y="2459"/>
                    <a:pt x="3353" y="2468"/>
                  </a:cubicBezTo>
                  <a:cubicBezTo>
                    <a:pt x="3364" y="2471"/>
                    <a:pt x="3371" y="2472"/>
                    <a:pt x="3378" y="2474"/>
                  </a:cubicBezTo>
                  <a:cubicBezTo>
                    <a:pt x="3370" y="2478"/>
                    <a:pt x="3363" y="2485"/>
                    <a:pt x="3355" y="2485"/>
                  </a:cubicBezTo>
                  <a:cubicBezTo>
                    <a:pt x="3313" y="2485"/>
                    <a:pt x="3270" y="2485"/>
                    <a:pt x="3228" y="2482"/>
                  </a:cubicBezTo>
                  <a:cubicBezTo>
                    <a:pt x="3154" y="2477"/>
                    <a:pt x="3080" y="2468"/>
                    <a:pt x="3006" y="2464"/>
                  </a:cubicBezTo>
                  <a:cubicBezTo>
                    <a:pt x="2956" y="2461"/>
                    <a:pt x="2906" y="2464"/>
                    <a:pt x="2856" y="2465"/>
                  </a:cubicBezTo>
                  <a:cubicBezTo>
                    <a:pt x="2853" y="2465"/>
                    <a:pt x="2849" y="2468"/>
                    <a:pt x="2845" y="2470"/>
                  </a:cubicBezTo>
                  <a:cubicBezTo>
                    <a:pt x="2845" y="2480"/>
                    <a:pt x="2845" y="2489"/>
                    <a:pt x="2845" y="2498"/>
                  </a:cubicBezTo>
                  <a:lnTo>
                    <a:pt x="2845" y="2495"/>
                  </a:lnTo>
                  <a:close/>
                  <a:moveTo>
                    <a:pt x="2335" y="3579"/>
                  </a:moveTo>
                  <a:cubicBezTo>
                    <a:pt x="2324" y="3579"/>
                    <a:pt x="2312" y="3579"/>
                    <a:pt x="2300" y="3579"/>
                  </a:cubicBezTo>
                  <a:cubicBezTo>
                    <a:pt x="2315" y="3596"/>
                    <a:pt x="2325" y="3589"/>
                    <a:pt x="2336" y="3579"/>
                  </a:cubicBezTo>
                  <a:cubicBezTo>
                    <a:pt x="2337" y="3587"/>
                    <a:pt x="2335" y="3598"/>
                    <a:pt x="2339" y="3604"/>
                  </a:cubicBezTo>
                  <a:cubicBezTo>
                    <a:pt x="2343" y="3610"/>
                    <a:pt x="2354" y="3614"/>
                    <a:pt x="2361" y="3614"/>
                  </a:cubicBezTo>
                  <a:cubicBezTo>
                    <a:pt x="2366" y="3613"/>
                    <a:pt x="2374" y="3603"/>
                    <a:pt x="2373" y="3598"/>
                  </a:cubicBezTo>
                  <a:cubicBezTo>
                    <a:pt x="2372" y="3591"/>
                    <a:pt x="2365" y="3583"/>
                    <a:pt x="2358" y="3579"/>
                  </a:cubicBezTo>
                  <a:cubicBezTo>
                    <a:pt x="2352" y="3576"/>
                    <a:pt x="2343" y="3579"/>
                    <a:pt x="2335" y="3579"/>
                  </a:cubicBezTo>
                  <a:close/>
                  <a:moveTo>
                    <a:pt x="1839" y="3381"/>
                  </a:moveTo>
                  <a:cubicBezTo>
                    <a:pt x="1809" y="3374"/>
                    <a:pt x="1786" y="3388"/>
                    <a:pt x="1765" y="3408"/>
                  </a:cubicBezTo>
                  <a:cubicBezTo>
                    <a:pt x="1761" y="3412"/>
                    <a:pt x="1764" y="3425"/>
                    <a:pt x="1763" y="3441"/>
                  </a:cubicBezTo>
                  <a:cubicBezTo>
                    <a:pt x="1793" y="3417"/>
                    <a:pt x="1816" y="3399"/>
                    <a:pt x="1838" y="3380"/>
                  </a:cubicBezTo>
                  <a:cubicBezTo>
                    <a:pt x="1854" y="3370"/>
                    <a:pt x="1865" y="3357"/>
                    <a:pt x="1870" y="3331"/>
                  </a:cubicBezTo>
                  <a:cubicBezTo>
                    <a:pt x="1854" y="3344"/>
                    <a:pt x="1842" y="3353"/>
                    <a:pt x="1830" y="3363"/>
                  </a:cubicBezTo>
                  <a:cubicBezTo>
                    <a:pt x="1834" y="3370"/>
                    <a:pt x="1837" y="3375"/>
                    <a:pt x="1839" y="3381"/>
                  </a:cubicBezTo>
                  <a:close/>
                  <a:moveTo>
                    <a:pt x="2028" y="905"/>
                  </a:moveTo>
                  <a:cubicBezTo>
                    <a:pt x="2023" y="898"/>
                    <a:pt x="2017" y="891"/>
                    <a:pt x="2011" y="883"/>
                  </a:cubicBezTo>
                  <a:cubicBezTo>
                    <a:pt x="2010" y="885"/>
                    <a:pt x="2008" y="888"/>
                    <a:pt x="2006" y="890"/>
                  </a:cubicBezTo>
                  <a:cubicBezTo>
                    <a:pt x="2014" y="895"/>
                    <a:pt x="2022" y="899"/>
                    <a:pt x="2029" y="904"/>
                  </a:cubicBezTo>
                  <a:cubicBezTo>
                    <a:pt x="2039" y="944"/>
                    <a:pt x="2074" y="983"/>
                    <a:pt x="2100" y="983"/>
                  </a:cubicBezTo>
                  <a:cubicBezTo>
                    <a:pt x="2077" y="939"/>
                    <a:pt x="2077" y="939"/>
                    <a:pt x="2028" y="905"/>
                  </a:cubicBezTo>
                  <a:close/>
                  <a:moveTo>
                    <a:pt x="379" y="1305"/>
                  </a:moveTo>
                  <a:cubicBezTo>
                    <a:pt x="369" y="1296"/>
                    <a:pt x="359" y="1286"/>
                    <a:pt x="348" y="1275"/>
                  </a:cubicBezTo>
                  <a:cubicBezTo>
                    <a:pt x="341" y="1280"/>
                    <a:pt x="333" y="1285"/>
                    <a:pt x="321" y="1293"/>
                  </a:cubicBezTo>
                  <a:cubicBezTo>
                    <a:pt x="335" y="1301"/>
                    <a:pt x="344" y="1305"/>
                    <a:pt x="355" y="1311"/>
                  </a:cubicBezTo>
                  <a:cubicBezTo>
                    <a:pt x="346" y="1320"/>
                    <a:pt x="340" y="1327"/>
                    <a:pt x="334" y="1334"/>
                  </a:cubicBezTo>
                  <a:cubicBezTo>
                    <a:pt x="357" y="1334"/>
                    <a:pt x="379" y="1333"/>
                    <a:pt x="378" y="1304"/>
                  </a:cubicBezTo>
                  <a:cubicBezTo>
                    <a:pt x="387" y="1313"/>
                    <a:pt x="397" y="1322"/>
                    <a:pt x="408" y="1332"/>
                  </a:cubicBezTo>
                  <a:cubicBezTo>
                    <a:pt x="416" y="1315"/>
                    <a:pt x="420" y="1303"/>
                    <a:pt x="403" y="1295"/>
                  </a:cubicBezTo>
                  <a:cubicBezTo>
                    <a:pt x="391" y="1289"/>
                    <a:pt x="383" y="1293"/>
                    <a:pt x="379" y="1305"/>
                  </a:cubicBezTo>
                  <a:close/>
                  <a:moveTo>
                    <a:pt x="276" y="1665"/>
                  </a:moveTo>
                  <a:cubicBezTo>
                    <a:pt x="289" y="1631"/>
                    <a:pt x="289" y="1615"/>
                    <a:pt x="275" y="1608"/>
                  </a:cubicBezTo>
                  <a:cubicBezTo>
                    <a:pt x="270" y="1610"/>
                    <a:pt x="264" y="1612"/>
                    <a:pt x="259" y="1615"/>
                  </a:cubicBezTo>
                  <a:cubicBezTo>
                    <a:pt x="254" y="1608"/>
                    <a:pt x="248" y="1596"/>
                    <a:pt x="244" y="1597"/>
                  </a:cubicBezTo>
                  <a:cubicBezTo>
                    <a:pt x="227" y="1600"/>
                    <a:pt x="234" y="1615"/>
                    <a:pt x="239" y="1621"/>
                  </a:cubicBezTo>
                  <a:cubicBezTo>
                    <a:pt x="250" y="1636"/>
                    <a:pt x="265" y="1649"/>
                    <a:pt x="279" y="1663"/>
                  </a:cubicBezTo>
                  <a:cubicBezTo>
                    <a:pt x="274" y="1666"/>
                    <a:pt x="264" y="1669"/>
                    <a:pt x="264" y="1672"/>
                  </a:cubicBezTo>
                  <a:cubicBezTo>
                    <a:pt x="264" y="1692"/>
                    <a:pt x="266" y="1712"/>
                    <a:pt x="267" y="1731"/>
                  </a:cubicBezTo>
                  <a:cubicBezTo>
                    <a:pt x="291" y="1724"/>
                    <a:pt x="299" y="1706"/>
                    <a:pt x="294" y="1659"/>
                  </a:cubicBezTo>
                  <a:cubicBezTo>
                    <a:pt x="288" y="1661"/>
                    <a:pt x="282" y="1663"/>
                    <a:pt x="276" y="1665"/>
                  </a:cubicBezTo>
                  <a:close/>
                  <a:moveTo>
                    <a:pt x="1173" y="3830"/>
                  </a:moveTo>
                  <a:cubicBezTo>
                    <a:pt x="1177" y="3833"/>
                    <a:pt x="1183" y="3839"/>
                    <a:pt x="1184" y="3838"/>
                  </a:cubicBezTo>
                  <a:cubicBezTo>
                    <a:pt x="1201" y="3828"/>
                    <a:pt x="1217" y="3817"/>
                    <a:pt x="1233" y="3806"/>
                  </a:cubicBezTo>
                  <a:cubicBezTo>
                    <a:pt x="1237" y="3802"/>
                    <a:pt x="1240" y="3797"/>
                    <a:pt x="1243" y="3792"/>
                  </a:cubicBezTo>
                  <a:cubicBezTo>
                    <a:pt x="1241" y="3789"/>
                    <a:pt x="1240" y="3787"/>
                    <a:pt x="1239" y="3784"/>
                  </a:cubicBezTo>
                  <a:cubicBezTo>
                    <a:pt x="1216" y="3791"/>
                    <a:pt x="1192" y="3797"/>
                    <a:pt x="1169" y="3804"/>
                  </a:cubicBezTo>
                  <a:cubicBezTo>
                    <a:pt x="1171" y="3816"/>
                    <a:pt x="1172" y="3823"/>
                    <a:pt x="1173" y="3831"/>
                  </a:cubicBezTo>
                  <a:cubicBezTo>
                    <a:pt x="1161" y="3822"/>
                    <a:pt x="1152" y="3807"/>
                    <a:pt x="1132" y="3814"/>
                  </a:cubicBezTo>
                  <a:cubicBezTo>
                    <a:pt x="1130" y="3827"/>
                    <a:pt x="1128" y="3840"/>
                    <a:pt x="1125" y="3858"/>
                  </a:cubicBezTo>
                  <a:cubicBezTo>
                    <a:pt x="1145" y="3847"/>
                    <a:pt x="1159" y="3838"/>
                    <a:pt x="1173" y="3830"/>
                  </a:cubicBezTo>
                  <a:close/>
                  <a:moveTo>
                    <a:pt x="2115" y="1177"/>
                  </a:moveTo>
                  <a:cubicBezTo>
                    <a:pt x="2074" y="1122"/>
                    <a:pt x="2064" y="1114"/>
                    <a:pt x="2043" y="1111"/>
                  </a:cubicBezTo>
                  <a:cubicBezTo>
                    <a:pt x="2050" y="1120"/>
                    <a:pt x="2058" y="1128"/>
                    <a:pt x="2063" y="1138"/>
                  </a:cubicBezTo>
                  <a:cubicBezTo>
                    <a:pt x="2075" y="1159"/>
                    <a:pt x="2094" y="1170"/>
                    <a:pt x="2116" y="1176"/>
                  </a:cubicBezTo>
                  <a:cubicBezTo>
                    <a:pt x="2119" y="1186"/>
                    <a:pt x="2118" y="1197"/>
                    <a:pt x="2124" y="1203"/>
                  </a:cubicBezTo>
                  <a:cubicBezTo>
                    <a:pt x="2132" y="1213"/>
                    <a:pt x="2144" y="1218"/>
                    <a:pt x="2155" y="1226"/>
                  </a:cubicBezTo>
                  <a:cubicBezTo>
                    <a:pt x="2174" y="1246"/>
                    <a:pt x="2177" y="1247"/>
                    <a:pt x="2205" y="1238"/>
                  </a:cubicBezTo>
                  <a:cubicBezTo>
                    <a:pt x="2188" y="1234"/>
                    <a:pt x="2171" y="1230"/>
                    <a:pt x="2154" y="1227"/>
                  </a:cubicBezTo>
                  <a:cubicBezTo>
                    <a:pt x="2165" y="1223"/>
                    <a:pt x="2176" y="1219"/>
                    <a:pt x="2187" y="1216"/>
                  </a:cubicBezTo>
                  <a:cubicBezTo>
                    <a:pt x="2200" y="1214"/>
                    <a:pt x="2210" y="1210"/>
                    <a:pt x="2213" y="1190"/>
                  </a:cubicBezTo>
                  <a:cubicBezTo>
                    <a:pt x="2180" y="1211"/>
                    <a:pt x="2153" y="1197"/>
                    <a:pt x="2127" y="1182"/>
                  </a:cubicBezTo>
                  <a:cubicBezTo>
                    <a:pt x="2123" y="1180"/>
                    <a:pt x="2119" y="1179"/>
                    <a:pt x="2115" y="1177"/>
                  </a:cubicBezTo>
                  <a:close/>
                  <a:moveTo>
                    <a:pt x="2340" y="3530"/>
                  </a:moveTo>
                  <a:cubicBezTo>
                    <a:pt x="2353" y="3540"/>
                    <a:pt x="2365" y="3551"/>
                    <a:pt x="2382" y="3566"/>
                  </a:cubicBezTo>
                  <a:cubicBezTo>
                    <a:pt x="2382" y="3533"/>
                    <a:pt x="2358" y="3523"/>
                    <a:pt x="2346" y="3506"/>
                  </a:cubicBezTo>
                  <a:cubicBezTo>
                    <a:pt x="2341" y="3499"/>
                    <a:pt x="2330" y="3495"/>
                    <a:pt x="2321" y="3491"/>
                  </a:cubicBezTo>
                  <a:cubicBezTo>
                    <a:pt x="2319" y="3491"/>
                    <a:pt x="2311" y="3500"/>
                    <a:pt x="2312" y="3502"/>
                  </a:cubicBezTo>
                  <a:cubicBezTo>
                    <a:pt x="2317" y="3511"/>
                    <a:pt x="2324" y="3520"/>
                    <a:pt x="2331" y="3529"/>
                  </a:cubicBezTo>
                  <a:cubicBezTo>
                    <a:pt x="2333" y="3531"/>
                    <a:pt x="2338" y="3530"/>
                    <a:pt x="2342" y="3530"/>
                  </a:cubicBezTo>
                  <a:cubicBezTo>
                    <a:pt x="2336" y="3541"/>
                    <a:pt x="2330" y="3552"/>
                    <a:pt x="2350" y="3559"/>
                  </a:cubicBezTo>
                  <a:cubicBezTo>
                    <a:pt x="2347" y="3549"/>
                    <a:pt x="2343" y="3540"/>
                    <a:pt x="2340" y="3530"/>
                  </a:cubicBezTo>
                  <a:close/>
                  <a:moveTo>
                    <a:pt x="417" y="3164"/>
                  </a:moveTo>
                  <a:cubicBezTo>
                    <a:pt x="422" y="3172"/>
                    <a:pt x="427" y="3180"/>
                    <a:pt x="434" y="3191"/>
                  </a:cubicBezTo>
                  <a:cubicBezTo>
                    <a:pt x="437" y="3181"/>
                    <a:pt x="439" y="3173"/>
                    <a:pt x="441" y="3162"/>
                  </a:cubicBezTo>
                  <a:cubicBezTo>
                    <a:pt x="431" y="3163"/>
                    <a:pt x="423" y="3164"/>
                    <a:pt x="416" y="3165"/>
                  </a:cubicBezTo>
                  <a:cubicBezTo>
                    <a:pt x="415" y="3154"/>
                    <a:pt x="413" y="3144"/>
                    <a:pt x="412" y="3134"/>
                  </a:cubicBezTo>
                  <a:cubicBezTo>
                    <a:pt x="407" y="3097"/>
                    <a:pt x="401" y="3092"/>
                    <a:pt x="361" y="3091"/>
                  </a:cubicBezTo>
                  <a:cubicBezTo>
                    <a:pt x="367" y="3084"/>
                    <a:pt x="373" y="3077"/>
                    <a:pt x="384" y="3064"/>
                  </a:cubicBezTo>
                  <a:cubicBezTo>
                    <a:pt x="366" y="3069"/>
                    <a:pt x="355" y="3072"/>
                    <a:pt x="344" y="3075"/>
                  </a:cubicBezTo>
                  <a:cubicBezTo>
                    <a:pt x="341" y="3059"/>
                    <a:pt x="338" y="3046"/>
                    <a:pt x="335" y="3034"/>
                  </a:cubicBezTo>
                  <a:cubicBezTo>
                    <a:pt x="345" y="3021"/>
                    <a:pt x="368" y="3016"/>
                    <a:pt x="359" y="2992"/>
                  </a:cubicBezTo>
                  <a:cubicBezTo>
                    <a:pt x="334" y="2998"/>
                    <a:pt x="320" y="3014"/>
                    <a:pt x="313" y="3034"/>
                  </a:cubicBezTo>
                  <a:cubicBezTo>
                    <a:pt x="301" y="3065"/>
                    <a:pt x="320" y="3085"/>
                    <a:pt x="362" y="3090"/>
                  </a:cubicBezTo>
                  <a:cubicBezTo>
                    <a:pt x="372" y="3099"/>
                    <a:pt x="382" y="3108"/>
                    <a:pt x="394" y="3120"/>
                  </a:cubicBezTo>
                  <a:cubicBezTo>
                    <a:pt x="384" y="3120"/>
                    <a:pt x="378" y="3120"/>
                    <a:pt x="375" y="3120"/>
                  </a:cubicBezTo>
                  <a:cubicBezTo>
                    <a:pt x="375" y="3140"/>
                    <a:pt x="375" y="3157"/>
                    <a:pt x="375" y="3178"/>
                  </a:cubicBezTo>
                  <a:cubicBezTo>
                    <a:pt x="382" y="3174"/>
                    <a:pt x="388" y="3169"/>
                    <a:pt x="394" y="3167"/>
                  </a:cubicBezTo>
                  <a:cubicBezTo>
                    <a:pt x="401" y="3164"/>
                    <a:pt x="409" y="3165"/>
                    <a:pt x="417" y="3164"/>
                  </a:cubicBezTo>
                  <a:close/>
                  <a:moveTo>
                    <a:pt x="870" y="560"/>
                  </a:moveTo>
                  <a:cubicBezTo>
                    <a:pt x="865" y="553"/>
                    <a:pt x="861" y="547"/>
                    <a:pt x="856" y="540"/>
                  </a:cubicBezTo>
                  <a:cubicBezTo>
                    <a:pt x="836" y="552"/>
                    <a:pt x="821" y="562"/>
                    <a:pt x="800" y="575"/>
                  </a:cubicBezTo>
                  <a:cubicBezTo>
                    <a:pt x="820" y="584"/>
                    <a:pt x="831" y="589"/>
                    <a:pt x="844" y="595"/>
                  </a:cubicBezTo>
                  <a:cubicBezTo>
                    <a:pt x="850" y="567"/>
                    <a:pt x="850" y="567"/>
                    <a:pt x="871" y="559"/>
                  </a:cubicBezTo>
                  <a:cubicBezTo>
                    <a:pt x="877" y="579"/>
                    <a:pt x="883" y="598"/>
                    <a:pt x="891" y="623"/>
                  </a:cubicBezTo>
                  <a:cubicBezTo>
                    <a:pt x="906" y="601"/>
                    <a:pt x="917" y="583"/>
                    <a:pt x="926" y="569"/>
                  </a:cubicBezTo>
                  <a:cubicBezTo>
                    <a:pt x="910" y="558"/>
                    <a:pt x="894" y="548"/>
                    <a:pt x="879" y="539"/>
                  </a:cubicBezTo>
                  <a:cubicBezTo>
                    <a:pt x="877" y="543"/>
                    <a:pt x="873" y="551"/>
                    <a:pt x="870" y="560"/>
                  </a:cubicBezTo>
                  <a:close/>
                  <a:moveTo>
                    <a:pt x="1825" y="1151"/>
                  </a:moveTo>
                  <a:cubicBezTo>
                    <a:pt x="1818" y="1154"/>
                    <a:pt x="1811" y="1157"/>
                    <a:pt x="1804" y="1161"/>
                  </a:cubicBezTo>
                  <a:cubicBezTo>
                    <a:pt x="1841" y="1196"/>
                    <a:pt x="1870" y="1223"/>
                    <a:pt x="1899" y="1250"/>
                  </a:cubicBezTo>
                  <a:cubicBezTo>
                    <a:pt x="1904" y="1290"/>
                    <a:pt x="1933" y="1317"/>
                    <a:pt x="1953" y="1349"/>
                  </a:cubicBezTo>
                  <a:cubicBezTo>
                    <a:pt x="1959" y="1360"/>
                    <a:pt x="1969" y="1369"/>
                    <a:pt x="1974" y="1380"/>
                  </a:cubicBezTo>
                  <a:cubicBezTo>
                    <a:pt x="1988" y="1417"/>
                    <a:pt x="2013" y="1446"/>
                    <a:pt x="2047" y="1460"/>
                  </a:cubicBezTo>
                  <a:cubicBezTo>
                    <a:pt x="2075" y="1473"/>
                    <a:pt x="2110" y="1477"/>
                    <a:pt x="2141" y="1474"/>
                  </a:cubicBezTo>
                  <a:cubicBezTo>
                    <a:pt x="2167" y="1471"/>
                    <a:pt x="2182" y="1479"/>
                    <a:pt x="2201" y="1492"/>
                  </a:cubicBezTo>
                  <a:cubicBezTo>
                    <a:pt x="2167" y="1523"/>
                    <a:pt x="2169" y="1574"/>
                    <a:pt x="2203" y="1601"/>
                  </a:cubicBezTo>
                  <a:cubicBezTo>
                    <a:pt x="2204" y="1601"/>
                    <a:pt x="2206" y="1600"/>
                    <a:pt x="2207" y="1599"/>
                  </a:cubicBezTo>
                  <a:cubicBezTo>
                    <a:pt x="2207" y="1599"/>
                    <a:pt x="2207" y="1599"/>
                    <a:pt x="2207" y="1599"/>
                  </a:cubicBezTo>
                  <a:cubicBezTo>
                    <a:pt x="2211" y="1598"/>
                    <a:pt x="2218" y="1596"/>
                    <a:pt x="2218" y="1596"/>
                  </a:cubicBezTo>
                  <a:cubicBezTo>
                    <a:pt x="2228" y="1623"/>
                    <a:pt x="2241" y="1650"/>
                    <a:pt x="2232" y="1680"/>
                  </a:cubicBezTo>
                  <a:cubicBezTo>
                    <a:pt x="2226" y="1702"/>
                    <a:pt x="2213" y="1723"/>
                    <a:pt x="2214" y="1744"/>
                  </a:cubicBezTo>
                  <a:cubicBezTo>
                    <a:pt x="2216" y="1778"/>
                    <a:pt x="2222" y="1813"/>
                    <a:pt x="2234" y="1844"/>
                  </a:cubicBezTo>
                  <a:cubicBezTo>
                    <a:pt x="2245" y="1873"/>
                    <a:pt x="2238" y="1896"/>
                    <a:pt x="2228" y="1921"/>
                  </a:cubicBezTo>
                  <a:cubicBezTo>
                    <a:pt x="2226" y="1927"/>
                    <a:pt x="2222" y="1934"/>
                    <a:pt x="2218" y="1940"/>
                  </a:cubicBezTo>
                  <a:cubicBezTo>
                    <a:pt x="2220" y="1942"/>
                    <a:pt x="2222" y="1944"/>
                    <a:pt x="2223" y="1947"/>
                  </a:cubicBezTo>
                  <a:cubicBezTo>
                    <a:pt x="2230" y="1944"/>
                    <a:pt x="2241" y="1943"/>
                    <a:pt x="2243" y="1938"/>
                  </a:cubicBezTo>
                  <a:cubicBezTo>
                    <a:pt x="2260" y="1900"/>
                    <a:pt x="2290" y="1889"/>
                    <a:pt x="2328" y="1893"/>
                  </a:cubicBezTo>
                  <a:cubicBezTo>
                    <a:pt x="2339" y="1894"/>
                    <a:pt x="2349" y="1892"/>
                    <a:pt x="2359" y="1891"/>
                  </a:cubicBezTo>
                  <a:cubicBezTo>
                    <a:pt x="2381" y="1888"/>
                    <a:pt x="2404" y="1880"/>
                    <a:pt x="2425" y="1885"/>
                  </a:cubicBezTo>
                  <a:cubicBezTo>
                    <a:pt x="2463" y="1893"/>
                    <a:pt x="2501" y="1892"/>
                    <a:pt x="2537" y="1885"/>
                  </a:cubicBezTo>
                  <a:cubicBezTo>
                    <a:pt x="2583" y="1877"/>
                    <a:pt x="2628" y="1877"/>
                    <a:pt x="2673" y="1883"/>
                  </a:cubicBezTo>
                  <a:cubicBezTo>
                    <a:pt x="2701" y="1887"/>
                    <a:pt x="2719" y="1878"/>
                    <a:pt x="2731" y="1853"/>
                  </a:cubicBezTo>
                  <a:cubicBezTo>
                    <a:pt x="2742" y="1831"/>
                    <a:pt x="2751" y="1807"/>
                    <a:pt x="2761" y="1784"/>
                  </a:cubicBezTo>
                  <a:cubicBezTo>
                    <a:pt x="2779" y="1741"/>
                    <a:pt x="2796" y="1698"/>
                    <a:pt x="2815" y="1655"/>
                  </a:cubicBezTo>
                  <a:cubicBezTo>
                    <a:pt x="2825" y="1632"/>
                    <a:pt x="2838" y="1611"/>
                    <a:pt x="2849" y="1588"/>
                  </a:cubicBezTo>
                  <a:cubicBezTo>
                    <a:pt x="2856" y="1575"/>
                    <a:pt x="2860" y="1561"/>
                    <a:pt x="2868" y="1549"/>
                  </a:cubicBezTo>
                  <a:cubicBezTo>
                    <a:pt x="2933" y="1455"/>
                    <a:pt x="2995" y="1359"/>
                    <a:pt x="3081" y="1282"/>
                  </a:cubicBezTo>
                  <a:cubicBezTo>
                    <a:pt x="3098" y="1268"/>
                    <a:pt x="3113" y="1251"/>
                    <a:pt x="3129" y="1236"/>
                  </a:cubicBezTo>
                  <a:cubicBezTo>
                    <a:pt x="3128" y="1235"/>
                    <a:pt x="3127" y="1233"/>
                    <a:pt x="3127" y="1232"/>
                  </a:cubicBezTo>
                  <a:cubicBezTo>
                    <a:pt x="3118" y="1236"/>
                    <a:pt x="3109" y="1239"/>
                    <a:pt x="3095" y="1244"/>
                  </a:cubicBezTo>
                  <a:cubicBezTo>
                    <a:pt x="3101" y="1228"/>
                    <a:pt x="3105" y="1218"/>
                    <a:pt x="3112" y="1199"/>
                  </a:cubicBezTo>
                  <a:cubicBezTo>
                    <a:pt x="3079" y="1230"/>
                    <a:pt x="3054" y="1255"/>
                    <a:pt x="3029" y="1280"/>
                  </a:cubicBezTo>
                  <a:cubicBezTo>
                    <a:pt x="3025" y="1284"/>
                    <a:pt x="3022" y="1293"/>
                    <a:pt x="3024" y="1298"/>
                  </a:cubicBezTo>
                  <a:cubicBezTo>
                    <a:pt x="3034" y="1318"/>
                    <a:pt x="3020" y="1327"/>
                    <a:pt x="3008" y="1337"/>
                  </a:cubicBezTo>
                  <a:cubicBezTo>
                    <a:pt x="2999" y="1345"/>
                    <a:pt x="2990" y="1353"/>
                    <a:pt x="2983" y="1363"/>
                  </a:cubicBezTo>
                  <a:cubicBezTo>
                    <a:pt x="2959" y="1393"/>
                    <a:pt x="2937" y="1425"/>
                    <a:pt x="2913" y="1455"/>
                  </a:cubicBezTo>
                  <a:cubicBezTo>
                    <a:pt x="2904" y="1466"/>
                    <a:pt x="2893" y="1477"/>
                    <a:pt x="2881" y="1484"/>
                  </a:cubicBezTo>
                  <a:cubicBezTo>
                    <a:pt x="2847" y="1503"/>
                    <a:pt x="2831" y="1530"/>
                    <a:pt x="2834" y="1564"/>
                  </a:cubicBezTo>
                  <a:cubicBezTo>
                    <a:pt x="2788" y="1580"/>
                    <a:pt x="2790" y="1622"/>
                    <a:pt x="2776" y="1655"/>
                  </a:cubicBezTo>
                  <a:cubicBezTo>
                    <a:pt x="2781" y="1656"/>
                    <a:pt x="2785" y="1658"/>
                    <a:pt x="2796" y="1662"/>
                  </a:cubicBezTo>
                  <a:cubicBezTo>
                    <a:pt x="2781" y="1677"/>
                    <a:pt x="2767" y="1691"/>
                    <a:pt x="2754" y="1704"/>
                  </a:cubicBezTo>
                  <a:cubicBezTo>
                    <a:pt x="2754" y="1711"/>
                    <a:pt x="2757" y="1719"/>
                    <a:pt x="2754" y="1726"/>
                  </a:cubicBezTo>
                  <a:cubicBezTo>
                    <a:pt x="2753" y="1731"/>
                    <a:pt x="2740" y="1734"/>
                    <a:pt x="2740" y="1736"/>
                  </a:cubicBezTo>
                  <a:cubicBezTo>
                    <a:pt x="2747" y="1772"/>
                    <a:pt x="2720" y="1788"/>
                    <a:pt x="2702" y="1811"/>
                  </a:cubicBezTo>
                  <a:cubicBezTo>
                    <a:pt x="2681" y="1839"/>
                    <a:pt x="2654" y="1850"/>
                    <a:pt x="2620" y="1850"/>
                  </a:cubicBezTo>
                  <a:cubicBezTo>
                    <a:pt x="2531" y="1850"/>
                    <a:pt x="2442" y="1852"/>
                    <a:pt x="2353" y="1853"/>
                  </a:cubicBezTo>
                  <a:cubicBezTo>
                    <a:pt x="2339" y="1853"/>
                    <a:pt x="2326" y="1853"/>
                    <a:pt x="2313" y="1854"/>
                  </a:cubicBezTo>
                  <a:cubicBezTo>
                    <a:pt x="2264" y="1859"/>
                    <a:pt x="2245" y="1844"/>
                    <a:pt x="2238" y="1796"/>
                  </a:cubicBezTo>
                  <a:cubicBezTo>
                    <a:pt x="2229" y="1734"/>
                    <a:pt x="2271" y="1686"/>
                    <a:pt x="2333" y="1688"/>
                  </a:cubicBezTo>
                  <a:cubicBezTo>
                    <a:pt x="2353" y="1688"/>
                    <a:pt x="2373" y="1693"/>
                    <a:pt x="2392" y="1692"/>
                  </a:cubicBezTo>
                  <a:cubicBezTo>
                    <a:pt x="2418" y="1689"/>
                    <a:pt x="2448" y="1694"/>
                    <a:pt x="2468" y="1668"/>
                  </a:cubicBezTo>
                  <a:cubicBezTo>
                    <a:pt x="2469" y="1666"/>
                    <a:pt x="2473" y="1667"/>
                    <a:pt x="2476" y="1666"/>
                  </a:cubicBezTo>
                  <a:cubicBezTo>
                    <a:pt x="2478" y="1672"/>
                    <a:pt x="2481" y="1679"/>
                    <a:pt x="2483" y="1685"/>
                  </a:cubicBezTo>
                  <a:cubicBezTo>
                    <a:pt x="2497" y="1682"/>
                    <a:pt x="2509" y="1676"/>
                    <a:pt x="2520" y="1677"/>
                  </a:cubicBezTo>
                  <a:cubicBezTo>
                    <a:pt x="2569" y="1682"/>
                    <a:pt x="2586" y="1650"/>
                    <a:pt x="2604" y="1614"/>
                  </a:cubicBezTo>
                  <a:cubicBezTo>
                    <a:pt x="2633" y="1556"/>
                    <a:pt x="2666" y="1499"/>
                    <a:pt x="2698" y="1443"/>
                  </a:cubicBezTo>
                  <a:cubicBezTo>
                    <a:pt x="2749" y="1356"/>
                    <a:pt x="2818" y="1283"/>
                    <a:pt x="2883" y="1206"/>
                  </a:cubicBezTo>
                  <a:cubicBezTo>
                    <a:pt x="2907" y="1178"/>
                    <a:pt x="2931" y="1150"/>
                    <a:pt x="2956" y="1122"/>
                  </a:cubicBezTo>
                  <a:cubicBezTo>
                    <a:pt x="3005" y="1083"/>
                    <a:pt x="3055" y="1044"/>
                    <a:pt x="3104" y="1003"/>
                  </a:cubicBezTo>
                  <a:cubicBezTo>
                    <a:pt x="3115" y="994"/>
                    <a:pt x="3119" y="977"/>
                    <a:pt x="3125" y="965"/>
                  </a:cubicBezTo>
                  <a:cubicBezTo>
                    <a:pt x="3187" y="959"/>
                    <a:pt x="3226" y="918"/>
                    <a:pt x="3268" y="880"/>
                  </a:cubicBezTo>
                  <a:cubicBezTo>
                    <a:pt x="3255" y="863"/>
                    <a:pt x="3245" y="851"/>
                    <a:pt x="3233" y="835"/>
                  </a:cubicBezTo>
                  <a:cubicBezTo>
                    <a:pt x="3196" y="860"/>
                    <a:pt x="3163" y="880"/>
                    <a:pt x="3134" y="903"/>
                  </a:cubicBezTo>
                  <a:cubicBezTo>
                    <a:pt x="3110" y="922"/>
                    <a:pt x="3091" y="947"/>
                    <a:pt x="3068" y="967"/>
                  </a:cubicBezTo>
                  <a:cubicBezTo>
                    <a:pt x="3021" y="1006"/>
                    <a:pt x="2979" y="1049"/>
                    <a:pt x="2943" y="1096"/>
                  </a:cubicBezTo>
                  <a:cubicBezTo>
                    <a:pt x="2948" y="1107"/>
                    <a:pt x="2953" y="1115"/>
                    <a:pt x="2957" y="1124"/>
                  </a:cubicBezTo>
                  <a:cubicBezTo>
                    <a:pt x="2943" y="1120"/>
                    <a:pt x="2929" y="1116"/>
                    <a:pt x="2913" y="1112"/>
                  </a:cubicBezTo>
                  <a:cubicBezTo>
                    <a:pt x="2882" y="1163"/>
                    <a:pt x="2822" y="1187"/>
                    <a:pt x="2796" y="1243"/>
                  </a:cubicBezTo>
                  <a:cubicBezTo>
                    <a:pt x="2801" y="1242"/>
                    <a:pt x="2804" y="1239"/>
                    <a:pt x="2807" y="1238"/>
                  </a:cubicBezTo>
                  <a:cubicBezTo>
                    <a:pt x="2810" y="1235"/>
                    <a:pt x="2815" y="1233"/>
                    <a:pt x="2822" y="1229"/>
                  </a:cubicBezTo>
                  <a:cubicBezTo>
                    <a:pt x="2811" y="1257"/>
                    <a:pt x="2811" y="1259"/>
                    <a:pt x="2798" y="1260"/>
                  </a:cubicBezTo>
                  <a:cubicBezTo>
                    <a:pt x="2760" y="1261"/>
                    <a:pt x="2753" y="1291"/>
                    <a:pt x="2743" y="1317"/>
                  </a:cubicBezTo>
                  <a:cubicBezTo>
                    <a:pt x="2740" y="1323"/>
                    <a:pt x="2740" y="1335"/>
                    <a:pt x="2739" y="1335"/>
                  </a:cubicBezTo>
                  <a:cubicBezTo>
                    <a:pt x="2714" y="1335"/>
                    <a:pt x="2713" y="1360"/>
                    <a:pt x="2702" y="1372"/>
                  </a:cubicBezTo>
                  <a:cubicBezTo>
                    <a:pt x="2674" y="1404"/>
                    <a:pt x="2645" y="1437"/>
                    <a:pt x="2629" y="1475"/>
                  </a:cubicBezTo>
                  <a:cubicBezTo>
                    <a:pt x="2608" y="1526"/>
                    <a:pt x="2573" y="1567"/>
                    <a:pt x="2551" y="1617"/>
                  </a:cubicBezTo>
                  <a:cubicBezTo>
                    <a:pt x="2543" y="1638"/>
                    <a:pt x="2526" y="1649"/>
                    <a:pt x="2501" y="1648"/>
                  </a:cubicBezTo>
                  <a:cubicBezTo>
                    <a:pt x="2473" y="1647"/>
                    <a:pt x="2445" y="1653"/>
                    <a:pt x="2417" y="1653"/>
                  </a:cubicBezTo>
                  <a:cubicBezTo>
                    <a:pt x="2371" y="1653"/>
                    <a:pt x="2324" y="1653"/>
                    <a:pt x="2278" y="1650"/>
                  </a:cubicBezTo>
                  <a:cubicBezTo>
                    <a:pt x="2252" y="1648"/>
                    <a:pt x="2244" y="1637"/>
                    <a:pt x="2243" y="1611"/>
                  </a:cubicBezTo>
                  <a:cubicBezTo>
                    <a:pt x="2242" y="1580"/>
                    <a:pt x="2244" y="1549"/>
                    <a:pt x="2244" y="1519"/>
                  </a:cubicBezTo>
                  <a:cubicBezTo>
                    <a:pt x="2244" y="1512"/>
                    <a:pt x="2246" y="1503"/>
                    <a:pt x="2242" y="1500"/>
                  </a:cubicBezTo>
                  <a:cubicBezTo>
                    <a:pt x="2224" y="1485"/>
                    <a:pt x="2219" y="1465"/>
                    <a:pt x="2218" y="1443"/>
                  </a:cubicBezTo>
                  <a:cubicBezTo>
                    <a:pt x="2251" y="1452"/>
                    <a:pt x="2251" y="1452"/>
                    <a:pt x="2253" y="1489"/>
                  </a:cubicBezTo>
                  <a:cubicBezTo>
                    <a:pt x="2259" y="1488"/>
                    <a:pt x="2266" y="1488"/>
                    <a:pt x="2271" y="1485"/>
                  </a:cubicBezTo>
                  <a:cubicBezTo>
                    <a:pt x="2300" y="1467"/>
                    <a:pt x="2329" y="1460"/>
                    <a:pt x="2363" y="1469"/>
                  </a:cubicBezTo>
                  <a:cubicBezTo>
                    <a:pt x="2379" y="1474"/>
                    <a:pt x="2397" y="1467"/>
                    <a:pt x="2414" y="1467"/>
                  </a:cubicBezTo>
                  <a:cubicBezTo>
                    <a:pt x="2432" y="1467"/>
                    <a:pt x="2443" y="1457"/>
                    <a:pt x="2453" y="1443"/>
                  </a:cubicBezTo>
                  <a:cubicBezTo>
                    <a:pt x="2499" y="1371"/>
                    <a:pt x="2536" y="1295"/>
                    <a:pt x="2591" y="1229"/>
                  </a:cubicBezTo>
                  <a:cubicBezTo>
                    <a:pt x="2626" y="1187"/>
                    <a:pt x="2659" y="1141"/>
                    <a:pt x="2693" y="1097"/>
                  </a:cubicBezTo>
                  <a:cubicBezTo>
                    <a:pt x="2713" y="1071"/>
                    <a:pt x="2734" y="1046"/>
                    <a:pt x="2754" y="1019"/>
                  </a:cubicBezTo>
                  <a:cubicBezTo>
                    <a:pt x="2765" y="1004"/>
                    <a:pt x="2773" y="987"/>
                    <a:pt x="2759" y="970"/>
                  </a:cubicBezTo>
                  <a:cubicBezTo>
                    <a:pt x="2754" y="971"/>
                    <a:pt x="2751" y="971"/>
                    <a:pt x="2750" y="972"/>
                  </a:cubicBezTo>
                  <a:cubicBezTo>
                    <a:pt x="2701" y="1020"/>
                    <a:pt x="2656" y="1070"/>
                    <a:pt x="2621" y="1129"/>
                  </a:cubicBezTo>
                  <a:cubicBezTo>
                    <a:pt x="2616" y="1135"/>
                    <a:pt x="2616" y="1146"/>
                    <a:pt x="2617" y="1154"/>
                  </a:cubicBezTo>
                  <a:cubicBezTo>
                    <a:pt x="2618" y="1169"/>
                    <a:pt x="2610" y="1173"/>
                    <a:pt x="2598" y="1173"/>
                  </a:cubicBezTo>
                  <a:cubicBezTo>
                    <a:pt x="2590" y="1174"/>
                    <a:pt x="2583" y="1173"/>
                    <a:pt x="2573" y="1173"/>
                  </a:cubicBezTo>
                  <a:cubicBezTo>
                    <a:pt x="2573" y="1196"/>
                    <a:pt x="2563" y="1210"/>
                    <a:pt x="2543" y="1220"/>
                  </a:cubicBezTo>
                  <a:cubicBezTo>
                    <a:pt x="2535" y="1224"/>
                    <a:pt x="2531" y="1236"/>
                    <a:pt x="2526" y="1245"/>
                  </a:cubicBezTo>
                  <a:cubicBezTo>
                    <a:pt x="2521" y="1253"/>
                    <a:pt x="2519" y="1263"/>
                    <a:pt x="2513" y="1270"/>
                  </a:cubicBezTo>
                  <a:cubicBezTo>
                    <a:pt x="2488" y="1306"/>
                    <a:pt x="2457" y="1338"/>
                    <a:pt x="2437" y="1377"/>
                  </a:cubicBezTo>
                  <a:cubicBezTo>
                    <a:pt x="2418" y="1414"/>
                    <a:pt x="2390" y="1428"/>
                    <a:pt x="2353" y="1433"/>
                  </a:cubicBezTo>
                  <a:cubicBezTo>
                    <a:pt x="2334" y="1436"/>
                    <a:pt x="2316" y="1439"/>
                    <a:pt x="2297" y="1441"/>
                  </a:cubicBezTo>
                  <a:cubicBezTo>
                    <a:pt x="2257" y="1444"/>
                    <a:pt x="2243" y="1433"/>
                    <a:pt x="2244" y="1391"/>
                  </a:cubicBezTo>
                  <a:cubicBezTo>
                    <a:pt x="2245" y="1341"/>
                    <a:pt x="2250" y="1290"/>
                    <a:pt x="2254" y="1236"/>
                  </a:cubicBezTo>
                  <a:cubicBezTo>
                    <a:pt x="2266" y="1239"/>
                    <a:pt x="2274" y="1242"/>
                    <a:pt x="2281" y="1242"/>
                  </a:cubicBezTo>
                  <a:cubicBezTo>
                    <a:pt x="2299" y="1242"/>
                    <a:pt x="2324" y="1247"/>
                    <a:pt x="2334" y="1238"/>
                  </a:cubicBezTo>
                  <a:cubicBezTo>
                    <a:pt x="2373" y="1197"/>
                    <a:pt x="2419" y="1162"/>
                    <a:pt x="2442" y="1107"/>
                  </a:cubicBezTo>
                  <a:cubicBezTo>
                    <a:pt x="2449" y="1090"/>
                    <a:pt x="2457" y="1071"/>
                    <a:pt x="2470" y="1059"/>
                  </a:cubicBezTo>
                  <a:cubicBezTo>
                    <a:pt x="2523" y="1011"/>
                    <a:pt x="2544" y="938"/>
                    <a:pt x="2601" y="893"/>
                  </a:cubicBezTo>
                  <a:cubicBezTo>
                    <a:pt x="2611" y="885"/>
                    <a:pt x="2618" y="873"/>
                    <a:pt x="2627" y="863"/>
                  </a:cubicBezTo>
                  <a:cubicBezTo>
                    <a:pt x="2647" y="843"/>
                    <a:pt x="2671" y="825"/>
                    <a:pt x="2686" y="801"/>
                  </a:cubicBezTo>
                  <a:cubicBezTo>
                    <a:pt x="2700" y="778"/>
                    <a:pt x="2718" y="764"/>
                    <a:pt x="2740" y="751"/>
                  </a:cubicBezTo>
                  <a:cubicBezTo>
                    <a:pt x="2748" y="747"/>
                    <a:pt x="2758" y="740"/>
                    <a:pt x="2759" y="733"/>
                  </a:cubicBezTo>
                  <a:cubicBezTo>
                    <a:pt x="2764" y="701"/>
                    <a:pt x="2796" y="688"/>
                    <a:pt x="2809" y="661"/>
                  </a:cubicBezTo>
                  <a:cubicBezTo>
                    <a:pt x="2811" y="658"/>
                    <a:pt x="2817" y="655"/>
                    <a:pt x="2819" y="656"/>
                  </a:cubicBezTo>
                  <a:cubicBezTo>
                    <a:pt x="2848" y="666"/>
                    <a:pt x="2834" y="643"/>
                    <a:pt x="2840" y="636"/>
                  </a:cubicBezTo>
                  <a:cubicBezTo>
                    <a:pt x="2833" y="635"/>
                    <a:pt x="2826" y="636"/>
                    <a:pt x="2824" y="633"/>
                  </a:cubicBezTo>
                  <a:cubicBezTo>
                    <a:pt x="2812" y="617"/>
                    <a:pt x="2800" y="619"/>
                    <a:pt x="2787" y="632"/>
                  </a:cubicBezTo>
                  <a:cubicBezTo>
                    <a:pt x="2766" y="652"/>
                    <a:pt x="2742" y="669"/>
                    <a:pt x="2723" y="690"/>
                  </a:cubicBezTo>
                  <a:cubicBezTo>
                    <a:pt x="2680" y="739"/>
                    <a:pt x="2640" y="790"/>
                    <a:pt x="2599" y="840"/>
                  </a:cubicBezTo>
                  <a:cubicBezTo>
                    <a:pt x="2588" y="854"/>
                    <a:pt x="2575" y="865"/>
                    <a:pt x="2565" y="879"/>
                  </a:cubicBezTo>
                  <a:cubicBezTo>
                    <a:pt x="2544" y="905"/>
                    <a:pt x="2519" y="929"/>
                    <a:pt x="2505" y="958"/>
                  </a:cubicBezTo>
                  <a:cubicBezTo>
                    <a:pt x="2493" y="984"/>
                    <a:pt x="2480" y="1005"/>
                    <a:pt x="2460" y="1025"/>
                  </a:cubicBezTo>
                  <a:cubicBezTo>
                    <a:pt x="2430" y="1058"/>
                    <a:pt x="2401" y="1094"/>
                    <a:pt x="2377" y="1131"/>
                  </a:cubicBezTo>
                  <a:cubicBezTo>
                    <a:pt x="2362" y="1154"/>
                    <a:pt x="2344" y="1172"/>
                    <a:pt x="2322" y="1187"/>
                  </a:cubicBezTo>
                  <a:cubicBezTo>
                    <a:pt x="2303" y="1200"/>
                    <a:pt x="2262" y="1202"/>
                    <a:pt x="2245" y="1189"/>
                  </a:cubicBezTo>
                  <a:cubicBezTo>
                    <a:pt x="2240" y="1184"/>
                    <a:pt x="2237" y="1175"/>
                    <a:pt x="2236" y="1168"/>
                  </a:cubicBezTo>
                  <a:cubicBezTo>
                    <a:pt x="2235" y="1152"/>
                    <a:pt x="2236" y="1136"/>
                    <a:pt x="2236" y="1120"/>
                  </a:cubicBezTo>
                  <a:cubicBezTo>
                    <a:pt x="2238" y="1059"/>
                    <a:pt x="2241" y="998"/>
                    <a:pt x="2241" y="937"/>
                  </a:cubicBezTo>
                  <a:cubicBezTo>
                    <a:pt x="2241" y="910"/>
                    <a:pt x="2245" y="890"/>
                    <a:pt x="2273" y="881"/>
                  </a:cubicBezTo>
                  <a:cubicBezTo>
                    <a:pt x="2276" y="880"/>
                    <a:pt x="2278" y="875"/>
                    <a:pt x="2280" y="872"/>
                  </a:cubicBezTo>
                  <a:cubicBezTo>
                    <a:pt x="2277" y="859"/>
                    <a:pt x="2274" y="847"/>
                    <a:pt x="2270" y="832"/>
                  </a:cubicBezTo>
                  <a:cubicBezTo>
                    <a:pt x="2257" y="839"/>
                    <a:pt x="2245" y="845"/>
                    <a:pt x="2234" y="852"/>
                  </a:cubicBezTo>
                  <a:cubicBezTo>
                    <a:pt x="2250" y="816"/>
                    <a:pt x="2230" y="785"/>
                    <a:pt x="2224" y="753"/>
                  </a:cubicBezTo>
                  <a:cubicBezTo>
                    <a:pt x="2218" y="762"/>
                    <a:pt x="2216" y="770"/>
                    <a:pt x="2214" y="779"/>
                  </a:cubicBezTo>
                  <a:cubicBezTo>
                    <a:pt x="2211" y="788"/>
                    <a:pt x="2209" y="797"/>
                    <a:pt x="2206" y="806"/>
                  </a:cubicBezTo>
                  <a:cubicBezTo>
                    <a:pt x="2201" y="825"/>
                    <a:pt x="2189" y="835"/>
                    <a:pt x="2169" y="833"/>
                  </a:cubicBezTo>
                  <a:cubicBezTo>
                    <a:pt x="2163" y="833"/>
                    <a:pt x="2158" y="834"/>
                    <a:pt x="2147" y="834"/>
                  </a:cubicBezTo>
                  <a:cubicBezTo>
                    <a:pt x="2186" y="860"/>
                    <a:pt x="2204" y="862"/>
                    <a:pt x="2235" y="848"/>
                  </a:cubicBezTo>
                  <a:cubicBezTo>
                    <a:pt x="2224" y="890"/>
                    <a:pt x="2216" y="930"/>
                    <a:pt x="2229" y="974"/>
                  </a:cubicBezTo>
                  <a:cubicBezTo>
                    <a:pt x="2236" y="996"/>
                    <a:pt x="2238" y="1022"/>
                    <a:pt x="2233" y="1044"/>
                  </a:cubicBezTo>
                  <a:cubicBezTo>
                    <a:pt x="2220" y="1110"/>
                    <a:pt x="2225" y="1173"/>
                    <a:pt x="2241" y="1238"/>
                  </a:cubicBezTo>
                  <a:cubicBezTo>
                    <a:pt x="2218" y="1267"/>
                    <a:pt x="2210" y="1302"/>
                    <a:pt x="2212" y="1340"/>
                  </a:cubicBezTo>
                  <a:cubicBezTo>
                    <a:pt x="2214" y="1360"/>
                    <a:pt x="2215" y="1380"/>
                    <a:pt x="2211" y="1399"/>
                  </a:cubicBezTo>
                  <a:cubicBezTo>
                    <a:pt x="2209" y="1413"/>
                    <a:pt x="2200" y="1433"/>
                    <a:pt x="2189" y="1438"/>
                  </a:cubicBezTo>
                  <a:cubicBezTo>
                    <a:pt x="2148" y="1456"/>
                    <a:pt x="2103" y="1454"/>
                    <a:pt x="2061" y="1442"/>
                  </a:cubicBezTo>
                  <a:cubicBezTo>
                    <a:pt x="2052" y="1439"/>
                    <a:pt x="2043" y="1429"/>
                    <a:pt x="2037" y="1421"/>
                  </a:cubicBezTo>
                  <a:cubicBezTo>
                    <a:pt x="2014" y="1391"/>
                    <a:pt x="1993" y="1359"/>
                    <a:pt x="1970" y="1328"/>
                  </a:cubicBezTo>
                  <a:cubicBezTo>
                    <a:pt x="1948" y="1301"/>
                    <a:pt x="1931" y="1269"/>
                    <a:pt x="1898" y="1251"/>
                  </a:cubicBezTo>
                  <a:cubicBezTo>
                    <a:pt x="1893" y="1241"/>
                    <a:pt x="1889" y="1229"/>
                    <a:pt x="1882" y="1220"/>
                  </a:cubicBezTo>
                  <a:cubicBezTo>
                    <a:pt x="1864" y="1196"/>
                    <a:pt x="1844" y="1174"/>
                    <a:pt x="1825" y="1151"/>
                  </a:cubicBezTo>
                  <a:cubicBezTo>
                    <a:pt x="1778" y="1101"/>
                    <a:pt x="1731" y="1051"/>
                    <a:pt x="1684" y="1001"/>
                  </a:cubicBezTo>
                  <a:cubicBezTo>
                    <a:pt x="1664" y="968"/>
                    <a:pt x="1640" y="944"/>
                    <a:pt x="1616" y="933"/>
                  </a:cubicBezTo>
                  <a:cubicBezTo>
                    <a:pt x="1624" y="970"/>
                    <a:pt x="1648" y="994"/>
                    <a:pt x="1685" y="1000"/>
                  </a:cubicBezTo>
                  <a:cubicBezTo>
                    <a:pt x="1690" y="1012"/>
                    <a:pt x="1691" y="1026"/>
                    <a:pt x="1699" y="1035"/>
                  </a:cubicBezTo>
                  <a:cubicBezTo>
                    <a:pt x="1731" y="1071"/>
                    <a:pt x="1768" y="1102"/>
                    <a:pt x="1798" y="1139"/>
                  </a:cubicBezTo>
                  <a:cubicBezTo>
                    <a:pt x="1804" y="1146"/>
                    <a:pt x="1816" y="1147"/>
                    <a:pt x="1825" y="1151"/>
                  </a:cubicBezTo>
                  <a:close/>
                  <a:moveTo>
                    <a:pt x="3994" y="1868"/>
                  </a:moveTo>
                  <a:cubicBezTo>
                    <a:pt x="3973" y="1906"/>
                    <a:pt x="3974" y="1920"/>
                    <a:pt x="4000" y="1929"/>
                  </a:cubicBezTo>
                  <a:cubicBezTo>
                    <a:pt x="3998" y="1908"/>
                    <a:pt x="3996" y="1888"/>
                    <a:pt x="3994" y="1867"/>
                  </a:cubicBezTo>
                  <a:cubicBezTo>
                    <a:pt x="3989" y="1852"/>
                    <a:pt x="3982" y="1836"/>
                    <a:pt x="3979" y="1820"/>
                  </a:cubicBezTo>
                  <a:cubicBezTo>
                    <a:pt x="3970" y="1773"/>
                    <a:pt x="3965" y="1726"/>
                    <a:pt x="3934" y="1686"/>
                  </a:cubicBezTo>
                  <a:cubicBezTo>
                    <a:pt x="3933" y="1697"/>
                    <a:pt x="3933" y="1707"/>
                    <a:pt x="3935" y="1716"/>
                  </a:cubicBezTo>
                  <a:cubicBezTo>
                    <a:pt x="3947" y="1761"/>
                    <a:pt x="3960" y="1805"/>
                    <a:pt x="3971" y="1850"/>
                  </a:cubicBezTo>
                  <a:cubicBezTo>
                    <a:pt x="3975" y="1862"/>
                    <a:pt x="3983" y="1867"/>
                    <a:pt x="3994" y="1868"/>
                  </a:cubicBezTo>
                  <a:close/>
                  <a:moveTo>
                    <a:pt x="3438" y="919"/>
                  </a:moveTo>
                  <a:cubicBezTo>
                    <a:pt x="3449" y="894"/>
                    <a:pt x="3445" y="886"/>
                    <a:pt x="3426" y="876"/>
                  </a:cubicBezTo>
                  <a:cubicBezTo>
                    <a:pt x="3414" y="870"/>
                    <a:pt x="3399" y="862"/>
                    <a:pt x="3394" y="850"/>
                  </a:cubicBezTo>
                  <a:cubicBezTo>
                    <a:pt x="3380" y="823"/>
                    <a:pt x="3357" y="816"/>
                    <a:pt x="3324" y="810"/>
                  </a:cubicBezTo>
                  <a:cubicBezTo>
                    <a:pt x="3330" y="821"/>
                    <a:pt x="3332" y="829"/>
                    <a:pt x="3337" y="831"/>
                  </a:cubicBezTo>
                  <a:cubicBezTo>
                    <a:pt x="3369" y="841"/>
                    <a:pt x="3369" y="841"/>
                    <a:pt x="3373" y="874"/>
                  </a:cubicBezTo>
                  <a:cubicBezTo>
                    <a:pt x="3373" y="877"/>
                    <a:pt x="3376" y="880"/>
                    <a:pt x="3378" y="884"/>
                  </a:cubicBezTo>
                  <a:cubicBezTo>
                    <a:pt x="3382" y="880"/>
                    <a:pt x="3385" y="877"/>
                    <a:pt x="3388" y="875"/>
                  </a:cubicBezTo>
                  <a:cubicBezTo>
                    <a:pt x="3397" y="881"/>
                    <a:pt x="3407" y="891"/>
                    <a:pt x="3418" y="893"/>
                  </a:cubicBezTo>
                  <a:cubicBezTo>
                    <a:pt x="3435" y="897"/>
                    <a:pt x="3433" y="910"/>
                    <a:pt x="3438" y="919"/>
                  </a:cubicBezTo>
                  <a:cubicBezTo>
                    <a:pt x="3430" y="914"/>
                    <a:pt x="3423" y="898"/>
                    <a:pt x="3409" y="919"/>
                  </a:cubicBezTo>
                  <a:cubicBezTo>
                    <a:pt x="3421" y="919"/>
                    <a:pt x="3429" y="919"/>
                    <a:pt x="3438" y="919"/>
                  </a:cubicBezTo>
                  <a:close/>
                  <a:moveTo>
                    <a:pt x="1259" y="2825"/>
                  </a:moveTo>
                  <a:cubicBezTo>
                    <a:pt x="1294" y="2801"/>
                    <a:pt x="1291" y="2758"/>
                    <a:pt x="1308" y="2724"/>
                  </a:cubicBezTo>
                  <a:cubicBezTo>
                    <a:pt x="1312" y="2717"/>
                    <a:pt x="1301" y="2700"/>
                    <a:pt x="1295" y="2690"/>
                  </a:cubicBezTo>
                  <a:cubicBezTo>
                    <a:pt x="1287" y="2677"/>
                    <a:pt x="1275" y="2680"/>
                    <a:pt x="1263" y="2685"/>
                  </a:cubicBezTo>
                  <a:cubicBezTo>
                    <a:pt x="1256" y="2681"/>
                    <a:pt x="1248" y="2675"/>
                    <a:pt x="1240" y="2674"/>
                  </a:cubicBezTo>
                  <a:cubicBezTo>
                    <a:pt x="1199" y="2670"/>
                    <a:pt x="1158" y="2665"/>
                    <a:pt x="1117" y="2664"/>
                  </a:cubicBezTo>
                  <a:cubicBezTo>
                    <a:pt x="1081" y="2663"/>
                    <a:pt x="1045" y="2666"/>
                    <a:pt x="1009" y="2668"/>
                  </a:cubicBezTo>
                  <a:cubicBezTo>
                    <a:pt x="1010" y="2669"/>
                    <a:pt x="1010" y="2671"/>
                    <a:pt x="1010" y="2672"/>
                  </a:cubicBezTo>
                  <a:cubicBezTo>
                    <a:pt x="1023" y="2677"/>
                    <a:pt x="1035" y="2682"/>
                    <a:pt x="1048" y="2687"/>
                  </a:cubicBezTo>
                  <a:cubicBezTo>
                    <a:pt x="1078" y="2668"/>
                    <a:pt x="1110" y="2672"/>
                    <a:pt x="1143" y="2679"/>
                  </a:cubicBezTo>
                  <a:cubicBezTo>
                    <a:pt x="1163" y="2683"/>
                    <a:pt x="1184" y="2687"/>
                    <a:pt x="1204" y="2690"/>
                  </a:cubicBezTo>
                  <a:cubicBezTo>
                    <a:pt x="1218" y="2692"/>
                    <a:pt x="1231" y="2694"/>
                    <a:pt x="1247" y="2696"/>
                  </a:cubicBezTo>
                  <a:cubicBezTo>
                    <a:pt x="1250" y="2694"/>
                    <a:pt x="1257" y="2689"/>
                    <a:pt x="1264" y="2684"/>
                  </a:cubicBezTo>
                  <a:cubicBezTo>
                    <a:pt x="1271" y="2692"/>
                    <a:pt x="1278" y="2700"/>
                    <a:pt x="1279" y="2700"/>
                  </a:cubicBezTo>
                  <a:cubicBezTo>
                    <a:pt x="1279" y="2727"/>
                    <a:pt x="1286" y="2751"/>
                    <a:pt x="1277" y="2760"/>
                  </a:cubicBezTo>
                  <a:cubicBezTo>
                    <a:pt x="1258" y="2781"/>
                    <a:pt x="1266" y="2805"/>
                    <a:pt x="1260" y="2826"/>
                  </a:cubicBezTo>
                  <a:cubicBezTo>
                    <a:pt x="1248" y="2824"/>
                    <a:pt x="1242" y="2828"/>
                    <a:pt x="1232" y="2838"/>
                  </a:cubicBezTo>
                  <a:cubicBezTo>
                    <a:pt x="1213" y="2856"/>
                    <a:pt x="1210" y="2853"/>
                    <a:pt x="1229" y="2875"/>
                  </a:cubicBezTo>
                  <a:cubicBezTo>
                    <a:pt x="1239" y="2858"/>
                    <a:pt x="1249" y="2842"/>
                    <a:pt x="1259" y="2825"/>
                  </a:cubicBezTo>
                  <a:close/>
                  <a:moveTo>
                    <a:pt x="2726" y="3528"/>
                  </a:moveTo>
                  <a:cubicBezTo>
                    <a:pt x="2730" y="3493"/>
                    <a:pt x="2723" y="3485"/>
                    <a:pt x="2695" y="3495"/>
                  </a:cubicBezTo>
                  <a:cubicBezTo>
                    <a:pt x="2708" y="3475"/>
                    <a:pt x="2705" y="3460"/>
                    <a:pt x="2688" y="3442"/>
                  </a:cubicBezTo>
                  <a:cubicBezTo>
                    <a:pt x="2662" y="3416"/>
                    <a:pt x="2638" y="3388"/>
                    <a:pt x="2615" y="3359"/>
                  </a:cubicBezTo>
                  <a:cubicBezTo>
                    <a:pt x="2583" y="3318"/>
                    <a:pt x="2553" y="3276"/>
                    <a:pt x="2522" y="3235"/>
                  </a:cubicBezTo>
                  <a:cubicBezTo>
                    <a:pt x="2514" y="3210"/>
                    <a:pt x="2514" y="3210"/>
                    <a:pt x="2491" y="3206"/>
                  </a:cubicBezTo>
                  <a:cubicBezTo>
                    <a:pt x="2502" y="3215"/>
                    <a:pt x="2512" y="3225"/>
                    <a:pt x="2522" y="3234"/>
                  </a:cubicBezTo>
                  <a:cubicBezTo>
                    <a:pt x="2531" y="3256"/>
                    <a:pt x="2538" y="3279"/>
                    <a:pt x="2550" y="3299"/>
                  </a:cubicBezTo>
                  <a:cubicBezTo>
                    <a:pt x="2562" y="3320"/>
                    <a:pt x="2578" y="3340"/>
                    <a:pt x="2594" y="3360"/>
                  </a:cubicBezTo>
                  <a:cubicBezTo>
                    <a:pt x="2606" y="3377"/>
                    <a:pt x="2619" y="3393"/>
                    <a:pt x="2632" y="3409"/>
                  </a:cubicBezTo>
                  <a:cubicBezTo>
                    <a:pt x="2654" y="3437"/>
                    <a:pt x="2675" y="3465"/>
                    <a:pt x="2696" y="3493"/>
                  </a:cubicBezTo>
                  <a:cubicBezTo>
                    <a:pt x="2710" y="3501"/>
                    <a:pt x="2726" y="3508"/>
                    <a:pt x="2726" y="3527"/>
                  </a:cubicBezTo>
                  <a:cubicBezTo>
                    <a:pt x="2746" y="3548"/>
                    <a:pt x="2766" y="3569"/>
                    <a:pt x="2786" y="3589"/>
                  </a:cubicBezTo>
                  <a:cubicBezTo>
                    <a:pt x="2815" y="3618"/>
                    <a:pt x="2844" y="3646"/>
                    <a:pt x="2873" y="3675"/>
                  </a:cubicBezTo>
                  <a:cubicBezTo>
                    <a:pt x="2886" y="3684"/>
                    <a:pt x="2885" y="3709"/>
                    <a:pt x="2909" y="3703"/>
                  </a:cubicBezTo>
                  <a:cubicBezTo>
                    <a:pt x="2896" y="3696"/>
                    <a:pt x="2894" y="3673"/>
                    <a:pt x="2872" y="3676"/>
                  </a:cubicBezTo>
                  <a:cubicBezTo>
                    <a:pt x="2872" y="3670"/>
                    <a:pt x="2873" y="3663"/>
                    <a:pt x="2871" y="3660"/>
                  </a:cubicBezTo>
                  <a:cubicBezTo>
                    <a:pt x="2832" y="3617"/>
                    <a:pt x="2794" y="3574"/>
                    <a:pt x="2754" y="3532"/>
                  </a:cubicBezTo>
                  <a:cubicBezTo>
                    <a:pt x="2749" y="3526"/>
                    <a:pt x="2736" y="3529"/>
                    <a:pt x="2726" y="3528"/>
                  </a:cubicBezTo>
                  <a:close/>
                  <a:moveTo>
                    <a:pt x="1113" y="1852"/>
                  </a:moveTo>
                  <a:cubicBezTo>
                    <a:pt x="1085" y="1852"/>
                    <a:pt x="1057" y="1851"/>
                    <a:pt x="1030" y="1850"/>
                  </a:cubicBezTo>
                  <a:cubicBezTo>
                    <a:pt x="1017" y="1850"/>
                    <a:pt x="1005" y="1850"/>
                    <a:pt x="1007" y="1871"/>
                  </a:cubicBezTo>
                  <a:cubicBezTo>
                    <a:pt x="1044" y="1873"/>
                    <a:pt x="1080" y="1870"/>
                    <a:pt x="1113" y="1852"/>
                  </a:cubicBezTo>
                  <a:cubicBezTo>
                    <a:pt x="1118" y="1872"/>
                    <a:pt x="1131" y="1879"/>
                    <a:pt x="1152" y="1877"/>
                  </a:cubicBezTo>
                  <a:cubicBezTo>
                    <a:pt x="1176" y="1875"/>
                    <a:pt x="1202" y="1873"/>
                    <a:pt x="1225" y="1879"/>
                  </a:cubicBezTo>
                  <a:cubicBezTo>
                    <a:pt x="1251" y="1885"/>
                    <a:pt x="1275" y="1878"/>
                    <a:pt x="1290" y="1846"/>
                  </a:cubicBezTo>
                  <a:cubicBezTo>
                    <a:pt x="1229" y="1862"/>
                    <a:pt x="1171" y="1876"/>
                    <a:pt x="1113" y="1852"/>
                  </a:cubicBezTo>
                  <a:close/>
                  <a:moveTo>
                    <a:pt x="503" y="1492"/>
                  </a:moveTo>
                  <a:cubicBezTo>
                    <a:pt x="510" y="1495"/>
                    <a:pt x="517" y="1498"/>
                    <a:pt x="528" y="1503"/>
                  </a:cubicBezTo>
                  <a:cubicBezTo>
                    <a:pt x="532" y="1485"/>
                    <a:pt x="541" y="1468"/>
                    <a:pt x="540" y="1452"/>
                  </a:cubicBezTo>
                  <a:cubicBezTo>
                    <a:pt x="538" y="1427"/>
                    <a:pt x="548" y="1409"/>
                    <a:pt x="561" y="1390"/>
                  </a:cubicBezTo>
                  <a:cubicBezTo>
                    <a:pt x="571" y="1376"/>
                    <a:pt x="577" y="1361"/>
                    <a:pt x="583" y="1345"/>
                  </a:cubicBezTo>
                  <a:cubicBezTo>
                    <a:pt x="585" y="1341"/>
                    <a:pt x="579" y="1334"/>
                    <a:pt x="576" y="1328"/>
                  </a:cubicBezTo>
                  <a:cubicBezTo>
                    <a:pt x="545" y="1383"/>
                    <a:pt x="522" y="1436"/>
                    <a:pt x="504" y="1493"/>
                  </a:cubicBezTo>
                  <a:cubicBezTo>
                    <a:pt x="478" y="1547"/>
                    <a:pt x="476" y="1560"/>
                    <a:pt x="486" y="1585"/>
                  </a:cubicBezTo>
                  <a:cubicBezTo>
                    <a:pt x="495" y="1555"/>
                    <a:pt x="515" y="1526"/>
                    <a:pt x="503" y="1492"/>
                  </a:cubicBezTo>
                  <a:close/>
                  <a:moveTo>
                    <a:pt x="2387" y="3985"/>
                  </a:moveTo>
                  <a:cubicBezTo>
                    <a:pt x="2404" y="4008"/>
                    <a:pt x="2418" y="4034"/>
                    <a:pt x="2453" y="4035"/>
                  </a:cubicBezTo>
                  <a:cubicBezTo>
                    <a:pt x="2456" y="4017"/>
                    <a:pt x="2458" y="4001"/>
                    <a:pt x="2462" y="3975"/>
                  </a:cubicBezTo>
                  <a:cubicBezTo>
                    <a:pt x="2446" y="3990"/>
                    <a:pt x="2438" y="3999"/>
                    <a:pt x="2431" y="4005"/>
                  </a:cubicBezTo>
                  <a:cubicBezTo>
                    <a:pt x="2414" y="3998"/>
                    <a:pt x="2400" y="3992"/>
                    <a:pt x="2386" y="3986"/>
                  </a:cubicBezTo>
                  <a:cubicBezTo>
                    <a:pt x="2376" y="3958"/>
                    <a:pt x="2396" y="3944"/>
                    <a:pt x="2418" y="3931"/>
                  </a:cubicBezTo>
                  <a:cubicBezTo>
                    <a:pt x="2404" y="3909"/>
                    <a:pt x="2389" y="3894"/>
                    <a:pt x="2363" y="3897"/>
                  </a:cubicBezTo>
                  <a:cubicBezTo>
                    <a:pt x="2354" y="3897"/>
                    <a:pt x="2346" y="3899"/>
                    <a:pt x="2338" y="3901"/>
                  </a:cubicBezTo>
                  <a:cubicBezTo>
                    <a:pt x="2341" y="3910"/>
                    <a:pt x="2343" y="3919"/>
                    <a:pt x="2348" y="3928"/>
                  </a:cubicBezTo>
                  <a:cubicBezTo>
                    <a:pt x="2350" y="3932"/>
                    <a:pt x="2357" y="3934"/>
                    <a:pt x="2363" y="3937"/>
                  </a:cubicBezTo>
                  <a:cubicBezTo>
                    <a:pt x="2355" y="3944"/>
                    <a:pt x="2350" y="3948"/>
                    <a:pt x="2342" y="3955"/>
                  </a:cubicBezTo>
                  <a:cubicBezTo>
                    <a:pt x="2359" y="3966"/>
                    <a:pt x="2373" y="3976"/>
                    <a:pt x="2387" y="3985"/>
                  </a:cubicBezTo>
                  <a:close/>
                  <a:moveTo>
                    <a:pt x="196" y="2466"/>
                  </a:moveTo>
                  <a:cubicBezTo>
                    <a:pt x="191" y="2466"/>
                    <a:pt x="186" y="2466"/>
                    <a:pt x="174" y="2466"/>
                  </a:cubicBezTo>
                  <a:cubicBezTo>
                    <a:pt x="186" y="2483"/>
                    <a:pt x="195" y="2495"/>
                    <a:pt x="203" y="2508"/>
                  </a:cubicBezTo>
                  <a:cubicBezTo>
                    <a:pt x="212" y="2521"/>
                    <a:pt x="221" y="2535"/>
                    <a:pt x="231" y="2550"/>
                  </a:cubicBezTo>
                  <a:cubicBezTo>
                    <a:pt x="239" y="2553"/>
                    <a:pt x="251" y="2557"/>
                    <a:pt x="262" y="2560"/>
                  </a:cubicBezTo>
                  <a:cubicBezTo>
                    <a:pt x="250" y="2570"/>
                    <a:pt x="239" y="2579"/>
                    <a:pt x="228" y="2588"/>
                  </a:cubicBezTo>
                  <a:cubicBezTo>
                    <a:pt x="208" y="2578"/>
                    <a:pt x="191" y="2569"/>
                    <a:pt x="166" y="2556"/>
                  </a:cubicBezTo>
                  <a:cubicBezTo>
                    <a:pt x="174" y="2571"/>
                    <a:pt x="177" y="2577"/>
                    <a:pt x="181" y="2583"/>
                  </a:cubicBezTo>
                  <a:cubicBezTo>
                    <a:pt x="170" y="2590"/>
                    <a:pt x="159" y="2596"/>
                    <a:pt x="149" y="2603"/>
                  </a:cubicBezTo>
                  <a:cubicBezTo>
                    <a:pt x="149" y="2606"/>
                    <a:pt x="148" y="2609"/>
                    <a:pt x="148" y="2612"/>
                  </a:cubicBezTo>
                  <a:cubicBezTo>
                    <a:pt x="169" y="2602"/>
                    <a:pt x="174" y="2613"/>
                    <a:pt x="180" y="2627"/>
                  </a:cubicBezTo>
                  <a:cubicBezTo>
                    <a:pt x="189" y="2651"/>
                    <a:pt x="195" y="2652"/>
                    <a:pt x="216" y="2631"/>
                  </a:cubicBezTo>
                  <a:cubicBezTo>
                    <a:pt x="221" y="2643"/>
                    <a:pt x="225" y="2656"/>
                    <a:pt x="231" y="2672"/>
                  </a:cubicBezTo>
                  <a:cubicBezTo>
                    <a:pt x="242" y="2649"/>
                    <a:pt x="250" y="2631"/>
                    <a:pt x="258" y="2614"/>
                  </a:cubicBezTo>
                  <a:cubicBezTo>
                    <a:pt x="269" y="2618"/>
                    <a:pt x="275" y="2621"/>
                    <a:pt x="282" y="2624"/>
                  </a:cubicBezTo>
                  <a:cubicBezTo>
                    <a:pt x="288" y="2590"/>
                    <a:pt x="288" y="2590"/>
                    <a:pt x="260" y="2561"/>
                  </a:cubicBezTo>
                  <a:cubicBezTo>
                    <a:pt x="271" y="2555"/>
                    <a:pt x="275" y="2547"/>
                    <a:pt x="264" y="2539"/>
                  </a:cubicBezTo>
                  <a:cubicBezTo>
                    <a:pt x="245" y="2526"/>
                    <a:pt x="247" y="2509"/>
                    <a:pt x="254" y="2490"/>
                  </a:cubicBezTo>
                  <a:cubicBezTo>
                    <a:pt x="260" y="2476"/>
                    <a:pt x="265" y="2462"/>
                    <a:pt x="247" y="2450"/>
                  </a:cubicBezTo>
                  <a:cubicBezTo>
                    <a:pt x="242" y="2456"/>
                    <a:pt x="236" y="2461"/>
                    <a:pt x="232" y="2467"/>
                  </a:cubicBezTo>
                  <a:cubicBezTo>
                    <a:pt x="218" y="2486"/>
                    <a:pt x="206" y="2483"/>
                    <a:pt x="195" y="2465"/>
                  </a:cubicBezTo>
                  <a:cubicBezTo>
                    <a:pt x="204" y="2463"/>
                    <a:pt x="212" y="2460"/>
                    <a:pt x="230" y="2454"/>
                  </a:cubicBezTo>
                  <a:cubicBezTo>
                    <a:pt x="211" y="2438"/>
                    <a:pt x="199" y="2428"/>
                    <a:pt x="187" y="2418"/>
                  </a:cubicBezTo>
                  <a:cubicBezTo>
                    <a:pt x="187" y="2399"/>
                    <a:pt x="181" y="2376"/>
                    <a:pt x="210" y="2372"/>
                  </a:cubicBezTo>
                  <a:cubicBezTo>
                    <a:pt x="204" y="2381"/>
                    <a:pt x="193" y="2388"/>
                    <a:pt x="207" y="2407"/>
                  </a:cubicBezTo>
                  <a:cubicBezTo>
                    <a:pt x="208" y="2391"/>
                    <a:pt x="209" y="2382"/>
                    <a:pt x="210" y="2372"/>
                  </a:cubicBezTo>
                  <a:cubicBezTo>
                    <a:pt x="211" y="2370"/>
                    <a:pt x="211" y="2368"/>
                    <a:pt x="212" y="2366"/>
                  </a:cubicBezTo>
                  <a:cubicBezTo>
                    <a:pt x="212" y="2365"/>
                    <a:pt x="215" y="2365"/>
                    <a:pt x="216" y="2366"/>
                  </a:cubicBezTo>
                  <a:cubicBezTo>
                    <a:pt x="227" y="2378"/>
                    <a:pt x="238" y="2390"/>
                    <a:pt x="255" y="2407"/>
                  </a:cubicBezTo>
                  <a:cubicBezTo>
                    <a:pt x="263" y="2384"/>
                    <a:pt x="269" y="2367"/>
                    <a:pt x="276" y="2348"/>
                  </a:cubicBezTo>
                  <a:cubicBezTo>
                    <a:pt x="263" y="2344"/>
                    <a:pt x="255" y="2342"/>
                    <a:pt x="248" y="2339"/>
                  </a:cubicBezTo>
                  <a:cubicBezTo>
                    <a:pt x="240" y="2335"/>
                    <a:pt x="232" y="2330"/>
                    <a:pt x="224" y="2325"/>
                  </a:cubicBezTo>
                  <a:cubicBezTo>
                    <a:pt x="225" y="2315"/>
                    <a:pt x="226" y="2306"/>
                    <a:pt x="228" y="2297"/>
                  </a:cubicBezTo>
                  <a:cubicBezTo>
                    <a:pt x="235" y="2297"/>
                    <a:pt x="243" y="2299"/>
                    <a:pt x="247" y="2296"/>
                  </a:cubicBezTo>
                  <a:cubicBezTo>
                    <a:pt x="261" y="2286"/>
                    <a:pt x="274" y="2241"/>
                    <a:pt x="265" y="2225"/>
                  </a:cubicBezTo>
                  <a:cubicBezTo>
                    <a:pt x="258" y="2213"/>
                    <a:pt x="264" y="2207"/>
                    <a:pt x="268" y="2197"/>
                  </a:cubicBezTo>
                  <a:cubicBezTo>
                    <a:pt x="292" y="2144"/>
                    <a:pt x="300" y="2090"/>
                    <a:pt x="268" y="2029"/>
                  </a:cubicBezTo>
                  <a:cubicBezTo>
                    <a:pt x="258" y="2044"/>
                    <a:pt x="251" y="2056"/>
                    <a:pt x="245" y="2068"/>
                  </a:cubicBezTo>
                  <a:cubicBezTo>
                    <a:pt x="239" y="2079"/>
                    <a:pt x="234" y="2086"/>
                    <a:pt x="220" y="2080"/>
                  </a:cubicBezTo>
                  <a:cubicBezTo>
                    <a:pt x="212" y="2070"/>
                    <a:pt x="203" y="2066"/>
                    <a:pt x="189" y="2071"/>
                  </a:cubicBezTo>
                  <a:cubicBezTo>
                    <a:pt x="193" y="2079"/>
                    <a:pt x="196" y="2085"/>
                    <a:pt x="201" y="2094"/>
                  </a:cubicBezTo>
                  <a:cubicBezTo>
                    <a:pt x="209" y="2088"/>
                    <a:pt x="215" y="2083"/>
                    <a:pt x="221" y="2078"/>
                  </a:cubicBezTo>
                  <a:cubicBezTo>
                    <a:pt x="218" y="2084"/>
                    <a:pt x="216" y="2091"/>
                    <a:pt x="212" y="2096"/>
                  </a:cubicBezTo>
                  <a:cubicBezTo>
                    <a:pt x="184" y="2130"/>
                    <a:pt x="167" y="2167"/>
                    <a:pt x="176" y="2213"/>
                  </a:cubicBezTo>
                  <a:cubicBezTo>
                    <a:pt x="160" y="2212"/>
                    <a:pt x="145" y="2209"/>
                    <a:pt x="131" y="2211"/>
                  </a:cubicBezTo>
                  <a:cubicBezTo>
                    <a:pt x="111" y="2213"/>
                    <a:pt x="103" y="2233"/>
                    <a:pt x="115" y="2249"/>
                  </a:cubicBezTo>
                  <a:cubicBezTo>
                    <a:pt x="117" y="2252"/>
                    <a:pt x="127" y="2255"/>
                    <a:pt x="131" y="2253"/>
                  </a:cubicBezTo>
                  <a:cubicBezTo>
                    <a:pt x="154" y="2241"/>
                    <a:pt x="169" y="2238"/>
                    <a:pt x="196" y="2243"/>
                  </a:cubicBezTo>
                  <a:cubicBezTo>
                    <a:pt x="196" y="2270"/>
                    <a:pt x="196" y="2297"/>
                    <a:pt x="196" y="2325"/>
                  </a:cubicBezTo>
                  <a:cubicBezTo>
                    <a:pt x="185" y="2328"/>
                    <a:pt x="175" y="2331"/>
                    <a:pt x="164" y="2334"/>
                  </a:cubicBezTo>
                  <a:cubicBezTo>
                    <a:pt x="167" y="2361"/>
                    <a:pt x="170" y="2386"/>
                    <a:pt x="174" y="2411"/>
                  </a:cubicBezTo>
                  <a:cubicBezTo>
                    <a:pt x="174" y="2414"/>
                    <a:pt x="183" y="2415"/>
                    <a:pt x="188" y="2416"/>
                  </a:cubicBezTo>
                  <a:cubicBezTo>
                    <a:pt x="190" y="2433"/>
                    <a:pt x="193" y="2450"/>
                    <a:pt x="196" y="2466"/>
                  </a:cubicBezTo>
                  <a:close/>
                  <a:moveTo>
                    <a:pt x="1948" y="2885"/>
                  </a:moveTo>
                  <a:cubicBezTo>
                    <a:pt x="1949" y="2885"/>
                    <a:pt x="1950" y="2886"/>
                    <a:pt x="1951" y="2886"/>
                  </a:cubicBezTo>
                  <a:cubicBezTo>
                    <a:pt x="1967" y="2881"/>
                    <a:pt x="1986" y="2868"/>
                    <a:pt x="1999" y="2873"/>
                  </a:cubicBezTo>
                  <a:cubicBezTo>
                    <a:pt x="2026" y="2882"/>
                    <a:pt x="2048" y="2876"/>
                    <a:pt x="2072" y="2866"/>
                  </a:cubicBezTo>
                  <a:cubicBezTo>
                    <a:pt x="2078" y="2864"/>
                    <a:pt x="2086" y="2860"/>
                    <a:pt x="2090" y="2863"/>
                  </a:cubicBezTo>
                  <a:cubicBezTo>
                    <a:pt x="2121" y="2881"/>
                    <a:pt x="2145" y="2870"/>
                    <a:pt x="2172" y="2844"/>
                  </a:cubicBezTo>
                  <a:cubicBezTo>
                    <a:pt x="2126" y="2846"/>
                    <a:pt x="2085" y="2849"/>
                    <a:pt x="2045" y="2850"/>
                  </a:cubicBezTo>
                  <a:cubicBezTo>
                    <a:pt x="2003" y="2851"/>
                    <a:pt x="1961" y="2846"/>
                    <a:pt x="1921" y="2864"/>
                  </a:cubicBezTo>
                  <a:cubicBezTo>
                    <a:pt x="1923" y="2870"/>
                    <a:pt x="1923" y="2872"/>
                    <a:pt x="1924" y="2872"/>
                  </a:cubicBezTo>
                  <a:cubicBezTo>
                    <a:pt x="1932" y="2877"/>
                    <a:pt x="1940" y="2881"/>
                    <a:pt x="1948" y="2885"/>
                  </a:cubicBezTo>
                  <a:close/>
                  <a:moveTo>
                    <a:pt x="1699" y="1922"/>
                  </a:moveTo>
                  <a:cubicBezTo>
                    <a:pt x="1698" y="1908"/>
                    <a:pt x="1696" y="1893"/>
                    <a:pt x="1676" y="1887"/>
                  </a:cubicBezTo>
                  <a:cubicBezTo>
                    <a:pt x="1673" y="1907"/>
                    <a:pt x="1681" y="1918"/>
                    <a:pt x="1700" y="1922"/>
                  </a:cubicBezTo>
                  <a:cubicBezTo>
                    <a:pt x="1693" y="1927"/>
                    <a:pt x="1686" y="1933"/>
                    <a:pt x="1680" y="1938"/>
                  </a:cubicBezTo>
                  <a:cubicBezTo>
                    <a:pt x="1680" y="1951"/>
                    <a:pt x="1681" y="1963"/>
                    <a:pt x="1681" y="1976"/>
                  </a:cubicBezTo>
                  <a:cubicBezTo>
                    <a:pt x="1687" y="1977"/>
                    <a:pt x="1694" y="1979"/>
                    <a:pt x="1699" y="1980"/>
                  </a:cubicBezTo>
                  <a:cubicBezTo>
                    <a:pt x="1701" y="1991"/>
                    <a:pt x="1704" y="2002"/>
                    <a:pt x="1706" y="2016"/>
                  </a:cubicBezTo>
                  <a:cubicBezTo>
                    <a:pt x="1732" y="1992"/>
                    <a:pt x="1770" y="2007"/>
                    <a:pt x="1790" y="1981"/>
                  </a:cubicBezTo>
                  <a:cubicBezTo>
                    <a:pt x="1758" y="1961"/>
                    <a:pt x="1728" y="1942"/>
                    <a:pt x="1699" y="1922"/>
                  </a:cubicBezTo>
                  <a:close/>
                  <a:moveTo>
                    <a:pt x="241" y="1917"/>
                  </a:moveTo>
                  <a:cubicBezTo>
                    <a:pt x="260" y="1879"/>
                    <a:pt x="259" y="1877"/>
                    <a:pt x="219" y="1865"/>
                  </a:cubicBezTo>
                  <a:cubicBezTo>
                    <a:pt x="214" y="1879"/>
                    <a:pt x="211" y="1895"/>
                    <a:pt x="202" y="1908"/>
                  </a:cubicBezTo>
                  <a:cubicBezTo>
                    <a:pt x="187" y="1929"/>
                    <a:pt x="213" y="1935"/>
                    <a:pt x="218" y="1953"/>
                  </a:cubicBezTo>
                  <a:cubicBezTo>
                    <a:pt x="203" y="1953"/>
                    <a:pt x="192" y="1953"/>
                    <a:pt x="179" y="1953"/>
                  </a:cubicBezTo>
                  <a:cubicBezTo>
                    <a:pt x="202" y="1984"/>
                    <a:pt x="202" y="1984"/>
                    <a:pt x="198" y="2024"/>
                  </a:cubicBezTo>
                  <a:cubicBezTo>
                    <a:pt x="230" y="1992"/>
                    <a:pt x="236" y="1954"/>
                    <a:pt x="241" y="1916"/>
                  </a:cubicBezTo>
                  <a:lnTo>
                    <a:pt x="241" y="1917"/>
                  </a:lnTo>
                  <a:close/>
                  <a:moveTo>
                    <a:pt x="2731" y="2034"/>
                  </a:moveTo>
                  <a:cubicBezTo>
                    <a:pt x="2758" y="2032"/>
                    <a:pt x="2759" y="2014"/>
                    <a:pt x="2758" y="1994"/>
                  </a:cubicBezTo>
                  <a:cubicBezTo>
                    <a:pt x="2758" y="1979"/>
                    <a:pt x="2756" y="1964"/>
                    <a:pt x="2755" y="1952"/>
                  </a:cubicBezTo>
                  <a:cubicBezTo>
                    <a:pt x="2727" y="1953"/>
                    <a:pt x="2697" y="1954"/>
                    <a:pt x="2668" y="1958"/>
                  </a:cubicBezTo>
                  <a:cubicBezTo>
                    <a:pt x="2653" y="1960"/>
                    <a:pt x="2632" y="1962"/>
                    <a:pt x="2635" y="1983"/>
                  </a:cubicBezTo>
                  <a:cubicBezTo>
                    <a:pt x="2670" y="2002"/>
                    <a:pt x="2701" y="2018"/>
                    <a:pt x="2732" y="2035"/>
                  </a:cubicBezTo>
                  <a:cubicBezTo>
                    <a:pt x="2723" y="2033"/>
                    <a:pt x="2714" y="2032"/>
                    <a:pt x="2705" y="2030"/>
                  </a:cubicBezTo>
                  <a:cubicBezTo>
                    <a:pt x="2704" y="2032"/>
                    <a:pt x="2703" y="2035"/>
                    <a:pt x="2702" y="2037"/>
                  </a:cubicBezTo>
                  <a:cubicBezTo>
                    <a:pt x="2708" y="2043"/>
                    <a:pt x="2715" y="2049"/>
                    <a:pt x="2724" y="2057"/>
                  </a:cubicBezTo>
                  <a:cubicBezTo>
                    <a:pt x="2727" y="2046"/>
                    <a:pt x="2729" y="2040"/>
                    <a:pt x="2731" y="2034"/>
                  </a:cubicBezTo>
                  <a:close/>
                  <a:moveTo>
                    <a:pt x="1711" y="1352"/>
                  </a:moveTo>
                  <a:cubicBezTo>
                    <a:pt x="1721" y="1338"/>
                    <a:pt x="1710" y="1327"/>
                    <a:pt x="1703" y="1317"/>
                  </a:cubicBezTo>
                  <a:cubicBezTo>
                    <a:pt x="1682" y="1288"/>
                    <a:pt x="1660" y="1260"/>
                    <a:pt x="1637" y="1232"/>
                  </a:cubicBezTo>
                  <a:cubicBezTo>
                    <a:pt x="1632" y="1226"/>
                    <a:pt x="1625" y="1222"/>
                    <a:pt x="1618" y="1217"/>
                  </a:cubicBezTo>
                  <a:cubicBezTo>
                    <a:pt x="1619" y="1233"/>
                    <a:pt x="1624" y="1245"/>
                    <a:pt x="1632" y="1255"/>
                  </a:cubicBezTo>
                  <a:cubicBezTo>
                    <a:pt x="1658" y="1288"/>
                    <a:pt x="1685" y="1320"/>
                    <a:pt x="1712" y="1352"/>
                  </a:cubicBezTo>
                  <a:cubicBezTo>
                    <a:pt x="1711" y="1352"/>
                    <a:pt x="1710" y="1351"/>
                    <a:pt x="1709" y="1352"/>
                  </a:cubicBezTo>
                  <a:cubicBezTo>
                    <a:pt x="1707" y="1352"/>
                    <a:pt x="1706" y="1354"/>
                    <a:pt x="1706" y="1355"/>
                  </a:cubicBezTo>
                  <a:cubicBezTo>
                    <a:pt x="1713" y="1368"/>
                    <a:pt x="1719" y="1383"/>
                    <a:pt x="1729" y="1395"/>
                  </a:cubicBezTo>
                  <a:cubicBezTo>
                    <a:pt x="1739" y="1409"/>
                    <a:pt x="1774" y="1465"/>
                    <a:pt x="1782" y="1480"/>
                  </a:cubicBezTo>
                  <a:cubicBezTo>
                    <a:pt x="1800" y="1511"/>
                    <a:pt x="1820" y="1540"/>
                    <a:pt x="1840" y="1570"/>
                  </a:cubicBezTo>
                  <a:cubicBezTo>
                    <a:pt x="1842" y="1572"/>
                    <a:pt x="1847" y="1572"/>
                    <a:pt x="1851" y="1573"/>
                  </a:cubicBezTo>
                  <a:cubicBezTo>
                    <a:pt x="1849" y="1577"/>
                    <a:pt x="1844" y="1584"/>
                    <a:pt x="1845" y="1586"/>
                  </a:cubicBezTo>
                  <a:cubicBezTo>
                    <a:pt x="1862" y="1614"/>
                    <a:pt x="1880" y="1643"/>
                    <a:pt x="1899" y="1670"/>
                  </a:cubicBezTo>
                  <a:cubicBezTo>
                    <a:pt x="1904" y="1677"/>
                    <a:pt x="1921" y="1687"/>
                    <a:pt x="1925" y="1685"/>
                  </a:cubicBezTo>
                  <a:cubicBezTo>
                    <a:pt x="1947" y="1670"/>
                    <a:pt x="1966" y="1688"/>
                    <a:pt x="1986" y="1688"/>
                  </a:cubicBezTo>
                  <a:cubicBezTo>
                    <a:pt x="2026" y="1687"/>
                    <a:pt x="2066" y="1690"/>
                    <a:pt x="2105" y="1684"/>
                  </a:cubicBezTo>
                  <a:cubicBezTo>
                    <a:pt x="2123" y="1681"/>
                    <a:pt x="2138" y="1678"/>
                    <a:pt x="2154" y="1687"/>
                  </a:cubicBezTo>
                  <a:cubicBezTo>
                    <a:pt x="2155" y="1688"/>
                    <a:pt x="2159" y="1685"/>
                    <a:pt x="2162" y="1684"/>
                  </a:cubicBezTo>
                  <a:cubicBezTo>
                    <a:pt x="2161" y="1679"/>
                    <a:pt x="2159" y="1673"/>
                    <a:pt x="2157" y="1664"/>
                  </a:cubicBezTo>
                  <a:cubicBezTo>
                    <a:pt x="2169" y="1665"/>
                    <a:pt x="2181" y="1666"/>
                    <a:pt x="2192" y="1667"/>
                  </a:cubicBezTo>
                  <a:cubicBezTo>
                    <a:pt x="2188" y="1687"/>
                    <a:pt x="2192" y="1699"/>
                    <a:pt x="2217" y="1700"/>
                  </a:cubicBezTo>
                  <a:cubicBezTo>
                    <a:pt x="2214" y="1678"/>
                    <a:pt x="2212" y="1657"/>
                    <a:pt x="2210" y="1640"/>
                  </a:cubicBezTo>
                  <a:cubicBezTo>
                    <a:pt x="2176" y="1646"/>
                    <a:pt x="2146" y="1654"/>
                    <a:pt x="2116" y="1656"/>
                  </a:cubicBezTo>
                  <a:cubicBezTo>
                    <a:pt x="2079" y="1659"/>
                    <a:pt x="2042" y="1657"/>
                    <a:pt x="2005" y="1657"/>
                  </a:cubicBezTo>
                  <a:cubicBezTo>
                    <a:pt x="1986" y="1656"/>
                    <a:pt x="1968" y="1654"/>
                    <a:pt x="1949" y="1652"/>
                  </a:cubicBezTo>
                  <a:cubicBezTo>
                    <a:pt x="1925" y="1650"/>
                    <a:pt x="1908" y="1639"/>
                    <a:pt x="1896" y="1616"/>
                  </a:cubicBezTo>
                  <a:cubicBezTo>
                    <a:pt x="1888" y="1599"/>
                    <a:pt x="1879" y="1577"/>
                    <a:pt x="1854" y="1575"/>
                  </a:cubicBezTo>
                  <a:cubicBezTo>
                    <a:pt x="1866" y="1556"/>
                    <a:pt x="1852" y="1542"/>
                    <a:pt x="1844" y="1528"/>
                  </a:cubicBezTo>
                  <a:cubicBezTo>
                    <a:pt x="1814" y="1478"/>
                    <a:pt x="1785" y="1427"/>
                    <a:pt x="1754" y="1378"/>
                  </a:cubicBezTo>
                  <a:cubicBezTo>
                    <a:pt x="1745" y="1363"/>
                    <a:pt x="1735" y="1344"/>
                    <a:pt x="1711" y="1352"/>
                  </a:cubicBezTo>
                  <a:close/>
                  <a:moveTo>
                    <a:pt x="836" y="3232"/>
                  </a:moveTo>
                  <a:cubicBezTo>
                    <a:pt x="837" y="3246"/>
                    <a:pt x="843" y="3256"/>
                    <a:pt x="857" y="3254"/>
                  </a:cubicBezTo>
                  <a:cubicBezTo>
                    <a:pt x="868" y="3252"/>
                    <a:pt x="876" y="3245"/>
                    <a:pt x="873" y="3230"/>
                  </a:cubicBezTo>
                  <a:cubicBezTo>
                    <a:pt x="860" y="3231"/>
                    <a:pt x="847" y="3232"/>
                    <a:pt x="835" y="3233"/>
                  </a:cubicBezTo>
                  <a:cubicBezTo>
                    <a:pt x="830" y="3225"/>
                    <a:pt x="827" y="3217"/>
                    <a:pt x="821" y="3210"/>
                  </a:cubicBezTo>
                  <a:cubicBezTo>
                    <a:pt x="805" y="3189"/>
                    <a:pt x="786" y="3170"/>
                    <a:pt x="772" y="3147"/>
                  </a:cubicBezTo>
                  <a:cubicBezTo>
                    <a:pt x="758" y="3125"/>
                    <a:pt x="731" y="3114"/>
                    <a:pt x="729" y="3089"/>
                  </a:cubicBezTo>
                  <a:cubicBezTo>
                    <a:pt x="718" y="3098"/>
                    <a:pt x="707" y="3107"/>
                    <a:pt x="697" y="3115"/>
                  </a:cubicBezTo>
                  <a:cubicBezTo>
                    <a:pt x="722" y="3141"/>
                    <a:pt x="722" y="3141"/>
                    <a:pt x="726" y="3178"/>
                  </a:cubicBezTo>
                  <a:cubicBezTo>
                    <a:pt x="729" y="3213"/>
                    <a:pt x="736" y="3216"/>
                    <a:pt x="766" y="3196"/>
                  </a:cubicBezTo>
                  <a:cubicBezTo>
                    <a:pt x="770" y="3194"/>
                    <a:pt x="774" y="3193"/>
                    <a:pt x="777" y="3191"/>
                  </a:cubicBezTo>
                  <a:cubicBezTo>
                    <a:pt x="779" y="3194"/>
                    <a:pt x="782" y="3196"/>
                    <a:pt x="782" y="3198"/>
                  </a:cubicBezTo>
                  <a:cubicBezTo>
                    <a:pt x="786" y="3229"/>
                    <a:pt x="786" y="3229"/>
                    <a:pt x="817" y="3227"/>
                  </a:cubicBezTo>
                  <a:cubicBezTo>
                    <a:pt x="823" y="3226"/>
                    <a:pt x="830" y="3230"/>
                    <a:pt x="836" y="3232"/>
                  </a:cubicBezTo>
                  <a:close/>
                  <a:moveTo>
                    <a:pt x="1493" y="1392"/>
                  </a:moveTo>
                  <a:cubicBezTo>
                    <a:pt x="1491" y="1401"/>
                    <a:pt x="1489" y="1412"/>
                    <a:pt x="1506" y="1412"/>
                  </a:cubicBezTo>
                  <a:cubicBezTo>
                    <a:pt x="1501" y="1405"/>
                    <a:pt x="1497" y="1399"/>
                    <a:pt x="1492" y="1392"/>
                  </a:cubicBezTo>
                  <a:cubicBezTo>
                    <a:pt x="1484" y="1381"/>
                    <a:pt x="1476" y="1368"/>
                    <a:pt x="1466" y="1358"/>
                  </a:cubicBezTo>
                  <a:cubicBezTo>
                    <a:pt x="1434" y="1323"/>
                    <a:pt x="1400" y="1289"/>
                    <a:pt x="1368" y="1254"/>
                  </a:cubicBezTo>
                  <a:cubicBezTo>
                    <a:pt x="1327" y="1211"/>
                    <a:pt x="1286" y="1167"/>
                    <a:pt x="1245" y="1123"/>
                  </a:cubicBezTo>
                  <a:cubicBezTo>
                    <a:pt x="1240" y="1118"/>
                    <a:pt x="1233" y="1116"/>
                    <a:pt x="1226" y="1112"/>
                  </a:cubicBezTo>
                  <a:cubicBezTo>
                    <a:pt x="1224" y="1114"/>
                    <a:pt x="1222" y="1115"/>
                    <a:pt x="1219" y="1117"/>
                  </a:cubicBezTo>
                  <a:cubicBezTo>
                    <a:pt x="1223" y="1128"/>
                    <a:pt x="1225" y="1142"/>
                    <a:pt x="1232" y="1150"/>
                  </a:cubicBezTo>
                  <a:cubicBezTo>
                    <a:pt x="1252" y="1173"/>
                    <a:pt x="1274" y="1195"/>
                    <a:pt x="1297" y="1214"/>
                  </a:cubicBezTo>
                  <a:cubicBezTo>
                    <a:pt x="1353" y="1258"/>
                    <a:pt x="1400" y="1310"/>
                    <a:pt x="1443" y="1366"/>
                  </a:cubicBezTo>
                  <a:cubicBezTo>
                    <a:pt x="1455" y="1382"/>
                    <a:pt x="1470" y="1395"/>
                    <a:pt x="1493" y="1392"/>
                  </a:cubicBezTo>
                  <a:close/>
                  <a:moveTo>
                    <a:pt x="460" y="3266"/>
                  </a:moveTo>
                  <a:cubicBezTo>
                    <a:pt x="453" y="3277"/>
                    <a:pt x="449" y="3291"/>
                    <a:pt x="439" y="3298"/>
                  </a:cubicBezTo>
                  <a:cubicBezTo>
                    <a:pt x="431" y="3303"/>
                    <a:pt x="417" y="3299"/>
                    <a:pt x="404" y="3299"/>
                  </a:cubicBezTo>
                  <a:cubicBezTo>
                    <a:pt x="428" y="3330"/>
                    <a:pt x="448" y="3335"/>
                    <a:pt x="490" y="3319"/>
                  </a:cubicBezTo>
                  <a:cubicBezTo>
                    <a:pt x="509" y="3340"/>
                    <a:pt x="529" y="3362"/>
                    <a:pt x="547" y="3382"/>
                  </a:cubicBezTo>
                  <a:cubicBezTo>
                    <a:pt x="536" y="3396"/>
                    <a:pt x="521" y="3408"/>
                    <a:pt x="522" y="3414"/>
                  </a:cubicBezTo>
                  <a:cubicBezTo>
                    <a:pt x="528" y="3431"/>
                    <a:pt x="545" y="3437"/>
                    <a:pt x="567" y="3438"/>
                  </a:cubicBezTo>
                  <a:cubicBezTo>
                    <a:pt x="564" y="3426"/>
                    <a:pt x="562" y="3418"/>
                    <a:pt x="560" y="3409"/>
                  </a:cubicBezTo>
                  <a:cubicBezTo>
                    <a:pt x="569" y="3406"/>
                    <a:pt x="576" y="3404"/>
                    <a:pt x="583" y="3401"/>
                  </a:cubicBezTo>
                  <a:cubicBezTo>
                    <a:pt x="569" y="3360"/>
                    <a:pt x="542" y="3329"/>
                    <a:pt x="506" y="3306"/>
                  </a:cubicBezTo>
                  <a:cubicBezTo>
                    <a:pt x="489" y="3295"/>
                    <a:pt x="474" y="3279"/>
                    <a:pt x="459" y="3265"/>
                  </a:cubicBezTo>
                  <a:cubicBezTo>
                    <a:pt x="469" y="3264"/>
                    <a:pt x="479" y="3263"/>
                    <a:pt x="490" y="3262"/>
                  </a:cubicBezTo>
                  <a:cubicBezTo>
                    <a:pt x="474" y="3224"/>
                    <a:pt x="467" y="3217"/>
                    <a:pt x="449" y="3219"/>
                  </a:cubicBezTo>
                  <a:cubicBezTo>
                    <a:pt x="433" y="3222"/>
                    <a:pt x="422" y="3230"/>
                    <a:pt x="423" y="3248"/>
                  </a:cubicBezTo>
                  <a:cubicBezTo>
                    <a:pt x="423" y="3250"/>
                    <a:pt x="426" y="3252"/>
                    <a:pt x="428" y="3254"/>
                  </a:cubicBezTo>
                  <a:cubicBezTo>
                    <a:pt x="435" y="3248"/>
                    <a:pt x="441" y="3243"/>
                    <a:pt x="453" y="3233"/>
                  </a:cubicBezTo>
                  <a:cubicBezTo>
                    <a:pt x="456" y="3247"/>
                    <a:pt x="458" y="3257"/>
                    <a:pt x="460" y="3266"/>
                  </a:cubicBezTo>
                  <a:close/>
                  <a:moveTo>
                    <a:pt x="1518" y="670"/>
                  </a:moveTo>
                  <a:cubicBezTo>
                    <a:pt x="1527" y="639"/>
                    <a:pt x="1526" y="637"/>
                    <a:pt x="1497" y="619"/>
                  </a:cubicBezTo>
                  <a:cubicBezTo>
                    <a:pt x="1488" y="642"/>
                    <a:pt x="1513" y="652"/>
                    <a:pt x="1518" y="669"/>
                  </a:cubicBezTo>
                  <a:cubicBezTo>
                    <a:pt x="1541" y="695"/>
                    <a:pt x="1563" y="721"/>
                    <a:pt x="1585" y="747"/>
                  </a:cubicBezTo>
                  <a:cubicBezTo>
                    <a:pt x="1598" y="762"/>
                    <a:pt x="1614" y="777"/>
                    <a:pt x="1621" y="794"/>
                  </a:cubicBezTo>
                  <a:cubicBezTo>
                    <a:pt x="1628" y="812"/>
                    <a:pt x="1637" y="825"/>
                    <a:pt x="1653" y="836"/>
                  </a:cubicBezTo>
                  <a:cubicBezTo>
                    <a:pt x="1671" y="849"/>
                    <a:pt x="1690" y="860"/>
                    <a:pt x="1699" y="884"/>
                  </a:cubicBezTo>
                  <a:cubicBezTo>
                    <a:pt x="1705" y="899"/>
                    <a:pt x="1724" y="909"/>
                    <a:pt x="1737" y="922"/>
                  </a:cubicBezTo>
                  <a:cubicBezTo>
                    <a:pt x="1744" y="911"/>
                    <a:pt x="1747" y="902"/>
                    <a:pt x="1744" y="898"/>
                  </a:cubicBezTo>
                  <a:cubicBezTo>
                    <a:pt x="1716" y="861"/>
                    <a:pt x="1690" y="822"/>
                    <a:pt x="1659" y="788"/>
                  </a:cubicBezTo>
                  <a:cubicBezTo>
                    <a:pt x="1622" y="750"/>
                    <a:pt x="1581" y="716"/>
                    <a:pt x="1542" y="681"/>
                  </a:cubicBezTo>
                  <a:cubicBezTo>
                    <a:pt x="1535" y="676"/>
                    <a:pt x="1526" y="674"/>
                    <a:pt x="1518" y="670"/>
                  </a:cubicBezTo>
                  <a:close/>
                  <a:moveTo>
                    <a:pt x="436" y="1113"/>
                  </a:moveTo>
                  <a:cubicBezTo>
                    <a:pt x="434" y="1110"/>
                    <a:pt x="432" y="1105"/>
                    <a:pt x="429" y="1104"/>
                  </a:cubicBezTo>
                  <a:cubicBezTo>
                    <a:pt x="426" y="1102"/>
                    <a:pt x="420" y="1102"/>
                    <a:pt x="416" y="1102"/>
                  </a:cubicBezTo>
                  <a:cubicBezTo>
                    <a:pt x="415" y="1102"/>
                    <a:pt x="414" y="1105"/>
                    <a:pt x="414" y="1106"/>
                  </a:cubicBezTo>
                  <a:cubicBezTo>
                    <a:pt x="418" y="1108"/>
                    <a:pt x="421" y="1112"/>
                    <a:pt x="425" y="1113"/>
                  </a:cubicBezTo>
                  <a:cubicBezTo>
                    <a:pt x="429" y="1114"/>
                    <a:pt x="433" y="1113"/>
                    <a:pt x="437" y="1112"/>
                  </a:cubicBezTo>
                  <a:cubicBezTo>
                    <a:pt x="426" y="1126"/>
                    <a:pt x="415" y="1140"/>
                    <a:pt x="404" y="1154"/>
                  </a:cubicBezTo>
                  <a:cubicBezTo>
                    <a:pt x="391" y="1145"/>
                    <a:pt x="378" y="1137"/>
                    <a:pt x="365" y="1128"/>
                  </a:cubicBezTo>
                  <a:cubicBezTo>
                    <a:pt x="368" y="1158"/>
                    <a:pt x="391" y="1146"/>
                    <a:pt x="405" y="1153"/>
                  </a:cubicBezTo>
                  <a:cubicBezTo>
                    <a:pt x="402" y="1170"/>
                    <a:pt x="400" y="1187"/>
                    <a:pt x="397" y="1206"/>
                  </a:cubicBezTo>
                  <a:cubicBezTo>
                    <a:pt x="389" y="1203"/>
                    <a:pt x="386" y="1201"/>
                    <a:pt x="382" y="1200"/>
                  </a:cubicBezTo>
                  <a:cubicBezTo>
                    <a:pt x="379" y="1199"/>
                    <a:pt x="375" y="1200"/>
                    <a:pt x="371" y="1200"/>
                  </a:cubicBezTo>
                  <a:cubicBezTo>
                    <a:pt x="383" y="1257"/>
                    <a:pt x="383" y="1257"/>
                    <a:pt x="443" y="1260"/>
                  </a:cubicBezTo>
                  <a:cubicBezTo>
                    <a:pt x="443" y="1222"/>
                    <a:pt x="498" y="1203"/>
                    <a:pt x="482" y="1156"/>
                  </a:cubicBezTo>
                  <a:cubicBezTo>
                    <a:pt x="463" y="1165"/>
                    <a:pt x="448" y="1172"/>
                    <a:pt x="433" y="1179"/>
                  </a:cubicBezTo>
                  <a:cubicBezTo>
                    <a:pt x="431" y="1165"/>
                    <a:pt x="433" y="1156"/>
                    <a:pt x="438" y="1150"/>
                  </a:cubicBezTo>
                  <a:cubicBezTo>
                    <a:pt x="447" y="1136"/>
                    <a:pt x="445" y="1125"/>
                    <a:pt x="436" y="1113"/>
                  </a:cubicBezTo>
                  <a:close/>
                  <a:moveTo>
                    <a:pt x="3169" y="3610"/>
                  </a:moveTo>
                  <a:cubicBezTo>
                    <a:pt x="3183" y="3630"/>
                    <a:pt x="3190" y="3658"/>
                    <a:pt x="3225" y="3652"/>
                  </a:cubicBezTo>
                  <a:cubicBezTo>
                    <a:pt x="3205" y="3640"/>
                    <a:pt x="3198" y="3610"/>
                    <a:pt x="3168" y="3611"/>
                  </a:cubicBezTo>
                  <a:cubicBezTo>
                    <a:pt x="3134" y="3582"/>
                    <a:pt x="3098" y="3556"/>
                    <a:pt x="3066" y="3524"/>
                  </a:cubicBezTo>
                  <a:cubicBezTo>
                    <a:pt x="2981" y="3439"/>
                    <a:pt x="2898" y="3353"/>
                    <a:pt x="2813" y="3267"/>
                  </a:cubicBezTo>
                  <a:cubicBezTo>
                    <a:pt x="2808" y="3262"/>
                    <a:pt x="2800" y="3262"/>
                    <a:pt x="2793" y="3259"/>
                  </a:cubicBezTo>
                  <a:cubicBezTo>
                    <a:pt x="2791" y="3250"/>
                    <a:pt x="2791" y="3240"/>
                    <a:pt x="2786" y="3233"/>
                  </a:cubicBezTo>
                  <a:cubicBezTo>
                    <a:pt x="2770" y="3212"/>
                    <a:pt x="2753" y="3191"/>
                    <a:pt x="2735" y="3171"/>
                  </a:cubicBezTo>
                  <a:cubicBezTo>
                    <a:pt x="2719" y="3154"/>
                    <a:pt x="2702" y="3138"/>
                    <a:pt x="2698" y="3112"/>
                  </a:cubicBezTo>
                  <a:cubicBezTo>
                    <a:pt x="2697" y="3105"/>
                    <a:pt x="2693" y="3095"/>
                    <a:pt x="2687" y="3092"/>
                  </a:cubicBezTo>
                  <a:cubicBezTo>
                    <a:pt x="2655" y="3072"/>
                    <a:pt x="2646" y="3037"/>
                    <a:pt x="2628" y="3009"/>
                  </a:cubicBezTo>
                  <a:cubicBezTo>
                    <a:pt x="2608" y="2978"/>
                    <a:pt x="2595" y="2943"/>
                    <a:pt x="2577" y="2910"/>
                  </a:cubicBezTo>
                  <a:cubicBezTo>
                    <a:pt x="2567" y="2892"/>
                    <a:pt x="2556" y="2873"/>
                    <a:pt x="2530" y="2874"/>
                  </a:cubicBezTo>
                  <a:cubicBezTo>
                    <a:pt x="2522" y="2868"/>
                    <a:pt x="2514" y="2859"/>
                    <a:pt x="2505" y="2858"/>
                  </a:cubicBezTo>
                  <a:cubicBezTo>
                    <a:pt x="2479" y="2854"/>
                    <a:pt x="2452" y="2852"/>
                    <a:pt x="2426" y="2850"/>
                  </a:cubicBezTo>
                  <a:cubicBezTo>
                    <a:pt x="2377" y="2847"/>
                    <a:pt x="2328" y="2845"/>
                    <a:pt x="2279" y="2841"/>
                  </a:cubicBezTo>
                  <a:cubicBezTo>
                    <a:pt x="2245" y="2839"/>
                    <a:pt x="2238" y="2829"/>
                    <a:pt x="2236" y="2797"/>
                  </a:cubicBezTo>
                  <a:cubicBezTo>
                    <a:pt x="2235" y="2785"/>
                    <a:pt x="2231" y="2772"/>
                    <a:pt x="2233" y="2761"/>
                  </a:cubicBezTo>
                  <a:cubicBezTo>
                    <a:pt x="2236" y="2740"/>
                    <a:pt x="2240" y="2719"/>
                    <a:pt x="2249" y="2701"/>
                  </a:cubicBezTo>
                  <a:cubicBezTo>
                    <a:pt x="2254" y="2692"/>
                    <a:pt x="2272" y="2692"/>
                    <a:pt x="2284" y="2686"/>
                  </a:cubicBezTo>
                  <a:cubicBezTo>
                    <a:pt x="2306" y="2675"/>
                    <a:pt x="2329" y="2678"/>
                    <a:pt x="2353" y="2679"/>
                  </a:cubicBezTo>
                  <a:cubicBezTo>
                    <a:pt x="2397" y="2682"/>
                    <a:pt x="2441" y="2680"/>
                    <a:pt x="2485" y="2679"/>
                  </a:cubicBezTo>
                  <a:cubicBezTo>
                    <a:pt x="2539" y="2677"/>
                    <a:pt x="2593" y="2674"/>
                    <a:pt x="2648" y="2674"/>
                  </a:cubicBezTo>
                  <a:cubicBezTo>
                    <a:pt x="2659" y="2674"/>
                    <a:pt x="2671" y="2683"/>
                    <a:pt x="2682" y="2690"/>
                  </a:cubicBezTo>
                  <a:cubicBezTo>
                    <a:pt x="2708" y="2707"/>
                    <a:pt x="2710" y="2739"/>
                    <a:pt x="2725" y="2765"/>
                  </a:cubicBezTo>
                  <a:cubicBezTo>
                    <a:pt x="2743" y="2796"/>
                    <a:pt x="2757" y="2830"/>
                    <a:pt x="2774" y="2863"/>
                  </a:cubicBezTo>
                  <a:cubicBezTo>
                    <a:pt x="2780" y="2877"/>
                    <a:pt x="2790" y="2884"/>
                    <a:pt x="2806" y="2879"/>
                  </a:cubicBezTo>
                  <a:cubicBezTo>
                    <a:pt x="2796" y="2893"/>
                    <a:pt x="2797" y="2905"/>
                    <a:pt x="2806" y="2919"/>
                  </a:cubicBezTo>
                  <a:cubicBezTo>
                    <a:pt x="2825" y="2948"/>
                    <a:pt x="2842" y="2978"/>
                    <a:pt x="2861" y="3007"/>
                  </a:cubicBezTo>
                  <a:cubicBezTo>
                    <a:pt x="2896" y="3061"/>
                    <a:pt x="2928" y="3118"/>
                    <a:pt x="2969" y="3168"/>
                  </a:cubicBezTo>
                  <a:cubicBezTo>
                    <a:pt x="3022" y="3233"/>
                    <a:pt x="3079" y="3294"/>
                    <a:pt x="3139" y="3352"/>
                  </a:cubicBezTo>
                  <a:cubicBezTo>
                    <a:pt x="3186" y="3399"/>
                    <a:pt x="3238" y="3441"/>
                    <a:pt x="3288" y="3484"/>
                  </a:cubicBezTo>
                  <a:cubicBezTo>
                    <a:pt x="3301" y="3495"/>
                    <a:pt x="3316" y="3501"/>
                    <a:pt x="3336" y="3496"/>
                  </a:cubicBezTo>
                  <a:cubicBezTo>
                    <a:pt x="3281" y="3448"/>
                    <a:pt x="3230" y="3403"/>
                    <a:pt x="3179" y="3357"/>
                  </a:cubicBezTo>
                  <a:cubicBezTo>
                    <a:pt x="3149" y="3330"/>
                    <a:pt x="3119" y="3303"/>
                    <a:pt x="3090" y="3274"/>
                  </a:cubicBezTo>
                  <a:cubicBezTo>
                    <a:pt x="3062" y="3246"/>
                    <a:pt x="3035" y="3216"/>
                    <a:pt x="3009" y="3187"/>
                  </a:cubicBezTo>
                  <a:cubicBezTo>
                    <a:pt x="2984" y="3159"/>
                    <a:pt x="2956" y="3133"/>
                    <a:pt x="2936" y="3102"/>
                  </a:cubicBezTo>
                  <a:cubicBezTo>
                    <a:pt x="2895" y="3034"/>
                    <a:pt x="2847" y="2970"/>
                    <a:pt x="2816" y="2896"/>
                  </a:cubicBezTo>
                  <a:cubicBezTo>
                    <a:pt x="2814" y="2890"/>
                    <a:pt x="2809" y="2885"/>
                    <a:pt x="2805" y="2880"/>
                  </a:cubicBezTo>
                  <a:cubicBezTo>
                    <a:pt x="2792" y="2850"/>
                    <a:pt x="2779" y="2819"/>
                    <a:pt x="2765" y="2790"/>
                  </a:cubicBezTo>
                  <a:cubicBezTo>
                    <a:pt x="2755" y="2768"/>
                    <a:pt x="2740" y="2748"/>
                    <a:pt x="2731" y="2727"/>
                  </a:cubicBezTo>
                  <a:cubicBezTo>
                    <a:pt x="2712" y="2682"/>
                    <a:pt x="2686" y="2649"/>
                    <a:pt x="2633" y="2648"/>
                  </a:cubicBezTo>
                  <a:cubicBezTo>
                    <a:pt x="2613" y="2648"/>
                    <a:pt x="2586" y="2642"/>
                    <a:pt x="2575" y="2652"/>
                  </a:cubicBezTo>
                  <a:cubicBezTo>
                    <a:pt x="2556" y="2670"/>
                    <a:pt x="2544" y="2662"/>
                    <a:pt x="2526" y="2655"/>
                  </a:cubicBezTo>
                  <a:cubicBezTo>
                    <a:pt x="2534" y="2652"/>
                    <a:pt x="2540" y="2649"/>
                    <a:pt x="2546" y="2647"/>
                  </a:cubicBezTo>
                  <a:cubicBezTo>
                    <a:pt x="2509" y="2642"/>
                    <a:pt x="2474" y="2623"/>
                    <a:pt x="2438" y="2639"/>
                  </a:cubicBezTo>
                  <a:cubicBezTo>
                    <a:pt x="2436" y="2640"/>
                    <a:pt x="2435" y="2639"/>
                    <a:pt x="2434" y="2640"/>
                  </a:cubicBezTo>
                  <a:cubicBezTo>
                    <a:pt x="2380" y="2649"/>
                    <a:pt x="2325" y="2646"/>
                    <a:pt x="2271" y="2644"/>
                  </a:cubicBezTo>
                  <a:cubicBezTo>
                    <a:pt x="2250" y="2644"/>
                    <a:pt x="2242" y="2632"/>
                    <a:pt x="2239" y="2616"/>
                  </a:cubicBezTo>
                  <a:cubicBezTo>
                    <a:pt x="2232" y="2568"/>
                    <a:pt x="2231" y="2521"/>
                    <a:pt x="2259" y="2479"/>
                  </a:cubicBezTo>
                  <a:cubicBezTo>
                    <a:pt x="2297" y="2479"/>
                    <a:pt x="2332" y="2479"/>
                    <a:pt x="2368" y="2479"/>
                  </a:cubicBezTo>
                  <a:cubicBezTo>
                    <a:pt x="2374" y="2479"/>
                    <a:pt x="2381" y="2480"/>
                    <a:pt x="2388" y="2479"/>
                  </a:cubicBezTo>
                  <a:cubicBezTo>
                    <a:pt x="2430" y="2473"/>
                    <a:pt x="2471" y="2467"/>
                    <a:pt x="2514" y="2479"/>
                  </a:cubicBezTo>
                  <a:cubicBezTo>
                    <a:pt x="2527" y="2482"/>
                    <a:pt x="2542" y="2478"/>
                    <a:pt x="2557" y="2475"/>
                  </a:cubicBezTo>
                  <a:cubicBezTo>
                    <a:pt x="2572" y="2473"/>
                    <a:pt x="2588" y="2464"/>
                    <a:pt x="2603" y="2465"/>
                  </a:cubicBezTo>
                  <a:cubicBezTo>
                    <a:pt x="2631" y="2469"/>
                    <a:pt x="2656" y="2457"/>
                    <a:pt x="2682" y="2450"/>
                  </a:cubicBezTo>
                  <a:cubicBezTo>
                    <a:pt x="2716" y="2441"/>
                    <a:pt x="2725" y="2431"/>
                    <a:pt x="2728" y="2396"/>
                  </a:cubicBezTo>
                  <a:cubicBezTo>
                    <a:pt x="2729" y="2380"/>
                    <a:pt x="2731" y="2364"/>
                    <a:pt x="2734" y="2348"/>
                  </a:cubicBezTo>
                  <a:cubicBezTo>
                    <a:pt x="2742" y="2306"/>
                    <a:pt x="2763" y="2289"/>
                    <a:pt x="2807" y="2289"/>
                  </a:cubicBezTo>
                  <a:cubicBezTo>
                    <a:pt x="2821" y="2289"/>
                    <a:pt x="2836" y="2287"/>
                    <a:pt x="2850" y="2285"/>
                  </a:cubicBezTo>
                  <a:cubicBezTo>
                    <a:pt x="2865" y="2282"/>
                    <a:pt x="2880" y="2278"/>
                    <a:pt x="2896" y="2275"/>
                  </a:cubicBezTo>
                  <a:cubicBezTo>
                    <a:pt x="2909" y="2273"/>
                    <a:pt x="2927" y="2264"/>
                    <a:pt x="2935" y="2270"/>
                  </a:cubicBezTo>
                  <a:cubicBezTo>
                    <a:pt x="2958" y="2286"/>
                    <a:pt x="2983" y="2275"/>
                    <a:pt x="3006" y="2281"/>
                  </a:cubicBezTo>
                  <a:cubicBezTo>
                    <a:pt x="3019" y="2285"/>
                    <a:pt x="3035" y="2287"/>
                    <a:pt x="3045" y="2282"/>
                  </a:cubicBezTo>
                  <a:cubicBezTo>
                    <a:pt x="3068" y="2269"/>
                    <a:pt x="3088" y="2276"/>
                    <a:pt x="3109" y="2284"/>
                  </a:cubicBezTo>
                  <a:cubicBezTo>
                    <a:pt x="3119" y="2288"/>
                    <a:pt x="3132" y="2288"/>
                    <a:pt x="3143" y="2288"/>
                  </a:cubicBezTo>
                  <a:cubicBezTo>
                    <a:pt x="3151" y="2288"/>
                    <a:pt x="3159" y="2284"/>
                    <a:pt x="3167" y="2285"/>
                  </a:cubicBezTo>
                  <a:cubicBezTo>
                    <a:pt x="3209" y="2292"/>
                    <a:pt x="3251" y="2296"/>
                    <a:pt x="3293" y="2297"/>
                  </a:cubicBezTo>
                  <a:cubicBezTo>
                    <a:pt x="3342" y="2299"/>
                    <a:pt x="3391" y="2304"/>
                    <a:pt x="3440" y="2308"/>
                  </a:cubicBezTo>
                  <a:cubicBezTo>
                    <a:pt x="3461" y="2310"/>
                    <a:pt x="3474" y="2301"/>
                    <a:pt x="3483" y="2288"/>
                  </a:cubicBezTo>
                  <a:cubicBezTo>
                    <a:pt x="3441" y="2288"/>
                    <a:pt x="3399" y="2291"/>
                    <a:pt x="3358" y="2288"/>
                  </a:cubicBezTo>
                  <a:cubicBezTo>
                    <a:pt x="3275" y="2282"/>
                    <a:pt x="3192" y="2272"/>
                    <a:pt x="3110" y="2264"/>
                  </a:cubicBezTo>
                  <a:cubicBezTo>
                    <a:pt x="3058" y="2260"/>
                    <a:pt x="3006" y="2258"/>
                    <a:pt x="2955" y="2256"/>
                  </a:cubicBezTo>
                  <a:cubicBezTo>
                    <a:pt x="2926" y="2255"/>
                    <a:pt x="2897" y="2257"/>
                    <a:pt x="2868" y="2257"/>
                  </a:cubicBezTo>
                  <a:cubicBezTo>
                    <a:pt x="2833" y="2256"/>
                    <a:pt x="2797" y="2255"/>
                    <a:pt x="2761" y="2251"/>
                  </a:cubicBezTo>
                  <a:cubicBezTo>
                    <a:pt x="2753" y="2250"/>
                    <a:pt x="2741" y="2241"/>
                    <a:pt x="2739" y="2233"/>
                  </a:cubicBezTo>
                  <a:cubicBezTo>
                    <a:pt x="2733" y="2210"/>
                    <a:pt x="2728" y="2186"/>
                    <a:pt x="2729" y="2162"/>
                  </a:cubicBezTo>
                  <a:cubicBezTo>
                    <a:pt x="2731" y="2095"/>
                    <a:pt x="2698" y="2054"/>
                    <a:pt x="2630" y="2048"/>
                  </a:cubicBezTo>
                  <a:cubicBezTo>
                    <a:pt x="2587" y="2045"/>
                    <a:pt x="2543" y="2048"/>
                    <a:pt x="2499" y="2048"/>
                  </a:cubicBezTo>
                  <a:cubicBezTo>
                    <a:pt x="2476" y="2047"/>
                    <a:pt x="2454" y="2043"/>
                    <a:pt x="2432" y="2043"/>
                  </a:cubicBezTo>
                  <a:cubicBezTo>
                    <a:pt x="2387" y="2045"/>
                    <a:pt x="2342" y="2050"/>
                    <a:pt x="2297" y="2053"/>
                  </a:cubicBezTo>
                  <a:cubicBezTo>
                    <a:pt x="2257" y="2055"/>
                    <a:pt x="2249" y="2047"/>
                    <a:pt x="2244" y="2007"/>
                  </a:cubicBezTo>
                  <a:cubicBezTo>
                    <a:pt x="2243" y="1995"/>
                    <a:pt x="2248" y="1980"/>
                    <a:pt x="2232" y="1968"/>
                  </a:cubicBezTo>
                  <a:cubicBezTo>
                    <a:pt x="2220" y="2012"/>
                    <a:pt x="2231" y="2046"/>
                    <a:pt x="2258" y="2075"/>
                  </a:cubicBezTo>
                  <a:cubicBezTo>
                    <a:pt x="2247" y="2094"/>
                    <a:pt x="2240" y="2112"/>
                    <a:pt x="2229" y="2129"/>
                  </a:cubicBezTo>
                  <a:cubicBezTo>
                    <a:pt x="2218" y="2145"/>
                    <a:pt x="2201" y="2157"/>
                    <a:pt x="2209" y="2181"/>
                  </a:cubicBezTo>
                  <a:cubicBezTo>
                    <a:pt x="2215" y="2181"/>
                    <a:pt x="2221" y="2181"/>
                    <a:pt x="2228" y="2182"/>
                  </a:cubicBezTo>
                  <a:cubicBezTo>
                    <a:pt x="2233" y="2221"/>
                    <a:pt x="2233" y="2263"/>
                    <a:pt x="2270" y="2291"/>
                  </a:cubicBezTo>
                  <a:cubicBezTo>
                    <a:pt x="2291" y="2289"/>
                    <a:pt x="2313" y="2284"/>
                    <a:pt x="2336" y="2285"/>
                  </a:cubicBezTo>
                  <a:cubicBezTo>
                    <a:pt x="2381" y="2288"/>
                    <a:pt x="2425" y="2293"/>
                    <a:pt x="2470" y="2285"/>
                  </a:cubicBezTo>
                  <a:cubicBezTo>
                    <a:pt x="2494" y="2280"/>
                    <a:pt x="2520" y="2283"/>
                    <a:pt x="2545" y="2287"/>
                  </a:cubicBezTo>
                  <a:cubicBezTo>
                    <a:pt x="2563" y="2289"/>
                    <a:pt x="2560" y="2276"/>
                    <a:pt x="2565" y="2268"/>
                  </a:cubicBezTo>
                  <a:cubicBezTo>
                    <a:pt x="2602" y="2268"/>
                    <a:pt x="2638" y="2268"/>
                    <a:pt x="2678" y="2268"/>
                  </a:cubicBezTo>
                  <a:cubicBezTo>
                    <a:pt x="2684" y="2278"/>
                    <a:pt x="2693" y="2291"/>
                    <a:pt x="2702" y="2305"/>
                  </a:cubicBezTo>
                  <a:cubicBezTo>
                    <a:pt x="2702" y="2304"/>
                    <a:pt x="2702" y="2304"/>
                    <a:pt x="2702" y="2304"/>
                  </a:cubicBezTo>
                  <a:cubicBezTo>
                    <a:pt x="2702" y="2326"/>
                    <a:pt x="2702" y="2349"/>
                    <a:pt x="2703" y="2371"/>
                  </a:cubicBezTo>
                  <a:cubicBezTo>
                    <a:pt x="2704" y="2404"/>
                    <a:pt x="2687" y="2432"/>
                    <a:pt x="2656" y="2440"/>
                  </a:cubicBezTo>
                  <a:cubicBezTo>
                    <a:pt x="2639" y="2445"/>
                    <a:pt x="2619" y="2448"/>
                    <a:pt x="2601" y="2447"/>
                  </a:cubicBezTo>
                  <a:cubicBezTo>
                    <a:pt x="2511" y="2440"/>
                    <a:pt x="2422" y="2438"/>
                    <a:pt x="2332" y="2446"/>
                  </a:cubicBezTo>
                  <a:cubicBezTo>
                    <a:pt x="2305" y="2448"/>
                    <a:pt x="2278" y="2452"/>
                    <a:pt x="2253" y="2437"/>
                  </a:cubicBezTo>
                  <a:cubicBezTo>
                    <a:pt x="2250" y="2435"/>
                    <a:pt x="2245" y="2436"/>
                    <a:pt x="2241" y="2436"/>
                  </a:cubicBezTo>
                  <a:cubicBezTo>
                    <a:pt x="2240" y="2403"/>
                    <a:pt x="2240" y="2403"/>
                    <a:pt x="2212" y="2402"/>
                  </a:cubicBezTo>
                  <a:cubicBezTo>
                    <a:pt x="2222" y="2414"/>
                    <a:pt x="2232" y="2424"/>
                    <a:pt x="2242" y="2435"/>
                  </a:cubicBezTo>
                  <a:cubicBezTo>
                    <a:pt x="2236" y="2462"/>
                    <a:pt x="2230" y="2488"/>
                    <a:pt x="2217" y="2514"/>
                  </a:cubicBezTo>
                  <a:cubicBezTo>
                    <a:pt x="2206" y="2536"/>
                    <a:pt x="2200" y="2563"/>
                    <a:pt x="2213" y="2590"/>
                  </a:cubicBezTo>
                  <a:cubicBezTo>
                    <a:pt x="2221" y="2607"/>
                    <a:pt x="2224" y="2626"/>
                    <a:pt x="2230" y="2643"/>
                  </a:cubicBezTo>
                  <a:cubicBezTo>
                    <a:pt x="2243" y="2680"/>
                    <a:pt x="2241" y="2687"/>
                    <a:pt x="2209" y="2704"/>
                  </a:cubicBezTo>
                  <a:cubicBezTo>
                    <a:pt x="2211" y="2724"/>
                    <a:pt x="2219" y="2746"/>
                    <a:pt x="2213" y="2762"/>
                  </a:cubicBezTo>
                  <a:cubicBezTo>
                    <a:pt x="2201" y="2796"/>
                    <a:pt x="2220" y="2820"/>
                    <a:pt x="2230" y="2848"/>
                  </a:cubicBezTo>
                  <a:cubicBezTo>
                    <a:pt x="2233" y="2855"/>
                    <a:pt x="2238" y="2861"/>
                    <a:pt x="2244" y="2870"/>
                  </a:cubicBezTo>
                  <a:cubicBezTo>
                    <a:pt x="2228" y="2882"/>
                    <a:pt x="2215" y="2893"/>
                    <a:pt x="2199" y="2905"/>
                  </a:cubicBezTo>
                  <a:cubicBezTo>
                    <a:pt x="2207" y="2910"/>
                    <a:pt x="2213" y="2914"/>
                    <a:pt x="2215" y="2916"/>
                  </a:cubicBezTo>
                  <a:cubicBezTo>
                    <a:pt x="2212" y="2940"/>
                    <a:pt x="2202" y="2962"/>
                    <a:pt x="2207" y="2981"/>
                  </a:cubicBezTo>
                  <a:cubicBezTo>
                    <a:pt x="2212" y="3001"/>
                    <a:pt x="2212" y="3018"/>
                    <a:pt x="2206" y="3041"/>
                  </a:cubicBezTo>
                  <a:cubicBezTo>
                    <a:pt x="2177" y="3048"/>
                    <a:pt x="2148" y="3058"/>
                    <a:pt x="2118" y="3062"/>
                  </a:cubicBezTo>
                  <a:cubicBezTo>
                    <a:pt x="2048" y="3071"/>
                    <a:pt x="2047" y="3069"/>
                    <a:pt x="2034" y="3083"/>
                  </a:cubicBezTo>
                  <a:cubicBezTo>
                    <a:pt x="2088" y="3083"/>
                    <a:pt x="2140" y="3083"/>
                    <a:pt x="2187" y="3083"/>
                  </a:cubicBezTo>
                  <a:cubicBezTo>
                    <a:pt x="2197" y="3100"/>
                    <a:pt x="2204" y="3111"/>
                    <a:pt x="2211" y="3123"/>
                  </a:cubicBezTo>
                  <a:cubicBezTo>
                    <a:pt x="2213" y="3172"/>
                    <a:pt x="2191" y="3221"/>
                    <a:pt x="2207" y="3271"/>
                  </a:cubicBezTo>
                  <a:cubicBezTo>
                    <a:pt x="2216" y="3275"/>
                    <a:pt x="2224" y="3279"/>
                    <a:pt x="2233" y="3283"/>
                  </a:cubicBezTo>
                  <a:cubicBezTo>
                    <a:pt x="2211" y="3285"/>
                    <a:pt x="2189" y="3288"/>
                    <a:pt x="2159" y="3291"/>
                  </a:cubicBezTo>
                  <a:cubicBezTo>
                    <a:pt x="2207" y="3306"/>
                    <a:pt x="2213" y="3316"/>
                    <a:pt x="2210" y="3356"/>
                  </a:cubicBezTo>
                  <a:cubicBezTo>
                    <a:pt x="2207" y="3385"/>
                    <a:pt x="2205" y="3413"/>
                    <a:pt x="2212" y="3443"/>
                  </a:cubicBezTo>
                  <a:cubicBezTo>
                    <a:pt x="2219" y="3472"/>
                    <a:pt x="2215" y="3503"/>
                    <a:pt x="2216" y="3533"/>
                  </a:cubicBezTo>
                  <a:cubicBezTo>
                    <a:pt x="2216" y="3533"/>
                    <a:pt x="2218" y="3534"/>
                    <a:pt x="2221" y="3535"/>
                  </a:cubicBezTo>
                  <a:cubicBezTo>
                    <a:pt x="2233" y="3462"/>
                    <a:pt x="2221" y="3386"/>
                    <a:pt x="2241" y="3313"/>
                  </a:cubicBezTo>
                  <a:cubicBezTo>
                    <a:pt x="2250" y="3314"/>
                    <a:pt x="2261" y="3319"/>
                    <a:pt x="2267" y="3316"/>
                  </a:cubicBezTo>
                  <a:cubicBezTo>
                    <a:pt x="2287" y="3304"/>
                    <a:pt x="2297" y="3312"/>
                    <a:pt x="2310" y="3328"/>
                  </a:cubicBezTo>
                  <a:cubicBezTo>
                    <a:pt x="2330" y="3355"/>
                    <a:pt x="2354" y="3379"/>
                    <a:pt x="2377" y="3405"/>
                  </a:cubicBezTo>
                  <a:cubicBezTo>
                    <a:pt x="2390" y="3420"/>
                    <a:pt x="2402" y="3435"/>
                    <a:pt x="2415" y="3450"/>
                  </a:cubicBezTo>
                  <a:cubicBezTo>
                    <a:pt x="2458" y="3504"/>
                    <a:pt x="2501" y="3558"/>
                    <a:pt x="2544" y="3612"/>
                  </a:cubicBezTo>
                  <a:cubicBezTo>
                    <a:pt x="2549" y="3617"/>
                    <a:pt x="2558" y="3620"/>
                    <a:pt x="2564" y="3624"/>
                  </a:cubicBezTo>
                  <a:cubicBezTo>
                    <a:pt x="2564" y="3628"/>
                    <a:pt x="2563" y="3633"/>
                    <a:pt x="2565" y="3635"/>
                  </a:cubicBezTo>
                  <a:cubicBezTo>
                    <a:pt x="2587" y="3663"/>
                    <a:pt x="2610" y="3691"/>
                    <a:pt x="2633" y="3718"/>
                  </a:cubicBezTo>
                  <a:cubicBezTo>
                    <a:pt x="2635" y="3721"/>
                    <a:pt x="2644" y="3719"/>
                    <a:pt x="2651" y="3720"/>
                  </a:cubicBezTo>
                  <a:cubicBezTo>
                    <a:pt x="2630" y="3677"/>
                    <a:pt x="2595" y="3652"/>
                    <a:pt x="2563" y="3625"/>
                  </a:cubicBezTo>
                  <a:cubicBezTo>
                    <a:pt x="2562" y="3618"/>
                    <a:pt x="2562" y="3611"/>
                    <a:pt x="2558" y="3606"/>
                  </a:cubicBezTo>
                  <a:cubicBezTo>
                    <a:pt x="2542" y="3583"/>
                    <a:pt x="2525" y="3562"/>
                    <a:pt x="2507" y="3540"/>
                  </a:cubicBezTo>
                  <a:cubicBezTo>
                    <a:pt x="2503" y="3535"/>
                    <a:pt x="2498" y="3530"/>
                    <a:pt x="2493" y="3528"/>
                  </a:cubicBezTo>
                  <a:cubicBezTo>
                    <a:pt x="2476" y="3520"/>
                    <a:pt x="2467" y="3506"/>
                    <a:pt x="2460" y="3490"/>
                  </a:cubicBezTo>
                  <a:cubicBezTo>
                    <a:pt x="2454" y="3476"/>
                    <a:pt x="2446" y="3464"/>
                    <a:pt x="2437" y="3453"/>
                  </a:cubicBezTo>
                  <a:cubicBezTo>
                    <a:pt x="2401" y="3407"/>
                    <a:pt x="2365" y="3362"/>
                    <a:pt x="2328" y="3317"/>
                  </a:cubicBezTo>
                  <a:cubicBezTo>
                    <a:pt x="2319" y="3306"/>
                    <a:pt x="2307" y="3296"/>
                    <a:pt x="2294" y="3292"/>
                  </a:cubicBezTo>
                  <a:cubicBezTo>
                    <a:pt x="2274" y="3286"/>
                    <a:pt x="2252" y="3286"/>
                    <a:pt x="2231" y="3283"/>
                  </a:cubicBezTo>
                  <a:cubicBezTo>
                    <a:pt x="2232" y="3274"/>
                    <a:pt x="2234" y="3264"/>
                    <a:pt x="2232" y="3256"/>
                  </a:cubicBezTo>
                  <a:cubicBezTo>
                    <a:pt x="2221" y="3203"/>
                    <a:pt x="2224" y="3151"/>
                    <a:pt x="2243" y="3099"/>
                  </a:cubicBezTo>
                  <a:cubicBezTo>
                    <a:pt x="2219" y="3095"/>
                    <a:pt x="2218" y="3113"/>
                    <a:pt x="2210" y="3124"/>
                  </a:cubicBezTo>
                  <a:cubicBezTo>
                    <a:pt x="2213" y="3106"/>
                    <a:pt x="2214" y="3088"/>
                    <a:pt x="2235" y="3078"/>
                  </a:cubicBezTo>
                  <a:cubicBezTo>
                    <a:pt x="2243" y="3074"/>
                    <a:pt x="2246" y="3062"/>
                    <a:pt x="2252" y="3053"/>
                  </a:cubicBezTo>
                  <a:cubicBezTo>
                    <a:pt x="2252" y="3055"/>
                    <a:pt x="2252" y="3055"/>
                    <a:pt x="2252" y="3055"/>
                  </a:cubicBezTo>
                  <a:cubicBezTo>
                    <a:pt x="2220" y="3012"/>
                    <a:pt x="2231" y="2964"/>
                    <a:pt x="2237" y="2918"/>
                  </a:cubicBezTo>
                  <a:cubicBezTo>
                    <a:pt x="2241" y="2895"/>
                    <a:pt x="2261" y="2882"/>
                    <a:pt x="2288" y="2882"/>
                  </a:cubicBezTo>
                  <a:cubicBezTo>
                    <a:pt x="2314" y="2882"/>
                    <a:pt x="2340" y="2877"/>
                    <a:pt x="2366" y="2875"/>
                  </a:cubicBezTo>
                  <a:cubicBezTo>
                    <a:pt x="2391" y="2873"/>
                    <a:pt x="2418" y="2865"/>
                    <a:pt x="2441" y="2871"/>
                  </a:cubicBezTo>
                  <a:cubicBezTo>
                    <a:pt x="2472" y="2880"/>
                    <a:pt x="2501" y="2886"/>
                    <a:pt x="2531" y="2873"/>
                  </a:cubicBezTo>
                  <a:cubicBezTo>
                    <a:pt x="2533" y="2881"/>
                    <a:pt x="2532" y="2890"/>
                    <a:pt x="2536" y="2896"/>
                  </a:cubicBezTo>
                  <a:cubicBezTo>
                    <a:pt x="2568" y="2947"/>
                    <a:pt x="2601" y="2997"/>
                    <a:pt x="2633" y="3048"/>
                  </a:cubicBezTo>
                  <a:cubicBezTo>
                    <a:pt x="2656" y="3083"/>
                    <a:pt x="2677" y="3120"/>
                    <a:pt x="2701" y="3154"/>
                  </a:cubicBezTo>
                  <a:cubicBezTo>
                    <a:pt x="2724" y="3186"/>
                    <a:pt x="2748" y="3217"/>
                    <a:pt x="2773" y="3247"/>
                  </a:cubicBezTo>
                  <a:cubicBezTo>
                    <a:pt x="2778" y="3253"/>
                    <a:pt x="2787" y="3254"/>
                    <a:pt x="2794" y="3258"/>
                  </a:cubicBezTo>
                  <a:cubicBezTo>
                    <a:pt x="2827" y="3318"/>
                    <a:pt x="2885" y="3357"/>
                    <a:pt x="2927" y="3409"/>
                  </a:cubicBezTo>
                  <a:cubicBezTo>
                    <a:pt x="2945" y="3432"/>
                    <a:pt x="2964" y="3453"/>
                    <a:pt x="2986" y="3473"/>
                  </a:cubicBezTo>
                  <a:cubicBezTo>
                    <a:pt x="3028" y="3512"/>
                    <a:pt x="3074" y="3548"/>
                    <a:pt x="3116" y="3588"/>
                  </a:cubicBezTo>
                  <a:cubicBezTo>
                    <a:pt x="3132" y="3602"/>
                    <a:pt x="3148" y="3610"/>
                    <a:pt x="3169" y="3610"/>
                  </a:cubicBezTo>
                  <a:close/>
                  <a:moveTo>
                    <a:pt x="308" y="2817"/>
                  </a:moveTo>
                  <a:cubicBezTo>
                    <a:pt x="309" y="2822"/>
                    <a:pt x="310" y="2826"/>
                    <a:pt x="311" y="2831"/>
                  </a:cubicBezTo>
                  <a:cubicBezTo>
                    <a:pt x="316" y="2828"/>
                    <a:pt x="321" y="2825"/>
                    <a:pt x="326" y="2822"/>
                  </a:cubicBezTo>
                  <a:cubicBezTo>
                    <a:pt x="325" y="2820"/>
                    <a:pt x="325" y="2818"/>
                    <a:pt x="324" y="2817"/>
                  </a:cubicBezTo>
                  <a:cubicBezTo>
                    <a:pt x="318" y="2817"/>
                    <a:pt x="312" y="2818"/>
                    <a:pt x="306" y="2818"/>
                  </a:cubicBezTo>
                  <a:cubicBezTo>
                    <a:pt x="308" y="2813"/>
                    <a:pt x="309" y="2808"/>
                    <a:pt x="312" y="2803"/>
                  </a:cubicBezTo>
                  <a:cubicBezTo>
                    <a:pt x="324" y="2782"/>
                    <a:pt x="325" y="2760"/>
                    <a:pt x="313" y="2739"/>
                  </a:cubicBezTo>
                  <a:cubicBezTo>
                    <a:pt x="301" y="2717"/>
                    <a:pt x="281" y="2728"/>
                    <a:pt x="263" y="2726"/>
                  </a:cubicBezTo>
                  <a:cubicBezTo>
                    <a:pt x="254" y="2724"/>
                    <a:pt x="245" y="2717"/>
                    <a:pt x="233" y="2712"/>
                  </a:cubicBezTo>
                  <a:cubicBezTo>
                    <a:pt x="243" y="2702"/>
                    <a:pt x="248" y="2697"/>
                    <a:pt x="254" y="2691"/>
                  </a:cubicBezTo>
                  <a:cubicBezTo>
                    <a:pt x="244" y="2687"/>
                    <a:pt x="234" y="2686"/>
                    <a:pt x="231" y="2690"/>
                  </a:cubicBezTo>
                  <a:cubicBezTo>
                    <a:pt x="214" y="2713"/>
                    <a:pt x="237" y="2729"/>
                    <a:pt x="242" y="2744"/>
                  </a:cubicBezTo>
                  <a:cubicBezTo>
                    <a:pt x="227" y="2793"/>
                    <a:pt x="204" y="2836"/>
                    <a:pt x="217" y="2892"/>
                  </a:cubicBezTo>
                  <a:cubicBezTo>
                    <a:pt x="231" y="2875"/>
                    <a:pt x="242" y="2859"/>
                    <a:pt x="264" y="2874"/>
                  </a:cubicBezTo>
                  <a:cubicBezTo>
                    <a:pt x="262" y="2889"/>
                    <a:pt x="261" y="2905"/>
                    <a:pt x="259" y="2921"/>
                  </a:cubicBezTo>
                  <a:cubicBezTo>
                    <a:pt x="262" y="2922"/>
                    <a:pt x="264" y="2924"/>
                    <a:pt x="267" y="2925"/>
                  </a:cubicBezTo>
                  <a:cubicBezTo>
                    <a:pt x="277" y="2916"/>
                    <a:pt x="286" y="2907"/>
                    <a:pt x="296" y="2899"/>
                  </a:cubicBezTo>
                  <a:cubicBezTo>
                    <a:pt x="290" y="2888"/>
                    <a:pt x="287" y="2880"/>
                    <a:pt x="284" y="2873"/>
                  </a:cubicBezTo>
                  <a:cubicBezTo>
                    <a:pt x="280" y="2866"/>
                    <a:pt x="276" y="2860"/>
                    <a:pt x="272" y="2853"/>
                  </a:cubicBezTo>
                  <a:cubicBezTo>
                    <a:pt x="260" y="2830"/>
                    <a:pt x="264" y="2817"/>
                    <a:pt x="289" y="2797"/>
                  </a:cubicBezTo>
                  <a:cubicBezTo>
                    <a:pt x="295" y="2803"/>
                    <a:pt x="302" y="2810"/>
                    <a:pt x="308" y="2817"/>
                  </a:cubicBezTo>
                  <a:close/>
                  <a:moveTo>
                    <a:pt x="857" y="3765"/>
                  </a:moveTo>
                  <a:cubicBezTo>
                    <a:pt x="866" y="3771"/>
                    <a:pt x="875" y="3776"/>
                    <a:pt x="883" y="3783"/>
                  </a:cubicBezTo>
                  <a:cubicBezTo>
                    <a:pt x="904" y="3803"/>
                    <a:pt x="940" y="3810"/>
                    <a:pt x="938" y="3850"/>
                  </a:cubicBezTo>
                  <a:cubicBezTo>
                    <a:pt x="938" y="3851"/>
                    <a:pt x="945" y="3853"/>
                    <a:pt x="950" y="3855"/>
                  </a:cubicBezTo>
                  <a:cubicBezTo>
                    <a:pt x="954" y="3847"/>
                    <a:pt x="959" y="3839"/>
                    <a:pt x="963" y="3831"/>
                  </a:cubicBezTo>
                  <a:cubicBezTo>
                    <a:pt x="970" y="3836"/>
                    <a:pt x="978" y="3840"/>
                    <a:pt x="987" y="3845"/>
                  </a:cubicBezTo>
                  <a:cubicBezTo>
                    <a:pt x="992" y="3828"/>
                    <a:pt x="987" y="3821"/>
                    <a:pt x="976" y="3813"/>
                  </a:cubicBezTo>
                  <a:cubicBezTo>
                    <a:pt x="959" y="3801"/>
                    <a:pt x="939" y="3790"/>
                    <a:pt x="931" y="3773"/>
                  </a:cubicBezTo>
                  <a:cubicBezTo>
                    <a:pt x="912" y="3737"/>
                    <a:pt x="879" y="3717"/>
                    <a:pt x="853" y="3689"/>
                  </a:cubicBezTo>
                  <a:cubicBezTo>
                    <a:pt x="843" y="3679"/>
                    <a:pt x="835" y="3672"/>
                    <a:pt x="818" y="3677"/>
                  </a:cubicBezTo>
                  <a:cubicBezTo>
                    <a:pt x="810" y="3679"/>
                    <a:pt x="794" y="3671"/>
                    <a:pt x="789" y="3663"/>
                  </a:cubicBezTo>
                  <a:cubicBezTo>
                    <a:pt x="784" y="3655"/>
                    <a:pt x="785" y="3644"/>
                    <a:pt x="773" y="3646"/>
                  </a:cubicBezTo>
                  <a:cubicBezTo>
                    <a:pt x="758" y="3649"/>
                    <a:pt x="756" y="3660"/>
                    <a:pt x="758" y="3670"/>
                  </a:cubicBezTo>
                  <a:cubicBezTo>
                    <a:pt x="771" y="3684"/>
                    <a:pt x="782" y="3695"/>
                    <a:pt x="792" y="3708"/>
                  </a:cubicBezTo>
                  <a:cubicBezTo>
                    <a:pt x="805" y="3724"/>
                    <a:pt x="816" y="3742"/>
                    <a:pt x="830" y="3757"/>
                  </a:cubicBezTo>
                  <a:cubicBezTo>
                    <a:pt x="835" y="3762"/>
                    <a:pt x="844" y="3784"/>
                    <a:pt x="857" y="3764"/>
                  </a:cubicBezTo>
                  <a:lnTo>
                    <a:pt x="857" y="3765"/>
                  </a:lnTo>
                  <a:close/>
                  <a:moveTo>
                    <a:pt x="3634" y="3061"/>
                  </a:moveTo>
                  <a:cubicBezTo>
                    <a:pt x="3641" y="3065"/>
                    <a:pt x="3652" y="3075"/>
                    <a:pt x="3654" y="3073"/>
                  </a:cubicBezTo>
                  <a:cubicBezTo>
                    <a:pt x="3671" y="3061"/>
                    <a:pt x="3691" y="3054"/>
                    <a:pt x="3701" y="3032"/>
                  </a:cubicBezTo>
                  <a:cubicBezTo>
                    <a:pt x="3717" y="2994"/>
                    <a:pt x="3739" y="2959"/>
                    <a:pt x="3756" y="2922"/>
                  </a:cubicBezTo>
                  <a:cubicBezTo>
                    <a:pt x="3761" y="2910"/>
                    <a:pt x="3760" y="2895"/>
                    <a:pt x="3762" y="2879"/>
                  </a:cubicBezTo>
                  <a:cubicBezTo>
                    <a:pt x="3743" y="2881"/>
                    <a:pt x="3731" y="2882"/>
                    <a:pt x="3717" y="2884"/>
                  </a:cubicBezTo>
                  <a:cubicBezTo>
                    <a:pt x="3707" y="2866"/>
                    <a:pt x="3693" y="2852"/>
                    <a:pt x="3671" y="2853"/>
                  </a:cubicBezTo>
                  <a:cubicBezTo>
                    <a:pt x="3654" y="2880"/>
                    <a:pt x="3656" y="2909"/>
                    <a:pt x="3663" y="2935"/>
                  </a:cubicBezTo>
                  <a:cubicBezTo>
                    <a:pt x="3667" y="2949"/>
                    <a:pt x="3663" y="2954"/>
                    <a:pt x="3659" y="2965"/>
                  </a:cubicBezTo>
                  <a:cubicBezTo>
                    <a:pt x="3652" y="2990"/>
                    <a:pt x="3639" y="3011"/>
                    <a:pt x="3629" y="3034"/>
                  </a:cubicBezTo>
                  <a:cubicBezTo>
                    <a:pt x="3626" y="3042"/>
                    <a:pt x="3633" y="3053"/>
                    <a:pt x="3635" y="3063"/>
                  </a:cubicBezTo>
                  <a:cubicBezTo>
                    <a:pt x="3632" y="3062"/>
                    <a:pt x="3627" y="3059"/>
                    <a:pt x="3624" y="3060"/>
                  </a:cubicBezTo>
                  <a:cubicBezTo>
                    <a:pt x="3619" y="3062"/>
                    <a:pt x="3615" y="3067"/>
                    <a:pt x="3612" y="3071"/>
                  </a:cubicBezTo>
                  <a:cubicBezTo>
                    <a:pt x="3611" y="3072"/>
                    <a:pt x="3614" y="3078"/>
                    <a:pt x="3615" y="3077"/>
                  </a:cubicBezTo>
                  <a:cubicBezTo>
                    <a:pt x="3620" y="3076"/>
                    <a:pt x="3626" y="3075"/>
                    <a:pt x="3631" y="3072"/>
                  </a:cubicBezTo>
                  <a:cubicBezTo>
                    <a:pt x="3633" y="3070"/>
                    <a:pt x="3633" y="3065"/>
                    <a:pt x="3634" y="3061"/>
                  </a:cubicBezTo>
                  <a:close/>
                  <a:moveTo>
                    <a:pt x="648" y="3597"/>
                  </a:moveTo>
                  <a:cubicBezTo>
                    <a:pt x="655" y="3596"/>
                    <a:pt x="664" y="3597"/>
                    <a:pt x="668" y="3593"/>
                  </a:cubicBezTo>
                  <a:cubicBezTo>
                    <a:pt x="676" y="3585"/>
                    <a:pt x="681" y="3575"/>
                    <a:pt x="691" y="3561"/>
                  </a:cubicBezTo>
                  <a:cubicBezTo>
                    <a:pt x="691" y="3587"/>
                    <a:pt x="691" y="3606"/>
                    <a:pt x="691" y="3619"/>
                  </a:cubicBezTo>
                  <a:cubicBezTo>
                    <a:pt x="700" y="3626"/>
                    <a:pt x="710" y="3629"/>
                    <a:pt x="712" y="3635"/>
                  </a:cubicBezTo>
                  <a:cubicBezTo>
                    <a:pt x="716" y="3652"/>
                    <a:pt x="727" y="3661"/>
                    <a:pt x="740" y="3652"/>
                  </a:cubicBezTo>
                  <a:cubicBezTo>
                    <a:pt x="749" y="3646"/>
                    <a:pt x="759" y="3626"/>
                    <a:pt x="756" y="3616"/>
                  </a:cubicBezTo>
                  <a:cubicBezTo>
                    <a:pt x="750" y="3597"/>
                    <a:pt x="736" y="3579"/>
                    <a:pt x="723" y="3563"/>
                  </a:cubicBezTo>
                  <a:cubicBezTo>
                    <a:pt x="712" y="3549"/>
                    <a:pt x="698" y="3537"/>
                    <a:pt x="686" y="3524"/>
                  </a:cubicBezTo>
                  <a:cubicBezTo>
                    <a:pt x="694" y="3510"/>
                    <a:pt x="700" y="3499"/>
                    <a:pt x="705" y="3491"/>
                  </a:cubicBezTo>
                  <a:cubicBezTo>
                    <a:pt x="682" y="3460"/>
                    <a:pt x="662" y="3433"/>
                    <a:pt x="642" y="3406"/>
                  </a:cubicBezTo>
                  <a:cubicBezTo>
                    <a:pt x="629" y="3428"/>
                    <a:pt x="629" y="3430"/>
                    <a:pt x="638" y="3450"/>
                  </a:cubicBezTo>
                  <a:cubicBezTo>
                    <a:pt x="643" y="3461"/>
                    <a:pt x="645" y="3472"/>
                    <a:pt x="649" y="3483"/>
                  </a:cubicBezTo>
                  <a:cubicBezTo>
                    <a:pt x="650" y="3483"/>
                    <a:pt x="650" y="3483"/>
                    <a:pt x="650" y="3483"/>
                  </a:cubicBezTo>
                  <a:cubicBezTo>
                    <a:pt x="642" y="3479"/>
                    <a:pt x="635" y="3475"/>
                    <a:pt x="627" y="3471"/>
                  </a:cubicBezTo>
                  <a:cubicBezTo>
                    <a:pt x="621" y="3481"/>
                    <a:pt x="616" y="3489"/>
                    <a:pt x="612" y="3496"/>
                  </a:cubicBezTo>
                  <a:cubicBezTo>
                    <a:pt x="607" y="3490"/>
                    <a:pt x="603" y="3484"/>
                    <a:pt x="593" y="3470"/>
                  </a:cubicBezTo>
                  <a:cubicBezTo>
                    <a:pt x="591" y="3488"/>
                    <a:pt x="590" y="3496"/>
                    <a:pt x="588" y="3509"/>
                  </a:cubicBezTo>
                  <a:cubicBezTo>
                    <a:pt x="599" y="3503"/>
                    <a:pt x="606" y="3499"/>
                    <a:pt x="613" y="3495"/>
                  </a:cubicBezTo>
                  <a:cubicBezTo>
                    <a:pt x="609" y="3506"/>
                    <a:pt x="606" y="3518"/>
                    <a:pt x="603" y="3529"/>
                  </a:cubicBezTo>
                  <a:cubicBezTo>
                    <a:pt x="604" y="3528"/>
                    <a:pt x="604" y="3528"/>
                    <a:pt x="604" y="3528"/>
                  </a:cubicBezTo>
                  <a:cubicBezTo>
                    <a:pt x="596" y="3528"/>
                    <a:pt x="588" y="3528"/>
                    <a:pt x="578" y="3528"/>
                  </a:cubicBezTo>
                  <a:cubicBezTo>
                    <a:pt x="580" y="3541"/>
                    <a:pt x="580" y="3550"/>
                    <a:pt x="583" y="3558"/>
                  </a:cubicBezTo>
                  <a:cubicBezTo>
                    <a:pt x="586" y="3566"/>
                    <a:pt x="591" y="3576"/>
                    <a:pt x="598" y="3578"/>
                  </a:cubicBezTo>
                  <a:cubicBezTo>
                    <a:pt x="615" y="3583"/>
                    <a:pt x="590" y="3593"/>
                    <a:pt x="601" y="3599"/>
                  </a:cubicBezTo>
                  <a:cubicBezTo>
                    <a:pt x="607" y="3602"/>
                    <a:pt x="642" y="3609"/>
                    <a:pt x="649" y="3604"/>
                  </a:cubicBezTo>
                  <a:cubicBezTo>
                    <a:pt x="650" y="3603"/>
                    <a:pt x="649" y="3599"/>
                    <a:pt x="648" y="3596"/>
                  </a:cubicBezTo>
                  <a:lnTo>
                    <a:pt x="648" y="3597"/>
                  </a:lnTo>
                  <a:close/>
                  <a:moveTo>
                    <a:pt x="1707" y="406"/>
                  </a:moveTo>
                  <a:cubicBezTo>
                    <a:pt x="1695" y="390"/>
                    <a:pt x="1681" y="382"/>
                    <a:pt x="1660" y="393"/>
                  </a:cubicBezTo>
                  <a:cubicBezTo>
                    <a:pt x="1649" y="399"/>
                    <a:pt x="1635" y="399"/>
                    <a:pt x="1619" y="402"/>
                  </a:cubicBezTo>
                  <a:cubicBezTo>
                    <a:pt x="1623" y="390"/>
                    <a:pt x="1627" y="379"/>
                    <a:pt x="1630" y="369"/>
                  </a:cubicBezTo>
                  <a:cubicBezTo>
                    <a:pt x="1628" y="367"/>
                    <a:pt x="1626" y="366"/>
                    <a:pt x="1624" y="364"/>
                  </a:cubicBezTo>
                  <a:cubicBezTo>
                    <a:pt x="1608" y="375"/>
                    <a:pt x="1592" y="386"/>
                    <a:pt x="1576" y="397"/>
                  </a:cubicBezTo>
                  <a:cubicBezTo>
                    <a:pt x="1597" y="452"/>
                    <a:pt x="1615" y="472"/>
                    <a:pt x="1660" y="494"/>
                  </a:cubicBezTo>
                  <a:cubicBezTo>
                    <a:pt x="1673" y="501"/>
                    <a:pt x="1686" y="511"/>
                    <a:pt x="1696" y="523"/>
                  </a:cubicBezTo>
                  <a:cubicBezTo>
                    <a:pt x="1741" y="575"/>
                    <a:pt x="1785" y="628"/>
                    <a:pt x="1830" y="680"/>
                  </a:cubicBezTo>
                  <a:cubicBezTo>
                    <a:pt x="1835" y="686"/>
                    <a:pt x="1844" y="687"/>
                    <a:pt x="1856" y="692"/>
                  </a:cubicBezTo>
                  <a:cubicBezTo>
                    <a:pt x="1841" y="666"/>
                    <a:pt x="1832" y="646"/>
                    <a:pt x="1820" y="628"/>
                  </a:cubicBezTo>
                  <a:cubicBezTo>
                    <a:pt x="1797" y="594"/>
                    <a:pt x="1772" y="561"/>
                    <a:pt x="1750" y="527"/>
                  </a:cubicBezTo>
                  <a:cubicBezTo>
                    <a:pt x="1739" y="510"/>
                    <a:pt x="1724" y="489"/>
                    <a:pt x="1727" y="472"/>
                  </a:cubicBezTo>
                  <a:cubicBezTo>
                    <a:pt x="1731" y="446"/>
                    <a:pt x="1717" y="442"/>
                    <a:pt x="1699" y="435"/>
                  </a:cubicBezTo>
                  <a:cubicBezTo>
                    <a:pt x="1702" y="425"/>
                    <a:pt x="1705" y="415"/>
                    <a:pt x="1707" y="405"/>
                  </a:cubicBezTo>
                  <a:lnTo>
                    <a:pt x="1707" y="406"/>
                  </a:lnTo>
                  <a:close/>
                  <a:moveTo>
                    <a:pt x="2086" y="1851"/>
                  </a:moveTo>
                  <a:cubicBezTo>
                    <a:pt x="2049" y="1851"/>
                    <a:pt x="2012" y="1851"/>
                    <a:pt x="1975" y="1851"/>
                  </a:cubicBezTo>
                  <a:cubicBezTo>
                    <a:pt x="1933" y="1851"/>
                    <a:pt x="1890" y="1850"/>
                    <a:pt x="1848" y="1850"/>
                  </a:cubicBezTo>
                  <a:cubicBezTo>
                    <a:pt x="1814" y="1851"/>
                    <a:pt x="1790" y="1834"/>
                    <a:pt x="1773" y="1806"/>
                  </a:cubicBezTo>
                  <a:cubicBezTo>
                    <a:pt x="1748" y="1766"/>
                    <a:pt x="1724" y="1725"/>
                    <a:pt x="1700" y="1683"/>
                  </a:cubicBezTo>
                  <a:cubicBezTo>
                    <a:pt x="1673" y="1638"/>
                    <a:pt x="1646" y="1592"/>
                    <a:pt x="1619" y="1546"/>
                  </a:cubicBezTo>
                  <a:cubicBezTo>
                    <a:pt x="1613" y="1535"/>
                    <a:pt x="1605" y="1524"/>
                    <a:pt x="1588" y="1538"/>
                  </a:cubicBezTo>
                  <a:cubicBezTo>
                    <a:pt x="1615" y="1564"/>
                    <a:pt x="1634" y="1591"/>
                    <a:pt x="1643" y="1628"/>
                  </a:cubicBezTo>
                  <a:cubicBezTo>
                    <a:pt x="1649" y="1654"/>
                    <a:pt x="1674" y="1676"/>
                    <a:pt x="1690" y="1699"/>
                  </a:cubicBezTo>
                  <a:cubicBezTo>
                    <a:pt x="1700" y="1713"/>
                    <a:pt x="1709" y="1727"/>
                    <a:pt x="1719" y="1741"/>
                  </a:cubicBezTo>
                  <a:cubicBezTo>
                    <a:pt x="1700" y="1764"/>
                    <a:pt x="1720" y="1782"/>
                    <a:pt x="1731" y="1796"/>
                  </a:cubicBezTo>
                  <a:cubicBezTo>
                    <a:pt x="1754" y="1829"/>
                    <a:pt x="1777" y="1866"/>
                    <a:pt x="1828" y="1861"/>
                  </a:cubicBezTo>
                  <a:cubicBezTo>
                    <a:pt x="1836" y="1860"/>
                    <a:pt x="1846" y="1870"/>
                    <a:pt x="1855" y="1875"/>
                  </a:cubicBezTo>
                  <a:cubicBezTo>
                    <a:pt x="1861" y="1878"/>
                    <a:pt x="1866" y="1882"/>
                    <a:pt x="1872" y="1883"/>
                  </a:cubicBezTo>
                  <a:cubicBezTo>
                    <a:pt x="1911" y="1884"/>
                    <a:pt x="1950" y="1883"/>
                    <a:pt x="1989" y="1885"/>
                  </a:cubicBezTo>
                  <a:cubicBezTo>
                    <a:pt x="2049" y="1888"/>
                    <a:pt x="2108" y="1892"/>
                    <a:pt x="2167" y="1879"/>
                  </a:cubicBezTo>
                  <a:cubicBezTo>
                    <a:pt x="2196" y="1873"/>
                    <a:pt x="2203" y="1869"/>
                    <a:pt x="2209" y="1837"/>
                  </a:cubicBezTo>
                  <a:cubicBezTo>
                    <a:pt x="2173" y="1860"/>
                    <a:pt x="2150" y="1862"/>
                    <a:pt x="2085" y="1850"/>
                  </a:cubicBezTo>
                  <a:cubicBezTo>
                    <a:pt x="2092" y="1847"/>
                    <a:pt x="2100" y="1844"/>
                    <a:pt x="2107" y="1841"/>
                  </a:cubicBezTo>
                  <a:cubicBezTo>
                    <a:pt x="2107" y="1839"/>
                    <a:pt x="2107" y="1836"/>
                    <a:pt x="2106" y="1833"/>
                  </a:cubicBezTo>
                  <a:cubicBezTo>
                    <a:pt x="2091" y="1832"/>
                    <a:pt x="2076" y="1831"/>
                    <a:pt x="2060" y="1830"/>
                  </a:cubicBezTo>
                  <a:cubicBezTo>
                    <a:pt x="2060" y="1832"/>
                    <a:pt x="2059" y="1834"/>
                    <a:pt x="2059" y="1836"/>
                  </a:cubicBezTo>
                  <a:cubicBezTo>
                    <a:pt x="2068" y="1841"/>
                    <a:pt x="2077" y="1846"/>
                    <a:pt x="2086" y="1851"/>
                  </a:cubicBezTo>
                  <a:close/>
                  <a:moveTo>
                    <a:pt x="3436" y="3312"/>
                  </a:moveTo>
                  <a:cubicBezTo>
                    <a:pt x="3443" y="3335"/>
                    <a:pt x="3443" y="3335"/>
                    <a:pt x="3467" y="3331"/>
                  </a:cubicBezTo>
                  <a:cubicBezTo>
                    <a:pt x="3454" y="3324"/>
                    <a:pt x="3445" y="3318"/>
                    <a:pt x="3435" y="3313"/>
                  </a:cubicBezTo>
                  <a:cubicBezTo>
                    <a:pt x="3427" y="3304"/>
                    <a:pt x="3419" y="3295"/>
                    <a:pt x="3410" y="3288"/>
                  </a:cubicBezTo>
                  <a:cubicBezTo>
                    <a:pt x="3362" y="3248"/>
                    <a:pt x="3311" y="3211"/>
                    <a:pt x="3270" y="3163"/>
                  </a:cubicBezTo>
                  <a:cubicBezTo>
                    <a:pt x="3261" y="3152"/>
                    <a:pt x="3252" y="3139"/>
                    <a:pt x="3241" y="3131"/>
                  </a:cubicBezTo>
                  <a:cubicBezTo>
                    <a:pt x="3207" y="3108"/>
                    <a:pt x="3175" y="3083"/>
                    <a:pt x="3154" y="3046"/>
                  </a:cubicBezTo>
                  <a:cubicBezTo>
                    <a:pt x="3146" y="3033"/>
                    <a:pt x="3134" y="3021"/>
                    <a:pt x="3125" y="3009"/>
                  </a:cubicBezTo>
                  <a:cubicBezTo>
                    <a:pt x="3100" y="2976"/>
                    <a:pt x="3075" y="2944"/>
                    <a:pt x="3052" y="2909"/>
                  </a:cubicBezTo>
                  <a:cubicBezTo>
                    <a:pt x="3036" y="2884"/>
                    <a:pt x="3026" y="2854"/>
                    <a:pt x="3009" y="2829"/>
                  </a:cubicBezTo>
                  <a:cubicBezTo>
                    <a:pt x="2949" y="2746"/>
                    <a:pt x="2905" y="2656"/>
                    <a:pt x="2873" y="2560"/>
                  </a:cubicBezTo>
                  <a:cubicBezTo>
                    <a:pt x="2872" y="2556"/>
                    <a:pt x="2868" y="2552"/>
                    <a:pt x="2865" y="2549"/>
                  </a:cubicBezTo>
                  <a:cubicBezTo>
                    <a:pt x="2864" y="2587"/>
                    <a:pt x="2871" y="2624"/>
                    <a:pt x="2887" y="2656"/>
                  </a:cubicBezTo>
                  <a:cubicBezTo>
                    <a:pt x="2934" y="2753"/>
                    <a:pt x="2980" y="2851"/>
                    <a:pt x="3045" y="2938"/>
                  </a:cubicBezTo>
                  <a:cubicBezTo>
                    <a:pt x="3087" y="2995"/>
                    <a:pt x="3123" y="3057"/>
                    <a:pt x="3177" y="3105"/>
                  </a:cubicBezTo>
                  <a:cubicBezTo>
                    <a:pt x="3201" y="3128"/>
                    <a:pt x="3221" y="3155"/>
                    <a:pt x="3245" y="3178"/>
                  </a:cubicBezTo>
                  <a:cubicBezTo>
                    <a:pt x="3285" y="3215"/>
                    <a:pt x="3327" y="3253"/>
                    <a:pt x="3370" y="3287"/>
                  </a:cubicBezTo>
                  <a:cubicBezTo>
                    <a:pt x="3388" y="3301"/>
                    <a:pt x="3406" y="3325"/>
                    <a:pt x="3436" y="3312"/>
                  </a:cubicBezTo>
                  <a:close/>
                  <a:moveTo>
                    <a:pt x="642" y="1563"/>
                  </a:moveTo>
                  <a:cubicBezTo>
                    <a:pt x="651" y="1559"/>
                    <a:pt x="661" y="1556"/>
                    <a:pt x="672" y="1551"/>
                  </a:cubicBezTo>
                  <a:cubicBezTo>
                    <a:pt x="670" y="1544"/>
                    <a:pt x="668" y="1537"/>
                    <a:pt x="667" y="1530"/>
                  </a:cubicBezTo>
                  <a:cubicBezTo>
                    <a:pt x="686" y="1513"/>
                    <a:pt x="686" y="1513"/>
                    <a:pt x="667" y="1498"/>
                  </a:cubicBezTo>
                  <a:cubicBezTo>
                    <a:pt x="674" y="1483"/>
                    <a:pt x="679" y="1457"/>
                    <a:pt x="688" y="1455"/>
                  </a:cubicBezTo>
                  <a:cubicBezTo>
                    <a:pt x="706" y="1453"/>
                    <a:pt x="707" y="1444"/>
                    <a:pt x="710" y="1432"/>
                  </a:cubicBezTo>
                  <a:cubicBezTo>
                    <a:pt x="710" y="1433"/>
                    <a:pt x="710" y="1433"/>
                    <a:pt x="710" y="1433"/>
                  </a:cubicBezTo>
                  <a:cubicBezTo>
                    <a:pt x="723" y="1428"/>
                    <a:pt x="728" y="1420"/>
                    <a:pt x="729" y="1406"/>
                  </a:cubicBezTo>
                  <a:cubicBezTo>
                    <a:pt x="729" y="1388"/>
                    <a:pt x="739" y="1377"/>
                    <a:pt x="760" y="1381"/>
                  </a:cubicBezTo>
                  <a:cubicBezTo>
                    <a:pt x="759" y="1391"/>
                    <a:pt x="757" y="1400"/>
                    <a:pt x="756" y="1408"/>
                  </a:cubicBezTo>
                  <a:cubicBezTo>
                    <a:pt x="781" y="1382"/>
                    <a:pt x="798" y="1350"/>
                    <a:pt x="824" y="1329"/>
                  </a:cubicBezTo>
                  <a:cubicBezTo>
                    <a:pt x="849" y="1309"/>
                    <a:pt x="884" y="1300"/>
                    <a:pt x="914" y="1286"/>
                  </a:cubicBezTo>
                  <a:cubicBezTo>
                    <a:pt x="890" y="1263"/>
                    <a:pt x="869" y="1240"/>
                    <a:pt x="844" y="1220"/>
                  </a:cubicBezTo>
                  <a:cubicBezTo>
                    <a:pt x="833" y="1210"/>
                    <a:pt x="816" y="1202"/>
                    <a:pt x="802" y="1203"/>
                  </a:cubicBezTo>
                  <a:cubicBezTo>
                    <a:pt x="782" y="1204"/>
                    <a:pt x="758" y="1183"/>
                    <a:pt x="743" y="1211"/>
                  </a:cubicBezTo>
                  <a:cubicBezTo>
                    <a:pt x="737" y="1202"/>
                    <a:pt x="730" y="1193"/>
                    <a:pt x="723" y="1182"/>
                  </a:cubicBezTo>
                  <a:cubicBezTo>
                    <a:pt x="692" y="1208"/>
                    <a:pt x="724" y="1224"/>
                    <a:pt x="729" y="1242"/>
                  </a:cubicBezTo>
                  <a:cubicBezTo>
                    <a:pt x="713" y="1248"/>
                    <a:pt x="700" y="1254"/>
                    <a:pt x="682" y="1261"/>
                  </a:cubicBezTo>
                  <a:cubicBezTo>
                    <a:pt x="677" y="1255"/>
                    <a:pt x="670" y="1246"/>
                    <a:pt x="660" y="1232"/>
                  </a:cubicBezTo>
                  <a:cubicBezTo>
                    <a:pt x="675" y="1232"/>
                    <a:pt x="682" y="1232"/>
                    <a:pt x="691" y="1232"/>
                  </a:cubicBezTo>
                  <a:cubicBezTo>
                    <a:pt x="690" y="1222"/>
                    <a:pt x="688" y="1213"/>
                    <a:pt x="687" y="1209"/>
                  </a:cubicBezTo>
                  <a:cubicBezTo>
                    <a:pt x="664" y="1205"/>
                    <a:pt x="645" y="1202"/>
                    <a:pt x="618" y="1198"/>
                  </a:cubicBezTo>
                  <a:cubicBezTo>
                    <a:pt x="631" y="1211"/>
                    <a:pt x="640" y="1217"/>
                    <a:pt x="645" y="1226"/>
                  </a:cubicBezTo>
                  <a:cubicBezTo>
                    <a:pt x="655" y="1245"/>
                    <a:pt x="674" y="1267"/>
                    <a:pt x="671" y="1284"/>
                  </a:cubicBezTo>
                  <a:cubicBezTo>
                    <a:pt x="665" y="1315"/>
                    <a:pt x="654" y="1349"/>
                    <a:pt x="622" y="1367"/>
                  </a:cubicBezTo>
                  <a:cubicBezTo>
                    <a:pt x="631" y="1345"/>
                    <a:pt x="640" y="1323"/>
                    <a:pt x="650" y="1298"/>
                  </a:cubicBezTo>
                  <a:cubicBezTo>
                    <a:pt x="634" y="1289"/>
                    <a:pt x="621" y="1282"/>
                    <a:pt x="602" y="1272"/>
                  </a:cubicBezTo>
                  <a:cubicBezTo>
                    <a:pt x="610" y="1308"/>
                    <a:pt x="616" y="1337"/>
                    <a:pt x="623" y="1366"/>
                  </a:cubicBezTo>
                  <a:cubicBezTo>
                    <a:pt x="626" y="1385"/>
                    <a:pt x="630" y="1404"/>
                    <a:pt x="635" y="1426"/>
                  </a:cubicBezTo>
                  <a:cubicBezTo>
                    <a:pt x="632" y="1432"/>
                    <a:pt x="627" y="1441"/>
                    <a:pt x="622" y="1450"/>
                  </a:cubicBezTo>
                  <a:cubicBezTo>
                    <a:pt x="617" y="1446"/>
                    <a:pt x="611" y="1443"/>
                    <a:pt x="600" y="1436"/>
                  </a:cubicBezTo>
                  <a:cubicBezTo>
                    <a:pt x="610" y="1453"/>
                    <a:pt x="610" y="1453"/>
                    <a:pt x="621" y="1448"/>
                  </a:cubicBezTo>
                  <a:cubicBezTo>
                    <a:pt x="649" y="1460"/>
                    <a:pt x="651" y="1481"/>
                    <a:pt x="644" y="1506"/>
                  </a:cubicBezTo>
                  <a:cubicBezTo>
                    <a:pt x="634" y="1503"/>
                    <a:pt x="625" y="1500"/>
                    <a:pt x="616" y="1496"/>
                  </a:cubicBezTo>
                  <a:cubicBezTo>
                    <a:pt x="591" y="1531"/>
                    <a:pt x="568" y="1565"/>
                    <a:pt x="544" y="1598"/>
                  </a:cubicBezTo>
                  <a:cubicBezTo>
                    <a:pt x="538" y="1607"/>
                    <a:pt x="525" y="1617"/>
                    <a:pt x="527" y="1623"/>
                  </a:cubicBezTo>
                  <a:cubicBezTo>
                    <a:pt x="533" y="1646"/>
                    <a:pt x="520" y="1658"/>
                    <a:pt x="512" y="1671"/>
                  </a:cubicBezTo>
                  <a:cubicBezTo>
                    <a:pt x="503" y="1665"/>
                    <a:pt x="493" y="1659"/>
                    <a:pt x="482" y="1651"/>
                  </a:cubicBezTo>
                  <a:cubicBezTo>
                    <a:pt x="474" y="1671"/>
                    <a:pt x="461" y="1684"/>
                    <a:pt x="465" y="1712"/>
                  </a:cubicBezTo>
                  <a:cubicBezTo>
                    <a:pt x="476" y="1696"/>
                    <a:pt x="483" y="1686"/>
                    <a:pt x="487" y="1680"/>
                  </a:cubicBezTo>
                  <a:cubicBezTo>
                    <a:pt x="504" y="1691"/>
                    <a:pt x="526" y="1697"/>
                    <a:pt x="535" y="1711"/>
                  </a:cubicBezTo>
                  <a:cubicBezTo>
                    <a:pt x="543" y="1726"/>
                    <a:pt x="569" y="1740"/>
                    <a:pt x="554" y="1762"/>
                  </a:cubicBezTo>
                  <a:cubicBezTo>
                    <a:pt x="534" y="1761"/>
                    <a:pt x="536" y="1732"/>
                    <a:pt x="512" y="1736"/>
                  </a:cubicBezTo>
                  <a:cubicBezTo>
                    <a:pt x="520" y="1748"/>
                    <a:pt x="532" y="1757"/>
                    <a:pt x="532" y="1766"/>
                  </a:cubicBezTo>
                  <a:cubicBezTo>
                    <a:pt x="530" y="1800"/>
                    <a:pt x="551" y="1826"/>
                    <a:pt x="559" y="1857"/>
                  </a:cubicBezTo>
                  <a:cubicBezTo>
                    <a:pt x="555" y="1809"/>
                    <a:pt x="567" y="1765"/>
                    <a:pt x="597" y="1722"/>
                  </a:cubicBezTo>
                  <a:cubicBezTo>
                    <a:pt x="580" y="1723"/>
                    <a:pt x="569" y="1724"/>
                    <a:pt x="558" y="1725"/>
                  </a:cubicBezTo>
                  <a:cubicBezTo>
                    <a:pt x="557" y="1723"/>
                    <a:pt x="556" y="1720"/>
                    <a:pt x="554" y="1717"/>
                  </a:cubicBezTo>
                  <a:cubicBezTo>
                    <a:pt x="560" y="1713"/>
                    <a:pt x="566" y="1706"/>
                    <a:pt x="573" y="1705"/>
                  </a:cubicBezTo>
                  <a:cubicBezTo>
                    <a:pt x="605" y="1698"/>
                    <a:pt x="614" y="1691"/>
                    <a:pt x="617" y="1661"/>
                  </a:cubicBezTo>
                  <a:cubicBezTo>
                    <a:pt x="618" y="1649"/>
                    <a:pt x="617" y="1637"/>
                    <a:pt x="617" y="1626"/>
                  </a:cubicBezTo>
                  <a:cubicBezTo>
                    <a:pt x="641" y="1610"/>
                    <a:pt x="648" y="1589"/>
                    <a:pt x="643" y="1562"/>
                  </a:cubicBezTo>
                  <a:lnTo>
                    <a:pt x="642" y="1563"/>
                  </a:lnTo>
                  <a:close/>
                  <a:moveTo>
                    <a:pt x="1427" y="1635"/>
                  </a:moveTo>
                  <a:cubicBezTo>
                    <a:pt x="1401" y="1586"/>
                    <a:pt x="1362" y="1548"/>
                    <a:pt x="1321" y="1512"/>
                  </a:cubicBezTo>
                  <a:cubicBezTo>
                    <a:pt x="1325" y="1529"/>
                    <a:pt x="1331" y="1548"/>
                    <a:pt x="1344" y="1555"/>
                  </a:cubicBezTo>
                  <a:cubicBezTo>
                    <a:pt x="1365" y="1567"/>
                    <a:pt x="1374" y="1587"/>
                    <a:pt x="1384" y="1606"/>
                  </a:cubicBezTo>
                  <a:cubicBezTo>
                    <a:pt x="1394" y="1625"/>
                    <a:pt x="1408" y="1632"/>
                    <a:pt x="1427" y="1634"/>
                  </a:cubicBezTo>
                  <a:cubicBezTo>
                    <a:pt x="1428" y="1641"/>
                    <a:pt x="1427" y="1651"/>
                    <a:pt x="1431" y="1657"/>
                  </a:cubicBezTo>
                  <a:cubicBezTo>
                    <a:pt x="1456" y="1690"/>
                    <a:pt x="1466" y="1732"/>
                    <a:pt x="1493" y="1765"/>
                  </a:cubicBezTo>
                  <a:cubicBezTo>
                    <a:pt x="1508" y="1782"/>
                    <a:pt x="1507" y="1811"/>
                    <a:pt x="1534" y="1820"/>
                  </a:cubicBezTo>
                  <a:cubicBezTo>
                    <a:pt x="1535" y="1820"/>
                    <a:pt x="1537" y="1825"/>
                    <a:pt x="1536" y="1827"/>
                  </a:cubicBezTo>
                  <a:cubicBezTo>
                    <a:pt x="1532" y="1848"/>
                    <a:pt x="1548" y="1861"/>
                    <a:pt x="1554" y="1878"/>
                  </a:cubicBezTo>
                  <a:cubicBezTo>
                    <a:pt x="1562" y="1900"/>
                    <a:pt x="1585" y="1926"/>
                    <a:pt x="1544" y="1947"/>
                  </a:cubicBezTo>
                  <a:cubicBezTo>
                    <a:pt x="1588" y="1964"/>
                    <a:pt x="1586" y="1996"/>
                    <a:pt x="1583" y="2023"/>
                  </a:cubicBezTo>
                  <a:cubicBezTo>
                    <a:pt x="1572" y="2026"/>
                    <a:pt x="1563" y="2025"/>
                    <a:pt x="1559" y="2029"/>
                  </a:cubicBezTo>
                  <a:cubicBezTo>
                    <a:pt x="1544" y="2043"/>
                    <a:pt x="1529" y="2057"/>
                    <a:pt x="1508" y="2057"/>
                  </a:cubicBezTo>
                  <a:cubicBezTo>
                    <a:pt x="1432" y="2057"/>
                    <a:pt x="1356" y="2057"/>
                    <a:pt x="1280" y="2057"/>
                  </a:cubicBezTo>
                  <a:cubicBezTo>
                    <a:pt x="1263" y="2057"/>
                    <a:pt x="1246" y="2052"/>
                    <a:pt x="1229" y="2053"/>
                  </a:cubicBezTo>
                  <a:cubicBezTo>
                    <a:pt x="1184" y="2055"/>
                    <a:pt x="1139" y="2060"/>
                    <a:pt x="1094" y="2060"/>
                  </a:cubicBezTo>
                  <a:cubicBezTo>
                    <a:pt x="1055" y="2060"/>
                    <a:pt x="1015" y="2054"/>
                    <a:pt x="976" y="2051"/>
                  </a:cubicBezTo>
                  <a:cubicBezTo>
                    <a:pt x="974" y="2051"/>
                    <a:pt x="972" y="2054"/>
                    <a:pt x="969" y="2055"/>
                  </a:cubicBezTo>
                  <a:cubicBezTo>
                    <a:pt x="971" y="2063"/>
                    <a:pt x="974" y="2071"/>
                    <a:pt x="975" y="2074"/>
                  </a:cubicBezTo>
                  <a:cubicBezTo>
                    <a:pt x="1000" y="2072"/>
                    <a:pt x="1022" y="2068"/>
                    <a:pt x="1044" y="2069"/>
                  </a:cubicBezTo>
                  <a:cubicBezTo>
                    <a:pt x="1078" y="2069"/>
                    <a:pt x="1112" y="2074"/>
                    <a:pt x="1147" y="2072"/>
                  </a:cubicBezTo>
                  <a:cubicBezTo>
                    <a:pt x="1180" y="2071"/>
                    <a:pt x="1214" y="2095"/>
                    <a:pt x="1246" y="2068"/>
                  </a:cubicBezTo>
                  <a:cubicBezTo>
                    <a:pt x="1249" y="2067"/>
                    <a:pt x="1254" y="2069"/>
                    <a:pt x="1258" y="2069"/>
                  </a:cubicBezTo>
                  <a:cubicBezTo>
                    <a:pt x="1278" y="2071"/>
                    <a:pt x="1297" y="2072"/>
                    <a:pt x="1317" y="2074"/>
                  </a:cubicBezTo>
                  <a:cubicBezTo>
                    <a:pt x="1375" y="2080"/>
                    <a:pt x="1433" y="2086"/>
                    <a:pt x="1492" y="2078"/>
                  </a:cubicBezTo>
                  <a:cubicBezTo>
                    <a:pt x="1519" y="2075"/>
                    <a:pt x="1549" y="2065"/>
                    <a:pt x="1577" y="2082"/>
                  </a:cubicBezTo>
                  <a:cubicBezTo>
                    <a:pt x="1582" y="2085"/>
                    <a:pt x="1594" y="2077"/>
                    <a:pt x="1603" y="2074"/>
                  </a:cubicBezTo>
                  <a:cubicBezTo>
                    <a:pt x="1602" y="2060"/>
                    <a:pt x="1601" y="2049"/>
                    <a:pt x="1601" y="2037"/>
                  </a:cubicBezTo>
                  <a:cubicBezTo>
                    <a:pt x="1602" y="1958"/>
                    <a:pt x="1582" y="1883"/>
                    <a:pt x="1546" y="1815"/>
                  </a:cubicBezTo>
                  <a:cubicBezTo>
                    <a:pt x="1516" y="1756"/>
                    <a:pt x="1477" y="1702"/>
                    <a:pt x="1441" y="1646"/>
                  </a:cubicBezTo>
                  <a:cubicBezTo>
                    <a:pt x="1438" y="1641"/>
                    <a:pt x="1432" y="1638"/>
                    <a:pt x="1427" y="1635"/>
                  </a:cubicBezTo>
                  <a:close/>
                  <a:moveTo>
                    <a:pt x="1917" y="2443"/>
                  </a:moveTo>
                  <a:cubicBezTo>
                    <a:pt x="1902" y="2445"/>
                    <a:pt x="1886" y="2450"/>
                    <a:pt x="1871" y="2450"/>
                  </a:cubicBezTo>
                  <a:cubicBezTo>
                    <a:pt x="1801" y="2449"/>
                    <a:pt x="1784" y="2398"/>
                    <a:pt x="1790" y="2352"/>
                  </a:cubicBezTo>
                  <a:cubicBezTo>
                    <a:pt x="1792" y="2330"/>
                    <a:pt x="1795" y="2307"/>
                    <a:pt x="1803" y="2287"/>
                  </a:cubicBezTo>
                  <a:cubicBezTo>
                    <a:pt x="1807" y="2276"/>
                    <a:pt x="1824" y="2270"/>
                    <a:pt x="1836" y="2264"/>
                  </a:cubicBezTo>
                  <a:cubicBezTo>
                    <a:pt x="1837" y="2264"/>
                    <a:pt x="1845" y="2276"/>
                    <a:pt x="1850" y="2283"/>
                  </a:cubicBezTo>
                  <a:cubicBezTo>
                    <a:pt x="1861" y="2278"/>
                    <a:pt x="1873" y="2272"/>
                    <a:pt x="1884" y="2266"/>
                  </a:cubicBezTo>
                  <a:cubicBezTo>
                    <a:pt x="1899" y="2259"/>
                    <a:pt x="1895" y="2283"/>
                    <a:pt x="1908" y="2280"/>
                  </a:cubicBezTo>
                  <a:cubicBezTo>
                    <a:pt x="1913" y="2279"/>
                    <a:pt x="1919" y="2281"/>
                    <a:pt x="1923" y="2280"/>
                  </a:cubicBezTo>
                  <a:cubicBezTo>
                    <a:pt x="1962" y="2269"/>
                    <a:pt x="2000" y="2276"/>
                    <a:pt x="2039" y="2278"/>
                  </a:cubicBezTo>
                  <a:cubicBezTo>
                    <a:pt x="2079" y="2280"/>
                    <a:pt x="2121" y="2273"/>
                    <a:pt x="2161" y="2269"/>
                  </a:cubicBezTo>
                  <a:cubicBezTo>
                    <a:pt x="2165" y="2269"/>
                    <a:pt x="2168" y="2264"/>
                    <a:pt x="2176" y="2257"/>
                  </a:cubicBezTo>
                  <a:cubicBezTo>
                    <a:pt x="2048" y="2236"/>
                    <a:pt x="1925" y="2263"/>
                    <a:pt x="1805" y="2246"/>
                  </a:cubicBezTo>
                  <a:cubicBezTo>
                    <a:pt x="1777" y="2251"/>
                    <a:pt x="1781" y="2278"/>
                    <a:pt x="1770" y="2294"/>
                  </a:cubicBezTo>
                  <a:cubicBezTo>
                    <a:pt x="1765" y="2301"/>
                    <a:pt x="1763" y="2311"/>
                    <a:pt x="1762" y="2320"/>
                  </a:cubicBezTo>
                  <a:cubicBezTo>
                    <a:pt x="1761" y="2331"/>
                    <a:pt x="1760" y="2343"/>
                    <a:pt x="1762" y="2354"/>
                  </a:cubicBezTo>
                  <a:cubicBezTo>
                    <a:pt x="1765" y="2368"/>
                    <a:pt x="1772" y="2381"/>
                    <a:pt x="1777" y="2395"/>
                  </a:cubicBezTo>
                  <a:cubicBezTo>
                    <a:pt x="1785" y="2415"/>
                    <a:pt x="1788" y="2442"/>
                    <a:pt x="1803" y="2454"/>
                  </a:cubicBezTo>
                  <a:cubicBezTo>
                    <a:pt x="1831" y="2477"/>
                    <a:pt x="1870" y="2480"/>
                    <a:pt x="1906" y="2477"/>
                  </a:cubicBezTo>
                  <a:cubicBezTo>
                    <a:pt x="1918" y="2476"/>
                    <a:pt x="1929" y="2472"/>
                    <a:pt x="1942" y="2479"/>
                  </a:cubicBezTo>
                  <a:cubicBezTo>
                    <a:pt x="1950" y="2483"/>
                    <a:pt x="1960" y="2485"/>
                    <a:pt x="1969" y="2484"/>
                  </a:cubicBezTo>
                  <a:cubicBezTo>
                    <a:pt x="2013" y="2479"/>
                    <a:pt x="2056" y="2473"/>
                    <a:pt x="2099" y="2466"/>
                  </a:cubicBezTo>
                  <a:cubicBezTo>
                    <a:pt x="2125" y="2462"/>
                    <a:pt x="2150" y="2455"/>
                    <a:pt x="2175" y="2449"/>
                  </a:cubicBezTo>
                  <a:cubicBezTo>
                    <a:pt x="2126" y="2445"/>
                    <a:pt x="2078" y="2445"/>
                    <a:pt x="2030" y="2445"/>
                  </a:cubicBezTo>
                  <a:cubicBezTo>
                    <a:pt x="2028" y="2445"/>
                    <a:pt x="2025" y="2447"/>
                    <a:pt x="2022" y="2447"/>
                  </a:cubicBezTo>
                  <a:cubicBezTo>
                    <a:pt x="1987" y="2445"/>
                    <a:pt x="1952" y="2443"/>
                    <a:pt x="1916" y="2442"/>
                  </a:cubicBezTo>
                  <a:cubicBezTo>
                    <a:pt x="1943" y="2441"/>
                    <a:pt x="1971" y="2444"/>
                    <a:pt x="1991" y="2415"/>
                  </a:cubicBezTo>
                  <a:cubicBezTo>
                    <a:pt x="1984" y="2409"/>
                    <a:pt x="1977" y="2400"/>
                    <a:pt x="1973" y="2401"/>
                  </a:cubicBezTo>
                  <a:cubicBezTo>
                    <a:pt x="1945" y="2408"/>
                    <a:pt x="1912" y="2398"/>
                    <a:pt x="1888" y="2422"/>
                  </a:cubicBezTo>
                  <a:cubicBezTo>
                    <a:pt x="1899" y="2429"/>
                    <a:pt x="1908" y="2436"/>
                    <a:pt x="1917" y="2443"/>
                  </a:cubicBezTo>
                  <a:close/>
                  <a:moveTo>
                    <a:pt x="1491" y="2751"/>
                  </a:moveTo>
                  <a:cubicBezTo>
                    <a:pt x="1492" y="2750"/>
                    <a:pt x="1492" y="2748"/>
                    <a:pt x="1491" y="2747"/>
                  </a:cubicBezTo>
                  <a:cubicBezTo>
                    <a:pt x="1486" y="2760"/>
                    <a:pt x="1484" y="2779"/>
                    <a:pt x="1474" y="2786"/>
                  </a:cubicBezTo>
                  <a:cubicBezTo>
                    <a:pt x="1451" y="2804"/>
                    <a:pt x="1445" y="2828"/>
                    <a:pt x="1438" y="2853"/>
                  </a:cubicBezTo>
                  <a:cubicBezTo>
                    <a:pt x="1433" y="2870"/>
                    <a:pt x="1428" y="2894"/>
                    <a:pt x="1416" y="2899"/>
                  </a:cubicBezTo>
                  <a:cubicBezTo>
                    <a:pt x="1389" y="2910"/>
                    <a:pt x="1384" y="2935"/>
                    <a:pt x="1367" y="2956"/>
                  </a:cubicBezTo>
                  <a:cubicBezTo>
                    <a:pt x="1376" y="2961"/>
                    <a:pt x="1383" y="2966"/>
                    <a:pt x="1392" y="2971"/>
                  </a:cubicBezTo>
                  <a:cubicBezTo>
                    <a:pt x="1423" y="2922"/>
                    <a:pt x="1454" y="2875"/>
                    <a:pt x="1482" y="2827"/>
                  </a:cubicBezTo>
                  <a:cubicBezTo>
                    <a:pt x="1523" y="2756"/>
                    <a:pt x="1562" y="2683"/>
                    <a:pt x="1587" y="2604"/>
                  </a:cubicBezTo>
                  <a:cubicBezTo>
                    <a:pt x="1597" y="2576"/>
                    <a:pt x="1600" y="2545"/>
                    <a:pt x="1602" y="2514"/>
                  </a:cubicBezTo>
                  <a:cubicBezTo>
                    <a:pt x="1604" y="2478"/>
                    <a:pt x="1595" y="2467"/>
                    <a:pt x="1562" y="2462"/>
                  </a:cubicBezTo>
                  <a:cubicBezTo>
                    <a:pt x="1529" y="2456"/>
                    <a:pt x="1496" y="2456"/>
                    <a:pt x="1463" y="2454"/>
                  </a:cubicBezTo>
                  <a:cubicBezTo>
                    <a:pt x="1434" y="2452"/>
                    <a:pt x="1405" y="2458"/>
                    <a:pt x="1377" y="2459"/>
                  </a:cubicBezTo>
                  <a:cubicBezTo>
                    <a:pt x="1294" y="2461"/>
                    <a:pt x="1212" y="2457"/>
                    <a:pt x="1129" y="2456"/>
                  </a:cubicBezTo>
                  <a:cubicBezTo>
                    <a:pt x="1093" y="2456"/>
                    <a:pt x="1057" y="2456"/>
                    <a:pt x="1021" y="2456"/>
                  </a:cubicBezTo>
                  <a:cubicBezTo>
                    <a:pt x="1041" y="2464"/>
                    <a:pt x="1064" y="2462"/>
                    <a:pt x="1081" y="2472"/>
                  </a:cubicBezTo>
                  <a:cubicBezTo>
                    <a:pt x="1094" y="2480"/>
                    <a:pt x="1111" y="2480"/>
                    <a:pt x="1117" y="2477"/>
                  </a:cubicBezTo>
                  <a:cubicBezTo>
                    <a:pt x="1149" y="2459"/>
                    <a:pt x="1177" y="2473"/>
                    <a:pt x="1207" y="2482"/>
                  </a:cubicBezTo>
                  <a:cubicBezTo>
                    <a:pt x="1210" y="2483"/>
                    <a:pt x="1214" y="2483"/>
                    <a:pt x="1218" y="2483"/>
                  </a:cubicBezTo>
                  <a:cubicBezTo>
                    <a:pt x="1246" y="2483"/>
                    <a:pt x="1274" y="2484"/>
                    <a:pt x="1301" y="2481"/>
                  </a:cubicBezTo>
                  <a:cubicBezTo>
                    <a:pt x="1328" y="2478"/>
                    <a:pt x="1354" y="2465"/>
                    <a:pt x="1381" y="2476"/>
                  </a:cubicBezTo>
                  <a:cubicBezTo>
                    <a:pt x="1384" y="2477"/>
                    <a:pt x="1390" y="2476"/>
                    <a:pt x="1393" y="2474"/>
                  </a:cubicBezTo>
                  <a:cubicBezTo>
                    <a:pt x="1403" y="2466"/>
                    <a:pt x="1410" y="2468"/>
                    <a:pt x="1421" y="2475"/>
                  </a:cubicBezTo>
                  <a:cubicBezTo>
                    <a:pt x="1428" y="2480"/>
                    <a:pt x="1441" y="2478"/>
                    <a:pt x="1452" y="2478"/>
                  </a:cubicBezTo>
                  <a:cubicBezTo>
                    <a:pt x="1483" y="2477"/>
                    <a:pt x="1514" y="2476"/>
                    <a:pt x="1545" y="2476"/>
                  </a:cubicBezTo>
                  <a:cubicBezTo>
                    <a:pt x="1554" y="2476"/>
                    <a:pt x="1564" y="2479"/>
                    <a:pt x="1572" y="2483"/>
                  </a:cubicBezTo>
                  <a:cubicBezTo>
                    <a:pt x="1586" y="2488"/>
                    <a:pt x="1591" y="2505"/>
                    <a:pt x="1583" y="2511"/>
                  </a:cubicBezTo>
                  <a:cubicBezTo>
                    <a:pt x="1561" y="2526"/>
                    <a:pt x="1574" y="2547"/>
                    <a:pt x="1567" y="2564"/>
                  </a:cubicBezTo>
                  <a:cubicBezTo>
                    <a:pt x="1562" y="2575"/>
                    <a:pt x="1564" y="2588"/>
                    <a:pt x="1560" y="2599"/>
                  </a:cubicBezTo>
                  <a:cubicBezTo>
                    <a:pt x="1551" y="2626"/>
                    <a:pt x="1540" y="2654"/>
                    <a:pt x="1530" y="2681"/>
                  </a:cubicBezTo>
                  <a:cubicBezTo>
                    <a:pt x="1528" y="2687"/>
                    <a:pt x="1527" y="2697"/>
                    <a:pt x="1523" y="2699"/>
                  </a:cubicBezTo>
                  <a:cubicBezTo>
                    <a:pt x="1498" y="2708"/>
                    <a:pt x="1500" y="2732"/>
                    <a:pt x="1491" y="2751"/>
                  </a:cubicBezTo>
                  <a:close/>
                  <a:moveTo>
                    <a:pt x="3162" y="1490"/>
                  </a:moveTo>
                  <a:cubicBezTo>
                    <a:pt x="3133" y="1502"/>
                    <a:pt x="3113" y="1526"/>
                    <a:pt x="3093" y="1549"/>
                  </a:cubicBezTo>
                  <a:cubicBezTo>
                    <a:pt x="3073" y="1574"/>
                    <a:pt x="3053" y="1598"/>
                    <a:pt x="3033" y="1623"/>
                  </a:cubicBezTo>
                  <a:cubicBezTo>
                    <a:pt x="3028" y="1628"/>
                    <a:pt x="3026" y="1635"/>
                    <a:pt x="3022" y="1641"/>
                  </a:cubicBezTo>
                  <a:cubicBezTo>
                    <a:pt x="3005" y="1673"/>
                    <a:pt x="2990" y="1707"/>
                    <a:pt x="2957" y="1725"/>
                  </a:cubicBezTo>
                  <a:cubicBezTo>
                    <a:pt x="2956" y="1733"/>
                    <a:pt x="2959" y="1748"/>
                    <a:pt x="2955" y="1750"/>
                  </a:cubicBezTo>
                  <a:cubicBezTo>
                    <a:pt x="2929" y="1764"/>
                    <a:pt x="2927" y="1790"/>
                    <a:pt x="2916" y="1812"/>
                  </a:cubicBezTo>
                  <a:cubicBezTo>
                    <a:pt x="2882" y="1873"/>
                    <a:pt x="2872" y="1941"/>
                    <a:pt x="2860" y="2009"/>
                  </a:cubicBezTo>
                  <a:cubicBezTo>
                    <a:pt x="2855" y="2036"/>
                    <a:pt x="2857" y="2061"/>
                    <a:pt x="2885" y="2079"/>
                  </a:cubicBezTo>
                  <a:cubicBezTo>
                    <a:pt x="2899" y="2079"/>
                    <a:pt x="2917" y="2074"/>
                    <a:pt x="2930" y="2080"/>
                  </a:cubicBezTo>
                  <a:cubicBezTo>
                    <a:pt x="2960" y="2092"/>
                    <a:pt x="2994" y="2083"/>
                    <a:pt x="3023" y="2098"/>
                  </a:cubicBezTo>
                  <a:cubicBezTo>
                    <a:pt x="3028" y="2100"/>
                    <a:pt x="3036" y="2097"/>
                    <a:pt x="3042" y="2094"/>
                  </a:cubicBezTo>
                  <a:cubicBezTo>
                    <a:pt x="3058" y="2085"/>
                    <a:pt x="3073" y="2080"/>
                    <a:pt x="3091" y="2090"/>
                  </a:cubicBezTo>
                  <a:cubicBezTo>
                    <a:pt x="3095" y="2092"/>
                    <a:pt x="3101" y="2093"/>
                    <a:pt x="3106" y="2093"/>
                  </a:cubicBezTo>
                  <a:cubicBezTo>
                    <a:pt x="3139" y="2093"/>
                    <a:pt x="3173" y="2087"/>
                    <a:pt x="3204" y="2095"/>
                  </a:cubicBezTo>
                  <a:cubicBezTo>
                    <a:pt x="3237" y="2104"/>
                    <a:pt x="3268" y="2092"/>
                    <a:pt x="3301" y="2097"/>
                  </a:cubicBezTo>
                  <a:cubicBezTo>
                    <a:pt x="3334" y="2102"/>
                    <a:pt x="3368" y="2103"/>
                    <a:pt x="3401" y="2092"/>
                  </a:cubicBezTo>
                  <a:cubicBezTo>
                    <a:pt x="3394" y="2086"/>
                    <a:pt x="3387" y="2083"/>
                    <a:pt x="3380" y="2083"/>
                  </a:cubicBezTo>
                  <a:cubicBezTo>
                    <a:pt x="3360" y="2082"/>
                    <a:pt x="3340" y="2084"/>
                    <a:pt x="3320" y="2083"/>
                  </a:cubicBezTo>
                  <a:cubicBezTo>
                    <a:pt x="3288" y="2080"/>
                    <a:pt x="3256" y="2079"/>
                    <a:pt x="3226" y="2072"/>
                  </a:cubicBezTo>
                  <a:cubicBezTo>
                    <a:pt x="3193" y="2064"/>
                    <a:pt x="3162" y="2063"/>
                    <a:pt x="3129" y="2064"/>
                  </a:cubicBezTo>
                  <a:cubicBezTo>
                    <a:pt x="3096" y="2065"/>
                    <a:pt x="3063" y="2062"/>
                    <a:pt x="3030" y="2067"/>
                  </a:cubicBezTo>
                  <a:cubicBezTo>
                    <a:pt x="2994" y="2072"/>
                    <a:pt x="2959" y="2068"/>
                    <a:pt x="2923" y="2061"/>
                  </a:cubicBezTo>
                  <a:cubicBezTo>
                    <a:pt x="2892" y="2054"/>
                    <a:pt x="2880" y="2040"/>
                    <a:pt x="2885" y="2008"/>
                  </a:cubicBezTo>
                  <a:cubicBezTo>
                    <a:pt x="2888" y="1984"/>
                    <a:pt x="2891" y="1960"/>
                    <a:pt x="2900" y="1938"/>
                  </a:cubicBezTo>
                  <a:cubicBezTo>
                    <a:pt x="2924" y="1875"/>
                    <a:pt x="2946" y="1811"/>
                    <a:pt x="2976" y="1751"/>
                  </a:cubicBezTo>
                  <a:cubicBezTo>
                    <a:pt x="3002" y="1701"/>
                    <a:pt x="3038" y="1655"/>
                    <a:pt x="3071" y="1609"/>
                  </a:cubicBezTo>
                  <a:cubicBezTo>
                    <a:pt x="3098" y="1573"/>
                    <a:pt x="3128" y="1539"/>
                    <a:pt x="3157" y="1504"/>
                  </a:cubicBezTo>
                  <a:cubicBezTo>
                    <a:pt x="3160" y="1500"/>
                    <a:pt x="3160" y="1494"/>
                    <a:pt x="3161" y="1489"/>
                  </a:cubicBezTo>
                  <a:cubicBezTo>
                    <a:pt x="3205" y="1459"/>
                    <a:pt x="3248" y="1429"/>
                    <a:pt x="3291" y="1398"/>
                  </a:cubicBezTo>
                  <a:cubicBezTo>
                    <a:pt x="3300" y="1392"/>
                    <a:pt x="3307" y="1382"/>
                    <a:pt x="3316" y="1379"/>
                  </a:cubicBezTo>
                  <a:cubicBezTo>
                    <a:pt x="3340" y="1371"/>
                    <a:pt x="3355" y="1352"/>
                    <a:pt x="3367" y="1333"/>
                  </a:cubicBezTo>
                  <a:cubicBezTo>
                    <a:pt x="3375" y="1320"/>
                    <a:pt x="3383" y="1314"/>
                    <a:pt x="3397" y="1311"/>
                  </a:cubicBezTo>
                  <a:cubicBezTo>
                    <a:pt x="3410" y="1308"/>
                    <a:pt x="3422" y="1303"/>
                    <a:pt x="3435" y="1298"/>
                  </a:cubicBezTo>
                  <a:cubicBezTo>
                    <a:pt x="3461" y="1290"/>
                    <a:pt x="3477" y="1273"/>
                    <a:pt x="3470" y="1242"/>
                  </a:cubicBezTo>
                  <a:cubicBezTo>
                    <a:pt x="3483" y="1237"/>
                    <a:pt x="3495" y="1232"/>
                    <a:pt x="3504" y="1228"/>
                  </a:cubicBezTo>
                  <a:cubicBezTo>
                    <a:pt x="3510" y="1239"/>
                    <a:pt x="3514" y="1245"/>
                    <a:pt x="3517" y="1251"/>
                  </a:cubicBezTo>
                  <a:cubicBezTo>
                    <a:pt x="3520" y="1250"/>
                    <a:pt x="3523" y="1249"/>
                    <a:pt x="3526" y="1248"/>
                  </a:cubicBezTo>
                  <a:cubicBezTo>
                    <a:pt x="3524" y="1235"/>
                    <a:pt x="3522" y="1223"/>
                    <a:pt x="3519" y="1205"/>
                  </a:cubicBezTo>
                  <a:cubicBezTo>
                    <a:pt x="3478" y="1225"/>
                    <a:pt x="3440" y="1239"/>
                    <a:pt x="3408" y="1260"/>
                  </a:cubicBezTo>
                  <a:cubicBezTo>
                    <a:pt x="3361" y="1291"/>
                    <a:pt x="3317" y="1326"/>
                    <a:pt x="3273" y="1360"/>
                  </a:cubicBezTo>
                  <a:cubicBezTo>
                    <a:pt x="3266" y="1365"/>
                    <a:pt x="3256" y="1375"/>
                    <a:pt x="3257" y="1380"/>
                  </a:cubicBezTo>
                  <a:cubicBezTo>
                    <a:pt x="3262" y="1401"/>
                    <a:pt x="3247" y="1409"/>
                    <a:pt x="3236" y="1419"/>
                  </a:cubicBezTo>
                  <a:cubicBezTo>
                    <a:pt x="3211" y="1443"/>
                    <a:pt x="3181" y="1460"/>
                    <a:pt x="3162" y="1490"/>
                  </a:cubicBezTo>
                  <a:close/>
                  <a:moveTo>
                    <a:pt x="4013" y="2116"/>
                  </a:moveTo>
                  <a:cubicBezTo>
                    <a:pt x="3994" y="2115"/>
                    <a:pt x="3975" y="2113"/>
                    <a:pt x="3959" y="2112"/>
                  </a:cubicBezTo>
                  <a:cubicBezTo>
                    <a:pt x="3944" y="2123"/>
                    <a:pt x="3942" y="2146"/>
                    <a:pt x="3919" y="2144"/>
                  </a:cubicBezTo>
                  <a:cubicBezTo>
                    <a:pt x="3902" y="2099"/>
                    <a:pt x="3905" y="2050"/>
                    <a:pt x="3889" y="2005"/>
                  </a:cubicBezTo>
                  <a:cubicBezTo>
                    <a:pt x="3873" y="1959"/>
                    <a:pt x="3864" y="1911"/>
                    <a:pt x="3851" y="1864"/>
                  </a:cubicBezTo>
                  <a:cubicBezTo>
                    <a:pt x="3837" y="1818"/>
                    <a:pt x="3821" y="1772"/>
                    <a:pt x="3806" y="1727"/>
                  </a:cubicBezTo>
                  <a:cubicBezTo>
                    <a:pt x="3799" y="1733"/>
                    <a:pt x="3797" y="1739"/>
                    <a:pt x="3798" y="1744"/>
                  </a:cubicBezTo>
                  <a:cubicBezTo>
                    <a:pt x="3809" y="1788"/>
                    <a:pt x="3823" y="1831"/>
                    <a:pt x="3832" y="1876"/>
                  </a:cubicBezTo>
                  <a:cubicBezTo>
                    <a:pt x="3841" y="1920"/>
                    <a:pt x="3851" y="1964"/>
                    <a:pt x="3835" y="2009"/>
                  </a:cubicBezTo>
                  <a:cubicBezTo>
                    <a:pt x="3832" y="2016"/>
                    <a:pt x="3832" y="2025"/>
                    <a:pt x="3834" y="2032"/>
                  </a:cubicBezTo>
                  <a:cubicBezTo>
                    <a:pt x="3846" y="2075"/>
                    <a:pt x="3838" y="2099"/>
                    <a:pt x="3802" y="2122"/>
                  </a:cubicBezTo>
                  <a:cubicBezTo>
                    <a:pt x="3816" y="2154"/>
                    <a:pt x="3787" y="2169"/>
                    <a:pt x="3769" y="2192"/>
                  </a:cubicBezTo>
                  <a:cubicBezTo>
                    <a:pt x="3796" y="2207"/>
                    <a:pt x="3822" y="2200"/>
                    <a:pt x="3848" y="2200"/>
                  </a:cubicBezTo>
                  <a:cubicBezTo>
                    <a:pt x="3875" y="2199"/>
                    <a:pt x="3897" y="2192"/>
                    <a:pt x="3914" y="2170"/>
                  </a:cubicBezTo>
                  <a:cubicBezTo>
                    <a:pt x="3923" y="2160"/>
                    <a:pt x="3939" y="2156"/>
                    <a:pt x="3951" y="2150"/>
                  </a:cubicBezTo>
                  <a:cubicBezTo>
                    <a:pt x="3956" y="2155"/>
                    <a:pt x="3959" y="2158"/>
                    <a:pt x="3961" y="2161"/>
                  </a:cubicBezTo>
                  <a:cubicBezTo>
                    <a:pt x="3981" y="2190"/>
                    <a:pt x="4011" y="2215"/>
                    <a:pt x="4005" y="2257"/>
                  </a:cubicBezTo>
                  <a:cubicBezTo>
                    <a:pt x="4005" y="2260"/>
                    <a:pt x="4010" y="2264"/>
                    <a:pt x="4015" y="2271"/>
                  </a:cubicBezTo>
                  <a:cubicBezTo>
                    <a:pt x="4041" y="2223"/>
                    <a:pt x="4036" y="2175"/>
                    <a:pt x="4042" y="2123"/>
                  </a:cubicBezTo>
                  <a:cubicBezTo>
                    <a:pt x="4026" y="2131"/>
                    <a:pt x="4016" y="2135"/>
                    <a:pt x="4003" y="2141"/>
                  </a:cubicBezTo>
                  <a:cubicBezTo>
                    <a:pt x="4007" y="2130"/>
                    <a:pt x="4010" y="2122"/>
                    <a:pt x="4012" y="2115"/>
                  </a:cubicBezTo>
                  <a:cubicBezTo>
                    <a:pt x="4018" y="2109"/>
                    <a:pt x="4030" y="2103"/>
                    <a:pt x="4030" y="2097"/>
                  </a:cubicBezTo>
                  <a:cubicBezTo>
                    <a:pt x="4030" y="2072"/>
                    <a:pt x="4026" y="2048"/>
                    <a:pt x="4023" y="2023"/>
                  </a:cubicBezTo>
                  <a:cubicBezTo>
                    <a:pt x="4022" y="2020"/>
                    <a:pt x="4016" y="2017"/>
                    <a:pt x="4008" y="2010"/>
                  </a:cubicBezTo>
                  <a:cubicBezTo>
                    <a:pt x="4013" y="2034"/>
                    <a:pt x="4016" y="2052"/>
                    <a:pt x="4020" y="2070"/>
                  </a:cubicBezTo>
                  <a:cubicBezTo>
                    <a:pt x="4018" y="2070"/>
                    <a:pt x="4016" y="2070"/>
                    <a:pt x="4014" y="2071"/>
                  </a:cubicBezTo>
                  <a:cubicBezTo>
                    <a:pt x="4007" y="2062"/>
                    <a:pt x="4001" y="2054"/>
                    <a:pt x="3990" y="2040"/>
                  </a:cubicBezTo>
                  <a:cubicBezTo>
                    <a:pt x="3982" y="2056"/>
                    <a:pt x="3977" y="2067"/>
                    <a:pt x="3970" y="2083"/>
                  </a:cubicBezTo>
                  <a:cubicBezTo>
                    <a:pt x="3999" y="2082"/>
                    <a:pt x="4008" y="2097"/>
                    <a:pt x="4013" y="2116"/>
                  </a:cubicBezTo>
                  <a:close/>
                  <a:moveTo>
                    <a:pt x="1362" y="4099"/>
                  </a:moveTo>
                  <a:cubicBezTo>
                    <a:pt x="1384" y="4101"/>
                    <a:pt x="1381" y="4113"/>
                    <a:pt x="1371" y="4125"/>
                  </a:cubicBezTo>
                  <a:cubicBezTo>
                    <a:pt x="1367" y="4130"/>
                    <a:pt x="1360" y="4131"/>
                    <a:pt x="1353" y="4135"/>
                  </a:cubicBezTo>
                  <a:cubicBezTo>
                    <a:pt x="1372" y="4151"/>
                    <a:pt x="1383" y="4136"/>
                    <a:pt x="1395" y="4130"/>
                  </a:cubicBezTo>
                  <a:cubicBezTo>
                    <a:pt x="1410" y="4122"/>
                    <a:pt x="1420" y="4132"/>
                    <a:pt x="1433" y="4142"/>
                  </a:cubicBezTo>
                  <a:cubicBezTo>
                    <a:pt x="1429" y="4125"/>
                    <a:pt x="1429" y="4113"/>
                    <a:pt x="1446" y="4119"/>
                  </a:cubicBezTo>
                  <a:cubicBezTo>
                    <a:pt x="1462" y="4125"/>
                    <a:pt x="1472" y="4138"/>
                    <a:pt x="1474" y="4155"/>
                  </a:cubicBezTo>
                  <a:cubicBezTo>
                    <a:pt x="1475" y="4163"/>
                    <a:pt x="1476" y="4171"/>
                    <a:pt x="1478" y="4186"/>
                  </a:cubicBezTo>
                  <a:cubicBezTo>
                    <a:pt x="1487" y="4164"/>
                    <a:pt x="1492" y="4149"/>
                    <a:pt x="1499" y="4130"/>
                  </a:cubicBezTo>
                  <a:cubicBezTo>
                    <a:pt x="1523" y="4152"/>
                    <a:pt x="1545" y="4165"/>
                    <a:pt x="1549" y="4198"/>
                  </a:cubicBezTo>
                  <a:cubicBezTo>
                    <a:pt x="1551" y="4218"/>
                    <a:pt x="1553" y="4246"/>
                    <a:pt x="1580" y="4262"/>
                  </a:cubicBezTo>
                  <a:cubicBezTo>
                    <a:pt x="1584" y="4250"/>
                    <a:pt x="1587" y="4240"/>
                    <a:pt x="1590" y="4231"/>
                  </a:cubicBezTo>
                  <a:cubicBezTo>
                    <a:pt x="1563" y="4214"/>
                    <a:pt x="1559" y="4202"/>
                    <a:pt x="1570" y="4165"/>
                  </a:cubicBezTo>
                  <a:cubicBezTo>
                    <a:pt x="1585" y="4180"/>
                    <a:pt x="1599" y="4193"/>
                    <a:pt x="1614" y="4208"/>
                  </a:cubicBezTo>
                  <a:cubicBezTo>
                    <a:pt x="1620" y="4196"/>
                    <a:pt x="1626" y="4185"/>
                    <a:pt x="1630" y="4177"/>
                  </a:cubicBezTo>
                  <a:cubicBezTo>
                    <a:pt x="1667" y="4201"/>
                    <a:pt x="1682" y="4226"/>
                    <a:pt x="1683" y="4260"/>
                  </a:cubicBezTo>
                  <a:cubicBezTo>
                    <a:pt x="1699" y="4247"/>
                    <a:pt x="1685" y="4222"/>
                    <a:pt x="1714" y="4221"/>
                  </a:cubicBezTo>
                  <a:cubicBezTo>
                    <a:pt x="1714" y="4240"/>
                    <a:pt x="1714" y="4257"/>
                    <a:pt x="1714" y="4284"/>
                  </a:cubicBezTo>
                  <a:cubicBezTo>
                    <a:pt x="1725" y="4272"/>
                    <a:pt x="1734" y="4265"/>
                    <a:pt x="1733" y="4262"/>
                  </a:cubicBezTo>
                  <a:cubicBezTo>
                    <a:pt x="1724" y="4234"/>
                    <a:pt x="1742" y="4234"/>
                    <a:pt x="1763" y="4232"/>
                  </a:cubicBezTo>
                  <a:cubicBezTo>
                    <a:pt x="1763" y="4242"/>
                    <a:pt x="1763" y="4250"/>
                    <a:pt x="1763" y="4250"/>
                  </a:cubicBezTo>
                  <a:cubicBezTo>
                    <a:pt x="1806" y="4281"/>
                    <a:pt x="1844" y="4308"/>
                    <a:pt x="1882" y="4335"/>
                  </a:cubicBezTo>
                  <a:cubicBezTo>
                    <a:pt x="1860" y="4302"/>
                    <a:pt x="1889" y="4285"/>
                    <a:pt x="1908" y="4269"/>
                  </a:cubicBezTo>
                  <a:cubicBezTo>
                    <a:pt x="1927" y="4254"/>
                    <a:pt x="1953" y="4247"/>
                    <a:pt x="1976" y="4236"/>
                  </a:cubicBezTo>
                  <a:cubicBezTo>
                    <a:pt x="1977" y="4238"/>
                    <a:pt x="1978" y="4239"/>
                    <a:pt x="1980" y="4241"/>
                  </a:cubicBezTo>
                  <a:cubicBezTo>
                    <a:pt x="1976" y="4248"/>
                    <a:pt x="1973" y="4256"/>
                    <a:pt x="1966" y="4268"/>
                  </a:cubicBezTo>
                  <a:cubicBezTo>
                    <a:pt x="1983" y="4268"/>
                    <a:pt x="1997" y="4270"/>
                    <a:pt x="2011" y="4267"/>
                  </a:cubicBezTo>
                  <a:cubicBezTo>
                    <a:pt x="2024" y="4265"/>
                    <a:pt x="2036" y="4257"/>
                    <a:pt x="2047" y="4253"/>
                  </a:cubicBezTo>
                  <a:cubicBezTo>
                    <a:pt x="2050" y="4263"/>
                    <a:pt x="2051" y="4275"/>
                    <a:pt x="2053" y="4275"/>
                  </a:cubicBezTo>
                  <a:cubicBezTo>
                    <a:pt x="2061" y="4276"/>
                    <a:pt x="2070" y="4273"/>
                    <a:pt x="2080" y="4271"/>
                  </a:cubicBezTo>
                  <a:cubicBezTo>
                    <a:pt x="2082" y="4282"/>
                    <a:pt x="2085" y="4293"/>
                    <a:pt x="2088" y="4305"/>
                  </a:cubicBezTo>
                  <a:cubicBezTo>
                    <a:pt x="2067" y="4283"/>
                    <a:pt x="2050" y="4309"/>
                    <a:pt x="2026" y="4306"/>
                  </a:cubicBezTo>
                  <a:cubicBezTo>
                    <a:pt x="2031" y="4319"/>
                    <a:pt x="2034" y="4328"/>
                    <a:pt x="2037" y="4336"/>
                  </a:cubicBezTo>
                  <a:cubicBezTo>
                    <a:pt x="2046" y="4309"/>
                    <a:pt x="2067" y="4307"/>
                    <a:pt x="2088" y="4305"/>
                  </a:cubicBezTo>
                  <a:cubicBezTo>
                    <a:pt x="2095" y="4294"/>
                    <a:pt x="2101" y="4283"/>
                    <a:pt x="2109" y="4270"/>
                  </a:cubicBezTo>
                  <a:cubicBezTo>
                    <a:pt x="2116" y="4271"/>
                    <a:pt x="2127" y="4271"/>
                    <a:pt x="2137" y="4272"/>
                  </a:cubicBezTo>
                  <a:cubicBezTo>
                    <a:pt x="2141" y="4283"/>
                    <a:pt x="2148" y="4293"/>
                    <a:pt x="2148" y="4303"/>
                  </a:cubicBezTo>
                  <a:cubicBezTo>
                    <a:pt x="2148" y="4311"/>
                    <a:pt x="2140" y="4319"/>
                    <a:pt x="2136" y="4327"/>
                  </a:cubicBezTo>
                  <a:cubicBezTo>
                    <a:pt x="2155" y="4337"/>
                    <a:pt x="2156" y="4323"/>
                    <a:pt x="2161" y="4312"/>
                  </a:cubicBezTo>
                  <a:cubicBezTo>
                    <a:pt x="2165" y="4300"/>
                    <a:pt x="2173" y="4290"/>
                    <a:pt x="2179" y="4280"/>
                  </a:cubicBezTo>
                  <a:cubicBezTo>
                    <a:pt x="2172" y="4273"/>
                    <a:pt x="2166" y="4266"/>
                    <a:pt x="2159" y="4260"/>
                  </a:cubicBezTo>
                  <a:cubicBezTo>
                    <a:pt x="2160" y="4258"/>
                    <a:pt x="2161" y="4256"/>
                    <a:pt x="2162" y="4254"/>
                  </a:cubicBezTo>
                  <a:cubicBezTo>
                    <a:pt x="2174" y="4256"/>
                    <a:pt x="2186" y="4258"/>
                    <a:pt x="2198" y="4260"/>
                  </a:cubicBezTo>
                  <a:cubicBezTo>
                    <a:pt x="2210" y="4248"/>
                    <a:pt x="2211" y="4235"/>
                    <a:pt x="2204" y="4219"/>
                  </a:cubicBezTo>
                  <a:cubicBezTo>
                    <a:pt x="2194" y="4223"/>
                    <a:pt x="2185" y="4227"/>
                    <a:pt x="2175" y="4231"/>
                  </a:cubicBezTo>
                  <a:cubicBezTo>
                    <a:pt x="2168" y="4223"/>
                    <a:pt x="2161" y="4215"/>
                    <a:pt x="2152" y="4205"/>
                  </a:cubicBezTo>
                  <a:cubicBezTo>
                    <a:pt x="2170" y="4200"/>
                    <a:pt x="2184" y="4196"/>
                    <a:pt x="2201" y="4190"/>
                  </a:cubicBezTo>
                  <a:cubicBezTo>
                    <a:pt x="2190" y="4187"/>
                    <a:pt x="2183" y="4185"/>
                    <a:pt x="2174" y="4183"/>
                  </a:cubicBezTo>
                  <a:cubicBezTo>
                    <a:pt x="2181" y="4177"/>
                    <a:pt x="2186" y="4172"/>
                    <a:pt x="2194" y="4166"/>
                  </a:cubicBezTo>
                  <a:cubicBezTo>
                    <a:pt x="2178" y="4160"/>
                    <a:pt x="2166" y="4157"/>
                    <a:pt x="2148" y="4151"/>
                  </a:cubicBezTo>
                  <a:cubicBezTo>
                    <a:pt x="2177" y="4118"/>
                    <a:pt x="2203" y="4090"/>
                    <a:pt x="2230" y="4060"/>
                  </a:cubicBezTo>
                  <a:cubicBezTo>
                    <a:pt x="2222" y="4053"/>
                    <a:pt x="2215" y="4047"/>
                    <a:pt x="2212" y="4045"/>
                  </a:cubicBezTo>
                  <a:cubicBezTo>
                    <a:pt x="2189" y="4061"/>
                    <a:pt x="2170" y="4075"/>
                    <a:pt x="2154" y="4087"/>
                  </a:cubicBezTo>
                  <a:cubicBezTo>
                    <a:pt x="2149" y="4104"/>
                    <a:pt x="2144" y="4119"/>
                    <a:pt x="2142" y="4129"/>
                  </a:cubicBezTo>
                  <a:cubicBezTo>
                    <a:pt x="2119" y="4134"/>
                    <a:pt x="2102" y="4138"/>
                    <a:pt x="2086" y="4141"/>
                  </a:cubicBezTo>
                  <a:cubicBezTo>
                    <a:pt x="2087" y="4156"/>
                    <a:pt x="2088" y="4164"/>
                    <a:pt x="2089" y="4181"/>
                  </a:cubicBezTo>
                  <a:cubicBezTo>
                    <a:pt x="2074" y="4166"/>
                    <a:pt x="2064" y="4157"/>
                    <a:pt x="2056" y="4150"/>
                  </a:cubicBezTo>
                  <a:cubicBezTo>
                    <a:pt x="2046" y="4167"/>
                    <a:pt x="2036" y="4182"/>
                    <a:pt x="2026" y="4198"/>
                  </a:cubicBezTo>
                  <a:cubicBezTo>
                    <a:pt x="2077" y="4207"/>
                    <a:pt x="2077" y="4207"/>
                    <a:pt x="2082" y="4217"/>
                  </a:cubicBezTo>
                  <a:cubicBezTo>
                    <a:pt x="2051" y="4216"/>
                    <a:pt x="2020" y="4216"/>
                    <a:pt x="1989" y="4214"/>
                  </a:cubicBezTo>
                  <a:cubicBezTo>
                    <a:pt x="1985" y="4214"/>
                    <a:pt x="1981" y="4209"/>
                    <a:pt x="1975" y="4204"/>
                  </a:cubicBezTo>
                  <a:cubicBezTo>
                    <a:pt x="1986" y="4197"/>
                    <a:pt x="1994" y="4192"/>
                    <a:pt x="2001" y="4186"/>
                  </a:cubicBezTo>
                  <a:cubicBezTo>
                    <a:pt x="1999" y="4181"/>
                    <a:pt x="1999" y="4177"/>
                    <a:pt x="1997" y="4177"/>
                  </a:cubicBezTo>
                  <a:cubicBezTo>
                    <a:pt x="1971" y="4169"/>
                    <a:pt x="1945" y="4160"/>
                    <a:pt x="1919" y="4154"/>
                  </a:cubicBezTo>
                  <a:cubicBezTo>
                    <a:pt x="1902" y="4150"/>
                    <a:pt x="1885" y="4150"/>
                    <a:pt x="1868" y="4147"/>
                  </a:cubicBezTo>
                  <a:cubicBezTo>
                    <a:pt x="1854" y="4143"/>
                    <a:pt x="1841" y="4144"/>
                    <a:pt x="1826" y="4145"/>
                  </a:cubicBezTo>
                  <a:cubicBezTo>
                    <a:pt x="1802" y="4147"/>
                    <a:pt x="1777" y="4140"/>
                    <a:pt x="1753" y="4134"/>
                  </a:cubicBezTo>
                  <a:cubicBezTo>
                    <a:pt x="1736" y="4130"/>
                    <a:pt x="1721" y="4121"/>
                    <a:pt x="1705" y="4114"/>
                  </a:cubicBezTo>
                  <a:cubicBezTo>
                    <a:pt x="1712" y="4099"/>
                    <a:pt x="1712" y="4099"/>
                    <a:pt x="1711" y="4079"/>
                  </a:cubicBezTo>
                  <a:cubicBezTo>
                    <a:pt x="1697" y="4091"/>
                    <a:pt x="1685" y="4102"/>
                    <a:pt x="1670" y="4116"/>
                  </a:cubicBezTo>
                  <a:cubicBezTo>
                    <a:pt x="1682" y="4124"/>
                    <a:pt x="1690" y="4133"/>
                    <a:pt x="1701" y="4136"/>
                  </a:cubicBezTo>
                  <a:cubicBezTo>
                    <a:pt x="1737" y="4149"/>
                    <a:pt x="1774" y="4159"/>
                    <a:pt x="1811" y="4170"/>
                  </a:cubicBezTo>
                  <a:cubicBezTo>
                    <a:pt x="1825" y="4174"/>
                    <a:pt x="1840" y="4174"/>
                    <a:pt x="1846" y="4191"/>
                  </a:cubicBezTo>
                  <a:cubicBezTo>
                    <a:pt x="1847" y="4191"/>
                    <a:pt x="1847" y="4191"/>
                    <a:pt x="1847" y="4191"/>
                  </a:cubicBezTo>
                  <a:cubicBezTo>
                    <a:pt x="1830" y="4189"/>
                    <a:pt x="1812" y="4191"/>
                    <a:pt x="1796" y="4186"/>
                  </a:cubicBezTo>
                  <a:cubicBezTo>
                    <a:pt x="1734" y="4167"/>
                    <a:pt x="1670" y="4153"/>
                    <a:pt x="1615" y="4118"/>
                  </a:cubicBezTo>
                  <a:cubicBezTo>
                    <a:pt x="1614" y="4117"/>
                    <a:pt x="1612" y="4117"/>
                    <a:pt x="1611" y="4116"/>
                  </a:cubicBezTo>
                  <a:cubicBezTo>
                    <a:pt x="1596" y="4109"/>
                    <a:pt x="1583" y="4102"/>
                    <a:pt x="1566" y="4115"/>
                  </a:cubicBezTo>
                  <a:cubicBezTo>
                    <a:pt x="1562" y="4118"/>
                    <a:pt x="1550" y="4113"/>
                    <a:pt x="1543" y="4110"/>
                  </a:cubicBezTo>
                  <a:cubicBezTo>
                    <a:pt x="1509" y="4093"/>
                    <a:pt x="1478" y="4071"/>
                    <a:pt x="1438" y="4066"/>
                  </a:cubicBezTo>
                  <a:cubicBezTo>
                    <a:pt x="1414" y="4063"/>
                    <a:pt x="1385" y="4058"/>
                    <a:pt x="1368" y="4043"/>
                  </a:cubicBezTo>
                  <a:cubicBezTo>
                    <a:pt x="1352" y="4029"/>
                    <a:pt x="1334" y="4023"/>
                    <a:pt x="1317" y="4016"/>
                  </a:cubicBezTo>
                  <a:cubicBezTo>
                    <a:pt x="1292" y="4006"/>
                    <a:pt x="1268" y="3997"/>
                    <a:pt x="1246" y="3981"/>
                  </a:cubicBezTo>
                  <a:cubicBezTo>
                    <a:pt x="1225" y="3967"/>
                    <a:pt x="1202" y="3951"/>
                    <a:pt x="1167" y="3957"/>
                  </a:cubicBezTo>
                  <a:cubicBezTo>
                    <a:pt x="1173" y="3978"/>
                    <a:pt x="1178" y="3996"/>
                    <a:pt x="1183" y="4014"/>
                  </a:cubicBezTo>
                  <a:cubicBezTo>
                    <a:pt x="1183" y="4015"/>
                    <a:pt x="1187" y="4015"/>
                    <a:pt x="1193" y="4017"/>
                  </a:cubicBezTo>
                  <a:cubicBezTo>
                    <a:pt x="1197" y="4009"/>
                    <a:pt x="1201" y="4001"/>
                    <a:pt x="1206" y="3992"/>
                  </a:cubicBezTo>
                  <a:cubicBezTo>
                    <a:pt x="1249" y="4016"/>
                    <a:pt x="1296" y="4033"/>
                    <a:pt x="1339" y="4063"/>
                  </a:cubicBezTo>
                  <a:cubicBezTo>
                    <a:pt x="1330" y="4070"/>
                    <a:pt x="1325" y="4073"/>
                    <a:pt x="1320" y="4077"/>
                  </a:cubicBezTo>
                  <a:cubicBezTo>
                    <a:pt x="1337" y="4116"/>
                    <a:pt x="1337" y="4116"/>
                    <a:pt x="1363" y="4098"/>
                  </a:cubicBezTo>
                  <a:lnTo>
                    <a:pt x="1362" y="4099"/>
                  </a:lnTo>
                  <a:close/>
                  <a:moveTo>
                    <a:pt x="3244" y="2833"/>
                  </a:moveTo>
                  <a:cubicBezTo>
                    <a:pt x="3259" y="2849"/>
                    <a:pt x="3267" y="2859"/>
                    <a:pt x="3277" y="2868"/>
                  </a:cubicBezTo>
                  <a:cubicBezTo>
                    <a:pt x="3308" y="2895"/>
                    <a:pt x="3339" y="2924"/>
                    <a:pt x="3373" y="2948"/>
                  </a:cubicBezTo>
                  <a:cubicBezTo>
                    <a:pt x="3396" y="2965"/>
                    <a:pt x="3423" y="2977"/>
                    <a:pt x="3441" y="3001"/>
                  </a:cubicBezTo>
                  <a:cubicBezTo>
                    <a:pt x="3445" y="3005"/>
                    <a:pt x="3453" y="3011"/>
                    <a:pt x="3457" y="3010"/>
                  </a:cubicBezTo>
                  <a:cubicBezTo>
                    <a:pt x="3480" y="3003"/>
                    <a:pt x="3496" y="3017"/>
                    <a:pt x="3513" y="3025"/>
                  </a:cubicBezTo>
                  <a:cubicBezTo>
                    <a:pt x="3550" y="3042"/>
                    <a:pt x="3559" y="3040"/>
                    <a:pt x="3584" y="3008"/>
                  </a:cubicBezTo>
                  <a:cubicBezTo>
                    <a:pt x="3591" y="3000"/>
                    <a:pt x="3597" y="2991"/>
                    <a:pt x="3601" y="2981"/>
                  </a:cubicBezTo>
                  <a:cubicBezTo>
                    <a:pt x="3617" y="2941"/>
                    <a:pt x="3632" y="2900"/>
                    <a:pt x="3647" y="2863"/>
                  </a:cubicBezTo>
                  <a:cubicBezTo>
                    <a:pt x="3637" y="2849"/>
                    <a:pt x="3631" y="2839"/>
                    <a:pt x="3619" y="2823"/>
                  </a:cubicBezTo>
                  <a:cubicBezTo>
                    <a:pt x="3666" y="2823"/>
                    <a:pt x="3636" y="2787"/>
                    <a:pt x="3651" y="2771"/>
                  </a:cubicBezTo>
                  <a:cubicBezTo>
                    <a:pt x="3661" y="2770"/>
                    <a:pt x="3671" y="2770"/>
                    <a:pt x="3688" y="2769"/>
                  </a:cubicBezTo>
                  <a:cubicBezTo>
                    <a:pt x="3683" y="2789"/>
                    <a:pt x="3679" y="2807"/>
                    <a:pt x="3676" y="2824"/>
                  </a:cubicBezTo>
                  <a:cubicBezTo>
                    <a:pt x="3676" y="2827"/>
                    <a:pt x="3679" y="2831"/>
                    <a:pt x="3683" y="2837"/>
                  </a:cubicBezTo>
                  <a:cubicBezTo>
                    <a:pt x="3691" y="2828"/>
                    <a:pt x="3697" y="2821"/>
                    <a:pt x="3705" y="2813"/>
                  </a:cubicBezTo>
                  <a:cubicBezTo>
                    <a:pt x="3713" y="2830"/>
                    <a:pt x="3735" y="2834"/>
                    <a:pt x="3736" y="2856"/>
                  </a:cubicBezTo>
                  <a:cubicBezTo>
                    <a:pt x="3736" y="2860"/>
                    <a:pt x="3751" y="2864"/>
                    <a:pt x="3759" y="2867"/>
                  </a:cubicBezTo>
                  <a:cubicBezTo>
                    <a:pt x="3774" y="2819"/>
                    <a:pt x="3788" y="2777"/>
                    <a:pt x="3802" y="2735"/>
                  </a:cubicBezTo>
                  <a:cubicBezTo>
                    <a:pt x="3807" y="2717"/>
                    <a:pt x="3812" y="2699"/>
                    <a:pt x="3817" y="2683"/>
                  </a:cubicBezTo>
                  <a:cubicBezTo>
                    <a:pt x="3784" y="2659"/>
                    <a:pt x="3757" y="2631"/>
                    <a:pt x="3718" y="2655"/>
                  </a:cubicBezTo>
                  <a:cubicBezTo>
                    <a:pt x="3744" y="2672"/>
                    <a:pt x="3746" y="2681"/>
                    <a:pt x="3734" y="2705"/>
                  </a:cubicBezTo>
                  <a:cubicBezTo>
                    <a:pt x="3727" y="2719"/>
                    <a:pt x="3722" y="2734"/>
                    <a:pt x="3715" y="2751"/>
                  </a:cubicBezTo>
                  <a:cubicBezTo>
                    <a:pt x="3689" y="2743"/>
                    <a:pt x="3653" y="2761"/>
                    <a:pt x="3635" y="2719"/>
                  </a:cubicBezTo>
                  <a:cubicBezTo>
                    <a:pt x="3641" y="2706"/>
                    <a:pt x="3648" y="2690"/>
                    <a:pt x="3653" y="2679"/>
                  </a:cubicBezTo>
                  <a:cubicBezTo>
                    <a:pt x="3645" y="2661"/>
                    <a:pt x="3639" y="2646"/>
                    <a:pt x="3632" y="2630"/>
                  </a:cubicBezTo>
                  <a:cubicBezTo>
                    <a:pt x="3618" y="2631"/>
                    <a:pt x="3613" y="2639"/>
                    <a:pt x="3609" y="2653"/>
                  </a:cubicBezTo>
                  <a:cubicBezTo>
                    <a:pt x="3604" y="2676"/>
                    <a:pt x="3598" y="2700"/>
                    <a:pt x="3589" y="2722"/>
                  </a:cubicBezTo>
                  <a:cubicBezTo>
                    <a:pt x="3575" y="2759"/>
                    <a:pt x="3545" y="2778"/>
                    <a:pt x="3507" y="2781"/>
                  </a:cubicBezTo>
                  <a:cubicBezTo>
                    <a:pt x="3476" y="2784"/>
                    <a:pt x="3445" y="2782"/>
                    <a:pt x="3415" y="2782"/>
                  </a:cubicBezTo>
                  <a:cubicBezTo>
                    <a:pt x="3371" y="2782"/>
                    <a:pt x="3327" y="2782"/>
                    <a:pt x="3281" y="2782"/>
                  </a:cubicBezTo>
                  <a:cubicBezTo>
                    <a:pt x="3288" y="2800"/>
                    <a:pt x="3293" y="2814"/>
                    <a:pt x="3299" y="2829"/>
                  </a:cubicBezTo>
                  <a:cubicBezTo>
                    <a:pt x="3280" y="2830"/>
                    <a:pt x="3265" y="2831"/>
                    <a:pt x="3244" y="2833"/>
                  </a:cubicBezTo>
                  <a:close/>
                  <a:moveTo>
                    <a:pt x="830" y="1856"/>
                  </a:moveTo>
                  <a:cubicBezTo>
                    <a:pt x="837" y="1850"/>
                    <a:pt x="845" y="1845"/>
                    <a:pt x="849" y="1838"/>
                  </a:cubicBezTo>
                  <a:cubicBezTo>
                    <a:pt x="878" y="1790"/>
                    <a:pt x="930" y="1765"/>
                    <a:pt x="986" y="1773"/>
                  </a:cubicBezTo>
                  <a:cubicBezTo>
                    <a:pt x="1014" y="1777"/>
                    <a:pt x="1041" y="1779"/>
                    <a:pt x="1067" y="1757"/>
                  </a:cubicBezTo>
                  <a:cubicBezTo>
                    <a:pt x="1085" y="1782"/>
                    <a:pt x="1108" y="1788"/>
                    <a:pt x="1134" y="1779"/>
                  </a:cubicBezTo>
                  <a:cubicBezTo>
                    <a:pt x="1158" y="1734"/>
                    <a:pt x="1157" y="1729"/>
                    <a:pt x="1122" y="1697"/>
                  </a:cubicBezTo>
                  <a:cubicBezTo>
                    <a:pt x="1118" y="1694"/>
                    <a:pt x="1113" y="1691"/>
                    <a:pt x="1109" y="1687"/>
                  </a:cubicBezTo>
                  <a:cubicBezTo>
                    <a:pt x="1073" y="1656"/>
                    <a:pt x="1037" y="1625"/>
                    <a:pt x="1001" y="1593"/>
                  </a:cubicBezTo>
                  <a:cubicBezTo>
                    <a:pt x="976" y="1570"/>
                    <a:pt x="953" y="1545"/>
                    <a:pt x="929" y="1521"/>
                  </a:cubicBezTo>
                  <a:cubicBezTo>
                    <a:pt x="900" y="1494"/>
                    <a:pt x="870" y="1477"/>
                    <a:pt x="829" y="1500"/>
                  </a:cubicBezTo>
                  <a:cubicBezTo>
                    <a:pt x="814" y="1509"/>
                    <a:pt x="807" y="1501"/>
                    <a:pt x="806" y="1479"/>
                  </a:cubicBezTo>
                  <a:cubicBezTo>
                    <a:pt x="805" y="1476"/>
                    <a:pt x="804" y="1472"/>
                    <a:pt x="802" y="1464"/>
                  </a:cubicBezTo>
                  <a:cubicBezTo>
                    <a:pt x="793" y="1469"/>
                    <a:pt x="782" y="1471"/>
                    <a:pt x="779" y="1477"/>
                  </a:cubicBezTo>
                  <a:cubicBezTo>
                    <a:pt x="765" y="1506"/>
                    <a:pt x="740" y="1530"/>
                    <a:pt x="737" y="1566"/>
                  </a:cubicBezTo>
                  <a:cubicBezTo>
                    <a:pt x="736" y="1577"/>
                    <a:pt x="726" y="1586"/>
                    <a:pt x="721" y="1597"/>
                  </a:cubicBezTo>
                  <a:cubicBezTo>
                    <a:pt x="712" y="1619"/>
                    <a:pt x="702" y="1640"/>
                    <a:pt x="696" y="1663"/>
                  </a:cubicBezTo>
                  <a:cubicBezTo>
                    <a:pt x="691" y="1684"/>
                    <a:pt x="691" y="1706"/>
                    <a:pt x="688" y="1728"/>
                  </a:cubicBezTo>
                  <a:cubicBezTo>
                    <a:pt x="684" y="1750"/>
                    <a:pt x="679" y="1771"/>
                    <a:pt x="675" y="1795"/>
                  </a:cubicBezTo>
                  <a:cubicBezTo>
                    <a:pt x="685" y="1794"/>
                    <a:pt x="689" y="1795"/>
                    <a:pt x="692" y="1793"/>
                  </a:cubicBezTo>
                  <a:cubicBezTo>
                    <a:pt x="696" y="1792"/>
                    <a:pt x="699" y="1789"/>
                    <a:pt x="701" y="1787"/>
                  </a:cubicBezTo>
                  <a:cubicBezTo>
                    <a:pt x="697" y="1752"/>
                    <a:pt x="697" y="1752"/>
                    <a:pt x="718" y="1717"/>
                  </a:cubicBezTo>
                  <a:cubicBezTo>
                    <a:pt x="721" y="1711"/>
                    <a:pt x="723" y="1704"/>
                    <a:pt x="723" y="1698"/>
                  </a:cubicBezTo>
                  <a:cubicBezTo>
                    <a:pt x="719" y="1662"/>
                    <a:pt x="749" y="1644"/>
                    <a:pt x="764" y="1619"/>
                  </a:cubicBezTo>
                  <a:cubicBezTo>
                    <a:pt x="769" y="1610"/>
                    <a:pt x="782" y="1605"/>
                    <a:pt x="791" y="1599"/>
                  </a:cubicBezTo>
                  <a:cubicBezTo>
                    <a:pt x="818" y="1627"/>
                    <a:pt x="793" y="1645"/>
                    <a:pt x="783" y="1663"/>
                  </a:cubicBezTo>
                  <a:cubicBezTo>
                    <a:pt x="792" y="1671"/>
                    <a:pt x="807" y="1677"/>
                    <a:pt x="806" y="1683"/>
                  </a:cubicBezTo>
                  <a:cubicBezTo>
                    <a:pt x="805" y="1723"/>
                    <a:pt x="828" y="1761"/>
                    <a:pt x="816" y="1801"/>
                  </a:cubicBezTo>
                  <a:cubicBezTo>
                    <a:pt x="809" y="1821"/>
                    <a:pt x="814" y="1838"/>
                    <a:pt x="830" y="1856"/>
                  </a:cubicBezTo>
                  <a:close/>
                  <a:moveTo>
                    <a:pt x="924" y="2975"/>
                  </a:moveTo>
                  <a:cubicBezTo>
                    <a:pt x="931" y="2969"/>
                    <a:pt x="936" y="2965"/>
                    <a:pt x="941" y="2961"/>
                  </a:cubicBezTo>
                  <a:cubicBezTo>
                    <a:pt x="985" y="2925"/>
                    <a:pt x="1029" y="2889"/>
                    <a:pt x="1073" y="2852"/>
                  </a:cubicBezTo>
                  <a:cubicBezTo>
                    <a:pt x="1086" y="2840"/>
                    <a:pt x="1098" y="2825"/>
                    <a:pt x="1109" y="2810"/>
                  </a:cubicBezTo>
                  <a:cubicBezTo>
                    <a:pt x="1119" y="2796"/>
                    <a:pt x="1112" y="2778"/>
                    <a:pt x="1096" y="2776"/>
                  </a:cubicBezTo>
                  <a:cubicBezTo>
                    <a:pt x="1070" y="2774"/>
                    <a:pt x="1044" y="2773"/>
                    <a:pt x="1018" y="2771"/>
                  </a:cubicBezTo>
                  <a:cubicBezTo>
                    <a:pt x="984" y="2769"/>
                    <a:pt x="950" y="2767"/>
                    <a:pt x="915" y="2765"/>
                  </a:cubicBezTo>
                  <a:cubicBezTo>
                    <a:pt x="882" y="2762"/>
                    <a:pt x="858" y="2745"/>
                    <a:pt x="842" y="2717"/>
                  </a:cubicBezTo>
                  <a:cubicBezTo>
                    <a:pt x="834" y="2703"/>
                    <a:pt x="827" y="2688"/>
                    <a:pt x="820" y="2674"/>
                  </a:cubicBezTo>
                  <a:cubicBezTo>
                    <a:pt x="816" y="2668"/>
                    <a:pt x="812" y="2662"/>
                    <a:pt x="806" y="2653"/>
                  </a:cubicBezTo>
                  <a:cubicBezTo>
                    <a:pt x="800" y="2662"/>
                    <a:pt x="798" y="2669"/>
                    <a:pt x="793" y="2673"/>
                  </a:cubicBezTo>
                  <a:cubicBezTo>
                    <a:pt x="756" y="2707"/>
                    <a:pt x="763" y="2744"/>
                    <a:pt x="786" y="2783"/>
                  </a:cubicBezTo>
                  <a:cubicBezTo>
                    <a:pt x="793" y="2795"/>
                    <a:pt x="794" y="2810"/>
                    <a:pt x="795" y="2824"/>
                  </a:cubicBezTo>
                  <a:cubicBezTo>
                    <a:pt x="798" y="2860"/>
                    <a:pt x="797" y="2896"/>
                    <a:pt x="815" y="2929"/>
                  </a:cubicBezTo>
                  <a:cubicBezTo>
                    <a:pt x="823" y="2943"/>
                    <a:pt x="833" y="2957"/>
                    <a:pt x="843" y="2970"/>
                  </a:cubicBezTo>
                  <a:cubicBezTo>
                    <a:pt x="850" y="2979"/>
                    <a:pt x="858" y="2993"/>
                    <a:pt x="867" y="2993"/>
                  </a:cubicBezTo>
                  <a:cubicBezTo>
                    <a:pt x="882" y="2994"/>
                    <a:pt x="892" y="2981"/>
                    <a:pt x="894" y="2965"/>
                  </a:cubicBezTo>
                  <a:cubicBezTo>
                    <a:pt x="895" y="2963"/>
                    <a:pt x="899" y="2962"/>
                    <a:pt x="901" y="2961"/>
                  </a:cubicBezTo>
                  <a:cubicBezTo>
                    <a:pt x="908" y="2965"/>
                    <a:pt x="914" y="2969"/>
                    <a:pt x="924" y="2975"/>
                  </a:cubicBezTo>
                  <a:close/>
                  <a:moveTo>
                    <a:pt x="3183" y="1318"/>
                  </a:moveTo>
                  <a:cubicBezTo>
                    <a:pt x="3203" y="1303"/>
                    <a:pt x="3221" y="1288"/>
                    <a:pt x="3241" y="1275"/>
                  </a:cubicBezTo>
                  <a:cubicBezTo>
                    <a:pt x="3289" y="1244"/>
                    <a:pt x="3337" y="1213"/>
                    <a:pt x="3386" y="1184"/>
                  </a:cubicBezTo>
                  <a:cubicBezTo>
                    <a:pt x="3451" y="1145"/>
                    <a:pt x="3516" y="1107"/>
                    <a:pt x="3588" y="1082"/>
                  </a:cubicBezTo>
                  <a:cubicBezTo>
                    <a:pt x="3608" y="1075"/>
                    <a:pt x="3625" y="1068"/>
                    <a:pt x="3644" y="1081"/>
                  </a:cubicBezTo>
                  <a:cubicBezTo>
                    <a:pt x="3648" y="1084"/>
                    <a:pt x="3657" y="1082"/>
                    <a:pt x="3663" y="1080"/>
                  </a:cubicBezTo>
                  <a:cubicBezTo>
                    <a:pt x="3676" y="1076"/>
                    <a:pt x="3689" y="1071"/>
                    <a:pt x="3704" y="1066"/>
                  </a:cubicBezTo>
                  <a:cubicBezTo>
                    <a:pt x="3696" y="1033"/>
                    <a:pt x="3689" y="1001"/>
                    <a:pt x="3679" y="961"/>
                  </a:cubicBezTo>
                  <a:cubicBezTo>
                    <a:pt x="3660" y="978"/>
                    <a:pt x="3645" y="990"/>
                    <a:pt x="3630" y="1003"/>
                  </a:cubicBezTo>
                  <a:cubicBezTo>
                    <a:pt x="3623" y="998"/>
                    <a:pt x="3615" y="992"/>
                    <a:pt x="3604" y="984"/>
                  </a:cubicBezTo>
                  <a:cubicBezTo>
                    <a:pt x="3618" y="977"/>
                    <a:pt x="3624" y="974"/>
                    <a:pt x="3631" y="970"/>
                  </a:cubicBezTo>
                  <a:cubicBezTo>
                    <a:pt x="3632" y="938"/>
                    <a:pt x="3610" y="927"/>
                    <a:pt x="3585" y="917"/>
                  </a:cubicBezTo>
                  <a:cubicBezTo>
                    <a:pt x="3581" y="922"/>
                    <a:pt x="3579" y="927"/>
                    <a:pt x="3575" y="930"/>
                  </a:cubicBezTo>
                  <a:cubicBezTo>
                    <a:pt x="3558" y="946"/>
                    <a:pt x="3562" y="975"/>
                    <a:pt x="3538" y="986"/>
                  </a:cubicBezTo>
                  <a:cubicBezTo>
                    <a:pt x="3519" y="995"/>
                    <a:pt x="3500" y="1006"/>
                    <a:pt x="3482" y="1016"/>
                  </a:cubicBezTo>
                  <a:cubicBezTo>
                    <a:pt x="3476" y="1019"/>
                    <a:pt x="3466" y="1021"/>
                    <a:pt x="3466" y="1024"/>
                  </a:cubicBezTo>
                  <a:cubicBezTo>
                    <a:pt x="3462" y="1050"/>
                    <a:pt x="3439" y="1055"/>
                    <a:pt x="3421" y="1066"/>
                  </a:cubicBezTo>
                  <a:cubicBezTo>
                    <a:pt x="3410" y="1074"/>
                    <a:pt x="3398" y="1081"/>
                    <a:pt x="3391" y="1092"/>
                  </a:cubicBezTo>
                  <a:cubicBezTo>
                    <a:pt x="3378" y="1111"/>
                    <a:pt x="3361" y="1124"/>
                    <a:pt x="3342" y="1137"/>
                  </a:cubicBezTo>
                  <a:cubicBezTo>
                    <a:pt x="3328" y="1146"/>
                    <a:pt x="3315" y="1159"/>
                    <a:pt x="3309" y="1174"/>
                  </a:cubicBezTo>
                  <a:cubicBezTo>
                    <a:pt x="3296" y="1205"/>
                    <a:pt x="3268" y="1214"/>
                    <a:pt x="3243" y="1228"/>
                  </a:cubicBezTo>
                  <a:cubicBezTo>
                    <a:pt x="3239" y="1230"/>
                    <a:pt x="3236" y="1232"/>
                    <a:pt x="3233" y="1234"/>
                  </a:cubicBezTo>
                  <a:cubicBezTo>
                    <a:pt x="3234" y="1242"/>
                    <a:pt x="3234" y="1248"/>
                    <a:pt x="3235" y="1251"/>
                  </a:cubicBezTo>
                  <a:cubicBezTo>
                    <a:pt x="3219" y="1266"/>
                    <a:pt x="3205" y="1280"/>
                    <a:pt x="3191" y="1294"/>
                  </a:cubicBezTo>
                  <a:cubicBezTo>
                    <a:pt x="3183" y="1294"/>
                    <a:pt x="3173" y="1295"/>
                    <a:pt x="3156" y="1296"/>
                  </a:cubicBezTo>
                  <a:cubicBezTo>
                    <a:pt x="3168" y="1306"/>
                    <a:pt x="3175" y="1312"/>
                    <a:pt x="3183" y="1318"/>
                  </a:cubicBezTo>
                  <a:close/>
                  <a:moveTo>
                    <a:pt x="793" y="950"/>
                  </a:moveTo>
                  <a:cubicBezTo>
                    <a:pt x="819" y="970"/>
                    <a:pt x="843" y="985"/>
                    <a:pt x="863" y="1010"/>
                  </a:cubicBezTo>
                  <a:cubicBezTo>
                    <a:pt x="884" y="1038"/>
                    <a:pt x="922" y="1053"/>
                    <a:pt x="951" y="1075"/>
                  </a:cubicBezTo>
                  <a:cubicBezTo>
                    <a:pt x="1014" y="1121"/>
                    <a:pt x="1077" y="1168"/>
                    <a:pt x="1139" y="1215"/>
                  </a:cubicBezTo>
                  <a:cubicBezTo>
                    <a:pt x="1153" y="1225"/>
                    <a:pt x="1167" y="1232"/>
                    <a:pt x="1185" y="1231"/>
                  </a:cubicBezTo>
                  <a:cubicBezTo>
                    <a:pt x="1185" y="1225"/>
                    <a:pt x="1186" y="1222"/>
                    <a:pt x="1185" y="1220"/>
                  </a:cubicBezTo>
                  <a:cubicBezTo>
                    <a:pt x="1183" y="1217"/>
                    <a:pt x="1180" y="1214"/>
                    <a:pt x="1178" y="1211"/>
                  </a:cubicBezTo>
                  <a:cubicBezTo>
                    <a:pt x="1133" y="1161"/>
                    <a:pt x="1075" y="1124"/>
                    <a:pt x="1038" y="1065"/>
                  </a:cubicBezTo>
                  <a:cubicBezTo>
                    <a:pt x="1002" y="1009"/>
                    <a:pt x="942" y="976"/>
                    <a:pt x="888" y="939"/>
                  </a:cubicBezTo>
                  <a:cubicBezTo>
                    <a:pt x="881" y="933"/>
                    <a:pt x="871" y="929"/>
                    <a:pt x="863" y="928"/>
                  </a:cubicBezTo>
                  <a:cubicBezTo>
                    <a:pt x="830" y="927"/>
                    <a:pt x="798" y="928"/>
                    <a:pt x="764" y="928"/>
                  </a:cubicBezTo>
                  <a:cubicBezTo>
                    <a:pt x="762" y="943"/>
                    <a:pt x="761" y="954"/>
                    <a:pt x="758" y="972"/>
                  </a:cubicBezTo>
                  <a:cubicBezTo>
                    <a:pt x="774" y="962"/>
                    <a:pt x="782" y="957"/>
                    <a:pt x="793" y="950"/>
                  </a:cubicBezTo>
                  <a:close/>
                  <a:moveTo>
                    <a:pt x="2187" y="2056"/>
                  </a:moveTo>
                  <a:cubicBezTo>
                    <a:pt x="2177" y="2055"/>
                    <a:pt x="2167" y="2054"/>
                    <a:pt x="2157" y="2054"/>
                  </a:cubicBezTo>
                  <a:cubicBezTo>
                    <a:pt x="2144" y="2054"/>
                    <a:pt x="2131" y="2055"/>
                    <a:pt x="2118" y="2055"/>
                  </a:cubicBezTo>
                  <a:cubicBezTo>
                    <a:pt x="2091" y="2055"/>
                    <a:pt x="2065" y="2053"/>
                    <a:pt x="2038" y="2053"/>
                  </a:cubicBezTo>
                  <a:cubicBezTo>
                    <a:pt x="2002" y="2052"/>
                    <a:pt x="1964" y="2058"/>
                    <a:pt x="1928" y="2051"/>
                  </a:cubicBezTo>
                  <a:cubicBezTo>
                    <a:pt x="1884" y="2041"/>
                    <a:pt x="1845" y="2051"/>
                    <a:pt x="1804" y="2063"/>
                  </a:cubicBezTo>
                  <a:cubicBezTo>
                    <a:pt x="1775" y="2071"/>
                    <a:pt x="1756" y="2099"/>
                    <a:pt x="1756" y="2125"/>
                  </a:cubicBezTo>
                  <a:cubicBezTo>
                    <a:pt x="1756" y="2146"/>
                    <a:pt x="1756" y="2167"/>
                    <a:pt x="1756" y="2191"/>
                  </a:cubicBezTo>
                  <a:cubicBezTo>
                    <a:pt x="1763" y="2177"/>
                    <a:pt x="1769" y="2165"/>
                    <a:pt x="1775" y="2152"/>
                  </a:cubicBezTo>
                  <a:cubicBezTo>
                    <a:pt x="1775" y="2180"/>
                    <a:pt x="1767" y="2207"/>
                    <a:pt x="1790" y="2237"/>
                  </a:cubicBezTo>
                  <a:cubicBezTo>
                    <a:pt x="1789" y="2213"/>
                    <a:pt x="1787" y="2195"/>
                    <a:pt x="1787" y="2178"/>
                  </a:cubicBezTo>
                  <a:cubicBezTo>
                    <a:pt x="1789" y="2130"/>
                    <a:pt x="1816" y="2094"/>
                    <a:pt x="1859" y="2083"/>
                  </a:cubicBezTo>
                  <a:cubicBezTo>
                    <a:pt x="1921" y="2067"/>
                    <a:pt x="1985" y="2075"/>
                    <a:pt x="2047" y="2084"/>
                  </a:cubicBezTo>
                  <a:cubicBezTo>
                    <a:pt x="2097" y="2091"/>
                    <a:pt x="2144" y="2092"/>
                    <a:pt x="2187" y="2056"/>
                  </a:cubicBezTo>
                  <a:close/>
                  <a:moveTo>
                    <a:pt x="1686" y="2840"/>
                  </a:moveTo>
                  <a:cubicBezTo>
                    <a:pt x="1694" y="2838"/>
                    <a:pt x="1697" y="2838"/>
                    <a:pt x="1699" y="2837"/>
                  </a:cubicBezTo>
                  <a:cubicBezTo>
                    <a:pt x="1702" y="2834"/>
                    <a:pt x="1704" y="2831"/>
                    <a:pt x="1706" y="2828"/>
                  </a:cubicBezTo>
                  <a:cubicBezTo>
                    <a:pt x="1734" y="2778"/>
                    <a:pt x="1750" y="2722"/>
                    <a:pt x="1796" y="2684"/>
                  </a:cubicBezTo>
                  <a:cubicBezTo>
                    <a:pt x="1798" y="2683"/>
                    <a:pt x="1798" y="2680"/>
                    <a:pt x="1799" y="2677"/>
                  </a:cubicBezTo>
                  <a:cubicBezTo>
                    <a:pt x="1806" y="2655"/>
                    <a:pt x="1806" y="2655"/>
                    <a:pt x="1823" y="2661"/>
                  </a:cubicBezTo>
                  <a:cubicBezTo>
                    <a:pt x="1833" y="2664"/>
                    <a:pt x="1845" y="2673"/>
                    <a:pt x="1853" y="2670"/>
                  </a:cubicBezTo>
                  <a:cubicBezTo>
                    <a:pt x="1883" y="2657"/>
                    <a:pt x="1913" y="2665"/>
                    <a:pt x="1943" y="2670"/>
                  </a:cubicBezTo>
                  <a:cubicBezTo>
                    <a:pt x="1970" y="2675"/>
                    <a:pt x="1997" y="2678"/>
                    <a:pt x="2025" y="2680"/>
                  </a:cubicBezTo>
                  <a:cubicBezTo>
                    <a:pt x="2039" y="2680"/>
                    <a:pt x="2053" y="2676"/>
                    <a:pt x="2067" y="2673"/>
                  </a:cubicBezTo>
                  <a:cubicBezTo>
                    <a:pt x="2074" y="2672"/>
                    <a:pt x="2082" y="2670"/>
                    <a:pt x="2090" y="2669"/>
                  </a:cubicBezTo>
                  <a:cubicBezTo>
                    <a:pt x="2115" y="2666"/>
                    <a:pt x="2142" y="2664"/>
                    <a:pt x="2167" y="2660"/>
                  </a:cubicBezTo>
                  <a:cubicBezTo>
                    <a:pt x="2176" y="2659"/>
                    <a:pt x="2183" y="2650"/>
                    <a:pt x="2196" y="2642"/>
                  </a:cubicBezTo>
                  <a:cubicBezTo>
                    <a:pt x="2144" y="2645"/>
                    <a:pt x="2098" y="2654"/>
                    <a:pt x="2055" y="2647"/>
                  </a:cubicBezTo>
                  <a:cubicBezTo>
                    <a:pt x="1968" y="2633"/>
                    <a:pt x="1883" y="2646"/>
                    <a:pt x="1797" y="2650"/>
                  </a:cubicBezTo>
                  <a:cubicBezTo>
                    <a:pt x="1780" y="2651"/>
                    <a:pt x="1768" y="2657"/>
                    <a:pt x="1767" y="2675"/>
                  </a:cubicBezTo>
                  <a:cubicBezTo>
                    <a:pt x="1766" y="2693"/>
                    <a:pt x="1753" y="2695"/>
                    <a:pt x="1739" y="2697"/>
                  </a:cubicBezTo>
                  <a:cubicBezTo>
                    <a:pt x="1738" y="2697"/>
                    <a:pt x="1736" y="2701"/>
                    <a:pt x="1734" y="2704"/>
                  </a:cubicBezTo>
                  <a:cubicBezTo>
                    <a:pt x="1738" y="2711"/>
                    <a:pt x="1741" y="2719"/>
                    <a:pt x="1747" y="2731"/>
                  </a:cubicBezTo>
                  <a:cubicBezTo>
                    <a:pt x="1708" y="2755"/>
                    <a:pt x="1686" y="2790"/>
                    <a:pt x="1686" y="2840"/>
                  </a:cubicBezTo>
                  <a:close/>
                  <a:moveTo>
                    <a:pt x="562" y="1922"/>
                  </a:moveTo>
                  <a:cubicBezTo>
                    <a:pt x="551" y="1926"/>
                    <a:pt x="541" y="1927"/>
                    <a:pt x="539" y="1932"/>
                  </a:cubicBezTo>
                  <a:cubicBezTo>
                    <a:pt x="534" y="1943"/>
                    <a:pt x="526" y="1958"/>
                    <a:pt x="529" y="1969"/>
                  </a:cubicBezTo>
                  <a:cubicBezTo>
                    <a:pt x="539" y="2001"/>
                    <a:pt x="527" y="2030"/>
                    <a:pt x="521" y="2061"/>
                  </a:cubicBezTo>
                  <a:cubicBezTo>
                    <a:pt x="513" y="2057"/>
                    <a:pt x="507" y="2054"/>
                    <a:pt x="501" y="2051"/>
                  </a:cubicBezTo>
                  <a:cubicBezTo>
                    <a:pt x="497" y="2068"/>
                    <a:pt x="493" y="2083"/>
                    <a:pt x="489" y="2100"/>
                  </a:cubicBezTo>
                  <a:cubicBezTo>
                    <a:pt x="498" y="2098"/>
                    <a:pt x="506" y="2096"/>
                    <a:pt x="515" y="2094"/>
                  </a:cubicBezTo>
                  <a:cubicBezTo>
                    <a:pt x="518" y="2127"/>
                    <a:pt x="518" y="2159"/>
                    <a:pt x="559" y="2166"/>
                  </a:cubicBezTo>
                  <a:cubicBezTo>
                    <a:pt x="593" y="2171"/>
                    <a:pt x="605" y="2168"/>
                    <a:pt x="620" y="2143"/>
                  </a:cubicBezTo>
                  <a:cubicBezTo>
                    <a:pt x="603" y="2109"/>
                    <a:pt x="585" y="2077"/>
                    <a:pt x="570" y="2043"/>
                  </a:cubicBezTo>
                  <a:cubicBezTo>
                    <a:pt x="555" y="2007"/>
                    <a:pt x="558" y="1969"/>
                    <a:pt x="562" y="1922"/>
                  </a:cubicBezTo>
                  <a:close/>
                  <a:moveTo>
                    <a:pt x="1691" y="2258"/>
                  </a:moveTo>
                  <a:cubicBezTo>
                    <a:pt x="1690" y="2256"/>
                    <a:pt x="1689" y="2253"/>
                    <a:pt x="1688" y="2250"/>
                  </a:cubicBezTo>
                  <a:cubicBezTo>
                    <a:pt x="1669" y="2250"/>
                    <a:pt x="1651" y="2250"/>
                    <a:pt x="1633" y="2250"/>
                  </a:cubicBezTo>
                  <a:cubicBezTo>
                    <a:pt x="1539" y="2253"/>
                    <a:pt x="1445" y="2256"/>
                    <a:pt x="1351" y="2257"/>
                  </a:cubicBezTo>
                  <a:cubicBezTo>
                    <a:pt x="1299" y="2258"/>
                    <a:pt x="1248" y="2256"/>
                    <a:pt x="1196" y="2256"/>
                  </a:cubicBezTo>
                  <a:cubicBezTo>
                    <a:pt x="1120" y="2256"/>
                    <a:pt x="1043" y="2264"/>
                    <a:pt x="966" y="2251"/>
                  </a:cubicBezTo>
                  <a:cubicBezTo>
                    <a:pt x="963" y="2251"/>
                    <a:pt x="960" y="2254"/>
                    <a:pt x="951" y="2258"/>
                  </a:cubicBezTo>
                  <a:cubicBezTo>
                    <a:pt x="959" y="2263"/>
                    <a:pt x="964" y="2266"/>
                    <a:pt x="970" y="2270"/>
                  </a:cubicBezTo>
                  <a:cubicBezTo>
                    <a:pt x="966" y="2273"/>
                    <a:pt x="963" y="2276"/>
                    <a:pt x="960" y="2278"/>
                  </a:cubicBezTo>
                  <a:cubicBezTo>
                    <a:pt x="977" y="2278"/>
                    <a:pt x="990" y="2267"/>
                    <a:pt x="1003" y="2267"/>
                  </a:cubicBezTo>
                  <a:cubicBezTo>
                    <a:pt x="1037" y="2266"/>
                    <a:pt x="1071" y="2269"/>
                    <a:pt x="1105" y="2272"/>
                  </a:cubicBezTo>
                  <a:cubicBezTo>
                    <a:pt x="1144" y="2275"/>
                    <a:pt x="1183" y="2284"/>
                    <a:pt x="1221" y="2269"/>
                  </a:cubicBezTo>
                  <a:cubicBezTo>
                    <a:pt x="1245" y="2283"/>
                    <a:pt x="1245" y="2283"/>
                    <a:pt x="1285" y="2275"/>
                  </a:cubicBezTo>
                  <a:cubicBezTo>
                    <a:pt x="1290" y="2274"/>
                    <a:pt x="1297" y="2274"/>
                    <a:pt x="1300" y="2276"/>
                  </a:cubicBezTo>
                  <a:cubicBezTo>
                    <a:pt x="1315" y="2286"/>
                    <a:pt x="1328" y="2279"/>
                    <a:pt x="1342" y="2277"/>
                  </a:cubicBezTo>
                  <a:cubicBezTo>
                    <a:pt x="1361" y="2275"/>
                    <a:pt x="1380" y="2267"/>
                    <a:pt x="1399" y="2273"/>
                  </a:cubicBezTo>
                  <a:cubicBezTo>
                    <a:pt x="1414" y="2277"/>
                    <a:pt x="1426" y="2283"/>
                    <a:pt x="1442" y="2271"/>
                  </a:cubicBezTo>
                  <a:cubicBezTo>
                    <a:pt x="1452" y="2264"/>
                    <a:pt x="1479" y="2263"/>
                    <a:pt x="1483" y="2269"/>
                  </a:cubicBezTo>
                  <a:cubicBezTo>
                    <a:pt x="1495" y="2290"/>
                    <a:pt x="1504" y="2280"/>
                    <a:pt x="1517" y="2273"/>
                  </a:cubicBezTo>
                  <a:cubicBezTo>
                    <a:pt x="1524" y="2269"/>
                    <a:pt x="1541" y="2267"/>
                    <a:pt x="1542" y="2268"/>
                  </a:cubicBezTo>
                  <a:cubicBezTo>
                    <a:pt x="1550" y="2289"/>
                    <a:pt x="1563" y="2277"/>
                    <a:pt x="1576" y="2277"/>
                  </a:cubicBezTo>
                  <a:cubicBezTo>
                    <a:pt x="1596" y="2277"/>
                    <a:pt x="1612" y="2270"/>
                    <a:pt x="1629" y="2261"/>
                  </a:cubicBezTo>
                  <a:cubicBezTo>
                    <a:pt x="1636" y="2258"/>
                    <a:pt x="1646" y="2258"/>
                    <a:pt x="1653" y="2260"/>
                  </a:cubicBezTo>
                  <a:cubicBezTo>
                    <a:pt x="1660" y="2263"/>
                    <a:pt x="1666" y="2271"/>
                    <a:pt x="1673" y="2278"/>
                  </a:cubicBezTo>
                  <a:cubicBezTo>
                    <a:pt x="1679" y="2271"/>
                    <a:pt x="1685" y="2265"/>
                    <a:pt x="1691" y="2258"/>
                  </a:cubicBezTo>
                  <a:close/>
                  <a:moveTo>
                    <a:pt x="3034" y="2729"/>
                  </a:moveTo>
                  <a:cubicBezTo>
                    <a:pt x="3024" y="2693"/>
                    <a:pt x="3022" y="2664"/>
                    <a:pt x="3036" y="2634"/>
                  </a:cubicBezTo>
                  <a:cubicBezTo>
                    <a:pt x="3050" y="2602"/>
                    <a:pt x="3085" y="2603"/>
                    <a:pt x="3108" y="2582"/>
                  </a:cubicBezTo>
                  <a:cubicBezTo>
                    <a:pt x="3065" y="2565"/>
                    <a:pt x="3046" y="2564"/>
                    <a:pt x="3005" y="2578"/>
                  </a:cubicBezTo>
                  <a:cubicBezTo>
                    <a:pt x="3003" y="2576"/>
                    <a:pt x="2999" y="2575"/>
                    <a:pt x="2996" y="2572"/>
                  </a:cubicBezTo>
                  <a:cubicBezTo>
                    <a:pt x="2985" y="2557"/>
                    <a:pt x="2968" y="2558"/>
                    <a:pt x="2958" y="2568"/>
                  </a:cubicBezTo>
                  <a:cubicBezTo>
                    <a:pt x="2950" y="2576"/>
                    <a:pt x="2948" y="2592"/>
                    <a:pt x="2948" y="2604"/>
                  </a:cubicBezTo>
                  <a:cubicBezTo>
                    <a:pt x="2948" y="2614"/>
                    <a:pt x="2957" y="2623"/>
                    <a:pt x="2960" y="2633"/>
                  </a:cubicBezTo>
                  <a:cubicBezTo>
                    <a:pt x="2967" y="2665"/>
                    <a:pt x="3004" y="2681"/>
                    <a:pt x="2999" y="2717"/>
                  </a:cubicBezTo>
                  <a:cubicBezTo>
                    <a:pt x="3011" y="2721"/>
                    <a:pt x="3019" y="2724"/>
                    <a:pt x="3034" y="2729"/>
                  </a:cubicBezTo>
                  <a:close/>
                  <a:moveTo>
                    <a:pt x="1656" y="2859"/>
                  </a:moveTo>
                  <a:cubicBezTo>
                    <a:pt x="1627" y="2907"/>
                    <a:pt x="1601" y="2951"/>
                    <a:pt x="1573" y="2994"/>
                  </a:cubicBezTo>
                  <a:cubicBezTo>
                    <a:pt x="1555" y="3021"/>
                    <a:pt x="1534" y="3046"/>
                    <a:pt x="1517" y="3073"/>
                  </a:cubicBezTo>
                  <a:cubicBezTo>
                    <a:pt x="1506" y="3092"/>
                    <a:pt x="1497" y="3112"/>
                    <a:pt x="1477" y="3125"/>
                  </a:cubicBezTo>
                  <a:cubicBezTo>
                    <a:pt x="1459" y="3138"/>
                    <a:pt x="1460" y="3153"/>
                    <a:pt x="1476" y="3168"/>
                  </a:cubicBezTo>
                  <a:cubicBezTo>
                    <a:pt x="1493" y="3155"/>
                    <a:pt x="1504" y="3141"/>
                    <a:pt x="1513" y="3119"/>
                  </a:cubicBezTo>
                  <a:cubicBezTo>
                    <a:pt x="1521" y="3097"/>
                    <a:pt x="1555" y="3089"/>
                    <a:pt x="1557" y="3059"/>
                  </a:cubicBezTo>
                  <a:cubicBezTo>
                    <a:pt x="1603" y="3015"/>
                    <a:pt x="1630" y="2958"/>
                    <a:pt x="1661" y="2903"/>
                  </a:cubicBezTo>
                  <a:cubicBezTo>
                    <a:pt x="1668" y="2891"/>
                    <a:pt x="1675" y="2879"/>
                    <a:pt x="1681" y="2866"/>
                  </a:cubicBezTo>
                  <a:cubicBezTo>
                    <a:pt x="1682" y="2864"/>
                    <a:pt x="1678" y="2859"/>
                    <a:pt x="1677" y="2856"/>
                  </a:cubicBezTo>
                  <a:cubicBezTo>
                    <a:pt x="1667" y="2857"/>
                    <a:pt x="1658" y="2859"/>
                    <a:pt x="1656" y="2859"/>
                  </a:cubicBezTo>
                  <a:close/>
                  <a:moveTo>
                    <a:pt x="1773" y="1345"/>
                  </a:moveTo>
                  <a:cubicBezTo>
                    <a:pt x="1779" y="1368"/>
                    <a:pt x="1779" y="1389"/>
                    <a:pt x="1788" y="1405"/>
                  </a:cubicBezTo>
                  <a:cubicBezTo>
                    <a:pt x="1802" y="1428"/>
                    <a:pt x="1818" y="1453"/>
                    <a:pt x="1844" y="1450"/>
                  </a:cubicBezTo>
                  <a:cubicBezTo>
                    <a:pt x="1866" y="1502"/>
                    <a:pt x="1884" y="1550"/>
                    <a:pt x="1905" y="1597"/>
                  </a:cubicBezTo>
                  <a:cubicBezTo>
                    <a:pt x="1909" y="1607"/>
                    <a:pt x="1916" y="1619"/>
                    <a:pt x="1936" y="1610"/>
                  </a:cubicBezTo>
                  <a:cubicBezTo>
                    <a:pt x="1934" y="1602"/>
                    <a:pt x="1933" y="1591"/>
                    <a:pt x="1930" y="1582"/>
                  </a:cubicBezTo>
                  <a:cubicBezTo>
                    <a:pt x="1914" y="1544"/>
                    <a:pt x="1898" y="1507"/>
                    <a:pt x="1882" y="1469"/>
                  </a:cubicBezTo>
                  <a:cubicBezTo>
                    <a:pt x="1871" y="1442"/>
                    <a:pt x="1858" y="1418"/>
                    <a:pt x="1833" y="1414"/>
                  </a:cubicBezTo>
                  <a:cubicBezTo>
                    <a:pt x="1831" y="1400"/>
                    <a:pt x="1832" y="1390"/>
                    <a:pt x="1828" y="1384"/>
                  </a:cubicBezTo>
                  <a:cubicBezTo>
                    <a:pt x="1812" y="1360"/>
                    <a:pt x="1794" y="1337"/>
                    <a:pt x="1776" y="1314"/>
                  </a:cubicBezTo>
                  <a:cubicBezTo>
                    <a:pt x="1771" y="1309"/>
                    <a:pt x="1764" y="1306"/>
                    <a:pt x="1757" y="1301"/>
                  </a:cubicBezTo>
                  <a:cubicBezTo>
                    <a:pt x="1747" y="1327"/>
                    <a:pt x="1756" y="1341"/>
                    <a:pt x="1773" y="1345"/>
                  </a:cubicBezTo>
                  <a:close/>
                  <a:moveTo>
                    <a:pt x="535" y="2601"/>
                  </a:moveTo>
                  <a:cubicBezTo>
                    <a:pt x="538" y="2559"/>
                    <a:pt x="568" y="2531"/>
                    <a:pt x="549" y="2493"/>
                  </a:cubicBezTo>
                  <a:cubicBezTo>
                    <a:pt x="546" y="2488"/>
                    <a:pt x="547" y="2479"/>
                    <a:pt x="550" y="2474"/>
                  </a:cubicBezTo>
                  <a:cubicBezTo>
                    <a:pt x="551" y="2471"/>
                    <a:pt x="564" y="2481"/>
                    <a:pt x="564" y="2467"/>
                  </a:cubicBezTo>
                  <a:cubicBezTo>
                    <a:pt x="564" y="2458"/>
                    <a:pt x="569" y="2448"/>
                    <a:pt x="567" y="2440"/>
                  </a:cubicBezTo>
                  <a:cubicBezTo>
                    <a:pt x="565" y="2418"/>
                    <a:pt x="574" y="2408"/>
                    <a:pt x="593" y="2400"/>
                  </a:cubicBezTo>
                  <a:cubicBezTo>
                    <a:pt x="603" y="2396"/>
                    <a:pt x="611" y="2388"/>
                    <a:pt x="620" y="2382"/>
                  </a:cubicBezTo>
                  <a:cubicBezTo>
                    <a:pt x="598" y="2374"/>
                    <a:pt x="578" y="2371"/>
                    <a:pt x="559" y="2372"/>
                  </a:cubicBezTo>
                  <a:cubicBezTo>
                    <a:pt x="515" y="2374"/>
                    <a:pt x="497" y="2405"/>
                    <a:pt x="509" y="2449"/>
                  </a:cubicBezTo>
                  <a:cubicBezTo>
                    <a:pt x="517" y="2476"/>
                    <a:pt x="527" y="2503"/>
                    <a:pt x="521" y="2534"/>
                  </a:cubicBezTo>
                  <a:cubicBezTo>
                    <a:pt x="517" y="2552"/>
                    <a:pt x="517" y="2575"/>
                    <a:pt x="535" y="2601"/>
                  </a:cubicBezTo>
                  <a:close/>
                  <a:moveTo>
                    <a:pt x="1867" y="2967"/>
                  </a:moveTo>
                  <a:cubicBezTo>
                    <a:pt x="1837" y="2953"/>
                    <a:pt x="1823" y="2954"/>
                    <a:pt x="1814" y="2980"/>
                  </a:cubicBezTo>
                  <a:cubicBezTo>
                    <a:pt x="1801" y="3023"/>
                    <a:pt x="1767" y="3057"/>
                    <a:pt x="1762" y="3103"/>
                  </a:cubicBezTo>
                  <a:cubicBezTo>
                    <a:pt x="1761" y="3110"/>
                    <a:pt x="1754" y="3116"/>
                    <a:pt x="1748" y="3121"/>
                  </a:cubicBezTo>
                  <a:cubicBezTo>
                    <a:pt x="1744" y="3125"/>
                    <a:pt x="1733" y="3127"/>
                    <a:pt x="1732" y="3131"/>
                  </a:cubicBezTo>
                  <a:cubicBezTo>
                    <a:pt x="1728" y="3148"/>
                    <a:pt x="1725" y="3163"/>
                    <a:pt x="1704" y="3166"/>
                  </a:cubicBezTo>
                  <a:cubicBezTo>
                    <a:pt x="1710" y="3193"/>
                    <a:pt x="1681" y="3186"/>
                    <a:pt x="1672" y="3198"/>
                  </a:cubicBezTo>
                  <a:cubicBezTo>
                    <a:pt x="1659" y="3215"/>
                    <a:pt x="1657" y="3227"/>
                    <a:pt x="1675" y="3245"/>
                  </a:cubicBezTo>
                  <a:cubicBezTo>
                    <a:pt x="1752" y="3160"/>
                    <a:pt x="1806" y="3061"/>
                    <a:pt x="1867" y="2967"/>
                  </a:cubicBezTo>
                  <a:close/>
                  <a:moveTo>
                    <a:pt x="3241" y="1143"/>
                  </a:moveTo>
                  <a:cubicBezTo>
                    <a:pt x="3240" y="1119"/>
                    <a:pt x="3249" y="1105"/>
                    <a:pt x="3272" y="1099"/>
                  </a:cubicBezTo>
                  <a:cubicBezTo>
                    <a:pt x="3286" y="1095"/>
                    <a:pt x="3297" y="1084"/>
                    <a:pt x="3309" y="1076"/>
                  </a:cubicBezTo>
                  <a:cubicBezTo>
                    <a:pt x="3332" y="1062"/>
                    <a:pt x="3347" y="1044"/>
                    <a:pt x="3342" y="1014"/>
                  </a:cubicBezTo>
                  <a:cubicBezTo>
                    <a:pt x="3331" y="1001"/>
                    <a:pt x="3320" y="1005"/>
                    <a:pt x="3309" y="1016"/>
                  </a:cubicBezTo>
                  <a:cubicBezTo>
                    <a:pt x="3262" y="1059"/>
                    <a:pt x="3215" y="1101"/>
                    <a:pt x="3168" y="1144"/>
                  </a:cubicBezTo>
                  <a:cubicBezTo>
                    <a:pt x="3156" y="1156"/>
                    <a:pt x="3151" y="1171"/>
                    <a:pt x="3166" y="1191"/>
                  </a:cubicBezTo>
                  <a:cubicBezTo>
                    <a:pt x="3179" y="1174"/>
                    <a:pt x="3192" y="1160"/>
                    <a:pt x="3205" y="1143"/>
                  </a:cubicBezTo>
                  <a:cubicBezTo>
                    <a:pt x="3215" y="1143"/>
                    <a:pt x="3227" y="1143"/>
                    <a:pt x="3241" y="1143"/>
                  </a:cubicBezTo>
                  <a:close/>
                  <a:moveTo>
                    <a:pt x="682" y="2624"/>
                  </a:moveTo>
                  <a:cubicBezTo>
                    <a:pt x="680" y="2625"/>
                    <a:pt x="679" y="2626"/>
                    <a:pt x="677" y="2627"/>
                  </a:cubicBezTo>
                  <a:cubicBezTo>
                    <a:pt x="680" y="2652"/>
                    <a:pt x="684" y="2677"/>
                    <a:pt x="686" y="2702"/>
                  </a:cubicBezTo>
                  <a:cubicBezTo>
                    <a:pt x="689" y="2748"/>
                    <a:pt x="693" y="2794"/>
                    <a:pt x="719" y="2835"/>
                  </a:cubicBezTo>
                  <a:cubicBezTo>
                    <a:pt x="724" y="2842"/>
                    <a:pt x="722" y="2855"/>
                    <a:pt x="723" y="2865"/>
                  </a:cubicBezTo>
                  <a:cubicBezTo>
                    <a:pt x="724" y="2873"/>
                    <a:pt x="722" y="2881"/>
                    <a:pt x="725" y="2888"/>
                  </a:cubicBezTo>
                  <a:cubicBezTo>
                    <a:pt x="743" y="2933"/>
                    <a:pt x="763" y="2979"/>
                    <a:pt x="781" y="3024"/>
                  </a:cubicBezTo>
                  <a:cubicBezTo>
                    <a:pt x="788" y="3044"/>
                    <a:pt x="800" y="3053"/>
                    <a:pt x="823" y="3051"/>
                  </a:cubicBezTo>
                  <a:cubicBezTo>
                    <a:pt x="809" y="3017"/>
                    <a:pt x="801" y="2984"/>
                    <a:pt x="782" y="2957"/>
                  </a:cubicBezTo>
                  <a:cubicBezTo>
                    <a:pt x="768" y="2936"/>
                    <a:pt x="763" y="2920"/>
                    <a:pt x="773" y="2905"/>
                  </a:cubicBezTo>
                  <a:cubicBezTo>
                    <a:pt x="762" y="2892"/>
                    <a:pt x="753" y="2885"/>
                    <a:pt x="748" y="2875"/>
                  </a:cubicBezTo>
                  <a:cubicBezTo>
                    <a:pt x="742" y="2862"/>
                    <a:pt x="737" y="2848"/>
                    <a:pt x="734" y="2834"/>
                  </a:cubicBezTo>
                  <a:cubicBezTo>
                    <a:pt x="721" y="2770"/>
                    <a:pt x="686" y="2711"/>
                    <a:pt x="692" y="2642"/>
                  </a:cubicBezTo>
                  <a:cubicBezTo>
                    <a:pt x="693" y="2636"/>
                    <a:pt x="686" y="2630"/>
                    <a:pt x="682" y="2624"/>
                  </a:cubicBezTo>
                  <a:close/>
                  <a:moveTo>
                    <a:pt x="1625" y="2402"/>
                  </a:moveTo>
                  <a:cubicBezTo>
                    <a:pt x="1630" y="2411"/>
                    <a:pt x="1634" y="2421"/>
                    <a:pt x="1641" y="2429"/>
                  </a:cubicBezTo>
                  <a:cubicBezTo>
                    <a:pt x="1662" y="2454"/>
                    <a:pt x="1672" y="2480"/>
                    <a:pt x="1662" y="2513"/>
                  </a:cubicBezTo>
                  <a:cubicBezTo>
                    <a:pt x="1654" y="2536"/>
                    <a:pt x="1664" y="2552"/>
                    <a:pt x="1688" y="2557"/>
                  </a:cubicBezTo>
                  <a:cubicBezTo>
                    <a:pt x="1687" y="2571"/>
                    <a:pt x="1685" y="2582"/>
                    <a:pt x="1683" y="2600"/>
                  </a:cubicBezTo>
                  <a:cubicBezTo>
                    <a:pt x="1702" y="2588"/>
                    <a:pt x="1716" y="2577"/>
                    <a:pt x="1731" y="2570"/>
                  </a:cubicBezTo>
                  <a:cubicBezTo>
                    <a:pt x="1745" y="2563"/>
                    <a:pt x="1761" y="2559"/>
                    <a:pt x="1783" y="2553"/>
                  </a:cubicBezTo>
                  <a:cubicBezTo>
                    <a:pt x="1766" y="2546"/>
                    <a:pt x="1750" y="2545"/>
                    <a:pt x="1747" y="2538"/>
                  </a:cubicBezTo>
                  <a:cubicBezTo>
                    <a:pt x="1736" y="2511"/>
                    <a:pt x="1719" y="2498"/>
                    <a:pt x="1690" y="2507"/>
                  </a:cubicBezTo>
                  <a:cubicBezTo>
                    <a:pt x="1692" y="2428"/>
                    <a:pt x="1676" y="2425"/>
                    <a:pt x="1625" y="2402"/>
                  </a:cubicBezTo>
                  <a:close/>
                  <a:moveTo>
                    <a:pt x="2992" y="1877"/>
                  </a:moveTo>
                  <a:cubicBezTo>
                    <a:pt x="2983" y="1895"/>
                    <a:pt x="2973" y="1909"/>
                    <a:pt x="2967" y="1924"/>
                  </a:cubicBezTo>
                  <a:cubicBezTo>
                    <a:pt x="2956" y="1952"/>
                    <a:pt x="2987" y="1998"/>
                    <a:pt x="3015" y="2001"/>
                  </a:cubicBezTo>
                  <a:cubicBezTo>
                    <a:pt x="3030" y="2002"/>
                    <a:pt x="3045" y="2001"/>
                    <a:pt x="3059" y="1999"/>
                  </a:cubicBezTo>
                  <a:cubicBezTo>
                    <a:pt x="3065" y="1999"/>
                    <a:pt x="3076" y="1993"/>
                    <a:pt x="3076" y="1988"/>
                  </a:cubicBezTo>
                  <a:cubicBezTo>
                    <a:pt x="3078" y="1980"/>
                    <a:pt x="3074" y="1970"/>
                    <a:pt x="3069" y="1964"/>
                  </a:cubicBezTo>
                  <a:cubicBezTo>
                    <a:pt x="3065" y="1958"/>
                    <a:pt x="3054" y="1957"/>
                    <a:pt x="3049" y="1952"/>
                  </a:cubicBezTo>
                  <a:cubicBezTo>
                    <a:pt x="3038" y="1940"/>
                    <a:pt x="3018" y="1924"/>
                    <a:pt x="3020" y="1913"/>
                  </a:cubicBezTo>
                  <a:cubicBezTo>
                    <a:pt x="3025" y="1889"/>
                    <a:pt x="3012" y="1886"/>
                    <a:pt x="2992" y="1877"/>
                  </a:cubicBezTo>
                  <a:close/>
                  <a:moveTo>
                    <a:pt x="3743" y="1594"/>
                  </a:moveTo>
                  <a:cubicBezTo>
                    <a:pt x="3746" y="1593"/>
                    <a:pt x="3749" y="1592"/>
                    <a:pt x="3752" y="1591"/>
                  </a:cubicBezTo>
                  <a:cubicBezTo>
                    <a:pt x="3750" y="1582"/>
                    <a:pt x="3749" y="1573"/>
                    <a:pt x="3745" y="1565"/>
                  </a:cubicBezTo>
                  <a:cubicBezTo>
                    <a:pt x="3711" y="1498"/>
                    <a:pt x="3678" y="1431"/>
                    <a:pt x="3642" y="1364"/>
                  </a:cubicBezTo>
                  <a:cubicBezTo>
                    <a:pt x="3630" y="1343"/>
                    <a:pt x="3613" y="1324"/>
                    <a:pt x="3595" y="1306"/>
                  </a:cubicBezTo>
                  <a:cubicBezTo>
                    <a:pt x="3584" y="1294"/>
                    <a:pt x="3566" y="1298"/>
                    <a:pt x="3558" y="1311"/>
                  </a:cubicBezTo>
                  <a:cubicBezTo>
                    <a:pt x="3551" y="1322"/>
                    <a:pt x="3552" y="1331"/>
                    <a:pt x="3564" y="1338"/>
                  </a:cubicBezTo>
                  <a:cubicBezTo>
                    <a:pt x="3631" y="1378"/>
                    <a:pt x="3663" y="1447"/>
                    <a:pt x="3701" y="1510"/>
                  </a:cubicBezTo>
                  <a:cubicBezTo>
                    <a:pt x="3717" y="1537"/>
                    <a:pt x="3729" y="1566"/>
                    <a:pt x="3743" y="1594"/>
                  </a:cubicBezTo>
                  <a:close/>
                  <a:moveTo>
                    <a:pt x="1262" y="742"/>
                  </a:moveTo>
                  <a:cubicBezTo>
                    <a:pt x="1264" y="740"/>
                    <a:pt x="1266" y="737"/>
                    <a:pt x="1268" y="735"/>
                  </a:cubicBezTo>
                  <a:cubicBezTo>
                    <a:pt x="1266" y="730"/>
                    <a:pt x="1265" y="724"/>
                    <a:pt x="1261" y="722"/>
                  </a:cubicBezTo>
                  <a:cubicBezTo>
                    <a:pt x="1237" y="706"/>
                    <a:pt x="1232" y="684"/>
                    <a:pt x="1234" y="657"/>
                  </a:cubicBezTo>
                  <a:cubicBezTo>
                    <a:pt x="1235" y="628"/>
                    <a:pt x="1232" y="599"/>
                    <a:pt x="1203" y="585"/>
                  </a:cubicBezTo>
                  <a:cubicBezTo>
                    <a:pt x="1191" y="597"/>
                    <a:pt x="1180" y="609"/>
                    <a:pt x="1168" y="619"/>
                  </a:cubicBezTo>
                  <a:cubicBezTo>
                    <a:pt x="1146" y="636"/>
                    <a:pt x="1144" y="655"/>
                    <a:pt x="1167" y="673"/>
                  </a:cubicBezTo>
                  <a:cubicBezTo>
                    <a:pt x="1198" y="697"/>
                    <a:pt x="1230" y="719"/>
                    <a:pt x="1262" y="742"/>
                  </a:cubicBezTo>
                  <a:close/>
                  <a:moveTo>
                    <a:pt x="1073" y="510"/>
                  </a:moveTo>
                  <a:cubicBezTo>
                    <a:pt x="1085" y="506"/>
                    <a:pt x="1091" y="500"/>
                    <a:pt x="1085" y="486"/>
                  </a:cubicBezTo>
                  <a:cubicBezTo>
                    <a:pt x="1074" y="461"/>
                    <a:pt x="1063" y="436"/>
                    <a:pt x="1075" y="407"/>
                  </a:cubicBezTo>
                  <a:cubicBezTo>
                    <a:pt x="1083" y="390"/>
                    <a:pt x="1062" y="397"/>
                    <a:pt x="1056" y="391"/>
                  </a:cubicBezTo>
                  <a:cubicBezTo>
                    <a:pt x="1057" y="380"/>
                    <a:pt x="1059" y="370"/>
                    <a:pt x="1060" y="361"/>
                  </a:cubicBezTo>
                  <a:cubicBezTo>
                    <a:pt x="1023" y="347"/>
                    <a:pt x="1002" y="377"/>
                    <a:pt x="973" y="388"/>
                  </a:cubicBezTo>
                  <a:cubicBezTo>
                    <a:pt x="1002" y="413"/>
                    <a:pt x="1002" y="417"/>
                    <a:pt x="982" y="447"/>
                  </a:cubicBezTo>
                  <a:cubicBezTo>
                    <a:pt x="980" y="450"/>
                    <a:pt x="980" y="454"/>
                    <a:pt x="979" y="459"/>
                  </a:cubicBezTo>
                  <a:cubicBezTo>
                    <a:pt x="991" y="454"/>
                    <a:pt x="1000" y="449"/>
                    <a:pt x="1010" y="444"/>
                  </a:cubicBezTo>
                  <a:cubicBezTo>
                    <a:pt x="1006" y="425"/>
                    <a:pt x="1006" y="408"/>
                    <a:pt x="1031" y="406"/>
                  </a:cubicBezTo>
                  <a:cubicBezTo>
                    <a:pt x="1034" y="406"/>
                    <a:pt x="1038" y="409"/>
                    <a:pt x="1046" y="412"/>
                  </a:cubicBezTo>
                  <a:cubicBezTo>
                    <a:pt x="1038" y="422"/>
                    <a:pt x="1031" y="430"/>
                    <a:pt x="1025" y="438"/>
                  </a:cubicBezTo>
                  <a:cubicBezTo>
                    <a:pt x="1048" y="457"/>
                    <a:pt x="1041" y="496"/>
                    <a:pt x="1073" y="510"/>
                  </a:cubicBezTo>
                  <a:close/>
                  <a:moveTo>
                    <a:pt x="1592" y="1199"/>
                  </a:moveTo>
                  <a:cubicBezTo>
                    <a:pt x="1594" y="1196"/>
                    <a:pt x="1596" y="1193"/>
                    <a:pt x="1598" y="1191"/>
                  </a:cubicBezTo>
                  <a:cubicBezTo>
                    <a:pt x="1592" y="1183"/>
                    <a:pt x="1587" y="1174"/>
                    <a:pt x="1580" y="1167"/>
                  </a:cubicBezTo>
                  <a:cubicBezTo>
                    <a:pt x="1551" y="1136"/>
                    <a:pt x="1519" y="1107"/>
                    <a:pt x="1493" y="1075"/>
                  </a:cubicBezTo>
                  <a:cubicBezTo>
                    <a:pt x="1460" y="1034"/>
                    <a:pt x="1412" y="1007"/>
                    <a:pt x="1383" y="962"/>
                  </a:cubicBezTo>
                  <a:cubicBezTo>
                    <a:pt x="1381" y="959"/>
                    <a:pt x="1372" y="957"/>
                    <a:pt x="1369" y="959"/>
                  </a:cubicBezTo>
                  <a:cubicBezTo>
                    <a:pt x="1364" y="962"/>
                    <a:pt x="1359" y="969"/>
                    <a:pt x="1359" y="974"/>
                  </a:cubicBezTo>
                  <a:cubicBezTo>
                    <a:pt x="1360" y="981"/>
                    <a:pt x="1364" y="990"/>
                    <a:pt x="1370" y="993"/>
                  </a:cubicBezTo>
                  <a:cubicBezTo>
                    <a:pt x="1399" y="1010"/>
                    <a:pt x="1414" y="1047"/>
                    <a:pt x="1453" y="1052"/>
                  </a:cubicBezTo>
                  <a:cubicBezTo>
                    <a:pt x="1456" y="1052"/>
                    <a:pt x="1459" y="1057"/>
                    <a:pt x="1461" y="1059"/>
                  </a:cubicBezTo>
                  <a:cubicBezTo>
                    <a:pt x="1496" y="1100"/>
                    <a:pt x="1531" y="1142"/>
                    <a:pt x="1567" y="1182"/>
                  </a:cubicBezTo>
                  <a:cubicBezTo>
                    <a:pt x="1573" y="1189"/>
                    <a:pt x="1583" y="1193"/>
                    <a:pt x="1592" y="1199"/>
                  </a:cubicBezTo>
                  <a:close/>
                  <a:moveTo>
                    <a:pt x="2472" y="662"/>
                  </a:moveTo>
                  <a:cubicBezTo>
                    <a:pt x="2465" y="665"/>
                    <a:pt x="2456" y="667"/>
                    <a:pt x="2452" y="672"/>
                  </a:cubicBezTo>
                  <a:cubicBezTo>
                    <a:pt x="2418" y="710"/>
                    <a:pt x="2384" y="749"/>
                    <a:pt x="2351" y="789"/>
                  </a:cubicBezTo>
                  <a:cubicBezTo>
                    <a:pt x="2343" y="798"/>
                    <a:pt x="2355" y="814"/>
                    <a:pt x="2368" y="812"/>
                  </a:cubicBezTo>
                  <a:cubicBezTo>
                    <a:pt x="2374" y="811"/>
                    <a:pt x="2381" y="808"/>
                    <a:pt x="2385" y="803"/>
                  </a:cubicBezTo>
                  <a:cubicBezTo>
                    <a:pt x="2414" y="770"/>
                    <a:pt x="2443" y="738"/>
                    <a:pt x="2469" y="704"/>
                  </a:cubicBezTo>
                  <a:cubicBezTo>
                    <a:pt x="2477" y="694"/>
                    <a:pt x="2487" y="679"/>
                    <a:pt x="2472" y="662"/>
                  </a:cubicBezTo>
                  <a:close/>
                  <a:moveTo>
                    <a:pt x="2736" y="1923"/>
                  </a:moveTo>
                  <a:cubicBezTo>
                    <a:pt x="2723" y="1906"/>
                    <a:pt x="2713" y="1908"/>
                    <a:pt x="2701" y="1914"/>
                  </a:cubicBezTo>
                  <a:cubicBezTo>
                    <a:pt x="2686" y="1920"/>
                    <a:pt x="2671" y="1930"/>
                    <a:pt x="2656" y="1929"/>
                  </a:cubicBezTo>
                  <a:cubicBezTo>
                    <a:pt x="2610" y="1928"/>
                    <a:pt x="2564" y="1923"/>
                    <a:pt x="2518" y="1917"/>
                  </a:cubicBezTo>
                  <a:cubicBezTo>
                    <a:pt x="2484" y="1913"/>
                    <a:pt x="2453" y="1920"/>
                    <a:pt x="2417" y="1924"/>
                  </a:cubicBezTo>
                  <a:cubicBezTo>
                    <a:pt x="2442" y="1948"/>
                    <a:pt x="2469" y="1942"/>
                    <a:pt x="2494" y="1942"/>
                  </a:cubicBezTo>
                  <a:cubicBezTo>
                    <a:pt x="2511" y="1942"/>
                    <a:pt x="2528" y="1940"/>
                    <a:pt x="2545" y="1943"/>
                  </a:cubicBezTo>
                  <a:cubicBezTo>
                    <a:pt x="2601" y="1955"/>
                    <a:pt x="2656" y="1944"/>
                    <a:pt x="2711" y="1937"/>
                  </a:cubicBezTo>
                  <a:cubicBezTo>
                    <a:pt x="2719" y="1936"/>
                    <a:pt x="2726" y="1929"/>
                    <a:pt x="2736" y="1923"/>
                  </a:cubicBezTo>
                  <a:close/>
                  <a:moveTo>
                    <a:pt x="1014" y="3921"/>
                  </a:moveTo>
                  <a:cubicBezTo>
                    <a:pt x="1027" y="3925"/>
                    <a:pt x="1037" y="3926"/>
                    <a:pt x="1047" y="3930"/>
                  </a:cubicBezTo>
                  <a:cubicBezTo>
                    <a:pt x="1055" y="3934"/>
                    <a:pt x="1061" y="3942"/>
                    <a:pt x="1070" y="3944"/>
                  </a:cubicBezTo>
                  <a:cubicBezTo>
                    <a:pt x="1076" y="3946"/>
                    <a:pt x="1085" y="3939"/>
                    <a:pt x="1091" y="3941"/>
                  </a:cubicBezTo>
                  <a:cubicBezTo>
                    <a:pt x="1100" y="3945"/>
                    <a:pt x="1107" y="3955"/>
                    <a:pt x="1116" y="3958"/>
                  </a:cubicBezTo>
                  <a:cubicBezTo>
                    <a:pt x="1125" y="3961"/>
                    <a:pt x="1136" y="3958"/>
                    <a:pt x="1145" y="3957"/>
                  </a:cubicBezTo>
                  <a:cubicBezTo>
                    <a:pt x="1145" y="3924"/>
                    <a:pt x="1124" y="3909"/>
                    <a:pt x="1104" y="3894"/>
                  </a:cubicBezTo>
                  <a:cubicBezTo>
                    <a:pt x="1064" y="3862"/>
                    <a:pt x="1040" y="3869"/>
                    <a:pt x="1014" y="3921"/>
                  </a:cubicBezTo>
                  <a:close/>
                  <a:moveTo>
                    <a:pt x="1181" y="3911"/>
                  </a:moveTo>
                  <a:cubicBezTo>
                    <a:pt x="1222" y="3941"/>
                    <a:pt x="1263" y="3976"/>
                    <a:pt x="1311" y="3998"/>
                  </a:cubicBezTo>
                  <a:cubicBezTo>
                    <a:pt x="1325" y="4004"/>
                    <a:pt x="1340" y="4008"/>
                    <a:pt x="1353" y="4016"/>
                  </a:cubicBezTo>
                  <a:cubicBezTo>
                    <a:pt x="1376" y="4029"/>
                    <a:pt x="1381" y="4028"/>
                    <a:pt x="1405" y="4006"/>
                  </a:cubicBezTo>
                  <a:cubicBezTo>
                    <a:pt x="1371" y="3996"/>
                    <a:pt x="1335" y="3990"/>
                    <a:pt x="1313" y="3956"/>
                  </a:cubicBezTo>
                  <a:cubicBezTo>
                    <a:pt x="1308" y="3948"/>
                    <a:pt x="1296" y="3944"/>
                    <a:pt x="1286" y="3941"/>
                  </a:cubicBezTo>
                  <a:cubicBezTo>
                    <a:pt x="1251" y="3930"/>
                    <a:pt x="1216" y="3921"/>
                    <a:pt x="1181" y="3911"/>
                  </a:cubicBezTo>
                  <a:close/>
                  <a:moveTo>
                    <a:pt x="1083" y="1284"/>
                  </a:moveTo>
                  <a:cubicBezTo>
                    <a:pt x="1087" y="1327"/>
                    <a:pt x="1119" y="1354"/>
                    <a:pt x="1148" y="1377"/>
                  </a:cubicBezTo>
                  <a:cubicBezTo>
                    <a:pt x="1195" y="1415"/>
                    <a:pt x="1243" y="1452"/>
                    <a:pt x="1286" y="1495"/>
                  </a:cubicBezTo>
                  <a:cubicBezTo>
                    <a:pt x="1289" y="1498"/>
                    <a:pt x="1296" y="1498"/>
                    <a:pt x="1301" y="1499"/>
                  </a:cubicBezTo>
                  <a:cubicBezTo>
                    <a:pt x="1303" y="1497"/>
                    <a:pt x="1304" y="1495"/>
                    <a:pt x="1306" y="1492"/>
                  </a:cubicBezTo>
                  <a:cubicBezTo>
                    <a:pt x="1238" y="1417"/>
                    <a:pt x="1155" y="1357"/>
                    <a:pt x="1083" y="1284"/>
                  </a:cubicBezTo>
                  <a:close/>
                  <a:moveTo>
                    <a:pt x="2258" y="3071"/>
                  </a:moveTo>
                  <a:cubicBezTo>
                    <a:pt x="2278" y="3097"/>
                    <a:pt x="2303" y="3068"/>
                    <a:pt x="2322" y="3081"/>
                  </a:cubicBezTo>
                  <a:cubicBezTo>
                    <a:pt x="2344" y="3094"/>
                    <a:pt x="2365" y="3078"/>
                    <a:pt x="2384" y="3079"/>
                  </a:cubicBezTo>
                  <a:cubicBezTo>
                    <a:pt x="2393" y="3089"/>
                    <a:pt x="2399" y="3104"/>
                    <a:pt x="2407" y="3105"/>
                  </a:cubicBezTo>
                  <a:cubicBezTo>
                    <a:pt x="2427" y="3107"/>
                    <a:pt x="2432" y="3122"/>
                    <a:pt x="2440" y="3134"/>
                  </a:cubicBezTo>
                  <a:cubicBezTo>
                    <a:pt x="2446" y="3143"/>
                    <a:pt x="2450" y="3154"/>
                    <a:pt x="2457" y="3161"/>
                  </a:cubicBezTo>
                  <a:cubicBezTo>
                    <a:pt x="2461" y="3165"/>
                    <a:pt x="2469" y="3164"/>
                    <a:pt x="2481" y="3166"/>
                  </a:cubicBezTo>
                  <a:cubicBezTo>
                    <a:pt x="2461" y="3134"/>
                    <a:pt x="2445" y="3106"/>
                    <a:pt x="2427" y="3080"/>
                  </a:cubicBezTo>
                  <a:cubicBezTo>
                    <a:pt x="2422" y="3073"/>
                    <a:pt x="2411" y="3066"/>
                    <a:pt x="2402" y="3065"/>
                  </a:cubicBezTo>
                  <a:cubicBezTo>
                    <a:pt x="2366" y="3061"/>
                    <a:pt x="2330" y="3059"/>
                    <a:pt x="2295" y="3057"/>
                  </a:cubicBezTo>
                  <a:cubicBezTo>
                    <a:pt x="2282" y="3057"/>
                    <a:pt x="2268" y="3053"/>
                    <a:pt x="2258" y="3071"/>
                  </a:cubicBezTo>
                  <a:close/>
                  <a:moveTo>
                    <a:pt x="1431" y="2575"/>
                  </a:moveTo>
                  <a:cubicBezTo>
                    <a:pt x="1372" y="2553"/>
                    <a:pt x="1354" y="2554"/>
                    <a:pt x="1338" y="2586"/>
                  </a:cubicBezTo>
                  <a:cubicBezTo>
                    <a:pt x="1361" y="2612"/>
                    <a:pt x="1391" y="2628"/>
                    <a:pt x="1423" y="2642"/>
                  </a:cubicBezTo>
                  <a:cubicBezTo>
                    <a:pt x="1435" y="2647"/>
                    <a:pt x="1443" y="2642"/>
                    <a:pt x="1445" y="2635"/>
                  </a:cubicBezTo>
                  <a:cubicBezTo>
                    <a:pt x="1440" y="2613"/>
                    <a:pt x="1436" y="2597"/>
                    <a:pt x="1431" y="2575"/>
                  </a:cubicBezTo>
                  <a:close/>
                  <a:moveTo>
                    <a:pt x="2208" y="2226"/>
                  </a:moveTo>
                  <a:cubicBezTo>
                    <a:pt x="2204" y="2226"/>
                    <a:pt x="2200" y="2226"/>
                    <a:pt x="2196" y="2225"/>
                  </a:cubicBezTo>
                  <a:cubicBezTo>
                    <a:pt x="2194" y="2235"/>
                    <a:pt x="2188" y="2246"/>
                    <a:pt x="2191" y="2252"/>
                  </a:cubicBezTo>
                  <a:cubicBezTo>
                    <a:pt x="2199" y="2267"/>
                    <a:pt x="2182" y="2289"/>
                    <a:pt x="2208" y="2301"/>
                  </a:cubicBezTo>
                  <a:cubicBezTo>
                    <a:pt x="2218" y="2305"/>
                    <a:pt x="2227" y="2337"/>
                    <a:pt x="2221" y="2345"/>
                  </a:cubicBezTo>
                  <a:cubicBezTo>
                    <a:pt x="2204" y="2369"/>
                    <a:pt x="2224" y="2373"/>
                    <a:pt x="2235" y="2391"/>
                  </a:cubicBezTo>
                  <a:cubicBezTo>
                    <a:pt x="2242" y="2357"/>
                    <a:pt x="2255" y="2331"/>
                    <a:pt x="2253" y="2301"/>
                  </a:cubicBezTo>
                  <a:cubicBezTo>
                    <a:pt x="2243" y="2303"/>
                    <a:pt x="2236" y="2305"/>
                    <a:pt x="2235" y="2305"/>
                  </a:cubicBezTo>
                  <a:cubicBezTo>
                    <a:pt x="2226" y="2277"/>
                    <a:pt x="2217" y="2252"/>
                    <a:pt x="2208" y="2226"/>
                  </a:cubicBezTo>
                  <a:close/>
                  <a:moveTo>
                    <a:pt x="3619" y="1206"/>
                  </a:moveTo>
                  <a:cubicBezTo>
                    <a:pt x="3629" y="1207"/>
                    <a:pt x="3636" y="1208"/>
                    <a:pt x="3643" y="1207"/>
                  </a:cubicBezTo>
                  <a:cubicBezTo>
                    <a:pt x="3667" y="1203"/>
                    <a:pt x="3684" y="1210"/>
                    <a:pt x="3699" y="1233"/>
                  </a:cubicBezTo>
                  <a:cubicBezTo>
                    <a:pt x="3724" y="1271"/>
                    <a:pt x="3754" y="1305"/>
                    <a:pt x="3781" y="1339"/>
                  </a:cubicBezTo>
                  <a:cubicBezTo>
                    <a:pt x="3772" y="1290"/>
                    <a:pt x="3713" y="1213"/>
                    <a:pt x="3665" y="1185"/>
                  </a:cubicBezTo>
                  <a:cubicBezTo>
                    <a:pt x="3652" y="1178"/>
                    <a:pt x="3640" y="1168"/>
                    <a:pt x="3624" y="1174"/>
                  </a:cubicBezTo>
                  <a:cubicBezTo>
                    <a:pt x="3621" y="1176"/>
                    <a:pt x="3618" y="1178"/>
                    <a:pt x="3614" y="1180"/>
                  </a:cubicBezTo>
                  <a:cubicBezTo>
                    <a:pt x="3615" y="1188"/>
                    <a:pt x="3617" y="1196"/>
                    <a:pt x="3619" y="1206"/>
                  </a:cubicBezTo>
                  <a:close/>
                  <a:moveTo>
                    <a:pt x="1895" y="1189"/>
                  </a:moveTo>
                  <a:cubicBezTo>
                    <a:pt x="1902" y="1209"/>
                    <a:pt x="1927" y="1200"/>
                    <a:pt x="1929" y="1223"/>
                  </a:cubicBezTo>
                  <a:cubicBezTo>
                    <a:pt x="1932" y="1247"/>
                    <a:pt x="1945" y="1269"/>
                    <a:pt x="1954" y="1294"/>
                  </a:cubicBezTo>
                  <a:cubicBezTo>
                    <a:pt x="1972" y="1283"/>
                    <a:pt x="1985" y="1275"/>
                    <a:pt x="1999" y="1267"/>
                  </a:cubicBezTo>
                  <a:cubicBezTo>
                    <a:pt x="1975" y="1237"/>
                    <a:pt x="1954" y="1211"/>
                    <a:pt x="1932" y="1184"/>
                  </a:cubicBezTo>
                  <a:cubicBezTo>
                    <a:pt x="1921" y="1185"/>
                    <a:pt x="1910" y="1187"/>
                    <a:pt x="1895" y="1189"/>
                  </a:cubicBezTo>
                  <a:close/>
                  <a:moveTo>
                    <a:pt x="1848" y="843"/>
                  </a:moveTo>
                  <a:cubicBezTo>
                    <a:pt x="1845" y="845"/>
                    <a:pt x="1843" y="846"/>
                    <a:pt x="1841" y="847"/>
                  </a:cubicBezTo>
                  <a:cubicBezTo>
                    <a:pt x="1844" y="855"/>
                    <a:pt x="1846" y="864"/>
                    <a:pt x="1851" y="870"/>
                  </a:cubicBezTo>
                  <a:cubicBezTo>
                    <a:pt x="1875" y="902"/>
                    <a:pt x="1901" y="932"/>
                    <a:pt x="1924" y="963"/>
                  </a:cubicBezTo>
                  <a:cubicBezTo>
                    <a:pt x="1940" y="984"/>
                    <a:pt x="1952" y="1007"/>
                    <a:pt x="1966" y="1029"/>
                  </a:cubicBezTo>
                  <a:cubicBezTo>
                    <a:pt x="1972" y="1038"/>
                    <a:pt x="1980" y="1046"/>
                    <a:pt x="1994" y="1035"/>
                  </a:cubicBezTo>
                  <a:cubicBezTo>
                    <a:pt x="1944" y="972"/>
                    <a:pt x="1903" y="902"/>
                    <a:pt x="1848" y="843"/>
                  </a:cubicBezTo>
                  <a:close/>
                  <a:moveTo>
                    <a:pt x="2507" y="2823"/>
                  </a:moveTo>
                  <a:cubicBezTo>
                    <a:pt x="2507" y="2825"/>
                    <a:pt x="2508" y="2827"/>
                    <a:pt x="2509" y="2829"/>
                  </a:cubicBezTo>
                  <a:cubicBezTo>
                    <a:pt x="2526" y="2834"/>
                    <a:pt x="2543" y="2840"/>
                    <a:pt x="2560" y="2845"/>
                  </a:cubicBezTo>
                  <a:cubicBezTo>
                    <a:pt x="2578" y="2851"/>
                    <a:pt x="2595" y="2864"/>
                    <a:pt x="2614" y="2849"/>
                  </a:cubicBezTo>
                  <a:cubicBezTo>
                    <a:pt x="2598" y="2827"/>
                    <a:pt x="2583" y="2808"/>
                    <a:pt x="2569" y="2789"/>
                  </a:cubicBezTo>
                  <a:cubicBezTo>
                    <a:pt x="2549" y="2791"/>
                    <a:pt x="2531" y="2792"/>
                    <a:pt x="2505" y="2795"/>
                  </a:cubicBezTo>
                  <a:cubicBezTo>
                    <a:pt x="2519" y="2804"/>
                    <a:pt x="2526" y="2809"/>
                    <a:pt x="2536" y="2816"/>
                  </a:cubicBezTo>
                  <a:cubicBezTo>
                    <a:pt x="2523" y="2819"/>
                    <a:pt x="2515" y="2821"/>
                    <a:pt x="2507" y="2823"/>
                  </a:cubicBezTo>
                  <a:close/>
                  <a:moveTo>
                    <a:pt x="2391" y="3029"/>
                  </a:moveTo>
                  <a:cubicBezTo>
                    <a:pt x="2409" y="3041"/>
                    <a:pt x="2423" y="3052"/>
                    <a:pt x="2439" y="3060"/>
                  </a:cubicBezTo>
                  <a:cubicBezTo>
                    <a:pt x="2448" y="3065"/>
                    <a:pt x="2459" y="3064"/>
                    <a:pt x="2470" y="3065"/>
                  </a:cubicBezTo>
                  <a:cubicBezTo>
                    <a:pt x="2472" y="3065"/>
                    <a:pt x="2476" y="3060"/>
                    <a:pt x="2477" y="3057"/>
                  </a:cubicBezTo>
                  <a:cubicBezTo>
                    <a:pt x="2478" y="3054"/>
                    <a:pt x="2477" y="3048"/>
                    <a:pt x="2474" y="3047"/>
                  </a:cubicBezTo>
                  <a:cubicBezTo>
                    <a:pt x="2466" y="3042"/>
                    <a:pt x="2457" y="3037"/>
                    <a:pt x="2447" y="3033"/>
                  </a:cubicBezTo>
                  <a:cubicBezTo>
                    <a:pt x="2453" y="3021"/>
                    <a:pt x="2457" y="3014"/>
                    <a:pt x="2461" y="3007"/>
                  </a:cubicBezTo>
                  <a:cubicBezTo>
                    <a:pt x="2416" y="2975"/>
                    <a:pt x="2402" y="2980"/>
                    <a:pt x="2391" y="3029"/>
                  </a:cubicBezTo>
                  <a:close/>
                  <a:moveTo>
                    <a:pt x="3412" y="3051"/>
                  </a:moveTo>
                  <a:cubicBezTo>
                    <a:pt x="3418" y="3058"/>
                    <a:pt x="3423" y="3065"/>
                    <a:pt x="3429" y="3071"/>
                  </a:cubicBezTo>
                  <a:cubicBezTo>
                    <a:pt x="3448" y="3088"/>
                    <a:pt x="3469" y="3103"/>
                    <a:pt x="3485" y="3122"/>
                  </a:cubicBezTo>
                  <a:cubicBezTo>
                    <a:pt x="3507" y="3147"/>
                    <a:pt x="3537" y="3149"/>
                    <a:pt x="3572" y="3158"/>
                  </a:cubicBezTo>
                  <a:cubicBezTo>
                    <a:pt x="3557" y="3132"/>
                    <a:pt x="3538" y="3123"/>
                    <a:pt x="3517" y="3117"/>
                  </a:cubicBezTo>
                  <a:cubicBezTo>
                    <a:pt x="3512" y="3115"/>
                    <a:pt x="3506" y="3114"/>
                    <a:pt x="3503" y="3111"/>
                  </a:cubicBezTo>
                  <a:cubicBezTo>
                    <a:pt x="3481" y="3089"/>
                    <a:pt x="3460" y="3068"/>
                    <a:pt x="3439" y="3046"/>
                  </a:cubicBezTo>
                  <a:cubicBezTo>
                    <a:pt x="3429" y="3036"/>
                    <a:pt x="3421" y="3038"/>
                    <a:pt x="3412" y="3051"/>
                  </a:cubicBezTo>
                  <a:close/>
                  <a:moveTo>
                    <a:pt x="1911" y="1914"/>
                  </a:moveTo>
                  <a:cubicBezTo>
                    <a:pt x="1910" y="1918"/>
                    <a:pt x="1910" y="1921"/>
                    <a:pt x="1910" y="1924"/>
                  </a:cubicBezTo>
                  <a:cubicBezTo>
                    <a:pt x="1925" y="1938"/>
                    <a:pt x="1945" y="1938"/>
                    <a:pt x="1964" y="1936"/>
                  </a:cubicBezTo>
                  <a:cubicBezTo>
                    <a:pt x="1979" y="1935"/>
                    <a:pt x="1992" y="1931"/>
                    <a:pt x="2009" y="1939"/>
                  </a:cubicBezTo>
                  <a:cubicBezTo>
                    <a:pt x="2023" y="1946"/>
                    <a:pt x="2044" y="1950"/>
                    <a:pt x="2060" y="1930"/>
                  </a:cubicBezTo>
                  <a:cubicBezTo>
                    <a:pt x="2041" y="1911"/>
                    <a:pt x="2022" y="1903"/>
                    <a:pt x="1995" y="1908"/>
                  </a:cubicBezTo>
                  <a:cubicBezTo>
                    <a:pt x="1976" y="1912"/>
                    <a:pt x="1956" y="1911"/>
                    <a:pt x="1936" y="1912"/>
                  </a:cubicBezTo>
                  <a:cubicBezTo>
                    <a:pt x="1928" y="1913"/>
                    <a:pt x="1919" y="1914"/>
                    <a:pt x="1911" y="1914"/>
                  </a:cubicBezTo>
                  <a:close/>
                  <a:moveTo>
                    <a:pt x="2744" y="2573"/>
                  </a:moveTo>
                  <a:cubicBezTo>
                    <a:pt x="2722" y="2533"/>
                    <a:pt x="2708" y="2531"/>
                    <a:pt x="2644" y="2554"/>
                  </a:cubicBezTo>
                  <a:cubicBezTo>
                    <a:pt x="2675" y="2585"/>
                    <a:pt x="2708" y="2591"/>
                    <a:pt x="2744" y="2573"/>
                  </a:cubicBezTo>
                  <a:close/>
                  <a:moveTo>
                    <a:pt x="529" y="936"/>
                  </a:moveTo>
                  <a:cubicBezTo>
                    <a:pt x="525" y="937"/>
                    <a:pt x="521" y="938"/>
                    <a:pt x="517" y="940"/>
                  </a:cubicBezTo>
                  <a:cubicBezTo>
                    <a:pt x="539" y="967"/>
                    <a:pt x="529" y="991"/>
                    <a:pt x="517" y="1012"/>
                  </a:cubicBezTo>
                  <a:cubicBezTo>
                    <a:pt x="525" y="1026"/>
                    <a:pt x="532" y="1037"/>
                    <a:pt x="543" y="1054"/>
                  </a:cubicBezTo>
                  <a:cubicBezTo>
                    <a:pt x="565" y="1016"/>
                    <a:pt x="553" y="974"/>
                    <a:pt x="573" y="942"/>
                  </a:cubicBezTo>
                  <a:cubicBezTo>
                    <a:pt x="573" y="942"/>
                    <a:pt x="571" y="941"/>
                    <a:pt x="568" y="938"/>
                  </a:cubicBezTo>
                  <a:cubicBezTo>
                    <a:pt x="560" y="943"/>
                    <a:pt x="552" y="948"/>
                    <a:pt x="544" y="953"/>
                  </a:cubicBezTo>
                  <a:cubicBezTo>
                    <a:pt x="538" y="947"/>
                    <a:pt x="534" y="941"/>
                    <a:pt x="529" y="936"/>
                  </a:cubicBezTo>
                  <a:close/>
                  <a:moveTo>
                    <a:pt x="534" y="2619"/>
                  </a:moveTo>
                  <a:cubicBezTo>
                    <a:pt x="537" y="2640"/>
                    <a:pt x="542" y="2656"/>
                    <a:pt x="539" y="2671"/>
                  </a:cubicBezTo>
                  <a:cubicBezTo>
                    <a:pt x="530" y="2725"/>
                    <a:pt x="529" y="2724"/>
                    <a:pt x="569" y="2758"/>
                  </a:cubicBezTo>
                  <a:cubicBezTo>
                    <a:pt x="568" y="2736"/>
                    <a:pt x="562" y="2715"/>
                    <a:pt x="565" y="2692"/>
                  </a:cubicBezTo>
                  <a:cubicBezTo>
                    <a:pt x="568" y="2670"/>
                    <a:pt x="572" y="2635"/>
                    <a:pt x="534" y="2619"/>
                  </a:cubicBezTo>
                  <a:close/>
                  <a:moveTo>
                    <a:pt x="334" y="1506"/>
                  </a:moveTo>
                  <a:cubicBezTo>
                    <a:pt x="300" y="1527"/>
                    <a:pt x="299" y="1564"/>
                    <a:pt x="278" y="1581"/>
                  </a:cubicBezTo>
                  <a:cubicBezTo>
                    <a:pt x="291" y="1593"/>
                    <a:pt x="302" y="1604"/>
                    <a:pt x="317" y="1617"/>
                  </a:cubicBezTo>
                  <a:cubicBezTo>
                    <a:pt x="323" y="1580"/>
                    <a:pt x="328" y="1547"/>
                    <a:pt x="334" y="1506"/>
                  </a:cubicBezTo>
                  <a:close/>
                  <a:moveTo>
                    <a:pt x="1003" y="868"/>
                  </a:moveTo>
                  <a:cubicBezTo>
                    <a:pt x="998" y="852"/>
                    <a:pt x="993" y="837"/>
                    <a:pt x="988" y="821"/>
                  </a:cubicBezTo>
                  <a:cubicBezTo>
                    <a:pt x="974" y="833"/>
                    <a:pt x="961" y="841"/>
                    <a:pt x="952" y="852"/>
                  </a:cubicBezTo>
                  <a:cubicBezTo>
                    <a:pt x="943" y="863"/>
                    <a:pt x="933" y="878"/>
                    <a:pt x="956" y="889"/>
                  </a:cubicBezTo>
                  <a:cubicBezTo>
                    <a:pt x="961" y="880"/>
                    <a:pt x="966" y="873"/>
                    <a:pt x="969" y="867"/>
                  </a:cubicBezTo>
                  <a:cubicBezTo>
                    <a:pt x="986" y="879"/>
                    <a:pt x="1001" y="890"/>
                    <a:pt x="1020" y="903"/>
                  </a:cubicBezTo>
                  <a:cubicBezTo>
                    <a:pt x="1023" y="887"/>
                    <a:pt x="1025" y="879"/>
                    <a:pt x="1027" y="870"/>
                  </a:cubicBezTo>
                  <a:cubicBezTo>
                    <a:pt x="1016" y="869"/>
                    <a:pt x="1008" y="869"/>
                    <a:pt x="1003" y="868"/>
                  </a:cubicBezTo>
                  <a:close/>
                  <a:moveTo>
                    <a:pt x="2702" y="2969"/>
                  </a:moveTo>
                  <a:cubicBezTo>
                    <a:pt x="2718" y="2942"/>
                    <a:pt x="2698" y="2932"/>
                    <a:pt x="2693" y="2918"/>
                  </a:cubicBezTo>
                  <a:cubicBezTo>
                    <a:pt x="2688" y="2902"/>
                    <a:pt x="2682" y="2886"/>
                    <a:pt x="2674" y="2873"/>
                  </a:cubicBezTo>
                  <a:cubicBezTo>
                    <a:pt x="2666" y="2860"/>
                    <a:pt x="2658" y="2844"/>
                    <a:pt x="2634" y="2837"/>
                  </a:cubicBezTo>
                  <a:cubicBezTo>
                    <a:pt x="2656" y="2884"/>
                    <a:pt x="2668" y="2929"/>
                    <a:pt x="2702" y="2969"/>
                  </a:cubicBezTo>
                  <a:close/>
                  <a:moveTo>
                    <a:pt x="2871" y="877"/>
                  </a:moveTo>
                  <a:cubicBezTo>
                    <a:pt x="2820" y="878"/>
                    <a:pt x="2810" y="926"/>
                    <a:pt x="2776" y="948"/>
                  </a:cubicBezTo>
                  <a:cubicBezTo>
                    <a:pt x="2781" y="956"/>
                    <a:pt x="2786" y="964"/>
                    <a:pt x="2793" y="975"/>
                  </a:cubicBezTo>
                  <a:cubicBezTo>
                    <a:pt x="2820" y="941"/>
                    <a:pt x="2844" y="911"/>
                    <a:pt x="2871" y="877"/>
                  </a:cubicBezTo>
                  <a:close/>
                  <a:moveTo>
                    <a:pt x="3923" y="1640"/>
                  </a:moveTo>
                  <a:cubicBezTo>
                    <a:pt x="3901" y="1554"/>
                    <a:pt x="3875" y="1496"/>
                    <a:pt x="3848" y="1478"/>
                  </a:cubicBezTo>
                  <a:cubicBezTo>
                    <a:pt x="3875" y="1533"/>
                    <a:pt x="3878" y="1591"/>
                    <a:pt x="3923" y="1640"/>
                  </a:cubicBezTo>
                  <a:close/>
                  <a:moveTo>
                    <a:pt x="1468" y="1924"/>
                  </a:moveTo>
                  <a:cubicBezTo>
                    <a:pt x="1454" y="1922"/>
                    <a:pt x="1442" y="1921"/>
                    <a:pt x="1435" y="1920"/>
                  </a:cubicBezTo>
                  <a:cubicBezTo>
                    <a:pt x="1416" y="1936"/>
                    <a:pt x="1401" y="1948"/>
                    <a:pt x="1385" y="1962"/>
                  </a:cubicBezTo>
                  <a:cubicBezTo>
                    <a:pt x="1430" y="1981"/>
                    <a:pt x="1457" y="1970"/>
                    <a:pt x="1468" y="1924"/>
                  </a:cubicBezTo>
                  <a:close/>
                  <a:moveTo>
                    <a:pt x="3006" y="566"/>
                  </a:moveTo>
                  <a:cubicBezTo>
                    <a:pt x="3007" y="563"/>
                    <a:pt x="3007" y="561"/>
                    <a:pt x="3008" y="558"/>
                  </a:cubicBezTo>
                  <a:cubicBezTo>
                    <a:pt x="3001" y="554"/>
                    <a:pt x="2994" y="547"/>
                    <a:pt x="2986" y="547"/>
                  </a:cubicBezTo>
                  <a:cubicBezTo>
                    <a:pt x="2964" y="546"/>
                    <a:pt x="2942" y="546"/>
                    <a:pt x="2920" y="549"/>
                  </a:cubicBezTo>
                  <a:cubicBezTo>
                    <a:pt x="2913" y="550"/>
                    <a:pt x="2908" y="560"/>
                    <a:pt x="2902" y="565"/>
                  </a:cubicBezTo>
                  <a:cubicBezTo>
                    <a:pt x="2909" y="569"/>
                    <a:pt x="2915" y="576"/>
                    <a:pt x="2921" y="575"/>
                  </a:cubicBezTo>
                  <a:cubicBezTo>
                    <a:pt x="2949" y="573"/>
                    <a:pt x="2977" y="569"/>
                    <a:pt x="3006" y="566"/>
                  </a:cubicBezTo>
                  <a:close/>
                  <a:moveTo>
                    <a:pt x="1510" y="824"/>
                  </a:moveTo>
                  <a:cubicBezTo>
                    <a:pt x="1533" y="890"/>
                    <a:pt x="1534" y="890"/>
                    <a:pt x="1577" y="880"/>
                  </a:cubicBezTo>
                  <a:cubicBezTo>
                    <a:pt x="1554" y="861"/>
                    <a:pt x="1553" y="824"/>
                    <a:pt x="1510" y="824"/>
                  </a:cubicBezTo>
                  <a:close/>
                  <a:moveTo>
                    <a:pt x="2281" y="3669"/>
                  </a:moveTo>
                  <a:cubicBezTo>
                    <a:pt x="2320" y="3698"/>
                    <a:pt x="2358" y="3726"/>
                    <a:pt x="2396" y="3753"/>
                  </a:cubicBezTo>
                  <a:cubicBezTo>
                    <a:pt x="2368" y="3710"/>
                    <a:pt x="2336" y="3674"/>
                    <a:pt x="2281" y="3669"/>
                  </a:cubicBezTo>
                  <a:close/>
                  <a:moveTo>
                    <a:pt x="2334" y="886"/>
                  </a:moveTo>
                  <a:cubicBezTo>
                    <a:pt x="2348" y="879"/>
                    <a:pt x="2359" y="861"/>
                    <a:pt x="2353" y="845"/>
                  </a:cubicBezTo>
                  <a:cubicBezTo>
                    <a:pt x="2349" y="833"/>
                    <a:pt x="2336" y="823"/>
                    <a:pt x="2327" y="812"/>
                  </a:cubicBezTo>
                  <a:cubicBezTo>
                    <a:pt x="2320" y="817"/>
                    <a:pt x="2313" y="822"/>
                    <a:pt x="2306" y="828"/>
                  </a:cubicBezTo>
                  <a:cubicBezTo>
                    <a:pt x="2315" y="847"/>
                    <a:pt x="2324" y="865"/>
                    <a:pt x="2334" y="886"/>
                  </a:cubicBezTo>
                  <a:close/>
                  <a:moveTo>
                    <a:pt x="273" y="1769"/>
                  </a:moveTo>
                  <a:cubicBezTo>
                    <a:pt x="259" y="1758"/>
                    <a:pt x="250" y="1739"/>
                    <a:pt x="229" y="1756"/>
                  </a:cubicBezTo>
                  <a:cubicBezTo>
                    <a:pt x="227" y="1758"/>
                    <a:pt x="226" y="1762"/>
                    <a:pt x="226" y="1764"/>
                  </a:cubicBezTo>
                  <a:cubicBezTo>
                    <a:pt x="234" y="1770"/>
                    <a:pt x="241" y="1775"/>
                    <a:pt x="250" y="1782"/>
                  </a:cubicBezTo>
                  <a:cubicBezTo>
                    <a:pt x="238" y="1793"/>
                    <a:pt x="229" y="1801"/>
                    <a:pt x="214" y="1814"/>
                  </a:cubicBezTo>
                  <a:cubicBezTo>
                    <a:pt x="235" y="1811"/>
                    <a:pt x="249" y="1810"/>
                    <a:pt x="262" y="1808"/>
                  </a:cubicBezTo>
                  <a:cubicBezTo>
                    <a:pt x="265" y="1795"/>
                    <a:pt x="269" y="1784"/>
                    <a:pt x="273" y="1769"/>
                  </a:cubicBezTo>
                  <a:close/>
                  <a:moveTo>
                    <a:pt x="1991" y="3176"/>
                  </a:moveTo>
                  <a:cubicBezTo>
                    <a:pt x="1966" y="3155"/>
                    <a:pt x="1957" y="3171"/>
                    <a:pt x="1947" y="3187"/>
                  </a:cubicBezTo>
                  <a:cubicBezTo>
                    <a:pt x="1954" y="3189"/>
                    <a:pt x="1959" y="3190"/>
                    <a:pt x="1963" y="3191"/>
                  </a:cubicBezTo>
                  <a:cubicBezTo>
                    <a:pt x="1958" y="3217"/>
                    <a:pt x="1919" y="3221"/>
                    <a:pt x="1933" y="3262"/>
                  </a:cubicBezTo>
                  <a:cubicBezTo>
                    <a:pt x="1955" y="3229"/>
                    <a:pt x="1973" y="3203"/>
                    <a:pt x="1991" y="3176"/>
                  </a:cubicBezTo>
                  <a:close/>
                  <a:moveTo>
                    <a:pt x="1297" y="1773"/>
                  </a:moveTo>
                  <a:cubicBezTo>
                    <a:pt x="1300" y="1807"/>
                    <a:pt x="1303" y="1835"/>
                    <a:pt x="1306" y="1863"/>
                  </a:cubicBezTo>
                  <a:cubicBezTo>
                    <a:pt x="1306" y="1866"/>
                    <a:pt x="1306" y="1869"/>
                    <a:pt x="1308" y="1871"/>
                  </a:cubicBezTo>
                  <a:cubicBezTo>
                    <a:pt x="1312" y="1875"/>
                    <a:pt x="1317" y="1881"/>
                    <a:pt x="1322" y="1881"/>
                  </a:cubicBezTo>
                  <a:cubicBezTo>
                    <a:pt x="1326" y="1881"/>
                    <a:pt x="1334" y="1872"/>
                    <a:pt x="1334" y="1869"/>
                  </a:cubicBezTo>
                  <a:cubicBezTo>
                    <a:pt x="1328" y="1836"/>
                    <a:pt x="1323" y="1803"/>
                    <a:pt x="1297" y="1773"/>
                  </a:cubicBezTo>
                  <a:close/>
                  <a:moveTo>
                    <a:pt x="1373" y="2680"/>
                  </a:moveTo>
                  <a:cubicBezTo>
                    <a:pt x="1384" y="2676"/>
                    <a:pt x="1390" y="2663"/>
                    <a:pt x="1383" y="2650"/>
                  </a:cubicBezTo>
                  <a:cubicBezTo>
                    <a:pt x="1369" y="2625"/>
                    <a:pt x="1345" y="2635"/>
                    <a:pt x="1318" y="2633"/>
                  </a:cubicBezTo>
                  <a:cubicBezTo>
                    <a:pt x="1339" y="2650"/>
                    <a:pt x="1354" y="2664"/>
                    <a:pt x="1373" y="2680"/>
                  </a:cubicBezTo>
                  <a:close/>
                  <a:moveTo>
                    <a:pt x="2050" y="1732"/>
                  </a:moveTo>
                  <a:cubicBezTo>
                    <a:pt x="2016" y="1720"/>
                    <a:pt x="1955" y="1722"/>
                    <a:pt x="1930" y="1733"/>
                  </a:cubicBezTo>
                  <a:cubicBezTo>
                    <a:pt x="1973" y="1738"/>
                    <a:pt x="2012" y="1751"/>
                    <a:pt x="2050" y="1732"/>
                  </a:cubicBezTo>
                  <a:close/>
                  <a:moveTo>
                    <a:pt x="1346" y="258"/>
                  </a:moveTo>
                  <a:cubicBezTo>
                    <a:pt x="1370" y="266"/>
                    <a:pt x="1373" y="223"/>
                    <a:pt x="1398" y="242"/>
                  </a:cubicBezTo>
                  <a:cubicBezTo>
                    <a:pt x="1411" y="226"/>
                    <a:pt x="1423" y="211"/>
                    <a:pt x="1434" y="197"/>
                  </a:cubicBezTo>
                  <a:cubicBezTo>
                    <a:pt x="1396" y="197"/>
                    <a:pt x="1372" y="226"/>
                    <a:pt x="1346" y="258"/>
                  </a:cubicBezTo>
                  <a:close/>
                  <a:moveTo>
                    <a:pt x="2139" y="1912"/>
                  </a:moveTo>
                  <a:cubicBezTo>
                    <a:pt x="2126" y="1907"/>
                    <a:pt x="2119" y="1903"/>
                    <a:pt x="2112" y="1903"/>
                  </a:cubicBezTo>
                  <a:cubicBezTo>
                    <a:pt x="2099" y="1904"/>
                    <a:pt x="2087" y="1906"/>
                    <a:pt x="2076" y="1910"/>
                  </a:cubicBezTo>
                  <a:cubicBezTo>
                    <a:pt x="2074" y="1911"/>
                    <a:pt x="2073" y="1923"/>
                    <a:pt x="2076" y="1927"/>
                  </a:cubicBezTo>
                  <a:cubicBezTo>
                    <a:pt x="2086" y="1941"/>
                    <a:pt x="2102" y="1940"/>
                    <a:pt x="2115" y="1934"/>
                  </a:cubicBezTo>
                  <a:cubicBezTo>
                    <a:pt x="2123" y="1931"/>
                    <a:pt x="2129" y="1922"/>
                    <a:pt x="2139" y="1912"/>
                  </a:cubicBezTo>
                  <a:close/>
                  <a:moveTo>
                    <a:pt x="1525" y="4074"/>
                  </a:moveTo>
                  <a:cubicBezTo>
                    <a:pt x="1526" y="4072"/>
                    <a:pt x="1527" y="4069"/>
                    <a:pt x="1528" y="4066"/>
                  </a:cubicBezTo>
                  <a:cubicBezTo>
                    <a:pt x="1503" y="4050"/>
                    <a:pt x="1471" y="4048"/>
                    <a:pt x="1452" y="4020"/>
                  </a:cubicBezTo>
                  <a:cubicBezTo>
                    <a:pt x="1443" y="4007"/>
                    <a:pt x="1434" y="4013"/>
                    <a:pt x="1423" y="4037"/>
                  </a:cubicBezTo>
                  <a:cubicBezTo>
                    <a:pt x="1457" y="4049"/>
                    <a:pt x="1491" y="4062"/>
                    <a:pt x="1525" y="4074"/>
                  </a:cubicBezTo>
                  <a:close/>
                  <a:moveTo>
                    <a:pt x="2012" y="3477"/>
                  </a:moveTo>
                  <a:cubicBezTo>
                    <a:pt x="2046" y="3459"/>
                    <a:pt x="2043" y="3422"/>
                    <a:pt x="2057" y="3395"/>
                  </a:cubicBezTo>
                  <a:cubicBezTo>
                    <a:pt x="2037" y="3417"/>
                    <a:pt x="2019" y="3440"/>
                    <a:pt x="2003" y="3464"/>
                  </a:cubicBezTo>
                  <a:cubicBezTo>
                    <a:pt x="2002" y="3466"/>
                    <a:pt x="2008" y="3472"/>
                    <a:pt x="2012" y="3477"/>
                  </a:cubicBezTo>
                  <a:close/>
                  <a:moveTo>
                    <a:pt x="2428" y="2413"/>
                  </a:moveTo>
                  <a:cubicBezTo>
                    <a:pt x="2459" y="2427"/>
                    <a:pt x="2484" y="2422"/>
                    <a:pt x="2510" y="2422"/>
                  </a:cubicBezTo>
                  <a:cubicBezTo>
                    <a:pt x="2487" y="2385"/>
                    <a:pt x="2477" y="2383"/>
                    <a:pt x="2428" y="2413"/>
                  </a:cubicBezTo>
                  <a:close/>
                  <a:moveTo>
                    <a:pt x="1875" y="2884"/>
                  </a:moveTo>
                  <a:cubicBezTo>
                    <a:pt x="1880" y="2906"/>
                    <a:pt x="1848" y="2923"/>
                    <a:pt x="1876" y="2944"/>
                  </a:cubicBezTo>
                  <a:cubicBezTo>
                    <a:pt x="1889" y="2929"/>
                    <a:pt x="1901" y="2916"/>
                    <a:pt x="1915" y="2900"/>
                  </a:cubicBezTo>
                  <a:cubicBezTo>
                    <a:pt x="1901" y="2895"/>
                    <a:pt x="1890" y="2890"/>
                    <a:pt x="1875" y="2884"/>
                  </a:cubicBezTo>
                  <a:close/>
                  <a:moveTo>
                    <a:pt x="985" y="1441"/>
                  </a:moveTo>
                  <a:cubicBezTo>
                    <a:pt x="997" y="1487"/>
                    <a:pt x="1014" y="1505"/>
                    <a:pt x="1046" y="1500"/>
                  </a:cubicBezTo>
                  <a:cubicBezTo>
                    <a:pt x="1033" y="1473"/>
                    <a:pt x="1008" y="1460"/>
                    <a:pt x="985" y="1441"/>
                  </a:cubicBezTo>
                  <a:close/>
                  <a:moveTo>
                    <a:pt x="2409" y="2332"/>
                  </a:moveTo>
                  <a:cubicBezTo>
                    <a:pt x="2455" y="2341"/>
                    <a:pt x="2491" y="2349"/>
                    <a:pt x="2528" y="2335"/>
                  </a:cubicBezTo>
                  <a:cubicBezTo>
                    <a:pt x="2491" y="2335"/>
                    <a:pt x="2455" y="2313"/>
                    <a:pt x="2409" y="2332"/>
                  </a:cubicBezTo>
                  <a:close/>
                  <a:moveTo>
                    <a:pt x="2125" y="815"/>
                  </a:moveTo>
                  <a:cubicBezTo>
                    <a:pt x="2097" y="790"/>
                    <a:pt x="2070" y="766"/>
                    <a:pt x="2042" y="741"/>
                  </a:cubicBezTo>
                  <a:cubicBezTo>
                    <a:pt x="2050" y="769"/>
                    <a:pt x="2083" y="798"/>
                    <a:pt x="2125" y="815"/>
                  </a:cubicBezTo>
                  <a:close/>
                  <a:moveTo>
                    <a:pt x="2461" y="635"/>
                  </a:moveTo>
                  <a:cubicBezTo>
                    <a:pt x="2476" y="646"/>
                    <a:pt x="2485" y="652"/>
                    <a:pt x="2498" y="663"/>
                  </a:cubicBezTo>
                  <a:cubicBezTo>
                    <a:pt x="2500" y="640"/>
                    <a:pt x="2522" y="627"/>
                    <a:pt x="2508" y="603"/>
                  </a:cubicBezTo>
                  <a:cubicBezTo>
                    <a:pt x="2492" y="613"/>
                    <a:pt x="2480" y="622"/>
                    <a:pt x="2461" y="635"/>
                  </a:cubicBezTo>
                  <a:close/>
                  <a:moveTo>
                    <a:pt x="1249" y="3620"/>
                  </a:moveTo>
                  <a:cubicBezTo>
                    <a:pt x="1247" y="3618"/>
                    <a:pt x="1245" y="3616"/>
                    <a:pt x="1243" y="3614"/>
                  </a:cubicBezTo>
                  <a:cubicBezTo>
                    <a:pt x="1215" y="3630"/>
                    <a:pt x="1186" y="3646"/>
                    <a:pt x="1155" y="3663"/>
                  </a:cubicBezTo>
                  <a:cubicBezTo>
                    <a:pt x="1191" y="3675"/>
                    <a:pt x="1211" y="3650"/>
                    <a:pt x="1235" y="3639"/>
                  </a:cubicBezTo>
                  <a:cubicBezTo>
                    <a:pt x="1242" y="3636"/>
                    <a:pt x="1244" y="3626"/>
                    <a:pt x="1249" y="3620"/>
                  </a:cubicBezTo>
                  <a:close/>
                  <a:moveTo>
                    <a:pt x="1127" y="890"/>
                  </a:moveTo>
                  <a:cubicBezTo>
                    <a:pt x="1108" y="877"/>
                    <a:pt x="1093" y="866"/>
                    <a:pt x="1077" y="855"/>
                  </a:cubicBezTo>
                  <a:cubicBezTo>
                    <a:pt x="1075" y="905"/>
                    <a:pt x="1084" y="912"/>
                    <a:pt x="1127" y="890"/>
                  </a:cubicBezTo>
                  <a:close/>
                  <a:moveTo>
                    <a:pt x="268" y="1507"/>
                  </a:moveTo>
                  <a:cubicBezTo>
                    <a:pt x="271" y="1483"/>
                    <a:pt x="272" y="1465"/>
                    <a:pt x="275" y="1444"/>
                  </a:cubicBezTo>
                  <a:cubicBezTo>
                    <a:pt x="260" y="1461"/>
                    <a:pt x="249" y="1475"/>
                    <a:pt x="237" y="1488"/>
                  </a:cubicBezTo>
                  <a:cubicBezTo>
                    <a:pt x="245" y="1492"/>
                    <a:pt x="251" y="1495"/>
                    <a:pt x="258" y="1498"/>
                  </a:cubicBezTo>
                  <a:cubicBezTo>
                    <a:pt x="252" y="1505"/>
                    <a:pt x="248" y="1509"/>
                    <a:pt x="244" y="1514"/>
                  </a:cubicBezTo>
                  <a:cubicBezTo>
                    <a:pt x="245" y="1515"/>
                    <a:pt x="246" y="1516"/>
                    <a:pt x="247" y="1517"/>
                  </a:cubicBezTo>
                  <a:cubicBezTo>
                    <a:pt x="255" y="1513"/>
                    <a:pt x="263" y="1509"/>
                    <a:pt x="268" y="1507"/>
                  </a:cubicBezTo>
                  <a:close/>
                  <a:moveTo>
                    <a:pt x="2291" y="562"/>
                  </a:moveTo>
                  <a:cubicBezTo>
                    <a:pt x="2326" y="579"/>
                    <a:pt x="2343" y="570"/>
                    <a:pt x="2361" y="522"/>
                  </a:cubicBezTo>
                  <a:cubicBezTo>
                    <a:pt x="2346" y="532"/>
                    <a:pt x="2337" y="540"/>
                    <a:pt x="2328" y="545"/>
                  </a:cubicBezTo>
                  <a:cubicBezTo>
                    <a:pt x="2318" y="551"/>
                    <a:pt x="2307" y="555"/>
                    <a:pt x="2291" y="562"/>
                  </a:cubicBezTo>
                  <a:close/>
                  <a:moveTo>
                    <a:pt x="2386" y="1562"/>
                  </a:moveTo>
                  <a:cubicBezTo>
                    <a:pt x="2403" y="1585"/>
                    <a:pt x="2426" y="1580"/>
                    <a:pt x="2444" y="1586"/>
                  </a:cubicBezTo>
                  <a:cubicBezTo>
                    <a:pt x="2449" y="1587"/>
                    <a:pt x="2455" y="1584"/>
                    <a:pt x="2463" y="1582"/>
                  </a:cubicBezTo>
                  <a:cubicBezTo>
                    <a:pt x="2435" y="1558"/>
                    <a:pt x="2415" y="1552"/>
                    <a:pt x="2386" y="1562"/>
                  </a:cubicBezTo>
                  <a:close/>
                  <a:moveTo>
                    <a:pt x="349" y="2634"/>
                  </a:moveTo>
                  <a:cubicBezTo>
                    <a:pt x="351" y="2634"/>
                    <a:pt x="354" y="2634"/>
                    <a:pt x="357" y="2634"/>
                  </a:cubicBezTo>
                  <a:cubicBezTo>
                    <a:pt x="350" y="2591"/>
                    <a:pt x="343" y="2548"/>
                    <a:pt x="336" y="2504"/>
                  </a:cubicBezTo>
                  <a:cubicBezTo>
                    <a:pt x="330" y="2549"/>
                    <a:pt x="338" y="2592"/>
                    <a:pt x="349" y="2634"/>
                  </a:cubicBezTo>
                  <a:close/>
                  <a:moveTo>
                    <a:pt x="2631" y="2006"/>
                  </a:moveTo>
                  <a:cubicBezTo>
                    <a:pt x="2603" y="2008"/>
                    <a:pt x="2581" y="2009"/>
                    <a:pt x="2555" y="2011"/>
                  </a:cubicBezTo>
                  <a:cubicBezTo>
                    <a:pt x="2590" y="2037"/>
                    <a:pt x="2604" y="2037"/>
                    <a:pt x="2631" y="2006"/>
                  </a:cubicBezTo>
                  <a:close/>
                  <a:moveTo>
                    <a:pt x="2573" y="2769"/>
                  </a:moveTo>
                  <a:cubicBezTo>
                    <a:pt x="2591" y="2786"/>
                    <a:pt x="2609" y="2802"/>
                    <a:pt x="2633" y="2824"/>
                  </a:cubicBezTo>
                  <a:cubicBezTo>
                    <a:pt x="2623" y="2774"/>
                    <a:pt x="2621" y="2772"/>
                    <a:pt x="2573" y="2769"/>
                  </a:cubicBezTo>
                  <a:close/>
                  <a:moveTo>
                    <a:pt x="1463" y="774"/>
                  </a:moveTo>
                  <a:cubicBezTo>
                    <a:pt x="1463" y="761"/>
                    <a:pt x="1450" y="734"/>
                    <a:pt x="1433" y="730"/>
                  </a:cubicBezTo>
                  <a:cubicBezTo>
                    <a:pt x="1429" y="729"/>
                    <a:pt x="1423" y="737"/>
                    <a:pt x="1419" y="739"/>
                  </a:cubicBezTo>
                  <a:cubicBezTo>
                    <a:pt x="1437" y="753"/>
                    <a:pt x="1452" y="765"/>
                    <a:pt x="1463" y="774"/>
                  </a:cubicBezTo>
                  <a:close/>
                  <a:moveTo>
                    <a:pt x="907" y="1962"/>
                  </a:moveTo>
                  <a:cubicBezTo>
                    <a:pt x="914" y="1981"/>
                    <a:pt x="922" y="1998"/>
                    <a:pt x="929" y="2016"/>
                  </a:cubicBezTo>
                  <a:cubicBezTo>
                    <a:pt x="932" y="2015"/>
                    <a:pt x="934" y="2015"/>
                    <a:pt x="937" y="2014"/>
                  </a:cubicBezTo>
                  <a:cubicBezTo>
                    <a:pt x="937" y="1999"/>
                    <a:pt x="939" y="1983"/>
                    <a:pt x="936" y="1969"/>
                  </a:cubicBezTo>
                  <a:cubicBezTo>
                    <a:pt x="934" y="1953"/>
                    <a:pt x="922" y="1954"/>
                    <a:pt x="907" y="1962"/>
                  </a:cubicBezTo>
                  <a:close/>
                  <a:moveTo>
                    <a:pt x="3846" y="1448"/>
                  </a:moveTo>
                  <a:cubicBezTo>
                    <a:pt x="3828" y="1397"/>
                    <a:pt x="3822" y="1387"/>
                    <a:pt x="3799" y="1378"/>
                  </a:cubicBezTo>
                  <a:cubicBezTo>
                    <a:pt x="3807" y="1407"/>
                    <a:pt x="3819" y="1432"/>
                    <a:pt x="3846" y="1448"/>
                  </a:cubicBezTo>
                  <a:close/>
                  <a:moveTo>
                    <a:pt x="2036" y="2403"/>
                  </a:moveTo>
                  <a:cubicBezTo>
                    <a:pt x="2057" y="2422"/>
                    <a:pt x="2070" y="2425"/>
                    <a:pt x="2111" y="2422"/>
                  </a:cubicBezTo>
                  <a:cubicBezTo>
                    <a:pt x="2083" y="2405"/>
                    <a:pt x="2064" y="2391"/>
                    <a:pt x="2036" y="2403"/>
                  </a:cubicBezTo>
                  <a:close/>
                  <a:moveTo>
                    <a:pt x="1928" y="1823"/>
                  </a:moveTo>
                  <a:cubicBezTo>
                    <a:pt x="1955" y="1838"/>
                    <a:pt x="1993" y="1835"/>
                    <a:pt x="2013" y="1816"/>
                  </a:cubicBezTo>
                  <a:cubicBezTo>
                    <a:pt x="1985" y="1818"/>
                    <a:pt x="1960" y="1820"/>
                    <a:pt x="1928" y="1823"/>
                  </a:cubicBezTo>
                  <a:close/>
                  <a:moveTo>
                    <a:pt x="744" y="736"/>
                  </a:moveTo>
                  <a:cubicBezTo>
                    <a:pt x="781" y="713"/>
                    <a:pt x="758" y="682"/>
                    <a:pt x="770" y="659"/>
                  </a:cubicBezTo>
                  <a:cubicBezTo>
                    <a:pt x="751" y="679"/>
                    <a:pt x="748" y="704"/>
                    <a:pt x="744" y="736"/>
                  </a:cubicBezTo>
                  <a:close/>
                  <a:moveTo>
                    <a:pt x="2892" y="2312"/>
                  </a:moveTo>
                  <a:cubicBezTo>
                    <a:pt x="2893" y="2316"/>
                    <a:pt x="2893" y="2321"/>
                    <a:pt x="2893" y="2325"/>
                  </a:cubicBezTo>
                  <a:cubicBezTo>
                    <a:pt x="2911" y="2322"/>
                    <a:pt x="2930" y="2332"/>
                    <a:pt x="2954" y="2312"/>
                  </a:cubicBezTo>
                  <a:cubicBezTo>
                    <a:pt x="2928" y="2312"/>
                    <a:pt x="2910" y="2312"/>
                    <a:pt x="2892" y="2312"/>
                  </a:cubicBezTo>
                  <a:close/>
                  <a:moveTo>
                    <a:pt x="2194" y="919"/>
                  </a:moveTo>
                  <a:cubicBezTo>
                    <a:pt x="2191" y="919"/>
                    <a:pt x="2189" y="920"/>
                    <a:pt x="2186" y="921"/>
                  </a:cubicBezTo>
                  <a:cubicBezTo>
                    <a:pt x="2192" y="954"/>
                    <a:pt x="2182" y="990"/>
                    <a:pt x="2197" y="1023"/>
                  </a:cubicBezTo>
                  <a:cubicBezTo>
                    <a:pt x="2200" y="1022"/>
                    <a:pt x="2203" y="1022"/>
                    <a:pt x="2206" y="1022"/>
                  </a:cubicBezTo>
                  <a:cubicBezTo>
                    <a:pt x="2202" y="987"/>
                    <a:pt x="2198" y="953"/>
                    <a:pt x="2194" y="919"/>
                  </a:cubicBezTo>
                  <a:close/>
                  <a:moveTo>
                    <a:pt x="388" y="1384"/>
                  </a:moveTo>
                  <a:cubicBezTo>
                    <a:pt x="346" y="1395"/>
                    <a:pt x="344" y="1397"/>
                    <a:pt x="345" y="1436"/>
                  </a:cubicBezTo>
                  <a:cubicBezTo>
                    <a:pt x="360" y="1419"/>
                    <a:pt x="371" y="1405"/>
                    <a:pt x="388" y="1384"/>
                  </a:cubicBezTo>
                  <a:close/>
                  <a:moveTo>
                    <a:pt x="2031" y="2028"/>
                  </a:moveTo>
                  <a:cubicBezTo>
                    <a:pt x="2049" y="2028"/>
                    <a:pt x="2068" y="2028"/>
                    <a:pt x="2087" y="2028"/>
                  </a:cubicBezTo>
                  <a:cubicBezTo>
                    <a:pt x="2068" y="2007"/>
                    <a:pt x="2050" y="2013"/>
                    <a:pt x="2031" y="2028"/>
                  </a:cubicBezTo>
                  <a:close/>
                  <a:moveTo>
                    <a:pt x="3725" y="1129"/>
                  </a:moveTo>
                  <a:cubicBezTo>
                    <a:pt x="3729" y="1102"/>
                    <a:pt x="3719" y="1092"/>
                    <a:pt x="3697" y="1087"/>
                  </a:cubicBezTo>
                  <a:cubicBezTo>
                    <a:pt x="3688" y="1111"/>
                    <a:pt x="3700" y="1119"/>
                    <a:pt x="3725" y="1129"/>
                  </a:cubicBezTo>
                  <a:close/>
                  <a:moveTo>
                    <a:pt x="2613" y="3209"/>
                  </a:moveTo>
                  <a:cubicBezTo>
                    <a:pt x="2615" y="3176"/>
                    <a:pt x="2593" y="3158"/>
                    <a:pt x="2567" y="3142"/>
                  </a:cubicBezTo>
                  <a:cubicBezTo>
                    <a:pt x="2582" y="3164"/>
                    <a:pt x="2598" y="3187"/>
                    <a:pt x="2613" y="3209"/>
                  </a:cubicBezTo>
                  <a:close/>
                  <a:moveTo>
                    <a:pt x="2369" y="3268"/>
                  </a:moveTo>
                  <a:cubicBezTo>
                    <a:pt x="2344" y="3241"/>
                    <a:pt x="2344" y="3241"/>
                    <a:pt x="2318" y="3255"/>
                  </a:cubicBezTo>
                  <a:cubicBezTo>
                    <a:pt x="2339" y="3271"/>
                    <a:pt x="2339" y="3271"/>
                    <a:pt x="2369" y="3268"/>
                  </a:cubicBezTo>
                  <a:close/>
                  <a:moveTo>
                    <a:pt x="3245" y="3296"/>
                  </a:moveTo>
                  <a:cubicBezTo>
                    <a:pt x="3243" y="3298"/>
                    <a:pt x="3242" y="3300"/>
                    <a:pt x="3240" y="3302"/>
                  </a:cubicBezTo>
                  <a:cubicBezTo>
                    <a:pt x="3274" y="3342"/>
                    <a:pt x="3274" y="3342"/>
                    <a:pt x="3305" y="3339"/>
                  </a:cubicBezTo>
                  <a:cubicBezTo>
                    <a:pt x="3282" y="3323"/>
                    <a:pt x="3263" y="3309"/>
                    <a:pt x="3245" y="3296"/>
                  </a:cubicBezTo>
                  <a:close/>
                  <a:moveTo>
                    <a:pt x="284" y="2963"/>
                  </a:moveTo>
                  <a:cubicBezTo>
                    <a:pt x="286" y="2964"/>
                    <a:pt x="288" y="2965"/>
                    <a:pt x="290" y="2966"/>
                  </a:cubicBezTo>
                  <a:cubicBezTo>
                    <a:pt x="299" y="2960"/>
                    <a:pt x="307" y="2954"/>
                    <a:pt x="317" y="2947"/>
                  </a:cubicBezTo>
                  <a:cubicBezTo>
                    <a:pt x="311" y="2936"/>
                    <a:pt x="306" y="2928"/>
                    <a:pt x="297" y="2910"/>
                  </a:cubicBezTo>
                  <a:cubicBezTo>
                    <a:pt x="291" y="2933"/>
                    <a:pt x="287" y="2948"/>
                    <a:pt x="284" y="2963"/>
                  </a:cubicBezTo>
                  <a:close/>
                  <a:moveTo>
                    <a:pt x="321" y="1703"/>
                  </a:moveTo>
                  <a:cubicBezTo>
                    <a:pt x="350" y="1681"/>
                    <a:pt x="350" y="1676"/>
                    <a:pt x="321" y="1656"/>
                  </a:cubicBezTo>
                  <a:cubicBezTo>
                    <a:pt x="321" y="1673"/>
                    <a:pt x="321" y="1687"/>
                    <a:pt x="321" y="1703"/>
                  </a:cubicBezTo>
                  <a:close/>
                  <a:moveTo>
                    <a:pt x="1734" y="1297"/>
                  </a:moveTo>
                  <a:cubicBezTo>
                    <a:pt x="1744" y="1256"/>
                    <a:pt x="1742" y="1253"/>
                    <a:pt x="1712" y="1242"/>
                  </a:cubicBezTo>
                  <a:cubicBezTo>
                    <a:pt x="1711" y="1244"/>
                    <a:pt x="1709" y="1247"/>
                    <a:pt x="1710" y="1249"/>
                  </a:cubicBezTo>
                  <a:cubicBezTo>
                    <a:pt x="1717" y="1263"/>
                    <a:pt x="1724" y="1277"/>
                    <a:pt x="1734" y="1297"/>
                  </a:cubicBezTo>
                  <a:close/>
                  <a:moveTo>
                    <a:pt x="1494" y="1633"/>
                  </a:moveTo>
                  <a:cubicBezTo>
                    <a:pt x="1482" y="1667"/>
                    <a:pt x="1485" y="1674"/>
                    <a:pt x="1516" y="1680"/>
                  </a:cubicBezTo>
                  <a:cubicBezTo>
                    <a:pt x="1509" y="1665"/>
                    <a:pt x="1502" y="1650"/>
                    <a:pt x="1494" y="1633"/>
                  </a:cubicBezTo>
                  <a:close/>
                  <a:moveTo>
                    <a:pt x="1092" y="380"/>
                  </a:moveTo>
                  <a:cubicBezTo>
                    <a:pt x="1105" y="367"/>
                    <a:pt x="1117" y="356"/>
                    <a:pt x="1129" y="345"/>
                  </a:cubicBezTo>
                  <a:cubicBezTo>
                    <a:pt x="1128" y="344"/>
                    <a:pt x="1127" y="342"/>
                    <a:pt x="1126" y="340"/>
                  </a:cubicBezTo>
                  <a:cubicBezTo>
                    <a:pt x="1112" y="344"/>
                    <a:pt x="1098" y="348"/>
                    <a:pt x="1081" y="353"/>
                  </a:cubicBezTo>
                  <a:cubicBezTo>
                    <a:pt x="1086" y="365"/>
                    <a:pt x="1089" y="374"/>
                    <a:pt x="1092" y="380"/>
                  </a:cubicBezTo>
                  <a:close/>
                  <a:moveTo>
                    <a:pt x="1796" y="968"/>
                  </a:moveTo>
                  <a:cubicBezTo>
                    <a:pt x="1789" y="947"/>
                    <a:pt x="1784" y="926"/>
                    <a:pt x="1754" y="931"/>
                  </a:cubicBezTo>
                  <a:cubicBezTo>
                    <a:pt x="1754" y="961"/>
                    <a:pt x="1785" y="954"/>
                    <a:pt x="1796" y="968"/>
                  </a:cubicBezTo>
                  <a:close/>
                  <a:moveTo>
                    <a:pt x="3395" y="1007"/>
                  </a:moveTo>
                  <a:cubicBezTo>
                    <a:pt x="3417" y="1000"/>
                    <a:pt x="3416" y="986"/>
                    <a:pt x="3418" y="974"/>
                  </a:cubicBezTo>
                  <a:cubicBezTo>
                    <a:pt x="3420" y="963"/>
                    <a:pt x="3436" y="952"/>
                    <a:pt x="3417" y="941"/>
                  </a:cubicBezTo>
                  <a:cubicBezTo>
                    <a:pt x="3410" y="963"/>
                    <a:pt x="3403" y="983"/>
                    <a:pt x="3395" y="1007"/>
                  </a:cubicBezTo>
                  <a:close/>
                  <a:moveTo>
                    <a:pt x="2186" y="3415"/>
                  </a:moveTo>
                  <a:cubicBezTo>
                    <a:pt x="2183" y="3415"/>
                    <a:pt x="2181" y="3414"/>
                    <a:pt x="2178" y="3414"/>
                  </a:cubicBezTo>
                  <a:cubicBezTo>
                    <a:pt x="2174" y="3442"/>
                    <a:pt x="2165" y="3470"/>
                    <a:pt x="2180" y="3498"/>
                  </a:cubicBezTo>
                  <a:cubicBezTo>
                    <a:pt x="2182" y="3471"/>
                    <a:pt x="2184" y="3443"/>
                    <a:pt x="2186" y="3415"/>
                  </a:cubicBezTo>
                  <a:close/>
                  <a:moveTo>
                    <a:pt x="1532" y="1464"/>
                  </a:moveTo>
                  <a:cubicBezTo>
                    <a:pt x="1540" y="1440"/>
                    <a:pt x="1540" y="1440"/>
                    <a:pt x="1517" y="1425"/>
                  </a:cubicBezTo>
                  <a:cubicBezTo>
                    <a:pt x="1509" y="1452"/>
                    <a:pt x="1509" y="1452"/>
                    <a:pt x="1532" y="1464"/>
                  </a:cubicBezTo>
                  <a:close/>
                  <a:moveTo>
                    <a:pt x="1893" y="3613"/>
                  </a:moveTo>
                  <a:cubicBezTo>
                    <a:pt x="1871" y="3637"/>
                    <a:pt x="1871" y="3637"/>
                    <a:pt x="1877" y="3661"/>
                  </a:cubicBezTo>
                  <a:cubicBezTo>
                    <a:pt x="1894" y="3638"/>
                    <a:pt x="1894" y="3638"/>
                    <a:pt x="1893" y="3613"/>
                  </a:cubicBezTo>
                  <a:close/>
                  <a:moveTo>
                    <a:pt x="1159" y="916"/>
                  </a:moveTo>
                  <a:cubicBezTo>
                    <a:pt x="1156" y="920"/>
                    <a:pt x="1153" y="924"/>
                    <a:pt x="1150" y="928"/>
                  </a:cubicBezTo>
                  <a:cubicBezTo>
                    <a:pt x="1166" y="940"/>
                    <a:pt x="1183" y="951"/>
                    <a:pt x="1199" y="963"/>
                  </a:cubicBezTo>
                  <a:cubicBezTo>
                    <a:pt x="1201" y="961"/>
                    <a:pt x="1203" y="958"/>
                    <a:pt x="1205" y="956"/>
                  </a:cubicBezTo>
                  <a:cubicBezTo>
                    <a:pt x="1190" y="943"/>
                    <a:pt x="1175" y="929"/>
                    <a:pt x="1159" y="916"/>
                  </a:cubicBezTo>
                  <a:close/>
                  <a:moveTo>
                    <a:pt x="1636" y="4045"/>
                  </a:moveTo>
                  <a:cubicBezTo>
                    <a:pt x="1657" y="4031"/>
                    <a:pt x="1671" y="4021"/>
                    <a:pt x="1673" y="3997"/>
                  </a:cubicBezTo>
                  <a:cubicBezTo>
                    <a:pt x="1649" y="4004"/>
                    <a:pt x="1635" y="4014"/>
                    <a:pt x="1636" y="4045"/>
                  </a:cubicBezTo>
                  <a:close/>
                  <a:moveTo>
                    <a:pt x="3004" y="2142"/>
                  </a:moveTo>
                  <a:cubicBezTo>
                    <a:pt x="2988" y="2135"/>
                    <a:pt x="2973" y="2118"/>
                    <a:pt x="2953" y="2138"/>
                  </a:cubicBezTo>
                  <a:cubicBezTo>
                    <a:pt x="2970" y="2152"/>
                    <a:pt x="2987" y="2150"/>
                    <a:pt x="3004" y="2142"/>
                  </a:cubicBezTo>
                  <a:close/>
                  <a:moveTo>
                    <a:pt x="606" y="2830"/>
                  </a:moveTo>
                  <a:cubicBezTo>
                    <a:pt x="602" y="2831"/>
                    <a:pt x="598" y="2832"/>
                    <a:pt x="595" y="2834"/>
                  </a:cubicBezTo>
                  <a:cubicBezTo>
                    <a:pt x="595" y="2849"/>
                    <a:pt x="594" y="2864"/>
                    <a:pt x="619" y="2870"/>
                  </a:cubicBezTo>
                  <a:cubicBezTo>
                    <a:pt x="615" y="2857"/>
                    <a:pt x="610" y="2844"/>
                    <a:pt x="606" y="2830"/>
                  </a:cubicBezTo>
                  <a:close/>
                  <a:moveTo>
                    <a:pt x="2459" y="2954"/>
                  </a:moveTo>
                  <a:cubicBezTo>
                    <a:pt x="2457" y="2956"/>
                    <a:pt x="2454" y="2959"/>
                    <a:pt x="2451" y="2962"/>
                  </a:cubicBezTo>
                  <a:cubicBezTo>
                    <a:pt x="2455" y="2980"/>
                    <a:pt x="2469" y="2987"/>
                    <a:pt x="2484" y="2993"/>
                  </a:cubicBezTo>
                  <a:cubicBezTo>
                    <a:pt x="2486" y="2991"/>
                    <a:pt x="2488" y="2989"/>
                    <a:pt x="2490" y="2987"/>
                  </a:cubicBezTo>
                  <a:cubicBezTo>
                    <a:pt x="2480" y="2976"/>
                    <a:pt x="2470" y="2965"/>
                    <a:pt x="2459" y="2954"/>
                  </a:cubicBezTo>
                  <a:close/>
                  <a:moveTo>
                    <a:pt x="3351" y="3661"/>
                  </a:moveTo>
                  <a:cubicBezTo>
                    <a:pt x="3365" y="3653"/>
                    <a:pt x="3373" y="3648"/>
                    <a:pt x="3387" y="3640"/>
                  </a:cubicBezTo>
                  <a:cubicBezTo>
                    <a:pt x="3370" y="3632"/>
                    <a:pt x="3360" y="3628"/>
                    <a:pt x="3346" y="3621"/>
                  </a:cubicBezTo>
                  <a:cubicBezTo>
                    <a:pt x="3347" y="3635"/>
                    <a:pt x="3348" y="3643"/>
                    <a:pt x="3351" y="3661"/>
                  </a:cubicBezTo>
                  <a:close/>
                  <a:moveTo>
                    <a:pt x="3588" y="1213"/>
                  </a:moveTo>
                  <a:cubicBezTo>
                    <a:pt x="3580" y="1203"/>
                    <a:pt x="3573" y="1195"/>
                    <a:pt x="3561" y="1180"/>
                  </a:cubicBezTo>
                  <a:cubicBezTo>
                    <a:pt x="3558" y="1200"/>
                    <a:pt x="3557" y="1211"/>
                    <a:pt x="3555" y="1227"/>
                  </a:cubicBezTo>
                  <a:cubicBezTo>
                    <a:pt x="3568" y="1221"/>
                    <a:pt x="3576" y="1218"/>
                    <a:pt x="3588" y="1213"/>
                  </a:cubicBezTo>
                  <a:close/>
                  <a:moveTo>
                    <a:pt x="2046" y="576"/>
                  </a:moveTo>
                  <a:cubicBezTo>
                    <a:pt x="2043" y="577"/>
                    <a:pt x="2041" y="579"/>
                    <a:pt x="2039" y="580"/>
                  </a:cubicBezTo>
                  <a:cubicBezTo>
                    <a:pt x="2045" y="602"/>
                    <a:pt x="2056" y="614"/>
                    <a:pt x="2088" y="629"/>
                  </a:cubicBezTo>
                  <a:cubicBezTo>
                    <a:pt x="2070" y="607"/>
                    <a:pt x="2058" y="591"/>
                    <a:pt x="2046" y="576"/>
                  </a:cubicBezTo>
                  <a:close/>
                  <a:moveTo>
                    <a:pt x="1350" y="2987"/>
                  </a:moveTo>
                  <a:cubicBezTo>
                    <a:pt x="1350" y="3001"/>
                    <a:pt x="1329" y="3013"/>
                    <a:pt x="1345" y="3031"/>
                  </a:cubicBezTo>
                  <a:cubicBezTo>
                    <a:pt x="1361" y="3017"/>
                    <a:pt x="1366" y="3004"/>
                    <a:pt x="1350" y="2987"/>
                  </a:cubicBezTo>
                  <a:close/>
                  <a:moveTo>
                    <a:pt x="1618" y="4098"/>
                  </a:moveTo>
                  <a:cubicBezTo>
                    <a:pt x="1630" y="4101"/>
                    <a:pt x="1641" y="4104"/>
                    <a:pt x="1658" y="4109"/>
                  </a:cubicBezTo>
                  <a:cubicBezTo>
                    <a:pt x="1652" y="4092"/>
                    <a:pt x="1647" y="4081"/>
                    <a:pt x="1641" y="4064"/>
                  </a:cubicBezTo>
                  <a:cubicBezTo>
                    <a:pt x="1635" y="4075"/>
                    <a:pt x="1633" y="4080"/>
                    <a:pt x="1630" y="4083"/>
                  </a:cubicBezTo>
                  <a:cubicBezTo>
                    <a:pt x="1627" y="4087"/>
                    <a:pt x="1624" y="4091"/>
                    <a:pt x="1618" y="4098"/>
                  </a:cubicBezTo>
                  <a:close/>
                  <a:moveTo>
                    <a:pt x="2962" y="751"/>
                  </a:moveTo>
                  <a:cubicBezTo>
                    <a:pt x="2951" y="759"/>
                    <a:pt x="2942" y="766"/>
                    <a:pt x="2930" y="774"/>
                  </a:cubicBezTo>
                  <a:cubicBezTo>
                    <a:pt x="2961" y="786"/>
                    <a:pt x="2965" y="783"/>
                    <a:pt x="2962" y="751"/>
                  </a:cubicBezTo>
                  <a:close/>
                  <a:moveTo>
                    <a:pt x="422" y="1780"/>
                  </a:moveTo>
                  <a:cubicBezTo>
                    <a:pt x="457" y="1752"/>
                    <a:pt x="457" y="1752"/>
                    <a:pt x="449" y="1732"/>
                  </a:cubicBezTo>
                  <a:cubicBezTo>
                    <a:pt x="439" y="1750"/>
                    <a:pt x="431" y="1765"/>
                    <a:pt x="422" y="1780"/>
                  </a:cubicBezTo>
                  <a:close/>
                  <a:moveTo>
                    <a:pt x="2106" y="3375"/>
                  </a:moveTo>
                  <a:cubicBezTo>
                    <a:pt x="2113" y="3367"/>
                    <a:pt x="2119" y="3359"/>
                    <a:pt x="2125" y="3351"/>
                  </a:cubicBezTo>
                  <a:cubicBezTo>
                    <a:pt x="2125" y="3351"/>
                    <a:pt x="2118" y="3342"/>
                    <a:pt x="2114" y="3342"/>
                  </a:cubicBezTo>
                  <a:cubicBezTo>
                    <a:pt x="2100" y="3345"/>
                    <a:pt x="2092" y="3353"/>
                    <a:pt x="2106" y="3375"/>
                  </a:cubicBezTo>
                  <a:close/>
                  <a:moveTo>
                    <a:pt x="481" y="1866"/>
                  </a:moveTo>
                  <a:cubicBezTo>
                    <a:pt x="482" y="1842"/>
                    <a:pt x="498" y="1822"/>
                    <a:pt x="483" y="1796"/>
                  </a:cubicBezTo>
                  <a:cubicBezTo>
                    <a:pt x="488" y="1821"/>
                    <a:pt x="455" y="1839"/>
                    <a:pt x="481" y="1866"/>
                  </a:cubicBezTo>
                  <a:close/>
                  <a:moveTo>
                    <a:pt x="1217" y="4061"/>
                  </a:moveTo>
                  <a:cubicBezTo>
                    <a:pt x="1233" y="4074"/>
                    <a:pt x="1243" y="4082"/>
                    <a:pt x="1261" y="4075"/>
                  </a:cubicBezTo>
                  <a:cubicBezTo>
                    <a:pt x="1253" y="4055"/>
                    <a:pt x="1243" y="4048"/>
                    <a:pt x="1217" y="4061"/>
                  </a:cubicBezTo>
                  <a:close/>
                  <a:moveTo>
                    <a:pt x="2325" y="3159"/>
                  </a:moveTo>
                  <a:cubicBezTo>
                    <a:pt x="2338" y="3184"/>
                    <a:pt x="2338" y="3184"/>
                    <a:pt x="2363" y="3171"/>
                  </a:cubicBezTo>
                  <a:cubicBezTo>
                    <a:pt x="2347" y="3166"/>
                    <a:pt x="2336" y="3162"/>
                    <a:pt x="2325" y="3159"/>
                  </a:cubicBezTo>
                  <a:close/>
                  <a:moveTo>
                    <a:pt x="1361" y="280"/>
                  </a:moveTo>
                  <a:cubicBezTo>
                    <a:pt x="1353" y="292"/>
                    <a:pt x="1347" y="301"/>
                    <a:pt x="1337" y="317"/>
                  </a:cubicBezTo>
                  <a:cubicBezTo>
                    <a:pt x="1358" y="309"/>
                    <a:pt x="1370" y="305"/>
                    <a:pt x="1385" y="299"/>
                  </a:cubicBezTo>
                  <a:cubicBezTo>
                    <a:pt x="1377" y="293"/>
                    <a:pt x="1371" y="288"/>
                    <a:pt x="1361" y="280"/>
                  </a:cubicBezTo>
                  <a:close/>
                  <a:moveTo>
                    <a:pt x="2575" y="3772"/>
                  </a:moveTo>
                  <a:cubicBezTo>
                    <a:pt x="2565" y="3761"/>
                    <a:pt x="2555" y="3751"/>
                    <a:pt x="2545" y="3740"/>
                  </a:cubicBezTo>
                  <a:cubicBezTo>
                    <a:pt x="2544" y="3761"/>
                    <a:pt x="2551" y="3775"/>
                    <a:pt x="2575" y="3772"/>
                  </a:cubicBezTo>
                  <a:close/>
                  <a:moveTo>
                    <a:pt x="928" y="914"/>
                  </a:moveTo>
                  <a:cubicBezTo>
                    <a:pt x="921" y="885"/>
                    <a:pt x="906" y="889"/>
                    <a:pt x="885" y="896"/>
                  </a:cubicBezTo>
                  <a:cubicBezTo>
                    <a:pt x="895" y="917"/>
                    <a:pt x="911" y="914"/>
                    <a:pt x="928" y="914"/>
                  </a:cubicBezTo>
                  <a:close/>
                  <a:moveTo>
                    <a:pt x="2580" y="1689"/>
                  </a:moveTo>
                  <a:cubicBezTo>
                    <a:pt x="2564" y="1696"/>
                    <a:pt x="2552" y="1702"/>
                    <a:pt x="2532" y="1710"/>
                  </a:cubicBezTo>
                  <a:cubicBezTo>
                    <a:pt x="2551" y="1717"/>
                    <a:pt x="2560" y="1721"/>
                    <a:pt x="2570" y="1725"/>
                  </a:cubicBezTo>
                  <a:cubicBezTo>
                    <a:pt x="2573" y="1713"/>
                    <a:pt x="2576" y="1704"/>
                    <a:pt x="2580" y="1689"/>
                  </a:cubicBezTo>
                  <a:close/>
                  <a:moveTo>
                    <a:pt x="226" y="1547"/>
                  </a:moveTo>
                  <a:cubicBezTo>
                    <a:pt x="222" y="1547"/>
                    <a:pt x="218" y="1547"/>
                    <a:pt x="214" y="1546"/>
                  </a:cubicBezTo>
                  <a:cubicBezTo>
                    <a:pt x="209" y="1558"/>
                    <a:pt x="197" y="1569"/>
                    <a:pt x="223" y="1586"/>
                  </a:cubicBezTo>
                  <a:cubicBezTo>
                    <a:pt x="224" y="1570"/>
                    <a:pt x="225" y="1558"/>
                    <a:pt x="226" y="1547"/>
                  </a:cubicBezTo>
                  <a:close/>
                  <a:moveTo>
                    <a:pt x="2340" y="629"/>
                  </a:moveTo>
                  <a:cubicBezTo>
                    <a:pt x="2351" y="632"/>
                    <a:pt x="2359" y="638"/>
                    <a:pt x="2363" y="636"/>
                  </a:cubicBezTo>
                  <a:cubicBezTo>
                    <a:pt x="2376" y="628"/>
                    <a:pt x="2382" y="617"/>
                    <a:pt x="2376" y="598"/>
                  </a:cubicBezTo>
                  <a:cubicBezTo>
                    <a:pt x="2363" y="609"/>
                    <a:pt x="2353" y="617"/>
                    <a:pt x="2340" y="629"/>
                  </a:cubicBezTo>
                  <a:close/>
                  <a:moveTo>
                    <a:pt x="676" y="1944"/>
                  </a:moveTo>
                  <a:cubicBezTo>
                    <a:pt x="679" y="1945"/>
                    <a:pt x="683" y="1946"/>
                    <a:pt x="687" y="1947"/>
                  </a:cubicBezTo>
                  <a:cubicBezTo>
                    <a:pt x="706" y="1937"/>
                    <a:pt x="696" y="1925"/>
                    <a:pt x="682" y="1910"/>
                  </a:cubicBezTo>
                  <a:cubicBezTo>
                    <a:pt x="679" y="1923"/>
                    <a:pt x="678" y="1934"/>
                    <a:pt x="676" y="1944"/>
                  </a:cubicBezTo>
                  <a:close/>
                  <a:moveTo>
                    <a:pt x="788" y="1754"/>
                  </a:moveTo>
                  <a:cubicBezTo>
                    <a:pt x="783" y="1772"/>
                    <a:pt x="769" y="1785"/>
                    <a:pt x="791" y="1799"/>
                  </a:cubicBezTo>
                  <a:cubicBezTo>
                    <a:pt x="800" y="1785"/>
                    <a:pt x="806" y="1773"/>
                    <a:pt x="788" y="1754"/>
                  </a:cubicBezTo>
                  <a:close/>
                  <a:moveTo>
                    <a:pt x="890" y="2189"/>
                  </a:moveTo>
                  <a:cubicBezTo>
                    <a:pt x="923" y="2188"/>
                    <a:pt x="923" y="2188"/>
                    <a:pt x="910" y="2155"/>
                  </a:cubicBezTo>
                  <a:cubicBezTo>
                    <a:pt x="905" y="2164"/>
                    <a:pt x="899" y="2174"/>
                    <a:pt x="890" y="2189"/>
                  </a:cubicBezTo>
                  <a:close/>
                  <a:moveTo>
                    <a:pt x="792" y="2260"/>
                  </a:moveTo>
                  <a:cubicBezTo>
                    <a:pt x="792" y="2258"/>
                    <a:pt x="792" y="2256"/>
                    <a:pt x="792" y="2254"/>
                  </a:cubicBezTo>
                  <a:cubicBezTo>
                    <a:pt x="770" y="2254"/>
                    <a:pt x="748" y="2254"/>
                    <a:pt x="726" y="2254"/>
                  </a:cubicBezTo>
                  <a:cubicBezTo>
                    <a:pt x="726" y="2255"/>
                    <a:pt x="726" y="2256"/>
                    <a:pt x="726" y="2257"/>
                  </a:cubicBezTo>
                  <a:cubicBezTo>
                    <a:pt x="748" y="2258"/>
                    <a:pt x="770" y="2259"/>
                    <a:pt x="792" y="2260"/>
                  </a:cubicBezTo>
                  <a:close/>
                  <a:moveTo>
                    <a:pt x="1714" y="3493"/>
                  </a:moveTo>
                  <a:cubicBezTo>
                    <a:pt x="1733" y="3495"/>
                    <a:pt x="1742" y="3491"/>
                    <a:pt x="1743" y="3476"/>
                  </a:cubicBezTo>
                  <a:cubicBezTo>
                    <a:pt x="1743" y="3474"/>
                    <a:pt x="1738" y="3470"/>
                    <a:pt x="1735" y="3469"/>
                  </a:cubicBezTo>
                  <a:cubicBezTo>
                    <a:pt x="1719" y="3467"/>
                    <a:pt x="1718" y="3479"/>
                    <a:pt x="1714" y="3493"/>
                  </a:cubicBezTo>
                  <a:close/>
                  <a:moveTo>
                    <a:pt x="2009" y="1493"/>
                  </a:moveTo>
                  <a:cubicBezTo>
                    <a:pt x="2007" y="1495"/>
                    <a:pt x="2004" y="1497"/>
                    <a:pt x="2002" y="1500"/>
                  </a:cubicBezTo>
                  <a:cubicBezTo>
                    <a:pt x="2005" y="1518"/>
                    <a:pt x="2017" y="1527"/>
                    <a:pt x="2040" y="1523"/>
                  </a:cubicBezTo>
                  <a:cubicBezTo>
                    <a:pt x="2030" y="1513"/>
                    <a:pt x="2019" y="1503"/>
                    <a:pt x="2009" y="1493"/>
                  </a:cubicBezTo>
                  <a:close/>
                  <a:moveTo>
                    <a:pt x="1898" y="3293"/>
                  </a:moveTo>
                  <a:cubicBezTo>
                    <a:pt x="1882" y="3298"/>
                    <a:pt x="1871" y="3302"/>
                    <a:pt x="1854" y="3307"/>
                  </a:cubicBezTo>
                  <a:cubicBezTo>
                    <a:pt x="1884" y="3316"/>
                    <a:pt x="1884" y="3316"/>
                    <a:pt x="1898" y="3293"/>
                  </a:cubicBezTo>
                  <a:close/>
                  <a:moveTo>
                    <a:pt x="539" y="810"/>
                  </a:moveTo>
                  <a:cubicBezTo>
                    <a:pt x="563" y="813"/>
                    <a:pt x="563" y="813"/>
                    <a:pt x="579" y="783"/>
                  </a:cubicBezTo>
                  <a:cubicBezTo>
                    <a:pt x="562" y="795"/>
                    <a:pt x="550" y="802"/>
                    <a:pt x="539" y="810"/>
                  </a:cubicBezTo>
                  <a:close/>
                  <a:moveTo>
                    <a:pt x="2201" y="1283"/>
                  </a:moveTo>
                  <a:cubicBezTo>
                    <a:pt x="2187" y="1299"/>
                    <a:pt x="2186" y="1315"/>
                    <a:pt x="2204" y="1329"/>
                  </a:cubicBezTo>
                  <a:cubicBezTo>
                    <a:pt x="2203" y="1314"/>
                    <a:pt x="2202" y="1298"/>
                    <a:pt x="2201" y="1283"/>
                  </a:cubicBezTo>
                  <a:close/>
                  <a:moveTo>
                    <a:pt x="1437" y="3736"/>
                  </a:moveTo>
                  <a:cubicBezTo>
                    <a:pt x="1407" y="3748"/>
                    <a:pt x="1407" y="3748"/>
                    <a:pt x="1408" y="3779"/>
                  </a:cubicBezTo>
                  <a:cubicBezTo>
                    <a:pt x="1419" y="3762"/>
                    <a:pt x="1428" y="3750"/>
                    <a:pt x="1437" y="3736"/>
                  </a:cubicBezTo>
                  <a:close/>
                  <a:moveTo>
                    <a:pt x="2228" y="3624"/>
                  </a:moveTo>
                  <a:cubicBezTo>
                    <a:pt x="2215" y="3646"/>
                    <a:pt x="2224" y="3653"/>
                    <a:pt x="2248" y="3655"/>
                  </a:cubicBezTo>
                  <a:cubicBezTo>
                    <a:pt x="2239" y="3642"/>
                    <a:pt x="2234" y="3633"/>
                    <a:pt x="2228" y="3624"/>
                  </a:cubicBezTo>
                  <a:close/>
                  <a:moveTo>
                    <a:pt x="926" y="415"/>
                  </a:moveTo>
                  <a:cubicBezTo>
                    <a:pt x="907" y="420"/>
                    <a:pt x="894" y="424"/>
                    <a:pt x="881" y="427"/>
                  </a:cubicBezTo>
                  <a:cubicBezTo>
                    <a:pt x="882" y="430"/>
                    <a:pt x="883" y="433"/>
                    <a:pt x="884" y="436"/>
                  </a:cubicBezTo>
                  <a:cubicBezTo>
                    <a:pt x="897" y="432"/>
                    <a:pt x="914" y="446"/>
                    <a:pt x="926" y="415"/>
                  </a:cubicBezTo>
                  <a:close/>
                  <a:moveTo>
                    <a:pt x="1159" y="3857"/>
                  </a:moveTo>
                  <a:cubicBezTo>
                    <a:pt x="1157" y="3859"/>
                    <a:pt x="1155" y="3862"/>
                    <a:pt x="1153" y="3865"/>
                  </a:cubicBezTo>
                  <a:cubicBezTo>
                    <a:pt x="1156" y="3880"/>
                    <a:pt x="1165" y="3884"/>
                    <a:pt x="1189" y="3878"/>
                  </a:cubicBezTo>
                  <a:cubicBezTo>
                    <a:pt x="1175" y="3868"/>
                    <a:pt x="1167" y="3862"/>
                    <a:pt x="1159" y="3857"/>
                  </a:cubicBezTo>
                  <a:close/>
                  <a:moveTo>
                    <a:pt x="1043" y="949"/>
                  </a:moveTo>
                  <a:cubicBezTo>
                    <a:pt x="1038" y="937"/>
                    <a:pt x="1035" y="930"/>
                    <a:pt x="1030" y="919"/>
                  </a:cubicBezTo>
                  <a:cubicBezTo>
                    <a:pt x="1020" y="928"/>
                    <a:pt x="1012" y="934"/>
                    <a:pt x="997" y="946"/>
                  </a:cubicBezTo>
                  <a:cubicBezTo>
                    <a:pt x="1017" y="947"/>
                    <a:pt x="1027" y="947"/>
                    <a:pt x="1043" y="949"/>
                  </a:cubicBezTo>
                  <a:close/>
                  <a:moveTo>
                    <a:pt x="665" y="2965"/>
                  </a:moveTo>
                  <a:cubicBezTo>
                    <a:pt x="649" y="2974"/>
                    <a:pt x="645" y="2982"/>
                    <a:pt x="653" y="2992"/>
                  </a:cubicBezTo>
                  <a:cubicBezTo>
                    <a:pt x="656" y="2995"/>
                    <a:pt x="664" y="2993"/>
                    <a:pt x="670" y="2993"/>
                  </a:cubicBezTo>
                  <a:cubicBezTo>
                    <a:pt x="669" y="2985"/>
                    <a:pt x="667" y="2976"/>
                    <a:pt x="665" y="2965"/>
                  </a:cubicBezTo>
                  <a:close/>
                  <a:moveTo>
                    <a:pt x="1386" y="3780"/>
                  </a:moveTo>
                  <a:cubicBezTo>
                    <a:pt x="1385" y="3777"/>
                    <a:pt x="1383" y="3775"/>
                    <a:pt x="1381" y="3773"/>
                  </a:cubicBezTo>
                  <a:cubicBezTo>
                    <a:pt x="1363" y="3780"/>
                    <a:pt x="1344" y="3786"/>
                    <a:pt x="1336" y="3810"/>
                  </a:cubicBezTo>
                  <a:cubicBezTo>
                    <a:pt x="1353" y="3800"/>
                    <a:pt x="1370" y="3790"/>
                    <a:pt x="1386" y="3780"/>
                  </a:cubicBezTo>
                  <a:close/>
                  <a:moveTo>
                    <a:pt x="1604" y="4053"/>
                  </a:moveTo>
                  <a:cubicBezTo>
                    <a:pt x="1596" y="4048"/>
                    <a:pt x="1590" y="4043"/>
                    <a:pt x="1586" y="4044"/>
                  </a:cubicBezTo>
                  <a:cubicBezTo>
                    <a:pt x="1582" y="4044"/>
                    <a:pt x="1578" y="4051"/>
                    <a:pt x="1574" y="4055"/>
                  </a:cubicBezTo>
                  <a:cubicBezTo>
                    <a:pt x="1578" y="4059"/>
                    <a:pt x="1582" y="4065"/>
                    <a:pt x="1586" y="4065"/>
                  </a:cubicBezTo>
                  <a:cubicBezTo>
                    <a:pt x="1591" y="4065"/>
                    <a:pt x="1596" y="4059"/>
                    <a:pt x="1604" y="4053"/>
                  </a:cubicBezTo>
                  <a:close/>
                  <a:moveTo>
                    <a:pt x="2179" y="2863"/>
                  </a:moveTo>
                  <a:cubicBezTo>
                    <a:pt x="2190" y="2871"/>
                    <a:pt x="2198" y="2876"/>
                    <a:pt x="2214" y="2886"/>
                  </a:cubicBezTo>
                  <a:cubicBezTo>
                    <a:pt x="2209" y="2867"/>
                    <a:pt x="2206" y="2857"/>
                    <a:pt x="2203" y="2842"/>
                  </a:cubicBezTo>
                  <a:cubicBezTo>
                    <a:pt x="2194" y="2850"/>
                    <a:pt x="2189" y="2854"/>
                    <a:pt x="2179" y="2863"/>
                  </a:cubicBezTo>
                  <a:close/>
                  <a:moveTo>
                    <a:pt x="1540" y="1487"/>
                  </a:moveTo>
                  <a:cubicBezTo>
                    <a:pt x="1552" y="1490"/>
                    <a:pt x="1561" y="1492"/>
                    <a:pt x="1575" y="1496"/>
                  </a:cubicBezTo>
                  <a:cubicBezTo>
                    <a:pt x="1557" y="1466"/>
                    <a:pt x="1557" y="1466"/>
                    <a:pt x="1540" y="1487"/>
                  </a:cubicBezTo>
                  <a:close/>
                  <a:moveTo>
                    <a:pt x="2952" y="2213"/>
                  </a:moveTo>
                  <a:cubicBezTo>
                    <a:pt x="2958" y="2236"/>
                    <a:pt x="2958" y="2236"/>
                    <a:pt x="2982" y="2227"/>
                  </a:cubicBezTo>
                  <a:cubicBezTo>
                    <a:pt x="2970" y="2221"/>
                    <a:pt x="2963" y="2218"/>
                    <a:pt x="2952" y="2213"/>
                  </a:cubicBezTo>
                  <a:close/>
                  <a:moveTo>
                    <a:pt x="450" y="1926"/>
                  </a:moveTo>
                  <a:cubicBezTo>
                    <a:pt x="446" y="1938"/>
                    <a:pt x="442" y="1950"/>
                    <a:pt x="438" y="1962"/>
                  </a:cubicBezTo>
                  <a:cubicBezTo>
                    <a:pt x="441" y="1963"/>
                    <a:pt x="444" y="1964"/>
                    <a:pt x="446" y="1965"/>
                  </a:cubicBezTo>
                  <a:cubicBezTo>
                    <a:pt x="453" y="1954"/>
                    <a:pt x="465" y="1944"/>
                    <a:pt x="450" y="1926"/>
                  </a:cubicBezTo>
                  <a:close/>
                  <a:moveTo>
                    <a:pt x="874" y="2415"/>
                  </a:moveTo>
                  <a:cubicBezTo>
                    <a:pt x="877" y="2415"/>
                    <a:pt x="880" y="2415"/>
                    <a:pt x="883" y="2415"/>
                  </a:cubicBezTo>
                  <a:cubicBezTo>
                    <a:pt x="895" y="2394"/>
                    <a:pt x="878" y="2374"/>
                    <a:pt x="876" y="2353"/>
                  </a:cubicBezTo>
                  <a:cubicBezTo>
                    <a:pt x="875" y="2374"/>
                    <a:pt x="875" y="2394"/>
                    <a:pt x="874" y="2415"/>
                  </a:cubicBezTo>
                  <a:close/>
                  <a:moveTo>
                    <a:pt x="1435" y="4230"/>
                  </a:moveTo>
                  <a:cubicBezTo>
                    <a:pt x="1447" y="4233"/>
                    <a:pt x="1457" y="4243"/>
                    <a:pt x="1471" y="4234"/>
                  </a:cubicBezTo>
                  <a:cubicBezTo>
                    <a:pt x="1452" y="4212"/>
                    <a:pt x="1452" y="4212"/>
                    <a:pt x="1435" y="4230"/>
                  </a:cubicBezTo>
                  <a:close/>
                  <a:moveTo>
                    <a:pt x="2750" y="2620"/>
                  </a:moveTo>
                  <a:cubicBezTo>
                    <a:pt x="2731" y="2635"/>
                    <a:pt x="2732" y="2644"/>
                    <a:pt x="2744" y="2652"/>
                  </a:cubicBezTo>
                  <a:cubicBezTo>
                    <a:pt x="2746" y="2653"/>
                    <a:pt x="2749" y="2652"/>
                    <a:pt x="2755" y="2651"/>
                  </a:cubicBezTo>
                  <a:cubicBezTo>
                    <a:pt x="2754" y="2643"/>
                    <a:pt x="2752" y="2634"/>
                    <a:pt x="2750" y="2620"/>
                  </a:cubicBezTo>
                  <a:close/>
                  <a:moveTo>
                    <a:pt x="364" y="2445"/>
                  </a:moveTo>
                  <a:cubicBezTo>
                    <a:pt x="368" y="2446"/>
                    <a:pt x="371" y="2446"/>
                    <a:pt x="375" y="2446"/>
                  </a:cubicBezTo>
                  <a:cubicBezTo>
                    <a:pt x="376" y="2435"/>
                    <a:pt x="377" y="2423"/>
                    <a:pt x="379" y="2412"/>
                  </a:cubicBezTo>
                  <a:cubicBezTo>
                    <a:pt x="375" y="2411"/>
                    <a:pt x="371" y="2411"/>
                    <a:pt x="367" y="2411"/>
                  </a:cubicBezTo>
                  <a:cubicBezTo>
                    <a:pt x="366" y="2422"/>
                    <a:pt x="365" y="2434"/>
                    <a:pt x="364" y="2445"/>
                  </a:cubicBezTo>
                  <a:close/>
                  <a:moveTo>
                    <a:pt x="938" y="2446"/>
                  </a:moveTo>
                  <a:cubicBezTo>
                    <a:pt x="938" y="2448"/>
                    <a:pt x="937" y="2449"/>
                    <a:pt x="936" y="2451"/>
                  </a:cubicBezTo>
                  <a:cubicBezTo>
                    <a:pt x="952" y="2455"/>
                    <a:pt x="967" y="2459"/>
                    <a:pt x="983" y="2464"/>
                  </a:cubicBezTo>
                  <a:cubicBezTo>
                    <a:pt x="983" y="2461"/>
                    <a:pt x="984" y="2458"/>
                    <a:pt x="985" y="2456"/>
                  </a:cubicBezTo>
                  <a:cubicBezTo>
                    <a:pt x="969" y="2453"/>
                    <a:pt x="954" y="2449"/>
                    <a:pt x="938" y="2446"/>
                  </a:cubicBezTo>
                  <a:close/>
                  <a:moveTo>
                    <a:pt x="2187" y="3005"/>
                  </a:moveTo>
                  <a:cubicBezTo>
                    <a:pt x="2187" y="2981"/>
                    <a:pt x="2187" y="2966"/>
                    <a:pt x="2187" y="2941"/>
                  </a:cubicBezTo>
                  <a:cubicBezTo>
                    <a:pt x="2171" y="2965"/>
                    <a:pt x="2168" y="2981"/>
                    <a:pt x="2187" y="3005"/>
                  </a:cubicBezTo>
                  <a:close/>
                  <a:moveTo>
                    <a:pt x="2200" y="569"/>
                  </a:moveTo>
                  <a:cubicBezTo>
                    <a:pt x="2214" y="588"/>
                    <a:pt x="2225" y="587"/>
                    <a:pt x="2238" y="571"/>
                  </a:cubicBezTo>
                  <a:cubicBezTo>
                    <a:pt x="2226" y="557"/>
                    <a:pt x="2216" y="559"/>
                    <a:pt x="2200" y="569"/>
                  </a:cubicBezTo>
                  <a:close/>
                  <a:moveTo>
                    <a:pt x="2039" y="553"/>
                  </a:moveTo>
                  <a:cubicBezTo>
                    <a:pt x="2031" y="544"/>
                    <a:pt x="2024" y="535"/>
                    <a:pt x="2016" y="526"/>
                  </a:cubicBezTo>
                  <a:cubicBezTo>
                    <a:pt x="2016" y="541"/>
                    <a:pt x="2012" y="559"/>
                    <a:pt x="2039" y="553"/>
                  </a:cubicBezTo>
                  <a:close/>
                  <a:moveTo>
                    <a:pt x="626" y="2544"/>
                  </a:moveTo>
                  <a:cubicBezTo>
                    <a:pt x="647" y="2519"/>
                    <a:pt x="647" y="2519"/>
                    <a:pt x="629" y="2492"/>
                  </a:cubicBezTo>
                  <a:cubicBezTo>
                    <a:pt x="628" y="2512"/>
                    <a:pt x="627" y="2525"/>
                    <a:pt x="626" y="2544"/>
                  </a:cubicBezTo>
                  <a:close/>
                  <a:moveTo>
                    <a:pt x="2005" y="2125"/>
                  </a:moveTo>
                  <a:cubicBezTo>
                    <a:pt x="2005" y="2128"/>
                    <a:pt x="2006" y="2131"/>
                    <a:pt x="2006" y="2134"/>
                  </a:cubicBezTo>
                  <a:cubicBezTo>
                    <a:pt x="2022" y="2137"/>
                    <a:pt x="2033" y="2126"/>
                    <a:pt x="2043" y="2113"/>
                  </a:cubicBezTo>
                  <a:cubicBezTo>
                    <a:pt x="2031" y="2117"/>
                    <a:pt x="2018" y="2121"/>
                    <a:pt x="2005" y="2125"/>
                  </a:cubicBezTo>
                  <a:close/>
                  <a:moveTo>
                    <a:pt x="2475" y="4024"/>
                  </a:moveTo>
                  <a:cubicBezTo>
                    <a:pt x="2484" y="4038"/>
                    <a:pt x="2494" y="4042"/>
                    <a:pt x="2507" y="4024"/>
                  </a:cubicBezTo>
                  <a:cubicBezTo>
                    <a:pt x="2492" y="4024"/>
                    <a:pt x="2483" y="4024"/>
                    <a:pt x="2475" y="4024"/>
                  </a:cubicBezTo>
                  <a:close/>
                  <a:moveTo>
                    <a:pt x="3111" y="2860"/>
                  </a:moveTo>
                  <a:cubicBezTo>
                    <a:pt x="3098" y="2875"/>
                    <a:pt x="3099" y="2886"/>
                    <a:pt x="3120" y="2894"/>
                  </a:cubicBezTo>
                  <a:cubicBezTo>
                    <a:pt x="3116" y="2880"/>
                    <a:pt x="3113" y="2870"/>
                    <a:pt x="3111" y="2860"/>
                  </a:cubicBezTo>
                  <a:close/>
                  <a:moveTo>
                    <a:pt x="920" y="2623"/>
                  </a:moveTo>
                  <a:cubicBezTo>
                    <a:pt x="922" y="2623"/>
                    <a:pt x="924" y="2622"/>
                    <a:pt x="926" y="2622"/>
                  </a:cubicBezTo>
                  <a:cubicBezTo>
                    <a:pt x="925" y="2604"/>
                    <a:pt x="924" y="2587"/>
                    <a:pt x="923" y="2569"/>
                  </a:cubicBezTo>
                  <a:cubicBezTo>
                    <a:pt x="916" y="2582"/>
                    <a:pt x="915" y="2595"/>
                    <a:pt x="916" y="2609"/>
                  </a:cubicBezTo>
                  <a:cubicBezTo>
                    <a:pt x="916" y="2613"/>
                    <a:pt x="919" y="2618"/>
                    <a:pt x="920" y="2623"/>
                  </a:cubicBezTo>
                  <a:close/>
                  <a:moveTo>
                    <a:pt x="357" y="2294"/>
                  </a:moveTo>
                  <a:cubicBezTo>
                    <a:pt x="382" y="2276"/>
                    <a:pt x="382" y="2276"/>
                    <a:pt x="368" y="2254"/>
                  </a:cubicBezTo>
                  <a:cubicBezTo>
                    <a:pt x="365" y="2266"/>
                    <a:pt x="362" y="2276"/>
                    <a:pt x="357" y="2294"/>
                  </a:cubicBezTo>
                  <a:close/>
                  <a:moveTo>
                    <a:pt x="663" y="2263"/>
                  </a:moveTo>
                  <a:cubicBezTo>
                    <a:pt x="663" y="2260"/>
                    <a:pt x="663" y="2256"/>
                    <a:pt x="664" y="2253"/>
                  </a:cubicBezTo>
                  <a:cubicBezTo>
                    <a:pt x="650" y="2252"/>
                    <a:pt x="635" y="2252"/>
                    <a:pt x="621" y="2251"/>
                  </a:cubicBezTo>
                  <a:cubicBezTo>
                    <a:pt x="621" y="2253"/>
                    <a:pt x="621" y="2255"/>
                    <a:pt x="621" y="2257"/>
                  </a:cubicBezTo>
                  <a:cubicBezTo>
                    <a:pt x="635" y="2259"/>
                    <a:pt x="649" y="2261"/>
                    <a:pt x="663" y="2263"/>
                  </a:cubicBezTo>
                  <a:close/>
                  <a:moveTo>
                    <a:pt x="2433" y="389"/>
                  </a:moveTo>
                  <a:cubicBezTo>
                    <a:pt x="2451" y="404"/>
                    <a:pt x="2460" y="401"/>
                    <a:pt x="2467" y="376"/>
                  </a:cubicBezTo>
                  <a:cubicBezTo>
                    <a:pt x="2452" y="382"/>
                    <a:pt x="2443" y="385"/>
                    <a:pt x="2433" y="389"/>
                  </a:cubicBezTo>
                  <a:close/>
                  <a:moveTo>
                    <a:pt x="2171" y="2780"/>
                  </a:moveTo>
                  <a:cubicBezTo>
                    <a:pt x="2190" y="2759"/>
                    <a:pt x="2190" y="2759"/>
                    <a:pt x="2174" y="2731"/>
                  </a:cubicBezTo>
                  <a:cubicBezTo>
                    <a:pt x="2173" y="2745"/>
                    <a:pt x="2173" y="2760"/>
                    <a:pt x="2171" y="2780"/>
                  </a:cubicBezTo>
                  <a:close/>
                  <a:moveTo>
                    <a:pt x="2820" y="2079"/>
                  </a:moveTo>
                  <a:cubicBezTo>
                    <a:pt x="2840" y="2056"/>
                    <a:pt x="2840" y="2056"/>
                    <a:pt x="2827" y="2031"/>
                  </a:cubicBezTo>
                  <a:cubicBezTo>
                    <a:pt x="2825" y="2045"/>
                    <a:pt x="2823" y="2057"/>
                    <a:pt x="2820" y="2079"/>
                  </a:cubicBezTo>
                  <a:close/>
                  <a:moveTo>
                    <a:pt x="2982" y="191"/>
                  </a:moveTo>
                  <a:cubicBezTo>
                    <a:pt x="2952" y="195"/>
                    <a:pt x="2952" y="195"/>
                    <a:pt x="2957" y="214"/>
                  </a:cubicBezTo>
                  <a:cubicBezTo>
                    <a:pt x="2964" y="208"/>
                    <a:pt x="2970" y="203"/>
                    <a:pt x="2982" y="191"/>
                  </a:cubicBezTo>
                  <a:close/>
                  <a:moveTo>
                    <a:pt x="803" y="1857"/>
                  </a:moveTo>
                  <a:cubicBezTo>
                    <a:pt x="804" y="1838"/>
                    <a:pt x="807" y="1825"/>
                    <a:pt x="792" y="1816"/>
                  </a:cubicBezTo>
                  <a:cubicBezTo>
                    <a:pt x="779" y="1832"/>
                    <a:pt x="786" y="1842"/>
                    <a:pt x="803" y="1857"/>
                  </a:cubicBezTo>
                  <a:close/>
                  <a:moveTo>
                    <a:pt x="379" y="2532"/>
                  </a:moveTo>
                  <a:cubicBezTo>
                    <a:pt x="377" y="2534"/>
                    <a:pt x="376" y="2536"/>
                    <a:pt x="375" y="2538"/>
                  </a:cubicBezTo>
                  <a:cubicBezTo>
                    <a:pt x="384" y="2543"/>
                    <a:pt x="393" y="2548"/>
                    <a:pt x="402" y="2553"/>
                  </a:cubicBezTo>
                  <a:cubicBezTo>
                    <a:pt x="403" y="2547"/>
                    <a:pt x="404" y="2538"/>
                    <a:pt x="406" y="2527"/>
                  </a:cubicBezTo>
                  <a:cubicBezTo>
                    <a:pt x="395" y="2529"/>
                    <a:pt x="387" y="2530"/>
                    <a:pt x="379" y="2532"/>
                  </a:cubicBezTo>
                  <a:close/>
                  <a:moveTo>
                    <a:pt x="1148" y="820"/>
                  </a:moveTo>
                  <a:cubicBezTo>
                    <a:pt x="1132" y="835"/>
                    <a:pt x="1130" y="846"/>
                    <a:pt x="1145" y="855"/>
                  </a:cubicBezTo>
                  <a:cubicBezTo>
                    <a:pt x="1148" y="857"/>
                    <a:pt x="1154" y="855"/>
                    <a:pt x="1162" y="855"/>
                  </a:cubicBezTo>
                  <a:cubicBezTo>
                    <a:pt x="1157" y="844"/>
                    <a:pt x="1154" y="835"/>
                    <a:pt x="1148" y="820"/>
                  </a:cubicBezTo>
                  <a:close/>
                  <a:moveTo>
                    <a:pt x="677" y="3059"/>
                  </a:moveTo>
                  <a:cubicBezTo>
                    <a:pt x="680" y="3077"/>
                    <a:pt x="693" y="3078"/>
                    <a:pt x="708" y="3083"/>
                  </a:cubicBezTo>
                  <a:cubicBezTo>
                    <a:pt x="705" y="3059"/>
                    <a:pt x="692" y="3059"/>
                    <a:pt x="677" y="3059"/>
                  </a:cubicBezTo>
                  <a:close/>
                  <a:moveTo>
                    <a:pt x="3483" y="2452"/>
                  </a:moveTo>
                  <a:cubicBezTo>
                    <a:pt x="3487" y="2452"/>
                    <a:pt x="3491" y="2453"/>
                    <a:pt x="3496" y="2453"/>
                  </a:cubicBezTo>
                  <a:cubicBezTo>
                    <a:pt x="3496" y="2438"/>
                    <a:pt x="3496" y="2423"/>
                    <a:pt x="3496" y="2407"/>
                  </a:cubicBezTo>
                  <a:cubicBezTo>
                    <a:pt x="3495" y="2407"/>
                    <a:pt x="3494" y="2407"/>
                    <a:pt x="3493" y="2407"/>
                  </a:cubicBezTo>
                  <a:cubicBezTo>
                    <a:pt x="3489" y="2422"/>
                    <a:pt x="3486" y="2437"/>
                    <a:pt x="3483" y="2452"/>
                  </a:cubicBezTo>
                  <a:close/>
                  <a:moveTo>
                    <a:pt x="697" y="3051"/>
                  </a:moveTo>
                  <a:cubicBezTo>
                    <a:pt x="689" y="3024"/>
                    <a:pt x="689" y="3024"/>
                    <a:pt x="666" y="3025"/>
                  </a:cubicBezTo>
                  <a:cubicBezTo>
                    <a:pt x="677" y="3033"/>
                    <a:pt x="685" y="3041"/>
                    <a:pt x="697" y="3051"/>
                  </a:cubicBezTo>
                  <a:close/>
                  <a:moveTo>
                    <a:pt x="640" y="2918"/>
                  </a:moveTo>
                  <a:cubicBezTo>
                    <a:pt x="636" y="2918"/>
                    <a:pt x="632" y="2919"/>
                    <a:pt x="628" y="2920"/>
                  </a:cubicBezTo>
                  <a:cubicBezTo>
                    <a:pt x="632" y="2931"/>
                    <a:pt x="635" y="2941"/>
                    <a:pt x="638" y="2952"/>
                  </a:cubicBezTo>
                  <a:cubicBezTo>
                    <a:pt x="641" y="2951"/>
                    <a:pt x="643" y="2950"/>
                    <a:pt x="646" y="2950"/>
                  </a:cubicBezTo>
                  <a:cubicBezTo>
                    <a:pt x="644" y="2939"/>
                    <a:pt x="642" y="2928"/>
                    <a:pt x="640" y="2918"/>
                  </a:cubicBezTo>
                  <a:close/>
                  <a:moveTo>
                    <a:pt x="639" y="2019"/>
                  </a:moveTo>
                  <a:cubicBezTo>
                    <a:pt x="637" y="2022"/>
                    <a:pt x="635" y="2025"/>
                    <a:pt x="633" y="2028"/>
                  </a:cubicBezTo>
                  <a:cubicBezTo>
                    <a:pt x="640" y="2037"/>
                    <a:pt x="646" y="2048"/>
                    <a:pt x="669" y="2041"/>
                  </a:cubicBezTo>
                  <a:cubicBezTo>
                    <a:pt x="656" y="2031"/>
                    <a:pt x="647" y="2025"/>
                    <a:pt x="639" y="2019"/>
                  </a:cubicBezTo>
                  <a:close/>
                  <a:moveTo>
                    <a:pt x="321" y="2309"/>
                  </a:moveTo>
                  <a:cubicBezTo>
                    <a:pt x="324" y="2310"/>
                    <a:pt x="327" y="2310"/>
                    <a:pt x="330" y="2311"/>
                  </a:cubicBezTo>
                  <a:cubicBezTo>
                    <a:pt x="337" y="2301"/>
                    <a:pt x="341" y="2292"/>
                    <a:pt x="326" y="2273"/>
                  </a:cubicBezTo>
                  <a:cubicBezTo>
                    <a:pt x="324" y="2289"/>
                    <a:pt x="322" y="2299"/>
                    <a:pt x="321" y="2309"/>
                  </a:cubicBezTo>
                  <a:close/>
                  <a:moveTo>
                    <a:pt x="404" y="2014"/>
                  </a:moveTo>
                  <a:cubicBezTo>
                    <a:pt x="400" y="2012"/>
                    <a:pt x="396" y="2009"/>
                    <a:pt x="393" y="2006"/>
                  </a:cubicBezTo>
                  <a:cubicBezTo>
                    <a:pt x="389" y="2012"/>
                    <a:pt x="384" y="2018"/>
                    <a:pt x="382" y="2025"/>
                  </a:cubicBezTo>
                  <a:cubicBezTo>
                    <a:pt x="381" y="2026"/>
                    <a:pt x="388" y="2031"/>
                    <a:pt x="392" y="2034"/>
                  </a:cubicBezTo>
                  <a:cubicBezTo>
                    <a:pt x="396" y="2027"/>
                    <a:pt x="400" y="2021"/>
                    <a:pt x="404" y="2014"/>
                  </a:cubicBezTo>
                  <a:close/>
                  <a:moveTo>
                    <a:pt x="2713" y="3776"/>
                  </a:moveTo>
                  <a:cubicBezTo>
                    <a:pt x="2710" y="3780"/>
                    <a:pt x="2707" y="3783"/>
                    <a:pt x="2705" y="3786"/>
                  </a:cubicBezTo>
                  <a:cubicBezTo>
                    <a:pt x="2715" y="3793"/>
                    <a:pt x="2725" y="3800"/>
                    <a:pt x="2735" y="3807"/>
                  </a:cubicBezTo>
                  <a:cubicBezTo>
                    <a:pt x="2737" y="3805"/>
                    <a:pt x="2738" y="3803"/>
                    <a:pt x="2740" y="3801"/>
                  </a:cubicBezTo>
                  <a:cubicBezTo>
                    <a:pt x="2731" y="3793"/>
                    <a:pt x="2722" y="3785"/>
                    <a:pt x="2713" y="3776"/>
                  </a:cubicBezTo>
                  <a:close/>
                  <a:moveTo>
                    <a:pt x="925" y="2229"/>
                  </a:moveTo>
                  <a:cubicBezTo>
                    <a:pt x="923" y="2204"/>
                    <a:pt x="923" y="2204"/>
                    <a:pt x="900" y="2210"/>
                  </a:cubicBezTo>
                  <a:cubicBezTo>
                    <a:pt x="908" y="2217"/>
                    <a:pt x="916" y="2222"/>
                    <a:pt x="925" y="2229"/>
                  </a:cubicBezTo>
                  <a:close/>
                  <a:moveTo>
                    <a:pt x="1273" y="2568"/>
                  </a:moveTo>
                  <a:cubicBezTo>
                    <a:pt x="1283" y="2582"/>
                    <a:pt x="1293" y="2585"/>
                    <a:pt x="1310" y="2577"/>
                  </a:cubicBezTo>
                  <a:cubicBezTo>
                    <a:pt x="1298" y="2565"/>
                    <a:pt x="1289" y="2558"/>
                    <a:pt x="1273" y="2568"/>
                  </a:cubicBezTo>
                  <a:close/>
                  <a:moveTo>
                    <a:pt x="831" y="1418"/>
                  </a:moveTo>
                  <a:cubicBezTo>
                    <a:pt x="852" y="1421"/>
                    <a:pt x="866" y="1422"/>
                    <a:pt x="880" y="1424"/>
                  </a:cubicBezTo>
                  <a:cubicBezTo>
                    <a:pt x="867" y="1411"/>
                    <a:pt x="856" y="1394"/>
                    <a:pt x="831" y="1418"/>
                  </a:cubicBezTo>
                  <a:close/>
                  <a:moveTo>
                    <a:pt x="1799" y="1925"/>
                  </a:moveTo>
                  <a:cubicBezTo>
                    <a:pt x="1799" y="1927"/>
                    <a:pt x="1799" y="1930"/>
                    <a:pt x="1799" y="1932"/>
                  </a:cubicBezTo>
                  <a:cubicBezTo>
                    <a:pt x="1811" y="1932"/>
                    <a:pt x="1823" y="1932"/>
                    <a:pt x="1835" y="1932"/>
                  </a:cubicBezTo>
                  <a:cubicBezTo>
                    <a:pt x="1835" y="1930"/>
                    <a:pt x="1835" y="1927"/>
                    <a:pt x="1835" y="1925"/>
                  </a:cubicBezTo>
                  <a:cubicBezTo>
                    <a:pt x="1823" y="1925"/>
                    <a:pt x="1811" y="1925"/>
                    <a:pt x="1799" y="1925"/>
                  </a:cubicBezTo>
                  <a:close/>
                  <a:moveTo>
                    <a:pt x="1240" y="836"/>
                  </a:moveTo>
                  <a:cubicBezTo>
                    <a:pt x="1237" y="835"/>
                    <a:pt x="1234" y="833"/>
                    <a:pt x="1231" y="831"/>
                  </a:cubicBezTo>
                  <a:cubicBezTo>
                    <a:pt x="1220" y="839"/>
                    <a:pt x="1213" y="848"/>
                    <a:pt x="1224" y="869"/>
                  </a:cubicBezTo>
                  <a:cubicBezTo>
                    <a:pt x="1231" y="855"/>
                    <a:pt x="1235" y="846"/>
                    <a:pt x="1240" y="836"/>
                  </a:cubicBezTo>
                  <a:close/>
                  <a:moveTo>
                    <a:pt x="566" y="3106"/>
                  </a:moveTo>
                  <a:cubicBezTo>
                    <a:pt x="563" y="3108"/>
                    <a:pt x="561" y="3110"/>
                    <a:pt x="559" y="3112"/>
                  </a:cubicBezTo>
                  <a:cubicBezTo>
                    <a:pt x="563" y="3121"/>
                    <a:pt x="565" y="3132"/>
                    <a:pt x="587" y="3129"/>
                  </a:cubicBezTo>
                  <a:cubicBezTo>
                    <a:pt x="578" y="3119"/>
                    <a:pt x="572" y="3112"/>
                    <a:pt x="566" y="3106"/>
                  </a:cubicBezTo>
                  <a:close/>
                  <a:moveTo>
                    <a:pt x="802" y="611"/>
                  </a:moveTo>
                  <a:cubicBezTo>
                    <a:pt x="801" y="634"/>
                    <a:pt x="801" y="634"/>
                    <a:pt x="819" y="639"/>
                  </a:cubicBezTo>
                  <a:cubicBezTo>
                    <a:pt x="814" y="630"/>
                    <a:pt x="808" y="620"/>
                    <a:pt x="802" y="611"/>
                  </a:cubicBezTo>
                  <a:close/>
                  <a:moveTo>
                    <a:pt x="785" y="2670"/>
                  </a:moveTo>
                  <a:cubicBezTo>
                    <a:pt x="785" y="2654"/>
                    <a:pt x="784" y="2647"/>
                    <a:pt x="784" y="2640"/>
                  </a:cubicBezTo>
                  <a:cubicBezTo>
                    <a:pt x="776" y="2643"/>
                    <a:pt x="768" y="2646"/>
                    <a:pt x="756" y="2652"/>
                  </a:cubicBezTo>
                  <a:cubicBezTo>
                    <a:pt x="767" y="2658"/>
                    <a:pt x="773" y="2662"/>
                    <a:pt x="785" y="2670"/>
                  </a:cubicBezTo>
                  <a:close/>
                  <a:moveTo>
                    <a:pt x="1456" y="557"/>
                  </a:moveTo>
                  <a:cubicBezTo>
                    <a:pt x="1454" y="535"/>
                    <a:pt x="1454" y="535"/>
                    <a:pt x="1433" y="530"/>
                  </a:cubicBezTo>
                  <a:cubicBezTo>
                    <a:pt x="1442" y="541"/>
                    <a:pt x="1449" y="549"/>
                    <a:pt x="1456" y="557"/>
                  </a:cubicBezTo>
                  <a:close/>
                  <a:moveTo>
                    <a:pt x="2816" y="1934"/>
                  </a:moveTo>
                  <a:cubicBezTo>
                    <a:pt x="2812" y="1934"/>
                    <a:pt x="2809" y="1933"/>
                    <a:pt x="2805" y="1932"/>
                  </a:cubicBezTo>
                  <a:cubicBezTo>
                    <a:pt x="2804" y="1940"/>
                    <a:pt x="2803" y="1948"/>
                    <a:pt x="2802" y="1956"/>
                  </a:cubicBezTo>
                  <a:cubicBezTo>
                    <a:pt x="2805" y="1957"/>
                    <a:pt x="2808" y="1957"/>
                    <a:pt x="2811" y="1957"/>
                  </a:cubicBezTo>
                  <a:cubicBezTo>
                    <a:pt x="2813" y="1950"/>
                    <a:pt x="2814" y="1942"/>
                    <a:pt x="2816" y="1934"/>
                  </a:cubicBezTo>
                  <a:close/>
                  <a:moveTo>
                    <a:pt x="2560" y="1814"/>
                  </a:moveTo>
                  <a:cubicBezTo>
                    <a:pt x="2558" y="1812"/>
                    <a:pt x="2556" y="1809"/>
                    <a:pt x="2554" y="1806"/>
                  </a:cubicBezTo>
                  <a:cubicBezTo>
                    <a:pt x="2547" y="1810"/>
                    <a:pt x="2539" y="1814"/>
                    <a:pt x="2533" y="1819"/>
                  </a:cubicBezTo>
                  <a:cubicBezTo>
                    <a:pt x="2531" y="1820"/>
                    <a:pt x="2533" y="1825"/>
                    <a:pt x="2534" y="1833"/>
                  </a:cubicBezTo>
                  <a:cubicBezTo>
                    <a:pt x="2544" y="1825"/>
                    <a:pt x="2552" y="1820"/>
                    <a:pt x="2560" y="1814"/>
                  </a:cubicBezTo>
                  <a:close/>
                  <a:moveTo>
                    <a:pt x="2226" y="2437"/>
                  </a:moveTo>
                  <a:cubicBezTo>
                    <a:pt x="2212" y="2445"/>
                    <a:pt x="2204" y="2450"/>
                    <a:pt x="2193" y="2456"/>
                  </a:cubicBezTo>
                  <a:cubicBezTo>
                    <a:pt x="2213" y="2468"/>
                    <a:pt x="2222" y="2467"/>
                    <a:pt x="2226" y="2437"/>
                  </a:cubicBezTo>
                  <a:close/>
                  <a:moveTo>
                    <a:pt x="2475" y="3878"/>
                  </a:moveTo>
                  <a:cubicBezTo>
                    <a:pt x="2508" y="3878"/>
                    <a:pt x="2508" y="3878"/>
                    <a:pt x="2501" y="3857"/>
                  </a:cubicBezTo>
                  <a:cubicBezTo>
                    <a:pt x="2494" y="3863"/>
                    <a:pt x="2487" y="3868"/>
                    <a:pt x="2475" y="3878"/>
                  </a:cubicBezTo>
                  <a:close/>
                  <a:moveTo>
                    <a:pt x="1474" y="3892"/>
                  </a:moveTo>
                  <a:cubicBezTo>
                    <a:pt x="1466" y="3902"/>
                    <a:pt x="1461" y="3909"/>
                    <a:pt x="1450" y="3921"/>
                  </a:cubicBezTo>
                  <a:cubicBezTo>
                    <a:pt x="1466" y="3918"/>
                    <a:pt x="1474" y="3917"/>
                    <a:pt x="1485" y="3915"/>
                  </a:cubicBezTo>
                  <a:cubicBezTo>
                    <a:pt x="1481" y="3907"/>
                    <a:pt x="1479" y="3901"/>
                    <a:pt x="1474" y="3892"/>
                  </a:cubicBezTo>
                  <a:close/>
                  <a:moveTo>
                    <a:pt x="239" y="1693"/>
                  </a:moveTo>
                  <a:cubicBezTo>
                    <a:pt x="242" y="1691"/>
                    <a:pt x="245" y="1688"/>
                    <a:pt x="247" y="1685"/>
                  </a:cubicBezTo>
                  <a:cubicBezTo>
                    <a:pt x="246" y="1671"/>
                    <a:pt x="237" y="1667"/>
                    <a:pt x="215" y="1666"/>
                  </a:cubicBezTo>
                  <a:cubicBezTo>
                    <a:pt x="226" y="1679"/>
                    <a:pt x="233" y="1686"/>
                    <a:pt x="239" y="1693"/>
                  </a:cubicBezTo>
                  <a:close/>
                  <a:moveTo>
                    <a:pt x="2708" y="4362"/>
                  </a:moveTo>
                  <a:cubicBezTo>
                    <a:pt x="2691" y="4354"/>
                    <a:pt x="2682" y="4349"/>
                    <a:pt x="2673" y="4345"/>
                  </a:cubicBezTo>
                  <a:cubicBezTo>
                    <a:pt x="2676" y="4362"/>
                    <a:pt x="2684" y="4369"/>
                    <a:pt x="2708" y="4362"/>
                  </a:cubicBezTo>
                  <a:close/>
                  <a:moveTo>
                    <a:pt x="881" y="2573"/>
                  </a:moveTo>
                  <a:cubicBezTo>
                    <a:pt x="884" y="2572"/>
                    <a:pt x="887" y="2572"/>
                    <a:pt x="890" y="2571"/>
                  </a:cubicBezTo>
                  <a:cubicBezTo>
                    <a:pt x="888" y="2559"/>
                    <a:pt x="885" y="2547"/>
                    <a:pt x="882" y="2536"/>
                  </a:cubicBezTo>
                  <a:cubicBezTo>
                    <a:pt x="880" y="2536"/>
                    <a:pt x="877" y="2537"/>
                    <a:pt x="875" y="2537"/>
                  </a:cubicBezTo>
                  <a:cubicBezTo>
                    <a:pt x="877" y="2549"/>
                    <a:pt x="879" y="2561"/>
                    <a:pt x="881" y="2573"/>
                  </a:cubicBezTo>
                  <a:close/>
                  <a:moveTo>
                    <a:pt x="2492" y="2005"/>
                  </a:moveTo>
                  <a:cubicBezTo>
                    <a:pt x="2491" y="2008"/>
                    <a:pt x="2490" y="2010"/>
                    <a:pt x="2489" y="2013"/>
                  </a:cubicBezTo>
                  <a:cubicBezTo>
                    <a:pt x="2496" y="2016"/>
                    <a:pt x="2504" y="2019"/>
                    <a:pt x="2511" y="2022"/>
                  </a:cubicBezTo>
                  <a:cubicBezTo>
                    <a:pt x="2512" y="2020"/>
                    <a:pt x="2513" y="2017"/>
                    <a:pt x="2514" y="2014"/>
                  </a:cubicBezTo>
                  <a:cubicBezTo>
                    <a:pt x="2507" y="2011"/>
                    <a:pt x="2500" y="2008"/>
                    <a:pt x="2492" y="2005"/>
                  </a:cubicBezTo>
                  <a:close/>
                  <a:moveTo>
                    <a:pt x="2025" y="3107"/>
                  </a:moveTo>
                  <a:cubicBezTo>
                    <a:pt x="2008" y="3105"/>
                    <a:pt x="2006" y="3115"/>
                    <a:pt x="2004" y="3128"/>
                  </a:cubicBezTo>
                  <a:cubicBezTo>
                    <a:pt x="2027" y="3136"/>
                    <a:pt x="2027" y="3124"/>
                    <a:pt x="2025" y="3107"/>
                  </a:cubicBezTo>
                  <a:close/>
                  <a:moveTo>
                    <a:pt x="3571" y="3338"/>
                  </a:moveTo>
                  <a:cubicBezTo>
                    <a:pt x="3569" y="3341"/>
                    <a:pt x="3568" y="3344"/>
                    <a:pt x="3567" y="3346"/>
                  </a:cubicBezTo>
                  <a:cubicBezTo>
                    <a:pt x="3576" y="3351"/>
                    <a:pt x="3586" y="3356"/>
                    <a:pt x="3595" y="3360"/>
                  </a:cubicBezTo>
                  <a:cubicBezTo>
                    <a:pt x="3596" y="3358"/>
                    <a:pt x="3597" y="3357"/>
                    <a:pt x="3598" y="3355"/>
                  </a:cubicBezTo>
                  <a:cubicBezTo>
                    <a:pt x="3589" y="3349"/>
                    <a:pt x="3580" y="3344"/>
                    <a:pt x="3571" y="3338"/>
                  </a:cubicBezTo>
                  <a:close/>
                  <a:moveTo>
                    <a:pt x="1911" y="3570"/>
                  </a:moveTo>
                  <a:cubicBezTo>
                    <a:pt x="1917" y="3587"/>
                    <a:pt x="1920" y="3595"/>
                    <a:pt x="1924" y="3606"/>
                  </a:cubicBezTo>
                  <a:cubicBezTo>
                    <a:pt x="1941" y="3588"/>
                    <a:pt x="1929" y="3582"/>
                    <a:pt x="1911" y="3570"/>
                  </a:cubicBezTo>
                  <a:close/>
                  <a:moveTo>
                    <a:pt x="2649" y="489"/>
                  </a:moveTo>
                  <a:cubicBezTo>
                    <a:pt x="2650" y="490"/>
                    <a:pt x="2652" y="492"/>
                    <a:pt x="2654" y="494"/>
                  </a:cubicBezTo>
                  <a:cubicBezTo>
                    <a:pt x="2659" y="488"/>
                    <a:pt x="2664" y="483"/>
                    <a:pt x="2669" y="477"/>
                  </a:cubicBezTo>
                  <a:cubicBezTo>
                    <a:pt x="2667" y="476"/>
                    <a:pt x="2665" y="474"/>
                    <a:pt x="2664" y="472"/>
                  </a:cubicBezTo>
                  <a:cubicBezTo>
                    <a:pt x="2659" y="478"/>
                    <a:pt x="2654" y="483"/>
                    <a:pt x="2649" y="489"/>
                  </a:cubicBezTo>
                  <a:close/>
                  <a:moveTo>
                    <a:pt x="2296" y="514"/>
                  </a:moveTo>
                  <a:cubicBezTo>
                    <a:pt x="2294" y="511"/>
                    <a:pt x="2292" y="509"/>
                    <a:pt x="2290" y="506"/>
                  </a:cubicBezTo>
                  <a:cubicBezTo>
                    <a:pt x="2283" y="512"/>
                    <a:pt x="2276" y="517"/>
                    <a:pt x="2269" y="523"/>
                  </a:cubicBezTo>
                  <a:cubicBezTo>
                    <a:pt x="2271" y="525"/>
                    <a:pt x="2273" y="527"/>
                    <a:pt x="2274" y="529"/>
                  </a:cubicBezTo>
                  <a:cubicBezTo>
                    <a:pt x="2282" y="524"/>
                    <a:pt x="2289" y="519"/>
                    <a:pt x="2296" y="514"/>
                  </a:cubicBezTo>
                  <a:close/>
                  <a:moveTo>
                    <a:pt x="444" y="1828"/>
                  </a:moveTo>
                  <a:cubicBezTo>
                    <a:pt x="423" y="1842"/>
                    <a:pt x="423" y="1842"/>
                    <a:pt x="435" y="1856"/>
                  </a:cubicBezTo>
                  <a:cubicBezTo>
                    <a:pt x="438" y="1847"/>
                    <a:pt x="440" y="1840"/>
                    <a:pt x="444" y="1828"/>
                  </a:cubicBezTo>
                  <a:close/>
                  <a:moveTo>
                    <a:pt x="2843" y="3794"/>
                  </a:moveTo>
                  <a:cubicBezTo>
                    <a:pt x="2843" y="3791"/>
                    <a:pt x="2842" y="3788"/>
                    <a:pt x="2842" y="3785"/>
                  </a:cubicBezTo>
                  <a:cubicBezTo>
                    <a:pt x="2834" y="3786"/>
                    <a:pt x="2827" y="3787"/>
                    <a:pt x="2820" y="3789"/>
                  </a:cubicBezTo>
                  <a:cubicBezTo>
                    <a:pt x="2820" y="3792"/>
                    <a:pt x="2821" y="3794"/>
                    <a:pt x="2821" y="3797"/>
                  </a:cubicBezTo>
                  <a:cubicBezTo>
                    <a:pt x="2829" y="3796"/>
                    <a:pt x="2836" y="3795"/>
                    <a:pt x="2843" y="3794"/>
                  </a:cubicBezTo>
                  <a:close/>
                  <a:moveTo>
                    <a:pt x="789" y="2044"/>
                  </a:moveTo>
                  <a:cubicBezTo>
                    <a:pt x="790" y="2047"/>
                    <a:pt x="790" y="2050"/>
                    <a:pt x="790" y="2053"/>
                  </a:cubicBezTo>
                  <a:cubicBezTo>
                    <a:pt x="797" y="2053"/>
                    <a:pt x="804" y="2052"/>
                    <a:pt x="811" y="2051"/>
                  </a:cubicBezTo>
                  <a:cubicBezTo>
                    <a:pt x="811" y="2049"/>
                    <a:pt x="811" y="2047"/>
                    <a:pt x="811" y="2045"/>
                  </a:cubicBezTo>
                  <a:cubicBezTo>
                    <a:pt x="804" y="2045"/>
                    <a:pt x="797" y="2045"/>
                    <a:pt x="789" y="2044"/>
                  </a:cubicBezTo>
                  <a:close/>
                  <a:moveTo>
                    <a:pt x="1725" y="2401"/>
                  </a:moveTo>
                  <a:cubicBezTo>
                    <a:pt x="1728" y="2402"/>
                    <a:pt x="1731" y="2404"/>
                    <a:pt x="1733" y="2406"/>
                  </a:cubicBezTo>
                  <a:cubicBezTo>
                    <a:pt x="1744" y="2401"/>
                    <a:pt x="1751" y="2395"/>
                    <a:pt x="1741" y="2376"/>
                  </a:cubicBezTo>
                  <a:cubicBezTo>
                    <a:pt x="1735" y="2386"/>
                    <a:pt x="1730" y="2393"/>
                    <a:pt x="1725" y="2401"/>
                  </a:cubicBezTo>
                  <a:close/>
                  <a:moveTo>
                    <a:pt x="1986" y="3481"/>
                  </a:moveTo>
                  <a:cubicBezTo>
                    <a:pt x="1972" y="3503"/>
                    <a:pt x="1984" y="3506"/>
                    <a:pt x="1997" y="3507"/>
                  </a:cubicBezTo>
                  <a:cubicBezTo>
                    <a:pt x="1994" y="3501"/>
                    <a:pt x="1991" y="3494"/>
                    <a:pt x="1986" y="3481"/>
                  </a:cubicBezTo>
                  <a:close/>
                  <a:moveTo>
                    <a:pt x="2194" y="2332"/>
                  </a:moveTo>
                  <a:cubicBezTo>
                    <a:pt x="2191" y="2332"/>
                    <a:pt x="2188" y="2332"/>
                    <a:pt x="2186" y="2332"/>
                  </a:cubicBezTo>
                  <a:cubicBezTo>
                    <a:pt x="2187" y="2345"/>
                    <a:pt x="2188" y="2359"/>
                    <a:pt x="2189" y="2372"/>
                  </a:cubicBezTo>
                  <a:cubicBezTo>
                    <a:pt x="2191" y="2372"/>
                    <a:pt x="2192" y="2372"/>
                    <a:pt x="2194" y="2372"/>
                  </a:cubicBezTo>
                  <a:cubicBezTo>
                    <a:pt x="2194" y="2359"/>
                    <a:pt x="2194" y="2345"/>
                    <a:pt x="2194" y="2332"/>
                  </a:cubicBezTo>
                  <a:close/>
                  <a:moveTo>
                    <a:pt x="474" y="2886"/>
                  </a:moveTo>
                  <a:cubicBezTo>
                    <a:pt x="478" y="2885"/>
                    <a:pt x="482" y="2885"/>
                    <a:pt x="485" y="2884"/>
                  </a:cubicBezTo>
                  <a:cubicBezTo>
                    <a:pt x="484" y="2875"/>
                    <a:pt x="483" y="2866"/>
                    <a:pt x="481" y="2857"/>
                  </a:cubicBezTo>
                  <a:cubicBezTo>
                    <a:pt x="479" y="2857"/>
                    <a:pt x="477" y="2857"/>
                    <a:pt x="474" y="2857"/>
                  </a:cubicBezTo>
                  <a:cubicBezTo>
                    <a:pt x="474" y="2867"/>
                    <a:pt x="474" y="2876"/>
                    <a:pt x="474" y="2886"/>
                  </a:cubicBezTo>
                  <a:close/>
                  <a:moveTo>
                    <a:pt x="2166" y="1952"/>
                  </a:moveTo>
                  <a:cubicBezTo>
                    <a:pt x="2170" y="1953"/>
                    <a:pt x="2174" y="1953"/>
                    <a:pt x="2178" y="1954"/>
                  </a:cubicBezTo>
                  <a:cubicBezTo>
                    <a:pt x="2178" y="1944"/>
                    <a:pt x="2179" y="1935"/>
                    <a:pt x="2180" y="1926"/>
                  </a:cubicBezTo>
                  <a:cubicBezTo>
                    <a:pt x="2177" y="1926"/>
                    <a:pt x="2174" y="1926"/>
                    <a:pt x="2171" y="1925"/>
                  </a:cubicBezTo>
                  <a:cubicBezTo>
                    <a:pt x="2169" y="1934"/>
                    <a:pt x="2167" y="1943"/>
                    <a:pt x="2166" y="1952"/>
                  </a:cubicBezTo>
                  <a:close/>
                  <a:moveTo>
                    <a:pt x="1915" y="1150"/>
                  </a:moveTo>
                  <a:cubicBezTo>
                    <a:pt x="1909" y="1147"/>
                    <a:pt x="1905" y="1145"/>
                    <a:pt x="1901" y="1143"/>
                  </a:cubicBezTo>
                  <a:cubicBezTo>
                    <a:pt x="1901" y="1143"/>
                    <a:pt x="1897" y="1148"/>
                    <a:pt x="1898" y="1149"/>
                  </a:cubicBezTo>
                  <a:cubicBezTo>
                    <a:pt x="1900" y="1153"/>
                    <a:pt x="1904" y="1156"/>
                    <a:pt x="1907" y="1160"/>
                  </a:cubicBezTo>
                  <a:cubicBezTo>
                    <a:pt x="1909" y="1157"/>
                    <a:pt x="1911" y="1155"/>
                    <a:pt x="1915" y="1150"/>
                  </a:cubicBezTo>
                  <a:close/>
                  <a:moveTo>
                    <a:pt x="2896" y="2129"/>
                  </a:moveTo>
                  <a:cubicBezTo>
                    <a:pt x="2897" y="2126"/>
                    <a:pt x="2898" y="2123"/>
                    <a:pt x="2899" y="2120"/>
                  </a:cubicBezTo>
                  <a:cubicBezTo>
                    <a:pt x="2889" y="2117"/>
                    <a:pt x="2880" y="2114"/>
                    <a:pt x="2871" y="2111"/>
                  </a:cubicBezTo>
                  <a:cubicBezTo>
                    <a:pt x="2870" y="2113"/>
                    <a:pt x="2869" y="2116"/>
                    <a:pt x="2868" y="2119"/>
                  </a:cubicBezTo>
                  <a:cubicBezTo>
                    <a:pt x="2877" y="2122"/>
                    <a:pt x="2887" y="2125"/>
                    <a:pt x="2896" y="2129"/>
                  </a:cubicBezTo>
                  <a:close/>
                  <a:moveTo>
                    <a:pt x="3106" y="1878"/>
                  </a:moveTo>
                  <a:cubicBezTo>
                    <a:pt x="3102" y="1869"/>
                    <a:pt x="3099" y="1862"/>
                    <a:pt x="3094" y="1852"/>
                  </a:cubicBezTo>
                  <a:cubicBezTo>
                    <a:pt x="3085" y="1876"/>
                    <a:pt x="3085" y="1876"/>
                    <a:pt x="3106" y="1878"/>
                  </a:cubicBezTo>
                  <a:close/>
                  <a:moveTo>
                    <a:pt x="2187" y="3582"/>
                  </a:moveTo>
                  <a:cubicBezTo>
                    <a:pt x="2184" y="3580"/>
                    <a:pt x="2180" y="3579"/>
                    <a:pt x="2177" y="3578"/>
                  </a:cubicBezTo>
                  <a:cubicBezTo>
                    <a:pt x="2175" y="3590"/>
                    <a:pt x="2173" y="3603"/>
                    <a:pt x="2170" y="3615"/>
                  </a:cubicBezTo>
                  <a:cubicBezTo>
                    <a:pt x="2173" y="3616"/>
                    <a:pt x="2176" y="3616"/>
                    <a:pt x="2179" y="3617"/>
                  </a:cubicBezTo>
                  <a:cubicBezTo>
                    <a:pt x="2182" y="3605"/>
                    <a:pt x="2184" y="3593"/>
                    <a:pt x="2187" y="3582"/>
                  </a:cubicBezTo>
                  <a:close/>
                  <a:moveTo>
                    <a:pt x="3232" y="2943"/>
                  </a:moveTo>
                  <a:cubicBezTo>
                    <a:pt x="3240" y="2916"/>
                    <a:pt x="3232" y="2914"/>
                    <a:pt x="3221" y="2913"/>
                  </a:cubicBezTo>
                  <a:cubicBezTo>
                    <a:pt x="3218" y="2916"/>
                    <a:pt x="3215" y="2920"/>
                    <a:pt x="3212" y="2923"/>
                  </a:cubicBezTo>
                  <a:cubicBezTo>
                    <a:pt x="3217" y="2928"/>
                    <a:pt x="3223" y="2934"/>
                    <a:pt x="3232" y="2943"/>
                  </a:cubicBezTo>
                  <a:close/>
                  <a:moveTo>
                    <a:pt x="1446" y="3191"/>
                  </a:moveTo>
                  <a:cubicBezTo>
                    <a:pt x="1449" y="3191"/>
                    <a:pt x="1453" y="3191"/>
                    <a:pt x="1456" y="3191"/>
                  </a:cubicBezTo>
                  <a:cubicBezTo>
                    <a:pt x="1455" y="3184"/>
                    <a:pt x="1455" y="3177"/>
                    <a:pt x="1454" y="3171"/>
                  </a:cubicBezTo>
                  <a:cubicBezTo>
                    <a:pt x="1452" y="3171"/>
                    <a:pt x="1447" y="3171"/>
                    <a:pt x="1447" y="3172"/>
                  </a:cubicBezTo>
                  <a:cubicBezTo>
                    <a:pt x="1446" y="3178"/>
                    <a:pt x="1446" y="3185"/>
                    <a:pt x="1446" y="3191"/>
                  </a:cubicBezTo>
                  <a:close/>
                  <a:moveTo>
                    <a:pt x="879" y="3548"/>
                  </a:moveTo>
                  <a:cubicBezTo>
                    <a:pt x="895" y="3534"/>
                    <a:pt x="895" y="3534"/>
                    <a:pt x="890" y="3515"/>
                  </a:cubicBezTo>
                  <a:cubicBezTo>
                    <a:pt x="886" y="3526"/>
                    <a:pt x="882" y="3537"/>
                    <a:pt x="879" y="3548"/>
                  </a:cubicBezTo>
                  <a:close/>
                  <a:moveTo>
                    <a:pt x="289" y="3004"/>
                  </a:moveTo>
                  <a:cubicBezTo>
                    <a:pt x="284" y="3010"/>
                    <a:pt x="278" y="3015"/>
                    <a:pt x="279" y="3017"/>
                  </a:cubicBezTo>
                  <a:cubicBezTo>
                    <a:pt x="281" y="3022"/>
                    <a:pt x="286" y="3026"/>
                    <a:pt x="290" y="3029"/>
                  </a:cubicBezTo>
                  <a:cubicBezTo>
                    <a:pt x="291" y="3029"/>
                    <a:pt x="298" y="3024"/>
                    <a:pt x="297" y="3023"/>
                  </a:cubicBezTo>
                  <a:cubicBezTo>
                    <a:pt x="296" y="3017"/>
                    <a:pt x="293" y="3012"/>
                    <a:pt x="289" y="3004"/>
                  </a:cubicBezTo>
                  <a:close/>
                  <a:moveTo>
                    <a:pt x="2736" y="3006"/>
                  </a:moveTo>
                  <a:cubicBezTo>
                    <a:pt x="2734" y="3008"/>
                    <a:pt x="2731" y="3010"/>
                    <a:pt x="2729" y="3013"/>
                  </a:cubicBezTo>
                  <a:cubicBezTo>
                    <a:pt x="2735" y="3018"/>
                    <a:pt x="2740" y="3024"/>
                    <a:pt x="2746" y="3030"/>
                  </a:cubicBezTo>
                  <a:cubicBezTo>
                    <a:pt x="2747" y="3028"/>
                    <a:pt x="2749" y="3026"/>
                    <a:pt x="2751" y="3024"/>
                  </a:cubicBezTo>
                  <a:cubicBezTo>
                    <a:pt x="2746" y="3018"/>
                    <a:pt x="2741" y="3012"/>
                    <a:pt x="2736" y="3006"/>
                  </a:cubicBezTo>
                  <a:close/>
                  <a:moveTo>
                    <a:pt x="925" y="492"/>
                  </a:moveTo>
                  <a:cubicBezTo>
                    <a:pt x="941" y="488"/>
                    <a:pt x="954" y="481"/>
                    <a:pt x="935" y="464"/>
                  </a:cubicBezTo>
                  <a:cubicBezTo>
                    <a:pt x="931" y="475"/>
                    <a:pt x="928" y="483"/>
                    <a:pt x="925" y="492"/>
                  </a:cubicBezTo>
                  <a:close/>
                  <a:moveTo>
                    <a:pt x="178" y="1850"/>
                  </a:moveTo>
                  <a:cubicBezTo>
                    <a:pt x="181" y="1852"/>
                    <a:pt x="183" y="1854"/>
                    <a:pt x="186" y="1857"/>
                  </a:cubicBezTo>
                  <a:cubicBezTo>
                    <a:pt x="190" y="1852"/>
                    <a:pt x="194" y="1847"/>
                    <a:pt x="198" y="1842"/>
                  </a:cubicBezTo>
                  <a:cubicBezTo>
                    <a:pt x="198" y="1841"/>
                    <a:pt x="193" y="1837"/>
                    <a:pt x="191" y="1835"/>
                  </a:cubicBezTo>
                  <a:cubicBezTo>
                    <a:pt x="186" y="1840"/>
                    <a:pt x="182" y="1845"/>
                    <a:pt x="178" y="1850"/>
                  </a:cubicBezTo>
                  <a:close/>
                  <a:moveTo>
                    <a:pt x="709" y="1099"/>
                  </a:moveTo>
                  <a:cubicBezTo>
                    <a:pt x="694" y="1100"/>
                    <a:pt x="686" y="1101"/>
                    <a:pt x="675" y="1102"/>
                  </a:cubicBezTo>
                  <a:cubicBezTo>
                    <a:pt x="688" y="1119"/>
                    <a:pt x="696" y="1120"/>
                    <a:pt x="709" y="1099"/>
                  </a:cubicBezTo>
                  <a:close/>
                  <a:moveTo>
                    <a:pt x="1362" y="431"/>
                  </a:moveTo>
                  <a:cubicBezTo>
                    <a:pt x="1363" y="435"/>
                    <a:pt x="1364" y="438"/>
                    <a:pt x="1365" y="441"/>
                  </a:cubicBezTo>
                  <a:cubicBezTo>
                    <a:pt x="1371" y="439"/>
                    <a:pt x="1378" y="436"/>
                    <a:pt x="1384" y="434"/>
                  </a:cubicBezTo>
                  <a:cubicBezTo>
                    <a:pt x="1382" y="430"/>
                    <a:pt x="1380" y="424"/>
                    <a:pt x="1380" y="424"/>
                  </a:cubicBezTo>
                  <a:cubicBezTo>
                    <a:pt x="1374" y="426"/>
                    <a:pt x="1368" y="429"/>
                    <a:pt x="1362" y="431"/>
                  </a:cubicBezTo>
                  <a:close/>
                  <a:moveTo>
                    <a:pt x="1967" y="4014"/>
                  </a:moveTo>
                  <a:cubicBezTo>
                    <a:pt x="1965" y="4016"/>
                    <a:pt x="1962" y="4019"/>
                    <a:pt x="1960" y="4022"/>
                  </a:cubicBezTo>
                  <a:cubicBezTo>
                    <a:pt x="1965" y="4026"/>
                    <a:pt x="1969" y="4031"/>
                    <a:pt x="1975" y="4035"/>
                  </a:cubicBezTo>
                  <a:cubicBezTo>
                    <a:pt x="1975" y="4035"/>
                    <a:pt x="1980" y="4030"/>
                    <a:pt x="1982" y="4028"/>
                  </a:cubicBezTo>
                  <a:cubicBezTo>
                    <a:pt x="1977" y="4023"/>
                    <a:pt x="1972" y="4018"/>
                    <a:pt x="1967" y="4014"/>
                  </a:cubicBezTo>
                  <a:close/>
                  <a:moveTo>
                    <a:pt x="2031" y="4020"/>
                  </a:moveTo>
                  <a:cubicBezTo>
                    <a:pt x="2016" y="4016"/>
                    <a:pt x="2005" y="4018"/>
                    <a:pt x="2012" y="4038"/>
                  </a:cubicBezTo>
                  <a:cubicBezTo>
                    <a:pt x="2020" y="4031"/>
                    <a:pt x="2026" y="4025"/>
                    <a:pt x="2031" y="4020"/>
                  </a:cubicBezTo>
                  <a:close/>
                  <a:moveTo>
                    <a:pt x="1957" y="416"/>
                  </a:moveTo>
                  <a:cubicBezTo>
                    <a:pt x="1962" y="415"/>
                    <a:pt x="1966" y="413"/>
                    <a:pt x="1971" y="412"/>
                  </a:cubicBezTo>
                  <a:cubicBezTo>
                    <a:pt x="1967" y="405"/>
                    <a:pt x="1964" y="398"/>
                    <a:pt x="1960" y="392"/>
                  </a:cubicBezTo>
                  <a:cubicBezTo>
                    <a:pt x="1960" y="392"/>
                    <a:pt x="1954" y="394"/>
                    <a:pt x="1954" y="395"/>
                  </a:cubicBezTo>
                  <a:cubicBezTo>
                    <a:pt x="1955" y="402"/>
                    <a:pt x="1956" y="409"/>
                    <a:pt x="1957" y="416"/>
                  </a:cubicBezTo>
                  <a:close/>
                  <a:moveTo>
                    <a:pt x="1561" y="1699"/>
                  </a:moveTo>
                  <a:cubicBezTo>
                    <a:pt x="1558" y="1703"/>
                    <a:pt x="1555" y="1705"/>
                    <a:pt x="1554" y="1708"/>
                  </a:cubicBezTo>
                  <a:cubicBezTo>
                    <a:pt x="1553" y="1709"/>
                    <a:pt x="1556" y="1714"/>
                    <a:pt x="1557" y="1714"/>
                  </a:cubicBezTo>
                  <a:cubicBezTo>
                    <a:pt x="1560" y="1714"/>
                    <a:pt x="1563" y="1712"/>
                    <a:pt x="1566" y="1711"/>
                  </a:cubicBezTo>
                  <a:cubicBezTo>
                    <a:pt x="1565" y="1708"/>
                    <a:pt x="1564" y="1704"/>
                    <a:pt x="1561" y="1699"/>
                  </a:cubicBezTo>
                  <a:close/>
                  <a:moveTo>
                    <a:pt x="163" y="2270"/>
                  </a:moveTo>
                  <a:cubicBezTo>
                    <a:pt x="161" y="2267"/>
                    <a:pt x="159" y="2264"/>
                    <a:pt x="157" y="2261"/>
                  </a:cubicBezTo>
                  <a:cubicBezTo>
                    <a:pt x="152" y="2266"/>
                    <a:pt x="146" y="2270"/>
                    <a:pt x="141" y="2275"/>
                  </a:cubicBezTo>
                  <a:cubicBezTo>
                    <a:pt x="142" y="2276"/>
                    <a:pt x="143" y="2278"/>
                    <a:pt x="144" y="2280"/>
                  </a:cubicBezTo>
                  <a:cubicBezTo>
                    <a:pt x="150" y="2276"/>
                    <a:pt x="157" y="2273"/>
                    <a:pt x="163" y="2270"/>
                  </a:cubicBezTo>
                  <a:close/>
                  <a:moveTo>
                    <a:pt x="213" y="2948"/>
                  </a:moveTo>
                  <a:cubicBezTo>
                    <a:pt x="215" y="2947"/>
                    <a:pt x="217" y="2946"/>
                    <a:pt x="218" y="2946"/>
                  </a:cubicBezTo>
                  <a:cubicBezTo>
                    <a:pt x="216" y="2937"/>
                    <a:pt x="213" y="2929"/>
                    <a:pt x="210" y="2920"/>
                  </a:cubicBezTo>
                  <a:cubicBezTo>
                    <a:pt x="208" y="2921"/>
                    <a:pt x="206" y="2922"/>
                    <a:pt x="203" y="2923"/>
                  </a:cubicBezTo>
                  <a:cubicBezTo>
                    <a:pt x="207" y="2931"/>
                    <a:pt x="210" y="2939"/>
                    <a:pt x="213" y="2948"/>
                  </a:cubicBezTo>
                  <a:close/>
                  <a:moveTo>
                    <a:pt x="1996" y="2326"/>
                  </a:moveTo>
                  <a:cubicBezTo>
                    <a:pt x="1996" y="2328"/>
                    <a:pt x="1996" y="2331"/>
                    <a:pt x="1996" y="2333"/>
                  </a:cubicBezTo>
                  <a:cubicBezTo>
                    <a:pt x="2003" y="2333"/>
                    <a:pt x="2010" y="2333"/>
                    <a:pt x="2016" y="2333"/>
                  </a:cubicBezTo>
                  <a:cubicBezTo>
                    <a:pt x="2017" y="2331"/>
                    <a:pt x="2017" y="2330"/>
                    <a:pt x="2017" y="2328"/>
                  </a:cubicBezTo>
                  <a:cubicBezTo>
                    <a:pt x="2010" y="2327"/>
                    <a:pt x="2003" y="2327"/>
                    <a:pt x="1996" y="2326"/>
                  </a:cubicBezTo>
                  <a:close/>
                  <a:moveTo>
                    <a:pt x="2656" y="2932"/>
                  </a:moveTo>
                  <a:cubicBezTo>
                    <a:pt x="2648" y="2927"/>
                    <a:pt x="2645" y="2924"/>
                    <a:pt x="2641" y="2922"/>
                  </a:cubicBezTo>
                  <a:cubicBezTo>
                    <a:pt x="2640" y="2922"/>
                    <a:pt x="2635" y="2927"/>
                    <a:pt x="2635" y="2929"/>
                  </a:cubicBezTo>
                  <a:cubicBezTo>
                    <a:pt x="2634" y="2932"/>
                    <a:pt x="2637" y="2938"/>
                    <a:pt x="2639" y="2938"/>
                  </a:cubicBezTo>
                  <a:cubicBezTo>
                    <a:pt x="2643" y="2938"/>
                    <a:pt x="2647" y="2935"/>
                    <a:pt x="2656" y="2932"/>
                  </a:cubicBezTo>
                  <a:close/>
                  <a:moveTo>
                    <a:pt x="760" y="3574"/>
                  </a:moveTo>
                  <a:cubicBezTo>
                    <a:pt x="762" y="3572"/>
                    <a:pt x="764" y="3570"/>
                    <a:pt x="766" y="3568"/>
                  </a:cubicBezTo>
                  <a:cubicBezTo>
                    <a:pt x="760" y="3563"/>
                    <a:pt x="753" y="3558"/>
                    <a:pt x="746" y="3552"/>
                  </a:cubicBezTo>
                  <a:cubicBezTo>
                    <a:pt x="744" y="3554"/>
                    <a:pt x="743" y="3556"/>
                    <a:pt x="742" y="3558"/>
                  </a:cubicBezTo>
                  <a:cubicBezTo>
                    <a:pt x="748" y="3563"/>
                    <a:pt x="754" y="3569"/>
                    <a:pt x="760" y="3574"/>
                  </a:cubicBezTo>
                  <a:close/>
                  <a:moveTo>
                    <a:pt x="403" y="2499"/>
                  </a:moveTo>
                  <a:cubicBezTo>
                    <a:pt x="405" y="2499"/>
                    <a:pt x="407" y="2499"/>
                    <a:pt x="410" y="2500"/>
                  </a:cubicBezTo>
                  <a:cubicBezTo>
                    <a:pt x="411" y="2492"/>
                    <a:pt x="413" y="2485"/>
                    <a:pt x="415" y="2477"/>
                  </a:cubicBezTo>
                  <a:cubicBezTo>
                    <a:pt x="413" y="2477"/>
                    <a:pt x="410" y="2476"/>
                    <a:pt x="408" y="2476"/>
                  </a:cubicBezTo>
                  <a:cubicBezTo>
                    <a:pt x="406" y="2483"/>
                    <a:pt x="405" y="2491"/>
                    <a:pt x="403" y="2499"/>
                  </a:cubicBezTo>
                  <a:close/>
                  <a:moveTo>
                    <a:pt x="1519" y="2330"/>
                  </a:moveTo>
                  <a:cubicBezTo>
                    <a:pt x="1515" y="2329"/>
                    <a:pt x="1512" y="2328"/>
                    <a:pt x="1509" y="2328"/>
                  </a:cubicBezTo>
                  <a:cubicBezTo>
                    <a:pt x="1509" y="2334"/>
                    <a:pt x="1508" y="2340"/>
                    <a:pt x="1508" y="2347"/>
                  </a:cubicBezTo>
                  <a:cubicBezTo>
                    <a:pt x="1510" y="2347"/>
                    <a:pt x="1512" y="2347"/>
                    <a:pt x="1514" y="2347"/>
                  </a:cubicBezTo>
                  <a:cubicBezTo>
                    <a:pt x="1515" y="2342"/>
                    <a:pt x="1517" y="2336"/>
                    <a:pt x="1519" y="2330"/>
                  </a:cubicBezTo>
                  <a:close/>
                  <a:moveTo>
                    <a:pt x="2265" y="2536"/>
                  </a:moveTo>
                  <a:cubicBezTo>
                    <a:pt x="2249" y="2550"/>
                    <a:pt x="2244" y="2557"/>
                    <a:pt x="2257" y="2572"/>
                  </a:cubicBezTo>
                  <a:cubicBezTo>
                    <a:pt x="2260" y="2560"/>
                    <a:pt x="2262" y="2552"/>
                    <a:pt x="2265" y="2536"/>
                  </a:cubicBezTo>
                  <a:close/>
                  <a:moveTo>
                    <a:pt x="436" y="1421"/>
                  </a:moveTo>
                  <a:cubicBezTo>
                    <a:pt x="434" y="1418"/>
                    <a:pt x="432" y="1416"/>
                    <a:pt x="431" y="1413"/>
                  </a:cubicBezTo>
                  <a:cubicBezTo>
                    <a:pt x="425" y="1417"/>
                    <a:pt x="420" y="1421"/>
                    <a:pt x="415" y="1425"/>
                  </a:cubicBezTo>
                  <a:cubicBezTo>
                    <a:pt x="417" y="1427"/>
                    <a:pt x="418" y="1429"/>
                    <a:pt x="419" y="1431"/>
                  </a:cubicBezTo>
                  <a:cubicBezTo>
                    <a:pt x="425" y="1428"/>
                    <a:pt x="430" y="1424"/>
                    <a:pt x="436" y="1421"/>
                  </a:cubicBezTo>
                  <a:close/>
                  <a:moveTo>
                    <a:pt x="3104" y="2700"/>
                  </a:moveTo>
                  <a:cubicBezTo>
                    <a:pt x="3102" y="2701"/>
                    <a:pt x="3100" y="2701"/>
                    <a:pt x="3097" y="2702"/>
                  </a:cubicBezTo>
                  <a:cubicBezTo>
                    <a:pt x="3102" y="2713"/>
                    <a:pt x="3106" y="2723"/>
                    <a:pt x="3110" y="2733"/>
                  </a:cubicBezTo>
                  <a:cubicBezTo>
                    <a:pt x="3112" y="2732"/>
                    <a:pt x="3115" y="2731"/>
                    <a:pt x="3117" y="2730"/>
                  </a:cubicBezTo>
                  <a:cubicBezTo>
                    <a:pt x="3113" y="2720"/>
                    <a:pt x="3108" y="2710"/>
                    <a:pt x="3104" y="2700"/>
                  </a:cubicBezTo>
                  <a:close/>
                  <a:moveTo>
                    <a:pt x="185" y="1809"/>
                  </a:moveTo>
                  <a:cubicBezTo>
                    <a:pt x="187" y="1808"/>
                    <a:pt x="189" y="1807"/>
                    <a:pt x="190" y="1807"/>
                  </a:cubicBezTo>
                  <a:cubicBezTo>
                    <a:pt x="189" y="1803"/>
                    <a:pt x="188" y="1798"/>
                    <a:pt x="186" y="1795"/>
                  </a:cubicBezTo>
                  <a:cubicBezTo>
                    <a:pt x="184" y="1792"/>
                    <a:pt x="180" y="1790"/>
                    <a:pt x="177" y="1788"/>
                  </a:cubicBezTo>
                  <a:cubicBezTo>
                    <a:pt x="176" y="1789"/>
                    <a:pt x="174" y="1791"/>
                    <a:pt x="173" y="1792"/>
                  </a:cubicBezTo>
                  <a:cubicBezTo>
                    <a:pt x="177" y="1798"/>
                    <a:pt x="181" y="1803"/>
                    <a:pt x="185" y="1809"/>
                  </a:cubicBezTo>
                  <a:close/>
                  <a:moveTo>
                    <a:pt x="1570" y="612"/>
                  </a:moveTo>
                  <a:cubicBezTo>
                    <a:pt x="1571" y="609"/>
                    <a:pt x="1572" y="606"/>
                    <a:pt x="1574" y="604"/>
                  </a:cubicBezTo>
                  <a:cubicBezTo>
                    <a:pt x="1565" y="599"/>
                    <a:pt x="1560" y="585"/>
                    <a:pt x="1542" y="598"/>
                  </a:cubicBezTo>
                  <a:cubicBezTo>
                    <a:pt x="1553" y="604"/>
                    <a:pt x="1562" y="608"/>
                    <a:pt x="1570" y="612"/>
                  </a:cubicBezTo>
                  <a:close/>
                  <a:moveTo>
                    <a:pt x="123" y="2011"/>
                  </a:moveTo>
                  <a:cubicBezTo>
                    <a:pt x="127" y="2024"/>
                    <a:pt x="127" y="2030"/>
                    <a:pt x="130" y="2033"/>
                  </a:cubicBezTo>
                  <a:cubicBezTo>
                    <a:pt x="133" y="2036"/>
                    <a:pt x="139" y="2036"/>
                    <a:pt x="144" y="2038"/>
                  </a:cubicBezTo>
                  <a:cubicBezTo>
                    <a:pt x="145" y="2036"/>
                    <a:pt x="146" y="2035"/>
                    <a:pt x="147" y="2033"/>
                  </a:cubicBezTo>
                  <a:cubicBezTo>
                    <a:pt x="141" y="2028"/>
                    <a:pt x="136" y="2022"/>
                    <a:pt x="123" y="2011"/>
                  </a:cubicBezTo>
                  <a:close/>
                  <a:moveTo>
                    <a:pt x="2479" y="3716"/>
                  </a:moveTo>
                  <a:cubicBezTo>
                    <a:pt x="2476" y="3721"/>
                    <a:pt x="2472" y="3726"/>
                    <a:pt x="2473" y="3727"/>
                  </a:cubicBezTo>
                  <a:cubicBezTo>
                    <a:pt x="2476" y="3730"/>
                    <a:pt x="2480" y="3733"/>
                    <a:pt x="2484" y="3736"/>
                  </a:cubicBezTo>
                  <a:cubicBezTo>
                    <a:pt x="2486" y="3733"/>
                    <a:pt x="2490" y="3730"/>
                    <a:pt x="2489" y="3728"/>
                  </a:cubicBezTo>
                  <a:cubicBezTo>
                    <a:pt x="2488" y="3724"/>
                    <a:pt x="2484" y="3721"/>
                    <a:pt x="2479" y="3716"/>
                  </a:cubicBezTo>
                  <a:close/>
                  <a:moveTo>
                    <a:pt x="1755" y="2269"/>
                  </a:moveTo>
                  <a:cubicBezTo>
                    <a:pt x="1741" y="2251"/>
                    <a:pt x="1732" y="2248"/>
                    <a:pt x="1717" y="2265"/>
                  </a:cubicBezTo>
                  <a:cubicBezTo>
                    <a:pt x="1730" y="2267"/>
                    <a:pt x="1738" y="2267"/>
                    <a:pt x="1755" y="2269"/>
                  </a:cubicBezTo>
                  <a:close/>
                  <a:moveTo>
                    <a:pt x="1619" y="669"/>
                  </a:moveTo>
                  <a:cubicBezTo>
                    <a:pt x="1623" y="665"/>
                    <a:pt x="1626" y="661"/>
                    <a:pt x="1630" y="657"/>
                  </a:cubicBezTo>
                  <a:cubicBezTo>
                    <a:pt x="1622" y="650"/>
                    <a:pt x="1613" y="644"/>
                    <a:pt x="1604" y="638"/>
                  </a:cubicBezTo>
                  <a:cubicBezTo>
                    <a:pt x="1602" y="640"/>
                    <a:pt x="1599" y="642"/>
                    <a:pt x="1596" y="645"/>
                  </a:cubicBezTo>
                  <a:cubicBezTo>
                    <a:pt x="1604" y="653"/>
                    <a:pt x="1611" y="661"/>
                    <a:pt x="1619" y="669"/>
                  </a:cubicBezTo>
                  <a:close/>
                  <a:moveTo>
                    <a:pt x="2427" y="2803"/>
                  </a:moveTo>
                  <a:cubicBezTo>
                    <a:pt x="2427" y="2806"/>
                    <a:pt x="2426" y="2810"/>
                    <a:pt x="2426" y="2813"/>
                  </a:cubicBezTo>
                  <a:cubicBezTo>
                    <a:pt x="2432" y="2814"/>
                    <a:pt x="2439" y="2814"/>
                    <a:pt x="2445" y="2815"/>
                  </a:cubicBezTo>
                  <a:cubicBezTo>
                    <a:pt x="2445" y="2813"/>
                    <a:pt x="2446" y="2811"/>
                    <a:pt x="2446" y="2809"/>
                  </a:cubicBezTo>
                  <a:cubicBezTo>
                    <a:pt x="2440" y="2807"/>
                    <a:pt x="2433" y="2805"/>
                    <a:pt x="2427" y="2803"/>
                  </a:cubicBezTo>
                  <a:close/>
                  <a:moveTo>
                    <a:pt x="3407" y="3502"/>
                  </a:moveTo>
                  <a:cubicBezTo>
                    <a:pt x="3408" y="3500"/>
                    <a:pt x="3409" y="3498"/>
                    <a:pt x="3410" y="3496"/>
                  </a:cubicBezTo>
                  <a:cubicBezTo>
                    <a:pt x="3403" y="3493"/>
                    <a:pt x="3397" y="3490"/>
                    <a:pt x="3391" y="3486"/>
                  </a:cubicBezTo>
                  <a:cubicBezTo>
                    <a:pt x="3390" y="3488"/>
                    <a:pt x="3389" y="3490"/>
                    <a:pt x="3388" y="3492"/>
                  </a:cubicBezTo>
                  <a:cubicBezTo>
                    <a:pt x="3394" y="3495"/>
                    <a:pt x="3400" y="3499"/>
                    <a:pt x="3407" y="3502"/>
                  </a:cubicBezTo>
                  <a:close/>
                  <a:moveTo>
                    <a:pt x="731" y="1120"/>
                  </a:moveTo>
                  <a:cubicBezTo>
                    <a:pt x="734" y="1116"/>
                    <a:pt x="737" y="1113"/>
                    <a:pt x="738" y="1110"/>
                  </a:cubicBezTo>
                  <a:cubicBezTo>
                    <a:pt x="739" y="1104"/>
                    <a:pt x="739" y="1098"/>
                    <a:pt x="738" y="1092"/>
                  </a:cubicBezTo>
                  <a:cubicBezTo>
                    <a:pt x="738" y="1092"/>
                    <a:pt x="729" y="1091"/>
                    <a:pt x="729" y="1092"/>
                  </a:cubicBezTo>
                  <a:cubicBezTo>
                    <a:pt x="727" y="1098"/>
                    <a:pt x="726" y="1104"/>
                    <a:pt x="726" y="1109"/>
                  </a:cubicBezTo>
                  <a:cubicBezTo>
                    <a:pt x="726" y="1112"/>
                    <a:pt x="729" y="1115"/>
                    <a:pt x="731" y="1120"/>
                  </a:cubicBezTo>
                  <a:close/>
                  <a:moveTo>
                    <a:pt x="3517" y="794"/>
                  </a:moveTo>
                  <a:cubicBezTo>
                    <a:pt x="3509" y="782"/>
                    <a:pt x="3506" y="776"/>
                    <a:pt x="3500" y="767"/>
                  </a:cubicBezTo>
                  <a:cubicBezTo>
                    <a:pt x="3490" y="783"/>
                    <a:pt x="3497" y="788"/>
                    <a:pt x="3517" y="794"/>
                  </a:cubicBezTo>
                  <a:close/>
                  <a:moveTo>
                    <a:pt x="863" y="1181"/>
                  </a:moveTo>
                  <a:cubicBezTo>
                    <a:pt x="864" y="1179"/>
                    <a:pt x="865" y="1177"/>
                    <a:pt x="866" y="1176"/>
                  </a:cubicBezTo>
                  <a:cubicBezTo>
                    <a:pt x="858" y="1168"/>
                    <a:pt x="851" y="1161"/>
                    <a:pt x="843" y="1154"/>
                  </a:cubicBezTo>
                  <a:cubicBezTo>
                    <a:pt x="842" y="1156"/>
                    <a:pt x="840" y="1157"/>
                    <a:pt x="838" y="1159"/>
                  </a:cubicBezTo>
                  <a:cubicBezTo>
                    <a:pt x="846" y="1166"/>
                    <a:pt x="855" y="1173"/>
                    <a:pt x="863" y="1181"/>
                  </a:cubicBezTo>
                  <a:close/>
                  <a:moveTo>
                    <a:pt x="598" y="869"/>
                  </a:moveTo>
                  <a:cubicBezTo>
                    <a:pt x="601" y="865"/>
                    <a:pt x="603" y="864"/>
                    <a:pt x="603" y="864"/>
                  </a:cubicBezTo>
                  <a:cubicBezTo>
                    <a:pt x="602" y="856"/>
                    <a:pt x="601" y="848"/>
                    <a:pt x="599" y="841"/>
                  </a:cubicBezTo>
                  <a:cubicBezTo>
                    <a:pt x="599" y="840"/>
                    <a:pt x="597" y="840"/>
                    <a:pt x="596" y="840"/>
                  </a:cubicBezTo>
                  <a:cubicBezTo>
                    <a:pt x="596" y="846"/>
                    <a:pt x="595" y="852"/>
                    <a:pt x="595" y="859"/>
                  </a:cubicBezTo>
                  <a:cubicBezTo>
                    <a:pt x="595" y="861"/>
                    <a:pt x="596" y="864"/>
                    <a:pt x="598" y="869"/>
                  </a:cubicBezTo>
                  <a:close/>
                  <a:moveTo>
                    <a:pt x="2020" y="2222"/>
                  </a:moveTo>
                  <a:cubicBezTo>
                    <a:pt x="2018" y="2219"/>
                    <a:pt x="2016" y="2216"/>
                    <a:pt x="2014" y="2213"/>
                  </a:cubicBezTo>
                  <a:cubicBezTo>
                    <a:pt x="2008" y="2217"/>
                    <a:pt x="2003" y="2222"/>
                    <a:pt x="1997" y="2226"/>
                  </a:cubicBezTo>
                  <a:cubicBezTo>
                    <a:pt x="1998" y="2228"/>
                    <a:pt x="1999" y="2230"/>
                    <a:pt x="2000" y="2232"/>
                  </a:cubicBezTo>
                  <a:cubicBezTo>
                    <a:pt x="2007" y="2228"/>
                    <a:pt x="2013" y="2225"/>
                    <a:pt x="2020" y="2222"/>
                  </a:cubicBezTo>
                  <a:close/>
                  <a:moveTo>
                    <a:pt x="1968" y="366"/>
                  </a:moveTo>
                  <a:cubicBezTo>
                    <a:pt x="1968" y="370"/>
                    <a:pt x="1969" y="374"/>
                    <a:pt x="1969" y="377"/>
                  </a:cubicBezTo>
                  <a:cubicBezTo>
                    <a:pt x="1976" y="375"/>
                    <a:pt x="1983" y="373"/>
                    <a:pt x="1990" y="371"/>
                  </a:cubicBezTo>
                  <a:cubicBezTo>
                    <a:pt x="1990" y="368"/>
                    <a:pt x="1989" y="366"/>
                    <a:pt x="1988" y="363"/>
                  </a:cubicBezTo>
                  <a:cubicBezTo>
                    <a:pt x="1981" y="364"/>
                    <a:pt x="1975" y="365"/>
                    <a:pt x="1968" y="366"/>
                  </a:cubicBezTo>
                  <a:close/>
                  <a:moveTo>
                    <a:pt x="1785" y="316"/>
                  </a:moveTo>
                  <a:cubicBezTo>
                    <a:pt x="1785" y="317"/>
                    <a:pt x="1786" y="319"/>
                    <a:pt x="1786" y="320"/>
                  </a:cubicBezTo>
                  <a:cubicBezTo>
                    <a:pt x="1791" y="319"/>
                    <a:pt x="1797" y="319"/>
                    <a:pt x="1801" y="317"/>
                  </a:cubicBezTo>
                  <a:cubicBezTo>
                    <a:pt x="1805" y="314"/>
                    <a:pt x="1808" y="309"/>
                    <a:pt x="1811" y="305"/>
                  </a:cubicBezTo>
                  <a:cubicBezTo>
                    <a:pt x="1810" y="304"/>
                    <a:pt x="1809" y="303"/>
                    <a:pt x="1808" y="302"/>
                  </a:cubicBezTo>
                  <a:cubicBezTo>
                    <a:pt x="1800" y="307"/>
                    <a:pt x="1792" y="311"/>
                    <a:pt x="1785" y="316"/>
                  </a:cubicBezTo>
                  <a:close/>
                  <a:moveTo>
                    <a:pt x="287" y="1414"/>
                  </a:moveTo>
                  <a:cubicBezTo>
                    <a:pt x="286" y="1416"/>
                    <a:pt x="285" y="1418"/>
                    <a:pt x="284" y="1420"/>
                  </a:cubicBezTo>
                  <a:cubicBezTo>
                    <a:pt x="289" y="1423"/>
                    <a:pt x="294" y="1426"/>
                    <a:pt x="299" y="1428"/>
                  </a:cubicBezTo>
                  <a:cubicBezTo>
                    <a:pt x="300" y="1427"/>
                    <a:pt x="301" y="1425"/>
                    <a:pt x="302" y="1423"/>
                  </a:cubicBezTo>
                  <a:cubicBezTo>
                    <a:pt x="297" y="1420"/>
                    <a:pt x="292" y="1417"/>
                    <a:pt x="287" y="1414"/>
                  </a:cubicBezTo>
                  <a:close/>
                  <a:moveTo>
                    <a:pt x="2927" y="1399"/>
                  </a:moveTo>
                  <a:cubicBezTo>
                    <a:pt x="2929" y="1400"/>
                    <a:pt x="2931" y="1401"/>
                    <a:pt x="2933" y="1402"/>
                  </a:cubicBezTo>
                  <a:cubicBezTo>
                    <a:pt x="2937" y="1396"/>
                    <a:pt x="2941" y="1389"/>
                    <a:pt x="2945" y="1383"/>
                  </a:cubicBezTo>
                  <a:cubicBezTo>
                    <a:pt x="2943" y="1382"/>
                    <a:pt x="2941" y="1381"/>
                    <a:pt x="2939" y="1379"/>
                  </a:cubicBezTo>
                  <a:cubicBezTo>
                    <a:pt x="2935" y="1386"/>
                    <a:pt x="2931" y="1392"/>
                    <a:pt x="2927" y="1399"/>
                  </a:cubicBezTo>
                  <a:close/>
                  <a:moveTo>
                    <a:pt x="2022" y="1306"/>
                  </a:moveTo>
                  <a:cubicBezTo>
                    <a:pt x="2019" y="1307"/>
                    <a:pt x="2017" y="1309"/>
                    <a:pt x="2014" y="1310"/>
                  </a:cubicBezTo>
                  <a:cubicBezTo>
                    <a:pt x="2017" y="1316"/>
                    <a:pt x="2020" y="1321"/>
                    <a:pt x="2022" y="1327"/>
                  </a:cubicBezTo>
                  <a:cubicBezTo>
                    <a:pt x="2024" y="1326"/>
                    <a:pt x="2026" y="1325"/>
                    <a:pt x="2028" y="1324"/>
                  </a:cubicBezTo>
                  <a:cubicBezTo>
                    <a:pt x="2026" y="1318"/>
                    <a:pt x="2024" y="1312"/>
                    <a:pt x="2022" y="1306"/>
                  </a:cubicBezTo>
                  <a:close/>
                  <a:moveTo>
                    <a:pt x="2261" y="1297"/>
                  </a:moveTo>
                  <a:cubicBezTo>
                    <a:pt x="2269" y="1295"/>
                    <a:pt x="2273" y="1295"/>
                    <a:pt x="2273" y="1294"/>
                  </a:cubicBezTo>
                  <a:cubicBezTo>
                    <a:pt x="2274" y="1290"/>
                    <a:pt x="2274" y="1285"/>
                    <a:pt x="2274" y="1281"/>
                  </a:cubicBezTo>
                  <a:cubicBezTo>
                    <a:pt x="2271" y="1285"/>
                    <a:pt x="2267" y="1289"/>
                    <a:pt x="2261" y="1297"/>
                  </a:cubicBezTo>
                  <a:close/>
                  <a:moveTo>
                    <a:pt x="516" y="1838"/>
                  </a:moveTo>
                  <a:cubicBezTo>
                    <a:pt x="514" y="1839"/>
                    <a:pt x="512" y="1839"/>
                    <a:pt x="510" y="1840"/>
                  </a:cubicBezTo>
                  <a:cubicBezTo>
                    <a:pt x="512" y="1847"/>
                    <a:pt x="515" y="1855"/>
                    <a:pt x="517" y="1862"/>
                  </a:cubicBezTo>
                  <a:cubicBezTo>
                    <a:pt x="519" y="1862"/>
                    <a:pt x="521" y="1861"/>
                    <a:pt x="523" y="1861"/>
                  </a:cubicBezTo>
                  <a:cubicBezTo>
                    <a:pt x="521" y="1853"/>
                    <a:pt x="519" y="1846"/>
                    <a:pt x="516" y="1838"/>
                  </a:cubicBezTo>
                  <a:close/>
                  <a:moveTo>
                    <a:pt x="329" y="3129"/>
                  </a:moveTo>
                  <a:cubicBezTo>
                    <a:pt x="329" y="3132"/>
                    <a:pt x="328" y="3135"/>
                    <a:pt x="328" y="3137"/>
                  </a:cubicBezTo>
                  <a:cubicBezTo>
                    <a:pt x="334" y="3139"/>
                    <a:pt x="341" y="3140"/>
                    <a:pt x="347" y="3141"/>
                  </a:cubicBezTo>
                  <a:cubicBezTo>
                    <a:pt x="348" y="3138"/>
                    <a:pt x="348" y="3135"/>
                    <a:pt x="349" y="3132"/>
                  </a:cubicBezTo>
                  <a:cubicBezTo>
                    <a:pt x="342" y="3131"/>
                    <a:pt x="336" y="3130"/>
                    <a:pt x="329" y="3129"/>
                  </a:cubicBezTo>
                  <a:close/>
                  <a:moveTo>
                    <a:pt x="1393" y="1138"/>
                  </a:moveTo>
                  <a:cubicBezTo>
                    <a:pt x="1394" y="1136"/>
                    <a:pt x="1395" y="1135"/>
                    <a:pt x="1396" y="1133"/>
                  </a:cubicBezTo>
                  <a:cubicBezTo>
                    <a:pt x="1391" y="1129"/>
                    <a:pt x="1385" y="1126"/>
                    <a:pt x="1380" y="1122"/>
                  </a:cubicBezTo>
                  <a:cubicBezTo>
                    <a:pt x="1379" y="1124"/>
                    <a:pt x="1378" y="1125"/>
                    <a:pt x="1377" y="1127"/>
                  </a:cubicBezTo>
                  <a:cubicBezTo>
                    <a:pt x="1382" y="1130"/>
                    <a:pt x="1387" y="1134"/>
                    <a:pt x="1393" y="1138"/>
                  </a:cubicBezTo>
                  <a:close/>
                  <a:moveTo>
                    <a:pt x="1636" y="3255"/>
                  </a:moveTo>
                  <a:cubicBezTo>
                    <a:pt x="1633" y="3257"/>
                    <a:pt x="1629" y="3259"/>
                    <a:pt x="1629" y="3260"/>
                  </a:cubicBezTo>
                  <a:cubicBezTo>
                    <a:pt x="1630" y="3263"/>
                    <a:pt x="1632" y="3266"/>
                    <a:pt x="1634" y="3269"/>
                  </a:cubicBezTo>
                  <a:cubicBezTo>
                    <a:pt x="1636" y="3268"/>
                    <a:pt x="1641" y="3266"/>
                    <a:pt x="1640" y="3265"/>
                  </a:cubicBezTo>
                  <a:cubicBezTo>
                    <a:pt x="1640" y="3262"/>
                    <a:pt x="1637" y="3259"/>
                    <a:pt x="1636" y="3255"/>
                  </a:cubicBezTo>
                  <a:close/>
                  <a:moveTo>
                    <a:pt x="1921" y="3268"/>
                  </a:moveTo>
                  <a:cubicBezTo>
                    <a:pt x="1915" y="3264"/>
                    <a:pt x="1912" y="3260"/>
                    <a:pt x="1908" y="3258"/>
                  </a:cubicBezTo>
                  <a:cubicBezTo>
                    <a:pt x="1906" y="3257"/>
                    <a:pt x="1903" y="3262"/>
                    <a:pt x="1900" y="3264"/>
                  </a:cubicBezTo>
                  <a:cubicBezTo>
                    <a:pt x="1903" y="3267"/>
                    <a:pt x="1906" y="3271"/>
                    <a:pt x="1910" y="3274"/>
                  </a:cubicBezTo>
                  <a:cubicBezTo>
                    <a:pt x="1911" y="3274"/>
                    <a:pt x="1915" y="3271"/>
                    <a:pt x="1921" y="3268"/>
                  </a:cubicBezTo>
                  <a:close/>
                  <a:moveTo>
                    <a:pt x="3195" y="3276"/>
                  </a:moveTo>
                  <a:cubicBezTo>
                    <a:pt x="3199" y="3272"/>
                    <a:pt x="3202" y="3269"/>
                    <a:pt x="3205" y="3266"/>
                  </a:cubicBezTo>
                  <a:cubicBezTo>
                    <a:pt x="3201" y="3261"/>
                    <a:pt x="3196" y="3257"/>
                    <a:pt x="3192" y="3252"/>
                  </a:cubicBezTo>
                  <a:cubicBezTo>
                    <a:pt x="3189" y="3255"/>
                    <a:pt x="3186" y="3258"/>
                    <a:pt x="3182" y="3261"/>
                  </a:cubicBezTo>
                  <a:cubicBezTo>
                    <a:pt x="3187" y="3266"/>
                    <a:pt x="3191" y="3271"/>
                    <a:pt x="3195" y="3276"/>
                  </a:cubicBezTo>
                  <a:close/>
                  <a:moveTo>
                    <a:pt x="589" y="1039"/>
                  </a:moveTo>
                  <a:cubicBezTo>
                    <a:pt x="588" y="1037"/>
                    <a:pt x="586" y="1035"/>
                    <a:pt x="584" y="1032"/>
                  </a:cubicBezTo>
                  <a:cubicBezTo>
                    <a:pt x="580" y="1036"/>
                    <a:pt x="576" y="1040"/>
                    <a:pt x="572" y="1044"/>
                  </a:cubicBezTo>
                  <a:cubicBezTo>
                    <a:pt x="573" y="1045"/>
                    <a:pt x="574" y="1047"/>
                    <a:pt x="576" y="1048"/>
                  </a:cubicBezTo>
                  <a:cubicBezTo>
                    <a:pt x="580" y="1045"/>
                    <a:pt x="585" y="1042"/>
                    <a:pt x="589" y="1039"/>
                  </a:cubicBezTo>
                  <a:close/>
                  <a:moveTo>
                    <a:pt x="3514" y="3354"/>
                  </a:moveTo>
                  <a:cubicBezTo>
                    <a:pt x="3510" y="3351"/>
                    <a:pt x="3507" y="3349"/>
                    <a:pt x="3504" y="3346"/>
                  </a:cubicBezTo>
                  <a:cubicBezTo>
                    <a:pt x="3503" y="3349"/>
                    <a:pt x="3499" y="3353"/>
                    <a:pt x="3499" y="3355"/>
                  </a:cubicBezTo>
                  <a:cubicBezTo>
                    <a:pt x="3500" y="3358"/>
                    <a:pt x="3504" y="3361"/>
                    <a:pt x="3507" y="3361"/>
                  </a:cubicBezTo>
                  <a:cubicBezTo>
                    <a:pt x="3509" y="3362"/>
                    <a:pt x="3511" y="3357"/>
                    <a:pt x="3514" y="3354"/>
                  </a:cubicBezTo>
                  <a:close/>
                  <a:moveTo>
                    <a:pt x="3694" y="3374"/>
                  </a:moveTo>
                  <a:cubicBezTo>
                    <a:pt x="3695" y="3376"/>
                    <a:pt x="3696" y="3378"/>
                    <a:pt x="3697" y="3380"/>
                  </a:cubicBezTo>
                  <a:cubicBezTo>
                    <a:pt x="3703" y="3377"/>
                    <a:pt x="3710" y="3374"/>
                    <a:pt x="3716" y="3370"/>
                  </a:cubicBezTo>
                  <a:cubicBezTo>
                    <a:pt x="3715" y="3368"/>
                    <a:pt x="3714" y="3366"/>
                    <a:pt x="3713" y="3364"/>
                  </a:cubicBezTo>
                  <a:cubicBezTo>
                    <a:pt x="3707" y="3367"/>
                    <a:pt x="3700" y="3371"/>
                    <a:pt x="3694" y="3374"/>
                  </a:cubicBezTo>
                  <a:close/>
                  <a:moveTo>
                    <a:pt x="2893" y="1012"/>
                  </a:moveTo>
                  <a:cubicBezTo>
                    <a:pt x="2874" y="1000"/>
                    <a:pt x="2869" y="1006"/>
                    <a:pt x="2863" y="1025"/>
                  </a:cubicBezTo>
                  <a:cubicBezTo>
                    <a:pt x="2875" y="1020"/>
                    <a:pt x="2882" y="1017"/>
                    <a:pt x="2893" y="1012"/>
                  </a:cubicBezTo>
                  <a:close/>
                  <a:moveTo>
                    <a:pt x="1217" y="812"/>
                  </a:moveTo>
                  <a:cubicBezTo>
                    <a:pt x="1214" y="810"/>
                    <a:pt x="1212" y="808"/>
                    <a:pt x="1209" y="806"/>
                  </a:cubicBezTo>
                  <a:cubicBezTo>
                    <a:pt x="1205" y="812"/>
                    <a:pt x="1202" y="817"/>
                    <a:pt x="1199" y="823"/>
                  </a:cubicBezTo>
                  <a:cubicBezTo>
                    <a:pt x="1200" y="824"/>
                    <a:pt x="1202" y="825"/>
                    <a:pt x="1204" y="827"/>
                  </a:cubicBezTo>
                  <a:cubicBezTo>
                    <a:pt x="1208" y="822"/>
                    <a:pt x="1213" y="817"/>
                    <a:pt x="1217" y="812"/>
                  </a:cubicBezTo>
                  <a:close/>
                  <a:moveTo>
                    <a:pt x="1662" y="646"/>
                  </a:moveTo>
                  <a:cubicBezTo>
                    <a:pt x="1664" y="648"/>
                    <a:pt x="1666" y="649"/>
                    <a:pt x="1668" y="651"/>
                  </a:cubicBezTo>
                  <a:cubicBezTo>
                    <a:pt x="1672" y="646"/>
                    <a:pt x="1675" y="641"/>
                    <a:pt x="1679" y="636"/>
                  </a:cubicBezTo>
                  <a:cubicBezTo>
                    <a:pt x="1677" y="635"/>
                    <a:pt x="1676" y="634"/>
                    <a:pt x="1674" y="632"/>
                  </a:cubicBezTo>
                  <a:cubicBezTo>
                    <a:pt x="1670" y="637"/>
                    <a:pt x="1666" y="641"/>
                    <a:pt x="1662" y="646"/>
                  </a:cubicBezTo>
                  <a:close/>
                  <a:moveTo>
                    <a:pt x="2154" y="588"/>
                  </a:moveTo>
                  <a:cubicBezTo>
                    <a:pt x="2156" y="586"/>
                    <a:pt x="2158" y="585"/>
                    <a:pt x="2160" y="583"/>
                  </a:cubicBezTo>
                  <a:cubicBezTo>
                    <a:pt x="2157" y="577"/>
                    <a:pt x="2153" y="571"/>
                    <a:pt x="2150" y="565"/>
                  </a:cubicBezTo>
                  <a:cubicBezTo>
                    <a:pt x="2148" y="566"/>
                    <a:pt x="2146" y="567"/>
                    <a:pt x="2144" y="569"/>
                  </a:cubicBezTo>
                  <a:cubicBezTo>
                    <a:pt x="2147" y="575"/>
                    <a:pt x="2150" y="581"/>
                    <a:pt x="2154" y="588"/>
                  </a:cubicBezTo>
                  <a:close/>
                  <a:moveTo>
                    <a:pt x="2906" y="3866"/>
                  </a:moveTo>
                  <a:cubicBezTo>
                    <a:pt x="2899" y="3863"/>
                    <a:pt x="2895" y="3860"/>
                    <a:pt x="2891" y="3860"/>
                  </a:cubicBezTo>
                  <a:cubicBezTo>
                    <a:pt x="2889" y="3860"/>
                    <a:pt x="2887" y="3865"/>
                    <a:pt x="2885" y="3868"/>
                  </a:cubicBezTo>
                  <a:cubicBezTo>
                    <a:pt x="2889" y="3870"/>
                    <a:pt x="2892" y="3873"/>
                    <a:pt x="2897" y="3874"/>
                  </a:cubicBezTo>
                  <a:cubicBezTo>
                    <a:pt x="2898" y="3874"/>
                    <a:pt x="2901" y="3870"/>
                    <a:pt x="2906" y="3866"/>
                  </a:cubicBezTo>
                  <a:close/>
                  <a:moveTo>
                    <a:pt x="1558" y="3901"/>
                  </a:moveTo>
                  <a:cubicBezTo>
                    <a:pt x="1560" y="3901"/>
                    <a:pt x="1562" y="3902"/>
                    <a:pt x="1565" y="3903"/>
                  </a:cubicBezTo>
                  <a:cubicBezTo>
                    <a:pt x="1567" y="3897"/>
                    <a:pt x="1569" y="3891"/>
                    <a:pt x="1572" y="3885"/>
                  </a:cubicBezTo>
                  <a:cubicBezTo>
                    <a:pt x="1568" y="3884"/>
                    <a:pt x="1565" y="3883"/>
                    <a:pt x="1561" y="3882"/>
                  </a:cubicBezTo>
                  <a:cubicBezTo>
                    <a:pt x="1560" y="3888"/>
                    <a:pt x="1559" y="3895"/>
                    <a:pt x="1558" y="3901"/>
                  </a:cubicBezTo>
                  <a:close/>
                  <a:moveTo>
                    <a:pt x="332" y="2449"/>
                  </a:moveTo>
                  <a:cubicBezTo>
                    <a:pt x="330" y="2450"/>
                    <a:pt x="328" y="2450"/>
                    <a:pt x="326" y="2451"/>
                  </a:cubicBezTo>
                  <a:cubicBezTo>
                    <a:pt x="327" y="2457"/>
                    <a:pt x="328" y="2462"/>
                    <a:pt x="330" y="2468"/>
                  </a:cubicBezTo>
                  <a:cubicBezTo>
                    <a:pt x="332" y="2468"/>
                    <a:pt x="334" y="2467"/>
                    <a:pt x="337" y="2466"/>
                  </a:cubicBezTo>
                  <a:cubicBezTo>
                    <a:pt x="335" y="2461"/>
                    <a:pt x="334" y="2455"/>
                    <a:pt x="332" y="2449"/>
                  </a:cubicBezTo>
                  <a:close/>
                  <a:moveTo>
                    <a:pt x="3201" y="2450"/>
                  </a:moveTo>
                  <a:cubicBezTo>
                    <a:pt x="3201" y="2447"/>
                    <a:pt x="3202" y="2445"/>
                    <a:pt x="3202" y="2442"/>
                  </a:cubicBezTo>
                  <a:cubicBezTo>
                    <a:pt x="3196" y="2441"/>
                    <a:pt x="3190" y="2441"/>
                    <a:pt x="3185" y="2440"/>
                  </a:cubicBezTo>
                  <a:cubicBezTo>
                    <a:pt x="3185" y="2442"/>
                    <a:pt x="3184" y="2447"/>
                    <a:pt x="3184" y="2447"/>
                  </a:cubicBezTo>
                  <a:cubicBezTo>
                    <a:pt x="3190" y="2448"/>
                    <a:pt x="3196" y="2449"/>
                    <a:pt x="3201" y="2450"/>
                  </a:cubicBezTo>
                  <a:close/>
                  <a:moveTo>
                    <a:pt x="3291" y="2052"/>
                  </a:moveTo>
                  <a:cubicBezTo>
                    <a:pt x="3292" y="2055"/>
                    <a:pt x="3294" y="2058"/>
                    <a:pt x="3296" y="2061"/>
                  </a:cubicBezTo>
                  <a:cubicBezTo>
                    <a:pt x="3300" y="2057"/>
                    <a:pt x="3305" y="2054"/>
                    <a:pt x="3309" y="2051"/>
                  </a:cubicBezTo>
                  <a:cubicBezTo>
                    <a:pt x="3308" y="2049"/>
                    <a:pt x="3306" y="2046"/>
                    <a:pt x="3305" y="2046"/>
                  </a:cubicBezTo>
                  <a:cubicBezTo>
                    <a:pt x="3300" y="2048"/>
                    <a:pt x="3296" y="2050"/>
                    <a:pt x="3291" y="2052"/>
                  </a:cubicBezTo>
                  <a:close/>
                  <a:moveTo>
                    <a:pt x="2381" y="1927"/>
                  </a:moveTo>
                  <a:cubicBezTo>
                    <a:pt x="2380" y="1931"/>
                    <a:pt x="2378" y="1934"/>
                    <a:pt x="2377" y="1937"/>
                  </a:cubicBezTo>
                  <a:cubicBezTo>
                    <a:pt x="2379" y="1937"/>
                    <a:pt x="2383" y="1939"/>
                    <a:pt x="2383" y="1939"/>
                  </a:cubicBezTo>
                  <a:cubicBezTo>
                    <a:pt x="2386" y="1936"/>
                    <a:pt x="2387" y="1933"/>
                    <a:pt x="2388" y="1930"/>
                  </a:cubicBezTo>
                  <a:cubicBezTo>
                    <a:pt x="2386" y="1929"/>
                    <a:pt x="2384" y="1929"/>
                    <a:pt x="2381" y="1927"/>
                  </a:cubicBezTo>
                  <a:close/>
                  <a:moveTo>
                    <a:pt x="2680" y="2349"/>
                  </a:moveTo>
                  <a:cubicBezTo>
                    <a:pt x="2685" y="2341"/>
                    <a:pt x="2689" y="2338"/>
                    <a:pt x="2689" y="2334"/>
                  </a:cubicBezTo>
                  <a:cubicBezTo>
                    <a:pt x="2690" y="2331"/>
                    <a:pt x="2686" y="2328"/>
                    <a:pt x="2685" y="2325"/>
                  </a:cubicBezTo>
                  <a:cubicBezTo>
                    <a:pt x="2681" y="2327"/>
                    <a:pt x="2675" y="2329"/>
                    <a:pt x="2674" y="2332"/>
                  </a:cubicBezTo>
                  <a:cubicBezTo>
                    <a:pt x="2673" y="2335"/>
                    <a:pt x="2676" y="2340"/>
                    <a:pt x="2680" y="2349"/>
                  </a:cubicBezTo>
                  <a:close/>
                  <a:moveTo>
                    <a:pt x="2486" y="378"/>
                  </a:moveTo>
                  <a:cubicBezTo>
                    <a:pt x="2484" y="381"/>
                    <a:pt x="2482" y="384"/>
                    <a:pt x="2480" y="387"/>
                  </a:cubicBezTo>
                  <a:cubicBezTo>
                    <a:pt x="2487" y="390"/>
                    <a:pt x="2493" y="394"/>
                    <a:pt x="2499" y="397"/>
                  </a:cubicBezTo>
                  <a:cubicBezTo>
                    <a:pt x="2500" y="395"/>
                    <a:pt x="2501" y="394"/>
                    <a:pt x="2502" y="392"/>
                  </a:cubicBezTo>
                  <a:cubicBezTo>
                    <a:pt x="2497" y="387"/>
                    <a:pt x="2492" y="383"/>
                    <a:pt x="2486" y="378"/>
                  </a:cubicBezTo>
                  <a:close/>
                  <a:moveTo>
                    <a:pt x="2053" y="2210"/>
                  </a:moveTo>
                  <a:cubicBezTo>
                    <a:pt x="2050" y="2214"/>
                    <a:pt x="2048" y="2216"/>
                    <a:pt x="2045" y="2219"/>
                  </a:cubicBezTo>
                  <a:cubicBezTo>
                    <a:pt x="2047" y="2220"/>
                    <a:pt x="2049" y="2223"/>
                    <a:pt x="2051" y="2223"/>
                  </a:cubicBezTo>
                  <a:cubicBezTo>
                    <a:pt x="2054" y="2222"/>
                    <a:pt x="2057" y="2220"/>
                    <a:pt x="2060" y="2218"/>
                  </a:cubicBezTo>
                  <a:cubicBezTo>
                    <a:pt x="2058" y="2216"/>
                    <a:pt x="2056" y="2213"/>
                    <a:pt x="2053" y="2210"/>
                  </a:cubicBezTo>
                  <a:close/>
                  <a:moveTo>
                    <a:pt x="3309" y="2441"/>
                  </a:moveTo>
                  <a:cubicBezTo>
                    <a:pt x="3309" y="2444"/>
                    <a:pt x="3309" y="2448"/>
                    <a:pt x="3309" y="2451"/>
                  </a:cubicBezTo>
                  <a:cubicBezTo>
                    <a:pt x="3316" y="2451"/>
                    <a:pt x="3323" y="2451"/>
                    <a:pt x="3330" y="2451"/>
                  </a:cubicBezTo>
                  <a:cubicBezTo>
                    <a:pt x="3330" y="2448"/>
                    <a:pt x="3330" y="2444"/>
                    <a:pt x="3329" y="2444"/>
                  </a:cubicBezTo>
                  <a:cubicBezTo>
                    <a:pt x="3323" y="2442"/>
                    <a:pt x="3316" y="2442"/>
                    <a:pt x="3309" y="2441"/>
                  </a:cubicBezTo>
                  <a:close/>
                  <a:moveTo>
                    <a:pt x="1938" y="2207"/>
                  </a:moveTo>
                  <a:cubicBezTo>
                    <a:pt x="1937" y="2212"/>
                    <a:pt x="1935" y="2215"/>
                    <a:pt x="1935" y="2218"/>
                  </a:cubicBezTo>
                  <a:cubicBezTo>
                    <a:pt x="1935" y="2220"/>
                    <a:pt x="1940" y="2223"/>
                    <a:pt x="1940" y="2223"/>
                  </a:cubicBezTo>
                  <a:cubicBezTo>
                    <a:pt x="1943" y="2221"/>
                    <a:pt x="1947" y="2218"/>
                    <a:pt x="1946" y="2216"/>
                  </a:cubicBezTo>
                  <a:cubicBezTo>
                    <a:pt x="1946" y="2213"/>
                    <a:pt x="1942" y="2211"/>
                    <a:pt x="1938" y="2207"/>
                  </a:cubicBezTo>
                  <a:close/>
                  <a:moveTo>
                    <a:pt x="2188" y="2158"/>
                  </a:moveTo>
                  <a:cubicBezTo>
                    <a:pt x="2190" y="2157"/>
                    <a:pt x="2192" y="2157"/>
                    <a:pt x="2194" y="2157"/>
                  </a:cubicBezTo>
                  <a:cubicBezTo>
                    <a:pt x="2193" y="2148"/>
                    <a:pt x="2192" y="2138"/>
                    <a:pt x="2192" y="2129"/>
                  </a:cubicBezTo>
                  <a:cubicBezTo>
                    <a:pt x="2190" y="2129"/>
                    <a:pt x="2188" y="2129"/>
                    <a:pt x="2186" y="2129"/>
                  </a:cubicBezTo>
                  <a:cubicBezTo>
                    <a:pt x="2187" y="2139"/>
                    <a:pt x="2187" y="2148"/>
                    <a:pt x="2188" y="2158"/>
                  </a:cubicBezTo>
                  <a:close/>
                  <a:moveTo>
                    <a:pt x="339" y="1469"/>
                  </a:moveTo>
                  <a:cubicBezTo>
                    <a:pt x="337" y="1473"/>
                    <a:pt x="335" y="1476"/>
                    <a:pt x="334" y="1479"/>
                  </a:cubicBezTo>
                  <a:cubicBezTo>
                    <a:pt x="337" y="1480"/>
                    <a:pt x="340" y="1483"/>
                    <a:pt x="344" y="1483"/>
                  </a:cubicBezTo>
                  <a:cubicBezTo>
                    <a:pt x="346" y="1482"/>
                    <a:pt x="347" y="1478"/>
                    <a:pt x="349" y="1476"/>
                  </a:cubicBezTo>
                  <a:cubicBezTo>
                    <a:pt x="346" y="1474"/>
                    <a:pt x="343" y="1472"/>
                    <a:pt x="339" y="1469"/>
                  </a:cubicBezTo>
                  <a:close/>
                  <a:moveTo>
                    <a:pt x="2941" y="4197"/>
                  </a:moveTo>
                  <a:cubicBezTo>
                    <a:pt x="2938" y="4194"/>
                    <a:pt x="2935" y="4190"/>
                    <a:pt x="2932" y="4190"/>
                  </a:cubicBezTo>
                  <a:cubicBezTo>
                    <a:pt x="2930" y="4190"/>
                    <a:pt x="2926" y="4194"/>
                    <a:pt x="2926" y="4197"/>
                  </a:cubicBezTo>
                  <a:cubicBezTo>
                    <a:pt x="2926" y="4199"/>
                    <a:pt x="2930" y="4203"/>
                    <a:pt x="2933" y="4204"/>
                  </a:cubicBezTo>
                  <a:cubicBezTo>
                    <a:pt x="2935" y="4204"/>
                    <a:pt x="2938" y="4200"/>
                    <a:pt x="2941" y="4197"/>
                  </a:cubicBezTo>
                  <a:close/>
                  <a:moveTo>
                    <a:pt x="2834" y="4228"/>
                  </a:moveTo>
                  <a:cubicBezTo>
                    <a:pt x="2832" y="4230"/>
                    <a:pt x="2830" y="4232"/>
                    <a:pt x="2828" y="4233"/>
                  </a:cubicBezTo>
                  <a:cubicBezTo>
                    <a:pt x="2829" y="4236"/>
                    <a:pt x="2830" y="4240"/>
                    <a:pt x="2832" y="4242"/>
                  </a:cubicBezTo>
                  <a:cubicBezTo>
                    <a:pt x="2835" y="4245"/>
                    <a:pt x="2839" y="4246"/>
                    <a:pt x="2842" y="4248"/>
                  </a:cubicBezTo>
                  <a:cubicBezTo>
                    <a:pt x="2843" y="4246"/>
                    <a:pt x="2844" y="4245"/>
                    <a:pt x="2845" y="4243"/>
                  </a:cubicBezTo>
                  <a:cubicBezTo>
                    <a:pt x="2841" y="4238"/>
                    <a:pt x="2838" y="4233"/>
                    <a:pt x="2834" y="4228"/>
                  </a:cubicBezTo>
                  <a:close/>
                  <a:moveTo>
                    <a:pt x="2783" y="4251"/>
                  </a:moveTo>
                  <a:cubicBezTo>
                    <a:pt x="2778" y="4255"/>
                    <a:pt x="2775" y="4257"/>
                    <a:pt x="2774" y="4260"/>
                  </a:cubicBezTo>
                  <a:cubicBezTo>
                    <a:pt x="2773" y="4262"/>
                    <a:pt x="2775" y="4266"/>
                    <a:pt x="2776" y="4269"/>
                  </a:cubicBezTo>
                  <a:cubicBezTo>
                    <a:pt x="2779" y="4267"/>
                    <a:pt x="2784" y="4265"/>
                    <a:pt x="2785" y="4262"/>
                  </a:cubicBezTo>
                  <a:cubicBezTo>
                    <a:pt x="2786" y="4260"/>
                    <a:pt x="2784" y="4257"/>
                    <a:pt x="2783" y="4251"/>
                  </a:cubicBezTo>
                  <a:close/>
                  <a:moveTo>
                    <a:pt x="2795" y="4298"/>
                  </a:moveTo>
                  <a:cubicBezTo>
                    <a:pt x="2793" y="4301"/>
                    <a:pt x="2791" y="4304"/>
                    <a:pt x="2791" y="4305"/>
                  </a:cubicBezTo>
                  <a:cubicBezTo>
                    <a:pt x="2793" y="4308"/>
                    <a:pt x="2796" y="4310"/>
                    <a:pt x="2799" y="4312"/>
                  </a:cubicBezTo>
                  <a:cubicBezTo>
                    <a:pt x="2800" y="4310"/>
                    <a:pt x="2804" y="4307"/>
                    <a:pt x="2803" y="4306"/>
                  </a:cubicBezTo>
                  <a:cubicBezTo>
                    <a:pt x="2801" y="4303"/>
                    <a:pt x="2798" y="4301"/>
                    <a:pt x="2795" y="4298"/>
                  </a:cubicBezTo>
                  <a:close/>
                  <a:moveTo>
                    <a:pt x="308" y="1457"/>
                  </a:moveTo>
                  <a:cubicBezTo>
                    <a:pt x="306" y="1456"/>
                    <a:pt x="303" y="1456"/>
                    <a:pt x="301" y="1455"/>
                  </a:cubicBezTo>
                  <a:cubicBezTo>
                    <a:pt x="299" y="1461"/>
                    <a:pt x="297" y="1468"/>
                    <a:pt x="296" y="1474"/>
                  </a:cubicBezTo>
                  <a:cubicBezTo>
                    <a:pt x="298" y="1474"/>
                    <a:pt x="300" y="1475"/>
                    <a:pt x="302" y="1476"/>
                  </a:cubicBezTo>
                  <a:cubicBezTo>
                    <a:pt x="304" y="1469"/>
                    <a:pt x="306" y="1463"/>
                    <a:pt x="308" y="1457"/>
                  </a:cubicBezTo>
                  <a:close/>
                  <a:moveTo>
                    <a:pt x="2338" y="2820"/>
                  </a:moveTo>
                  <a:cubicBezTo>
                    <a:pt x="2338" y="2818"/>
                    <a:pt x="2337" y="2816"/>
                    <a:pt x="2336" y="2814"/>
                  </a:cubicBezTo>
                  <a:cubicBezTo>
                    <a:pt x="2336" y="2814"/>
                    <a:pt x="2333" y="2814"/>
                    <a:pt x="2333" y="2814"/>
                  </a:cubicBezTo>
                  <a:cubicBezTo>
                    <a:pt x="2332" y="2816"/>
                    <a:pt x="2332" y="2818"/>
                    <a:pt x="2332" y="2820"/>
                  </a:cubicBezTo>
                  <a:cubicBezTo>
                    <a:pt x="2334" y="2820"/>
                    <a:pt x="2336" y="2820"/>
                    <a:pt x="2338" y="2820"/>
                  </a:cubicBezTo>
                  <a:close/>
                  <a:moveTo>
                    <a:pt x="728" y="3690"/>
                  </a:moveTo>
                  <a:cubicBezTo>
                    <a:pt x="731" y="3685"/>
                    <a:pt x="734" y="3683"/>
                    <a:pt x="735" y="3680"/>
                  </a:cubicBezTo>
                  <a:cubicBezTo>
                    <a:pt x="735" y="3679"/>
                    <a:pt x="732" y="3674"/>
                    <a:pt x="731" y="3675"/>
                  </a:cubicBezTo>
                  <a:cubicBezTo>
                    <a:pt x="728" y="3675"/>
                    <a:pt x="724" y="3677"/>
                    <a:pt x="723" y="3679"/>
                  </a:cubicBezTo>
                  <a:cubicBezTo>
                    <a:pt x="722" y="3681"/>
                    <a:pt x="725" y="3685"/>
                    <a:pt x="728" y="3690"/>
                  </a:cubicBezTo>
                  <a:close/>
                  <a:moveTo>
                    <a:pt x="935" y="2519"/>
                  </a:moveTo>
                  <a:cubicBezTo>
                    <a:pt x="933" y="2516"/>
                    <a:pt x="931" y="2513"/>
                    <a:pt x="929" y="2510"/>
                  </a:cubicBezTo>
                  <a:cubicBezTo>
                    <a:pt x="927" y="2512"/>
                    <a:pt x="924" y="2514"/>
                    <a:pt x="925" y="2515"/>
                  </a:cubicBezTo>
                  <a:cubicBezTo>
                    <a:pt x="925" y="2518"/>
                    <a:pt x="927" y="2521"/>
                    <a:pt x="929" y="2524"/>
                  </a:cubicBezTo>
                  <a:cubicBezTo>
                    <a:pt x="931" y="2523"/>
                    <a:pt x="932" y="2521"/>
                    <a:pt x="935" y="2519"/>
                  </a:cubicBezTo>
                  <a:close/>
                  <a:moveTo>
                    <a:pt x="1451" y="3719"/>
                  </a:moveTo>
                  <a:cubicBezTo>
                    <a:pt x="1453" y="3721"/>
                    <a:pt x="1455" y="3722"/>
                    <a:pt x="1457" y="3724"/>
                  </a:cubicBezTo>
                  <a:cubicBezTo>
                    <a:pt x="1462" y="3719"/>
                    <a:pt x="1466" y="3715"/>
                    <a:pt x="1470" y="3710"/>
                  </a:cubicBezTo>
                  <a:cubicBezTo>
                    <a:pt x="1468" y="3708"/>
                    <a:pt x="1466" y="3707"/>
                    <a:pt x="1464" y="3705"/>
                  </a:cubicBezTo>
                  <a:cubicBezTo>
                    <a:pt x="1460" y="3710"/>
                    <a:pt x="1456" y="3714"/>
                    <a:pt x="1451" y="3719"/>
                  </a:cubicBezTo>
                  <a:close/>
                  <a:moveTo>
                    <a:pt x="3162" y="3237"/>
                  </a:moveTo>
                  <a:cubicBezTo>
                    <a:pt x="3164" y="3235"/>
                    <a:pt x="3165" y="3233"/>
                    <a:pt x="3166" y="3232"/>
                  </a:cubicBezTo>
                  <a:cubicBezTo>
                    <a:pt x="3162" y="3229"/>
                    <a:pt x="3159" y="3226"/>
                    <a:pt x="3155" y="3223"/>
                  </a:cubicBezTo>
                  <a:cubicBezTo>
                    <a:pt x="3154" y="3225"/>
                    <a:pt x="3153" y="3226"/>
                    <a:pt x="3151" y="3228"/>
                  </a:cubicBezTo>
                  <a:cubicBezTo>
                    <a:pt x="3155" y="3231"/>
                    <a:pt x="3159" y="3234"/>
                    <a:pt x="3162" y="3237"/>
                  </a:cubicBezTo>
                  <a:close/>
                  <a:moveTo>
                    <a:pt x="497" y="1003"/>
                  </a:moveTo>
                  <a:cubicBezTo>
                    <a:pt x="498" y="1000"/>
                    <a:pt x="500" y="998"/>
                    <a:pt x="501" y="996"/>
                  </a:cubicBezTo>
                  <a:cubicBezTo>
                    <a:pt x="497" y="993"/>
                    <a:pt x="493" y="991"/>
                    <a:pt x="489" y="988"/>
                  </a:cubicBezTo>
                  <a:cubicBezTo>
                    <a:pt x="487" y="990"/>
                    <a:pt x="486" y="991"/>
                    <a:pt x="485" y="993"/>
                  </a:cubicBezTo>
                  <a:cubicBezTo>
                    <a:pt x="489" y="996"/>
                    <a:pt x="493" y="999"/>
                    <a:pt x="497" y="1003"/>
                  </a:cubicBezTo>
                  <a:close/>
                  <a:moveTo>
                    <a:pt x="142" y="2306"/>
                  </a:moveTo>
                  <a:cubicBezTo>
                    <a:pt x="140" y="2311"/>
                    <a:pt x="138" y="2314"/>
                    <a:pt x="137" y="2317"/>
                  </a:cubicBezTo>
                  <a:cubicBezTo>
                    <a:pt x="137" y="2317"/>
                    <a:pt x="142" y="2320"/>
                    <a:pt x="143" y="2320"/>
                  </a:cubicBezTo>
                  <a:cubicBezTo>
                    <a:pt x="146" y="2319"/>
                    <a:pt x="148" y="2316"/>
                    <a:pt x="150" y="2314"/>
                  </a:cubicBezTo>
                  <a:cubicBezTo>
                    <a:pt x="148" y="2311"/>
                    <a:pt x="145" y="2309"/>
                    <a:pt x="142" y="2306"/>
                  </a:cubicBezTo>
                  <a:close/>
                  <a:moveTo>
                    <a:pt x="2199" y="1780"/>
                  </a:moveTo>
                  <a:cubicBezTo>
                    <a:pt x="2197" y="1779"/>
                    <a:pt x="2195" y="1779"/>
                    <a:pt x="2193" y="1778"/>
                  </a:cubicBezTo>
                  <a:cubicBezTo>
                    <a:pt x="2191" y="1785"/>
                    <a:pt x="2190" y="1791"/>
                    <a:pt x="2189" y="1797"/>
                  </a:cubicBezTo>
                  <a:cubicBezTo>
                    <a:pt x="2190" y="1798"/>
                    <a:pt x="2192" y="1798"/>
                    <a:pt x="2194" y="1799"/>
                  </a:cubicBezTo>
                  <a:cubicBezTo>
                    <a:pt x="2195" y="1792"/>
                    <a:pt x="2197" y="1786"/>
                    <a:pt x="2199" y="1780"/>
                  </a:cubicBezTo>
                  <a:close/>
                  <a:moveTo>
                    <a:pt x="2678" y="2517"/>
                  </a:moveTo>
                  <a:cubicBezTo>
                    <a:pt x="2675" y="2515"/>
                    <a:pt x="2672" y="2513"/>
                    <a:pt x="2672" y="2513"/>
                  </a:cubicBezTo>
                  <a:cubicBezTo>
                    <a:pt x="2669" y="2515"/>
                    <a:pt x="2667" y="2518"/>
                    <a:pt x="2665" y="2521"/>
                  </a:cubicBezTo>
                  <a:cubicBezTo>
                    <a:pt x="2667" y="2522"/>
                    <a:pt x="2670" y="2525"/>
                    <a:pt x="2671" y="2524"/>
                  </a:cubicBezTo>
                  <a:cubicBezTo>
                    <a:pt x="2674" y="2522"/>
                    <a:pt x="2676" y="2519"/>
                    <a:pt x="2678" y="2517"/>
                  </a:cubicBezTo>
                  <a:close/>
                  <a:moveTo>
                    <a:pt x="1306" y="968"/>
                  </a:moveTo>
                  <a:cubicBezTo>
                    <a:pt x="1305" y="970"/>
                    <a:pt x="1304" y="972"/>
                    <a:pt x="1303" y="974"/>
                  </a:cubicBezTo>
                  <a:cubicBezTo>
                    <a:pt x="1310" y="976"/>
                    <a:pt x="1316" y="979"/>
                    <a:pt x="1322" y="981"/>
                  </a:cubicBezTo>
                  <a:cubicBezTo>
                    <a:pt x="1322" y="979"/>
                    <a:pt x="1323" y="977"/>
                    <a:pt x="1324" y="976"/>
                  </a:cubicBezTo>
                  <a:cubicBezTo>
                    <a:pt x="1318" y="973"/>
                    <a:pt x="1312" y="970"/>
                    <a:pt x="1306" y="968"/>
                  </a:cubicBezTo>
                  <a:close/>
                  <a:moveTo>
                    <a:pt x="3182" y="2655"/>
                  </a:moveTo>
                  <a:cubicBezTo>
                    <a:pt x="3179" y="2651"/>
                    <a:pt x="3177" y="2649"/>
                    <a:pt x="3174" y="2646"/>
                  </a:cubicBezTo>
                  <a:cubicBezTo>
                    <a:pt x="3172" y="2649"/>
                    <a:pt x="3170" y="2652"/>
                    <a:pt x="3169" y="2655"/>
                  </a:cubicBezTo>
                  <a:cubicBezTo>
                    <a:pt x="3168" y="2656"/>
                    <a:pt x="3171" y="2659"/>
                    <a:pt x="3172" y="2661"/>
                  </a:cubicBezTo>
                  <a:cubicBezTo>
                    <a:pt x="3175" y="2659"/>
                    <a:pt x="3178" y="2658"/>
                    <a:pt x="3182" y="2655"/>
                  </a:cubicBezTo>
                  <a:close/>
                  <a:moveTo>
                    <a:pt x="1273" y="929"/>
                  </a:moveTo>
                  <a:cubicBezTo>
                    <a:pt x="1271" y="930"/>
                    <a:pt x="1269" y="930"/>
                    <a:pt x="1268" y="931"/>
                  </a:cubicBezTo>
                  <a:cubicBezTo>
                    <a:pt x="1269" y="937"/>
                    <a:pt x="1271" y="943"/>
                    <a:pt x="1273" y="949"/>
                  </a:cubicBezTo>
                  <a:cubicBezTo>
                    <a:pt x="1275" y="949"/>
                    <a:pt x="1277" y="948"/>
                    <a:pt x="1280" y="947"/>
                  </a:cubicBezTo>
                  <a:cubicBezTo>
                    <a:pt x="1277" y="941"/>
                    <a:pt x="1275" y="935"/>
                    <a:pt x="1273" y="929"/>
                  </a:cubicBezTo>
                  <a:close/>
                  <a:moveTo>
                    <a:pt x="3661" y="2402"/>
                  </a:moveTo>
                  <a:cubicBezTo>
                    <a:pt x="3661" y="2400"/>
                    <a:pt x="3661" y="2397"/>
                    <a:pt x="3661" y="2395"/>
                  </a:cubicBezTo>
                  <a:cubicBezTo>
                    <a:pt x="3657" y="2396"/>
                    <a:pt x="3652" y="2396"/>
                    <a:pt x="3647" y="2397"/>
                  </a:cubicBezTo>
                  <a:cubicBezTo>
                    <a:pt x="3647" y="2399"/>
                    <a:pt x="3647" y="2400"/>
                    <a:pt x="3647" y="2402"/>
                  </a:cubicBezTo>
                  <a:cubicBezTo>
                    <a:pt x="3652" y="2402"/>
                    <a:pt x="3657" y="2402"/>
                    <a:pt x="3661" y="2402"/>
                  </a:cubicBezTo>
                  <a:close/>
                  <a:moveTo>
                    <a:pt x="760" y="3231"/>
                  </a:moveTo>
                  <a:cubicBezTo>
                    <a:pt x="757" y="3229"/>
                    <a:pt x="754" y="3227"/>
                    <a:pt x="753" y="3227"/>
                  </a:cubicBezTo>
                  <a:cubicBezTo>
                    <a:pt x="751" y="3230"/>
                    <a:pt x="749" y="3233"/>
                    <a:pt x="748" y="3236"/>
                  </a:cubicBezTo>
                  <a:cubicBezTo>
                    <a:pt x="749" y="3237"/>
                    <a:pt x="752" y="3239"/>
                    <a:pt x="753" y="3239"/>
                  </a:cubicBezTo>
                  <a:cubicBezTo>
                    <a:pt x="756" y="3237"/>
                    <a:pt x="758" y="3234"/>
                    <a:pt x="760" y="3231"/>
                  </a:cubicBezTo>
                  <a:close/>
                  <a:moveTo>
                    <a:pt x="2540" y="3803"/>
                  </a:moveTo>
                  <a:cubicBezTo>
                    <a:pt x="2539" y="3801"/>
                    <a:pt x="2538" y="3798"/>
                    <a:pt x="2536" y="3798"/>
                  </a:cubicBezTo>
                  <a:cubicBezTo>
                    <a:pt x="2535" y="3797"/>
                    <a:pt x="2532" y="3799"/>
                    <a:pt x="2530" y="3800"/>
                  </a:cubicBezTo>
                  <a:cubicBezTo>
                    <a:pt x="2531" y="3802"/>
                    <a:pt x="2532" y="3805"/>
                    <a:pt x="2534" y="3805"/>
                  </a:cubicBezTo>
                  <a:cubicBezTo>
                    <a:pt x="2535" y="3805"/>
                    <a:pt x="2538" y="3804"/>
                    <a:pt x="2540" y="3803"/>
                  </a:cubicBezTo>
                  <a:close/>
                  <a:moveTo>
                    <a:pt x="937" y="1941"/>
                  </a:moveTo>
                  <a:cubicBezTo>
                    <a:pt x="938" y="1938"/>
                    <a:pt x="938" y="1935"/>
                    <a:pt x="938" y="1931"/>
                  </a:cubicBezTo>
                  <a:cubicBezTo>
                    <a:pt x="933" y="1932"/>
                    <a:pt x="928" y="1932"/>
                    <a:pt x="922" y="1932"/>
                  </a:cubicBezTo>
                  <a:cubicBezTo>
                    <a:pt x="922" y="1934"/>
                    <a:pt x="922" y="1936"/>
                    <a:pt x="922" y="1938"/>
                  </a:cubicBezTo>
                  <a:cubicBezTo>
                    <a:pt x="927" y="1939"/>
                    <a:pt x="932" y="1940"/>
                    <a:pt x="937" y="1941"/>
                  </a:cubicBezTo>
                  <a:close/>
                  <a:moveTo>
                    <a:pt x="1110" y="3832"/>
                  </a:moveTo>
                  <a:cubicBezTo>
                    <a:pt x="1111" y="3829"/>
                    <a:pt x="1113" y="3826"/>
                    <a:pt x="1113" y="3823"/>
                  </a:cubicBezTo>
                  <a:cubicBezTo>
                    <a:pt x="1113" y="3821"/>
                    <a:pt x="1110" y="3820"/>
                    <a:pt x="1108" y="3819"/>
                  </a:cubicBezTo>
                  <a:cubicBezTo>
                    <a:pt x="1106" y="3821"/>
                    <a:pt x="1104" y="3824"/>
                    <a:pt x="1104" y="3827"/>
                  </a:cubicBezTo>
                  <a:cubicBezTo>
                    <a:pt x="1103" y="3828"/>
                    <a:pt x="1107" y="3830"/>
                    <a:pt x="1110" y="3832"/>
                  </a:cubicBezTo>
                  <a:close/>
                  <a:moveTo>
                    <a:pt x="833" y="523"/>
                  </a:moveTo>
                  <a:cubicBezTo>
                    <a:pt x="831" y="520"/>
                    <a:pt x="830" y="517"/>
                    <a:pt x="830" y="515"/>
                  </a:cubicBezTo>
                  <a:cubicBezTo>
                    <a:pt x="827" y="517"/>
                    <a:pt x="824" y="519"/>
                    <a:pt x="822" y="522"/>
                  </a:cubicBezTo>
                  <a:cubicBezTo>
                    <a:pt x="822" y="523"/>
                    <a:pt x="824" y="526"/>
                    <a:pt x="825" y="528"/>
                  </a:cubicBezTo>
                  <a:cubicBezTo>
                    <a:pt x="827" y="527"/>
                    <a:pt x="830" y="525"/>
                    <a:pt x="833" y="523"/>
                  </a:cubicBezTo>
                  <a:close/>
                  <a:moveTo>
                    <a:pt x="2863" y="3833"/>
                  </a:moveTo>
                  <a:cubicBezTo>
                    <a:pt x="2860" y="3835"/>
                    <a:pt x="2858" y="3836"/>
                    <a:pt x="2857" y="3837"/>
                  </a:cubicBezTo>
                  <a:cubicBezTo>
                    <a:pt x="2859" y="3839"/>
                    <a:pt x="2861" y="3842"/>
                    <a:pt x="2863" y="3844"/>
                  </a:cubicBezTo>
                  <a:cubicBezTo>
                    <a:pt x="2864" y="3845"/>
                    <a:pt x="2867" y="3842"/>
                    <a:pt x="2868" y="3841"/>
                  </a:cubicBezTo>
                  <a:cubicBezTo>
                    <a:pt x="2867" y="3838"/>
                    <a:pt x="2865" y="3836"/>
                    <a:pt x="2863" y="3833"/>
                  </a:cubicBezTo>
                  <a:close/>
                  <a:moveTo>
                    <a:pt x="329" y="2588"/>
                  </a:moveTo>
                  <a:cubicBezTo>
                    <a:pt x="327" y="2588"/>
                    <a:pt x="326" y="2588"/>
                    <a:pt x="324" y="2588"/>
                  </a:cubicBezTo>
                  <a:cubicBezTo>
                    <a:pt x="324" y="2596"/>
                    <a:pt x="324" y="2604"/>
                    <a:pt x="324" y="2612"/>
                  </a:cubicBezTo>
                  <a:cubicBezTo>
                    <a:pt x="326" y="2612"/>
                    <a:pt x="327" y="2612"/>
                    <a:pt x="329" y="2612"/>
                  </a:cubicBezTo>
                  <a:cubicBezTo>
                    <a:pt x="329" y="2604"/>
                    <a:pt x="329" y="2596"/>
                    <a:pt x="329" y="2588"/>
                  </a:cubicBezTo>
                  <a:close/>
                  <a:moveTo>
                    <a:pt x="2600" y="191"/>
                  </a:moveTo>
                  <a:cubicBezTo>
                    <a:pt x="2603" y="186"/>
                    <a:pt x="2606" y="183"/>
                    <a:pt x="2606" y="180"/>
                  </a:cubicBezTo>
                  <a:cubicBezTo>
                    <a:pt x="2606" y="177"/>
                    <a:pt x="2603" y="174"/>
                    <a:pt x="2601" y="171"/>
                  </a:cubicBezTo>
                  <a:cubicBezTo>
                    <a:pt x="2598" y="175"/>
                    <a:pt x="2595" y="178"/>
                    <a:pt x="2594" y="181"/>
                  </a:cubicBezTo>
                  <a:cubicBezTo>
                    <a:pt x="2593" y="183"/>
                    <a:pt x="2597" y="187"/>
                    <a:pt x="2600" y="191"/>
                  </a:cubicBezTo>
                  <a:close/>
                  <a:moveTo>
                    <a:pt x="287" y="1829"/>
                  </a:moveTo>
                  <a:cubicBezTo>
                    <a:pt x="285" y="1831"/>
                    <a:pt x="284" y="1833"/>
                    <a:pt x="282" y="1834"/>
                  </a:cubicBezTo>
                  <a:cubicBezTo>
                    <a:pt x="284" y="1836"/>
                    <a:pt x="286" y="1838"/>
                    <a:pt x="288" y="1838"/>
                  </a:cubicBezTo>
                  <a:cubicBezTo>
                    <a:pt x="290" y="1838"/>
                    <a:pt x="291" y="1835"/>
                    <a:pt x="292" y="1833"/>
                  </a:cubicBezTo>
                  <a:cubicBezTo>
                    <a:pt x="290" y="1832"/>
                    <a:pt x="289" y="1830"/>
                    <a:pt x="287" y="1829"/>
                  </a:cubicBezTo>
                  <a:close/>
                  <a:moveTo>
                    <a:pt x="159" y="1975"/>
                  </a:moveTo>
                  <a:cubicBezTo>
                    <a:pt x="156" y="1972"/>
                    <a:pt x="153" y="1970"/>
                    <a:pt x="151" y="1968"/>
                  </a:cubicBezTo>
                  <a:cubicBezTo>
                    <a:pt x="150" y="1970"/>
                    <a:pt x="148" y="1973"/>
                    <a:pt x="149" y="1974"/>
                  </a:cubicBezTo>
                  <a:cubicBezTo>
                    <a:pt x="149" y="1976"/>
                    <a:pt x="151" y="1978"/>
                    <a:pt x="153" y="1980"/>
                  </a:cubicBezTo>
                  <a:cubicBezTo>
                    <a:pt x="155" y="1978"/>
                    <a:pt x="156" y="1977"/>
                    <a:pt x="159" y="1975"/>
                  </a:cubicBezTo>
                  <a:close/>
                  <a:moveTo>
                    <a:pt x="2966" y="3915"/>
                  </a:moveTo>
                  <a:cubicBezTo>
                    <a:pt x="2962" y="3911"/>
                    <a:pt x="2961" y="3908"/>
                    <a:pt x="2958" y="3906"/>
                  </a:cubicBezTo>
                  <a:cubicBezTo>
                    <a:pt x="2957" y="3905"/>
                    <a:pt x="2952" y="3908"/>
                    <a:pt x="2952" y="3909"/>
                  </a:cubicBezTo>
                  <a:cubicBezTo>
                    <a:pt x="2952" y="3912"/>
                    <a:pt x="2953" y="3916"/>
                    <a:pt x="2955" y="3918"/>
                  </a:cubicBezTo>
                  <a:cubicBezTo>
                    <a:pt x="2957" y="3919"/>
                    <a:pt x="2961" y="3916"/>
                    <a:pt x="2966" y="3915"/>
                  </a:cubicBezTo>
                  <a:close/>
                  <a:moveTo>
                    <a:pt x="502" y="1218"/>
                  </a:moveTo>
                  <a:cubicBezTo>
                    <a:pt x="501" y="1215"/>
                    <a:pt x="500" y="1213"/>
                    <a:pt x="499" y="1211"/>
                  </a:cubicBezTo>
                  <a:cubicBezTo>
                    <a:pt x="497" y="1212"/>
                    <a:pt x="493" y="1214"/>
                    <a:pt x="493" y="1214"/>
                  </a:cubicBezTo>
                  <a:cubicBezTo>
                    <a:pt x="494" y="1217"/>
                    <a:pt x="496" y="1219"/>
                    <a:pt x="497" y="1222"/>
                  </a:cubicBezTo>
                  <a:cubicBezTo>
                    <a:pt x="499" y="1220"/>
                    <a:pt x="500" y="1219"/>
                    <a:pt x="502" y="1218"/>
                  </a:cubicBezTo>
                  <a:close/>
                  <a:moveTo>
                    <a:pt x="1497" y="1871"/>
                  </a:moveTo>
                  <a:cubicBezTo>
                    <a:pt x="1500" y="1871"/>
                    <a:pt x="1503" y="1871"/>
                    <a:pt x="1506" y="1871"/>
                  </a:cubicBezTo>
                  <a:cubicBezTo>
                    <a:pt x="1505" y="1865"/>
                    <a:pt x="1504" y="1860"/>
                    <a:pt x="1504" y="1854"/>
                  </a:cubicBezTo>
                  <a:cubicBezTo>
                    <a:pt x="1502" y="1854"/>
                    <a:pt x="1500" y="1855"/>
                    <a:pt x="1499" y="1855"/>
                  </a:cubicBezTo>
                  <a:cubicBezTo>
                    <a:pt x="1498" y="1860"/>
                    <a:pt x="1497" y="1865"/>
                    <a:pt x="1497" y="1871"/>
                  </a:cubicBezTo>
                  <a:close/>
                  <a:moveTo>
                    <a:pt x="2173" y="3539"/>
                  </a:moveTo>
                  <a:cubicBezTo>
                    <a:pt x="2175" y="3539"/>
                    <a:pt x="2177" y="3540"/>
                    <a:pt x="2179" y="3541"/>
                  </a:cubicBezTo>
                  <a:cubicBezTo>
                    <a:pt x="2180" y="3534"/>
                    <a:pt x="2182" y="3527"/>
                    <a:pt x="2184" y="3520"/>
                  </a:cubicBezTo>
                  <a:cubicBezTo>
                    <a:pt x="2182" y="3520"/>
                    <a:pt x="2181" y="3520"/>
                    <a:pt x="2179" y="3519"/>
                  </a:cubicBezTo>
                  <a:cubicBezTo>
                    <a:pt x="2177" y="3526"/>
                    <a:pt x="2175" y="3532"/>
                    <a:pt x="2173" y="3539"/>
                  </a:cubicBezTo>
                  <a:close/>
                  <a:moveTo>
                    <a:pt x="2192" y="1730"/>
                  </a:moveTo>
                  <a:cubicBezTo>
                    <a:pt x="2190" y="1730"/>
                    <a:pt x="2188" y="1731"/>
                    <a:pt x="2186" y="1731"/>
                  </a:cubicBezTo>
                  <a:cubicBezTo>
                    <a:pt x="2187" y="1738"/>
                    <a:pt x="2187" y="1746"/>
                    <a:pt x="2188" y="1754"/>
                  </a:cubicBezTo>
                  <a:cubicBezTo>
                    <a:pt x="2190" y="1753"/>
                    <a:pt x="2193" y="1753"/>
                    <a:pt x="2195" y="1753"/>
                  </a:cubicBezTo>
                  <a:cubicBezTo>
                    <a:pt x="2194" y="1745"/>
                    <a:pt x="2193" y="1738"/>
                    <a:pt x="2192" y="1730"/>
                  </a:cubicBezTo>
                  <a:close/>
                  <a:moveTo>
                    <a:pt x="921" y="1466"/>
                  </a:moveTo>
                  <a:cubicBezTo>
                    <a:pt x="922" y="1465"/>
                    <a:pt x="924" y="1463"/>
                    <a:pt x="926" y="1462"/>
                  </a:cubicBezTo>
                  <a:cubicBezTo>
                    <a:pt x="924" y="1459"/>
                    <a:pt x="923" y="1454"/>
                    <a:pt x="920" y="1452"/>
                  </a:cubicBezTo>
                  <a:cubicBezTo>
                    <a:pt x="917" y="1449"/>
                    <a:pt x="911" y="1447"/>
                    <a:pt x="907" y="1445"/>
                  </a:cubicBezTo>
                  <a:cubicBezTo>
                    <a:pt x="906" y="1447"/>
                    <a:pt x="904" y="1449"/>
                    <a:pt x="903" y="1451"/>
                  </a:cubicBezTo>
                  <a:cubicBezTo>
                    <a:pt x="909" y="1456"/>
                    <a:pt x="915" y="1461"/>
                    <a:pt x="921" y="1466"/>
                  </a:cubicBezTo>
                  <a:close/>
                  <a:moveTo>
                    <a:pt x="542" y="2943"/>
                  </a:moveTo>
                  <a:cubicBezTo>
                    <a:pt x="539" y="2941"/>
                    <a:pt x="536" y="2939"/>
                    <a:pt x="532" y="2938"/>
                  </a:cubicBezTo>
                  <a:cubicBezTo>
                    <a:pt x="531" y="2938"/>
                    <a:pt x="528" y="2942"/>
                    <a:pt x="528" y="2943"/>
                  </a:cubicBezTo>
                  <a:cubicBezTo>
                    <a:pt x="530" y="2945"/>
                    <a:pt x="532" y="2948"/>
                    <a:pt x="534" y="2951"/>
                  </a:cubicBezTo>
                  <a:cubicBezTo>
                    <a:pt x="536" y="2949"/>
                    <a:pt x="537" y="2948"/>
                    <a:pt x="542" y="2943"/>
                  </a:cubicBezTo>
                  <a:close/>
                  <a:moveTo>
                    <a:pt x="1982" y="4056"/>
                  </a:moveTo>
                  <a:cubicBezTo>
                    <a:pt x="1982" y="4055"/>
                    <a:pt x="1982" y="4053"/>
                    <a:pt x="1982" y="4052"/>
                  </a:cubicBezTo>
                  <a:cubicBezTo>
                    <a:pt x="1975" y="4052"/>
                    <a:pt x="1968" y="4052"/>
                    <a:pt x="1960" y="4052"/>
                  </a:cubicBezTo>
                  <a:cubicBezTo>
                    <a:pt x="1960" y="4053"/>
                    <a:pt x="1960" y="4055"/>
                    <a:pt x="1960" y="4056"/>
                  </a:cubicBezTo>
                  <a:cubicBezTo>
                    <a:pt x="1968" y="4056"/>
                    <a:pt x="1975" y="4056"/>
                    <a:pt x="1982" y="4056"/>
                  </a:cubicBezTo>
                  <a:close/>
                  <a:moveTo>
                    <a:pt x="3318" y="3357"/>
                  </a:moveTo>
                  <a:cubicBezTo>
                    <a:pt x="3317" y="3359"/>
                    <a:pt x="3316" y="3360"/>
                    <a:pt x="3314" y="3362"/>
                  </a:cubicBezTo>
                  <a:cubicBezTo>
                    <a:pt x="3319" y="3366"/>
                    <a:pt x="3323" y="3369"/>
                    <a:pt x="3328" y="3373"/>
                  </a:cubicBezTo>
                  <a:cubicBezTo>
                    <a:pt x="3329" y="3371"/>
                    <a:pt x="3330" y="3370"/>
                    <a:pt x="3332" y="3368"/>
                  </a:cubicBezTo>
                  <a:cubicBezTo>
                    <a:pt x="3327" y="3364"/>
                    <a:pt x="3323" y="3361"/>
                    <a:pt x="3318" y="3357"/>
                  </a:cubicBezTo>
                  <a:close/>
                  <a:moveTo>
                    <a:pt x="809" y="1906"/>
                  </a:moveTo>
                  <a:cubicBezTo>
                    <a:pt x="811" y="1906"/>
                    <a:pt x="813" y="1907"/>
                    <a:pt x="816" y="1907"/>
                  </a:cubicBezTo>
                  <a:cubicBezTo>
                    <a:pt x="817" y="1901"/>
                    <a:pt x="818" y="1895"/>
                    <a:pt x="820" y="1889"/>
                  </a:cubicBezTo>
                  <a:cubicBezTo>
                    <a:pt x="818" y="1889"/>
                    <a:pt x="815" y="1888"/>
                    <a:pt x="813" y="1888"/>
                  </a:cubicBezTo>
                  <a:cubicBezTo>
                    <a:pt x="812" y="1894"/>
                    <a:pt x="810" y="1900"/>
                    <a:pt x="809" y="1906"/>
                  </a:cubicBezTo>
                  <a:close/>
                  <a:moveTo>
                    <a:pt x="1467" y="840"/>
                  </a:moveTo>
                  <a:cubicBezTo>
                    <a:pt x="1469" y="838"/>
                    <a:pt x="1470" y="837"/>
                    <a:pt x="1472" y="835"/>
                  </a:cubicBezTo>
                  <a:cubicBezTo>
                    <a:pt x="1471" y="833"/>
                    <a:pt x="1471" y="829"/>
                    <a:pt x="1469" y="828"/>
                  </a:cubicBezTo>
                  <a:cubicBezTo>
                    <a:pt x="1466" y="827"/>
                    <a:pt x="1461" y="827"/>
                    <a:pt x="1457" y="826"/>
                  </a:cubicBezTo>
                  <a:cubicBezTo>
                    <a:pt x="1461" y="830"/>
                    <a:pt x="1464" y="835"/>
                    <a:pt x="1467" y="840"/>
                  </a:cubicBezTo>
                  <a:close/>
                  <a:moveTo>
                    <a:pt x="636" y="821"/>
                  </a:moveTo>
                  <a:cubicBezTo>
                    <a:pt x="639" y="824"/>
                    <a:pt x="642" y="827"/>
                    <a:pt x="645" y="828"/>
                  </a:cubicBezTo>
                  <a:cubicBezTo>
                    <a:pt x="647" y="828"/>
                    <a:pt x="649" y="824"/>
                    <a:pt x="651" y="821"/>
                  </a:cubicBezTo>
                  <a:cubicBezTo>
                    <a:pt x="649" y="819"/>
                    <a:pt x="646" y="817"/>
                    <a:pt x="643" y="816"/>
                  </a:cubicBezTo>
                  <a:cubicBezTo>
                    <a:pt x="641" y="816"/>
                    <a:pt x="639" y="819"/>
                    <a:pt x="636" y="821"/>
                  </a:cubicBezTo>
                  <a:close/>
                  <a:moveTo>
                    <a:pt x="3759" y="1648"/>
                  </a:moveTo>
                  <a:cubicBezTo>
                    <a:pt x="3768" y="1655"/>
                    <a:pt x="3771" y="1657"/>
                    <a:pt x="3774" y="1659"/>
                  </a:cubicBezTo>
                  <a:cubicBezTo>
                    <a:pt x="3776" y="1657"/>
                    <a:pt x="3778" y="1654"/>
                    <a:pt x="3778" y="1653"/>
                  </a:cubicBezTo>
                  <a:cubicBezTo>
                    <a:pt x="3777" y="1649"/>
                    <a:pt x="3774" y="1645"/>
                    <a:pt x="3772" y="1644"/>
                  </a:cubicBezTo>
                  <a:cubicBezTo>
                    <a:pt x="3769" y="1643"/>
                    <a:pt x="3765" y="1646"/>
                    <a:pt x="3759" y="1648"/>
                  </a:cubicBezTo>
                  <a:close/>
                  <a:moveTo>
                    <a:pt x="2187" y="3224"/>
                  </a:moveTo>
                  <a:cubicBezTo>
                    <a:pt x="2185" y="3224"/>
                    <a:pt x="2183" y="3223"/>
                    <a:pt x="2181" y="3223"/>
                  </a:cubicBezTo>
                  <a:cubicBezTo>
                    <a:pt x="2180" y="3229"/>
                    <a:pt x="2178" y="3235"/>
                    <a:pt x="2177" y="3240"/>
                  </a:cubicBezTo>
                  <a:cubicBezTo>
                    <a:pt x="2179" y="3241"/>
                    <a:pt x="2181" y="3241"/>
                    <a:pt x="2183" y="3242"/>
                  </a:cubicBezTo>
                  <a:cubicBezTo>
                    <a:pt x="2184" y="3236"/>
                    <a:pt x="2186" y="3230"/>
                    <a:pt x="2187" y="3224"/>
                  </a:cubicBezTo>
                  <a:close/>
                  <a:moveTo>
                    <a:pt x="1943" y="4268"/>
                  </a:moveTo>
                  <a:cubicBezTo>
                    <a:pt x="1941" y="4269"/>
                    <a:pt x="1939" y="4270"/>
                    <a:pt x="1937" y="4271"/>
                  </a:cubicBezTo>
                  <a:cubicBezTo>
                    <a:pt x="1939" y="4276"/>
                    <a:pt x="1941" y="4281"/>
                    <a:pt x="1943" y="4285"/>
                  </a:cubicBezTo>
                  <a:cubicBezTo>
                    <a:pt x="1946" y="4284"/>
                    <a:pt x="1949" y="4283"/>
                    <a:pt x="1952" y="4281"/>
                  </a:cubicBezTo>
                  <a:cubicBezTo>
                    <a:pt x="1949" y="4277"/>
                    <a:pt x="1946" y="4272"/>
                    <a:pt x="1943" y="4268"/>
                  </a:cubicBezTo>
                  <a:close/>
                  <a:moveTo>
                    <a:pt x="3281" y="2243"/>
                  </a:moveTo>
                  <a:cubicBezTo>
                    <a:pt x="3279" y="2241"/>
                    <a:pt x="3276" y="2238"/>
                    <a:pt x="3274" y="2236"/>
                  </a:cubicBezTo>
                  <a:cubicBezTo>
                    <a:pt x="3272" y="2238"/>
                    <a:pt x="3270" y="2241"/>
                    <a:pt x="3267" y="2243"/>
                  </a:cubicBezTo>
                  <a:cubicBezTo>
                    <a:pt x="3270" y="2245"/>
                    <a:pt x="3273" y="2248"/>
                    <a:pt x="3276" y="2249"/>
                  </a:cubicBezTo>
                  <a:cubicBezTo>
                    <a:pt x="3277" y="2249"/>
                    <a:pt x="3279" y="2246"/>
                    <a:pt x="3281" y="2243"/>
                  </a:cubicBezTo>
                  <a:close/>
                  <a:moveTo>
                    <a:pt x="1789" y="775"/>
                  </a:moveTo>
                  <a:cubicBezTo>
                    <a:pt x="1785" y="772"/>
                    <a:pt x="1782" y="768"/>
                    <a:pt x="1779" y="769"/>
                  </a:cubicBezTo>
                  <a:cubicBezTo>
                    <a:pt x="1776" y="769"/>
                    <a:pt x="1774" y="773"/>
                    <a:pt x="1772" y="775"/>
                  </a:cubicBezTo>
                  <a:cubicBezTo>
                    <a:pt x="1774" y="778"/>
                    <a:pt x="1777" y="782"/>
                    <a:pt x="1779" y="782"/>
                  </a:cubicBezTo>
                  <a:cubicBezTo>
                    <a:pt x="1782" y="782"/>
                    <a:pt x="1785" y="778"/>
                    <a:pt x="1789" y="775"/>
                  </a:cubicBezTo>
                  <a:close/>
                  <a:moveTo>
                    <a:pt x="908" y="2255"/>
                  </a:moveTo>
                  <a:cubicBezTo>
                    <a:pt x="906" y="2252"/>
                    <a:pt x="904" y="2250"/>
                    <a:pt x="902" y="2247"/>
                  </a:cubicBezTo>
                  <a:cubicBezTo>
                    <a:pt x="899" y="2249"/>
                    <a:pt x="897" y="2251"/>
                    <a:pt x="895" y="2253"/>
                  </a:cubicBezTo>
                  <a:cubicBezTo>
                    <a:pt x="898" y="2255"/>
                    <a:pt x="900" y="2258"/>
                    <a:pt x="903" y="2260"/>
                  </a:cubicBezTo>
                  <a:cubicBezTo>
                    <a:pt x="904" y="2259"/>
                    <a:pt x="906" y="2257"/>
                    <a:pt x="908" y="2255"/>
                  </a:cubicBezTo>
                  <a:close/>
                  <a:moveTo>
                    <a:pt x="434" y="2823"/>
                  </a:moveTo>
                  <a:cubicBezTo>
                    <a:pt x="432" y="2824"/>
                    <a:pt x="430" y="2825"/>
                    <a:pt x="428" y="2826"/>
                  </a:cubicBezTo>
                  <a:cubicBezTo>
                    <a:pt x="431" y="2830"/>
                    <a:pt x="434" y="2834"/>
                    <a:pt x="437" y="2838"/>
                  </a:cubicBezTo>
                  <a:cubicBezTo>
                    <a:pt x="438" y="2837"/>
                    <a:pt x="439" y="2836"/>
                    <a:pt x="441" y="2836"/>
                  </a:cubicBezTo>
                  <a:cubicBezTo>
                    <a:pt x="439" y="2831"/>
                    <a:pt x="437" y="2827"/>
                    <a:pt x="434" y="2823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7"/>
            <p:cNvSpPr/>
            <p:nvPr/>
          </p:nvSpPr>
          <p:spPr>
            <a:xfrm>
              <a:off x="1320480" y="5811480"/>
              <a:ext cx="875160" cy="536400"/>
            </a:xfrm>
            <a:custGeom>
              <a:avLst/>
              <a:gdLst/>
              <a:ahLst/>
              <a:rect l="l" t="t" r="r" b="b"/>
              <a:pathLst>
                <a:path w="575" h="352">
                  <a:moveTo>
                    <a:pt x="266" y="176"/>
                  </a:moveTo>
                  <a:cubicBezTo>
                    <a:pt x="282" y="169"/>
                    <a:pt x="299" y="161"/>
                    <a:pt x="321" y="151"/>
                  </a:cubicBezTo>
                  <a:cubicBezTo>
                    <a:pt x="329" y="157"/>
                    <a:pt x="340" y="167"/>
                    <a:pt x="352" y="177"/>
                  </a:cubicBezTo>
                  <a:cubicBezTo>
                    <a:pt x="354" y="173"/>
                    <a:pt x="359" y="167"/>
                    <a:pt x="358" y="161"/>
                  </a:cubicBezTo>
                  <a:cubicBezTo>
                    <a:pt x="353" y="134"/>
                    <a:pt x="362" y="113"/>
                    <a:pt x="379" y="93"/>
                  </a:cubicBezTo>
                  <a:cubicBezTo>
                    <a:pt x="385" y="85"/>
                    <a:pt x="380" y="69"/>
                    <a:pt x="380" y="54"/>
                  </a:cubicBezTo>
                  <a:cubicBezTo>
                    <a:pt x="392" y="49"/>
                    <a:pt x="398" y="53"/>
                    <a:pt x="402" y="71"/>
                  </a:cubicBezTo>
                  <a:cubicBezTo>
                    <a:pt x="408" y="100"/>
                    <a:pt x="418" y="128"/>
                    <a:pt x="427" y="158"/>
                  </a:cubicBezTo>
                  <a:cubicBezTo>
                    <a:pt x="439" y="156"/>
                    <a:pt x="449" y="153"/>
                    <a:pt x="462" y="151"/>
                  </a:cubicBezTo>
                  <a:cubicBezTo>
                    <a:pt x="455" y="125"/>
                    <a:pt x="448" y="101"/>
                    <a:pt x="442" y="75"/>
                  </a:cubicBezTo>
                  <a:cubicBezTo>
                    <a:pt x="462" y="56"/>
                    <a:pt x="466" y="7"/>
                    <a:pt x="518" y="23"/>
                  </a:cubicBezTo>
                  <a:cubicBezTo>
                    <a:pt x="515" y="36"/>
                    <a:pt x="513" y="49"/>
                    <a:pt x="509" y="68"/>
                  </a:cubicBezTo>
                  <a:cubicBezTo>
                    <a:pt x="529" y="41"/>
                    <a:pt x="545" y="20"/>
                    <a:pt x="560" y="0"/>
                  </a:cubicBezTo>
                  <a:cubicBezTo>
                    <a:pt x="575" y="16"/>
                    <a:pt x="575" y="31"/>
                    <a:pt x="566" y="48"/>
                  </a:cubicBezTo>
                  <a:cubicBezTo>
                    <a:pt x="535" y="114"/>
                    <a:pt x="496" y="172"/>
                    <a:pt x="437" y="218"/>
                  </a:cubicBezTo>
                  <a:cubicBezTo>
                    <a:pt x="403" y="245"/>
                    <a:pt x="371" y="276"/>
                    <a:pt x="328" y="289"/>
                  </a:cubicBezTo>
                  <a:cubicBezTo>
                    <a:pt x="316" y="293"/>
                    <a:pt x="304" y="294"/>
                    <a:pt x="285" y="297"/>
                  </a:cubicBezTo>
                  <a:cubicBezTo>
                    <a:pt x="274" y="321"/>
                    <a:pt x="246" y="334"/>
                    <a:pt x="213" y="334"/>
                  </a:cubicBezTo>
                  <a:cubicBezTo>
                    <a:pt x="174" y="333"/>
                    <a:pt x="135" y="334"/>
                    <a:pt x="98" y="327"/>
                  </a:cubicBezTo>
                  <a:cubicBezTo>
                    <a:pt x="61" y="319"/>
                    <a:pt x="28" y="311"/>
                    <a:pt x="3" y="352"/>
                  </a:cubicBezTo>
                  <a:cubicBezTo>
                    <a:pt x="3" y="329"/>
                    <a:pt x="0" y="311"/>
                    <a:pt x="4" y="294"/>
                  </a:cubicBezTo>
                  <a:cubicBezTo>
                    <a:pt x="9" y="275"/>
                    <a:pt x="19" y="256"/>
                    <a:pt x="27" y="238"/>
                  </a:cubicBezTo>
                  <a:cubicBezTo>
                    <a:pt x="63" y="245"/>
                    <a:pt x="63" y="245"/>
                    <a:pt x="62" y="282"/>
                  </a:cubicBezTo>
                  <a:cubicBezTo>
                    <a:pt x="89" y="272"/>
                    <a:pt x="114" y="262"/>
                    <a:pt x="138" y="253"/>
                  </a:cubicBezTo>
                  <a:cubicBezTo>
                    <a:pt x="138" y="250"/>
                    <a:pt x="138" y="248"/>
                    <a:pt x="137" y="246"/>
                  </a:cubicBezTo>
                  <a:cubicBezTo>
                    <a:pt x="131" y="246"/>
                    <a:pt x="125" y="246"/>
                    <a:pt x="119" y="246"/>
                  </a:cubicBezTo>
                  <a:cubicBezTo>
                    <a:pt x="119" y="247"/>
                    <a:pt x="119" y="247"/>
                    <a:pt x="119" y="247"/>
                  </a:cubicBezTo>
                  <a:cubicBezTo>
                    <a:pt x="123" y="239"/>
                    <a:pt x="127" y="231"/>
                    <a:pt x="129" y="222"/>
                  </a:cubicBezTo>
                  <a:cubicBezTo>
                    <a:pt x="132" y="213"/>
                    <a:pt x="131" y="204"/>
                    <a:pt x="132" y="193"/>
                  </a:cubicBezTo>
                  <a:cubicBezTo>
                    <a:pt x="169" y="204"/>
                    <a:pt x="180" y="240"/>
                    <a:pt x="204" y="267"/>
                  </a:cubicBezTo>
                  <a:cubicBezTo>
                    <a:pt x="209" y="256"/>
                    <a:pt x="213" y="248"/>
                    <a:pt x="217" y="239"/>
                  </a:cubicBezTo>
                  <a:cubicBezTo>
                    <a:pt x="205" y="230"/>
                    <a:pt x="194" y="222"/>
                    <a:pt x="183" y="213"/>
                  </a:cubicBezTo>
                  <a:cubicBezTo>
                    <a:pt x="184" y="212"/>
                    <a:pt x="185" y="210"/>
                    <a:pt x="186" y="208"/>
                  </a:cubicBezTo>
                  <a:cubicBezTo>
                    <a:pt x="196" y="209"/>
                    <a:pt x="205" y="211"/>
                    <a:pt x="215" y="212"/>
                  </a:cubicBezTo>
                  <a:cubicBezTo>
                    <a:pt x="226" y="189"/>
                    <a:pt x="213" y="156"/>
                    <a:pt x="248" y="150"/>
                  </a:cubicBezTo>
                  <a:cubicBezTo>
                    <a:pt x="244" y="141"/>
                    <a:pt x="242" y="135"/>
                    <a:pt x="239" y="128"/>
                  </a:cubicBezTo>
                  <a:cubicBezTo>
                    <a:pt x="255" y="130"/>
                    <a:pt x="270" y="131"/>
                    <a:pt x="291" y="132"/>
                  </a:cubicBezTo>
                  <a:cubicBezTo>
                    <a:pt x="273" y="145"/>
                    <a:pt x="268" y="160"/>
                    <a:pt x="267" y="177"/>
                  </a:cubicBezTo>
                  <a:cubicBezTo>
                    <a:pt x="265" y="178"/>
                    <a:pt x="262" y="179"/>
                    <a:pt x="260" y="180"/>
                  </a:cubicBezTo>
                  <a:cubicBezTo>
                    <a:pt x="257" y="183"/>
                    <a:pt x="255" y="187"/>
                    <a:pt x="252" y="191"/>
                  </a:cubicBezTo>
                  <a:cubicBezTo>
                    <a:pt x="254" y="192"/>
                    <a:pt x="257" y="195"/>
                    <a:pt x="258" y="194"/>
                  </a:cubicBezTo>
                  <a:cubicBezTo>
                    <a:pt x="261" y="191"/>
                    <a:pt x="264" y="188"/>
                    <a:pt x="266" y="184"/>
                  </a:cubicBezTo>
                  <a:cubicBezTo>
                    <a:pt x="267" y="182"/>
                    <a:pt x="266" y="179"/>
                    <a:pt x="266" y="176"/>
                  </a:cubicBezTo>
                  <a:close/>
                  <a:moveTo>
                    <a:pt x="397" y="168"/>
                  </a:moveTo>
                  <a:cubicBezTo>
                    <a:pt x="367" y="183"/>
                    <a:pt x="367" y="183"/>
                    <a:pt x="377" y="217"/>
                  </a:cubicBezTo>
                  <a:cubicBezTo>
                    <a:pt x="385" y="198"/>
                    <a:pt x="391" y="183"/>
                    <a:pt x="397" y="168"/>
                  </a:cubicBezTo>
                  <a:close/>
                  <a:moveTo>
                    <a:pt x="488" y="79"/>
                  </a:moveTo>
                  <a:cubicBezTo>
                    <a:pt x="483" y="76"/>
                    <a:pt x="479" y="73"/>
                    <a:pt x="478" y="73"/>
                  </a:cubicBezTo>
                  <a:cubicBezTo>
                    <a:pt x="474" y="76"/>
                    <a:pt x="471" y="80"/>
                    <a:pt x="468" y="84"/>
                  </a:cubicBezTo>
                  <a:cubicBezTo>
                    <a:pt x="471" y="86"/>
                    <a:pt x="474" y="90"/>
                    <a:pt x="476" y="89"/>
                  </a:cubicBezTo>
                  <a:cubicBezTo>
                    <a:pt x="480" y="87"/>
                    <a:pt x="483" y="84"/>
                    <a:pt x="488" y="79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8"/>
            <p:cNvSpPr/>
            <p:nvPr/>
          </p:nvSpPr>
          <p:spPr>
            <a:xfrm>
              <a:off x="2379960" y="1237320"/>
              <a:ext cx="877320" cy="1898640"/>
            </a:xfrm>
            <a:custGeom>
              <a:avLst/>
              <a:gdLst/>
              <a:ahLst/>
              <a:rect l="l" t="t" r="r" b="b"/>
              <a:pathLst>
                <a:path w="576" h="1247">
                  <a:moveTo>
                    <a:pt x="24" y="0"/>
                  </a:moveTo>
                  <a:cubicBezTo>
                    <a:pt x="34" y="43"/>
                    <a:pt x="45" y="85"/>
                    <a:pt x="53" y="128"/>
                  </a:cubicBezTo>
                  <a:cubicBezTo>
                    <a:pt x="57" y="151"/>
                    <a:pt x="57" y="176"/>
                    <a:pt x="57" y="199"/>
                  </a:cubicBezTo>
                  <a:cubicBezTo>
                    <a:pt x="58" y="235"/>
                    <a:pt x="74" y="260"/>
                    <a:pt x="108" y="273"/>
                  </a:cubicBezTo>
                  <a:cubicBezTo>
                    <a:pt x="122" y="278"/>
                    <a:pt x="136" y="284"/>
                    <a:pt x="149" y="289"/>
                  </a:cubicBezTo>
                  <a:cubicBezTo>
                    <a:pt x="316" y="359"/>
                    <a:pt x="401" y="488"/>
                    <a:pt x="418" y="664"/>
                  </a:cubicBezTo>
                  <a:cubicBezTo>
                    <a:pt x="424" y="718"/>
                    <a:pt x="411" y="772"/>
                    <a:pt x="392" y="824"/>
                  </a:cubicBezTo>
                  <a:cubicBezTo>
                    <a:pt x="382" y="852"/>
                    <a:pt x="374" y="881"/>
                    <a:pt x="390" y="909"/>
                  </a:cubicBezTo>
                  <a:cubicBezTo>
                    <a:pt x="398" y="921"/>
                    <a:pt x="406" y="934"/>
                    <a:pt x="417" y="943"/>
                  </a:cubicBezTo>
                  <a:cubicBezTo>
                    <a:pt x="479" y="996"/>
                    <a:pt x="521" y="1063"/>
                    <a:pt x="554" y="1137"/>
                  </a:cubicBezTo>
                  <a:cubicBezTo>
                    <a:pt x="569" y="1171"/>
                    <a:pt x="576" y="1206"/>
                    <a:pt x="567" y="1247"/>
                  </a:cubicBezTo>
                  <a:cubicBezTo>
                    <a:pt x="555" y="1231"/>
                    <a:pt x="546" y="1211"/>
                    <a:pt x="530" y="1199"/>
                  </a:cubicBezTo>
                  <a:cubicBezTo>
                    <a:pt x="515" y="1186"/>
                    <a:pt x="494" y="1180"/>
                    <a:pt x="473" y="1170"/>
                  </a:cubicBezTo>
                  <a:cubicBezTo>
                    <a:pt x="496" y="1141"/>
                    <a:pt x="505" y="1180"/>
                    <a:pt x="522" y="1177"/>
                  </a:cubicBezTo>
                  <a:cubicBezTo>
                    <a:pt x="520" y="1157"/>
                    <a:pt x="519" y="1136"/>
                    <a:pt x="516" y="1116"/>
                  </a:cubicBezTo>
                  <a:cubicBezTo>
                    <a:pt x="515" y="1109"/>
                    <a:pt x="511" y="1102"/>
                    <a:pt x="506" y="1096"/>
                  </a:cubicBezTo>
                  <a:cubicBezTo>
                    <a:pt x="497" y="1083"/>
                    <a:pt x="486" y="1072"/>
                    <a:pt x="477" y="1059"/>
                  </a:cubicBezTo>
                  <a:cubicBezTo>
                    <a:pt x="454" y="1025"/>
                    <a:pt x="432" y="991"/>
                    <a:pt x="408" y="957"/>
                  </a:cubicBezTo>
                  <a:cubicBezTo>
                    <a:pt x="403" y="949"/>
                    <a:pt x="393" y="943"/>
                    <a:pt x="385" y="938"/>
                  </a:cubicBezTo>
                  <a:cubicBezTo>
                    <a:pt x="361" y="922"/>
                    <a:pt x="357" y="910"/>
                    <a:pt x="365" y="881"/>
                  </a:cubicBezTo>
                  <a:cubicBezTo>
                    <a:pt x="368" y="869"/>
                    <a:pt x="367" y="857"/>
                    <a:pt x="370" y="846"/>
                  </a:cubicBezTo>
                  <a:cubicBezTo>
                    <a:pt x="377" y="816"/>
                    <a:pt x="385" y="787"/>
                    <a:pt x="392" y="758"/>
                  </a:cubicBezTo>
                  <a:cubicBezTo>
                    <a:pt x="396" y="742"/>
                    <a:pt x="403" y="726"/>
                    <a:pt x="385" y="712"/>
                  </a:cubicBezTo>
                  <a:cubicBezTo>
                    <a:pt x="379" y="707"/>
                    <a:pt x="381" y="692"/>
                    <a:pt x="379" y="679"/>
                  </a:cubicBezTo>
                  <a:cubicBezTo>
                    <a:pt x="386" y="683"/>
                    <a:pt x="390" y="685"/>
                    <a:pt x="398" y="688"/>
                  </a:cubicBezTo>
                  <a:cubicBezTo>
                    <a:pt x="401" y="645"/>
                    <a:pt x="371" y="614"/>
                    <a:pt x="361" y="573"/>
                  </a:cubicBezTo>
                  <a:cubicBezTo>
                    <a:pt x="352" y="582"/>
                    <a:pt x="345" y="589"/>
                    <a:pt x="336" y="597"/>
                  </a:cubicBezTo>
                  <a:cubicBezTo>
                    <a:pt x="334" y="575"/>
                    <a:pt x="333" y="555"/>
                    <a:pt x="332" y="532"/>
                  </a:cubicBezTo>
                  <a:cubicBezTo>
                    <a:pt x="321" y="535"/>
                    <a:pt x="313" y="537"/>
                    <a:pt x="304" y="540"/>
                  </a:cubicBezTo>
                  <a:cubicBezTo>
                    <a:pt x="294" y="528"/>
                    <a:pt x="284" y="514"/>
                    <a:pt x="271" y="497"/>
                  </a:cubicBezTo>
                  <a:cubicBezTo>
                    <a:pt x="282" y="497"/>
                    <a:pt x="289" y="497"/>
                    <a:pt x="300" y="497"/>
                  </a:cubicBezTo>
                  <a:cubicBezTo>
                    <a:pt x="289" y="476"/>
                    <a:pt x="279" y="456"/>
                    <a:pt x="270" y="436"/>
                  </a:cubicBezTo>
                  <a:cubicBezTo>
                    <a:pt x="261" y="416"/>
                    <a:pt x="254" y="395"/>
                    <a:pt x="245" y="371"/>
                  </a:cubicBezTo>
                  <a:cubicBezTo>
                    <a:pt x="233" y="378"/>
                    <a:pt x="225" y="382"/>
                    <a:pt x="216" y="388"/>
                  </a:cubicBezTo>
                  <a:cubicBezTo>
                    <a:pt x="215" y="384"/>
                    <a:pt x="214" y="380"/>
                    <a:pt x="214" y="377"/>
                  </a:cubicBezTo>
                  <a:cubicBezTo>
                    <a:pt x="212" y="371"/>
                    <a:pt x="212" y="362"/>
                    <a:pt x="208" y="358"/>
                  </a:cubicBezTo>
                  <a:cubicBezTo>
                    <a:pt x="173" y="323"/>
                    <a:pt x="130" y="299"/>
                    <a:pt x="86" y="280"/>
                  </a:cubicBezTo>
                  <a:cubicBezTo>
                    <a:pt x="65" y="271"/>
                    <a:pt x="51" y="257"/>
                    <a:pt x="52" y="240"/>
                  </a:cubicBezTo>
                  <a:cubicBezTo>
                    <a:pt x="52" y="214"/>
                    <a:pt x="36" y="189"/>
                    <a:pt x="49" y="162"/>
                  </a:cubicBezTo>
                  <a:cubicBezTo>
                    <a:pt x="54" y="151"/>
                    <a:pt x="29" y="125"/>
                    <a:pt x="15" y="122"/>
                  </a:cubicBezTo>
                  <a:cubicBezTo>
                    <a:pt x="10" y="121"/>
                    <a:pt x="6" y="120"/>
                    <a:pt x="0" y="113"/>
                  </a:cubicBezTo>
                  <a:cubicBezTo>
                    <a:pt x="9" y="110"/>
                    <a:pt x="18" y="107"/>
                    <a:pt x="24" y="104"/>
                  </a:cubicBezTo>
                  <a:cubicBezTo>
                    <a:pt x="24" y="68"/>
                    <a:pt x="24" y="34"/>
                    <a:pt x="25" y="0"/>
                  </a:cubicBezTo>
                  <a:cubicBezTo>
                    <a:pt x="25" y="0"/>
                    <a:pt x="24" y="0"/>
                    <a:pt x="24" y="0"/>
                  </a:cubicBezTo>
                  <a:close/>
                  <a:moveTo>
                    <a:pt x="303" y="446"/>
                  </a:moveTo>
                  <a:cubicBezTo>
                    <a:pt x="305" y="443"/>
                    <a:pt x="307" y="441"/>
                    <a:pt x="309" y="438"/>
                  </a:cubicBezTo>
                  <a:cubicBezTo>
                    <a:pt x="303" y="434"/>
                    <a:pt x="297" y="430"/>
                    <a:pt x="291" y="426"/>
                  </a:cubicBezTo>
                  <a:cubicBezTo>
                    <a:pt x="289" y="428"/>
                    <a:pt x="288" y="430"/>
                    <a:pt x="286" y="432"/>
                  </a:cubicBezTo>
                  <a:cubicBezTo>
                    <a:pt x="292" y="437"/>
                    <a:pt x="298" y="441"/>
                    <a:pt x="303" y="446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"/>
            <p:cNvSpPr/>
            <p:nvPr/>
          </p:nvSpPr>
          <p:spPr>
            <a:xfrm>
              <a:off x="2226960" y="4873680"/>
              <a:ext cx="675720" cy="823320"/>
            </a:xfrm>
            <a:custGeom>
              <a:avLst/>
              <a:gdLst/>
              <a:ahLst/>
              <a:rect l="l" t="t" r="r" b="b"/>
              <a:pathLst>
                <a:path w="444" h="540">
                  <a:moveTo>
                    <a:pt x="336" y="218"/>
                  </a:moveTo>
                  <a:cubicBezTo>
                    <a:pt x="347" y="221"/>
                    <a:pt x="359" y="222"/>
                    <a:pt x="362" y="209"/>
                  </a:cubicBezTo>
                  <a:cubicBezTo>
                    <a:pt x="369" y="176"/>
                    <a:pt x="392" y="145"/>
                    <a:pt x="381" y="108"/>
                  </a:cubicBezTo>
                  <a:cubicBezTo>
                    <a:pt x="429" y="89"/>
                    <a:pt x="411" y="37"/>
                    <a:pt x="436" y="0"/>
                  </a:cubicBezTo>
                  <a:cubicBezTo>
                    <a:pt x="444" y="36"/>
                    <a:pt x="440" y="67"/>
                    <a:pt x="427" y="96"/>
                  </a:cubicBezTo>
                  <a:cubicBezTo>
                    <a:pt x="418" y="117"/>
                    <a:pt x="416" y="136"/>
                    <a:pt x="425" y="148"/>
                  </a:cubicBezTo>
                  <a:cubicBezTo>
                    <a:pt x="419" y="179"/>
                    <a:pt x="416" y="203"/>
                    <a:pt x="410" y="226"/>
                  </a:cubicBezTo>
                  <a:cubicBezTo>
                    <a:pt x="406" y="242"/>
                    <a:pt x="400" y="258"/>
                    <a:pt x="390" y="269"/>
                  </a:cubicBezTo>
                  <a:cubicBezTo>
                    <a:pt x="347" y="321"/>
                    <a:pt x="306" y="377"/>
                    <a:pt x="255" y="420"/>
                  </a:cubicBezTo>
                  <a:cubicBezTo>
                    <a:pt x="213" y="456"/>
                    <a:pt x="160" y="483"/>
                    <a:pt x="104" y="498"/>
                  </a:cubicBezTo>
                  <a:cubicBezTo>
                    <a:pt x="69" y="508"/>
                    <a:pt x="30" y="511"/>
                    <a:pt x="0" y="540"/>
                  </a:cubicBezTo>
                  <a:cubicBezTo>
                    <a:pt x="11" y="504"/>
                    <a:pt x="21" y="468"/>
                    <a:pt x="32" y="432"/>
                  </a:cubicBezTo>
                  <a:cubicBezTo>
                    <a:pt x="34" y="431"/>
                    <a:pt x="36" y="431"/>
                    <a:pt x="39" y="431"/>
                  </a:cubicBezTo>
                  <a:cubicBezTo>
                    <a:pt x="42" y="438"/>
                    <a:pt x="46" y="445"/>
                    <a:pt x="48" y="453"/>
                  </a:cubicBezTo>
                  <a:cubicBezTo>
                    <a:pt x="53" y="485"/>
                    <a:pt x="56" y="487"/>
                    <a:pt x="85" y="476"/>
                  </a:cubicBezTo>
                  <a:cubicBezTo>
                    <a:pt x="92" y="474"/>
                    <a:pt x="98" y="471"/>
                    <a:pt x="106" y="467"/>
                  </a:cubicBezTo>
                  <a:cubicBezTo>
                    <a:pt x="100" y="460"/>
                    <a:pt x="91" y="455"/>
                    <a:pt x="90" y="448"/>
                  </a:cubicBezTo>
                  <a:cubicBezTo>
                    <a:pt x="89" y="440"/>
                    <a:pt x="94" y="430"/>
                    <a:pt x="98" y="419"/>
                  </a:cubicBezTo>
                  <a:cubicBezTo>
                    <a:pt x="88" y="415"/>
                    <a:pt x="79" y="411"/>
                    <a:pt x="68" y="406"/>
                  </a:cubicBezTo>
                  <a:cubicBezTo>
                    <a:pt x="80" y="392"/>
                    <a:pt x="92" y="378"/>
                    <a:pt x="108" y="359"/>
                  </a:cubicBezTo>
                  <a:cubicBezTo>
                    <a:pt x="107" y="380"/>
                    <a:pt x="107" y="393"/>
                    <a:pt x="106" y="408"/>
                  </a:cubicBezTo>
                  <a:cubicBezTo>
                    <a:pt x="126" y="410"/>
                    <a:pt x="142" y="411"/>
                    <a:pt x="165" y="413"/>
                  </a:cubicBezTo>
                  <a:cubicBezTo>
                    <a:pt x="162" y="395"/>
                    <a:pt x="159" y="379"/>
                    <a:pt x="156" y="363"/>
                  </a:cubicBezTo>
                  <a:cubicBezTo>
                    <a:pt x="179" y="367"/>
                    <a:pt x="201" y="375"/>
                    <a:pt x="214" y="345"/>
                  </a:cubicBezTo>
                  <a:cubicBezTo>
                    <a:pt x="220" y="332"/>
                    <a:pt x="245" y="343"/>
                    <a:pt x="252" y="322"/>
                  </a:cubicBezTo>
                  <a:cubicBezTo>
                    <a:pt x="256" y="311"/>
                    <a:pt x="269" y="305"/>
                    <a:pt x="265" y="288"/>
                  </a:cubicBezTo>
                  <a:cubicBezTo>
                    <a:pt x="263" y="279"/>
                    <a:pt x="274" y="267"/>
                    <a:pt x="279" y="256"/>
                  </a:cubicBezTo>
                  <a:cubicBezTo>
                    <a:pt x="274" y="254"/>
                    <a:pt x="269" y="251"/>
                    <a:pt x="260" y="245"/>
                  </a:cubicBezTo>
                  <a:cubicBezTo>
                    <a:pt x="273" y="228"/>
                    <a:pt x="285" y="211"/>
                    <a:pt x="300" y="190"/>
                  </a:cubicBezTo>
                  <a:cubicBezTo>
                    <a:pt x="303" y="204"/>
                    <a:pt x="306" y="213"/>
                    <a:pt x="309" y="227"/>
                  </a:cubicBezTo>
                  <a:cubicBezTo>
                    <a:pt x="319" y="223"/>
                    <a:pt x="328" y="220"/>
                    <a:pt x="337" y="217"/>
                  </a:cubicBezTo>
                  <a:lnTo>
                    <a:pt x="336" y="218"/>
                  </a:lnTo>
                  <a:close/>
                  <a:moveTo>
                    <a:pt x="127" y="472"/>
                  </a:moveTo>
                  <a:cubicBezTo>
                    <a:pt x="129" y="474"/>
                    <a:pt x="130" y="475"/>
                    <a:pt x="132" y="477"/>
                  </a:cubicBezTo>
                  <a:cubicBezTo>
                    <a:pt x="136" y="474"/>
                    <a:pt x="141" y="471"/>
                    <a:pt x="145" y="467"/>
                  </a:cubicBezTo>
                  <a:cubicBezTo>
                    <a:pt x="143" y="465"/>
                    <a:pt x="141" y="463"/>
                    <a:pt x="138" y="460"/>
                  </a:cubicBezTo>
                  <a:cubicBezTo>
                    <a:pt x="135" y="464"/>
                    <a:pt x="131" y="468"/>
                    <a:pt x="127" y="4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0"/>
            <p:cNvSpPr/>
            <p:nvPr/>
          </p:nvSpPr>
          <p:spPr>
            <a:xfrm>
              <a:off x="2997720" y="3978720"/>
              <a:ext cx="263160" cy="548280"/>
            </a:xfrm>
            <a:custGeom>
              <a:avLst/>
              <a:gdLst/>
              <a:ahLst/>
              <a:rect l="l" t="t" r="r" b="b"/>
              <a:pathLst>
                <a:path w="173" h="360">
                  <a:moveTo>
                    <a:pt x="76" y="47"/>
                  </a:moveTo>
                  <a:cubicBezTo>
                    <a:pt x="77" y="36"/>
                    <a:pt x="79" y="24"/>
                    <a:pt x="80" y="11"/>
                  </a:cubicBezTo>
                  <a:cubicBezTo>
                    <a:pt x="90" y="11"/>
                    <a:pt x="99" y="13"/>
                    <a:pt x="107" y="11"/>
                  </a:cubicBezTo>
                  <a:cubicBezTo>
                    <a:pt x="114" y="10"/>
                    <a:pt x="121" y="5"/>
                    <a:pt x="133" y="0"/>
                  </a:cubicBezTo>
                  <a:cubicBezTo>
                    <a:pt x="144" y="42"/>
                    <a:pt x="173" y="76"/>
                    <a:pt x="165" y="121"/>
                  </a:cubicBezTo>
                  <a:cubicBezTo>
                    <a:pt x="162" y="142"/>
                    <a:pt x="159" y="161"/>
                    <a:pt x="135" y="172"/>
                  </a:cubicBezTo>
                  <a:cubicBezTo>
                    <a:pt x="123" y="177"/>
                    <a:pt x="116" y="197"/>
                    <a:pt x="107" y="210"/>
                  </a:cubicBezTo>
                  <a:cubicBezTo>
                    <a:pt x="96" y="209"/>
                    <a:pt x="84" y="208"/>
                    <a:pt x="72" y="206"/>
                  </a:cubicBezTo>
                  <a:cubicBezTo>
                    <a:pt x="80" y="234"/>
                    <a:pt x="91" y="259"/>
                    <a:pt x="93" y="285"/>
                  </a:cubicBezTo>
                  <a:cubicBezTo>
                    <a:pt x="94" y="304"/>
                    <a:pt x="86" y="325"/>
                    <a:pt x="78" y="344"/>
                  </a:cubicBezTo>
                  <a:cubicBezTo>
                    <a:pt x="75" y="352"/>
                    <a:pt x="60" y="354"/>
                    <a:pt x="49" y="360"/>
                  </a:cubicBezTo>
                  <a:cubicBezTo>
                    <a:pt x="44" y="341"/>
                    <a:pt x="41" y="327"/>
                    <a:pt x="39" y="314"/>
                  </a:cubicBezTo>
                  <a:cubicBezTo>
                    <a:pt x="38" y="308"/>
                    <a:pt x="38" y="300"/>
                    <a:pt x="41" y="295"/>
                  </a:cubicBezTo>
                  <a:cubicBezTo>
                    <a:pt x="54" y="265"/>
                    <a:pt x="55" y="261"/>
                    <a:pt x="46" y="231"/>
                  </a:cubicBezTo>
                  <a:cubicBezTo>
                    <a:pt x="44" y="226"/>
                    <a:pt x="47" y="220"/>
                    <a:pt x="46" y="215"/>
                  </a:cubicBezTo>
                  <a:cubicBezTo>
                    <a:pt x="45" y="212"/>
                    <a:pt x="41" y="209"/>
                    <a:pt x="37" y="204"/>
                  </a:cubicBezTo>
                  <a:cubicBezTo>
                    <a:pt x="25" y="218"/>
                    <a:pt x="34" y="250"/>
                    <a:pt x="1" y="245"/>
                  </a:cubicBezTo>
                  <a:cubicBezTo>
                    <a:pt x="1" y="228"/>
                    <a:pt x="0" y="212"/>
                    <a:pt x="1" y="195"/>
                  </a:cubicBezTo>
                  <a:cubicBezTo>
                    <a:pt x="2" y="180"/>
                    <a:pt x="8" y="169"/>
                    <a:pt x="27" y="174"/>
                  </a:cubicBezTo>
                  <a:cubicBezTo>
                    <a:pt x="31" y="175"/>
                    <a:pt x="36" y="173"/>
                    <a:pt x="43" y="172"/>
                  </a:cubicBezTo>
                  <a:cubicBezTo>
                    <a:pt x="41" y="156"/>
                    <a:pt x="40" y="142"/>
                    <a:pt x="39" y="125"/>
                  </a:cubicBezTo>
                  <a:cubicBezTo>
                    <a:pt x="28" y="120"/>
                    <a:pt x="4" y="126"/>
                    <a:pt x="5" y="97"/>
                  </a:cubicBezTo>
                  <a:cubicBezTo>
                    <a:pt x="22" y="95"/>
                    <a:pt x="38" y="93"/>
                    <a:pt x="55" y="90"/>
                  </a:cubicBezTo>
                  <a:cubicBezTo>
                    <a:pt x="71" y="81"/>
                    <a:pt x="49" y="51"/>
                    <a:pt x="77" y="46"/>
                  </a:cubicBezTo>
                  <a:cubicBezTo>
                    <a:pt x="88" y="61"/>
                    <a:pt x="80" y="87"/>
                    <a:pt x="108" y="93"/>
                  </a:cubicBezTo>
                  <a:cubicBezTo>
                    <a:pt x="118" y="95"/>
                    <a:pt x="120" y="115"/>
                    <a:pt x="104" y="126"/>
                  </a:cubicBezTo>
                  <a:cubicBezTo>
                    <a:pt x="95" y="124"/>
                    <a:pt x="84" y="118"/>
                    <a:pt x="75" y="120"/>
                  </a:cubicBezTo>
                  <a:cubicBezTo>
                    <a:pt x="68" y="121"/>
                    <a:pt x="59" y="131"/>
                    <a:pt x="59" y="138"/>
                  </a:cubicBezTo>
                  <a:cubicBezTo>
                    <a:pt x="57" y="147"/>
                    <a:pt x="65" y="151"/>
                    <a:pt x="75" y="145"/>
                  </a:cubicBezTo>
                  <a:cubicBezTo>
                    <a:pt x="77" y="144"/>
                    <a:pt x="83" y="149"/>
                    <a:pt x="86" y="152"/>
                  </a:cubicBezTo>
                  <a:cubicBezTo>
                    <a:pt x="98" y="164"/>
                    <a:pt x="111" y="160"/>
                    <a:pt x="123" y="153"/>
                  </a:cubicBezTo>
                  <a:cubicBezTo>
                    <a:pt x="135" y="146"/>
                    <a:pt x="141" y="134"/>
                    <a:pt x="137" y="119"/>
                  </a:cubicBezTo>
                  <a:cubicBezTo>
                    <a:pt x="131" y="103"/>
                    <a:pt x="124" y="87"/>
                    <a:pt x="119" y="71"/>
                  </a:cubicBezTo>
                  <a:cubicBezTo>
                    <a:pt x="109" y="40"/>
                    <a:pt x="109" y="40"/>
                    <a:pt x="76" y="47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1"/>
            <p:cNvSpPr/>
            <p:nvPr/>
          </p:nvSpPr>
          <p:spPr>
            <a:xfrm>
              <a:off x="2112480" y="1182960"/>
              <a:ext cx="241920" cy="164520"/>
            </a:xfrm>
            <a:custGeom>
              <a:avLst/>
              <a:gdLst/>
              <a:ahLst/>
              <a:rect l="l" t="t" r="r" b="b"/>
              <a:pathLst>
                <a:path w="158" h="108">
                  <a:moveTo>
                    <a:pt x="107" y="97"/>
                  </a:moveTo>
                  <a:cubicBezTo>
                    <a:pt x="104" y="89"/>
                    <a:pt x="103" y="78"/>
                    <a:pt x="97" y="74"/>
                  </a:cubicBezTo>
                  <a:cubicBezTo>
                    <a:pt x="87" y="69"/>
                    <a:pt x="78" y="73"/>
                    <a:pt x="71" y="85"/>
                  </a:cubicBezTo>
                  <a:cubicBezTo>
                    <a:pt x="67" y="94"/>
                    <a:pt x="57" y="99"/>
                    <a:pt x="48" y="108"/>
                  </a:cubicBezTo>
                  <a:cubicBezTo>
                    <a:pt x="42" y="98"/>
                    <a:pt x="37" y="92"/>
                    <a:pt x="35" y="85"/>
                  </a:cubicBezTo>
                  <a:cubicBezTo>
                    <a:pt x="32" y="78"/>
                    <a:pt x="30" y="70"/>
                    <a:pt x="28" y="61"/>
                  </a:cubicBezTo>
                  <a:cubicBezTo>
                    <a:pt x="33" y="58"/>
                    <a:pt x="38" y="53"/>
                    <a:pt x="45" y="49"/>
                  </a:cubicBezTo>
                  <a:cubicBezTo>
                    <a:pt x="30" y="39"/>
                    <a:pt x="16" y="30"/>
                    <a:pt x="0" y="21"/>
                  </a:cubicBezTo>
                  <a:cubicBezTo>
                    <a:pt x="22" y="11"/>
                    <a:pt x="32" y="13"/>
                    <a:pt x="72" y="33"/>
                  </a:cubicBezTo>
                  <a:cubicBezTo>
                    <a:pt x="73" y="27"/>
                    <a:pt x="75" y="21"/>
                    <a:pt x="76" y="15"/>
                  </a:cubicBezTo>
                  <a:cubicBezTo>
                    <a:pt x="82" y="16"/>
                    <a:pt x="88" y="18"/>
                    <a:pt x="94" y="20"/>
                  </a:cubicBezTo>
                  <a:cubicBezTo>
                    <a:pt x="98" y="13"/>
                    <a:pt x="102" y="7"/>
                    <a:pt x="106" y="0"/>
                  </a:cubicBezTo>
                  <a:cubicBezTo>
                    <a:pt x="108" y="1"/>
                    <a:pt x="110" y="2"/>
                    <a:pt x="113" y="2"/>
                  </a:cubicBezTo>
                  <a:cubicBezTo>
                    <a:pt x="111" y="16"/>
                    <a:pt x="109" y="30"/>
                    <a:pt x="106" y="50"/>
                  </a:cubicBezTo>
                  <a:cubicBezTo>
                    <a:pt x="112" y="52"/>
                    <a:pt x="123" y="55"/>
                    <a:pt x="133" y="59"/>
                  </a:cubicBezTo>
                  <a:cubicBezTo>
                    <a:pt x="126" y="75"/>
                    <a:pt x="139" y="75"/>
                    <a:pt x="158" y="81"/>
                  </a:cubicBezTo>
                  <a:cubicBezTo>
                    <a:pt x="135" y="87"/>
                    <a:pt x="121" y="92"/>
                    <a:pt x="106" y="96"/>
                  </a:cubicBezTo>
                  <a:lnTo>
                    <a:pt x="107" y="97"/>
                  </a:ln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2"/>
            <p:cNvSpPr/>
            <p:nvPr/>
          </p:nvSpPr>
          <p:spPr>
            <a:xfrm>
              <a:off x="1380240" y="2293200"/>
              <a:ext cx="915840" cy="952920"/>
            </a:xfrm>
            <a:custGeom>
              <a:avLst/>
              <a:gdLst/>
              <a:ahLst/>
              <a:rect l="l" t="t" r="r" b="b"/>
              <a:pathLst>
                <a:path w="601" h="626">
                  <a:moveTo>
                    <a:pt x="420" y="16"/>
                  </a:moveTo>
                  <a:cubicBezTo>
                    <a:pt x="414" y="35"/>
                    <a:pt x="419" y="51"/>
                    <a:pt x="430" y="67"/>
                  </a:cubicBezTo>
                  <a:cubicBezTo>
                    <a:pt x="448" y="93"/>
                    <a:pt x="463" y="121"/>
                    <a:pt x="492" y="136"/>
                  </a:cubicBezTo>
                  <a:cubicBezTo>
                    <a:pt x="496" y="164"/>
                    <a:pt x="499" y="191"/>
                    <a:pt x="505" y="218"/>
                  </a:cubicBezTo>
                  <a:cubicBezTo>
                    <a:pt x="507" y="227"/>
                    <a:pt x="519" y="233"/>
                    <a:pt x="527" y="240"/>
                  </a:cubicBezTo>
                  <a:cubicBezTo>
                    <a:pt x="519" y="260"/>
                    <a:pt x="523" y="279"/>
                    <a:pt x="534" y="296"/>
                  </a:cubicBezTo>
                  <a:cubicBezTo>
                    <a:pt x="551" y="324"/>
                    <a:pt x="555" y="355"/>
                    <a:pt x="556" y="387"/>
                  </a:cubicBezTo>
                  <a:cubicBezTo>
                    <a:pt x="556" y="414"/>
                    <a:pt x="561" y="442"/>
                    <a:pt x="570" y="468"/>
                  </a:cubicBezTo>
                  <a:cubicBezTo>
                    <a:pt x="577" y="490"/>
                    <a:pt x="574" y="506"/>
                    <a:pt x="552" y="522"/>
                  </a:cubicBezTo>
                  <a:cubicBezTo>
                    <a:pt x="601" y="549"/>
                    <a:pt x="550" y="589"/>
                    <a:pt x="573" y="621"/>
                  </a:cubicBezTo>
                  <a:cubicBezTo>
                    <a:pt x="549" y="621"/>
                    <a:pt x="528" y="621"/>
                    <a:pt x="507" y="621"/>
                  </a:cubicBezTo>
                  <a:cubicBezTo>
                    <a:pt x="477" y="622"/>
                    <a:pt x="447" y="626"/>
                    <a:pt x="417" y="625"/>
                  </a:cubicBezTo>
                  <a:cubicBezTo>
                    <a:pt x="403" y="625"/>
                    <a:pt x="389" y="617"/>
                    <a:pt x="376" y="610"/>
                  </a:cubicBezTo>
                  <a:cubicBezTo>
                    <a:pt x="358" y="602"/>
                    <a:pt x="368" y="585"/>
                    <a:pt x="367" y="571"/>
                  </a:cubicBezTo>
                  <a:cubicBezTo>
                    <a:pt x="366" y="554"/>
                    <a:pt x="363" y="537"/>
                    <a:pt x="364" y="520"/>
                  </a:cubicBezTo>
                  <a:cubicBezTo>
                    <a:pt x="365" y="466"/>
                    <a:pt x="325" y="425"/>
                    <a:pt x="271" y="427"/>
                  </a:cubicBezTo>
                  <a:cubicBezTo>
                    <a:pt x="258" y="428"/>
                    <a:pt x="245" y="425"/>
                    <a:pt x="232" y="425"/>
                  </a:cubicBezTo>
                  <a:cubicBezTo>
                    <a:pt x="185" y="424"/>
                    <a:pt x="139" y="424"/>
                    <a:pt x="92" y="422"/>
                  </a:cubicBezTo>
                  <a:cubicBezTo>
                    <a:pt x="78" y="422"/>
                    <a:pt x="63" y="420"/>
                    <a:pt x="49" y="417"/>
                  </a:cubicBezTo>
                  <a:cubicBezTo>
                    <a:pt x="12" y="410"/>
                    <a:pt x="0" y="381"/>
                    <a:pt x="21" y="349"/>
                  </a:cubicBezTo>
                  <a:cubicBezTo>
                    <a:pt x="46" y="313"/>
                    <a:pt x="73" y="279"/>
                    <a:pt x="99" y="244"/>
                  </a:cubicBezTo>
                  <a:cubicBezTo>
                    <a:pt x="111" y="229"/>
                    <a:pt x="123" y="215"/>
                    <a:pt x="135" y="201"/>
                  </a:cubicBezTo>
                  <a:cubicBezTo>
                    <a:pt x="143" y="193"/>
                    <a:pt x="152" y="185"/>
                    <a:pt x="161" y="178"/>
                  </a:cubicBezTo>
                  <a:cubicBezTo>
                    <a:pt x="166" y="174"/>
                    <a:pt x="175" y="172"/>
                    <a:pt x="178" y="167"/>
                  </a:cubicBezTo>
                  <a:cubicBezTo>
                    <a:pt x="202" y="112"/>
                    <a:pt x="262" y="102"/>
                    <a:pt x="302" y="66"/>
                  </a:cubicBezTo>
                  <a:cubicBezTo>
                    <a:pt x="315" y="54"/>
                    <a:pt x="332" y="45"/>
                    <a:pt x="345" y="28"/>
                  </a:cubicBezTo>
                  <a:cubicBezTo>
                    <a:pt x="322" y="32"/>
                    <a:pt x="298" y="37"/>
                    <a:pt x="275" y="41"/>
                  </a:cubicBezTo>
                  <a:cubicBezTo>
                    <a:pt x="300" y="28"/>
                    <a:pt x="325" y="14"/>
                    <a:pt x="352" y="3"/>
                  </a:cubicBezTo>
                  <a:cubicBezTo>
                    <a:pt x="360" y="0"/>
                    <a:pt x="376" y="5"/>
                    <a:pt x="384" y="12"/>
                  </a:cubicBezTo>
                  <a:cubicBezTo>
                    <a:pt x="396" y="23"/>
                    <a:pt x="408" y="21"/>
                    <a:pt x="420" y="16"/>
                  </a:cubicBezTo>
                  <a:close/>
                  <a:moveTo>
                    <a:pt x="411" y="231"/>
                  </a:moveTo>
                  <a:cubicBezTo>
                    <a:pt x="401" y="223"/>
                    <a:pt x="389" y="216"/>
                    <a:pt x="382" y="206"/>
                  </a:cubicBezTo>
                  <a:cubicBezTo>
                    <a:pt x="371" y="191"/>
                    <a:pt x="364" y="174"/>
                    <a:pt x="354" y="158"/>
                  </a:cubicBezTo>
                  <a:cubicBezTo>
                    <a:pt x="339" y="132"/>
                    <a:pt x="324" y="129"/>
                    <a:pt x="299" y="146"/>
                  </a:cubicBezTo>
                  <a:cubicBezTo>
                    <a:pt x="288" y="153"/>
                    <a:pt x="278" y="162"/>
                    <a:pt x="267" y="169"/>
                  </a:cubicBezTo>
                  <a:cubicBezTo>
                    <a:pt x="247" y="182"/>
                    <a:pt x="247" y="182"/>
                    <a:pt x="220" y="164"/>
                  </a:cubicBezTo>
                  <a:cubicBezTo>
                    <a:pt x="208" y="191"/>
                    <a:pt x="196" y="216"/>
                    <a:pt x="183" y="244"/>
                  </a:cubicBezTo>
                  <a:cubicBezTo>
                    <a:pt x="145" y="220"/>
                    <a:pt x="130" y="254"/>
                    <a:pt x="107" y="272"/>
                  </a:cubicBezTo>
                  <a:cubicBezTo>
                    <a:pt x="120" y="276"/>
                    <a:pt x="131" y="280"/>
                    <a:pt x="142" y="284"/>
                  </a:cubicBezTo>
                  <a:cubicBezTo>
                    <a:pt x="139" y="340"/>
                    <a:pt x="154" y="354"/>
                    <a:pt x="206" y="349"/>
                  </a:cubicBezTo>
                  <a:cubicBezTo>
                    <a:pt x="216" y="348"/>
                    <a:pt x="227" y="349"/>
                    <a:pt x="238" y="349"/>
                  </a:cubicBezTo>
                  <a:cubicBezTo>
                    <a:pt x="276" y="350"/>
                    <a:pt x="314" y="353"/>
                    <a:pt x="352" y="353"/>
                  </a:cubicBezTo>
                  <a:cubicBezTo>
                    <a:pt x="374" y="353"/>
                    <a:pt x="379" y="365"/>
                    <a:pt x="379" y="384"/>
                  </a:cubicBezTo>
                  <a:cubicBezTo>
                    <a:pt x="353" y="412"/>
                    <a:pt x="353" y="413"/>
                    <a:pt x="397" y="439"/>
                  </a:cubicBezTo>
                  <a:cubicBezTo>
                    <a:pt x="409" y="413"/>
                    <a:pt x="385" y="401"/>
                    <a:pt x="378" y="383"/>
                  </a:cubicBezTo>
                  <a:cubicBezTo>
                    <a:pt x="410" y="378"/>
                    <a:pt x="426" y="396"/>
                    <a:pt x="435" y="425"/>
                  </a:cubicBezTo>
                  <a:cubicBezTo>
                    <a:pt x="439" y="437"/>
                    <a:pt x="447" y="448"/>
                    <a:pt x="453" y="459"/>
                  </a:cubicBezTo>
                  <a:cubicBezTo>
                    <a:pt x="456" y="458"/>
                    <a:pt x="458" y="457"/>
                    <a:pt x="461" y="456"/>
                  </a:cubicBezTo>
                  <a:cubicBezTo>
                    <a:pt x="459" y="441"/>
                    <a:pt x="459" y="425"/>
                    <a:pt x="455" y="410"/>
                  </a:cubicBezTo>
                  <a:cubicBezTo>
                    <a:pt x="441" y="350"/>
                    <a:pt x="425" y="290"/>
                    <a:pt x="410" y="230"/>
                  </a:cubicBezTo>
                  <a:cubicBezTo>
                    <a:pt x="416" y="231"/>
                    <a:pt x="422" y="233"/>
                    <a:pt x="428" y="234"/>
                  </a:cubicBezTo>
                  <a:cubicBezTo>
                    <a:pt x="428" y="231"/>
                    <a:pt x="427" y="227"/>
                    <a:pt x="426" y="224"/>
                  </a:cubicBezTo>
                  <a:cubicBezTo>
                    <a:pt x="421" y="226"/>
                    <a:pt x="416" y="229"/>
                    <a:pt x="411" y="231"/>
                  </a:cubicBezTo>
                  <a:close/>
                  <a:moveTo>
                    <a:pt x="211" y="372"/>
                  </a:moveTo>
                  <a:cubicBezTo>
                    <a:pt x="210" y="369"/>
                    <a:pt x="209" y="366"/>
                    <a:pt x="207" y="363"/>
                  </a:cubicBezTo>
                  <a:cubicBezTo>
                    <a:pt x="201" y="366"/>
                    <a:pt x="194" y="370"/>
                    <a:pt x="187" y="373"/>
                  </a:cubicBezTo>
                  <a:cubicBezTo>
                    <a:pt x="188" y="375"/>
                    <a:pt x="189" y="378"/>
                    <a:pt x="191" y="380"/>
                  </a:cubicBezTo>
                  <a:cubicBezTo>
                    <a:pt x="197" y="377"/>
                    <a:pt x="204" y="374"/>
                    <a:pt x="211" y="3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矩形 7"/>
          <p:cNvSpPr/>
          <p:nvPr/>
        </p:nvSpPr>
        <p:spPr>
          <a:xfrm>
            <a:off x="4871880" y="-1249200"/>
            <a:ext cx="82260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24"/>
          <p:cNvSpPr/>
          <p:nvPr/>
        </p:nvSpPr>
        <p:spPr>
          <a:xfrm rot="513000">
            <a:off x="3061800" y="816120"/>
            <a:ext cx="1576440" cy="590400"/>
          </a:xfrm>
          <a:custGeom>
            <a:avLst/>
            <a:gdLst/>
            <a:ahLst/>
            <a:rect l="l" t="t" r="r" b="b"/>
            <a:pathLst>
              <a:path w="507" h="190">
                <a:moveTo>
                  <a:pt x="507" y="85"/>
                </a:moveTo>
                <a:cubicBezTo>
                  <a:pt x="507" y="81"/>
                  <a:pt x="502" y="82"/>
                  <a:pt x="498" y="84"/>
                </a:cubicBezTo>
                <a:cubicBezTo>
                  <a:pt x="492" y="86"/>
                  <a:pt x="487" y="87"/>
                  <a:pt x="481" y="89"/>
                </a:cubicBezTo>
                <a:cubicBezTo>
                  <a:pt x="465" y="92"/>
                  <a:pt x="448" y="93"/>
                  <a:pt x="432" y="90"/>
                </a:cubicBezTo>
                <a:cubicBezTo>
                  <a:pt x="422" y="87"/>
                  <a:pt x="412" y="83"/>
                  <a:pt x="404" y="76"/>
                </a:cubicBezTo>
                <a:cubicBezTo>
                  <a:pt x="364" y="45"/>
                  <a:pt x="324" y="42"/>
                  <a:pt x="298" y="69"/>
                </a:cubicBezTo>
                <a:cubicBezTo>
                  <a:pt x="294" y="68"/>
                  <a:pt x="291" y="69"/>
                  <a:pt x="289" y="70"/>
                </a:cubicBezTo>
                <a:cubicBezTo>
                  <a:pt x="288" y="65"/>
                  <a:pt x="285" y="60"/>
                  <a:pt x="281" y="58"/>
                </a:cubicBezTo>
                <a:cubicBezTo>
                  <a:pt x="277" y="55"/>
                  <a:pt x="271" y="55"/>
                  <a:pt x="266" y="56"/>
                </a:cubicBezTo>
                <a:cubicBezTo>
                  <a:pt x="266" y="55"/>
                  <a:pt x="266" y="55"/>
                  <a:pt x="266" y="54"/>
                </a:cubicBezTo>
                <a:cubicBezTo>
                  <a:pt x="264" y="36"/>
                  <a:pt x="246" y="29"/>
                  <a:pt x="240" y="27"/>
                </a:cubicBezTo>
                <a:cubicBezTo>
                  <a:pt x="238" y="21"/>
                  <a:pt x="235" y="17"/>
                  <a:pt x="230" y="15"/>
                </a:cubicBezTo>
                <a:cubicBezTo>
                  <a:pt x="222" y="11"/>
                  <a:pt x="211" y="14"/>
                  <a:pt x="207" y="15"/>
                </a:cubicBezTo>
                <a:cubicBezTo>
                  <a:pt x="196" y="9"/>
                  <a:pt x="186" y="7"/>
                  <a:pt x="178" y="10"/>
                </a:cubicBezTo>
                <a:cubicBezTo>
                  <a:pt x="174" y="12"/>
                  <a:pt x="170" y="14"/>
                  <a:pt x="168" y="17"/>
                </a:cubicBezTo>
                <a:cubicBezTo>
                  <a:pt x="154" y="4"/>
                  <a:pt x="137" y="6"/>
                  <a:pt x="125" y="14"/>
                </a:cubicBezTo>
                <a:cubicBezTo>
                  <a:pt x="120" y="10"/>
                  <a:pt x="102" y="0"/>
                  <a:pt x="84" y="8"/>
                </a:cubicBezTo>
                <a:cubicBezTo>
                  <a:pt x="64" y="16"/>
                  <a:pt x="60" y="29"/>
                  <a:pt x="59" y="35"/>
                </a:cubicBezTo>
                <a:cubicBezTo>
                  <a:pt x="54" y="33"/>
                  <a:pt x="44" y="31"/>
                  <a:pt x="37" y="35"/>
                </a:cubicBezTo>
                <a:cubicBezTo>
                  <a:pt x="32" y="36"/>
                  <a:pt x="29" y="39"/>
                  <a:pt x="28" y="43"/>
                </a:cubicBezTo>
                <a:cubicBezTo>
                  <a:pt x="27" y="47"/>
                  <a:pt x="27" y="51"/>
                  <a:pt x="28" y="53"/>
                </a:cubicBezTo>
                <a:cubicBezTo>
                  <a:pt x="23" y="56"/>
                  <a:pt x="10" y="64"/>
                  <a:pt x="7" y="74"/>
                </a:cubicBezTo>
                <a:cubicBezTo>
                  <a:pt x="5" y="83"/>
                  <a:pt x="10" y="89"/>
                  <a:pt x="13" y="92"/>
                </a:cubicBezTo>
                <a:cubicBezTo>
                  <a:pt x="9" y="94"/>
                  <a:pt x="3" y="98"/>
                  <a:pt x="1" y="104"/>
                </a:cubicBezTo>
                <a:cubicBezTo>
                  <a:pt x="0" y="108"/>
                  <a:pt x="0" y="112"/>
                  <a:pt x="3" y="116"/>
                </a:cubicBezTo>
                <a:cubicBezTo>
                  <a:pt x="7" y="123"/>
                  <a:pt x="18" y="124"/>
                  <a:pt x="23" y="125"/>
                </a:cubicBezTo>
                <a:cubicBezTo>
                  <a:pt x="23" y="129"/>
                  <a:pt x="22" y="138"/>
                  <a:pt x="27" y="144"/>
                </a:cubicBezTo>
                <a:cubicBezTo>
                  <a:pt x="29" y="148"/>
                  <a:pt x="33" y="150"/>
                  <a:pt x="37" y="151"/>
                </a:cubicBezTo>
                <a:cubicBezTo>
                  <a:pt x="46" y="152"/>
                  <a:pt x="53" y="152"/>
                  <a:pt x="58" y="152"/>
                </a:cubicBezTo>
                <a:cubicBezTo>
                  <a:pt x="62" y="152"/>
                  <a:pt x="65" y="153"/>
                  <a:pt x="66" y="153"/>
                </a:cubicBezTo>
                <a:cubicBezTo>
                  <a:pt x="69" y="154"/>
                  <a:pt x="72" y="156"/>
                  <a:pt x="74" y="158"/>
                </a:cubicBezTo>
                <a:cubicBezTo>
                  <a:pt x="80" y="162"/>
                  <a:pt x="86" y="167"/>
                  <a:pt x="97" y="166"/>
                </a:cubicBezTo>
                <a:cubicBezTo>
                  <a:pt x="103" y="165"/>
                  <a:pt x="107" y="164"/>
                  <a:pt x="111" y="164"/>
                </a:cubicBezTo>
                <a:cubicBezTo>
                  <a:pt x="118" y="162"/>
                  <a:pt x="123" y="161"/>
                  <a:pt x="128" y="162"/>
                </a:cubicBezTo>
                <a:cubicBezTo>
                  <a:pt x="129" y="163"/>
                  <a:pt x="131" y="164"/>
                  <a:pt x="133" y="166"/>
                </a:cubicBezTo>
                <a:cubicBezTo>
                  <a:pt x="138" y="170"/>
                  <a:pt x="146" y="177"/>
                  <a:pt x="160" y="176"/>
                </a:cubicBezTo>
                <a:cubicBezTo>
                  <a:pt x="171" y="184"/>
                  <a:pt x="186" y="190"/>
                  <a:pt x="195" y="184"/>
                </a:cubicBezTo>
                <a:cubicBezTo>
                  <a:pt x="197" y="183"/>
                  <a:pt x="199" y="182"/>
                  <a:pt x="200" y="180"/>
                </a:cubicBezTo>
                <a:cubicBezTo>
                  <a:pt x="205" y="177"/>
                  <a:pt x="208" y="175"/>
                  <a:pt x="218" y="175"/>
                </a:cubicBezTo>
                <a:cubicBezTo>
                  <a:pt x="232" y="176"/>
                  <a:pt x="251" y="163"/>
                  <a:pt x="260" y="154"/>
                </a:cubicBezTo>
                <a:cubicBezTo>
                  <a:pt x="265" y="148"/>
                  <a:pt x="272" y="147"/>
                  <a:pt x="281" y="151"/>
                </a:cubicBezTo>
                <a:cubicBezTo>
                  <a:pt x="290" y="155"/>
                  <a:pt x="305" y="153"/>
                  <a:pt x="318" y="137"/>
                </a:cubicBezTo>
                <a:cubicBezTo>
                  <a:pt x="322" y="132"/>
                  <a:pt x="325" y="127"/>
                  <a:pt x="329" y="122"/>
                </a:cubicBezTo>
                <a:cubicBezTo>
                  <a:pt x="338" y="109"/>
                  <a:pt x="345" y="98"/>
                  <a:pt x="353" y="100"/>
                </a:cubicBezTo>
                <a:cubicBezTo>
                  <a:pt x="357" y="101"/>
                  <a:pt x="363" y="104"/>
                  <a:pt x="369" y="108"/>
                </a:cubicBezTo>
                <a:cubicBezTo>
                  <a:pt x="382" y="116"/>
                  <a:pt x="401" y="127"/>
                  <a:pt x="423" y="125"/>
                </a:cubicBezTo>
                <a:cubicBezTo>
                  <a:pt x="447" y="124"/>
                  <a:pt x="455" y="117"/>
                  <a:pt x="457" y="113"/>
                </a:cubicBezTo>
                <a:cubicBezTo>
                  <a:pt x="458" y="112"/>
                  <a:pt x="468" y="110"/>
                  <a:pt x="470" y="110"/>
                </a:cubicBezTo>
                <a:cubicBezTo>
                  <a:pt x="474" y="108"/>
                  <a:pt x="479" y="106"/>
                  <a:pt x="483" y="104"/>
                </a:cubicBezTo>
                <a:cubicBezTo>
                  <a:pt x="488" y="101"/>
                  <a:pt x="494" y="98"/>
                  <a:pt x="498" y="95"/>
                </a:cubicBezTo>
                <a:cubicBezTo>
                  <a:pt x="501" y="93"/>
                  <a:pt x="506" y="90"/>
                  <a:pt x="507" y="87"/>
                </a:cubicBezTo>
                <a:cubicBezTo>
                  <a:pt x="507" y="86"/>
                  <a:pt x="507" y="86"/>
                  <a:pt x="507" y="85"/>
                </a:cubicBezTo>
                <a:close/>
                <a:moveTo>
                  <a:pt x="136" y="162"/>
                </a:moveTo>
                <a:cubicBezTo>
                  <a:pt x="133" y="160"/>
                  <a:pt x="131" y="158"/>
                  <a:pt x="129" y="157"/>
                </a:cubicBezTo>
                <a:cubicBezTo>
                  <a:pt x="123" y="156"/>
                  <a:pt x="117" y="157"/>
                  <a:pt x="110" y="159"/>
                </a:cubicBezTo>
                <a:cubicBezTo>
                  <a:pt x="106" y="159"/>
                  <a:pt x="102" y="160"/>
                  <a:pt x="96" y="161"/>
                </a:cubicBezTo>
                <a:cubicBezTo>
                  <a:pt x="87" y="162"/>
                  <a:pt x="83" y="158"/>
                  <a:pt x="77" y="154"/>
                </a:cubicBezTo>
                <a:cubicBezTo>
                  <a:pt x="75" y="152"/>
                  <a:pt x="72" y="150"/>
                  <a:pt x="68" y="148"/>
                </a:cubicBezTo>
                <a:cubicBezTo>
                  <a:pt x="66" y="148"/>
                  <a:pt x="63" y="147"/>
                  <a:pt x="59" y="147"/>
                </a:cubicBezTo>
                <a:cubicBezTo>
                  <a:pt x="54" y="147"/>
                  <a:pt x="47" y="147"/>
                  <a:pt x="38" y="146"/>
                </a:cubicBezTo>
                <a:cubicBezTo>
                  <a:pt x="35" y="145"/>
                  <a:pt x="33" y="144"/>
                  <a:pt x="31" y="141"/>
                </a:cubicBezTo>
                <a:cubicBezTo>
                  <a:pt x="26" y="135"/>
                  <a:pt x="28" y="123"/>
                  <a:pt x="28" y="122"/>
                </a:cubicBezTo>
                <a:cubicBezTo>
                  <a:pt x="29" y="119"/>
                  <a:pt x="29" y="119"/>
                  <a:pt x="29" y="119"/>
                </a:cubicBezTo>
                <a:cubicBezTo>
                  <a:pt x="26" y="119"/>
                  <a:pt x="26" y="119"/>
                  <a:pt x="26" y="119"/>
                </a:cubicBezTo>
                <a:cubicBezTo>
                  <a:pt x="22" y="120"/>
                  <a:pt x="10" y="119"/>
                  <a:pt x="7" y="113"/>
                </a:cubicBezTo>
                <a:cubicBezTo>
                  <a:pt x="5" y="111"/>
                  <a:pt x="5" y="108"/>
                  <a:pt x="6" y="106"/>
                </a:cubicBezTo>
                <a:cubicBezTo>
                  <a:pt x="8" y="99"/>
                  <a:pt x="18" y="95"/>
                  <a:pt x="18" y="95"/>
                </a:cubicBezTo>
                <a:cubicBezTo>
                  <a:pt x="23" y="93"/>
                  <a:pt x="23" y="93"/>
                  <a:pt x="23" y="93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0" y="84"/>
                  <a:pt x="12" y="75"/>
                </a:cubicBezTo>
                <a:cubicBezTo>
                  <a:pt x="14" y="67"/>
                  <a:pt x="27" y="59"/>
                  <a:pt x="32" y="57"/>
                </a:cubicBezTo>
                <a:cubicBezTo>
                  <a:pt x="34" y="56"/>
                  <a:pt x="34" y="56"/>
                  <a:pt x="34" y="56"/>
                </a:cubicBezTo>
                <a:cubicBezTo>
                  <a:pt x="33" y="53"/>
                  <a:pt x="33" y="53"/>
                  <a:pt x="33" y="53"/>
                </a:cubicBezTo>
                <a:cubicBezTo>
                  <a:pt x="32" y="52"/>
                  <a:pt x="32" y="48"/>
                  <a:pt x="33" y="45"/>
                </a:cubicBezTo>
                <a:cubicBezTo>
                  <a:pt x="34" y="42"/>
                  <a:pt x="36" y="40"/>
                  <a:pt x="39" y="39"/>
                </a:cubicBezTo>
                <a:cubicBezTo>
                  <a:pt x="47" y="36"/>
                  <a:pt x="60" y="41"/>
                  <a:pt x="60" y="41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38"/>
                  <a:pt x="64" y="38"/>
                </a:cubicBezTo>
                <a:cubicBezTo>
                  <a:pt x="64" y="38"/>
                  <a:pt x="63" y="21"/>
                  <a:pt x="86" y="12"/>
                </a:cubicBezTo>
                <a:cubicBezTo>
                  <a:pt x="105" y="5"/>
                  <a:pt x="123" y="19"/>
                  <a:pt x="123" y="19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6" y="19"/>
                  <a:pt x="126" y="19"/>
                  <a:pt x="126" y="19"/>
                </a:cubicBezTo>
                <a:cubicBezTo>
                  <a:pt x="137" y="11"/>
                  <a:pt x="153" y="9"/>
                  <a:pt x="165" y="20"/>
                </a:cubicBezTo>
                <a:cubicBezTo>
                  <a:pt x="165" y="21"/>
                  <a:pt x="165" y="21"/>
                  <a:pt x="164" y="21"/>
                </a:cubicBezTo>
                <a:cubicBezTo>
                  <a:pt x="152" y="19"/>
                  <a:pt x="144" y="27"/>
                  <a:pt x="141" y="33"/>
                </a:cubicBezTo>
                <a:cubicBezTo>
                  <a:pt x="129" y="21"/>
                  <a:pt x="113" y="22"/>
                  <a:pt x="103" y="27"/>
                </a:cubicBezTo>
                <a:cubicBezTo>
                  <a:pt x="92" y="32"/>
                  <a:pt x="86" y="43"/>
                  <a:pt x="87" y="52"/>
                </a:cubicBezTo>
                <a:cubicBezTo>
                  <a:pt x="88" y="53"/>
                  <a:pt x="88" y="54"/>
                  <a:pt x="88" y="55"/>
                </a:cubicBezTo>
                <a:cubicBezTo>
                  <a:pt x="70" y="54"/>
                  <a:pt x="56" y="57"/>
                  <a:pt x="51" y="63"/>
                </a:cubicBezTo>
                <a:cubicBezTo>
                  <a:pt x="49" y="66"/>
                  <a:pt x="49" y="69"/>
                  <a:pt x="50" y="71"/>
                </a:cubicBezTo>
                <a:cubicBezTo>
                  <a:pt x="50" y="74"/>
                  <a:pt x="52" y="76"/>
                  <a:pt x="53" y="77"/>
                </a:cubicBezTo>
                <a:cubicBezTo>
                  <a:pt x="53" y="78"/>
                  <a:pt x="54" y="79"/>
                  <a:pt x="54" y="80"/>
                </a:cubicBezTo>
                <a:cubicBezTo>
                  <a:pt x="54" y="80"/>
                  <a:pt x="52" y="81"/>
                  <a:pt x="48" y="82"/>
                </a:cubicBezTo>
                <a:cubicBezTo>
                  <a:pt x="37" y="84"/>
                  <a:pt x="30" y="92"/>
                  <a:pt x="30" y="98"/>
                </a:cubicBezTo>
                <a:cubicBezTo>
                  <a:pt x="30" y="101"/>
                  <a:pt x="32" y="104"/>
                  <a:pt x="35" y="105"/>
                </a:cubicBezTo>
                <a:cubicBezTo>
                  <a:pt x="39" y="106"/>
                  <a:pt x="44" y="106"/>
                  <a:pt x="47" y="106"/>
                </a:cubicBezTo>
                <a:cubicBezTo>
                  <a:pt x="49" y="106"/>
                  <a:pt x="52" y="106"/>
                  <a:pt x="53" y="107"/>
                </a:cubicBezTo>
                <a:cubicBezTo>
                  <a:pt x="53" y="107"/>
                  <a:pt x="52" y="108"/>
                  <a:pt x="52" y="109"/>
                </a:cubicBezTo>
                <a:cubicBezTo>
                  <a:pt x="50" y="111"/>
                  <a:pt x="49" y="114"/>
                  <a:pt x="50" y="117"/>
                </a:cubicBezTo>
                <a:cubicBezTo>
                  <a:pt x="50" y="119"/>
                  <a:pt x="52" y="121"/>
                  <a:pt x="55" y="123"/>
                </a:cubicBezTo>
                <a:cubicBezTo>
                  <a:pt x="59" y="125"/>
                  <a:pt x="64" y="123"/>
                  <a:pt x="71" y="122"/>
                </a:cubicBezTo>
                <a:cubicBezTo>
                  <a:pt x="77" y="120"/>
                  <a:pt x="84" y="119"/>
                  <a:pt x="90" y="120"/>
                </a:cubicBezTo>
                <a:cubicBezTo>
                  <a:pt x="97" y="122"/>
                  <a:pt x="98" y="125"/>
                  <a:pt x="98" y="125"/>
                </a:cubicBezTo>
                <a:cubicBezTo>
                  <a:pt x="99" y="127"/>
                  <a:pt x="97" y="128"/>
                  <a:pt x="95" y="130"/>
                </a:cubicBezTo>
                <a:cubicBezTo>
                  <a:pt x="92" y="133"/>
                  <a:pt x="91" y="136"/>
                  <a:pt x="92" y="140"/>
                </a:cubicBezTo>
                <a:cubicBezTo>
                  <a:pt x="94" y="144"/>
                  <a:pt x="100" y="147"/>
                  <a:pt x="106" y="146"/>
                </a:cubicBezTo>
                <a:cubicBezTo>
                  <a:pt x="108" y="145"/>
                  <a:pt x="109" y="145"/>
                  <a:pt x="111" y="145"/>
                </a:cubicBezTo>
                <a:cubicBezTo>
                  <a:pt x="119" y="143"/>
                  <a:pt x="128" y="141"/>
                  <a:pt x="133" y="146"/>
                </a:cubicBezTo>
                <a:cubicBezTo>
                  <a:pt x="139" y="155"/>
                  <a:pt x="155" y="159"/>
                  <a:pt x="167" y="152"/>
                </a:cubicBezTo>
                <a:cubicBezTo>
                  <a:pt x="177" y="146"/>
                  <a:pt x="179" y="134"/>
                  <a:pt x="175" y="125"/>
                </a:cubicBezTo>
                <a:cubicBezTo>
                  <a:pt x="172" y="117"/>
                  <a:pt x="163" y="114"/>
                  <a:pt x="152" y="117"/>
                </a:cubicBezTo>
                <a:cubicBezTo>
                  <a:pt x="147" y="119"/>
                  <a:pt x="143" y="125"/>
                  <a:pt x="143" y="129"/>
                </a:cubicBezTo>
                <a:cubicBezTo>
                  <a:pt x="143" y="133"/>
                  <a:pt x="144" y="136"/>
                  <a:pt x="147" y="138"/>
                </a:cubicBezTo>
                <a:cubicBezTo>
                  <a:pt x="148" y="138"/>
                  <a:pt x="150" y="138"/>
                  <a:pt x="150" y="137"/>
                </a:cubicBezTo>
                <a:cubicBezTo>
                  <a:pt x="151" y="135"/>
                  <a:pt x="150" y="134"/>
                  <a:pt x="149" y="133"/>
                </a:cubicBezTo>
                <a:cubicBezTo>
                  <a:pt x="148" y="133"/>
                  <a:pt x="148" y="131"/>
                  <a:pt x="148" y="130"/>
                </a:cubicBezTo>
                <a:cubicBezTo>
                  <a:pt x="148" y="127"/>
                  <a:pt x="150" y="123"/>
                  <a:pt x="154" y="122"/>
                </a:cubicBezTo>
                <a:cubicBezTo>
                  <a:pt x="162" y="119"/>
                  <a:pt x="168" y="121"/>
                  <a:pt x="171" y="127"/>
                </a:cubicBezTo>
                <a:cubicBezTo>
                  <a:pt x="174" y="133"/>
                  <a:pt x="172" y="143"/>
                  <a:pt x="165" y="148"/>
                </a:cubicBezTo>
                <a:cubicBezTo>
                  <a:pt x="154" y="154"/>
                  <a:pt x="142" y="150"/>
                  <a:pt x="137" y="143"/>
                </a:cubicBezTo>
                <a:cubicBezTo>
                  <a:pt x="131" y="135"/>
                  <a:pt x="119" y="138"/>
                  <a:pt x="110" y="140"/>
                </a:cubicBezTo>
                <a:cubicBezTo>
                  <a:pt x="108" y="140"/>
                  <a:pt x="107" y="140"/>
                  <a:pt x="105" y="141"/>
                </a:cubicBezTo>
                <a:cubicBezTo>
                  <a:pt x="101" y="141"/>
                  <a:pt x="98" y="140"/>
                  <a:pt x="97" y="138"/>
                </a:cubicBezTo>
                <a:cubicBezTo>
                  <a:pt x="96" y="136"/>
                  <a:pt x="97" y="135"/>
                  <a:pt x="98" y="134"/>
                </a:cubicBezTo>
                <a:cubicBezTo>
                  <a:pt x="103" y="130"/>
                  <a:pt x="104" y="127"/>
                  <a:pt x="103" y="124"/>
                </a:cubicBezTo>
                <a:cubicBezTo>
                  <a:pt x="103" y="120"/>
                  <a:pt x="99" y="117"/>
                  <a:pt x="91" y="115"/>
                </a:cubicBezTo>
                <a:cubicBezTo>
                  <a:pt x="85" y="113"/>
                  <a:pt x="77" y="115"/>
                  <a:pt x="69" y="117"/>
                </a:cubicBezTo>
                <a:cubicBezTo>
                  <a:pt x="65" y="118"/>
                  <a:pt x="59" y="119"/>
                  <a:pt x="57" y="118"/>
                </a:cubicBezTo>
                <a:cubicBezTo>
                  <a:pt x="56" y="117"/>
                  <a:pt x="55" y="116"/>
                  <a:pt x="55" y="116"/>
                </a:cubicBezTo>
                <a:cubicBezTo>
                  <a:pt x="54" y="115"/>
                  <a:pt x="55" y="113"/>
                  <a:pt x="56" y="112"/>
                </a:cubicBezTo>
                <a:cubicBezTo>
                  <a:pt x="57" y="110"/>
                  <a:pt x="58" y="108"/>
                  <a:pt x="58" y="106"/>
                </a:cubicBezTo>
                <a:cubicBezTo>
                  <a:pt x="57" y="101"/>
                  <a:pt x="52" y="101"/>
                  <a:pt x="47" y="101"/>
                </a:cubicBezTo>
                <a:cubicBezTo>
                  <a:pt x="44" y="101"/>
                  <a:pt x="40" y="101"/>
                  <a:pt x="37" y="100"/>
                </a:cubicBezTo>
                <a:cubicBezTo>
                  <a:pt x="35" y="100"/>
                  <a:pt x="35" y="99"/>
                  <a:pt x="35" y="98"/>
                </a:cubicBezTo>
                <a:cubicBezTo>
                  <a:pt x="35" y="95"/>
                  <a:pt x="40" y="89"/>
                  <a:pt x="49" y="87"/>
                </a:cubicBezTo>
                <a:cubicBezTo>
                  <a:pt x="55" y="85"/>
                  <a:pt x="58" y="84"/>
                  <a:pt x="59" y="81"/>
                </a:cubicBezTo>
                <a:cubicBezTo>
                  <a:pt x="60" y="79"/>
                  <a:pt x="58" y="77"/>
                  <a:pt x="57" y="75"/>
                </a:cubicBezTo>
                <a:cubicBezTo>
                  <a:pt x="56" y="73"/>
                  <a:pt x="55" y="72"/>
                  <a:pt x="54" y="70"/>
                </a:cubicBezTo>
                <a:cubicBezTo>
                  <a:pt x="54" y="69"/>
                  <a:pt x="54" y="68"/>
                  <a:pt x="55" y="67"/>
                </a:cubicBezTo>
                <a:cubicBezTo>
                  <a:pt x="58" y="62"/>
                  <a:pt x="70" y="58"/>
                  <a:pt x="89" y="60"/>
                </a:cubicBezTo>
                <a:cubicBezTo>
                  <a:pt x="89" y="60"/>
                  <a:pt x="89" y="60"/>
                  <a:pt x="90" y="60"/>
                </a:cubicBezTo>
                <a:cubicBezTo>
                  <a:pt x="92" y="66"/>
                  <a:pt x="97" y="70"/>
                  <a:pt x="104" y="72"/>
                </a:cubicBezTo>
                <a:cubicBezTo>
                  <a:pt x="111" y="74"/>
                  <a:pt x="119" y="73"/>
                  <a:pt x="123" y="68"/>
                </a:cubicBezTo>
                <a:cubicBezTo>
                  <a:pt x="127" y="63"/>
                  <a:pt x="129" y="58"/>
                  <a:pt x="127" y="54"/>
                </a:cubicBezTo>
                <a:cubicBezTo>
                  <a:pt x="126" y="50"/>
                  <a:pt x="123" y="48"/>
                  <a:pt x="119" y="48"/>
                </a:cubicBezTo>
                <a:cubicBezTo>
                  <a:pt x="117" y="48"/>
                  <a:pt x="116" y="49"/>
                  <a:pt x="116" y="50"/>
                </a:cubicBezTo>
                <a:cubicBezTo>
                  <a:pt x="116" y="51"/>
                  <a:pt x="117" y="53"/>
                  <a:pt x="118" y="53"/>
                </a:cubicBezTo>
                <a:cubicBezTo>
                  <a:pt x="120" y="53"/>
                  <a:pt x="122" y="54"/>
                  <a:pt x="123" y="56"/>
                </a:cubicBezTo>
                <a:cubicBezTo>
                  <a:pt x="123" y="58"/>
                  <a:pt x="122" y="61"/>
                  <a:pt x="119" y="65"/>
                </a:cubicBezTo>
                <a:cubicBezTo>
                  <a:pt x="116" y="68"/>
                  <a:pt x="111" y="69"/>
                  <a:pt x="105" y="67"/>
                </a:cubicBezTo>
                <a:cubicBezTo>
                  <a:pt x="101" y="66"/>
                  <a:pt x="94" y="63"/>
                  <a:pt x="92" y="52"/>
                </a:cubicBezTo>
                <a:cubicBezTo>
                  <a:pt x="91" y="44"/>
                  <a:pt x="96" y="36"/>
                  <a:pt x="105" y="32"/>
                </a:cubicBezTo>
                <a:cubicBezTo>
                  <a:pt x="114" y="27"/>
                  <a:pt x="129" y="27"/>
                  <a:pt x="139" y="39"/>
                </a:cubicBezTo>
                <a:cubicBezTo>
                  <a:pt x="142" y="42"/>
                  <a:pt x="142" y="42"/>
                  <a:pt x="142" y="42"/>
                </a:cubicBezTo>
                <a:cubicBezTo>
                  <a:pt x="144" y="38"/>
                  <a:pt x="144" y="38"/>
                  <a:pt x="144" y="38"/>
                </a:cubicBezTo>
                <a:cubicBezTo>
                  <a:pt x="144" y="37"/>
                  <a:pt x="150" y="23"/>
                  <a:pt x="165" y="27"/>
                </a:cubicBezTo>
                <a:cubicBezTo>
                  <a:pt x="167" y="27"/>
                  <a:pt x="167" y="27"/>
                  <a:pt x="167" y="27"/>
                </a:cubicBezTo>
                <a:cubicBezTo>
                  <a:pt x="168" y="25"/>
                  <a:pt x="168" y="25"/>
                  <a:pt x="168" y="25"/>
                </a:cubicBezTo>
                <a:cubicBezTo>
                  <a:pt x="168" y="25"/>
                  <a:pt x="171" y="18"/>
                  <a:pt x="180" y="15"/>
                </a:cubicBezTo>
                <a:cubicBezTo>
                  <a:pt x="187" y="13"/>
                  <a:pt x="196" y="14"/>
                  <a:pt x="206" y="20"/>
                </a:cubicBezTo>
                <a:cubicBezTo>
                  <a:pt x="207" y="20"/>
                  <a:pt x="207" y="20"/>
                  <a:pt x="207" y="20"/>
                </a:cubicBezTo>
                <a:cubicBezTo>
                  <a:pt x="208" y="20"/>
                  <a:pt x="208" y="20"/>
                  <a:pt x="208" y="20"/>
                </a:cubicBezTo>
                <a:cubicBezTo>
                  <a:pt x="208" y="20"/>
                  <a:pt x="220" y="15"/>
                  <a:pt x="228" y="19"/>
                </a:cubicBezTo>
                <a:cubicBezTo>
                  <a:pt x="232" y="21"/>
                  <a:pt x="234" y="25"/>
                  <a:pt x="236" y="30"/>
                </a:cubicBezTo>
                <a:cubicBezTo>
                  <a:pt x="236" y="31"/>
                  <a:pt x="236" y="31"/>
                  <a:pt x="236" y="31"/>
                </a:cubicBezTo>
                <a:cubicBezTo>
                  <a:pt x="238" y="32"/>
                  <a:pt x="238" y="32"/>
                  <a:pt x="238" y="32"/>
                </a:cubicBezTo>
                <a:cubicBezTo>
                  <a:pt x="238" y="32"/>
                  <a:pt x="259" y="37"/>
                  <a:pt x="261" y="55"/>
                </a:cubicBezTo>
                <a:cubicBezTo>
                  <a:pt x="261" y="56"/>
                  <a:pt x="261" y="58"/>
                  <a:pt x="261" y="59"/>
                </a:cubicBezTo>
                <a:cubicBezTo>
                  <a:pt x="261" y="59"/>
                  <a:pt x="261" y="60"/>
                  <a:pt x="261" y="60"/>
                </a:cubicBezTo>
                <a:cubicBezTo>
                  <a:pt x="260" y="67"/>
                  <a:pt x="255" y="75"/>
                  <a:pt x="248" y="79"/>
                </a:cubicBezTo>
                <a:cubicBezTo>
                  <a:pt x="240" y="84"/>
                  <a:pt x="230" y="83"/>
                  <a:pt x="222" y="77"/>
                </a:cubicBezTo>
                <a:cubicBezTo>
                  <a:pt x="218" y="74"/>
                  <a:pt x="216" y="69"/>
                  <a:pt x="217" y="64"/>
                </a:cubicBezTo>
                <a:cubicBezTo>
                  <a:pt x="217" y="59"/>
                  <a:pt x="221" y="55"/>
                  <a:pt x="224" y="53"/>
                </a:cubicBezTo>
                <a:cubicBezTo>
                  <a:pt x="227" y="53"/>
                  <a:pt x="229" y="53"/>
                  <a:pt x="232" y="55"/>
                </a:cubicBezTo>
                <a:cubicBezTo>
                  <a:pt x="233" y="56"/>
                  <a:pt x="234" y="56"/>
                  <a:pt x="235" y="55"/>
                </a:cubicBezTo>
                <a:cubicBezTo>
                  <a:pt x="236" y="53"/>
                  <a:pt x="236" y="52"/>
                  <a:pt x="235" y="51"/>
                </a:cubicBezTo>
                <a:cubicBezTo>
                  <a:pt x="231" y="48"/>
                  <a:pt x="227" y="47"/>
                  <a:pt x="223" y="49"/>
                </a:cubicBezTo>
                <a:cubicBezTo>
                  <a:pt x="217" y="51"/>
                  <a:pt x="213" y="57"/>
                  <a:pt x="212" y="64"/>
                </a:cubicBezTo>
                <a:cubicBezTo>
                  <a:pt x="211" y="70"/>
                  <a:pt x="213" y="77"/>
                  <a:pt x="219" y="81"/>
                </a:cubicBezTo>
                <a:cubicBezTo>
                  <a:pt x="229" y="88"/>
                  <a:pt x="240" y="89"/>
                  <a:pt x="251" y="83"/>
                </a:cubicBezTo>
                <a:cubicBezTo>
                  <a:pt x="259" y="78"/>
                  <a:pt x="265" y="70"/>
                  <a:pt x="266" y="61"/>
                </a:cubicBezTo>
                <a:cubicBezTo>
                  <a:pt x="270" y="60"/>
                  <a:pt x="275" y="60"/>
                  <a:pt x="278" y="62"/>
                </a:cubicBezTo>
                <a:cubicBezTo>
                  <a:pt x="282" y="65"/>
                  <a:pt x="285" y="69"/>
                  <a:pt x="285" y="74"/>
                </a:cubicBezTo>
                <a:cubicBezTo>
                  <a:pt x="285" y="80"/>
                  <a:pt x="285" y="80"/>
                  <a:pt x="285" y="80"/>
                </a:cubicBezTo>
                <a:cubicBezTo>
                  <a:pt x="289" y="76"/>
                  <a:pt x="289" y="76"/>
                  <a:pt x="289" y="76"/>
                </a:cubicBezTo>
                <a:cubicBezTo>
                  <a:pt x="289" y="76"/>
                  <a:pt x="296" y="70"/>
                  <a:pt x="304" y="76"/>
                </a:cubicBezTo>
                <a:cubicBezTo>
                  <a:pt x="309" y="79"/>
                  <a:pt x="311" y="84"/>
                  <a:pt x="311" y="87"/>
                </a:cubicBezTo>
                <a:cubicBezTo>
                  <a:pt x="312" y="94"/>
                  <a:pt x="309" y="101"/>
                  <a:pt x="306" y="104"/>
                </a:cubicBezTo>
                <a:cubicBezTo>
                  <a:pt x="303" y="108"/>
                  <a:pt x="296" y="112"/>
                  <a:pt x="289" y="112"/>
                </a:cubicBezTo>
                <a:cubicBezTo>
                  <a:pt x="284" y="112"/>
                  <a:pt x="280" y="110"/>
                  <a:pt x="277" y="107"/>
                </a:cubicBezTo>
                <a:cubicBezTo>
                  <a:pt x="273" y="103"/>
                  <a:pt x="273" y="99"/>
                  <a:pt x="274" y="96"/>
                </a:cubicBezTo>
                <a:cubicBezTo>
                  <a:pt x="276" y="93"/>
                  <a:pt x="279" y="90"/>
                  <a:pt x="282" y="89"/>
                </a:cubicBezTo>
                <a:cubicBezTo>
                  <a:pt x="284" y="89"/>
                  <a:pt x="287" y="89"/>
                  <a:pt x="289" y="92"/>
                </a:cubicBezTo>
                <a:cubicBezTo>
                  <a:pt x="289" y="93"/>
                  <a:pt x="291" y="93"/>
                  <a:pt x="292" y="92"/>
                </a:cubicBezTo>
                <a:cubicBezTo>
                  <a:pt x="293" y="91"/>
                  <a:pt x="293" y="90"/>
                  <a:pt x="293" y="88"/>
                </a:cubicBezTo>
                <a:cubicBezTo>
                  <a:pt x="290" y="85"/>
                  <a:pt x="286" y="83"/>
                  <a:pt x="282" y="84"/>
                </a:cubicBezTo>
                <a:cubicBezTo>
                  <a:pt x="276" y="85"/>
                  <a:pt x="271" y="89"/>
                  <a:pt x="270" y="95"/>
                </a:cubicBezTo>
                <a:cubicBezTo>
                  <a:pt x="268" y="100"/>
                  <a:pt x="269" y="106"/>
                  <a:pt x="274" y="110"/>
                </a:cubicBezTo>
                <a:cubicBezTo>
                  <a:pt x="278" y="115"/>
                  <a:pt x="283" y="117"/>
                  <a:pt x="289" y="117"/>
                </a:cubicBezTo>
                <a:cubicBezTo>
                  <a:pt x="298" y="117"/>
                  <a:pt x="306" y="112"/>
                  <a:pt x="310" y="108"/>
                </a:cubicBezTo>
                <a:cubicBezTo>
                  <a:pt x="315" y="103"/>
                  <a:pt x="317" y="94"/>
                  <a:pt x="316" y="87"/>
                </a:cubicBezTo>
                <a:cubicBezTo>
                  <a:pt x="315" y="80"/>
                  <a:pt x="312" y="75"/>
                  <a:pt x="307" y="72"/>
                </a:cubicBezTo>
                <a:cubicBezTo>
                  <a:pt x="306" y="71"/>
                  <a:pt x="305" y="70"/>
                  <a:pt x="303" y="70"/>
                </a:cubicBezTo>
                <a:cubicBezTo>
                  <a:pt x="328" y="47"/>
                  <a:pt x="364" y="51"/>
                  <a:pt x="401" y="80"/>
                </a:cubicBezTo>
                <a:cubicBezTo>
                  <a:pt x="432" y="105"/>
                  <a:pt x="473" y="97"/>
                  <a:pt x="494" y="91"/>
                </a:cubicBezTo>
                <a:cubicBezTo>
                  <a:pt x="447" y="126"/>
                  <a:pt x="402" y="104"/>
                  <a:pt x="374" y="90"/>
                </a:cubicBezTo>
                <a:cubicBezTo>
                  <a:pt x="365" y="86"/>
                  <a:pt x="358" y="82"/>
                  <a:pt x="353" y="82"/>
                </a:cubicBezTo>
                <a:cubicBezTo>
                  <a:pt x="339" y="79"/>
                  <a:pt x="332" y="89"/>
                  <a:pt x="325" y="99"/>
                </a:cubicBezTo>
                <a:cubicBezTo>
                  <a:pt x="321" y="106"/>
                  <a:pt x="316" y="113"/>
                  <a:pt x="308" y="119"/>
                </a:cubicBezTo>
                <a:cubicBezTo>
                  <a:pt x="288" y="133"/>
                  <a:pt x="268" y="121"/>
                  <a:pt x="267" y="121"/>
                </a:cubicBezTo>
                <a:cubicBezTo>
                  <a:pt x="265" y="119"/>
                  <a:pt x="265" y="119"/>
                  <a:pt x="265" y="119"/>
                </a:cubicBezTo>
                <a:cubicBezTo>
                  <a:pt x="264" y="122"/>
                  <a:pt x="264" y="122"/>
                  <a:pt x="264" y="122"/>
                </a:cubicBezTo>
                <a:cubicBezTo>
                  <a:pt x="252" y="143"/>
                  <a:pt x="230" y="136"/>
                  <a:pt x="229" y="136"/>
                </a:cubicBezTo>
                <a:cubicBezTo>
                  <a:pt x="227" y="135"/>
                  <a:pt x="227" y="135"/>
                  <a:pt x="227" y="135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4" y="142"/>
                  <a:pt x="220" y="146"/>
                  <a:pt x="215" y="148"/>
                </a:cubicBezTo>
                <a:cubicBezTo>
                  <a:pt x="209" y="151"/>
                  <a:pt x="201" y="151"/>
                  <a:pt x="194" y="148"/>
                </a:cubicBezTo>
                <a:cubicBezTo>
                  <a:pt x="194" y="146"/>
                  <a:pt x="194" y="145"/>
                  <a:pt x="194" y="143"/>
                </a:cubicBezTo>
                <a:cubicBezTo>
                  <a:pt x="193" y="138"/>
                  <a:pt x="190" y="135"/>
                  <a:pt x="187" y="133"/>
                </a:cubicBezTo>
                <a:cubicBezTo>
                  <a:pt x="191" y="129"/>
                  <a:pt x="193" y="119"/>
                  <a:pt x="193" y="119"/>
                </a:cubicBezTo>
                <a:cubicBezTo>
                  <a:pt x="195" y="109"/>
                  <a:pt x="191" y="99"/>
                  <a:pt x="182" y="93"/>
                </a:cubicBezTo>
                <a:cubicBezTo>
                  <a:pt x="172" y="87"/>
                  <a:pt x="160" y="85"/>
                  <a:pt x="150" y="90"/>
                </a:cubicBezTo>
                <a:cubicBezTo>
                  <a:pt x="149" y="86"/>
                  <a:pt x="146" y="81"/>
                  <a:pt x="141" y="79"/>
                </a:cubicBezTo>
                <a:cubicBezTo>
                  <a:pt x="136" y="77"/>
                  <a:pt x="131" y="78"/>
                  <a:pt x="125" y="82"/>
                </a:cubicBezTo>
                <a:cubicBezTo>
                  <a:pt x="124" y="83"/>
                  <a:pt x="123" y="84"/>
                  <a:pt x="124" y="85"/>
                </a:cubicBezTo>
                <a:cubicBezTo>
                  <a:pt x="125" y="87"/>
                  <a:pt x="126" y="87"/>
                  <a:pt x="127" y="86"/>
                </a:cubicBezTo>
                <a:cubicBezTo>
                  <a:pt x="132" y="83"/>
                  <a:pt x="136" y="83"/>
                  <a:pt x="139" y="84"/>
                </a:cubicBezTo>
                <a:cubicBezTo>
                  <a:pt x="144" y="86"/>
                  <a:pt x="146" y="94"/>
                  <a:pt x="146" y="94"/>
                </a:cubicBezTo>
                <a:cubicBezTo>
                  <a:pt x="147" y="97"/>
                  <a:pt x="147" y="97"/>
                  <a:pt x="147" y="97"/>
                </a:cubicBezTo>
                <a:cubicBezTo>
                  <a:pt x="147" y="97"/>
                  <a:pt x="150" y="96"/>
                  <a:pt x="150" y="96"/>
                </a:cubicBezTo>
                <a:cubicBezTo>
                  <a:pt x="158" y="90"/>
                  <a:pt x="170" y="91"/>
                  <a:pt x="179" y="97"/>
                </a:cubicBezTo>
                <a:cubicBezTo>
                  <a:pt x="186" y="102"/>
                  <a:pt x="190" y="110"/>
                  <a:pt x="188" y="118"/>
                </a:cubicBezTo>
                <a:cubicBezTo>
                  <a:pt x="187" y="122"/>
                  <a:pt x="184" y="131"/>
                  <a:pt x="182" y="131"/>
                </a:cubicBezTo>
                <a:cubicBezTo>
                  <a:pt x="182" y="131"/>
                  <a:pt x="182" y="131"/>
                  <a:pt x="182" y="131"/>
                </a:cubicBezTo>
                <a:cubicBezTo>
                  <a:pt x="181" y="136"/>
                  <a:pt x="181" y="136"/>
                  <a:pt x="181" y="136"/>
                </a:cubicBezTo>
                <a:cubicBezTo>
                  <a:pt x="181" y="136"/>
                  <a:pt x="187" y="138"/>
                  <a:pt x="189" y="144"/>
                </a:cubicBezTo>
                <a:cubicBezTo>
                  <a:pt x="189" y="148"/>
                  <a:pt x="188" y="152"/>
                  <a:pt x="185" y="156"/>
                </a:cubicBezTo>
                <a:cubicBezTo>
                  <a:pt x="183" y="160"/>
                  <a:pt x="176" y="167"/>
                  <a:pt x="163" y="170"/>
                </a:cubicBezTo>
                <a:cubicBezTo>
                  <a:pt x="149" y="173"/>
                  <a:pt x="141" y="166"/>
                  <a:pt x="136" y="162"/>
                </a:cubicBezTo>
                <a:close/>
                <a:moveTo>
                  <a:pt x="423" y="120"/>
                </a:moveTo>
                <a:cubicBezTo>
                  <a:pt x="402" y="121"/>
                  <a:pt x="385" y="111"/>
                  <a:pt x="371" y="103"/>
                </a:cubicBezTo>
                <a:cubicBezTo>
                  <a:pt x="365" y="100"/>
                  <a:pt x="359" y="96"/>
                  <a:pt x="354" y="95"/>
                </a:cubicBezTo>
                <a:cubicBezTo>
                  <a:pt x="343" y="92"/>
                  <a:pt x="334" y="105"/>
                  <a:pt x="325" y="119"/>
                </a:cubicBezTo>
                <a:cubicBezTo>
                  <a:pt x="321" y="124"/>
                  <a:pt x="318" y="129"/>
                  <a:pt x="314" y="134"/>
                </a:cubicBezTo>
                <a:cubicBezTo>
                  <a:pt x="303" y="147"/>
                  <a:pt x="290" y="150"/>
                  <a:pt x="283" y="147"/>
                </a:cubicBezTo>
                <a:cubicBezTo>
                  <a:pt x="272" y="142"/>
                  <a:pt x="263" y="143"/>
                  <a:pt x="256" y="151"/>
                </a:cubicBezTo>
                <a:cubicBezTo>
                  <a:pt x="248" y="159"/>
                  <a:pt x="230" y="171"/>
                  <a:pt x="218" y="170"/>
                </a:cubicBezTo>
                <a:cubicBezTo>
                  <a:pt x="207" y="169"/>
                  <a:pt x="203" y="173"/>
                  <a:pt x="197" y="176"/>
                </a:cubicBezTo>
                <a:cubicBezTo>
                  <a:pt x="196" y="177"/>
                  <a:pt x="194" y="179"/>
                  <a:pt x="192" y="180"/>
                </a:cubicBezTo>
                <a:cubicBezTo>
                  <a:pt x="186" y="183"/>
                  <a:pt x="175" y="180"/>
                  <a:pt x="167" y="174"/>
                </a:cubicBezTo>
                <a:cubicBezTo>
                  <a:pt x="180" y="171"/>
                  <a:pt x="187" y="163"/>
                  <a:pt x="189" y="159"/>
                </a:cubicBezTo>
                <a:cubicBezTo>
                  <a:pt x="191" y="157"/>
                  <a:pt x="192" y="155"/>
                  <a:pt x="193" y="153"/>
                </a:cubicBezTo>
                <a:cubicBezTo>
                  <a:pt x="201" y="156"/>
                  <a:pt x="210" y="156"/>
                  <a:pt x="217" y="152"/>
                </a:cubicBezTo>
                <a:cubicBezTo>
                  <a:pt x="223" y="150"/>
                  <a:pt x="227" y="146"/>
                  <a:pt x="230" y="141"/>
                </a:cubicBezTo>
                <a:cubicBezTo>
                  <a:pt x="236" y="142"/>
                  <a:pt x="256" y="145"/>
                  <a:pt x="267" y="126"/>
                </a:cubicBezTo>
                <a:cubicBezTo>
                  <a:pt x="274" y="129"/>
                  <a:pt x="292" y="136"/>
                  <a:pt x="311" y="123"/>
                </a:cubicBezTo>
                <a:cubicBezTo>
                  <a:pt x="319" y="117"/>
                  <a:pt x="325" y="109"/>
                  <a:pt x="329" y="102"/>
                </a:cubicBezTo>
                <a:cubicBezTo>
                  <a:pt x="336" y="92"/>
                  <a:pt x="341" y="85"/>
                  <a:pt x="353" y="87"/>
                </a:cubicBezTo>
                <a:cubicBezTo>
                  <a:pt x="357" y="87"/>
                  <a:pt x="364" y="91"/>
                  <a:pt x="372" y="95"/>
                </a:cubicBezTo>
                <a:cubicBezTo>
                  <a:pt x="391" y="104"/>
                  <a:pt x="418" y="118"/>
                  <a:pt x="449" y="115"/>
                </a:cubicBezTo>
                <a:cubicBezTo>
                  <a:pt x="444" y="117"/>
                  <a:pt x="437" y="120"/>
                  <a:pt x="423" y="12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6" descr="E:\模板素材\月饼.png"/>
          <p:cNvPicPr/>
          <p:nvPr/>
        </p:nvPicPr>
        <p:blipFill>
          <a:blip r:embed="rId5"/>
          <a:srcRect l="28395" t="15322" r="26335" b="54669"/>
          <a:stretch/>
        </p:blipFill>
        <p:spPr>
          <a:xfrm>
            <a:off x="3559320" y="1136520"/>
            <a:ext cx="18604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47" dur="2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25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25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2.59259E-006 L -0.44774 0.20486 E">
                                      <p:cBhvr>
                                        <p:cTn id="185" dur="1000" fill="hold"/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87" dur="250" fill="hold"/>
                                        <p:tgtEl>
                                          <p:spTgt spid="109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mph" presetID="26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10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5" dur="1000" fill="hold"/>
                                        <p:tgtEl>
                                          <p:spTgt spid="10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10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9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8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C2A4-654C-4FB0-B030-A6EB3AEC68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矩形 25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4" descr="E:\模板素材\NiPic_37646_1e5ec8d893d159b9\未标1.jpg"/>
          <p:cNvPicPr/>
          <p:nvPr/>
        </p:nvPicPr>
        <p:blipFill>
          <a:blip r:embed="rId1"/>
          <a:stretch/>
        </p:blipFill>
        <p:spPr>
          <a:xfrm>
            <a:off x="-9360" y="-17640"/>
            <a:ext cx="91659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3"/>
          <p:cNvGrpSpPr/>
          <p:nvPr/>
        </p:nvGrpSpPr>
        <p:grpSpPr>
          <a:xfrm>
            <a:off x="2395440" y="6548400"/>
            <a:ext cx="433440" cy="316080"/>
            <a:chOff x="2395440" y="6548400"/>
            <a:chExt cx="433440" cy="316080"/>
          </a:xfrm>
        </p:grpSpPr>
        <p:sp>
          <p:nvSpPr>
            <p:cNvPr id="1104" name="Freeform 7"/>
            <p:cNvSpPr/>
            <p:nvPr/>
          </p:nvSpPr>
          <p:spPr>
            <a:xfrm flipH="1">
              <a:off x="2691720" y="6595560"/>
              <a:ext cx="432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8"/>
            <p:cNvSpPr/>
            <p:nvPr/>
          </p:nvSpPr>
          <p:spPr>
            <a:xfrm flipH="1">
              <a:off x="2697840" y="6602760"/>
              <a:ext cx="432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"/>
            <p:cNvSpPr/>
            <p:nvPr/>
          </p:nvSpPr>
          <p:spPr>
            <a:xfrm flipH="1">
              <a:off x="2678760" y="6585480"/>
              <a:ext cx="252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0"/>
            <p:cNvSpPr/>
            <p:nvPr/>
          </p:nvSpPr>
          <p:spPr>
            <a:xfrm flipH="1">
              <a:off x="2625840" y="657504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1"/>
            <p:cNvSpPr/>
            <p:nvPr/>
          </p:nvSpPr>
          <p:spPr>
            <a:xfrm flipH="1">
              <a:off x="2625840" y="6576840"/>
              <a:ext cx="72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 flipH="1">
              <a:off x="2624400" y="6564240"/>
              <a:ext cx="95400" cy="12456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 flipH="1">
              <a:off x="2706840" y="6613200"/>
              <a:ext cx="324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 flipH="1">
              <a:off x="2696400" y="66016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 flipH="1">
              <a:off x="2692440" y="6599160"/>
              <a:ext cx="3240" cy="2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 flipH="1">
              <a:off x="2690280" y="65955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 flipH="1">
              <a:off x="2697480" y="66034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 flipH="1">
              <a:off x="2691720" y="659808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 flipH="1">
              <a:off x="2649960" y="657036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 flipH="1">
              <a:off x="2749680" y="66258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 flipH="1">
              <a:off x="2749680" y="6631200"/>
              <a:ext cx="36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 flipH="1">
              <a:off x="2747880" y="661608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3"/>
            <p:cNvSpPr/>
            <p:nvPr/>
          </p:nvSpPr>
          <p:spPr>
            <a:xfrm flipH="1">
              <a:off x="2736360" y="65840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4"/>
            <p:cNvSpPr/>
            <p:nvPr/>
          </p:nvSpPr>
          <p:spPr>
            <a:xfrm flipH="1">
              <a:off x="2735640" y="658224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5"/>
            <p:cNvSpPr/>
            <p:nvPr/>
          </p:nvSpPr>
          <p:spPr>
            <a:xfrm flipH="1">
              <a:off x="2697120" y="6548400"/>
              <a:ext cx="53280" cy="123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6"/>
            <p:cNvSpPr/>
            <p:nvPr/>
          </p:nvSpPr>
          <p:spPr>
            <a:xfrm flipH="1">
              <a:off x="2750760" y="663912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"/>
            <p:cNvSpPr/>
            <p:nvPr/>
          </p:nvSpPr>
          <p:spPr>
            <a:xfrm flipH="1">
              <a:off x="2749680" y="66294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8"/>
            <p:cNvSpPr/>
            <p:nvPr/>
          </p:nvSpPr>
          <p:spPr>
            <a:xfrm flipH="1">
              <a:off x="2748960" y="6627600"/>
              <a:ext cx="72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9"/>
            <p:cNvSpPr/>
            <p:nvPr/>
          </p:nvSpPr>
          <p:spPr>
            <a:xfrm flipH="1">
              <a:off x="2747880" y="6624000"/>
              <a:ext cx="36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0"/>
            <p:cNvSpPr/>
            <p:nvPr/>
          </p:nvSpPr>
          <p:spPr>
            <a:xfrm flipH="1">
              <a:off x="2748960" y="663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1"/>
            <p:cNvSpPr/>
            <p:nvPr/>
          </p:nvSpPr>
          <p:spPr>
            <a:xfrm flipH="1">
              <a:off x="2747880" y="66265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2"/>
            <p:cNvSpPr/>
            <p:nvPr/>
          </p:nvSpPr>
          <p:spPr>
            <a:xfrm flipH="1">
              <a:off x="2742480" y="659736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3"/>
            <p:cNvSpPr/>
            <p:nvPr/>
          </p:nvSpPr>
          <p:spPr>
            <a:xfrm flipH="1">
              <a:off x="2789280" y="6711480"/>
              <a:ext cx="144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4"/>
            <p:cNvSpPr/>
            <p:nvPr/>
          </p:nvSpPr>
          <p:spPr>
            <a:xfrm flipH="1">
              <a:off x="2783160" y="6705000"/>
              <a:ext cx="2520" cy="25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5"/>
            <p:cNvSpPr/>
            <p:nvPr/>
          </p:nvSpPr>
          <p:spPr>
            <a:xfrm flipH="1">
              <a:off x="2798280" y="6718320"/>
              <a:ext cx="1440" cy="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6"/>
            <p:cNvSpPr/>
            <p:nvPr/>
          </p:nvSpPr>
          <p:spPr>
            <a:xfrm flipH="1">
              <a:off x="2816640" y="6750720"/>
              <a:ext cx="36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7"/>
            <p:cNvSpPr/>
            <p:nvPr/>
          </p:nvSpPr>
          <p:spPr>
            <a:xfrm flipH="1">
              <a:off x="2816640" y="675252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8"/>
            <p:cNvSpPr/>
            <p:nvPr/>
          </p:nvSpPr>
          <p:spPr>
            <a:xfrm flipH="1">
              <a:off x="2728800" y="6680880"/>
              <a:ext cx="99720" cy="1105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9"/>
            <p:cNvSpPr/>
            <p:nvPr/>
          </p:nvSpPr>
          <p:spPr>
            <a:xfrm flipH="1">
              <a:off x="2774880" y="6700680"/>
              <a:ext cx="50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0"/>
            <p:cNvSpPr/>
            <p:nvPr/>
          </p:nvSpPr>
          <p:spPr>
            <a:xfrm flipH="1">
              <a:off x="2787120" y="670788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1"/>
            <p:cNvSpPr/>
            <p:nvPr/>
          </p:nvSpPr>
          <p:spPr>
            <a:xfrm flipH="1">
              <a:off x="2789280" y="67078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2"/>
            <p:cNvSpPr/>
            <p:nvPr/>
          </p:nvSpPr>
          <p:spPr>
            <a:xfrm flipH="1">
              <a:off x="2790360" y="6710400"/>
              <a:ext cx="252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3"/>
            <p:cNvSpPr/>
            <p:nvPr/>
          </p:nvSpPr>
          <p:spPr>
            <a:xfrm flipH="1">
              <a:off x="2786400" y="67068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4"/>
            <p:cNvSpPr/>
            <p:nvPr/>
          </p:nvSpPr>
          <p:spPr>
            <a:xfrm flipH="1">
              <a:off x="2790720" y="670968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5"/>
            <p:cNvSpPr/>
            <p:nvPr/>
          </p:nvSpPr>
          <p:spPr>
            <a:xfrm flipH="1">
              <a:off x="2813040" y="6733800"/>
              <a:ext cx="7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6"/>
            <p:cNvSpPr/>
            <p:nvPr/>
          </p:nvSpPr>
          <p:spPr>
            <a:xfrm flipH="1">
              <a:off x="2624040" y="6644520"/>
              <a:ext cx="432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7"/>
            <p:cNvSpPr/>
            <p:nvPr/>
          </p:nvSpPr>
          <p:spPr>
            <a:xfrm flipH="1">
              <a:off x="2631600" y="6651720"/>
              <a:ext cx="6120" cy="4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8"/>
            <p:cNvSpPr/>
            <p:nvPr/>
          </p:nvSpPr>
          <p:spPr>
            <a:xfrm flipH="1">
              <a:off x="2606760" y="6635520"/>
              <a:ext cx="324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9"/>
            <p:cNvSpPr/>
            <p:nvPr/>
          </p:nvSpPr>
          <p:spPr>
            <a:xfrm flipH="1">
              <a:off x="2536920" y="66355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0"/>
            <p:cNvSpPr/>
            <p:nvPr/>
          </p:nvSpPr>
          <p:spPr>
            <a:xfrm flipH="1">
              <a:off x="2534400" y="663660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1"/>
            <p:cNvSpPr/>
            <p:nvPr/>
          </p:nvSpPr>
          <p:spPr>
            <a:xfrm flipH="1">
              <a:off x="2445120" y="6628320"/>
              <a:ext cx="251640" cy="129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2"/>
            <p:cNvSpPr/>
            <p:nvPr/>
          </p:nvSpPr>
          <p:spPr>
            <a:xfrm flipH="1">
              <a:off x="2644560" y="6660360"/>
              <a:ext cx="504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3"/>
            <p:cNvSpPr/>
            <p:nvPr/>
          </p:nvSpPr>
          <p:spPr>
            <a:xfrm flipH="1">
              <a:off x="2629080" y="66499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4"/>
            <p:cNvSpPr/>
            <p:nvPr/>
          </p:nvSpPr>
          <p:spPr>
            <a:xfrm flipH="1">
              <a:off x="2625480" y="6648120"/>
              <a:ext cx="324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5"/>
            <p:cNvSpPr/>
            <p:nvPr/>
          </p:nvSpPr>
          <p:spPr>
            <a:xfrm flipH="1">
              <a:off x="2621160" y="6644520"/>
              <a:ext cx="3240" cy="2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6"/>
            <p:cNvSpPr/>
            <p:nvPr/>
          </p:nvSpPr>
          <p:spPr>
            <a:xfrm flipH="1">
              <a:off x="2632320" y="66524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7"/>
            <p:cNvSpPr/>
            <p:nvPr/>
          </p:nvSpPr>
          <p:spPr>
            <a:xfrm flipH="1">
              <a:off x="2622600" y="664812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8"/>
            <p:cNvSpPr/>
            <p:nvPr/>
          </p:nvSpPr>
          <p:spPr>
            <a:xfrm flipH="1">
              <a:off x="2566800" y="6631200"/>
              <a:ext cx="432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9"/>
            <p:cNvSpPr/>
            <p:nvPr/>
          </p:nvSpPr>
          <p:spPr>
            <a:xfrm flipH="1">
              <a:off x="2589120" y="674424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60"/>
            <p:cNvSpPr/>
            <p:nvPr/>
          </p:nvSpPr>
          <p:spPr>
            <a:xfrm flipH="1">
              <a:off x="2586600" y="673992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61"/>
            <p:cNvSpPr/>
            <p:nvPr/>
          </p:nvSpPr>
          <p:spPr>
            <a:xfrm flipH="1">
              <a:off x="2593800" y="6748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2"/>
            <p:cNvSpPr/>
            <p:nvPr/>
          </p:nvSpPr>
          <p:spPr>
            <a:xfrm flipH="1">
              <a:off x="2607120" y="676836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63"/>
            <p:cNvSpPr/>
            <p:nvPr/>
          </p:nvSpPr>
          <p:spPr>
            <a:xfrm flipH="1">
              <a:off x="2607120" y="6769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64"/>
            <p:cNvSpPr/>
            <p:nvPr/>
          </p:nvSpPr>
          <p:spPr>
            <a:xfrm flipH="1">
              <a:off x="2565720" y="6721200"/>
              <a:ext cx="55080" cy="10764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5"/>
            <p:cNvSpPr/>
            <p:nvPr/>
          </p:nvSpPr>
          <p:spPr>
            <a:xfrm flipH="1">
              <a:off x="2583000" y="67370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6"/>
            <p:cNvSpPr/>
            <p:nvPr/>
          </p:nvSpPr>
          <p:spPr>
            <a:xfrm flipH="1">
              <a:off x="2589120" y="67424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7"/>
            <p:cNvSpPr/>
            <p:nvPr/>
          </p:nvSpPr>
          <p:spPr>
            <a:xfrm flipH="1">
              <a:off x="2589840" y="67424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8"/>
            <p:cNvSpPr/>
            <p:nvPr/>
          </p:nvSpPr>
          <p:spPr>
            <a:xfrm flipH="1">
              <a:off x="2590920" y="6744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9"/>
            <p:cNvSpPr/>
            <p:nvPr/>
          </p:nvSpPr>
          <p:spPr>
            <a:xfrm flipH="1">
              <a:off x="2588400" y="6740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70"/>
            <p:cNvSpPr/>
            <p:nvPr/>
          </p:nvSpPr>
          <p:spPr>
            <a:xfrm flipH="1">
              <a:off x="2590920" y="674244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1"/>
            <p:cNvSpPr/>
            <p:nvPr/>
          </p:nvSpPr>
          <p:spPr>
            <a:xfrm flipH="1">
              <a:off x="2602440" y="67586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72"/>
            <p:cNvSpPr/>
            <p:nvPr/>
          </p:nvSpPr>
          <p:spPr>
            <a:xfrm flipH="1">
              <a:off x="2443680" y="676116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3"/>
            <p:cNvSpPr/>
            <p:nvPr/>
          </p:nvSpPr>
          <p:spPr>
            <a:xfrm flipH="1">
              <a:off x="2445480" y="6767640"/>
              <a:ext cx="720" cy="324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4"/>
            <p:cNvSpPr/>
            <p:nvPr/>
          </p:nvSpPr>
          <p:spPr>
            <a:xfrm flipH="1">
              <a:off x="2434320" y="6753960"/>
              <a:ext cx="252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75"/>
            <p:cNvSpPr/>
            <p:nvPr/>
          </p:nvSpPr>
          <p:spPr>
            <a:xfrm flipH="1">
              <a:off x="2402640" y="676476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6"/>
            <p:cNvSpPr/>
            <p:nvPr/>
          </p:nvSpPr>
          <p:spPr>
            <a:xfrm flipH="1">
              <a:off x="240156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7"/>
            <p:cNvSpPr/>
            <p:nvPr/>
          </p:nvSpPr>
          <p:spPr>
            <a:xfrm flipH="1">
              <a:off x="2395080" y="6749640"/>
              <a:ext cx="50760" cy="5436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8"/>
            <p:cNvSpPr/>
            <p:nvPr/>
          </p:nvSpPr>
          <p:spPr>
            <a:xfrm flipH="1">
              <a:off x="2447280" y="6775560"/>
              <a:ext cx="720" cy="43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9"/>
            <p:cNvSpPr/>
            <p:nvPr/>
          </p:nvSpPr>
          <p:spPr>
            <a:xfrm flipH="1">
              <a:off x="2444400" y="6765840"/>
              <a:ext cx="72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80"/>
            <p:cNvSpPr/>
            <p:nvPr/>
          </p:nvSpPr>
          <p:spPr>
            <a:xfrm flipH="1">
              <a:off x="2442960" y="67640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81"/>
            <p:cNvSpPr/>
            <p:nvPr/>
          </p:nvSpPr>
          <p:spPr>
            <a:xfrm flipH="1">
              <a:off x="2441160" y="67611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82"/>
            <p:cNvSpPr/>
            <p:nvPr/>
          </p:nvSpPr>
          <p:spPr>
            <a:xfrm flipH="1">
              <a:off x="2444400" y="6767640"/>
              <a:ext cx="72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83"/>
            <p:cNvSpPr/>
            <p:nvPr/>
          </p:nvSpPr>
          <p:spPr>
            <a:xfrm flipH="1">
              <a:off x="2441880" y="676404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84"/>
            <p:cNvSpPr/>
            <p:nvPr/>
          </p:nvSpPr>
          <p:spPr>
            <a:xfrm flipH="1">
              <a:off x="2414160" y="6755040"/>
              <a:ext cx="72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85"/>
            <p:cNvSpPr/>
            <p:nvPr/>
          </p:nvSpPr>
          <p:spPr>
            <a:xfrm flipH="1">
              <a:off x="2698200" y="6811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6"/>
            <p:cNvSpPr/>
            <p:nvPr/>
          </p:nvSpPr>
          <p:spPr>
            <a:xfrm flipH="1">
              <a:off x="2701800" y="681012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7"/>
            <p:cNvSpPr/>
            <p:nvPr/>
          </p:nvSpPr>
          <p:spPr>
            <a:xfrm flipH="1">
              <a:off x="2693520" y="68137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88"/>
            <p:cNvSpPr/>
            <p:nvPr/>
          </p:nvSpPr>
          <p:spPr>
            <a:xfrm flipH="1">
              <a:off x="267408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9"/>
            <p:cNvSpPr/>
            <p:nvPr/>
          </p:nvSpPr>
          <p:spPr>
            <a:xfrm flipH="1">
              <a:off x="2673000" y="682380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0"/>
            <p:cNvSpPr/>
            <p:nvPr/>
          </p:nvSpPr>
          <p:spPr>
            <a:xfrm flipH="1">
              <a:off x="2619360" y="6798600"/>
              <a:ext cx="105120" cy="3708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91"/>
            <p:cNvSpPr/>
            <p:nvPr/>
          </p:nvSpPr>
          <p:spPr>
            <a:xfrm flipH="1">
              <a:off x="2705400" y="6807600"/>
              <a:ext cx="1440" cy="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92"/>
            <p:cNvSpPr/>
            <p:nvPr/>
          </p:nvSpPr>
          <p:spPr>
            <a:xfrm flipH="1">
              <a:off x="2700720" y="68112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93"/>
            <p:cNvSpPr/>
            <p:nvPr/>
          </p:nvSpPr>
          <p:spPr>
            <a:xfrm flipH="1">
              <a:off x="2700000" y="681192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94"/>
            <p:cNvSpPr/>
            <p:nvPr/>
          </p:nvSpPr>
          <p:spPr>
            <a:xfrm flipH="1">
              <a:off x="2698200" y="681300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95"/>
            <p:cNvSpPr/>
            <p:nvPr/>
          </p:nvSpPr>
          <p:spPr>
            <a:xfrm flipH="1">
              <a:off x="2701440" y="68119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96"/>
            <p:cNvSpPr/>
            <p:nvPr/>
          </p:nvSpPr>
          <p:spPr>
            <a:xfrm flipH="1">
              <a:off x="2699640" y="681300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97"/>
            <p:cNvSpPr/>
            <p:nvPr/>
          </p:nvSpPr>
          <p:spPr>
            <a:xfrm flipH="1">
              <a:off x="2683080" y="682020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98"/>
            <p:cNvSpPr/>
            <p:nvPr/>
          </p:nvSpPr>
          <p:spPr>
            <a:xfrm flipH="1">
              <a:off x="2610000" y="6846840"/>
              <a:ext cx="25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99"/>
            <p:cNvSpPr/>
            <p:nvPr/>
          </p:nvSpPr>
          <p:spPr>
            <a:xfrm flipH="1">
              <a:off x="2616840" y="6846120"/>
              <a:ext cx="4320" cy="72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00"/>
            <p:cNvSpPr/>
            <p:nvPr/>
          </p:nvSpPr>
          <p:spPr>
            <a:xfrm flipH="1">
              <a:off x="2598840" y="6848640"/>
              <a:ext cx="324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01"/>
            <p:cNvSpPr/>
            <p:nvPr/>
          </p:nvSpPr>
          <p:spPr>
            <a:xfrm flipH="1">
              <a:off x="25570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02"/>
            <p:cNvSpPr/>
            <p:nvPr/>
          </p:nvSpPr>
          <p:spPr>
            <a:xfrm flipH="1">
              <a:off x="2555280" y="6851160"/>
              <a:ext cx="144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03"/>
            <p:cNvSpPr/>
            <p:nvPr/>
          </p:nvSpPr>
          <p:spPr>
            <a:xfrm flipH="1">
              <a:off x="2458800" y="6814800"/>
              <a:ext cx="180000" cy="49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4"/>
            <p:cNvSpPr/>
            <p:nvPr/>
          </p:nvSpPr>
          <p:spPr>
            <a:xfrm flipH="1">
              <a:off x="2622960" y="6844320"/>
              <a:ext cx="3240" cy="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05"/>
            <p:cNvSpPr/>
            <p:nvPr/>
          </p:nvSpPr>
          <p:spPr>
            <a:xfrm flipH="1">
              <a:off x="2615040" y="684684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6"/>
            <p:cNvSpPr/>
            <p:nvPr/>
          </p:nvSpPr>
          <p:spPr>
            <a:xfrm flipH="1">
              <a:off x="2613240" y="684864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7"/>
            <p:cNvSpPr/>
            <p:nvPr/>
          </p:nvSpPr>
          <p:spPr>
            <a:xfrm flipH="1">
              <a:off x="2609280" y="6848640"/>
              <a:ext cx="252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8"/>
            <p:cNvSpPr/>
            <p:nvPr/>
          </p:nvSpPr>
          <p:spPr>
            <a:xfrm flipH="1">
              <a:off x="2616840" y="6847560"/>
              <a:ext cx="1440" cy="7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09"/>
            <p:cNvSpPr/>
            <p:nvPr/>
          </p:nvSpPr>
          <p:spPr>
            <a:xfrm flipH="1">
              <a:off x="2612160" y="684936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10"/>
            <p:cNvSpPr/>
            <p:nvPr/>
          </p:nvSpPr>
          <p:spPr>
            <a:xfrm flipH="1">
              <a:off x="2576880" y="6851160"/>
              <a:ext cx="14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11"/>
            <p:cNvSpPr/>
            <p:nvPr/>
          </p:nvSpPr>
          <p:spPr>
            <a:xfrm flipH="1">
              <a:off x="2734200" y="6707880"/>
              <a:ext cx="2484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12"/>
            <p:cNvSpPr/>
            <p:nvPr/>
          </p:nvSpPr>
          <p:spPr>
            <a:xfrm flipH="1">
              <a:off x="2749680" y="6723720"/>
              <a:ext cx="720" cy="72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13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14"/>
            <p:cNvSpPr/>
            <p:nvPr/>
          </p:nvSpPr>
          <p:spPr>
            <a:xfrm flipH="1">
              <a:off x="2749680" y="672300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15"/>
            <p:cNvSpPr/>
            <p:nvPr/>
          </p:nvSpPr>
          <p:spPr>
            <a:xfrm flipH="1">
              <a:off x="2741760" y="6721920"/>
              <a:ext cx="72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16"/>
            <p:cNvSpPr/>
            <p:nvPr/>
          </p:nvSpPr>
          <p:spPr>
            <a:xfrm flipH="1">
              <a:off x="2741040" y="67219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17"/>
            <p:cNvSpPr/>
            <p:nvPr/>
          </p:nvSpPr>
          <p:spPr>
            <a:xfrm flipH="1">
              <a:off x="2730240" y="6703200"/>
              <a:ext cx="30240" cy="320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18"/>
            <p:cNvSpPr/>
            <p:nvPr/>
          </p:nvSpPr>
          <p:spPr>
            <a:xfrm flipH="1">
              <a:off x="2749680" y="672372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19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20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21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22"/>
            <p:cNvSpPr/>
            <p:nvPr/>
          </p:nvSpPr>
          <p:spPr>
            <a:xfrm flipH="1">
              <a:off x="27496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23"/>
            <p:cNvSpPr/>
            <p:nvPr/>
          </p:nvSpPr>
          <p:spPr>
            <a:xfrm flipH="1">
              <a:off x="2749680" y="6723720"/>
              <a:ext cx="360" cy="7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4"/>
            <p:cNvSpPr/>
            <p:nvPr/>
          </p:nvSpPr>
          <p:spPr>
            <a:xfrm flipH="1">
              <a:off x="2744280" y="6723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122"/>
          <p:cNvGrpSpPr/>
          <p:nvPr/>
        </p:nvGrpSpPr>
        <p:grpSpPr>
          <a:xfrm>
            <a:off x="3027240" y="6381720"/>
            <a:ext cx="586080" cy="428760"/>
            <a:chOff x="3027240" y="6381720"/>
            <a:chExt cx="586080" cy="428760"/>
          </a:xfrm>
        </p:grpSpPr>
        <p:sp>
          <p:nvSpPr>
            <p:cNvPr id="1223" name="Freeform 7"/>
            <p:cNvSpPr/>
            <p:nvPr/>
          </p:nvSpPr>
          <p:spPr>
            <a:xfrm>
              <a:off x="3206880" y="6445440"/>
              <a:ext cx="576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5" y="1"/>
                    <a:pt x="0" y="4"/>
                    <a:pt x="3" y="2"/>
                  </a:cubicBezTo>
                  <a:cubicBezTo>
                    <a:pt x="3" y="2"/>
                    <a:pt x="4" y="1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8"/>
            <p:cNvSpPr/>
            <p:nvPr/>
          </p:nvSpPr>
          <p:spPr>
            <a:xfrm>
              <a:off x="3198240" y="6455160"/>
              <a:ext cx="5760" cy="7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2" y="4"/>
                    <a:pt x="4" y="2"/>
                    <a:pt x="6" y="0"/>
                  </a:cubicBezTo>
                  <a:cubicBezTo>
                    <a:pt x="5" y="2"/>
                    <a:pt x="2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"/>
            <p:cNvSpPr/>
            <p:nvPr/>
          </p:nvSpPr>
          <p:spPr>
            <a:xfrm>
              <a:off x="3226320" y="6432480"/>
              <a:ext cx="360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cubicBezTo>
                    <a:pt x="0" y="2"/>
                    <a:pt x="4" y="0"/>
                    <a:pt x="2" y="1"/>
                  </a:cubicBezTo>
                  <a:cubicBezTo>
                    <a:pt x="3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"/>
            <p:cNvSpPr/>
            <p:nvPr/>
          </p:nvSpPr>
          <p:spPr>
            <a:xfrm>
              <a:off x="3300840" y="641772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1"/>
            <p:cNvSpPr/>
            <p:nvPr/>
          </p:nvSpPr>
          <p:spPr>
            <a:xfrm>
              <a:off x="3300840" y="6420240"/>
              <a:ext cx="1080" cy="46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1" y="1"/>
                    <a:pt x="1" y="2"/>
                    <a:pt x="1" y="4"/>
                  </a:cubicBezTo>
                  <a:cubicBezTo>
                    <a:pt x="1" y="3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"/>
            <p:cNvSpPr/>
            <p:nvPr/>
          </p:nvSpPr>
          <p:spPr>
            <a:xfrm>
              <a:off x="3174120" y="6403320"/>
              <a:ext cx="128880" cy="1692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44" y="36"/>
                  </a:moveTo>
                  <a:cubicBezTo>
                    <a:pt x="43" y="38"/>
                    <a:pt x="41" y="39"/>
                    <a:pt x="40" y="40"/>
                  </a:cubicBezTo>
                  <a:cubicBezTo>
                    <a:pt x="56" y="27"/>
                    <a:pt x="73" y="17"/>
                    <a:pt x="92" y="10"/>
                  </a:cubicBezTo>
                  <a:cubicBezTo>
                    <a:pt x="88" y="11"/>
                    <a:pt x="84" y="13"/>
                    <a:pt x="81" y="14"/>
                  </a:cubicBezTo>
                  <a:cubicBezTo>
                    <a:pt x="87" y="11"/>
                    <a:pt x="94" y="8"/>
                    <a:pt x="101" y="6"/>
                  </a:cubicBezTo>
                  <a:cubicBezTo>
                    <a:pt x="81" y="14"/>
                    <a:pt x="65" y="22"/>
                    <a:pt x="49" y="34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46" y="36"/>
                    <a:pt x="41" y="39"/>
                    <a:pt x="37" y="43"/>
                  </a:cubicBezTo>
                  <a:cubicBezTo>
                    <a:pt x="39" y="41"/>
                    <a:pt x="44" y="37"/>
                    <a:pt x="47" y="36"/>
                  </a:cubicBezTo>
                  <a:cubicBezTo>
                    <a:pt x="44" y="38"/>
                    <a:pt x="41" y="40"/>
                    <a:pt x="39" y="42"/>
                  </a:cubicBezTo>
                  <a:cubicBezTo>
                    <a:pt x="39" y="42"/>
                    <a:pt x="37" y="43"/>
                    <a:pt x="38" y="43"/>
                  </a:cubicBezTo>
                  <a:cubicBezTo>
                    <a:pt x="42" y="39"/>
                    <a:pt x="50" y="33"/>
                    <a:pt x="54" y="30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0"/>
                    <a:pt x="57" y="29"/>
                    <a:pt x="58" y="29"/>
                  </a:cubicBezTo>
                  <a:cubicBezTo>
                    <a:pt x="50" y="34"/>
                    <a:pt x="43" y="39"/>
                    <a:pt x="36" y="45"/>
                  </a:cubicBezTo>
                  <a:cubicBezTo>
                    <a:pt x="45" y="38"/>
                    <a:pt x="54" y="31"/>
                    <a:pt x="62" y="26"/>
                  </a:cubicBezTo>
                  <a:cubicBezTo>
                    <a:pt x="52" y="33"/>
                    <a:pt x="44" y="38"/>
                    <a:pt x="36" y="46"/>
                  </a:cubicBezTo>
                  <a:cubicBezTo>
                    <a:pt x="35" y="46"/>
                    <a:pt x="36" y="46"/>
                    <a:pt x="36" y="46"/>
                  </a:cubicBezTo>
                  <a:cubicBezTo>
                    <a:pt x="41" y="42"/>
                    <a:pt x="45" y="38"/>
                    <a:pt x="50" y="35"/>
                  </a:cubicBezTo>
                  <a:cubicBezTo>
                    <a:pt x="46" y="38"/>
                    <a:pt x="42" y="41"/>
                    <a:pt x="38" y="45"/>
                  </a:cubicBezTo>
                  <a:cubicBezTo>
                    <a:pt x="42" y="42"/>
                    <a:pt x="45" y="39"/>
                    <a:pt x="49" y="37"/>
                  </a:cubicBezTo>
                  <a:cubicBezTo>
                    <a:pt x="45" y="40"/>
                    <a:pt x="40" y="43"/>
                    <a:pt x="36" y="47"/>
                  </a:cubicBezTo>
                  <a:cubicBezTo>
                    <a:pt x="39" y="45"/>
                    <a:pt x="41" y="43"/>
                    <a:pt x="43" y="41"/>
                  </a:cubicBezTo>
                  <a:cubicBezTo>
                    <a:pt x="29" y="54"/>
                    <a:pt x="16" y="70"/>
                    <a:pt x="9" y="88"/>
                  </a:cubicBezTo>
                  <a:cubicBezTo>
                    <a:pt x="6" y="95"/>
                    <a:pt x="4" y="102"/>
                    <a:pt x="3" y="109"/>
                  </a:cubicBezTo>
                  <a:cubicBezTo>
                    <a:pt x="1" y="116"/>
                    <a:pt x="0" y="123"/>
                    <a:pt x="1" y="129"/>
                  </a:cubicBezTo>
                  <a:cubicBezTo>
                    <a:pt x="0" y="130"/>
                    <a:pt x="1" y="129"/>
                    <a:pt x="1" y="130"/>
                  </a:cubicBezTo>
                  <a:cubicBezTo>
                    <a:pt x="1" y="134"/>
                    <a:pt x="2" y="140"/>
                    <a:pt x="3" y="143"/>
                  </a:cubicBezTo>
                  <a:cubicBezTo>
                    <a:pt x="4" y="142"/>
                    <a:pt x="4" y="139"/>
                    <a:pt x="5" y="136"/>
                  </a:cubicBezTo>
                  <a:cubicBezTo>
                    <a:pt x="5" y="136"/>
                    <a:pt x="5" y="137"/>
                    <a:pt x="5" y="136"/>
                  </a:cubicBezTo>
                  <a:cubicBezTo>
                    <a:pt x="5" y="135"/>
                    <a:pt x="5" y="134"/>
                    <a:pt x="6" y="134"/>
                  </a:cubicBezTo>
                  <a:cubicBezTo>
                    <a:pt x="6" y="133"/>
                    <a:pt x="6" y="132"/>
                    <a:pt x="6" y="130"/>
                  </a:cubicBezTo>
                  <a:cubicBezTo>
                    <a:pt x="6" y="130"/>
                    <a:pt x="6" y="131"/>
                    <a:pt x="6" y="131"/>
                  </a:cubicBezTo>
                  <a:cubicBezTo>
                    <a:pt x="8" y="123"/>
                    <a:pt x="10" y="115"/>
                    <a:pt x="13" y="106"/>
                  </a:cubicBezTo>
                  <a:cubicBezTo>
                    <a:pt x="15" y="101"/>
                    <a:pt x="18" y="96"/>
                    <a:pt x="21" y="92"/>
                  </a:cubicBezTo>
                  <a:cubicBezTo>
                    <a:pt x="26" y="82"/>
                    <a:pt x="34" y="72"/>
                    <a:pt x="41" y="64"/>
                  </a:cubicBezTo>
                  <a:cubicBezTo>
                    <a:pt x="43" y="62"/>
                    <a:pt x="44" y="61"/>
                    <a:pt x="45" y="59"/>
                  </a:cubicBezTo>
                  <a:cubicBezTo>
                    <a:pt x="61" y="43"/>
                    <a:pt x="81" y="30"/>
                    <a:pt x="103" y="21"/>
                  </a:cubicBezTo>
                  <a:cubicBezTo>
                    <a:pt x="105" y="21"/>
                    <a:pt x="109" y="19"/>
                    <a:pt x="109" y="19"/>
                  </a:cubicBezTo>
                  <a:cubicBezTo>
                    <a:pt x="109" y="19"/>
                    <a:pt x="109" y="19"/>
                    <a:pt x="109" y="19"/>
                  </a:cubicBezTo>
                  <a:cubicBezTo>
                    <a:pt x="110" y="43"/>
                    <a:pt x="98" y="72"/>
                    <a:pt x="85" y="94"/>
                  </a:cubicBezTo>
                  <a:cubicBezTo>
                    <a:pt x="78" y="108"/>
                    <a:pt x="67" y="122"/>
                    <a:pt x="57" y="133"/>
                  </a:cubicBezTo>
                  <a:cubicBezTo>
                    <a:pt x="54" y="136"/>
                    <a:pt x="50" y="139"/>
                    <a:pt x="47" y="142"/>
                  </a:cubicBezTo>
                  <a:cubicBezTo>
                    <a:pt x="43" y="146"/>
                    <a:pt x="39" y="150"/>
                    <a:pt x="35" y="153"/>
                  </a:cubicBezTo>
                  <a:cubicBezTo>
                    <a:pt x="32" y="156"/>
                    <a:pt x="27" y="157"/>
                    <a:pt x="26" y="160"/>
                  </a:cubicBezTo>
                  <a:cubicBezTo>
                    <a:pt x="32" y="164"/>
                    <a:pt x="46" y="159"/>
                    <a:pt x="58" y="148"/>
                  </a:cubicBezTo>
                  <a:cubicBezTo>
                    <a:pt x="60" y="146"/>
                    <a:pt x="62" y="144"/>
                    <a:pt x="64" y="142"/>
                  </a:cubicBezTo>
                  <a:cubicBezTo>
                    <a:pt x="81" y="125"/>
                    <a:pt x="97" y="103"/>
                    <a:pt x="108" y="79"/>
                  </a:cubicBezTo>
                  <a:cubicBezTo>
                    <a:pt x="113" y="70"/>
                    <a:pt x="116" y="61"/>
                    <a:pt x="119" y="53"/>
                  </a:cubicBezTo>
                  <a:cubicBezTo>
                    <a:pt x="119" y="53"/>
                    <a:pt x="119" y="53"/>
                    <a:pt x="119" y="53"/>
                  </a:cubicBezTo>
                  <a:cubicBezTo>
                    <a:pt x="122" y="44"/>
                    <a:pt x="124" y="34"/>
                    <a:pt x="125" y="24"/>
                  </a:cubicBezTo>
                  <a:cubicBezTo>
                    <a:pt x="125" y="25"/>
                    <a:pt x="125" y="27"/>
                    <a:pt x="125" y="27"/>
                  </a:cubicBezTo>
                  <a:cubicBezTo>
                    <a:pt x="125" y="24"/>
                    <a:pt x="125" y="20"/>
                    <a:pt x="125" y="16"/>
                  </a:cubicBezTo>
                  <a:cubicBezTo>
                    <a:pt x="125" y="14"/>
                    <a:pt x="125" y="12"/>
                    <a:pt x="124" y="10"/>
                  </a:cubicBezTo>
                  <a:cubicBezTo>
                    <a:pt x="124" y="9"/>
                    <a:pt x="124" y="8"/>
                    <a:pt x="123" y="7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5"/>
                    <a:pt x="123" y="5"/>
                    <a:pt x="123" y="5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4"/>
                    <a:pt x="123" y="4"/>
                    <a:pt x="123" y="4"/>
                  </a:cubicBezTo>
                  <a:cubicBezTo>
                    <a:pt x="123" y="5"/>
                    <a:pt x="120" y="0"/>
                    <a:pt x="120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07" y="2"/>
                    <a:pt x="100" y="4"/>
                    <a:pt x="94" y="7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89" y="9"/>
                    <a:pt x="80" y="13"/>
                    <a:pt x="73" y="16"/>
                  </a:cubicBezTo>
                  <a:cubicBezTo>
                    <a:pt x="67" y="20"/>
                    <a:pt x="60" y="23"/>
                    <a:pt x="55" y="27"/>
                  </a:cubicBezTo>
                  <a:cubicBezTo>
                    <a:pt x="65" y="21"/>
                    <a:pt x="78" y="14"/>
                    <a:pt x="89" y="9"/>
                  </a:cubicBezTo>
                  <a:cubicBezTo>
                    <a:pt x="75" y="15"/>
                    <a:pt x="61" y="23"/>
                    <a:pt x="48" y="33"/>
                  </a:cubicBezTo>
                  <a:cubicBezTo>
                    <a:pt x="64" y="21"/>
                    <a:pt x="81" y="12"/>
                    <a:pt x="101" y="5"/>
                  </a:cubicBezTo>
                  <a:cubicBezTo>
                    <a:pt x="101" y="5"/>
                    <a:pt x="100" y="6"/>
                    <a:pt x="100" y="6"/>
                  </a:cubicBezTo>
                  <a:cubicBezTo>
                    <a:pt x="101" y="6"/>
                    <a:pt x="106" y="4"/>
                    <a:pt x="109" y="3"/>
                  </a:cubicBezTo>
                  <a:cubicBezTo>
                    <a:pt x="110" y="3"/>
                    <a:pt x="112" y="3"/>
                    <a:pt x="113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7" y="2"/>
                    <a:pt x="119" y="2"/>
                    <a:pt x="119" y="2"/>
                  </a:cubicBezTo>
                  <a:cubicBezTo>
                    <a:pt x="119" y="2"/>
                    <a:pt x="121" y="3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2" y="5"/>
                    <a:pt x="122" y="5"/>
                    <a:pt x="122" y="5"/>
                  </a:cubicBezTo>
                  <a:cubicBezTo>
                    <a:pt x="122" y="6"/>
                    <a:pt x="122" y="6"/>
                    <a:pt x="122" y="6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123" y="10"/>
                    <a:pt x="124" y="14"/>
                    <a:pt x="124" y="17"/>
                  </a:cubicBezTo>
                  <a:cubicBezTo>
                    <a:pt x="124" y="25"/>
                    <a:pt x="123" y="33"/>
                    <a:pt x="122" y="39"/>
                  </a:cubicBezTo>
                  <a:cubicBezTo>
                    <a:pt x="123" y="32"/>
                    <a:pt x="124" y="24"/>
                    <a:pt x="123" y="16"/>
                  </a:cubicBezTo>
                  <a:cubicBezTo>
                    <a:pt x="123" y="14"/>
                    <a:pt x="123" y="12"/>
                    <a:pt x="123" y="10"/>
                  </a:cubicBezTo>
                  <a:cubicBezTo>
                    <a:pt x="122" y="10"/>
                    <a:pt x="122" y="9"/>
                    <a:pt x="122" y="8"/>
                  </a:cubicBezTo>
                  <a:cubicBezTo>
                    <a:pt x="121" y="6"/>
                    <a:pt x="121" y="6"/>
                    <a:pt x="121" y="6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5"/>
                    <a:pt x="121" y="5"/>
                    <a:pt x="121" y="5"/>
                  </a:cubicBezTo>
                  <a:cubicBezTo>
                    <a:pt x="121" y="4"/>
                    <a:pt x="119" y="3"/>
                    <a:pt x="119" y="2"/>
                  </a:cubicBezTo>
                  <a:cubicBezTo>
                    <a:pt x="119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2" y="3"/>
                    <a:pt x="108" y="4"/>
                    <a:pt x="105" y="5"/>
                  </a:cubicBezTo>
                  <a:cubicBezTo>
                    <a:pt x="91" y="9"/>
                    <a:pt x="78" y="15"/>
                    <a:pt x="66" y="21"/>
                  </a:cubicBezTo>
                  <a:cubicBezTo>
                    <a:pt x="67" y="21"/>
                    <a:pt x="67" y="21"/>
                    <a:pt x="67" y="21"/>
                  </a:cubicBezTo>
                  <a:cubicBezTo>
                    <a:pt x="68" y="20"/>
                    <a:pt x="64" y="22"/>
                    <a:pt x="66" y="22"/>
                  </a:cubicBezTo>
                  <a:cubicBezTo>
                    <a:pt x="66" y="21"/>
                    <a:pt x="66" y="21"/>
                    <a:pt x="66" y="21"/>
                  </a:cubicBezTo>
                  <a:cubicBezTo>
                    <a:pt x="66" y="22"/>
                    <a:pt x="64" y="23"/>
                    <a:pt x="63" y="23"/>
                  </a:cubicBezTo>
                  <a:cubicBezTo>
                    <a:pt x="63" y="23"/>
                    <a:pt x="64" y="23"/>
                    <a:pt x="64" y="22"/>
                  </a:cubicBezTo>
                  <a:cubicBezTo>
                    <a:pt x="63" y="23"/>
                    <a:pt x="60" y="25"/>
                    <a:pt x="61" y="24"/>
                  </a:cubicBezTo>
                  <a:cubicBezTo>
                    <a:pt x="61" y="25"/>
                    <a:pt x="61" y="24"/>
                    <a:pt x="60" y="25"/>
                  </a:cubicBezTo>
                  <a:cubicBezTo>
                    <a:pt x="58" y="26"/>
                    <a:pt x="56" y="28"/>
                    <a:pt x="53" y="29"/>
                  </a:cubicBezTo>
                  <a:cubicBezTo>
                    <a:pt x="46" y="34"/>
                    <a:pt x="38" y="40"/>
                    <a:pt x="33" y="46"/>
                  </a:cubicBezTo>
                  <a:cubicBezTo>
                    <a:pt x="36" y="42"/>
                    <a:pt x="40" y="39"/>
                    <a:pt x="44" y="36"/>
                  </a:cubicBezTo>
                  <a:close/>
                  <a:moveTo>
                    <a:pt x="51" y="31"/>
                  </a:moveTo>
                  <a:cubicBezTo>
                    <a:pt x="51" y="31"/>
                    <a:pt x="51" y="31"/>
                    <a:pt x="51" y="31"/>
                  </a:cubicBezTo>
                  <a:cubicBezTo>
                    <a:pt x="53" y="30"/>
                    <a:pt x="54" y="29"/>
                    <a:pt x="53" y="30"/>
                  </a:cubicBezTo>
                  <a:cubicBezTo>
                    <a:pt x="52" y="30"/>
                    <a:pt x="52" y="31"/>
                    <a:pt x="51" y="31"/>
                  </a:cubicBezTo>
                  <a:close/>
                  <a:moveTo>
                    <a:pt x="51" y="34"/>
                  </a:moveTo>
                  <a:cubicBezTo>
                    <a:pt x="52" y="33"/>
                    <a:pt x="54" y="33"/>
                    <a:pt x="54" y="32"/>
                  </a:cubicBezTo>
                  <a:cubicBezTo>
                    <a:pt x="54" y="33"/>
                    <a:pt x="52" y="33"/>
                    <a:pt x="51" y="34"/>
                  </a:cubicBezTo>
                  <a:close/>
                  <a:moveTo>
                    <a:pt x="94" y="8"/>
                  </a:moveTo>
                  <a:cubicBezTo>
                    <a:pt x="94" y="7"/>
                    <a:pt x="96" y="7"/>
                    <a:pt x="97" y="7"/>
                  </a:cubicBezTo>
                  <a:cubicBezTo>
                    <a:pt x="96" y="7"/>
                    <a:pt x="95" y="7"/>
                    <a:pt x="94" y="8"/>
                  </a:cubicBezTo>
                  <a:close/>
                  <a:moveTo>
                    <a:pt x="107" y="3"/>
                  </a:moveTo>
                  <a:cubicBezTo>
                    <a:pt x="105" y="4"/>
                    <a:pt x="102" y="5"/>
                    <a:pt x="105" y="4"/>
                  </a:cubicBezTo>
                  <a:cubicBezTo>
                    <a:pt x="106" y="4"/>
                    <a:pt x="106" y="4"/>
                    <a:pt x="10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3"/>
            <p:cNvSpPr/>
            <p:nvPr/>
          </p:nvSpPr>
          <p:spPr>
            <a:xfrm>
              <a:off x="3187440" y="6469920"/>
              <a:ext cx="4680" cy="82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cubicBezTo>
                    <a:pt x="0" y="7"/>
                    <a:pt x="0" y="6"/>
                    <a:pt x="1" y="6"/>
                  </a:cubicBezTo>
                  <a:cubicBezTo>
                    <a:pt x="1" y="6"/>
                    <a:pt x="0" y="7"/>
                    <a:pt x="0" y="8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3" y="2"/>
                    <a:pt x="5" y="0"/>
                    <a:pt x="4" y="1"/>
                  </a:cubicBezTo>
                  <a:cubicBezTo>
                    <a:pt x="3" y="3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4"/>
            <p:cNvSpPr/>
            <p:nvPr/>
          </p:nvSpPr>
          <p:spPr>
            <a:xfrm>
              <a:off x="3205800" y="645408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5"/>
            <p:cNvSpPr/>
            <p:nvPr/>
          </p:nvSpPr>
          <p:spPr>
            <a:xfrm>
              <a:off x="3206880" y="6450480"/>
              <a:ext cx="4680" cy="3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6"/>
            <p:cNvSpPr/>
            <p:nvPr/>
          </p:nvSpPr>
          <p:spPr>
            <a:xfrm>
              <a:off x="3213000" y="6445440"/>
              <a:ext cx="2160" cy="2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2"/>
                    <a:pt x="2" y="1"/>
                  </a:cubicBezTo>
                  <a:cubicBezTo>
                    <a:pt x="3" y="0"/>
                    <a:pt x="1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7"/>
            <p:cNvSpPr/>
            <p:nvPr/>
          </p:nvSpPr>
          <p:spPr>
            <a:xfrm>
              <a:off x="3203280" y="645660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8"/>
            <p:cNvSpPr/>
            <p:nvPr/>
          </p:nvSpPr>
          <p:spPr>
            <a:xfrm>
              <a:off x="3211560" y="644940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9"/>
            <p:cNvSpPr/>
            <p:nvPr/>
          </p:nvSpPr>
          <p:spPr>
            <a:xfrm>
              <a:off x="3267360" y="641160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0" y="1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0"/>
            <p:cNvSpPr/>
            <p:nvPr/>
          </p:nvSpPr>
          <p:spPr>
            <a:xfrm>
              <a:off x="3133080" y="648684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3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1"/>
            <p:cNvSpPr/>
            <p:nvPr/>
          </p:nvSpPr>
          <p:spPr>
            <a:xfrm>
              <a:off x="3133080" y="6494040"/>
              <a:ext cx="36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2"/>
            <p:cNvSpPr/>
            <p:nvPr/>
          </p:nvSpPr>
          <p:spPr>
            <a:xfrm>
              <a:off x="3135600" y="64735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1" y="0"/>
                    <a:pt x="0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3"/>
            <p:cNvSpPr/>
            <p:nvPr/>
          </p:nvSpPr>
          <p:spPr>
            <a:xfrm>
              <a:off x="3151440" y="642996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4"/>
            <p:cNvSpPr/>
            <p:nvPr/>
          </p:nvSpPr>
          <p:spPr>
            <a:xfrm>
              <a:off x="3152520" y="64274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5"/>
            <p:cNvSpPr/>
            <p:nvPr/>
          </p:nvSpPr>
          <p:spPr>
            <a:xfrm>
              <a:off x="3133080" y="6381720"/>
              <a:ext cx="72360" cy="16776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2" y="97"/>
                  </a:moveTo>
                  <a:cubicBezTo>
                    <a:pt x="2" y="98"/>
                    <a:pt x="1" y="99"/>
                    <a:pt x="1" y="100"/>
                  </a:cubicBezTo>
                  <a:cubicBezTo>
                    <a:pt x="4" y="88"/>
                    <a:pt x="7" y="77"/>
                    <a:pt x="11" y="67"/>
                  </a:cubicBezTo>
                  <a:cubicBezTo>
                    <a:pt x="10" y="69"/>
                    <a:pt x="10" y="71"/>
                    <a:pt x="8" y="73"/>
                  </a:cubicBezTo>
                  <a:cubicBezTo>
                    <a:pt x="10" y="69"/>
                    <a:pt x="11" y="65"/>
                    <a:pt x="13" y="62"/>
                  </a:cubicBezTo>
                  <a:cubicBezTo>
                    <a:pt x="9" y="73"/>
                    <a:pt x="6" y="83"/>
                    <a:pt x="3" y="94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2" y="96"/>
                    <a:pt x="2" y="99"/>
                    <a:pt x="1" y="102"/>
                  </a:cubicBezTo>
                  <a:cubicBezTo>
                    <a:pt x="2" y="101"/>
                    <a:pt x="2" y="97"/>
                    <a:pt x="3" y="96"/>
                  </a:cubicBezTo>
                  <a:cubicBezTo>
                    <a:pt x="2" y="97"/>
                    <a:pt x="2" y="99"/>
                    <a:pt x="2" y="101"/>
                  </a:cubicBezTo>
                  <a:cubicBezTo>
                    <a:pt x="2" y="101"/>
                    <a:pt x="1" y="102"/>
                    <a:pt x="2" y="102"/>
                  </a:cubicBezTo>
                  <a:cubicBezTo>
                    <a:pt x="2" y="99"/>
                    <a:pt x="3" y="93"/>
                    <a:pt x="4" y="90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89"/>
                    <a:pt x="5" y="88"/>
                  </a:cubicBezTo>
                  <a:cubicBezTo>
                    <a:pt x="4" y="93"/>
                    <a:pt x="3" y="98"/>
                    <a:pt x="2" y="103"/>
                  </a:cubicBezTo>
                  <a:cubicBezTo>
                    <a:pt x="3" y="97"/>
                    <a:pt x="5" y="91"/>
                    <a:pt x="6" y="86"/>
                  </a:cubicBezTo>
                  <a:cubicBezTo>
                    <a:pt x="5" y="93"/>
                    <a:pt x="3" y="98"/>
                    <a:pt x="2" y="104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3" y="101"/>
                    <a:pt x="3" y="97"/>
                    <a:pt x="5" y="94"/>
                  </a:cubicBezTo>
                  <a:cubicBezTo>
                    <a:pt x="4" y="97"/>
                    <a:pt x="3" y="100"/>
                    <a:pt x="3" y="103"/>
                  </a:cubicBezTo>
                  <a:cubicBezTo>
                    <a:pt x="3" y="100"/>
                    <a:pt x="4" y="98"/>
                    <a:pt x="5" y="95"/>
                  </a:cubicBezTo>
                  <a:cubicBezTo>
                    <a:pt x="4" y="98"/>
                    <a:pt x="3" y="101"/>
                    <a:pt x="3" y="104"/>
                  </a:cubicBezTo>
                  <a:cubicBezTo>
                    <a:pt x="3" y="103"/>
                    <a:pt x="4" y="101"/>
                    <a:pt x="4" y="99"/>
                  </a:cubicBezTo>
                  <a:cubicBezTo>
                    <a:pt x="2" y="111"/>
                    <a:pt x="2" y="122"/>
                    <a:pt x="3" y="133"/>
                  </a:cubicBezTo>
                  <a:cubicBezTo>
                    <a:pt x="3" y="137"/>
                    <a:pt x="4" y="141"/>
                    <a:pt x="4" y="145"/>
                  </a:cubicBezTo>
                  <a:cubicBezTo>
                    <a:pt x="5" y="149"/>
                    <a:pt x="4" y="152"/>
                    <a:pt x="5" y="156"/>
                  </a:cubicBezTo>
                  <a:cubicBezTo>
                    <a:pt x="5" y="156"/>
                    <a:pt x="5" y="156"/>
                    <a:pt x="5" y="156"/>
                  </a:cubicBezTo>
                  <a:cubicBezTo>
                    <a:pt x="5" y="158"/>
                    <a:pt x="6" y="162"/>
                    <a:pt x="6" y="163"/>
                  </a:cubicBezTo>
                  <a:cubicBezTo>
                    <a:pt x="7" y="163"/>
                    <a:pt x="8" y="161"/>
                    <a:pt x="8" y="159"/>
                  </a:cubicBezTo>
                  <a:cubicBezTo>
                    <a:pt x="8" y="159"/>
                    <a:pt x="8" y="160"/>
                    <a:pt x="8" y="160"/>
                  </a:cubicBezTo>
                  <a:cubicBezTo>
                    <a:pt x="8" y="159"/>
                    <a:pt x="9" y="158"/>
                    <a:pt x="9" y="159"/>
                  </a:cubicBezTo>
                  <a:cubicBezTo>
                    <a:pt x="9" y="158"/>
                    <a:pt x="9" y="157"/>
                    <a:pt x="9" y="156"/>
                  </a:cubicBezTo>
                  <a:cubicBezTo>
                    <a:pt x="9" y="156"/>
                    <a:pt x="9" y="157"/>
                    <a:pt x="9" y="156"/>
                  </a:cubicBezTo>
                  <a:cubicBezTo>
                    <a:pt x="11" y="152"/>
                    <a:pt x="11" y="147"/>
                    <a:pt x="12" y="141"/>
                  </a:cubicBezTo>
                  <a:cubicBezTo>
                    <a:pt x="12" y="138"/>
                    <a:pt x="12" y="135"/>
                    <a:pt x="13" y="131"/>
                  </a:cubicBezTo>
                  <a:cubicBezTo>
                    <a:pt x="13" y="125"/>
                    <a:pt x="14" y="117"/>
                    <a:pt x="14" y="110"/>
                  </a:cubicBezTo>
                  <a:cubicBezTo>
                    <a:pt x="15" y="109"/>
                    <a:pt x="15" y="108"/>
                    <a:pt x="15" y="107"/>
                  </a:cubicBezTo>
                  <a:cubicBezTo>
                    <a:pt x="16" y="94"/>
                    <a:pt x="19" y="80"/>
                    <a:pt x="24" y="67"/>
                  </a:cubicBezTo>
                  <a:cubicBezTo>
                    <a:pt x="25" y="63"/>
                    <a:pt x="26" y="59"/>
                    <a:pt x="28" y="55"/>
                  </a:cubicBezTo>
                  <a:cubicBezTo>
                    <a:pt x="35" y="40"/>
                    <a:pt x="43" y="25"/>
                    <a:pt x="55" y="15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56" y="17"/>
                    <a:pt x="57" y="19"/>
                    <a:pt x="58" y="22"/>
                  </a:cubicBezTo>
                  <a:cubicBezTo>
                    <a:pt x="59" y="24"/>
                    <a:pt x="60" y="27"/>
                    <a:pt x="60" y="29"/>
                  </a:cubicBezTo>
                  <a:cubicBezTo>
                    <a:pt x="61" y="32"/>
                    <a:pt x="63" y="35"/>
                    <a:pt x="64" y="38"/>
                  </a:cubicBezTo>
                  <a:cubicBezTo>
                    <a:pt x="65" y="41"/>
                    <a:pt x="66" y="44"/>
                    <a:pt x="67" y="45"/>
                  </a:cubicBezTo>
                  <a:cubicBezTo>
                    <a:pt x="71" y="42"/>
                    <a:pt x="71" y="33"/>
                    <a:pt x="69" y="24"/>
                  </a:cubicBezTo>
                  <a:cubicBezTo>
                    <a:pt x="68" y="23"/>
                    <a:pt x="68" y="21"/>
                    <a:pt x="67" y="20"/>
                  </a:cubicBezTo>
                  <a:cubicBezTo>
                    <a:pt x="66" y="16"/>
                    <a:pt x="65" y="13"/>
                    <a:pt x="64" y="9"/>
                  </a:cubicBezTo>
                  <a:cubicBezTo>
                    <a:pt x="63" y="8"/>
                    <a:pt x="62" y="6"/>
                    <a:pt x="61" y="4"/>
                  </a:cubicBezTo>
                  <a:cubicBezTo>
                    <a:pt x="60" y="2"/>
                    <a:pt x="60" y="2"/>
                    <a:pt x="60" y="2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58" y="0"/>
                    <a:pt x="57" y="0"/>
                    <a:pt x="56" y="1"/>
                  </a:cubicBezTo>
                  <a:cubicBezTo>
                    <a:pt x="50" y="5"/>
                    <a:pt x="44" y="10"/>
                    <a:pt x="39" y="16"/>
                  </a:cubicBezTo>
                  <a:cubicBezTo>
                    <a:pt x="35" y="21"/>
                    <a:pt x="32" y="25"/>
                    <a:pt x="29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5" y="33"/>
                    <a:pt x="22" y="38"/>
                    <a:pt x="19" y="43"/>
                  </a:cubicBezTo>
                  <a:cubicBezTo>
                    <a:pt x="20" y="43"/>
                    <a:pt x="20" y="42"/>
                    <a:pt x="20" y="42"/>
                  </a:cubicBezTo>
                  <a:cubicBezTo>
                    <a:pt x="16" y="49"/>
                    <a:pt x="12" y="58"/>
                    <a:pt x="10" y="64"/>
                  </a:cubicBezTo>
                  <a:cubicBezTo>
                    <a:pt x="10" y="64"/>
                    <a:pt x="10" y="64"/>
                    <a:pt x="10" y="64"/>
                  </a:cubicBezTo>
                  <a:cubicBezTo>
                    <a:pt x="9" y="68"/>
                    <a:pt x="7" y="73"/>
                    <a:pt x="6" y="77"/>
                  </a:cubicBezTo>
                  <a:cubicBezTo>
                    <a:pt x="5" y="81"/>
                    <a:pt x="4" y="85"/>
                    <a:pt x="3" y="89"/>
                  </a:cubicBezTo>
                  <a:cubicBezTo>
                    <a:pt x="5" y="82"/>
                    <a:pt x="7" y="74"/>
                    <a:pt x="10" y="68"/>
                  </a:cubicBezTo>
                  <a:cubicBezTo>
                    <a:pt x="7" y="76"/>
                    <a:pt x="4" y="85"/>
                    <a:pt x="2" y="94"/>
                  </a:cubicBezTo>
                  <a:cubicBezTo>
                    <a:pt x="5" y="82"/>
                    <a:pt x="8" y="72"/>
                    <a:pt x="12" y="61"/>
                  </a:cubicBezTo>
                  <a:cubicBezTo>
                    <a:pt x="12" y="61"/>
                    <a:pt x="12" y="62"/>
                    <a:pt x="12" y="62"/>
                  </a:cubicBezTo>
                  <a:cubicBezTo>
                    <a:pt x="13" y="61"/>
                    <a:pt x="14" y="58"/>
                    <a:pt x="14" y="57"/>
                  </a:cubicBezTo>
                  <a:cubicBezTo>
                    <a:pt x="15" y="55"/>
                    <a:pt x="16" y="54"/>
                    <a:pt x="16" y="52"/>
                  </a:cubicBezTo>
                  <a:cubicBezTo>
                    <a:pt x="17" y="51"/>
                    <a:pt x="18" y="49"/>
                    <a:pt x="18" y="47"/>
                  </a:cubicBezTo>
                  <a:cubicBezTo>
                    <a:pt x="20" y="43"/>
                    <a:pt x="23" y="39"/>
                    <a:pt x="25" y="36"/>
                  </a:cubicBezTo>
                  <a:cubicBezTo>
                    <a:pt x="16" y="51"/>
                    <a:pt x="10" y="68"/>
                    <a:pt x="5" y="82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6" y="81"/>
                    <a:pt x="5" y="83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6" y="82"/>
                    <a:pt x="5" y="83"/>
                    <a:pt x="5" y="84"/>
                  </a:cubicBezTo>
                  <a:cubicBezTo>
                    <a:pt x="5" y="84"/>
                    <a:pt x="5" y="83"/>
                    <a:pt x="5" y="83"/>
                  </a:cubicBezTo>
                  <a:cubicBezTo>
                    <a:pt x="5" y="84"/>
                    <a:pt x="4" y="86"/>
                    <a:pt x="5" y="85"/>
                  </a:cubicBezTo>
                  <a:cubicBezTo>
                    <a:pt x="4" y="86"/>
                    <a:pt x="4" y="85"/>
                    <a:pt x="4" y="86"/>
                  </a:cubicBezTo>
                  <a:cubicBezTo>
                    <a:pt x="4" y="87"/>
                    <a:pt x="4" y="89"/>
                    <a:pt x="3" y="90"/>
                  </a:cubicBezTo>
                  <a:cubicBezTo>
                    <a:pt x="2" y="95"/>
                    <a:pt x="1" y="101"/>
                    <a:pt x="0" y="105"/>
                  </a:cubicBezTo>
                  <a:cubicBezTo>
                    <a:pt x="1" y="102"/>
                    <a:pt x="1" y="99"/>
                    <a:pt x="2" y="97"/>
                  </a:cubicBezTo>
                  <a:close/>
                  <a:moveTo>
                    <a:pt x="3" y="92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1"/>
                    <a:pt x="3" y="90"/>
                    <a:pt x="3" y="91"/>
                  </a:cubicBezTo>
                  <a:cubicBezTo>
                    <a:pt x="3" y="91"/>
                    <a:pt x="3" y="92"/>
                    <a:pt x="3" y="92"/>
                  </a:cubicBezTo>
                  <a:close/>
                  <a:moveTo>
                    <a:pt x="5" y="93"/>
                  </a:moveTo>
                  <a:cubicBezTo>
                    <a:pt x="5" y="93"/>
                    <a:pt x="5" y="92"/>
                    <a:pt x="5" y="91"/>
                  </a:cubicBezTo>
                  <a:cubicBezTo>
                    <a:pt x="5" y="92"/>
                    <a:pt x="5" y="93"/>
                    <a:pt x="5" y="93"/>
                  </a:cubicBezTo>
                  <a:close/>
                  <a:moveTo>
                    <a:pt x="11" y="65"/>
                  </a:moveTo>
                  <a:cubicBezTo>
                    <a:pt x="11" y="65"/>
                    <a:pt x="11" y="64"/>
                    <a:pt x="11" y="63"/>
                  </a:cubicBezTo>
                  <a:cubicBezTo>
                    <a:pt x="11" y="64"/>
                    <a:pt x="11" y="65"/>
                    <a:pt x="11" y="65"/>
                  </a:cubicBezTo>
                  <a:close/>
                  <a:moveTo>
                    <a:pt x="13" y="58"/>
                  </a:moveTo>
                  <a:cubicBezTo>
                    <a:pt x="13" y="59"/>
                    <a:pt x="12" y="60"/>
                    <a:pt x="13" y="59"/>
                  </a:cubicBezTo>
                  <a:cubicBezTo>
                    <a:pt x="13" y="58"/>
                    <a:pt x="13" y="58"/>
                    <a:pt x="13" y="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6"/>
            <p:cNvSpPr/>
            <p:nvPr/>
          </p:nvSpPr>
          <p:spPr>
            <a:xfrm>
              <a:off x="3132000" y="650484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0" y="5"/>
                    <a:pt x="1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7"/>
            <p:cNvSpPr/>
            <p:nvPr/>
          </p:nvSpPr>
          <p:spPr>
            <a:xfrm>
              <a:off x="3133080" y="6491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8"/>
            <p:cNvSpPr/>
            <p:nvPr/>
          </p:nvSpPr>
          <p:spPr>
            <a:xfrm>
              <a:off x="3134520" y="6489000"/>
              <a:ext cx="108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0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9"/>
            <p:cNvSpPr/>
            <p:nvPr/>
          </p:nvSpPr>
          <p:spPr>
            <a:xfrm>
              <a:off x="3135600" y="6484320"/>
              <a:ext cx="36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0"/>
            <p:cNvSpPr/>
            <p:nvPr/>
          </p:nvSpPr>
          <p:spPr>
            <a:xfrm>
              <a:off x="3134520" y="649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1"/>
            <p:cNvSpPr/>
            <p:nvPr/>
          </p:nvSpPr>
          <p:spPr>
            <a:xfrm>
              <a:off x="3135600" y="648792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2"/>
            <p:cNvSpPr/>
            <p:nvPr/>
          </p:nvSpPr>
          <p:spPr>
            <a:xfrm>
              <a:off x="3142800" y="644796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3"/>
            <p:cNvSpPr/>
            <p:nvPr/>
          </p:nvSpPr>
          <p:spPr>
            <a:xfrm>
              <a:off x="3079080" y="6602760"/>
              <a:ext cx="21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3" y="0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4"/>
            <p:cNvSpPr/>
            <p:nvPr/>
          </p:nvSpPr>
          <p:spPr>
            <a:xfrm>
              <a:off x="3084840" y="6594120"/>
              <a:ext cx="3600" cy="3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3" y="2"/>
                    <a:pt x="1" y="3"/>
                    <a:pt x="0" y="4"/>
                  </a:cubicBezTo>
                  <a:cubicBezTo>
                    <a:pt x="1" y="3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5"/>
            <p:cNvSpPr/>
            <p:nvPr/>
          </p:nvSpPr>
          <p:spPr>
            <a:xfrm>
              <a:off x="3066840" y="6612480"/>
              <a:ext cx="216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0" y="2"/>
                    <a:pt x="1" y="1"/>
                  </a:cubicBezTo>
                  <a:cubicBezTo>
                    <a:pt x="0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6"/>
            <p:cNvSpPr/>
            <p:nvPr/>
          </p:nvSpPr>
          <p:spPr>
            <a:xfrm>
              <a:off x="3042720" y="665604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7"/>
            <p:cNvSpPr/>
            <p:nvPr/>
          </p:nvSpPr>
          <p:spPr>
            <a:xfrm>
              <a:off x="3042720" y="665820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8"/>
            <p:cNvSpPr/>
            <p:nvPr/>
          </p:nvSpPr>
          <p:spPr>
            <a:xfrm>
              <a:off x="3027240" y="6561720"/>
              <a:ext cx="135000" cy="14976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45" y="45"/>
                  </a:moveTo>
                  <a:cubicBezTo>
                    <a:pt x="46" y="44"/>
                    <a:pt x="47" y="43"/>
                    <a:pt x="48" y="42"/>
                  </a:cubicBezTo>
                  <a:cubicBezTo>
                    <a:pt x="37" y="50"/>
                    <a:pt x="26" y="59"/>
                    <a:pt x="20" y="71"/>
                  </a:cubicBezTo>
                  <a:cubicBezTo>
                    <a:pt x="21" y="69"/>
                    <a:pt x="23" y="66"/>
                    <a:pt x="24" y="64"/>
                  </a:cubicBezTo>
                  <a:cubicBezTo>
                    <a:pt x="22" y="68"/>
                    <a:pt x="19" y="73"/>
                    <a:pt x="17" y="77"/>
                  </a:cubicBezTo>
                  <a:cubicBezTo>
                    <a:pt x="22" y="63"/>
                    <a:pt x="31" y="54"/>
                    <a:pt x="42" y="46"/>
                  </a:cubicBezTo>
                  <a:cubicBezTo>
                    <a:pt x="41" y="46"/>
                    <a:pt x="41" y="47"/>
                    <a:pt x="41" y="47"/>
                  </a:cubicBezTo>
                  <a:cubicBezTo>
                    <a:pt x="44" y="45"/>
                    <a:pt x="47" y="42"/>
                    <a:pt x="50" y="40"/>
                  </a:cubicBezTo>
                  <a:cubicBezTo>
                    <a:pt x="48" y="41"/>
                    <a:pt x="45" y="44"/>
                    <a:pt x="43" y="45"/>
                  </a:cubicBezTo>
                  <a:cubicBezTo>
                    <a:pt x="45" y="43"/>
                    <a:pt x="46" y="42"/>
                    <a:pt x="48" y="41"/>
                  </a:cubicBezTo>
                  <a:cubicBezTo>
                    <a:pt x="48" y="41"/>
                    <a:pt x="49" y="40"/>
                    <a:pt x="49" y="40"/>
                  </a:cubicBezTo>
                  <a:cubicBezTo>
                    <a:pt x="46" y="42"/>
                    <a:pt x="41" y="46"/>
                    <a:pt x="38" y="49"/>
                  </a:cubicBezTo>
                  <a:cubicBezTo>
                    <a:pt x="38" y="48"/>
                    <a:pt x="38" y="48"/>
                    <a:pt x="38" y="48"/>
                  </a:cubicBezTo>
                  <a:cubicBezTo>
                    <a:pt x="37" y="49"/>
                    <a:pt x="36" y="49"/>
                    <a:pt x="35" y="50"/>
                  </a:cubicBezTo>
                  <a:cubicBezTo>
                    <a:pt x="40" y="46"/>
                    <a:pt x="45" y="42"/>
                    <a:pt x="50" y="39"/>
                  </a:cubicBezTo>
                  <a:cubicBezTo>
                    <a:pt x="44" y="43"/>
                    <a:pt x="38" y="48"/>
                    <a:pt x="33" y="52"/>
                  </a:cubicBezTo>
                  <a:cubicBezTo>
                    <a:pt x="38" y="46"/>
                    <a:pt x="44" y="43"/>
                    <a:pt x="50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47" y="40"/>
                    <a:pt x="43" y="43"/>
                    <a:pt x="40" y="45"/>
                  </a:cubicBezTo>
                  <a:cubicBezTo>
                    <a:pt x="43" y="43"/>
                    <a:pt x="46" y="41"/>
                    <a:pt x="48" y="39"/>
                  </a:cubicBezTo>
                  <a:cubicBezTo>
                    <a:pt x="46" y="40"/>
                    <a:pt x="43" y="42"/>
                    <a:pt x="41" y="44"/>
                  </a:cubicBezTo>
                  <a:cubicBezTo>
                    <a:pt x="44" y="41"/>
                    <a:pt x="47" y="39"/>
                    <a:pt x="50" y="37"/>
                  </a:cubicBezTo>
                  <a:cubicBezTo>
                    <a:pt x="48" y="38"/>
                    <a:pt x="46" y="39"/>
                    <a:pt x="45" y="40"/>
                  </a:cubicBezTo>
                  <a:cubicBezTo>
                    <a:pt x="55" y="32"/>
                    <a:pt x="66" y="25"/>
                    <a:pt x="78" y="18"/>
                  </a:cubicBezTo>
                  <a:cubicBezTo>
                    <a:pt x="82" y="15"/>
                    <a:pt x="86" y="12"/>
                    <a:pt x="91" y="10"/>
                  </a:cubicBezTo>
                  <a:cubicBezTo>
                    <a:pt x="96" y="9"/>
                    <a:pt x="100" y="8"/>
                    <a:pt x="104" y="7"/>
                  </a:cubicBezTo>
                  <a:cubicBezTo>
                    <a:pt x="105" y="7"/>
                    <a:pt x="104" y="6"/>
                    <a:pt x="105" y="6"/>
                  </a:cubicBezTo>
                  <a:cubicBezTo>
                    <a:pt x="107" y="5"/>
                    <a:pt x="111" y="4"/>
                    <a:pt x="113" y="4"/>
                  </a:cubicBezTo>
                  <a:cubicBezTo>
                    <a:pt x="112" y="3"/>
                    <a:pt x="111" y="2"/>
                    <a:pt x="108" y="2"/>
                  </a:cubicBezTo>
                  <a:cubicBezTo>
                    <a:pt x="108" y="2"/>
                    <a:pt x="109" y="2"/>
                    <a:pt x="108" y="2"/>
                  </a:cubicBezTo>
                  <a:cubicBezTo>
                    <a:pt x="108" y="2"/>
                    <a:pt x="106" y="1"/>
                    <a:pt x="107" y="1"/>
                  </a:cubicBezTo>
                  <a:cubicBezTo>
                    <a:pt x="106" y="1"/>
                    <a:pt x="105" y="1"/>
                    <a:pt x="104" y="1"/>
                  </a:cubicBezTo>
                  <a:cubicBezTo>
                    <a:pt x="103" y="1"/>
                    <a:pt x="104" y="1"/>
                    <a:pt x="104" y="1"/>
                  </a:cubicBezTo>
                  <a:cubicBezTo>
                    <a:pt x="98" y="0"/>
                    <a:pt x="91" y="1"/>
                    <a:pt x="84" y="3"/>
                  </a:cubicBezTo>
                  <a:cubicBezTo>
                    <a:pt x="80" y="4"/>
                    <a:pt x="75" y="6"/>
                    <a:pt x="71" y="7"/>
                  </a:cubicBezTo>
                  <a:cubicBezTo>
                    <a:pt x="62" y="11"/>
                    <a:pt x="54" y="16"/>
                    <a:pt x="46" y="21"/>
                  </a:cubicBezTo>
                  <a:cubicBezTo>
                    <a:pt x="45" y="22"/>
                    <a:pt x="43" y="23"/>
                    <a:pt x="42" y="24"/>
                  </a:cubicBezTo>
                  <a:cubicBezTo>
                    <a:pt x="27" y="35"/>
                    <a:pt x="12" y="49"/>
                    <a:pt x="4" y="70"/>
                  </a:cubicBezTo>
                  <a:cubicBezTo>
                    <a:pt x="2" y="76"/>
                    <a:pt x="1" y="83"/>
                    <a:pt x="0" y="90"/>
                  </a:cubicBezTo>
                  <a:cubicBezTo>
                    <a:pt x="0" y="105"/>
                    <a:pt x="7" y="120"/>
                    <a:pt x="19" y="129"/>
                  </a:cubicBezTo>
                  <a:cubicBezTo>
                    <a:pt x="31" y="138"/>
                    <a:pt x="44" y="141"/>
                    <a:pt x="56" y="143"/>
                  </a:cubicBezTo>
                  <a:cubicBezTo>
                    <a:pt x="69" y="146"/>
                    <a:pt x="84" y="146"/>
                    <a:pt x="96" y="145"/>
                  </a:cubicBezTo>
                  <a:cubicBezTo>
                    <a:pt x="100" y="144"/>
                    <a:pt x="104" y="144"/>
                    <a:pt x="108" y="143"/>
                  </a:cubicBezTo>
                  <a:cubicBezTo>
                    <a:pt x="113" y="142"/>
                    <a:pt x="117" y="141"/>
                    <a:pt x="122" y="139"/>
                  </a:cubicBezTo>
                  <a:cubicBezTo>
                    <a:pt x="126" y="137"/>
                    <a:pt x="130" y="135"/>
                    <a:pt x="131" y="133"/>
                  </a:cubicBezTo>
                  <a:cubicBezTo>
                    <a:pt x="125" y="130"/>
                    <a:pt x="115" y="131"/>
                    <a:pt x="103" y="132"/>
                  </a:cubicBezTo>
                  <a:cubicBezTo>
                    <a:pt x="101" y="132"/>
                    <a:pt x="99" y="133"/>
                    <a:pt x="97" y="133"/>
                  </a:cubicBezTo>
                  <a:cubicBezTo>
                    <a:pt x="79" y="134"/>
                    <a:pt x="58" y="132"/>
                    <a:pt x="41" y="125"/>
                  </a:cubicBezTo>
                  <a:cubicBezTo>
                    <a:pt x="35" y="123"/>
                    <a:pt x="29" y="119"/>
                    <a:pt x="25" y="115"/>
                  </a:cubicBezTo>
                  <a:cubicBezTo>
                    <a:pt x="25" y="115"/>
                    <a:pt x="25" y="115"/>
                    <a:pt x="26" y="115"/>
                  </a:cubicBezTo>
                  <a:cubicBezTo>
                    <a:pt x="21" y="110"/>
                    <a:pt x="18" y="104"/>
                    <a:pt x="17" y="98"/>
                  </a:cubicBezTo>
                  <a:cubicBezTo>
                    <a:pt x="17" y="99"/>
                    <a:pt x="18" y="100"/>
                    <a:pt x="18" y="100"/>
                  </a:cubicBezTo>
                  <a:cubicBezTo>
                    <a:pt x="15" y="92"/>
                    <a:pt x="18" y="81"/>
                    <a:pt x="21" y="74"/>
                  </a:cubicBezTo>
                  <a:cubicBezTo>
                    <a:pt x="21" y="74"/>
                    <a:pt x="21" y="74"/>
                    <a:pt x="21" y="74"/>
                  </a:cubicBezTo>
                  <a:cubicBezTo>
                    <a:pt x="22" y="70"/>
                    <a:pt x="25" y="65"/>
                    <a:pt x="29" y="61"/>
                  </a:cubicBezTo>
                  <a:cubicBezTo>
                    <a:pt x="32" y="58"/>
                    <a:pt x="35" y="54"/>
                    <a:pt x="38" y="51"/>
                  </a:cubicBezTo>
                  <a:cubicBezTo>
                    <a:pt x="32" y="56"/>
                    <a:pt x="26" y="64"/>
                    <a:pt x="22" y="70"/>
                  </a:cubicBezTo>
                  <a:cubicBezTo>
                    <a:pt x="27" y="61"/>
                    <a:pt x="34" y="54"/>
                    <a:pt x="42" y="47"/>
                  </a:cubicBezTo>
                  <a:cubicBezTo>
                    <a:pt x="32" y="56"/>
                    <a:pt x="23" y="65"/>
                    <a:pt x="18" y="77"/>
                  </a:cubicBezTo>
                  <a:cubicBezTo>
                    <a:pt x="18" y="77"/>
                    <a:pt x="18" y="77"/>
                    <a:pt x="18" y="77"/>
                  </a:cubicBezTo>
                  <a:cubicBezTo>
                    <a:pt x="18" y="77"/>
                    <a:pt x="17" y="81"/>
                    <a:pt x="17" y="82"/>
                  </a:cubicBezTo>
                  <a:cubicBezTo>
                    <a:pt x="16" y="84"/>
                    <a:pt x="16" y="86"/>
                    <a:pt x="15" y="88"/>
                  </a:cubicBezTo>
                  <a:cubicBezTo>
                    <a:pt x="15" y="90"/>
                    <a:pt x="15" y="92"/>
                    <a:pt x="16" y="94"/>
                  </a:cubicBezTo>
                  <a:cubicBezTo>
                    <a:pt x="16" y="99"/>
                    <a:pt x="17" y="104"/>
                    <a:pt x="19" y="108"/>
                  </a:cubicBezTo>
                  <a:cubicBezTo>
                    <a:pt x="9" y="90"/>
                    <a:pt x="19" y="68"/>
                    <a:pt x="31" y="57"/>
                  </a:cubicBezTo>
                  <a:cubicBezTo>
                    <a:pt x="31" y="57"/>
                    <a:pt x="31" y="57"/>
                    <a:pt x="31" y="57"/>
                  </a:cubicBezTo>
                  <a:cubicBezTo>
                    <a:pt x="31" y="57"/>
                    <a:pt x="33" y="56"/>
                    <a:pt x="32" y="56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32" y="56"/>
                    <a:pt x="33" y="55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3" y="54"/>
                    <a:pt x="35" y="53"/>
                    <a:pt x="34" y="54"/>
                  </a:cubicBezTo>
                  <a:cubicBezTo>
                    <a:pt x="35" y="53"/>
                    <a:pt x="35" y="54"/>
                    <a:pt x="35" y="53"/>
                  </a:cubicBezTo>
                  <a:cubicBezTo>
                    <a:pt x="36" y="52"/>
                    <a:pt x="37" y="51"/>
                    <a:pt x="39" y="50"/>
                  </a:cubicBezTo>
                  <a:cubicBezTo>
                    <a:pt x="43" y="46"/>
                    <a:pt x="49" y="42"/>
                    <a:pt x="53" y="39"/>
                  </a:cubicBezTo>
                  <a:cubicBezTo>
                    <a:pt x="50" y="41"/>
                    <a:pt x="47" y="43"/>
                    <a:pt x="45" y="45"/>
                  </a:cubicBezTo>
                  <a:close/>
                  <a:moveTo>
                    <a:pt x="40" y="48"/>
                  </a:moveTo>
                  <a:cubicBezTo>
                    <a:pt x="41" y="48"/>
                    <a:pt x="40" y="48"/>
                    <a:pt x="40" y="48"/>
                  </a:cubicBezTo>
                  <a:cubicBezTo>
                    <a:pt x="39" y="49"/>
                    <a:pt x="38" y="50"/>
                    <a:pt x="39" y="49"/>
                  </a:cubicBezTo>
                  <a:cubicBezTo>
                    <a:pt x="40" y="49"/>
                    <a:pt x="40" y="49"/>
                    <a:pt x="40" y="48"/>
                  </a:cubicBezTo>
                  <a:close/>
                  <a:moveTo>
                    <a:pt x="39" y="46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8" y="47"/>
                    <a:pt x="39" y="46"/>
                    <a:pt x="39" y="46"/>
                  </a:cubicBezTo>
                  <a:close/>
                  <a:moveTo>
                    <a:pt x="20" y="73"/>
                  </a:moveTo>
                  <a:cubicBezTo>
                    <a:pt x="20" y="74"/>
                    <a:pt x="20" y="74"/>
                    <a:pt x="20" y="75"/>
                  </a:cubicBezTo>
                  <a:cubicBezTo>
                    <a:pt x="19" y="74"/>
                    <a:pt x="20" y="74"/>
                    <a:pt x="20" y="73"/>
                  </a:cubicBezTo>
                  <a:close/>
                  <a:moveTo>
                    <a:pt x="17" y="81"/>
                  </a:moveTo>
                  <a:cubicBezTo>
                    <a:pt x="17" y="80"/>
                    <a:pt x="18" y="78"/>
                    <a:pt x="18" y="80"/>
                  </a:cubicBezTo>
                  <a:cubicBezTo>
                    <a:pt x="17" y="80"/>
                    <a:pt x="17" y="81"/>
                    <a:pt x="17" y="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9"/>
            <p:cNvSpPr/>
            <p:nvPr/>
          </p:nvSpPr>
          <p:spPr>
            <a:xfrm>
              <a:off x="3093480" y="6588360"/>
              <a:ext cx="7200" cy="2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2" y="2"/>
                    <a:pt x="0" y="3"/>
                    <a:pt x="1" y="3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"/>
            <p:cNvSpPr/>
            <p:nvPr/>
          </p:nvSpPr>
          <p:spPr>
            <a:xfrm>
              <a:off x="3082680" y="65980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1"/>
            <p:cNvSpPr/>
            <p:nvPr/>
          </p:nvSpPr>
          <p:spPr>
            <a:xfrm>
              <a:off x="3079080" y="65980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2"/>
                    <a:pt x="1" y="1"/>
                    <a:pt x="1" y="1"/>
                  </a:cubicBezTo>
                  <a:cubicBezTo>
                    <a:pt x="1" y="2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2"/>
            <p:cNvSpPr/>
            <p:nvPr/>
          </p:nvSpPr>
          <p:spPr>
            <a:xfrm>
              <a:off x="3075480" y="660168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1"/>
                    <a:pt x="1" y="1"/>
                    <a:pt x="1" y="1"/>
                  </a:cubicBezTo>
                  <a:cubicBezTo>
                    <a:pt x="0" y="2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3"/>
            <p:cNvSpPr/>
            <p:nvPr/>
          </p:nvSpPr>
          <p:spPr>
            <a:xfrm>
              <a:off x="3083760" y="6596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4"/>
            <p:cNvSpPr/>
            <p:nvPr/>
          </p:nvSpPr>
          <p:spPr>
            <a:xfrm>
              <a:off x="3077640" y="66002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5"/>
            <p:cNvSpPr/>
            <p:nvPr/>
          </p:nvSpPr>
          <p:spPr>
            <a:xfrm>
              <a:off x="3047400" y="663300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0"/>
                    <a:pt x="1" y="0"/>
                  </a:cubicBezTo>
                  <a:cubicBezTo>
                    <a:pt x="1" y="1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6"/>
            <p:cNvSpPr/>
            <p:nvPr/>
          </p:nvSpPr>
          <p:spPr>
            <a:xfrm>
              <a:off x="3298680" y="6512040"/>
              <a:ext cx="57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cubicBezTo>
                    <a:pt x="6" y="0"/>
                    <a:pt x="0" y="3"/>
                    <a:pt x="3" y="1"/>
                  </a:cubicBezTo>
                  <a:cubicBezTo>
                    <a:pt x="4" y="1"/>
                    <a:pt x="5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7"/>
            <p:cNvSpPr/>
            <p:nvPr/>
          </p:nvSpPr>
          <p:spPr>
            <a:xfrm>
              <a:off x="3285360" y="6521760"/>
              <a:ext cx="8280" cy="57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2" y="4"/>
                    <a:pt x="5" y="2"/>
                    <a:pt x="8" y="0"/>
                  </a:cubicBezTo>
                  <a:cubicBezTo>
                    <a:pt x="5" y="2"/>
                    <a:pt x="2" y="4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8"/>
            <p:cNvSpPr/>
            <p:nvPr/>
          </p:nvSpPr>
          <p:spPr>
            <a:xfrm>
              <a:off x="3322800" y="6500160"/>
              <a:ext cx="46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0" y="2"/>
                    <a:pt x="5" y="0"/>
                    <a:pt x="2" y="1"/>
                  </a:cubicBezTo>
                  <a:cubicBezTo>
                    <a:pt x="3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9"/>
            <p:cNvSpPr/>
            <p:nvPr/>
          </p:nvSpPr>
          <p:spPr>
            <a:xfrm>
              <a:off x="3417840" y="6500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0"/>
            <p:cNvSpPr/>
            <p:nvPr/>
          </p:nvSpPr>
          <p:spPr>
            <a:xfrm>
              <a:off x="3421800" y="650124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"/>
            <p:cNvSpPr/>
            <p:nvPr/>
          </p:nvSpPr>
          <p:spPr>
            <a:xfrm>
              <a:off x="3205800" y="6490440"/>
              <a:ext cx="340200" cy="176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104" y="16"/>
                  </a:moveTo>
                  <a:cubicBezTo>
                    <a:pt x="102" y="17"/>
                    <a:pt x="100" y="18"/>
                    <a:pt x="99" y="20"/>
                  </a:cubicBezTo>
                  <a:cubicBezTo>
                    <a:pt x="120" y="6"/>
                    <a:pt x="145" y="3"/>
                    <a:pt x="168" y="4"/>
                  </a:cubicBezTo>
                  <a:cubicBezTo>
                    <a:pt x="163" y="4"/>
                    <a:pt x="158" y="3"/>
                    <a:pt x="153" y="3"/>
                  </a:cubicBezTo>
                  <a:cubicBezTo>
                    <a:pt x="162" y="3"/>
                    <a:pt x="170" y="4"/>
                    <a:pt x="179" y="5"/>
                  </a:cubicBezTo>
                  <a:cubicBezTo>
                    <a:pt x="154" y="3"/>
                    <a:pt x="133" y="4"/>
                    <a:pt x="110" y="14"/>
                  </a:cubicBezTo>
                  <a:cubicBezTo>
                    <a:pt x="111" y="14"/>
                    <a:pt x="111" y="14"/>
                    <a:pt x="111" y="14"/>
                  </a:cubicBezTo>
                  <a:cubicBezTo>
                    <a:pt x="106" y="16"/>
                    <a:pt x="100" y="19"/>
                    <a:pt x="95" y="22"/>
                  </a:cubicBezTo>
                  <a:cubicBezTo>
                    <a:pt x="98" y="21"/>
                    <a:pt x="104" y="17"/>
                    <a:pt x="107" y="16"/>
                  </a:cubicBezTo>
                  <a:cubicBezTo>
                    <a:pt x="104" y="18"/>
                    <a:pt x="101" y="19"/>
                    <a:pt x="97" y="22"/>
                  </a:cubicBezTo>
                  <a:cubicBezTo>
                    <a:pt x="97" y="21"/>
                    <a:pt x="95" y="22"/>
                    <a:pt x="96" y="22"/>
                  </a:cubicBezTo>
                  <a:cubicBezTo>
                    <a:pt x="101" y="19"/>
                    <a:pt x="112" y="13"/>
                    <a:pt x="118" y="12"/>
                  </a:cubicBezTo>
                  <a:cubicBezTo>
                    <a:pt x="117" y="12"/>
                    <a:pt x="117" y="12"/>
                    <a:pt x="117" y="12"/>
                  </a:cubicBezTo>
                  <a:cubicBezTo>
                    <a:pt x="119" y="11"/>
                    <a:pt x="121" y="11"/>
                    <a:pt x="122" y="10"/>
                  </a:cubicBezTo>
                  <a:cubicBezTo>
                    <a:pt x="112" y="14"/>
                    <a:pt x="102" y="19"/>
                    <a:pt x="94" y="25"/>
                  </a:cubicBezTo>
                  <a:cubicBezTo>
                    <a:pt x="104" y="18"/>
                    <a:pt x="117" y="12"/>
                    <a:pt x="128" y="9"/>
                  </a:cubicBezTo>
                  <a:cubicBezTo>
                    <a:pt x="114" y="13"/>
                    <a:pt x="104" y="18"/>
                    <a:pt x="93" y="26"/>
                  </a:cubicBezTo>
                  <a:cubicBezTo>
                    <a:pt x="92" y="26"/>
                    <a:pt x="93" y="26"/>
                    <a:pt x="93" y="26"/>
                  </a:cubicBezTo>
                  <a:cubicBezTo>
                    <a:pt x="99" y="22"/>
                    <a:pt x="105" y="18"/>
                    <a:pt x="111" y="16"/>
                  </a:cubicBezTo>
                  <a:cubicBezTo>
                    <a:pt x="106" y="18"/>
                    <a:pt x="100" y="21"/>
                    <a:pt x="96" y="24"/>
                  </a:cubicBezTo>
                  <a:cubicBezTo>
                    <a:pt x="100" y="22"/>
                    <a:pt x="105" y="19"/>
                    <a:pt x="109" y="17"/>
                  </a:cubicBezTo>
                  <a:cubicBezTo>
                    <a:pt x="104" y="20"/>
                    <a:pt x="98" y="23"/>
                    <a:pt x="93" y="27"/>
                  </a:cubicBezTo>
                  <a:cubicBezTo>
                    <a:pt x="96" y="25"/>
                    <a:pt x="99" y="23"/>
                    <a:pt x="102" y="21"/>
                  </a:cubicBezTo>
                  <a:cubicBezTo>
                    <a:pt x="83" y="34"/>
                    <a:pt x="67" y="49"/>
                    <a:pt x="50" y="60"/>
                  </a:cubicBezTo>
                  <a:cubicBezTo>
                    <a:pt x="43" y="64"/>
                    <a:pt x="37" y="68"/>
                    <a:pt x="30" y="71"/>
                  </a:cubicBezTo>
                  <a:cubicBezTo>
                    <a:pt x="23" y="73"/>
                    <a:pt x="15" y="74"/>
                    <a:pt x="10" y="74"/>
                  </a:cubicBezTo>
                  <a:cubicBezTo>
                    <a:pt x="9" y="74"/>
                    <a:pt x="10" y="75"/>
                    <a:pt x="9" y="75"/>
                  </a:cubicBezTo>
                  <a:cubicBezTo>
                    <a:pt x="5" y="75"/>
                    <a:pt x="2" y="73"/>
                    <a:pt x="1" y="71"/>
                  </a:cubicBezTo>
                  <a:cubicBezTo>
                    <a:pt x="0" y="72"/>
                    <a:pt x="0" y="75"/>
                    <a:pt x="3" y="77"/>
                  </a:cubicBezTo>
                  <a:cubicBezTo>
                    <a:pt x="3" y="77"/>
                    <a:pt x="2" y="76"/>
                    <a:pt x="2" y="77"/>
                  </a:cubicBezTo>
                  <a:cubicBezTo>
                    <a:pt x="3" y="77"/>
                    <a:pt x="4" y="78"/>
                    <a:pt x="4" y="78"/>
                  </a:cubicBezTo>
                  <a:cubicBezTo>
                    <a:pt x="5" y="79"/>
                    <a:pt x="7" y="80"/>
                    <a:pt x="8" y="80"/>
                  </a:cubicBezTo>
                  <a:cubicBezTo>
                    <a:pt x="8" y="80"/>
                    <a:pt x="7" y="80"/>
                    <a:pt x="8" y="80"/>
                  </a:cubicBezTo>
                  <a:cubicBezTo>
                    <a:pt x="17" y="82"/>
                    <a:pt x="27" y="81"/>
                    <a:pt x="39" y="77"/>
                  </a:cubicBezTo>
                  <a:cubicBezTo>
                    <a:pt x="45" y="76"/>
                    <a:pt x="52" y="73"/>
                    <a:pt x="58" y="70"/>
                  </a:cubicBezTo>
                  <a:cubicBezTo>
                    <a:pt x="71" y="63"/>
                    <a:pt x="83" y="53"/>
                    <a:pt x="94" y="45"/>
                  </a:cubicBezTo>
                  <a:cubicBezTo>
                    <a:pt x="96" y="44"/>
                    <a:pt x="98" y="42"/>
                    <a:pt x="100" y="41"/>
                  </a:cubicBezTo>
                  <a:cubicBezTo>
                    <a:pt x="121" y="24"/>
                    <a:pt x="146" y="17"/>
                    <a:pt x="173" y="19"/>
                  </a:cubicBezTo>
                  <a:cubicBezTo>
                    <a:pt x="182" y="19"/>
                    <a:pt x="190" y="21"/>
                    <a:pt x="199" y="23"/>
                  </a:cubicBezTo>
                  <a:cubicBezTo>
                    <a:pt x="231" y="30"/>
                    <a:pt x="264" y="48"/>
                    <a:pt x="285" y="72"/>
                  </a:cubicBezTo>
                  <a:cubicBezTo>
                    <a:pt x="297" y="85"/>
                    <a:pt x="306" y="104"/>
                    <a:pt x="311" y="119"/>
                  </a:cubicBezTo>
                  <a:cubicBezTo>
                    <a:pt x="313" y="125"/>
                    <a:pt x="314" y="130"/>
                    <a:pt x="315" y="135"/>
                  </a:cubicBezTo>
                  <a:cubicBezTo>
                    <a:pt x="317" y="142"/>
                    <a:pt x="319" y="149"/>
                    <a:pt x="321" y="155"/>
                  </a:cubicBezTo>
                  <a:cubicBezTo>
                    <a:pt x="322" y="160"/>
                    <a:pt x="324" y="167"/>
                    <a:pt x="326" y="170"/>
                  </a:cubicBezTo>
                  <a:cubicBezTo>
                    <a:pt x="330" y="162"/>
                    <a:pt x="329" y="145"/>
                    <a:pt x="326" y="128"/>
                  </a:cubicBezTo>
                  <a:cubicBezTo>
                    <a:pt x="325" y="124"/>
                    <a:pt x="324" y="121"/>
                    <a:pt x="323" y="118"/>
                  </a:cubicBezTo>
                  <a:cubicBezTo>
                    <a:pt x="316" y="91"/>
                    <a:pt x="299" y="63"/>
                    <a:pt x="274" y="44"/>
                  </a:cubicBezTo>
                  <a:cubicBezTo>
                    <a:pt x="265" y="37"/>
                    <a:pt x="256" y="31"/>
                    <a:pt x="248" y="26"/>
                  </a:cubicBezTo>
                  <a:cubicBezTo>
                    <a:pt x="247" y="25"/>
                    <a:pt x="248" y="26"/>
                    <a:pt x="248" y="26"/>
                  </a:cubicBezTo>
                  <a:cubicBezTo>
                    <a:pt x="238" y="20"/>
                    <a:pt x="227" y="15"/>
                    <a:pt x="216" y="11"/>
                  </a:cubicBezTo>
                  <a:cubicBezTo>
                    <a:pt x="218" y="12"/>
                    <a:pt x="220" y="13"/>
                    <a:pt x="220" y="12"/>
                  </a:cubicBezTo>
                  <a:cubicBezTo>
                    <a:pt x="205" y="7"/>
                    <a:pt x="186" y="2"/>
                    <a:pt x="171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65" y="2"/>
                    <a:pt x="154" y="2"/>
                    <a:pt x="144" y="3"/>
                  </a:cubicBezTo>
                  <a:cubicBezTo>
                    <a:pt x="136" y="4"/>
                    <a:pt x="127" y="5"/>
                    <a:pt x="119" y="8"/>
                  </a:cubicBezTo>
                  <a:cubicBezTo>
                    <a:pt x="134" y="4"/>
                    <a:pt x="150" y="1"/>
                    <a:pt x="165" y="2"/>
                  </a:cubicBezTo>
                  <a:cubicBezTo>
                    <a:pt x="147" y="2"/>
                    <a:pt x="128" y="4"/>
                    <a:pt x="110" y="13"/>
                  </a:cubicBezTo>
                  <a:cubicBezTo>
                    <a:pt x="133" y="2"/>
                    <a:pt x="155" y="1"/>
                    <a:pt x="179" y="3"/>
                  </a:cubicBezTo>
                  <a:cubicBezTo>
                    <a:pt x="179" y="4"/>
                    <a:pt x="178" y="4"/>
                    <a:pt x="178" y="4"/>
                  </a:cubicBezTo>
                  <a:cubicBezTo>
                    <a:pt x="179" y="4"/>
                    <a:pt x="186" y="5"/>
                    <a:pt x="188" y="5"/>
                  </a:cubicBezTo>
                  <a:cubicBezTo>
                    <a:pt x="192" y="6"/>
                    <a:pt x="195" y="7"/>
                    <a:pt x="199" y="7"/>
                  </a:cubicBezTo>
                  <a:cubicBezTo>
                    <a:pt x="202" y="8"/>
                    <a:pt x="206" y="9"/>
                    <a:pt x="209" y="10"/>
                  </a:cubicBezTo>
                  <a:cubicBezTo>
                    <a:pt x="218" y="12"/>
                    <a:pt x="226" y="16"/>
                    <a:pt x="233" y="19"/>
                  </a:cubicBezTo>
                  <a:cubicBezTo>
                    <a:pt x="201" y="5"/>
                    <a:pt x="165" y="0"/>
                    <a:pt x="135" y="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6" y="5"/>
                    <a:pt x="132" y="6"/>
                    <a:pt x="134" y="5"/>
                  </a:cubicBezTo>
                  <a:cubicBezTo>
                    <a:pt x="135" y="5"/>
                    <a:pt x="135" y="5"/>
                    <a:pt x="135" y="5"/>
                  </a:cubicBezTo>
                  <a:cubicBezTo>
                    <a:pt x="134" y="6"/>
                    <a:pt x="131" y="6"/>
                    <a:pt x="130" y="6"/>
                  </a:cubicBezTo>
                  <a:cubicBezTo>
                    <a:pt x="130" y="6"/>
                    <a:pt x="132" y="6"/>
                    <a:pt x="132" y="6"/>
                  </a:cubicBezTo>
                  <a:cubicBezTo>
                    <a:pt x="130" y="6"/>
                    <a:pt x="126" y="7"/>
                    <a:pt x="128" y="7"/>
                  </a:cubicBezTo>
                  <a:cubicBezTo>
                    <a:pt x="127" y="7"/>
                    <a:pt x="127" y="7"/>
                    <a:pt x="126" y="7"/>
                  </a:cubicBezTo>
                  <a:cubicBezTo>
                    <a:pt x="123" y="8"/>
                    <a:pt x="120" y="9"/>
                    <a:pt x="117" y="10"/>
                  </a:cubicBezTo>
                  <a:cubicBezTo>
                    <a:pt x="107" y="14"/>
                    <a:pt x="97" y="20"/>
                    <a:pt x="90" y="25"/>
                  </a:cubicBezTo>
                  <a:cubicBezTo>
                    <a:pt x="95" y="22"/>
                    <a:pt x="100" y="18"/>
                    <a:pt x="104" y="16"/>
                  </a:cubicBezTo>
                  <a:close/>
                  <a:moveTo>
                    <a:pt x="114" y="12"/>
                  </a:moveTo>
                  <a:cubicBezTo>
                    <a:pt x="113" y="12"/>
                    <a:pt x="114" y="12"/>
                    <a:pt x="114" y="12"/>
                  </a:cubicBezTo>
                  <a:cubicBezTo>
                    <a:pt x="116" y="11"/>
                    <a:pt x="118" y="10"/>
                    <a:pt x="116" y="11"/>
                  </a:cubicBezTo>
                  <a:cubicBezTo>
                    <a:pt x="115" y="11"/>
                    <a:pt x="115" y="11"/>
                    <a:pt x="114" y="12"/>
                  </a:cubicBezTo>
                  <a:close/>
                  <a:moveTo>
                    <a:pt x="113" y="15"/>
                  </a:moveTo>
                  <a:cubicBezTo>
                    <a:pt x="114" y="14"/>
                    <a:pt x="116" y="14"/>
                    <a:pt x="117" y="13"/>
                  </a:cubicBezTo>
                  <a:cubicBezTo>
                    <a:pt x="116" y="14"/>
                    <a:pt x="114" y="14"/>
                    <a:pt x="113" y="15"/>
                  </a:cubicBezTo>
                  <a:close/>
                  <a:moveTo>
                    <a:pt x="170" y="3"/>
                  </a:moveTo>
                  <a:cubicBezTo>
                    <a:pt x="171" y="2"/>
                    <a:pt x="173" y="3"/>
                    <a:pt x="174" y="3"/>
                  </a:cubicBezTo>
                  <a:cubicBezTo>
                    <a:pt x="174" y="3"/>
                    <a:pt x="172" y="3"/>
                    <a:pt x="170" y="3"/>
                  </a:cubicBezTo>
                  <a:close/>
                  <a:moveTo>
                    <a:pt x="186" y="4"/>
                  </a:moveTo>
                  <a:cubicBezTo>
                    <a:pt x="184" y="5"/>
                    <a:pt x="180" y="4"/>
                    <a:pt x="184" y="4"/>
                  </a:cubicBezTo>
                  <a:cubicBezTo>
                    <a:pt x="185" y="4"/>
                    <a:pt x="185" y="4"/>
                    <a:pt x="186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"/>
            <p:cNvSpPr/>
            <p:nvPr/>
          </p:nvSpPr>
          <p:spPr>
            <a:xfrm>
              <a:off x="3269520" y="6534000"/>
              <a:ext cx="720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5"/>
                  </a:moveTo>
                  <a:cubicBezTo>
                    <a:pt x="1" y="5"/>
                    <a:pt x="2" y="5"/>
                    <a:pt x="2" y="5"/>
                  </a:cubicBezTo>
                  <a:cubicBezTo>
                    <a:pt x="2" y="5"/>
                    <a:pt x="0" y="6"/>
                    <a:pt x="0" y="6"/>
                  </a:cubicBezTo>
                  <a:cubicBezTo>
                    <a:pt x="0" y="5"/>
                    <a:pt x="3" y="4"/>
                    <a:pt x="4" y="3"/>
                  </a:cubicBezTo>
                  <a:cubicBezTo>
                    <a:pt x="5" y="2"/>
                    <a:pt x="8" y="0"/>
                    <a:pt x="7" y="0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3"/>
            <p:cNvSpPr/>
            <p:nvPr/>
          </p:nvSpPr>
          <p:spPr>
            <a:xfrm>
              <a:off x="3293640" y="6519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3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4"/>
            <p:cNvSpPr/>
            <p:nvPr/>
          </p:nvSpPr>
          <p:spPr>
            <a:xfrm>
              <a:off x="3297240" y="6517080"/>
              <a:ext cx="4680" cy="3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3" y="1"/>
                    <a:pt x="1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5"/>
            <p:cNvSpPr/>
            <p:nvPr/>
          </p:nvSpPr>
          <p:spPr>
            <a:xfrm>
              <a:off x="3303360" y="6512040"/>
              <a:ext cx="468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1" y="2"/>
                    <a:pt x="3" y="1"/>
                    <a:pt x="3" y="1"/>
                  </a:cubicBezTo>
                  <a:cubicBezTo>
                    <a:pt x="5" y="0"/>
                    <a:pt x="2" y="2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6"/>
            <p:cNvSpPr/>
            <p:nvPr/>
          </p:nvSpPr>
          <p:spPr>
            <a:xfrm>
              <a:off x="3291480" y="65228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2" y="1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7"/>
            <p:cNvSpPr/>
            <p:nvPr/>
          </p:nvSpPr>
          <p:spPr>
            <a:xfrm>
              <a:off x="3302280" y="65170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8"/>
            <p:cNvSpPr/>
            <p:nvPr/>
          </p:nvSpPr>
          <p:spPr>
            <a:xfrm>
              <a:off x="3375720" y="6494040"/>
              <a:ext cx="5760" cy="3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4" y="0"/>
                    <a:pt x="1" y="0"/>
                    <a:pt x="0" y="0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9"/>
            <p:cNvSpPr/>
            <p:nvPr/>
          </p:nvSpPr>
          <p:spPr>
            <a:xfrm>
              <a:off x="3349080" y="664740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0"/>
            <p:cNvSpPr/>
            <p:nvPr/>
          </p:nvSpPr>
          <p:spPr>
            <a:xfrm>
              <a:off x="3352680" y="664128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1"/>
                    <a:pt x="0" y="2"/>
                    <a:pt x="0" y="3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1"/>
            <p:cNvSpPr/>
            <p:nvPr/>
          </p:nvSpPr>
          <p:spPr>
            <a:xfrm>
              <a:off x="3343320" y="66535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2"/>
            <p:cNvSpPr/>
            <p:nvPr/>
          </p:nvSpPr>
          <p:spPr>
            <a:xfrm>
              <a:off x="3326400" y="668016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3"/>
            <p:cNvSpPr/>
            <p:nvPr/>
          </p:nvSpPr>
          <p:spPr>
            <a:xfrm>
              <a:off x="3326400" y="668124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4"/>
            <p:cNvSpPr/>
            <p:nvPr/>
          </p:nvSpPr>
          <p:spPr>
            <a:xfrm>
              <a:off x="3308040" y="6616080"/>
              <a:ext cx="74520" cy="146160"/>
            </a:xfrm>
            <a:custGeom>
              <a:avLst/>
              <a:gdLst/>
              <a:ahLst/>
              <a:rect l="l" t="t" r="r" b="b"/>
              <a:pathLst>
                <a:path w="72" h="142">
                  <a:moveTo>
                    <a:pt x="37" y="33"/>
                  </a:moveTo>
                  <a:cubicBezTo>
                    <a:pt x="38" y="33"/>
                    <a:pt x="38" y="32"/>
                    <a:pt x="39" y="32"/>
                  </a:cubicBezTo>
                  <a:cubicBezTo>
                    <a:pt x="33" y="36"/>
                    <a:pt x="27" y="42"/>
                    <a:pt x="23" y="49"/>
                  </a:cubicBezTo>
                  <a:cubicBezTo>
                    <a:pt x="24" y="48"/>
                    <a:pt x="25" y="46"/>
                    <a:pt x="26" y="45"/>
                  </a:cubicBezTo>
                  <a:cubicBezTo>
                    <a:pt x="24" y="47"/>
                    <a:pt x="22" y="50"/>
                    <a:pt x="21" y="52"/>
                  </a:cubicBezTo>
                  <a:cubicBezTo>
                    <a:pt x="24" y="44"/>
                    <a:pt x="29" y="39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6" y="33"/>
                    <a:pt x="38" y="32"/>
                    <a:pt x="40" y="30"/>
                  </a:cubicBezTo>
                  <a:cubicBezTo>
                    <a:pt x="38" y="31"/>
                    <a:pt x="37" y="33"/>
                    <a:pt x="36" y="33"/>
                  </a:cubicBezTo>
                  <a:cubicBezTo>
                    <a:pt x="37" y="32"/>
                    <a:pt x="38" y="32"/>
                    <a:pt x="39" y="31"/>
                  </a:cubicBezTo>
                  <a:cubicBezTo>
                    <a:pt x="39" y="31"/>
                    <a:pt x="39" y="30"/>
                    <a:pt x="39" y="30"/>
                  </a:cubicBezTo>
                  <a:cubicBezTo>
                    <a:pt x="37" y="31"/>
                    <a:pt x="35" y="34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2" y="35"/>
                    <a:pt x="32" y="36"/>
                    <a:pt x="31" y="36"/>
                  </a:cubicBezTo>
                  <a:cubicBezTo>
                    <a:pt x="34" y="33"/>
                    <a:pt x="37" y="32"/>
                    <a:pt x="39" y="29"/>
                  </a:cubicBezTo>
                  <a:cubicBezTo>
                    <a:pt x="36" y="32"/>
                    <a:pt x="32" y="34"/>
                    <a:pt x="30" y="37"/>
                  </a:cubicBezTo>
                  <a:cubicBezTo>
                    <a:pt x="33" y="33"/>
                    <a:pt x="36" y="32"/>
                    <a:pt x="39" y="29"/>
                  </a:cubicBezTo>
                  <a:cubicBezTo>
                    <a:pt x="39" y="29"/>
                    <a:pt x="39" y="28"/>
                    <a:pt x="39" y="29"/>
                  </a:cubicBezTo>
                  <a:cubicBezTo>
                    <a:pt x="37" y="30"/>
                    <a:pt x="36" y="32"/>
                    <a:pt x="34" y="33"/>
                  </a:cubicBezTo>
                  <a:cubicBezTo>
                    <a:pt x="35" y="31"/>
                    <a:pt x="37" y="30"/>
                    <a:pt x="38" y="29"/>
                  </a:cubicBezTo>
                  <a:cubicBezTo>
                    <a:pt x="37" y="30"/>
                    <a:pt x="35" y="31"/>
                    <a:pt x="34" y="32"/>
                  </a:cubicBezTo>
                  <a:cubicBezTo>
                    <a:pt x="35" y="31"/>
                    <a:pt x="37" y="29"/>
                    <a:pt x="38" y="28"/>
                  </a:cubicBezTo>
                  <a:cubicBezTo>
                    <a:pt x="38" y="28"/>
                    <a:pt x="37" y="29"/>
                    <a:pt x="36" y="30"/>
                  </a:cubicBezTo>
                  <a:cubicBezTo>
                    <a:pt x="41" y="24"/>
                    <a:pt x="47" y="20"/>
                    <a:pt x="53" y="15"/>
                  </a:cubicBezTo>
                  <a:cubicBezTo>
                    <a:pt x="55" y="13"/>
                    <a:pt x="57" y="11"/>
                    <a:pt x="60" y="9"/>
                  </a:cubicBezTo>
                  <a:cubicBezTo>
                    <a:pt x="62" y="8"/>
                    <a:pt x="65" y="7"/>
                    <a:pt x="67" y="6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9" y="5"/>
                    <a:pt x="71" y="4"/>
                    <a:pt x="72" y="3"/>
                  </a:cubicBezTo>
                  <a:cubicBezTo>
                    <a:pt x="71" y="2"/>
                    <a:pt x="70" y="2"/>
                    <a:pt x="68" y="2"/>
                  </a:cubicBezTo>
                  <a:cubicBezTo>
                    <a:pt x="68" y="2"/>
                    <a:pt x="69" y="2"/>
                    <a:pt x="69" y="2"/>
                  </a:cubicBezTo>
                  <a:cubicBezTo>
                    <a:pt x="68" y="2"/>
                    <a:pt x="67" y="1"/>
                    <a:pt x="68" y="1"/>
                  </a:cubicBezTo>
                  <a:cubicBezTo>
                    <a:pt x="67" y="1"/>
                    <a:pt x="66" y="1"/>
                    <a:pt x="66" y="1"/>
                  </a:cubicBezTo>
                  <a:cubicBezTo>
                    <a:pt x="65" y="1"/>
                    <a:pt x="66" y="1"/>
                    <a:pt x="66" y="1"/>
                  </a:cubicBezTo>
                  <a:cubicBezTo>
                    <a:pt x="62" y="0"/>
                    <a:pt x="58" y="1"/>
                    <a:pt x="53" y="2"/>
                  </a:cubicBezTo>
                  <a:cubicBezTo>
                    <a:pt x="51" y="3"/>
                    <a:pt x="48" y="4"/>
                    <a:pt x="46" y="5"/>
                  </a:cubicBezTo>
                  <a:cubicBezTo>
                    <a:pt x="40" y="7"/>
                    <a:pt x="35" y="11"/>
                    <a:pt x="31" y="15"/>
                  </a:cubicBezTo>
                  <a:cubicBezTo>
                    <a:pt x="30" y="15"/>
                    <a:pt x="29" y="16"/>
                    <a:pt x="28" y="16"/>
                  </a:cubicBezTo>
                  <a:cubicBezTo>
                    <a:pt x="20" y="25"/>
                    <a:pt x="13" y="34"/>
                    <a:pt x="8" y="46"/>
                  </a:cubicBezTo>
                  <a:cubicBezTo>
                    <a:pt x="7" y="49"/>
                    <a:pt x="5" y="53"/>
                    <a:pt x="4" y="57"/>
                  </a:cubicBezTo>
                  <a:cubicBezTo>
                    <a:pt x="0" y="72"/>
                    <a:pt x="1" y="88"/>
                    <a:pt x="4" y="102"/>
                  </a:cubicBezTo>
                  <a:cubicBezTo>
                    <a:pt x="6" y="110"/>
                    <a:pt x="8" y="119"/>
                    <a:pt x="11" y="125"/>
                  </a:cubicBezTo>
                  <a:cubicBezTo>
                    <a:pt x="12" y="128"/>
                    <a:pt x="13" y="130"/>
                    <a:pt x="14" y="132"/>
                  </a:cubicBezTo>
                  <a:cubicBezTo>
                    <a:pt x="16" y="135"/>
                    <a:pt x="18" y="137"/>
                    <a:pt x="20" y="139"/>
                  </a:cubicBezTo>
                  <a:cubicBezTo>
                    <a:pt x="22" y="141"/>
                    <a:pt x="24" y="142"/>
                    <a:pt x="26" y="142"/>
                  </a:cubicBezTo>
                  <a:cubicBezTo>
                    <a:pt x="28" y="137"/>
                    <a:pt x="26" y="132"/>
                    <a:pt x="24" y="125"/>
                  </a:cubicBezTo>
                  <a:cubicBezTo>
                    <a:pt x="23" y="124"/>
                    <a:pt x="23" y="123"/>
                    <a:pt x="22" y="122"/>
                  </a:cubicBezTo>
                  <a:cubicBezTo>
                    <a:pt x="18" y="112"/>
                    <a:pt x="16" y="100"/>
                    <a:pt x="16" y="89"/>
                  </a:cubicBezTo>
                  <a:cubicBezTo>
                    <a:pt x="15" y="85"/>
                    <a:pt x="16" y="81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7" y="73"/>
                    <a:pt x="17" y="69"/>
                    <a:pt x="19" y="65"/>
                  </a:cubicBezTo>
                  <a:cubicBezTo>
                    <a:pt x="19" y="66"/>
                    <a:pt x="18" y="67"/>
                    <a:pt x="18" y="67"/>
                  </a:cubicBezTo>
                  <a:cubicBezTo>
                    <a:pt x="20" y="61"/>
                    <a:pt x="22" y="55"/>
                    <a:pt x="24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5" y="49"/>
                    <a:pt x="27" y="46"/>
                    <a:pt x="29" y="43"/>
                  </a:cubicBezTo>
                  <a:cubicBezTo>
                    <a:pt x="31" y="41"/>
                    <a:pt x="33" y="39"/>
                    <a:pt x="34" y="37"/>
                  </a:cubicBezTo>
                  <a:cubicBezTo>
                    <a:pt x="31" y="40"/>
                    <a:pt x="27" y="45"/>
                    <a:pt x="25" y="49"/>
                  </a:cubicBezTo>
                  <a:cubicBezTo>
                    <a:pt x="28" y="43"/>
                    <a:pt x="32" y="39"/>
                    <a:pt x="36" y="35"/>
                  </a:cubicBezTo>
                  <a:cubicBezTo>
                    <a:pt x="31" y="40"/>
                    <a:pt x="26" y="45"/>
                    <a:pt x="22" y="53"/>
                  </a:cubicBezTo>
                  <a:cubicBezTo>
                    <a:pt x="22" y="53"/>
                    <a:pt x="22" y="52"/>
                    <a:pt x="22" y="52"/>
                  </a:cubicBezTo>
                  <a:cubicBezTo>
                    <a:pt x="22" y="53"/>
                    <a:pt x="21" y="55"/>
                    <a:pt x="21" y="56"/>
                  </a:cubicBezTo>
                  <a:cubicBezTo>
                    <a:pt x="20" y="57"/>
                    <a:pt x="19" y="58"/>
                    <a:pt x="19" y="59"/>
                  </a:cubicBezTo>
                  <a:cubicBezTo>
                    <a:pt x="19" y="60"/>
                    <a:pt x="19" y="62"/>
                    <a:pt x="18" y="63"/>
                  </a:cubicBezTo>
                  <a:cubicBezTo>
                    <a:pt x="17" y="66"/>
                    <a:pt x="17" y="69"/>
                    <a:pt x="16" y="72"/>
                  </a:cubicBezTo>
                  <a:cubicBezTo>
                    <a:pt x="17" y="59"/>
                    <a:pt x="23" y="47"/>
                    <a:pt x="30" y="40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1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1" y="40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39"/>
                    <a:pt x="32" y="39"/>
                    <a:pt x="32" y="39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3" y="37"/>
                    <a:pt x="34" y="36"/>
                  </a:cubicBezTo>
                  <a:cubicBezTo>
                    <a:pt x="37" y="34"/>
                    <a:pt x="39" y="32"/>
                    <a:pt x="41" y="30"/>
                  </a:cubicBezTo>
                  <a:cubicBezTo>
                    <a:pt x="40" y="31"/>
                    <a:pt x="39" y="32"/>
                    <a:pt x="37" y="33"/>
                  </a:cubicBezTo>
                  <a:close/>
                  <a:moveTo>
                    <a:pt x="35" y="35"/>
                  </a:moveTo>
                  <a:cubicBezTo>
                    <a:pt x="35" y="35"/>
                    <a:pt x="35" y="35"/>
                    <a:pt x="35" y="35"/>
                  </a:cubicBezTo>
                  <a:cubicBezTo>
                    <a:pt x="34" y="36"/>
                    <a:pt x="34" y="36"/>
                    <a:pt x="34" y="36"/>
                  </a:cubicBezTo>
                  <a:cubicBezTo>
                    <a:pt x="34" y="36"/>
                    <a:pt x="34" y="35"/>
                    <a:pt x="35" y="35"/>
                  </a:cubicBezTo>
                  <a:close/>
                  <a:moveTo>
                    <a:pt x="33" y="33"/>
                  </a:move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3" y="34"/>
                    <a:pt x="33" y="33"/>
                  </a:cubicBezTo>
                  <a:close/>
                  <a:moveTo>
                    <a:pt x="24" y="50"/>
                  </a:moveTo>
                  <a:cubicBezTo>
                    <a:pt x="24" y="51"/>
                    <a:pt x="23" y="51"/>
                    <a:pt x="23" y="51"/>
                  </a:cubicBezTo>
                  <a:cubicBezTo>
                    <a:pt x="23" y="51"/>
                    <a:pt x="23" y="51"/>
                    <a:pt x="24" y="50"/>
                  </a:cubicBezTo>
                  <a:close/>
                  <a:moveTo>
                    <a:pt x="21" y="55"/>
                  </a:moveTo>
                  <a:cubicBezTo>
                    <a:pt x="21" y="54"/>
                    <a:pt x="22" y="53"/>
                    <a:pt x="22" y="54"/>
                  </a:cubicBezTo>
                  <a:cubicBezTo>
                    <a:pt x="22" y="55"/>
                    <a:pt x="21" y="55"/>
                    <a:pt x="21" y="5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5"/>
            <p:cNvSpPr/>
            <p:nvPr/>
          </p:nvSpPr>
          <p:spPr>
            <a:xfrm>
              <a:off x="3357720" y="663768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6"/>
            <p:cNvSpPr/>
            <p:nvPr/>
          </p:nvSpPr>
          <p:spPr>
            <a:xfrm>
              <a:off x="3350520" y="66448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7"/>
            <p:cNvSpPr/>
            <p:nvPr/>
          </p:nvSpPr>
          <p:spPr>
            <a:xfrm>
              <a:off x="3349080" y="6644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8"/>
            <p:cNvSpPr/>
            <p:nvPr/>
          </p:nvSpPr>
          <p:spPr>
            <a:xfrm>
              <a:off x="3348000" y="66474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9"/>
            <p:cNvSpPr/>
            <p:nvPr/>
          </p:nvSpPr>
          <p:spPr>
            <a:xfrm>
              <a:off x="3351600" y="6642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0"/>
            <p:cNvSpPr/>
            <p:nvPr/>
          </p:nvSpPr>
          <p:spPr>
            <a:xfrm>
              <a:off x="3348000" y="66448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1"/>
            <p:cNvSpPr/>
            <p:nvPr/>
          </p:nvSpPr>
          <p:spPr>
            <a:xfrm>
              <a:off x="3332520" y="66668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2"/>
            <p:cNvSpPr/>
            <p:nvPr/>
          </p:nvSpPr>
          <p:spPr>
            <a:xfrm>
              <a:off x="3546000" y="6670440"/>
              <a:ext cx="216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0"/>
                    <a:pt x="0" y="3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73"/>
            <p:cNvSpPr/>
            <p:nvPr/>
          </p:nvSpPr>
          <p:spPr>
            <a:xfrm>
              <a:off x="3544560" y="6679080"/>
              <a:ext cx="1080" cy="46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5"/>
                  </a:moveTo>
                  <a:cubicBezTo>
                    <a:pt x="0" y="3"/>
                    <a:pt x="1" y="1"/>
                    <a:pt x="1" y="0"/>
                  </a:cubicBezTo>
                  <a:cubicBezTo>
                    <a:pt x="1" y="1"/>
                    <a:pt x="0" y="3"/>
                    <a:pt x="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74"/>
            <p:cNvSpPr/>
            <p:nvPr/>
          </p:nvSpPr>
          <p:spPr>
            <a:xfrm>
              <a:off x="3556800" y="6660720"/>
              <a:ext cx="360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cubicBezTo>
                    <a:pt x="0" y="2"/>
                    <a:pt x="3" y="0"/>
                    <a:pt x="2" y="1"/>
                  </a:cubicBezTo>
                  <a:cubicBezTo>
                    <a:pt x="2" y="1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75"/>
            <p:cNvSpPr/>
            <p:nvPr/>
          </p:nvSpPr>
          <p:spPr>
            <a:xfrm>
              <a:off x="3602520" y="6675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6"/>
            <p:cNvSpPr/>
            <p:nvPr/>
          </p:nvSpPr>
          <p:spPr>
            <a:xfrm>
              <a:off x="360396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7"/>
            <p:cNvSpPr/>
            <p:nvPr/>
          </p:nvSpPr>
          <p:spPr>
            <a:xfrm>
              <a:off x="3544560" y="6654600"/>
              <a:ext cx="68760" cy="7344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8" y="12"/>
                  </a:moveTo>
                  <a:cubicBezTo>
                    <a:pt x="7" y="13"/>
                    <a:pt x="6" y="14"/>
                    <a:pt x="6" y="15"/>
                  </a:cubicBezTo>
                  <a:cubicBezTo>
                    <a:pt x="15" y="3"/>
                    <a:pt x="33" y="3"/>
                    <a:pt x="42" y="8"/>
                  </a:cubicBezTo>
                  <a:cubicBezTo>
                    <a:pt x="40" y="7"/>
                    <a:pt x="37" y="6"/>
                    <a:pt x="35" y="5"/>
                  </a:cubicBezTo>
                  <a:cubicBezTo>
                    <a:pt x="39" y="7"/>
                    <a:pt x="43" y="9"/>
                    <a:pt x="47" y="11"/>
                  </a:cubicBezTo>
                  <a:cubicBezTo>
                    <a:pt x="37" y="5"/>
                    <a:pt x="24" y="2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9" y="12"/>
                    <a:pt x="6" y="15"/>
                    <a:pt x="5" y="17"/>
                  </a:cubicBezTo>
                  <a:cubicBezTo>
                    <a:pt x="6" y="16"/>
                    <a:pt x="8" y="13"/>
                    <a:pt x="10" y="12"/>
                  </a:cubicBezTo>
                  <a:cubicBezTo>
                    <a:pt x="9" y="13"/>
                    <a:pt x="7" y="16"/>
                    <a:pt x="6" y="17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7" y="15"/>
                    <a:pt x="12" y="9"/>
                    <a:pt x="16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7" y="8"/>
                    <a:pt x="18" y="8"/>
                  </a:cubicBezTo>
                  <a:cubicBezTo>
                    <a:pt x="13" y="10"/>
                    <a:pt x="7" y="15"/>
                    <a:pt x="5" y="19"/>
                  </a:cubicBezTo>
                  <a:cubicBezTo>
                    <a:pt x="8" y="14"/>
                    <a:pt x="15" y="8"/>
                    <a:pt x="21" y="7"/>
                  </a:cubicBezTo>
                  <a:cubicBezTo>
                    <a:pt x="14" y="9"/>
                    <a:pt x="8" y="15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8" y="17"/>
                    <a:pt x="9" y="14"/>
                    <a:pt x="13" y="12"/>
                  </a:cubicBezTo>
                  <a:cubicBezTo>
                    <a:pt x="10" y="14"/>
                    <a:pt x="8" y="16"/>
                    <a:pt x="6" y="19"/>
                  </a:cubicBezTo>
                  <a:cubicBezTo>
                    <a:pt x="8" y="16"/>
                    <a:pt x="10" y="15"/>
                    <a:pt x="12" y="13"/>
                  </a:cubicBezTo>
                  <a:cubicBezTo>
                    <a:pt x="9" y="16"/>
                    <a:pt x="7" y="18"/>
                    <a:pt x="6" y="20"/>
                  </a:cubicBezTo>
                  <a:cubicBezTo>
                    <a:pt x="7" y="19"/>
                    <a:pt x="8" y="18"/>
                    <a:pt x="9" y="16"/>
                  </a:cubicBezTo>
                  <a:cubicBezTo>
                    <a:pt x="2" y="25"/>
                    <a:pt x="0" y="38"/>
                    <a:pt x="3" y="49"/>
                  </a:cubicBezTo>
                  <a:cubicBezTo>
                    <a:pt x="4" y="53"/>
                    <a:pt x="7" y="56"/>
                    <a:pt x="9" y="59"/>
                  </a:cubicBezTo>
                  <a:cubicBezTo>
                    <a:pt x="11" y="63"/>
                    <a:pt x="13" y="66"/>
                    <a:pt x="16" y="68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8" y="70"/>
                    <a:pt x="21" y="71"/>
                    <a:pt x="23" y="72"/>
                  </a:cubicBezTo>
                  <a:cubicBezTo>
                    <a:pt x="23" y="71"/>
                    <a:pt x="22" y="69"/>
                    <a:pt x="21" y="68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1" y="67"/>
                    <a:pt x="21" y="66"/>
                    <a:pt x="21" y="66"/>
                  </a:cubicBezTo>
                  <a:cubicBezTo>
                    <a:pt x="21" y="66"/>
                    <a:pt x="20" y="65"/>
                    <a:pt x="20" y="65"/>
                  </a:cubicBezTo>
                  <a:cubicBezTo>
                    <a:pt x="20" y="64"/>
                    <a:pt x="20" y="65"/>
                    <a:pt x="20" y="64"/>
                  </a:cubicBezTo>
                  <a:cubicBezTo>
                    <a:pt x="19" y="60"/>
                    <a:pt x="17" y="57"/>
                    <a:pt x="16" y="53"/>
                  </a:cubicBezTo>
                  <a:cubicBezTo>
                    <a:pt x="15" y="50"/>
                    <a:pt x="15" y="48"/>
                    <a:pt x="15" y="45"/>
                  </a:cubicBezTo>
                  <a:cubicBezTo>
                    <a:pt x="15" y="40"/>
                    <a:pt x="16" y="35"/>
                    <a:pt x="18" y="30"/>
                  </a:cubicBezTo>
                  <a:cubicBezTo>
                    <a:pt x="18" y="30"/>
                    <a:pt x="18" y="29"/>
                    <a:pt x="19" y="28"/>
                  </a:cubicBezTo>
                  <a:cubicBezTo>
                    <a:pt x="23" y="19"/>
                    <a:pt x="30" y="19"/>
                    <a:pt x="38" y="23"/>
                  </a:cubicBezTo>
                  <a:cubicBezTo>
                    <a:pt x="41" y="24"/>
                    <a:pt x="43" y="26"/>
                    <a:pt x="44" y="28"/>
                  </a:cubicBezTo>
                  <a:cubicBezTo>
                    <a:pt x="48" y="33"/>
                    <a:pt x="52" y="40"/>
                    <a:pt x="52" y="44"/>
                  </a:cubicBezTo>
                  <a:cubicBezTo>
                    <a:pt x="52" y="47"/>
                    <a:pt x="51" y="48"/>
                    <a:pt x="47" y="49"/>
                  </a:cubicBezTo>
                  <a:cubicBezTo>
                    <a:pt x="42" y="50"/>
                    <a:pt x="37" y="48"/>
                    <a:pt x="36" y="46"/>
                  </a:cubicBezTo>
                  <a:cubicBezTo>
                    <a:pt x="36" y="46"/>
                    <a:pt x="35" y="43"/>
                    <a:pt x="36" y="46"/>
                  </a:cubicBezTo>
                  <a:cubicBezTo>
                    <a:pt x="36" y="46"/>
                    <a:pt x="36" y="46"/>
                    <a:pt x="36" y="45"/>
                  </a:cubicBezTo>
                  <a:cubicBezTo>
                    <a:pt x="36" y="44"/>
                    <a:pt x="36" y="43"/>
                    <a:pt x="36" y="42"/>
                  </a:cubicBezTo>
                  <a:cubicBezTo>
                    <a:pt x="36" y="40"/>
                    <a:pt x="36" y="40"/>
                    <a:pt x="33" y="38"/>
                  </a:cubicBezTo>
                  <a:cubicBezTo>
                    <a:pt x="36" y="36"/>
                    <a:pt x="31" y="35"/>
                    <a:pt x="29" y="37"/>
                  </a:cubicBezTo>
                  <a:cubicBezTo>
                    <a:pt x="27" y="39"/>
                    <a:pt x="25" y="42"/>
                    <a:pt x="24" y="47"/>
                  </a:cubicBezTo>
                  <a:cubicBezTo>
                    <a:pt x="24" y="48"/>
                    <a:pt x="25" y="50"/>
                    <a:pt x="26" y="51"/>
                  </a:cubicBezTo>
                  <a:cubicBezTo>
                    <a:pt x="31" y="62"/>
                    <a:pt x="51" y="68"/>
                    <a:pt x="62" y="55"/>
                  </a:cubicBezTo>
                  <a:cubicBezTo>
                    <a:pt x="66" y="50"/>
                    <a:pt x="67" y="44"/>
                    <a:pt x="66" y="3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33"/>
                    <a:pt x="63" y="28"/>
                    <a:pt x="60" y="24"/>
                  </a:cubicBezTo>
                  <a:cubicBezTo>
                    <a:pt x="61" y="24"/>
                    <a:pt x="61" y="25"/>
                    <a:pt x="62" y="25"/>
                  </a:cubicBezTo>
                  <a:cubicBezTo>
                    <a:pt x="59" y="19"/>
                    <a:pt x="51" y="10"/>
                    <a:pt x="44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1" y="6"/>
                    <a:pt x="36" y="3"/>
                    <a:pt x="31" y="3"/>
                  </a:cubicBezTo>
                  <a:cubicBezTo>
                    <a:pt x="26" y="3"/>
                    <a:pt x="20" y="3"/>
                    <a:pt x="16" y="6"/>
                  </a:cubicBezTo>
                  <a:cubicBezTo>
                    <a:pt x="25" y="2"/>
                    <a:pt x="35" y="3"/>
                    <a:pt x="41" y="6"/>
                  </a:cubicBezTo>
                  <a:cubicBezTo>
                    <a:pt x="33" y="3"/>
                    <a:pt x="20" y="1"/>
                    <a:pt x="11" y="9"/>
                  </a:cubicBezTo>
                  <a:cubicBezTo>
                    <a:pt x="23" y="0"/>
                    <a:pt x="38" y="4"/>
                    <a:pt x="47" y="10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7" y="11"/>
                    <a:pt x="50" y="12"/>
                    <a:pt x="51" y="13"/>
                  </a:cubicBezTo>
                  <a:cubicBezTo>
                    <a:pt x="52" y="14"/>
                    <a:pt x="54" y="16"/>
                    <a:pt x="55" y="17"/>
                  </a:cubicBezTo>
                  <a:cubicBezTo>
                    <a:pt x="56" y="18"/>
                    <a:pt x="57" y="20"/>
                    <a:pt x="58" y="21"/>
                  </a:cubicBezTo>
                  <a:cubicBezTo>
                    <a:pt x="60" y="25"/>
                    <a:pt x="62" y="28"/>
                    <a:pt x="63" y="32"/>
                  </a:cubicBezTo>
                  <a:cubicBezTo>
                    <a:pt x="58" y="17"/>
                    <a:pt x="43" y="3"/>
                    <a:pt x="25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4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3" y="4"/>
                    <a:pt x="22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5"/>
                    <a:pt x="20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19" y="6"/>
                    <a:pt x="17" y="6"/>
                    <a:pt x="15" y="7"/>
                  </a:cubicBezTo>
                  <a:cubicBezTo>
                    <a:pt x="9" y="10"/>
                    <a:pt x="5" y="15"/>
                    <a:pt x="2" y="20"/>
                  </a:cubicBezTo>
                  <a:cubicBezTo>
                    <a:pt x="4" y="16"/>
                    <a:pt x="6" y="15"/>
                    <a:pt x="8" y="12"/>
                  </a:cubicBezTo>
                  <a:close/>
                  <a:moveTo>
                    <a:pt x="13" y="8"/>
                  </a:move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5" y="7"/>
                    <a:pt x="14" y="8"/>
                  </a:cubicBezTo>
                  <a:cubicBezTo>
                    <a:pt x="14" y="8"/>
                    <a:pt x="14" y="8"/>
                    <a:pt x="13" y="8"/>
                  </a:cubicBezTo>
                  <a:close/>
                  <a:moveTo>
                    <a:pt x="14" y="11"/>
                  </a:moveTo>
                  <a:cubicBezTo>
                    <a:pt x="14" y="11"/>
                    <a:pt x="15" y="10"/>
                    <a:pt x="16" y="10"/>
                  </a:cubicBezTo>
                  <a:cubicBezTo>
                    <a:pt x="15" y="10"/>
                    <a:pt x="14" y="11"/>
                    <a:pt x="14" y="11"/>
                  </a:cubicBezTo>
                  <a:close/>
                  <a:moveTo>
                    <a:pt x="44" y="8"/>
                  </a:moveTo>
                  <a:cubicBezTo>
                    <a:pt x="44" y="8"/>
                    <a:pt x="45" y="8"/>
                    <a:pt x="45" y="9"/>
                  </a:cubicBezTo>
                  <a:cubicBezTo>
                    <a:pt x="45" y="9"/>
                    <a:pt x="44" y="8"/>
                    <a:pt x="44" y="8"/>
                  </a:cubicBezTo>
                  <a:close/>
                  <a:moveTo>
                    <a:pt x="50" y="12"/>
                  </a:moveTo>
                  <a:cubicBezTo>
                    <a:pt x="49" y="12"/>
                    <a:pt x="48" y="11"/>
                    <a:pt x="49" y="12"/>
                  </a:cubicBezTo>
                  <a:cubicBezTo>
                    <a:pt x="50" y="12"/>
                    <a:pt x="50" y="12"/>
                    <a:pt x="5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8"/>
            <p:cNvSpPr/>
            <p:nvPr/>
          </p:nvSpPr>
          <p:spPr>
            <a:xfrm>
              <a:off x="3542400" y="6689880"/>
              <a:ext cx="1080" cy="57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0" y="2"/>
                    <a:pt x="1" y="0"/>
                    <a:pt x="1" y="1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9"/>
            <p:cNvSpPr/>
            <p:nvPr/>
          </p:nvSpPr>
          <p:spPr>
            <a:xfrm>
              <a:off x="3546000" y="6676560"/>
              <a:ext cx="10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2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0"/>
            <p:cNvSpPr/>
            <p:nvPr/>
          </p:nvSpPr>
          <p:spPr>
            <a:xfrm>
              <a:off x="3547080" y="6674040"/>
              <a:ext cx="2160" cy="21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1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1"/>
            <p:cNvSpPr/>
            <p:nvPr/>
          </p:nvSpPr>
          <p:spPr>
            <a:xfrm>
              <a:off x="3549600" y="6670440"/>
              <a:ext cx="216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2" y="0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2"/>
            <p:cNvSpPr/>
            <p:nvPr/>
          </p:nvSpPr>
          <p:spPr>
            <a:xfrm>
              <a:off x="3546000" y="6679080"/>
              <a:ext cx="108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83"/>
            <p:cNvSpPr/>
            <p:nvPr/>
          </p:nvSpPr>
          <p:spPr>
            <a:xfrm>
              <a:off x="3549600" y="66740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84"/>
            <p:cNvSpPr/>
            <p:nvPr/>
          </p:nvSpPr>
          <p:spPr>
            <a:xfrm>
              <a:off x="3587040" y="6661800"/>
              <a:ext cx="108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85"/>
            <p:cNvSpPr/>
            <p:nvPr/>
          </p:nvSpPr>
          <p:spPr>
            <a:xfrm>
              <a:off x="3202200" y="67381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6"/>
            <p:cNvSpPr/>
            <p:nvPr/>
          </p:nvSpPr>
          <p:spPr>
            <a:xfrm>
              <a:off x="3197160" y="673704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7"/>
            <p:cNvSpPr/>
            <p:nvPr/>
          </p:nvSpPr>
          <p:spPr>
            <a:xfrm>
              <a:off x="3209400" y="674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0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8"/>
            <p:cNvSpPr/>
            <p:nvPr/>
          </p:nvSpPr>
          <p:spPr>
            <a:xfrm>
              <a:off x="323568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9"/>
            <p:cNvSpPr/>
            <p:nvPr/>
          </p:nvSpPr>
          <p:spPr>
            <a:xfrm>
              <a:off x="3237120" y="675504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0"/>
            <p:cNvSpPr/>
            <p:nvPr/>
          </p:nvSpPr>
          <p:spPr>
            <a:xfrm>
              <a:off x="3168360" y="6721200"/>
              <a:ext cx="142200" cy="5076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37" y="19"/>
                  </a:moveTo>
                  <a:cubicBezTo>
                    <a:pt x="36" y="19"/>
                    <a:pt x="36" y="18"/>
                    <a:pt x="35" y="18"/>
                  </a:cubicBezTo>
                  <a:cubicBezTo>
                    <a:pt x="41" y="22"/>
                    <a:pt x="47" y="27"/>
                    <a:pt x="54" y="29"/>
                  </a:cubicBezTo>
                  <a:cubicBezTo>
                    <a:pt x="53" y="29"/>
                    <a:pt x="51" y="28"/>
                    <a:pt x="50" y="27"/>
                  </a:cubicBezTo>
                  <a:cubicBezTo>
                    <a:pt x="52" y="29"/>
                    <a:pt x="55" y="29"/>
                    <a:pt x="57" y="30"/>
                  </a:cubicBezTo>
                  <a:cubicBezTo>
                    <a:pt x="49" y="29"/>
                    <a:pt x="44" y="25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0"/>
                    <a:pt x="35" y="19"/>
                    <a:pt x="34" y="18"/>
                  </a:cubicBezTo>
                  <a:cubicBezTo>
                    <a:pt x="35" y="19"/>
                    <a:pt x="37" y="20"/>
                    <a:pt x="37" y="21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20"/>
                    <a:pt x="39" y="21"/>
                    <a:pt x="40" y="23"/>
                  </a:cubicBezTo>
                  <a:cubicBezTo>
                    <a:pt x="40" y="23"/>
                    <a:pt x="40" y="22"/>
                    <a:pt x="40" y="23"/>
                  </a:cubicBezTo>
                  <a:cubicBezTo>
                    <a:pt x="40" y="23"/>
                    <a:pt x="41" y="23"/>
                    <a:pt x="41" y="24"/>
                  </a:cubicBezTo>
                  <a:cubicBezTo>
                    <a:pt x="38" y="22"/>
                    <a:pt x="35" y="20"/>
                    <a:pt x="33" y="19"/>
                  </a:cubicBezTo>
                  <a:cubicBezTo>
                    <a:pt x="36" y="21"/>
                    <a:pt x="39" y="23"/>
                    <a:pt x="42" y="25"/>
                  </a:cubicBezTo>
                  <a:cubicBezTo>
                    <a:pt x="38" y="23"/>
                    <a:pt x="36" y="21"/>
                    <a:pt x="33" y="19"/>
                  </a:cubicBezTo>
                  <a:cubicBezTo>
                    <a:pt x="32" y="19"/>
                    <a:pt x="32" y="19"/>
                    <a:pt x="33" y="19"/>
                  </a:cubicBezTo>
                  <a:cubicBezTo>
                    <a:pt x="34" y="20"/>
                    <a:pt x="36" y="21"/>
                    <a:pt x="38" y="23"/>
                  </a:cubicBezTo>
                  <a:cubicBezTo>
                    <a:pt x="36" y="22"/>
                    <a:pt x="35" y="21"/>
                    <a:pt x="33" y="20"/>
                  </a:cubicBezTo>
                  <a:cubicBezTo>
                    <a:pt x="34" y="21"/>
                    <a:pt x="36" y="22"/>
                    <a:pt x="37" y="23"/>
                  </a:cubicBezTo>
                  <a:cubicBezTo>
                    <a:pt x="35" y="22"/>
                    <a:pt x="34" y="20"/>
                    <a:pt x="32" y="20"/>
                  </a:cubicBezTo>
                  <a:cubicBezTo>
                    <a:pt x="33" y="20"/>
                    <a:pt x="34" y="21"/>
                    <a:pt x="34" y="22"/>
                  </a:cubicBezTo>
                  <a:cubicBezTo>
                    <a:pt x="28" y="18"/>
                    <a:pt x="23" y="15"/>
                    <a:pt x="17" y="11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6"/>
                    <a:pt x="7" y="4"/>
                    <a:pt x="5" y="3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1" y="10"/>
                    <a:pt x="3" y="13"/>
                    <a:pt x="5" y="16"/>
                  </a:cubicBezTo>
                  <a:cubicBezTo>
                    <a:pt x="7" y="18"/>
                    <a:pt x="8" y="20"/>
                    <a:pt x="10" y="22"/>
                  </a:cubicBezTo>
                  <a:cubicBezTo>
                    <a:pt x="13" y="25"/>
                    <a:pt x="18" y="29"/>
                    <a:pt x="22" y="31"/>
                  </a:cubicBezTo>
                  <a:cubicBezTo>
                    <a:pt x="23" y="32"/>
                    <a:pt x="24" y="32"/>
                    <a:pt x="24" y="33"/>
                  </a:cubicBezTo>
                  <a:cubicBezTo>
                    <a:pt x="33" y="38"/>
                    <a:pt x="43" y="42"/>
                    <a:pt x="53" y="44"/>
                  </a:cubicBezTo>
                  <a:cubicBezTo>
                    <a:pt x="56" y="45"/>
                    <a:pt x="59" y="46"/>
                    <a:pt x="62" y="46"/>
                  </a:cubicBezTo>
                  <a:cubicBezTo>
                    <a:pt x="75" y="49"/>
                    <a:pt x="89" y="48"/>
                    <a:pt x="101" y="48"/>
                  </a:cubicBezTo>
                  <a:cubicBezTo>
                    <a:pt x="107" y="48"/>
                    <a:pt x="115" y="47"/>
                    <a:pt x="121" y="46"/>
                  </a:cubicBezTo>
                  <a:cubicBezTo>
                    <a:pt x="123" y="46"/>
                    <a:pt x="125" y="46"/>
                    <a:pt x="127" y="45"/>
                  </a:cubicBezTo>
                  <a:cubicBezTo>
                    <a:pt x="129" y="45"/>
                    <a:pt x="132" y="44"/>
                    <a:pt x="134" y="43"/>
                  </a:cubicBezTo>
                  <a:cubicBezTo>
                    <a:pt x="136" y="42"/>
                    <a:pt x="138" y="41"/>
                    <a:pt x="138" y="39"/>
                  </a:cubicBezTo>
                  <a:cubicBezTo>
                    <a:pt x="135" y="35"/>
                    <a:pt x="130" y="34"/>
                    <a:pt x="124" y="34"/>
                  </a:cubicBezTo>
                  <a:cubicBezTo>
                    <a:pt x="122" y="34"/>
                    <a:pt x="121" y="34"/>
                    <a:pt x="120" y="35"/>
                  </a:cubicBezTo>
                  <a:cubicBezTo>
                    <a:pt x="111" y="35"/>
                    <a:pt x="101" y="35"/>
                    <a:pt x="90" y="35"/>
                  </a:cubicBezTo>
                  <a:cubicBezTo>
                    <a:pt x="87" y="35"/>
                    <a:pt x="83" y="34"/>
                    <a:pt x="80" y="34"/>
                  </a:cubicBezTo>
                  <a:cubicBezTo>
                    <a:pt x="80" y="34"/>
                    <a:pt x="80" y="34"/>
                    <a:pt x="80" y="33"/>
                  </a:cubicBezTo>
                  <a:cubicBezTo>
                    <a:pt x="76" y="33"/>
                    <a:pt x="73" y="32"/>
                    <a:pt x="69" y="32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66" y="31"/>
                    <a:pt x="60" y="29"/>
                    <a:pt x="55" y="28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53" y="27"/>
                    <a:pt x="50" y="26"/>
                    <a:pt x="48" y="24"/>
                  </a:cubicBezTo>
                  <a:cubicBezTo>
                    <a:pt x="46" y="23"/>
                    <a:pt x="43" y="22"/>
                    <a:pt x="41" y="21"/>
                  </a:cubicBezTo>
                  <a:cubicBezTo>
                    <a:pt x="45" y="24"/>
                    <a:pt x="49" y="25"/>
                    <a:pt x="53" y="28"/>
                  </a:cubicBezTo>
                  <a:cubicBezTo>
                    <a:pt x="48" y="26"/>
                    <a:pt x="44" y="23"/>
                    <a:pt x="39" y="20"/>
                  </a:cubicBezTo>
                  <a:cubicBezTo>
                    <a:pt x="45" y="24"/>
                    <a:pt x="50" y="27"/>
                    <a:pt x="57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30"/>
                    <a:pt x="59" y="30"/>
                    <a:pt x="60" y="31"/>
                  </a:cubicBezTo>
                  <a:cubicBezTo>
                    <a:pt x="61" y="31"/>
                    <a:pt x="62" y="31"/>
                    <a:pt x="63" y="31"/>
                  </a:cubicBezTo>
                  <a:cubicBezTo>
                    <a:pt x="64" y="32"/>
                    <a:pt x="66" y="32"/>
                    <a:pt x="67" y="32"/>
                  </a:cubicBezTo>
                  <a:cubicBezTo>
                    <a:pt x="70" y="33"/>
                    <a:pt x="72" y="33"/>
                    <a:pt x="75" y="34"/>
                  </a:cubicBezTo>
                  <a:cubicBezTo>
                    <a:pt x="64" y="33"/>
                    <a:pt x="53" y="29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6" y="24"/>
                    <a:pt x="44" y="24"/>
                    <a:pt x="45" y="24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3"/>
                    <a:pt x="43" y="23"/>
                    <a:pt x="43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42" y="23"/>
                    <a:pt x="41" y="22"/>
                    <a:pt x="40" y="21"/>
                  </a:cubicBezTo>
                  <a:cubicBezTo>
                    <a:pt x="38" y="20"/>
                    <a:pt x="35" y="18"/>
                    <a:pt x="33" y="16"/>
                  </a:cubicBezTo>
                  <a:cubicBezTo>
                    <a:pt x="34" y="17"/>
                    <a:pt x="36" y="18"/>
                    <a:pt x="37" y="19"/>
                  </a:cubicBezTo>
                  <a:close/>
                  <a:moveTo>
                    <a:pt x="39" y="21"/>
                  </a:moveTo>
                  <a:cubicBezTo>
                    <a:pt x="39" y="21"/>
                    <a:pt x="40" y="21"/>
                    <a:pt x="40" y="21"/>
                  </a:cubicBezTo>
                  <a:cubicBezTo>
                    <a:pt x="40" y="21"/>
                    <a:pt x="41" y="22"/>
                    <a:pt x="40" y="21"/>
                  </a:cubicBezTo>
                  <a:cubicBezTo>
                    <a:pt x="40" y="21"/>
                    <a:pt x="40" y="21"/>
                    <a:pt x="39" y="21"/>
                  </a:cubicBezTo>
                  <a:close/>
                  <a:moveTo>
                    <a:pt x="38" y="23"/>
                  </a:moveTo>
                  <a:cubicBezTo>
                    <a:pt x="38" y="23"/>
                    <a:pt x="39" y="24"/>
                    <a:pt x="39" y="24"/>
                  </a:cubicBezTo>
                  <a:cubicBezTo>
                    <a:pt x="39" y="24"/>
                    <a:pt x="38" y="23"/>
                    <a:pt x="38" y="23"/>
                  </a:cubicBezTo>
                  <a:close/>
                  <a:moveTo>
                    <a:pt x="55" y="28"/>
                  </a:moveTo>
                  <a:cubicBezTo>
                    <a:pt x="55" y="28"/>
                    <a:pt x="56" y="29"/>
                    <a:pt x="56" y="29"/>
                  </a:cubicBezTo>
                  <a:cubicBezTo>
                    <a:pt x="56" y="29"/>
                    <a:pt x="55" y="28"/>
                    <a:pt x="55" y="28"/>
                  </a:cubicBezTo>
                  <a:close/>
                  <a:moveTo>
                    <a:pt x="60" y="30"/>
                  </a:moveTo>
                  <a:cubicBezTo>
                    <a:pt x="59" y="30"/>
                    <a:pt x="58" y="29"/>
                    <a:pt x="59" y="30"/>
                  </a:cubicBezTo>
                  <a:cubicBezTo>
                    <a:pt x="59" y="30"/>
                    <a:pt x="59" y="30"/>
                    <a:pt x="60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1"/>
            <p:cNvSpPr/>
            <p:nvPr/>
          </p:nvSpPr>
          <p:spPr>
            <a:xfrm>
              <a:off x="3192480" y="6733440"/>
              <a:ext cx="2160" cy="1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3" y="2"/>
                    <a:pt x="2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2"/>
            <p:cNvSpPr/>
            <p:nvPr/>
          </p:nvSpPr>
          <p:spPr>
            <a:xfrm>
              <a:off x="3199680" y="6738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3"/>
            <p:cNvSpPr/>
            <p:nvPr/>
          </p:nvSpPr>
          <p:spPr>
            <a:xfrm>
              <a:off x="3199680" y="67392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4"/>
            <p:cNvSpPr/>
            <p:nvPr/>
          </p:nvSpPr>
          <p:spPr>
            <a:xfrm>
              <a:off x="3202200" y="674064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5"/>
            <p:cNvSpPr/>
            <p:nvPr/>
          </p:nvSpPr>
          <p:spPr>
            <a:xfrm>
              <a:off x="3198240" y="673920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6"/>
            <p:cNvSpPr/>
            <p:nvPr/>
          </p:nvSpPr>
          <p:spPr>
            <a:xfrm>
              <a:off x="3200760" y="674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7"/>
            <p:cNvSpPr/>
            <p:nvPr/>
          </p:nvSpPr>
          <p:spPr>
            <a:xfrm>
              <a:off x="3222360" y="6750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8"/>
            <p:cNvSpPr/>
            <p:nvPr/>
          </p:nvSpPr>
          <p:spPr>
            <a:xfrm>
              <a:off x="3319200" y="6786360"/>
              <a:ext cx="360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0" y="0"/>
                    <a:pt x="2" y="0"/>
                  </a:cubicBezTo>
                  <a:cubicBezTo>
                    <a:pt x="3" y="0"/>
                    <a:pt x="3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9"/>
            <p:cNvSpPr/>
            <p:nvPr/>
          </p:nvSpPr>
          <p:spPr>
            <a:xfrm>
              <a:off x="3308040" y="6785280"/>
              <a:ext cx="576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1"/>
                    <a:pt x="6" y="1"/>
                  </a:cubicBezTo>
                  <a:cubicBezTo>
                    <a:pt x="4" y="1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0"/>
            <p:cNvSpPr/>
            <p:nvPr/>
          </p:nvSpPr>
          <p:spPr>
            <a:xfrm>
              <a:off x="3333600" y="6788880"/>
              <a:ext cx="46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cubicBezTo>
                    <a:pt x="0" y="0"/>
                    <a:pt x="4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1"/>
            <p:cNvSpPr/>
            <p:nvPr/>
          </p:nvSpPr>
          <p:spPr>
            <a:xfrm>
              <a:off x="339264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2"/>
            <p:cNvSpPr/>
            <p:nvPr/>
          </p:nvSpPr>
          <p:spPr>
            <a:xfrm>
              <a:off x="3395160" y="6792480"/>
              <a:ext cx="216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03"/>
            <p:cNvSpPr/>
            <p:nvPr/>
          </p:nvSpPr>
          <p:spPr>
            <a:xfrm>
              <a:off x="3283920" y="6742800"/>
              <a:ext cx="243720" cy="6768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43" y="45"/>
                  </a:moveTo>
                  <a:cubicBezTo>
                    <a:pt x="42" y="44"/>
                    <a:pt x="41" y="44"/>
                    <a:pt x="40" y="44"/>
                  </a:cubicBezTo>
                  <a:cubicBezTo>
                    <a:pt x="54" y="47"/>
                    <a:pt x="68" y="49"/>
                    <a:pt x="82" y="49"/>
                  </a:cubicBezTo>
                  <a:cubicBezTo>
                    <a:pt x="79" y="49"/>
                    <a:pt x="76" y="49"/>
                    <a:pt x="73" y="49"/>
                  </a:cubicBezTo>
                  <a:cubicBezTo>
                    <a:pt x="78" y="49"/>
                    <a:pt x="84" y="49"/>
                    <a:pt x="89" y="49"/>
                  </a:cubicBezTo>
                  <a:cubicBezTo>
                    <a:pt x="73" y="50"/>
                    <a:pt x="61" y="48"/>
                    <a:pt x="47" y="46"/>
                  </a:cubicBezTo>
                  <a:cubicBezTo>
                    <a:pt x="47" y="46"/>
                    <a:pt x="47" y="46"/>
                    <a:pt x="48" y="46"/>
                  </a:cubicBezTo>
                  <a:cubicBezTo>
                    <a:pt x="44" y="45"/>
                    <a:pt x="41" y="45"/>
                    <a:pt x="37" y="44"/>
                  </a:cubicBezTo>
                  <a:cubicBezTo>
                    <a:pt x="39" y="45"/>
                    <a:pt x="43" y="45"/>
                    <a:pt x="45" y="46"/>
                  </a:cubicBezTo>
                  <a:cubicBezTo>
                    <a:pt x="43" y="45"/>
                    <a:pt x="41" y="45"/>
                    <a:pt x="38" y="44"/>
                  </a:cubicBezTo>
                  <a:cubicBezTo>
                    <a:pt x="38" y="44"/>
                    <a:pt x="37" y="44"/>
                    <a:pt x="37" y="44"/>
                  </a:cubicBezTo>
                  <a:cubicBezTo>
                    <a:pt x="41" y="45"/>
                    <a:pt x="48" y="46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2" y="48"/>
                    <a:pt x="53" y="48"/>
                    <a:pt x="54" y="48"/>
                  </a:cubicBezTo>
                  <a:cubicBezTo>
                    <a:pt x="48" y="47"/>
                    <a:pt x="41" y="46"/>
                    <a:pt x="36" y="45"/>
                  </a:cubicBezTo>
                  <a:cubicBezTo>
                    <a:pt x="43" y="47"/>
                    <a:pt x="51" y="48"/>
                    <a:pt x="57" y="49"/>
                  </a:cubicBezTo>
                  <a:cubicBezTo>
                    <a:pt x="49" y="48"/>
                    <a:pt x="42" y="46"/>
                    <a:pt x="35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9" y="46"/>
                    <a:pt x="43" y="47"/>
                    <a:pt x="47" y="48"/>
                  </a:cubicBezTo>
                  <a:cubicBezTo>
                    <a:pt x="43" y="47"/>
                    <a:pt x="40" y="46"/>
                    <a:pt x="36" y="46"/>
                  </a:cubicBezTo>
                  <a:cubicBezTo>
                    <a:pt x="40" y="47"/>
                    <a:pt x="43" y="47"/>
                    <a:pt x="46" y="48"/>
                  </a:cubicBezTo>
                  <a:cubicBezTo>
                    <a:pt x="42" y="48"/>
                    <a:pt x="38" y="46"/>
                    <a:pt x="35" y="46"/>
                  </a:cubicBezTo>
                  <a:cubicBezTo>
                    <a:pt x="36" y="46"/>
                    <a:pt x="39" y="47"/>
                    <a:pt x="40" y="47"/>
                  </a:cubicBezTo>
                  <a:cubicBezTo>
                    <a:pt x="34" y="46"/>
                    <a:pt x="27" y="45"/>
                    <a:pt x="21" y="43"/>
                  </a:cubicBezTo>
                  <a:cubicBezTo>
                    <a:pt x="19" y="42"/>
                    <a:pt x="17" y="41"/>
                    <a:pt x="15" y="41"/>
                  </a:cubicBezTo>
                  <a:cubicBezTo>
                    <a:pt x="15" y="41"/>
                    <a:pt x="15" y="40"/>
                    <a:pt x="15" y="40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9" y="37"/>
                    <a:pt x="23" y="34"/>
                    <a:pt x="27" y="32"/>
                  </a:cubicBezTo>
                  <a:cubicBezTo>
                    <a:pt x="32" y="30"/>
                    <a:pt x="36" y="28"/>
                    <a:pt x="40" y="27"/>
                  </a:cubicBezTo>
                  <a:cubicBezTo>
                    <a:pt x="41" y="27"/>
                    <a:pt x="40" y="26"/>
                    <a:pt x="41" y="26"/>
                  </a:cubicBezTo>
                  <a:cubicBezTo>
                    <a:pt x="43" y="25"/>
                    <a:pt x="47" y="24"/>
                    <a:pt x="49" y="23"/>
                  </a:cubicBezTo>
                  <a:cubicBezTo>
                    <a:pt x="48" y="22"/>
                    <a:pt x="46" y="21"/>
                    <a:pt x="44" y="22"/>
                  </a:cubicBezTo>
                  <a:cubicBezTo>
                    <a:pt x="43" y="22"/>
                    <a:pt x="44" y="21"/>
                    <a:pt x="44" y="21"/>
                  </a:cubicBezTo>
                  <a:cubicBezTo>
                    <a:pt x="43" y="21"/>
                    <a:pt x="42" y="21"/>
                    <a:pt x="42" y="21"/>
                  </a:cubicBezTo>
                  <a:cubicBezTo>
                    <a:pt x="41" y="21"/>
                    <a:pt x="40" y="21"/>
                    <a:pt x="39" y="21"/>
                  </a:cubicBezTo>
                  <a:cubicBezTo>
                    <a:pt x="39" y="21"/>
                    <a:pt x="40" y="21"/>
                    <a:pt x="39" y="21"/>
                  </a:cubicBezTo>
                  <a:cubicBezTo>
                    <a:pt x="33" y="21"/>
                    <a:pt x="27" y="22"/>
                    <a:pt x="19" y="25"/>
                  </a:cubicBezTo>
                  <a:cubicBezTo>
                    <a:pt x="15" y="27"/>
                    <a:pt x="11" y="28"/>
                    <a:pt x="6" y="32"/>
                  </a:cubicBezTo>
                  <a:cubicBezTo>
                    <a:pt x="4" y="34"/>
                    <a:pt x="0" y="38"/>
                    <a:pt x="2" y="45"/>
                  </a:cubicBezTo>
                  <a:cubicBezTo>
                    <a:pt x="4" y="50"/>
                    <a:pt x="8" y="52"/>
                    <a:pt x="10" y="54"/>
                  </a:cubicBezTo>
                  <a:cubicBezTo>
                    <a:pt x="16" y="57"/>
                    <a:pt x="20" y="58"/>
                    <a:pt x="25" y="59"/>
                  </a:cubicBezTo>
                  <a:cubicBezTo>
                    <a:pt x="26" y="60"/>
                    <a:pt x="28" y="60"/>
                    <a:pt x="30" y="60"/>
                  </a:cubicBezTo>
                  <a:cubicBezTo>
                    <a:pt x="49" y="64"/>
                    <a:pt x="68" y="65"/>
                    <a:pt x="87" y="64"/>
                  </a:cubicBezTo>
                  <a:cubicBezTo>
                    <a:pt x="93" y="64"/>
                    <a:pt x="99" y="64"/>
                    <a:pt x="105" y="63"/>
                  </a:cubicBezTo>
                  <a:cubicBezTo>
                    <a:pt x="129" y="62"/>
                    <a:pt x="153" y="57"/>
                    <a:pt x="176" y="51"/>
                  </a:cubicBezTo>
                  <a:cubicBezTo>
                    <a:pt x="188" y="48"/>
                    <a:pt x="203" y="43"/>
                    <a:pt x="214" y="37"/>
                  </a:cubicBezTo>
                  <a:cubicBezTo>
                    <a:pt x="217" y="34"/>
                    <a:pt x="221" y="32"/>
                    <a:pt x="225" y="29"/>
                  </a:cubicBezTo>
                  <a:cubicBezTo>
                    <a:pt x="229" y="26"/>
                    <a:pt x="233" y="21"/>
                    <a:pt x="235" y="15"/>
                  </a:cubicBezTo>
                  <a:cubicBezTo>
                    <a:pt x="237" y="9"/>
                    <a:pt x="236" y="2"/>
                    <a:pt x="234" y="0"/>
                  </a:cubicBezTo>
                  <a:cubicBezTo>
                    <a:pt x="231" y="8"/>
                    <a:pt x="225" y="17"/>
                    <a:pt x="215" y="22"/>
                  </a:cubicBezTo>
                  <a:cubicBezTo>
                    <a:pt x="213" y="23"/>
                    <a:pt x="211" y="25"/>
                    <a:pt x="209" y="26"/>
                  </a:cubicBezTo>
                  <a:cubicBezTo>
                    <a:pt x="193" y="34"/>
                    <a:pt x="174" y="38"/>
                    <a:pt x="154" y="42"/>
                  </a:cubicBezTo>
                  <a:cubicBezTo>
                    <a:pt x="147" y="43"/>
                    <a:pt x="141" y="44"/>
                    <a:pt x="134" y="45"/>
                  </a:cubicBezTo>
                  <a:cubicBezTo>
                    <a:pt x="134" y="45"/>
                    <a:pt x="134" y="45"/>
                    <a:pt x="134" y="45"/>
                  </a:cubicBezTo>
                  <a:cubicBezTo>
                    <a:pt x="127" y="46"/>
                    <a:pt x="120" y="46"/>
                    <a:pt x="113" y="47"/>
                  </a:cubicBezTo>
                  <a:cubicBezTo>
                    <a:pt x="113" y="47"/>
                    <a:pt x="115" y="46"/>
                    <a:pt x="115" y="46"/>
                  </a:cubicBezTo>
                  <a:cubicBezTo>
                    <a:pt x="105" y="47"/>
                    <a:pt x="93" y="47"/>
                    <a:pt x="84" y="47"/>
                  </a:cubicBezTo>
                  <a:cubicBezTo>
                    <a:pt x="85" y="47"/>
                    <a:pt x="85" y="47"/>
                    <a:pt x="85" y="47"/>
                  </a:cubicBezTo>
                  <a:cubicBezTo>
                    <a:pt x="80" y="48"/>
                    <a:pt x="74" y="47"/>
                    <a:pt x="68" y="47"/>
                  </a:cubicBezTo>
                  <a:cubicBezTo>
                    <a:pt x="63" y="46"/>
                    <a:pt x="58" y="46"/>
                    <a:pt x="53" y="45"/>
                  </a:cubicBezTo>
                  <a:cubicBezTo>
                    <a:pt x="62" y="47"/>
                    <a:pt x="72" y="47"/>
                    <a:pt x="80" y="48"/>
                  </a:cubicBezTo>
                  <a:cubicBezTo>
                    <a:pt x="69" y="48"/>
                    <a:pt x="58" y="46"/>
                    <a:pt x="47" y="45"/>
                  </a:cubicBezTo>
                  <a:cubicBezTo>
                    <a:pt x="61" y="47"/>
                    <a:pt x="74" y="48"/>
                    <a:pt x="89" y="48"/>
                  </a:cubicBezTo>
                  <a:cubicBezTo>
                    <a:pt x="89" y="48"/>
                    <a:pt x="88" y="49"/>
                    <a:pt x="88" y="49"/>
                  </a:cubicBezTo>
                  <a:cubicBezTo>
                    <a:pt x="89" y="49"/>
                    <a:pt x="93" y="49"/>
                    <a:pt x="95" y="49"/>
                  </a:cubicBezTo>
                  <a:cubicBezTo>
                    <a:pt x="97" y="49"/>
                    <a:pt x="99" y="49"/>
                    <a:pt x="102" y="49"/>
                  </a:cubicBezTo>
                  <a:cubicBezTo>
                    <a:pt x="104" y="48"/>
                    <a:pt x="106" y="48"/>
                    <a:pt x="108" y="48"/>
                  </a:cubicBezTo>
                  <a:cubicBezTo>
                    <a:pt x="114" y="47"/>
                    <a:pt x="120" y="47"/>
                    <a:pt x="124" y="47"/>
                  </a:cubicBezTo>
                  <a:cubicBezTo>
                    <a:pt x="103" y="50"/>
                    <a:pt x="80" y="50"/>
                    <a:pt x="62" y="47"/>
                  </a:cubicBezTo>
                  <a:cubicBezTo>
                    <a:pt x="63" y="47"/>
                    <a:pt x="63" y="47"/>
                    <a:pt x="63" y="47"/>
                  </a:cubicBezTo>
                  <a:cubicBezTo>
                    <a:pt x="63" y="47"/>
                    <a:pt x="61" y="47"/>
                    <a:pt x="61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7"/>
                    <a:pt x="60" y="47"/>
                    <a:pt x="59" y="47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59" y="47"/>
                    <a:pt x="57" y="46"/>
                    <a:pt x="58" y="47"/>
                  </a:cubicBezTo>
                  <a:cubicBezTo>
                    <a:pt x="57" y="47"/>
                    <a:pt x="58" y="46"/>
                    <a:pt x="57" y="46"/>
                  </a:cubicBezTo>
                  <a:cubicBezTo>
                    <a:pt x="55" y="47"/>
                    <a:pt x="53" y="46"/>
                    <a:pt x="51" y="46"/>
                  </a:cubicBezTo>
                  <a:cubicBezTo>
                    <a:pt x="46" y="45"/>
                    <a:pt x="39" y="43"/>
                    <a:pt x="34" y="42"/>
                  </a:cubicBezTo>
                  <a:cubicBezTo>
                    <a:pt x="37" y="43"/>
                    <a:pt x="41" y="44"/>
                    <a:pt x="43" y="45"/>
                  </a:cubicBezTo>
                  <a:close/>
                  <a:moveTo>
                    <a:pt x="49" y="46"/>
                  </a:moveTo>
                  <a:cubicBezTo>
                    <a:pt x="49" y="46"/>
                    <a:pt x="49" y="46"/>
                    <a:pt x="50" y="46"/>
                  </a:cubicBezTo>
                  <a:cubicBezTo>
                    <a:pt x="51" y="46"/>
                    <a:pt x="52" y="46"/>
                    <a:pt x="51" y="46"/>
                  </a:cubicBezTo>
                  <a:cubicBezTo>
                    <a:pt x="50" y="46"/>
                    <a:pt x="50" y="46"/>
                    <a:pt x="49" y="46"/>
                  </a:cubicBezTo>
                  <a:close/>
                  <a:moveTo>
                    <a:pt x="48" y="48"/>
                  </a:moveTo>
                  <a:cubicBezTo>
                    <a:pt x="49" y="48"/>
                    <a:pt x="50" y="48"/>
                    <a:pt x="51" y="48"/>
                  </a:cubicBezTo>
                  <a:cubicBezTo>
                    <a:pt x="50" y="49"/>
                    <a:pt x="49" y="48"/>
                    <a:pt x="48" y="48"/>
                  </a:cubicBezTo>
                  <a:close/>
                  <a:moveTo>
                    <a:pt x="84" y="48"/>
                  </a:moveTo>
                  <a:cubicBezTo>
                    <a:pt x="84" y="48"/>
                    <a:pt x="85" y="48"/>
                    <a:pt x="86" y="48"/>
                  </a:cubicBezTo>
                  <a:cubicBezTo>
                    <a:pt x="86" y="48"/>
                    <a:pt x="84" y="48"/>
                    <a:pt x="84" y="48"/>
                  </a:cubicBezTo>
                  <a:close/>
                  <a:moveTo>
                    <a:pt x="93" y="48"/>
                  </a:moveTo>
                  <a:cubicBezTo>
                    <a:pt x="92" y="49"/>
                    <a:pt x="90" y="48"/>
                    <a:pt x="92" y="48"/>
                  </a:cubicBezTo>
                  <a:cubicBezTo>
                    <a:pt x="93" y="48"/>
                    <a:pt x="93" y="48"/>
                    <a:pt x="93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04"/>
            <p:cNvSpPr/>
            <p:nvPr/>
          </p:nvSpPr>
          <p:spPr>
            <a:xfrm>
              <a:off x="3300840" y="6782760"/>
              <a:ext cx="46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2" y="0"/>
                    <a:pt x="1" y="1"/>
                    <a:pt x="2" y="1"/>
                  </a:cubicBezTo>
                  <a:cubicBezTo>
                    <a:pt x="2" y="2"/>
                    <a:pt x="4" y="2"/>
                    <a:pt x="3" y="2"/>
                  </a:cubicBezTo>
                  <a:cubicBezTo>
                    <a:pt x="2" y="2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05"/>
            <p:cNvSpPr/>
            <p:nvPr/>
          </p:nvSpPr>
          <p:spPr>
            <a:xfrm>
              <a:off x="3314160" y="678636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6"/>
            <p:cNvSpPr/>
            <p:nvPr/>
          </p:nvSpPr>
          <p:spPr>
            <a:xfrm>
              <a:off x="3316680" y="67888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2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7"/>
            <p:cNvSpPr/>
            <p:nvPr/>
          </p:nvSpPr>
          <p:spPr>
            <a:xfrm>
              <a:off x="3320280" y="67888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3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08"/>
            <p:cNvSpPr/>
            <p:nvPr/>
          </p:nvSpPr>
          <p:spPr>
            <a:xfrm>
              <a:off x="3312000" y="6787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09"/>
            <p:cNvSpPr/>
            <p:nvPr/>
          </p:nvSpPr>
          <p:spPr>
            <a:xfrm>
              <a:off x="3319200" y="678996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0"/>
            <p:cNvSpPr/>
            <p:nvPr/>
          </p:nvSpPr>
          <p:spPr>
            <a:xfrm>
              <a:off x="3366000" y="6792480"/>
              <a:ext cx="21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3" y="1"/>
                    <a:pt x="1" y="0"/>
                    <a:pt x="0" y="0"/>
                  </a:cubicBezTo>
                  <a:cubicBezTo>
                    <a:pt x="2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1"/>
            <p:cNvSpPr/>
            <p:nvPr/>
          </p:nvSpPr>
          <p:spPr>
            <a:xfrm>
              <a:off x="3121200" y="6598080"/>
              <a:ext cx="33480" cy="29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cubicBezTo>
                    <a:pt x="0" y="20"/>
                    <a:pt x="3" y="23"/>
                    <a:pt x="4" y="25"/>
                  </a:cubicBezTo>
                  <a:cubicBezTo>
                    <a:pt x="7" y="29"/>
                    <a:pt x="10" y="30"/>
                    <a:pt x="15" y="28"/>
                  </a:cubicBezTo>
                  <a:cubicBezTo>
                    <a:pt x="22" y="25"/>
                    <a:pt x="32" y="21"/>
                    <a:pt x="25" y="11"/>
                  </a:cubicBezTo>
                  <a:cubicBezTo>
                    <a:pt x="18" y="0"/>
                    <a:pt x="7" y="10"/>
                    <a:pt x="7" y="10"/>
                  </a:cubicBezTo>
                  <a:cubicBezTo>
                    <a:pt x="4" y="14"/>
                    <a:pt x="4" y="14"/>
                    <a:pt x="4" y="14"/>
                  </a:cubicBezTo>
                  <a:lnTo>
                    <a:pt x="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112"/>
            <p:cNvSpPr/>
            <p:nvPr/>
          </p:nvSpPr>
          <p:spPr>
            <a:xfrm>
              <a:off x="3133080" y="6619680"/>
              <a:ext cx="1080" cy="1080"/>
            </a:xfrm>
            <a:prstGeom prst="rect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13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4"/>
            <p:cNvSpPr/>
            <p:nvPr/>
          </p:nvSpPr>
          <p:spPr>
            <a:xfrm>
              <a:off x="3133080" y="661860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5"/>
            <p:cNvSpPr/>
            <p:nvPr/>
          </p:nvSpPr>
          <p:spPr>
            <a:xfrm>
              <a:off x="3144240" y="66171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6"/>
            <p:cNvSpPr/>
            <p:nvPr/>
          </p:nvSpPr>
          <p:spPr>
            <a:xfrm>
              <a:off x="3145320" y="661716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7"/>
            <p:cNvSpPr/>
            <p:nvPr/>
          </p:nvSpPr>
          <p:spPr>
            <a:xfrm>
              <a:off x="3120120" y="6591960"/>
              <a:ext cx="40680" cy="432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7" y="27"/>
                    <a:pt x="20" y="27"/>
                  </a:cubicBezTo>
                  <a:cubicBezTo>
                    <a:pt x="20" y="27"/>
                    <a:pt x="19" y="27"/>
                    <a:pt x="18" y="27"/>
                  </a:cubicBezTo>
                  <a:cubicBezTo>
                    <a:pt x="20" y="27"/>
                    <a:pt x="21" y="26"/>
                    <a:pt x="22" y="26"/>
                  </a:cubicBezTo>
                  <a:cubicBezTo>
                    <a:pt x="20" y="27"/>
                    <a:pt x="14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7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3" y="27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3" y="28"/>
                    <a:pt x="13" y="27"/>
                    <a:pt x="13" y="27"/>
                  </a:cubicBezTo>
                  <a:cubicBezTo>
                    <a:pt x="13" y="28"/>
                    <a:pt x="14" y="28"/>
                    <a:pt x="15" y="29"/>
                  </a:cubicBezTo>
                  <a:cubicBezTo>
                    <a:pt x="14" y="29"/>
                    <a:pt x="13" y="28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29"/>
                    <a:pt x="13" y="28"/>
                    <a:pt x="13" y="28"/>
                  </a:cubicBezTo>
                  <a:cubicBezTo>
                    <a:pt x="13" y="28"/>
                    <a:pt x="13" y="28"/>
                    <a:pt x="13" y="29"/>
                  </a:cubicBezTo>
                  <a:cubicBezTo>
                    <a:pt x="11" y="28"/>
                    <a:pt x="13" y="29"/>
                    <a:pt x="9" y="26"/>
                  </a:cubicBezTo>
                  <a:cubicBezTo>
                    <a:pt x="9" y="25"/>
                    <a:pt x="8" y="25"/>
                    <a:pt x="7" y="24"/>
                  </a:cubicBezTo>
                  <a:cubicBezTo>
                    <a:pt x="7" y="24"/>
                    <a:pt x="8" y="24"/>
                    <a:pt x="8" y="23"/>
                  </a:cubicBezTo>
                  <a:cubicBezTo>
                    <a:pt x="8" y="23"/>
                    <a:pt x="7" y="23"/>
                    <a:pt x="8" y="23"/>
                  </a:cubicBezTo>
                  <a:cubicBezTo>
                    <a:pt x="7" y="23"/>
                    <a:pt x="8" y="22"/>
                    <a:pt x="8" y="22"/>
                  </a:cubicBezTo>
                  <a:cubicBezTo>
                    <a:pt x="7" y="21"/>
                    <a:pt x="6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4" y="21"/>
                    <a:pt x="4" y="21"/>
                  </a:cubicBezTo>
                  <a:cubicBezTo>
                    <a:pt x="4" y="21"/>
                    <a:pt x="4" y="21"/>
                    <a:pt x="3" y="22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" y="22"/>
                    <a:pt x="0" y="25"/>
                    <a:pt x="0" y="28"/>
                  </a:cubicBezTo>
                  <a:cubicBezTo>
                    <a:pt x="0" y="29"/>
                    <a:pt x="1" y="31"/>
                    <a:pt x="1" y="32"/>
                  </a:cubicBezTo>
                  <a:cubicBezTo>
                    <a:pt x="1" y="33"/>
                    <a:pt x="4" y="38"/>
                    <a:pt x="7" y="40"/>
                  </a:cubicBezTo>
                  <a:cubicBezTo>
                    <a:pt x="8" y="40"/>
                    <a:pt x="9" y="40"/>
                    <a:pt x="9" y="41"/>
                  </a:cubicBezTo>
                  <a:cubicBezTo>
                    <a:pt x="14" y="42"/>
                    <a:pt x="17" y="41"/>
                    <a:pt x="21" y="40"/>
                  </a:cubicBezTo>
                  <a:cubicBezTo>
                    <a:pt x="23" y="39"/>
                    <a:pt x="25" y="38"/>
                    <a:pt x="27" y="37"/>
                  </a:cubicBezTo>
                  <a:cubicBezTo>
                    <a:pt x="29" y="36"/>
                    <a:pt x="31" y="35"/>
                    <a:pt x="33" y="34"/>
                  </a:cubicBezTo>
                  <a:cubicBezTo>
                    <a:pt x="37" y="31"/>
                    <a:pt x="40" y="22"/>
                    <a:pt x="37" y="18"/>
                  </a:cubicBezTo>
                  <a:cubicBezTo>
                    <a:pt x="36" y="13"/>
                    <a:pt x="34" y="10"/>
                    <a:pt x="30" y="7"/>
                  </a:cubicBezTo>
                  <a:cubicBezTo>
                    <a:pt x="27" y="2"/>
                    <a:pt x="19" y="0"/>
                    <a:pt x="14" y="2"/>
                  </a:cubicBezTo>
                  <a:cubicBezTo>
                    <a:pt x="13" y="2"/>
                    <a:pt x="11" y="3"/>
                    <a:pt x="10" y="3"/>
                  </a:cubicBezTo>
                  <a:cubicBezTo>
                    <a:pt x="9" y="4"/>
                    <a:pt x="7" y="5"/>
                    <a:pt x="7" y="7"/>
                  </a:cubicBezTo>
                  <a:cubicBezTo>
                    <a:pt x="6" y="8"/>
                    <a:pt x="5" y="9"/>
                    <a:pt x="5" y="11"/>
                  </a:cubicBezTo>
                  <a:cubicBezTo>
                    <a:pt x="9" y="13"/>
                    <a:pt x="12" y="12"/>
                    <a:pt x="14" y="12"/>
                  </a:cubicBezTo>
                  <a:cubicBezTo>
                    <a:pt x="15" y="12"/>
                    <a:pt x="15" y="12"/>
                    <a:pt x="16" y="12"/>
                  </a:cubicBezTo>
                  <a:cubicBezTo>
                    <a:pt x="20" y="11"/>
                    <a:pt x="24" y="14"/>
                    <a:pt x="25" y="18"/>
                  </a:cubicBezTo>
                  <a:cubicBezTo>
                    <a:pt x="26" y="19"/>
                    <a:pt x="26" y="21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3"/>
                    <a:pt x="25" y="23"/>
                    <a:pt x="24" y="23"/>
                  </a:cubicBezTo>
                  <a:cubicBezTo>
                    <a:pt x="24" y="23"/>
                    <a:pt x="25" y="23"/>
                    <a:pt x="24" y="23"/>
                  </a:cubicBezTo>
                  <a:cubicBezTo>
                    <a:pt x="24" y="24"/>
                    <a:pt x="22" y="24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8" y="25"/>
                    <a:pt x="16" y="26"/>
                  </a:cubicBezTo>
                  <a:cubicBezTo>
                    <a:pt x="15" y="26"/>
                    <a:pt x="13" y="26"/>
                    <a:pt x="13" y="26"/>
                  </a:cubicBezTo>
                  <a:cubicBezTo>
                    <a:pt x="14" y="27"/>
                    <a:pt x="18" y="25"/>
                    <a:pt x="19" y="26"/>
                  </a:cubicBezTo>
                  <a:cubicBezTo>
                    <a:pt x="17" y="26"/>
                    <a:pt x="13" y="27"/>
                    <a:pt x="13" y="26"/>
                  </a:cubicBezTo>
                  <a:cubicBezTo>
                    <a:pt x="13" y="27"/>
                    <a:pt x="19" y="26"/>
                    <a:pt x="21" y="25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2" y="26"/>
                    <a:pt x="22" y="25"/>
                    <a:pt x="23" y="25"/>
                  </a:cubicBezTo>
                  <a:cubicBezTo>
                    <a:pt x="23" y="25"/>
                    <a:pt x="23" y="25"/>
                    <a:pt x="24" y="25"/>
                  </a:cubicBezTo>
                  <a:cubicBezTo>
                    <a:pt x="24" y="25"/>
                    <a:pt x="24" y="24"/>
                    <a:pt x="24" y="24"/>
                  </a:cubicBezTo>
                  <a:cubicBezTo>
                    <a:pt x="25" y="24"/>
                    <a:pt x="26" y="23"/>
                    <a:pt x="26" y="23"/>
                  </a:cubicBezTo>
                  <a:cubicBezTo>
                    <a:pt x="25" y="25"/>
                    <a:pt x="20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7"/>
                    <a:pt x="14" y="27"/>
                    <a:pt x="13" y="26"/>
                  </a:cubicBezTo>
                  <a:cubicBezTo>
                    <a:pt x="12" y="26"/>
                    <a:pt x="13" y="25"/>
                    <a:pt x="13" y="27"/>
                  </a:cubicBezTo>
                  <a:cubicBezTo>
                    <a:pt x="13" y="27"/>
                    <a:pt x="13" y="25"/>
                    <a:pt x="13" y="26"/>
                  </a:cubicBezTo>
                  <a:close/>
                  <a:moveTo>
                    <a:pt x="13" y="26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7"/>
                    <a:pt x="13" y="27"/>
                  </a:cubicBezTo>
                  <a:lnTo>
                    <a:pt x="13" y="26"/>
                  </a:lnTo>
                  <a:close/>
                  <a:moveTo>
                    <a:pt x="14" y="29"/>
                  </a:moveTo>
                  <a:cubicBezTo>
                    <a:pt x="14" y="28"/>
                    <a:pt x="14" y="29"/>
                    <a:pt x="14" y="29"/>
                  </a:cubicBezTo>
                  <a:cubicBezTo>
                    <a:pt x="14" y="29"/>
                    <a:pt x="14" y="29"/>
                    <a:pt x="14" y="29"/>
                  </a:cubicBezTo>
                  <a:close/>
                  <a:moveTo>
                    <a:pt x="20" y="26"/>
                  </a:moveTo>
                  <a:cubicBezTo>
                    <a:pt x="20" y="25"/>
                    <a:pt x="21" y="26"/>
                    <a:pt x="21" y="25"/>
                  </a:cubicBezTo>
                  <a:cubicBezTo>
                    <a:pt x="21" y="26"/>
                    <a:pt x="20" y="25"/>
                    <a:pt x="20" y="26"/>
                  </a:cubicBezTo>
                  <a:close/>
                  <a:moveTo>
                    <a:pt x="22" y="25"/>
                  </a:moveTo>
                  <a:cubicBezTo>
                    <a:pt x="22" y="25"/>
                    <a:pt x="21" y="25"/>
                    <a:pt x="22" y="25"/>
                  </a:cubicBezTo>
                  <a:cubicBezTo>
                    <a:pt x="22" y="25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8"/>
            <p:cNvSpPr/>
            <p:nvPr/>
          </p:nvSpPr>
          <p:spPr>
            <a:xfrm>
              <a:off x="3133080" y="6619680"/>
              <a:ext cx="10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9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20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21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22"/>
            <p:cNvSpPr/>
            <p:nvPr/>
          </p:nvSpPr>
          <p:spPr>
            <a:xfrm>
              <a:off x="313308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23"/>
            <p:cNvSpPr/>
            <p:nvPr/>
          </p:nvSpPr>
          <p:spPr>
            <a:xfrm>
              <a:off x="3133080" y="6619680"/>
              <a:ext cx="36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24"/>
            <p:cNvSpPr/>
            <p:nvPr/>
          </p:nvSpPr>
          <p:spPr>
            <a:xfrm>
              <a:off x="3140640" y="661968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TextBox 248"/>
          <p:cNvSpPr/>
          <p:nvPr/>
        </p:nvSpPr>
        <p:spPr>
          <a:xfrm>
            <a:off x="7683480" y="6613560"/>
            <a:ext cx="151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249"/>
          <p:cNvSpPr/>
          <p:nvPr/>
        </p:nvSpPr>
        <p:spPr>
          <a:xfrm>
            <a:off x="7391520" y="326880"/>
            <a:ext cx="16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640000"/>
                </a:solidFill>
                <a:latin typeface="黑体"/>
                <a:ea typeface="黑体"/>
              </a:rPr>
              <a:t>第一</a:t>
            </a:r>
            <a:r>
              <a:rPr b="0" lang="en-US" sz="800" spc="-1" strike="noStrike">
                <a:solidFill>
                  <a:srgbClr val="640000"/>
                </a:solidFill>
                <a:latin typeface="黑体"/>
                <a:ea typeface="黑体"/>
              </a:rPr>
              <a:t>PPT</a:t>
            </a:r>
            <a:r>
              <a:rPr b="0" lang="zh-CN" sz="800" spc="-1" strike="noStrike">
                <a:solidFill>
                  <a:srgbClr val="640000"/>
                </a:solidFill>
                <a:latin typeface="黑体"/>
                <a:ea typeface="黑体"/>
              </a:rPr>
              <a:t>模板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​​ 57"/>
          <p:cNvSpPr/>
          <p:nvPr/>
        </p:nvSpPr>
        <p:spPr>
          <a:xfrm>
            <a:off x="3708360" y="2970360"/>
            <a:ext cx="496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月饼是汉族人民喜爱的传统节日特色食品，月圆饼也圆，又是合家分吃，象征着团圆和睦，在中秋节这一天是必食之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年中秋佳节，第一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送上两套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模板，可以修改文字发给您的客户、朋友、亲人，祝愿全国人民团圆如意，和和美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经典行楷繁"/>
                <a:ea typeface="经典行楷繁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313"/>
          <p:cNvSpPr/>
          <p:nvPr/>
        </p:nvSpPr>
        <p:spPr>
          <a:xfrm>
            <a:off x="3651120" y="1665360"/>
            <a:ext cx="393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中秋快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Group 245"/>
          <p:cNvGrpSpPr/>
          <p:nvPr/>
        </p:nvGrpSpPr>
        <p:grpSpPr>
          <a:xfrm>
            <a:off x="-3430440" y="73080"/>
            <a:ext cx="6691320" cy="6786360"/>
            <a:chOff x="-3430440" y="73080"/>
            <a:chExt cx="6691320" cy="6786360"/>
          </a:xfrm>
        </p:grpSpPr>
        <p:sp>
          <p:nvSpPr>
            <p:cNvPr id="1346" name="Freeform 6"/>
            <p:cNvSpPr/>
            <p:nvPr/>
          </p:nvSpPr>
          <p:spPr>
            <a:xfrm>
              <a:off x="-3430440" y="73080"/>
              <a:ext cx="6271200" cy="6786360"/>
            </a:xfrm>
            <a:custGeom>
              <a:avLst/>
              <a:gdLst/>
              <a:ahLst/>
              <a:rect l="l" t="t" r="r" b="b"/>
              <a:pathLst>
                <a:path w="4118" h="4455">
                  <a:moveTo>
                    <a:pt x="3770" y="2473"/>
                  </a:moveTo>
                  <a:cubicBezTo>
                    <a:pt x="3802" y="2481"/>
                    <a:pt x="3821" y="2505"/>
                    <a:pt x="3838" y="2531"/>
                  </a:cubicBezTo>
                  <a:cubicBezTo>
                    <a:pt x="3844" y="2539"/>
                    <a:pt x="3848" y="2550"/>
                    <a:pt x="3848" y="2561"/>
                  </a:cubicBezTo>
                  <a:cubicBezTo>
                    <a:pt x="3849" y="2648"/>
                    <a:pt x="3847" y="2737"/>
                    <a:pt x="3822" y="2821"/>
                  </a:cubicBezTo>
                  <a:cubicBezTo>
                    <a:pt x="3800" y="2894"/>
                    <a:pt x="3781" y="2970"/>
                    <a:pt x="3729" y="3031"/>
                  </a:cubicBezTo>
                  <a:cubicBezTo>
                    <a:pt x="3720" y="3042"/>
                    <a:pt x="3715" y="3057"/>
                    <a:pt x="3708" y="3069"/>
                  </a:cubicBezTo>
                  <a:cubicBezTo>
                    <a:pt x="3686" y="3101"/>
                    <a:pt x="3665" y="3133"/>
                    <a:pt x="3643" y="3164"/>
                  </a:cubicBezTo>
                  <a:cubicBezTo>
                    <a:pt x="3639" y="3169"/>
                    <a:pt x="3629" y="3170"/>
                    <a:pt x="3622" y="3174"/>
                  </a:cubicBezTo>
                  <a:cubicBezTo>
                    <a:pt x="3608" y="3183"/>
                    <a:pt x="3592" y="3191"/>
                    <a:pt x="3580" y="3203"/>
                  </a:cubicBezTo>
                  <a:cubicBezTo>
                    <a:pt x="3571" y="3212"/>
                    <a:pt x="3566" y="3226"/>
                    <a:pt x="3550" y="3225"/>
                  </a:cubicBezTo>
                  <a:cubicBezTo>
                    <a:pt x="3528" y="3223"/>
                    <a:pt x="3505" y="3233"/>
                    <a:pt x="3484" y="3218"/>
                  </a:cubicBezTo>
                  <a:cubicBezTo>
                    <a:pt x="3462" y="3203"/>
                    <a:pt x="3437" y="3193"/>
                    <a:pt x="3417" y="3177"/>
                  </a:cubicBezTo>
                  <a:cubicBezTo>
                    <a:pt x="3392" y="3157"/>
                    <a:pt x="3372" y="3133"/>
                    <a:pt x="3348" y="3111"/>
                  </a:cubicBezTo>
                  <a:cubicBezTo>
                    <a:pt x="3325" y="3090"/>
                    <a:pt x="3301" y="3069"/>
                    <a:pt x="3276" y="3049"/>
                  </a:cubicBezTo>
                  <a:cubicBezTo>
                    <a:pt x="3271" y="3045"/>
                    <a:pt x="3264" y="3043"/>
                    <a:pt x="3258" y="3042"/>
                  </a:cubicBezTo>
                  <a:cubicBezTo>
                    <a:pt x="3238" y="3040"/>
                    <a:pt x="3227" y="3029"/>
                    <a:pt x="3221" y="3010"/>
                  </a:cubicBezTo>
                  <a:cubicBezTo>
                    <a:pt x="3212" y="2984"/>
                    <a:pt x="3193" y="2968"/>
                    <a:pt x="3162" y="2950"/>
                  </a:cubicBezTo>
                  <a:cubicBezTo>
                    <a:pt x="3206" y="3036"/>
                    <a:pt x="3268" y="3094"/>
                    <a:pt x="3332" y="3147"/>
                  </a:cubicBezTo>
                  <a:cubicBezTo>
                    <a:pt x="3406" y="3208"/>
                    <a:pt x="3490" y="3258"/>
                    <a:pt x="3570" y="3311"/>
                  </a:cubicBezTo>
                  <a:cubicBezTo>
                    <a:pt x="3591" y="3324"/>
                    <a:pt x="3617" y="3329"/>
                    <a:pt x="3640" y="3337"/>
                  </a:cubicBezTo>
                  <a:cubicBezTo>
                    <a:pt x="3647" y="3340"/>
                    <a:pt x="3655" y="3341"/>
                    <a:pt x="3662" y="3345"/>
                  </a:cubicBezTo>
                  <a:cubicBezTo>
                    <a:pt x="3696" y="3363"/>
                    <a:pt x="3723" y="3357"/>
                    <a:pt x="3751" y="3332"/>
                  </a:cubicBezTo>
                  <a:cubicBezTo>
                    <a:pt x="3791" y="3295"/>
                    <a:pt x="3809" y="3243"/>
                    <a:pt x="3843" y="3202"/>
                  </a:cubicBezTo>
                  <a:cubicBezTo>
                    <a:pt x="3844" y="3201"/>
                    <a:pt x="3845" y="3200"/>
                    <a:pt x="3845" y="3199"/>
                  </a:cubicBezTo>
                  <a:cubicBezTo>
                    <a:pt x="3840" y="3162"/>
                    <a:pt x="3873" y="3145"/>
                    <a:pt x="3888" y="3118"/>
                  </a:cubicBezTo>
                  <a:cubicBezTo>
                    <a:pt x="3911" y="3077"/>
                    <a:pt x="3937" y="3036"/>
                    <a:pt x="3932" y="2984"/>
                  </a:cubicBezTo>
                  <a:cubicBezTo>
                    <a:pt x="3931" y="2985"/>
                    <a:pt x="3931" y="2985"/>
                    <a:pt x="3931" y="2985"/>
                  </a:cubicBezTo>
                  <a:cubicBezTo>
                    <a:pt x="3940" y="2984"/>
                    <a:pt x="3946" y="2987"/>
                    <a:pt x="3945" y="2998"/>
                  </a:cubicBezTo>
                  <a:cubicBezTo>
                    <a:pt x="3944" y="3011"/>
                    <a:pt x="3941" y="3024"/>
                    <a:pt x="3940" y="3037"/>
                  </a:cubicBezTo>
                  <a:cubicBezTo>
                    <a:pt x="3939" y="3069"/>
                    <a:pt x="3939" y="3069"/>
                    <a:pt x="3961" y="3090"/>
                  </a:cubicBezTo>
                  <a:cubicBezTo>
                    <a:pt x="3945" y="3123"/>
                    <a:pt x="3930" y="3156"/>
                    <a:pt x="3915" y="3188"/>
                  </a:cubicBezTo>
                  <a:cubicBezTo>
                    <a:pt x="3913" y="3187"/>
                    <a:pt x="3910" y="3186"/>
                    <a:pt x="3907" y="3185"/>
                  </a:cubicBezTo>
                  <a:cubicBezTo>
                    <a:pt x="3908" y="3178"/>
                    <a:pt x="3909" y="3171"/>
                    <a:pt x="3910" y="3163"/>
                  </a:cubicBezTo>
                  <a:cubicBezTo>
                    <a:pt x="3911" y="3161"/>
                    <a:pt x="3913" y="3160"/>
                    <a:pt x="3914" y="3158"/>
                  </a:cubicBezTo>
                  <a:cubicBezTo>
                    <a:pt x="3915" y="3153"/>
                    <a:pt x="3916" y="3149"/>
                    <a:pt x="3916" y="3145"/>
                  </a:cubicBezTo>
                  <a:cubicBezTo>
                    <a:pt x="3916" y="3144"/>
                    <a:pt x="3912" y="3143"/>
                    <a:pt x="3910" y="3142"/>
                  </a:cubicBezTo>
                  <a:cubicBezTo>
                    <a:pt x="3909" y="3148"/>
                    <a:pt x="3907" y="3153"/>
                    <a:pt x="3907" y="3158"/>
                  </a:cubicBezTo>
                  <a:cubicBezTo>
                    <a:pt x="3907" y="3160"/>
                    <a:pt x="3909" y="3162"/>
                    <a:pt x="3911" y="3164"/>
                  </a:cubicBezTo>
                  <a:cubicBezTo>
                    <a:pt x="3890" y="3162"/>
                    <a:pt x="3879" y="3175"/>
                    <a:pt x="3870" y="3191"/>
                  </a:cubicBezTo>
                  <a:cubicBezTo>
                    <a:pt x="3849" y="3227"/>
                    <a:pt x="3825" y="3263"/>
                    <a:pt x="3805" y="3300"/>
                  </a:cubicBezTo>
                  <a:cubicBezTo>
                    <a:pt x="3797" y="3315"/>
                    <a:pt x="3795" y="3334"/>
                    <a:pt x="3790" y="3351"/>
                  </a:cubicBezTo>
                  <a:cubicBezTo>
                    <a:pt x="3787" y="3360"/>
                    <a:pt x="3783" y="3369"/>
                    <a:pt x="3776" y="3375"/>
                  </a:cubicBezTo>
                  <a:cubicBezTo>
                    <a:pt x="3730" y="3412"/>
                    <a:pt x="3683" y="3448"/>
                    <a:pt x="3636" y="3485"/>
                  </a:cubicBezTo>
                  <a:cubicBezTo>
                    <a:pt x="3610" y="3505"/>
                    <a:pt x="3583" y="3500"/>
                    <a:pt x="3557" y="3487"/>
                  </a:cubicBezTo>
                  <a:cubicBezTo>
                    <a:pt x="3503" y="3461"/>
                    <a:pt x="3449" y="3433"/>
                    <a:pt x="3394" y="3407"/>
                  </a:cubicBezTo>
                  <a:cubicBezTo>
                    <a:pt x="3388" y="3404"/>
                    <a:pt x="3380" y="3403"/>
                    <a:pt x="3371" y="3404"/>
                  </a:cubicBezTo>
                  <a:cubicBezTo>
                    <a:pt x="3399" y="3436"/>
                    <a:pt x="3435" y="3459"/>
                    <a:pt x="3465" y="3489"/>
                  </a:cubicBezTo>
                  <a:cubicBezTo>
                    <a:pt x="3458" y="3487"/>
                    <a:pt x="3451" y="3485"/>
                    <a:pt x="3437" y="3481"/>
                  </a:cubicBezTo>
                  <a:cubicBezTo>
                    <a:pt x="3446" y="3493"/>
                    <a:pt x="3451" y="3501"/>
                    <a:pt x="3459" y="3507"/>
                  </a:cubicBezTo>
                  <a:cubicBezTo>
                    <a:pt x="3469" y="3516"/>
                    <a:pt x="3476" y="3524"/>
                    <a:pt x="3480" y="3539"/>
                  </a:cubicBezTo>
                  <a:cubicBezTo>
                    <a:pt x="3484" y="3551"/>
                    <a:pt x="3500" y="3561"/>
                    <a:pt x="3512" y="3572"/>
                  </a:cubicBezTo>
                  <a:cubicBezTo>
                    <a:pt x="3521" y="3564"/>
                    <a:pt x="3528" y="3558"/>
                    <a:pt x="3534" y="3553"/>
                  </a:cubicBezTo>
                  <a:cubicBezTo>
                    <a:pt x="3537" y="3555"/>
                    <a:pt x="3540" y="3557"/>
                    <a:pt x="3540" y="3559"/>
                  </a:cubicBezTo>
                  <a:cubicBezTo>
                    <a:pt x="3539" y="3596"/>
                    <a:pt x="3512" y="3618"/>
                    <a:pt x="3486" y="3638"/>
                  </a:cubicBezTo>
                  <a:cubicBezTo>
                    <a:pt x="3455" y="3662"/>
                    <a:pt x="3426" y="3684"/>
                    <a:pt x="3421" y="3727"/>
                  </a:cubicBezTo>
                  <a:cubicBezTo>
                    <a:pt x="3420" y="3735"/>
                    <a:pt x="3408" y="3743"/>
                    <a:pt x="3401" y="3751"/>
                  </a:cubicBezTo>
                  <a:cubicBezTo>
                    <a:pt x="3376" y="3742"/>
                    <a:pt x="3356" y="3746"/>
                    <a:pt x="3335" y="3759"/>
                  </a:cubicBezTo>
                  <a:cubicBezTo>
                    <a:pt x="3301" y="3781"/>
                    <a:pt x="3265" y="3777"/>
                    <a:pt x="3233" y="3756"/>
                  </a:cubicBezTo>
                  <a:cubicBezTo>
                    <a:pt x="3176" y="3720"/>
                    <a:pt x="3119" y="3683"/>
                    <a:pt x="3066" y="3642"/>
                  </a:cubicBezTo>
                  <a:cubicBezTo>
                    <a:pt x="3017" y="3605"/>
                    <a:pt x="2974" y="3561"/>
                    <a:pt x="2929" y="3520"/>
                  </a:cubicBezTo>
                  <a:cubicBezTo>
                    <a:pt x="2921" y="3513"/>
                    <a:pt x="2913" y="3506"/>
                    <a:pt x="2905" y="3499"/>
                  </a:cubicBezTo>
                  <a:cubicBezTo>
                    <a:pt x="2859" y="3459"/>
                    <a:pt x="2812" y="3421"/>
                    <a:pt x="2768" y="3378"/>
                  </a:cubicBezTo>
                  <a:cubicBezTo>
                    <a:pt x="2738" y="3349"/>
                    <a:pt x="2714" y="3314"/>
                    <a:pt x="2686" y="3281"/>
                  </a:cubicBezTo>
                  <a:cubicBezTo>
                    <a:pt x="2682" y="3276"/>
                    <a:pt x="2675" y="3272"/>
                    <a:pt x="2664" y="3264"/>
                  </a:cubicBezTo>
                  <a:cubicBezTo>
                    <a:pt x="2665" y="3306"/>
                    <a:pt x="2719" y="3316"/>
                    <a:pt x="2705" y="3361"/>
                  </a:cubicBezTo>
                  <a:cubicBezTo>
                    <a:pt x="2736" y="3352"/>
                    <a:pt x="2748" y="3371"/>
                    <a:pt x="2758" y="3390"/>
                  </a:cubicBezTo>
                  <a:cubicBezTo>
                    <a:pt x="2778" y="3428"/>
                    <a:pt x="2806" y="3456"/>
                    <a:pt x="2837" y="3484"/>
                  </a:cubicBezTo>
                  <a:cubicBezTo>
                    <a:pt x="2865" y="3508"/>
                    <a:pt x="2889" y="3537"/>
                    <a:pt x="2915" y="3564"/>
                  </a:cubicBezTo>
                  <a:cubicBezTo>
                    <a:pt x="2953" y="3603"/>
                    <a:pt x="2991" y="3641"/>
                    <a:pt x="3029" y="3680"/>
                  </a:cubicBezTo>
                  <a:cubicBezTo>
                    <a:pt x="3040" y="3691"/>
                    <a:pt x="3051" y="3702"/>
                    <a:pt x="3063" y="3714"/>
                  </a:cubicBezTo>
                  <a:cubicBezTo>
                    <a:pt x="3053" y="3711"/>
                    <a:pt x="3044" y="3709"/>
                    <a:pt x="3028" y="3705"/>
                  </a:cubicBezTo>
                  <a:cubicBezTo>
                    <a:pt x="3043" y="3726"/>
                    <a:pt x="3053" y="3727"/>
                    <a:pt x="3065" y="3715"/>
                  </a:cubicBezTo>
                  <a:cubicBezTo>
                    <a:pt x="3068" y="3723"/>
                    <a:pt x="3070" y="3738"/>
                    <a:pt x="3073" y="3738"/>
                  </a:cubicBezTo>
                  <a:cubicBezTo>
                    <a:pt x="3095" y="3739"/>
                    <a:pt x="3100" y="3754"/>
                    <a:pt x="3106" y="3771"/>
                  </a:cubicBezTo>
                  <a:cubicBezTo>
                    <a:pt x="3111" y="3785"/>
                    <a:pt x="3119" y="3799"/>
                    <a:pt x="3140" y="3798"/>
                  </a:cubicBezTo>
                  <a:cubicBezTo>
                    <a:pt x="3151" y="3798"/>
                    <a:pt x="3161" y="3812"/>
                    <a:pt x="3173" y="3820"/>
                  </a:cubicBezTo>
                  <a:cubicBezTo>
                    <a:pt x="3176" y="3817"/>
                    <a:pt x="3179" y="3813"/>
                    <a:pt x="3183" y="3810"/>
                  </a:cubicBezTo>
                  <a:cubicBezTo>
                    <a:pt x="3185" y="3811"/>
                    <a:pt x="3188" y="3811"/>
                    <a:pt x="3189" y="3812"/>
                  </a:cubicBezTo>
                  <a:cubicBezTo>
                    <a:pt x="3203" y="3842"/>
                    <a:pt x="3202" y="3847"/>
                    <a:pt x="3179" y="3871"/>
                  </a:cubicBezTo>
                  <a:cubicBezTo>
                    <a:pt x="3166" y="3884"/>
                    <a:pt x="3153" y="3897"/>
                    <a:pt x="3140" y="3910"/>
                  </a:cubicBezTo>
                  <a:cubicBezTo>
                    <a:pt x="3141" y="3913"/>
                    <a:pt x="3143" y="3916"/>
                    <a:pt x="3144" y="3919"/>
                  </a:cubicBezTo>
                  <a:cubicBezTo>
                    <a:pt x="3157" y="3916"/>
                    <a:pt x="3170" y="3913"/>
                    <a:pt x="3183" y="3910"/>
                  </a:cubicBezTo>
                  <a:cubicBezTo>
                    <a:pt x="3171" y="3932"/>
                    <a:pt x="3171" y="3932"/>
                    <a:pt x="3127" y="3938"/>
                  </a:cubicBezTo>
                  <a:cubicBezTo>
                    <a:pt x="3124" y="3931"/>
                    <a:pt x="3123" y="3919"/>
                    <a:pt x="3118" y="3917"/>
                  </a:cubicBezTo>
                  <a:cubicBezTo>
                    <a:pt x="3111" y="3913"/>
                    <a:pt x="3099" y="3913"/>
                    <a:pt x="3092" y="3916"/>
                  </a:cubicBezTo>
                  <a:cubicBezTo>
                    <a:pt x="3051" y="3939"/>
                    <a:pt x="3010" y="3963"/>
                    <a:pt x="2968" y="3985"/>
                  </a:cubicBezTo>
                  <a:cubicBezTo>
                    <a:pt x="2961" y="3990"/>
                    <a:pt x="2951" y="3990"/>
                    <a:pt x="2943" y="3994"/>
                  </a:cubicBezTo>
                  <a:cubicBezTo>
                    <a:pt x="2931" y="4000"/>
                    <a:pt x="2920" y="4007"/>
                    <a:pt x="2909" y="4014"/>
                  </a:cubicBezTo>
                  <a:cubicBezTo>
                    <a:pt x="2909" y="4014"/>
                    <a:pt x="2910" y="4013"/>
                    <a:pt x="2910" y="4013"/>
                  </a:cubicBezTo>
                  <a:cubicBezTo>
                    <a:pt x="2903" y="4010"/>
                    <a:pt x="2896" y="4004"/>
                    <a:pt x="2889" y="4002"/>
                  </a:cubicBezTo>
                  <a:cubicBezTo>
                    <a:pt x="2827" y="3992"/>
                    <a:pt x="2778" y="3961"/>
                    <a:pt x="2734" y="3918"/>
                  </a:cubicBezTo>
                  <a:cubicBezTo>
                    <a:pt x="2692" y="3878"/>
                    <a:pt x="2648" y="3839"/>
                    <a:pt x="2605" y="3800"/>
                  </a:cubicBezTo>
                  <a:cubicBezTo>
                    <a:pt x="2598" y="3793"/>
                    <a:pt x="2590" y="3784"/>
                    <a:pt x="2575" y="3797"/>
                  </a:cubicBezTo>
                  <a:cubicBezTo>
                    <a:pt x="2591" y="3823"/>
                    <a:pt x="2606" y="3849"/>
                    <a:pt x="2622" y="3876"/>
                  </a:cubicBezTo>
                  <a:cubicBezTo>
                    <a:pt x="2607" y="3875"/>
                    <a:pt x="2597" y="3854"/>
                    <a:pt x="2578" y="3866"/>
                  </a:cubicBezTo>
                  <a:cubicBezTo>
                    <a:pt x="2583" y="3875"/>
                    <a:pt x="2591" y="3882"/>
                    <a:pt x="2593" y="3891"/>
                  </a:cubicBezTo>
                  <a:cubicBezTo>
                    <a:pt x="2595" y="3900"/>
                    <a:pt x="2591" y="3913"/>
                    <a:pt x="2608" y="3914"/>
                  </a:cubicBezTo>
                  <a:cubicBezTo>
                    <a:pt x="2612" y="3901"/>
                    <a:pt x="2617" y="3888"/>
                    <a:pt x="2621" y="3875"/>
                  </a:cubicBezTo>
                  <a:cubicBezTo>
                    <a:pt x="2649" y="3898"/>
                    <a:pt x="2648" y="3928"/>
                    <a:pt x="2635" y="3961"/>
                  </a:cubicBezTo>
                  <a:cubicBezTo>
                    <a:pt x="2658" y="3973"/>
                    <a:pt x="2680" y="3984"/>
                    <a:pt x="2703" y="3996"/>
                  </a:cubicBezTo>
                  <a:cubicBezTo>
                    <a:pt x="2705" y="4027"/>
                    <a:pt x="2717" y="4062"/>
                    <a:pt x="2694" y="4093"/>
                  </a:cubicBezTo>
                  <a:cubicBezTo>
                    <a:pt x="2694" y="4093"/>
                    <a:pt x="2694" y="4093"/>
                    <a:pt x="2694" y="4093"/>
                  </a:cubicBezTo>
                  <a:cubicBezTo>
                    <a:pt x="2661" y="4087"/>
                    <a:pt x="2630" y="4092"/>
                    <a:pt x="2605" y="4116"/>
                  </a:cubicBezTo>
                  <a:cubicBezTo>
                    <a:pt x="2602" y="4119"/>
                    <a:pt x="2599" y="4124"/>
                    <a:pt x="2597" y="4124"/>
                  </a:cubicBezTo>
                  <a:cubicBezTo>
                    <a:pt x="2573" y="4118"/>
                    <a:pt x="2572" y="4140"/>
                    <a:pt x="2564" y="4159"/>
                  </a:cubicBezTo>
                  <a:cubicBezTo>
                    <a:pt x="2541" y="4115"/>
                    <a:pt x="2511" y="4138"/>
                    <a:pt x="2486" y="4146"/>
                  </a:cubicBezTo>
                  <a:cubicBezTo>
                    <a:pt x="2449" y="4159"/>
                    <a:pt x="2412" y="4154"/>
                    <a:pt x="2374" y="4157"/>
                  </a:cubicBezTo>
                  <a:cubicBezTo>
                    <a:pt x="2371" y="4157"/>
                    <a:pt x="2366" y="4149"/>
                    <a:pt x="2361" y="4143"/>
                  </a:cubicBezTo>
                  <a:cubicBezTo>
                    <a:pt x="2355" y="4150"/>
                    <a:pt x="2351" y="4156"/>
                    <a:pt x="2345" y="4163"/>
                  </a:cubicBezTo>
                  <a:cubicBezTo>
                    <a:pt x="2333" y="4150"/>
                    <a:pt x="2326" y="4124"/>
                    <a:pt x="2297" y="4142"/>
                  </a:cubicBezTo>
                  <a:cubicBezTo>
                    <a:pt x="2310" y="4164"/>
                    <a:pt x="2330" y="4192"/>
                    <a:pt x="2313" y="4214"/>
                  </a:cubicBezTo>
                  <a:cubicBezTo>
                    <a:pt x="2295" y="4236"/>
                    <a:pt x="2263" y="4244"/>
                    <a:pt x="2228" y="4235"/>
                  </a:cubicBezTo>
                  <a:cubicBezTo>
                    <a:pt x="2247" y="4258"/>
                    <a:pt x="2265" y="4282"/>
                    <a:pt x="2287" y="4309"/>
                  </a:cubicBezTo>
                  <a:cubicBezTo>
                    <a:pt x="2300" y="4295"/>
                    <a:pt x="2311" y="4282"/>
                    <a:pt x="2324" y="4267"/>
                  </a:cubicBezTo>
                  <a:cubicBezTo>
                    <a:pt x="2340" y="4278"/>
                    <a:pt x="2356" y="4288"/>
                    <a:pt x="2372" y="4298"/>
                  </a:cubicBezTo>
                  <a:cubicBezTo>
                    <a:pt x="2361" y="4299"/>
                    <a:pt x="2350" y="4300"/>
                    <a:pt x="2340" y="4301"/>
                  </a:cubicBezTo>
                  <a:cubicBezTo>
                    <a:pt x="2340" y="4304"/>
                    <a:pt x="2341" y="4307"/>
                    <a:pt x="2342" y="4310"/>
                  </a:cubicBezTo>
                  <a:cubicBezTo>
                    <a:pt x="2352" y="4308"/>
                    <a:pt x="2366" y="4317"/>
                    <a:pt x="2371" y="4297"/>
                  </a:cubicBezTo>
                  <a:cubicBezTo>
                    <a:pt x="2385" y="4300"/>
                    <a:pt x="2400" y="4300"/>
                    <a:pt x="2412" y="4305"/>
                  </a:cubicBezTo>
                  <a:cubicBezTo>
                    <a:pt x="2435" y="4315"/>
                    <a:pt x="2454" y="4314"/>
                    <a:pt x="2469" y="4294"/>
                  </a:cubicBezTo>
                  <a:cubicBezTo>
                    <a:pt x="2486" y="4273"/>
                    <a:pt x="2505" y="4263"/>
                    <a:pt x="2532" y="4276"/>
                  </a:cubicBezTo>
                  <a:cubicBezTo>
                    <a:pt x="2536" y="4266"/>
                    <a:pt x="2539" y="4257"/>
                    <a:pt x="2542" y="4250"/>
                  </a:cubicBezTo>
                  <a:cubicBezTo>
                    <a:pt x="2558" y="4247"/>
                    <a:pt x="2565" y="4264"/>
                    <a:pt x="2558" y="4284"/>
                  </a:cubicBezTo>
                  <a:cubicBezTo>
                    <a:pt x="2557" y="4286"/>
                    <a:pt x="2557" y="4289"/>
                    <a:pt x="2556" y="4295"/>
                  </a:cubicBezTo>
                  <a:cubicBezTo>
                    <a:pt x="2570" y="4293"/>
                    <a:pt x="2584" y="4290"/>
                    <a:pt x="2601" y="4288"/>
                  </a:cubicBezTo>
                  <a:cubicBezTo>
                    <a:pt x="2599" y="4295"/>
                    <a:pt x="2597" y="4301"/>
                    <a:pt x="2595" y="4307"/>
                  </a:cubicBezTo>
                  <a:cubicBezTo>
                    <a:pt x="2610" y="4311"/>
                    <a:pt x="2610" y="4311"/>
                    <a:pt x="2627" y="4300"/>
                  </a:cubicBezTo>
                  <a:cubicBezTo>
                    <a:pt x="2624" y="4267"/>
                    <a:pt x="2583" y="4267"/>
                    <a:pt x="2573" y="4234"/>
                  </a:cubicBezTo>
                  <a:cubicBezTo>
                    <a:pt x="2585" y="4231"/>
                    <a:pt x="2598" y="4225"/>
                    <a:pt x="2608" y="4228"/>
                  </a:cubicBezTo>
                  <a:cubicBezTo>
                    <a:pt x="2633" y="4235"/>
                    <a:pt x="2649" y="4226"/>
                    <a:pt x="2658" y="4205"/>
                  </a:cubicBezTo>
                  <a:cubicBezTo>
                    <a:pt x="2677" y="4206"/>
                    <a:pt x="2694" y="4208"/>
                    <a:pt x="2711" y="4209"/>
                  </a:cubicBezTo>
                  <a:cubicBezTo>
                    <a:pt x="2713" y="4241"/>
                    <a:pt x="2676" y="4267"/>
                    <a:pt x="2702" y="4301"/>
                  </a:cubicBezTo>
                  <a:cubicBezTo>
                    <a:pt x="2715" y="4270"/>
                    <a:pt x="2726" y="4241"/>
                    <a:pt x="2737" y="4212"/>
                  </a:cubicBezTo>
                  <a:cubicBezTo>
                    <a:pt x="2736" y="4213"/>
                    <a:pt x="2736" y="4213"/>
                    <a:pt x="2736" y="4213"/>
                  </a:cubicBezTo>
                  <a:cubicBezTo>
                    <a:pt x="2749" y="4202"/>
                    <a:pt x="2762" y="4192"/>
                    <a:pt x="2774" y="4182"/>
                  </a:cubicBezTo>
                  <a:cubicBezTo>
                    <a:pt x="2783" y="4208"/>
                    <a:pt x="2789" y="4210"/>
                    <a:pt x="2820" y="4203"/>
                  </a:cubicBezTo>
                  <a:cubicBezTo>
                    <a:pt x="2829" y="4201"/>
                    <a:pt x="2839" y="4206"/>
                    <a:pt x="2852" y="4208"/>
                  </a:cubicBezTo>
                  <a:cubicBezTo>
                    <a:pt x="2853" y="4197"/>
                    <a:pt x="2855" y="4182"/>
                    <a:pt x="2857" y="4165"/>
                  </a:cubicBezTo>
                  <a:cubicBezTo>
                    <a:pt x="2889" y="4165"/>
                    <a:pt x="2915" y="4154"/>
                    <a:pt x="2924" y="4116"/>
                  </a:cubicBezTo>
                  <a:cubicBezTo>
                    <a:pt x="2931" y="4126"/>
                    <a:pt x="2935" y="4133"/>
                    <a:pt x="2941" y="4137"/>
                  </a:cubicBezTo>
                  <a:cubicBezTo>
                    <a:pt x="2946" y="4140"/>
                    <a:pt x="2956" y="4142"/>
                    <a:pt x="2961" y="4140"/>
                  </a:cubicBezTo>
                  <a:cubicBezTo>
                    <a:pt x="2970" y="4135"/>
                    <a:pt x="2969" y="4114"/>
                    <a:pt x="2987" y="4122"/>
                  </a:cubicBezTo>
                  <a:cubicBezTo>
                    <a:pt x="2996" y="4126"/>
                    <a:pt x="3003" y="4133"/>
                    <a:pt x="3013" y="4140"/>
                  </a:cubicBezTo>
                  <a:cubicBezTo>
                    <a:pt x="3020" y="4136"/>
                    <a:pt x="3027" y="4130"/>
                    <a:pt x="3035" y="4127"/>
                  </a:cubicBezTo>
                  <a:cubicBezTo>
                    <a:pt x="3048" y="4121"/>
                    <a:pt x="3060" y="4118"/>
                    <a:pt x="3071" y="4131"/>
                  </a:cubicBezTo>
                  <a:cubicBezTo>
                    <a:pt x="3082" y="4146"/>
                    <a:pt x="3097" y="4148"/>
                    <a:pt x="3115" y="4126"/>
                  </a:cubicBezTo>
                  <a:cubicBezTo>
                    <a:pt x="3109" y="4165"/>
                    <a:pt x="3091" y="4188"/>
                    <a:pt x="3072" y="4210"/>
                  </a:cubicBezTo>
                  <a:cubicBezTo>
                    <a:pt x="3058" y="4228"/>
                    <a:pt x="3039" y="4242"/>
                    <a:pt x="3025" y="4259"/>
                  </a:cubicBezTo>
                  <a:cubicBezTo>
                    <a:pt x="2992" y="4300"/>
                    <a:pt x="2947" y="4322"/>
                    <a:pt x="2900" y="4341"/>
                  </a:cubicBezTo>
                  <a:cubicBezTo>
                    <a:pt x="2864" y="4356"/>
                    <a:pt x="2830" y="4373"/>
                    <a:pt x="2794" y="4386"/>
                  </a:cubicBezTo>
                  <a:cubicBezTo>
                    <a:pt x="2778" y="4392"/>
                    <a:pt x="2759" y="4394"/>
                    <a:pt x="2744" y="4391"/>
                  </a:cubicBezTo>
                  <a:cubicBezTo>
                    <a:pt x="2660" y="4370"/>
                    <a:pt x="2576" y="4348"/>
                    <a:pt x="2493" y="4325"/>
                  </a:cubicBezTo>
                  <a:cubicBezTo>
                    <a:pt x="2488" y="4324"/>
                    <a:pt x="2485" y="4319"/>
                    <a:pt x="2482" y="4316"/>
                  </a:cubicBezTo>
                  <a:cubicBezTo>
                    <a:pt x="2466" y="4325"/>
                    <a:pt x="2452" y="4334"/>
                    <a:pt x="2438" y="4343"/>
                  </a:cubicBezTo>
                  <a:cubicBezTo>
                    <a:pt x="2420" y="4330"/>
                    <a:pt x="2420" y="4330"/>
                    <a:pt x="2407" y="4348"/>
                  </a:cubicBezTo>
                  <a:cubicBezTo>
                    <a:pt x="2420" y="4346"/>
                    <a:pt x="2429" y="4344"/>
                    <a:pt x="2439" y="4342"/>
                  </a:cubicBezTo>
                  <a:cubicBezTo>
                    <a:pt x="2418" y="4368"/>
                    <a:pt x="2391" y="4383"/>
                    <a:pt x="2360" y="4392"/>
                  </a:cubicBezTo>
                  <a:cubicBezTo>
                    <a:pt x="2345" y="4396"/>
                    <a:pt x="2331" y="4406"/>
                    <a:pt x="2317" y="4413"/>
                  </a:cubicBezTo>
                  <a:cubicBezTo>
                    <a:pt x="2301" y="4422"/>
                    <a:pt x="2286" y="4431"/>
                    <a:pt x="2268" y="4441"/>
                  </a:cubicBezTo>
                  <a:cubicBezTo>
                    <a:pt x="2250" y="4415"/>
                    <a:pt x="2227" y="4418"/>
                    <a:pt x="2203" y="4425"/>
                  </a:cubicBezTo>
                  <a:cubicBezTo>
                    <a:pt x="2182" y="4432"/>
                    <a:pt x="2160" y="4438"/>
                    <a:pt x="2138" y="4443"/>
                  </a:cubicBezTo>
                  <a:cubicBezTo>
                    <a:pt x="2133" y="4445"/>
                    <a:pt x="2128" y="4446"/>
                    <a:pt x="2123" y="4445"/>
                  </a:cubicBezTo>
                  <a:cubicBezTo>
                    <a:pt x="2111" y="4443"/>
                    <a:pt x="2096" y="4431"/>
                    <a:pt x="2091" y="4454"/>
                  </a:cubicBezTo>
                  <a:cubicBezTo>
                    <a:pt x="2091" y="4455"/>
                    <a:pt x="2081" y="4455"/>
                    <a:pt x="2076" y="4453"/>
                  </a:cubicBezTo>
                  <a:cubicBezTo>
                    <a:pt x="2003" y="4435"/>
                    <a:pt x="1933" y="4412"/>
                    <a:pt x="1874" y="4363"/>
                  </a:cubicBezTo>
                  <a:cubicBezTo>
                    <a:pt x="1828" y="4325"/>
                    <a:pt x="1776" y="4312"/>
                    <a:pt x="1717" y="4324"/>
                  </a:cubicBezTo>
                  <a:cubicBezTo>
                    <a:pt x="1685" y="4330"/>
                    <a:pt x="1650" y="4327"/>
                    <a:pt x="1617" y="4328"/>
                  </a:cubicBezTo>
                  <a:cubicBezTo>
                    <a:pt x="1584" y="4330"/>
                    <a:pt x="1551" y="4331"/>
                    <a:pt x="1518" y="4334"/>
                  </a:cubicBezTo>
                  <a:cubicBezTo>
                    <a:pt x="1465" y="4339"/>
                    <a:pt x="1417" y="4325"/>
                    <a:pt x="1371" y="4304"/>
                  </a:cubicBezTo>
                  <a:cubicBezTo>
                    <a:pt x="1275" y="4260"/>
                    <a:pt x="1198" y="4194"/>
                    <a:pt x="1145" y="4102"/>
                  </a:cubicBezTo>
                  <a:cubicBezTo>
                    <a:pt x="1110" y="4040"/>
                    <a:pt x="1059" y="4007"/>
                    <a:pt x="987" y="4005"/>
                  </a:cubicBezTo>
                  <a:cubicBezTo>
                    <a:pt x="961" y="4005"/>
                    <a:pt x="935" y="3994"/>
                    <a:pt x="909" y="3988"/>
                  </a:cubicBezTo>
                  <a:cubicBezTo>
                    <a:pt x="819" y="3967"/>
                    <a:pt x="752" y="3909"/>
                    <a:pt x="684" y="3851"/>
                  </a:cubicBezTo>
                  <a:cubicBezTo>
                    <a:pt x="645" y="3818"/>
                    <a:pt x="622" y="3775"/>
                    <a:pt x="597" y="3732"/>
                  </a:cubicBezTo>
                  <a:cubicBezTo>
                    <a:pt x="577" y="3696"/>
                    <a:pt x="560" y="3660"/>
                    <a:pt x="564" y="3616"/>
                  </a:cubicBezTo>
                  <a:cubicBezTo>
                    <a:pt x="566" y="3599"/>
                    <a:pt x="560" y="3582"/>
                    <a:pt x="558" y="3565"/>
                  </a:cubicBezTo>
                  <a:cubicBezTo>
                    <a:pt x="553" y="3532"/>
                    <a:pt x="536" y="3511"/>
                    <a:pt x="504" y="3498"/>
                  </a:cubicBezTo>
                  <a:cubicBezTo>
                    <a:pt x="421" y="3465"/>
                    <a:pt x="349" y="3414"/>
                    <a:pt x="291" y="3348"/>
                  </a:cubicBezTo>
                  <a:cubicBezTo>
                    <a:pt x="262" y="3316"/>
                    <a:pt x="245" y="3273"/>
                    <a:pt x="220" y="3238"/>
                  </a:cubicBezTo>
                  <a:cubicBezTo>
                    <a:pt x="192" y="3201"/>
                    <a:pt x="185" y="3157"/>
                    <a:pt x="182" y="3114"/>
                  </a:cubicBezTo>
                  <a:cubicBezTo>
                    <a:pt x="179" y="3076"/>
                    <a:pt x="186" y="3037"/>
                    <a:pt x="184" y="2999"/>
                  </a:cubicBezTo>
                  <a:cubicBezTo>
                    <a:pt x="182" y="2957"/>
                    <a:pt x="188" y="2915"/>
                    <a:pt x="192" y="2873"/>
                  </a:cubicBezTo>
                  <a:cubicBezTo>
                    <a:pt x="195" y="2850"/>
                    <a:pt x="178" y="2830"/>
                    <a:pt x="159" y="2817"/>
                  </a:cubicBezTo>
                  <a:cubicBezTo>
                    <a:pt x="127" y="2796"/>
                    <a:pt x="108" y="2767"/>
                    <a:pt x="90" y="2735"/>
                  </a:cubicBezTo>
                  <a:cubicBezTo>
                    <a:pt x="70" y="2699"/>
                    <a:pt x="47" y="2665"/>
                    <a:pt x="25" y="2630"/>
                  </a:cubicBezTo>
                  <a:cubicBezTo>
                    <a:pt x="9" y="2604"/>
                    <a:pt x="0" y="2578"/>
                    <a:pt x="4" y="2545"/>
                  </a:cubicBezTo>
                  <a:cubicBezTo>
                    <a:pt x="7" y="2521"/>
                    <a:pt x="5" y="2494"/>
                    <a:pt x="8" y="2469"/>
                  </a:cubicBezTo>
                  <a:cubicBezTo>
                    <a:pt x="10" y="2455"/>
                    <a:pt x="10" y="2440"/>
                    <a:pt x="12" y="2426"/>
                  </a:cubicBezTo>
                  <a:cubicBezTo>
                    <a:pt x="15" y="2407"/>
                    <a:pt x="26" y="2388"/>
                    <a:pt x="7" y="2370"/>
                  </a:cubicBezTo>
                  <a:cubicBezTo>
                    <a:pt x="3" y="2366"/>
                    <a:pt x="6" y="2353"/>
                    <a:pt x="7" y="2344"/>
                  </a:cubicBezTo>
                  <a:cubicBezTo>
                    <a:pt x="13" y="2290"/>
                    <a:pt x="41" y="2246"/>
                    <a:pt x="69" y="2203"/>
                  </a:cubicBezTo>
                  <a:cubicBezTo>
                    <a:pt x="77" y="2190"/>
                    <a:pt x="87" y="2179"/>
                    <a:pt x="95" y="2167"/>
                  </a:cubicBezTo>
                  <a:cubicBezTo>
                    <a:pt x="111" y="2140"/>
                    <a:pt x="116" y="2114"/>
                    <a:pt x="101" y="2084"/>
                  </a:cubicBezTo>
                  <a:cubicBezTo>
                    <a:pt x="91" y="2062"/>
                    <a:pt x="85" y="2039"/>
                    <a:pt x="77" y="2016"/>
                  </a:cubicBezTo>
                  <a:cubicBezTo>
                    <a:pt x="74" y="2010"/>
                    <a:pt x="74" y="2002"/>
                    <a:pt x="71" y="1998"/>
                  </a:cubicBezTo>
                  <a:cubicBezTo>
                    <a:pt x="27" y="1941"/>
                    <a:pt x="39" y="1876"/>
                    <a:pt x="40" y="1812"/>
                  </a:cubicBezTo>
                  <a:cubicBezTo>
                    <a:pt x="40" y="1797"/>
                    <a:pt x="34" y="1781"/>
                    <a:pt x="36" y="1766"/>
                  </a:cubicBezTo>
                  <a:cubicBezTo>
                    <a:pt x="39" y="1737"/>
                    <a:pt x="44" y="1708"/>
                    <a:pt x="53" y="1681"/>
                  </a:cubicBezTo>
                  <a:cubicBezTo>
                    <a:pt x="84" y="1586"/>
                    <a:pt x="147" y="1513"/>
                    <a:pt x="221" y="1452"/>
                  </a:cubicBezTo>
                  <a:cubicBezTo>
                    <a:pt x="265" y="1415"/>
                    <a:pt x="275" y="1374"/>
                    <a:pt x="272" y="1322"/>
                  </a:cubicBezTo>
                  <a:cubicBezTo>
                    <a:pt x="268" y="1254"/>
                    <a:pt x="262" y="1186"/>
                    <a:pt x="263" y="1117"/>
                  </a:cubicBezTo>
                  <a:cubicBezTo>
                    <a:pt x="265" y="1071"/>
                    <a:pt x="287" y="1028"/>
                    <a:pt x="311" y="987"/>
                  </a:cubicBezTo>
                  <a:cubicBezTo>
                    <a:pt x="370" y="888"/>
                    <a:pt x="455" y="821"/>
                    <a:pt x="561" y="780"/>
                  </a:cubicBezTo>
                  <a:cubicBezTo>
                    <a:pt x="581" y="772"/>
                    <a:pt x="600" y="763"/>
                    <a:pt x="621" y="753"/>
                  </a:cubicBezTo>
                  <a:cubicBezTo>
                    <a:pt x="615" y="775"/>
                    <a:pt x="618" y="790"/>
                    <a:pt x="644" y="795"/>
                  </a:cubicBezTo>
                  <a:cubicBezTo>
                    <a:pt x="659" y="763"/>
                    <a:pt x="703" y="760"/>
                    <a:pt x="720" y="728"/>
                  </a:cubicBezTo>
                  <a:cubicBezTo>
                    <a:pt x="718" y="726"/>
                    <a:pt x="716" y="724"/>
                    <a:pt x="714" y="721"/>
                  </a:cubicBezTo>
                  <a:cubicBezTo>
                    <a:pt x="708" y="725"/>
                    <a:pt x="701" y="729"/>
                    <a:pt x="695" y="733"/>
                  </a:cubicBezTo>
                  <a:cubicBezTo>
                    <a:pt x="690" y="729"/>
                    <a:pt x="685" y="725"/>
                    <a:pt x="681" y="720"/>
                  </a:cubicBezTo>
                  <a:cubicBezTo>
                    <a:pt x="675" y="724"/>
                    <a:pt x="669" y="728"/>
                    <a:pt x="664" y="732"/>
                  </a:cubicBezTo>
                  <a:cubicBezTo>
                    <a:pt x="662" y="730"/>
                    <a:pt x="659" y="729"/>
                    <a:pt x="658" y="727"/>
                  </a:cubicBezTo>
                  <a:cubicBezTo>
                    <a:pt x="638" y="690"/>
                    <a:pt x="655" y="654"/>
                    <a:pt x="668" y="620"/>
                  </a:cubicBezTo>
                  <a:cubicBezTo>
                    <a:pt x="720" y="483"/>
                    <a:pt x="821" y="395"/>
                    <a:pt x="959" y="350"/>
                  </a:cubicBezTo>
                  <a:cubicBezTo>
                    <a:pt x="1037" y="324"/>
                    <a:pt x="1119" y="322"/>
                    <a:pt x="1200" y="338"/>
                  </a:cubicBezTo>
                  <a:cubicBezTo>
                    <a:pt x="1235" y="344"/>
                    <a:pt x="1258" y="336"/>
                    <a:pt x="1277" y="306"/>
                  </a:cubicBezTo>
                  <a:cubicBezTo>
                    <a:pt x="1318" y="243"/>
                    <a:pt x="1367" y="186"/>
                    <a:pt x="1431" y="146"/>
                  </a:cubicBezTo>
                  <a:cubicBezTo>
                    <a:pt x="1540" y="79"/>
                    <a:pt x="1658" y="48"/>
                    <a:pt x="1787" y="76"/>
                  </a:cubicBezTo>
                  <a:cubicBezTo>
                    <a:pt x="1831" y="85"/>
                    <a:pt x="1874" y="98"/>
                    <a:pt x="1917" y="112"/>
                  </a:cubicBezTo>
                  <a:cubicBezTo>
                    <a:pt x="1954" y="124"/>
                    <a:pt x="1986" y="124"/>
                    <a:pt x="2019" y="100"/>
                  </a:cubicBezTo>
                  <a:cubicBezTo>
                    <a:pt x="2076" y="59"/>
                    <a:pt x="2140" y="28"/>
                    <a:pt x="2210" y="14"/>
                  </a:cubicBezTo>
                  <a:cubicBezTo>
                    <a:pt x="2264" y="3"/>
                    <a:pt x="2318" y="0"/>
                    <a:pt x="2373" y="10"/>
                  </a:cubicBezTo>
                  <a:cubicBezTo>
                    <a:pt x="2433" y="21"/>
                    <a:pt x="2490" y="35"/>
                    <a:pt x="2539" y="72"/>
                  </a:cubicBezTo>
                  <a:cubicBezTo>
                    <a:pt x="2565" y="91"/>
                    <a:pt x="2588" y="113"/>
                    <a:pt x="2612" y="134"/>
                  </a:cubicBezTo>
                  <a:cubicBezTo>
                    <a:pt x="2623" y="143"/>
                    <a:pt x="2633" y="154"/>
                    <a:pt x="2644" y="164"/>
                  </a:cubicBezTo>
                  <a:cubicBezTo>
                    <a:pt x="2673" y="190"/>
                    <a:pt x="2705" y="195"/>
                    <a:pt x="2740" y="180"/>
                  </a:cubicBezTo>
                  <a:cubicBezTo>
                    <a:pt x="2801" y="154"/>
                    <a:pt x="2865" y="152"/>
                    <a:pt x="2929" y="152"/>
                  </a:cubicBezTo>
                  <a:cubicBezTo>
                    <a:pt x="3027" y="151"/>
                    <a:pt x="3108" y="195"/>
                    <a:pt x="3186" y="249"/>
                  </a:cubicBezTo>
                  <a:cubicBezTo>
                    <a:pt x="3240" y="285"/>
                    <a:pt x="3282" y="333"/>
                    <a:pt x="3311" y="391"/>
                  </a:cubicBezTo>
                  <a:cubicBezTo>
                    <a:pt x="3318" y="404"/>
                    <a:pt x="3328" y="416"/>
                    <a:pt x="3334" y="429"/>
                  </a:cubicBezTo>
                  <a:cubicBezTo>
                    <a:pt x="3353" y="474"/>
                    <a:pt x="3390" y="487"/>
                    <a:pt x="3436" y="490"/>
                  </a:cubicBezTo>
                  <a:cubicBezTo>
                    <a:pt x="3503" y="493"/>
                    <a:pt x="3566" y="514"/>
                    <a:pt x="3628" y="540"/>
                  </a:cubicBezTo>
                  <a:cubicBezTo>
                    <a:pt x="3719" y="577"/>
                    <a:pt x="3775" y="647"/>
                    <a:pt x="3819" y="730"/>
                  </a:cubicBezTo>
                  <a:cubicBezTo>
                    <a:pt x="3826" y="742"/>
                    <a:pt x="3833" y="753"/>
                    <a:pt x="3839" y="764"/>
                  </a:cubicBezTo>
                  <a:cubicBezTo>
                    <a:pt x="3840" y="764"/>
                    <a:pt x="3840" y="764"/>
                    <a:pt x="3840" y="764"/>
                  </a:cubicBezTo>
                  <a:cubicBezTo>
                    <a:pt x="3834" y="766"/>
                    <a:pt x="3828" y="768"/>
                    <a:pt x="3820" y="771"/>
                  </a:cubicBezTo>
                  <a:cubicBezTo>
                    <a:pt x="3795" y="742"/>
                    <a:pt x="3797" y="691"/>
                    <a:pt x="3737" y="694"/>
                  </a:cubicBezTo>
                  <a:cubicBezTo>
                    <a:pt x="3740" y="692"/>
                    <a:pt x="3743" y="689"/>
                    <a:pt x="3745" y="686"/>
                  </a:cubicBezTo>
                  <a:cubicBezTo>
                    <a:pt x="3750" y="685"/>
                    <a:pt x="3754" y="683"/>
                    <a:pt x="3761" y="681"/>
                  </a:cubicBezTo>
                  <a:cubicBezTo>
                    <a:pt x="3744" y="659"/>
                    <a:pt x="3727" y="637"/>
                    <a:pt x="3709" y="613"/>
                  </a:cubicBezTo>
                  <a:cubicBezTo>
                    <a:pt x="3696" y="619"/>
                    <a:pt x="3684" y="625"/>
                    <a:pt x="3672" y="630"/>
                  </a:cubicBezTo>
                  <a:cubicBezTo>
                    <a:pt x="3673" y="631"/>
                    <a:pt x="3673" y="631"/>
                    <a:pt x="3673" y="631"/>
                  </a:cubicBezTo>
                  <a:cubicBezTo>
                    <a:pt x="3648" y="600"/>
                    <a:pt x="3609" y="585"/>
                    <a:pt x="3588" y="549"/>
                  </a:cubicBezTo>
                  <a:cubicBezTo>
                    <a:pt x="3581" y="537"/>
                    <a:pt x="3560" y="531"/>
                    <a:pt x="3543" y="527"/>
                  </a:cubicBezTo>
                  <a:cubicBezTo>
                    <a:pt x="3504" y="517"/>
                    <a:pt x="3463" y="510"/>
                    <a:pt x="3423" y="502"/>
                  </a:cubicBezTo>
                  <a:cubicBezTo>
                    <a:pt x="3404" y="498"/>
                    <a:pt x="3385" y="493"/>
                    <a:pt x="3365" y="489"/>
                  </a:cubicBezTo>
                  <a:cubicBezTo>
                    <a:pt x="3349" y="485"/>
                    <a:pt x="3343" y="476"/>
                    <a:pt x="3335" y="462"/>
                  </a:cubicBezTo>
                  <a:cubicBezTo>
                    <a:pt x="3320" y="437"/>
                    <a:pt x="3299" y="415"/>
                    <a:pt x="3281" y="392"/>
                  </a:cubicBezTo>
                  <a:cubicBezTo>
                    <a:pt x="3273" y="382"/>
                    <a:pt x="3263" y="374"/>
                    <a:pt x="3259" y="364"/>
                  </a:cubicBezTo>
                  <a:cubicBezTo>
                    <a:pt x="3250" y="340"/>
                    <a:pt x="3234" y="331"/>
                    <a:pt x="3211" y="338"/>
                  </a:cubicBezTo>
                  <a:cubicBezTo>
                    <a:pt x="3199" y="318"/>
                    <a:pt x="3203" y="289"/>
                    <a:pt x="3169" y="291"/>
                  </a:cubicBezTo>
                  <a:cubicBezTo>
                    <a:pt x="3176" y="297"/>
                    <a:pt x="3182" y="302"/>
                    <a:pt x="3195" y="314"/>
                  </a:cubicBezTo>
                  <a:cubicBezTo>
                    <a:pt x="3168" y="314"/>
                    <a:pt x="3150" y="314"/>
                    <a:pt x="3131" y="314"/>
                  </a:cubicBezTo>
                  <a:cubicBezTo>
                    <a:pt x="3131" y="314"/>
                    <a:pt x="3130" y="315"/>
                    <a:pt x="3130" y="315"/>
                  </a:cubicBezTo>
                  <a:cubicBezTo>
                    <a:pt x="3157" y="292"/>
                    <a:pt x="3127" y="282"/>
                    <a:pt x="3117" y="265"/>
                  </a:cubicBezTo>
                  <a:cubicBezTo>
                    <a:pt x="3126" y="262"/>
                    <a:pt x="3133" y="260"/>
                    <a:pt x="3143" y="257"/>
                  </a:cubicBezTo>
                  <a:cubicBezTo>
                    <a:pt x="3139" y="253"/>
                    <a:pt x="3137" y="250"/>
                    <a:pt x="3134" y="249"/>
                  </a:cubicBezTo>
                  <a:cubicBezTo>
                    <a:pt x="3115" y="245"/>
                    <a:pt x="3096" y="241"/>
                    <a:pt x="3073" y="237"/>
                  </a:cubicBezTo>
                  <a:cubicBezTo>
                    <a:pt x="3057" y="239"/>
                    <a:pt x="3066" y="280"/>
                    <a:pt x="3034" y="265"/>
                  </a:cubicBezTo>
                  <a:cubicBezTo>
                    <a:pt x="3033" y="256"/>
                    <a:pt x="3032" y="245"/>
                    <a:pt x="3031" y="230"/>
                  </a:cubicBezTo>
                  <a:cubicBezTo>
                    <a:pt x="3010" y="233"/>
                    <a:pt x="2991" y="234"/>
                    <a:pt x="2972" y="236"/>
                  </a:cubicBezTo>
                  <a:cubicBezTo>
                    <a:pt x="2972" y="237"/>
                    <a:pt x="2972" y="237"/>
                    <a:pt x="2972" y="237"/>
                  </a:cubicBezTo>
                  <a:cubicBezTo>
                    <a:pt x="2967" y="220"/>
                    <a:pt x="2959" y="230"/>
                    <a:pt x="2952" y="235"/>
                  </a:cubicBezTo>
                  <a:cubicBezTo>
                    <a:pt x="2941" y="242"/>
                    <a:pt x="2937" y="262"/>
                    <a:pt x="2914" y="254"/>
                  </a:cubicBezTo>
                  <a:cubicBezTo>
                    <a:pt x="2920" y="242"/>
                    <a:pt x="2924" y="231"/>
                    <a:pt x="2930" y="218"/>
                  </a:cubicBezTo>
                  <a:cubicBezTo>
                    <a:pt x="2915" y="204"/>
                    <a:pt x="2900" y="196"/>
                    <a:pt x="2880" y="208"/>
                  </a:cubicBezTo>
                  <a:cubicBezTo>
                    <a:pt x="2877" y="210"/>
                    <a:pt x="2871" y="213"/>
                    <a:pt x="2870" y="212"/>
                  </a:cubicBezTo>
                  <a:cubicBezTo>
                    <a:pt x="2846" y="191"/>
                    <a:pt x="2813" y="211"/>
                    <a:pt x="2788" y="195"/>
                  </a:cubicBezTo>
                  <a:cubicBezTo>
                    <a:pt x="2785" y="193"/>
                    <a:pt x="2779" y="192"/>
                    <a:pt x="2777" y="193"/>
                  </a:cubicBezTo>
                  <a:cubicBezTo>
                    <a:pt x="2752" y="219"/>
                    <a:pt x="2712" y="198"/>
                    <a:pt x="2688" y="226"/>
                  </a:cubicBezTo>
                  <a:cubicBezTo>
                    <a:pt x="2659" y="183"/>
                    <a:pt x="2617" y="216"/>
                    <a:pt x="2582" y="201"/>
                  </a:cubicBezTo>
                  <a:cubicBezTo>
                    <a:pt x="2592" y="166"/>
                    <a:pt x="2556" y="163"/>
                    <a:pt x="2539" y="148"/>
                  </a:cubicBezTo>
                  <a:cubicBezTo>
                    <a:pt x="2523" y="133"/>
                    <a:pt x="2500" y="127"/>
                    <a:pt x="2476" y="120"/>
                  </a:cubicBezTo>
                  <a:cubicBezTo>
                    <a:pt x="2483" y="132"/>
                    <a:pt x="2496" y="143"/>
                    <a:pt x="2484" y="156"/>
                  </a:cubicBezTo>
                  <a:cubicBezTo>
                    <a:pt x="2476" y="165"/>
                    <a:pt x="2466" y="172"/>
                    <a:pt x="2454" y="182"/>
                  </a:cubicBezTo>
                  <a:cubicBezTo>
                    <a:pt x="2446" y="173"/>
                    <a:pt x="2422" y="175"/>
                    <a:pt x="2420" y="147"/>
                  </a:cubicBezTo>
                  <a:cubicBezTo>
                    <a:pt x="2431" y="148"/>
                    <a:pt x="2441" y="150"/>
                    <a:pt x="2451" y="151"/>
                  </a:cubicBezTo>
                  <a:cubicBezTo>
                    <a:pt x="2457" y="128"/>
                    <a:pt x="2440" y="123"/>
                    <a:pt x="2426" y="115"/>
                  </a:cubicBezTo>
                  <a:cubicBezTo>
                    <a:pt x="2426" y="115"/>
                    <a:pt x="2428" y="117"/>
                    <a:pt x="2428" y="117"/>
                  </a:cubicBezTo>
                  <a:cubicBezTo>
                    <a:pt x="2429" y="109"/>
                    <a:pt x="2430" y="100"/>
                    <a:pt x="2431" y="90"/>
                  </a:cubicBezTo>
                  <a:cubicBezTo>
                    <a:pt x="2424" y="89"/>
                    <a:pt x="2416" y="87"/>
                    <a:pt x="2407" y="86"/>
                  </a:cubicBezTo>
                  <a:cubicBezTo>
                    <a:pt x="2409" y="82"/>
                    <a:pt x="2411" y="79"/>
                    <a:pt x="2411" y="76"/>
                  </a:cubicBezTo>
                  <a:cubicBezTo>
                    <a:pt x="2411" y="69"/>
                    <a:pt x="2410" y="62"/>
                    <a:pt x="2409" y="55"/>
                  </a:cubicBezTo>
                  <a:cubicBezTo>
                    <a:pt x="2403" y="55"/>
                    <a:pt x="2397" y="56"/>
                    <a:pt x="2391" y="57"/>
                  </a:cubicBezTo>
                  <a:cubicBezTo>
                    <a:pt x="2390" y="57"/>
                    <a:pt x="2389" y="58"/>
                    <a:pt x="2388" y="59"/>
                  </a:cubicBezTo>
                  <a:cubicBezTo>
                    <a:pt x="2367" y="74"/>
                    <a:pt x="2345" y="81"/>
                    <a:pt x="2320" y="64"/>
                  </a:cubicBezTo>
                  <a:cubicBezTo>
                    <a:pt x="2324" y="72"/>
                    <a:pt x="2329" y="81"/>
                    <a:pt x="2333" y="88"/>
                  </a:cubicBezTo>
                  <a:cubicBezTo>
                    <a:pt x="2303" y="124"/>
                    <a:pt x="2299" y="124"/>
                    <a:pt x="2269" y="88"/>
                  </a:cubicBezTo>
                  <a:cubicBezTo>
                    <a:pt x="2273" y="83"/>
                    <a:pt x="2277" y="79"/>
                    <a:pt x="2281" y="74"/>
                  </a:cubicBezTo>
                  <a:cubicBezTo>
                    <a:pt x="2285" y="69"/>
                    <a:pt x="2288" y="63"/>
                    <a:pt x="2293" y="56"/>
                  </a:cubicBezTo>
                  <a:cubicBezTo>
                    <a:pt x="2268" y="44"/>
                    <a:pt x="2248" y="47"/>
                    <a:pt x="2228" y="62"/>
                  </a:cubicBezTo>
                  <a:cubicBezTo>
                    <a:pt x="2230" y="54"/>
                    <a:pt x="2231" y="46"/>
                    <a:pt x="2233" y="39"/>
                  </a:cubicBezTo>
                  <a:cubicBezTo>
                    <a:pt x="2231" y="38"/>
                    <a:pt x="2229" y="37"/>
                    <a:pt x="2227" y="36"/>
                  </a:cubicBezTo>
                  <a:cubicBezTo>
                    <a:pt x="2219" y="43"/>
                    <a:pt x="2211" y="50"/>
                    <a:pt x="2203" y="57"/>
                  </a:cubicBezTo>
                  <a:cubicBezTo>
                    <a:pt x="2204" y="59"/>
                    <a:pt x="2205" y="61"/>
                    <a:pt x="2206" y="63"/>
                  </a:cubicBezTo>
                  <a:cubicBezTo>
                    <a:pt x="2215" y="62"/>
                    <a:pt x="2223" y="60"/>
                    <a:pt x="2231" y="59"/>
                  </a:cubicBezTo>
                  <a:cubicBezTo>
                    <a:pt x="2240" y="90"/>
                    <a:pt x="2231" y="111"/>
                    <a:pt x="2200" y="125"/>
                  </a:cubicBezTo>
                  <a:cubicBezTo>
                    <a:pt x="2185" y="132"/>
                    <a:pt x="2178" y="156"/>
                    <a:pt x="2154" y="141"/>
                  </a:cubicBezTo>
                  <a:cubicBezTo>
                    <a:pt x="2166" y="119"/>
                    <a:pt x="2178" y="100"/>
                    <a:pt x="2190" y="80"/>
                  </a:cubicBezTo>
                  <a:cubicBezTo>
                    <a:pt x="2194" y="84"/>
                    <a:pt x="2197" y="89"/>
                    <a:pt x="2201" y="93"/>
                  </a:cubicBezTo>
                  <a:cubicBezTo>
                    <a:pt x="2186" y="84"/>
                    <a:pt x="2171" y="75"/>
                    <a:pt x="2152" y="63"/>
                  </a:cubicBezTo>
                  <a:cubicBezTo>
                    <a:pt x="2130" y="63"/>
                    <a:pt x="2122" y="86"/>
                    <a:pt x="2111" y="106"/>
                  </a:cubicBezTo>
                  <a:cubicBezTo>
                    <a:pt x="2125" y="96"/>
                    <a:pt x="2140" y="87"/>
                    <a:pt x="2154" y="77"/>
                  </a:cubicBezTo>
                  <a:cubicBezTo>
                    <a:pt x="2156" y="79"/>
                    <a:pt x="2158" y="81"/>
                    <a:pt x="2160" y="84"/>
                  </a:cubicBezTo>
                  <a:cubicBezTo>
                    <a:pt x="2155" y="95"/>
                    <a:pt x="2150" y="106"/>
                    <a:pt x="2143" y="122"/>
                  </a:cubicBezTo>
                  <a:cubicBezTo>
                    <a:pt x="2123" y="116"/>
                    <a:pt x="2104" y="110"/>
                    <a:pt x="2085" y="105"/>
                  </a:cubicBezTo>
                  <a:cubicBezTo>
                    <a:pt x="2078" y="103"/>
                    <a:pt x="2069" y="102"/>
                    <a:pt x="2062" y="105"/>
                  </a:cubicBezTo>
                  <a:cubicBezTo>
                    <a:pt x="2053" y="109"/>
                    <a:pt x="2040" y="124"/>
                    <a:pt x="2036" y="122"/>
                  </a:cubicBezTo>
                  <a:cubicBezTo>
                    <a:pt x="2022" y="113"/>
                    <a:pt x="2011" y="121"/>
                    <a:pt x="2003" y="127"/>
                  </a:cubicBezTo>
                  <a:cubicBezTo>
                    <a:pt x="1983" y="144"/>
                    <a:pt x="1962" y="141"/>
                    <a:pt x="1940" y="135"/>
                  </a:cubicBezTo>
                  <a:cubicBezTo>
                    <a:pt x="1920" y="128"/>
                    <a:pt x="1900" y="121"/>
                    <a:pt x="1879" y="116"/>
                  </a:cubicBezTo>
                  <a:cubicBezTo>
                    <a:pt x="1852" y="110"/>
                    <a:pt x="1825" y="105"/>
                    <a:pt x="1797" y="100"/>
                  </a:cubicBezTo>
                  <a:cubicBezTo>
                    <a:pt x="1778" y="97"/>
                    <a:pt x="1757" y="94"/>
                    <a:pt x="1738" y="95"/>
                  </a:cubicBezTo>
                  <a:cubicBezTo>
                    <a:pt x="1716" y="96"/>
                    <a:pt x="1694" y="101"/>
                    <a:pt x="1673" y="108"/>
                  </a:cubicBezTo>
                  <a:cubicBezTo>
                    <a:pt x="1660" y="112"/>
                    <a:pt x="1651" y="127"/>
                    <a:pt x="1634" y="123"/>
                  </a:cubicBezTo>
                  <a:cubicBezTo>
                    <a:pt x="1632" y="122"/>
                    <a:pt x="1627" y="132"/>
                    <a:pt x="1623" y="138"/>
                  </a:cubicBezTo>
                  <a:cubicBezTo>
                    <a:pt x="1601" y="116"/>
                    <a:pt x="1576" y="112"/>
                    <a:pt x="1547" y="120"/>
                  </a:cubicBezTo>
                  <a:cubicBezTo>
                    <a:pt x="1487" y="136"/>
                    <a:pt x="1455" y="183"/>
                    <a:pt x="1453" y="260"/>
                  </a:cubicBezTo>
                  <a:cubicBezTo>
                    <a:pt x="1481" y="241"/>
                    <a:pt x="1508" y="222"/>
                    <a:pt x="1539" y="200"/>
                  </a:cubicBezTo>
                  <a:cubicBezTo>
                    <a:pt x="1540" y="201"/>
                    <a:pt x="1547" y="205"/>
                    <a:pt x="1552" y="208"/>
                  </a:cubicBezTo>
                  <a:cubicBezTo>
                    <a:pt x="1559" y="188"/>
                    <a:pt x="1566" y="168"/>
                    <a:pt x="1573" y="147"/>
                  </a:cubicBezTo>
                  <a:cubicBezTo>
                    <a:pt x="1593" y="160"/>
                    <a:pt x="1609" y="170"/>
                    <a:pt x="1632" y="185"/>
                  </a:cubicBezTo>
                  <a:cubicBezTo>
                    <a:pt x="1634" y="193"/>
                    <a:pt x="1638" y="211"/>
                    <a:pt x="1642" y="226"/>
                  </a:cubicBezTo>
                  <a:cubicBezTo>
                    <a:pt x="1627" y="250"/>
                    <a:pt x="1592" y="218"/>
                    <a:pt x="1586" y="254"/>
                  </a:cubicBezTo>
                  <a:cubicBezTo>
                    <a:pt x="1574" y="249"/>
                    <a:pt x="1565" y="245"/>
                    <a:pt x="1556" y="241"/>
                  </a:cubicBezTo>
                  <a:cubicBezTo>
                    <a:pt x="1550" y="254"/>
                    <a:pt x="1545" y="266"/>
                    <a:pt x="1540" y="278"/>
                  </a:cubicBezTo>
                  <a:cubicBezTo>
                    <a:pt x="1538" y="277"/>
                    <a:pt x="1536" y="276"/>
                    <a:pt x="1533" y="276"/>
                  </a:cubicBezTo>
                  <a:cubicBezTo>
                    <a:pt x="1534" y="270"/>
                    <a:pt x="1536" y="264"/>
                    <a:pt x="1537" y="257"/>
                  </a:cubicBezTo>
                  <a:cubicBezTo>
                    <a:pt x="1528" y="255"/>
                    <a:pt x="1518" y="253"/>
                    <a:pt x="1513" y="252"/>
                  </a:cubicBezTo>
                  <a:cubicBezTo>
                    <a:pt x="1506" y="269"/>
                    <a:pt x="1498" y="284"/>
                    <a:pt x="1493" y="299"/>
                  </a:cubicBezTo>
                  <a:cubicBezTo>
                    <a:pt x="1491" y="306"/>
                    <a:pt x="1495" y="315"/>
                    <a:pt x="1496" y="324"/>
                  </a:cubicBezTo>
                  <a:cubicBezTo>
                    <a:pt x="1482" y="331"/>
                    <a:pt x="1465" y="340"/>
                    <a:pt x="1444" y="350"/>
                  </a:cubicBezTo>
                  <a:cubicBezTo>
                    <a:pt x="1439" y="338"/>
                    <a:pt x="1417" y="324"/>
                    <a:pt x="1440" y="302"/>
                  </a:cubicBezTo>
                  <a:cubicBezTo>
                    <a:pt x="1470" y="313"/>
                    <a:pt x="1470" y="313"/>
                    <a:pt x="1469" y="285"/>
                  </a:cubicBezTo>
                  <a:cubicBezTo>
                    <a:pt x="1458" y="291"/>
                    <a:pt x="1449" y="297"/>
                    <a:pt x="1439" y="302"/>
                  </a:cubicBezTo>
                  <a:cubicBezTo>
                    <a:pt x="1434" y="297"/>
                    <a:pt x="1429" y="291"/>
                    <a:pt x="1421" y="281"/>
                  </a:cubicBezTo>
                  <a:cubicBezTo>
                    <a:pt x="1416" y="301"/>
                    <a:pt x="1414" y="313"/>
                    <a:pt x="1410" y="325"/>
                  </a:cubicBezTo>
                  <a:cubicBezTo>
                    <a:pt x="1407" y="333"/>
                    <a:pt x="1402" y="343"/>
                    <a:pt x="1396" y="347"/>
                  </a:cubicBezTo>
                  <a:cubicBezTo>
                    <a:pt x="1376" y="360"/>
                    <a:pt x="1355" y="370"/>
                    <a:pt x="1332" y="382"/>
                  </a:cubicBezTo>
                  <a:cubicBezTo>
                    <a:pt x="1309" y="379"/>
                    <a:pt x="1311" y="334"/>
                    <a:pt x="1274" y="345"/>
                  </a:cubicBezTo>
                  <a:cubicBezTo>
                    <a:pt x="1273" y="358"/>
                    <a:pt x="1271" y="372"/>
                    <a:pt x="1269" y="387"/>
                  </a:cubicBezTo>
                  <a:cubicBezTo>
                    <a:pt x="1258" y="384"/>
                    <a:pt x="1248" y="382"/>
                    <a:pt x="1238" y="379"/>
                  </a:cubicBezTo>
                  <a:cubicBezTo>
                    <a:pt x="1238" y="379"/>
                    <a:pt x="1238" y="379"/>
                    <a:pt x="1238" y="379"/>
                  </a:cubicBezTo>
                  <a:cubicBezTo>
                    <a:pt x="1227" y="369"/>
                    <a:pt x="1218" y="354"/>
                    <a:pt x="1205" y="349"/>
                  </a:cubicBezTo>
                  <a:cubicBezTo>
                    <a:pt x="1170" y="337"/>
                    <a:pt x="1139" y="369"/>
                    <a:pt x="1147" y="405"/>
                  </a:cubicBezTo>
                  <a:cubicBezTo>
                    <a:pt x="1149" y="416"/>
                    <a:pt x="1153" y="427"/>
                    <a:pt x="1150" y="436"/>
                  </a:cubicBezTo>
                  <a:cubicBezTo>
                    <a:pt x="1147" y="446"/>
                    <a:pt x="1138" y="458"/>
                    <a:pt x="1129" y="461"/>
                  </a:cubicBezTo>
                  <a:cubicBezTo>
                    <a:pt x="1122" y="463"/>
                    <a:pt x="1111" y="453"/>
                    <a:pt x="1101" y="448"/>
                  </a:cubicBezTo>
                  <a:cubicBezTo>
                    <a:pt x="1088" y="468"/>
                    <a:pt x="1099" y="489"/>
                    <a:pt x="1113" y="513"/>
                  </a:cubicBezTo>
                  <a:cubicBezTo>
                    <a:pt x="1122" y="500"/>
                    <a:pt x="1130" y="489"/>
                    <a:pt x="1138" y="475"/>
                  </a:cubicBezTo>
                  <a:cubicBezTo>
                    <a:pt x="1159" y="495"/>
                    <a:pt x="1180" y="490"/>
                    <a:pt x="1202" y="473"/>
                  </a:cubicBezTo>
                  <a:cubicBezTo>
                    <a:pt x="1207" y="478"/>
                    <a:pt x="1213" y="483"/>
                    <a:pt x="1219" y="489"/>
                  </a:cubicBezTo>
                  <a:cubicBezTo>
                    <a:pt x="1236" y="459"/>
                    <a:pt x="1258" y="439"/>
                    <a:pt x="1291" y="429"/>
                  </a:cubicBezTo>
                  <a:cubicBezTo>
                    <a:pt x="1316" y="421"/>
                    <a:pt x="1338" y="405"/>
                    <a:pt x="1361" y="392"/>
                  </a:cubicBezTo>
                  <a:cubicBezTo>
                    <a:pt x="1366" y="389"/>
                    <a:pt x="1396" y="397"/>
                    <a:pt x="1401" y="402"/>
                  </a:cubicBezTo>
                  <a:cubicBezTo>
                    <a:pt x="1407" y="408"/>
                    <a:pt x="1413" y="414"/>
                    <a:pt x="1422" y="424"/>
                  </a:cubicBezTo>
                  <a:cubicBezTo>
                    <a:pt x="1425" y="414"/>
                    <a:pt x="1427" y="410"/>
                    <a:pt x="1428" y="405"/>
                  </a:cubicBezTo>
                  <a:cubicBezTo>
                    <a:pt x="1428" y="401"/>
                    <a:pt x="1428" y="397"/>
                    <a:pt x="1428" y="391"/>
                  </a:cubicBezTo>
                  <a:cubicBezTo>
                    <a:pt x="1441" y="385"/>
                    <a:pt x="1461" y="394"/>
                    <a:pt x="1472" y="374"/>
                  </a:cubicBezTo>
                  <a:cubicBezTo>
                    <a:pt x="1476" y="366"/>
                    <a:pt x="1497" y="370"/>
                    <a:pt x="1507" y="363"/>
                  </a:cubicBezTo>
                  <a:cubicBezTo>
                    <a:pt x="1529" y="349"/>
                    <a:pt x="1548" y="331"/>
                    <a:pt x="1571" y="313"/>
                  </a:cubicBezTo>
                  <a:cubicBezTo>
                    <a:pt x="1596" y="338"/>
                    <a:pt x="1619" y="311"/>
                    <a:pt x="1643" y="303"/>
                  </a:cubicBezTo>
                  <a:cubicBezTo>
                    <a:pt x="1656" y="298"/>
                    <a:pt x="1666" y="288"/>
                    <a:pt x="1683" y="297"/>
                  </a:cubicBezTo>
                  <a:cubicBezTo>
                    <a:pt x="1692" y="302"/>
                    <a:pt x="1700" y="296"/>
                    <a:pt x="1702" y="281"/>
                  </a:cubicBezTo>
                  <a:cubicBezTo>
                    <a:pt x="1704" y="263"/>
                    <a:pt x="1711" y="244"/>
                    <a:pt x="1717" y="227"/>
                  </a:cubicBezTo>
                  <a:cubicBezTo>
                    <a:pt x="1720" y="221"/>
                    <a:pt x="1729" y="218"/>
                    <a:pt x="1739" y="212"/>
                  </a:cubicBezTo>
                  <a:cubicBezTo>
                    <a:pt x="1734" y="230"/>
                    <a:pt x="1726" y="243"/>
                    <a:pt x="1727" y="255"/>
                  </a:cubicBezTo>
                  <a:cubicBezTo>
                    <a:pt x="1728" y="267"/>
                    <a:pt x="1740" y="277"/>
                    <a:pt x="1745" y="288"/>
                  </a:cubicBezTo>
                  <a:cubicBezTo>
                    <a:pt x="1747" y="294"/>
                    <a:pt x="1745" y="303"/>
                    <a:pt x="1745" y="317"/>
                  </a:cubicBezTo>
                  <a:cubicBezTo>
                    <a:pt x="1769" y="303"/>
                    <a:pt x="1791" y="290"/>
                    <a:pt x="1815" y="275"/>
                  </a:cubicBezTo>
                  <a:cubicBezTo>
                    <a:pt x="1819" y="281"/>
                    <a:pt x="1824" y="288"/>
                    <a:pt x="1831" y="294"/>
                  </a:cubicBezTo>
                  <a:cubicBezTo>
                    <a:pt x="1841" y="304"/>
                    <a:pt x="1921" y="306"/>
                    <a:pt x="1931" y="296"/>
                  </a:cubicBezTo>
                  <a:cubicBezTo>
                    <a:pt x="1963" y="265"/>
                    <a:pt x="1963" y="265"/>
                    <a:pt x="2001" y="264"/>
                  </a:cubicBezTo>
                  <a:cubicBezTo>
                    <a:pt x="2000" y="267"/>
                    <a:pt x="1999" y="271"/>
                    <a:pt x="1999" y="274"/>
                  </a:cubicBezTo>
                  <a:cubicBezTo>
                    <a:pt x="1998" y="278"/>
                    <a:pt x="1996" y="281"/>
                    <a:pt x="1995" y="288"/>
                  </a:cubicBezTo>
                  <a:cubicBezTo>
                    <a:pt x="2023" y="288"/>
                    <a:pt x="2041" y="304"/>
                    <a:pt x="2058" y="323"/>
                  </a:cubicBezTo>
                  <a:cubicBezTo>
                    <a:pt x="2068" y="335"/>
                    <a:pt x="2082" y="348"/>
                    <a:pt x="2096" y="351"/>
                  </a:cubicBezTo>
                  <a:cubicBezTo>
                    <a:pt x="2124" y="357"/>
                    <a:pt x="2136" y="378"/>
                    <a:pt x="2152" y="397"/>
                  </a:cubicBezTo>
                  <a:cubicBezTo>
                    <a:pt x="2160" y="407"/>
                    <a:pt x="2168" y="418"/>
                    <a:pt x="2179" y="424"/>
                  </a:cubicBezTo>
                  <a:cubicBezTo>
                    <a:pt x="2207" y="438"/>
                    <a:pt x="2227" y="435"/>
                    <a:pt x="2251" y="403"/>
                  </a:cubicBezTo>
                  <a:cubicBezTo>
                    <a:pt x="2280" y="362"/>
                    <a:pt x="2320" y="338"/>
                    <a:pt x="2360" y="312"/>
                  </a:cubicBezTo>
                  <a:cubicBezTo>
                    <a:pt x="2370" y="305"/>
                    <a:pt x="2379" y="297"/>
                    <a:pt x="2388" y="290"/>
                  </a:cubicBezTo>
                  <a:cubicBezTo>
                    <a:pt x="2399" y="290"/>
                    <a:pt x="2411" y="290"/>
                    <a:pt x="2428" y="290"/>
                  </a:cubicBezTo>
                  <a:cubicBezTo>
                    <a:pt x="2413" y="299"/>
                    <a:pt x="2401" y="306"/>
                    <a:pt x="2390" y="313"/>
                  </a:cubicBezTo>
                  <a:cubicBezTo>
                    <a:pt x="2422" y="309"/>
                    <a:pt x="2451" y="299"/>
                    <a:pt x="2483" y="309"/>
                  </a:cubicBezTo>
                  <a:cubicBezTo>
                    <a:pt x="2502" y="315"/>
                    <a:pt x="2519" y="304"/>
                    <a:pt x="2531" y="288"/>
                  </a:cubicBezTo>
                  <a:cubicBezTo>
                    <a:pt x="2539" y="277"/>
                    <a:pt x="2546" y="267"/>
                    <a:pt x="2559" y="259"/>
                  </a:cubicBezTo>
                  <a:cubicBezTo>
                    <a:pt x="2554" y="275"/>
                    <a:pt x="2549" y="290"/>
                    <a:pt x="2544" y="305"/>
                  </a:cubicBezTo>
                  <a:cubicBezTo>
                    <a:pt x="2578" y="343"/>
                    <a:pt x="2588" y="346"/>
                    <a:pt x="2618" y="331"/>
                  </a:cubicBezTo>
                  <a:cubicBezTo>
                    <a:pt x="2647" y="334"/>
                    <a:pt x="2651" y="367"/>
                    <a:pt x="2676" y="374"/>
                  </a:cubicBezTo>
                  <a:cubicBezTo>
                    <a:pt x="2699" y="380"/>
                    <a:pt x="2719" y="393"/>
                    <a:pt x="2740" y="403"/>
                  </a:cubicBezTo>
                  <a:cubicBezTo>
                    <a:pt x="2739" y="425"/>
                    <a:pt x="2738" y="443"/>
                    <a:pt x="2737" y="463"/>
                  </a:cubicBezTo>
                  <a:cubicBezTo>
                    <a:pt x="2730" y="463"/>
                    <a:pt x="2720" y="463"/>
                    <a:pt x="2712" y="463"/>
                  </a:cubicBezTo>
                  <a:cubicBezTo>
                    <a:pt x="2678" y="526"/>
                    <a:pt x="2644" y="588"/>
                    <a:pt x="2608" y="654"/>
                  </a:cubicBezTo>
                  <a:cubicBezTo>
                    <a:pt x="2622" y="654"/>
                    <a:pt x="2629" y="654"/>
                    <a:pt x="2640" y="654"/>
                  </a:cubicBezTo>
                  <a:cubicBezTo>
                    <a:pt x="2602" y="677"/>
                    <a:pt x="2579" y="708"/>
                    <a:pt x="2563" y="750"/>
                  </a:cubicBezTo>
                  <a:cubicBezTo>
                    <a:pt x="2571" y="748"/>
                    <a:pt x="2578" y="748"/>
                    <a:pt x="2578" y="745"/>
                  </a:cubicBezTo>
                  <a:cubicBezTo>
                    <a:pt x="2591" y="708"/>
                    <a:pt x="2626" y="691"/>
                    <a:pt x="2651" y="665"/>
                  </a:cubicBezTo>
                  <a:cubicBezTo>
                    <a:pt x="2659" y="657"/>
                    <a:pt x="2665" y="648"/>
                    <a:pt x="2671" y="640"/>
                  </a:cubicBezTo>
                  <a:cubicBezTo>
                    <a:pt x="2706" y="600"/>
                    <a:pt x="2739" y="557"/>
                    <a:pt x="2788" y="531"/>
                  </a:cubicBezTo>
                  <a:cubicBezTo>
                    <a:pt x="2821" y="514"/>
                    <a:pt x="2844" y="489"/>
                    <a:pt x="2837" y="445"/>
                  </a:cubicBezTo>
                  <a:cubicBezTo>
                    <a:pt x="2880" y="470"/>
                    <a:pt x="2925" y="452"/>
                    <a:pt x="2967" y="465"/>
                  </a:cubicBezTo>
                  <a:cubicBezTo>
                    <a:pt x="2985" y="471"/>
                    <a:pt x="3004" y="471"/>
                    <a:pt x="3030" y="475"/>
                  </a:cubicBezTo>
                  <a:cubicBezTo>
                    <a:pt x="3049" y="497"/>
                    <a:pt x="3075" y="523"/>
                    <a:pt x="3115" y="526"/>
                  </a:cubicBezTo>
                  <a:cubicBezTo>
                    <a:pt x="3126" y="527"/>
                    <a:pt x="3137" y="536"/>
                    <a:pt x="3145" y="544"/>
                  </a:cubicBezTo>
                  <a:cubicBezTo>
                    <a:pt x="3166" y="564"/>
                    <a:pt x="3185" y="586"/>
                    <a:pt x="3207" y="611"/>
                  </a:cubicBezTo>
                  <a:cubicBezTo>
                    <a:pt x="3224" y="598"/>
                    <a:pt x="3242" y="586"/>
                    <a:pt x="3260" y="573"/>
                  </a:cubicBezTo>
                  <a:cubicBezTo>
                    <a:pt x="3256" y="572"/>
                    <a:pt x="3253" y="570"/>
                    <a:pt x="3249" y="569"/>
                  </a:cubicBezTo>
                  <a:cubicBezTo>
                    <a:pt x="3268" y="575"/>
                    <a:pt x="3286" y="581"/>
                    <a:pt x="3307" y="587"/>
                  </a:cubicBezTo>
                  <a:cubicBezTo>
                    <a:pt x="3307" y="598"/>
                    <a:pt x="3308" y="613"/>
                    <a:pt x="3310" y="631"/>
                  </a:cubicBezTo>
                  <a:cubicBezTo>
                    <a:pt x="3302" y="625"/>
                    <a:pt x="3296" y="622"/>
                    <a:pt x="3289" y="617"/>
                  </a:cubicBezTo>
                  <a:cubicBezTo>
                    <a:pt x="3287" y="624"/>
                    <a:pt x="3286" y="630"/>
                    <a:pt x="3283" y="642"/>
                  </a:cubicBezTo>
                  <a:cubicBezTo>
                    <a:pt x="3272" y="630"/>
                    <a:pt x="3264" y="621"/>
                    <a:pt x="3255" y="610"/>
                  </a:cubicBezTo>
                  <a:cubicBezTo>
                    <a:pt x="3244" y="620"/>
                    <a:pt x="3235" y="630"/>
                    <a:pt x="3224" y="639"/>
                  </a:cubicBezTo>
                  <a:cubicBezTo>
                    <a:pt x="3209" y="652"/>
                    <a:pt x="3197" y="667"/>
                    <a:pt x="3172" y="667"/>
                  </a:cubicBezTo>
                  <a:cubicBezTo>
                    <a:pt x="3159" y="667"/>
                    <a:pt x="3147" y="688"/>
                    <a:pt x="3134" y="698"/>
                  </a:cubicBezTo>
                  <a:cubicBezTo>
                    <a:pt x="3102" y="725"/>
                    <a:pt x="3079" y="757"/>
                    <a:pt x="3059" y="794"/>
                  </a:cubicBezTo>
                  <a:cubicBezTo>
                    <a:pt x="3044" y="822"/>
                    <a:pt x="3017" y="844"/>
                    <a:pt x="2996" y="869"/>
                  </a:cubicBezTo>
                  <a:cubicBezTo>
                    <a:pt x="2972" y="898"/>
                    <a:pt x="2948" y="926"/>
                    <a:pt x="2924" y="955"/>
                  </a:cubicBezTo>
                  <a:cubicBezTo>
                    <a:pt x="2920" y="960"/>
                    <a:pt x="2920" y="969"/>
                    <a:pt x="2915" y="983"/>
                  </a:cubicBezTo>
                  <a:cubicBezTo>
                    <a:pt x="2929" y="979"/>
                    <a:pt x="2938" y="979"/>
                    <a:pt x="2944" y="974"/>
                  </a:cubicBezTo>
                  <a:cubicBezTo>
                    <a:pt x="2975" y="949"/>
                    <a:pt x="3004" y="921"/>
                    <a:pt x="3035" y="897"/>
                  </a:cubicBezTo>
                  <a:cubicBezTo>
                    <a:pt x="3080" y="861"/>
                    <a:pt x="3126" y="828"/>
                    <a:pt x="3171" y="793"/>
                  </a:cubicBezTo>
                  <a:cubicBezTo>
                    <a:pt x="3197" y="774"/>
                    <a:pt x="3231" y="762"/>
                    <a:pt x="3236" y="730"/>
                  </a:cubicBezTo>
                  <a:cubicBezTo>
                    <a:pt x="3261" y="727"/>
                    <a:pt x="3282" y="723"/>
                    <a:pt x="3304" y="723"/>
                  </a:cubicBezTo>
                  <a:cubicBezTo>
                    <a:pt x="3333" y="723"/>
                    <a:pt x="3362" y="728"/>
                    <a:pt x="3385" y="748"/>
                  </a:cubicBezTo>
                  <a:cubicBezTo>
                    <a:pt x="3402" y="763"/>
                    <a:pt x="3417" y="766"/>
                    <a:pt x="3434" y="746"/>
                  </a:cubicBezTo>
                  <a:cubicBezTo>
                    <a:pt x="3447" y="759"/>
                    <a:pt x="3459" y="771"/>
                    <a:pt x="3472" y="783"/>
                  </a:cubicBezTo>
                  <a:cubicBezTo>
                    <a:pt x="3475" y="781"/>
                    <a:pt x="3477" y="780"/>
                    <a:pt x="3480" y="778"/>
                  </a:cubicBezTo>
                  <a:cubicBezTo>
                    <a:pt x="3477" y="760"/>
                    <a:pt x="3470" y="742"/>
                    <a:pt x="3473" y="726"/>
                  </a:cubicBezTo>
                  <a:cubicBezTo>
                    <a:pt x="3476" y="710"/>
                    <a:pt x="3490" y="696"/>
                    <a:pt x="3499" y="682"/>
                  </a:cubicBezTo>
                  <a:cubicBezTo>
                    <a:pt x="3498" y="683"/>
                    <a:pt x="3498" y="683"/>
                    <a:pt x="3498" y="683"/>
                  </a:cubicBezTo>
                  <a:cubicBezTo>
                    <a:pt x="3513" y="680"/>
                    <a:pt x="3528" y="676"/>
                    <a:pt x="3543" y="672"/>
                  </a:cubicBezTo>
                  <a:cubicBezTo>
                    <a:pt x="3543" y="675"/>
                    <a:pt x="3544" y="677"/>
                    <a:pt x="3545" y="680"/>
                  </a:cubicBezTo>
                  <a:cubicBezTo>
                    <a:pt x="3530" y="690"/>
                    <a:pt x="3515" y="700"/>
                    <a:pt x="3499" y="712"/>
                  </a:cubicBezTo>
                  <a:cubicBezTo>
                    <a:pt x="3512" y="728"/>
                    <a:pt x="3523" y="740"/>
                    <a:pt x="3532" y="753"/>
                  </a:cubicBezTo>
                  <a:cubicBezTo>
                    <a:pt x="3537" y="760"/>
                    <a:pt x="3542" y="769"/>
                    <a:pt x="3542" y="777"/>
                  </a:cubicBezTo>
                  <a:cubicBezTo>
                    <a:pt x="3545" y="811"/>
                    <a:pt x="3554" y="821"/>
                    <a:pt x="3587" y="827"/>
                  </a:cubicBezTo>
                  <a:cubicBezTo>
                    <a:pt x="3592" y="827"/>
                    <a:pt x="3599" y="830"/>
                    <a:pt x="3603" y="835"/>
                  </a:cubicBezTo>
                  <a:cubicBezTo>
                    <a:pt x="3620" y="857"/>
                    <a:pt x="3636" y="879"/>
                    <a:pt x="3652" y="902"/>
                  </a:cubicBezTo>
                  <a:cubicBezTo>
                    <a:pt x="3664" y="919"/>
                    <a:pt x="3673" y="939"/>
                    <a:pt x="3686" y="955"/>
                  </a:cubicBezTo>
                  <a:cubicBezTo>
                    <a:pt x="3691" y="961"/>
                    <a:pt x="3704" y="960"/>
                    <a:pt x="3722" y="964"/>
                  </a:cubicBezTo>
                  <a:cubicBezTo>
                    <a:pt x="3723" y="970"/>
                    <a:pt x="3730" y="985"/>
                    <a:pt x="3729" y="1000"/>
                  </a:cubicBezTo>
                  <a:cubicBezTo>
                    <a:pt x="3727" y="1049"/>
                    <a:pt x="3746" y="1094"/>
                    <a:pt x="3755" y="1141"/>
                  </a:cubicBezTo>
                  <a:cubicBezTo>
                    <a:pt x="3758" y="1155"/>
                    <a:pt x="3765" y="1168"/>
                    <a:pt x="3772" y="1181"/>
                  </a:cubicBezTo>
                  <a:cubicBezTo>
                    <a:pt x="3783" y="1202"/>
                    <a:pt x="3790" y="1228"/>
                    <a:pt x="3807" y="1242"/>
                  </a:cubicBezTo>
                  <a:cubicBezTo>
                    <a:pt x="3836" y="1267"/>
                    <a:pt x="3838" y="1299"/>
                    <a:pt x="3850" y="1330"/>
                  </a:cubicBezTo>
                  <a:cubicBezTo>
                    <a:pt x="3858" y="1351"/>
                    <a:pt x="3879" y="1368"/>
                    <a:pt x="3887" y="1390"/>
                  </a:cubicBezTo>
                  <a:cubicBezTo>
                    <a:pt x="3904" y="1431"/>
                    <a:pt x="3946" y="1458"/>
                    <a:pt x="3950" y="1506"/>
                  </a:cubicBezTo>
                  <a:cubicBezTo>
                    <a:pt x="3951" y="1515"/>
                    <a:pt x="3958" y="1523"/>
                    <a:pt x="3961" y="1531"/>
                  </a:cubicBezTo>
                  <a:cubicBezTo>
                    <a:pt x="3970" y="1554"/>
                    <a:pt x="3982" y="1575"/>
                    <a:pt x="3979" y="1603"/>
                  </a:cubicBezTo>
                  <a:cubicBezTo>
                    <a:pt x="3976" y="1622"/>
                    <a:pt x="3989" y="1644"/>
                    <a:pt x="3994" y="1664"/>
                  </a:cubicBezTo>
                  <a:cubicBezTo>
                    <a:pt x="4011" y="1720"/>
                    <a:pt x="4027" y="1776"/>
                    <a:pt x="4043" y="1832"/>
                  </a:cubicBezTo>
                  <a:cubicBezTo>
                    <a:pt x="4046" y="1841"/>
                    <a:pt x="4050" y="1849"/>
                    <a:pt x="4051" y="1859"/>
                  </a:cubicBezTo>
                  <a:cubicBezTo>
                    <a:pt x="4055" y="1878"/>
                    <a:pt x="4060" y="1897"/>
                    <a:pt x="4060" y="1917"/>
                  </a:cubicBezTo>
                  <a:cubicBezTo>
                    <a:pt x="4059" y="1957"/>
                    <a:pt x="4060" y="1995"/>
                    <a:pt x="4074" y="2034"/>
                  </a:cubicBezTo>
                  <a:cubicBezTo>
                    <a:pt x="4082" y="2059"/>
                    <a:pt x="4084" y="2087"/>
                    <a:pt x="4081" y="2113"/>
                  </a:cubicBezTo>
                  <a:cubicBezTo>
                    <a:pt x="4078" y="2151"/>
                    <a:pt x="4084" y="2187"/>
                    <a:pt x="4091" y="2224"/>
                  </a:cubicBezTo>
                  <a:cubicBezTo>
                    <a:pt x="4094" y="2243"/>
                    <a:pt x="4092" y="2263"/>
                    <a:pt x="4093" y="2282"/>
                  </a:cubicBezTo>
                  <a:cubicBezTo>
                    <a:pt x="4096" y="2323"/>
                    <a:pt x="4098" y="2364"/>
                    <a:pt x="4102" y="2405"/>
                  </a:cubicBezTo>
                  <a:cubicBezTo>
                    <a:pt x="4107" y="2447"/>
                    <a:pt x="4118" y="2489"/>
                    <a:pt x="4101" y="2531"/>
                  </a:cubicBezTo>
                  <a:cubicBezTo>
                    <a:pt x="4099" y="2534"/>
                    <a:pt x="4099" y="2539"/>
                    <a:pt x="4100" y="2542"/>
                  </a:cubicBezTo>
                  <a:cubicBezTo>
                    <a:pt x="4114" y="2599"/>
                    <a:pt x="4092" y="2652"/>
                    <a:pt x="4090" y="2707"/>
                  </a:cubicBezTo>
                  <a:cubicBezTo>
                    <a:pt x="4088" y="2751"/>
                    <a:pt x="4082" y="2765"/>
                    <a:pt x="4058" y="2806"/>
                  </a:cubicBezTo>
                  <a:cubicBezTo>
                    <a:pt x="4064" y="2809"/>
                    <a:pt x="4070" y="2813"/>
                    <a:pt x="4080" y="2818"/>
                  </a:cubicBezTo>
                  <a:cubicBezTo>
                    <a:pt x="4069" y="2824"/>
                    <a:pt x="4062" y="2829"/>
                    <a:pt x="4052" y="2834"/>
                  </a:cubicBezTo>
                  <a:cubicBezTo>
                    <a:pt x="4054" y="2842"/>
                    <a:pt x="4056" y="2850"/>
                    <a:pt x="4059" y="2858"/>
                  </a:cubicBezTo>
                  <a:cubicBezTo>
                    <a:pt x="4051" y="2859"/>
                    <a:pt x="4043" y="2861"/>
                    <a:pt x="4035" y="2863"/>
                  </a:cubicBezTo>
                  <a:cubicBezTo>
                    <a:pt x="4024" y="2890"/>
                    <a:pt x="4012" y="2919"/>
                    <a:pt x="3998" y="2953"/>
                  </a:cubicBezTo>
                  <a:cubicBezTo>
                    <a:pt x="3985" y="2942"/>
                    <a:pt x="3977" y="2935"/>
                    <a:pt x="3969" y="2929"/>
                  </a:cubicBezTo>
                  <a:cubicBezTo>
                    <a:pt x="3975" y="2922"/>
                    <a:pt x="3984" y="2916"/>
                    <a:pt x="3983" y="2910"/>
                  </a:cubicBezTo>
                  <a:cubicBezTo>
                    <a:pt x="3981" y="2888"/>
                    <a:pt x="3988" y="2869"/>
                    <a:pt x="3997" y="2849"/>
                  </a:cubicBezTo>
                  <a:cubicBezTo>
                    <a:pt x="4002" y="2837"/>
                    <a:pt x="4004" y="2824"/>
                    <a:pt x="4007" y="2811"/>
                  </a:cubicBezTo>
                  <a:cubicBezTo>
                    <a:pt x="4014" y="2784"/>
                    <a:pt x="4012" y="2755"/>
                    <a:pt x="4031" y="2731"/>
                  </a:cubicBezTo>
                  <a:cubicBezTo>
                    <a:pt x="4038" y="2722"/>
                    <a:pt x="4037" y="2706"/>
                    <a:pt x="4041" y="2693"/>
                  </a:cubicBezTo>
                  <a:cubicBezTo>
                    <a:pt x="4050" y="2664"/>
                    <a:pt x="4032" y="2635"/>
                    <a:pt x="4042" y="2604"/>
                  </a:cubicBezTo>
                  <a:cubicBezTo>
                    <a:pt x="4052" y="2575"/>
                    <a:pt x="4048" y="2541"/>
                    <a:pt x="4050" y="2509"/>
                  </a:cubicBezTo>
                  <a:cubicBezTo>
                    <a:pt x="4050" y="2500"/>
                    <a:pt x="4048" y="2491"/>
                    <a:pt x="4046" y="2482"/>
                  </a:cubicBezTo>
                  <a:cubicBezTo>
                    <a:pt x="4045" y="2478"/>
                    <a:pt x="4041" y="2473"/>
                    <a:pt x="4042" y="2471"/>
                  </a:cubicBezTo>
                  <a:cubicBezTo>
                    <a:pt x="4070" y="2436"/>
                    <a:pt x="4041" y="2409"/>
                    <a:pt x="4030" y="2373"/>
                  </a:cubicBezTo>
                  <a:cubicBezTo>
                    <a:pt x="4011" y="2390"/>
                    <a:pt x="3995" y="2403"/>
                    <a:pt x="3978" y="2418"/>
                  </a:cubicBezTo>
                  <a:cubicBezTo>
                    <a:pt x="3985" y="2442"/>
                    <a:pt x="3991" y="2466"/>
                    <a:pt x="3999" y="2494"/>
                  </a:cubicBezTo>
                  <a:cubicBezTo>
                    <a:pt x="3992" y="2506"/>
                    <a:pt x="3981" y="2524"/>
                    <a:pt x="3970" y="2543"/>
                  </a:cubicBezTo>
                  <a:cubicBezTo>
                    <a:pt x="3976" y="2546"/>
                    <a:pt x="3983" y="2549"/>
                    <a:pt x="3989" y="2552"/>
                  </a:cubicBezTo>
                  <a:cubicBezTo>
                    <a:pt x="3989" y="2570"/>
                    <a:pt x="3989" y="2588"/>
                    <a:pt x="3989" y="2606"/>
                  </a:cubicBezTo>
                  <a:cubicBezTo>
                    <a:pt x="3990" y="2605"/>
                    <a:pt x="3990" y="2605"/>
                    <a:pt x="3990" y="2605"/>
                  </a:cubicBezTo>
                  <a:cubicBezTo>
                    <a:pt x="3979" y="2625"/>
                    <a:pt x="3968" y="2644"/>
                    <a:pt x="3956" y="2663"/>
                  </a:cubicBezTo>
                  <a:cubicBezTo>
                    <a:pt x="3952" y="2670"/>
                    <a:pt x="3945" y="2676"/>
                    <a:pt x="3939" y="2683"/>
                  </a:cubicBezTo>
                  <a:cubicBezTo>
                    <a:pt x="3940" y="2684"/>
                    <a:pt x="3940" y="2684"/>
                    <a:pt x="3940" y="2684"/>
                  </a:cubicBezTo>
                  <a:cubicBezTo>
                    <a:pt x="3938" y="2646"/>
                    <a:pt x="3933" y="2608"/>
                    <a:pt x="3933" y="2570"/>
                  </a:cubicBezTo>
                  <a:cubicBezTo>
                    <a:pt x="3933" y="2523"/>
                    <a:pt x="3937" y="2476"/>
                    <a:pt x="3939" y="2428"/>
                  </a:cubicBezTo>
                  <a:cubicBezTo>
                    <a:pt x="3927" y="2430"/>
                    <a:pt x="3919" y="2422"/>
                    <a:pt x="3921" y="2405"/>
                  </a:cubicBezTo>
                  <a:cubicBezTo>
                    <a:pt x="3847" y="2387"/>
                    <a:pt x="3774" y="2405"/>
                    <a:pt x="3701" y="2396"/>
                  </a:cubicBezTo>
                  <a:cubicBezTo>
                    <a:pt x="3700" y="2398"/>
                    <a:pt x="3700" y="2401"/>
                    <a:pt x="3699" y="2404"/>
                  </a:cubicBezTo>
                  <a:cubicBezTo>
                    <a:pt x="3719" y="2412"/>
                    <a:pt x="3739" y="2420"/>
                    <a:pt x="3760" y="2429"/>
                  </a:cubicBezTo>
                  <a:cubicBezTo>
                    <a:pt x="3756" y="2436"/>
                    <a:pt x="3752" y="2442"/>
                    <a:pt x="3748" y="2449"/>
                  </a:cubicBezTo>
                  <a:cubicBezTo>
                    <a:pt x="3756" y="2457"/>
                    <a:pt x="3764" y="2466"/>
                    <a:pt x="3771" y="2474"/>
                  </a:cubicBezTo>
                  <a:cubicBezTo>
                    <a:pt x="3754" y="2476"/>
                    <a:pt x="3736" y="2467"/>
                    <a:pt x="3719" y="2480"/>
                  </a:cubicBezTo>
                  <a:cubicBezTo>
                    <a:pt x="3734" y="2499"/>
                    <a:pt x="3748" y="2516"/>
                    <a:pt x="3762" y="2533"/>
                  </a:cubicBezTo>
                  <a:cubicBezTo>
                    <a:pt x="3750" y="2528"/>
                    <a:pt x="3739" y="2521"/>
                    <a:pt x="3727" y="2517"/>
                  </a:cubicBezTo>
                  <a:cubicBezTo>
                    <a:pt x="3719" y="2514"/>
                    <a:pt x="3705" y="2511"/>
                    <a:pt x="3701" y="2515"/>
                  </a:cubicBezTo>
                  <a:cubicBezTo>
                    <a:pt x="3675" y="2539"/>
                    <a:pt x="3652" y="2518"/>
                    <a:pt x="3629" y="2512"/>
                  </a:cubicBezTo>
                  <a:cubicBezTo>
                    <a:pt x="3621" y="2509"/>
                    <a:pt x="3614" y="2505"/>
                    <a:pt x="3606" y="2505"/>
                  </a:cubicBezTo>
                  <a:cubicBezTo>
                    <a:pt x="3566" y="2503"/>
                    <a:pt x="3539" y="2479"/>
                    <a:pt x="3541" y="2439"/>
                  </a:cubicBezTo>
                  <a:cubicBezTo>
                    <a:pt x="3543" y="2397"/>
                    <a:pt x="3551" y="2355"/>
                    <a:pt x="3556" y="2315"/>
                  </a:cubicBezTo>
                  <a:cubicBezTo>
                    <a:pt x="3612" y="2319"/>
                    <a:pt x="3664" y="2323"/>
                    <a:pt x="3715" y="2326"/>
                  </a:cubicBezTo>
                  <a:cubicBezTo>
                    <a:pt x="3731" y="2326"/>
                    <a:pt x="3747" y="2323"/>
                    <a:pt x="3763" y="2323"/>
                  </a:cubicBezTo>
                  <a:cubicBezTo>
                    <a:pt x="3780" y="2322"/>
                    <a:pt x="3801" y="2330"/>
                    <a:pt x="3813" y="2323"/>
                  </a:cubicBezTo>
                  <a:cubicBezTo>
                    <a:pt x="3833" y="2308"/>
                    <a:pt x="3838" y="2334"/>
                    <a:pt x="3854" y="2332"/>
                  </a:cubicBezTo>
                  <a:cubicBezTo>
                    <a:pt x="3888" y="2327"/>
                    <a:pt x="3923" y="2329"/>
                    <a:pt x="3957" y="2326"/>
                  </a:cubicBezTo>
                  <a:cubicBezTo>
                    <a:pt x="3962" y="2326"/>
                    <a:pt x="3967" y="2320"/>
                    <a:pt x="3977" y="2314"/>
                  </a:cubicBezTo>
                  <a:cubicBezTo>
                    <a:pt x="3966" y="2307"/>
                    <a:pt x="3959" y="2300"/>
                    <a:pt x="3951" y="2298"/>
                  </a:cubicBezTo>
                  <a:cubicBezTo>
                    <a:pt x="3928" y="2291"/>
                    <a:pt x="3905" y="2291"/>
                    <a:pt x="3880" y="2294"/>
                  </a:cubicBezTo>
                  <a:cubicBezTo>
                    <a:pt x="3839" y="2298"/>
                    <a:pt x="3797" y="2294"/>
                    <a:pt x="3755" y="2293"/>
                  </a:cubicBezTo>
                  <a:cubicBezTo>
                    <a:pt x="3727" y="2293"/>
                    <a:pt x="3698" y="2292"/>
                    <a:pt x="3670" y="2292"/>
                  </a:cubicBezTo>
                  <a:cubicBezTo>
                    <a:pt x="3641" y="2292"/>
                    <a:pt x="3612" y="2292"/>
                    <a:pt x="3583" y="2290"/>
                  </a:cubicBezTo>
                  <a:cubicBezTo>
                    <a:pt x="3561" y="2288"/>
                    <a:pt x="3547" y="2276"/>
                    <a:pt x="3544" y="2252"/>
                  </a:cubicBezTo>
                  <a:cubicBezTo>
                    <a:pt x="3542" y="2238"/>
                    <a:pt x="3536" y="2224"/>
                    <a:pt x="3534" y="2210"/>
                  </a:cubicBezTo>
                  <a:cubicBezTo>
                    <a:pt x="3528" y="2180"/>
                    <a:pt x="3526" y="2152"/>
                    <a:pt x="3554" y="2130"/>
                  </a:cubicBezTo>
                  <a:cubicBezTo>
                    <a:pt x="3563" y="2123"/>
                    <a:pt x="3566" y="2111"/>
                    <a:pt x="3572" y="2101"/>
                  </a:cubicBezTo>
                  <a:cubicBezTo>
                    <a:pt x="3598" y="2106"/>
                    <a:pt x="3622" y="2115"/>
                    <a:pt x="3647" y="2116"/>
                  </a:cubicBezTo>
                  <a:cubicBezTo>
                    <a:pt x="3678" y="2116"/>
                    <a:pt x="3710" y="2111"/>
                    <a:pt x="3741" y="2107"/>
                  </a:cubicBezTo>
                  <a:cubicBezTo>
                    <a:pt x="3746" y="2106"/>
                    <a:pt x="3751" y="2100"/>
                    <a:pt x="3756" y="2095"/>
                  </a:cubicBezTo>
                  <a:cubicBezTo>
                    <a:pt x="3779" y="2072"/>
                    <a:pt x="3775" y="2045"/>
                    <a:pt x="3775" y="2014"/>
                  </a:cubicBezTo>
                  <a:cubicBezTo>
                    <a:pt x="3775" y="1961"/>
                    <a:pt x="3764" y="1910"/>
                    <a:pt x="3752" y="1858"/>
                  </a:cubicBezTo>
                  <a:cubicBezTo>
                    <a:pt x="3741" y="1813"/>
                    <a:pt x="3731" y="1768"/>
                    <a:pt x="3719" y="1723"/>
                  </a:cubicBezTo>
                  <a:cubicBezTo>
                    <a:pt x="3715" y="1707"/>
                    <a:pt x="3710" y="1690"/>
                    <a:pt x="3701" y="1675"/>
                  </a:cubicBezTo>
                  <a:cubicBezTo>
                    <a:pt x="3686" y="1647"/>
                    <a:pt x="3667" y="1621"/>
                    <a:pt x="3650" y="1594"/>
                  </a:cubicBezTo>
                  <a:cubicBezTo>
                    <a:pt x="3654" y="1576"/>
                    <a:pt x="3648" y="1561"/>
                    <a:pt x="3637" y="1547"/>
                  </a:cubicBezTo>
                  <a:cubicBezTo>
                    <a:pt x="3617" y="1523"/>
                    <a:pt x="3598" y="1498"/>
                    <a:pt x="3578" y="1474"/>
                  </a:cubicBezTo>
                  <a:cubicBezTo>
                    <a:pt x="3571" y="1464"/>
                    <a:pt x="3564" y="1455"/>
                    <a:pt x="3557" y="1445"/>
                  </a:cubicBezTo>
                  <a:cubicBezTo>
                    <a:pt x="3547" y="1432"/>
                    <a:pt x="3532" y="1428"/>
                    <a:pt x="3519" y="1434"/>
                  </a:cubicBezTo>
                  <a:cubicBezTo>
                    <a:pt x="3456" y="1464"/>
                    <a:pt x="3392" y="1491"/>
                    <a:pt x="3347" y="1548"/>
                  </a:cubicBezTo>
                  <a:cubicBezTo>
                    <a:pt x="3349" y="1546"/>
                    <a:pt x="3349" y="1546"/>
                    <a:pt x="3349" y="1546"/>
                  </a:cubicBezTo>
                  <a:cubicBezTo>
                    <a:pt x="3310" y="1587"/>
                    <a:pt x="3271" y="1628"/>
                    <a:pt x="3229" y="1671"/>
                  </a:cubicBezTo>
                  <a:cubicBezTo>
                    <a:pt x="3241" y="1672"/>
                    <a:pt x="3248" y="1673"/>
                    <a:pt x="3257" y="1673"/>
                  </a:cubicBezTo>
                  <a:cubicBezTo>
                    <a:pt x="3246" y="1697"/>
                    <a:pt x="3227" y="1681"/>
                    <a:pt x="3210" y="1690"/>
                  </a:cubicBezTo>
                  <a:cubicBezTo>
                    <a:pt x="3207" y="1698"/>
                    <a:pt x="3204" y="1709"/>
                    <a:pt x="3201" y="1720"/>
                  </a:cubicBezTo>
                  <a:cubicBezTo>
                    <a:pt x="3203" y="1719"/>
                    <a:pt x="3203" y="1719"/>
                    <a:pt x="3203" y="1719"/>
                  </a:cubicBezTo>
                  <a:cubicBezTo>
                    <a:pt x="3182" y="1730"/>
                    <a:pt x="3164" y="1741"/>
                    <a:pt x="3170" y="1771"/>
                  </a:cubicBezTo>
                  <a:cubicBezTo>
                    <a:pt x="3173" y="1783"/>
                    <a:pt x="3166" y="1797"/>
                    <a:pt x="3149" y="1814"/>
                  </a:cubicBezTo>
                  <a:cubicBezTo>
                    <a:pt x="3152" y="1795"/>
                    <a:pt x="3153" y="1785"/>
                    <a:pt x="3155" y="1774"/>
                  </a:cubicBezTo>
                  <a:cubicBezTo>
                    <a:pt x="3152" y="1774"/>
                    <a:pt x="3150" y="1773"/>
                    <a:pt x="3147" y="1772"/>
                  </a:cubicBezTo>
                  <a:cubicBezTo>
                    <a:pt x="3138" y="1792"/>
                    <a:pt x="3129" y="1811"/>
                    <a:pt x="3117" y="1836"/>
                  </a:cubicBezTo>
                  <a:cubicBezTo>
                    <a:pt x="3132" y="1831"/>
                    <a:pt x="3138" y="1829"/>
                    <a:pt x="3146" y="1827"/>
                  </a:cubicBezTo>
                  <a:cubicBezTo>
                    <a:pt x="3147" y="1832"/>
                    <a:pt x="3149" y="1835"/>
                    <a:pt x="3149" y="1839"/>
                  </a:cubicBezTo>
                  <a:cubicBezTo>
                    <a:pt x="3153" y="1891"/>
                    <a:pt x="3216" y="1933"/>
                    <a:pt x="3260" y="1909"/>
                  </a:cubicBezTo>
                  <a:cubicBezTo>
                    <a:pt x="3288" y="1893"/>
                    <a:pt x="3312" y="1896"/>
                    <a:pt x="3339" y="1905"/>
                  </a:cubicBezTo>
                  <a:cubicBezTo>
                    <a:pt x="3347" y="1907"/>
                    <a:pt x="3358" y="1911"/>
                    <a:pt x="3365" y="1907"/>
                  </a:cubicBezTo>
                  <a:cubicBezTo>
                    <a:pt x="3395" y="1889"/>
                    <a:pt x="3425" y="1902"/>
                    <a:pt x="3454" y="1909"/>
                  </a:cubicBezTo>
                  <a:cubicBezTo>
                    <a:pt x="3466" y="1912"/>
                    <a:pt x="3481" y="1925"/>
                    <a:pt x="3485" y="1936"/>
                  </a:cubicBezTo>
                  <a:cubicBezTo>
                    <a:pt x="3495" y="1971"/>
                    <a:pt x="3504" y="2008"/>
                    <a:pt x="3507" y="2044"/>
                  </a:cubicBezTo>
                  <a:cubicBezTo>
                    <a:pt x="3511" y="2083"/>
                    <a:pt x="3505" y="2123"/>
                    <a:pt x="3509" y="2162"/>
                  </a:cubicBezTo>
                  <a:cubicBezTo>
                    <a:pt x="3512" y="2186"/>
                    <a:pt x="3516" y="2208"/>
                    <a:pt x="3508" y="2231"/>
                  </a:cubicBezTo>
                  <a:cubicBezTo>
                    <a:pt x="3506" y="2238"/>
                    <a:pt x="3508" y="2247"/>
                    <a:pt x="3508" y="2254"/>
                  </a:cubicBezTo>
                  <a:cubicBezTo>
                    <a:pt x="3532" y="2272"/>
                    <a:pt x="3532" y="2272"/>
                    <a:pt x="3537" y="2302"/>
                  </a:cubicBezTo>
                  <a:cubicBezTo>
                    <a:pt x="3498" y="2310"/>
                    <a:pt x="3498" y="2313"/>
                    <a:pt x="3509" y="2354"/>
                  </a:cubicBezTo>
                  <a:cubicBezTo>
                    <a:pt x="3515" y="2374"/>
                    <a:pt x="3515" y="2397"/>
                    <a:pt x="3516" y="2418"/>
                  </a:cubicBezTo>
                  <a:cubicBezTo>
                    <a:pt x="3517" y="2441"/>
                    <a:pt x="3509" y="2465"/>
                    <a:pt x="3532" y="2481"/>
                  </a:cubicBezTo>
                  <a:cubicBezTo>
                    <a:pt x="3519" y="2493"/>
                    <a:pt x="3508" y="2504"/>
                    <a:pt x="3498" y="2513"/>
                  </a:cubicBezTo>
                  <a:cubicBezTo>
                    <a:pt x="3516" y="2570"/>
                    <a:pt x="3515" y="2623"/>
                    <a:pt x="3493" y="2676"/>
                  </a:cubicBezTo>
                  <a:cubicBezTo>
                    <a:pt x="3418" y="2691"/>
                    <a:pt x="3346" y="2683"/>
                    <a:pt x="3274" y="2679"/>
                  </a:cubicBezTo>
                  <a:cubicBezTo>
                    <a:pt x="3247" y="2677"/>
                    <a:pt x="3221" y="2678"/>
                    <a:pt x="3196" y="2693"/>
                  </a:cubicBezTo>
                  <a:cubicBezTo>
                    <a:pt x="3180" y="2682"/>
                    <a:pt x="3163" y="2671"/>
                    <a:pt x="3141" y="2686"/>
                  </a:cubicBezTo>
                  <a:cubicBezTo>
                    <a:pt x="3139" y="2715"/>
                    <a:pt x="3138" y="2743"/>
                    <a:pt x="3155" y="2770"/>
                  </a:cubicBezTo>
                  <a:cubicBezTo>
                    <a:pt x="3169" y="2790"/>
                    <a:pt x="3180" y="2813"/>
                    <a:pt x="3192" y="2834"/>
                  </a:cubicBezTo>
                  <a:cubicBezTo>
                    <a:pt x="3196" y="2841"/>
                    <a:pt x="3198" y="2850"/>
                    <a:pt x="3203" y="2855"/>
                  </a:cubicBezTo>
                  <a:cubicBezTo>
                    <a:pt x="3228" y="2879"/>
                    <a:pt x="3254" y="2901"/>
                    <a:pt x="3279" y="2924"/>
                  </a:cubicBezTo>
                  <a:cubicBezTo>
                    <a:pt x="3285" y="2929"/>
                    <a:pt x="3294" y="2934"/>
                    <a:pt x="3296" y="2941"/>
                  </a:cubicBezTo>
                  <a:cubicBezTo>
                    <a:pt x="3311" y="2980"/>
                    <a:pt x="3349" y="2994"/>
                    <a:pt x="3378" y="3019"/>
                  </a:cubicBezTo>
                  <a:cubicBezTo>
                    <a:pt x="3383" y="3024"/>
                    <a:pt x="3390" y="3025"/>
                    <a:pt x="3397" y="3027"/>
                  </a:cubicBezTo>
                  <a:cubicBezTo>
                    <a:pt x="3399" y="3025"/>
                    <a:pt x="3400" y="3023"/>
                    <a:pt x="3402" y="3021"/>
                  </a:cubicBezTo>
                  <a:cubicBezTo>
                    <a:pt x="3393" y="3009"/>
                    <a:pt x="3385" y="2994"/>
                    <a:pt x="3373" y="2986"/>
                  </a:cubicBezTo>
                  <a:cubicBezTo>
                    <a:pt x="3339" y="2963"/>
                    <a:pt x="3315" y="2930"/>
                    <a:pt x="3286" y="2902"/>
                  </a:cubicBezTo>
                  <a:cubicBezTo>
                    <a:pt x="3283" y="2899"/>
                    <a:pt x="3279" y="2897"/>
                    <a:pt x="3277" y="2894"/>
                  </a:cubicBezTo>
                  <a:cubicBezTo>
                    <a:pt x="3256" y="2870"/>
                    <a:pt x="3224" y="2856"/>
                    <a:pt x="3219" y="2820"/>
                  </a:cubicBezTo>
                  <a:cubicBezTo>
                    <a:pt x="3219" y="2817"/>
                    <a:pt x="3215" y="2814"/>
                    <a:pt x="3212" y="2812"/>
                  </a:cubicBezTo>
                  <a:cubicBezTo>
                    <a:pt x="3177" y="2789"/>
                    <a:pt x="3177" y="2759"/>
                    <a:pt x="3194" y="2722"/>
                  </a:cubicBezTo>
                  <a:cubicBezTo>
                    <a:pt x="3212" y="2719"/>
                    <a:pt x="3232" y="2715"/>
                    <a:pt x="3251" y="2713"/>
                  </a:cubicBezTo>
                  <a:cubicBezTo>
                    <a:pt x="3271" y="2711"/>
                    <a:pt x="3293" y="2714"/>
                    <a:pt x="3310" y="2706"/>
                  </a:cubicBezTo>
                  <a:cubicBezTo>
                    <a:pt x="3329" y="2698"/>
                    <a:pt x="3347" y="2700"/>
                    <a:pt x="3362" y="2707"/>
                  </a:cubicBezTo>
                  <a:cubicBezTo>
                    <a:pt x="3379" y="2715"/>
                    <a:pt x="3399" y="2719"/>
                    <a:pt x="3415" y="2724"/>
                  </a:cubicBezTo>
                  <a:cubicBezTo>
                    <a:pt x="3441" y="2731"/>
                    <a:pt x="3472" y="2743"/>
                    <a:pt x="3498" y="2717"/>
                  </a:cubicBezTo>
                  <a:cubicBezTo>
                    <a:pt x="3503" y="2712"/>
                    <a:pt x="3512" y="2712"/>
                    <a:pt x="3518" y="2709"/>
                  </a:cubicBezTo>
                  <a:cubicBezTo>
                    <a:pt x="3525" y="2690"/>
                    <a:pt x="3527" y="2672"/>
                    <a:pt x="3536" y="2654"/>
                  </a:cubicBezTo>
                  <a:cubicBezTo>
                    <a:pt x="3549" y="2629"/>
                    <a:pt x="3547" y="2596"/>
                    <a:pt x="3550" y="2566"/>
                  </a:cubicBezTo>
                  <a:cubicBezTo>
                    <a:pt x="3553" y="2524"/>
                    <a:pt x="3560" y="2519"/>
                    <a:pt x="3601" y="2530"/>
                  </a:cubicBezTo>
                  <a:cubicBezTo>
                    <a:pt x="3633" y="2539"/>
                    <a:pt x="3665" y="2548"/>
                    <a:pt x="3697" y="2551"/>
                  </a:cubicBezTo>
                  <a:cubicBezTo>
                    <a:pt x="3722" y="2552"/>
                    <a:pt x="3737" y="2561"/>
                    <a:pt x="3749" y="2581"/>
                  </a:cubicBezTo>
                  <a:cubicBezTo>
                    <a:pt x="3756" y="2593"/>
                    <a:pt x="3762" y="2607"/>
                    <a:pt x="3770" y="2619"/>
                  </a:cubicBezTo>
                  <a:cubicBezTo>
                    <a:pt x="3773" y="2624"/>
                    <a:pt x="3781" y="2626"/>
                    <a:pt x="3787" y="2629"/>
                  </a:cubicBezTo>
                  <a:cubicBezTo>
                    <a:pt x="3790" y="2628"/>
                    <a:pt x="3792" y="2626"/>
                    <a:pt x="3794" y="2625"/>
                  </a:cubicBezTo>
                  <a:cubicBezTo>
                    <a:pt x="3791" y="2612"/>
                    <a:pt x="3781" y="2597"/>
                    <a:pt x="3784" y="2586"/>
                  </a:cubicBezTo>
                  <a:cubicBezTo>
                    <a:pt x="3793" y="2557"/>
                    <a:pt x="3777" y="2545"/>
                    <a:pt x="3759" y="2531"/>
                  </a:cubicBezTo>
                  <a:cubicBezTo>
                    <a:pt x="3788" y="2531"/>
                    <a:pt x="3792" y="2527"/>
                    <a:pt x="3784" y="2505"/>
                  </a:cubicBezTo>
                  <a:cubicBezTo>
                    <a:pt x="3780" y="2494"/>
                    <a:pt x="3775" y="2484"/>
                    <a:pt x="3770" y="2473"/>
                  </a:cubicBezTo>
                  <a:close/>
                  <a:moveTo>
                    <a:pt x="539" y="3042"/>
                  </a:moveTo>
                  <a:cubicBezTo>
                    <a:pt x="535" y="3038"/>
                    <a:pt x="531" y="3034"/>
                    <a:pt x="527" y="3030"/>
                  </a:cubicBezTo>
                  <a:cubicBezTo>
                    <a:pt x="526" y="3036"/>
                    <a:pt x="527" y="3038"/>
                    <a:pt x="529" y="3039"/>
                  </a:cubicBezTo>
                  <a:cubicBezTo>
                    <a:pt x="533" y="3040"/>
                    <a:pt x="537" y="3040"/>
                    <a:pt x="540" y="3041"/>
                  </a:cubicBezTo>
                  <a:cubicBezTo>
                    <a:pt x="532" y="3052"/>
                    <a:pt x="534" y="3061"/>
                    <a:pt x="549" y="3072"/>
                  </a:cubicBezTo>
                  <a:cubicBezTo>
                    <a:pt x="549" y="3060"/>
                    <a:pt x="550" y="3053"/>
                    <a:pt x="549" y="3046"/>
                  </a:cubicBezTo>
                  <a:cubicBezTo>
                    <a:pt x="549" y="3044"/>
                    <a:pt x="543" y="3043"/>
                    <a:pt x="539" y="3042"/>
                  </a:cubicBezTo>
                  <a:close/>
                  <a:moveTo>
                    <a:pt x="1271" y="1725"/>
                  </a:moveTo>
                  <a:cubicBezTo>
                    <a:pt x="1266" y="1737"/>
                    <a:pt x="1269" y="1746"/>
                    <a:pt x="1281" y="1752"/>
                  </a:cubicBezTo>
                  <a:cubicBezTo>
                    <a:pt x="1278" y="1744"/>
                    <a:pt x="1274" y="1735"/>
                    <a:pt x="1270" y="1726"/>
                  </a:cubicBezTo>
                  <a:cubicBezTo>
                    <a:pt x="1259" y="1713"/>
                    <a:pt x="1247" y="1701"/>
                    <a:pt x="1236" y="1688"/>
                  </a:cubicBezTo>
                  <a:cubicBezTo>
                    <a:pt x="1201" y="1634"/>
                    <a:pt x="1100" y="1534"/>
                    <a:pt x="1064" y="1521"/>
                  </a:cubicBezTo>
                  <a:cubicBezTo>
                    <a:pt x="1061" y="1538"/>
                    <a:pt x="1061" y="1549"/>
                    <a:pt x="1078" y="1562"/>
                  </a:cubicBezTo>
                  <a:cubicBezTo>
                    <a:pt x="1114" y="1589"/>
                    <a:pt x="1147" y="1621"/>
                    <a:pt x="1182" y="1650"/>
                  </a:cubicBezTo>
                  <a:cubicBezTo>
                    <a:pt x="1199" y="1664"/>
                    <a:pt x="1218" y="1675"/>
                    <a:pt x="1236" y="1688"/>
                  </a:cubicBezTo>
                  <a:cubicBezTo>
                    <a:pt x="1238" y="1709"/>
                    <a:pt x="1249" y="1722"/>
                    <a:pt x="1271" y="1725"/>
                  </a:cubicBezTo>
                  <a:close/>
                  <a:moveTo>
                    <a:pt x="879" y="3517"/>
                  </a:moveTo>
                  <a:cubicBezTo>
                    <a:pt x="865" y="3512"/>
                    <a:pt x="852" y="3508"/>
                    <a:pt x="851" y="3533"/>
                  </a:cubicBezTo>
                  <a:cubicBezTo>
                    <a:pt x="860" y="3528"/>
                    <a:pt x="869" y="3522"/>
                    <a:pt x="878" y="3516"/>
                  </a:cubicBezTo>
                  <a:cubicBezTo>
                    <a:pt x="883" y="3507"/>
                    <a:pt x="889" y="3499"/>
                    <a:pt x="895" y="3490"/>
                  </a:cubicBezTo>
                  <a:cubicBezTo>
                    <a:pt x="873" y="3491"/>
                    <a:pt x="874" y="3504"/>
                    <a:pt x="879" y="3517"/>
                  </a:cubicBezTo>
                  <a:close/>
                  <a:moveTo>
                    <a:pt x="868" y="2266"/>
                  </a:moveTo>
                  <a:cubicBezTo>
                    <a:pt x="863" y="2256"/>
                    <a:pt x="858" y="2247"/>
                    <a:pt x="840" y="2258"/>
                  </a:cubicBezTo>
                  <a:cubicBezTo>
                    <a:pt x="853" y="2261"/>
                    <a:pt x="861" y="2263"/>
                    <a:pt x="869" y="2265"/>
                  </a:cubicBezTo>
                  <a:cubicBezTo>
                    <a:pt x="872" y="2274"/>
                    <a:pt x="875" y="2284"/>
                    <a:pt x="880" y="2300"/>
                  </a:cubicBezTo>
                  <a:cubicBezTo>
                    <a:pt x="895" y="2273"/>
                    <a:pt x="882" y="2269"/>
                    <a:pt x="868" y="2266"/>
                  </a:cubicBezTo>
                  <a:close/>
                  <a:moveTo>
                    <a:pt x="1686" y="709"/>
                  </a:moveTo>
                  <a:cubicBezTo>
                    <a:pt x="1686" y="726"/>
                    <a:pt x="1688" y="742"/>
                    <a:pt x="1716" y="751"/>
                  </a:cubicBezTo>
                  <a:cubicBezTo>
                    <a:pt x="1703" y="733"/>
                    <a:pt x="1694" y="721"/>
                    <a:pt x="1686" y="709"/>
                  </a:cubicBezTo>
                  <a:cubicBezTo>
                    <a:pt x="1676" y="702"/>
                    <a:pt x="1665" y="694"/>
                    <a:pt x="1655" y="686"/>
                  </a:cubicBezTo>
                  <a:cubicBezTo>
                    <a:pt x="1657" y="709"/>
                    <a:pt x="1668" y="716"/>
                    <a:pt x="1686" y="709"/>
                  </a:cubicBezTo>
                  <a:close/>
                  <a:moveTo>
                    <a:pt x="1008" y="551"/>
                  </a:moveTo>
                  <a:cubicBezTo>
                    <a:pt x="1002" y="546"/>
                    <a:pt x="998" y="533"/>
                    <a:pt x="988" y="546"/>
                  </a:cubicBezTo>
                  <a:cubicBezTo>
                    <a:pt x="986" y="549"/>
                    <a:pt x="986" y="558"/>
                    <a:pt x="989" y="560"/>
                  </a:cubicBezTo>
                  <a:cubicBezTo>
                    <a:pt x="1000" y="568"/>
                    <a:pt x="1004" y="560"/>
                    <a:pt x="1008" y="551"/>
                  </a:cubicBezTo>
                  <a:cubicBezTo>
                    <a:pt x="1026" y="550"/>
                    <a:pt x="1026" y="550"/>
                    <a:pt x="1026" y="531"/>
                  </a:cubicBezTo>
                  <a:cubicBezTo>
                    <a:pt x="1019" y="539"/>
                    <a:pt x="1014" y="545"/>
                    <a:pt x="1008" y="551"/>
                  </a:cubicBezTo>
                  <a:close/>
                  <a:moveTo>
                    <a:pt x="853" y="483"/>
                  </a:moveTo>
                  <a:cubicBezTo>
                    <a:pt x="853" y="485"/>
                    <a:pt x="853" y="489"/>
                    <a:pt x="854" y="490"/>
                  </a:cubicBezTo>
                  <a:cubicBezTo>
                    <a:pt x="857" y="494"/>
                    <a:pt x="860" y="498"/>
                    <a:pt x="863" y="501"/>
                  </a:cubicBezTo>
                  <a:cubicBezTo>
                    <a:pt x="866" y="499"/>
                    <a:pt x="868" y="496"/>
                    <a:pt x="870" y="493"/>
                  </a:cubicBezTo>
                  <a:cubicBezTo>
                    <a:pt x="867" y="491"/>
                    <a:pt x="863" y="487"/>
                    <a:pt x="859" y="485"/>
                  </a:cubicBezTo>
                  <a:cubicBezTo>
                    <a:pt x="857" y="484"/>
                    <a:pt x="854" y="485"/>
                    <a:pt x="851" y="485"/>
                  </a:cubicBezTo>
                  <a:cubicBezTo>
                    <a:pt x="850" y="481"/>
                    <a:pt x="849" y="477"/>
                    <a:pt x="847" y="473"/>
                  </a:cubicBezTo>
                  <a:cubicBezTo>
                    <a:pt x="844" y="478"/>
                    <a:pt x="840" y="483"/>
                    <a:pt x="836" y="488"/>
                  </a:cubicBezTo>
                  <a:cubicBezTo>
                    <a:pt x="837" y="488"/>
                    <a:pt x="839" y="489"/>
                    <a:pt x="840" y="490"/>
                  </a:cubicBezTo>
                  <a:cubicBezTo>
                    <a:pt x="844" y="488"/>
                    <a:pt x="849" y="485"/>
                    <a:pt x="853" y="483"/>
                  </a:cubicBezTo>
                  <a:close/>
                  <a:moveTo>
                    <a:pt x="507" y="897"/>
                  </a:moveTo>
                  <a:cubicBezTo>
                    <a:pt x="505" y="908"/>
                    <a:pt x="503" y="920"/>
                    <a:pt x="502" y="931"/>
                  </a:cubicBezTo>
                  <a:cubicBezTo>
                    <a:pt x="514" y="921"/>
                    <a:pt x="524" y="910"/>
                    <a:pt x="506" y="898"/>
                  </a:cubicBezTo>
                  <a:cubicBezTo>
                    <a:pt x="507" y="887"/>
                    <a:pt x="507" y="876"/>
                    <a:pt x="508" y="857"/>
                  </a:cubicBezTo>
                  <a:cubicBezTo>
                    <a:pt x="487" y="877"/>
                    <a:pt x="488" y="888"/>
                    <a:pt x="507" y="897"/>
                  </a:cubicBezTo>
                  <a:close/>
                  <a:moveTo>
                    <a:pt x="2098" y="530"/>
                  </a:moveTo>
                  <a:cubicBezTo>
                    <a:pt x="2104" y="542"/>
                    <a:pt x="2113" y="551"/>
                    <a:pt x="2125" y="553"/>
                  </a:cubicBezTo>
                  <a:cubicBezTo>
                    <a:pt x="2127" y="550"/>
                    <a:pt x="2128" y="548"/>
                    <a:pt x="2130" y="545"/>
                  </a:cubicBezTo>
                  <a:cubicBezTo>
                    <a:pt x="2119" y="541"/>
                    <a:pt x="2108" y="536"/>
                    <a:pt x="2097" y="531"/>
                  </a:cubicBezTo>
                  <a:cubicBezTo>
                    <a:pt x="2097" y="517"/>
                    <a:pt x="2096" y="504"/>
                    <a:pt x="2076" y="498"/>
                  </a:cubicBezTo>
                  <a:cubicBezTo>
                    <a:pt x="2076" y="516"/>
                    <a:pt x="2082" y="526"/>
                    <a:pt x="2098" y="530"/>
                  </a:cubicBezTo>
                  <a:close/>
                  <a:moveTo>
                    <a:pt x="2555" y="113"/>
                  </a:moveTo>
                  <a:cubicBezTo>
                    <a:pt x="2563" y="122"/>
                    <a:pt x="2558" y="144"/>
                    <a:pt x="2584" y="137"/>
                  </a:cubicBezTo>
                  <a:cubicBezTo>
                    <a:pt x="2574" y="129"/>
                    <a:pt x="2564" y="122"/>
                    <a:pt x="2554" y="114"/>
                  </a:cubicBezTo>
                  <a:cubicBezTo>
                    <a:pt x="2539" y="104"/>
                    <a:pt x="2525" y="106"/>
                    <a:pt x="2505" y="113"/>
                  </a:cubicBezTo>
                  <a:cubicBezTo>
                    <a:pt x="2513" y="119"/>
                    <a:pt x="2518" y="125"/>
                    <a:pt x="2521" y="124"/>
                  </a:cubicBezTo>
                  <a:cubicBezTo>
                    <a:pt x="2532" y="121"/>
                    <a:pt x="2543" y="117"/>
                    <a:pt x="2555" y="113"/>
                  </a:cubicBezTo>
                  <a:close/>
                  <a:moveTo>
                    <a:pt x="2688" y="3741"/>
                  </a:moveTo>
                  <a:cubicBezTo>
                    <a:pt x="2680" y="3738"/>
                    <a:pt x="2672" y="3735"/>
                    <a:pt x="2663" y="3732"/>
                  </a:cubicBezTo>
                  <a:cubicBezTo>
                    <a:pt x="2662" y="3734"/>
                    <a:pt x="2660" y="3737"/>
                    <a:pt x="2658" y="3739"/>
                  </a:cubicBezTo>
                  <a:cubicBezTo>
                    <a:pt x="2666" y="3747"/>
                    <a:pt x="2673" y="3755"/>
                    <a:pt x="2687" y="3769"/>
                  </a:cubicBezTo>
                  <a:cubicBezTo>
                    <a:pt x="2687" y="3753"/>
                    <a:pt x="2687" y="3747"/>
                    <a:pt x="2688" y="3741"/>
                  </a:cubicBezTo>
                  <a:cubicBezTo>
                    <a:pt x="2695" y="3744"/>
                    <a:pt x="2702" y="3748"/>
                    <a:pt x="2713" y="3753"/>
                  </a:cubicBezTo>
                  <a:cubicBezTo>
                    <a:pt x="2708" y="3731"/>
                    <a:pt x="2698" y="3736"/>
                    <a:pt x="2688" y="3741"/>
                  </a:cubicBezTo>
                  <a:close/>
                  <a:moveTo>
                    <a:pt x="388" y="1923"/>
                  </a:moveTo>
                  <a:cubicBezTo>
                    <a:pt x="373" y="1958"/>
                    <a:pt x="373" y="1960"/>
                    <a:pt x="396" y="1975"/>
                  </a:cubicBezTo>
                  <a:cubicBezTo>
                    <a:pt x="393" y="1957"/>
                    <a:pt x="390" y="1939"/>
                    <a:pt x="387" y="1922"/>
                  </a:cubicBezTo>
                  <a:cubicBezTo>
                    <a:pt x="405" y="1917"/>
                    <a:pt x="407" y="1906"/>
                    <a:pt x="392" y="1890"/>
                  </a:cubicBezTo>
                  <a:cubicBezTo>
                    <a:pt x="391" y="1901"/>
                    <a:pt x="389" y="1912"/>
                    <a:pt x="388" y="1923"/>
                  </a:cubicBezTo>
                  <a:close/>
                  <a:moveTo>
                    <a:pt x="715" y="3283"/>
                  </a:moveTo>
                  <a:cubicBezTo>
                    <a:pt x="704" y="3297"/>
                    <a:pt x="699" y="3310"/>
                    <a:pt x="720" y="3322"/>
                  </a:cubicBezTo>
                  <a:cubicBezTo>
                    <a:pt x="718" y="3308"/>
                    <a:pt x="716" y="3295"/>
                    <a:pt x="715" y="3283"/>
                  </a:cubicBezTo>
                  <a:cubicBezTo>
                    <a:pt x="702" y="3277"/>
                    <a:pt x="689" y="3271"/>
                    <a:pt x="668" y="3261"/>
                  </a:cubicBezTo>
                  <a:cubicBezTo>
                    <a:pt x="682" y="3291"/>
                    <a:pt x="699" y="3286"/>
                    <a:pt x="715" y="3283"/>
                  </a:cubicBezTo>
                  <a:close/>
                  <a:moveTo>
                    <a:pt x="742" y="2687"/>
                  </a:moveTo>
                  <a:cubicBezTo>
                    <a:pt x="738" y="2697"/>
                    <a:pt x="730" y="2708"/>
                    <a:pt x="751" y="2721"/>
                  </a:cubicBezTo>
                  <a:cubicBezTo>
                    <a:pt x="747" y="2706"/>
                    <a:pt x="744" y="2697"/>
                    <a:pt x="741" y="2688"/>
                  </a:cubicBezTo>
                  <a:cubicBezTo>
                    <a:pt x="747" y="2672"/>
                    <a:pt x="746" y="2657"/>
                    <a:pt x="735" y="2643"/>
                  </a:cubicBezTo>
                  <a:cubicBezTo>
                    <a:pt x="735" y="2658"/>
                    <a:pt x="713" y="2676"/>
                    <a:pt x="742" y="2687"/>
                  </a:cubicBezTo>
                  <a:close/>
                  <a:moveTo>
                    <a:pt x="947" y="1898"/>
                  </a:moveTo>
                  <a:cubicBezTo>
                    <a:pt x="949" y="1903"/>
                    <a:pt x="952" y="1909"/>
                    <a:pt x="956" y="1918"/>
                  </a:cubicBezTo>
                  <a:cubicBezTo>
                    <a:pt x="961" y="1910"/>
                    <a:pt x="964" y="1905"/>
                    <a:pt x="969" y="1897"/>
                  </a:cubicBezTo>
                  <a:cubicBezTo>
                    <a:pt x="958" y="1898"/>
                    <a:pt x="952" y="1898"/>
                    <a:pt x="945" y="1899"/>
                  </a:cubicBezTo>
                  <a:cubicBezTo>
                    <a:pt x="955" y="1885"/>
                    <a:pt x="966" y="1871"/>
                    <a:pt x="978" y="1854"/>
                  </a:cubicBezTo>
                  <a:cubicBezTo>
                    <a:pt x="956" y="1852"/>
                    <a:pt x="948" y="1866"/>
                    <a:pt x="942" y="1878"/>
                  </a:cubicBezTo>
                  <a:cubicBezTo>
                    <a:pt x="939" y="1882"/>
                    <a:pt x="945" y="1891"/>
                    <a:pt x="947" y="1898"/>
                  </a:cubicBezTo>
                  <a:close/>
                  <a:moveTo>
                    <a:pt x="1567" y="2111"/>
                  </a:moveTo>
                  <a:cubicBezTo>
                    <a:pt x="1578" y="2116"/>
                    <a:pt x="1588" y="2123"/>
                    <a:pt x="1599" y="2125"/>
                  </a:cubicBezTo>
                  <a:cubicBezTo>
                    <a:pt x="1605" y="2127"/>
                    <a:pt x="1612" y="2121"/>
                    <a:pt x="1625" y="2116"/>
                  </a:cubicBezTo>
                  <a:cubicBezTo>
                    <a:pt x="1601" y="2104"/>
                    <a:pt x="1585" y="2105"/>
                    <a:pt x="1569" y="2112"/>
                  </a:cubicBezTo>
                  <a:cubicBezTo>
                    <a:pt x="1564" y="2117"/>
                    <a:pt x="1559" y="2123"/>
                    <a:pt x="1550" y="2133"/>
                  </a:cubicBezTo>
                  <a:cubicBezTo>
                    <a:pt x="1563" y="2134"/>
                    <a:pt x="1570" y="2134"/>
                    <a:pt x="1582" y="2135"/>
                  </a:cubicBezTo>
                  <a:cubicBezTo>
                    <a:pt x="1575" y="2124"/>
                    <a:pt x="1571" y="2117"/>
                    <a:pt x="1567" y="2111"/>
                  </a:cubicBezTo>
                  <a:close/>
                  <a:moveTo>
                    <a:pt x="950" y="3743"/>
                  </a:moveTo>
                  <a:cubicBezTo>
                    <a:pt x="938" y="3730"/>
                    <a:pt x="927" y="3717"/>
                    <a:pt x="916" y="3704"/>
                  </a:cubicBezTo>
                  <a:cubicBezTo>
                    <a:pt x="914" y="3706"/>
                    <a:pt x="911" y="3709"/>
                    <a:pt x="909" y="3711"/>
                  </a:cubicBezTo>
                  <a:cubicBezTo>
                    <a:pt x="922" y="3723"/>
                    <a:pt x="925" y="3745"/>
                    <a:pt x="951" y="3743"/>
                  </a:cubicBezTo>
                  <a:cubicBezTo>
                    <a:pt x="966" y="3785"/>
                    <a:pt x="972" y="3790"/>
                    <a:pt x="1002" y="3789"/>
                  </a:cubicBezTo>
                  <a:cubicBezTo>
                    <a:pt x="983" y="3773"/>
                    <a:pt x="967" y="3758"/>
                    <a:pt x="950" y="3743"/>
                  </a:cubicBezTo>
                  <a:close/>
                  <a:moveTo>
                    <a:pt x="518" y="1046"/>
                  </a:moveTo>
                  <a:cubicBezTo>
                    <a:pt x="512" y="1041"/>
                    <a:pt x="506" y="1036"/>
                    <a:pt x="495" y="1028"/>
                  </a:cubicBezTo>
                  <a:cubicBezTo>
                    <a:pt x="498" y="1049"/>
                    <a:pt x="505" y="1053"/>
                    <a:pt x="519" y="1045"/>
                  </a:cubicBezTo>
                  <a:cubicBezTo>
                    <a:pt x="521" y="1068"/>
                    <a:pt x="494" y="1064"/>
                    <a:pt x="488" y="1079"/>
                  </a:cubicBezTo>
                  <a:cubicBezTo>
                    <a:pt x="505" y="1092"/>
                    <a:pt x="509" y="1094"/>
                    <a:pt x="513" y="1089"/>
                  </a:cubicBezTo>
                  <a:cubicBezTo>
                    <a:pt x="519" y="1082"/>
                    <a:pt x="523" y="1073"/>
                    <a:pt x="525" y="1064"/>
                  </a:cubicBezTo>
                  <a:cubicBezTo>
                    <a:pt x="526" y="1059"/>
                    <a:pt x="521" y="1052"/>
                    <a:pt x="518" y="1046"/>
                  </a:cubicBezTo>
                  <a:close/>
                  <a:moveTo>
                    <a:pt x="3110" y="2123"/>
                  </a:moveTo>
                  <a:cubicBezTo>
                    <a:pt x="3085" y="2125"/>
                    <a:pt x="3059" y="2120"/>
                    <a:pt x="3029" y="2140"/>
                  </a:cubicBezTo>
                  <a:cubicBezTo>
                    <a:pt x="3046" y="2141"/>
                    <a:pt x="3056" y="2139"/>
                    <a:pt x="3063" y="2142"/>
                  </a:cubicBezTo>
                  <a:cubicBezTo>
                    <a:pt x="3087" y="2153"/>
                    <a:pt x="3100" y="2142"/>
                    <a:pt x="3110" y="2123"/>
                  </a:cubicBezTo>
                  <a:cubicBezTo>
                    <a:pt x="3126" y="2134"/>
                    <a:pt x="3138" y="2156"/>
                    <a:pt x="3164" y="2148"/>
                  </a:cubicBezTo>
                  <a:cubicBezTo>
                    <a:pt x="3150" y="2116"/>
                    <a:pt x="3150" y="2116"/>
                    <a:pt x="3110" y="2123"/>
                  </a:cubicBezTo>
                  <a:close/>
                  <a:moveTo>
                    <a:pt x="1083" y="1042"/>
                  </a:moveTo>
                  <a:cubicBezTo>
                    <a:pt x="1078" y="1014"/>
                    <a:pt x="1054" y="1007"/>
                    <a:pt x="1027" y="991"/>
                  </a:cubicBezTo>
                  <a:cubicBezTo>
                    <a:pt x="1041" y="1022"/>
                    <a:pt x="1055" y="1041"/>
                    <a:pt x="1084" y="1041"/>
                  </a:cubicBezTo>
                  <a:cubicBezTo>
                    <a:pt x="1102" y="1073"/>
                    <a:pt x="1128" y="1097"/>
                    <a:pt x="1159" y="1113"/>
                  </a:cubicBezTo>
                  <a:cubicBezTo>
                    <a:pt x="1161" y="1110"/>
                    <a:pt x="1164" y="1107"/>
                    <a:pt x="1166" y="1104"/>
                  </a:cubicBezTo>
                  <a:cubicBezTo>
                    <a:pt x="1139" y="1084"/>
                    <a:pt x="1111" y="1063"/>
                    <a:pt x="1083" y="1042"/>
                  </a:cubicBezTo>
                  <a:close/>
                  <a:moveTo>
                    <a:pt x="1912" y="2024"/>
                  </a:moveTo>
                  <a:cubicBezTo>
                    <a:pt x="1927" y="2024"/>
                    <a:pt x="1943" y="2025"/>
                    <a:pt x="1958" y="2025"/>
                  </a:cubicBezTo>
                  <a:cubicBezTo>
                    <a:pt x="1973" y="2024"/>
                    <a:pt x="1989" y="2035"/>
                    <a:pt x="2007" y="2026"/>
                  </a:cubicBezTo>
                  <a:cubicBezTo>
                    <a:pt x="1972" y="2004"/>
                    <a:pt x="1941" y="2004"/>
                    <a:pt x="1912" y="2024"/>
                  </a:cubicBezTo>
                  <a:cubicBezTo>
                    <a:pt x="1904" y="2017"/>
                    <a:pt x="1897" y="2011"/>
                    <a:pt x="1878" y="2020"/>
                  </a:cubicBezTo>
                  <a:cubicBezTo>
                    <a:pt x="1895" y="2022"/>
                    <a:pt x="1903" y="2023"/>
                    <a:pt x="1912" y="2024"/>
                  </a:cubicBezTo>
                  <a:close/>
                  <a:moveTo>
                    <a:pt x="2845" y="2495"/>
                  </a:moveTo>
                  <a:cubicBezTo>
                    <a:pt x="2848" y="2507"/>
                    <a:pt x="2852" y="2519"/>
                    <a:pt x="2856" y="2533"/>
                  </a:cubicBezTo>
                  <a:cubicBezTo>
                    <a:pt x="2878" y="2528"/>
                    <a:pt x="2894" y="2521"/>
                    <a:pt x="2893" y="2494"/>
                  </a:cubicBezTo>
                  <a:cubicBezTo>
                    <a:pt x="2884" y="2493"/>
                    <a:pt x="2875" y="2491"/>
                    <a:pt x="2867" y="2490"/>
                  </a:cubicBezTo>
                  <a:cubicBezTo>
                    <a:pt x="2879" y="2480"/>
                    <a:pt x="2895" y="2465"/>
                    <a:pt x="2907" y="2480"/>
                  </a:cubicBezTo>
                  <a:cubicBezTo>
                    <a:pt x="2925" y="2500"/>
                    <a:pt x="2939" y="2491"/>
                    <a:pt x="2956" y="2483"/>
                  </a:cubicBezTo>
                  <a:cubicBezTo>
                    <a:pt x="2964" y="2480"/>
                    <a:pt x="2973" y="2475"/>
                    <a:pt x="2981" y="2476"/>
                  </a:cubicBezTo>
                  <a:cubicBezTo>
                    <a:pt x="3023" y="2480"/>
                    <a:pt x="3065" y="2486"/>
                    <a:pt x="3106" y="2491"/>
                  </a:cubicBezTo>
                  <a:cubicBezTo>
                    <a:pt x="3124" y="2494"/>
                    <a:pt x="3142" y="2499"/>
                    <a:pt x="3160" y="2502"/>
                  </a:cubicBezTo>
                  <a:cubicBezTo>
                    <a:pt x="3187" y="2506"/>
                    <a:pt x="3215" y="2497"/>
                    <a:pt x="3242" y="2513"/>
                  </a:cubicBezTo>
                  <a:cubicBezTo>
                    <a:pt x="3248" y="2516"/>
                    <a:pt x="3260" y="2512"/>
                    <a:pt x="3269" y="2511"/>
                  </a:cubicBezTo>
                  <a:cubicBezTo>
                    <a:pt x="3280" y="2510"/>
                    <a:pt x="3292" y="2507"/>
                    <a:pt x="3304" y="2508"/>
                  </a:cubicBezTo>
                  <a:cubicBezTo>
                    <a:pt x="3359" y="2510"/>
                    <a:pt x="3414" y="2512"/>
                    <a:pt x="3469" y="2515"/>
                  </a:cubicBezTo>
                  <a:cubicBezTo>
                    <a:pt x="3463" y="2504"/>
                    <a:pt x="3455" y="2495"/>
                    <a:pt x="3446" y="2492"/>
                  </a:cubicBezTo>
                  <a:cubicBezTo>
                    <a:pt x="3423" y="2485"/>
                    <a:pt x="3400" y="2480"/>
                    <a:pt x="3377" y="2475"/>
                  </a:cubicBezTo>
                  <a:cubicBezTo>
                    <a:pt x="3375" y="2459"/>
                    <a:pt x="3375" y="2459"/>
                    <a:pt x="3353" y="2468"/>
                  </a:cubicBezTo>
                  <a:cubicBezTo>
                    <a:pt x="3364" y="2471"/>
                    <a:pt x="3371" y="2472"/>
                    <a:pt x="3378" y="2474"/>
                  </a:cubicBezTo>
                  <a:cubicBezTo>
                    <a:pt x="3370" y="2478"/>
                    <a:pt x="3363" y="2485"/>
                    <a:pt x="3355" y="2485"/>
                  </a:cubicBezTo>
                  <a:cubicBezTo>
                    <a:pt x="3313" y="2485"/>
                    <a:pt x="3270" y="2485"/>
                    <a:pt x="3228" y="2482"/>
                  </a:cubicBezTo>
                  <a:cubicBezTo>
                    <a:pt x="3154" y="2477"/>
                    <a:pt x="3080" y="2468"/>
                    <a:pt x="3006" y="2464"/>
                  </a:cubicBezTo>
                  <a:cubicBezTo>
                    <a:pt x="2956" y="2461"/>
                    <a:pt x="2906" y="2464"/>
                    <a:pt x="2856" y="2465"/>
                  </a:cubicBezTo>
                  <a:cubicBezTo>
                    <a:pt x="2853" y="2465"/>
                    <a:pt x="2849" y="2468"/>
                    <a:pt x="2845" y="2470"/>
                  </a:cubicBezTo>
                  <a:cubicBezTo>
                    <a:pt x="2845" y="2480"/>
                    <a:pt x="2845" y="2489"/>
                    <a:pt x="2845" y="2498"/>
                  </a:cubicBezTo>
                  <a:lnTo>
                    <a:pt x="2845" y="2495"/>
                  </a:lnTo>
                  <a:close/>
                  <a:moveTo>
                    <a:pt x="2335" y="3579"/>
                  </a:moveTo>
                  <a:cubicBezTo>
                    <a:pt x="2324" y="3579"/>
                    <a:pt x="2312" y="3579"/>
                    <a:pt x="2300" y="3579"/>
                  </a:cubicBezTo>
                  <a:cubicBezTo>
                    <a:pt x="2315" y="3596"/>
                    <a:pt x="2325" y="3589"/>
                    <a:pt x="2336" y="3579"/>
                  </a:cubicBezTo>
                  <a:cubicBezTo>
                    <a:pt x="2337" y="3587"/>
                    <a:pt x="2335" y="3598"/>
                    <a:pt x="2339" y="3604"/>
                  </a:cubicBezTo>
                  <a:cubicBezTo>
                    <a:pt x="2343" y="3610"/>
                    <a:pt x="2354" y="3614"/>
                    <a:pt x="2361" y="3614"/>
                  </a:cubicBezTo>
                  <a:cubicBezTo>
                    <a:pt x="2366" y="3613"/>
                    <a:pt x="2374" y="3603"/>
                    <a:pt x="2373" y="3598"/>
                  </a:cubicBezTo>
                  <a:cubicBezTo>
                    <a:pt x="2372" y="3591"/>
                    <a:pt x="2365" y="3583"/>
                    <a:pt x="2358" y="3579"/>
                  </a:cubicBezTo>
                  <a:cubicBezTo>
                    <a:pt x="2352" y="3576"/>
                    <a:pt x="2343" y="3579"/>
                    <a:pt x="2335" y="3579"/>
                  </a:cubicBezTo>
                  <a:close/>
                  <a:moveTo>
                    <a:pt x="1839" y="3381"/>
                  </a:moveTo>
                  <a:cubicBezTo>
                    <a:pt x="1809" y="3374"/>
                    <a:pt x="1786" y="3388"/>
                    <a:pt x="1765" y="3408"/>
                  </a:cubicBezTo>
                  <a:cubicBezTo>
                    <a:pt x="1761" y="3412"/>
                    <a:pt x="1764" y="3425"/>
                    <a:pt x="1763" y="3441"/>
                  </a:cubicBezTo>
                  <a:cubicBezTo>
                    <a:pt x="1793" y="3417"/>
                    <a:pt x="1816" y="3399"/>
                    <a:pt x="1838" y="3380"/>
                  </a:cubicBezTo>
                  <a:cubicBezTo>
                    <a:pt x="1854" y="3370"/>
                    <a:pt x="1865" y="3357"/>
                    <a:pt x="1870" y="3331"/>
                  </a:cubicBezTo>
                  <a:cubicBezTo>
                    <a:pt x="1854" y="3344"/>
                    <a:pt x="1842" y="3353"/>
                    <a:pt x="1830" y="3363"/>
                  </a:cubicBezTo>
                  <a:cubicBezTo>
                    <a:pt x="1834" y="3370"/>
                    <a:pt x="1837" y="3375"/>
                    <a:pt x="1839" y="3381"/>
                  </a:cubicBezTo>
                  <a:close/>
                  <a:moveTo>
                    <a:pt x="2028" y="905"/>
                  </a:moveTo>
                  <a:cubicBezTo>
                    <a:pt x="2023" y="898"/>
                    <a:pt x="2017" y="891"/>
                    <a:pt x="2011" y="883"/>
                  </a:cubicBezTo>
                  <a:cubicBezTo>
                    <a:pt x="2010" y="885"/>
                    <a:pt x="2008" y="888"/>
                    <a:pt x="2006" y="890"/>
                  </a:cubicBezTo>
                  <a:cubicBezTo>
                    <a:pt x="2014" y="895"/>
                    <a:pt x="2022" y="899"/>
                    <a:pt x="2029" y="904"/>
                  </a:cubicBezTo>
                  <a:cubicBezTo>
                    <a:pt x="2039" y="944"/>
                    <a:pt x="2074" y="983"/>
                    <a:pt x="2100" y="983"/>
                  </a:cubicBezTo>
                  <a:cubicBezTo>
                    <a:pt x="2077" y="939"/>
                    <a:pt x="2077" y="939"/>
                    <a:pt x="2028" y="905"/>
                  </a:cubicBezTo>
                  <a:close/>
                  <a:moveTo>
                    <a:pt x="379" y="1305"/>
                  </a:moveTo>
                  <a:cubicBezTo>
                    <a:pt x="369" y="1296"/>
                    <a:pt x="359" y="1286"/>
                    <a:pt x="348" y="1275"/>
                  </a:cubicBezTo>
                  <a:cubicBezTo>
                    <a:pt x="341" y="1280"/>
                    <a:pt x="333" y="1285"/>
                    <a:pt x="321" y="1293"/>
                  </a:cubicBezTo>
                  <a:cubicBezTo>
                    <a:pt x="335" y="1301"/>
                    <a:pt x="344" y="1305"/>
                    <a:pt x="355" y="1311"/>
                  </a:cubicBezTo>
                  <a:cubicBezTo>
                    <a:pt x="346" y="1320"/>
                    <a:pt x="340" y="1327"/>
                    <a:pt x="334" y="1334"/>
                  </a:cubicBezTo>
                  <a:cubicBezTo>
                    <a:pt x="357" y="1334"/>
                    <a:pt x="379" y="1333"/>
                    <a:pt x="378" y="1304"/>
                  </a:cubicBezTo>
                  <a:cubicBezTo>
                    <a:pt x="387" y="1313"/>
                    <a:pt x="397" y="1322"/>
                    <a:pt x="408" y="1332"/>
                  </a:cubicBezTo>
                  <a:cubicBezTo>
                    <a:pt x="416" y="1315"/>
                    <a:pt x="420" y="1303"/>
                    <a:pt x="403" y="1295"/>
                  </a:cubicBezTo>
                  <a:cubicBezTo>
                    <a:pt x="391" y="1289"/>
                    <a:pt x="383" y="1293"/>
                    <a:pt x="379" y="1305"/>
                  </a:cubicBezTo>
                  <a:close/>
                  <a:moveTo>
                    <a:pt x="276" y="1665"/>
                  </a:moveTo>
                  <a:cubicBezTo>
                    <a:pt x="289" y="1631"/>
                    <a:pt x="289" y="1615"/>
                    <a:pt x="275" y="1608"/>
                  </a:cubicBezTo>
                  <a:cubicBezTo>
                    <a:pt x="270" y="1610"/>
                    <a:pt x="264" y="1612"/>
                    <a:pt x="259" y="1615"/>
                  </a:cubicBezTo>
                  <a:cubicBezTo>
                    <a:pt x="254" y="1608"/>
                    <a:pt x="248" y="1596"/>
                    <a:pt x="244" y="1597"/>
                  </a:cubicBezTo>
                  <a:cubicBezTo>
                    <a:pt x="227" y="1600"/>
                    <a:pt x="234" y="1615"/>
                    <a:pt x="239" y="1621"/>
                  </a:cubicBezTo>
                  <a:cubicBezTo>
                    <a:pt x="250" y="1636"/>
                    <a:pt x="265" y="1649"/>
                    <a:pt x="279" y="1663"/>
                  </a:cubicBezTo>
                  <a:cubicBezTo>
                    <a:pt x="274" y="1666"/>
                    <a:pt x="264" y="1669"/>
                    <a:pt x="264" y="1672"/>
                  </a:cubicBezTo>
                  <a:cubicBezTo>
                    <a:pt x="264" y="1692"/>
                    <a:pt x="266" y="1712"/>
                    <a:pt x="267" y="1731"/>
                  </a:cubicBezTo>
                  <a:cubicBezTo>
                    <a:pt x="291" y="1724"/>
                    <a:pt x="299" y="1706"/>
                    <a:pt x="294" y="1659"/>
                  </a:cubicBezTo>
                  <a:cubicBezTo>
                    <a:pt x="288" y="1661"/>
                    <a:pt x="282" y="1663"/>
                    <a:pt x="276" y="1665"/>
                  </a:cubicBezTo>
                  <a:close/>
                  <a:moveTo>
                    <a:pt x="1173" y="3830"/>
                  </a:moveTo>
                  <a:cubicBezTo>
                    <a:pt x="1177" y="3833"/>
                    <a:pt x="1183" y="3839"/>
                    <a:pt x="1184" y="3838"/>
                  </a:cubicBezTo>
                  <a:cubicBezTo>
                    <a:pt x="1201" y="3828"/>
                    <a:pt x="1217" y="3817"/>
                    <a:pt x="1233" y="3806"/>
                  </a:cubicBezTo>
                  <a:cubicBezTo>
                    <a:pt x="1237" y="3802"/>
                    <a:pt x="1240" y="3797"/>
                    <a:pt x="1243" y="3792"/>
                  </a:cubicBezTo>
                  <a:cubicBezTo>
                    <a:pt x="1241" y="3789"/>
                    <a:pt x="1240" y="3787"/>
                    <a:pt x="1239" y="3784"/>
                  </a:cubicBezTo>
                  <a:cubicBezTo>
                    <a:pt x="1216" y="3791"/>
                    <a:pt x="1192" y="3797"/>
                    <a:pt x="1169" y="3804"/>
                  </a:cubicBezTo>
                  <a:cubicBezTo>
                    <a:pt x="1171" y="3816"/>
                    <a:pt x="1172" y="3823"/>
                    <a:pt x="1173" y="3831"/>
                  </a:cubicBezTo>
                  <a:cubicBezTo>
                    <a:pt x="1161" y="3822"/>
                    <a:pt x="1152" y="3807"/>
                    <a:pt x="1132" y="3814"/>
                  </a:cubicBezTo>
                  <a:cubicBezTo>
                    <a:pt x="1130" y="3827"/>
                    <a:pt x="1128" y="3840"/>
                    <a:pt x="1125" y="3858"/>
                  </a:cubicBezTo>
                  <a:cubicBezTo>
                    <a:pt x="1145" y="3847"/>
                    <a:pt x="1159" y="3838"/>
                    <a:pt x="1173" y="3830"/>
                  </a:cubicBezTo>
                  <a:close/>
                  <a:moveTo>
                    <a:pt x="2115" y="1177"/>
                  </a:moveTo>
                  <a:cubicBezTo>
                    <a:pt x="2074" y="1122"/>
                    <a:pt x="2064" y="1114"/>
                    <a:pt x="2043" y="1111"/>
                  </a:cubicBezTo>
                  <a:cubicBezTo>
                    <a:pt x="2050" y="1120"/>
                    <a:pt x="2058" y="1128"/>
                    <a:pt x="2063" y="1138"/>
                  </a:cubicBezTo>
                  <a:cubicBezTo>
                    <a:pt x="2075" y="1159"/>
                    <a:pt x="2094" y="1170"/>
                    <a:pt x="2116" y="1176"/>
                  </a:cubicBezTo>
                  <a:cubicBezTo>
                    <a:pt x="2119" y="1186"/>
                    <a:pt x="2118" y="1197"/>
                    <a:pt x="2124" y="1203"/>
                  </a:cubicBezTo>
                  <a:cubicBezTo>
                    <a:pt x="2132" y="1213"/>
                    <a:pt x="2144" y="1218"/>
                    <a:pt x="2155" y="1226"/>
                  </a:cubicBezTo>
                  <a:cubicBezTo>
                    <a:pt x="2174" y="1246"/>
                    <a:pt x="2177" y="1247"/>
                    <a:pt x="2205" y="1238"/>
                  </a:cubicBezTo>
                  <a:cubicBezTo>
                    <a:pt x="2188" y="1234"/>
                    <a:pt x="2171" y="1230"/>
                    <a:pt x="2154" y="1227"/>
                  </a:cubicBezTo>
                  <a:cubicBezTo>
                    <a:pt x="2165" y="1223"/>
                    <a:pt x="2176" y="1219"/>
                    <a:pt x="2187" y="1216"/>
                  </a:cubicBezTo>
                  <a:cubicBezTo>
                    <a:pt x="2200" y="1214"/>
                    <a:pt x="2210" y="1210"/>
                    <a:pt x="2213" y="1190"/>
                  </a:cubicBezTo>
                  <a:cubicBezTo>
                    <a:pt x="2180" y="1211"/>
                    <a:pt x="2153" y="1197"/>
                    <a:pt x="2127" y="1182"/>
                  </a:cubicBezTo>
                  <a:cubicBezTo>
                    <a:pt x="2123" y="1180"/>
                    <a:pt x="2119" y="1179"/>
                    <a:pt x="2115" y="1177"/>
                  </a:cubicBezTo>
                  <a:close/>
                  <a:moveTo>
                    <a:pt x="2340" y="3530"/>
                  </a:moveTo>
                  <a:cubicBezTo>
                    <a:pt x="2353" y="3540"/>
                    <a:pt x="2365" y="3551"/>
                    <a:pt x="2382" y="3566"/>
                  </a:cubicBezTo>
                  <a:cubicBezTo>
                    <a:pt x="2382" y="3533"/>
                    <a:pt x="2358" y="3523"/>
                    <a:pt x="2346" y="3506"/>
                  </a:cubicBezTo>
                  <a:cubicBezTo>
                    <a:pt x="2341" y="3499"/>
                    <a:pt x="2330" y="3495"/>
                    <a:pt x="2321" y="3491"/>
                  </a:cubicBezTo>
                  <a:cubicBezTo>
                    <a:pt x="2319" y="3491"/>
                    <a:pt x="2311" y="3500"/>
                    <a:pt x="2312" y="3502"/>
                  </a:cubicBezTo>
                  <a:cubicBezTo>
                    <a:pt x="2317" y="3511"/>
                    <a:pt x="2324" y="3520"/>
                    <a:pt x="2331" y="3529"/>
                  </a:cubicBezTo>
                  <a:cubicBezTo>
                    <a:pt x="2333" y="3531"/>
                    <a:pt x="2338" y="3530"/>
                    <a:pt x="2342" y="3530"/>
                  </a:cubicBezTo>
                  <a:cubicBezTo>
                    <a:pt x="2336" y="3541"/>
                    <a:pt x="2330" y="3552"/>
                    <a:pt x="2350" y="3559"/>
                  </a:cubicBezTo>
                  <a:cubicBezTo>
                    <a:pt x="2347" y="3549"/>
                    <a:pt x="2343" y="3540"/>
                    <a:pt x="2340" y="3530"/>
                  </a:cubicBezTo>
                  <a:close/>
                  <a:moveTo>
                    <a:pt x="417" y="3164"/>
                  </a:moveTo>
                  <a:cubicBezTo>
                    <a:pt x="422" y="3172"/>
                    <a:pt x="427" y="3180"/>
                    <a:pt x="434" y="3191"/>
                  </a:cubicBezTo>
                  <a:cubicBezTo>
                    <a:pt x="437" y="3181"/>
                    <a:pt x="439" y="3173"/>
                    <a:pt x="441" y="3162"/>
                  </a:cubicBezTo>
                  <a:cubicBezTo>
                    <a:pt x="431" y="3163"/>
                    <a:pt x="423" y="3164"/>
                    <a:pt x="416" y="3165"/>
                  </a:cubicBezTo>
                  <a:cubicBezTo>
                    <a:pt x="415" y="3154"/>
                    <a:pt x="413" y="3144"/>
                    <a:pt x="412" y="3134"/>
                  </a:cubicBezTo>
                  <a:cubicBezTo>
                    <a:pt x="407" y="3097"/>
                    <a:pt x="401" y="3092"/>
                    <a:pt x="361" y="3091"/>
                  </a:cubicBezTo>
                  <a:cubicBezTo>
                    <a:pt x="367" y="3084"/>
                    <a:pt x="373" y="3077"/>
                    <a:pt x="384" y="3064"/>
                  </a:cubicBezTo>
                  <a:cubicBezTo>
                    <a:pt x="366" y="3069"/>
                    <a:pt x="355" y="3072"/>
                    <a:pt x="344" y="3075"/>
                  </a:cubicBezTo>
                  <a:cubicBezTo>
                    <a:pt x="341" y="3059"/>
                    <a:pt x="338" y="3046"/>
                    <a:pt x="335" y="3034"/>
                  </a:cubicBezTo>
                  <a:cubicBezTo>
                    <a:pt x="345" y="3021"/>
                    <a:pt x="368" y="3016"/>
                    <a:pt x="359" y="2992"/>
                  </a:cubicBezTo>
                  <a:cubicBezTo>
                    <a:pt x="334" y="2998"/>
                    <a:pt x="320" y="3014"/>
                    <a:pt x="313" y="3034"/>
                  </a:cubicBezTo>
                  <a:cubicBezTo>
                    <a:pt x="301" y="3065"/>
                    <a:pt x="320" y="3085"/>
                    <a:pt x="362" y="3090"/>
                  </a:cubicBezTo>
                  <a:cubicBezTo>
                    <a:pt x="372" y="3099"/>
                    <a:pt x="382" y="3108"/>
                    <a:pt x="394" y="3120"/>
                  </a:cubicBezTo>
                  <a:cubicBezTo>
                    <a:pt x="384" y="3120"/>
                    <a:pt x="378" y="3120"/>
                    <a:pt x="375" y="3120"/>
                  </a:cubicBezTo>
                  <a:cubicBezTo>
                    <a:pt x="375" y="3140"/>
                    <a:pt x="375" y="3157"/>
                    <a:pt x="375" y="3178"/>
                  </a:cubicBezTo>
                  <a:cubicBezTo>
                    <a:pt x="382" y="3174"/>
                    <a:pt x="388" y="3169"/>
                    <a:pt x="394" y="3167"/>
                  </a:cubicBezTo>
                  <a:cubicBezTo>
                    <a:pt x="401" y="3164"/>
                    <a:pt x="409" y="3165"/>
                    <a:pt x="417" y="3164"/>
                  </a:cubicBezTo>
                  <a:close/>
                  <a:moveTo>
                    <a:pt x="870" y="560"/>
                  </a:moveTo>
                  <a:cubicBezTo>
                    <a:pt x="865" y="553"/>
                    <a:pt x="861" y="547"/>
                    <a:pt x="856" y="540"/>
                  </a:cubicBezTo>
                  <a:cubicBezTo>
                    <a:pt x="836" y="552"/>
                    <a:pt x="821" y="562"/>
                    <a:pt x="800" y="575"/>
                  </a:cubicBezTo>
                  <a:cubicBezTo>
                    <a:pt x="820" y="584"/>
                    <a:pt x="831" y="589"/>
                    <a:pt x="844" y="595"/>
                  </a:cubicBezTo>
                  <a:cubicBezTo>
                    <a:pt x="850" y="567"/>
                    <a:pt x="850" y="567"/>
                    <a:pt x="871" y="559"/>
                  </a:cubicBezTo>
                  <a:cubicBezTo>
                    <a:pt x="877" y="579"/>
                    <a:pt x="883" y="598"/>
                    <a:pt x="891" y="623"/>
                  </a:cubicBezTo>
                  <a:cubicBezTo>
                    <a:pt x="906" y="601"/>
                    <a:pt x="917" y="583"/>
                    <a:pt x="926" y="569"/>
                  </a:cubicBezTo>
                  <a:cubicBezTo>
                    <a:pt x="910" y="558"/>
                    <a:pt x="894" y="548"/>
                    <a:pt x="879" y="539"/>
                  </a:cubicBezTo>
                  <a:cubicBezTo>
                    <a:pt x="877" y="543"/>
                    <a:pt x="873" y="551"/>
                    <a:pt x="870" y="560"/>
                  </a:cubicBezTo>
                  <a:close/>
                  <a:moveTo>
                    <a:pt x="1825" y="1151"/>
                  </a:moveTo>
                  <a:cubicBezTo>
                    <a:pt x="1818" y="1154"/>
                    <a:pt x="1811" y="1157"/>
                    <a:pt x="1804" y="1161"/>
                  </a:cubicBezTo>
                  <a:cubicBezTo>
                    <a:pt x="1841" y="1196"/>
                    <a:pt x="1870" y="1223"/>
                    <a:pt x="1899" y="1250"/>
                  </a:cubicBezTo>
                  <a:cubicBezTo>
                    <a:pt x="1904" y="1290"/>
                    <a:pt x="1933" y="1317"/>
                    <a:pt x="1953" y="1349"/>
                  </a:cubicBezTo>
                  <a:cubicBezTo>
                    <a:pt x="1959" y="1360"/>
                    <a:pt x="1969" y="1369"/>
                    <a:pt x="1974" y="1380"/>
                  </a:cubicBezTo>
                  <a:cubicBezTo>
                    <a:pt x="1988" y="1417"/>
                    <a:pt x="2013" y="1446"/>
                    <a:pt x="2047" y="1460"/>
                  </a:cubicBezTo>
                  <a:cubicBezTo>
                    <a:pt x="2075" y="1473"/>
                    <a:pt x="2110" y="1477"/>
                    <a:pt x="2141" y="1474"/>
                  </a:cubicBezTo>
                  <a:cubicBezTo>
                    <a:pt x="2167" y="1471"/>
                    <a:pt x="2182" y="1479"/>
                    <a:pt x="2201" y="1492"/>
                  </a:cubicBezTo>
                  <a:cubicBezTo>
                    <a:pt x="2167" y="1523"/>
                    <a:pt x="2169" y="1574"/>
                    <a:pt x="2203" y="1601"/>
                  </a:cubicBezTo>
                  <a:cubicBezTo>
                    <a:pt x="2204" y="1601"/>
                    <a:pt x="2206" y="1600"/>
                    <a:pt x="2207" y="1599"/>
                  </a:cubicBezTo>
                  <a:cubicBezTo>
                    <a:pt x="2207" y="1599"/>
                    <a:pt x="2207" y="1599"/>
                    <a:pt x="2207" y="1599"/>
                  </a:cubicBezTo>
                  <a:cubicBezTo>
                    <a:pt x="2211" y="1598"/>
                    <a:pt x="2218" y="1596"/>
                    <a:pt x="2218" y="1596"/>
                  </a:cubicBezTo>
                  <a:cubicBezTo>
                    <a:pt x="2228" y="1623"/>
                    <a:pt x="2241" y="1650"/>
                    <a:pt x="2232" y="1680"/>
                  </a:cubicBezTo>
                  <a:cubicBezTo>
                    <a:pt x="2226" y="1702"/>
                    <a:pt x="2213" y="1723"/>
                    <a:pt x="2214" y="1744"/>
                  </a:cubicBezTo>
                  <a:cubicBezTo>
                    <a:pt x="2216" y="1778"/>
                    <a:pt x="2222" y="1813"/>
                    <a:pt x="2234" y="1844"/>
                  </a:cubicBezTo>
                  <a:cubicBezTo>
                    <a:pt x="2245" y="1873"/>
                    <a:pt x="2238" y="1896"/>
                    <a:pt x="2228" y="1921"/>
                  </a:cubicBezTo>
                  <a:cubicBezTo>
                    <a:pt x="2226" y="1927"/>
                    <a:pt x="2222" y="1934"/>
                    <a:pt x="2218" y="1940"/>
                  </a:cubicBezTo>
                  <a:cubicBezTo>
                    <a:pt x="2220" y="1942"/>
                    <a:pt x="2222" y="1944"/>
                    <a:pt x="2223" y="1947"/>
                  </a:cubicBezTo>
                  <a:cubicBezTo>
                    <a:pt x="2230" y="1944"/>
                    <a:pt x="2241" y="1943"/>
                    <a:pt x="2243" y="1938"/>
                  </a:cubicBezTo>
                  <a:cubicBezTo>
                    <a:pt x="2260" y="1900"/>
                    <a:pt x="2290" y="1889"/>
                    <a:pt x="2328" y="1893"/>
                  </a:cubicBezTo>
                  <a:cubicBezTo>
                    <a:pt x="2339" y="1894"/>
                    <a:pt x="2349" y="1892"/>
                    <a:pt x="2359" y="1891"/>
                  </a:cubicBezTo>
                  <a:cubicBezTo>
                    <a:pt x="2381" y="1888"/>
                    <a:pt x="2404" y="1880"/>
                    <a:pt x="2425" y="1885"/>
                  </a:cubicBezTo>
                  <a:cubicBezTo>
                    <a:pt x="2463" y="1893"/>
                    <a:pt x="2501" y="1892"/>
                    <a:pt x="2537" y="1885"/>
                  </a:cubicBezTo>
                  <a:cubicBezTo>
                    <a:pt x="2583" y="1877"/>
                    <a:pt x="2628" y="1877"/>
                    <a:pt x="2673" y="1883"/>
                  </a:cubicBezTo>
                  <a:cubicBezTo>
                    <a:pt x="2701" y="1887"/>
                    <a:pt x="2719" y="1878"/>
                    <a:pt x="2731" y="1853"/>
                  </a:cubicBezTo>
                  <a:cubicBezTo>
                    <a:pt x="2742" y="1831"/>
                    <a:pt x="2751" y="1807"/>
                    <a:pt x="2761" y="1784"/>
                  </a:cubicBezTo>
                  <a:cubicBezTo>
                    <a:pt x="2779" y="1741"/>
                    <a:pt x="2796" y="1698"/>
                    <a:pt x="2815" y="1655"/>
                  </a:cubicBezTo>
                  <a:cubicBezTo>
                    <a:pt x="2825" y="1632"/>
                    <a:pt x="2838" y="1611"/>
                    <a:pt x="2849" y="1588"/>
                  </a:cubicBezTo>
                  <a:cubicBezTo>
                    <a:pt x="2856" y="1575"/>
                    <a:pt x="2860" y="1561"/>
                    <a:pt x="2868" y="1549"/>
                  </a:cubicBezTo>
                  <a:cubicBezTo>
                    <a:pt x="2933" y="1455"/>
                    <a:pt x="2995" y="1359"/>
                    <a:pt x="3081" y="1282"/>
                  </a:cubicBezTo>
                  <a:cubicBezTo>
                    <a:pt x="3098" y="1268"/>
                    <a:pt x="3113" y="1251"/>
                    <a:pt x="3129" y="1236"/>
                  </a:cubicBezTo>
                  <a:cubicBezTo>
                    <a:pt x="3128" y="1235"/>
                    <a:pt x="3127" y="1233"/>
                    <a:pt x="3127" y="1232"/>
                  </a:cubicBezTo>
                  <a:cubicBezTo>
                    <a:pt x="3118" y="1236"/>
                    <a:pt x="3109" y="1239"/>
                    <a:pt x="3095" y="1244"/>
                  </a:cubicBezTo>
                  <a:cubicBezTo>
                    <a:pt x="3101" y="1228"/>
                    <a:pt x="3105" y="1218"/>
                    <a:pt x="3112" y="1199"/>
                  </a:cubicBezTo>
                  <a:cubicBezTo>
                    <a:pt x="3079" y="1230"/>
                    <a:pt x="3054" y="1255"/>
                    <a:pt x="3029" y="1280"/>
                  </a:cubicBezTo>
                  <a:cubicBezTo>
                    <a:pt x="3025" y="1284"/>
                    <a:pt x="3022" y="1293"/>
                    <a:pt x="3024" y="1298"/>
                  </a:cubicBezTo>
                  <a:cubicBezTo>
                    <a:pt x="3034" y="1318"/>
                    <a:pt x="3020" y="1327"/>
                    <a:pt x="3008" y="1337"/>
                  </a:cubicBezTo>
                  <a:cubicBezTo>
                    <a:pt x="2999" y="1345"/>
                    <a:pt x="2990" y="1353"/>
                    <a:pt x="2983" y="1363"/>
                  </a:cubicBezTo>
                  <a:cubicBezTo>
                    <a:pt x="2959" y="1393"/>
                    <a:pt x="2937" y="1425"/>
                    <a:pt x="2913" y="1455"/>
                  </a:cubicBezTo>
                  <a:cubicBezTo>
                    <a:pt x="2904" y="1466"/>
                    <a:pt x="2893" y="1477"/>
                    <a:pt x="2881" y="1484"/>
                  </a:cubicBezTo>
                  <a:cubicBezTo>
                    <a:pt x="2847" y="1503"/>
                    <a:pt x="2831" y="1530"/>
                    <a:pt x="2834" y="1564"/>
                  </a:cubicBezTo>
                  <a:cubicBezTo>
                    <a:pt x="2788" y="1580"/>
                    <a:pt x="2790" y="1622"/>
                    <a:pt x="2776" y="1655"/>
                  </a:cubicBezTo>
                  <a:cubicBezTo>
                    <a:pt x="2781" y="1656"/>
                    <a:pt x="2785" y="1658"/>
                    <a:pt x="2796" y="1662"/>
                  </a:cubicBezTo>
                  <a:cubicBezTo>
                    <a:pt x="2781" y="1677"/>
                    <a:pt x="2767" y="1691"/>
                    <a:pt x="2754" y="1704"/>
                  </a:cubicBezTo>
                  <a:cubicBezTo>
                    <a:pt x="2754" y="1711"/>
                    <a:pt x="2757" y="1719"/>
                    <a:pt x="2754" y="1726"/>
                  </a:cubicBezTo>
                  <a:cubicBezTo>
                    <a:pt x="2753" y="1731"/>
                    <a:pt x="2740" y="1734"/>
                    <a:pt x="2740" y="1736"/>
                  </a:cubicBezTo>
                  <a:cubicBezTo>
                    <a:pt x="2747" y="1772"/>
                    <a:pt x="2720" y="1788"/>
                    <a:pt x="2702" y="1811"/>
                  </a:cubicBezTo>
                  <a:cubicBezTo>
                    <a:pt x="2681" y="1839"/>
                    <a:pt x="2654" y="1850"/>
                    <a:pt x="2620" y="1850"/>
                  </a:cubicBezTo>
                  <a:cubicBezTo>
                    <a:pt x="2531" y="1850"/>
                    <a:pt x="2442" y="1852"/>
                    <a:pt x="2353" y="1853"/>
                  </a:cubicBezTo>
                  <a:cubicBezTo>
                    <a:pt x="2339" y="1853"/>
                    <a:pt x="2326" y="1853"/>
                    <a:pt x="2313" y="1854"/>
                  </a:cubicBezTo>
                  <a:cubicBezTo>
                    <a:pt x="2264" y="1859"/>
                    <a:pt x="2245" y="1844"/>
                    <a:pt x="2238" y="1796"/>
                  </a:cubicBezTo>
                  <a:cubicBezTo>
                    <a:pt x="2229" y="1734"/>
                    <a:pt x="2271" y="1686"/>
                    <a:pt x="2333" y="1688"/>
                  </a:cubicBezTo>
                  <a:cubicBezTo>
                    <a:pt x="2353" y="1688"/>
                    <a:pt x="2373" y="1693"/>
                    <a:pt x="2392" y="1692"/>
                  </a:cubicBezTo>
                  <a:cubicBezTo>
                    <a:pt x="2418" y="1689"/>
                    <a:pt x="2448" y="1694"/>
                    <a:pt x="2468" y="1668"/>
                  </a:cubicBezTo>
                  <a:cubicBezTo>
                    <a:pt x="2469" y="1666"/>
                    <a:pt x="2473" y="1667"/>
                    <a:pt x="2476" y="1666"/>
                  </a:cubicBezTo>
                  <a:cubicBezTo>
                    <a:pt x="2478" y="1672"/>
                    <a:pt x="2481" y="1679"/>
                    <a:pt x="2483" y="1685"/>
                  </a:cubicBezTo>
                  <a:cubicBezTo>
                    <a:pt x="2497" y="1682"/>
                    <a:pt x="2509" y="1676"/>
                    <a:pt x="2520" y="1677"/>
                  </a:cubicBezTo>
                  <a:cubicBezTo>
                    <a:pt x="2569" y="1682"/>
                    <a:pt x="2586" y="1650"/>
                    <a:pt x="2604" y="1614"/>
                  </a:cubicBezTo>
                  <a:cubicBezTo>
                    <a:pt x="2633" y="1556"/>
                    <a:pt x="2666" y="1499"/>
                    <a:pt x="2698" y="1443"/>
                  </a:cubicBezTo>
                  <a:cubicBezTo>
                    <a:pt x="2749" y="1356"/>
                    <a:pt x="2818" y="1283"/>
                    <a:pt x="2883" y="1206"/>
                  </a:cubicBezTo>
                  <a:cubicBezTo>
                    <a:pt x="2907" y="1178"/>
                    <a:pt x="2931" y="1150"/>
                    <a:pt x="2956" y="1122"/>
                  </a:cubicBezTo>
                  <a:cubicBezTo>
                    <a:pt x="3005" y="1083"/>
                    <a:pt x="3055" y="1044"/>
                    <a:pt x="3104" y="1003"/>
                  </a:cubicBezTo>
                  <a:cubicBezTo>
                    <a:pt x="3115" y="994"/>
                    <a:pt x="3119" y="977"/>
                    <a:pt x="3125" y="965"/>
                  </a:cubicBezTo>
                  <a:cubicBezTo>
                    <a:pt x="3187" y="959"/>
                    <a:pt x="3226" y="918"/>
                    <a:pt x="3268" y="880"/>
                  </a:cubicBezTo>
                  <a:cubicBezTo>
                    <a:pt x="3255" y="863"/>
                    <a:pt x="3245" y="851"/>
                    <a:pt x="3233" y="835"/>
                  </a:cubicBezTo>
                  <a:cubicBezTo>
                    <a:pt x="3196" y="860"/>
                    <a:pt x="3163" y="880"/>
                    <a:pt x="3134" y="903"/>
                  </a:cubicBezTo>
                  <a:cubicBezTo>
                    <a:pt x="3110" y="922"/>
                    <a:pt x="3091" y="947"/>
                    <a:pt x="3068" y="967"/>
                  </a:cubicBezTo>
                  <a:cubicBezTo>
                    <a:pt x="3021" y="1006"/>
                    <a:pt x="2979" y="1049"/>
                    <a:pt x="2943" y="1096"/>
                  </a:cubicBezTo>
                  <a:cubicBezTo>
                    <a:pt x="2948" y="1107"/>
                    <a:pt x="2953" y="1115"/>
                    <a:pt x="2957" y="1124"/>
                  </a:cubicBezTo>
                  <a:cubicBezTo>
                    <a:pt x="2943" y="1120"/>
                    <a:pt x="2929" y="1116"/>
                    <a:pt x="2913" y="1112"/>
                  </a:cubicBezTo>
                  <a:cubicBezTo>
                    <a:pt x="2882" y="1163"/>
                    <a:pt x="2822" y="1187"/>
                    <a:pt x="2796" y="1243"/>
                  </a:cubicBezTo>
                  <a:cubicBezTo>
                    <a:pt x="2801" y="1242"/>
                    <a:pt x="2804" y="1239"/>
                    <a:pt x="2807" y="1238"/>
                  </a:cubicBezTo>
                  <a:cubicBezTo>
                    <a:pt x="2810" y="1235"/>
                    <a:pt x="2815" y="1233"/>
                    <a:pt x="2822" y="1229"/>
                  </a:cubicBezTo>
                  <a:cubicBezTo>
                    <a:pt x="2811" y="1257"/>
                    <a:pt x="2811" y="1259"/>
                    <a:pt x="2798" y="1260"/>
                  </a:cubicBezTo>
                  <a:cubicBezTo>
                    <a:pt x="2760" y="1261"/>
                    <a:pt x="2753" y="1291"/>
                    <a:pt x="2743" y="1317"/>
                  </a:cubicBezTo>
                  <a:cubicBezTo>
                    <a:pt x="2740" y="1323"/>
                    <a:pt x="2740" y="1335"/>
                    <a:pt x="2739" y="1335"/>
                  </a:cubicBezTo>
                  <a:cubicBezTo>
                    <a:pt x="2714" y="1335"/>
                    <a:pt x="2713" y="1360"/>
                    <a:pt x="2702" y="1372"/>
                  </a:cubicBezTo>
                  <a:cubicBezTo>
                    <a:pt x="2674" y="1404"/>
                    <a:pt x="2645" y="1437"/>
                    <a:pt x="2629" y="1475"/>
                  </a:cubicBezTo>
                  <a:cubicBezTo>
                    <a:pt x="2608" y="1526"/>
                    <a:pt x="2573" y="1567"/>
                    <a:pt x="2551" y="1617"/>
                  </a:cubicBezTo>
                  <a:cubicBezTo>
                    <a:pt x="2543" y="1638"/>
                    <a:pt x="2526" y="1649"/>
                    <a:pt x="2501" y="1648"/>
                  </a:cubicBezTo>
                  <a:cubicBezTo>
                    <a:pt x="2473" y="1647"/>
                    <a:pt x="2445" y="1653"/>
                    <a:pt x="2417" y="1653"/>
                  </a:cubicBezTo>
                  <a:cubicBezTo>
                    <a:pt x="2371" y="1653"/>
                    <a:pt x="2324" y="1653"/>
                    <a:pt x="2278" y="1650"/>
                  </a:cubicBezTo>
                  <a:cubicBezTo>
                    <a:pt x="2252" y="1648"/>
                    <a:pt x="2244" y="1637"/>
                    <a:pt x="2243" y="1611"/>
                  </a:cubicBezTo>
                  <a:cubicBezTo>
                    <a:pt x="2242" y="1580"/>
                    <a:pt x="2244" y="1549"/>
                    <a:pt x="2244" y="1519"/>
                  </a:cubicBezTo>
                  <a:cubicBezTo>
                    <a:pt x="2244" y="1512"/>
                    <a:pt x="2246" y="1503"/>
                    <a:pt x="2242" y="1500"/>
                  </a:cubicBezTo>
                  <a:cubicBezTo>
                    <a:pt x="2224" y="1485"/>
                    <a:pt x="2219" y="1465"/>
                    <a:pt x="2218" y="1443"/>
                  </a:cubicBezTo>
                  <a:cubicBezTo>
                    <a:pt x="2251" y="1452"/>
                    <a:pt x="2251" y="1452"/>
                    <a:pt x="2253" y="1489"/>
                  </a:cubicBezTo>
                  <a:cubicBezTo>
                    <a:pt x="2259" y="1488"/>
                    <a:pt x="2266" y="1488"/>
                    <a:pt x="2271" y="1485"/>
                  </a:cubicBezTo>
                  <a:cubicBezTo>
                    <a:pt x="2300" y="1467"/>
                    <a:pt x="2329" y="1460"/>
                    <a:pt x="2363" y="1469"/>
                  </a:cubicBezTo>
                  <a:cubicBezTo>
                    <a:pt x="2379" y="1474"/>
                    <a:pt x="2397" y="1467"/>
                    <a:pt x="2414" y="1467"/>
                  </a:cubicBezTo>
                  <a:cubicBezTo>
                    <a:pt x="2432" y="1467"/>
                    <a:pt x="2443" y="1457"/>
                    <a:pt x="2453" y="1443"/>
                  </a:cubicBezTo>
                  <a:cubicBezTo>
                    <a:pt x="2499" y="1371"/>
                    <a:pt x="2536" y="1295"/>
                    <a:pt x="2591" y="1229"/>
                  </a:cubicBezTo>
                  <a:cubicBezTo>
                    <a:pt x="2626" y="1187"/>
                    <a:pt x="2659" y="1141"/>
                    <a:pt x="2693" y="1097"/>
                  </a:cubicBezTo>
                  <a:cubicBezTo>
                    <a:pt x="2713" y="1071"/>
                    <a:pt x="2734" y="1046"/>
                    <a:pt x="2754" y="1019"/>
                  </a:cubicBezTo>
                  <a:cubicBezTo>
                    <a:pt x="2765" y="1004"/>
                    <a:pt x="2773" y="987"/>
                    <a:pt x="2759" y="970"/>
                  </a:cubicBezTo>
                  <a:cubicBezTo>
                    <a:pt x="2754" y="971"/>
                    <a:pt x="2751" y="971"/>
                    <a:pt x="2750" y="972"/>
                  </a:cubicBezTo>
                  <a:cubicBezTo>
                    <a:pt x="2701" y="1020"/>
                    <a:pt x="2656" y="1070"/>
                    <a:pt x="2621" y="1129"/>
                  </a:cubicBezTo>
                  <a:cubicBezTo>
                    <a:pt x="2616" y="1135"/>
                    <a:pt x="2616" y="1146"/>
                    <a:pt x="2617" y="1154"/>
                  </a:cubicBezTo>
                  <a:cubicBezTo>
                    <a:pt x="2618" y="1169"/>
                    <a:pt x="2610" y="1173"/>
                    <a:pt x="2598" y="1173"/>
                  </a:cubicBezTo>
                  <a:cubicBezTo>
                    <a:pt x="2590" y="1174"/>
                    <a:pt x="2583" y="1173"/>
                    <a:pt x="2573" y="1173"/>
                  </a:cubicBezTo>
                  <a:cubicBezTo>
                    <a:pt x="2573" y="1196"/>
                    <a:pt x="2563" y="1210"/>
                    <a:pt x="2543" y="1220"/>
                  </a:cubicBezTo>
                  <a:cubicBezTo>
                    <a:pt x="2535" y="1224"/>
                    <a:pt x="2531" y="1236"/>
                    <a:pt x="2526" y="1245"/>
                  </a:cubicBezTo>
                  <a:cubicBezTo>
                    <a:pt x="2521" y="1253"/>
                    <a:pt x="2519" y="1263"/>
                    <a:pt x="2513" y="1270"/>
                  </a:cubicBezTo>
                  <a:cubicBezTo>
                    <a:pt x="2488" y="1306"/>
                    <a:pt x="2457" y="1338"/>
                    <a:pt x="2437" y="1377"/>
                  </a:cubicBezTo>
                  <a:cubicBezTo>
                    <a:pt x="2418" y="1414"/>
                    <a:pt x="2390" y="1428"/>
                    <a:pt x="2353" y="1433"/>
                  </a:cubicBezTo>
                  <a:cubicBezTo>
                    <a:pt x="2334" y="1436"/>
                    <a:pt x="2316" y="1439"/>
                    <a:pt x="2297" y="1441"/>
                  </a:cubicBezTo>
                  <a:cubicBezTo>
                    <a:pt x="2257" y="1444"/>
                    <a:pt x="2243" y="1433"/>
                    <a:pt x="2244" y="1391"/>
                  </a:cubicBezTo>
                  <a:cubicBezTo>
                    <a:pt x="2245" y="1341"/>
                    <a:pt x="2250" y="1290"/>
                    <a:pt x="2254" y="1236"/>
                  </a:cubicBezTo>
                  <a:cubicBezTo>
                    <a:pt x="2266" y="1239"/>
                    <a:pt x="2274" y="1242"/>
                    <a:pt x="2281" y="1242"/>
                  </a:cubicBezTo>
                  <a:cubicBezTo>
                    <a:pt x="2299" y="1242"/>
                    <a:pt x="2324" y="1247"/>
                    <a:pt x="2334" y="1238"/>
                  </a:cubicBezTo>
                  <a:cubicBezTo>
                    <a:pt x="2373" y="1197"/>
                    <a:pt x="2419" y="1162"/>
                    <a:pt x="2442" y="1107"/>
                  </a:cubicBezTo>
                  <a:cubicBezTo>
                    <a:pt x="2449" y="1090"/>
                    <a:pt x="2457" y="1071"/>
                    <a:pt x="2470" y="1059"/>
                  </a:cubicBezTo>
                  <a:cubicBezTo>
                    <a:pt x="2523" y="1011"/>
                    <a:pt x="2544" y="938"/>
                    <a:pt x="2601" y="893"/>
                  </a:cubicBezTo>
                  <a:cubicBezTo>
                    <a:pt x="2611" y="885"/>
                    <a:pt x="2618" y="873"/>
                    <a:pt x="2627" y="863"/>
                  </a:cubicBezTo>
                  <a:cubicBezTo>
                    <a:pt x="2647" y="843"/>
                    <a:pt x="2671" y="825"/>
                    <a:pt x="2686" y="801"/>
                  </a:cubicBezTo>
                  <a:cubicBezTo>
                    <a:pt x="2700" y="778"/>
                    <a:pt x="2718" y="764"/>
                    <a:pt x="2740" y="751"/>
                  </a:cubicBezTo>
                  <a:cubicBezTo>
                    <a:pt x="2748" y="747"/>
                    <a:pt x="2758" y="740"/>
                    <a:pt x="2759" y="733"/>
                  </a:cubicBezTo>
                  <a:cubicBezTo>
                    <a:pt x="2764" y="701"/>
                    <a:pt x="2796" y="688"/>
                    <a:pt x="2809" y="661"/>
                  </a:cubicBezTo>
                  <a:cubicBezTo>
                    <a:pt x="2811" y="658"/>
                    <a:pt x="2817" y="655"/>
                    <a:pt x="2819" y="656"/>
                  </a:cubicBezTo>
                  <a:cubicBezTo>
                    <a:pt x="2848" y="666"/>
                    <a:pt x="2834" y="643"/>
                    <a:pt x="2840" y="636"/>
                  </a:cubicBezTo>
                  <a:cubicBezTo>
                    <a:pt x="2833" y="635"/>
                    <a:pt x="2826" y="636"/>
                    <a:pt x="2824" y="633"/>
                  </a:cubicBezTo>
                  <a:cubicBezTo>
                    <a:pt x="2812" y="617"/>
                    <a:pt x="2800" y="619"/>
                    <a:pt x="2787" y="632"/>
                  </a:cubicBezTo>
                  <a:cubicBezTo>
                    <a:pt x="2766" y="652"/>
                    <a:pt x="2742" y="669"/>
                    <a:pt x="2723" y="690"/>
                  </a:cubicBezTo>
                  <a:cubicBezTo>
                    <a:pt x="2680" y="739"/>
                    <a:pt x="2640" y="790"/>
                    <a:pt x="2599" y="840"/>
                  </a:cubicBezTo>
                  <a:cubicBezTo>
                    <a:pt x="2588" y="854"/>
                    <a:pt x="2575" y="865"/>
                    <a:pt x="2565" y="879"/>
                  </a:cubicBezTo>
                  <a:cubicBezTo>
                    <a:pt x="2544" y="905"/>
                    <a:pt x="2519" y="929"/>
                    <a:pt x="2505" y="958"/>
                  </a:cubicBezTo>
                  <a:cubicBezTo>
                    <a:pt x="2493" y="984"/>
                    <a:pt x="2480" y="1005"/>
                    <a:pt x="2460" y="1025"/>
                  </a:cubicBezTo>
                  <a:cubicBezTo>
                    <a:pt x="2430" y="1058"/>
                    <a:pt x="2401" y="1094"/>
                    <a:pt x="2377" y="1131"/>
                  </a:cubicBezTo>
                  <a:cubicBezTo>
                    <a:pt x="2362" y="1154"/>
                    <a:pt x="2344" y="1172"/>
                    <a:pt x="2322" y="1187"/>
                  </a:cubicBezTo>
                  <a:cubicBezTo>
                    <a:pt x="2303" y="1200"/>
                    <a:pt x="2262" y="1202"/>
                    <a:pt x="2245" y="1189"/>
                  </a:cubicBezTo>
                  <a:cubicBezTo>
                    <a:pt x="2240" y="1184"/>
                    <a:pt x="2237" y="1175"/>
                    <a:pt x="2236" y="1168"/>
                  </a:cubicBezTo>
                  <a:cubicBezTo>
                    <a:pt x="2235" y="1152"/>
                    <a:pt x="2236" y="1136"/>
                    <a:pt x="2236" y="1120"/>
                  </a:cubicBezTo>
                  <a:cubicBezTo>
                    <a:pt x="2238" y="1059"/>
                    <a:pt x="2241" y="998"/>
                    <a:pt x="2241" y="937"/>
                  </a:cubicBezTo>
                  <a:cubicBezTo>
                    <a:pt x="2241" y="910"/>
                    <a:pt x="2245" y="890"/>
                    <a:pt x="2273" y="881"/>
                  </a:cubicBezTo>
                  <a:cubicBezTo>
                    <a:pt x="2276" y="880"/>
                    <a:pt x="2278" y="875"/>
                    <a:pt x="2280" y="872"/>
                  </a:cubicBezTo>
                  <a:cubicBezTo>
                    <a:pt x="2277" y="859"/>
                    <a:pt x="2274" y="847"/>
                    <a:pt x="2270" y="832"/>
                  </a:cubicBezTo>
                  <a:cubicBezTo>
                    <a:pt x="2257" y="839"/>
                    <a:pt x="2245" y="845"/>
                    <a:pt x="2234" y="852"/>
                  </a:cubicBezTo>
                  <a:cubicBezTo>
                    <a:pt x="2250" y="816"/>
                    <a:pt x="2230" y="785"/>
                    <a:pt x="2224" y="753"/>
                  </a:cubicBezTo>
                  <a:cubicBezTo>
                    <a:pt x="2218" y="762"/>
                    <a:pt x="2216" y="770"/>
                    <a:pt x="2214" y="779"/>
                  </a:cubicBezTo>
                  <a:cubicBezTo>
                    <a:pt x="2211" y="788"/>
                    <a:pt x="2209" y="797"/>
                    <a:pt x="2206" y="806"/>
                  </a:cubicBezTo>
                  <a:cubicBezTo>
                    <a:pt x="2201" y="825"/>
                    <a:pt x="2189" y="835"/>
                    <a:pt x="2169" y="833"/>
                  </a:cubicBezTo>
                  <a:cubicBezTo>
                    <a:pt x="2163" y="833"/>
                    <a:pt x="2158" y="834"/>
                    <a:pt x="2147" y="834"/>
                  </a:cubicBezTo>
                  <a:cubicBezTo>
                    <a:pt x="2186" y="860"/>
                    <a:pt x="2204" y="862"/>
                    <a:pt x="2235" y="848"/>
                  </a:cubicBezTo>
                  <a:cubicBezTo>
                    <a:pt x="2224" y="890"/>
                    <a:pt x="2216" y="930"/>
                    <a:pt x="2229" y="974"/>
                  </a:cubicBezTo>
                  <a:cubicBezTo>
                    <a:pt x="2236" y="996"/>
                    <a:pt x="2238" y="1022"/>
                    <a:pt x="2233" y="1044"/>
                  </a:cubicBezTo>
                  <a:cubicBezTo>
                    <a:pt x="2220" y="1110"/>
                    <a:pt x="2225" y="1173"/>
                    <a:pt x="2241" y="1238"/>
                  </a:cubicBezTo>
                  <a:cubicBezTo>
                    <a:pt x="2218" y="1267"/>
                    <a:pt x="2210" y="1302"/>
                    <a:pt x="2212" y="1340"/>
                  </a:cubicBezTo>
                  <a:cubicBezTo>
                    <a:pt x="2214" y="1360"/>
                    <a:pt x="2215" y="1380"/>
                    <a:pt x="2211" y="1399"/>
                  </a:cubicBezTo>
                  <a:cubicBezTo>
                    <a:pt x="2209" y="1413"/>
                    <a:pt x="2200" y="1433"/>
                    <a:pt x="2189" y="1438"/>
                  </a:cubicBezTo>
                  <a:cubicBezTo>
                    <a:pt x="2148" y="1456"/>
                    <a:pt x="2103" y="1454"/>
                    <a:pt x="2061" y="1442"/>
                  </a:cubicBezTo>
                  <a:cubicBezTo>
                    <a:pt x="2052" y="1439"/>
                    <a:pt x="2043" y="1429"/>
                    <a:pt x="2037" y="1421"/>
                  </a:cubicBezTo>
                  <a:cubicBezTo>
                    <a:pt x="2014" y="1391"/>
                    <a:pt x="1993" y="1359"/>
                    <a:pt x="1970" y="1328"/>
                  </a:cubicBezTo>
                  <a:cubicBezTo>
                    <a:pt x="1948" y="1301"/>
                    <a:pt x="1931" y="1269"/>
                    <a:pt x="1898" y="1251"/>
                  </a:cubicBezTo>
                  <a:cubicBezTo>
                    <a:pt x="1893" y="1241"/>
                    <a:pt x="1889" y="1229"/>
                    <a:pt x="1882" y="1220"/>
                  </a:cubicBezTo>
                  <a:cubicBezTo>
                    <a:pt x="1864" y="1196"/>
                    <a:pt x="1844" y="1174"/>
                    <a:pt x="1825" y="1151"/>
                  </a:cubicBezTo>
                  <a:cubicBezTo>
                    <a:pt x="1778" y="1101"/>
                    <a:pt x="1731" y="1051"/>
                    <a:pt x="1684" y="1001"/>
                  </a:cubicBezTo>
                  <a:cubicBezTo>
                    <a:pt x="1664" y="968"/>
                    <a:pt x="1640" y="944"/>
                    <a:pt x="1616" y="933"/>
                  </a:cubicBezTo>
                  <a:cubicBezTo>
                    <a:pt x="1624" y="970"/>
                    <a:pt x="1648" y="994"/>
                    <a:pt x="1685" y="1000"/>
                  </a:cubicBezTo>
                  <a:cubicBezTo>
                    <a:pt x="1690" y="1012"/>
                    <a:pt x="1691" y="1026"/>
                    <a:pt x="1699" y="1035"/>
                  </a:cubicBezTo>
                  <a:cubicBezTo>
                    <a:pt x="1731" y="1071"/>
                    <a:pt x="1768" y="1102"/>
                    <a:pt x="1798" y="1139"/>
                  </a:cubicBezTo>
                  <a:cubicBezTo>
                    <a:pt x="1804" y="1146"/>
                    <a:pt x="1816" y="1147"/>
                    <a:pt x="1825" y="1151"/>
                  </a:cubicBezTo>
                  <a:close/>
                  <a:moveTo>
                    <a:pt x="3994" y="1868"/>
                  </a:moveTo>
                  <a:cubicBezTo>
                    <a:pt x="3973" y="1906"/>
                    <a:pt x="3974" y="1920"/>
                    <a:pt x="4000" y="1929"/>
                  </a:cubicBezTo>
                  <a:cubicBezTo>
                    <a:pt x="3998" y="1908"/>
                    <a:pt x="3996" y="1888"/>
                    <a:pt x="3994" y="1867"/>
                  </a:cubicBezTo>
                  <a:cubicBezTo>
                    <a:pt x="3989" y="1852"/>
                    <a:pt x="3982" y="1836"/>
                    <a:pt x="3979" y="1820"/>
                  </a:cubicBezTo>
                  <a:cubicBezTo>
                    <a:pt x="3970" y="1773"/>
                    <a:pt x="3965" y="1726"/>
                    <a:pt x="3934" y="1686"/>
                  </a:cubicBezTo>
                  <a:cubicBezTo>
                    <a:pt x="3933" y="1697"/>
                    <a:pt x="3933" y="1707"/>
                    <a:pt x="3935" y="1716"/>
                  </a:cubicBezTo>
                  <a:cubicBezTo>
                    <a:pt x="3947" y="1761"/>
                    <a:pt x="3960" y="1805"/>
                    <a:pt x="3971" y="1850"/>
                  </a:cubicBezTo>
                  <a:cubicBezTo>
                    <a:pt x="3975" y="1862"/>
                    <a:pt x="3983" y="1867"/>
                    <a:pt x="3994" y="1868"/>
                  </a:cubicBezTo>
                  <a:close/>
                  <a:moveTo>
                    <a:pt x="3438" y="919"/>
                  </a:moveTo>
                  <a:cubicBezTo>
                    <a:pt x="3449" y="894"/>
                    <a:pt x="3445" y="886"/>
                    <a:pt x="3426" y="876"/>
                  </a:cubicBezTo>
                  <a:cubicBezTo>
                    <a:pt x="3414" y="870"/>
                    <a:pt x="3399" y="862"/>
                    <a:pt x="3394" y="850"/>
                  </a:cubicBezTo>
                  <a:cubicBezTo>
                    <a:pt x="3380" y="823"/>
                    <a:pt x="3357" y="816"/>
                    <a:pt x="3324" y="810"/>
                  </a:cubicBezTo>
                  <a:cubicBezTo>
                    <a:pt x="3330" y="821"/>
                    <a:pt x="3332" y="829"/>
                    <a:pt x="3337" y="831"/>
                  </a:cubicBezTo>
                  <a:cubicBezTo>
                    <a:pt x="3369" y="841"/>
                    <a:pt x="3369" y="841"/>
                    <a:pt x="3373" y="874"/>
                  </a:cubicBezTo>
                  <a:cubicBezTo>
                    <a:pt x="3373" y="877"/>
                    <a:pt x="3376" y="880"/>
                    <a:pt x="3378" y="884"/>
                  </a:cubicBezTo>
                  <a:cubicBezTo>
                    <a:pt x="3382" y="880"/>
                    <a:pt x="3385" y="877"/>
                    <a:pt x="3388" y="875"/>
                  </a:cubicBezTo>
                  <a:cubicBezTo>
                    <a:pt x="3397" y="881"/>
                    <a:pt x="3407" y="891"/>
                    <a:pt x="3418" y="893"/>
                  </a:cubicBezTo>
                  <a:cubicBezTo>
                    <a:pt x="3435" y="897"/>
                    <a:pt x="3433" y="910"/>
                    <a:pt x="3438" y="919"/>
                  </a:cubicBezTo>
                  <a:cubicBezTo>
                    <a:pt x="3430" y="914"/>
                    <a:pt x="3423" y="898"/>
                    <a:pt x="3409" y="919"/>
                  </a:cubicBezTo>
                  <a:cubicBezTo>
                    <a:pt x="3421" y="919"/>
                    <a:pt x="3429" y="919"/>
                    <a:pt x="3438" y="919"/>
                  </a:cubicBezTo>
                  <a:close/>
                  <a:moveTo>
                    <a:pt x="1259" y="2825"/>
                  </a:moveTo>
                  <a:cubicBezTo>
                    <a:pt x="1294" y="2801"/>
                    <a:pt x="1291" y="2758"/>
                    <a:pt x="1308" y="2724"/>
                  </a:cubicBezTo>
                  <a:cubicBezTo>
                    <a:pt x="1312" y="2717"/>
                    <a:pt x="1301" y="2700"/>
                    <a:pt x="1295" y="2690"/>
                  </a:cubicBezTo>
                  <a:cubicBezTo>
                    <a:pt x="1287" y="2677"/>
                    <a:pt x="1275" y="2680"/>
                    <a:pt x="1263" y="2685"/>
                  </a:cubicBezTo>
                  <a:cubicBezTo>
                    <a:pt x="1256" y="2681"/>
                    <a:pt x="1248" y="2675"/>
                    <a:pt x="1240" y="2674"/>
                  </a:cubicBezTo>
                  <a:cubicBezTo>
                    <a:pt x="1199" y="2670"/>
                    <a:pt x="1158" y="2665"/>
                    <a:pt x="1117" y="2664"/>
                  </a:cubicBezTo>
                  <a:cubicBezTo>
                    <a:pt x="1081" y="2663"/>
                    <a:pt x="1045" y="2666"/>
                    <a:pt x="1009" y="2668"/>
                  </a:cubicBezTo>
                  <a:cubicBezTo>
                    <a:pt x="1010" y="2669"/>
                    <a:pt x="1010" y="2671"/>
                    <a:pt x="1010" y="2672"/>
                  </a:cubicBezTo>
                  <a:cubicBezTo>
                    <a:pt x="1023" y="2677"/>
                    <a:pt x="1035" y="2682"/>
                    <a:pt x="1048" y="2687"/>
                  </a:cubicBezTo>
                  <a:cubicBezTo>
                    <a:pt x="1078" y="2668"/>
                    <a:pt x="1110" y="2672"/>
                    <a:pt x="1143" y="2679"/>
                  </a:cubicBezTo>
                  <a:cubicBezTo>
                    <a:pt x="1163" y="2683"/>
                    <a:pt x="1184" y="2687"/>
                    <a:pt x="1204" y="2690"/>
                  </a:cubicBezTo>
                  <a:cubicBezTo>
                    <a:pt x="1218" y="2692"/>
                    <a:pt x="1231" y="2694"/>
                    <a:pt x="1247" y="2696"/>
                  </a:cubicBezTo>
                  <a:cubicBezTo>
                    <a:pt x="1250" y="2694"/>
                    <a:pt x="1257" y="2689"/>
                    <a:pt x="1264" y="2684"/>
                  </a:cubicBezTo>
                  <a:cubicBezTo>
                    <a:pt x="1271" y="2692"/>
                    <a:pt x="1278" y="2700"/>
                    <a:pt x="1279" y="2700"/>
                  </a:cubicBezTo>
                  <a:cubicBezTo>
                    <a:pt x="1279" y="2727"/>
                    <a:pt x="1286" y="2751"/>
                    <a:pt x="1277" y="2760"/>
                  </a:cubicBezTo>
                  <a:cubicBezTo>
                    <a:pt x="1258" y="2781"/>
                    <a:pt x="1266" y="2805"/>
                    <a:pt x="1260" y="2826"/>
                  </a:cubicBezTo>
                  <a:cubicBezTo>
                    <a:pt x="1248" y="2824"/>
                    <a:pt x="1242" y="2828"/>
                    <a:pt x="1232" y="2838"/>
                  </a:cubicBezTo>
                  <a:cubicBezTo>
                    <a:pt x="1213" y="2856"/>
                    <a:pt x="1210" y="2853"/>
                    <a:pt x="1229" y="2875"/>
                  </a:cubicBezTo>
                  <a:cubicBezTo>
                    <a:pt x="1239" y="2858"/>
                    <a:pt x="1249" y="2842"/>
                    <a:pt x="1259" y="2825"/>
                  </a:cubicBezTo>
                  <a:close/>
                  <a:moveTo>
                    <a:pt x="2726" y="3528"/>
                  </a:moveTo>
                  <a:cubicBezTo>
                    <a:pt x="2730" y="3493"/>
                    <a:pt x="2723" y="3485"/>
                    <a:pt x="2695" y="3495"/>
                  </a:cubicBezTo>
                  <a:cubicBezTo>
                    <a:pt x="2708" y="3475"/>
                    <a:pt x="2705" y="3460"/>
                    <a:pt x="2688" y="3442"/>
                  </a:cubicBezTo>
                  <a:cubicBezTo>
                    <a:pt x="2662" y="3416"/>
                    <a:pt x="2638" y="3388"/>
                    <a:pt x="2615" y="3359"/>
                  </a:cubicBezTo>
                  <a:cubicBezTo>
                    <a:pt x="2583" y="3318"/>
                    <a:pt x="2553" y="3276"/>
                    <a:pt x="2522" y="3235"/>
                  </a:cubicBezTo>
                  <a:cubicBezTo>
                    <a:pt x="2514" y="3210"/>
                    <a:pt x="2514" y="3210"/>
                    <a:pt x="2491" y="3206"/>
                  </a:cubicBezTo>
                  <a:cubicBezTo>
                    <a:pt x="2502" y="3215"/>
                    <a:pt x="2512" y="3225"/>
                    <a:pt x="2522" y="3234"/>
                  </a:cubicBezTo>
                  <a:cubicBezTo>
                    <a:pt x="2531" y="3256"/>
                    <a:pt x="2538" y="3279"/>
                    <a:pt x="2550" y="3299"/>
                  </a:cubicBezTo>
                  <a:cubicBezTo>
                    <a:pt x="2562" y="3320"/>
                    <a:pt x="2578" y="3340"/>
                    <a:pt x="2594" y="3360"/>
                  </a:cubicBezTo>
                  <a:cubicBezTo>
                    <a:pt x="2606" y="3377"/>
                    <a:pt x="2619" y="3393"/>
                    <a:pt x="2632" y="3409"/>
                  </a:cubicBezTo>
                  <a:cubicBezTo>
                    <a:pt x="2654" y="3437"/>
                    <a:pt x="2675" y="3465"/>
                    <a:pt x="2696" y="3493"/>
                  </a:cubicBezTo>
                  <a:cubicBezTo>
                    <a:pt x="2710" y="3501"/>
                    <a:pt x="2726" y="3508"/>
                    <a:pt x="2726" y="3527"/>
                  </a:cubicBezTo>
                  <a:cubicBezTo>
                    <a:pt x="2746" y="3548"/>
                    <a:pt x="2766" y="3569"/>
                    <a:pt x="2786" y="3589"/>
                  </a:cubicBezTo>
                  <a:cubicBezTo>
                    <a:pt x="2815" y="3618"/>
                    <a:pt x="2844" y="3646"/>
                    <a:pt x="2873" y="3675"/>
                  </a:cubicBezTo>
                  <a:cubicBezTo>
                    <a:pt x="2886" y="3684"/>
                    <a:pt x="2885" y="3709"/>
                    <a:pt x="2909" y="3703"/>
                  </a:cubicBezTo>
                  <a:cubicBezTo>
                    <a:pt x="2896" y="3696"/>
                    <a:pt x="2894" y="3673"/>
                    <a:pt x="2872" y="3676"/>
                  </a:cubicBezTo>
                  <a:cubicBezTo>
                    <a:pt x="2872" y="3670"/>
                    <a:pt x="2873" y="3663"/>
                    <a:pt x="2871" y="3660"/>
                  </a:cubicBezTo>
                  <a:cubicBezTo>
                    <a:pt x="2832" y="3617"/>
                    <a:pt x="2794" y="3574"/>
                    <a:pt x="2754" y="3532"/>
                  </a:cubicBezTo>
                  <a:cubicBezTo>
                    <a:pt x="2749" y="3526"/>
                    <a:pt x="2736" y="3529"/>
                    <a:pt x="2726" y="3528"/>
                  </a:cubicBezTo>
                  <a:close/>
                  <a:moveTo>
                    <a:pt x="1113" y="1852"/>
                  </a:moveTo>
                  <a:cubicBezTo>
                    <a:pt x="1085" y="1852"/>
                    <a:pt x="1057" y="1851"/>
                    <a:pt x="1030" y="1850"/>
                  </a:cubicBezTo>
                  <a:cubicBezTo>
                    <a:pt x="1017" y="1850"/>
                    <a:pt x="1005" y="1850"/>
                    <a:pt x="1007" y="1871"/>
                  </a:cubicBezTo>
                  <a:cubicBezTo>
                    <a:pt x="1044" y="1873"/>
                    <a:pt x="1080" y="1870"/>
                    <a:pt x="1113" y="1852"/>
                  </a:cubicBezTo>
                  <a:cubicBezTo>
                    <a:pt x="1118" y="1872"/>
                    <a:pt x="1131" y="1879"/>
                    <a:pt x="1152" y="1877"/>
                  </a:cubicBezTo>
                  <a:cubicBezTo>
                    <a:pt x="1176" y="1875"/>
                    <a:pt x="1202" y="1873"/>
                    <a:pt x="1225" y="1879"/>
                  </a:cubicBezTo>
                  <a:cubicBezTo>
                    <a:pt x="1251" y="1885"/>
                    <a:pt x="1275" y="1878"/>
                    <a:pt x="1290" y="1846"/>
                  </a:cubicBezTo>
                  <a:cubicBezTo>
                    <a:pt x="1229" y="1862"/>
                    <a:pt x="1171" y="1876"/>
                    <a:pt x="1113" y="1852"/>
                  </a:cubicBezTo>
                  <a:close/>
                  <a:moveTo>
                    <a:pt x="503" y="1492"/>
                  </a:moveTo>
                  <a:cubicBezTo>
                    <a:pt x="510" y="1495"/>
                    <a:pt x="517" y="1498"/>
                    <a:pt x="528" y="1503"/>
                  </a:cubicBezTo>
                  <a:cubicBezTo>
                    <a:pt x="532" y="1485"/>
                    <a:pt x="541" y="1468"/>
                    <a:pt x="540" y="1452"/>
                  </a:cubicBezTo>
                  <a:cubicBezTo>
                    <a:pt x="538" y="1427"/>
                    <a:pt x="548" y="1409"/>
                    <a:pt x="561" y="1390"/>
                  </a:cubicBezTo>
                  <a:cubicBezTo>
                    <a:pt x="571" y="1376"/>
                    <a:pt x="577" y="1361"/>
                    <a:pt x="583" y="1345"/>
                  </a:cubicBezTo>
                  <a:cubicBezTo>
                    <a:pt x="585" y="1341"/>
                    <a:pt x="579" y="1334"/>
                    <a:pt x="576" y="1328"/>
                  </a:cubicBezTo>
                  <a:cubicBezTo>
                    <a:pt x="545" y="1383"/>
                    <a:pt x="522" y="1436"/>
                    <a:pt x="504" y="1493"/>
                  </a:cubicBezTo>
                  <a:cubicBezTo>
                    <a:pt x="478" y="1547"/>
                    <a:pt x="476" y="1560"/>
                    <a:pt x="486" y="1585"/>
                  </a:cubicBezTo>
                  <a:cubicBezTo>
                    <a:pt x="495" y="1555"/>
                    <a:pt x="515" y="1526"/>
                    <a:pt x="503" y="1492"/>
                  </a:cubicBezTo>
                  <a:close/>
                  <a:moveTo>
                    <a:pt x="2387" y="3985"/>
                  </a:moveTo>
                  <a:cubicBezTo>
                    <a:pt x="2404" y="4008"/>
                    <a:pt x="2418" y="4034"/>
                    <a:pt x="2453" y="4035"/>
                  </a:cubicBezTo>
                  <a:cubicBezTo>
                    <a:pt x="2456" y="4017"/>
                    <a:pt x="2458" y="4001"/>
                    <a:pt x="2462" y="3975"/>
                  </a:cubicBezTo>
                  <a:cubicBezTo>
                    <a:pt x="2446" y="3990"/>
                    <a:pt x="2438" y="3999"/>
                    <a:pt x="2431" y="4005"/>
                  </a:cubicBezTo>
                  <a:cubicBezTo>
                    <a:pt x="2414" y="3998"/>
                    <a:pt x="2400" y="3992"/>
                    <a:pt x="2386" y="3986"/>
                  </a:cubicBezTo>
                  <a:cubicBezTo>
                    <a:pt x="2376" y="3958"/>
                    <a:pt x="2396" y="3944"/>
                    <a:pt x="2418" y="3931"/>
                  </a:cubicBezTo>
                  <a:cubicBezTo>
                    <a:pt x="2404" y="3909"/>
                    <a:pt x="2389" y="3894"/>
                    <a:pt x="2363" y="3897"/>
                  </a:cubicBezTo>
                  <a:cubicBezTo>
                    <a:pt x="2354" y="3897"/>
                    <a:pt x="2346" y="3899"/>
                    <a:pt x="2338" y="3901"/>
                  </a:cubicBezTo>
                  <a:cubicBezTo>
                    <a:pt x="2341" y="3910"/>
                    <a:pt x="2343" y="3919"/>
                    <a:pt x="2348" y="3928"/>
                  </a:cubicBezTo>
                  <a:cubicBezTo>
                    <a:pt x="2350" y="3932"/>
                    <a:pt x="2357" y="3934"/>
                    <a:pt x="2363" y="3937"/>
                  </a:cubicBezTo>
                  <a:cubicBezTo>
                    <a:pt x="2355" y="3944"/>
                    <a:pt x="2350" y="3948"/>
                    <a:pt x="2342" y="3955"/>
                  </a:cubicBezTo>
                  <a:cubicBezTo>
                    <a:pt x="2359" y="3966"/>
                    <a:pt x="2373" y="3976"/>
                    <a:pt x="2387" y="3985"/>
                  </a:cubicBezTo>
                  <a:close/>
                  <a:moveTo>
                    <a:pt x="196" y="2466"/>
                  </a:moveTo>
                  <a:cubicBezTo>
                    <a:pt x="191" y="2466"/>
                    <a:pt x="186" y="2466"/>
                    <a:pt x="174" y="2466"/>
                  </a:cubicBezTo>
                  <a:cubicBezTo>
                    <a:pt x="186" y="2483"/>
                    <a:pt x="195" y="2495"/>
                    <a:pt x="203" y="2508"/>
                  </a:cubicBezTo>
                  <a:cubicBezTo>
                    <a:pt x="212" y="2521"/>
                    <a:pt x="221" y="2535"/>
                    <a:pt x="231" y="2550"/>
                  </a:cubicBezTo>
                  <a:cubicBezTo>
                    <a:pt x="239" y="2553"/>
                    <a:pt x="251" y="2557"/>
                    <a:pt x="262" y="2560"/>
                  </a:cubicBezTo>
                  <a:cubicBezTo>
                    <a:pt x="250" y="2570"/>
                    <a:pt x="239" y="2579"/>
                    <a:pt x="228" y="2588"/>
                  </a:cubicBezTo>
                  <a:cubicBezTo>
                    <a:pt x="208" y="2578"/>
                    <a:pt x="191" y="2569"/>
                    <a:pt x="166" y="2556"/>
                  </a:cubicBezTo>
                  <a:cubicBezTo>
                    <a:pt x="174" y="2571"/>
                    <a:pt x="177" y="2577"/>
                    <a:pt x="181" y="2583"/>
                  </a:cubicBezTo>
                  <a:cubicBezTo>
                    <a:pt x="170" y="2590"/>
                    <a:pt x="159" y="2596"/>
                    <a:pt x="149" y="2603"/>
                  </a:cubicBezTo>
                  <a:cubicBezTo>
                    <a:pt x="149" y="2606"/>
                    <a:pt x="148" y="2609"/>
                    <a:pt x="148" y="2612"/>
                  </a:cubicBezTo>
                  <a:cubicBezTo>
                    <a:pt x="169" y="2602"/>
                    <a:pt x="174" y="2613"/>
                    <a:pt x="180" y="2627"/>
                  </a:cubicBezTo>
                  <a:cubicBezTo>
                    <a:pt x="189" y="2651"/>
                    <a:pt x="195" y="2652"/>
                    <a:pt x="216" y="2631"/>
                  </a:cubicBezTo>
                  <a:cubicBezTo>
                    <a:pt x="221" y="2643"/>
                    <a:pt x="225" y="2656"/>
                    <a:pt x="231" y="2672"/>
                  </a:cubicBezTo>
                  <a:cubicBezTo>
                    <a:pt x="242" y="2649"/>
                    <a:pt x="250" y="2631"/>
                    <a:pt x="258" y="2614"/>
                  </a:cubicBezTo>
                  <a:cubicBezTo>
                    <a:pt x="269" y="2618"/>
                    <a:pt x="275" y="2621"/>
                    <a:pt x="282" y="2624"/>
                  </a:cubicBezTo>
                  <a:cubicBezTo>
                    <a:pt x="288" y="2590"/>
                    <a:pt x="288" y="2590"/>
                    <a:pt x="260" y="2561"/>
                  </a:cubicBezTo>
                  <a:cubicBezTo>
                    <a:pt x="271" y="2555"/>
                    <a:pt x="275" y="2547"/>
                    <a:pt x="264" y="2539"/>
                  </a:cubicBezTo>
                  <a:cubicBezTo>
                    <a:pt x="245" y="2526"/>
                    <a:pt x="247" y="2509"/>
                    <a:pt x="254" y="2490"/>
                  </a:cubicBezTo>
                  <a:cubicBezTo>
                    <a:pt x="260" y="2476"/>
                    <a:pt x="265" y="2462"/>
                    <a:pt x="247" y="2450"/>
                  </a:cubicBezTo>
                  <a:cubicBezTo>
                    <a:pt x="242" y="2456"/>
                    <a:pt x="236" y="2461"/>
                    <a:pt x="232" y="2467"/>
                  </a:cubicBezTo>
                  <a:cubicBezTo>
                    <a:pt x="218" y="2486"/>
                    <a:pt x="206" y="2483"/>
                    <a:pt x="195" y="2465"/>
                  </a:cubicBezTo>
                  <a:cubicBezTo>
                    <a:pt x="204" y="2463"/>
                    <a:pt x="212" y="2460"/>
                    <a:pt x="230" y="2454"/>
                  </a:cubicBezTo>
                  <a:cubicBezTo>
                    <a:pt x="211" y="2438"/>
                    <a:pt x="199" y="2428"/>
                    <a:pt x="187" y="2418"/>
                  </a:cubicBezTo>
                  <a:cubicBezTo>
                    <a:pt x="187" y="2399"/>
                    <a:pt x="181" y="2376"/>
                    <a:pt x="210" y="2372"/>
                  </a:cubicBezTo>
                  <a:cubicBezTo>
                    <a:pt x="204" y="2381"/>
                    <a:pt x="193" y="2388"/>
                    <a:pt x="207" y="2407"/>
                  </a:cubicBezTo>
                  <a:cubicBezTo>
                    <a:pt x="208" y="2391"/>
                    <a:pt x="209" y="2382"/>
                    <a:pt x="210" y="2372"/>
                  </a:cubicBezTo>
                  <a:cubicBezTo>
                    <a:pt x="211" y="2370"/>
                    <a:pt x="211" y="2368"/>
                    <a:pt x="212" y="2366"/>
                  </a:cubicBezTo>
                  <a:cubicBezTo>
                    <a:pt x="212" y="2365"/>
                    <a:pt x="215" y="2365"/>
                    <a:pt x="216" y="2366"/>
                  </a:cubicBezTo>
                  <a:cubicBezTo>
                    <a:pt x="227" y="2378"/>
                    <a:pt x="238" y="2390"/>
                    <a:pt x="255" y="2407"/>
                  </a:cubicBezTo>
                  <a:cubicBezTo>
                    <a:pt x="263" y="2384"/>
                    <a:pt x="269" y="2367"/>
                    <a:pt x="276" y="2348"/>
                  </a:cubicBezTo>
                  <a:cubicBezTo>
                    <a:pt x="263" y="2344"/>
                    <a:pt x="255" y="2342"/>
                    <a:pt x="248" y="2339"/>
                  </a:cubicBezTo>
                  <a:cubicBezTo>
                    <a:pt x="240" y="2335"/>
                    <a:pt x="232" y="2330"/>
                    <a:pt x="224" y="2325"/>
                  </a:cubicBezTo>
                  <a:cubicBezTo>
                    <a:pt x="225" y="2315"/>
                    <a:pt x="226" y="2306"/>
                    <a:pt x="228" y="2297"/>
                  </a:cubicBezTo>
                  <a:cubicBezTo>
                    <a:pt x="235" y="2297"/>
                    <a:pt x="243" y="2299"/>
                    <a:pt x="247" y="2296"/>
                  </a:cubicBezTo>
                  <a:cubicBezTo>
                    <a:pt x="261" y="2286"/>
                    <a:pt x="274" y="2241"/>
                    <a:pt x="265" y="2225"/>
                  </a:cubicBezTo>
                  <a:cubicBezTo>
                    <a:pt x="258" y="2213"/>
                    <a:pt x="264" y="2207"/>
                    <a:pt x="268" y="2197"/>
                  </a:cubicBezTo>
                  <a:cubicBezTo>
                    <a:pt x="292" y="2144"/>
                    <a:pt x="300" y="2090"/>
                    <a:pt x="268" y="2029"/>
                  </a:cubicBezTo>
                  <a:cubicBezTo>
                    <a:pt x="258" y="2044"/>
                    <a:pt x="251" y="2056"/>
                    <a:pt x="245" y="2068"/>
                  </a:cubicBezTo>
                  <a:cubicBezTo>
                    <a:pt x="239" y="2079"/>
                    <a:pt x="234" y="2086"/>
                    <a:pt x="220" y="2080"/>
                  </a:cubicBezTo>
                  <a:cubicBezTo>
                    <a:pt x="212" y="2070"/>
                    <a:pt x="203" y="2066"/>
                    <a:pt x="189" y="2071"/>
                  </a:cubicBezTo>
                  <a:cubicBezTo>
                    <a:pt x="193" y="2079"/>
                    <a:pt x="196" y="2085"/>
                    <a:pt x="201" y="2094"/>
                  </a:cubicBezTo>
                  <a:cubicBezTo>
                    <a:pt x="209" y="2088"/>
                    <a:pt x="215" y="2083"/>
                    <a:pt x="221" y="2078"/>
                  </a:cubicBezTo>
                  <a:cubicBezTo>
                    <a:pt x="218" y="2084"/>
                    <a:pt x="216" y="2091"/>
                    <a:pt x="212" y="2096"/>
                  </a:cubicBezTo>
                  <a:cubicBezTo>
                    <a:pt x="184" y="2130"/>
                    <a:pt x="167" y="2167"/>
                    <a:pt x="176" y="2213"/>
                  </a:cubicBezTo>
                  <a:cubicBezTo>
                    <a:pt x="160" y="2212"/>
                    <a:pt x="145" y="2209"/>
                    <a:pt x="131" y="2211"/>
                  </a:cubicBezTo>
                  <a:cubicBezTo>
                    <a:pt x="111" y="2213"/>
                    <a:pt x="103" y="2233"/>
                    <a:pt x="115" y="2249"/>
                  </a:cubicBezTo>
                  <a:cubicBezTo>
                    <a:pt x="117" y="2252"/>
                    <a:pt x="127" y="2255"/>
                    <a:pt x="131" y="2253"/>
                  </a:cubicBezTo>
                  <a:cubicBezTo>
                    <a:pt x="154" y="2241"/>
                    <a:pt x="169" y="2238"/>
                    <a:pt x="196" y="2243"/>
                  </a:cubicBezTo>
                  <a:cubicBezTo>
                    <a:pt x="196" y="2270"/>
                    <a:pt x="196" y="2297"/>
                    <a:pt x="196" y="2325"/>
                  </a:cubicBezTo>
                  <a:cubicBezTo>
                    <a:pt x="185" y="2328"/>
                    <a:pt x="175" y="2331"/>
                    <a:pt x="164" y="2334"/>
                  </a:cubicBezTo>
                  <a:cubicBezTo>
                    <a:pt x="167" y="2361"/>
                    <a:pt x="170" y="2386"/>
                    <a:pt x="174" y="2411"/>
                  </a:cubicBezTo>
                  <a:cubicBezTo>
                    <a:pt x="174" y="2414"/>
                    <a:pt x="183" y="2415"/>
                    <a:pt x="188" y="2416"/>
                  </a:cubicBezTo>
                  <a:cubicBezTo>
                    <a:pt x="190" y="2433"/>
                    <a:pt x="193" y="2450"/>
                    <a:pt x="196" y="2466"/>
                  </a:cubicBezTo>
                  <a:close/>
                  <a:moveTo>
                    <a:pt x="1948" y="2885"/>
                  </a:moveTo>
                  <a:cubicBezTo>
                    <a:pt x="1949" y="2885"/>
                    <a:pt x="1950" y="2886"/>
                    <a:pt x="1951" y="2886"/>
                  </a:cubicBezTo>
                  <a:cubicBezTo>
                    <a:pt x="1967" y="2881"/>
                    <a:pt x="1986" y="2868"/>
                    <a:pt x="1999" y="2873"/>
                  </a:cubicBezTo>
                  <a:cubicBezTo>
                    <a:pt x="2026" y="2882"/>
                    <a:pt x="2048" y="2876"/>
                    <a:pt x="2072" y="2866"/>
                  </a:cubicBezTo>
                  <a:cubicBezTo>
                    <a:pt x="2078" y="2864"/>
                    <a:pt x="2086" y="2860"/>
                    <a:pt x="2090" y="2863"/>
                  </a:cubicBezTo>
                  <a:cubicBezTo>
                    <a:pt x="2121" y="2881"/>
                    <a:pt x="2145" y="2870"/>
                    <a:pt x="2172" y="2844"/>
                  </a:cubicBezTo>
                  <a:cubicBezTo>
                    <a:pt x="2126" y="2846"/>
                    <a:pt x="2085" y="2849"/>
                    <a:pt x="2045" y="2850"/>
                  </a:cubicBezTo>
                  <a:cubicBezTo>
                    <a:pt x="2003" y="2851"/>
                    <a:pt x="1961" y="2846"/>
                    <a:pt x="1921" y="2864"/>
                  </a:cubicBezTo>
                  <a:cubicBezTo>
                    <a:pt x="1923" y="2870"/>
                    <a:pt x="1923" y="2872"/>
                    <a:pt x="1924" y="2872"/>
                  </a:cubicBezTo>
                  <a:cubicBezTo>
                    <a:pt x="1932" y="2877"/>
                    <a:pt x="1940" y="2881"/>
                    <a:pt x="1948" y="2885"/>
                  </a:cubicBezTo>
                  <a:close/>
                  <a:moveTo>
                    <a:pt x="1699" y="1922"/>
                  </a:moveTo>
                  <a:cubicBezTo>
                    <a:pt x="1698" y="1908"/>
                    <a:pt x="1696" y="1893"/>
                    <a:pt x="1676" y="1887"/>
                  </a:cubicBezTo>
                  <a:cubicBezTo>
                    <a:pt x="1673" y="1907"/>
                    <a:pt x="1681" y="1918"/>
                    <a:pt x="1700" y="1922"/>
                  </a:cubicBezTo>
                  <a:cubicBezTo>
                    <a:pt x="1693" y="1927"/>
                    <a:pt x="1686" y="1933"/>
                    <a:pt x="1680" y="1938"/>
                  </a:cubicBezTo>
                  <a:cubicBezTo>
                    <a:pt x="1680" y="1951"/>
                    <a:pt x="1681" y="1963"/>
                    <a:pt x="1681" y="1976"/>
                  </a:cubicBezTo>
                  <a:cubicBezTo>
                    <a:pt x="1687" y="1977"/>
                    <a:pt x="1694" y="1979"/>
                    <a:pt x="1699" y="1980"/>
                  </a:cubicBezTo>
                  <a:cubicBezTo>
                    <a:pt x="1701" y="1991"/>
                    <a:pt x="1704" y="2002"/>
                    <a:pt x="1706" y="2016"/>
                  </a:cubicBezTo>
                  <a:cubicBezTo>
                    <a:pt x="1732" y="1992"/>
                    <a:pt x="1770" y="2007"/>
                    <a:pt x="1790" y="1981"/>
                  </a:cubicBezTo>
                  <a:cubicBezTo>
                    <a:pt x="1758" y="1961"/>
                    <a:pt x="1728" y="1942"/>
                    <a:pt x="1699" y="1922"/>
                  </a:cubicBezTo>
                  <a:close/>
                  <a:moveTo>
                    <a:pt x="241" y="1917"/>
                  </a:moveTo>
                  <a:cubicBezTo>
                    <a:pt x="260" y="1879"/>
                    <a:pt x="259" y="1877"/>
                    <a:pt x="219" y="1865"/>
                  </a:cubicBezTo>
                  <a:cubicBezTo>
                    <a:pt x="214" y="1879"/>
                    <a:pt x="211" y="1895"/>
                    <a:pt x="202" y="1908"/>
                  </a:cubicBezTo>
                  <a:cubicBezTo>
                    <a:pt x="187" y="1929"/>
                    <a:pt x="213" y="1935"/>
                    <a:pt x="218" y="1953"/>
                  </a:cubicBezTo>
                  <a:cubicBezTo>
                    <a:pt x="203" y="1953"/>
                    <a:pt x="192" y="1953"/>
                    <a:pt x="179" y="1953"/>
                  </a:cubicBezTo>
                  <a:cubicBezTo>
                    <a:pt x="202" y="1984"/>
                    <a:pt x="202" y="1984"/>
                    <a:pt x="198" y="2024"/>
                  </a:cubicBezTo>
                  <a:cubicBezTo>
                    <a:pt x="230" y="1992"/>
                    <a:pt x="236" y="1954"/>
                    <a:pt x="241" y="1916"/>
                  </a:cubicBezTo>
                  <a:lnTo>
                    <a:pt x="241" y="1917"/>
                  </a:lnTo>
                  <a:close/>
                  <a:moveTo>
                    <a:pt x="2731" y="2034"/>
                  </a:moveTo>
                  <a:cubicBezTo>
                    <a:pt x="2758" y="2032"/>
                    <a:pt x="2759" y="2014"/>
                    <a:pt x="2758" y="1994"/>
                  </a:cubicBezTo>
                  <a:cubicBezTo>
                    <a:pt x="2758" y="1979"/>
                    <a:pt x="2756" y="1964"/>
                    <a:pt x="2755" y="1952"/>
                  </a:cubicBezTo>
                  <a:cubicBezTo>
                    <a:pt x="2727" y="1953"/>
                    <a:pt x="2697" y="1954"/>
                    <a:pt x="2668" y="1958"/>
                  </a:cubicBezTo>
                  <a:cubicBezTo>
                    <a:pt x="2653" y="1960"/>
                    <a:pt x="2632" y="1962"/>
                    <a:pt x="2635" y="1983"/>
                  </a:cubicBezTo>
                  <a:cubicBezTo>
                    <a:pt x="2670" y="2002"/>
                    <a:pt x="2701" y="2018"/>
                    <a:pt x="2732" y="2035"/>
                  </a:cubicBezTo>
                  <a:cubicBezTo>
                    <a:pt x="2723" y="2033"/>
                    <a:pt x="2714" y="2032"/>
                    <a:pt x="2705" y="2030"/>
                  </a:cubicBezTo>
                  <a:cubicBezTo>
                    <a:pt x="2704" y="2032"/>
                    <a:pt x="2703" y="2035"/>
                    <a:pt x="2702" y="2037"/>
                  </a:cubicBezTo>
                  <a:cubicBezTo>
                    <a:pt x="2708" y="2043"/>
                    <a:pt x="2715" y="2049"/>
                    <a:pt x="2724" y="2057"/>
                  </a:cubicBezTo>
                  <a:cubicBezTo>
                    <a:pt x="2727" y="2046"/>
                    <a:pt x="2729" y="2040"/>
                    <a:pt x="2731" y="2034"/>
                  </a:cubicBezTo>
                  <a:close/>
                  <a:moveTo>
                    <a:pt x="1711" y="1352"/>
                  </a:moveTo>
                  <a:cubicBezTo>
                    <a:pt x="1721" y="1338"/>
                    <a:pt x="1710" y="1327"/>
                    <a:pt x="1703" y="1317"/>
                  </a:cubicBezTo>
                  <a:cubicBezTo>
                    <a:pt x="1682" y="1288"/>
                    <a:pt x="1660" y="1260"/>
                    <a:pt x="1637" y="1232"/>
                  </a:cubicBezTo>
                  <a:cubicBezTo>
                    <a:pt x="1632" y="1226"/>
                    <a:pt x="1625" y="1222"/>
                    <a:pt x="1618" y="1217"/>
                  </a:cubicBezTo>
                  <a:cubicBezTo>
                    <a:pt x="1619" y="1233"/>
                    <a:pt x="1624" y="1245"/>
                    <a:pt x="1632" y="1255"/>
                  </a:cubicBezTo>
                  <a:cubicBezTo>
                    <a:pt x="1658" y="1288"/>
                    <a:pt x="1685" y="1320"/>
                    <a:pt x="1712" y="1352"/>
                  </a:cubicBezTo>
                  <a:cubicBezTo>
                    <a:pt x="1711" y="1352"/>
                    <a:pt x="1710" y="1351"/>
                    <a:pt x="1709" y="1352"/>
                  </a:cubicBezTo>
                  <a:cubicBezTo>
                    <a:pt x="1707" y="1352"/>
                    <a:pt x="1706" y="1354"/>
                    <a:pt x="1706" y="1355"/>
                  </a:cubicBezTo>
                  <a:cubicBezTo>
                    <a:pt x="1713" y="1368"/>
                    <a:pt x="1719" y="1383"/>
                    <a:pt x="1729" y="1395"/>
                  </a:cubicBezTo>
                  <a:cubicBezTo>
                    <a:pt x="1739" y="1409"/>
                    <a:pt x="1774" y="1465"/>
                    <a:pt x="1782" y="1480"/>
                  </a:cubicBezTo>
                  <a:cubicBezTo>
                    <a:pt x="1800" y="1511"/>
                    <a:pt x="1820" y="1540"/>
                    <a:pt x="1840" y="1570"/>
                  </a:cubicBezTo>
                  <a:cubicBezTo>
                    <a:pt x="1842" y="1572"/>
                    <a:pt x="1847" y="1572"/>
                    <a:pt x="1851" y="1573"/>
                  </a:cubicBezTo>
                  <a:cubicBezTo>
                    <a:pt x="1849" y="1577"/>
                    <a:pt x="1844" y="1584"/>
                    <a:pt x="1845" y="1586"/>
                  </a:cubicBezTo>
                  <a:cubicBezTo>
                    <a:pt x="1862" y="1614"/>
                    <a:pt x="1880" y="1643"/>
                    <a:pt x="1899" y="1670"/>
                  </a:cubicBezTo>
                  <a:cubicBezTo>
                    <a:pt x="1904" y="1677"/>
                    <a:pt x="1921" y="1687"/>
                    <a:pt x="1925" y="1685"/>
                  </a:cubicBezTo>
                  <a:cubicBezTo>
                    <a:pt x="1947" y="1670"/>
                    <a:pt x="1966" y="1688"/>
                    <a:pt x="1986" y="1688"/>
                  </a:cubicBezTo>
                  <a:cubicBezTo>
                    <a:pt x="2026" y="1687"/>
                    <a:pt x="2066" y="1690"/>
                    <a:pt x="2105" y="1684"/>
                  </a:cubicBezTo>
                  <a:cubicBezTo>
                    <a:pt x="2123" y="1681"/>
                    <a:pt x="2138" y="1678"/>
                    <a:pt x="2154" y="1687"/>
                  </a:cubicBezTo>
                  <a:cubicBezTo>
                    <a:pt x="2155" y="1688"/>
                    <a:pt x="2159" y="1685"/>
                    <a:pt x="2162" y="1684"/>
                  </a:cubicBezTo>
                  <a:cubicBezTo>
                    <a:pt x="2161" y="1679"/>
                    <a:pt x="2159" y="1673"/>
                    <a:pt x="2157" y="1664"/>
                  </a:cubicBezTo>
                  <a:cubicBezTo>
                    <a:pt x="2169" y="1665"/>
                    <a:pt x="2181" y="1666"/>
                    <a:pt x="2192" y="1667"/>
                  </a:cubicBezTo>
                  <a:cubicBezTo>
                    <a:pt x="2188" y="1687"/>
                    <a:pt x="2192" y="1699"/>
                    <a:pt x="2217" y="1700"/>
                  </a:cubicBezTo>
                  <a:cubicBezTo>
                    <a:pt x="2214" y="1678"/>
                    <a:pt x="2212" y="1657"/>
                    <a:pt x="2210" y="1640"/>
                  </a:cubicBezTo>
                  <a:cubicBezTo>
                    <a:pt x="2176" y="1646"/>
                    <a:pt x="2146" y="1654"/>
                    <a:pt x="2116" y="1656"/>
                  </a:cubicBezTo>
                  <a:cubicBezTo>
                    <a:pt x="2079" y="1659"/>
                    <a:pt x="2042" y="1657"/>
                    <a:pt x="2005" y="1657"/>
                  </a:cubicBezTo>
                  <a:cubicBezTo>
                    <a:pt x="1986" y="1656"/>
                    <a:pt x="1968" y="1654"/>
                    <a:pt x="1949" y="1652"/>
                  </a:cubicBezTo>
                  <a:cubicBezTo>
                    <a:pt x="1925" y="1650"/>
                    <a:pt x="1908" y="1639"/>
                    <a:pt x="1896" y="1616"/>
                  </a:cubicBezTo>
                  <a:cubicBezTo>
                    <a:pt x="1888" y="1599"/>
                    <a:pt x="1879" y="1577"/>
                    <a:pt x="1854" y="1575"/>
                  </a:cubicBezTo>
                  <a:cubicBezTo>
                    <a:pt x="1866" y="1556"/>
                    <a:pt x="1852" y="1542"/>
                    <a:pt x="1844" y="1528"/>
                  </a:cubicBezTo>
                  <a:cubicBezTo>
                    <a:pt x="1814" y="1478"/>
                    <a:pt x="1785" y="1427"/>
                    <a:pt x="1754" y="1378"/>
                  </a:cubicBezTo>
                  <a:cubicBezTo>
                    <a:pt x="1745" y="1363"/>
                    <a:pt x="1735" y="1344"/>
                    <a:pt x="1711" y="1352"/>
                  </a:cubicBezTo>
                  <a:close/>
                  <a:moveTo>
                    <a:pt x="836" y="3232"/>
                  </a:moveTo>
                  <a:cubicBezTo>
                    <a:pt x="837" y="3246"/>
                    <a:pt x="843" y="3256"/>
                    <a:pt x="857" y="3254"/>
                  </a:cubicBezTo>
                  <a:cubicBezTo>
                    <a:pt x="868" y="3252"/>
                    <a:pt x="876" y="3245"/>
                    <a:pt x="873" y="3230"/>
                  </a:cubicBezTo>
                  <a:cubicBezTo>
                    <a:pt x="860" y="3231"/>
                    <a:pt x="847" y="3232"/>
                    <a:pt x="835" y="3233"/>
                  </a:cubicBezTo>
                  <a:cubicBezTo>
                    <a:pt x="830" y="3225"/>
                    <a:pt x="827" y="3217"/>
                    <a:pt x="821" y="3210"/>
                  </a:cubicBezTo>
                  <a:cubicBezTo>
                    <a:pt x="805" y="3189"/>
                    <a:pt x="786" y="3170"/>
                    <a:pt x="772" y="3147"/>
                  </a:cubicBezTo>
                  <a:cubicBezTo>
                    <a:pt x="758" y="3125"/>
                    <a:pt x="731" y="3114"/>
                    <a:pt x="729" y="3089"/>
                  </a:cubicBezTo>
                  <a:cubicBezTo>
                    <a:pt x="718" y="3098"/>
                    <a:pt x="707" y="3107"/>
                    <a:pt x="697" y="3115"/>
                  </a:cubicBezTo>
                  <a:cubicBezTo>
                    <a:pt x="722" y="3141"/>
                    <a:pt x="722" y="3141"/>
                    <a:pt x="726" y="3178"/>
                  </a:cubicBezTo>
                  <a:cubicBezTo>
                    <a:pt x="729" y="3213"/>
                    <a:pt x="736" y="3216"/>
                    <a:pt x="766" y="3196"/>
                  </a:cubicBezTo>
                  <a:cubicBezTo>
                    <a:pt x="770" y="3194"/>
                    <a:pt x="774" y="3193"/>
                    <a:pt x="777" y="3191"/>
                  </a:cubicBezTo>
                  <a:cubicBezTo>
                    <a:pt x="779" y="3194"/>
                    <a:pt x="782" y="3196"/>
                    <a:pt x="782" y="3198"/>
                  </a:cubicBezTo>
                  <a:cubicBezTo>
                    <a:pt x="786" y="3229"/>
                    <a:pt x="786" y="3229"/>
                    <a:pt x="817" y="3227"/>
                  </a:cubicBezTo>
                  <a:cubicBezTo>
                    <a:pt x="823" y="3226"/>
                    <a:pt x="830" y="3230"/>
                    <a:pt x="836" y="3232"/>
                  </a:cubicBezTo>
                  <a:close/>
                  <a:moveTo>
                    <a:pt x="1493" y="1392"/>
                  </a:moveTo>
                  <a:cubicBezTo>
                    <a:pt x="1491" y="1401"/>
                    <a:pt x="1489" y="1412"/>
                    <a:pt x="1506" y="1412"/>
                  </a:cubicBezTo>
                  <a:cubicBezTo>
                    <a:pt x="1501" y="1405"/>
                    <a:pt x="1497" y="1399"/>
                    <a:pt x="1492" y="1392"/>
                  </a:cubicBezTo>
                  <a:cubicBezTo>
                    <a:pt x="1484" y="1381"/>
                    <a:pt x="1476" y="1368"/>
                    <a:pt x="1466" y="1358"/>
                  </a:cubicBezTo>
                  <a:cubicBezTo>
                    <a:pt x="1434" y="1323"/>
                    <a:pt x="1400" y="1289"/>
                    <a:pt x="1368" y="1254"/>
                  </a:cubicBezTo>
                  <a:cubicBezTo>
                    <a:pt x="1327" y="1211"/>
                    <a:pt x="1286" y="1167"/>
                    <a:pt x="1245" y="1123"/>
                  </a:cubicBezTo>
                  <a:cubicBezTo>
                    <a:pt x="1240" y="1118"/>
                    <a:pt x="1233" y="1116"/>
                    <a:pt x="1226" y="1112"/>
                  </a:cubicBezTo>
                  <a:cubicBezTo>
                    <a:pt x="1224" y="1114"/>
                    <a:pt x="1222" y="1115"/>
                    <a:pt x="1219" y="1117"/>
                  </a:cubicBezTo>
                  <a:cubicBezTo>
                    <a:pt x="1223" y="1128"/>
                    <a:pt x="1225" y="1142"/>
                    <a:pt x="1232" y="1150"/>
                  </a:cubicBezTo>
                  <a:cubicBezTo>
                    <a:pt x="1252" y="1173"/>
                    <a:pt x="1274" y="1195"/>
                    <a:pt x="1297" y="1214"/>
                  </a:cubicBezTo>
                  <a:cubicBezTo>
                    <a:pt x="1353" y="1258"/>
                    <a:pt x="1400" y="1310"/>
                    <a:pt x="1443" y="1366"/>
                  </a:cubicBezTo>
                  <a:cubicBezTo>
                    <a:pt x="1455" y="1382"/>
                    <a:pt x="1470" y="1395"/>
                    <a:pt x="1493" y="1392"/>
                  </a:cubicBezTo>
                  <a:close/>
                  <a:moveTo>
                    <a:pt x="460" y="3266"/>
                  </a:moveTo>
                  <a:cubicBezTo>
                    <a:pt x="453" y="3277"/>
                    <a:pt x="449" y="3291"/>
                    <a:pt x="439" y="3298"/>
                  </a:cubicBezTo>
                  <a:cubicBezTo>
                    <a:pt x="431" y="3303"/>
                    <a:pt x="417" y="3299"/>
                    <a:pt x="404" y="3299"/>
                  </a:cubicBezTo>
                  <a:cubicBezTo>
                    <a:pt x="428" y="3330"/>
                    <a:pt x="448" y="3335"/>
                    <a:pt x="490" y="3319"/>
                  </a:cubicBezTo>
                  <a:cubicBezTo>
                    <a:pt x="509" y="3340"/>
                    <a:pt x="529" y="3362"/>
                    <a:pt x="547" y="3382"/>
                  </a:cubicBezTo>
                  <a:cubicBezTo>
                    <a:pt x="536" y="3396"/>
                    <a:pt x="521" y="3408"/>
                    <a:pt x="522" y="3414"/>
                  </a:cubicBezTo>
                  <a:cubicBezTo>
                    <a:pt x="528" y="3431"/>
                    <a:pt x="545" y="3437"/>
                    <a:pt x="567" y="3438"/>
                  </a:cubicBezTo>
                  <a:cubicBezTo>
                    <a:pt x="564" y="3426"/>
                    <a:pt x="562" y="3418"/>
                    <a:pt x="560" y="3409"/>
                  </a:cubicBezTo>
                  <a:cubicBezTo>
                    <a:pt x="569" y="3406"/>
                    <a:pt x="576" y="3404"/>
                    <a:pt x="583" y="3401"/>
                  </a:cubicBezTo>
                  <a:cubicBezTo>
                    <a:pt x="569" y="3360"/>
                    <a:pt x="542" y="3329"/>
                    <a:pt x="506" y="3306"/>
                  </a:cubicBezTo>
                  <a:cubicBezTo>
                    <a:pt x="489" y="3295"/>
                    <a:pt x="474" y="3279"/>
                    <a:pt x="459" y="3265"/>
                  </a:cubicBezTo>
                  <a:cubicBezTo>
                    <a:pt x="469" y="3264"/>
                    <a:pt x="479" y="3263"/>
                    <a:pt x="490" y="3262"/>
                  </a:cubicBezTo>
                  <a:cubicBezTo>
                    <a:pt x="474" y="3224"/>
                    <a:pt x="467" y="3217"/>
                    <a:pt x="449" y="3219"/>
                  </a:cubicBezTo>
                  <a:cubicBezTo>
                    <a:pt x="433" y="3222"/>
                    <a:pt x="422" y="3230"/>
                    <a:pt x="423" y="3248"/>
                  </a:cubicBezTo>
                  <a:cubicBezTo>
                    <a:pt x="423" y="3250"/>
                    <a:pt x="426" y="3252"/>
                    <a:pt x="428" y="3254"/>
                  </a:cubicBezTo>
                  <a:cubicBezTo>
                    <a:pt x="435" y="3248"/>
                    <a:pt x="441" y="3243"/>
                    <a:pt x="453" y="3233"/>
                  </a:cubicBezTo>
                  <a:cubicBezTo>
                    <a:pt x="456" y="3247"/>
                    <a:pt x="458" y="3257"/>
                    <a:pt x="460" y="3266"/>
                  </a:cubicBezTo>
                  <a:close/>
                  <a:moveTo>
                    <a:pt x="1518" y="670"/>
                  </a:moveTo>
                  <a:cubicBezTo>
                    <a:pt x="1527" y="639"/>
                    <a:pt x="1526" y="637"/>
                    <a:pt x="1497" y="619"/>
                  </a:cubicBezTo>
                  <a:cubicBezTo>
                    <a:pt x="1488" y="642"/>
                    <a:pt x="1513" y="652"/>
                    <a:pt x="1518" y="669"/>
                  </a:cubicBezTo>
                  <a:cubicBezTo>
                    <a:pt x="1541" y="695"/>
                    <a:pt x="1563" y="721"/>
                    <a:pt x="1585" y="747"/>
                  </a:cubicBezTo>
                  <a:cubicBezTo>
                    <a:pt x="1598" y="762"/>
                    <a:pt x="1614" y="777"/>
                    <a:pt x="1621" y="794"/>
                  </a:cubicBezTo>
                  <a:cubicBezTo>
                    <a:pt x="1628" y="812"/>
                    <a:pt x="1637" y="825"/>
                    <a:pt x="1653" y="836"/>
                  </a:cubicBezTo>
                  <a:cubicBezTo>
                    <a:pt x="1671" y="849"/>
                    <a:pt x="1690" y="860"/>
                    <a:pt x="1699" y="884"/>
                  </a:cubicBezTo>
                  <a:cubicBezTo>
                    <a:pt x="1705" y="899"/>
                    <a:pt x="1724" y="909"/>
                    <a:pt x="1737" y="922"/>
                  </a:cubicBezTo>
                  <a:cubicBezTo>
                    <a:pt x="1744" y="911"/>
                    <a:pt x="1747" y="902"/>
                    <a:pt x="1744" y="898"/>
                  </a:cubicBezTo>
                  <a:cubicBezTo>
                    <a:pt x="1716" y="861"/>
                    <a:pt x="1690" y="822"/>
                    <a:pt x="1659" y="788"/>
                  </a:cubicBezTo>
                  <a:cubicBezTo>
                    <a:pt x="1622" y="750"/>
                    <a:pt x="1581" y="716"/>
                    <a:pt x="1542" y="681"/>
                  </a:cubicBezTo>
                  <a:cubicBezTo>
                    <a:pt x="1535" y="676"/>
                    <a:pt x="1526" y="674"/>
                    <a:pt x="1518" y="670"/>
                  </a:cubicBezTo>
                  <a:close/>
                  <a:moveTo>
                    <a:pt x="436" y="1113"/>
                  </a:moveTo>
                  <a:cubicBezTo>
                    <a:pt x="434" y="1110"/>
                    <a:pt x="432" y="1105"/>
                    <a:pt x="429" y="1104"/>
                  </a:cubicBezTo>
                  <a:cubicBezTo>
                    <a:pt x="426" y="1102"/>
                    <a:pt x="420" y="1102"/>
                    <a:pt x="416" y="1102"/>
                  </a:cubicBezTo>
                  <a:cubicBezTo>
                    <a:pt x="415" y="1102"/>
                    <a:pt x="414" y="1105"/>
                    <a:pt x="414" y="1106"/>
                  </a:cubicBezTo>
                  <a:cubicBezTo>
                    <a:pt x="418" y="1108"/>
                    <a:pt x="421" y="1112"/>
                    <a:pt x="425" y="1113"/>
                  </a:cubicBezTo>
                  <a:cubicBezTo>
                    <a:pt x="429" y="1114"/>
                    <a:pt x="433" y="1113"/>
                    <a:pt x="437" y="1112"/>
                  </a:cubicBezTo>
                  <a:cubicBezTo>
                    <a:pt x="426" y="1126"/>
                    <a:pt x="415" y="1140"/>
                    <a:pt x="404" y="1154"/>
                  </a:cubicBezTo>
                  <a:cubicBezTo>
                    <a:pt x="391" y="1145"/>
                    <a:pt x="378" y="1137"/>
                    <a:pt x="365" y="1128"/>
                  </a:cubicBezTo>
                  <a:cubicBezTo>
                    <a:pt x="368" y="1158"/>
                    <a:pt x="391" y="1146"/>
                    <a:pt x="405" y="1153"/>
                  </a:cubicBezTo>
                  <a:cubicBezTo>
                    <a:pt x="402" y="1170"/>
                    <a:pt x="400" y="1187"/>
                    <a:pt x="397" y="1206"/>
                  </a:cubicBezTo>
                  <a:cubicBezTo>
                    <a:pt x="389" y="1203"/>
                    <a:pt x="386" y="1201"/>
                    <a:pt x="382" y="1200"/>
                  </a:cubicBezTo>
                  <a:cubicBezTo>
                    <a:pt x="379" y="1199"/>
                    <a:pt x="375" y="1200"/>
                    <a:pt x="371" y="1200"/>
                  </a:cubicBezTo>
                  <a:cubicBezTo>
                    <a:pt x="383" y="1257"/>
                    <a:pt x="383" y="1257"/>
                    <a:pt x="443" y="1260"/>
                  </a:cubicBezTo>
                  <a:cubicBezTo>
                    <a:pt x="443" y="1222"/>
                    <a:pt x="498" y="1203"/>
                    <a:pt x="482" y="1156"/>
                  </a:cubicBezTo>
                  <a:cubicBezTo>
                    <a:pt x="463" y="1165"/>
                    <a:pt x="448" y="1172"/>
                    <a:pt x="433" y="1179"/>
                  </a:cubicBezTo>
                  <a:cubicBezTo>
                    <a:pt x="431" y="1165"/>
                    <a:pt x="433" y="1156"/>
                    <a:pt x="438" y="1150"/>
                  </a:cubicBezTo>
                  <a:cubicBezTo>
                    <a:pt x="447" y="1136"/>
                    <a:pt x="445" y="1125"/>
                    <a:pt x="436" y="1113"/>
                  </a:cubicBezTo>
                  <a:close/>
                  <a:moveTo>
                    <a:pt x="3169" y="3610"/>
                  </a:moveTo>
                  <a:cubicBezTo>
                    <a:pt x="3183" y="3630"/>
                    <a:pt x="3190" y="3658"/>
                    <a:pt x="3225" y="3652"/>
                  </a:cubicBezTo>
                  <a:cubicBezTo>
                    <a:pt x="3205" y="3640"/>
                    <a:pt x="3198" y="3610"/>
                    <a:pt x="3168" y="3611"/>
                  </a:cubicBezTo>
                  <a:cubicBezTo>
                    <a:pt x="3134" y="3582"/>
                    <a:pt x="3098" y="3556"/>
                    <a:pt x="3066" y="3524"/>
                  </a:cubicBezTo>
                  <a:cubicBezTo>
                    <a:pt x="2981" y="3439"/>
                    <a:pt x="2898" y="3353"/>
                    <a:pt x="2813" y="3267"/>
                  </a:cubicBezTo>
                  <a:cubicBezTo>
                    <a:pt x="2808" y="3262"/>
                    <a:pt x="2800" y="3262"/>
                    <a:pt x="2793" y="3259"/>
                  </a:cubicBezTo>
                  <a:cubicBezTo>
                    <a:pt x="2791" y="3250"/>
                    <a:pt x="2791" y="3240"/>
                    <a:pt x="2786" y="3233"/>
                  </a:cubicBezTo>
                  <a:cubicBezTo>
                    <a:pt x="2770" y="3212"/>
                    <a:pt x="2753" y="3191"/>
                    <a:pt x="2735" y="3171"/>
                  </a:cubicBezTo>
                  <a:cubicBezTo>
                    <a:pt x="2719" y="3154"/>
                    <a:pt x="2702" y="3138"/>
                    <a:pt x="2698" y="3112"/>
                  </a:cubicBezTo>
                  <a:cubicBezTo>
                    <a:pt x="2697" y="3105"/>
                    <a:pt x="2693" y="3095"/>
                    <a:pt x="2687" y="3092"/>
                  </a:cubicBezTo>
                  <a:cubicBezTo>
                    <a:pt x="2655" y="3072"/>
                    <a:pt x="2646" y="3037"/>
                    <a:pt x="2628" y="3009"/>
                  </a:cubicBezTo>
                  <a:cubicBezTo>
                    <a:pt x="2608" y="2978"/>
                    <a:pt x="2595" y="2943"/>
                    <a:pt x="2577" y="2910"/>
                  </a:cubicBezTo>
                  <a:cubicBezTo>
                    <a:pt x="2567" y="2892"/>
                    <a:pt x="2556" y="2873"/>
                    <a:pt x="2530" y="2874"/>
                  </a:cubicBezTo>
                  <a:cubicBezTo>
                    <a:pt x="2522" y="2868"/>
                    <a:pt x="2514" y="2859"/>
                    <a:pt x="2505" y="2858"/>
                  </a:cubicBezTo>
                  <a:cubicBezTo>
                    <a:pt x="2479" y="2854"/>
                    <a:pt x="2452" y="2852"/>
                    <a:pt x="2426" y="2850"/>
                  </a:cubicBezTo>
                  <a:cubicBezTo>
                    <a:pt x="2377" y="2847"/>
                    <a:pt x="2328" y="2845"/>
                    <a:pt x="2279" y="2841"/>
                  </a:cubicBezTo>
                  <a:cubicBezTo>
                    <a:pt x="2245" y="2839"/>
                    <a:pt x="2238" y="2829"/>
                    <a:pt x="2236" y="2797"/>
                  </a:cubicBezTo>
                  <a:cubicBezTo>
                    <a:pt x="2235" y="2785"/>
                    <a:pt x="2231" y="2772"/>
                    <a:pt x="2233" y="2761"/>
                  </a:cubicBezTo>
                  <a:cubicBezTo>
                    <a:pt x="2236" y="2740"/>
                    <a:pt x="2240" y="2719"/>
                    <a:pt x="2249" y="2701"/>
                  </a:cubicBezTo>
                  <a:cubicBezTo>
                    <a:pt x="2254" y="2692"/>
                    <a:pt x="2272" y="2692"/>
                    <a:pt x="2284" y="2686"/>
                  </a:cubicBezTo>
                  <a:cubicBezTo>
                    <a:pt x="2306" y="2675"/>
                    <a:pt x="2329" y="2678"/>
                    <a:pt x="2353" y="2679"/>
                  </a:cubicBezTo>
                  <a:cubicBezTo>
                    <a:pt x="2397" y="2682"/>
                    <a:pt x="2441" y="2680"/>
                    <a:pt x="2485" y="2679"/>
                  </a:cubicBezTo>
                  <a:cubicBezTo>
                    <a:pt x="2539" y="2677"/>
                    <a:pt x="2593" y="2674"/>
                    <a:pt x="2648" y="2674"/>
                  </a:cubicBezTo>
                  <a:cubicBezTo>
                    <a:pt x="2659" y="2674"/>
                    <a:pt x="2671" y="2683"/>
                    <a:pt x="2682" y="2690"/>
                  </a:cubicBezTo>
                  <a:cubicBezTo>
                    <a:pt x="2708" y="2707"/>
                    <a:pt x="2710" y="2739"/>
                    <a:pt x="2725" y="2765"/>
                  </a:cubicBezTo>
                  <a:cubicBezTo>
                    <a:pt x="2743" y="2796"/>
                    <a:pt x="2757" y="2830"/>
                    <a:pt x="2774" y="2863"/>
                  </a:cubicBezTo>
                  <a:cubicBezTo>
                    <a:pt x="2780" y="2877"/>
                    <a:pt x="2790" y="2884"/>
                    <a:pt x="2806" y="2879"/>
                  </a:cubicBezTo>
                  <a:cubicBezTo>
                    <a:pt x="2796" y="2893"/>
                    <a:pt x="2797" y="2905"/>
                    <a:pt x="2806" y="2919"/>
                  </a:cubicBezTo>
                  <a:cubicBezTo>
                    <a:pt x="2825" y="2948"/>
                    <a:pt x="2842" y="2978"/>
                    <a:pt x="2861" y="3007"/>
                  </a:cubicBezTo>
                  <a:cubicBezTo>
                    <a:pt x="2896" y="3061"/>
                    <a:pt x="2928" y="3118"/>
                    <a:pt x="2969" y="3168"/>
                  </a:cubicBezTo>
                  <a:cubicBezTo>
                    <a:pt x="3022" y="3233"/>
                    <a:pt x="3079" y="3294"/>
                    <a:pt x="3139" y="3352"/>
                  </a:cubicBezTo>
                  <a:cubicBezTo>
                    <a:pt x="3186" y="3399"/>
                    <a:pt x="3238" y="3441"/>
                    <a:pt x="3288" y="3484"/>
                  </a:cubicBezTo>
                  <a:cubicBezTo>
                    <a:pt x="3301" y="3495"/>
                    <a:pt x="3316" y="3501"/>
                    <a:pt x="3336" y="3496"/>
                  </a:cubicBezTo>
                  <a:cubicBezTo>
                    <a:pt x="3281" y="3448"/>
                    <a:pt x="3230" y="3403"/>
                    <a:pt x="3179" y="3357"/>
                  </a:cubicBezTo>
                  <a:cubicBezTo>
                    <a:pt x="3149" y="3330"/>
                    <a:pt x="3119" y="3303"/>
                    <a:pt x="3090" y="3274"/>
                  </a:cubicBezTo>
                  <a:cubicBezTo>
                    <a:pt x="3062" y="3246"/>
                    <a:pt x="3035" y="3216"/>
                    <a:pt x="3009" y="3187"/>
                  </a:cubicBezTo>
                  <a:cubicBezTo>
                    <a:pt x="2984" y="3159"/>
                    <a:pt x="2956" y="3133"/>
                    <a:pt x="2936" y="3102"/>
                  </a:cubicBezTo>
                  <a:cubicBezTo>
                    <a:pt x="2895" y="3034"/>
                    <a:pt x="2847" y="2970"/>
                    <a:pt x="2816" y="2896"/>
                  </a:cubicBezTo>
                  <a:cubicBezTo>
                    <a:pt x="2814" y="2890"/>
                    <a:pt x="2809" y="2885"/>
                    <a:pt x="2805" y="2880"/>
                  </a:cubicBezTo>
                  <a:cubicBezTo>
                    <a:pt x="2792" y="2850"/>
                    <a:pt x="2779" y="2819"/>
                    <a:pt x="2765" y="2790"/>
                  </a:cubicBezTo>
                  <a:cubicBezTo>
                    <a:pt x="2755" y="2768"/>
                    <a:pt x="2740" y="2748"/>
                    <a:pt x="2731" y="2727"/>
                  </a:cubicBezTo>
                  <a:cubicBezTo>
                    <a:pt x="2712" y="2682"/>
                    <a:pt x="2686" y="2649"/>
                    <a:pt x="2633" y="2648"/>
                  </a:cubicBezTo>
                  <a:cubicBezTo>
                    <a:pt x="2613" y="2648"/>
                    <a:pt x="2586" y="2642"/>
                    <a:pt x="2575" y="2652"/>
                  </a:cubicBezTo>
                  <a:cubicBezTo>
                    <a:pt x="2556" y="2670"/>
                    <a:pt x="2544" y="2662"/>
                    <a:pt x="2526" y="2655"/>
                  </a:cubicBezTo>
                  <a:cubicBezTo>
                    <a:pt x="2534" y="2652"/>
                    <a:pt x="2540" y="2649"/>
                    <a:pt x="2546" y="2647"/>
                  </a:cubicBezTo>
                  <a:cubicBezTo>
                    <a:pt x="2509" y="2642"/>
                    <a:pt x="2474" y="2623"/>
                    <a:pt x="2438" y="2639"/>
                  </a:cubicBezTo>
                  <a:cubicBezTo>
                    <a:pt x="2436" y="2640"/>
                    <a:pt x="2435" y="2639"/>
                    <a:pt x="2434" y="2640"/>
                  </a:cubicBezTo>
                  <a:cubicBezTo>
                    <a:pt x="2380" y="2649"/>
                    <a:pt x="2325" y="2646"/>
                    <a:pt x="2271" y="2644"/>
                  </a:cubicBezTo>
                  <a:cubicBezTo>
                    <a:pt x="2250" y="2644"/>
                    <a:pt x="2242" y="2632"/>
                    <a:pt x="2239" y="2616"/>
                  </a:cubicBezTo>
                  <a:cubicBezTo>
                    <a:pt x="2232" y="2568"/>
                    <a:pt x="2231" y="2521"/>
                    <a:pt x="2259" y="2479"/>
                  </a:cubicBezTo>
                  <a:cubicBezTo>
                    <a:pt x="2297" y="2479"/>
                    <a:pt x="2332" y="2479"/>
                    <a:pt x="2368" y="2479"/>
                  </a:cubicBezTo>
                  <a:cubicBezTo>
                    <a:pt x="2374" y="2479"/>
                    <a:pt x="2381" y="2480"/>
                    <a:pt x="2388" y="2479"/>
                  </a:cubicBezTo>
                  <a:cubicBezTo>
                    <a:pt x="2430" y="2473"/>
                    <a:pt x="2471" y="2467"/>
                    <a:pt x="2514" y="2479"/>
                  </a:cubicBezTo>
                  <a:cubicBezTo>
                    <a:pt x="2527" y="2482"/>
                    <a:pt x="2542" y="2478"/>
                    <a:pt x="2557" y="2475"/>
                  </a:cubicBezTo>
                  <a:cubicBezTo>
                    <a:pt x="2572" y="2473"/>
                    <a:pt x="2588" y="2464"/>
                    <a:pt x="2603" y="2465"/>
                  </a:cubicBezTo>
                  <a:cubicBezTo>
                    <a:pt x="2631" y="2469"/>
                    <a:pt x="2656" y="2457"/>
                    <a:pt x="2682" y="2450"/>
                  </a:cubicBezTo>
                  <a:cubicBezTo>
                    <a:pt x="2716" y="2441"/>
                    <a:pt x="2725" y="2431"/>
                    <a:pt x="2728" y="2396"/>
                  </a:cubicBezTo>
                  <a:cubicBezTo>
                    <a:pt x="2729" y="2380"/>
                    <a:pt x="2731" y="2364"/>
                    <a:pt x="2734" y="2348"/>
                  </a:cubicBezTo>
                  <a:cubicBezTo>
                    <a:pt x="2742" y="2306"/>
                    <a:pt x="2763" y="2289"/>
                    <a:pt x="2807" y="2289"/>
                  </a:cubicBezTo>
                  <a:cubicBezTo>
                    <a:pt x="2821" y="2289"/>
                    <a:pt x="2836" y="2287"/>
                    <a:pt x="2850" y="2285"/>
                  </a:cubicBezTo>
                  <a:cubicBezTo>
                    <a:pt x="2865" y="2282"/>
                    <a:pt x="2880" y="2278"/>
                    <a:pt x="2896" y="2275"/>
                  </a:cubicBezTo>
                  <a:cubicBezTo>
                    <a:pt x="2909" y="2273"/>
                    <a:pt x="2927" y="2264"/>
                    <a:pt x="2935" y="2270"/>
                  </a:cubicBezTo>
                  <a:cubicBezTo>
                    <a:pt x="2958" y="2286"/>
                    <a:pt x="2983" y="2275"/>
                    <a:pt x="3006" y="2281"/>
                  </a:cubicBezTo>
                  <a:cubicBezTo>
                    <a:pt x="3019" y="2285"/>
                    <a:pt x="3035" y="2287"/>
                    <a:pt x="3045" y="2282"/>
                  </a:cubicBezTo>
                  <a:cubicBezTo>
                    <a:pt x="3068" y="2269"/>
                    <a:pt x="3088" y="2276"/>
                    <a:pt x="3109" y="2284"/>
                  </a:cubicBezTo>
                  <a:cubicBezTo>
                    <a:pt x="3119" y="2288"/>
                    <a:pt x="3132" y="2288"/>
                    <a:pt x="3143" y="2288"/>
                  </a:cubicBezTo>
                  <a:cubicBezTo>
                    <a:pt x="3151" y="2288"/>
                    <a:pt x="3159" y="2284"/>
                    <a:pt x="3167" y="2285"/>
                  </a:cubicBezTo>
                  <a:cubicBezTo>
                    <a:pt x="3209" y="2292"/>
                    <a:pt x="3251" y="2296"/>
                    <a:pt x="3293" y="2297"/>
                  </a:cubicBezTo>
                  <a:cubicBezTo>
                    <a:pt x="3342" y="2299"/>
                    <a:pt x="3391" y="2304"/>
                    <a:pt x="3440" y="2308"/>
                  </a:cubicBezTo>
                  <a:cubicBezTo>
                    <a:pt x="3461" y="2310"/>
                    <a:pt x="3474" y="2301"/>
                    <a:pt x="3483" y="2288"/>
                  </a:cubicBezTo>
                  <a:cubicBezTo>
                    <a:pt x="3441" y="2288"/>
                    <a:pt x="3399" y="2291"/>
                    <a:pt x="3358" y="2288"/>
                  </a:cubicBezTo>
                  <a:cubicBezTo>
                    <a:pt x="3275" y="2282"/>
                    <a:pt x="3192" y="2272"/>
                    <a:pt x="3110" y="2264"/>
                  </a:cubicBezTo>
                  <a:cubicBezTo>
                    <a:pt x="3058" y="2260"/>
                    <a:pt x="3006" y="2258"/>
                    <a:pt x="2955" y="2256"/>
                  </a:cubicBezTo>
                  <a:cubicBezTo>
                    <a:pt x="2926" y="2255"/>
                    <a:pt x="2897" y="2257"/>
                    <a:pt x="2868" y="2257"/>
                  </a:cubicBezTo>
                  <a:cubicBezTo>
                    <a:pt x="2833" y="2256"/>
                    <a:pt x="2797" y="2255"/>
                    <a:pt x="2761" y="2251"/>
                  </a:cubicBezTo>
                  <a:cubicBezTo>
                    <a:pt x="2753" y="2250"/>
                    <a:pt x="2741" y="2241"/>
                    <a:pt x="2739" y="2233"/>
                  </a:cubicBezTo>
                  <a:cubicBezTo>
                    <a:pt x="2733" y="2210"/>
                    <a:pt x="2728" y="2186"/>
                    <a:pt x="2729" y="2162"/>
                  </a:cubicBezTo>
                  <a:cubicBezTo>
                    <a:pt x="2731" y="2095"/>
                    <a:pt x="2698" y="2054"/>
                    <a:pt x="2630" y="2048"/>
                  </a:cubicBezTo>
                  <a:cubicBezTo>
                    <a:pt x="2587" y="2045"/>
                    <a:pt x="2543" y="2048"/>
                    <a:pt x="2499" y="2048"/>
                  </a:cubicBezTo>
                  <a:cubicBezTo>
                    <a:pt x="2476" y="2047"/>
                    <a:pt x="2454" y="2043"/>
                    <a:pt x="2432" y="2043"/>
                  </a:cubicBezTo>
                  <a:cubicBezTo>
                    <a:pt x="2387" y="2045"/>
                    <a:pt x="2342" y="2050"/>
                    <a:pt x="2297" y="2053"/>
                  </a:cubicBezTo>
                  <a:cubicBezTo>
                    <a:pt x="2257" y="2055"/>
                    <a:pt x="2249" y="2047"/>
                    <a:pt x="2244" y="2007"/>
                  </a:cubicBezTo>
                  <a:cubicBezTo>
                    <a:pt x="2243" y="1995"/>
                    <a:pt x="2248" y="1980"/>
                    <a:pt x="2232" y="1968"/>
                  </a:cubicBezTo>
                  <a:cubicBezTo>
                    <a:pt x="2220" y="2012"/>
                    <a:pt x="2231" y="2046"/>
                    <a:pt x="2258" y="2075"/>
                  </a:cubicBezTo>
                  <a:cubicBezTo>
                    <a:pt x="2247" y="2094"/>
                    <a:pt x="2240" y="2112"/>
                    <a:pt x="2229" y="2129"/>
                  </a:cubicBezTo>
                  <a:cubicBezTo>
                    <a:pt x="2218" y="2145"/>
                    <a:pt x="2201" y="2157"/>
                    <a:pt x="2209" y="2181"/>
                  </a:cubicBezTo>
                  <a:cubicBezTo>
                    <a:pt x="2215" y="2181"/>
                    <a:pt x="2221" y="2181"/>
                    <a:pt x="2228" y="2182"/>
                  </a:cubicBezTo>
                  <a:cubicBezTo>
                    <a:pt x="2233" y="2221"/>
                    <a:pt x="2233" y="2263"/>
                    <a:pt x="2270" y="2291"/>
                  </a:cubicBezTo>
                  <a:cubicBezTo>
                    <a:pt x="2291" y="2289"/>
                    <a:pt x="2313" y="2284"/>
                    <a:pt x="2336" y="2285"/>
                  </a:cubicBezTo>
                  <a:cubicBezTo>
                    <a:pt x="2381" y="2288"/>
                    <a:pt x="2425" y="2293"/>
                    <a:pt x="2470" y="2285"/>
                  </a:cubicBezTo>
                  <a:cubicBezTo>
                    <a:pt x="2494" y="2280"/>
                    <a:pt x="2520" y="2283"/>
                    <a:pt x="2545" y="2287"/>
                  </a:cubicBezTo>
                  <a:cubicBezTo>
                    <a:pt x="2563" y="2289"/>
                    <a:pt x="2560" y="2276"/>
                    <a:pt x="2565" y="2268"/>
                  </a:cubicBezTo>
                  <a:cubicBezTo>
                    <a:pt x="2602" y="2268"/>
                    <a:pt x="2638" y="2268"/>
                    <a:pt x="2678" y="2268"/>
                  </a:cubicBezTo>
                  <a:cubicBezTo>
                    <a:pt x="2684" y="2278"/>
                    <a:pt x="2693" y="2291"/>
                    <a:pt x="2702" y="2305"/>
                  </a:cubicBezTo>
                  <a:cubicBezTo>
                    <a:pt x="2702" y="2304"/>
                    <a:pt x="2702" y="2304"/>
                    <a:pt x="2702" y="2304"/>
                  </a:cubicBezTo>
                  <a:cubicBezTo>
                    <a:pt x="2702" y="2326"/>
                    <a:pt x="2702" y="2349"/>
                    <a:pt x="2703" y="2371"/>
                  </a:cubicBezTo>
                  <a:cubicBezTo>
                    <a:pt x="2704" y="2404"/>
                    <a:pt x="2687" y="2432"/>
                    <a:pt x="2656" y="2440"/>
                  </a:cubicBezTo>
                  <a:cubicBezTo>
                    <a:pt x="2639" y="2445"/>
                    <a:pt x="2619" y="2448"/>
                    <a:pt x="2601" y="2447"/>
                  </a:cubicBezTo>
                  <a:cubicBezTo>
                    <a:pt x="2511" y="2440"/>
                    <a:pt x="2422" y="2438"/>
                    <a:pt x="2332" y="2446"/>
                  </a:cubicBezTo>
                  <a:cubicBezTo>
                    <a:pt x="2305" y="2448"/>
                    <a:pt x="2278" y="2452"/>
                    <a:pt x="2253" y="2437"/>
                  </a:cubicBezTo>
                  <a:cubicBezTo>
                    <a:pt x="2250" y="2435"/>
                    <a:pt x="2245" y="2436"/>
                    <a:pt x="2241" y="2436"/>
                  </a:cubicBezTo>
                  <a:cubicBezTo>
                    <a:pt x="2240" y="2403"/>
                    <a:pt x="2240" y="2403"/>
                    <a:pt x="2212" y="2402"/>
                  </a:cubicBezTo>
                  <a:cubicBezTo>
                    <a:pt x="2222" y="2414"/>
                    <a:pt x="2232" y="2424"/>
                    <a:pt x="2242" y="2435"/>
                  </a:cubicBezTo>
                  <a:cubicBezTo>
                    <a:pt x="2236" y="2462"/>
                    <a:pt x="2230" y="2488"/>
                    <a:pt x="2217" y="2514"/>
                  </a:cubicBezTo>
                  <a:cubicBezTo>
                    <a:pt x="2206" y="2536"/>
                    <a:pt x="2200" y="2563"/>
                    <a:pt x="2213" y="2590"/>
                  </a:cubicBezTo>
                  <a:cubicBezTo>
                    <a:pt x="2221" y="2607"/>
                    <a:pt x="2224" y="2626"/>
                    <a:pt x="2230" y="2643"/>
                  </a:cubicBezTo>
                  <a:cubicBezTo>
                    <a:pt x="2243" y="2680"/>
                    <a:pt x="2241" y="2687"/>
                    <a:pt x="2209" y="2704"/>
                  </a:cubicBezTo>
                  <a:cubicBezTo>
                    <a:pt x="2211" y="2724"/>
                    <a:pt x="2219" y="2746"/>
                    <a:pt x="2213" y="2762"/>
                  </a:cubicBezTo>
                  <a:cubicBezTo>
                    <a:pt x="2201" y="2796"/>
                    <a:pt x="2220" y="2820"/>
                    <a:pt x="2230" y="2848"/>
                  </a:cubicBezTo>
                  <a:cubicBezTo>
                    <a:pt x="2233" y="2855"/>
                    <a:pt x="2238" y="2861"/>
                    <a:pt x="2244" y="2870"/>
                  </a:cubicBezTo>
                  <a:cubicBezTo>
                    <a:pt x="2228" y="2882"/>
                    <a:pt x="2215" y="2893"/>
                    <a:pt x="2199" y="2905"/>
                  </a:cubicBezTo>
                  <a:cubicBezTo>
                    <a:pt x="2207" y="2910"/>
                    <a:pt x="2213" y="2914"/>
                    <a:pt x="2215" y="2916"/>
                  </a:cubicBezTo>
                  <a:cubicBezTo>
                    <a:pt x="2212" y="2940"/>
                    <a:pt x="2202" y="2962"/>
                    <a:pt x="2207" y="2981"/>
                  </a:cubicBezTo>
                  <a:cubicBezTo>
                    <a:pt x="2212" y="3001"/>
                    <a:pt x="2212" y="3018"/>
                    <a:pt x="2206" y="3041"/>
                  </a:cubicBezTo>
                  <a:cubicBezTo>
                    <a:pt x="2177" y="3048"/>
                    <a:pt x="2148" y="3058"/>
                    <a:pt x="2118" y="3062"/>
                  </a:cubicBezTo>
                  <a:cubicBezTo>
                    <a:pt x="2048" y="3071"/>
                    <a:pt x="2047" y="3069"/>
                    <a:pt x="2034" y="3083"/>
                  </a:cubicBezTo>
                  <a:cubicBezTo>
                    <a:pt x="2088" y="3083"/>
                    <a:pt x="2140" y="3083"/>
                    <a:pt x="2187" y="3083"/>
                  </a:cubicBezTo>
                  <a:cubicBezTo>
                    <a:pt x="2197" y="3100"/>
                    <a:pt x="2204" y="3111"/>
                    <a:pt x="2211" y="3123"/>
                  </a:cubicBezTo>
                  <a:cubicBezTo>
                    <a:pt x="2213" y="3172"/>
                    <a:pt x="2191" y="3221"/>
                    <a:pt x="2207" y="3271"/>
                  </a:cubicBezTo>
                  <a:cubicBezTo>
                    <a:pt x="2216" y="3275"/>
                    <a:pt x="2224" y="3279"/>
                    <a:pt x="2233" y="3283"/>
                  </a:cubicBezTo>
                  <a:cubicBezTo>
                    <a:pt x="2211" y="3285"/>
                    <a:pt x="2189" y="3288"/>
                    <a:pt x="2159" y="3291"/>
                  </a:cubicBezTo>
                  <a:cubicBezTo>
                    <a:pt x="2207" y="3306"/>
                    <a:pt x="2213" y="3316"/>
                    <a:pt x="2210" y="3356"/>
                  </a:cubicBezTo>
                  <a:cubicBezTo>
                    <a:pt x="2207" y="3385"/>
                    <a:pt x="2205" y="3413"/>
                    <a:pt x="2212" y="3443"/>
                  </a:cubicBezTo>
                  <a:cubicBezTo>
                    <a:pt x="2219" y="3472"/>
                    <a:pt x="2215" y="3503"/>
                    <a:pt x="2216" y="3533"/>
                  </a:cubicBezTo>
                  <a:cubicBezTo>
                    <a:pt x="2216" y="3533"/>
                    <a:pt x="2218" y="3534"/>
                    <a:pt x="2221" y="3535"/>
                  </a:cubicBezTo>
                  <a:cubicBezTo>
                    <a:pt x="2233" y="3462"/>
                    <a:pt x="2221" y="3386"/>
                    <a:pt x="2241" y="3313"/>
                  </a:cubicBezTo>
                  <a:cubicBezTo>
                    <a:pt x="2250" y="3314"/>
                    <a:pt x="2261" y="3319"/>
                    <a:pt x="2267" y="3316"/>
                  </a:cubicBezTo>
                  <a:cubicBezTo>
                    <a:pt x="2287" y="3304"/>
                    <a:pt x="2297" y="3312"/>
                    <a:pt x="2310" y="3328"/>
                  </a:cubicBezTo>
                  <a:cubicBezTo>
                    <a:pt x="2330" y="3355"/>
                    <a:pt x="2354" y="3379"/>
                    <a:pt x="2377" y="3405"/>
                  </a:cubicBezTo>
                  <a:cubicBezTo>
                    <a:pt x="2390" y="3420"/>
                    <a:pt x="2402" y="3435"/>
                    <a:pt x="2415" y="3450"/>
                  </a:cubicBezTo>
                  <a:cubicBezTo>
                    <a:pt x="2458" y="3504"/>
                    <a:pt x="2501" y="3558"/>
                    <a:pt x="2544" y="3612"/>
                  </a:cubicBezTo>
                  <a:cubicBezTo>
                    <a:pt x="2549" y="3617"/>
                    <a:pt x="2558" y="3620"/>
                    <a:pt x="2564" y="3624"/>
                  </a:cubicBezTo>
                  <a:cubicBezTo>
                    <a:pt x="2564" y="3628"/>
                    <a:pt x="2563" y="3633"/>
                    <a:pt x="2565" y="3635"/>
                  </a:cubicBezTo>
                  <a:cubicBezTo>
                    <a:pt x="2587" y="3663"/>
                    <a:pt x="2610" y="3691"/>
                    <a:pt x="2633" y="3718"/>
                  </a:cubicBezTo>
                  <a:cubicBezTo>
                    <a:pt x="2635" y="3721"/>
                    <a:pt x="2644" y="3719"/>
                    <a:pt x="2651" y="3720"/>
                  </a:cubicBezTo>
                  <a:cubicBezTo>
                    <a:pt x="2630" y="3677"/>
                    <a:pt x="2595" y="3652"/>
                    <a:pt x="2563" y="3625"/>
                  </a:cubicBezTo>
                  <a:cubicBezTo>
                    <a:pt x="2562" y="3618"/>
                    <a:pt x="2562" y="3611"/>
                    <a:pt x="2558" y="3606"/>
                  </a:cubicBezTo>
                  <a:cubicBezTo>
                    <a:pt x="2542" y="3583"/>
                    <a:pt x="2525" y="3562"/>
                    <a:pt x="2507" y="3540"/>
                  </a:cubicBezTo>
                  <a:cubicBezTo>
                    <a:pt x="2503" y="3535"/>
                    <a:pt x="2498" y="3530"/>
                    <a:pt x="2493" y="3528"/>
                  </a:cubicBezTo>
                  <a:cubicBezTo>
                    <a:pt x="2476" y="3520"/>
                    <a:pt x="2467" y="3506"/>
                    <a:pt x="2460" y="3490"/>
                  </a:cubicBezTo>
                  <a:cubicBezTo>
                    <a:pt x="2454" y="3476"/>
                    <a:pt x="2446" y="3464"/>
                    <a:pt x="2437" y="3453"/>
                  </a:cubicBezTo>
                  <a:cubicBezTo>
                    <a:pt x="2401" y="3407"/>
                    <a:pt x="2365" y="3362"/>
                    <a:pt x="2328" y="3317"/>
                  </a:cubicBezTo>
                  <a:cubicBezTo>
                    <a:pt x="2319" y="3306"/>
                    <a:pt x="2307" y="3296"/>
                    <a:pt x="2294" y="3292"/>
                  </a:cubicBezTo>
                  <a:cubicBezTo>
                    <a:pt x="2274" y="3286"/>
                    <a:pt x="2252" y="3286"/>
                    <a:pt x="2231" y="3283"/>
                  </a:cubicBezTo>
                  <a:cubicBezTo>
                    <a:pt x="2232" y="3274"/>
                    <a:pt x="2234" y="3264"/>
                    <a:pt x="2232" y="3256"/>
                  </a:cubicBezTo>
                  <a:cubicBezTo>
                    <a:pt x="2221" y="3203"/>
                    <a:pt x="2224" y="3151"/>
                    <a:pt x="2243" y="3099"/>
                  </a:cubicBezTo>
                  <a:cubicBezTo>
                    <a:pt x="2219" y="3095"/>
                    <a:pt x="2218" y="3113"/>
                    <a:pt x="2210" y="3124"/>
                  </a:cubicBezTo>
                  <a:cubicBezTo>
                    <a:pt x="2213" y="3106"/>
                    <a:pt x="2214" y="3088"/>
                    <a:pt x="2235" y="3078"/>
                  </a:cubicBezTo>
                  <a:cubicBezTo>
                    <a:pt x="2243" y="3074"/>
                    <a:pt x="2246" y="3062"/>
                    <a:pt x="2252" y="3053"/>
                  </a:cubicBezTo>
                  <a:cubicBezTo>
                    <a:pt x="2252" y="3055"/>
                    <a:pt x="2252" y="3055"/>
                    <a:pt x="2252" y="3055"/>
                  </a:cubicBezTo>
                  <a:cubicBezTo>
                    <a:pt x="2220" y="3012"/>
                    <a:pt x="2231" y="2964"/>
                    <a:pt x="2237" y="2918"/>
                  </a:cubicBezTo>
                  <a:cubicBezTo>
                    <a:pt x="2241" y="2895"/>
                    <a:pt x="2261" y="2882"/>
                    <a:pt x="2288" y="2882"/>
                  </a:cubicBezTo>
                  <a:cubicBezTo>
                    <a:pt x="2314" y="2882"/>
                    <a:pt x="2340" y="2877"/>
                    <a:pt x="2366" y="2875"/>
                  </a:cubicBezTo>
                  <a:cubicBezTo>
                    <a:pt x="2391" y="2873"/>
                    <a:pt x="2418" y="2865"/>
                    <a:pt x="2441" y="2871"/>
                  </a:cubicBezTo>
                  <a:cubicBezTo>
                    <a:pt x="2472" y="2880"/>
                    <a:pt x="2501" y="2886"/>
                    <a:pt x="2531" y="2873"/>
                  </a:cubicBezTo>
                  <a:cubicBezTo>
                    <a:pt x="2533" y="2881"/>
                    <a:pt x="2532" y="2890"/>
                    <a:pt x="2536" y="2896"/>
                  </a:cubicBezTo>
                  <a:cubicBezTo>
                    <a:pt x="2568" y="2947"/>
                    <a:pt x="2601" y="2997"/>
                    <a:pt x="2633" y="3048"/>
                  </a:cubicBezTo>
                  <a:cubicBezTo>
                    <a:pt x="2656" y="3083"/>
                    <a:pt x="2677" y="3120"/>
                    <a:pt x="2701" y="3154"/>
                  </a:cubicBezTo>
                  <a:cubicBezTo>
                    <a:pt x="2724" y="3186"/>
                    <a:pt x="2748" y="3217"/>
                    <a:pt x="2773" y="3247"/>
                  </a:cubicBezTo>
                  <a:cubicBezTo>
                    <a:pt x="2778" y="3253"/>
                    <a:pt x="2787" y="3254"/>
                    <a:pt x="2794" y="3258"/>
                  </a:cubicBezTo>
                  <a:cubicBezTo>
                    <a:pt x="2827" y="3318"/>
                    <a:pt x="2885" y="3357"/>
                    <a:pt x="2927" y="3409"/>
                  </a:cubicBezTo>
                  <a:cubicBezTo>
                    <a:pt x="2945" y="3432"/>
                    <a:pt x="2964" y="3453"/>
                    <a:pt x="2986" y="3473"/>
                  </a:cubicBezTo>
                  <a:cubicBezTo>
                    <a:pt x="3028" y="3512"/>
                    <a:pt x="3074" y="3548"/>
                    <a:pt x="3116" y="3588"/>
                  </a:cubicBezTo>
                  <a:cubicBezTo>
                    <a:pt x="3132" y="3602"/>
                    <a:pt x="3148" y="3610"/>
                    <a:pt x="3169" y="3610"/>
                  </a:cubicBezTo>
                  <a:close/>
                  <a:moveTo>
                    <a:pt x="308" y="2817"/>
                  </a:moveTo>
                  <a:cubicBezTo>
                    <a:pt x="309" y="2822"/>
                    <a:pt x="310" y="2826"/>
                    <a:pt x="311" y="2831"/>
                  </a:cubicBezTo>
                  <a:cubicBezTo>
                    <a:pt x="316" y="2828"/>
                    <a:pt x="321" y="2825"/>
                    <a:pt x="326" y="2822"/>
                  </a:cubicBezTo>
                  <a:cubicBezTo>
                    <a:pt x="325" y="2820"/>
                    <a:pt x="325" y="2818"/>
                    <a:pt x="324" y="2817"/>
                  </a:cubicBezTo>
                  <a:cubicBezTo>
                    <a:pt x="318" y="2817"/>
                    <a:pt x="312" y="2818"/>
                    <a:pt x="306" y="2818"/>
                  </a:cubicBezTo>
                  <a:cubicBezTo>
                    <a:pt x="308" y="2813"/>
                    <a:pt x="309" y="2808"/>
                    <a:pt x="312" y="2803"/>
                  </a:cubicBezTo>
                  <a:cubicBezTo>
                    <a:pt x="324" y="2782"/>
                    <a:pt x="325" y="2760"/>
                    <a:pt x="313" y="2739"/>
                  </a:cubicBezTo>
                  <a:cubicBezTo>
                    <a:pt x="301" y="2717"/>
                    <a:pt x="281" y="2728"/>
                    <a:pt x="263" y="2726"/>
                  </a:cubicBezTo>
                  <a:cubicBezTo>
                    <a:pt x="254" y="2724"/>
                    <a:pt x="245" y="2717"/>
                    <a:pt x="233" y="2712"/>
                  </a:cubicBezTo>
                  <a:cubicBezTo>
                    <a:pt x="243" y="2702"/>
                    <a:pt x="248" y="2697"/>
                    <a:pt x="254" y="2691"/>
                  </a:cubicBezTo>
                  <a:cubicBezTo>
                    <a:pt x="244" y="2687"/>
                    <a:pt x="234" y="2686"/>
                    <a:pt x="231" y="2690"/>
                  </a:cubicBezTo>
                  <a:cubicBezTo>
                    <a:pt x="214" y="2713"/>
                    <a:pt x="237" y="2729"/>
                    <a:pt x="242" y="2744"/>
                  </a:cubicBezTo>
                  <a:cubicBezTo>
                    <a:pt x="227" y="2793"/>
                    <a:pt x="204" y="2836"/>
                    <a:pt x="217" y="2892"/>
                  </a:cubicBezTo>
                  <a:cubicBezTo>
                    <a:pt x="231" y="2875"/>
                    <a:pt x="242" y="2859"/>
                    <a:pt x="264" y="2874"/>
                  </a:cubicBezTo>
                  <a:cubicBezTo>
                    <a:pt x="262" y="2889"/>
                    <a:pt x="261" y="2905"/>
                    <a:pt x="259" y="2921"/>
                  </a:cubicBezTo>
                  <a:cubicBezTo>
                    <a:pt x="262" y="2922"/>
                    <a:pt x="264" y="2924"/>
                    <a:pt x="267" y="2925"/>
                  </a:cubicBezTo>
                  <a:cubicBezTo>
                    <a:pt x="277" y="2916"/>
                    <a:pt x="286" y="2907"/>
                    <a:pt x="296" y="2899"/>
                  </a:cubicBezTo>
                  <a:cubicBezTo>
                    <a:pt x="290" y="2888"/>
                    <a:pt x="287" y="2880"/>
                    <a:pt x="284" y="2873"/>
                  </a:cubicBezTo>
                  <a:cubicBezTo>
                    <a:pt x="280" y="2866"/>
                    <a:pt x="276" y="2860"/>
                    <a:pt x="272" y="2853"/>
                  </a:cubicBezTo>
                  <a:cubicBezTo>
                    <a:pt x="260" y="2830"/>
                    <a:pt x="264" y="2817"/>
                    <a:pt x="289" y="2797"/>
                  </a:cubicBezTo>
                  <a:cubicBezTo>
                    <a:pt x="295" y="2803"/>
                    <a:pt x="302" y="2810"/>
                    <a:pt x="308" y="2817"/>
                  </a:cubicBezTo>
                  <a:close/>
                  <a:moveTo>
                    <a:pt x="857" y="3765"/>
                  </a:moveTo>
                  <a:cubicBezTo>
                    <a:pt x="866" y="3771"/>
                    <a:pt x="875" y="3776"/>
                    <a:pt x="883" y="3783"/>
                  </a:cubicBezTo>
                  <a:cubicBezTo>
                    <a:pt x="904" y="3803"/>
                    <a:pt x="940" y="3810"/>
                    <a:pt x="938" y="3850"/>
                  </a:cubicBezTo>
                  <a:cubicBezTo>
                    <a:pt x="938" y="3851"/>
                    <a:pt x="945" y="3853"/>
                    <a:pt x="950" y="3855"/>
                  </a:cubicBezTo>
                  <a:cubicBezTo>
                    <a:pt x="954" y="3847"/>
                    <a:pt x="959" y="3839"/>
                    <a:pt x="963" y="3831"/>
                  </a:cubicBezTo>
                  <a:cubicBezTo>
                    <a:pt x="970" y="3836"/>
                    <a:pt x="978" y="3840"/>
                    <a:pt x="987" y="3845"/>
                  </a:cubicBezTo>
                  <a:cubicBezTo>
                    <a:pt x="992" y="3828"/>
                    <a:pt x="987" y="3821"/>
                    <a:pt x="976" y="3813"/>
                  </a:cubicBezTo>
                  <a:cubicBezTo>
                    <a:pt x="959" y="3801"/>
                    <a:pt x="939" y="3790"/>
                    <a:pt x="931" y="3773"/>
                  </a:cubicBezTo>
                  <a:cubicBezTo>
                    <a:pt x="912" y="3737"/>
                    <a:pt x="879" y="3717"/>
                    <a:pt x="853" y="3689"/>
                  </a:cubicBezTo>
                  <a:cubicBezTo>
                    <a:pt x="843" y="3679"/>
                    <a:pt x="835" y="3672"/>
                    <a:pt x="818" y="3677"/>
                  </a:cubicBezTo>
                  <a:cubicBezTo>
                    <a:pt x="810" y="3679"/>
                    <a:pt x="794" y="3671"/>
                    <a:pt x="789" y="3663"/>
                  </a:cubicBezTo>
                  <a:cubicBezTo>
                    <a:pt x="784" y="3655"/>
                    <a:pt x="785" y="3644"/>
                    <a:pt x="773" y="3646"/>
                  </a:cubicBezTo>
                  <a:cubicBezTo>
                    <a:pt x="758" y="3649"/>
                    <a:pt x="756" y="3660"/>
                    <a:pt x="758" y="3670"/>
                  </a:cubicBezTo>
                  <a:cubicBezTo>
                    <a:pt x="771" y="3684"/>
                    <a:pt x="782" y="3695"/>
                    <a:pt x="792" y="3708"/>
                  </a:cubicBezTo>
                  <a:cubicBezTo>
                    <a:pt x="805" y="3724"/>
                    <a:pt x="816" y="3742"/>
                    <a:pt x="830" y="3757"/>
                  </a:cubicBezTo>
                  <a:cubicBezTo>
                    <a:pt x="835" y="3762"/>
                    <a:pt x="844" y="3784"/>
                    <a:pt x="857" y="3764"/>
                  </a:cubicBezTo>
                  <a:lnTo>
                    <a:pt x="857" y="3765"/>
                  </a:lnTo>
                  <a:close/>
                  <a:moveTo>
                    <a:pt x="3634" y="3061"/>
                  </a:moveTo>
                  <a:cubicBezTo>
                    <a:pt x="3641" y="3065"/>
                    <a:pt x="3652" y="3075"/>
                    <a:pt x="3654" y="3073"/>
                  </a:cubicBezTo>
                  <a:cubicBezTo>
                    <a:pt x="3671" y="3061"/>
                    <a:pt x="3691" y="3054"/>
                    <a:pt x="3701" y="3032"/>
                  </a:cubicBezTo>
                  <a:cubicBezTo>
                    <a:pt x="3717" y="2994"/>
                    <a:pt x="3739" y="2959"/>
                    <a:pt x="3756" y="2922"/>
                  </a:cubicBezTo>
                  <a:cubicBezTo>
                    <a:pt x="3761" y="2910"/>
                    <a:pt x="3760" y="2895"/>
                    <a:pt x="3762" y="2879"/>
                  </a:cubicBezTo>
                  <a:cubicBezTo>
                    <a:pt x="3743" y="2881"/>
                    <a:pt x="3731" y="2882"/>
                    <a:pt x="3717" y="2884"/>
                  </a:cubicBezTo>
                  <a:cubicBezTo>
                    <a:pt x="3707" y="2866"/>
                    <a:pt x="3693" y="2852"/>
                    <a:pt x="3671" y="2853"/>
                  </a:cubicBezTo>
                  <a:cubicBezTo>
                    <a:pt x="3654" y="2880"/>
                    <a:pt x="3656" y="2909"/>
                    <a:pt x="3663" y="2935"/>
                  </a:cubicBezTo>
                  <a:cubicBezTo>
                    <a:pt x="3667" y="2949"/>
                    <a:pt x="3663" y="2954"/>
                    <a:pt x="3659" y="2965"/>
                  </a:cubicBezTo>
                  <a:cubicBezTo>
                    <a:pt x="3652" y="2990"/>
                    <a:pt x="3639" y="3011"/>
                    <a:pt x="3629" y="3034"/>
                  </a:cubicBezTo>
                  <a:cubicBezTo>
                    <a:pt x="3626" y="3042"/>
                    <a:pt x="3633" y="3053"/>
                    <a:pt x="3635" y="3063"/>
                  </a:cubicBezTo>
                  <a:cubicBezTo>
                    <a:pt x="3632" y="3062"/>
                    <a:pt x="3627" y="3059"/>
                    <a:pt x="3624" y="3060"/>
                  </a:cubicBezTo>
                  <a:cubicBezTo>
                    <a:pt x="3619" y="3062"/>
                    <a:pt x="3615" y="3067"/>
                    <a:pt x="3612" y="3071"/>
                  </a:cubicBezTo>
                  <a:cubicBezTo>
                    <a:pt x="3611" y="3072"/>
                    <a:pt x="3614" y="3078"/>
                    <a:pt x="3615" y="3077"/>
                  </a:cubicBezTo>
                  <a:cubicBezTo>
                    <a:pt x="3620" y="3076"/>
                    <a:pt x="3626" y="3075"/>
                    <a:pt x="3631" y="3072"/>
                  </a:cubicBezTo>
                  <a:cubicBezTo>
                    <a:pt x="3633" y="3070"/>
                    <a:pt x="3633" y="3065"/>
                    <a:pt x="3634" y="3061"/>
                  </a:cubicBezTo>
                  <a:close/>
                  <a:moveTo>
                    <a:pt x="648" y="3597"/>
                  </a:moveTo>
                  <a:cubicBezTo>
                    <a:pt x="655" y="3596"/>
                    <a:pt x="664" y="3597"/>
                    <a:pt x="668" y="3593"/>
                  </a:cubicBezTo>
                  <a:cubicBezTo>
                    <a:pt x="676" y="3585"/>
                    <a:pt x="681" y="3575"/>
                    <a:pt x="691" y="3561"/>
                  </a:cubicBezTo>
                  <a:cubicBezTo>
                    <a:pt x="691" y="3587"/>
                    <a:pt x="691" y="3606"/>
                    <a:pt x="691" y="3619"/>
                  </a:cubicBezTo>
                  <a:cubicBezTo>
                    <a:pt x="700" y="3626"/>
                    <a:pt x="710" y="3629"/>
                    <a:pt x="712" y="3635"/>
                  </a:cubicBezTo>
                  <a:cubicBezTo>
                    <a:pt x="716" y="3652"/>
                    <a:pt x="727" y="3661"/>
                    <a:pt x="740" y="3652"/>
                  </a:cubicBezTo>
                  <a:cubicBezTo>
                    <a:pt x="749" y="3646"/>
                    <a:pt x="759" y="3626"/>
                    <a:pt x="756" y="3616"/>
                  </a:cubicBezTo>
                  <a:cubicBezTo>
                    <a:pt x="750" y="3597"/>
                    <a:pt x="736" y="3579"/>
                    <a:pt x="723" y="3563"/>
                  </a:cubicBezTo>
                  <a:cubicBezTo>
                    <a:pt x="712" y="3549"/>
                    <a:pt x="698" y="3537"/>
                    <a:pt x="686" y="3524"/>
                  </a:cubicBezTo>
                  <a:cubicBezTo>
                    <a:pt x="694" y="3510"/>
                    <a:pt x="700" y="3499"/>
                    <a:pt x="705" y="3491"/>
                  </a:cubicBezTo>
                  <a:cubicBezTo>
                    <a:pt x="682" y="3460"/>
                    <a:pt x="662" y="3433"/>
                    <a:pt x="642" y="3406"/>
                  </a:cubicBezTo>
                  <a:cubicBezTo>
                    <a:pt x="629" y="3428"/>
                    <a:pt x="629" y="3430"/>
                    <a:pt x="638" y="3450"/>
                  </a:cubicBezTo>
                  <a:cubicBezTo>
                    <a:pt x="643" y="3461"/>
                    <a:pt x="645" y="3472"/>
                    <a:pt x="649" y="3483"/>
                  </a:cubicBezTo>
                  <a:cubicBezTo>
                    <a:pt x="650" y="3483"/>
                    <a:pt x="650" y="3483"/>
                    <a:pt x="650" y="3483"/>
                  </a:cubicBezTo>
                  <a:cubicBezTo>
                    <a:pt x="642" y="3479"/>
                    <a:pt x="635" y="3475"/>
                    <a:pt x="627" y="3471"/>
                  </a:cubicBezTo>
                  <a:cubicBezTo>
                    <a:pt x="621" y="3481"/>
                    <a:pt x="616" y="3489"/>
                    <a:pt x="612" y="3496"/>
                  </a:cubicBezTo>
                  <a:cubicBezTo>
                    <a:pt x="607" y="3490"/>
                    <a:pt x="603" y="3484"/>
                    <a:pt x="593" y="3470"/>
                  </a:cubicBezTo>
                  <a:cubicBezTo>
                    <a:pt x="591" y="3488"/>
                    <a:pt x="590" y="3496"/>
                    <a:pt x="588" y="3509"/>
                  </a:cubicBezTo>
                  <a:cubicBezTo>
                    <a:pt x="599" y="3503"/>
                    <a:pt x="606" y="3499"/>
                    <a:pt x="613" y="3495"/>
                  </a:cubicBezTo>
                  <a:cubicBezTo>
                    <a:pt x="609" y="3506"/>
                    <a:pt x="606" y="3518"/>
                    <a:pt x="603" y="3529"/>
                  </a:cubicBezTo>
                  <a:cubicBezTo>
                    <a:pt x="604" y="3528"/>
                    <a:pt x="604" y="3528"/>
                    <a:pt x="604" y="3528"/>
                  </a:cubicBezTo>
                  <a:cubicBezTo>
                    <a:pt x="596" y="3528"/>
                    <a:pt x="588" y="3528"/>
                    <a:pt x="578" y="3528"/>
                  </a:cubicBezTo>
                  <a:cubicBezTo>
                    <a:pt x="580" y="3541"/>
                    <a:pt x="580" y="3550"/>
                    <a:pt x="583" y="3558"/>
                  </a:cubicBezTo>
                  <a:cubicBezTo>
                    <a:pt x="586" y="3566"/>
                    <a:pt x="591" y="3576"/>
                    <a:pt x="598" y="3578"/>
                  </a:cubicBezTo>
                  <a:cubicBezTo>
                    <a:pt x="615" y="3583"/>
                    <a:pt x="590" y="3593"/>
                    <a:pt x="601" y="3599"/>
                  </a:cubicBezTo>
                  <a:cubicBezTo>
                    <a:pt x="607" y="3602"/>
                    <a:pt x="642" y="3609"/>
                    <a:pt x="649" y="3604"/>
                  </a:cubicBezTo>
                  <a:cubicBezTo>
                    <a:pt x="650" y="3603"/>
                    <a:pt x="649" y="3599"/>
                    <a:pt x="648" y="3596"/>
                  </a:cubicBezTo>
                  <a:lnTo>
                    <a:pt x="648" y="3597"/>
                  </a:lnTo>
                  <a:close/>
                  <a:moveTo>
                    <a:pt x="1707" y="406"/>
                  </a:moveTo>
                  <a:cubicBezTo>
                    <a:pt x="1695" y="390"/>
                    <a:pt x="1681" y="382"/>
                    <a:pt x="1660" y="393"/>
                  </a:cubicBezTo>
                  <a:cubicBezTo>
                    <a:pt x="1649" y="399"/>
                    <a:pt x="1635" y="399"/>
                    <a:pt x="1619" y="402"/>
                  </a:cubicBezTo>
                  <a:cubicBezTo>
                    <a:pt x="1623" y="390"/>
                    <a:pt x="1627" y="379"/>
                    <a:pt x="1630" y="369"/>
                  </a:cubicBezTo>
                  <a:cubicBezTo>
                    <a:pt x="1628" y="367"/>
                    <a:pt x="1626" y="366"/>
                    <a:pt x="1624" y="364"/>
                  </a:cubicBezTo>
                  <a:cubicBezTo>
                    <a:pt x="1608" y="375"/>
                    <a:pt x="1592" y="386"/>
                    <a:pt x="1576" y="397"/>
                  </a:cubicBezTo>
                  <a:cubicBezTo>
                    <a:pt x="1597" y="452"/>
                    <a:pt x="1615" y="472"/>
                    <a:pt x="1660" y="494"/>
                  </a:cubicBezTo>
                  <a:cubicBezTo>
                    <a:pt x="1673" y="501"/>
                    <a:pt x="1686" y="511"/>
                    <a:pt x="1696" y="523"/>
                  </a:cubicBezTo>
                  <a:cubicBezTo>
                    <a:pt x="1741" y="575"/>
                    <a:pt x="1785" y="628"/>
                    <a:pt x="1830" y="680"/>
                  </a:cubicBezTo>
                  <a:cubicBezTo>
                    <a:pt x="1835" y="686"/>
                    <a:pt x="1844" y="687"/>
                    <a:pt x="1856" y="692"/>
                  </a:cubicBezTo>
                  <a:cubicBezTo>
                    <a:pt x="1841" y="666"/>
                    <a:pt x="1832" y="646"/>
                    <a:pt x="1820" y="628"/>
                  </a:cubicBezTo>
                  <a:cubicBezTo>
                    <a:pt x="1797" y="594"/>
                    <a:pt x="1772" y="561"/>
                    <a:pt x="1750" y="527"/>
                  </a:cubicBezTo>
                  <a:cubicBezTo>
                    <a:pt x="1739" y="510"/>
                    <a:pt x="1724" y="489"/>
                    <a:pt x="1727" y="472"/>
                  </a:cubicBezTo>
                  <a:cubicBezTo>
                    <a:pt x="1731" y="446"/>
                    <a:pt x="1717" y="442"/>
                    <a:pt x="1699" y="435"/>
                  </a:cubicBezTo>
                  <a:cubicBezTo>
                    <a:pt x="1702" y="425"/>
                    <a:pt x="1705" y="415"/>
                    <a:pt x="1707" y="405"/>
                  </a:cubicBezTo>
                  <a:lnTo>
                    <a:pt x="1707" y="406"/>
                  </a:lnTo>
                  <a:close/>
                  <a:moveTo>
                    <a:pt x="2086" y="1851"/>
                  </a:moveTo>
                  <a:cubicBezTo>
                    <a:pt x="2049" y="1851"/>
                    <a:pt x="2012" y="1851"/>
                    <a:pt x="1975" y="1851"/>
                  </a:cubicBezTo>
                  <a:cubicBezTo>
                    <a:pt x="1933" y="1851"/>
                    <a:pt x="1890" y="1850"/>
                    <a:pt x="1848" y="1850"/>
                  </a:cubicBezTo>
                  <a:cubicBezTo>
                    <a:pt x="1814" y="1851"/>
                    <a:pt x="1790" y="1834"/>
                    <a:pt x="1773" y="1806"/>
                  </a:cubicBezTo>
                  <a:cubicBezTo>
                    <a:pt x="1748" y="1766"/>
                    <a:pt x="1724" y="1725"/>
                    <a:pt x="1700" y="1683"/>
                  </a:cubicBezTo>
                  <a:cubicBezTo>
                    <a:pt x="1673" y="1638"/>
                    <a:pt x="1646" y="1592"/>
                    <a:pt x="1619" y="1546"/>
                  </a:cubicBezTo>
                  <a:cubicBezTo>
                    <a:pt x="1613" y="1535"/>
                    <a:pt x="1605" y="1524"/>
                    <a:pt x="1588" y="1538"/>
                  </a:cubicBezTo>
                  <a:cubicBezTo>
                    <a:pt x="1615" y="1564"/>
                    <a:pt x="1634" y="1591"/>
                    <a:pt x="1643" y="1628"/>
                  </a:cubicBezTo>
                  <a:cubicBezTo>
                    <a:pt x="1649" y="1654"/>
                    <a:pt x="1674" y="1676"/>
                    <a:pt x="1690" y="1699"/>
                  </a:cubicBezTo>
                  <a:cubicBezTo>
                    <a:pt x="1700" y="1713"/>
                    <a:pt x="1709" y="1727"/>
                    <a:pt x="1719" y="1741"/>
                  </a:cubicBezTo>
                  <a:cubicBezTo>
                    <a:pt x="1700" y="1764"/>
                    <a:pt x="1720" y="1782"/>
                    <a:pt x="1731" y="1796"/>
                  </a:cubicBezTo>
                  <a:cubicBezTo>
                    <a:pt x="1754" y="1829"/>
                    <a:pt x="1777" y="1866"/>
                    <a:pt x="1828" y="1861"/>
                  </a:cubicBezTo>
                  <a:cubicBezTo>
                    <a:pt x="1836" y="1860"/>
                    <a:pt x="1846" y="1870"/>
                    <a:pt x="1855" y="1875"/>
                  </a:cubicBezTo>
                  <a:cubicBezTo>
                    <a:pt x="1861" y="1878"/>
                    <a:pt x="1866" y="1882"/>
                    <a:pt x="1872" y="1883"/>
                  </a:cubicBezTo>
                  <a:cubicBezTo>
                    <a:pt x="1911" y="1884"/>
                    <a:pt x="1950" y="1883"/>
                    <a:pt x="1989" y="1885"/>
                  </a:cubicBezTo>
                  <a:cubicBezTo>
                    <a:pt x="2049" y="1888"/>
                    <a:pt x="2108" y="1892"/>
                    <a:pt x="2167" y="1879"/>
                  </a:cubicBezTo>
                  <a:cubicBezTo>
                    <a:pt x="2196" y="1873"/>
                    <a:pt x="2203" y="1869"/>
                    <a:pt x="2209" y="1837"/>
                  </a:cubicBezTo>
                  <a:cubicBezTo>
                    <a:pt x="2173" y="1860"/>
                    <a:pt x="2150" y="1862"/>
                    <a:pt x="2085" y="1850"/>
                  </a:cubicBezTo>
                  <a:cubicBezTo>
                    <a:pt x="2092" y="1847"/>
                    <a:pt x="2100" y="1844"/>
                    <a:pt x="2107" y="1841"/>
                  </a:cubicBezTo>
                  <a:cubicBezTo>
                    <a:pt x="2107" y="1839"/>
                    <a:pt x="2107" y="1836"/>
                    <a:pt x="2106" y="1833"/>
                  </a:cubicBezTo>
                  <a:cubicBezTo>
                    <a:pt x="2091" y="1832"/>
                    <a:pt x="2076" y="1831"/>
                    <a:pt x="2060" y="1830"/>
                  </a:cubicBezTo>
                  <a:cubicBezTo>
                    <a:pt x="2060" y="1832"/>
                    <a:pt x="2059" y="1834"/>
                    <a:pt x="2059" y="1836"/>
                  </a:cubicBezTo>
                  <a:cubicBezTo>
                    <a:pt x="2068" y="1841"/>
                    <a:pt x="2077" y="1846"/>
                    <a:pt x="2086" y="1851"/>
                  </a:cubicBezTo>
                  <a:close/>
                  <a:moveTo>
                    <a:pt x="3436" y="3312"/>
                  </a:moveTo>
                  <a:cubicBezTo>
                    <a:pt x="3443" y="3335"/>
                    <a:pt x="3443" y="3335"/>
                    <a:pt x="3467" y="3331"/>
                  </a:cubicBezTo>
                  <a:cubicBezTo>
                    <a:pt x="3454" y="3324"/>
                    <a:pt x="3445" y="3318"/>
                    <a:pt x="3435" y="3313"/>
                  </a:cubicBezTo>
                  <a:cubicBezTo>
                    <a:pt x="3427" y="3304"/>
                    <a:pt x="3419" y="3295"/>
                    <a:pt x="3410" y="3288"/>
                  </a:cubicBezTo>
                  <a:cubicBezTo>
                    <a:pt x="3362" y="3248"/>
                    <a:pt x="3311" y="3211"/>
                    <a:pt x="3270" y="3163"/>
                  </a:cubicBezTo>
                  <a:cubicBezTo>
                    <a:pt x="3261" y="3152"/>
                    <a:pt x="3252" y="3139"/>
                    <a:pt x="3241" y="3131"/>
                  </a:cubicBezTo>
                  <a:cubicBezTo>
                    <a:pt x="3207" y="3108"/>
                    <a:pt x="3175" y="3083"/>
                    <a:pt x="3154" y="3046"/>
                  </a:cubicBezTo>
                  <a:cubicBezTo>
                    <a:pt x="3146" y="3033"/>
                    <a:pt x="3134" y="3021"/>
                    <a:pt x="3125" y="3009"/>
                  </a:cubicBezTo>
                  <a:cubicBezTo>
                    <a:pt x="3100" y="2976"/>
                    <a:pt x="3075" y="2944"/>
                    <a:pt x="3052" y="2909"/>
                  </a:cubicBezTo>
                  <a:cubicBezTo>
                    <a:pt x="3036" y="2884"/>
                    <a:pt x="3026" y="2854"/>
                    <a:pt x="3009" y="2829"/>
                  </a:cubicBezTo>
                  <a:cubicBezTo>
                    <a:pt x="2949" y="2746"/>
                    <a:pt x="2905" y="2656"/>
                    <a:pt x="2873" y="2560"/>
                  </a:cubicBezTo>
                  <a:cubicBezTo>
                    <a:pt x="2872" y="2556"/>
                    <a:pt x="2868" y="2552"/>
                    <a:pt x="2865" y="2549"/>
                  </a:cubicBezTo>
                  <a:cubicBezTo>
                    <a:pt x="2864" y="2587"/>
                    <a:pt x="2871" y="2624"/>
                    <a:pt x="2887" y="2656"/>
                  </a:cubicBezTo>
                  <a:cubicBezTo>
                    <a:pt x="2934" y="2753"/>
                    <a:pt x="2980" y="2851"/>
                    <a:pt x="3045" y="2938"/>
                  </a:cubicBezTo>
                  <a:cubicBezTo>
                    <a:pt x="3087" y="2995"/>
                    <a:pt x="3123" y="3057"/>
                    <a:pt x="3177" y="3105"/>
                  </a:cubicBezTo>
                  <a:cubicBezTo>
                    <a:pt x="3201" y="3128"/>
                    <a:pt x="3221" y="3155"/>
                    <a:pt x="3245" y="3178"/>
                  </a:cubicBezTo>
                  <a:cubicBezTo>
                    <a:pt x="3285" y="3215"/>
                    <a:pt x="3327" y="3253"/>
                    <a:pt x="3370" y="3287"/>
                  </a:cubicBezTo>
                  <a:cubicBezTo>
                    <a:pt x="3388" y="3301"/>
                    <a:pt x="3406" y="3325"/>
                    <a:pt x="3436" y="3312"/>
                  </a:cubicBezTo>
                  <a:close/>
                  <a:moveTo>
                    <a:pt x="642" y="1563"/>
                  </a:moveTo>
                  <a:cubicBezTo>
                    <a:pt x="651" y="1559"/>
                    <a:pt x="661" y="1556"/>
                    <a:pt x="672" y="1551"/>
                  </a:cubicBezTo>
                  <a:cubicBezTo>
                    <a:pt x="670" y="1544"/>
                    <a:pt x="668" y="1537"/>
                    <a:pt x="667" y="1530"/>
                  </a:cubicBezTo>
                  <a:cubicBezTo>
                    <a:pt x="686" y="1513"/>
                    <a:pt x="686" y="1513"/>
                    <a:pt x="667" y="1498"/>
                  </a:cubicBezTo>
                  <a:cubicBezTo>
                    <a:pt x="674" y="1483"/>
                    <a:pt x="679" y="1457"/>
                    <a:pt x="688" y="1455"/>
                  </a:cubicBezTo>
                  <a:cubicBezTo>
                    <a:pt x="706" y="1453"/>
                    <a:pt x="707" y="1444"/>
                    <a:pt x="710" y="1432"/>
                  </a:cubicBezTo>
                  <a:cubicBezTo>
                    <a:pt x="710" y="1433"/>
                    <a:pt x="710" y="1433"/>
                    <a:pt x="710" y="1433"/>
                  </a:cubicBezTo>
                  <a:cubicBezTo>
                    <a:pt x="723" y="1428"/>
                    <a:pt x="728" y="1420"/>
                    <a:pt x="729" y="1406"/>
                  </a:cubicBezTo>
                  <a:cubicBezTo>
                    <a:pt x="729" y="1388"/>
                    <a:pt x="739" y="1377"/>
                    <a:pt x="760" y="1381"/>
                  </a:cubicBezTo>
                  <a:cubicBezTo>
                    <a:pt x="759" y="1391"/>
                    <a:pt x="757" y="1400"/>
                    <a:pt x="756" y="1408"/>
                  </a:cubicBezTo>
                  <a:cubicBezTo>
                    <a:pt x="781" y="1382"/>
                    <a:pt x="798" y="1350"/>
                    <a:pt x="824" y="1329"/>
                  </a:cubicBezTo>
                  <a:cubicBezTo>
                    <a:pt x="849" y="1309"/>
                    <a:pt x="884" y="1300"/>
                    <a:pt x="914" y="1286"/>
                  </a:cubicBezTo>
                  <a:cubicBezTo>
                    <a:pt x="890" y="1263"/>
                    <a:pt x="869" y="1240"/>
                    <a:pt x="844" y="1220"/>
                  </a:cubicBezTo>
                  <a:cubicBezTo>
                    <a:pt x="833" y="1210"/>
                    <a:pt x="816" y="1202"/>
                    <a:pt x="802" y="1203"/>
                  </a:cubicBezTo>
                  <a:cubicBezTo>
                    <a:pt x="782" y="1204"/>
                    <a:pt x="758" y="1183"/>
                    <a:pt x="743" y="1211"/>
                  </a:cubicBezTo>
                  <a:cubicBezTo>
                    <a:pt x="737" y="1202"/>
                    <a:pt x="730" y="1193"/>
                    <a:pt x="723" y="1182"/>
                  </a:cubicBezTo>
                  <a:cubicBezTo>
                    <a:pt x="692" y="1208"/>
                    <a:pt x="724" y="1224"/>
                    <a:pt x="729" y="1242"/>
                  </a:cubicBezTo>
                  <a:cubicBezTo>
                    <a:pt x="713" y="1248"/>
                    <a:pt x="700" y="1254"/>
                    <a:pt x="682" y="1261"/>
                  </a:cubicBezTo>
                  <a:cubicBezTo>
                    <a:pt x="677" y="1255"/>
                    <a:pt x="670" y="1246"/>
                    <a:pt x="660" y="1232"/>
                  </a:cubicBezTo>
                  <a:cubicBezTo>
                    <a:pt x="675" y="1232"/>
                    <a:pt x="682" y="1232"/>
                    <a:pt x="691" y="1232"/>
                  </a:cubicBezTo>
                  <a:cubicBezTo>
                    <a:pt x="690" y="1222"/>
                    <a:pt x="688" y="1213"/>
                    <a:pt x="687" y="1209"/>
                  </a:cubicBezTo>
                  <a:cubicBezTo>
                    <a:pt x="664" y="1205"/>
                    <a:pt x="645" y="1202"/>
                    <a:pt x="618" y="1198"/>
                  </a:cubicBezTo>
                  <a:cubicBezTo>
                    <a:pt x="631" y="1211"/>
                    <a:pt x="640" y="1217"/>
                    <a:pt x="645" y="1226"/>
                  </a:cubicBezTo>
                  <a:cubicBezTo>
                    <a:pt x="655" y="1245"/>
                    <a:pt x="674" y="1267"/>
                    <a:pt x="671" y="1284"/>
                  </a:cubicBezTo>
                  <a:cubicBezTo>
                    <a:pt x="665" y="1315"/>
                    <a:pt x="654" y="1349"/>
                    <a:pt x="622" y="1367"/>
                  </a:cubicBezTo>
                  <a:cubicBezTo>
                    <a:pt x="631" y="1345"/>
                    <a:pt x="640" y="1323"/>
                    <a:pt x="650" y="1298"/>
                  </a:cubicBezTo>
                  <a:cubicBezTo>
                    <a:pt x="634" y="1289"/>
                    <a:pt x="621" y="1282"/>
                    <a:pt x="602" y="1272"/>
                  </a:cubicBezTo>
                  <a:cubicBezTo>
                    <a:pt x="610" y="1308"/>
                    <a:pt x="616" y="1337"/>
                    <a:pt x="623" y="1366"/>
                  </a:cubicBezTo>
                  <a:cubicBezTo>
                    <a:pt x="626" y="1385"/>
                    <a:pt x="630" y="1404"/>
                    <a:pt x="635" y="1426"/>
                  </a:cubicBezTo>
                  <a:cubicBezTo>
                    <a:pt x="632" y="1432"/>
                    <a:pt x="627" y="1441"/>
                    <a:pt x="622" y="1450"/>
                  </a:cubicBezTo>
                  <a:cubicBezTo>
                    <a:pt x="617" y="1446"/>
                    <a:pt x="611" y="1443"/>
                    <a:pt x="600" y="1436"/>
                  </a:cubicBezTo>
                  <a:cubicBezTo>
                    <a:pt x="610" y="1453"/>
                    <a:pt x="610" y="1453"/>
                    <a:pt x="621" y="1448"/>
                  </a:cubicBezTo>
                  <a:cubicBezTo>
                    <a:pt x="649" y="1460"/>
                    <a:pt x="651" y="1481"/>
                    <a:pt x="644" y="1506"/>
                  </a:cubicBezTo>
                  <a:cubicBezTo>
                    <a:pt x="634" y="1503"/>
                    <a:pt x="625" y="1500"/>
                    <a:pt x="616" y="1496"/>
                  </a:cubicBezTo>
                  <a:cubicBezTo>
                    <a:pt x="591" y="1531"/>
                    <a:pt x="568" y="1565"/>
                    <a:pt x="544" y="1598"/>
                  </a:cubicBezTo>
                  <a:cubicBezTo>
                    <a:pt x="538" y="1607"/>
                    <a:pt x="525" y="1617"/>
                    <a:pt x="527" y="1623"/>
                  </a:cubicBezTo>
                  <a:cubicBezTo>
                    <a:pt x="533" y="1646"/>
                    <a:pt x="520" y="1658"/>
                    <a:pt x="512" y="1671"/>
                  </a:cubicBezTo>
                  <a:cubicBezTo>
                    <a:pt x="503" y="1665"/>
                    <a:pt x="493" y="1659"/>
                    <a:pt x="482" y="1651"/>
                  </a:cubicBezTo>
                  <a:cubicBezTo>
                    <a:pt x="474" y="1671"/>
                    <a:pt x="461" y="1684"/>
                    <a:pt x="465" y="1712"/>
                  </a:cubicBezTo>
                  <a:cubicBezTo>
                    <a:pt x="476" y="1696"/>
                    <a:pt x="483" y="1686"/>
                    <a:pt x="487" y="1680"/>
                  </a:cubicBezTo>
                  <a:cubicBezTo>
                    <a:pt x="504" y="1691"/>
                    <a:pt x="526" y="1697"/>
                    <a:pt x="535" y="1711"/>
                  </a:cubicBezTo>
                  <a:cubicBezTo>
                    <a:pt x="543" y="1726"/>
                    <a:pt x="569" y="1740"/>
                    <a:pt x="554" y="1762"/>
                  </a:cubicBezTo>
                  <a:cubicBezTo>
                    <a:pt x="534" y="1761"/>
                    <a:pt x="536" y="1732"/>
                    <a:pt x="512" y="1736"/>
                  </a:cubicBezTo>
                  <a:cubicBezTo>
                    <a:pt x="520" y="1748"/>
                    <a:pt x="532" y="1757"/>
                    <a:pt x="532" y="1766"/>
                  </a:cubicBezTo>
                  <a:cubicBezTo>
                    <a:pt x="530" y="1800"/>
                    <a:pt x="551" y="1826"/>
                    <a:pt x="559" y="1857"/>
                  </a:cubicBezTo>
                  <a:cubicBezTo>
                    <a:pt x="555" y="1809"/>
                    <a:pt x="567" y="1765"/>
                    <a:pt x="597" y="1722"/>
                  </a:cubicBezTo>
                  <a:cubicBezTo>
                    <a:pt x="580" y="1723"/>
                    <a:pt x="569" y="1724"/>
                    <a:pt x="558" y="1725"/>
                  </a:cubicBezTo>
                  <a:cubicBezTo>
                    <a:pt x="557" y="1723"/>
                    <a:pt x="556" y="1720"/>
                    <a:pt x="554" y="1717"/>
                  </a:cubicBezTo>
                  <a:cubicBezTo>
                    <a:pt x="560" y="1713"/>
                    <a:pt x="566" y="1706"/>
                    <a:pt x="573" y="1705"/>
                  </a:cubicBezTo>
                  <a:cubicBezTo>
                    <a:pt x="605" y="1698"/>
                    <a:pt x="614" y="1691"/>
                    <a:pt x="617" y="1661"/>
                  </a:cubicBezTo>
                  <a:cubicBezTo>
                    <a:pt x="618" y="1649"/>
                    <a:pt x="617" y="1637"/>
                    <a:pt x="617" y="1626"/>
                  </a:cubicBezTo>
                  <a:cubicBezTo>
                    <a:pt x="641" y="1610"/>
                    <a:pt x="648" y="1589"/>
                    <a:pt x="643" y="1562"/>
                  </a:cubicBezTo>
                  <a:lnTo>
                    <a:pt x="642" y="1563"/>
                  </a:lnTo>
                  <a:close/>
                  <a:moveTo>
                    <a:pt x="1427" y="1635"/>
                  </a:moveTo>
                  <a:cubicBezTo>
                    <a:pt x="1401" y="1586"/>
                    <a:pt x="1362" y="1548"/>
                    <a:pt x="1321" y="1512"/>
                  </a:cubicBezTo>
                  <a:cubicBezTo>
                    <a:pt x="1325" y="1529"/>
                    <a:pt x="1331" y="1548"/>
                    <a:pt x="1344" y="1555"/>
                  </a:cubicBezTo>
                  <a:cubicBezTo>
                    <a:pt x="1365" y="1567"/>
                    <a:pt x="1374" y="1587"/>
                    <a:pt x="1384" y="1606"/>
                  </a:cubicBezTo>
                  <a:cubicBezTo>
                    <a:pt x="1394" y="1625"/>
                    <a:pt x="1408" y="1632"/>
                    <a:pt x="1427" y="1634"/>
                  </a:cubicBezTo>
                  <a:cubicBezTo>
                    <a:pt x="1428" y="1641"/>
                    <a:pt x="1427" y="1651"/>
                    <a:pt x="1431" y="1657"/>
                  </a:cubicBezTo>
                  <a:cubicBezTo>
                    <a:pt x="1456" y="1690"/>
                    <a:pt x="1466" y="1732"/>
                    <a:pt x="1493" y="1765"/>
                  </a:cubicBezTo>
                  <a:cubicBezTo>
                    <a:pt x="1508" y="1782"/>
                    <a:pt x="1507" y="1811"/>
                    <a:pt x="1534" y="1820"/>
                  </a:cubicBezTo>
                  <a:cubicBezTo>
                    <a:pt x="1535" y="1820"/>
                    <a:pt x="1537" y="1825"/>
                    <a:pt x="1536" y="1827"/>
                  </a:cubicBezTo>
                  <a:cubicBezTo>
                    <a:pt x="1532" y="1848"/>
                    <a:pt x="1548" y="1861"/>
                    <a:pt x="1554" y="1878"/>
                  </a:cubicBezTo>
                  <a:cubicBezTo>
                    <a:pt x="1562" y="1900"/>
                    <a:pt x="1585" y="1926"/>
                    <a:pt x="1544" y="1947"/>
                  </a:cubicBezTo>
                  <a:cubicBezTo>
                    <a:pt x="1588" y="1964"/>
                    <a:pt x="1586" y="1996"/>
                    <a:pt x="1583" y="2023"/>
                  </a:cubicBezTo>
                  <a:cubicBezTo>
                    <a:pt x="1572" y="2026"/>
                    <a:pt x="1563" y="2025"/>
                    <a:pt x="1559" y="2029"/>
                  </a:cubicBezTo>
                  <a:cubicBezTo>
                    <a:pt x="1544" y="2043"/>
                    <a:pt x="1529" y="2057"/>
                    <a:pt x="1508" y="2057"/>
                  </a:cubicBezTo>
                  <a:cubicBezTo>
                    <a:pt x="1432" y="2057"/>
                    <a:pt x="1356" y="2057"/>
                    <a:pt x="1280" y="2057"/>
                  </a:cubicBezTo>
                  <a:cubicBezTo>
                    <a:pt x="1263" y="2057"/>
                    <a:pt x="1246" y="2052"/>
                    <a:pt x="1229" y="2053"/>
                  </a:cubicBezTo>
                  <a:cubicBezTo>
                    <a:pt x="1184" y="2055"/>
                    <a:pt x="1139" y="2060"/>
                    <a:pt x="1094" y="2060"/>
                  </a:cubicBezTo>
                  <a:cubicBezTo>
                    <a:pt x="1055" y="2060"/>
                    <a:pt x="1015" y="2054"/>
                    <a:pt x="976" y="2051"/>
                  </a:cubicBezTo>
                  <a:cubicBezTo>
                    <a:pt x="974" y="2051"/>
                    <a:pt x="972" y="2054"/>
                    <a:pt x="969" y="2055"/>
                  </a:cubicBezTo>
                  <a:cubicBezTo>
                    <a:pt x="971" y="2063"/>
                    <a:pt x="974" y="2071"/>
                    <a:pt x="975" y="2074"/>
                  </a:cubicBezTo>
                  <a:cubicBezTo>
                    <a:pt x="1000" y="2072"/>
                    <a:pt x="1022" y="2068"/>
                    <a:pt x="1044" y="2069"/>
                  </a:cubicBezTo>
                  <a:cubicBezTo>
                    <a:pt x="1078" y="2069"/>
                    <a:pt x="1112" y="2074"/>
                    <a:pt x="1147" y="2072"/>
                  </a:cubicBezTo>
                  <a:cubicBezTo>
                    <a:pt x="1180" y="2071"/>
                    <a:pt x="1214" y="2095"/>
                    <a:pt x="1246" y="2068"/>
                  </a:cubicBezTo>
                  <a:cubicBezTo>
                    <a:pt x="1249" y="2067"/>
                    <a:pt x="1254" y="2069"/>
                    <a:pt x="1258" y="2069"/>
                  </a:cubicBezTo>
                  <a:cubicBezTo>
                    <a:pt x="1278" y="2071"/>
                    <a:pt x="1297" y="2072"/>
                    <a:pt x="1317" y="2074"/>
                  </a:cubicBezTo>
                  <a:cubicBezTo>
                    <a:pt x="1375" y="2080"/>
                    <a:pt x="1433" y="2086"/>
                    <a:pt x="1492" y="2078"/>
                  </a:cubicBezTo>
                  <a:cubicBezTo>
                    <a:pt x="1519" y="2075"/>
                    <a:pt x="1549" y="2065"/>
                    <a:pt x="1577" y="2082"/>
                  </a:cubicBezTo>
                  <a:cubicBezTo>
                    <a:pt x="1582" y="2085"/>
                    <a:pt x="1594" y="2077"/>
                    <a:pt x="1603" y="2074"/>
                  </a:cubicBezTo>
                  <a:cubicBezTo>
                    <a:pt x="1602" y="2060"/>
                    <a:pt x="1601" y="2049"/>
                    <a:pt x="1601" y="2037"/>
                  </a:cubicBezTo>
                  <a:cubicBezTo>
                    <a:pt x="1602" y="1958"/>
                    <a:pt x="1582" y="1883"/>
                    <a:pt x="1546" y="1815"/>
                  </a:cubicBezTo>
                  <a:cubicBezTo>
                    <a:pt x="1516" y="1756"/>
                    <a:pt x="1477" y="1702"/>
                    <a:pt x="1441" y="1646"/>
                  </a:cubicBezTo>
                  <a:cubicBezTo>
                    <a:pt x="1438" y="1641"/>
                    <a:pt x="1432" y="1638"/>
                    <a:pt x="1427" y="1635"/>
                  </a:cubicBezTo>
                  <a:close/>
                  <a:moveTo>
                    <a:pt x="1917" y="2443"/>
                  </a:moveTo>
                  <a:cubicBezTo>
                    <a:pt x="1902" y="2445"/>
                    <a:pt x="1886" y="2450"/>
                    <a:pt x="1871" y="2450"/>
                  </a:cubicBezTo>
                  <a:cubicBezTo>
                    <a:pt x="1801" y="2449"/>
                    <a:pt x="1784" y="2398"/>
                    <a:pt x="1790" y="2352"/>
                  </a:cubicBezTo>
                  <a:cubicBezTo>
                    <a:pt x="1792" y="2330"/>
                    <a:pt x="1795" y="2307"/>
                    <a:pt x="1803" y="2287"/>
                  </a:cubicBezTo>
                  <a:cubicBezTo>
                    <a:pt x="1807" y="2276"/>
                    <a:pt x="1824" y="2270"/>
                    <a:pt x="1836" y="2264"/>
                  </a:cubicBezTo>
                  <a:cubicBezTo>
                    <a:pt x="1837" y="2264"/>
                    <a:pt x="1845" y="2276"/>
                    <a:pt x="1850" y="2283"/>
                  </a:cubicBezTo>
                  <a:cubicBezTo>
                    <a:pt x="1861" y="2278"/>
                    <a:pt x="1873" y="2272"/>
                    <a:pt x="1884" y="2266"/>
                  </a:cubicBezTo>
                  <a:cubicBezTo>
                    <a:pt x="1899" y="2259"/>
                    <a:pt x="1895" y="2283"/>
                    <a:pt x="1908" y="2280"/>
                  </a:cubicBezTo>
                  <a:cubicBezTo>
                    <a:pt x="1913" y="2279"/>
                    <a:pt x="1919" y="2281"/>
                    <a:pt x="1923" y="2280"/>
                  </a:cubicBezTo>
                  <a:cubicBezTo>
                    <a:pt x="1962" y="2269"/>
                    <a:pt x="2000" y="2276"/>
                    <a:pt x="2039" y="2278"/>
                  </a:cubicBezTo>
                  <a:cubicBezTo>
                    <a:pt x="2079" y="2280"/>
                    <a:pt x="2121" y="2273"/>
                    <a:pt x="2161" y="2269"/>
                  </a:cubicBezTo>
                  <a:cubicBezTo>
                    <a:pt x="2165" y="2269"/>
                    <a:pt x="2168" y="2264"/>
                    <a:pt x="2176" y="2257"/>
                  </a:cubicBezTo>
                  <a:cubicBezTo>
                    <a:pt x="2048" y="2236"/>
                    <a:pt x="1925" y="2263"/>
                    <a:pt x="1805" y="2246"/>
                  </a:cubicBezTo>
                  <a:cubicBezTo>
                    <a:pt x="1777" y="2251"/>
                    <a:pt x="1781" y="2278"/>
                    <a:pt x="1770" y="2294"/>
                  </a:cubicBezTo>
                  <a:cubicBezTo>
                    <a:pt x="1765" y="2301"/>
                    <a:pt x="1763" y="2311"/>
                    <a:pt x="1762" y="2320"/>
                  </a:cubicBezTo>
                  <a:cubicBezTo>
                    <a:pt x="1761" y="2331"/>
                    <a:pt x="1760" y="2343"/>
                    <a:pt x="1762" y="2354"/>
                  </a:cubicBezTo>
                  <a:cubicBezTo>
                    <a:pt x="1765" y="2368"/>
                    <a:pt x="1772" y="2381"/>
                    <a:pt x="1777" y="2395"/>
                  </a:cubicBezTo>
                  <a:cubicBezTo>
                    <a:pt x="1785" y="2415"/>
                    <a:pt x="1788" y="2442"/>
                    <a:pt x="1803" y="2454"/>
                  </a:cubicBezTo>
                  <a:cubicBezTo>
                    <a:pt x="1831" y="2477"/>
                    <a:pt x="1870" y="2480"/>
                    <a:pt x="1906" y="2477"/>
                  </a:cubicBezTo>
                  <a:cubicBezTo>
                    <a:pt x="1918" y="2476"/>
                    <a:pt x="1929" y="2472"/>
                    <a:pt x="1942" y="2479"/>
                  </a:cubicBezTo>
                  <a:cubicBezTo>
                    <a:pt x="1950" y="2483"/>
                    <a:pt x="1960" y="2485"/>
                    <a:pt x="1969" y="2484"/>
                  </a:cubicBezTo>
                  <a:cubicBezTo>
                    <a:pt x="2013" y="2479"/>
                    <a:pt x="2056" y="2473"/>
                    <a:pt x="2099" y="2466"/>
                  </a:cubicBezTo>
                  <a:cubicBezTo>
                    <a:pt x="2125" y="2462"/>
                    <a:pt x="2150" y="2455"/>
                    <a:pt x="2175" y="2449"/>
                  </a:cubicBezTo>
                  <a:cubicBezTo>
                    <a:pt x="2126" y="2445"/>
                    <a:pt x="2078" y="2445"/>
                    <a:pt x="2030" y="2445"/>
                  </a:cubicBezTo>
                  <a:cubicBezTo>
                    <a:pt x="2028" y="2445"/>
                    <a:pt x="2025" y="2447"/>
                    <a:pt x="2022" y="2447"/>
                  </a:cubicBezTo>
                  <a:cubicBezTo>
                    <a:pt x="1987" y="2445"/>
                    <a:pt x="1952" y="2443"/>
                    <a:pt x="1916" y="2442"/>
                  </a:cubicBezTo>
                  <a:cubicBezTo>
                    <a:pt x="1943" y="2441"/>
                    <a:pt x="1971" y="2444"/>
                    <a:pt x="1991" y="2415"/>
                  </a:cubicBezTo>
                  <a:cubicBezTo>
                    <a:pt x="1984" y="2409"/>
                    <a:pt x="1977" y="2400"/>
                    <a:pt x="1973" y="2401"/>
                  </a:cubicBezTo>
                  <a:cubicBezTo>
                    <a:pt x="1945" y="2408"/>
                    <a:pt x="1912" y="2398"/>
                    <a:pt x="1888" y="2422"/>
                  </a:cubicBezTo>
                  <a:cubicBezTo>
                    <a:pt x="1899" y="2429"/>
                    <a:pt x="1908" y="2436"/>
                    <a:pt x="1917" y="2443"/>
                  </a:cubicBezTo>
                  <a:close/>
                  <a:moveTo>
                    <a:pt x="1491" y="2751"/>
                  </a:moveTo>
                  <a:cubicBezTo>
                    <a:pt x="1492" y="2750"/>
                    <a:pt x="1492" y="2748"/>
                    <a:pt x="1491" y="2747"/>
                  </a:cubicBezTo>
                  <a:cubicBezTo>
                    <a:pt x="1486" y="2760"/>
                    <a:pt x="1484" y="2779"/>
                    <a:pt x="1474" y="2786"/>
                  </a:cubicBezTo>
                  <a:cubicBezTo>
                    <a:pt x="1451" y="2804"/>
                    <a:pt x="1445" y="2828"/>
                    <a:pt x="1438" y="2853"/>
                  </a:cubicBezTo>
                  <a:cubicBezTo>
                    <a:pt x="1433" y="2870"/>
                    <a:pt x="1428" y="2894"/>
                    <a:pt x="1416" y="2899"/>
                  </a:cubicBezTo>
                  <a:cubicBezTo>
                    <a:pt x="1389" y="2910"/>
                    <a:pt x="1384" y="2935"/>
                    <a:pt x="1367" y="2956"/>
                  </a:cubicBezTo>
                  <a:cubicBezTo>
                    <a:pt x="1376" y="2961"/>
                    <a:pt x="1383" y="2966"/>
                    <a:pt x="1392" y="2971"/>
                  </a:cubicBezTo>
                  <a:cubicBezTo>
                    <a:pt x="1423" y="2922"/>
                    <a:pt x="1454" y="2875"/>
                    <a:pt x="1482" y="2827"/>
                  </a:cubicBezTo>
                  <a:cubicBezTo>
                    <a:pt x="1523" y="2756"/>
                    <a:pt x="1562" y="2683"/>
                    <a:pt x="1587" y="2604"/>
                  </a:cubicBezTo>
                  <a:cubicBezTo>
                    <a:pt x="1597" y="2576"/>
                    <a:pt x="1600" y="2545"/>
                    <a:pt x="1602" y="2514"/>
                  </a:cubicBezTo>
                  <a:cubicBezTo>
                    <a:pt x="1604" y="2478"/>
                    <a:pt x="1595" y="2467"/>
                    <a:pt x="1562" y="2462"/>
                  </a:cubicBezTo>
                  <a:cubicBezTo>
                    <a:pt x="1529" y="2456"/>
                    <a:pt x="1496" y="2456"/>
                    <a:pt x="1463" y="2454"/>
                  </a:cubicBezTo>
                  <a:cubicBezTo>
                    <a:pt x="1434" y="2452"/>
                    <a:pt x="1405" y="2458"/>
                    <a:pt x="1377" y="2459"/>
                  </a:cubicBezTo>
                  <a:cubicBezTo>
                    <a:pt x="1294" y="2461"/>
                    <a:pt x="1212" y="2457"/>
                    <a:pt x="1129" y="2456"/>
                  </a:cubicBezTo>
                  <a:cubicBezTo>
                    <a:pt x="1093" y="2456"/>
                    <a:pt x="1057" y="2456"/>
                    <a:pt x="1021" y="2456"/>
                  </a:cubicBezTo>
                  <a:cubicBezTo>
                    <a:pt x="1041" y="2464"/>
                    <a:pt x="1064" y="2462"/>
                    <a:pt x="1081" y="2472"/>
                  </a:cubicBezTo>
                  <a:cubicBezTo>
                    <a:pt x="1094" y="2480"/>
                    <a:pt x="1111" y="2480"/>
                    <a:pt x="1117" y="2477"/>
                  </a:cubicBezTo>
                  <a:cubicBezTo>
                    <a:pt x="1149" y="2459"/>
                    <a:pt x="1177" y="2473"/>
                    <a:pt x="1207" y="2482"/>
                  </a:cubicBezTo>
                  <a:cubicBezTo>
                    <a:pt x="1210" y="2483"/>
                    <a:pt x="1214" y="2483"/>
                    <a:pt x="1218" y="2483"/>
                  </a:cubicBezTo>
                  <a:cubicBezTo>
                    <a:pt x="1246" y="2483"/>
                    <a:pt x="1274" y="2484"/>
                    <a:pt x="1301" y="2481"/>
                  </a:cubicBezTo>
                  <a:cubicBezTo>
                    <a:pt x="1328" y="2478"/>
                    <a:pt x="1354" y="2465"/>
                    <a:pt x="1381" y="2476"/>
                  </a:cubicBezTo>
                  <a:cubicBezTo>
                    <a:pt x="1384" y="2477"/>
                    <a:pt x="1390" y="2476"/>
                    <a:pt x="1393" y="2474"/>
                  </a:cubicBezTo>
                  <a:cubicBezTo>
                    <a:pt x="1403" y="2466"/>
                    <a:pt x="1410" y="2468"/>
                    <a:pt x="1421" y="2475"/>
                  </a:cubicBezTo>
                  <a:cubicBezTo>
                    <a:pt x="1428" y="2480"/>
                    <a:pt x="1441" y="2478"/>
                    <a:pt x="1452" y="2478"/>
                  </a:cubicBezTo>
                  <a:cubicBezTo>
                    <a:pt x="1483" y="2477"/>
                    <a:pt x="1514" y="2476"/>
                    <a:pt x="1545" y="2476"/>
                  </a:cubicBezTo>
                  <a:cubicBezTo>
                    <a:pt x="1554" y="2476"/>
                    <a:pt x="1564" y="2479"/>
                    <a:pt x="1572" y="2483"/>
                  </a:cubicBezTo>
                  <a:cubicBezTo>
                    <a:pt x="1586" y="2488"/>
                    <a:pt x="1591" y="2505"/>
                    <a:pt x="1583" y="2511"/>
                  </a:cubicBezTo>
                  <a:cubicBezTo>
                    <a:pt x="1561" y="2526"/>
                    <a:pt x="1574" y="2547"/>
                    <a:pt x="1567" y="2564"/>
                  </a:cubicBezTo>
                  <a:cubicBezTo>
                    <a:pt x="1562" y="2575"/>
                    <a:pt x="1564" y="2588"/>
                    <a:pt x="1560" y="2599"/>
                  </a:cubicBezTo>
                  <a:cubicBezTo>
                    <a:pt x="1551" y="2626"/>
                    <a:pt x="1540" y="2654"/>
                    <a:pt x="1530" y="2681"/>
                  </a:cubicBezTo>
                  <a:cubicBezTo>
                    <a:pt x="1528" y="2687"/>
                    <a:pt x="1527" y="2697"/>
                    <a:pt x="1523" y="2699"/>
                  </a:cubicBezTo>
                  <a:cubicBezTo>
                    <a:pt x="1498" y="2708"/>
                    <a:pt x="1500" y="2732"/>
                    <a:pt x="1491" y="2751"/>
                  </a:cubicBezTo>
                  <a:close/>
                  <a:moveTo>
                    <a:pt x="3162" y="1490"/>
                  </a:moveTo>
                  <a:cubicBezTo>
                    <a:pt x="3133" y="1502"/>
                    <a:pt x="3113" y="1526"/>
                    <a:pt x="3093" y="1549"/>
                  </a:cubicBezTo>
                  <a:cubicBezTo>
                    <a:pt x="3073" y="1574"/>
                    <a:pt x="3053" y="1598"/>
                    <a:pt x="3033" y="1623"/>
                  </a:cubicBezTo>
                  <a:cubicBezTo>
                    <a:pt x="3028" y="1628"/>
                    <a:pt x="3026" y="1635"/>
                    <a:pt x="3022" y="1641"/>
                  </a:cubicBezTo>
                  <a:cubicBezTo>
                    <a:pt x="3005" y="1673"/>
                    <a:pt x="2990" y="1707"/>
                    <a:pt x="2957" y="1725"/>
                  </a:cubicBezTo>
                  <a:cubicBezTo>
                    <a:pt x="2956" y="1733"/>
                    <a:pt x="2959" y="1748"/>
                    <a:pt x="2955" y="1750"/>
                  </a:cubicBezTo>
                  <a:cubicBezTo>
                    <a:pt x="2929" y="1764"/>
                    <a:pt x="2927" y="1790"/>
                    <a:pt x="2916" y="1812"/>
                  </a:cubicBezTo>
                  <a:cubicBezTo>
                    <a:pt x="2882" y="1873"/>
                    <a:pt x="2872" y="1941"/>
                    <a:pt x="2860" y="2009"/>
                  </a:cubicBezTo>
                  <a:cubicBezTo>
                    <a:pt x="2855" y="2036"/>
                    <a:pt x="2857" y="2061"/>
                    <a:pt x="2885" y="2079"/>
                  </a:cubicBezTo>
                  <a:cubicBezTo>
                    <a:pt x="2899" y="2079"/>
                    <a:pt x="2917" y="2074"/>
                    <a:pt x="2930" y="2080"/>
                  </a:cubicBezTo>
                  <a:cubicBezTo>
                    <a:pt x="2960" y="2092"/>
                    <a:pt x="2994" y="2083"/>
                    <a:pt x="3023" y="2098"/>
                  </a:cubicBezTo>
                  <a:cubicBezTo>
                    <a:pt x="3028" y="2100"/>
                    <a:pt x="3036" y="2097"/>
                    <a:pt x="3042" y="2094"/>
                  </a:cubicBezTo>
                  <a:cubicBezTo>
                    <a:pt x="3058" y="2085"/>
                    <a:pt x="3073" y="2080"/>
                    <a:pt x="3091" y="2090"/>
                  </a:cubicBezTo>
                  <a:cubicBezTo>
                    <a:pt x="3095" y="2092"/>
                    <a:pt x="3101" y="2093"/>
                    <a:pt x="3106" y="2093"/>
                  </a:cubicBezTo>
                  <a:cubicBezTo>
                    <a:pt x="3139" y="2093"/>
                    <a:pt x="3173" y="2087"/>
                    <a:pt x="3204" y="2095"/>
                  </a:cubicBezTo>
                  <a:cubicBezTo>
                    <a:pt x="3237" y="2104"/>
                    <a:pt x="3268" y="2092"/>
                    <a:pt x="3301" y="2097"/>
                  </a:cubicBezTo>
                  <a:cubicBezTo>
                    <a:pt x="3334" y="2102"/>
                    <a:pt x="3368" y="2103"/>
                    <a:pt x="3401" y="2092"/>
                  </a:cubicBezTo>
                  <a:cubicBezTo>
                    <a:pt x="3394" y="2086"/>
                    <a:pt x="3387" y="2083"/>
                    <a:pt x="3380" y="2083"/>
                  </a:cubicBezTo>
                  <a:cubicBezTo>
                    <a:pt x="3360" y="2082"/>
                    <a:pt x="3340" y="2084"/>
                    <a:pt x="3320" y="2083"/>
                  </a:cubicBezTo>
                  <a:cubicBezTo>
                    <a:pt x="3288" y="2080"/>
                    <a:pt x="3256" y="2079"/>
                    <a:pt x="3226" y="2072"/>
                  </a:cubicBezTo>
                  <a:cubicBezTo>
                    <a:pt x="3193" y="2064"/>
                    <a:pt x="3162" y="2063"/>
                    <a:pt x="3129" y="2064"/>
                  </a:cubicBezTo>
                  <a:cubicBezTo>
                    <a:pt x="3096" y="2065"/>
                    <a:pt x="3063" y="2062"/>
                    <a:pt x="3030" y="2067"/>
                  </a:cubicBezTo>
                  <a:cubicBezTo>
                    <a:pt x="2994" y="2072"/>
                    <a:pt x="2959" y="2068"/>
                    <a:pt x="2923" y="2061"/>
                  </a:cubicBezTo>
                  <a:cubicBezTo>
                    <a:pt x="2892" y="2054"/>
                    <a:pt x="2880" y="2040"/>
                    <a:pt x="2885" y="2008"/>
                  </a:cubicBezTo>
                  <a:cubicBezTo>
                    <a:pt x="2888" y="1984"/>
                    <a:pt x="2891" y="1960"/>
                    <a:pt x="2900" y="1938"/>
                  </a:cubicBezTo>
                  <a:cubicBezTo>
                    <a:pt x="2924" y="1875"/>
                    <a:pt x="2946" y="1811"/>
                    <a:pt x="2976" y="1751"/>
                  </a:cubicBezTo>
                  <a:cubicBezTo>
                    <a:pt x="3002" y="1701"/>
                    <a:pt x="3038" y="1655"/>
                    <a:pt x="3071" y="1609"/>
                  </a:cubicBezTo>
                  <a:cubicBezTo>
                    <a:pt x="3098" y="1573"/>
                    <a:pt x="3128" y="1539"/>
                    <a:pt x="3157" y="1504"/>
                  </a:cubicBezTo>
                  <a:cubicBezTo>
                    <a:pt x="3160" y="1500"/>
                    <a:pt x="3160" y="1494"/>
                    <a:pt x="3161" y="1489"/>
                  </a:cubicBezTo>
                  <a:cubicBezTo>
                    <a:pt x="3205" y="1459"/>
                    <a:pt x="3248" y="1429"/>
                    <a:pt x="3291" y="1398"/>
                  </a:cubicBezTo>
                  <a:cubicBezTo>
                    <a:pt x="3300" y="1392"/>
                    <a:pt x="3307" y="1382"/>
                    <a:pt x="3316" y="1379"/>
                  </a:cubicBezTo>
                  <a:cubicBezTo>
                    <a:pt x="3340" y="1371"/>
                    <a:pt x="3355" y="1352"/>
                    <a:pt x="3367" y="1333"/>
                  </a:cubicBezTo>
                  <a:cubicBezTo>
                    <a:pt x="3375" y="1320"/>
                    <a:pt x="3383" y="1314"/>
                    <a:pt x="3397" y="1311"/>
                  </a:cubicBezTo>
                  <a:cubicBezTo>
                    <a:pt x="3410" y="1308"/>
                    <a:pt x="3422" y="1303"/>
                    <a:pt x="3435" y="1298"/>
                  </a:cubicBezTo>
                  <a:cubicBezTo>
                    <a:pt x="3461" y="1290"/>
                    <a:pt x="3477" y="1273"/>
                    <a:pt x="3470" y="1242"/>
                  </a:cubicBezTo>
                  <a:cubicBezTo>
                    <a:pt x="3483" y="1237"/>
                    <a:pt x="3495" y="1232"/>
                    <a:pt x="3504" y="1228"/>
                  </a:cubicBezTo>
                  <a:cubicBezTo>
                    <a:pt x="3510" y="1239"/>
                    <a:pt x="3514" y="1245"/>
                    <a:pt x="3517" y="1251"/>
                  </a:cubicBezTo>
                  <a:cubicBezTo>
                    <a:pt x="3520" y="1250"/>
                    <a:pt x="3523" y="1249"/>
                    <a:pt x="3526" y="1248"/>
                  </a:cubicBezTo>
                  <a:cubicBezTo>
                    <a:pt x="3524" y="1235"/>
                    <a:pt x="3522" y="1223"/>
                    <a:pt x="3519" y="1205"/>
                  </a:cubicBezTo>
                  <a:cubicBezTo>
                    <a:pt x="3478" y="1225"/>
                    <a:pt x="3440" y="1239"/>
                    <a:pt x="3408" y="1260"/>
                  </a:cubicBezTo>
                  <a:cubicBezTo>
                    <a:pt x="3361" y="1291"/>
                    <a:pt x="3317" y="1326"/>
                    <a:pt x="3273" y="1360"/>
                  </a:cubicBezTo>
                  <a:cubicBezTo>
                    <a:pt x="3266" y="1365"/>
                    <a:pt x="3256" y="1375"/>
                    <a:pt x="3257" y="1380"/>
                  </a:cubicBezTo>
                  <a:cubicBezTo>
                    <a:pt x="3262" y="1401"/>
                    <a:pt x="3247" y="1409"/>
                    <a:pt x="3236" y="1419"/>
                  </a:cubicBezTo>
                  <a:cubicBezTo>
                    <a:pt x="3211" y="1443"/>
                    <a:pt x="3181" y="1460"/>
                    <a:pt x="3162" y="1490"/>
                  </a:cubicBezTo>
                  <a:close/>
                  <a:moveTo>
                    <a:pt x="4013" y="2116"/>
                  </a:moveTo>
                  <a:cubicBezTo>
                    <a:pt x="3994" y="2115"/>
                    <a:pt x="3975" y="2113"/>
                    <a:pt x="3959" y="2112"/>
                  </a:cubicBezTo>
                  <a:cubicBezTo>
                    <a:pt x="3944" y="2123"/>
                    <a:pt x="3942" y="2146"/>
                    <a:pt x="3919" y="2144"/>
                  </a:cubicBezTo>
                  <a:cubicBezTo>
                    <a:pt x="3902" y="2099"/>
                    <a:pt x="3905" y="2050"/>
                    <a:pt x="3889" y="2005"/>
                  </a:cubicBezTo>
                  <a:cubicBezTo>
                    <a:pt x="3873" y="1959"/>
                    <a:pt x="3864" y="1911"/>
                    <a:pt x="3851" y="1864"/>
                  </a:cubicBezTo>
                  <a:cubicBezTo>
                    <a:pt x="3837" y="1818"/>
                    <a:pt x="3821" y="1772"/>
                    <a:pt x="3806" y="1727"/>
                  </a:cubicBezTo>
                  <a:cubicBezTo>
                    <a:pt x="3799" y="1733"/>
                    <a:pt x="3797" y="1739"/>
                    <a:pt x="3798" y="1744"/>
                  </a:cubicBezTo>
                  <a:cubicBezTo>
                    <a:pt x="3809" y="1788"/>
                    <a:pt x="3823" y="1831"/>
                    <a:pt x="3832" y="1876"/>
                  </a:cubicBezTo>
                  <a:cubicBezTo>
                    <a:pt x="3841" y="1920"/>
                    <a:pt x="3851" y="1964"/>
                    <a:pt x="3835" y="2009"/>
                  </a:cubicBezTo>
                  <a:cubicBezTo>
                    <a:pt x="3832" y="2016"/>
                    <a:pt x="3832" y="2025"/>
                    <a:pt x="3834" y="2032"/>
                  </a:cubicBezTo>
                  <a:cubicBezTo>
                    <a:pt x="3846" y="2075"/>
                    <a:pt x="3838" y="2099"/>
                    <a:pt x="3802" y="2122"/>
                  </a:cubicBezTo>
                  <a:cubicBezTo>
                    <a:pt x="3816" y="2154"/>
                    <a:pt x="3787" y="2169"/>
                    <a:pt x="3769" y="2192"/>
                  </a:cubicBezTo>
                  <a:cubicBezTo>
                    <a:pt x="3796" y="2207"/>
                    <a:pt x="3822" y="2200"/>
                    <a:pt x="3848" y="2200"/>
                  </a:cubicBezTo>
                  <a:cubicBezTo>
                    <a:pt x="3875" y="2199"/>
                    <a:pt x="3897" y="2192"/>
                    <a:pt x="3914" y="2170"/>
                  </a:cubicBezTo>
                  <a:cubicBezTo>
                    <a:pt x="3923" y="2160"/>
                    <a:pt x="3939" y="2156"/>
                    <a:pt x="3951" y="2150"/>
                  </a:cubicBezTo>
                  <a:cubicBezTo>
                    <a:pt x="3956" y="2155"/>
                    <a:pt x="3959" y="2158"/>
                    <a:pt x="3961" y="2161"/>
                  </a:cubicBezTo>
                  <a:cubicBezTo>
                    <a:pt x="3981" y="2190"/>
                    <a:pt x="4011" y="2215"/>
                    <a:pt x="4005" y="2257"/>
                  </a:cubicBezTo>
                  <a:cubicBezTo>
                    <a:pt x="4005" y="2260"/>
                    <a:pt x="4010" y="2264"/>
                    <a:pt x="4015" y="2271"/>
                  </a:cubicBezTo>
                  <a:cubicBezTo>
                    <a:pt x="4041" y="2223"/>
                    <a:pt x="4036" y="2175"/>
                    <a:pt x="4042" y="2123"/>
                  </a:cubicBezTo>
                  <a:cubicBezTo>
                    <a:pt x="4026" y="2131"/>
                    <a:pt x="4016" y="2135"/>
                    <a:pt x="4003" y="2141"/>
                  </a:cubicBezTo>
                  <a:cubicBezTo>
                    <a:pt x="4007" y="2130"/>
                    <a:pt x="4010" y="2122"/>
                    <a:pt x="4012" y="2115"/>
                  </a:cubicBezTo>
                  <a:cubicBezTo>
                    <a:pt x="4018" y="2109"/>
                    <a:pt x="4030" y="2103"/>
                    <a:pt x="4030" y="2097"/>
                  </a:cubicBezTo>
                  <a:cubicBezTo>
                    <a:pt x="4030" y="2072"/>
                    <a:pt x="4026" y="2048"/>
                    <a:pt x="4023" y="2023"/>
                  </a:cubicBezTo>
                  <a:cubicBezTo>
                    <a:pt x="4022" y="2020"/>
                    <a:pt x="4016" y="2017"/>
                    <a:pt x="4008" y="2010"/>
                  </a:cubicBezTo>
                  <a:cubicBezTo>
                    <a:pt x="4013" y="2034"/>
                    <a:pt x="4016" y="2052"/>
                    <a:pt x="4020" y="2070"/>
                  </a:cubicBezTo>
                  <a:cubicBezTo>
                    <a:pt x="4018" y="2070"/>
                    <a:pt x="4016" y="2070"/>
                    <a:pt x="4014" y="2071"/>
                  </a:cubicBezTo>
                  <a:cubicBezTo>
                    <a:pt x="4007" y="2062"/>
                    <a:pt x="4001" y="2054"/>
                    <a:pt x="3990" y="2040"/>
                  </a:cubicBezTo>
                  <a:cubicBezTo>
                    <a:pt x="3982" y="2056"/>
                    <a:pt x="3977" y="2067"/>
                    <a:pt x="3970" y="2083"/>
                  </a:cubicBezTo>
                  <a:cubicBezTo>
                    <a:pt x="3999" y="2082"/>
                    <a:pt x="4008" y="2097"/>
                    <a:pt x="4013" y="2116"/>
                  </a:cubicBezTo>
                  <a:close/>
                  <a:moveTo>
                    <a:pt x="1362" y="4099"/>
                  </a:moveTo>
                  <a:cubicBezTo>
                    <a:pt x="1384" y="4101"/>
                    <a:pt x="1381" y="4113"/>
                    <a:pt x="1371" y="4125"/>
                  </a:cubicBezTo>
                  <a:cubicBezTo>
                    <a:pt x="1367" y="4130"/>
                    <a:pt x="1360" y="4131"/>
                    <a:pt x="1353" y="4135"/>
                  </a:cubicBezTo>
                  <a:cubicBezTo>
                    <a:pt x="1372" y="4151"/>
                    <a:pt x="1383" y="4136"/>
                    <a:pt x="1395" y="4130"/>
                  </a:cubicBezTo>
                  <a:cubicBezTo>
                    <a:pt x="1410" y="4122"/>
                    <a:pt x="1420" y="4132"/>
                    <a:pt x="1433" y="4142"/>
                  </a:cubicBezTo>
                  <a:cubicBezTo>
                    <a:pt x="1429" y="4125"/>
                    <a:pt x="1429" y="4113"/>
                    <a:pt x="1446" y="4119"/>
                  </a:cubicBezTo>
                  <a:cubicBezTo>
                    <a:pt x="1462" y="4125"/>
                    <a:pt x="1472" y="4138"/>
                    <a:pt x="1474" y="4155"/>
                  </a:cubicBezTo>
                  <a:cubicBezTo>
                    <a:pt x="1475" y="4163"/>
                    <a:pt x="1476" y="4171"/>
                    <a:pt x="1478" y="4186"/>
                  </a:cubicBezTo>
                  <a:cubicBezTo>
                    <a:pt x="1487" y="4164"/>
                    <a:pt x="1492" y="4149"/>
                    <a:pt x="1499" y="4130"/>
                  </a:cubicBezTo>
                  <a:cubicBezTo>
                    <a:pt x="1523" y="4152"/>
                    <a:pt x="1545" y="4165"/>
                    <a:pt x="1549" y="4198"/>
                  </a:cubicBezTo>
                  <a:cubicBezTo>
                    <a:pt x="1551" y="4218"/>
                    <a:pt x="1553" y="4246"/>
                    <a:pt x="1580" y="4262"/>
                  </a:cubicBezTo>
                  <a:cubicBezTo>
                    <a:pt x="1584" y="4250"/>
                    <a:pt x="1587" y="4240"/>
                    <a:pt x="1590" y="4231"/>
                  </a:cubicBezTo>
                  <a:cubicBezTo>
                    <a:pt x="1563" y="4214"/>
                    <a:pt x="1559" y="4202"/>
                    <a:pt x="1570" y="4165"/>
                  </a:cubicBezTo>
                  <a:cubicBezTo>
                    <a:pt x="1585" y="4180"/>
                    <a:pt x="1599" y="4193"/>
                    <a:pt x="1614" y="4208"/>
                  </a:cubicBezTo>
                  <a:cubicBezTo>
                    <a:pt x="1620" y="4196"/>
                    <a:pt x="1626" y="4185"/>
                    <a:pt x="1630" y="4177"/>
                  </a:cubicBezTo>
                  <a:cubicBezTo>
                    <a:pt x="1667" y="4201"/>
                    <a:pt x="1682" y="4226"/>
                    <a:pt x="1683" y="4260"/>
                  </a:cubicBezTo>
                  <a:cubicBezTo>
                    <a:pt x="1699" y="4247"/>
                    <a:pt x="1685" y="4222"/>
                    <a:pt x="1714" y="4221"/>
                  </a:cubicBezTo>
                  <a:cubicBezTo>
                    <a:pt x="1714" y="4240"/>
                    <a:pt x="1714" y="4257"/>
                    <a:pt x="1714" y="4284"/>
                  </a:cubicBezTo>
                  <a:cubicBezTo>
                    <a:pt x="1725" y="4272"/>
                    <a:pt x="1734" y="4265"/>
                    <a:pt x="1733" y="4262"/>
                  </a:cubicBezTo>
                  <a:cubicBezTo>
                    <a:pt x="1724" y="4234"/>
                    <a:pt x="1742" y="4234"/>
                    <a:pt x="1763" y="4232"/>
                  </a:cubicBezTo>
                  <a:cubicBezTo>
                    <a:pt x="1763" y="4242"/>
                    <a:pt x="1763" y="4250"/>
                    <a:pt x="1763" y="4250"/>
                  </a:cubicBezTo>
                  <a:cubicBezTo>
                    <a:pt x="1806" y="4281"/>
                    <a:pt x="1844" y="4308"/>
                    <a:pt x="1882" y="4335"/>
                  </a:cubicBezTo>
                  <a:cubicBezTo>
                    <a:pt x="1860" y="4302"/>
                    <a:pt x="1889" y="4285"/>
                    <a:pt x="1908" y="4269"/>
                  </a:cubicBezTo>
                  <a:cubicBezTo>
                    <a:pt x="1927" y="4254"/>
                    <a:pt x="1953" y="4247"/>
                    <a:pt x="1976" y="4236"/>
                  </a:cubicBezTo>
                  <a:cubicBezTo>
                    <a:pt x="1977" y="4238"/>
                    <a:pt x="1978" y="4239"/>
                    <a:pt x="1980" y="4241"/>
                  </a:cubicBezTo>
                  <a:cubicBezTo>
                    <a:pt x="1976" y="4248"/>
                    <a:pt x="1973" y="4256"/>
                    <a:pt x="1966" y="4268"/>
                  </a:cubicBezTo>
                  <a:cubicBezTo>
                    <a:pt x="1983" y="4268"/>
                    <a:pt x="1997" y="4270"/>
                    <a:pt x="2011" y="4267"/>
                  </a:cubicBezTo>
                  <a:cubicBezTo>
                    <a:pt x="2024" y="4265"/>
                    <a:pt x="2036" y="4257"/>
                    <a:pt x="2047" y="4253"/>
                  </a:cubicBezTo>
                  <a:cubicBezTo>
                    <a:pt x="2050" y="4263"/>
                    <a:pt x="2051" y="4275"/>
                    <a:pt x="2053" y="4275"/>
                  </a:cubicBezTo>
                  <a:cubicBezTo>
                    <a:pt x="2061" y="4276"/>
                    <a:pt x="2070" y="4273"/>
                    <a:pt x="2080" y="4271"/>
                  </a:cubicBezTo>
                  <a:cubicBezTo>
                    <a:pt x="2082" y="4282"/>
                    <a:pt x="2085" y="4293"/>
                    <a:pt x="2088" y="4305"/>
                  </a:cubicBezTo>
                  <a:cubicBezTo>
                    <a:pt x="2067" y="4283"/>
                    <a:pt x="2050" y="4309"/>
                    <a:pt x="2026" y="4306"/>
                  </a:cubicBezTo>
                  <a:cubicBezTo>
                    <a:pt x="2031" y="4319"/>
                    <a:pt x="2034" y="4328"/>
                    <a:pt x="2037" y="4336"/>
                  </a:cubicBezTo>
                  <a:cubicBezTo>
                    <a:pt x="2046" y="4309"/>
                    <a:pt x="2067" y="4307"/>
                    <a:pt x="2088" y="4305"/>
                  </a:cubicBezTo>
                  <a:cubicBezTo>
                    <a:pt x="2095" y="4294"/>
                    <a:pt x="2101" y="4283"/>
                    <a:pt x="2109" y="4270"/>
                  </a:cubicBezTo>
                  <a:cubicBezTo>
                    <a:pt x="2116" y="4271"/>
                    <a:pt x="2127" y="4271"/>
                    <a:pt x="2137" y="4272"/>
                  </a:cubicBezTo>
                  <a:cubicBezTo>
                    <a:pt x="2141" y="4283"/>
                    <a:pt x="2148" y="4293"/>
                    <a:pt x="2148" y="4303"/>
                  </a:cubicBezTo>
                  <a:cubicBezTo>
                    <a:pt x="2148" y="4311"/>
                    <a:pt x="2140" y="4319"/>
                    <a:pt x="2136" y="4327"/>
                  </a:cubicBezTo>
                  <a:cubicBezTo>
                    <a:pt x="2155" y="4337"/>
                    <a:pt x="2156" y="4323"/>
                    <a:pt x="2161" y="4312"/>
                  </a:cubicBezTo>
                  <a:cubicBezTo>
                    <a:pt x="2165" y="4300"/>
                    <a:pt x="2173" y="4290"/>
                    <a:pt x="2179" y="4280"/>
                  </a:cubicBezTo>
                  <a:cubicBezTo>
                    <a:pt x="2172" y="4273"/>
                    <a:pt x="2166" y="4266"/>
                    <a:pt x="2159" y="4260"/>
                  </a:cubicBezTo>
                  <a:cubicBezTo>
                    <a:pt x="2160" y="4258"/>
                    <a:pt x="2161" y="4256"/>
                    <a:pt x="2162" y="4254"/>
                  </a:cubicBezTo>
                  <a:cubicBezTo>
                    <a:pt x="2174" y="4256"/>
                    <a:pt x="2186" y="4258"/>
                    <a:pt x="2198" y="4260"/>
                  </a:cubicBezTo>
                  <a:cubicBezTo>
                    <a:pt x="2210" y="4248"/>
                    <a:pt x="2211" y="4235"/>
                    <a:pt x="2204" y="4219"/>
                  </a:cubicBezTo>
                  <a:cubicBezTo>
                    <a:pt x="2194" y="4223"/>
                    <a:pt x="2185" y="4227"/>
                    <a:pt x="2175" y="4231"/>
                  </a:cubicBezTo>
                  <a:cubicBezTo>
                    <a:pt x="2168" y="4223"/>
                    <a:pt x="2161" y="4215"/>
                    <a:pt x="2152" y="4205"/>
                  </a:cubicBezTo>
                  <a:cubicBezTo>
                    <a:pt x="2170" y="4200"/>
                    <a:pt x="2184" y="4196"/>
                    <a:pt x="2201" y="4190"/>
                  </a:cubicBezTo>
                  <a:cubicBezTo>
                    <a:pt x="2190" y="4187"/>
                    <a:pt x="2183" y="4185"/>
                    <a:pt x="2174" y="4183"/>
                  </a:cubicBezTo>
                  <a:cubicBezTo>
                    <a:pt x="2181" y="4177"/>
                    <a:pt x="2186" y="4172"/>
                    <a:pt x="2194" y="4166"/>
                  </a:cubicBezTo>
                  <a:cubicBezTo>
                    <a:pt x="2178" y="4160"/>
                    <a:pt x="2166" y="4157"/>
                    <a:pt x="2148" y="4151"/>
                  </a:cubicBezTo>
                  <a:cubicBezTo>
                    <a:pt x="2177" y="4118"/>
                    <a:pt x="2203" y="4090"/>
                    <a:pt x="2230" y="4060"/>
                  </a:cubicBezTo>
                  <a:cubicBezTo>
                    <a:pt x="2222" y="4053"/>
                    <a:pt x="2215" y="4047"/>
                    <a:pt x="2212" y="4045"/>
                  </a:cubicBezTo>
                  <a:cubicBezTo>
                    <a:pt x="2189" y="4061"/>
                    <a:pt x="2170" y="4075"/>
                    <a:pt x="2154" y="4087"/>
                  </a:cubicBezTo>
                  <a:cubicBezTo>
                    <a:pt x="2149" y="4104"/>
                    <a:pt x="2144" y="4119"/>
                    <a:pt x="2142" y="4129"/>
                  </a:cubicBezTo>
                  <a:cubicBezTo>
                    <a:pt x="2119" y="4134"/>
                    <a:pt x="2102" y="4138"/>
                    <a:pt x="2086" y="4141"/>
                  </a:cubicBezTo>
                  <a:cubicBezTo>
                    <a:pt x="2087" y="4156"/>
                    <a:pt x="2088" y="4164"/>
                    <a:pt x="2089" y="4181"/>
                  </a:cubicBezTo>
                  <a:cubicBezTo>
                    <a:pt x="2074" y="4166"/>
                    <a:pt x="2064" y="4157"/>
                    <a:pt x="2056" y="4150"/>
                  </a:cubicBezTo>
                  <a:cubicBezTo>
                    <a:pt x="2046" y="4167"/>
                    <a:pt x="2036" y="4182"/>
                    <a:pt x="2026" y="4198"/>
                  </a:cubicBezTo>
                  <a:cubicBezTo>
                    <a:pt x="2077" y="4207"/>
                    <a:pt x="2077" y="4207"/>
                    <a:pt x="2082" y="4217"/>
                  </a:cubicBezTo>
                  <a:cubicBezTo>
                    <a:pt x="2051" y="4216"/>
                    <a:pt x="2020" y="4216"/>
                    <a:pt x="1989" y="4214"/>
                  </a:cubicBezTo>
                  <a:cubicBezTo>
                    <a:pt x="1985" y="4214"/>
                    <a:pt x="1981" y="4209"/>
                    <a:pt x="1975" y="4204"/>
                  </a:cubicBezTo>
                  <a:cubicBezTo>
                    <a:pt x="1986" y="4197"/>
                    <a:pt x="1994" y="4192"/>
                    <a:pt x="2001" y="4186"/>
                  </a:cubicBezTo>
                  <a:cubicBezTo>
                    <a:pt x="1999" y="4181"/>
                    <a:pt x="1999" y="4177"/>
                    <a:pt x="1997" y="4177"/>
                  </a:cubicBezTo>
                  <a:cubicBezTo>
                    <a:pt x="1971" y="4169"/>
                    <a:pt x="1945" y="4160"/>
                    <a:pt x="1919" y="4154"/>
                  </a:cubicBezTo>
                  <a:cubicBezTo>
                    <a:pt x="1902" y="4150"/>
                    <a:pt x="1885" y="4150"/>
                    <a:pt x="1868" y="4147"/>
                  </a:cubicBezTo>
                  <a:cubicBezTo>
                    <a:pt x="1854" y="4143"/>
                    <a:pt x="1841" y="4144"/>
                    <a:pt x="1826" y="4145"/>
                  </a:cubicBezTo>
                  <a:cubicBezTo>
                    <a:pt x="1802" y="4147"/>
                    <a:pt x="1777" y="4140"/>
                    <a:pt x="1753" y="4134"/>
                  </a:cubicBezTo>
                  <a:cubicBezTo>
                    <a:pt x="1736" y="4130"/>
                    <a:pt x="1721" y="4121"/>
                    <a:pt x="1705" y="4114"/>
                  </a:cubicBezTo>
                  <a:cubicBezTo>
                    <a:pt x="1712" y="4099"/>
                    <a:pt x="1712" y="4099"/>
                    <a:pt x="1711" y="4079"/>
                  </a:cubicBezTo>
                  <a:cubicBezTo>
                    <a:pt x="1697" y="4091"/>
                    <a:pt x="1685" y="4102"/>
                    <a:pt x="1670" y="4116"/>
                  </a:cubicBezTo>
                  <a:cubicBezTo>
                    <a:pt x="1682" y="4124"/>
                    <a:pt x="1690" y="4133"/>
                    <a:pt x="1701" y="4136"/>
                  </a:cubicBezTo>
                  <a:cubicBezTo>
                    <a:pt x="1737" y="4149"/>
                    <a:pt x="1774" y="4159"/>
                    <a:pt x="1811" y="4170"/>
                  </a:cubicBezTo>
                  <a:cubicBezTo>
                    <a:pt x="1825" y="4174"/>
                    <a:pt x="1840" y="4174"/>
                    <a:pt x="1846" y="4191"/>
                  </a:cubicBezTo>
                  <a:cubicBezTo>
                    <a:pt x="1847" y="4191"/>
                    <a:pt x="1847" y="4191"/>
                    <a:pt x="1847" y="4191"/>
                  </a:cubicBezTo>
                  <a:cubicBezTo>
                    <a:pt x="1830" y="4189"/>
                    <a:pt x="1812" y="4191"/>
                    <a:pt x="1796" y="4186"/>
                  </a:cubicBezTo>
                  <a:cubicBezTo>
                    <a:pt x="1734" y="4167"/>
                    <a:pt x="1670" y="4153"/>
                    <a:pt x="1615" y="4118"/>
                  </a:cubicBezTo>
                  <a:cubicBezTo>
                    <a:pt x="1614" y="4117"/>
                    <a:pt x="1612" y="4117"/>
                    <a:pt x="1611" y="4116"/>
                  </a:cubicBezTo>
                  <a:cubicBezTo>
                    <a:pt x="1596" y="4109"/>
                    <a:pt x="1583" y="4102"/>
                    <a:pt x="1566" y="4115"/>
                  </a:cubicBezTo>
                  <a:cubicBezTo>
                    <a:pt x="1562" y="4118"/>
                    <a:pt x="1550" y="4113"/>
                    <a:pt x="1543" y="4110"/>
                  </a:cubicBezTo>
                  <a:cubicBezTo>
                    <a:pt x="1509" y="4093"/>
                    <a:pt x="1478" y="4071"/>
                    <a:pt x="1438" y="4066"/>
                  </a:cubicBezTo>
                  <a:cubicBezTo>
                    <a:pt x="1414" y="4063"/>
                    <a:pt x="1385" y="4058"/>
                    <a:pt x="1368" y="4043"/>
                  </a:cubicBezTo>
                  <a:cubicBezTo>
                    <a:pt x="1352" y="4029"/>
                    <a:pt x="1334" y="4023"/>
                    <a:pt x="1317" y="4016"/>
                  </a:cubicBezTo>
                  <a:cubicBezTo>
                    <a:pt x="1292" y="4006"/>
                    <a:pt x="1268" y="3997"/>
                    <a:pt x="1246" y="3981"/>
                  </a:cubicBezTo>
                  <a:cubicBezTo>
                    <a:pt x="1225" y="3967"/>
                    <a:pt x="1202" y="3951"/>
                    <a:pt x="1167" y="3957"/>
                  </a:cubicBezTo>
                  <a:cubicBezTo>
                    <a:pt x="1173" y="3978"/>
                    <a:pt x="1178" y="3996"/>
                    <a:pt x="1183" y="4014"/>
                  </a:cubicBezTo>
                  <a:cubicBezTo>
                    <a:pt x="1183" y="4015"/>
                    <a:pt x="1187" y="4015"/>
                    <a:pt x="1193" y="4017"/>
                  </a:cubicBezTo>
                  <a:cubicBezTo>
                    <a:pt x="1197" y="4009"/>
                    <a:pt x="1201" y="4001"/>
                    <a:pt x="1206" y="3992"/>
                  </a:cubicBezTo>
                  <a:cubicBezTo>
                    <a:pt x="1249" y="4016"/>
                    <a:pt x="1296" y="4033"/>
                    <a:pt x="1339" y="4063"/>
                  </a:cubicBezTo>
                  <a:cubicBezTo>
                    <a:pt x="1330" y="4070"/>
                    <a:pt x="1325" y="4073"/>
                    <a:pt x="1320" y="4077"/>
                  </a:cubicBezTo>
                  <a:cubicBezTo>
                    <a:pt x="1337" y="4116"/>
                    <a:pt x="1337" y="4116"/>
                    <a:pt x="1363" y="4098"/>
                  </a:cubicBezTo>
                  <a:lnTo>
                    <a:pt x="1362" y="4099"/>
                  </a:lnTo>
                  <a:close/>
                  <a:moveTo>
                    <a:pt x="3244" y="2833"/>
                  </a:moveTo>
                  <a:cubicBezTo>
                    <a:pt x="3259" y="2849"/>
                    <a:pt x="3267" y="2859"/>
                    <a:pt x="3277" y="2868"/>
                  </a:cubicBezTo>
                  <a:cubicBezTo>
                    <a:pt x="3308" y="2895"/>
                    <a:pt x="3339" y="2924"/>
                    <a:pt x="3373" y="2948"/>
                  </a:cubicBezTo>
                  <a:cubicBezTo>
                    <a:pt x="3396" y="2965"/>
                    <a:pt x="3423" y="2977"/>
                    <a:pt x="3441" y="3001"/>
                  </a:cubicBezTo>
                  <a:cubicBezTo>
                    <a:pt x="3445" y="3005"/>
                    <a:pt x="3453" y="3011"/>
                    <a:pt x="3457" y="3010"/>
                  </a:cubicBezTo>
                  <a:cubicBezTo>
                    <a:pt x="3480" y="3003"/>
                    <a:pt x="3496" y="3017"/>
                    <a:pt x="3513" y="3025"/>
                  </a:cubicBezTo>
                  <a:cubicBezTo>
                    <a:pt x="3550" y="3042"/>
                    <a:pt x="3559" y="3040"/>
                    <a:pt x="3584" y="3008"/>
                  </a:cubicBezTo>
                  <a:cubicBezTo>
                    <a:pt x="3591" y="3000"/>
                    <a:pt x="3597" y="2991"/>
                    <a:pt x="3601" y="2981"/>
                  </a:cubicBezTo>
                  <a:cubicBezTo>
                    <a:pt x="3617" y="2941"/>
                    <a:pt x="3632" y="2900"/>
                    <a:pt x="3647" y="2863"/>
                  </a:cubicBezTo>
                  <a:cubicBezTo>
                    <a:pt x="3637" y="2849"/>
                    <a:pt x="3631" y="2839"/>
                    <a:pt x="3619" y="2823"/>
                  </a:cubicBezTo>
                  <a:cubicBezTo>
                    <a:pt x="3666" y="2823"/>
                    <a:pt x="3636" y="2787"/>
                    <a:pt x="3651" y="2771"/>
                  </a:cubicBezTo>
                  <a:cubicBezTo>
                    <a:pt x="3661" y="2770"/>
                    <a:pt x="3671" y="2770"/>
                    <a:pt x="3688" y="2769"/>
                  </a:cubicBezTo>
                  <a:cubicBezTo>
                    <a:pt x="3683" y="2789"/>
                    <a:pt x="3679" y="2807"/>
                    <a:pt x="3676" y="2824"/>
                  </a:cubicBezTo>
                  <a:cubicBezTo>
                    <a:pt x="3676" y="2827"/>
                    <a:pt x="3679" y="2831"/>
                    <a:pt x="3683" y="2837"/>
                  </a:cubicBezTo>
                  <a:cubicBezTo>
                    <a:pt x="3691" y="2828"/>
                    <a:pt x="3697" y="2821"/>
                    <a:pt x="3705" y="2813"/>
                  </a:cubicBezTo>
                  <a:cubicBezTo>
                    <a:pt x="3713" y="2830"/>
                    <a:pt x="3735" y="2834"/>
                    <a:pt x="3736" y="2856"/>
                  </a:cubicBezTo>
                  <a:cubicBezTo>
                    <a:pt x="3736" y="2860"/>
                    <a:pt x="3751" y="2864"/>
                    <a:pt x="3759" y="2867"/>
                  </a:cubicBezTo>
                  <a:cubicBezTo>
                    <a:pt x="3774" y="2819"/>
                    <a:pt x="3788" y="2777"/>
                    <a:pt x="3802" y="2735"/>
                  </a:cubicBezTo>
                  <a:cubicBezTo>
                    <a:pt x="3807" y="2717"/>
                    <a:pt x="3812" y="2699"/>
                    <a:pt x="3817" y="2683"/>
                  </a:cubicBezTo>
                  <a:cubicBezTo>
                    <a:pt x="3784" y="2659"/>
                    <a:pt x="3757" y="2631"/>
                    <a:pt x="3718" y="2655"/>
                  </a:cubicBezTo>
                  <a:cubicBezTo>
                    <a:pt x="3744" y="2672"/>
                    <a:pt x="3746" y="2681"/>
                    <a:pt x="3734" y="2705"/>
                  </a:cubicBezTo>
                  <a:cubicBezTo>
                    <a:pt x="3727" y="2719"/>
                    <a:pt x="3722" y="2734"/>
                    <a:pt x="3715" y="2751"/>
                  </a:cubicBezTo>
                  <a:cubicBezTo>
                    <a:pt x="3689" y="2743"/>
                    <a:pt x="3653" y="2761"/>
                    <a:pt x="3635" y="2719"/>
                  </a:cubicBezTo>
                  <a:cubicBezTo>
                    <a:pt x="3641" y="2706"/>
                    <a:pt x="3648" y="2690"/>
                    <a:pt x="3653" y="2679"/>
                  </a:cubicBezTo>
                  <a:cubicBezTo>
                    <a:pt x="3645" y="2661"/>
                    <a:pt x="3639" y="2646"/>
                    <a:pt x="3632" y="2630"/>
                  </a:cubicBezTo>
                  <a:cubicBezTo>
                    <a:pt x="3618" y="2631"/>
                    <a:pt x="3613" y="2639"/>
                    <a:pt x="3609" y="2653"/>
                  </a:cubicBezTo>
                  <a:cubicBezTo>
                    <a:pt x="3604" y="2676"/>
                    <a:pt x="3598" y="2700"/>
                    <a:pt x="3589" y="2722"/>
                  </a:cubicBezTo>
                  <a:cubicBezTo>
                    <a:pt x="3575" y="2759"/>
                    <a:pt x="3545" y="2778"/>
                    <a:pt x="3507" y="2781"/>
                  </a:cubicBezTo>
                  <a:cubicBezTo>
                    <a:pt x="3476" y="2784"/>
                    <a:pt x="3445" y="2782"/>
                    <a:pt x="3415" y="2782"/>
                  </a:cubicBezTo>
                  <a:cubicBezTo>
                    <a:pt x="3371" y="2782"/>
                    <a:pt x="3327" y="2782"/>
                    <a:pt x="3281" y="2782"/>
                  </a:cubicBezTo>
                  <a:cubicBezTo>
                    <a:pt x="3288" y="2800"/>
                    <a:pt x="3293" y="2814"/>
                    <a:pt x="3299" y="2829"/>
                  </a:cubicBezTo>
                  <a:cubicBezTo>
                    <a:pt x="3280" y="2830"/>
                    <a:pt x="3265" y="2831"/>
                    <a:pt x="3244" y="2833"/>
                  </a:cubicBezTo>
                  <a:close/>
                  <a:moveTo>
                    <a:pt x="830" y="1856"/>
                  </a:moveTo>
                  <a:cubicBezTo>
                    <a:pt x="837" y="1850"/>
                    <a:pt x="845" y="1845"/>
                    <a:pt x="849" y="1838"/>
                  </a:cubicBezTo>
                  <a:cubicBezTo>
                    <a:pt x="878" y="1790"/>
                    <a:pt x="930" y="1765"/>
                    <a:pt x="986" y="1773"/>
                  </a:cubicBezTo>
                  <a:cubicBezTo>
                    <a:pt x="1014" y="1777"/>
                    <a:pt x="1041" y="1779"/>
                    <a:pt x="1067" y="1757"/>
                  </a:cubicBezTo>
                  <a:cubicBezTo>
                    <a:pt x="1085" y="1782"/>
                    <a:pt x="1108" y="1788"/>
                    <a:pt x="1134" y="1779"/>
                  </a:cubicBezTo>
                  <a:cubicBezTo>
                    <a:pt x="1158" y="1734"/>
                    <a:pt x="1157" y="1729"/>
                    <a:pt x="1122" y="1697"/>
                  </a:cubicBezTo>
                  <a:cubicBezTo>
                    <a:pt x="1118" y="1694"/>
                    <a:pt x="1113" y="1691"/>
                    <a:pt x="1109" y="1687"/>
                  </a:cubicBezTo>
                  <a:cubicBezTo>
                    <a:pt x="1073" y="1656"/>
                    <a:pt x="1037" y="1625"/>
                    <a:pt x="1001" y="1593"/>
                  </a:cubicBezTo>
                  <a:cubicBezTo>
                    <a:pt x="976" y="1570"/>
                    <a:pt x="953" y="1545"/>
                    <a:pt x="929" y="1521"/>
                  </a:cubicBezTo>
                  <a:cubicBezTo>
                    <a:pt x="900" y="1494"/>
                    <a:pt x="870" y="1477"/>
                    <a:pt x="829" y="1500"/>
                  </a:cubicBezTo>
                  <a:cubicBezTo>
                    <a:pt x="814" y="1509"/>
                    <a:pt x="807" y="1501"/>
                    <a:pt x="806" y="1479"/>
                  </a:cubicBezTo>
                  <a:cubicBezTo>
                    <a:pt x="805" y="1476"/>
                    <a:pt x="804" y="1472"/>
                    <a:pt x="802" y="1464"/>
                  </a:cubicBezTo>
                  <a:cubicBezTo>
                    <a:pt x="793" y="1469"/>
                    <a:pt x="782" y="1471"/>
                    <a:pt x="779" y="1477"/>
                  </a:cubicBezTo>
                  <a:cubicBezTo>
                    <a:pt x="765" y="1506"/>
                    <a:pt x="740" y="1530"/>
                    <a:pt x="737" y="1566"/>
                  </a:cubicBezTo>
                  <a:cubicBezTo>
                    <a:pt x="736" y="1577"/>
                    <a:pt x="726" y="1586"/>
                    <a:pt x="721" y="1597"/>
                  </a:cubicBezTo>
                  <a:cubicBezTo>
                    <a:pt x="712" y="1619"/>
                    <a:pt x="702" y="1640"/>
                    <a:pt x="696" y="1663"/>
                  </a:cubicBezTo>
                  <a:cubicBezTo>
                    <a:pt x="691" y="1684"/>
                    <a:pt x="691" y="1706"/>
                    <a:pt x="688" y="1728"/>
                  </a:cubicBezTo>
                  <a:cubicBezTo>
                    <a:pt x="684" y="1750"/>
                    <a:pt x="679" y="1771"/>
                    <a:pt x="675" y="1795"/>
                  </a:cubicBezTo>
                  <a:cubicBezTo>
                    <a:pt x="685" y="1794"/>
                    <a:pt x="689" y="1795"/>
                    <a:pt x="692" y="1793"/>
                  </a:cubicBezTo>
                  <a:cubicBezTo>
                    <a:pt x="696" y="1792"/>
                    <a:pt x="699" y="1789"/>
                    <a:pt x="701" y="1787"/>
                  </a:cubicBezTo>
                  <a:cubicBezTo>
                    <a:pt x="697" y="1752"/>
                    <a:pt x="697" y="1752"/>
                    <a:pt x="718" y="1717"/>
                  </a:cubicBezTo>
                  <a:cubicBezTo>
                    <a:pt x="721" y="1711"/>
                    <a:pt x="723" y="1704"/>
                    <a:pt x="723" y="1698"/>
                  </a:cubicBezTo>
                  <a:cubicBezTo>
                    <a:pt x="719" y="1662"/>
                    <a:pt x="749" y="1644"/>
                    <a:pt x="764" y="1619"/>
                  </a:cubicBezTo>
                  <a:cubicBezTo>
                    <a:pt x="769" y="1610"/>
                    <a:pt x="782" y="1605"/>
                    <a:pt x="791" y="1599"/>
                  </a:cubicBezTo>
                  <a:cubicBezTo>
                    <a:pt x="818" y="1627"/>
                    <a:pt x="793" y="1645"/>
                    <a:pt x="783" y="1663"/>
                  </a:cubicBezTo>
                  <a:cubicBezTo>
                    <a:pt x="792" y="1671"/>
                    <a:pt x="807" y="1677"/>
                    <a:pt x="806" y="1683"/>
                  </a:cubicBezTo>
                  <a:cubicBezTo>
                    <a:pt x="805" y="1723"/>
                    <a:pt x="828" y="1761"/>
                    <a:pt x="816" y="1801"/>
                  </a:cubicBezTo>
                  <a:cubicBezTo>
                    <a:pt x="809" y="1821"/>
                    <a:pt x="814" y="1838"/>
                    <a:pt x="830" y="1856"/>
                  </a:cubicBezTo>
                  <a:close/>
                  <a:moveTo>
                    <a:pt x="924" y="2975"/>
                  </a:moveTo>
                  <a:cubicBezTo>
                    <a:pt x="931" y="2969"/>
                    <a:pt x="936" y="2965"/>
                    <a:pt x="941" y="2961"/>
                  </a:cubicBezTo>
                  <a:cubicBezTo>
                    <a:pt x="985" y="2925"/>
                    <a:pt x="1029" y="2889"/>
                    <a:pt x="1073" y="2852"/>
                  </a:cubicBezTo>
                  <a:cubicBezTo>
                    <a:pt x="1086" y="2840"/>
                    <a:pt x="1098" y="2825"/>
                    <a:pt x="1109" y="2810"/>
                  </a:cubicBezTo>
                  <a:cubicBezTo>
                    <a:pt x="1119" y="2796"/>
                    <a:pt x="1112" y="2778"/>
                    <a:pt x="1096" y="2776"/>
                  </a:cubicBezTo>
                  <a:cubicBezTo>
                    <a:pt x="1070" y="2774"/>
                    <a:pt x="1044" y="2773"/>
                    <a:pt x="1018" y="2771"/>
                  </a:cubicBezTo>
                  <a:cubicBezTo>
                    <a:pt x="984" y="2769"/>
                    <a:pt x="950" y="2767"/>
                    <a:pt x="915" y="2765"/>
                  </a:cubicBezTo>
                  <a:cubicBezTo>
                    <a:pt x="882" y="2762"/>
                    <a:pt x="858" y="2745"/>
                    <a:pt x="842" y="2717"/>
                  </a:cubicBezTo>
                  <a:cubicBezTo>
                    <a:pt x="834" y="2703"/>
                    <a:pt x="827" y="2688"/>
                    <a:pt x="820" y="2674"/>
                  </a:cubicBezTo>
                  <a:cubicBezTo>
                    <a:pt x="816" y="2668"/>
                    <a:pt x="812" y="2662"/>
                    <a:pt x="806" y="2653"/>
                  </a:cubicBezTo>
                  <a:cubicBezTo>
                    <a:pt x="800" y="2662"/>
                    <a:pt x="798" y="2669"/>
                    <a:pt x="793" y="2673"/>
                  </a:cubicBezTo>
                  <a:cubicBezTo>
                    <a:pt x="756" y="2707"/>
                    <a:pt x="763" y="2744"/>
                    <a:pt x="786" y="2783"/>
                  </a:cubicBezTo>
                  <a:cubicBezTo>
                    <a:pt x="793" y="2795"/>
                    <a:pt x="794" y="2810"/>
                    <a:pt x="795" y="2824"/>
                  </a:cubicBezTo>
                  <a:cubicBezTo>
                    <a:pt x="798" y="2860"/>
                    <a:pt x="797" y="2896"/>
                    <a:pt x="815" y="2929"/>
                  </a:cubicBezTo>
                  <a:cubicBezTo>
                    <a:pt x="823" y="2943"/>
                    <a:pt x="833" y="2957"/>
                    <a:pt x="843" y="2970"/>
                  </a:cubicBezTo>
                  <a:cubicBezTo>
                    <a:pt x="850" y="2979"/>
                    <a:pt x="858" y="2993"/>
                    <a:pt x="867" y="2993"/>
                  </a:cubicBezTo>
                  <a:cubicBezTo>
                    <a:pt x="882" y="2994"/>
                    <a:pt x="892" y="2981"/>
                    <a:pt x="894" y="2965"/>
                  </a:cubicBezTo>
                  <a:cubicBezTo>
                    <a:pt x="895" y="2963"/>
                    <a:pt x="899" y="2962"/>
                    <a:pt x="901" y="2961"/>
                  </a:cubicBezTo>
                  <a:cubicBezTo>
                    <a:pt x="908" y="2965"/>
                    <a:pt x="914" y="2969"/>
                    <a:pt x="924" y="2975"/>
                  </a:cubicBezTo>
                  <a:close/>
                  <a:moveTo>
                    <a:pt x="3183" y="1318"/>
                  </a:moveTo>
                  <a:cubicBezTo>
                    <a:pt x="3203" y="1303"/>
                    <a:pt x="3221" y="1288"/>
                    <a:pt x="3241" y="1275"/>
                  </a:cubicBezTo>
                  <a:cubicBezTo>
                    <a:pt x="3289" y="1244"/>
                    <a:pt x="3337" y="1213"/>
                    <a:pt x="3386" y="1184"/>
                  </a:cubicBezTo>
                  <a:cubicBezTo>
                    <a:pt x="3451" y="1145"/>
                    <a:pt x="3516" y="1107"/>
                    <a:pt x="3588" y="1082"/>
                  </a:cubicBezTo>
                  <a:cubicBezTo>
                    <a:pt x="3608" y="1075"/>
                    <a:pt x="3625" y="1068"/>
                    <a:pt x="3644" y="1081"/>
                  </a:cubicBezTo>
                  <a:cubicBezTo>
                    <a:pt x="3648" y="1084"/>
                    <a:pt x="3657" y="1082"/>
                    <a:pt x="3663" y="1080"/>
                  </a:cubicBezTo>
                  <a:cubicBezTo>
                    <a:pt x="3676" y="1076"/>
                    <a:pt x="3689" y="1071"/>
                    <a:pt x="3704" y="1066"/>
                  </a:cubicBezTo>
                  <a:cubicBezTo>
                    <a:pt x="3696" y="1033"/>
                    <a:pt x="3689" y="1001"/>
                    <a:pt x="3679" y="961"/>
                  </a:cubicBezTo>
                  <a:cubicBezTo>
                    <a:pt x="3660" y="978"/>
                    <a:pt x="3645" y="990"/>
                    <a:pt x="3630" y="1003"/>
                  </a:cubicBezTo>
                  <a:cubicBezTo>
                    <a:pt x="3623" y="998"/>
                    <a:pt x="3615" y="992"/>
                    <a:pt x="3604" y="984"/>
                  </a:cubicBezTo>
                  <a:cubicBezTo>
                    <a:pt x="3618" y="977"/>
                    <a:pt x="3624" y="974"/>
                    <a:pt x="3631" y="970"/>
                  </a:cubicBezTo>
                  <a:cubicBezTo>
                    <a:pt x="3632" y="938"/>
                    <a:pt x="3610" y="927"/>
                    <a:pt x="3585" y="917"/>
                  </a:cubicBezTo>
                  <a:cubicBezTo>
                    <a:pt x="3581" y="922"/>
                    <a:pt x="3579" y="927"/>
                    <a:pt x="3575" y="930"/>
                  </a:cubicBezTo>
                  <a:cubicBezTo>
                    <a:pt x="3558" y="946"/>
                    <a:pt x="3562" y="975"/>
                    <a:pt x="3538" y="986"/>
                  </a:cubicBezTo>
                  <a:cubicBezTo>
                    <a:pt x="3519" y="995"/>
                    <a:pt x="3500" y="1006"/>
                    <a:pt x="3482" y="1016"/>
                  </a:cubicBezTo>
                  <a:cubicBezTo>
                    <a:pt x="3476" y="1019"/>
                    <a:pt x="3466" y="1021"/>
                    <a:pt x="3466" y="1024"/>
                  </a:cubicBezTo>
                  <a:cubicBezTo>
                    <a:pt x="3462" y="1050"/>
                    <a:pt x="3439" y="1055"/>
                    <a:pt x="3421" y="1066"/>
                  </a:cubicBezTo>
                  <a:cubicBezTo>
                    <a:pt x="3410" y="1074"/>
                    <a:pt x="3398" y="1081"/>
                    <a:pt x="3391" y="1092"/>
                  </a:cubicBezTo>
                  <a:cubicBezTo>
                    <a:pt x="3378" y="1111"/>
                    <a:pt x="3361" y="1124"/>
                    <a:pt x="3342" y="1137"/>
                  </a:cubicBezTo>
                  <a:cubicBezTo>
                    <a:pt x="3328" y="1146"/>
                    <a:pt x="3315" y="1159"/>
                    <a:pt x="3309" y="1174"/>
                  </a:cubicBezTo>
                  <a:cubicBezTo>
                    <a:pt x="3296" y="1205"/>
                    <a:pt x="3268" y="1214"/>
                    <a:pt x="3243" y="1228"/>
                  </a:cubicBezTo>
                  <a:cubicBezTo>
                    <a:pt x="3239" y="1230"/>
                    <a:pt x="3236" y="1232"/>
                    <a:pt x="3233" y="1234"/>
                  </a:cubicBezTo>
                  <a:cubicBezTo>
                    <a:pt x="3234" y="1242"/>
                    <a:pt x="3234" y="1248"/>
                    <a:pt x="3235" y="1251"/>
                  </a:cubicBezTo>
                  <a:cubicBezTo>
                    <a:pt x="3219" y="1266"/>
                    <a:pt x="3205" y="1280"/>
                    <a:pt x="3191" y="1294"/>
                  </a:cubicBezTo>
                  <a:cubicBezTo>
                    <a:pt x="3183" y="1294"/>
                    <a:pt x="3173" y="1295"/>
                    <a:pt x="3156" y="1296"/>
                  </a:cubicBezTo>
                  <a:cubicBezTo>
                    <a:pt x="3168" y="1306"/>
                    <a:pt x="3175" y="1312"/>
                    <a:pt x="3183" y="1318"/>
                  </a:cubicBezTo>
                  <a:close/>
                  <a:moveTo>
                    <a:pt x="793" y="950"/>
                  </a:moveTo>
                  <a:cubicBezTo>
                    <a:pt x="819" y="970"/>
                    <a:pt x="843" y="985"/>
                    <a:pt x="863" y="1010"/>
                  </a:cubicBezTo>
                  <a:cubicBezTo>
                    <a:pt x="884" y="1038"/>
                    <a:pt x="922" y="1053"/>
                    <a:pt x="951" y="1075"/>
                  </a:cubicBezTo>
                  <a:cubicBezTo>
                    <a:pt x="1014" y="1121"/>
                    <a:pt x="1077" y="1168"/>
                    <a:pt x="1139" y="1215"/>
                  </a:cubicBezTo>
                  <a:cubicBezTo>
                    <a:pt x="1153" y="1225"/>
                    <a:pt x="1167" y="1232"/>
                    <a:pt x="1185" y="1231"/>
                  </a:cubicBezTo>
                  <a:cubicBezTo>
                    <a:pt x="1185" y="1225"/>
                    <a:pt x="1186" y="1222"/>
                    <a:pt x="1185" y="1220"/>
                  </a:cubicBezTo>
                  <a:cubicBezTo>
                    <a:pt x="1183" y="1217"/>
                    <a:pt x="1180" y="1214"/>
                    <a:pt x="1178" y="1211"/>
                  </a:cubicBezTo>
                  <a:cubicBezTo>
                    <a:pt x="1133" y="1161"/>
                    <a:pt x="1075" y="1124"/>
                    <a:pt x="1038" y="1065"/>
                  </a:cubicBezTo>
                  <a:cubicBezTo>
                    <a:pt x="1002" y="1009"/>
                    <a:pt x="942" y="976"/>
                    <a:pt x="888" y="939"/>
                  </a:cubicBezTo>
                  <a:cubicBezTo>
                    <a:pt x="881" y="933"/>
                    <a:pt x="871" y="929"/>
                    <a:pt x="863" y="928"/>
                  </a:cubicBezTo>
                  <a:cubicBezTo>
                    <a:pt x="830" y="927"/>
                    <a:pt x="798" y="928"/>
                    <a:pt x="764" y="928"/>
                  </a:cubicBezTo>
                  <a:cubicBezTo>
                    <a:pt x="762" y="943"/>
                    <a:pt x="761" y="954"/>
                    <a:pt x="758" y="972"/>
                  </a:cubicBezTo>
                  <a:cubicBezTo>
                    <a:pt x="774" y="962"/>
                    <a:pt x="782" y="957"/>
                    <a:pt x="793" y="950"/>
                  </a:cubicBezTo>
                  <a:close/>
                  <a:moveTo>
                    <a:pt x="2187" y="2056"/>
                  </a:moveTo>
                  <a:cubicBezTo>
                    <a:pt x="2177" y="2055"/>
                    <a:pt x="2167" y="2054"/>
                    <a:pt x="2157" y="2054"/>
                  </a:cubicBezTo>
                  <a:cubicBezTo>
                    <a:pt x="2144" y="2054"/>
                    <a:pt x="2131" y="2055"/>
                    <a:pt x="2118" y="2055"/>
                  </a:cubicBezTo>
                  <a:cubicBezTo>
                    <a:pt x="2091" y="2055"/>
                    <a:pt x="2065" y="2053"/>
                    <a:pt x="2038" y="2053"/>
                  </a:cubicBezTo>
                  <a:cubicBezTo>
                    <a:pt x="2002" y="2052"/>
                    <a:pt x="1964" y="2058"/>
                    <a:pt x="1928" y="2051"/>
                  </a:cubicBezTo>
                  <a:cubicBezTo>
                    <a:pt x="1884" y="2041"/>
                    <a:pt x="1845" y="2051"/>
                    <a:pt x="1804" y="2063"/>
                  </a:cubicBezTo>
                  <a:cubicBezTo>
                    <a:pt x="1775" y="2071"/>
                    <a:pt x="1756" y="2099"/>
                    <a:pt x="1756" y="2125"/>
                  </a:cubicBezTo>
                  <a:cubicBezTo>
                    <a:pt x="1756" y="2146"/>
                    <a:pt x="1756" y="2167"/>
                    <a:pt x="1756" y="2191"/>
                  </a:cubicBezTo>
                  <a:cubicBezTo>
                    <a:pt x="1763" y="2177"/>
                    <a:pt x="1769" y="2165"/>
                    <a:pt x="1775" y="2152"/>
                  </a:cubicBezTo>
                  <a:cubicBezTo>
                    <a:pt x="1775" y="2180"/>
                    <a:pt x="1767" y="2207"/>
                    <a:pt x="1790" y="2237"/>
                  </a:cubicBezTo>
                  <a:cubicBezTo>
                    <a:pt x="1789" y="2213"/>
                    <a:pt x="1787" y="2195"/>
                    <a:pt x="1787" y="2178"/>
                  </a:cubicBezTo>
                  <a:cubicBezTo>
                    <a:pt x="1789" y="2130"/>
                    <a:pt x="1816" y="2094"/>
                    <a:pt x="1859" y="2083"/>
                  </a:cubicBezTo>
                  <a:cubicBezTo>
                    <a:pt x="1921" y="2067"/>
                    <a:pt x="1985" y="2075"/>
                    <a:pt x="2047" y="2084"/>
                  </a:cubicBezTo>
                  <a:cubicBezTo>
                    <a:pt x="2097" y="2091"/>
                    <a:pt x="2144" y="2092"/>
                    <a:pt x="2187" y="2056"/>
                  </a:cubicBezTo>
                  <a:close/>
                  <a:moveTo>
                    <a:pt x="1686" y="2840"/>
                  </a:moveTo>
                  <a:cubicBezTo>
                    <a:pt x="1694" y="2838"/>
                    <a:pt x="1697" y="2838"/>
                    <a:pt x="1699" y="2837"/>
                  </a:cubicBezTo>
                  <a:cubicBezTo>
                    <a:pt x="1702" y="2834"/>
                    <a:pt x="1704" y="2831"/>
                    <a:pt x="1706" y="2828"/>
                  </a:cubicBezTo>
                  <a:cubicBezTo>
                    <a:pt x="1734" y="2778"/>
                    <a:pt x="1750" y="2722"/>
                    <a:pt x="1796" y="2684"/>
                  </a:cubicBezTo>
                  <a:cubicBezTo>
                    <a:pt x="1798" y="2683"/>
                    <a:pt x="1798" y="2680"/>
                    <a:pt x="1799" y="2677"/>
                  </a:cubicBezTo>
                  <a:cubicBezTo>
                    <a:pt x="1806" y="2655"/>
                    <a:pt x="1806" y="2655"/>
                    <a:pt x="1823" y="2661"/>
                  </a:cubicBezTo>
                  <a:cubicBezTo>
                    <a:pt x="1833" y="2664"/>
                    <a:pt x="1845" y="2673"/>
                    <a:pt x="1853" y="2670"/>
                  </a:cubicBezTo>
                  <a:cubicBezTo>
                    <a:pt x="1883" y="2657"/>
                    <a:pt x="1913" y="2665"/>
                    <a:pt x="1943" y="2670"/>
                  </a:cubicBezTo>
                  <a:cubicBezTo>
                    <a:pt x="1970" y="2675"/>
                    <a:pt x="1997" y="2678"/>
                    <a:pt x="2025" y="2680"/>
                  </a:cubicBezTo>
                  <a:cubicBezTo>
                    <a:pt x="2039" y="2680"/>
                    <a:pt x="2053" y="2676"/>
                    <a:pt x="2067" y="2673"/>
                  </a:cubicBezTo>
                  <a:cubicBezTo>
                    <a:pt x="2074" y="2672"/>
                    <a:pt x="2082" y="2670"/>
                    <a:pt x="2090" y="2669"/>
                  </a:cubicBezTo>
                  <a:cubicBezTo>
                    <a:pt x="2115" y="2666"/>
                    <a:pt x="2142" y="2664"/>
                    <a:pt x="2167" y="2660"/>
                  </a:cubicBezTo>
                  <a:cubicBezTo>
                    <a:pt x="2176" y="2659"/>
                    <a:pt x="2183" y="2650"/>
                    <a:pt x="2196" y="2642"/>
                  </a:cubicBezTo>
                  <a:cubicBezTo>
                    <a:pt x="2144" y="2645"/>
                    <a:pt x="2098" y="2654"/>
                    <a:pt x="2055" y="2647"/>
                  </a:cubicBezTo>
                  <a:cubicBezTo>
                    <a:pt x="1968" y="2633"/>
                    <a:pt x="1883" y="2646"/>
                    <a:pt x="1797" y="2650"/>
                  </a:cubicBezTo>
                  <a:cubicBezTo>
                    <a:pt x="1780" y="2651"/>
                    <a:pt x="1768" y="2657"/>
                    <a:pt x="1767" y="2675"/>
                  </a:cubicBezTo>
                  <a:cubicBezTo>
                    <a:pt x="1766" y="2693"/>
                    <a:pt x="1753" y="2695"/>
                    <a:pt x="1739" y="2697"/>
                  </a:cubicBezTo>
                  <a:cubicBezTo>
                    <a:pt x="1738" y="2697"/>
                    <a:pt x="1736" y="2701"/>
                    <a:pt x="1734" y="2704"/>
                  </a:cubicBezTo>
                  <a:cubicBezTo>
                    <a:pt x="1738" y="2711"/>
                    <a:pt x="1741" y="2719"/>
                    <a:pt x="1747" y="2731"/>
                  </a:cubicBezTo>
                  <a:cubicBezTo>
                    <a:pt x="1708" y="2755"/>
                    <a:pt x="1686" y="2790"/>
                    <a:pt x="1686" y="2840"/>
                  </a:cubicBezTo>
                  <a:close/>
                  <a:moveTo>
                    <a:pt x="562" y="1922"/>
                  </a:moveTo>
                  <a:cubicBezTo>
                    <a:pt x="551" y="1926"/>
                    <a:pt x="541" y="1927"/>
                    <a:pt x="539" y="1932"/>
                  </a:cubicBezTo>
                  <a:cubicBezTo>
                    <a:pt x="534" y="1943"/>
                    <a:pt x="526" y="1958"/>
                    <a:pt x="529" y="1969"/>
                  </a:cubicBezTo>
                  <a:cubicBezTo>
                    <a:pt x="539" y="2001"/>
                    <a:pt x="527" y="2030"/>
                    <a:pt x="521" y="2061"/>
                  </a:cubicBezTo>
                  <a:cubicBezTo>
                    <a:pt x="513" y="2057"/>
                    <a:pt x="507" y="2054"/>
                    <a:pt x="501" y="2051"/>
                  </a:cubicBezTo>
                  <a:cubicBezTo>
                    <a:pt x="497" y="2068"/>
                    <a:pt x="493" y="2083"/>
                    <a:pt x="489" y="2100"/>
                  </a:cubicBezTo>
                  <a:cubicBezTo>
                    <a:pt x="498" y="2098"/>
                    <a:pt x="506" y="2096"/>
                    <a:pt x="515" y="2094"/>
                  </a:cubicBezTo>
                  <a:cubicBezTo>
                    <a:pt x="518" y="2127"/>
                    <a:pt x="518" y="2159"/>
                    <a:pt x="559" y="2166"/>
                  </a:cubicBezTo>
                  <a:cubicBezTo>
                    <a:pt x="593" y="2171"/>
                    <a:pt x="605" y="2168"/>
                    <a:pt x="620" y="2143"/>
                  </a:cubicBezTo>
                  <a:cubicBezTo>
                    <a:pt x="603" y="2109"/>
                    <a:pt x="585" y="2077"/>
                    <a:pt x="570" y="2043"/>
                  </a:cubicBezTo>
                  <a:cubicBezTo>
                    <a:pt x="555" y="2007"/>
                    <a:pt x="558" y="1969"/>
                    <a:pt x="562" y="1922"/>
                  </a:cubicBezTo>
                  <a:close/>
                  <a:moveTo>
                    <a:pt x="1691" y="2258"/>
                  </a:moveTo>
                  <a:cubicBezTo>
                    <a:pt x="1690" y="2256"/>
                    <a:pt x="1689" y="2253"/>
                    <a:pt x="1688" y="2250"/>
                  </a:cubicBezTo>
                  <a:cubicBezTo>
                    <a:pt x="1669" y="2250"/>
                    <a:pt x="1651" y="2250"/>
                    <a:pt x="1633" y="2250"/>
                  </a:cubicBezTo>
                  <a:cubicBezTo>
                    <a:pt x="1539" y="2253"/>
                    <a:pt x="1445" y="2256"/>
                    <a:pt x="1351" y="2257"/>
                  </a:cubicBezTo>
                  <a:cubicBezTo>
                    <a:pt x="1299" y="2258"/>
                    <a:pt x="1248" y="2256"/>
                    <a:pt x="1196" y="2256"/>
                  </a:cubicBezTo>
                  <a:cubicBezTo>
                    <a:pt x="1120" y="2256"/>
                    <a:pt x="1043" y="2264"/>
                    <a:pt x="966" y="2251"/>
                  </a:cubicBezTo>
                  <a:cubicBezTo>
                    <a:pt x="963" y="2251"/>
                    <a:pt x="960" y="2254"/>
                    <a:pt x="951" y="2258"/>
                  </a:cubicBezTo>
                  <a:cubicBezTo>
                    <a:pt x="959" y="2263"/>
                    <a:pt x="964" y="2266"/>
                    <a:pt x="970" y="2270"/>
                  </a:cubicBezTo>
                  <a:cubicBezTo>
                    <a:pt x="966" y="2273"/>
                    <a:pt x="963" y="2276"/>
                    <a:pt x="960" y="2278"/>
                  </a:cubicBezTo>
                  <a:cubicBezTo>
                    <a:pt x="977" y="2278"/>
                    <a:pt x="990" y="2267"/>
                    <a:pt x="1003" y="2267"/>
                  </a:cubicBezTo>
                  <a:cubicBezTo>
                    <a:pt x="1037" y="2266"/>
                    <a:pt x="1071" y="2269"/>
                    <a:pt x="1105" y="2272"/>
                  </a:cubicBezTo>
                  <a:cubicBezTo>
                    <a:pt x="1144" y="2275"/>
                    <a:pt x="1183" y="2284"/>
                    <a:pt x="1221" y="2269"/>
                  </a:cubicBezTo>
                  <a:cubicBezTo>
                    <a:pt x="1245" y="2283"/>
                    <a:pt x="1245" y="2283"/>
                    <a:pt x="1285" y="2275"/>
                  </a:cubicBezTo>
                  <a:cubicBezTo>
                    <a:pt x="1290" y="2274"/>
                    <a:pt x="1297" y="2274"/>
                    <a:pt x="1300" y="2276"/>
                  </a:cubicBezTo>
                  <a:cubicBezTo>
                    <a:pt x="1315" y="2286"/>
                    <a:pt x="1328" y="2279"/>
                    <a:pt x="1342" y="2277"/>
                  </a:cubicBezTo>
                  <a:cubicBezTo>
                    <a:pt x="1361" y="2275"/>
                    <a:pt x="1380" y="2267"/>
                    <a:pt x="1399" y="2273"/>
                  </a:cubicBezTo>
                  <a:cubicBezTo>
                    <a:pt x="1414" y="2277"/>
                    <a:pt x="1426" y="2283"/>
                    <a:pt x="1442" y="2271"/>
                  </a:cubicBezTo>
                  <a:cubicBezTo>
                    <a:pt x="1452" y="2264"/>
                    <a:pt x="1479" y="2263"/>
                    <a:pt x="1483" y="2269"/>
                  </a:cubicBezTo>
                  <a:cubicBezTo>
                    <a:pt x="1495" y="2290"/>
                    <a:pt x="1504" y="2280"/>
                    <a:pt x="1517" y="2273"/>
                  </a:cubicBezTo>
                  <a:cubicBezTo>
                    <a:pt x="1524" y="2269"/>
                    <a:pt x="1541" y="2267"/>
                    <a:pt x="1542" y="2268"/>
                  </a:cubicBezTo>
                  <a:cubicBezTo>
                    <a:pt x="1550" y="2289"/>
                    <a:pt x="1563" y="2277"/>
                    <a:pt x="1576" y="2277"/>
                  </a:cubicBezTo>
                  <a:cubicBezTo>
                    <a:pt x="1596" y="2277"/>
                    <a:pt x="1612" y="2270"/>
                    <a:pt x="1629" y="2261"/>
                  </a:cubicBezTo>
                  <a:cubicBezTo>
                    <a:pt x="1636" y="2258"/>
                    <a:pt x="1646" y="2258"/>
                    <a:pt x="1653" y="2260"/>
                  </a:cubicBezTo>
                  <a:cubicBezTo>
                    <a:pt x="1660" y="2263"/>
                    <a:pt x="1666" y="2271"/>
                    <a:pt x="1673" y="2278"/>
                  </a:cubicBezTo>
                  <a:cubicBezTo>
                    <a:pt x="1679" y="2271"/>
                    <a:pt x="1685" y="2265"/>
                    <a:pt x="1691" y="2258"/>
                  </a:cubicBezTo>
                  <a:close/>
                  <a:moveTo>
                    <a:pt x="3034" y="2729"/>
                  </a:moveTo>
                  <a:cubicBezTo>
                    <a:pt x="3024" y="2693"/>
                    <a:pt x="3022" y="2664"/>
                    <a:pt x="3036" y="2634"/>
                  </a:cubicBezTo>
                  <a:cubicBezTo>
                    <a:pt x="3050" y="2602"/>
                    <a:pt x="3085" y="2603"/>
                    <a:pt x="3108" y="2582"/>
                  </a:cubicBezTo>
                  <a:cubicBezTo>
                    <a:pt x="3065" y="2565"/>
                    <a:pt x="3046" y="2564"/>
                    <a:pt x="3005" y="2578"/>
                  </a:cubicBezTo>
                  <a:cubicBezTo>
                    <a:pt x="3003" y="2576"/>
                    <a:pt x="2999" y="2575"/>
                    <a:pt x="2996" y="2572"/>
                  </a:cubicBezTo>
                  <a:cubicBezTo>
                    <a:pt x="2985" y="2557"/>
                    <a:pt x="2968" y="2558"/>
                    <a:pt x="2958" y="2568"/>
                  </a:cubicBezTo>
                  <a:cubicBezTo>
                    <a:pt x="2950" y="2576"/>
                    <a:pt x="2948" y="2592"/>
                    <a:pt x="2948" y="2604"/>
                  </a:cubicBezTo>
                  <a:cubicBezTo>
                    <a:pt x="2948" y="2614"/>
                    <a:pt x="2957" y="2623"/>
                    <a:pt x="2960" y="2633"/>
                  </a:cubicBezTo>
                  <a:cubicBezTo>
                    <a:pt x="2967" y="2665"/>
                    <a:pt x="3004" y="2681"/>
                    <a:pt x="2999" y="2717"/>
                  </a:cubicBezTo>
                  <a:cubicBezTo>
                    <a:pt x="3011" y="2721"/>
                    <a:pt x="3019" y="2724"/>
                    <a:pt x="3034" y="2729"/>
                  </a:cubicBezTo>
                  <a:close/>
                  <a:moveTo>
                    <a:pt x="1656" y="2859"/>
                  </a:moveTo>
                  <a:cubicBezTo>
                    <a:pt x="1627" y="2907"/>
                    <a:pt x="1601" y="2951"/>
                    <a:pt x="1573" y="2994"/>
                  </a:cubicBezTo>
                  <a:cubicBezTo>
                    <a:pt x="1555" y="3021"/>
                    <a:pt x="1534" y="3046"/>
                    <a:pt x="1517" y="3073"/>
                  </a:cubicBezTo>
                  <a:cubicBezTo>
                    <a:pt x="1506" y="3092"/>
                    <a:pt x="1497" y="3112"/>
                    <a:pt x="1477" y="3125"/>
                  </a:cubicBezTo>
                  <a:cubicBezTo>
                    <a:pt x="1459" y="3138"/>
                    <a:pt x="1460" y="3153"/>
                    <a:pt x="1476" y="3168"/>
                  </a:cubicBezTo>
                  <a:cubicBezTo>
                    <a:pt x="1493" y="3155"/>
                    <a:pt x="1504" y="3141"/>
                    <a:pt x="1513" y="3119"/>
                  </a:cubicBezTo>
                  <a:cubicBezTo>
                    <a:pt x="1521" y="3097"/>
                    <a:pt x="1555" y="3089"/>
                    <a:pt x="1557" y="3059"/>
                  </a:cubicBezTo>
                  <a:cubicBezTo>
                    <a:pt x="1603" y="3015"/>
                    <a:pt x="1630" y="2958"/>
                    <a:pt x="1661" y="2903"/>
                  </a:cubicBezTo>
                  <a:cubicBezTo>
                    <a:pt x="1668" y="2891"/>
                    <a:pt x="1675" y="2879"/>
                    <a:pt x="1681" y="2866"/>
                  </a:cubicBezTo>
                  <a:cubicBezTo>
                    <a:pt x="1682" y="2864"/>
                    <a:pt x="1678" y="2859"/>
                    <a:pt x="1677" y="2856"/>
                  </a:cubicBezTo>
                  <a:cubicBezTo>
                    <a:pt x="1667" y="2857"/>
                    <a:pt x="1658" y="2859"/>
                    <a:pt x="1656" y="2859"/>
                  </a:cubicBezTo>
                  <a:close/>
                  <a:moveTo>
                    <a:pt x="1773" y="1345"/>
                  </a:moveTo>
                  <a:cubicBezTo>
                    <a:pt x="1779" y="1368"/>
                    <a:pt x="1779" y="1389"/>
                    <a:pt x="1788" y="1405"/>
                  </a:cubicBezTo>
                  <a:cubicBezTo>
                    <a:pt x="1802" y="1428"/>
                    <a:pt x="1818" y="1453"/>
                    <a:pt x="1844" y="1450"/>
                  </a:cubicBezTo>
                  <a:cubicBezTo>
                    <a:pt x="1866" y="1502"/>
                    <a:pt x="1884" y="1550"/>
                    <a:pt x="1905" y="1597"/>
                  </a:cubicBezTo>
                  <a:cubicBezTo>
                    <a:pt x="1909" y="1607"/>
                    <a:pt x="1916" y="1619"/>
                    <a:pt x="1936" y="1610"/>
                  </a:cubicBezTo>
                  <a:cubicBezTo>
                    <a:pt x="1934" y="1602"/>
                    <a:pt x="1933" y="1591"/>
                    <a:pt x="1930" y="1582"/>
                  </a:cubicBezTo>
                  <a:cubicBezTo>
                    <a:pt x="1914" y="1544"/>
                    <a:pt x="1898" y="1507"/>
                    <a:pt x="1882" y="1469"/>
                  </a:cubicBezTo>
                  <a:cubicBezTo>
                    <a:pt x="1871" y="1442"/>
                    <a:pt x="1858" y="1418"/>
                    <a:pt x="1833" y="1414"/>
                  </a:cubicBezTo>
                  <a:cubicBezTo>
                    <a:pt x="1831" y="1400"/>
                    <a:pt x="1832" y="1390"/>
                    <a:pt x="1828" y="1384"/>
                  </a:cubicBezTo>
                  <a:cubicBezTo>
                    <a:pt x="1812" y="1360"/>
                    <a:pt x="1794" y="1337"/>
                    <a:pt x="1776" y="1314"/>
                  </a:cubicBezTo>
                  <a:cubicBezTo>
                    <a:pt x="1771" y="1309"/>
                    <a:pt x="1764" y="1306"/>
                    <a:pt x="1757" y="1301"/>
                  </a:cubicBezTo>
                  <a:cubicBezTo>
                    <a:pt x="1747" y="1327"/>
                    <a:pt x="1756" y="1341"/>
                    <a:pt x="1773" y="1345"/>
                  </a:cubicBezTo>
                  <a:close/>
                  <a:moveTo>
                    <a:pt x="535" y="2601"/>
                  </a:moveTo>
                  <a:cubicBezTo>
                    <a:pt x="538" y="2559"/>
                    <a:pt x="568" y="2531"/>
                    <a:pt x="549" y="2493"/>
                  </a:cubicBezTo>
                  <a:cubicBezTo>
                    <a:pt x="546" y="2488"/>
                    <a:pt x="547" y="2479"/>
                    <a:pt x="550" y="2474"/>
                  </a:cubicBezTo>
                  <a:cubicBezTo>
                    <a:pt x="551" y="2471"/>
                    <a:pt x="564" y="2481"/>
                    <a:pt x="564" y="2467"/>
                  </a:cubicBezTo>
                  <a:cubicBezTo>
                    <a:pt x="564" y="2458"/>
                    <a:pt x="569" y="2448"/>
                    <a:pt x="567" y="2440"/>
                  </a:cubicBezTo>
                  <a:cubicBezTo>
                    <a:pt x="565" y="2418"/>
                    <a:pt x="574" y="2408"/>
                    <a:pt x="593" y="2400"/>
                  </a:cubicBezTo>
                  <a:cubicBezTo>
                    <a:pt x="603" y="2396"/>
                    <a:pt x="611" y="2388"/>
                    <a:pt x="620" y="2382"/>
                  </a:cubicBezTo>
                  <a:cubicBezTo>
                    <a:pt x="598" y="2374"/>
                    <a:pt x="578" y="2371"/>
                    <a:pt x="559" y="2372"/>
                  </a:cubicBezTo>
                  <a:cubicBezTo>
                    <a:pt x="515" y="2374"/>
                    <a:pt x="497" y="2405"/>
                    <a:pt x="509" y="2449"/>
                  </a:cubicBezTo>
                  <a:cubicBezTo>
                    <a:pt x="517" y="2476"/>
                    <a:pt x="527" y="2503"/>
                    <a:pt x="521" y="2534"/>
                  </a:cubicBezTo>
                  <a:cubicBezTo>
                    <a:pt x="517" y="2552"/>
                    <a:pt x="517" y="2575"/>
                    <a:pt x="535" y="2601"/>
                  </a:cubicBezTo>
                  <a:close/>
                  <a:moveTo>
                    <a:pt x="1867" y="2967"/>
                  </a:moveTo>
                  <a:cubicBezTo>
                    <a:pt x="1837" y="2953"/>
                    <a:pt x="1823" y="2954"/>
                    <a:pt x="1814" y="2980"/>
                  </a:cubicBezTo>
                  <a:cubicBezTo>
                    <a:pt x="1801" y="3023"/>
                    <a:pt x="1767" y="3057"/>
                    <a:pt x="1762" y="3103"/>
                  </a:cubicBezTo>
                  <a:cubicBezTo>
                    <a:pt x="1761" y="3110"/>
                    <a:pt x="1754" y="3116"/>
                    <a:pt x="1748" y="3121"/>
                  </a:cubicBezTo>
                  <a:cubicBezTo>
                    <a:pt x="1744" y="3125"/>
                    <a:pt x="1733" y="3127"/>
                    <a:pt x="1732" y="3131"/>
                  </a:cubicBezTo>
                  <a:cubicBezTo>
                    <a:pt x="1728" y="3148"/>
                    <a:pt x="1725" y="3163"/>
                    <a:pt x="1704" y="3166"/>
                  </a:cubicBezTo>
                  <a:cubicBezTo>
                    <a:pt x="1710" y="3193"/>
                    <a:pt x="1681" y="3186"/>
                    <a:pt x="1672" y="3198"/>
                  </a:cubicBezTo>
                  <a:cubicBezTo>
                    <a:pt x="1659" y="3215"/>
                    <a:pt x="1657" y="3227"/>
                    <a:pt x="1675" y="3245"/>
                  </a:cubicBezTo>
                  <a:cubicBezTo>
                    <a:pt x="1752" y="3160"/>
                    <a:pt x="1806" y="3061"/>
                    <a:pt x="1867" y="2967"/>
                  </a:cubicBezTo>
                  <a:close/>
                  <a:moveTo>
                    <a:pt x="3241" y="1143"/>
                  </a:moveTo>
                  <a:cubicBezTo>
                    <a:pt x="3240" y="1119"/>
                    <a:pt x="3249" y="1105"/>
                    <a:pt x="3272" y="1099"/>
                  </a:cubicBezTo>
                  <a:cubicBezTo>
                    <a:pt x="3286" y="1095"/>
                    <a:pt x="3297" y="1084"/>
                    <a:pt x="3309" y="1076"/>
                  </a:cubicBezTo>
                  <a:cubicBezTo>
                    <a:pt x="3332" y="1062"/>
                    <a:pt x="3347" y="1044"/>
                    <a:pt x="3342" y="1014"/>
                  </a:cubicBezTo>
                  <a:cubicBezTo>
                    <a:pt x="3331" y="1001"/>
                    <a:pt x="3320" y="1005"/>
                    <a:pt x="3309" y="1016"/>
                  </a:cubicBezTo>
                  <a:cubicBezTo>
                    <a:pt x="3262" y="1059"/>
                    <a:pt x="3215" y="1101"/>
                    <a:pt x="3168" y="1144"/>
                  </a:cubicBezTo>
                  <a:cubicBezTo>
                    <a:pt x="3156" y="1156"/>
                    <a:pt x="3151" y="1171"/>
                    <a:pt x="3166" y="1191"/>
                  </a:cubicBezTo>
                  <a:cubicBezTo>
                    <a:pt x="3179" y="1174"/>
                    <a:pt x="3192" y="1160"/>
                    <a:pt x="3205" y="1143"/>
                  </a:cubicBezTo>
                  <a:cubicBezTo>
                    <a:pt x="3215" y="1143"/>
                    <a:pt x="3227" y="1143"/>
                    <a:pt x="3241" y="1143"/>
                  </a:cubicBezTo>
                  <a:close/>
                  <a:moveTo>
                    <a:pt x="682" y="2624"/>
                  </a:moveTo>
                  <a:cubicBezTo>
                    <a:pt x="680" y="2625"/>
                    <a:pt x="679" y="2626"/>
                    <a:pt x="677" y="2627"/>
                  </a:cubicBezTo>
                  <a:cubicBezTo>
                    <a:pt x="680" y="2652"/>
                    <a:pt x="684" y="2677"/>
                    <a:pt x="686" y="2702"/>
                  </a:cubicBezTo>
                  <a:cubicBezTo>
                    <a:pt x="689" y="2748"/>
                    <a:pt x="693" y="2794"/>
                    <a:pt x="719" y="2835"/>
                  </a:cubicBezTo>
                  <a:cubicBezTo>
                    <a:pt x="724" y="2842"/>
                    <a:pt x="722" y="2855"/>
                    <a:pt x="723" y="2865"/>
                  </a:cubicBezTo>
                  <a:cubicBezTo>
                    <a:pt x="724" y="2873"/>
                    <a:pt x="722" y="2881"/>
                    <a:pt x="725" y="2888"/>
                  </a:cubicBezTo>
                  <a:cubicBezTo>
                    <a:pt x="743" y="2933"/>
                    <a:pt x="763" y="2979"/>
                    <a:pt x="781" y="3024"/>
                  </a:cubicBezTo>
                  <a:cubicBezTo>
                    <a:pt x="788" y="3044"/>
                    <a:pt x="800" y="3053"/>
                    <a:pt x="823" y="3051"/>
                  </a:cubicBezTo>
                  <a:cubicBezTo>
                    <a:pt x="809" y="3017"/>
                    <a:pt x="801" y="2984"/>
                    <a:pt x="782" y="2957"/>
                  </a:cubicBezTo>
                  <a:cubicBezTo>
                    <a:pt x="768" y="2936"/>
                    <a:pt x="763" y="2920"/>
                    <a:pt x="773" y="2905"/>
                  </a:cubicBezTo>
                  <a:cubicBezTo>
                    <a:pt x="762" y="2892"/>
                    <a:pt x="753" y="2885"/>
                    <a:pt x="748" y="2875"/>
                  </a:cubicBezTo>
                  <a:cubicBezTo>
                    <a:pt x="742" y="2862"/>
                    <a:pt x="737" y="2848"/>
                    <a:pt x="734" y="2834"/>
                  </a:cubicBezTo>
                  <a:cubicBezTo>
                    <a:pt x="721" y="2770"/>
                    <a:pt x="686" y="2711"/>
                    <a:pt x="692" y="2642"/>
                  </a:cubicBezTo>
                  <a:cubicBezTo>
                    <a:pt x="693" y="2636"/>
                    <a:pt x="686" y="2630"/>
                    <a:pt x="682" y="2624"/>
                  </a:cubicBezTo>
                  <a:close/>
                  <a:moveTo>
                    <a:pt x="1625" y="2402"/>
                  </a:moveTo>
                  <a:cubicBezTo>
                    <a:pt x="1630" y="2411"/>
                    <a:pt x="1634" y="2421"/>
                    <a:pt x="1641" y="2429"/>
                  </a:cubicBezTo>
                  <a:cubicBezTo>
                    <a:pt x="1662" y="2454"/>
                    <a:pt x="1672" y="2480"/>
                    <a:pt x="1662" y="2513"/>
                  </a:cubicBezTo>
                  <a:cubicBezTo>
                    <a:pt x="1654" y="2536"/>
                    <a:pt x="1664" y="2552"/>
                    <a:pt x="1688" y="2557"/>
                  </a:cubicBezTo>
                  <a:cubicBezTo>
                    <a:pt x="1687" y="2571"/>
                    <a:pt x="1685" y="2582"/>
                    <a:pt x="1683" y="2600"/>
                  </a:cubicBezTo>
                  <a:cubicBezTo>
                    <a:pt x="1702" y="2588"/>
                    <a:pt x="1716" y="2577"/>
                    <a:pt x="1731" y="2570"/>
                  </a:cubicBezTo>
                  <a:cubicBezTo>
                    <a:pt x="1745" y="2563"/>
                    <a:pt x="1761" y="2559"/>
                    <a:pt x="1783" y="2553"/>
                  </a:cubicBezTo>
                  <a:cubicBezTo>
                    <a:pt x="1766" y="2546"/>
                    <a:pt x="1750" y="2545"/>
                    <a:pt x="1747" y="2538"/>
                  </a:cubicBezTo>
                  <a:cubicBezTo>
                    <a:pt x="1736" y="2511"/>
                    <a:pt x="1719" y="2498"/>
                    <a:pt x="1690" y="2507"/>
                  </a:cubicBezTo>
                  <a:cubicBezTo>
                    <a:pt x="1692" y="2428"/>
                    <a:pt x="1676" y="2425"/>
                    <a:pt x="1625" y="2402"/>
                  </a:cubicBezTo>
                  <a:close/>
                  <a:moveTo>
                    <a:pt x="2992" y="1877"/>
                  </a:moveTo>
                  <a:cubicBezTo>
                    <a:pt x="2983" y="1895"/>
                    <a:pt x="2973" y="1909"/>
                    <a:pt x="2967" y="1924"/>
                  </a:cubicBezTo>
                  <a:cubicBezTo>
                    <a:pt x="2956" y="1952"/>
                    <a:pt x="2987" y="1998"/>
                    <a:pt x="3015" y="2001"/>
                  </a:cubicBezTo>
                  <a:cubicBezTo>
                    <a:pt x="3030" y="2002"/>
                    <a:pt x="3045" y="2001"/>
                    <a:pt x="3059" y="1999"/>
                  </a:cubicBezTo>
                  <a:cubicBezTo>
                    <a:pt x="3065" y="1999"/>
                    <a:pt x="3076" y="1993"/>
                    <a:pt x="3076" y="1988"/>
                  </a:cubicBezTo>
                  <a:cubicBezTo>
                    <a:pt x="3078" y="1980"/>
                    <a:pt x="3074" y="1970"/>
                    <a:pt x="3069" y="1964"/>
                  </a:cubicBezTo>
                  <a:cubicBezTo>
                    <a:pt x="3065" y="1958"/>
                    <a:pt x="3054" y="1957"/>
                    <a:pt x="3049" y="1952"/>
                  </a:cubicBezTo>
                  <a:cubicBezTo>
                    <a:pt x="3038" y="1940"/>
                    <a:pt x="3018" y="1924"/>
                    <a:pt x="3020" y="1913"/>
                  </a:cubicBezTo>
                  <a:cubicBezTo>
                    <a:pt x="3025" y="1889"/>
                    <a:pt x="3012" y="1886"/>
                    <a:pt x="2992" y="1877"/>
                  </a:cubicBezTo>
                  <a:close/>
                  <a:moveTo>
                    <a:pt x="3743" y="1594"/>
                  </a:moveTo>
                  <a:cubicBezTo>
                    <a:pt x="3746" y="1593"/>
                    <a:pt x="3749" y="1592"/>
                    <a:pt x="3752" y="1591"/>
                  </a:cubicBezTo>
                  <a:cubicBezTo>
                    <a:pt x="3750" y="1582"/>
                    <a:pt x="3749" y="1573"/>
                    <a:pt x="3745" y="1565"/>
                  </a:cubicBezTo>
                  <a:cubicBezTo>
                    <a:pt x="3711" y="1498"/>
                    <a:pt x="3678" y="1431"/>
                    <a:pt x="3642" y="1364"/>
                  </a:cubicBezTo>
                  <a:cubicBezTo>
                    <a:pt x="3630" y="1343"/>
                    <a:pt x="3613" y="1324"/>
                    <a:pt x="3595" y="1306"/>
                  </a:cubicBezTo>
                  <a:cubicBezTo>
                    <a:pt x="3584" y="1294"/>
                    <a:pt x="3566" y="1298"/>
                    <a:pt x="3558" y="1311"/>
                  </a:cubicBezTo>
                  <a:cubicBezTo>
                    <a:pt x="3551" y="1322"/>
                    <a:pt x="3552" y="1331"/>
                    <a:pt x="3564" y="1338"/>
                  </a:cubicBezTo>
                  <a:cubicBezTo>
                    <a:pt x="3631" y="1378"/>
                    <a:pt x="3663" y="1447"/>
                    <a:pt x="3701" y="1510"/>
                  </a:cubicBezTo>
                  <a:cubicBezTo>
                    <a:pt x="3717" y="1537"/>
                    <a:pt x="3729" y="1566"/>
                    <a:pt x="3743" y="1594"/>
                  </a:cubicBezTo>
                  <a:close/>
                  <a:moveTo>
                    <a:pt x="1262" y="742"/>
                  </a:moveTo>
                  <a:cubicBezTo>
                    <a:pt x="1264" y="740"/>
                    <a:pt x="1266" y="737"/>
                    <a:pt x="1268" y="735"/>
                  </a:cubicBezTo>
                  <a:cubicBezTo>
                    <a:pt x="1266" y="730"/>
                    <a:pt x="1265" y="724"/>
                    <a:pt x="1261" y="722"/>
                  </a:cubicBezTo>
                  <a:cubicBezTo>
                    <a:pt x="1237" y="706"/>
                    <a:pt x="1232" y="684"/>
                    <a:pt x="1234" y="657"/>
                  </a:cubicBezTo>
                  <a:cubicBezTo>
                    <a:pt x="1235" y="628"/>
                    <a:pt x="1232" y="599"/>
                    <a:pt x="1203" y="585"/>
                  </a:cubicBezTo>
                  <a:cubicBezTo>
                    <a:pt x="1191" y="597"/>
                    <a:pt x="1180" y="609"/>
                    <a:pt x="1168" y="619"/>
                  </a:cubicBezTo>
                  <a:cubicBezTo>
                    <a:pt x="1146" y="636"/>
                    <a:pt x="1144" y="655"/>
                    <a:pt x="1167" y="673"/>
                  </a:cubicBezTo>
                  <a:cubicBezTo>
                    <a:pt x="1198" y="697"/>
                    <a:pt x="1230" y="719"/>
                    <a:pt x="1262" y="742"/>
                  </a:cubicBezTo>
                  <a:close/>
                  <a:moveTo>
                    <a:pt x="1073" y="510"/>
                  </a:moveTo>
                  <a:cubicBezTo>
                    <a:pt x="1085" y="506"/>
                    <a:pt x="1091" y="500"/>
                    <a:pt x="1085" y="486"/>
                  </a:cubicBezTo>
                  <a:cubicBezTo>
                    <a:pt x="1074" y="461"/>
                    <a:pt x="1063" y="436"/>
                    <a:pt x="1075" y="407"/>
                  </a:cubicBezTo>
                  <a:cubicBezTo>
                    <a:pt x="1083" y="390"/>
                    <a:pt x="1062" y="397"/>
                    <a:pt x="1056" y="391"/>
                  </a:cubicBezTo>
                  <a:cubicBezTo>
                    <a:pt x="1057" y="380"/>
                    <a:pt x="1059" y="370"/>
                    <a:pt x="1060" y="361"/>
                  </a:cubicBezTo>
                  <a:cubicBezTo>
                    <a:pt x="1023" y="347"/>
                    <a:pt x="1002" y="377"/>
                    <a:pt x="973" y="388"/>
                  </a:cubicBezTo>
                  <a:cubicBezTo>
                    <a:pt x="1002" y="413"/>
                    <a:pt x="1002" y="417"/>
                    <a:pt x="982" y="447"/>
                  </a:cubicBezTo>
                  <a:cubicBezTo>
                    <a:pt x="980" y="450"/>
                    <a:pt x="980" y="454"/>
                    <a:pt x="979" y="459"/>
                  </a:cubicBezTo>
                  <a:cubicBezTo>
                    <a:pt x="991" y="454"/>
                    <a:pt x="1000" y="449"/>
                    <a:pt x="1010" y="444"/>
                  </a:cubicBezTo>
                  <a:cubicBezTo>
                    <a:pt x="1006" y="425"/>
                    <a:pt x="1006" y="408"/>
                    <a:pt x="1031" y="406"/>
                  </a:cubicBezTo>
                  <a:cubicBezTo>
                    <a:pt x="1034" y="406"/>
                    <a:pt x="1038" y="409"/>
                    <a:pt x="1046" y="412"/>
                  </a:cubicBezTo>
                  <a:cubicBezTo>
                    <a:pt x="1038" y="422"/>
                    <a:pt x="1031" y="430"/>
                    <a:pt x="1025" y="438"/>
                  </a:cubicBezTo>
                  <a:cubicBezTo>
                    <a:pt x="1048" y="457"/>
                    <a:pt x="1041" y="496"/>
                    <a:pt x="1073" y="510"/>
                  </a:cubicBezTo>
                  <a:close/>
                  <a:moveTo>
                    <a:pt x="1592" y="1199"/>
                  </a:moveTo>
                  <a:cubicBezTo>
                    <a:pt x="1594" y="1196"/>
                    <a:pt x="1596" y="1193"/>
                    <a:pt x="1598" y="1191"/>
                  </a:cubicBezTo>
                  <a:cubicBezTo>
                    <a:pt x="1592" y="1183"/>
                    <a:pt x="1587" y="1174"/>
                    <a:pt x="1580" y="1167"/>
                  </a:cubicBezTo>
                  <a:cubicBezTo>
                    <a:pt x="1551" y="1136"/>
                    <a:pt x="1519" y="1107"/>
                    <a:pt x="1493" y="1075"/>
                  </a:cubicBezTo>
                  <a:cubicBezTo>
                    <a:pt x="1460" y="1034"/>
                    <a:pt x="1412" y="1007"/>
                    <a:pt x="1383" y="962"/>
                  </a:cubicBezTo>
                  <a:cubicBezTo>
                    <a:pt x="1381" y="959"/>
                    <a:pt x="1372" y="957"/>
                    <a:pt x="1369" y="959"/>
                  </a:cubicBezTo>
                  <a:cubicBezTo>
                    <a:pt x="1364" y="962"/>
                    <a:pt x="1359" y="969"/>
                    <a:pt x="1359" y="974"/>
                  </a:cubicBezTo>
                  <a:cubicBezTo>
                    <a:pt x="1360" y="981"/>
                    <a:pt x="1364" y="990"/>
                    <a:pt x="1370" y="993"/>
                  </a:cubicBezTo>
                  <a:cubicBezTo>
                    <a:pt x="1399" y="1010"/>
                    <a:pt x="1414" y="1047"/>
                    <a:pt x="1453" y="1052"/>
                  </a:cubicBezTo>
                  <a:cubicBezTo>
                    <a:pt x="1456" y="1052"/>
                    <a:pt x="1459" y="1057"/>
                    <a:pt x="1461" y="1059"/>
                  </a:cubicBezTo>
                  <a:cubicBezTo>
                    <a:pt x="1496" y="1100"/>
                    <a:pt x="1531" y="1142"/>
                    <a:pt x="1567" y="1182"/>
                  </a:cubicBezTo>
                  <a:cubicBezTo>
                    <a:pt x="1573" y="1189"/>
                    <a:pt x="1583" y="1193"/>
                    <a:pt x="1592" y="1199"/>
                  </a:cubicBezTo>
                  <a:close/>
                  <a:moveTo>
                    <a:pt x="2472" y="662"/>
                  </a:moveTo>
                  <a:cubicBezTo>
                    <a:pt x="2465" y="665"/>
                    <a:pt x="2456" y="667"/>
                    <a:pt x="2452" y="672"/>
                  </a:cubicBezTo>
                  <a:cubicBezTo>
                    <a:pt x="2418" y="710"/>
                    <a:pt x="2384" y="749"/>
                    <a:pt x="2351" y="789"/>
                  </a:cubicBezTo>
                  <a:cubicBezTo>
                    <a:pt x="2343" y="798"/>
                    <a:pt x="2355" y="814"/>
                    <a:pt x="2368" y="812"/>
                  </a:cubicBezTo>
                  <a:cubicBezTo>
                    <a:pt x="2374" y="811"/>
                    <a:pt x="2381" y="808"/>
                    <a:pt x="2385" y="803"/>
                  </a:cubicBezTo>
                  <a:cubicBezTo>
                    <a:pt x="2414" y="770"/>
                    <a:pt x="2443" y="738"/>
                    <a:pt x="2469" y="704"/>
                  </a:cubicBezTo>
                  <a:cubicBezTo>
                    <a:pt x="2477" y="694"/>
                    <a:pt x="2487" y="679"/>
                    <a:pt x="2472" y="662"/>
                  </a:cubicBezTo>
                  <a:close/>
                  <a:moveTo>
                    <a:pt x="2736" y="1923"/>
                  </a:moveTo>
                  <a:cubicBezTo>
                    <a:pt x="2723" y="1906"/>
                    <a:pt x="2713" y="1908"/>
                    <a:pt x="2701" y="1914"/>
                  </a:cubicBezTo>
                  <a:cubicBezTo>
                    <a:pt x="2686" y="1920"/>
                    <a:pt x="2671" y="1930"/>
                    <a:pt x="2656" y="1929"/>
                  </a:cubicBezTo>
                  <a:cubicBezTo>
                    <a:pt x="2610" y="1928"/>
                    <a:pt x="2564" y="1923"/>
                    <a:pt x="2518" y="1917"/>
                  </a:cubicBezTo>
                  <a:cubicBezTo>
                    <a:pt x="2484" y="1913"/>
                    <a:pt x="2453" y="1920"/>
                    <a:pt x="2417" y="1924"/>
                  </a:cubicBezTo>
                  <a:cubicBezTo>
                    <a:pt x="2442" y="1948"/>
                    <a:pt x="2469" y="1942"/>
                    <a:pt x="2494" y="1942"/>
                  </a:cubicBezTo>
                  <a:cubicBezTo>
                    <a:pt x="2511" y="1942"/>
                    <a:pt x="2528" y="1940"/>
                    <a:pt x="2545" y="1943"/>
                  </a:cubicBezTo>
                  <a:cubicBezTo>
                    <a:pt x="2601" y="1955"/>
                    <a:pt x="2656" y="1944"/>
                    <a:pt x="2711" y="1937"/>
                  </a:cubicBezTo>
                  <a:cubicBezTo>
                    <a:pt x="2719" y="1936"/>
                    <a:pt x="2726" y="1929"/>
                    <a:pt x="2736" y="1923"/>
                  </a:cubicBezTo>
                  <a:close/>
                  <a:moveTo>
                    <a:pt x="1014" y="3921"/>
                  </a:moveTo>
                  <a:cubicBezTo>
                    <a:pt x="1027" y="3925"/>
                    <a:pt x="1037" y="3926"/>
                    <a:pt x="1047" y="3930"/>
                  </a:cubicBezTo>
                  <a:cubicBezTo>
                    <a:pt x="1055" y="3934"/>
                    <a:pt x="1061" y="3942"/>
                    <a:pt x="1070" y="3944"/>
                  </a:cubicBezTo>
                  <a:cubicBezTo>
                    <a:pt x="1076" y="3946"/>
                    <a:pt x="1085" y="3939"/>
                    <a:pt x="1091" y="3941"/>
                  </a:cubicBezTo>
                  <a:cubicBezTo>
                    <a:pt x="1100" y="3945"/>
                    <a:pt x="1107" y="3955"/>
                    <a:pt x="1116" y="3958"/>
                  </a:cubicBezTo>
                  <a:cubicBezTo>
                    <a:pt x="1125" y="3961"/>
                    <a:pt x="1136" y="3958"/>
                    <a:pt x="1145" y="3957"/>
                  </a:cubicBezTo>
                  <a:cubicBezTo>
                    <a:pt x="1145" y="3924"/>
                    <a:pt x="1124" y="3909"/>
                    <a:pt x="1104" y="3894"/>
                  </a:cubicBezTo>
                  <a:cubicBezTo>
                    <a:pt x="1064" y="3862"/>
                    <a:pt x="1040" y="3869"/>
                    <a:pt x="1014" y="3921"/>
                  </a:cubicBezTo>
                  <a:close/>
                  <a:moveTo>
                    <a:pt x="1181" y="3911"/>
                  </a:moveTo>
                  <a:cubicBezTo>
                    <a:pt x="1222" y="3941"/>
                    <a:pt x="1263" y="3976"/>
                    <a:pt x="1311" y="3998"/>
                  </a:cubicBezTo>
                  <a:cubicBezTo>
                    <a:pt x="1325" y="4004"/>
                    <a:pt x="1340" y="4008"/>
                    <a:pt x="1353" y="4016"/>
                  </a:cubicBezTo>
                  <a:cubicBezTo>
                    <a:pt x="1376" y="4029"/>
                    <a:pt x="1381" y="4028"/>
                    <a:pt x="1405" y="4006"/>
                  </a:cubicBezTo>
                  <a:cubicBezTo>
                    <a:pt x="1371" y="3996"/>
                    <a:pt x="1335" y="3990"/>
                    <a:pt x="1313" y="3956"/>
                  </a:cubicBezTo>
                  <a:cubicBezTo>
                    <a:pt x="1308" y="3948"/>
                    <a:pt x="1296" y="3944"/>
                    <a:pt x="1286" y="3941"/>
                  </a:cubicBezTo>
                  <a:cubicBezTo>
                    <a:pt x="1251" y="3930"/>
                    <a:pt x="1216" y="3921"/>
                    <a:pt x="1181" y="3911"/>
                  </a:cubicBezTo>
                  <a:close/>
                  <a:moveTo>
                    <a:pt x="1083" y="1284"/>
                  </a:moveTo>
                  <a:cubicBezTo>
                    <a:pt x="1087" y="1327"/>
                    <a:pt x="1119" y="1354"/>
                    <a:pt x="1148" y="1377"/>
                  </a:cubicBezTo>
                  <a:cubicBezTo>
                    <a:pt x="1195" y="1415"/>
                    <a:pt x="1243" y="1452"/>
                    <a:pt x="1286" y="1495"/>
                  </a:cubicBezTo>
                  <a:cubicBezTo>
                    <a:pt x="1289" y="1498"/>
                    <a:pt x="1296" y="1498"/>
                    <a:pt x="1301" y="1499"/>
                  </a:cubicBezTo>
                  <a:cubicBezTo>
                    <a:pt x="1303" y="1497"/>
                    <a:pt x="1304" y="1495"/>
                    <a:pt x="1306" y="1492"/>
                  </a:cubicBezTo>
                  <a:cubicBezTo>
                    <a:pt x="1238" y="1417"/>
                    <a:pt x="1155" y="1357"/>
                    <a:pt x="1083" y="1284"/>
                  </a:cubicBezTo>
                  <a:close/>
                  <a:moveTo>
                    <a:pt x="2258" y="3071"/>
                  </a:moveTo>
                  <a:cubicBezTo>
                    <a:pt x="2278" y="3097"/>
                    <a:pt x="2303" y="3068"/>
                    <a:pt x="2322" y="3081"/>
                  </a:cubicBezTo>
                  <a:cubicBezTo>
                    <a:pt x="2344" y="3094"/>
                    <a:pt x="2365" y="3078"/>
                    <a:pt x="2384" y="3079"/>
                  </a:cubicBezTo>
                  <a:cubicBezTo>
                    <a:pt x="2393" y="3089"/>
                    <a:pt x="2399" y="3104"/>
                    <a:pt x="2407" y="3105"/>
                  </a:cubicBezTo>
                  <a:cubicBezTo>
                    <a:pt x="2427" y="3107"/>
                    <a:pt x="2432" y="3122"/>
                    <a:pt x="2440" y="3134"/>
                  </a:cubicBezTo>
                  <a:cubicBezTo>
                    <a:pt x="2446" y="3143"/>
                    <a:pt x="2450" y="3154"/>
                    <a:pt x="2457" y="3161"/>
                  </a:cubicBezTo>
                  <a:cubicBezTo>
                    <a:pt x="2461" y="3165"/>
                    <a:pt x="2469" y="3164"/>
                    <a:pt x="2481" y="3166"/>
                  </a:cubicBezTo>
                  <a:cubicBezTo>
                    <a:pt x="2461" y="3134"/>
                    <a:pt x="2445" y="3106"/>
                    <a:pt x="2427" y="3080"/>
                  </a:cubicBezTo>
                  <a:cubicBezTo>
                    <a:pt x="2422" y="3073"/>
                    <a:pt x="2411" y="3066"/>
                    <a:pt x="2402" y="3065"/>
                  </a:cubicBezTo>
                  <a:cubicBezTo>
                    <a:pt x="2366" y="3061"/>
                    <a:pt x="2330" y="3059"/>
                    <a:pt x="2295" y="3057"/>
                  </a:cubicBezTo>
                  <a:cubicBezTo>
                    <a:pt x="2282" y="3057"/>
                    <a:pt x="2268" y="3053"/>
                    <a:pt x="2258" y="3071"/>
                  </a:cubicBezTo>
                  <a:close/>
                  <a:moveTo>
                    <a:pt x="1431" y="2575"/>
                  </a:moveTo>
                  <a:cubicBezTo>
                    <a:pt x="1372" y="2553"/>
                    <a:pt x="1354" y="2554"/>
                    <a:pt x="1338" y="2586"/>
                  </a:cubicBezTo>
                  <a:cubicBezTo>
                    <a:pt x="1361" y="2612"/>
                    <a:pt x="1391" y="2628"/>
                    <a:pt x="1423" y="2642"/>
                  </a:cubicBezTo>
                  <a:cubicBezTo>
                    <a:pt x="1435" y="2647"/>
                    <a:pt x="1443" y="2642"/>
                    <a:pt x="1445" y="2635"/>
                  </a:cubicBezTo>
                  <a:cubicBezTo>
                    <a:pt x="1440" y="2613"/>
                    <a:pt x="1436" y="2597"/>
                    <a:pt x="1431" y="2575"/>
                  </a:cubicBezTo>
                  <a:close/>
                  <a:moveTo>
                    <a:pt x="2208" y="2226"/>
                  </a:moveTo>
                  <a:cubicBezTo>
                    <a:pt x="2204" y="2226"/>
                    <a:pt x="2200" y="2226"/>
                    <a:pt x="2196" y="2225"/>
                  </a:cubicBezTo>
                  <a:cubicBezTo>
                    <a:pt x="2194" y="2235"/>
                    <a:pt x="2188" y="2246"/>
                    <a:pt x="2191" y="2252"/>
                  </a:cubicBezTo>
                  <a:cubicBezTo>
                    <a:pt x="2199" y="2267"/>
                    <a:pt x="2182" y="2289"/>
                    <a:pt x="2208" y="2301"/>
                  </a:cubicBezTo>
                  <a:cubicBezTo>
                    <a:pt x="2218" y="2305"/>
                    <a:pt x="2227" y="2337"/>
                    <a:pt x="2221" y="2345"/>
                  </a:cubicBezTo>
                  <a:cubicBezTo>
                    <a:pt x="2204" y="2369"/>
                    <a:pt x="2224" y="2373"/>
                    <a:pt x="2235" y="2391"/>
                  </a:cubicBezTo>
                  <a:cubicBezTo>
                    <a:pt x="2242" y="2357"/>
                    <a:pt x="2255" y="2331"/>
                    <a:pt x="2253" y="2301"/>
                  </a:cubicBezTo>
                  <a:cubicBezTo>
                    <a:pt x="2243" y="2303"/>
                    <a:pt x="2236" y="2305"/>
                    <a:pt x="2235" y="2305"/>
                  </a:cubicBezTo>
                  <a:cubicBezTo>
                    <a:pt x="2226" y="2277"/>
                    <a:pt x="2217" y="2252"/>
                    <a:pt x="2208" y="2226"/>
                  </a:cubicBezTo>
                  <a:close/>
                  <a:moveTo>
                    <a:pt x="3619" y="1206"/>
                  </a:moveTo>
                  <a:cubicBezTo>
                    <a:pt x="3629" y="1207"/>
                    <a:pt x="3636" y="1208"/>
                    <a:pt x="3643" y="1207"/>
                  </a:cubicBezTo>
                  <a:cubicBezTo>
                    <a:pt x="3667" y="1203"/>
                    <a:pt x="3684" y="1210"/>
                    <a:pt x="3699" y="1233"/>
                  </a:cubicBezTo>
                  <a:cubicBezTo>
                    <a:pt x="3724" y="1271"/>
                    <a:pt x="3754" y="1305"/>
                    <a:pt x="3781" y="1339"/>
                  </a:cubicBezTo>
                  <a:cubicBezTo>
                    <a:pt x="3772" y="1290"/>
                    <a:pt x="3713" y="1213"/>
                    <a:pt x="3665" y="1185"/>
                  </a:cubicBezTo>
                  <a:cubicBezTo>
                    <a:pt x="3652" y="1178"/>
                    <a:pt x="3640" y="1168"/>
                    <a:pt x="3624" y="1174"/>
                  </a:cubicBezTo>
                  <a:cubicBezTo>
                    <a:pt x="3621" y="1176"/>
                    <a:pt x="3618" y="1178"/>
                    <a:pt x="3614" y="1180"/>
                  </a:cubicBezTo>
                  <a:cubicBezTo>
                    <a:pt x="3615" y="1188"/>
                    <a:pt x="3617" y="1196"/>
                    <a:pt x="3619" y="1206"/>
                  </a:cubicBezTo>
                  <a:close/>
                  <a:moveTo>
                    <a:pt x="1895" y="1189"/>
                  </a:moveTo>
                  <a:cubicBezTo>
                    <a:pt x="1902" y="1209"/>
                    <a:pt x="1927" y="1200"/>
                    <a:pt x="1929" y="1223"/>
                  </a:cubicBezTo>
                  <a:cubicBezTo>
                    <a:pt x="1932" y="1247"/>
                    <a:pt x="1945" y="1269"/>
                    <a:pt x="1954" y="1294"/>
                  </a:cubicBezTo>
                  <a:cubicBezTo>
                    <a:pt x="1972" y="1283"/>
                    <a:pt x="1985" y="1275"/>
                    <a:pt x="1999" y="1267"/>
                  </a:cubicBezTo>
                  <a:cubicBezTo>
                    <a:pt x="1975" y="1237"/>
                    <a:pt x="1954" y="1211"/>
                    <a:pt x="1932" y="1184"/>
                  </a:cubicBezTo>
                  <a:cubicBezTo>
                    <a:pt x="1921" y="1185"/>
                    <a:pt x="1910" y="1187"/>
                    <a:pt x="1895" y="1189"/>
                  </a:cubicBezTo>
                  <a:close/>
                  <a:moveTo>
                    <a:pt x="1848" y="843"/>
                  </a:moveTo>
                  <a:cubicBezTo>
                    <a:pt x="1845" y="845"/>
                    <a:pt x="1843" y="846"/>
                    <a:pt x="1841" y="847"/>
                  </a:cubicBezTo>
                  <a:cubicBezTo>
                    <a:pt x="1844" y="855"/>
                    <a:pt x="1846" y="864"/>
                    <a:pt x="1851" y="870"/>
                  </a:cubicBezTo>
                  <a:cubicBezTo>
                    <a:pt x="1875" y="902"/>
                    <a:pt x="1901" y="932"/>
                    <a:pt x="1924" y="963"/>
                  </a:cubicBezTo>
                  <a:cubicBezTo>
                    <a:pt x="1940" y="984"/>
                    <a:pt x="1952" y="1007"/>
                    <a:pt x="1966" y="1029"/>
                  </a:cubicBezTo>
                  <a:cubicBezTo>
                    <a:pt x="1972" y="1038"/>
                    <a:pt x="1980" y="1046"/>
                    <a:pt x="1994" y="1035"/>
                  </a:cubicBezTo>
                  <a:cubicBezTo>
                    <a:pt x="1944" y="972"/>
                    <a:pt x="1903" y="902"/>
                    <a:pt x="1848" y="843"/>
                  </a:cubicBezTo>
                  <a:close/>
                  <a:moveTo>
                    <a:pt x="2507" y="2823"/>
                  </a:moveTo>
                  <a:cubicBezTo>
                    <a:pt x="2507" y="2825"/>
                    <a:pt x="2508" y="2827"/>
                    <a:pt x="2509" y="2829"/>
                  </a:cubicBezTo>
                  <a:cubicBezTo>
                    <a:pt x="2526" y="2834"/>
                    <a:pt x="2543" y="2840"/>
                    <a:pt x="2560" y="2845"/>
                  </a:cubicBezTo>
                  <a:cubicBezTo>
                    <a:pt x="2578" y="2851"/>
                    <a:pt x="2595" y="2864"/>
                    <a:pt x="2614" y="2849"/>
                  </a:cubicBezTo>
                  <a:cubicBezTo>
                    <a:pt x="2598" y="2827"/>
                    <a:pt x="2583" y="2808"/>
                    <a:pt x="2569" y="2789"/>
                  </a:cubicBezTo>
                  <a:cubicBezTo>
                    <a:pt x="2549" y="2791"/>
                    <a:pt x="2531" y="2792"/>
                    <a:pt x="2505" y="2795"/>
                  </a:cubicBezTo>
                  <a:cubicBezTo>
                    <a:pt x="2519" y="2804"/>
                    <a:pt x="2526" y="2809"/>
                    <a:pt x="2536" y="2816"/>
                  </a:cubicBezTo>
                  <a:cubicBezTo>
                    <a:pt x="2523" y="2819"/>
                    <a:pt x="2515" y="2821"/>
                    <a:pt x="2507" y="2823"/>
                  </a:cubicBezTo>
                  <a:close/>
                  <a:moveTo>
                    <a:pt x="2391" y="3029"/>
                  </a:moveTo>
                  <a:cubicBezTo>
                    <a:pt x="2409" y="3041"/>
                    <a:pt x="2423" y="3052"/>
                    <a:pt x="2439" y="3060"/>
                  </a:cubicBezTo>
                  <a:cubicBezTo>
                    <a:pt x="2448" y="3065"/>
                    <a:pt x="2459" y="3064"/>
                    <a:pt x="2470" y="3065"/>
                  </a:cubicBezTo>
                  <a:cubicBezTo>
                    <a:pt x="2472" y="3065"/>
                    <a:pt x="2476" y="3060"/>
                    <a:pt x="2477" y="3057"/>
                  </a:cubicBezTo>
                  <a:cubicBezTo>
                    <a:pt x="2478" y="3054"/>
                    <a:pt x="2477" y="3048"/>
                    <a:pt x="2474" y="3047"/>
                  </a:cubicBezTo>
                  <a:cubicBezTo>
                    <a:pt x="2466" y="3042"/>
                    <a:pt x="2457" y="3037"/>
                    <a:pt x="2447" y="3033"/>
                  </a:cubicBezTo>
                  <a:cubicBezTo>
                    <a:pt x="2453" y="3021"/>
                    <a:pt x="2457" y="3014"/>
                    <a:pt x="2461" y="3007"/>
                  </a:cubicBezTo>
                  <a:cubicBezTo>
                    <a:pt x="2416" y="2975"/>
                    <a:pt x="2402" y="2980"/>
                    <a:pt x="2391" y="3029"/>
                  </a:cubicBezTo>
                  <a:close/>
                  <a:moveTo>
                    <a:pt x="3412" y="3051"/>
                  </a:moveTo>
                  <a:cubicBezTo>
                    <a:pt x="3418" y="3058"/>
                    <a:pt x="3423" y="3065"/>
                    <a:pt x="3429" y="3071"/>
                  </a:cubicBezTo>
                  <a:cubicBezTo>
                    <a:pt x="3448" y="3088"/>
                    <a:pt x="3469" y="3103"/>
                    <a:pt x="3485" y="3122"/>
                  </a:cubicBezTo>
                  <a:cubicBezTo>
                    <a:pt x="3507" y="3147"/>
                    <a:pt x="3537" y="3149"/>
                    <a:pt x="3572" y="3158"/>
                  </a:cubicBezTo>
                  <a:cubicBezTo>
                    <a:pt x="3557" y="3132"/>
                    <a:pt x="3538" y="3123"/>
                    <a:pt x="3517" y="3117"/>
                  </a:cubicBezTo>
                  <a:cubicBezTo>
                    <a:pt x="3512" y="3115"/>
                    <a:pt x="3506" y="3114"/>
                    <a:pt x="3503" y="3111"/>
                  </a:cubicBezTo>
                  <a:cubicBezTo>
                    <a:pt x="3481" y="3089"/>
                    <a:pt x="3460" y="3068"/>
                    <a:pt x="3439" y="3046"/>
                  </a:cubicBezTo>
                  <a:cubicBezTo>
                    <a:pt x="3429" y="3036"/>
                    <a:pt x="3421" y="3038"/>
                    <a:pt x="3412" y="3051"/>
                  </a:cubicBezTo>
                  <a:close/>
                  <a:moveTo>
                    <a:pt x="1911" y="1914"/>
                  </a:moveTo>
                  <a:cubicBezTo>
                    <a:pt x="1910" y="1918"/>
                    <a:pt x="1910" y="1921"/>
                    <a:pt x="1910" y="1924"/>
                  </a:cubicBezTo>
                  <a:cubicBezTo>
                    <a:pt x="1925" y="1938"/>
                    <a:pt x="1945" y="1938"/>
                    <a:pt x="1964" y="1936"/>
                  </a:cubicBezTo>
                  <a:cubicBezTo>
                    <a:pt x="1979" y="1935"/>
                    <a:pt x="1992" y="1931"/>
                    <a:pt x="2009" y="1939"/>
                  </a:cubicBezTo>
                  <a:cubicBezTo>
                    <a:pt x="2023" y="1946"/>
                    <a:pt x="2044" y="1950"/>
                    <a:pt x="2060" y="1930"/>
                  </a:cubicBezTo>
                  <a:cubicBezTo>
                    <a:pt x="2041" y="1911"/>
                    <a:pt x="2022" y="1903"/>
                    <a:pt x="1995" y="1908"/>
                  </a:cubicBezTo>
                  <a:cubicBezTo>
                    <a:pt x="1976" y="1912"/>
                    <a:pt x="1956" y="1911"/>
                    <a:pt x="1936" y="1912"/>
                  </a:cubicBezTo>
                  <a:cubicBezTo>
                    <a:pt x="1928" y="1913"/>
                    <a:pt x="1919" y="1914"/>
                    <a:pt x="1911" y="1914"/>
                  </a:cubicBezTo>
                  <a:close/>
                  <a:moveTo>
                    <a:pt x="2744" y="2573"/>
                  </a:moveTo>
                  <a:cubicBezTo>
                    <a:pt x="2722" y="2533"/>
                    <a:pt x="2708" y="2531"/>
                    <a:pt x="2644" y="2554"/>
                  </a:cubicBezTo>
                  <a:cubicBezTo>
                    <a:pt x="2675" y="2585"/>
                    <a:pt x="2708" y="2591"/>
                    <a:pt x="2744" y="2573"/>
                  </a:cubicBezTo>
                  <a:close/>
                  <a:moveTo>
                    <a:pt x="529" y="936"/>
                  </a:moveTo>
                  <a:cubicBezTo>
                    <a:pt x="525" y="937"/>
                    <a:pt x="521" y="938"/>
                    <a:pt x="517" y="940"/>
                  </a:cubicBezTo>
                  <a:cubicBezTo>
                    <a:pt x="539" y="967"/>
                    <a:pt x="529" y="991"/>
                    <a:pt x="517" y="1012"/>
                  </a:cubicBezTo>
                  <a:cubicBezTo>
                    <a:pt x="525" y="1026"/>
                    <a:pt x="532" y="1037"/>
                    <a:pt x="543" y="1054"/>
                  </a:cubicBezTo>
                  <a:cubicBezTo>
                    <a:pt x="565" y="1016"/>
                    <a:pt x="553" y="974"/>
                    <a:pt x="573" y="942"/>
                  </a:cubicBezTo>
                  <a:cubicBezTo>
                    <a:pt x="573" y="942"/>
                    <a:pt x="571" y="941"/>
                    <a:pt x="568" y="938"/>
                  </a:cubicBezTo>
                  <a:cubicBezTo>
                    <a:pt x="560" y="943"/>
                    <a:pt x="552" y="948"/>
                    <a:pt x="544" y="953"/>
                  </a:cubicBezTo>
                  <a:cubicBezTo>
                    <a:pt x="538" y="947"/>
                    <a:pt x="534" y="941"/>
                    <a:pt x="529" y="936"/>
                  </a:cubicBezTo>
                  <a:close/>
                  <a:moveTo>
                    <a:pt x="534" y="2619"/>
                  </a:moveTo>
                  <a:cubicBezTo>
                    <a:pt x="537" y="2640"/>
                    <a:pt x="542" y="2656"/>
                    <a:pt x="539" y="2671"/>
                  </a:cubicBezTo>
                  <a:cubicBezTo>
                    <a:pt x="530" y="2725"/>
                    <a:pt x="529" y="2724"/>
                    <a:pt x="569" y="2758"/>
                  </a:cubicBezTo>
                  <a:cubicBezTo>
                    <a:pt x="568" y="2736"/>
                    <a:pt x="562" y="2715"/>
                    <a:pt x="565" y="2692"/>
                  </a:cubicBezTo>
                  <a:cubicBezTo>
                    <a:pt x="568" y="2670"/>
                    <a:pt x="572" y="2635"/>
                    <a:pt x="534" y="2619"/>
                  </a:cubicBezTo>
                  <a:close/>
                  <a:moveTo>
                    <a:pt x="334" y="1506"/>
                  </a:moveTo>
                  <a:cubicBezTo>
                    <a:pt x="300" y="1527"/>
                    <a:pt x="299" y="1564"/>
                    <a:pt x="278" y="1581"/>
                  </a:cubicBezTo>
                  <a:cubicBezTo>
                    <a:pt x="291" y="1593"/>
                    <a:pt x="302" y="1604"/>
                    <a:pt x="317" y="1617"/>
                  </a:cubicBezTo>
                  <a:cubicBezTo>
                    <a:pt x="323" y="1580"/>
                    <a:pt x="328" y="1547"/>
                    <a:pt x="334" y="1506"/>
                  </a:cubicBezTo>
                  <a:close/>
                  <a:moveTo>
                    <a:pt x="1003" y="868"/>
                  </a:moveTo>
                  <a:cubicBezTo>
                    <a:pt x="998" y="852"/>
                    <a:pt x="993" y="837"/>
                    <a:pt x="988" y="821"/>
                  </a:cubicBezTo>
                  <a:cubicBezTo>
                    <a:pt x="974" y="833"/>
                    <a:pt x="961" y="841"/>
                    <a:pt x="952" y="852"/>
                  </a:cubicBezTo>
                  <a:cubicBezTo>
                    <a:pt x="943" y="863"/>
                    <a:pt x="933" y="878"/>
                    <a:pt x="956" y="889"/>
                  </a:cubicBezTo>
                  <a:cubicBezTo>
                    <a:pt x="961" y="880"/>
                    <a:pt x="966" y="873"/>
                    <a:pt x="969" y="867"/>
                  </a:cubicBezTo>
                  <a:cubicBezTo>
                    <a:pt x="986" y="879"/>
                    <a:pt x="1001" y="890"/>
                    <a:pt x="1020" y="903"/>
                  </a:cubicBezTo>
                  <a:cubicBezTo>
                    <a:pt x="1023" y="887"/>
                    <a:pt x="1025" y="879"/>
                    <a:pt x="1027" y="870"/>
                  </a:cubicBezTo>
                  <a:cubicBezTo>
                    <a:pt x="1016" y="869"/>
                    <a:pt x="1008" y="869"/>
                    <a:pt x="1003" y="868"/>
                  </a:cubicBezTo>
                  <a:close/>
                  <a:moveTo>
                    <a:pt x="2702" y="2969"/>
                  </a:moveTo>
                  <a:cubicBezTo>
                    <a:pt x="2718" y="2942"/>
                    <a:pt x="2698" y="2932"/>
                    <a:pt x="2693" y="2918"/>
                  </a:cubicBezTo>
                  <a:cubicBezTo>
                    <a:pt x="2688" y="2902"/>
                    <a:pt x="2682" y="2886"/>
                    <a:pt x="2674" y="2873"/>
                  </a:cubicBezTo>
                  <a:cubicBezTo>
                    <a:pt x="2666" y="2860"/>
                    <a:pt x="2658" y="2844"/>
                    <a:pt x="2634" y="2837"/>
                  </a:cubicBezTo>
                  <a:cubicBezTo>
                    <a:pt x="2656" y="2884"/>
                    <a:pt x="2668" y="2929"/>
                    <a:pt x="2702" y="2969"/>
                  </a:cubicBezTo>
                  <a:close/>
                  <a:moveTo>
                    <a:pt x="2871" y="877"/>
                  </a:moveTo>
                  <a:cubicBezTo>
                    <a:pt x="2820" y="878"/>
                    <a:pt x="2810" y="926"/>
                    <a:pt x="2776" y="948"/>
                  </a:cubicBezTo>
                  <a:cubicBezTo>
                    <a:pt x="2781" y="956"/>
                    <a:pt x="2786" y="964"/>
                    <a:pt x="2793" y="975"/>
                  </a:cubicBezTo>
                  <a:cubicBezTo>
                    <a:pt x="2820" y="941"/>
                    <a:pt x="2844" y="911"/>
                    <a:pt x="2871" y="877"/>
                  </a:cubicBezTo>
                  <a:close/>
                  <a:moveTo>
                    <a:pt x="3923" y="1640"/>
                  </a:moveTo>
                  <a:cubicBezTo>
                    <a:pt x="3901" y="1554"/>
                    <a:pt x="3875" y="1496"/>
                    <a:pt x="3848" y="1478"/>
                  </a:cubicBezTo>
                  <a:cubicBezTo>
                    <a:pt x="3875" y="1533"/>
                    <a:pt x="3878" y="1591"/>
                    <a:pt x="3923" y="1640"/>
                  </a:cubicBezTo>
                  <a:close/>
                  <a:moveTo>
                    <a:pt x="1468" y="1924"/>
                  </a:moveTo>
                  <a:cubicBezTo>
                    <a:pt x="1454" y="1922"/>
                    <a:pt x="1442" y="1921"/>
                    <a:pt x="1435" y="1920"/>
                  </a:cubicBezTo>
                  <a:cubicBezTo>
                    <a:pt x="1416" y="1936"/>
                    <a:pt x="1401" y="1948"/>
                    <a:pt x="1385" y="1962"/>
                  </a:cubicBezTo>
                  <a:cubicBezTo>
                    <a:pt x="1430" y="1981"/>
                    <a:pt x="1457" y="1970"/>
                    <a:pt x="1468" y="1924"/>
                  </a:cubicBezTo>
                  <a:close/>
                  <a:moveTo>
                    <a:pt x="3006" y="566"/>
                  </a:moveTo>
                  <a:cubicBezTo>
                    <a:pt x="3007" y="563"/>
                    <a:pt x="3007" y="561"/>
                    <a:pt x="3008" y="558"/>
                  </a:cubicBezTo>
                  <a:cubicBezTo>
                    <a:pt x="3001" y="554"/>
                    <a:pt x="2994" y="547"/>
                    <a:pt x="2986" y="547"/>
                  </a:cubicBezTo>
                  <a:cubicBezTo>
                    <a:pt x="2964" y="546"/>
                    <a:pt x="2942" y="546"/>
                    <a:pt x="2920" y="549"/>
                  </a:cubicBezTo>
                  <a:cubicBezTo>
                    <a:pt x="2913" y="550"/>
                    <a:pt x="2908" y="560"/>
                    <a:pt x="2902" y="565"/>
                  </a:cubicBezTo>
                  <a:cubicBezTo>
                    <a:pt x="2909" y="569"/>
                    <a:pt x="2915" y="576"/>
                    <a:pt x="2921" y="575"/>
                  </a:cubicBezTo>
                  <a:cubicBezTo>
                    <a:pt x="2949" y="573"/>
                    <a:pt x="2977" y="569"/>
                    <a:pt x="3006" y="566"/>
                  </a:cubicBezTo>
                  <a:close/>
                  <a:moveTo>
                    <a:pt x="1510" y="824"/>
                  </a:moveTo>
                  <a:cubicBezTo>
                    <a:pt x="1533" y="890"/>
                    <a:pt x="1534" y="890"/>
                    <a:pt x="1577" y="880"/>
                  </a:cubicBezTo>
                  <a:cubicBezTo>
                    <a:pt x="1554" y="861"/>
                    <a:pt x="1553" y="824"/>
                    <a:pt x="1510" y="824"/>
                  </a:cubicBezTo>
                  <a:close/>
                  <a:moveTo>
                    <a:pt x="2281" y="3669"/>
                  </a:moveTo>
                  <a:cubicBezTo>
                    <a:pt x="2320" y="3698"/>
                    <a:pt x="2358" y="3726"/>
                    <a:pt x="2396" y="3753"/>
                  </a:cubicBezTo>
                  <a:cubicBezTo>
                    <a:pt x="2368" y="3710"/>
                    <a:pt x="2336" y="3674"/>
                    <a:pt x="2281" y="3669"/>
                  </a:cubicBezTo>
                  <a:close/>
                  <a:moveTo>
                    <a:pt x="2334" y="886"/>
                  </a:moveTo>
                  <a:cubicBezTo>
                    <a:pt x="2348" y="879"/>
                    <a:pt x="2359" y="861"/>
                    <a:pt x="2353" y="845"/>
                  </a:cubicBezTo>
                  <a:cubicBezTo>
                    <a:pt x="2349" y="833"/>
                    <a:pt x="2336" y="823"/>
                    <a:pt x="2327" y="812"/>
                  </a:cubicBezTo>
                  <a:cubicBezTo>
                    <a:pt x="2320" y="817"/>
                    <a:pt x="2313" y="822"/>
                    <a:pt x="2306" y="828"/>
                  </a:cubicBezTo>
                  <a:cubicBezTo>
                    <a:pt x="2315" y="847"/>
                    <a:pt x="2324" y="865"/>
                    <a:pt x="2334" y="886"/>
                  </a:cubicBezTo>
                  <a:close/>
                  <a:moveTo>
                    <a:pt x="273" y="1769"/>
                  </a:moveTo>
                  <a:cubicBezTo>
                    <a:pt x="259" y="1758"/>
                    <a:pt x="250" y="1739"/>
                    <a:pt x="229" y="1756"/>
                  </a:cubicBezTo>
                  <a:cubicBezTo>
                    <a:pt x="227" y="1758"/>
                    <a:pt x="226" y="1762"/>
                    <a:pt x="226" y="1764"/>
                  </a:cubicBezTo>
                  <a:cubicBezTo>
                    <a:pt x="234" y="1770"/>
                    <a:pt x="241" y="1775"/>
                    <a:pt x="250" y="1782"/>
                  </a:cubicBezTo>
                  <a:cubicBezTo>
                    <a:pt x="238" y="1793"/>
                    <a:pt x="229" y="1801"/>
                    <a:pt x="214" y="1814"/>
                  </a:cubicBezTo>
                  <a:cubicBezTo>
                    <a:pt x="235" y="1811"/>
                    <a:pt x="249" y="1810"/>
                    <a:pt x="262" y="1808"/>
                  </a:cubicBezTo>
                  <a:cubicBezTo>
                    <a:pt x="265" y="1795"/>
                    <a:pt x="269" y="1784"/>
                    <a:pt x="273" y="1769"/>
                  </a:cubicBezTo>
                  <a:close/>
                  <a:moveTo>
                    <a:pt x="1991" y="3176"/>
                  </a:moveTo>
                  <a:cubicBezTo>
                    <a:pt x="1966" y="3155"/>
                    <a:pt x="1957" y="3171"/>
                    <a:pt x="1947" y="3187"/>
                  </a:cubicBezTo>
                  <a:cubicBezTo>
                    <a:pt x="1954" y="3189"/>
                    <a:pt x="1959" y="3190"/>
                    <a:pt x="1963" y="3191"/>
                  </a:cubicBezTo>
                  <a:cubicBezTo>
                    <a:pt x="1958" y="3217"/>
                    <a:pt x="1919" y="3221"/>
                    <a:pt x="1933" y="3262"/>
                  </a:cubicBezTo>
                  <a:cubicBezTo>
                    <a:pt x="1955" y="3229"/>
                    <a:pt x="1973" y="3203"/>
                    <a:pt x="1991" y="3176"/>
                  </a:cubicBezTo>
                  <a:close/>
                  <a:moveTo>
                    <a:pt x="1297" y="1773"/>
                  </a:moveTo>
                  <a:cubicBezTo>
                    <a:pt x="1300" y="1807"/>
                    <a:pt x="1303" y="1835"/>
                    <a:pt x="1306" y="1863"/>
                  </a:cubicBezTo>
                  <a:cubicBezTo>
                    <a:pt x="1306" y="1866"/>
                    <a:pt x="1306" y="1869"/>
                    <a:pt x="1308" y="1871"/>
                  </a:cubicBezTo>
                  <a:cubicBezTo>
                    <a:pt x="1312" y="1875"/>
                    <a:pt x="1317" y="1881"/>
                    <a:pt x="1322" y="1881"/>
                  </a:cubicBezTo>
                  <a:cubicBezTo>
                    <a:pt x="1326" y="1881"/>
                    <a:pt x="1334" y="1872"/>
                    <a:pt x="1334" y="1869"/>
                  </a:cubicBezTo>
                  <a:cubicBezTo>
                    <a:pt x="1328" y="1836"/>
                    <a:pt x="1323" y="1803"/>
                    <a:pt x="1297" y="1773"/>
                  </a:cubicBezTo>
                  <a:close/>
                  <a:moveTo>
                    <a:pt x="1373" y="2680"/>
                  </a:moveTo>
                  <a:cubicBezTo>
                    <a:pt x="1384" y="2676"/>
                    <a:pt x="1390" y="2663"/>
                    <a:pt x="1383" y="2650"/>
                  </a:cubicBezTo>
                  <a:cubicBezTo>
                    <a:pt x="1369" y="2625"/>
                    <a:pt x="1345" y="2635"/>
                    <a:pt x="1318" y="2633"/>
                  </a:cubicBezTo>
                  <a:cubicBezTo>
                    <a:pt x="1339" y="2650"/>
                    <a:pt x="1354" y="2664"/>
                    <a:pt x="1373" y="2680"/>
                  </a:cubicBezTo>
                  <a:close/>
                  <a:moveTo>
                    <a:pt x="2050" y="1732"/>
                  </a:moveTo>
                  <a:cubicBezTo>
                    <a:pt x="2016" y="1720"/>
                    <a:pt x="1955" y="1722"/>
                    <a:pt x="1930" y="1733"/>
                  </a:cubicBezTo>
                  <a:cubicBezTo>
                    <a:pt x="1973" y="1738"/>
                    <a:pt x="2012" y="1751"/>
                    <a:pt x="2050" y="1732"/>
                  </a:cubicBezTo>
                  <a:close/>
                  <a:moveTo>
                    <a:pt x="1346" y="258"/>
                  </a:moveTo>
                  <a:cubicBezTo>
                    <a:pt x="1370" y="266"/>
                    <a:pt x="1373" y="223"/>
                    <a:pt x="1398" y="242"/>
                  </a:cubicBezTo>
                  <a:cubicBezTo>
                    <a:pt x="1411" y="226"/>
                    <a:pt x="1423" y="211"/>
                    <a:pt x="1434" y="197"/>
                  </a:cubicBezTo>
                  <a:cubicBezTo>
                    <a:pt x="1396" y="197"/>
                    <a:pt x="1372" y="226"/>
                    <a:pt x="1346" y="258"/>
                  </a:cubicBezTo>
                  <a:close/>
                  <a:moveTo>
                    <a:pt x="2139" y="1912"/>
                  </a:moveTo>
                  <a:cubicBezTo>
                    <a:pt x="2126" y="1907"/>
                    <a:pt x="2119" y="1903"/>
                    <a:pt x="2112" y="1903"/>
                  </a:cubicBezTo>
                  <a:cubicBezTo>
                    <a:pt x="2099" y="1904"/>
                    <a:pt x="2087" y="1906"/>
                    <a:pt x="2076" y="1910"/>
                  </a:cubicBezTo>
                  <a:cubicBezTo>
                    <a:pt x="2074" y="1911"/>
                    <a:pt x="2073" y="1923"/>
                    <a:pt x="2076" y="1927"/>
                  </a:cubicBezTo>
                  <a:cubicBezTo>
                    <a:pt x="2086" y="1941"/>
                    <a:pt x="2102" y="1940"/>
                    <a:pt x="2115" y="1934"/>
                  </a:cubicBezTo>
                  <a:cubicBezTo>
                    <a:pt x="2123" y="1931"/>
                    <a:pt x="2129" y="1922"/>
                    <a:pt x="2139" y="1912"/>
                  </a:cubicBezTo>
                  <a:close/>
                  <a:moveTo>
                    <a:pt x="1525" y="4074"/>
                  </a:moveTo>
                  <a:cubicBezTo>
                    <a:pt x="1526" y="4072"/>
                    <a:pt x="1527" y="4069"/>
                    <a:pt x="1528" y="4066"/>
                  </a:cubicBezTo>
                  <a:cubicBezTo>
                    <a:pt x="1503" y="4050"/>
                    <a:pt x="1471" y="4048"/>
                    <a:pt x="1452" y="4020"/>
                  </a:cubicBezTo>
                  <a:cubicBezTo>
                    <a:pt x="1443" y="4007"/>
                    <a:pt x="1434" y="4013"/>
                    <a:pt x="1423" y="4037"/>
                  </a:cubicBezTo>
                  <a:cubicBezTo>
                    <a:pt x="1457" y="4049"/>
                    <a:pt x="1491" y="4062"/>
                    <a:pt x="1525" y="4074"/>
                  </a:cubicBezTo>
                  <a:close/>
                  <a:moveTo>
                    <a:pt x="2012" y="3477"/>
                  </a:moveTo>
                  <a:cubicBezTo>
                    <a:pt x="2046" y="3459"/>
                    <a:pt x="2043" y="3422"/>
                    <a:pt x="2057" y="3395"/>
                  </a:cubicBezTo>
                  <a:cubicBezTo>
                    <a:pt x="2037" y="3417"/>
                    <a:pt x="2019" y="3440"/>
                    <a:pt x="2003" y="3464"/>
                  </a:cubicBezTo>
                  <a:cubicBezTo>
                    <a:pt x="2002" y="3466"/>
                    <a:pt x="2008" y="3472"/>
                    <a:pt x="2012" y="3477"/>
                  </a:cubicBezTo>
                  <a:close/>
                  <a:moveTo>
                    <a:pt x="2428" y="2413"/>
                  </a:moveTo>
                  <a:cubicBezTo>
                    <a:pt x="2459" y="2427"/>
                    <a:pt x="2484" y="2422"/>
                    <a:pt x="2510" y="2422"/>
                  </a:cubicBezTo>
                  <a:cubicBezTo>
                    <a:pt x="2487" y="2385"/>
                    <a:pt x="2477" y="2383"/>
                    <a:pt x="2428" y="2413"/>
                  </a:cubicBezTo>
                  <a:close/>
                  <a:moveTo>
                    <a:pt x="1875" y="2884"/>
                  </a:moveTo>
                  <a:cubicBezTo>
                    <a:pt x="1880" y="2906"/>
                    <a:pt x="1848" y="2923"/>
                    <a:pt x="1876" y="2944"/>
                  </a:cubicBezTo>
                  <a:cubicBezTo>
                    <a:pt x="1889" y="2929"/>
                    <a:pt x="1901" y="2916"/>
                    <a:pt x="1915" y="2900"/>
                  </a:cubicBezTo>
                  <a:cubicBezTo>
                    <a:pt x="1901" y="2895"/>
                    <a:pt x="1890" y="2890"/>
                    <a:pt x="1875" y="2884"/>
                  </a:cubicBezTo>
                  <a:close/>
                  <a:moveTo>
                    <a:pt x="985" y="1441"/>
                  </a:moveTo>
                  <a:cubicBezTo>
                    <a:pt x="997" y="1487"/>
                    <a:pt x="1014" y="1505"/>
                    <a:pt x="1046" y="1500"/>
                  </a:cubicBezTo>
                  <a:cubicBezTo>
                    <a:pt x="1033" y="1473"/>
                    <a:pt x="1008" y="1460"/>
                    <a:pt x="985" y="1441"/>
                  </a:cubicBezTo>
                  <a:close/>
                  <a:moveTo>
                    <a:pt x="2409" y="2332"/>
                  </a:moveTo>
                  <a:cubicBezTo>
                    <a:pt x="2455" y="2341"/>
                    <a:pt x="2491" y="2349"/>
                    <a:pt x="2528" y="2335"/>
                  </a:cubicBezTo>
                  <a:cubicBezTo>
                    <a:pt x="2491" y="2335"/>
                    <a:pt x="2455" y="2313"/>
                    <a:pt x="2409" y="2332"/>
                  </a:cubicBezTo>
                  <a:close/>
                  <a:moveTo>
                    <a:pt x="2125" y="815"/>
                  </a:moveTo>
                  <a:cubicBezTo>
                    <a:pt x="2097" y="790"/>
                    <a:pt x="2070" y="766"/>
                    <a:pt x="2042" y="741"/>
                  </a:cubicBezTo>
                  <a:cubicBezTo>
                    <a:pt x="2050" y="769"/>
                    <a:pt x="2083" y="798"/>
                    <a:pt x="2125" y="815"/>
                  </a:cubicBezTo>
                  <a:close/>
                  <a:moveTo>
                    <a:pt x="2461" y="635"/>
                  </a:moveTo>
                  <a:cubicBezTo>
                    <a:pt x="2476" y="646"/>
                    <a:pt x="2485" y="652"/>
                    <a:pt x="2498" y="663"/>
                  </a:cubicBezTo>
                  <a:cubicBezTo>
                    <a:pt x="2500" y="640"/>
                    <a:pt x="2522" y="627"/>
                    <a:pt x="2508" y="603"/>
                  </a:cubicBezTo>
                  <a:cubicBezTo>
                    <a:pt x="2492" y="613"/>
                    <a:pt x="2480" y="622"/>
                    <a:pt x="2461" y="635"/>
                  </a:cubicBezTo>
                  <a:close/>
                  <a:moveTo>
                    <a:pt x="1249" y="3620"/>
                  </a:moveTo>
                  <a:cubicBezTo>
                    <a:pt x="1247" y="3618"/>
                    <a:pt x="1245" y="3616"/>
                    <a:pt x="1243" y="3614"/>
                  </a:cubicBezTo>
                  <a:cubicBezTo>
                    <a:pt x="1215" y="3630"/>
                    <a:pt x="1186" y="3646"/>
                    <a:pt x="1155" y="3663"/>
                  </a:cubicBezTo>
                  <a:cubicBezTo>
                    <a:pt x="1191" y="3675"/>
                    <a:pt x="1211" y="3650"/>
                    <a:pt x="1235" y="3639"/>
                  </a:cubicBezTo>
                  <a:cubicBezTo>
                    <a:pt x="1242" y="3636"/>
                    <a:pt x="1244" y="3626"/>
                    <a:pt x="1249" y="3620"/>
                  </a:cubicBezTo>
                  <a:close/>
                  <a:moveTo>
                    <a:pt x="1127" y="890"/>
                  </a:moveTo>
                  <a:cubicBezTo>
                    <a:pt x="1108" y="877"/>
                    <a:pt x="1093" y="866"/>
                    <a:pt x="1077" y="855"/>
                  </a:cubicBezTo>
                  <a:cubicBezTo>
                    <a:pt x="1075" y="905"/>
                    <a:pt x="1084" y="912"/>
                    <a:pt x="1127" y="890"/>
                  </a:cubicBezTo>
                  <a:close/>
                  <a:moveTo>
                    <a:pt x="268" y="1507"/>
                  </a:moveTo>
                  <a:cubicBezTo>
                    <a:pt x="271" y="1483"/>
                    <a:pt x="272" y="1465"/>
                    <a:pt x="275" y="1444"/>
                  </a:cubicBezTo>
                  <a:cubicBezTo>
                    <a:pt x="260" y="1461"/>
                    <a:pt x="249" y="1475"/>
                    <a:pt x="237" y="1488"/>
                  </a:cubicBezTo>
                  <a:cubicBezTo>
                    <a:pt x="245" y="1492"/>
                    <a:pt x="251" y="1495"/>
                    <a:pt x="258" y="1498"/>
                  </a:cubicBezTo>
                  <a:cubicBezTo>
                    <a:pt x="252" y="1505"/>
                    <a:pt x="248" y="1509"/>
                    <a:pt x="244" y="1514"/>
                  </a:cubicBezTo>
                  <a:cubicBezTo>
                    <a:pt x="245" y="1515"/>
                    <a:pt x="246" y="1516"/>
                    <a:pt x="247" y="1517"/>
                  </a:cubicBezTo>
                  <a:cubicBezTo>
                    <a:pt x="255" y="1513"/>
                    <a:pt x="263" y="1509"/>
                    <a:pt x="268" y="1507"/>
                  </a:cubicBezTo>
                  <a:close/>
                  <a:moveTo>
                    <a:pt x="2291" y="562"/>
                  </a:moveTo>
                  <a:cubicBezTo>
                    <a:pt x="2326" y="579"/>
                    <a:pt x="2343" y="570"/>
                    <a:pt x="2361" y="522"/>
                  </a:cubicBezTo>
                  <a:cubicBezTo>
                    <a:pt x="2346" y="532"/>
                    <a:pt x="2337" y="540"/>
                    <a:pt x="2328" y="545"/>
                  </a:cubicBezTo>
                  <a:cubicBezTo>
                    <a:pt x="2318" y="551"/>
                    <a:pt x="2307" y="555"/>
                    <a:pt x="2291" y="562"/>
                  </a:cubicBezTo>
                  <a:close/>
                  <a:moveTo>
                    <a:pt x="2386" y="1562"/>
                  </a:moveTo>
                  <a:cubicBezTo>
                    <a:pt x="2403" y="1585"/>
                    <a:pt x="2426" y="1580"/>
                    <a:pt x="2444" y="1586"/>
                  </a:cubicBezTo>
                  <a:cubicBezTo>
                    <a:pt x="2449" y="1587"/>
                    <a:pt x="2455" y="1584"/>
                    <a:pt x="2463" y="1582"/>
                  </a:cubicBezTo>
                  <a:cubicBezTo>
                    <a:pt x="2435" y="1558"/>
                    <a:pt x="2415" y="1552"/>
                    <a:pt x="2386" y="1562"/>
                  </a:cubicBezTo>
                  <a:close/>
                  <a:moveTo>
                    <a:pt x="349" y="2634"/>
                  </a:moveTo>
                  <a:cubicBezTo>
                    <a:pt x="351" y="2634"/>
                    <a:pt x="354" y="2634"/>
                    <a:pt x="357" y="2634"/>
                  </a:cubicBezTo>
                  <a:cubicBezTo>
                    <a:pt x="350" y="2591"/>
                    <a:pt x="343" y="2548"/>
                    <a:pt x="336" y="2504"/>
                  </a:cubicBezTo>
                  <a:cubicBezTo>
                    <a:pt x="330" y="2549"/>
                    <a:pt x="338" y="2592"/>
                    <a:pt x="349" y="2634"/>
                  </a:cubicBezTo>
                  <a:close/>
                  <a:moveTo>
                    <a:pt x="2631" y="2006"/>
                  </a:moveTo>
                  <a:cubicBezTo>
                    <a:pt x="2603" y="2008"/>
                    <a:pt x="2581" y="2009"/>
                    <a:pt x="2555" y="2011"/>
                  </a:cubicBezTo>
                  <a:cubicBezTo>
                    <a:pt x="2590" y="2037"/>
                    <a:pt x="2604" y="2037"/>
                    <a:pt x="2631" y="2006"/>
                  </a:cubicBezTo>
                  <a:close/>
                  <a:moveTo>
                    <a:pt x="2573" y="2769"/>
                  </a:moveTo>
                  <a:cubicBezTo>
                    <a:pt x="2591" y="2786"/>
                    <a:pt x="2609" y="2802"/>
                    <a:pt x="2633" y="2824"/>
                  </a:cubicBezTo>
                  <a:cubicBezTo>
                    <a:pt x="2623" y="2774"/>
                    <a:pt x="2621" y="2772"/>
                    <a:pt x="2573" y="2769"/>
                  </a:cubicBezTo>
                  <a:close/>
                  <a:moveTo>
                    <a:pt x="1463" y="774"/>
                  </a:moveTo>
                  <a:cubicBezTo>
                    <a:pt x="1463" y="761"/>
                    <a:pt x="1450" y="734"/>
                    <a:pt x="1433" y="730"/>
                  </a:cubicBezTo>
                  <a:cubicBezTo>
                    <a:pt x="1429" y="729"/>
                    <a:pt x="1423" y="737"/>
                    <a:pt x="1419" y="739"/>
                  </a:cubicBezTo>
                  <a:cubicBezTo>
                    <a:pt x="1437" y="753"/>
                    <a:pt x="1452" y="765"/>
                    <a:pt x="1463" y="774"/>
                  </a:cubicBezTo>
                  <a:close/>
                  <a:moveTo>
                    <a:pt x="907" y="1962"/>
                  </a:moveTo>
                  <a:cubicBezTo>
                    <a:pt x="914" y="1981"/>
                    <a:pt x="922" y="1998"/>
                    <a:pt x="929" y="2016"/>
                  </a:cubicBezTo>
                  <a:cubicBezTo>
                    <a:pt x="932" y="2015"/>
                    <a:pt x="934" y="2015"/>
                    <a:pt x="937" y="2014"/>
                  </a:cubicBezTo>
                  <a:cubicBezTo>
                    <a:pt x="937" y="1999"/>
                    <a:pt x="939" y="1983"/>
                    <a:pt x="936" y="1969"/>
                  </a:cubicBezTo>
                  <a:cubicBezTo>
                    <a:pt x="934" y="1953"/>
                    <a:pt x="922" y="1954"/>
                    <a:pt x="907" y="1962"/>
                  </a:cubicBezTo>
                  <a:close/>
                  <a:moveTo>
                    <a:pt x="3846" y="1448"/>
                  </a:moveTo>
                  <a:cubicBezTo>
                    <a:pt x="3828" y="1397"/>
                    <a:pt x="3822" y="1387"/>
                    <a:pt x="3799" y="1378"/>
                  </a:cubicBezTo>
                  <a:cubicBezTo>
                    <a:pt x="3807" y="1407"/>
                    <a:pt x="3819" y="1432"/>
                    <a:pt x="3846" y="1448"/>
                  </a:cubicBezTo>
                  <a:close/>
                  <a:moveTo>
                    <a:pt x="2036" y="2403"/>
                  </a:moveTo>
                  <a:cubicBezTo>
                    <a:pt x="2057" y="2422"/>
                    <a:pt x="2070" y="2425"/>
                    <a:pt x="2111" y="2422"/>
                  </a:cubicBezTo>
                  <a:cubicBezTo>
                    <a:pt x="2083" y="2405"/>
                    <a:pt x="2064" y="2391"/>
                    <a:pt x="2036" y="2403"/>
                  </a:cubicBezTo>
                  <a:close/>
                  <a:moveTo>
                    <a:pt x="1928" y="1823"/>
                  </a:moveTo>
                  <a:cubicBezTo>
                    <a:pt x="1955" y="1838"/>
                    <a:pt x="1993" y="1835"/>
                    <a:pt x="2013" y="1816"/>
                  </a:cubicBezTo>
                  <a:cubicBezTo>
                    <a:pt x="1985" y="1818"/>
                    <a:pt x="1960" y="1820"/>
                    <a:pt x="1928" y="1823"/>
                  </a:cubicBezTo>
                  <a:close/>
                  <a:moveTo>
                    <a:pt x="744" y="736"/>
                  </a:moveTo>
                  <a:cubicBezTo>
                    <a:pt x="781" y="713"/>
                    <a:pt x="758" y="682"/>
                    <a:pt x="770" y="659"/>
                  </a:cubicBezTo>
                  <a:cubicBezTo>
                    <a:pt x="751" y="679"/>
                    <a:pt x="748" y="704"/>
                    <a:pt x="744" y="736"/>
                  </a:cubicBezTo>
                  <a:close/>
                  <a:moveTo>
                    <a:pt x="2892" y="2312"/>
                  </a:moveTo>
                  <a:cubicBezTo>
                    <a:pt x="2893" y="2316"/>
                    <a:pt x="2893" y="2321"/>
                    <a:pt x="2893" y="2325"/>
                  </a:cubicBezTo>
                  <a:cubicBezTo>
                    <a:pt x="2911" y="2322"/>
                    <a:pt x="2930" y="2332"/>
                    <a:pt x="2954" y="2312"/>
                  </a:cubicBezTo>
                  <a:cubicBezTo>
                    <a:pt x="2928" y="2312"/>
                    <a:pt x="2910" y="2312"/>
                    <a:pt x="2892" y="2312"/>
                  </a:cubicBezTo>
                  <a:close/>
                  <a:moveTo>
                    <a:pt x="2194" y="919"/>
                  </a:moveTo>
                  <a:cubicBezTo>
                    <a:pt x="2191" y="919"/>
                    <a:pt x="2189" y="920"/>
                    <a:pt x="2186" y="921"/>
                  </a:cubicBezTo>
                  <a:cubicBezTo>
                    <a:pt x="2192" y="954"/>
                    <a:pt x="2182" y="990"/>
                    <a:pt x="2197" y="1023"/>
                  </a:cubicBezTo>
                  <a:cubicBezTo>
                    <a:pt x="2200" y="1022"/>
                    <a:pt x="2203" y="1022"/>
                    <a:pt x="2206" y="1022"/>
                  </a:cubicBezTo>
                  <a:cubicBezTo>
                    <a:pt x="2202" y="987"/>
                    <a:pt x="2198" y="953"/>
                    <a:pt x="2194" y="919"/>
                  </a:cubicBezTo>
                  <a:close/>
                  <a:moveTo>
                    <a:pt x="388" y="1384"/>
                  </a:moveTo>
                  <a:cubicBezTo>
                    <a:pt x="346" y="1395"/>
                    <a:pt x="344" y="1397"/>
                    <a:pt x="345" y="1436"/>
                  </a:cubicBezTo>
                  <a:cubicBezTo>
                    <a:pt x="360" y="1419"/>
                    <a:pt x="371" y="1405"/>
                    <a:pt x="388" y="1384"/>
                  </a:cubicBezTo>
                  <a:close/>
                  <a:moveTo>
                    <a:pt x="2031" y="2028"/>
                  </a:moveTo>
                  <a:cubicBezTo>
                    <a:pt x="2049" y="2028"/>
                    <a:pt x="2068" y="2028"/>
                    <a:pt x="2087" y="2028"/>
                  </a:cubicBezTo>
                  <a:cubicBezTo>
                    <a:pt x="2068" y="2007"/>
                    <a:pt x="2050" y="2013"/>
                    <a:pt x="2031" y="2028"/>
                  </a:cubicBezTo>
                  <a:close/>
                  <a:moveTo>
                    <a:pt x="3725" y="1129"/>
                  </a:moveTo>
                  <a:cubicBezTo>
                    <a:pt x="3729" y="1102"/>
                    <a:pt x="3719" y="1092"/>
                    <a:pt x="3697" y="1087"/>
                  </a:cubicBezTo>
                  <a:cubicBezTo>
                    <a:pt x="3688" y="1111"/>
                    <a:pt x="3700" y="1119"/>
                    <a:pt x="3725" y="1129"/>
                  </a:cubicBezTo>
                  <a:close/>
                  <a:moveTo>
                    <a:pt x="2613" y="3209"/>
                  </a:moveTo>
                  <a:cubicBezTo>
                    <a:pt x="2615" y="3176"/>
                    <a:pt x="2593" y="3158"/>
                    <a:pt x="2567" y="3142"/>
                  </a:cubicBezTo>
                  <a:cubicBezTo>
                    <a:pt x="2582" y="3164"/>
                    <a:pt x="2598" y="3187"/>
                    <a:pt x="2613" y="3209"/>
                  </a:cubicBezTo>
                  <a:close/>
                  <a:moveTo>
                    <a:pt x="2369" y="3268"/>
                  </a:moveTo>
                  <a:cubicBezTo>
                    <a:pt x="2344" y="3241"/>
                    <a:pt x="2344" y="3241"/>
                    <a:pt x="2318" y="3255"/>
                  </a:cubicBezTo>
                  <a:cubicBezTo>
                    <a:pt x="2339" y="3271"/>
                    <a:pt x="2339" y="3271"/>
                    <a:pt x="2369" y="3268"/>
                  </a:cubicBezTo>
                  <a:close/>
                  <a:moveTo>
                    <a:pt x="3245" y="3296"/>
                  </a:moveTo>
                  <a:cubicBezTo>
                    <a:pt x="3243" y="3298"/>
                    <a:pt x="3242" y="3300"/>
                    <a:pt x="3240" y="3302"/>
                  </a:cubicBezTo>
                  <a:cubicBezTo>
                    <a:pt x="3274" y="3342"/>
                    <a:pt x="3274" y="3342"/>
                    <a:pt x="3305" y="3339"/>
                  </a:cubicBezTo>
                  <a:cubicBezTo>
                    <a:pt x="3282" y="3323"/>
                    <a:pt x="3263" y="3309"/>
                    <a:pt x="3245" y="3296"/>
                  </a:cubicBezTo>
                  <a:close/>
                  <a:moveTo>
                    <a:pt x="284" y="2963"/>
                  </a:moveTo>
                  <a:cubicBezTo>
                    <a:pt x="286" y="2964"/>
                    <a:pt x="288" y="2965"/>
                    <a:pt x="290" y="2966"/>
                  </a:cubicBezTo>
                  <a:cubicBezTo>
                    <a:pt x="299" y="2960"/>
                    <a:pt x="307" y="2954"/>
                    <a:pt x="317" y="2947"/>
                  </a:cubicBezTo>
                  <a:cubicBezTo>
                    <a:pt x="311" y="2936"/>
                    <a:pt x="306" y="2928"/>
                    <a:pt x="297" y="2910"/>
                  </a:cubicBezTo>
                  <a:cubicBezTo>
                    <a:pt x="291" y="2933"/>
                    <a:pt x="287" y="2948"/>
                    <a:pt x="284" y="2963"/>
                  </a:cubicBezTo>
                  <a:close/>
                  <a:moveTo>
                    <a:pt x="321" y="1703"/>
                  </a:moveTo>
                  <a:cubicBezTo>
                    <a:pt x="350" y="1681"/>
                    <a:pt x="350" y="1676"/>
                    <a:pt x="321" y="1656"/>
                  </a:cubicBezTo>
                  <a:cubicBezTo>
                    <a:pt x="321" y="1673"/>
                    <a:pt x="321" y="1687"/>
                    <a:pt x="321" y="1703"/>
                  </a:cubicBezTo>
                  <a:close/>
                  <a:moveTo>
                    <a:pt x="1734" y="1297"/>
                  </a:moveTo>
                  <a:cubicBezTo>
                    <a:pt x="1744" y="1256"/>
                    <a:pt x="1742" y="1253"/>
                    <a:pt x="1712" y="1242"/>
                  </a:cubicBezTo>
                  <a:cubicBezTo>
                    <a:pt x="1711" y="1244"/>
                    <a:pt x="1709" y="1247"/>
                    <a:pt x="1710" y="1249"/>
                  </a:cubicBezTo>
                  <a:cubicBezTo>
                    <a:pt x="1717" y="1263"/>
                    <a:pt x="1724" y="1277"/>
                    <a:pt x="1734" y="1297"/>
                  </a:cubicBezTo>
                  <a:close/>
                  <a:moveTo>
                    <a:pt x="1494" y="1633"/>
                  </a:moveTo>
                  <a:cubicBezTo>
                    <a:pt x="1482" y="1667"/>
                    <a:pt x="1485" y="1674"/>
                    <a:pt x="1516" y="1680"/>
                  </a:cubicBezTo>
                  <a:cubicBezTo>
                    <a:pt x="1509" y="1665"/>
                    <a:pt x="1502" y="1650"/>
                    <a:pt x="1494" y="1633"/>
                  </a:cubicBezTo>
                  <a:close/>
                  <a:moveTo>
                    <a:pt x="1092" y="380"/>
                  </a:moveTo>
                  <a:cubicBezTo>
                    <a:pt x="1105" y="367"/>
                    <a:pt x="1117" y="356"/>
                    <a:pt x="1129" y="345"/>
                  </a:cubicBezTo>
                  <a:cubicBezTo>
                    <a:pt x="1128" y="344"/>
                    <a:pt x="1127" y="342"/>
                    <a:pt x="1126" y="340"/>
                  </a:cubicBezTo>
                  <a:cubicBezTo>
                    <a:pt x="1112" y="344"/>
                    <a:pt x="1098" y="348"/>
                    <a:pt x="1081" y="353"/>
                  </a:cubicBezTo>
                  <a:cubicBezTo>
                    <a:pt x="1086" y="365"/>
                    <a:pt x="1089" y="374"/>
                    <a:pt x="1092" y="380"/>
                  </a:cubicBezTo>
                  <a:close/>
                  <a:moveTo>
                    <a:pt x="1796" y="968"/>
                  </a:moveTo>
                  <a:cubicBezTo>
                    <a:pt x="1789" y="947"/>
                    <a:pt x="1784" y="926"/>
                    <a:pt x="1754" y="931"/>
                  </a:cubicBezTo>
                  <a:cubicBezTo>
                    <a:pt x="1754" y="961"/>
                    <a:pt x="1785" y="954"/>
                    <a:pt x="1796" y="968"/>
                  </a:cubicBezTo>
                  <a:close/>
                  <a:moveTo>
                    <a:pt x="3395" y="1007"/>
                  </a:moveTo>
                  <a:cubicBezTo>
                    <a:pt x="3417" y="1000"/>
                    <a:pt x="3416" y="986"/>
                    <a:pt x="3418" y="974"/>
                  </a:cubicBezTo>
                  <a:cubicBezTo>
                    <a:pt x="3420" y="963"/>
                    <a:pt x="3436" y="952"/>
                    <a:pt x="3417" y="941"/>
                  </a:cubicBezTo>
                  <a:cubicBezTo>
                    <a:pt x="3410" y="963"/>
                    <a:pt x="3403" y="983"/>
                    <a:pt x="3395" y="1007"/>
                  </a:cubicBezTo>
                  <a:close/>
                  <a:moveTo>
                    <a:pt x="2186" y="3415"/>
                  </a:moveTo>
                  <a:cubicBezTo>
                    <a:pt x="2183" y="3415"/>
                    <a:pt x="2181" y="3414"/>
                    <a:pt x="2178" y="3414"/>
                  </a:cubicBezTo>
                  <a:cubicBezTo>
                    <a:pt x="2174" y="3442"/>
                    <a:pt x="2165" y="3470"/>
                    <a:pt x="2180" y="3498"/>
                  </a:cubicBezTo>
                  <a:cubicBezTo>
                    <a:pt x="2182" y="3471"/>
                    <a:pt x="2184" y="3443"/>
                    <a:pt x="2186" y="3415"/>
                  </a:cubicBezTo>
                  <a:close/>
                  <a:moveTo>
                    <a:pt x="1532" y="1464"/>
                  </a:moveTo>
                  <a:cubicBezTo>
                    <a:pt x="1540" y="1440"/>
                    <a:pt x="1540" y="1440"/>
                    <a:pt x="1517" y="1425"/>
                  </a:cubicBezTo>
                  <a:cubicBezTo>
                    <a:pt x="1509" y="1452"/>
                    <a:pt x="1509" y="1452"/>
                    <a:pt x="1532" y="1464"/>
                  </a:cubicBezTo>
                  <a:close/>
                  <a:moveTo>
                    <a:pt x="1893" y="3613"/>
                  </a:moveTo>
                  <a:cubicBezTo>
                    <a:pt x="1871" y="3637"/>
                    <a:pt x="1871" y="3637"/>
                    <a:pt x="1877" y="3661"/>
                  </a:cubicBezTo>
                  <a:cubicBezTo>
                    <a:pt x="1894" y="3638"/>
                    <a:pt x="1894" y="3638"/>
                    <a:pt x="1893" y="3613"/>
                  </a:cubicBezTo>
                  <a:close/>
                  <a:moveTo>
                    <a:pt x="1159" y="916"/>
                  </a:moveTo>
                  <a:cubicBezTo>
                    <a:pt x="1156" y="920"/>
                    <a:pt x="1153" y="924"/>
                    <a:pt x="1150" y="928"/>
                  </a:cubicBezTo>
                  <a:cubicBezTo>
                    <a:pt x="1166" y="940"/>
                    <a:pt x="1183" y="951"/>
                    <a:pt x="1199" y="963"/>
                  </a:cubicBezTo>
                  <a:cubicBezTo>
                    <a:pt x="1201" y="961"/>
                    <a:pt x="1203" y="958"/>
                    <a:pt x="1205" y="956"/>
                  </a:cubicBezTo>
                  <a:cubicBezTo>
                    <a:pt x="1190" y="943"/>
                    <a:pt x="1175" y="929"/>
                    <a:pt x="1159" y="916"/>
                  </a:cubicBezTo>
                  <a:close/>
                  <a:moveTo>
                    <a:pt x="1636" y="4045"/>
                  </a:moveTo>
                  <a:cubicBezTo>
                    <a:pt x="1657" y="4031"/>
                    <a:pt x="1671" y="4021"/>
                    <a:pt x="1673" y="3997"/>
                  </a:cubicBezTo>
                  <a:cubicBezTo>
                    <a:pt x="1649" y="4004"/>
                    <a:pt x="1635" y="4014"/>
                    <a:pt x="1636" y="4045"/>
                  </a:cubicBezTo>
                  <a:close/>
                  <a:moveTo>
                    <a:pt x="3004" y="2142"/>
                  </a:moveTo>
                  <a:cubicBezTo>
                    <a:pt x="2988" y="2135"/>
                    <a:pt x="2973" y="2118"/>
                    <a:pt x="2953" y="2138"/>
                  </a:cubicBezTo>
                  <a:cubicBezTo>
                    <a:pt x="2970" y="2152"/>
                    <a:pt x="2987" y="2150"/>
                    <a:pt x="3004" y="2142"/>
                  </a:cubicBezTo>
                  <a:close/>
                  <a:moveTo>
                    <a:pt x="606" y="2830"/>
                  </a:moveTo>
                  <a:cubicBezTo>
                    <a:pt x="602" y="2831"/>
                    <a:pt x="598" y="2832"/>
                    <a:pt x="595" y="2834"/>
                  </a:cubicBezTo>
                  <a:cubicBezTo>
                    <a:pt x="595" y="2849"/>
                    <a:pt x="594" y="2864"/>
                    <a:pt x="619" y="2870"/>
                  </a:cubicBezTo>
                  <a:cubicBezTo>
                    <a:pt x="615" y="2857"/>
                    <a:pt x="610" y="2844"/>
                    <a:pt x="606" y="2830"/>
                  </a:cubicBezTo>
                  <a:close/>
                  <a:moveTo>
                    <a:pt x="2459" y="2954"/>
                  </a:moveTo>
                  <a:cubicBezTo>
                    <a:pt x="2457" y="2956"/>
                    <a:pt x="2454" y="2959"/>
                    <a:pt x="2451" y="2962"/>
                  </a:cubicBezTo>
                  <a:cubicBezTo>
                    <a:pt x="2455" y="2980"/>
                    <a:pt x="2469" y="2987"/>
                    <a:pt x="2484" y="2993"/>
                  </a:cubicBezTo>
                  <a:cubicBezTo>
                    <a:pt x="2486" y="2991"/>
                    <a:pt x="2488" y="2989"/>
                    <a:pt x="2490" y="2987"/>
                  </a:cubicBezTo>
                  <a:cubicBezTo>
                    <a:pt x="2480" y="2976"/>
                    <a:pt x="2470" y="2965"/>
                    <a:pt x="2459" y="2954"/>
                  </a:cubicBezTo>
                  <a:close/>
                  <a:moveTo>
                    <a:pt x="3351" y="3661"/>
                  </a:moveTo>
                  <a:cubicBezTo>
                    <a:pt x="3365" y="3653"/>
                    <a:pt x="3373" y="3648"/>
                    <a:pt x="3387" y="3640"/>
                  </a:cubicBezTo>
                  <a:cubicBezTo>
                    <a:pt x="3370" y="3632"/>
                    <a:pt x="3360" y="3628"/>
                    <a:pt x="3346" y="3621"/>
                  </a:cubicBezTo>
                  <a:cubicBezTo>
                    <a:pt x="3347" y="3635"/>
                    <a:pt x="3348" y="3643"/>
                    <a:pt x="3351" y="3661"/>
                  </a:cubicBezTo>
                  <a:close/>
                  <a:moveTo>
                    <a:pt x="3588" y="1213"/>
                  </a:moveTo>
                  <a:cubicBezTo>
                    <a:pt x="3580" y="1203"/>
                    <a:pt x="3573" y="1195"/>
                    <a:pt x="3561" y="1180"/>
                  </a:cubicBezTo>
                  <a:cubicBezTo>
                    <a:pt x="3558" y="1200"/>
                    <a:pt x="3557" y="1211"/>
                    <a:pt x="3555" y="1227"/>
                  </a:cubicBezTo>
                  <a:cubicBezTo>
                    <a:pt x="3568" y="1221"/>
                    <a:pt x="3576" y="1218"/>
                    <a:pt x="3588" y="1213"/>
                  </a:cubicBezTo>
                  <a:close/>
                  <a:moveTo>
                    <a:pt x="2046" y="576"/>
                  </a:moveTo>
                  <a:cubicBezTo>
                    <a:pt x="2043" y="577"/>
                    <a:pt x="2041" y="579"/>
                    <a:pt x="2039" y="580"/>
                  </a:cubicBezTo>
                  <a:cubicBezTo>
                    <a:pt x="2045" y="602"/>
                    <a:pt x="2056" y="614"/>
                    <a:pt x="2088" y="629"/>
                  </a:cubicBezTo>
                  <a:cubicBezTo>
                    <a:pt x="2070" y="607"/>
                    <a:pt x="2058" y="591"/>
                    <a:pt x="2046" y="576"/>
                  </a:cubicBezTo>
                  <a:close/>
                  <a:moveTo>
                    <a:pt x="1350" y="2987"/>
                  </a:moveTo>
                  <a:cubicBezTo>
                    <a:pt x="1350" y="3001"/>
                    <a:pt x="1329" y="3013"/>
                    <a:pt x="1345" y="3031"/>
                  </a:cubicBezTo>
                  <a:cubicBezTo>
                    <a:pt x="1361" y="3017"/>
                    <a:pt x="1366" y="3004"/>
                    <a:pt x="1350" y="2987"/>
                  </a:cubicBezTo>
                  <a:close/>
                  <a:moveTo>
                    <a:pt x="1618" y="4098"/>
                  </a:moveTo>
                  <a:cubicBezTo>
                    <a:pt x="1630" y="4101"/>
                    <a:pt x="1641" y="4104"/>
                    <a:pt x="1658" y="4109"/>
                  </a:cubicBezTo>
                  <a:cubicBezTo>
                    <a:pt x="1652" y="4092"/>
                    <a:pt x="1647" y="4081"/>
                    <a:pt x="1641" y="4064"/>
                  </a:cubicBezTo>
                  <a:cubicBezTo>
                    <a:pt x="1635" y="4075"/>
                    <a:pt x="1633" y="4080"/>
                    <a:pt x="1630" y="4083"/>
                  </a:cubicBezTo>
                  <a:cubicBezTo>
                    <a:pt x="1627" y="4087"/>
                    <a:pt x="1624" y="4091"/>
                    <a:pt x="1618" y="4098"/>
                  </a:cubicBezTo>
                  <a:close/>
                  <a:moveTo>
                    <a:pt x="2962" y="751"/>
                  </a:moveTo>
                  <a:cubicBezTo>
                    <a:pt x="2951" y="759"/>
                    <a:pt x="2942" y="766"/>
                    <a:pt x="2930" y="774"/>
                  </a:cubicBezTo>
                  <a:cubicBezTo>
                    <a:pt x="2961" y="786"/>
                    <a:pt x="2965" y="783"/>
                    <a:pt x="2962" y="751"/>
                  </a:cubicBezTo>
                  <a:close/>
                  <a:moveTo>
                    <a:pt x="422" y="1780"/>
                  </a:moveTo>
                  <a:cubicBezTo>
                    <a:pt x="457" y="1752"/>
                    <a:pt x="457" y="1752"/>
                    <a:pt x="449" y="1732"/>
                  </a:cubicBezTo>
                  <a:cubicBezTo>
                    <a:pt x="439" y="1750"/>
                    <a:pt x="431" y="1765"/>
                    <a:pt x="422" y="1780"/>
                  </a:cubicBezTo>
                  <a:close/>
                  <a:moveTo>
                    <a:pt x="2106" y="3375"/>
                  </a:moveTo>
                  <a:cubicBezTo>
                    <a:pt x="2113" y="3367"/>
                    <a:pt x="2119" y="3359"/>
                    <a:pt x="2125" y="3351"/>
                  </a:cubicBezTo>
                  <a:cubicBezTo>
                    <a:pt x="2125" y="3351"/>
                    <a:pt x="2118" y="3342"/>
                    <a:pt x="2114" y="3342"/>
                  </a:cubicBezTo>
                  <a:cubicBezTo>
                    <a:pt x="2100" y="3345"/>
                    <a:pt x="2092" y="3353"/>
                    <a:pt x="2106" y="3375"/>
                  </a:cubicBezTo>
                  <a:close/>
                  <a:moveTo>
                    <a:pt x="481" y="1866"/>
                  </a:moveTo>
                  <a:cubicBezTo>
                    <a:pt x="482" y="1842"/>
                    <a:pt x="498" y="1822"/>
                    <a:pt x="483" y="1796"/>
                  </a:cubicBezTo>
                  <a:cubicBezTo>
                    <a:pt x="488" y="1821"/>
                    <a:pt x="455" y="1839"/>
                    <a:pt x="481" y="1866"/>
                  </a:cubicBezTo>
                  <a:close/>
                  <a:moveTo>
                    <a:pt x="1217" y="4061"/>
                  </a:moveTo>
                  <a:cubicBezTo>
                    <a:pt x="1233" y="4074"/>
                    <a:pt x="1243" y="4082"/>
                    <a:pt x="1261" y="4075"/>
                  </a:cubicBezTo>
                  <a:cubicBezTo>
                    <a:pt x="1253" y="4055"/>
                    <a:pt x="1243" y="4048"/>
                    <a:pt x="1217" y="4061"/>
                  </a:cubicBezTo>
                  <a:close/>
                  <a:moveTo>
                    <a:pt x="2325" y="3159"/>
                  </a:moveTo>
                  <a:cubicBezTo>
                    <a:pt x="2338" y="3184"/>
                    <a:pt x="2338" y="3184"/>
                    <a:pt x="2363" y="3171"/>
                  </a:cubicBezTo>
                  <a:cubicBezTo>
                    <a:pt x="2347" y="3166"/>
                    <a:pt x="2336" y="3162"/>
                    <a:pt x="2325" y="3159"/>
                  </a:cubicBezTo>
                  <a:close/>
                  <a:moveTo>
                    <a:pt x="1361" y="280"/>
                  </a:moveTo>
                  <a:cubicBezTo>
                    <a:pt x="1353" y="292"/>
                    <a:pt x="1347" y="301"/>
                    <a:pt x="1337" y="317"/>
                  </a:cubicBezTo>
                  <a:cubicBezTo>
                    <a:pt x="1358" y="309"/>
                    <a:pt x="1370" y="305"/>
                    <a:pt x="1385" y="299"/>
                  </a:cubicBezTo>
                  <a:cubicBezTo>
                    <a:pt x="1377" y="293"/>
                    <a:pt x="1371" y="288"/>
                    <a:pt x="1361" y="280"/>
                  </a:cubicBezTo>
                  <a:close/>
                  <a:moveTo>
                    <a:pt x="2575" y="3772"/>
                  </a:moveTo>
                  <a:cubicBezTo>
                    <a:pt x="2565" y="3761"/>
                    <a:pt x="2555" y="3751"/>
                    <a:pt x="2545" y="3740"/>
                  </a:cubicBezTo>
                  <a:cubicBezTo>
                    <a:pt x="2544" y="3761"/>
                    <a:pt x="2551" y="3775"/>
                    <a:pt x="2575" y="3772"/>
                  </a:cubicBezTo>
                  <a:close/>
                  <a:moveTo>
                    <a:pt x="928" y="914"/>
                  </a:moveTo>
                  <a:cubicBezTo>
                    <a:pt x="921" y="885"/>
                    <a:pt x="906" y="889"/>
                    <a:pt x="885" y="896"/>
                  </a:cubicBezTo>
                  <a:cubicBezTo>
                    <a:pt x="895" y="917"/>
                    <a:pt x="911" y="914"/>
                    <a:pt x="928" y="914"/>
                  </a:cubicBezTo>
                  <a:close/>
                  <a:moveTo>
                    <a:pt x="2580" y="1689"/>
                  </a:moveTo>
                  <a:cubicBezTo>
                    <a:pt x="2564" y="1696"/>
                    <a:pt x="2552" y="1702"/>
                    <a:pt x="2532" y="1710"/>
                  </a:cubicBezTo>
                  <a:cubicBezTo>
                    <a:pt x="2551" y="1717"/>
                    <a:pt x="2560" y="1721"/>
                    <a:pt x="2570" y="1725"/>
                  </a:cubicBezTo>
                  <a:cubicBezTo>
                    <a:pt x="2573" y="1713"/>
                    <a:pt x="2576" y="1704"/>
                    <a:pt x="2580" y="1689"/>
                  </a:cubicBezTo>
                  <a:close/>
                  <a:moveTo>
                    <a:pt x="226" y="1547"/>
                  </a:moveTo>
                  <a:cubicBezTo>
                    <a:pt x="222" y="1547"/>
                    <a:pt x="218" y="1547"/>
                    <a:pt x="214" y="1546"/>
                  </a:cubicBezTo>
                  <a:cubicBezTo>
                    <a:pt x="209" y="1558"/>
                    <a:pt x="197" y="1569"/>
                    <a:pt x="223" y="1586"/>
                  </a:cubicBezTo>
                  <a:cubicBezTo>
                    <a:pt x="224" y="1570"/>
                    <a:pt x="225" y="1558"/>
                    <a:pt x="226" y="1547"/>
                  </a:cubicBezTo>
                  <a:close/>
                  <a:moveTo>
                    <a:pt x="2340" y="629"/>
                  </a:moveTo>
                  <a:cubicBezTo>
                    <a:pt x="2351" y="632"/>
                    <a:pt x="2359" y="638"/>
                    <a:pt x="2363" y="636"/>
                  </a:cubicBezTo>
                  <a:cubicBezTo>
                    <a:pt x="2376" y="628"/>
                    <a:pt x="2382" y="617"/>
                    <a:pt x="2376" y="598"/>
                  </a:cubicBezTo>
                  <a:cubicBezTo>
                    <a:pt x="2363" y="609"/>
                    <a:pt x="2353" y="617"/>
                    <a:pt x="2340" y="629"/>
                  </a:cubicBezTo>
                  <a:close/>
                  <a:moveTo>
                    <a:pt x="676" y="1944"/>
                  </a:moveTo>
                  <a:cubicBezTo>
                    <a:pt x="679" y="1945"/>
                    <a:pt x="683" y="1946"/>
                    <a:pt x="687" y="1947"/>
                  </a:cubicBezTo>
                  <a:cubicBezTo>
                    <a:pt x="706" y="1937"/>
                    <a:pt x="696" y="1925"/>
                    <a:pt x="682" y="1910"/>
                  </a:cubicBezTo>
                  <a:cubicBezTo>
                    <a:pt x="679" y="1923"/>
                    <a:pt x="678" y="1934"/>
                    <a:pt x="676" y="1944"/>
                  </a:cubicBezTo>
                  <a:close/>
                  <a:moveTo>
                    <a:pt x="788" y="1754"/>
                  </a:moveTo>
                  <a:cubicBezTo>
                    <a:pt x="783" y="1772"/>
                    <a:pt x="769" y="1785"/>
                    <a:pt x="791" y="1799"/>
                  </a:cubicBezTo>
                  <a:cubicBezTo>
                    <a:pt x="800" y="1785"/>
                    <a:pt x="806" y="1773"/>
                    <a:pt x="788" y="1754"/>
                  </a:cubicBezTo>
                  <a:close/>
                  <a:moveTo>
                    <a:pt x="890" y="2189"/>
                  </a:moveTo>
                  <a:cubicBezTo>
                    <a:pt x="923" y="2188"/>
                    <a:pt x="923" y="2188"/>
                    <a:pt x="910" y="2155"/>
                  </a:cubicBezTo>
                  <a:cubicBezTo>
                    <a:pt x="905" y="2164"/>
                    <a:pt x="899" y="2174"/>
                    <a:pt x="890" y="2189"/>
                  </a:cubicBezTo>
                  <a:close/>
                  <a:moveTo>
                    <a:pt x="792" y="2260"/>
                  </a:moveTo>
                  <a:cubicBezTo>
                    <a:pt x="792" y="2258"/>
                    <a:pt x="792" y="2256"/>
                    <a:pt x="792" y="2254"/>
                  </a:cubicBezTo>
                  <a:cubicBezTo>
                    <a:pt x="770" y="2254"/>
                    <a:pt x="748" y="2254"/>
                    <a:pt x="726" y="2254"/>
                  </a:cubicBezTo>
                  <a:cubicBezTo>
                    <a:pt x="726" y="2255"/>
                    <a:pt x="726" y="2256"/>
                    <a:pt x="726" y="2257"/>
                  </a:cubicBezTo>
                  <a:cubicBezTo>
                    <a:pt x="748" y="2258"/>
                    <a:pt x="770" y="2259"/>
                    <a:pt x="792" y="2260"/>
                  </a:cubicBezTo>
                  <a:close/>
                  <a:moveTo>
                    <a:pt x="1714" y="3493"/>
                  </a:moveTo>
                  <a:cubicBezTo>
                    <a:pt x="1733" y="3495"/>
                    <a:pt x="1742" y="3491"/>
                    <a:pt x="1743" y="3476"/>
                  </a:cubicBezTo>
                  <a:cubicBezTo>
                    <a:pt x="1743" y="3474"/>
                    <a:pt x="1738" y="3470"/>
                    <a:pt x="1735" y="3469"/>
                  </a:cubicBezTo>
                  <a:cubicBezTo>
                    <a:pt x="1719" y="3467"/>
                    <a:pt x="1718" y="3479"/>
                    <a:pt x="1714" y="3493"/>
                  </a:cubicBezTo>
                  <a:close/>
                  <a:moveTo>
                    <a:pt x="2009" y="1493"/>
                  </a:moveTo>
                  <a:cubicBezTo>
                    <a:pt x="2007" y="1495"/>
                    <a:pt x="2004" y="1497"/>
                    <a:pt x="2002" y="1500"/>
                  </a:cubicBezTo>
                  <a:cubicBezTo>
                    <a:pt x="2005" y="1518"/>
                    <a:pt x="2017" y="1527"/>
                    <a:pt x="2040" y="1523"/>
                  </a:cubicBezTo>
                  <a:cubicBezTo>
                    <a:pt x="2030" y="1513"/>
                    <a:pt x="2019" y="1503"/>
                    <a:pt x="2009" y="1493"/>
                  </a:cubicBezTo>
                  <a:close/>
                  <a:moveTo>
                    <a:pt x="1898" y="3293"/>
                  </a:moveTo>
                  <a:cubicBezTo>
                    <a:pt x="1882" y="3298"/>
                    <a:pt x="1871" y="3302"/>
                    <a:pt x="1854" y="3307"/>
                  </a:cubicBezTo>
                  <a:cubicBezTo>
                    <a:pt x="1884" y="3316"/>
                    <a:pt x="1884" y="3316"/>
                    <a:pt x="1898" y="3293"/>
                  </a:cubicBezTo>
                  <a:close/>
                  <a:moveTo>
                    <a:pt x="539" y="810"/>
                  </a:moveTo>
                  <a:cubicBezTo>
                    <a:pt x="563" y="813"/>
                    <a:pt x="563" y="813"/>
                    <a:pt x="579" y="783"/>
                  </a:cubicBezTo>
                  <a:cubicBezTo>
                    <a:pt x="562" y="795"/>
                    <a:pt x="550" y="802"/>
                    <a:pt x="539" y="810"/>
                  </a:cubicBezTo>
                  <a:close/>
                  <a:moveTo>
                    <a:pt x="2201" y="1283"/>
                  </a:moveTo>
                  <a:cubicBezTo>
                    <a:pt x="2187" y="1299"/>
                    <a:pt x="2186" y="1315"/>
                    <a:pt x="2204" y="1329"/>
                  </a:cubicBezTo>
                  <a:cubicBezTo>
                    <a:pt x="2203" y="1314"/>
                    <a:pt x="2202" y="1298"/>
                    <a:pt x="2201" y="1283"/>
                  </a:cubicBezTo>
                  <a:close/>
                  <a:moveTo>
                    <a:pt x="1437" y="3736"/>
                  </a:moveTo>
                  <a:cubicBezTo>
                    <a:pt x="1407" y="3748"/>
                    <a:pt x="1407" y="3748"/>
                    <a:pt x="1408" y="3779"/>
                  </a:cubicBezTo>
                  <a:cubicBezTo>
                    <a:pt x="1419" y="3762"/>
                    <a:pt x="1428" y="3750"/>
                    <a:pt x="1437" y="3736"/>
                  </a:cubicBezTo>
                  <a:close/>
                  <a:moveTo>
                    <a:pt x="2228" y="3624"/>
                  </a:moveTo>
                  <a:cubicBezTo>
                    <a:pt x="2215" y="3646"/>
                    <a:pt x="2224" y="3653"/>
                    <a:pt x="2248" y="3655"/>
                  </a:cubicBezTo>
                  <a:cubicBezTo>
                    <a:pt x="2239" y="3642"/>
                    <a:pt x="2234" y="3633"/>
                    <a:pt x="2228" y="3624"/>
                  </a:cubicBezTo>
                  <a:close/>
                  <a:moveTo>
                    <a:pt x="926" y="415"/>
                  </a:moveTo>
                  <a:cubicBezTo>
                    <a:pt x="907" y="420"/>
                    <a:pt x="894" y="424"/>
                    <a:pt x="881" y="427"/>
                  </a:cubicBezTo>
                  <a:cubicBezTo>
                    <a:pt x="882" y="430"/>
                    <a:pt x="883" y="433"/>
                    <a:pt x="884" y="436"/>
                  </a:cubicBezTo>
                  <a:cubicBezTo>
                    <a:pt x="897" y="432"/>
                    <a:pt x="914" y="446"/>
                    <a:pt x="926" y="415"/>
                  </a:cubicBezTo>
                  <a:close/>
                  <a:moveTo>
                    <a:pt x="1159" y="3857"/>
                  </a:moveTo>
                  <a:cubicBezTo>
                    <a:pt x="1157" y="3859"/>
                    <a:pt x="1155" y="3862"/>
                    <a:pt x="1153" y="3865"/>
                  </a:cubicBezTo>
                  <a:cubicBezTo>
                    <a:pt x="1156" y="3880"/>
                    <a:pt x="1165" y="3884"/>
                    <a:pt x="1189" y="3878"/>
                  </a:cubicBezTo>
                  <a:cubicBezTo>
                    <a:pt x="1175" y="3868"/>
                    <a:pt x="1167" y="3862"/>
                    <a:pt x="1159" y="3857"/>
                  </a:cubicBezTo>
                  <a:close/>
                  <a:moveTo>
                    <a:pt x="1043" y="949"/>
                  </a:moveTo>
                  <a:cubicBezTo>
                    <a:pt x="1038" y="937"/>
                    <a:pt x="1035" y="930"/>
                    <a:pt x="1030" y="919"/>
                  </a:cubicBezTo>
                  <a:cubicBezTo>
                    <a:pt x="1020" y="928"/>
                    <a:pt x="1012" y="934"/>
                    <a:pt x="997" y="946"/>
                  </a:cubicBezTo>
                  <a:cubicBezTo>
                    <a:pt x="1017" y="947"/>
                    <a:pt x="1027" y="947"/>
                    <a:pt x="1043" y="949"/>
                  </a:cubicBezTo>
                  <a:close/>
                  <a:moveTo>
                    <a:pt x="665" y="2965"/>
                  </a:moveTo>
                  <a:cubicBezTo>
                    <a:pt x="649" y="2974"/>
                    <a:pt x="645" y="2982"/>
                    <a:pt x="653" y="2992"/>
                  </a:cubicBezTo>
                  <a:cubicBezTo>
                    <a:pt x="656" y="2995"/>
                    <a:pt x="664" y="2993"/>
                    <a:pt x="670" y="2993"/>
                  </a:cubicBezTo>
                  <a:cubicBezTo>
                    <a:pt x="669" y="2985"/>
                    <a:pt x="667" y="2976"/>
                    <a:pt x="665" y="2965"/>
                  </a:cubicBezTo>
                  <a:close/>
                  <a:moveTo>
                    <a:pt x="1386" y="3780"/>
                  </a:moveTo>
                  <a:cubicBezTo>
                    <a:pt x="1385" y="3777"/>
                    <a:pt x="1383" y="3775"/>
                    <a:pt x="1381" y="3773"/>
                  </a:cubicBezTo>
                  <a:cubicBezTo>
                    <a:pt x="1363" y="3780"/>
                    <a:pt x="1344" y="3786"/>
                    <a:pt x="1336" y="3810"/>
                  </a:cubicBezTo>
                  <a:cubicBezTo>
                    <a:pt x="1353" y="3800"/>
                    <a:pt x="1370" y="3790"/>
                    <a:pt x="1386" y="3780"/>
                  </a:cubicBezTo>
                  <a:close/>
                  <a:moveTo>
                    <a:pt x="1604" y="4053"/>
                  </a:moveTo>
                  <a:cubicBezTo>
                    <a:pt x="1596" y="4048"/>
                    <a:pt x="1590" y="4043"/>
                    <a:pt x="1586" y="4044"/>
                  </a:cubicBezTo>
                  <a:cubicBezTo>
                    <a:pt x="1582" y="4044"/>
                    <a:pt x="1578" y="4051"/>
                    <a:pt x="1574" y="4055"/>
                  </a:cubicBezTo>
                  <a:cubicBezTo>
                    <a:pt x="1578" y="4059"/>
                    <a:pt x="1582" y="4065"/>
                    <a:pt x="1586" y="4065"/>
                  </a:cubicBezTo>
                  <a:cubicBezTo>
                    <a:pt x="1591" y="4065"/>
                    <a:pt x="1596" y="4059"/>
                    <a:pt x="1604" y="4053"/>
                  </a:cubicBezTo>
                  <a:close/>
                  <a:moveTo>
                    <a:pt x="2179" y="2863"/>
                  </a:moveTo>
                  <a:cubicBezTo>
                    <a:pt x="2190" y="2871"/>
                    <a:pt x="2198" y="2876"/>
                    <a:pt x="2214" y="2886"/>
                  </a:cubicBezTo>
                  <a:cubicBezTo>
                    <a:pt x="2209" y="2867"/>
                    <a:pt x="2206" y="2857"/>
                    <a:pt x="2203" y="2842"/>
                  </a:cubicBezTo>
                  <a:cubicBezTo>
                    <a:pt x="2194" y="2850"/>
                    <a:pt x="2189" y="2854"/>
                    <a:pt x="2179" y="2863"/>
                  </a:cubicBezTo>
                  <a:close/>
                  <a:moveTo>
                    <a:pt x="1540" y="1487"/>
                  </a:moveTo>
                  <a:cubicBezTo>
                    <a:pt x="1552" y="1490"/>
                    <a:pt x="1561" y="1492"/>
                    <a:pt x="1575" y="1496"/>
                  </a:cubicBezTo>
                  <a:cubicBezTo>
                    <a:pt x="1557" y="1466"/>
                    <a:pt x="1557" y="1466"/>
                    <a:pt x="1540" y="1487"/>
                  </a:cubicBezTo>
                  <a:close/>
                  <a:moveTo>
                    <a:pt x="2952" y="2213"/>
                  </a:moveTo>
                  <a:cubicBezTo>
                    <a:pt x="2958" y="2236"/>
                    <a:pt x="2958" y="2236"/>
                    <a:pt x="2982" y="2227"/>
                  </a:cubicBezTo>
                  <a:cubicBezTo>
                    <a:pt x="2970" y="2221"/>
                    <a:pt x="2963" y="2218"/>
                    <a:pt x="2952" y="2213"/>
                  </a:cubicBezTo>
                  <a:close/>
                  <a:moveTo>
                    <a:pt x="450" y="1926"/>
                  </a:moveTo>
                  <a:cubicBezTo>
                    <a:pt x="446" y="1938"/>
                    <a:pt x="442" y="1950"/>
                    <a:pt x="438" y="1962"/>
                  </a:cubicBezTo>
                  <a:cubicBezTo>
                    <a:pt x="441" y="1963"/>
                    <a:pt x="444" y="1964"/>
                    <a:pt x="446" y="1965"/>
                  </a:cubicBezTo>
                  <a:cubicBezTo>
                    <a:pt x="453" y="1954"/>
                    <a:pt x="465" y="1944"/>
                    <a:pt x="450" y="1926"/>
                  </a:cubicBezTo>
                  <a:close/>
                  <a:moveTo>
                    <a:pt x="874" y="2415"/>
                  </a:moveTo>
                  <a:cubicBezTo>
                    <a:pt x="877" y="2415"/>
                    <a:pt x="880" y="2415"/>
                    <a:pt x="883" y="2415"/>
                  </a:cubicBezTo>
                  <a:cubicBezTo>
                    <a:pt x="895" y="2394"/>
                    <a:pt x="878" y="2374"/>
                    <a:pt x="876" y="2353"/>
                  </a:cubicBezTo>
                  <a:cubicBezTo>
                    <a:pt x="875" y="2374"/>
                    <a:pt x="875" y="2394"/>
                    <a:pt x="874" y="2415"/>
                  </a:cubicBezTo>
                  <a:close/>
                  <a:moveTo>
                    <a:pt x="1435" y="4230"/>
                  </a:moveTo>
                  <a:cubicBezTo>
                    <a:pt x="1447" y="4233"/>
                    <a:pt x="1457" y="4243"/>
                    <a:pt x="1471" y="4234"/>
                  </a:cubicBezTo>
                  <a:cubicBezTo>
                    <a:pt x="1452" y="4212"/>
                    <a:pt x="1452" y="4212"/>
                    <a:pt x="1435" y="4230"/>
                  </a:cubicBezTo>
                  <a:close/>
                  <a:moveTo>
                    <a:pt x="2750" y="2620"/>
                  </a:moveTo>
                  <a:cubicBezTo>
                    <a:pt x="2731" y="2635"/>
                    <a:pt x="2732" y="2644"/>
                    <a:pt x="2744" y="2652"/>
                  </a:cubicBezTo>
                  <a:cubicBezTo>
                    <a:pt x="2746" y="2653"/>
                    <a:pt x="2749" y="2652"/>
                    <a:pt x="2755" y="2651"/>
                  </a:cubicBezTo>
                  <a:cubicBezTo>
                    <a:pt x="2754" y="2643"/>
                    <a:pt x="2752" y="2634"/>
                    <a:pt x="2750" y="2620"/>
                  </a:cubicBezTo>
                  <a:close/>
                  <a:moveTo>
                    <a:pt x="364" y="2445"/>
                  </a:moveTo>
                  <a:cubicBezTo>
                    <a:pt x="368" y="2446"/>
                    <a:pt x="371" y="2446"/>
                    <a:pt x="375" y="2446"/>
                  </a:cubicBezTo>
                  <a:cubicBezTo>
                    <a:pt x="376" y="2435"/>
                    <a:pt x="377" y="2423"/>
                    <a:pt x="379" y="2412"/>
                  </a:cubicBezTo>
                  <a:cubicBezTo>
                    <a:pt x="375" y="2411"/>
                    <a:pt x="371" y="2411"/>
                    <a:pt x="367" y="2411"/>
                  </a:cubicBezTo>
                  <a:cubicBezTo>
                    <a:pt x="366" y="2422"/>
                    <a:pt x="365" y="2434"/>
                    <a:pt x="364" y="2445"/>
                  </a:cubicBezTo>
                  <a:close/>
                  <a:moveTo>
                    <a:pt x="938" y="2446"/>
                  </a:moveTo>
                  <a:cubicBezTo>
                    <a:pt x="938" y="2448"/>
                    <a:pt x="937" y="2449"/>
                    <a:pt x="936" y="2451"/>
                  </a:cubicBezTo>
                  <a:cubicBezTo>
                    <a:pt x="952" y="2455"/>
                    <a:pt x="967" y="2459"/>
                    <a:pt x="983" y="2464"/>
                  </a:cubicBezTo>
                  <a:cubicBezTo>
                    <a:pt x="983" y="2461"/>
                    <a:pt x="984" y="2458"/>
                    <a:pt x="985" y="2456"/>
                  </a:cubicBezTo>
                  <a:cubicBezTo>
                    <a:pt x="969" y="2453"/>
                    <a:pt x="954" y="2449"/>
                    <a:pt x="938" y="2446"/>
                  </a:cubicBezTo>
                  <a:close/>
                  <a:moveTo>
                    <a:pt x="2187" y="3005"/>
                  </a:moveTo>
                  <a:cubicBezTo>
                    <a:pt x="2187" y="2981"/>
                    <a:pt x="2187" y="2966"/>
                    <a:pt x="2187" y="2941"/>
                  </a:cubicBezTo>
                  <a:cubicBezTo>
                    <a:pt x="2171" y="2965"/>
                    <a:pt x="2168" y="2981"/>
                    <a:pt x="2187" y="3005"/>
                  </a:cubicBezTo>
                  <a:close/>
                  <a:moveTo>
                    <a:pt x="2200" y="569"/>
                  </a:moveTo>
                  <a:cubicBezTo>
                    <a:pt x="2214" y="588"/>
                    <a:pt x="2225" y="587"/>
                    <a:pt x="2238" y="571"/>
                  </a:cubicBezTo>
                  <a:cubicBezTo>
                    <a:pt x="2226" y="557"/>
                    <a:pt x="2216" y="559"/>
                    <a:pt x="2200" y="569"/>
                  </a:cubicBezTo>
                  <a:close/>
                  <a:moveTo>
                    <a:pt x="2039" y="553"/>
                  </a:moveTo>
                  <a:cubicBezTo>
                    <a:pt x="2031" y="544"/>
                    <a:pt x="2024" y="535"/>
                    <a:pt x="2016" y="526"/>
                  </a:cubicBezTo>
                  <a:cubicBezTo>
                    <a:pt x="2016" y="541"/>
                    <a:pt x="2012" y="559"/>
                    <a:pt x="2039" y="553"/>
                  </a:cubicBezTo>
                  <a:close/>
                  <a:moveTo>
                    <a:pt x="626" y="2544"/>
                  </a:moveTo>
                  <a:cubicBezTo>
                    <a:pt x="647" y="2519"/>
                    <a:pt x="647" y="2519"/>
                    <a:pt x="629" y="2492"/>
                  </a:cubicBezTo>
                  <a:cubicBezTo>
                    <a:pt x="628" y="2512"/>
                    <a:pt x="627" y="2525"/>
                    <a:pt x="626" y="2544"/>
                  </a:cubicBezTo>
                  <a:close/>
                  <a:moveTo>
                    <a:pt x="2005" y="2125"/>
                  </a:moveTo>
                  <a:cubicBezTo>
                    <a:pt x="2005" y="2128"/>
                    <a:pt x="2006" y="2131"/>
                    <a:pt x="2006" y="2134"/>
                  </a:cubicBezTo>
                  <a:cubicBezTo>
                    <a:pt x="2022" y="2137"/>
                    <a:pt x="2033" y="2126"/>
                    <a:pt x="2043" y="2113"/>
                  </a:cubicBezTo>
                  <a:cubicBezTo>
                    <a:pt x="2031" y="2117"/>
                    <a:pt x="2018" y="2121"/>
                    <a:pt x="2005" y="2125"/>
                  </a:cubicBezTo>
                  <a:close/>
                  <a:moveTo>
                    <a:pt x="2475" y="4024"/>
                  </a:moveTo>
                  <a:cubicBezTo>
                    <a:pt x="2484" y="4038"/>
                    <a:pt x="2494" y="4042"/>
                    <a:pt x="2507" y="4024"/>
                  </a:cubicBezTo>
                  <a:cubicBezTo>
                    <a:pt x="2492" y="4024"/>
                    <a:pt x="2483" y="4024"/>
                    <a:pt x="2475" y="4024"/>
                  </a:cubicBezTo>
                  <a:close/>
                  <a:moveTo>
                    <a:pt x="3111" y="2860"/>
                  </a:moveTo>
                  <a:cubicBezTo>
                    <a:pt x="3098" y="2875"/>
                    <a:pt x="3099" y="2886"/>
                    <a:pt x="3120" y="2894"/>
                  </a:cubicBezTo>
                  <a:cubicBezTo>
                    <a:pt x="3116" y="2880"/>
                    <a:pt x="3113" y="2870"/>
                    <a:pt x="3111" y="2860"/>
                  </a:cubicBezTo>
                  <a:close/>
                  <a:moveTo>
                    <a:pt x="920" y="2623"/>
                  </a:moveTo>
                  <a:cubicBezTo>
                    <a:pt x="922" y="2623"/>
                    <a:pt x="924" y="2622"/>
                    <a:pt x="926" y="2622"/>
                  </a:cubicBezTo>
                  <a:cubicBezTo>
                    <a:pt x="925" y="2604"/>
                    <a:pt x="924" y="2587"/>
                    <a:pt x="923" y="2569"/>
                  </a:cubicBezTo>
                  <a:cubicBezTo>
                    <a:pt x="916" y="2582"/>
                    <a:pt x="915" y="2595"/>
                    <a:pt x="916" y="2609"/>
                  </a:cubicBezTo>
                  <a:cubicBezTo>
                    <a:pt x="916" y="2613"/>
                    <a:pt x="919" y="2618"/>
                    <a:pt x="920" y="2623"/>
                  </a:cubicBezTo>
                  <a:close/>
                  <a:moveTo>
                    <a:pt x="357" y="2294"/>
                  </a:moveTo>
                  <a:cubicBezTo>
                    <a:pt x="382" y="2276"/>
                    <a:pt x="382" y="2276"/>
                    <a:pt x="368" y="2254"/>
                  </a:cubicBezTo>
                  <a:cubicBezTo>
                    <a:pt x="365" y="2266"/>
                    <a:pt x="362" y="2276"/>
                    <a:pt x="357" y="2294"/>
                  </a:cubicBezTo>
                  <a:close/>
                  <a:moveTo>
                    <a:pt x="663" y="2263"/>
                  </a:moveTo>
                  <a:cubicBezTo>
                    <a:pt x="663" y="2260"/>
                    <a:pt x="663" y="2256"/>
                    <a:pt x="664" y="2253"/>
                  </a:cubicBezTo>
                  <a:cubicBezTo>
                    <a:pt x="650" y="2252"/>
                    <a:pt x="635" y="2252"/>
                    <a:pt x="621" y="2251"/>
                  </a:cubicBezTo>
                  <a:cubicBezTo>
                    <a:pt x="621" y="2253"/>
                    <a:pt x="621" y="2255"/>
                    <a:pt x="621" y="2257"/>
                  </a:cubicBezTo>
                  <a:cubicBezTo>
                    <a:pt x="635" y="2259"/>
                    <a:pt x="649" y="2261"/>
                    <a:pt x="663" y="2263"/>
                  </a:cubicBezTo>
                  <a:close/>
                  <a:moveTo>
                    <a:pt x="2433" y="389"/>
                  </a:moveTo>
                  <a:cubicBezTo>
                    <a:pt x="2451" y="404"/>
                    <a:pt x="2460" y="401"/>
                    <a:pt x="2467" y="376"/>
                  </a:cubicBezTo>
                  <a:cubicBezTo>
                    <a:pt x="2452" y="382"/>
                    <a:pt x="2443" y="385"/>
                    <a:pt x="2433" y="389"/>
                  </a:cubicBezTo>
                  <a:close/>
                  <a:moveTo>
                    <a:pt x="2171" y="2780"/>
                  </a:moveTo>
                  <a:cubicBezTo>
                    <a:pt x="2190" y="2759"/>
                    <a:pt x="2190" y="2759"/>
                    <a:pt x="2174" y="2731"/>
                  </a:cubicBezTo>
                  <a:cubicBezTo>
                    <a:pt x="2173" y="2745"/>
                    <a:pt x="2173" y="2760"/>
                    <a:pt x="2171" y="2780"/>
                  </a:cubicBezTo>
                  <a:close/>
                  <a:moveTo>
                    <a:pt x="2820" y="2079"/>
                  </a:moveTo>
                  <a:cubicBezTo>
                    <a:pt x="2840" y="2056"/>
                    <a:pt x="2840" y="2056"/>
                    <a:pt x="2827" y="2031"/>
                  </a:cubicBezTo>
                  <a:cubicBezTo>
                    <a:pt x="2825" y="2045"/>
                    <a:pt x="2823" y="2057"/>
                    <a:pt x="2820" y="2079"/>
                  </a:cubicBezTo>
                  <a:close/>
                  <a:moveTo>
                    <a:pt x="2982" y="191"/>
                  </a:moveTo>
                  <a:cubicBezTo>
                    <a:pt x="2952" y="195"/>
                    <a:pt x="2952" y="195"/>
                    <a:pt x="2957" y="214"/>
                  </a:cubicBezTo>
                  <a:cubicBezTo>
                    <a:pt x="2964" y="208"/>
                    <a:pt x="2970" y="203"/>
                    <a:pt x="2982" y="191"/>
                  </a:cubicBezTo>
                  <a:close/>
                  <a:moveTo>
                    <a:pt x="803" y="1857"/>
                  </a:moveTo>
                  <a:cubicBezTo>
                    <a:pt x="804" y="1838"/>
                    <a:pt x="807" y="1825"/>
                    <a:pt x="792" y="1816"/>
                  </a:cubicBezTo>
                  <a:cubicBezTo>
                    <a:pt x="779" y="1832"/>
                    <a:pt x="786" y="1842"/>
                    <a:pt x="803" y="1857"/>
                  </a:cubicBezTo>
                  <a:close/>
                  <a:moveTo>
                    <a:pt x="379" y="2532"/>
                  </a:moveTo>
                  <a:cubicBezTo>
                    <a:pt x="377" y="2534"/>
                    <a:pt x="376" y="2536"/>
                    <a:pt x="375" y="2538"/>
                  </a:cubicBezTo>
                  <a:cubicBezTo>
                    <a:pt x="384" y="2543"/>
                    <a:pt x="393" y="2548"/>
                    <a:pt x="402" y="2553"/>
                  </a:cubicBezTo>
                  <a:cubicBezTo>
                    <a:pt x="403" y="2547"/>
                    <a:pt x="404" y="2538"/>
                    <a:pt x="406" y="2527"/>
                  </a:cubicBezTo>
                  <a:cubicBezTo>
                    <a:pt x="395" y="2529"/>
                    <a:pt x="387" y="2530"/>
                    <a:pt x="379" y="2532"/>
                  </a:cubicBezTo>
                  <a:close/>
                  <a:moveTo>
                    <a:pt x="1148" y="820"/>
                  </a:moveTo>
                  <a:cubicBezTo>
                    <a:pt x="1132" y="835"/>
                    <a:pt x="1130" y="846"/>
                    <a:pt x="1145" y="855"/>
                  </a:cubicBezTo>
                  <a:cubicBezTo>
                    <a:pt x="1148" y="857"/>
                    <a:pt x="1154" y="855"/>
                    <a:pt x="1162" y="855"/>
                  </a:cubicBezTo>
                  <a:cubicBezTo>
                    <a:pt x="1157" y="844"/>
                    <a:pt x="1154" y="835"/>
                    <a:pt x="1148" y="820"/>
                  </a:cubicBezTo>
                  <a:close/>
                  <a:moveTo>
                    <a:pt x="677" y="3059"/>
                  </a:moveTo>
                  <a:cubicBezTo>
                    <a:pt x="680" y="3077"/>
                    <a:pt x="693" y="3078"/>
                    <a:pt x="708" y="3083"/>
                  </a:cubicBezTo>
                  <a:cubicBezTo>
                    <a:pt x="705" y="3059"/>
                    <a:pt x="692" y="3059"/>
                    <a:pt x="677" y="3059"/>
                  </a:cubicBezTo>
                  <a:close/>
                  <a:moveTo>
                    <a:pt x="3483" y="2452"/>
                  </a:moveTo>
                  <a:cubicBezTo>
                    <a:pt x="3487" y="2452"/>
                    <a:pt x="3491" y="2453"/>
                    <a:pt x="3496" y="2453"/>
                  </a:cubicBezTo>
                  <a:cubicBezTo>
                    <a:pt x="3496" y="2438"/>
                    <a:pt x="3496" y="2423"/>
                    <a:pt x="3496" y="2407"/>
                  </a:cubicBezTo>
                  <a:cubicBezTo>
                    <a:pt x="3495" y="2407"/>
                    <a:pt x="3494" y="2407"/>
                    <a:pt x="3493" y="2407"/>
                  </a:cubicBezTo>
                  <a:cubicBezTo>
                    <a:pt x="3489" y="2422"/>
                    <a:pt x="3486" y="2437"/>
                    <a:pt x="3483" y="2452"/>
                  </a:cubicBezTo>
                  <a:close/>
                  <a:moveTo>
                    <a:pt x="697" y="3051"/>
                  </a:moveTo>
                  <a:cubicBezTo>
                    <a:pt x="689" y="3024"/>
                    <a:pt x="689" y="3024"/>
                    <a:pt x="666" y="3025"/>
                  </a:cubicBezTo>
                  <a:cubicBezTo>
                    <a:pt x="677" y="3033"/>
                    <a:pt x="685" y="3041"/>
                    <a:pt x="697" y="3051"/>
                  </a:cubicBezTo>
                  <a:close/>
                  <a:moveTo>
                    <a:pt x="640" y="2918"/>
                  </a:moveTo>
                  <a:cubicBezTo>
                    <a:pt x="636" y="2918"/>
                    <a:pt x="632" y="2919"/>
                    <a:pt x="628" y="2920"/>
                  </a:cubicBezTo>
                  <a:cubicBezTo>
                    <a:pt x="632" y="2931"/>
                    <a:pt x="635" y="2941"/>
                    <a:pt x="638" y="2952"/>
                  </a:cubicBezTo>
                  <a:cubicBezTo>
                    <a:pt x="641" y="2951"/>
                    <a:pt x="643" y="2950"/>
                    <a:pt x="646" y="2950"/>
                  </a:cubicBezTo>
                  <a:cubicBezTo>
                    <a:pt x="644" y="2939"/>
                    <a:pt x="642" y="2928"/>
                    <a:pt x="640" y="2918"/>
                  </a:cubicBezTo>
                  <a:close/>
                  <a:moveTo>
                    <a:pt x="639" y="2019"/>
                  </a:moveTo>
                  <a:cubicBezTo>
                    <a:pt x="637" y="2022"/>
                    <a:pt x="635" y="2025"/>
                    <a:pt x="633" y="2028"/>
                  </a:cubicBezTo>
                  <a:cubicBezTo>
                    <a:pt x="640" y="2037"/>
                    <a:pt x="646" y="2048"/>
                    <a:pt x="669" y="2041"/>
                  </a:cubicBezTo>
                  <a:cubicBezTo>
                    <a:pt x="656" y="2031"/>
                    <a:pt x="647" y="2025"/>
                    <a:pt x="639" y="2019"/>
                  </a:cubicBezTo>
                  <a:close/>
                  <a:moveTo>
                    <a:pt x="321" y="2309"/>
                  </a:moveTo>
                  <a:cubicBezTo>
                    <a:pt x="324" y="2310"/>
                    <a:pt x="327" y="2310"/>
                    <a:pt x="330" y="2311"/>
                  </a:cubicBezTo>
                  <a:cubicBezTo>
                    <a:pt x="337" y="2301"/>
                    <a:pt x="341" y="2292"/>
                    <a:pt x="326" y="2273"/>
                  </a:cubicBezTo>
                  <a:cubicBezTo>
                    <a:pt x="324" y="2289"/>
                    <a:pt x="322" y="2299"/>
                    <a:pt x="321" y="2309"/>
                  </a:cubicBezTo>
                  <a:close/>
                  <a:moveTo>
                    <a:pt x="404" y="2014"/>
                  </a:moveTo>
                  <a:cubicBezTo>
                    <a:pt x="400" y="2012"/>
                    <a:pt x="396" y="2009"/>
                    <a:pt x="393" y="2006"/>
                  </a:cubicBezTo>
                  <a:cubicBezTo>
                    <a:pt x="389" y="2012"/>
                    <a:pt x="384" y="2018"/>
                    <a:pt x="382" y="2025"/>
                  </a:cubicBezTo>
                  <a:cubicBezTo>
                    <a:pt x="381" y="2026"/>
                    <a:pt x="388" y="2031"/>
                    <a:pt x="392" y="2034"/>
                  </a:cubicBezTo>
                  <a:cubicBezTo>
                    <a:pt x="396" y="2027"/>
                    <a:pt x="400" y="2021"/>
                    <a:pt x="404" y="2014"/>
                  </a:cubicBezTo>
                  <a:close/>
                  <a:moveTo>
                    <a:pt x="2713" y="3776"/>
                  </a:moveTo>
                  <a:cubicBezTo>
                    <a:pt x="2710" y="3780"/>
                    <a:pt x="2707" y="3783"/>
                    <a:pt x="2705" y="3786"/>
                  </a:cubicBezTo>
                  <a:cubicBezTo>
                    <a:pt x="2715" y="3793"/>
                    <a:pt x="2725" y="3800"/>
                    <a:pt x="2735" y="3807"/>
                  </a:cubicBezTo>
                  <a:cubicBezTo>
                    <a:pt x="2737" y="3805"/>
                    <a:pt x="2738" y="3803"/>
                    <a:pt x="2740" y="3801"/>
                  </a:cubicBezTo>
                  <a:cubicBezTo>
                    <a:pt x="2731" y="3793"/>
                    <a:pt x="2722" y="3785"/>
                    <a:pt x="2713" y="3776"/>
                  </a:cubicBezTo>
                  <a:close/>
                  <a:moveTo>
                    <a:pt x="925" y="2229"/>
                  </a:moveTo>
                  <a:cubicBezTo>
                    <a:pt x="923" y="2204"/>
                    <a:pt x="923" y="2204"/>
                    <a:pt x="900" y="2210"/>
                  </a:cubicBezTo>
                  <a:cubicBezTo>
                    <a:pt x="908" y="2217"/>
                    <a:pt x="916" y="2222"/>
                    <a:pt x="925" y="2229"/>
                  </a:cubicBezTo>
                  <a:close/>
                  <a:moveTo>
                    <a:pt x="1273" y="2568"/>
                  </a:moveTo>
                  <a:cubicBezTo>
                    <a:pt x="1283" y="2582"/>
                    <a:pt x="1293" y="2585"/>
                    <a:pt x="1310" y="2577"/>
                  </a:cubicBezTo>
                  <a:cubicBezTo>
                    <a:pt x="1298" y="2565"/>
                    <a:pt x="1289" y="2558"/>
                    <a:pt x="1273" y="2568"/>
                  </a:cubicBezTo>
                  <a:close/>
                  <a:moveTo>
                    <a:pt x="831" y="1418"/>
                  </a:moveTo>
                  <a:cubicBezTo>
                    <a:pt x="852" y="1421"/>
                    <a:pt x="866" y="1422"/>
                    <a:pt x="880" y="1424"/>
                  </a:cubicBezTo>
                  <a:cubicBezTo>
                    <a:pt x="867" y="1411"/>
                    <a:pt x="856" y="1394"/>
                    <a:pt x="831" y="1418"/>
                  </a:cubicBezTo>
                  <a:close/>
                  <a:moveTo>
                    <a:pt x="1799" y="1925"/>
                  </a:moveTo>
                  <a:cubicBezTo>
                    <a:pt x="1799" y="1927"/>
                    <a:pt x="1799" y="1930"/>
                    <a:pt x="1799" y="1932"/>
                  </a:cubicBezTo>
                  <a:cubicBezTo>
                    <a:pt x="1811" y="1932"/>
                    <a:pt x="1823" y="1932"/>
                    <a:pt x="1835" y="1932"/>
                  </a:cubicBezTo>
                  <a:cubicBezTo>
                    <a:pt x="1835" y="1930"/>
                    <a:pt x="1835" y="1927"/>
                    <a:pt x="1835" y="1925"/>
                  </a:cubicBezTo>
                  <a:cubicBezTo>
                    <a:pt x="1823" y="1925"/>
                    <a:pt x="1811" y="1925"/>
                    <a:pt x="1799" y="1925"/>
                  </a:cubicBezTo>
                  <a:close/>
                  <a:moveTo>
                    <a:pt x="1240" y="836"/>
                  </a:moveTo>
                  <a:cubicBezTo>
                    <a:pt x="1237" y="835"/>
                    <a:pt x="1234" y="833"/>
                    <a:pt x="1231" y="831"/>
                  </a:cubicBezTo>
                  <a:cubicBezTo>
                    <a:pt x="1220" y="839"/>
                    <a:pt x="1213" y="848"/>
                    <a:pt x="1224" y="869"/>
                  </a:cubicBezTo>
                  <a:cubicBezTo>
                    <a:pt x="1231" y="855"/>
                    <a:pt x="1235" y="846"/>
                    <a:pt x="1240" y="836"/>
                  </a:cubicBezTo>
                  <a:close/>
                  <a:moveTo>
                    <a:pt x="566" y="3106"/>
                  </a:moveTo>
                  <a:cubicBezTo>
                    <a:pt x="563" y="3108"/>
                    <a:pt x="561" y="3110"/>
                    <a:pt x="559" y="3112"/>
                  </a:cubicBezTo>
                  <a:cubicBezTo>
                    <a:pt x="563" y="3121"/>
                    <a:pt x="565" y="3132"/>
                    <a:pt x="587" y="3129"/>
                  </a:cubicBezTo>
                  <a:cubicBezTo>
                    <a:pt x="578" y="3119"/>
                    <a:pt x="572" y="3112"/>
                    <a:pt x="566" y="3106"/>
                  </a:cubicBezTo>
                  <a:close/>
                  <a:moveTo>
                    <a:pt x="802" y="611"/>
                  </a:moveTo>
                  <a:cubicBezTo>
                    <a:pt x="801" y="634"/>
                    <a:pt x="801" y="634"/>
                    <a:pt x="819" y="639"/>
                  </a:cubicBezTo>
                  <a:cubicBezTo>
                    <a:pt x="814" y="630"/>
                    <a:pt x="808" y="620"/>
                    <a:pt x="802" y="611"/>
                  </a:cubicBezTo>
                  <a:close/>
                  <a:moveTo>
                    <a:pt x="785" y="2670"/>
                  </a:moveTo>
                  <a:cubicBezTo>
                    <a:pt x="785" y="2654"/>
                    <a:pt x="784" y="2647"/>
                    <a:pt x="784" y="2640"/>
                  </a:cubicBezTo>
                  <a:cubicBezTo>
                    <a:pt x="776" y="2643"/>
                    <a:pt x="768" y="2646"/>
                    <a:pt x="756" y="2652"/>
                  </a:cubicBezTo>
                  <a:cubicBezTo>
                    <a:pt x="767" y="2658"/>
                    <a:pt x="773" y="2662"/>
                    <a:pt x="785" y="2670"/>
                  </a:cubicBezTo>
                  <a:close/>
                  <a:moveTo>
                    <a:pt x="1456" y="557"/>
                  </a:moveTo>
                  <a:cubicBezTo>
                    <a:pt x="1454" y="535"/>
                    <a:pt x="1454" y="535"/>
                    <a:pt x="1433" y="530"/>
                  </a:cubicBezTo>
                  <a:cubicBezTo>
                    <a:pt x="1442" y="541"/>
                    <a:pt x="1449" y="549"/>
                    <a:pt x="1456" y="557"/>
                  </a:cubicBezTo>
                  <a:close/>
                  <a:moveTo>
                    <a:pt x="2816" y="1934"/>
                  </a:moveTo>
                  <a:cubicBezTo>
                    <a:pt x="2812" y="1934"/>
                    <a:pt x="2809" y="1933"/>
                    <a:pt x="2805" y="1932"/>
                  </a:cubicBezTo>
                  <a:cubicBezTo>
                    <a:pt x="2804" y="1940"/>
                    <a:pt x="2803" y="1948"/>
                    <a:pt x="2802" y="1956"/>
                  </a:cubicBezTo>
                  <a:cubicBezTo>
                    <a:pt x="2805" y="1957"/>
                    <a:pt x="2808" y="1957"/>
                    <a:pt x="2811" y="1957"/>
                  </a:cubicBezTo>
                  <a:cubicBezTo>
                    <a:pt x="2813" y="1950"/>
                    <a:pt x="2814" y="1942"/>
                    <a:pt x="2816" y="1934"/>
                  </a:cubicBezTo>
                  <a:close/>
                  <a:moveTo>
                    <a:pt x="2560" y="1814"/>
                  </a:moveTo>
                  <a:cubicBezTo>
                    <a:pt x="2558" y="1812"/>
                    <a:pt x="2556" y="1809"/>
                    <a:pt x="2554" y="1806"/>
                  </a:cubicBezTo>
                  <a:cubicBezTo>
                    <a:pt x="2547" y="1810"/>
                    <a:pt x="2539" y="1814"/>
                    <a:pt x="2533" y="1819"/>
                  </a:cubicBezTo>
                  <a:cubicBezTo>
                    <a:pt x="2531" y="1820"/>
                    <a:pt x="2533" y="1825"/>
                    <a:pt x="2534" y="1833"/>
                  </a:cubicBezTo>
                  <a:cubicBezTo>
                    <a:pt x="2544" y="1825"/>
                    <a:pt x="2552" y="1820"/>
                    <a:pt x="2560" y="1814"/>
                  </a:cubicBezTo>
                  <a:close/>
                  <a:moveTo>
                    <a:pt x="2226" y="2437"/>
                  </a:moveTo>
                  <a:cubicBezTo>
                    <a:pt x="2212" y="2445"/>
                    <a:pt x="2204" y="2450"/>
                    <a:pt x="2193" y="2456"/>
                  </a:cubicBezTo>
                  <a:cubicBezTo>
                    <a:pt x="2213" y="2468"/>
                    <a:pt x="2222" y="2467"/>
                    <a:pt x="2226" y="2437"/>
                  </a:cubicBezTo>
                  <a:close/>
                  <a:moveTo>
                    <a:pt x="2475" y="3878"/>
                  </a:moveTo>
                  <a:cubicBezTo>
                    <a:pt x="2508" y="3878"/>
                    <a:pt x="2508" y="3878"/>
                    <a:pt x="2501" y="3857"/>
                  </a:cubicBezTo>
                  <a:cubicBezTo>
                    <a:pt x="2494" y="3863"/>
                    <a:pt x="2487" y="3868"/>
                    <a:pt x="2475" y="3878"/>
                  </a:cubicBezTo>
                  <a:close/>
                  <a:moveTo>
                    <a:pt x="1474" y="3892"/>
                  </a:moveTo>
                  <a:cubicBezTo>
                    <a:pt x="1466" y="3902"/>
                    <a:pt x="1461" y="3909"/>
                    <a:pt x="1450" y="3921"/>
                  </a:cubicBezTo>
                  <a:cubicBezTo>
                    <a:pt x="1466" y="3918"/>
                    <a:pt x="1474" y="3917"/>
                    <a:pt x="1485" y="3915"/>
                  </a:cubicBezTo>
                  <a:cubicBezTo>
                    <a:pt x="1481" y="3907"/>
                    <a:pt x="1479" y="3901"/>
                    <a:pt x="1474" y="3892"/>
                  </a:cubicBezTo>
                  <a:close/>
                  <a:moveTo>
                    <a:pt x="239" y="1693"/>
                  </a:moveTo>
                  <a:cubicBezTo>
                    <a:pt x="242" y="1691"/>
                    <a:pt x="245" y="1688"/>
                    <a:pt x="247" y="1685"/>
                  </a:cubicBezTo>
                  <a:cubicBezTo>
                    <a:pt x="246" y="1671"/>
                    <a:pt x="237" y="1667"/>
                    <a:pt x="215" y="1666"/>
                  </a:cubicBezTo>
                  <a:cubicBezTo>
                    <a:pt x="226" y="1679"/>
                    <a:pt x="233" y="1686"/>
                    <a:pt x="239" y="1693"/>
                  </a:cubicBezTo>
                  <a:close/>
                  <a:moveTo>
                    <a:pt x="2708" y="4362"/>
                  </a:moveTo>
                  <a:cubicBezTo>
                    <a:pt x="2691" y="4354"/>
                    <a:pt x="2682" y="4349"/>
                    <a:pt x="2673" y="4345"/>
                  </a:cubicBezTo>
                  <a:cubicBezTo>
                    <a:pt x="2676" y="4362"/>
                    <a:pt x="2684" y="4369"/>
                    <a:pt x="2708" y="4362"/>
                  </a:cubicBezTo>
                  <a:close/>
                  <a:moveTo>
                    <a:pt x="881" y="2573"/>
                  </a:moveTo>
                  <a:cubicBezTo>
                    <a:pt x="884" y="2572"/>
                    <a:pt x="887" y="2572"/>
                    <a:pt x="890" y="2571"/>
                  </a:cubicBezTo>
                  <a:cubicBezTo>
                    <a:pt x="888" y="2559"/>
                    <a:pt x="885" y="2547"/>
                    <a:pt x="882" y="2536"/>
                  </a:cubicBezTo>
                  <a:cubicBezTo>
                    <a:pt x="880" y="2536"/>
                    <a:pt x="877" y="2537"/>
                    <a:pt x="875" y="2537"/>
                  </a:cubicBezTo>
                  <a:cubicBezTo>
                    <a:pt x="877" y="2549"/>
                    <a:pt x="879" y="2561"/>
                    <a:pt x="881" y="2573"/>
                  </a:cubicBezTo>
                  <a:close/>
                  <a:moveTo>
                    <a:pt x="2492" y="2005"/>
                  </a:moveTo>
                  <a:cubicBezTo>
                    <a:pt x="2491" y="2008"/>
                    <a:pt x="2490" y="2010"/>
                    <a:pt x="2489" y="2013"/>
                  </a:cubicBezTo>
                  <a:cubicBezTo>
                    <a:pt x="2496" y="2016"/>
                    <a:pt x="2504" y="2019"/>
                    <a:pt x="2511" y="2022"/>
                  </a:cubicBezTo>
                  <a:cubicBezTo>
                    <a:pt x="2512" y="2020"/>
                    <a:pt x="2513" y="2017"/>
                    <a:pt x="2514" y="2014"/>
                  </a:cubicBezTo>
                  <a:cubicBezTo>
                    <a:pt x="2507" y="2011"/>
                    <a:pt x="2500" y="2008"/>
                    <a:pt x="2492" y="2005"/>
                  </a:cubicBezTo>
                  <a:close/>
                  <a:moveTo>
                    <a:pt x="2025" y="3107"/>
                  </a:moveTo>
                  <a:cubicBezTo>
                    <a:pt x="2008" y="3105"/>
                    <a:pt x="2006" y="3115"/>
                    <a:pt x="2004" y="3128"/>
                  </a:cubicBezTo>
                  <a:cubicBezTo>
                    <a:pt x="2027" y="3136"/>
                    <a:pt x="2027" y="3124"/>
                    <a:pt x="2025" y="3107"/>
                  </a:cubicBezTo>
                  <a:close/>
                  <a:moveTo>
                    <a:pt x="3571" y="3338"/>
                  </a:moveTo>
                  <a:cubicBezTo>
                    <a:pt x="3569" y="3341"/>
                    <a:pt x="3568" y="3344"/>
                    <a:pt x="3567" y="3346"/>
                  </a:cubicBezTo>
                  <a:cubicBezTo>
                    <a:pt x="3576" y="3351"/>
                    <a:pt x="3586" y="3356"/>
                    <a:pt x="3595" y="3360"/>
                  </a:cubicBezTo>
                  <a:cubicBezTo>
                    <a:pt x="3596" y="3358"/>
                    <a:pt x="3597" y="3357"/>
                    <a:pt x="3598" y="3355"/>
                  </a:cubicBezTo>
                  <a:cubicBezTo>
                    <a:pt x="3589" y="3349"/>
                    <a:pt x="3580" y="3344"/>
                    <a:pt x="3571" y="3338"/>
                  </a:cubicBezTo>
                  <a:close/>
                  <a:moveTo>
                    <a:pt x="1911" y="3570"/>
                  </a:moveTo>
                  <a:cubicBezTo>
                    <a:pt x="1917" y="3587"/>
                    <a:pt x="1920" y="3595"/>
                    <a:pt x="1924" y="3606"/>
                  </a:cubicBezTo>
                  <a:cubicBezTo>
                    <a:pt x="1941" y="3588"/>
                    <a:pt x="1929" y="3582"/>
                    <a:pt x="1911" y="3570"/>
                  </a:cubicBezTo>
                  <a:close/>
                  <a:moveTo>
                    <a:pt x="2649" y="489"/>
                  </a:moveTo>
                  <a:cubicBezTo>
                    <a:pt x="2650" y="490"/>
                    <a:pt x="2652" y="492"/>
                    <a:pt x="2654" y="494"/>
                  </a:cubicBezTo>
                  <a:cubicBezTo>
                    <a:pt x="2659" y="488"/>
                    <a:pt x="2664" y="483"/>
                    <a:pt x="2669" y="477"/>
                  </a:cubicBezTo>
                  <a:cubicBezTo>
                    <a:pt x="2667" y="476"/>
                    <a:pt x="2665" y="474"/>
                    <a:pt x="2664" y="472"/>
                  </a:cubicBezTo>
                  <a:cubicBezTo>
                    <a:pt x="2659" y="478"/>
                    <a:pt x="2654" y="483"/>
                    <a:pt x="2649" y="489"/>
                  </a:cubicBezTo>
                  <a:close/>
                  <a:moveTo>
                    <a:pt x="2296" y="514"/>
                  </a:moveTo>
                  <a:cubicBezTo>
                    <a:pt x="2294" y="511"/>
                    <a:pt x="2292" y="509"/>
                    <a:pt x="2290" y="506"/>
                  </a:cubicBezTo>
                  <a:cubicBezTo>
                    <a:pt x="2283" y="512"/>
                    <a:pt x="2276" y="517"/>
                    <a:pt x="2269" y="523"/>
                  </a:cubicBezTo>
                  <a:cubicBezTo>
                    <a:pt x="2271" y="525"/>
                    <a:pt x="2273" y="527"/>
                    <a:pt x="2274" y="529"/>
                  </a:cubicBezTo>
                  <a:cubicBezTo>
                    <a:pt x="2282" y="524"/>
                    <a:pt x="2289" y="519"/>
                    <a:pt x="2296" y="514"/>
                  </a:cubicBezTo>
                  <a:close/>
                  <a:moveTo>
                    <a:pt x="444" y="1828"/>
                  </a:moveTo>
                  <a:cubicBezTo>
                    <a:pt x="423" y="1842"/>
                    <a:pt x="423" y="1842"/>
                    <a:pt x="435" y="1856"/>
                  </a:cubicBezTo>
                  <a:cubicBezTo>
                    <a:pt x="438" y="1847"/>
                    <a:pt x="440" y="1840"/>
                    <a:pt x="444" y="1828"/>
                  </a:cubicBezTo>
                  <a:close/>
                  <a:moveTo>
                    <a:pt x="2843" y="3794"/>
                  </a:moveTo>
                  <a:cubicBezTo>
                    <a:pt x="2843" y="3791"/>
                    <a:pt x="2842" y="3788"/>
                    <a:pt x="2842" y="3785"/>
                  </a:cubicBezTo>
                  <a:cubicBezTo>
                    <a:pt x="2834" y="3786"/>
                    <a:pt x="2827" y="3787"/>
                    <a:pt x="2820" y="3789"/>
                  </a:cubicBezTo>
                  <a:cubicBezTo>
                    <a:pt x="2820" y="3792"/>
                    <a:pt x="2821" y="3794"/>
                    <a:pt x="2821" y="3797"/>
                  </a:cubicBezTo>
                  <a:cubicBezTo>
                    <a:pt x="2829" y="3796"/>
                    <a:pt x="2836" y="3795"/>
                    <a:pt x="2843" y="3794"/>
                  </a:cubicBezTo>
                  <a:close/>
                  <a:moveTo>
                    <a:pt x="789" y="2044"/>
                  </a:moveTo>
                  <a:cubicBezTo>
                    <a:pt x="790" y="2047"/>
                    <a:pt x="790" y="2050"/>
                    <a:pt x="790" y="2053"/>
                  </a:cubicBezTo>
                  <a:cubicBezTo>
                    <a:pt x="797" y="2053"/>
                    <a:pt x="804" y="2052"/>
                    <a:pt x="811" y="2051"/>
                  </a:cubicBezTo>
                  <a:cubicBezTo>
                    <a:pt x="811" y="2049"/>
                    <a:pt x="811" y="2047"/>
                    <a:pt x="811" y="2045"/>
                  </a:cubicBezTo>
                  <a:cubicBezTo>
                    <a:pt x="804" y="2045"/>
                    <a:pt x="797" y="2045"/>
                    <a:pt x="789" y="2044"/>
                  </a:cubicBezTo>
                  <a:close/>
                  <a:moveTo>
                    <a:pt x="1725" y="2401"/>
                  </a:moveTo>
                  <a:cubicBezTo>
                    <a:pt x="1728" y="2402"/>
                    <a:pt x="1731" y="2404"/>
                    <a:pt x="1733" y="2406"/>
                  </a:cubicBezTo>
                  <a:cubicBezTo>
                    <a:pt x="1744" y="2401"/>
                    <a:pt x="1751" y="2395"/>
                    <a:pt x="1741" y="2376"/>
                  </a:cubicBezTo>
                  <a:cubicBezTo>
                    <a:pt x="1735" y="2386"/>
                    <a:pt x="1730" y="2393"/>
                    <a:pt x="1725" y="2401"/>
                  </a:cubicBezTo>
                  <a:close/>
                  <a:moveTo>
                    <a:pt x="1986" y="3481"/>
                  </a:moveTo>
                  <a:cubicBezTo>
                    <a:pt x="1972" y="3503"/>
                    <a:pt x="1984" y="3506"/>
                    <a:pt x="1997" y="3507"/>
                  </a:cubicBezTo>
                  <a:cubicBezTo>
                    <a:pt x="1994" y="3501"/>
                    <a:pt x="1991" y="3494"/>
                    <a:pt x="1986" y="3481"/>
                  </a:cubicBezTo>
                  <a:close/>
                  <a:moveTo>
                    <a:pt x="2194" y="2332"/>
                  </a:moveTo>
                  <a:cubicBezTo>
                    <a:pt x="2191" y="2332"/>
                    <a:pt x="2188" y="2332"/>
                    <a:pt x="2186" y="2332"/>
                  </a:cubicBezTo>
                  <a:cubicBezTo>
                    <a:pt x="2187" y="2345"/>
                    <a:pt x="2188" y="2359"/>
                    <a:pt x="2189" y="2372"/>
                  </a:cubicBezTo>
                  <a:cubicBezTo>
                    <a:pt x="2191" y="2372"/>
                    <a:pt x="2192" y="2372"/>
                    <a:pt x="2194" y="2372"/>
                  </a:cubicBezTo>
                  <a:cubicBezTo>
                    <a:pt x="2194" y="2359"/>
                    <a:pt x="2194" y="2345"/>
                    <a:pt x="2194" y="2332"/>
                  </a:cubicBezTo>
                  <a:close/>
                  <a:moveTo>
                    <a:pt x="474" y="2886"/>
                  </a:moveTo>
                  <a:cubicBezTo>
                    <a:pt x="478" y="2885"/>
                    <a:pt x="482" y="2885"/>
                    <a:pt x="485" y="2884"/>
                  </a:cubicBezTo>
                  <a:cubicBezTo>
                    <a:pt x="484" y="2875"/>
                    <a:pt x="483" y="2866"/>
                    <a:pt x="481" y="2857"/>
                  </a:cubicBezTo>
                  <a:cubicBezTo>
                    <a:pt x="479" y="2857"/>
                    <a:pt x="477" y="2857"/>
                    <a:pt x="474" y="2857"/>
                  </a:cubicBezTo>
                  <a:cubicBezTo>
                    <a:pt x="474" y="2867"/>
                    <a:pt x="474" y="2876"/>
                    <a:pt x="474" y="2886"/>
                  </a:cubicBezTo>
                  <a:close/>
                  <a:moveTo>
                    <a:pt x="2166" y="1952"/>
                  </a:moveTo>
                  <a:cubicBezTo>
                    <a:pt x="2170" y="1953"/>
                    <a:pt x="2174" y="1953"/>
                    <a:pt x="2178" y="1954"/>
                  </a:cubicBezTo>
                  <a:cubicBezTo>
                    <a:pt x="2178" y="1944"/>
                    <a:pt x="2179" y="1935"/>
                    <a:pt x="2180" y="1926"/>
                  </a:cubicBezTo>
                  <a:cubicBezTo>
                    <a:pt x="2177" y="1926"/>
                    <a:pt x="2174" y="1926"/>
                    <a:pt x="2171" y="1925"/>
                  </a:cubicBezTo>
                  <a:cubicBezTo>
                    <a:pt x="2169" y="1934"/>
                    <a:pt x="2167" y="1943"/>
                    <a:pt x="2166" y="1952"/>
                  </a:cubicBezTo>
                  <a:close/>
                  <a:moveTo>
                    <a:pt x="1915" y="1150"/>
                  </a:moveTo>
                  <a:cubicBezTo>
                    <a:pt x="1909" y="1147"/>
                    <a:pt x="1905" y="1145"/>
                    <a:pt x="1901" y="1143"/>
                  </a:cubicBezTo>
                  <a:cubicBezTo>
                    <a:pt x="1901" y="1143"/>
                    <a:pt x="1897" y="1148"/>
                    <a:pt x="1898" y="1149"/>
                  </a:cubicBezTo>
                  <a:cubicBezTo>
                    <a:pt x="1900" y="1153"/>
                    <a:pt x="1904" y="1156"/>
                    <a:pt x="1907" y="1160"/>
                  </a:cubicBezTo>
                  <a:cubicBezTo>
                    <a:pt x="1909" y="1157"/>
                    <a:pt x="1911" y="1155"/>
                    <a:pt x="1915" y="1150"/>
                  </a:cubicBezTo>
                  <a:close/>
                  <a:moveTo>
                    <a:pt x="2896" y="2129"/>
                  </a:moveTo>
                  <a:cubicBezTo>
                    <a:pt x="2897" y="2126"/>
                    <a:pt x="2898" y="2123"/>
                    <a:pt x="2899" y="2120"/>
                  </a:cubicBezTo>
                  <a:cubicBezTo>
                    <a:pt x="2889" y="2117"/>
                    <a:pt x="2880" y="2114"/>
                    <a:pt x="2871" y="2111"/>
                  </a:cubicBezTo>
                  <a:cubicBezTo>
                    <a:pt x="2870" y="2113"/>
                    <a:pt x="2869" y="2116"/>
                    <a:pt x="2868" y="2119"/>
                  </a:cubicBezTo>
                  <a:cubicBezTo>
                    <a:pt x="2877" y="2122"/>
                    <a:pt x="2887" y="2125"/>
                    <a:pt x="2896" y="2129"/>
                  </a:cubicBezTo>
                  <a:close/>
                  <a:moveTo>
                    <a:pt x="3106" y="1878"/>
                  </a:moveTo>
                  <a:cubicBezTo>
                    <a:pt x="3102" y="1869"/>
                    <a:pt x="3099" y="1862"/>
                    <a:pt x="3094" y="1852"/>
                  </a:cubicBezTo>
                  <a:cubicBezTo>
                    <a:pt x="3085" y="1876"/>
                    <a:pt x="3085" y="1876"/>
                    <a:pt x="3106" y="1878"/>
                  </a:cubicBezTo>
                  <a:close/>
                  <a:moveTo>
                    <a:pt x="2187" y="3582"/>
                  </a:moveTo>
                  <a:cubicBezTo>
                    <a:pt x="2184" y="3580"/>
                    <a:pt x="2180" y="3579"/>
                    <a:pt x="2177" y="3578"/>
                  </a:cubicBezTo>
                  <a:cubicBezTo>
                    <a:pt x="2175" y="3590"/>
                    <a:pt x="2173" y="3603"/>
                    <a:pt x="2170" y="3615"/>
                  </a:cubicBezTo>
                  <a:cubicBezTo>
                    <a:pt x="2173" y="3616"/>
                    <a:pt x="2176" y="3616"/>
                    <a:pt x="2179" y="3617"/>
                  </a:cubicBezTo>
                  <a:cubicBezTo>
                    <a:pt x="2182" y="3605"/>
                    <a:pt x="2184" y="3593"/>
                    <a:pt x="2187" y="3582"/>
                  </a:cubicBezTo>
                  <a:close/>
                  <a:moveTo>
                    <a:pt x="3232" y="2943"/>
                  </a:moveTo>
                  <a:cubicBezTo>
                    <a:pt x="3240" y="2916"/>
                    <a:pt x="3232" y="2914"/>
                    <a:pt x="3221" y="2913"/>
                  </a:cubicBezTo>
                  <a:cubicBezTo>
                    <a:pt x="3218" y="2916"/>
                    <a:pt x="3215" y="2920"/>
                    <a:pt x="3212" y="2923"/>
                  </a:cubicBezTo>
                  <a:cubicBezTo>
                    <a:pt x="3217" y="2928"/>
                    <a:pt x="3223" y="2934"/>
                    <a:pt x="3232" y="2943"/>
                  </a:cubicBezTo>
                  <a:close/>
                  <a:moveTo>
                    <a:pt x="1446" y="3191"/>
                  </a:moveTo>
                  <a:cubicBezTo>
                    <a:pt x="1449" y="3191"/>
                    <a:pt x="1453" y="3191"/>
                    <a:pt x="1456" y="3191"/>
                  </a:cubicBezTo>
                  <a:cubicBezTo>
                    <a:pt x="1455" y="3184"/>
                    <a:pt x="1455" y="3177"/>
                    <a:pt x="1454" y="3171"/>
                  </a:cubicBezTo>
                  <a:cubicBezTo>
                    <a:pt x="1452" y="3171"/>
                    <a:pt x="1447" y="3171"/>
                    <a:pt x="1447" y="3172"/>
                  </a:cubicBezTo>
                  <a:cubicBezTo>
                    <a:pt x="1446" y="3178"/>
                    <a:pt x="1446" y="3185"/>
                    <a:pt x="1446" y="3191"/>
                  </a:cubicBezTo>
                  <a:close/>
                  <a:moveTo>
                    <a:pt x="879" y="3548"/>
                  </a:moveTo>
                  <a:cubicBezTo>
                    <a:pt x="895" y="3534"/>
                    <a:pt x="895" y="3534"/>
                    <a:pt x="890" y="3515"/>
                  </a:cubicBezTo>
                  <a:cubicBezTo>
                    <a:pt x="886" y="3526"/>
                    <a:pt x="882" y="3537"/>
                    <a:pt x="879" y="3548"/>
                  </a:cubicBezTo>
                  <a:close/>
                  <a:moveTo>
                    <a:pt x="289" y="3004"/>
                  </a:moveTo>
                  <a:cubicBezTo>
                    <a:pt x="284" y="3010"/>
                    <a:pt x="278" y="3015"/>
                    <a:pt x="279" y="3017"/>
                  </a:cubicBezTo>
                  <a:cubicBezTo>
                    <a:pt x="281" y="3022"/>
                    <a:pt x="286" y="3026"/>
                    <a:pt x="290" y="3029"/>
                  </a:cubicBezTo>
                  <a:cubicBezTo>
                    <a:pt x="291" y="3029"/>
                    <a:pt x="298" y="3024"/>
                    <a:pt x="297" y="3023"/>
                  </a:cubicBezTo>
                  <a:cubicBezTo>
                    <a:pt x="296" y="3017"/>
                    <a:pt x="293" y="3012"/>
                    <a:pt x="289" y="3004"/>
                  </a:cubicBezTo>
                  <a:close/>
                  <a:moveTo>
                    <a:pt x="2736" y="3006"/>
                  </a:moveTo>
                  <a:cubicBezTo>
                    <a:pt x="2734" y="3008"/>
                    <a:pt x="2731" y="3010"/>
                    <a:pt x="2729" y="3013"/>
                  </a:cubicBezTo>
                  <a:cubicBezTo>
                    <a:pt x="2735" y="3018"/>
                    <a:pt x="2740" y="3024"/>
                    <a:pt x="2746" y="3030"/>
                  </a:cubicBezTo>
                  <a:cubicBezTo>
                    <a:pt x="2747" y="3028"/>
                    <a:pt x="2749" y="3026"/>
                    <a:pt x="2751" y="3024"/>
                  </a:cubicBezTo>
                  <a:cubicBezTo>
                    <a:pt x="2746" y="3018"/>
                    <a:pt x="2741" y="3012"/>
                    <a:pt x="2736" y="3006"/>
                  </a:cubicBezTo>
                  <a:close/>
                  <a:moveTo>
                    <a:pt x="925" y="492"/>
                  </a:moveTo>
                  <a:cubicBezTo>
                    <a:pt x="941" y="488"/>
                    <a:pt x="954" y="481"/>
                    <a:pt x="935" y="464"/>
                  </a:cubicBezTo>
                  <a:cubicBezTo>
                    <a:pt x="931" y="475"/>
                    <a:pt x="928" y="483"/>
                    <a:pt x="925" y="492"/>
                  </a:cubicBezTo>
                  <a:close/>
                  <a:moveTo>
                    <a:pt x="178" y="1850"/>
                  </a:moveTo>
                  <a:cubicBezTo>
                    <a:pt x="181" y="1852"/>
                    <a:pt x="183" y="1854"/>
                    <a:pt x="186" y="1857"/>
                  </a:cubicBezTo>
                  <a:cubicBezTo>
                    <a:pt x="190" y="1852"/>
                    <a:pt x="194" y="1847"/>
                    <a:pt x="198" y="1842"/>
                  </a:cubicBezTo>
                  <a:cubicBezTo>
                    <a:pt x="198" y="1841"/>
                    <a:pt x="193" y="1837"/>
                    <a:pt x="191" y="1835"/>
                  </a:cubicBezTo>
                  <a:cubicBezTo>
                    <a:pt x="186" y="1840"/>
                    <a:pt x="182" y="1845"/>
                    <a:pt x="178" y="1850"/>
                  </a:cubicBezTo>
                  <a:close/>
                  <a:moveTo>
                    <a:pt x="709" y="1099"/>
                  </a:moveTo>
                  <a:cubicBezTo>
                    <a:pt x="694" y="1100"/>
                    <a:pt x="686" y="1101"/>
                    <a:pt x="675" y="1102"/>
                  </a:cubicBezTo>
                  <a:cubicBezTo>
                    <a:pt x="688" y="1119"/>
                    <a:pt x="696" y="1120"/>
                    <a:pt x="709" y="1099"/>
                  </a:cubicBezTo>
                  <a:close/>
                  <a:moveTo>
                    <a:pt x="1362" y="431"/>
                  </a:moveTo>
                  <a:cubicBezTo>
                    <a:pt x="1363" y="435"/>
                    <a:pt x="1364" y="438"/>
                    <a:pt x="1365" y="441"/>
                  </a:cubicBezTo>
                  <a:cubicBezTo>
                    <a:pt x="1371" y="439"/>
                    <a:pt x="1378" y="436"/>
                    <a:pt x="1384" y="434"/>
                  </a:cubicBezTo>
                  <a:cubicBezTo>
                    <a:pt x="1382" y="430"/>
                    <a:pt x="1380" y="424"/>
                    <a:pt x="1380" y="424"/>
                  </a:cubicBezTo>
                  <a:cubicBezTo>
                    <a:pt x="1374" y="426"/>
                    <a:pt x="1368" y="429"/>
                    <a:pt x="1362" y="431"/>
                  </a:cubicBezTo>
                  <a:close/>
                  <a:moveTo>
                    <a:pt x="1967" y="4014"/>
                  </a:moveTo>
                  <a:cubicBezTo>
                    <a:pt x="1965" y="4016"/>
                    <a:pt x="1962" y="4019"/>
                    <a:pt x="1960" y="4022"/>
                  </a:cubicBezTo>
                  <a:cubicBezTo>
                    <a:pt x="1965" y="4026"/>
                    <a:pt x="1969" y="4031"/>
                    <a:pt x="1975" y="4035"/>
                  </a:cubicBezTo>
                  <a:cubicBezTo>
                    <a:pt x="1975" y="4035"/>
                    <a:pt x="1980" y="4030"/>
                    <a:pt x="1982" y="4028"/>
                  </a:cubicBezTo>
                  <a:cubicBezTo>
                    <a:pt x="1977" y="4023"/>
                    <a:pt x="1972" y="4018"/>
                    <a:pt x="1967" y="4014"/>
                  </a:cubicBezTo>
                  <a:close/>
                  <a:moveTo>
                    <a:pt x="2031" y="4020"/>
                  </a:moveTo>
                  <a:cubicBezTo>
                    <a:pt x="2016" y="4016"/>
                    <a:pt x="2005" y="4018"/>
                    <a:pt x="2012" y="4038"/>
                  </a:cubicBezTo>
                  <a:cubicBezTo>
                    <a:pt x="2020" y="4031"/>
                    <a:pt x="2026" y="4025"/>
                    <a:pt x="2031" y="4020"/>
                  </a:cubicBezTo>
                  <a:close/>
                  <a:moveTo>
                    <a:pt x="1957" y="416"/>
                  </a:moveTo>
                  <a:cubicBezTo>
                    <a:pt x="1962" y="415"/>
                    <a:pt x="1966" y="413"/>
                    <a:pt x="1971" y="412"/>
                  </a:cubicBezTo>
                  <a:cubicBezTo>
                    <a:pt x="1967" y="405"/>
                    <a:pt x="1964" y="398"/>
                    <a:pt x="1960" y="392"/>
                  </a:cubicBezTo>
                  <a:cubicBezTo>
                    <a:pt x="1960" y="392"/>
                    <a:pt x="1954" y="394"/>
                    <a:pt x="1954" y="395"/>
                  </a:cubicBezTo>
                  <a:cubicBezTo>
                    <a:pt x="1955" y="402"/>
                    <a:pt x="1956" y="409"/>
                    <a:pt x="1957" y="416"/>
                  </a:cubicBezTo>
                  <a:close/>
                  <a:moveTo>
                    <a:pt x="1561" y="1699"/>
                  </a:moveTo>
                  <a:cubicBezTo>
                    <a:pt x="1558" y="1703"/>
                    <a:pt x="1555" y="1705"/>
                    <a:pt x="1554" y="1708"/>
                  </a:cubicBezTo>
                  <a:cubicBezTo>
                    <a:pt x="1553" y="1709"/>
                    <a:pt x="1556" y="1714"/>
                    <a:pt x="1557" y="1714"/>
                  </a:cubicBezTo>
                  <a:cubicBezTo>
                    <a:pt x="1560" y="1714"/>
                    <a:pt x="1563" y="1712"/>
                    <a:pt x="1566" y="1711"/>
                  </a:cubicBezTo>
                  <a:cubicBezTo>
                    <a:pt x="1565" y="1708"/>
                    <a:pt x="1564" y="1704"/>
                    <a:pt x="1561" y="1699"/>
                  </a:cubicBezTo>
                  <a:close/>
                  <a:moveTo>
                    <a:pt x="163" y="2270"/>
                  </a:moveTo>
                  <a:cubicBezTo>
                    <a:pt x="161" y="2267"/>
                    <a:pt x="159" y="2264"/>
                    <a:pt x="157" y="2261"/>
                  </a:cubicBezTo>
                  <a:cubicBezTo>
                    <a:pt x="152" y="2266"/>
                    <a:pt x="146" y="2270"/>
                    <a:pt x="141" y="2275"/>
                  </a:cubicBezTo>
                  <a:cubicBezTo>
                    <a:pt x="142" y="2276"/>
                    <a:pt x="143" y="2278"/>
                    <a:pt x="144" y="2280"/>
                  </a:cubicBezTo>
                  <a:cubicBezTo>
                    <a:pt x="150" y="2276"/>
                    <a:pt x="157" y="2273"/>
                    <a:pt x="163" y="2270"/>
                  </a:cubicBezTo>
                  <a:close/>
                  <a:moveTo>
                    <a:pt x="213" y="2948"/>
                  </a:moveTo>
                  <a:cubicBezTo>
                    <a:pt x="215" y="2947"/>
                    <a:pt x="217" y="2946"/>
                    <a:pt x="218" y="2946"/>
                  </a:cubicBezTo>
                  <a:cubicBezTo>
                    <a:pt x="216" y="2937"/>
                    <a:pt x="213" y="2929"/>
                    <a:pt x="210" y="2920"/>
                  </a:cubicBezTo>
                  <a:cubicBezTo>
                    <a:pt x="208" y="2921"/>
                    <a:pt x="206" y="2922"/>
                    <a:pt x="203" y="2923"/>
                  </a:cubicBezTo>
                  <a:cubicBezTo>
                    <a:pt x="207" y="2931"/>
                    <a:pt x="210" y="2939"/>
                    <a:pt x="213" y="2948"/>
                  </a:cubicBezTo>
                  <a:close/>
                  <a:moveTo>
                    <a:pt x="1996" y="2326"/>
                  </a:moveTo>
                  <a:cubicBezTo>
                    <a:pt x="1996" y="2328"/>
                    <a:pt x="1996" y="2331"/>
                    <a:pt x="1996" y="2333"/>
                  </a:cubicBezTo>
                  <a:cubicBezTo>
                    <a:pt x="2003" y="2333"/>
                    <a:pt x="2010" y="2333"/>
                    <a:pt x="2016" y="2333"/>
                  </a:cubicBezTo>
                  <a:cubicBezTo>
                    <a:pt x="2017" y="2331"/>
                    <a:pt x="2017" y="2330"/>
                    <a:pt x="2017" y="2328"/>
                  </a:cubicBezTo>
                  <a:cubicBezTo>
                    <a:pt x="2010" y="2327"/>
                    <a:pt x="2003" y="2327"/>
                    <a:pt x="1996" y="2326"/>
                  </a:cubicBezTo>
                  <a:close/>
                  <a:moveTo>
                    <a:pt x="2656" y="2932"/>
                  </a:moveTo>
                  <a:cubicBezTo>
                    <a:pt x="2648" y="2927"/>
                    <a:pt x="2645" y="2924"/>
                    <a:pt x="2641" y="2922"/>
                  </a:cubicBezTo>
                  <a:cubicBezTo>
                    <a:pt x="2640" y="2922"/>
                    <a:pt x="2635" y="2927"/>
                    <a:pt x="2635" y="2929"/>
                  </a:cubicBezTo>
                  <a:cubicBezTo>
                    <a:pt x="2634" y="2932"/>
                    <a:pt x="2637" y="2938"/>
                    <a:pt x="2639" y="2938"/>
                  </a:cubicBezTo>
                  <a:cubicBezTo>
                    <a:pt x="2643" y="2938"/>
                    <a:pt x="2647" y="2935"/>
                    <a:pt x="2656" y="2932"/>
                  </a:cubicBezTo>
                  <a:close/>
                  <a:moveTo>
                    <a:pt x="760" y="3574"/>
                  </a:moveTo>
                  <a:cubicBezTo>
                    <a:pt x="762" y="3572"/>
                    <a:pt x="764" y="3570"/>
                    <a:pt x="766" y="3568"/>
                  </a:cubicBezTo>
                  <a:cubicBezTo>
                    <a:pt x="760" y="3563"/>
                    <a:pt x="753" y="3558"/>
                    <a:pt x="746" y="3552"/>
                  </a:cubicBezTo>
                  <a:cubicBezTo>
                    <a:pt x="744" y="3554"/>
                    <a:pt x="743" y="3556"/>
                    <a:pt x="742" y="3558"/>
                  </a:cubicBezTo>
                  <a:cubicBezTo>
                    <a:pt x="748" y="3563"/>
                    <a:pt x="754" y="3569"/>
                    <a:pt x="760" y="3574"/>
                  </a:cubicBezTo>
                  <a:close/>
                  <a:moveTo>
                    <a:pt x="403" y="2499"/>
                  </a:moveTo>
                  <a:cubicBezTo>
                    <a:pt x="405" y="2499"/>
                    <a:pt x="407" y="2499"/>
                    <a:pt x="410" y="2500"/>
                  </a:cubicBezTo>
                  <a:cubicBezTo>
                    <a:pt x="411" y="2492"/>
                    <a:pt x="413" y="2485"/>
                    <a:pt x="415" y="2477"/>
                  </a:cubicBezTo>
                  <a:cubicBezTo>
                    <a:pt x="413" y="2477"/>
                    <a:pt x="410" y="2476"/>
                    <a:pt x="408" y="2476"/>
                  </a:cubicBezTo>
                  <a:cubicBezTo>
                    <a:pt x="406" y="2483"/>
                    <a:pt x="405" y="2491"/>
                    <a:pt x="403" y="2499"/>
                  </a:cubicBezTo>
                  <a:close/>
                  <a:moveTo>
                    <a:pt x="1519" y="2330"/>
                  </a:moveTo>
                  <a:cubicBezTo>
                    <a:pt x="1515" y="2329"/>
                    <a:pt x="1512" y="2328"/>
                    <a:pt x="1509" y="2328"/>
                  </a:cubicBezTo>
                  <a:cubicBezTo>
                    <a:pt x="1509" y="2334"/>
                    <a:pt x="1508" y="2340"/>
                    <a:pt x="1508" y="2347"/>
                  </a:cubicBezTo>
                  <a:cubicBezTo>
                    <a:pt x="1510" y="2347"/>
                    <a:pt x="1512" y="2347"/>
                    <a:pt x="1514" y="2347"/>
                  </a:cubicBezTo>
                  <a:cubicBezTo>
                    <a:pt x="1515" y="2342"/>
                    <a:pt x="1517" y="2336"/>
                    <a:pt x="1519" y="2330"/>
                  </a:cubicBezTo>
                  <a:close/>
                  <a:moveTo>
                    <a:pt x="2265" y="2536"/>
                  </a:moveTo>
                  <a:cubicBezTo>
                    <a:pt x="2249" y="2550"/>
                    <a:pt x="2244" y="2557"/>
                    <a:pt x="2257" y="2572"/>
                  </a:cubicBezTo>
                  <a:cubicBezTo>
                    <a:pt x="2260" y="2560"/>
                    <a:pt x="2262" y="2552"/>
                    <a:pt x="2265" y="2536"/>
                  </a:cubicBezTo>
                  <a:close/>
                  <a:moveTo>
                    <a:pt x="436" y="1421"/>
                  </a:moveTo>
                  <a:cubicBezTo>
                    <a:pt x="434" y="1418"/>
                    <a:pt x="432" y="1416"/>
                    <a:pt x="431" y="1413"/>
                  </a:cubicBezTo>
                  <a:cubicBezTo>
                    <a:pt x="425" y="1417"/>
                    <a:pt x="420" y="1421"/>
                    <a:pt x="415" y="1425"/>
                  </a:cubicBezTo>
                  <a:cubicBezTo>
                    <a:pt x="417" y="1427"/>
                    <a:pt x="418" y="1429"/>
                    <a:pt x="419" y="1431"/>
                  </a:cubicBezTo>
                  <a:cubicBezTo>
                    <a:pt x="425" y="1428"/>
                    <a:pt x="430" y="1424"/>
                    <a:pt x="436" y="1421"/>
                  </a:cubicBezTo>
                  <a:close/>
                  <a:moveTo>
                    <a:pt x="3104" y="2700"/>
                  </a:moveTo>
                  <a:cubicBezTo>
                    <a:pt x="3102" y="2701"/>
                    <a:pt x="3100" y="2701"/>
                    <a:pt x="3097" y="2702"/>
                  </a:cubicBezTo>
                  <a:cubicBezTo>
                    <a:pt x="3102" y="2713"/>
                    <a:pt x="3106" y="2723"/>
                    <a:pt x="3110" y="2733"/>
                  </a:cubicBezTo>
                  <a:cubicBezTo>
                    <a:pt x="3112" y="2732"/>
                    <a:pt x="3115" y="2731"/>
                    <a:pt x="3117" y="2730"/>
                  </a:cubicBezTo>
                  <a:cubicBezTo>
                    <a:pt x="3113" y="2720"/>
                    <a:pt x="3108" y="2710"/>
                    <a:pt x="3104" y="2700"/>
                  </a:cubicBezTo>
                  <a:close/>
                  <a:moveTo>
                    <a:pt x="185" y="1809"/>
                  </a:moveTo>
                  <a:cubicBezTo>
                    <a:pt x="187" y="1808"/>
                    <a:pt x="189" y="1807"/>
                    <a:pt x="190" y="1807"/>
                  </a:cubicBezTo>
                  <a:cubicBezTo>
                    <a:pt x="189" y="1803"/>
                    <a:pt x="188" y="1798"/>
                    <a:pt x="186" y="1795"/>
                  </a:cubicBezTo>
                  <a:cubicBezTo>
                    <a:pt x="184" y="1792"/>
                    <a:pt x="180" y="1790"/>
                    <a:pt x="177" y="1788"/>
                  </a:cubicBezTo>
                  <a:cubicBezTo>
                    <a:pt x="176" y="1789"/>
                    <a:pt x="174" y="1791"/>
                    <a:pt x="173" y="1792"/>
                  </a:cubicBezTo>
                  <a:cubicBezTo>
                    <a:pt x="177" y="1798"/>
                    <a:pt x="181" y="1803"/>
                    <a:pt x="185" y="1809"/>
                  </a:cubicBezTo>
                  <a:close/>
                  <a:moveTo>
                    <a:pt x="1570" y="612"/>
                  </a:moveTo>
                  <a:cubicBezTo>
                    <a:pt x="1571" y="609"/>
                    <a:pt x="1572" y="606"/>
                    <a:pt x="1574" y="604"/>
                  </a:cubicBezTo>
                  <a:cubicBezTo>
                    <a:pt x="1565" y="599"/>
                    <a:pt x="1560" y="585"/>
                    <a:pt x="1542" y="598"/>
                  </a:cubicBezTo>
                  <a:cubicBezTo>
                    <a:pt x="1553" y="604"/>
                    <a:pt x="1562" y="608"/>
                    <a:pt x="1570" y="612"/>
                  </a:cubicBezTo>
                  <a:close/>
                  <a:moveTo>
                    <a:pt x="123" y="2011"/>
                  </a:moveTo>
                  <a:cubicBezTo>
                    <a:pt x="127" y="2024"/>
                    <a:pt x="127" y="2030"/>
                    <a:pt x="130" y="2033"/>
                  </a:cubicBezTo>
                  <a:cubicBezTo>
                    <a:pt x="133" y="2036"/>
                    <a:pt x="139" y="2036"/>
                    <a:pt x="144" y="2038"/>
                  </a:cubicBezTo>
                  <a:cubicBezTo>
                    <a:pt x="145" y="2036"/>
                    <a:pt x="146" y="2035"/>
                    <a:pt x="147" y="2033"/>
                  </a:cubicBezTo>
                  <a:cubicBezTo>
                    <a:pt x="141" y="2028"/>
                    <a:pt x="136" y="2022"/>
                    <a:pt x="123" y="2011"/>
                  </a:cubicBezTo>
                  <a:close/>
                  <a:moveTo>
                    <a:pt x="2479" y="3716"/>
                  </a:moveTo>
                  <a:cubicBezTo>
                    <a:pt x="2476" y="3721"/>
                    <a:pt x="2472" y="3726"/>
                    <a:pt x="2473" y="3727"/>
                  </a:cubicBezTo>
                  <a:cubicBezTo>
                    <a:pt x="2476" y="3730"/>
                    <a:pt x="2480" y="3733"/>
                    <a:pt x="2484" y="3736"/>
                  </a:cubicBezTo>
                  <a:cubicBezTo>
                    <a:pt x="2486" y="3733"/>
                    <a:pt x="2490" y="3730"/>
                    <a:pt x="2489" y="3728"/>
                  </a:cubicBezTo>
                  <a:cubicBezTo>
                    <a:pt x="2488" y="3724"/>
                    <a:pt x="2484" y="3721"/>
                    <a:pt x="2479" y="3716"/>
                  </a:cubicBezTo>
                  <a:close/>
                  <a:moveTo>
                    <a:pt x="1755" y="2269"/>
                  </a:moveTo>
                  <a:cubicBezTo>
                    <a:pt x="1741" y="2251"/>
                    <a:pt x="1732" y="2248"/>
                    <a:pt x="1717" y="2265"/>
                  </a:cubicBezTo>
                  <a:cubicBezTo>
                    <a:pt x="1730" y="2267"/>
                    <a:pt x="1738" y="2267"/>
                    <a:pt x="1755" y="2269"/>
                  </a:cubicBezTo>
                  <a:close/>
                  <a:moveTo>
                    <a:pt x="1619" y="669"/>
                  </a:moveTo>
                  <a:cubicBezTo>
                    <a:pt x="1623" y="665"/>
                    <a:pt x="1626" y="661"/>
                    <a:pt x="1630" y="657"/>
                  </a:cubicBezTo>
                  <a:cubicBezTo>
                    <a:pt x="1622" y="650"/>
                    <a:pt x="1613" y="644"/>
                    <a:pt x="1604" y="638"/>
                  </a:cubicBezTo>
                  <a:cubicBezTo>
                    <a:pt x="1602" y="640"/>
                    <a:pt x="1599" y="642"/>
                    <a:pt x="1596" y="645"/>
                  </a:cubicBezTo>
                  <a:cubicBezTo>
                    <a:pt x="1604" y="653"/>
                    <a:pt x="1611" y="661"/>
                    <a:pt x="1619" y="669"/>
                  </a:cubicBezTo>
                  <a:close/>
                  <a:moveTo>
                    <a:pt x="2427" y="2803"/>
                  </a:moveTo>
                  <a:cubicBezTo>
                    <a:pt x="2427" y="2806"/>
                    <a:pt x="2426" y="2810"/>
                    <a:pt x="2426" y="2813"/>
                  </a:cubicBezTo>
                  <a:cubicBezTo>
                    <a:pt x="2432" y="2814"/>
                    <a:pt x="2439" y="2814"/>
                    <a:pt x="2445" y="2815"/>
                  </a:cubicBezTo>
                  <a:cubicBezTo>
                    <a:pt x="2445" y="2813"/>
                    <a:pt x="2446" y="2811"/>
                    <a:pt x="2446" y="2809"/>
                  </a:cubicBezTo>
                  <a:cubicBezTo>
                    <a:pt x="2440" y="2807"/>
                    <a:pt x="2433" y="2805"/>
                    <a:pt x="2427" y="2803"/>
                  </a:cubicBezTo>
                  <a:close/>
                  <a:moveTo>
                    <a:pt x="3407" y="3502"/>
                  </a:moveTo>
                  <a:cubicBezTo>
                    <a:pt x="3408" y="3500"/>
                    <a:pt x="3409" y="3498"/>
                    <a:pt x="3410" y="3496"/>
                  </a:cubicBezTo>
                  <a:cubicBezTo>
                    <a:pt x="3403" y="3493"/>
                    <a:pt x="3397" y="3490"/>
                    <a:pt x="3391" y="3486"/>
                  </a:cubicBezTo>
                  <a:cubicBezTo>
                    <a:pt x="3390" y="3488"/>
                    <a:pt x="3389" y="3490"/>
                    <a:pt x="3388" y="3492"/>
                  </a:cubicBezTo>
                  <a:cubicBezTo>
                    <a:pt x="3394" y="3495"/>
                    <a:pt x="3400" y="3499"/>
                    <a:pt x="3407" y="3502"/>
                  </a:cubicBezTo>
                  <a:close/>
                  <a:moveTo>
                    <a:pt x="731" y="1120"/>
                  </a:moveTo>
                  <a:cubicBezTo>
                    <a:pt x="734" y="1116"/>
                    <a:pt x="737" y="1113"/>
                    <a:pt x="738" y="1110"/>
                  </a:cubicBezTo>
                  <a:cubicBezTo>
                    <a:pt x="739" y="1104"/>
                    <a:pt x="739" y="1098"/>
                    <a:pt x="738" y="1092"/>
                  </a:cubicBezTo>
                  <a:cubicBezTo>
                    <a:pt x="738" y="1092"/>
                    <a:pt x="729" y="1091"/>
                    <a:pt x="729" y="1092"/>
                  </a:cubicBezTo>
                  <a:cubicBezTo>
                    <a:pt x="727" y="1098"/>
                    <a:pt x="726" y="1104"/>
                    <a:pt x="726" y="1109"/>
                  </a:cubicBezTo>
                  <a:cubicBezTo>
                    <a:pt x="726" y="1112"/>
                    <a:pt x="729" y="1115"/>
                    <a:pt x="731" y="1120"/>
                  </a:cubicBezTo>
                  <a:close/>
                  <a:moveTo>
                    <a:pt x="3517" y="794"/>
                  </a:moveTo>
                  <a:cubicBezTo>
                    <a:pt x="3509" y="782"/>
                    <a:pt x="3506" y="776"/>
                    <a:pt x="3500" y="767"/>
                  </a:cubicBezTo>
                  <a:cubicBezTo>
                    <a:pt x="3490" y="783"/>
                    <a:pt x="3497" y="788"/>
                    <a:pt x="3517" y="794"/>
                  </a:cubicBezTo>
                  <a:close/>
                  <a:moveTo>
                    <a:pt x="863" y="1181"/>
                  </a:moveTo>
                  <a:cubicBezTo>
                    <a:pt x="864" y="1179"/>
                    <a:pt x="865" y="1177"/>
                    <a:pt x="866" y="1176"/>
                  </a:cubicBezTo>
                  <a:cubicBezTo>
                    <a:pt x="858" y="1168"/>
                    <a:pt x="851" y="1161"/>
                    <a:pt x="843" y="1154"/>
                  </a:cubicBezTo>
                  <a:cubicBezTo>
                    <a:pt x="842" y="1156"/>
                    <a:pt x="840" y="1157"/>
                    <a:pt x="838" y="1159"/>
                  </a:cubicBezTo>
                  <a:cubicBezTo>
                    <a:pt x="846" y="1166"/>
                    <a:pt x="855" y="1173"/>
                    <a:pt x="863" y="1181"/>
                  </a:cubicBezTo>
                  <a:close/>
                  <a:moveTo>
                    <a:pt x="598" y="869"/>
                  </a:moveTo>
                  <a:cubicBezTo>
                    <a:pt x="601" y="865"/>
                    <a:pt x="603" y="864"/>
                    <a:pt x="603" y="864"/>
                  </a:cubicBezTo>
                  <a:cubicBezTo>
                    <a:pt x="602" y="856"/>
                    <a:pt x="601" y="848"/>
                    <a:pt x="599" y="841"/>
                  </a:cubicBezTo>
                  <a:cubicBezTo>
                    <a:pt x="599" y="840"/>
                    <a:pt x="597" y="840"/>
                    <a:pt x="596" y="840"/>
                  </a:cubicBezTo>
                  <a:cubicBezTo>
                    <a:pt x="596" y="846"/>
                    <a:pt x="595" y="852"/>
                    <a:pt x="595" y="859"/>
                  </a:cubicBezTo>
                  <a:cubicBezTo>
                    <a:pt x="595" y="861"/>
                    <a:pt x="596" y="864"/>
                    <a:pt x="598" y="869"/>
                  </a:cubicBezTo>
                  <a:close/>
                  <a:moveTo>
                    <a:pt x="2020" y="2222"/>
                  </a:moveTo>
                  <a:cubicBezTo>
                    <a:pt x="2018" y="2219"/>
                    <a:pt x="2016" y="2216"/>
                    <a:pt x="2014" y="2213"/>
                  </a:cubicBezTo>
                  <a:cubicBezTo>
                    <a:pt x="2008" y="2217"/>
                    <a:pt x="2003" y="2222"/>
                    <a:pt x="1997" y="2226"/>
                  </a:cubicBezTo>
                  <a:cubicBezTo>
                    <a:pt x="1998" y="2228"/>
                    <a:pt x="1999" y="2230"/>
                    <a:pt x="2000" y="2232"/>
                  </a:cubicBezTo>
                  <a:cubicBezTo>
                    <a:pt x="2007" y="2228"/>
                    <a:pt x="2013" y="2225"/>
                    <a:pt x="2020" y="2222"/>
                  </a:cubicBezTo>
                  <a:close/>
                  <a:moveTo>
                    <a:pt x="1968" y="366"/>
                  </a:moveTo>
                  <a:cubicBezTo>
                    <a:pt x="1968" y="370"/>
                    <a:pt x="1969" y="374"/>
                    <a:pt x="1969" y="377"/>
                  </a:cubicBezTo>
                  <a:cubicBezTo>
                    <a:pt x="1976" y="375"/>
                    <a:pt x="1983" y="373"/>
                    <a:pt x="1990" y="371"/>
                  </a:cubicBezTo>
                  <a:cubicBezTo>
                    <a:pt x="1990" y="368"/>
                    <a:pt x="1989" y="366"/>
                    <a:pt x="1988" y="363"/>
                  </a:cubicBezTo>
                  <a:cubicBezTo>
                    <a:pt x="1981" y="364"/>
                    <a:pt x="1975" y="365"/>
                    <a:pt x="1968" y="366"/>
                  </a:cubicBezTo>
                  <a:close/>
                  <a:moveTo>
                    <a:pt x="1785" y="316"/>
                  </a:moveTo>
                  <a:cubicBezTo>
                    <a:pt x="1785" y="317"/>
                    <a:pt x="1786" y="319"/>
                    <a:pt x="1786" y="320"/>
                  </a:cubicBezTo>
                  <a:cubicBezTo>
                    <a:pt x="1791" y="319"/>
                    <a:pt x="1797" y="319"/>
                    <a:pt x="1801" y="317"/>
                  </a:cubicBezTo>
                  <a:cubicBezTo>
                    <a:pt x="1805" y="314"/>
                    <a:pt x="1808" y="309"/>
                    <a:pt x="1811" y="305"/>
                  </a:cubicBezTo>
                  <a:cubicBezTo>
                    <a:pt x="1810" y="304"/>
                    <a:pt x="1809" y="303"/>
                    <a:pt x="1808" y="302"/>
                  </a:cubicBezTo>
                  <a:cubicBezTo>
                    <a:pt x="1800" y="307"/>
                    <a:pt x="1792" y="311"/>
                    <a:pt x="1785" y="316"/>
                  </a:cubicBezTo>
                  <a:close/>
                  <a:moveTo>
                    <a:pt x="287" y="1414"/>
                  </a:moveTo>
                  <a:cubicBezTo>
                    <a:pt x="286" y="1416"/>
                    <a:pt x="285" y="1418"/>
                    <a:pt x="284" y="1420"/>
                  </a:cubicBezTo>
                  <a:cubicBezTo>
                    <a:pt x="289" y="1423"/>
                    <a:pt x="294" y="1426"/>
                    <a:pt x="299" y="1428"/>
                  </a:cubicBezTo>
                  <a:cubicBezTo>
                    <a:pt x="300" y="1427"/>
                    <a:pt x="301" y="1425"/>
                    <a:pt x="302" y="1423"/>
                  </a:cubicBezTo>
                  <a:cubicBezTo>
                    <a:pt x="297" y="1420"/>
                    <a:pt x="292" y="1417"/>
                    <a:pt x="287" y="1414"/>
                  </a:cubicBezTo>
                  <a:close/>
                  <a:moveTo>
                    <a:pt x="2927" y="1399"/>
                  </a:moveTo>
                  <a:cubicBezTo>
                    <a:pt x="2929" y="1400"/>
                    <a:pt x="2931" y="1401"/>
                    <a:pt x="2933" y="1402"/>
                  </a:cubicBezTo>
                  <a:cubicBezTo>
                    <a:pt x="2937" y="1396"/>
                    <a:pt x="2941" y="1389"/>
                    <a:pt x="2945" y="1383"/>
                  </a:cubicBezTo>
                  <a:cubicBezTo>
                    <a:pt x="2943" y="1382"/>
                    <a:pt x="2941" y="1381"/>
                    <a:pt x="2939" y="1379"/>
                  </a:cubicBezTo>
                  <a:cubicBezTo>
                    <a:pt x="2935" y="1386"/>
                    <a:pt x="2931" y="1392"/>
                    <a:pt x="2927" y="1399"/>
                  </a:cubicBezTo>
                  <a:close/>
                  <a:moveTo>
                    <a:pt x="2022" y="1306"/>
                  </a:moveTo>
                  <a:cubicBezTo>
                    <a:pt x="2019" y="1307"/>
                    <a:pt x="2017" y="1309"/>
                    <a:pt x="2014" y="1310"/>
                  </a:cubicBezTo>
                  <a:cubicBezTo>
                    <a:pt x="2017" y="1316"/>
                    <a:pt x="2020" y="1321"/>
                    <a:pt x="2022" y="1327"/>
                  </a:cubicBezTo>
                  <a:cubicBezTo>
                    <a:pt x="2024" y="1326"/>
                    <a:pt x="2026" y="1325"/>
                    <a:pt x="2028" y="1324"/>
                  </a:cubicBezTo>
                  <a:cubicBezTo>
                    <a:pt x="2026" y="1318"/>
                    <a:pt x="2024" y="1312"/>
                    <a:pt x="2022" y="1306"/>
                  </a:cubicBezTo>
                  <a:close/>
                  <a:moveTo>
                    <a:pt x="2261" y="1297"/>
                  </a:moveTo>
                  <a:cubicBezTo>
                    <a:pt x="2269" y="1295"/>
                    <a:pt x="2273" y="1295"/>
                    <a:pt x="2273" y="1294"/>
                  </a:cubicBezTo>
                  <a:cubicBezTo>
                    <a:pt x="2274" y="1290"/>
                    <a:pt x="2274" y="1285"/>
                    <a:pt x="2274" y="1281"/>
                  </a:cubicBezTo>
                  <a:cubicBezTo>
                    <a:pt x="2271" y="1285"/>
                    <a:pt x="2267" y="1289"/>
                    <a:pt x="2261" y="1297"/>
                  </a:cubicBezTo>
                  <a:close/>
                  <a:moveTo>
                    <a:pt x="516" y="1838"/>
                  </a:moveTo>
                  <a:cubicBezTo>
                    <a:pt x="514" y="1839"/>
                    <a:pt x="512" y="1839"/>
                    <a:pt x="510" y="1840"/>
                  </a:cubicBezTo>
                  <a:cubicBezTo>
                    <a:pt x="512" y="1847"/>
                    <a:pt x="515" y="1855"/>
                    <a:pt x="517" y="1862"/>
                  </a:cubicBezTo>
                  <a:cubicBezTo>
                    <a:pt x="519" y="1862"/>
                    <a:pt x="521" y="1861"/>
                    <a:pt x="523" y="1861"/>
                  </a:cubicBezTo>
                  <a:cubicBezTo>
                    <a:pt x="521" y="1853"/>
                    <a:pt x="519" y="1846"/>
                    <a:pt x="516" y="1838"/>
                  </a:cubicBezTo>
                  <a:close/>
                  <a:moveTo>
                    <a:pt x="329" y="3129"/>
                  </a:moveTo>
                  <a:cubicBezTo>
                    <a:pt x="329" y="3132"/>
                    <a:pt x="328" y="3135"/>
                    <a:pt x="328" y="3137"/>
                  </a:cubicBezTo>
                  <a:cubicBezTo>
                    <a:pt x="334" y="3139"/>
                    <a:pt x="341" y="3140"/>
                    <a:pt x="347" y="3141"/>
                  </a:cubicBezTo>
                  <a:cubicBezTo>
                    <a:pt x="348" y="3138"/>
                    <a:pt x="348" y="3135"/>
                    <a:pt x="349" y="3132"/>
                  </a:cubicBezTo>
                  <a:cubicBezTo>
                    <a:pt x="342" y="3131"/>
                    <a:pt x="336" y="3130"/>
                    <a:pt x="329" y="3129"/>
                  </a:cubicBezTo>
                  <a:close/>
                  <a:moveTo>
                    <a:pt x="1393" y="1138"/>
                  </a:moveTo>
                  <a:cubicBezTo>
                    <a:pt x="1394" y="1136"/>
                    <a:pt x="1395" y="1135"/>
                    <a:pt x="1396" y="1133"/>
                  </a:cubicBezTo>
                  <a:cubicBezTo>
                    <a:pt x="1391" y="1129"/>
                    <a:pt x="1385" y="1126"/>
                    <a:pt x="1380" y="1122"/>
                  </a:cubicBezTo>
                  <a:cubicBezTo>
                    <a:pt x="1379" y="1124"/>
                    <a:pt x="1378" y="1125"/>
                    <a:pt x="1377" y="1127"/>
                  </a:cubicBezTo>
                  <a:cubicBezTo>
                    <a:pt x="1382" y="1130"/>
                    <a:pt x="1387" y="1134"/>
                    <a:pt x="1393" y="1138"/>
                  </a:cubicBezTo>
                  <a:close/>
                  <a:moveTo>
                    <a:pt x="1636" y="3255"/>
                  </a:moveTo>
                  <a:cubicBezTo>
                    <a:pt x="1633" y="3257"/>
                    <a:pt x="1629" y="3259"/>
                    <a:pt x="1629" y="3260"/>
                  </a:cubicBezTo>
                  <a:cubicBezTo>
                    <a:pt x="1630" y="3263"/>
                    <a:pt x="1632" y="3266"/>
                    <a:pt x="1634" y="3269"/>
                  </a:cubicBezTo>
                  <a:cubicBezTo>
                    <a:pt x="1636" y="3268"/>
                    <a:pt x="1641" y="3266"/>
                    <a:pt x="1640" y="3265"/>
                  </a:cubicBezTo>
                  <a:cubicBezTo>
                    <a:pt x="1640" y="3262"/>
                    <a:pt x="1637" y="3259"/>
                    <a:pt x="1636" y="3255"/>
                  </a:cubicBezTo>
                  <a:close/>
                  <a:moveTo>
                    <a:pt x="1921" y="3268"/>
                  </a:moveTo>
                  <a:cubicBezTo>
                    <a:pt x="1915" y="3264"/>
                    <a:pt x="1912" y="3260"/>
                    <a:pt x="1908" y="3258"/>
                  </a:cubicBezTo>
                  <a:cubicBezTo>
                    <a:pt x="1906" y="3257"/>
                    <a:pt x="1903" y="3262"/>
                    <a:pt x="1900" y="3264"/>
                  </a:cubicBezTo>
                  <a:cubicBezTo>
                    <a:pt x="1903" y="3267"/>
                    <a:pt x="1906" y="3271"/>
                    <a:pt x="1910" y="3274"/>
                  </a:cubicBezTo>
                  <a:cubicBezTo>
                    <a:pt x="1911" y="3274"/>
                    <a:pt x="1915" y="3271"/>
                    <a:pt x="1921" y="3268"/>
                  </a:cubicBezTo>
                  <a:close/>
                  <a:moveTo>
                    <a:pt x="3195" y="3276"/>
                  </a:moveTo>
                  <a:cubicBezTo>
                    <a:pt x="3199" y="3272"/>
                    <a:pt x="3202" y="3269"/>
                    <a:pt x="3205" y="3266"/>
                  </a:cubicBezTo>
                  <a:cubicBezTo>
                    <a:pt x="3201" y="3261"/>
                    <a:pt x="3196" y="3257"/>
                    <a:pt x="3192" y="3252"/>
                  </a:cubicBezTo>
                  <a:cubicBezTo>
                    <a:pt x="3189" y="3255"/>
                    <a:pt x="3186" y="3258"/>
                    <a:pt x="3182" y="3261"/>
                  </a:cubicBezTo>
                  <a:cubicBezTo>
                    <a:pt x="3187" y="3266"/>
                    <a:pt x="3191" y="3271"/>
                    <a:pt x="3195" y="3276"/>
                  </a:cubicBezTo>
                  <a:close/>
                  <a:moveTo>
                    <a:pt x="589" y="1039"/>
                  </a:moveTo>
                  <a:cubicBezTo>
                    <a:pt x="588" y="1037"/>
                    <a:pt x="586" y="1035"/>
                    <a:pt x="584" y="1032"/>
                  </a:cubicBezTo>
                  <a:cubicBezTo>
                    <a:pt x="580" y="1036"/>
                    <a:pt x="576" y="1040"/>
                    <a:pt x="572" y="1044"/>
                  </a:cubicBezTo>
                  <a:cubicBezTo>
                    <a:pt x="573" y="1045"/>
                    <a:pt x="574" y="1047"/>
                    <a:pt x="576" y="1048"/>
                  </a:cubicBezTo>
                  <a:cubicBezTo>
                    <a:pt x="580" y="1045"/>
                    <a:pt x="585" y="1042"/>
                    <a:pt x="589" y="1039"/>
                  </a:cubicBezTo>
                  <a:close/>
                  <a:moveTo>
                    <a:pt x="3514" y="3354"/>
                  </a:moveTo>
                  <a:cubicBezTo>
                    <a:pt x="3510" y="3351"/>
                    <a:pt x="3507" y="3349"/>
                    <a:pt x="3504" y="3346"/>
                  </a:cubicBezTo>
                  <a:cubicBezTo>
                    <a:pt x="3503" y="3349"/>
                    <a:pt x="3499" y="3353"/>
                    <a:pt x="3499" y="3355"/>
                  </a:cubicBezTo>
                  <a:cubicBezTo>
                    <a:pt x="3500" y="3358"/>
                    <a:pt x="3504" y="3361"/>
                    <a:pt x="3507" y="3361"/>
                  </a:cubicBezTo>
                  <a:cubicBezTo>
                    <a:pt x="3509" y="3362"/>
                    <a:pt x="3511" y="3357"/>
                    <a:pt x="3514" y="3354"/>
                  </a:cubicBezTo>
                  <a:close/>
                  <a:moveTo>
                    <a:pt x="3694" y="3374"/>
                  </a:moveTo>
                  <a:cubicBezTo>
                    <a:pt x="3695" y="3376"/>
                    <a:pt x="3696" y="3378"/>
                    <a:pt x="3697" y="3380"/>
                  </a:cubicBezTo>
                  <a:cubicBezTo>
                    <a:pt x="3703" y="3377"/>
                    <a:pt x="3710" y="3374"/>
                    <a:pt x="3716" y="3370"/>
                  </a:cubicBezTo>
                  <a:cubicBezTo>
                    <a:pt x="3715" y="3368"/>
                    <a:pt x="3714" y="3366"/>
                    <a:pt x="3713" y="3364"/>
                  </a:cubicBezTo>
                  <a:cubicBezTo>
                    <a:pt x="3707" y="3367"/>
                    <a:pt x="3700" y="3371"/>
                    <a:pt x="3694" y="3374"/>
                  </a:cubicBezTo>
                  <a:close/>
                  <a:moveTo>
                    <a:pt x="2893" y="1012"/>
                  </a:moveTo>
                  <a:cubicBezTo>
                    <a:pt x="2874" y="1000"/>
                    <a:pt x="2869" y="1006"/>
                    <a:pt x="2863" y="1025"/>
                  </a:cubicBezTo>
                  <a:cubicBezTo>
                    <a:pt x="2875" y="1020"/>
                    <a:pt x="2882" y="1017"/>
                    <a:pt x="2893" y="1012"/>
                  </a:cubicBezTo>
                  <a:close/>
                  <a:moveTo>
                    <a:pt x="1217" y="812"/>
                  </a:moveTo>
                  <a:cubicBezTo>
                    <a:pt x="1214" y="810"/>
                    <a:pt x="1212" y="808"/>
                    <a:pt x="1209" y="806"/>
                  </a:cubicBezTo>
                  <a:cubicBezTo>
                    <a:pt x="1205" y="812"/>
                    <a:pt x="1202" y="817"/>
                    <a:pt x="1199" y="823"/>
                  </a:cubicBezTo>
                  <a:cubicBezTo>
                    <a:pt x="1200" y="824"/>
                    <a:pt x="1202" y="825"/>
                    <a:pt x="1204" y="827"/>
                  </a:cubicBezTo>
                  <a:cubicBezTo>
                    <a:pt x="1208" y="822"/>
                    <a:pt x="1213" y="817"/>
                    <a:pt x="1217" y="812"/>
                  </a:cubicBezTo>
                  <a:close/>
                  <a:moveTo>
                    <a:pt x="1662" y="646"/>
                  </a:moveTo>
                  <a:cubicBezTo>
                    <a:pt x="1664" y="648"/>
                    <a:pt x="1666" y="649"/>
                    <a:pt x="1668" y="651"/>
                  </a:cubicBezTo>
                  <a:cubicBezTo>
                    <a:pt x="1672" y="646"/>
                    <a:pt x="1675" y="641"/>
                    <a:pt x="1679" y="636"/>
                  </a:cubicBezTo>
                  <a:cubicBezTo>
                    <a:pt x="1677" y="635"/>
                    <a:pt x="1676" y="634"/>
                    <a:pt x="1674" y="632"/>
                  </a:cubicBezTo>
                  <a:cubicBezTo>
                    <a:pt x="1670" y="637"/>
                    <a:pt x="1666" y="641"/>
                    <a:pt x="1662" y="646"/>
                  </a:cubicBezTo>
                  <a:close/>
                  <a:moveTo>
                    <a:pt x="2154" y="588"/>
                  </a:moveTo>
                  <a:cubicBezTo>
                    <a:pt x="2156" y="586"/>
                    <a:pt x="2158" y="585"/>
                    <a:pt x="2160" y="583"/>
                  </a:cubicBezTo>
                  <a:cubicBezTo>
                    <a:pt x="2157" y="577"/>
                    <a:pt x="2153" y="571"/>
                    <a:pt x="2150" y="565"/>
                  </a:cubicBezTo>
                  <a:cubicBezTo>
                    <a:pt x="2148" y="566"/>
                    <a:pt x="2146" y="567"/>
                    <a:pt x="2144" y="569"/>
                  </a:cubicBezTo>
                  <a:cubicBezTo>
                    <a:pt x="2147" y="575"/>
                    <a:pt x="2150" y="581"/>
                    <a:pt x="2154" y="588"/>
                  </a:cubicBezTo>
                  <a:close/>
                  <a:moveTo>
                    <a:pt x="2906" y="3866"/>
                  </a:moveTo>
                  <a:cubicBezTo>
                    <a:pt x="2899" y="3863"/>
                    <a:pt x="2895" y="3860"/>
                    <a:pt x="2891" y="3860"/>
                  </a:cubicBezTo>
                  <a:cubicBezTo>
                    <a:pt x="2889" y="3860"/>
                    <a:pt x="2887" y="3865"/>
                    <a:pt x="2885" y="3868"/>
                  </a:cubicBezTo>
                  <a:cubicBezTo>
                    <a:pt x="2889" y="3870"/>
                    <a:pt x="2892" y="3873"/>
                    <a:pt x="2897" y="3874"/>
                  </a:cubicBezTo>
                  <a:cubicBezTo>
                    <a:pt x="2898" y="3874"/>
                    <a:pt x="2901" y="3870"/>
                    <a:pt x="2906" y="3866"/>
                  </a:cubicBezTo>
                  <a:close/>
                  <a:moveTo>
                    <a:pt x="1558" y="3901"/>
                  </a:moveTo>
                  <a:cubicBezTo>
                    <a:pt x="1560" y="3901"/>
                    <a:pt x="1562" y="3902"/>
                    <a:pt x="1565" y="3903"/>
                  </a:cubicBezTo>
                  <a:cubicBezTo>
                    <a:pt x="1567" y="3897"/>
                    <a:pt x="1569" y="3891"/>
                    <a:pt x="1572" y="3885"/>
                  </a:cubicBezTo>
                  <a:cubicBezTo>
                    <a:pt x="1568" y="3884"/>
                    <a:pt x="1565" y="3883"/>
                    <a:pt x="1561" y="3882"/>
                  </a:cubicBezTo>
                  <a:cubicBezTo>
                    <a:pt x="1560" y="3888"/>
                    <a:pt x="1559" y="3895"/>
                    <a:pt x="1558" y="3901"/>
                  </a:cubicBezTo>
                  <a:close/>
                  <a:moveTo>
                    <a:pt x="332" y="2449"/>
                  </a:moveTo>
                  <a:cubicBezTo>
                    <a:pt x="330" y="2450"/>
                    <a:pt x="328" y="2450"/>
                    <a:pt x="326" y="2451"/>
                  </a:cubicBezTo>
                  <a:cubicBezTo>
                    <a:pt x="327" y="2457"/>
                    <a:pt x="328" y="2462"/>
                    <a:pt x="330" y="2468"/>
                  </a:cubicBezTo>
                  <a:cubicBezTo>
                    <a:pt x="332" y="2468"/>
                    <a:pt x="334" y="2467"/>
                    <a:pt x="337" y="2466"/>
                  </a:cubicBezTo>
                  <a:cubicBezTo>
                    <a:pt x="335" y="2461"/>
                    <a:pt x="334" y="2455"/>
                    <a:pt x="332" y="2449"/>
                  </a:cubicBezTo>
                  <a:close/>
                  <a:moveTo>
                    <a:pt x="3201" y="2450"/>
                  </a:moveTo>
                  <a:cubicBezTo>
                    <a:pt x="3201" y="2447"/>
                    <a:pt x="3202" y="2445"/>
                    <a:pt x="3202" y="2442"/>
                  </a:cubicBezTo>
                  <a:cubicBezTo>
                    <a:pt x="3196" y="2441"/>
                    <a:pt x="3190" y="2441"/>
                    <a:pt x="3185" y="2440"/>
                  </a:cubicBezTo>
                  <a:cubicBezTo>
                    <a:pt x="3185" y="2442"/>
                    <a:pt x="3184" y="2447"/>
                    <a:pt x="3184" y="2447"/>
                  </a:cubicBezTo>
                  <a:cubicBezTo>
                    <a:pt x="3190" y="2448"/>
                    <a:pt x="3196" y="2449"/>
                    <a:pt x="3201" y="2450"/>
                  </a:cubicBezTo>
                  <a:close/>
                  <a:moveTo>
                    <a:pt x="3291" y="2052"/>
                  </a:moveTo>
                  <a:cubicBezTo>
                    <a:pt x="3292" y="2055"/>
                    <a:pt x="3294" y="2058"/>
                    <a:pt x="3296" y="2061"/>
                  </a:cubicBezTo>
                  <a:cubicBezTo>
                    <a:pt x="3300" y="2057"/>
                    <a:pt x="3305" y="2054"/>
                    <a:pt x="3309" y="2051"/>
                  </a:cubicBezTo>
                  <a:cubicBezTo>
                    <a:pt x="3308" y="2049"/>
                    <a:pt x="3306" y="2046"/>
                    <a:pt x="3305" y="2046"/>
                  </a:cubicBezTo>
                  <a:cubicBezTo>
                    <a:pt x="3300" y="2048"/>
                    <a:pt x="3296" y="2050"/>
                    <a:pt x="3291" y="2052"/>
                  </a:cubicBezTo>
                  <a:close/>
                  <a:moveTo>
                    <a:pt x="2381" y="1927"/>
                  </a:moveTo>
                  <a:cubicBezTo>
                    <a:pt x="2380" y="1931"/>
                    <a:pt x="2378" y="1934"/>
                    <a:pt x="2377" y="1937"/>
                  </a:cubicBezTo>
                  <a:cubicBezTo>
                    <a:pt x="2379" y="1937"/>
                    <a:pt x="2383" y="1939"/>
                    <a:pt x="2383" y="1939"/>
                  </a:cubicBezTo>
                  <a:cubicBezTo>
                    <a:pt x="2386" y="1936"/>
                    <a:pt x="2387" y="1933"/>
                    <a:pt x="2388" y="1930"/>
                  </a:cubicBezTo>
                  <a:cubicBezTo>
                    <a:pt x="2386" y="1929"/>
                    <a:pt x="2384" y="1929"/>
                    <a:pt x="2381" y="1927"/>
                  </a:cubicBezTo>
                  <a:close/>
                  <a:moveTo>
                    <a:pt x="2680" y="2349"/>
                  </a:moveTo>
                  <a:cubicBezTo>
                    <a:pt x="2685" y="2341"/>
                    <a:pt x="2689" y="2338"/>
                    <a:pt x="2689" y="2334"/>
                  </a:cubicBezTo>
                  <a:cubicBezTo>
                    <a:pt x="2690" y="2331"/>
                    <a:pt x="2686" y="2328"/>
                    <a:pt x="2685" y="2325"/>
                  </a:cubicBezTo>
                  <a:cubicBezTo>
                    <a:pt x="2681" y="2327"/>
                    <a:pt x="2675" y="2329"/>
                    <a:pt x="2674" y="2332"/>
                  </a:cubicBezTo>
                  <a:cubicBezTo>
                    <a:pt x="2673" y="2335"/>
                    <a:pt x="2676" y="2340"/>
                    <a:pt x="2680" y="2349"/>
                  </a:cubicBezTo>
                  <a:close/>
                  <a:moveTo>
                    <a:pt x="2486" y="378"/>
                  </a:moveTo>
                  <a:cubicBezTo>
                    <a:pt x="2484" y="381"/>
                    <a:pt x="2482" y="384"/>
                    <a:pt x="2480" y="387"/>
                  </a:cubicBezTo>
                  <a:cubicBezTo>
                    <a:pt x="2487" y="390"/>
                    <a:pt x="2493" y="394"/>
                    <a:pt x="2499" y="397"/>
                  </a:cubicBezTo>
                  <a:cubicBezTo>
                    <a:pt x="2500" y="395"/>
                    <a:pt x="2501" y="394"/>
                    <a:pt x="2502" y="392"/>
                  </a:cubicBezTo>
                  <a:cubicBezTo>
                    <a:pt x="2497" y="387"/>
                    <a:pt x="2492" y="383"/>
                    <a:pt x="2486" y="378"/>
                  </a:cubicBezTo>
                  <a:close/>
                  <a:moveTo>
                    <a:pt x="2053" y="2210"/>
                  </a:moveTo>
                  <a:cubicBezTo>
                    <a:pt x="2050" y="2214"/>
                    <a:pt x="2048" y="2216"/>
                    <a:pt x="2045" y="2219"/>
                  </a:cubicBezTo>
                  <a:cubicBezTo>
                    <a:pt x="2047" y="2220"/>
                    <a:pt x="2049" y="2223"/>
                    <a:pt x="2051" y="2223"/>
                  </a:cubicBezTo>
                  <a:cubicBezTo>
                    <a:pt x="2054" y="2222"/>
                    <a:pt x="2057" y="2220"/>
                    <a:pt x="2060" y="2218"/>
                  </a:cubicBezTo>
                  <a:cubicBezTo>
                    <a:pt x="2058" y="2216"/>
                    <a:pt x="2056" y="2213"/>
                    <a:pt x="2053" y="2210"/>
                  </a:cubicBezTo>
                  <a:close/>
                  <a:moveTo>
                    <a:pt x="3309" y="2441"/>
                  </a:moveTo>
                  <a:cubicBezTo>
                    <a:pt x="3309" y="2444"/>
                    <a:pt x="3309" y="2448"/>
                    <a:pt x="3309" y="2451"/>
                  </a:cubicBezTo>
                  <a:cubicBezTo>
                    <a:pt x="3316" y="2451"/>
                    <a:pt x="3323" y="2451"/>
                    <a:pt x="3330" y="2451"/>
                  </a:cubicBezTo>
                  <a:cubicBezTo>
                    <a:pt x="3330" y="2448"/>
                    <a:pt x="3330" y="2444"/>
                    <a:pt x="3329" y="2444"/>
                  </a:cubicBezTo>
                  <a:cubicBezTo>
                    <a:pt x="3323" y="2442"/>
                    <a:pt x="3316" y="2442"/>
                    <a:pt x="3309" y="2441"/>
                  </a:cubicBezTo>
                  <a:close/>
                  <a:moveTo>
                    <a:pt x="1938" y="2207"/>
                  </a:moveTo>
                  <a:cubicBezTo>
                    <a:pt x="1937" y="2212"/>
                    <a:pt x="1935" y="2215"/>
                    <a:pt x="1935" y="2218"/>
                  </a:cubicBezTo>
                  <a:cubicBezTo>
                    <a:pt x="1935" y="2220"/>
                    <a:pt x="1940" y="2223"/>
                    <a:pt x="1940" y="2223"/>
                  </a:cubicBezTo>
                  <a:cubicBezTo>
                    <a:pt x="1943" y="2221"/>
                    <a:pt x="1947" y="2218"/>
                    <a:pt x="1946" y="2216"/>
                  </a:cubicBezTo>
                  <a:cubicBezTo>
                    <a:pt x="1946" y="2213"/>
                    <a:pt x="1942" y="2211"/>
                    <a:pt x="1938" y="2207"/>
                  </a:cubicBezTo>
                  <a:close/>
                  <a:moveTo>
                    <a:pt x="2188" y="2158"/>
                  </a:moveTo>
                  <a:cubicBezTo>
                    <a:pt x="2190" y="2157"/>
                    <a:pt x="2192" y="2157"/>
                    <a:pt x="2194" y="2157"/>
                  </a:cubicBezTo>
                  <a:cubicBezTo>
                    <a:pt x="2193" y="2148"/>
                    <a:pt x="2192" y="2138"/>
                    <a:pt x="2192" y="2129"/>
                  </a:cubicBezTo>
                  <a:cubicBezTo>
                    <a:pt x="2190" y="2129"/>
                    <a:pt x="2188" y="2129"/>
                    <a:pt x="2186" y="2129"/>
                  </a:cubicBezTo>
                  <a:cubicBezTo>
                    <a:pt x="2187" y="2139"/>
                    <a:pt x="2187" y="2148"/>
                    <a:pt x="2188" y="2158"/>
                  </a:cubicBezTo>
                  <a:close/>
                  <a:moveTo>
                    <a:pt x="339" y="1469"/>
                  </a:moveTo>
                  <a:cubicBezTo>
                    <a:pt x="337" y="1473"/>
                    <a:pt x="335" y="1476"/>
                    <a:pt x="334" y="1479"/>
                  </a:cubicBezTo>
                  <a:cubicBezTo>
                    <a:pt x="337" y="1480"/>
                    <a:pt x="340" y="1483"/>
                    <a:pt x="344" y="1483"/>
                  </a:cubicBezTo>
                  <a:cubicBezTo>
                    <a:pt x="346" y="1482"/>
                    <a:pt x="347" y="1478"/>
                    <a:pt x="349" y="1476"/>
                  </a:cubicBezTo>
                  <a:cubicBezTo>
                    <a:pt x="346" y="1474"/>
                    <a:pt x="343" y="1472"/>
                    <a:pt x="339" y="1469"/>
                  </a:cubicBezTo>
                  <a:close/>
                  <a:moveTo>
                    <a:pt x="2941" y="4197"/>
                  </a:moveTo>
                  <a:cubicBezTo>
                    <a:pt x="2938" y="4194"/>
                    <a:pt x="2935" y="4190"/>
                    <a:pt x="2932" y="4190"/>
                  </a:cubicBezTo>
                  <a:cubicBezTo>
                    <a:pt x="2930" y="4190"/>
                    <a:pt x="2926" y="4194"/>
                    <a:pt x="2926" y="4197"/>
                  </a:cubicBezTo>
                  <a:cubicBezTo>
                    <a:pt x="2926" y="4199"/>
                    <a:pt x="2930" y="4203"/>
                    <a:pt x="2933" y="4204"/>
                  </a:cubicBezTo>
                  <a:cubicBezTo>
                    <a:pt x="2935" y="4204"/>
                    <a:pt x="2938" y="4200"/>
                    <a:pt x="2941" y="4197"/>
                  </a:cubicBezTo>
                  <a:close/>
                  <a:moveTo>
                    <a:pt x="2834" y="4228"/>
                  </a:moveTo>
                  <a:cubicBezTo>
                    <a:pt x="2832" y="4230"/>
                    <a:pt x="2830" y="4232"/>
                    <a:pt x="2828" y="4233"/>
                  </a:cubicBezTo>
                  <a:cubicBezTo>
                    <a:pt x="2829" y="4236"/>
                    <a:pt x="2830" y="4240"/>
                    <a:pt x="2832" y="4242"/>
                  </a:cubicBezTo>
                  <a:cubicBezTo>
                    <a:pt x="2835" y="4245"/>
                    <a:pt x="2839" y="4246"/>
                    <a:pt x="2842" y="4248"/>
                  </a:cubicBezTo>
                  <a:cubicBezTo>
                    <a:pt x="2843" y="4246"/>
                    <a:pt x="2844" y="4245"/>
                    <a:pt x="2845" y="4243"/>
                  </a:cubicBezTo>
                  <a:cubicBezTo>
                    <a:pt x="2841" y="4238"/>
                    <a:pt x="2838" y="4233"/>
                    <a:pt x="2834" y="4228"/>
                  </a:cubicBezTo>
                  <a:close/>
                  <a:moveTo>
                    <a:pt x="2783" y="4251"/>
                  </a:moveTo>
                  <a:cubicBezTo>
                    <a:pt x="2778" y="4255"/>
                    <a:pt x="2775" y="4257"/>
                    <a:pt x="2774" y="4260"/>
                  </a:cubicBezTo>
                  <a:cubicBezTo>
                    <a:pt x="2773" y="4262"/>
                    <a:pt x="2775" y="4266"/>
                    <a:pt x="2776" y="4269"/>
                  </a:cubicBezTo>
                  <a:cubicBezTo>
                    <a:pt x="2779" y="4267"/>
                    <a:pt x="2784" y="4265"/>
                    <a:pt x="2785" y="4262"/>
                  </a:cubicBezTo>
                  <a:cubicBezTo>
                    <a:pt x="2786" y="4260"/>
                    <a:pt x="2784" y="4257"/>
                    <a:pt x="2783" y="4251"/>
                  </a:cubicBezTo>
                  <a:close/>
                  <a:moveTo>
                    <a:pt x="2795" y="4298"/>
                  </a:moveTo>
                  <a:cubicBezTo>
                    <a:pt x="2793" y="4301"/>
                    <a:pt x="2791" y="4304"/>
                    <a:pt x="2791" y="4305"/>
                  </a:cubicBezTo>
                  <a:cubicBezTo>
                    <a:pt x="2793" y="4308"/>
                    <a:pt x="2796" y="4310"/>
                    <a:pt x="2799" y="4312"/>
                  </a:cubicBezTo>
                  <a:cubicBezTo>
                    <a:pt x="2800" y="4310"/>
                    <a:pt x="2804" y="4307"/>
                    <a:pt x="2803" y="4306"/>
                  </a:cubicBezTo>
                  <a:cubicBezTo>
                    <a:pt x="2801" y="4303"/>
                    <a:pt x="2798" y="4301"/>
                    <a:pt x="2795" y="4298"/>
                  </a:cubicBezTo>
                  <a:close/>
                  <a:moveTo>
                    <a:pt x="308" y="1457"/>
                  </a:moveTo>
                  <a:cubicBezTo>
                    <a:pt x="306" y="1456"/>
                    <a:pt x="303" y="1456"/>
                    <a:pt x="301" y="1455"/>
                  </a:cubicBezTo>
                  <a:cubicBezTo>
                    <a:pt x="299" y="1461"/>
                    <a:pt x="297" y="1468"/>
                    <a:pt x="296" y="1474"/>
                  </a:cubicBezTo>
                  <a:cubicBezTo>
                    <a:pt x="298" y="1474"/>
                    <a:pt x="300" y="1475"/>
                    <a:pt x="302" y="1476"/>
                  </a:cubicBezTo>
                  <a:cubicBezTo>
                    <a:pt x="304" y="1469"/>
                    <a:pt x="306" y="1463"/>
                    <a:pt x="308" y="1457"/>
                  </a:cubicBezTo>
                  <a:close/>
                  <a:moveTo>
                    <a:pt x="2338" y="2820"/>
                  </a:moveTo>
                  <a:cubicBezTo>
                    <a:pt x="2338" y="2818"/>
                    <a:pt x="2337" y="2816"/>
                    <a:pt x="2336" y="2814"/>
                  </a:cubicBezTo>
                  <a:cubicBezTo>
                    <a:pt x="2336" y="2814"/>
                    <a:pt x="2333" y="2814"/>
                    <a:pt x="2333" y="2814"/>
                  </a:cubicBezTo>
                  <a:cubicBezTo>
                    <a:pt x="2332" y="2816"/>
                    <a:pt x="2332" y="2818"/>
                    <a:pt x="2332" y="2820"/>
                  </a:cubicBezTo>
                  <a:cubicBezTo>
                    <a:pt x="2334" y="2820"/>
                    <a:pt x="2336" y="2820"/>
                    <a:pt x="2338" y="2820"/>
                  </a:cubicBezTo>
                  <a:close/>
                  <a:moveTo>
                    <a:pt x="728" y="3690"/>
                  </a:moveTo>
                  <a:cubicBezTo>
                    <a:pt x="731" y="3685"/>
                    <a:pt x="734" y="3683"/>
                    <a:pt x="735" y="3680"/>
                  </a:cubicBezTo>
                  <a:cubicBezTo>
                    <a:pt x="735" y="3679"/>
                    <a:pt x="732" y="3674"/>
                    <a:pt x="731" y="3675"/>
                  </a:cubicBezTo>
                  <a:cubicBezTo>
                    <a:pt x="728" y="3675"/>
                    <a:pt x="724" y="3677"/>
                    <a:pt x="723" y="3679"/>
                  </a:cubicBezTo>
                  <a:cubicBezTo>
                    <a:pt x="722" y="3681"/>
                    <a:pt x="725" y="3685"/>
                    <a:pt x="728" y="3690"/>
                  </a:cubicBezTo>
                  <a:close/>
                  <a:moveTo>
                    <a:pt x="935" y="2519"/>
                  </a:moveTo>
                  <a:cubicBezTo>
                    <a:pt x="933" y="2516"/>
                    <a:pt x="931" y="2513"/>
                    <a:pt x="929" y="2510"/>
                  </a:cubicBezTo>
                  <a:cubicBezTo>
                    <a:pt x="927" y="2512"/>
                    <a:pt x="924" y="2514"/>
                    <a:pt x="925" y="2515"/>
                  </a:cubicBezTo>
                  <a:cubicBezTo>
                    <a:pt x="925" y="2518"/>
                    <a:pt x="927" y="2521"/>
                    <a:pt x="929" y="2524"/>
                  </a:cubicBezTo>
                  <a:cubicBezTo>
                    <a:pt x="931" y="2523"/>
                    <a:pt x="932" y="2521"/>
                    <a:pt x="935" y="2519"/>
                  </a:cubicBezTo>
                  <a:close/>
                  <a:moveTo>
                    <a:pt x="1451" y="3719"/>
                  </a:moveTo>
                  <a:cubicBezTo>
                    <a:pt x="1453" y="3721"/>
                    <a:pt x="1455" y="3722"/>
                    <a:pt x="1457" y="3724"/>
                  </a:cubicBezTo>
                  <a:cubicBezTo>
                    <a:pt x="1462" y="3719"/>
                    <a:pt x="1466" y="3715"/>
                    <a:pt x="1470" y="3710"/>
                  </a:cubicBezTo>
                  <a:cubicBezTo>
                    <a:pt x="1468" y="3708"/>
                    <a:pt x="1466" y="3707"/>
                    <a:pt x="1464" y="3705"/>
                  </a:cubicBezTo>
                  <a:cubicBezTo>
                    <a:pt x="1460" y="3710"/>
                    <a:pt x="1456" y="3714"/>
                    <a:pt x="1451" y="3719"/>
                  </a:cubicBezTo>
                  <a:close/>
                  <a:moveTo>
                    <a:pt x="3162" y="3237"/>
                  </a:moveTo>
                  <a:cubicBezTo>
                    <a:pt x="3164" y="3235"/>
                    <a:pt x="3165" y="3233"/>
                    <a:pt x="3166" y="3232"/>
                  </a:cubicBezTo>
                  <a:cubicBezTo>
                    <a:pt x="3162" y="3229"/>
                    <a:pt x="3159" y="3226"/>
                    <a:pt x="3155" y="3223"/>
                  </a:cubicBezTo>
                  <a:cubicBezTo>
                    <a:pt x="3154" y="3225"/>
                    <a:pt x="3153" y="3226"/>
                    <a:pt x="3151" y="3228"/>
                  </a:cubicBezTo>
                  <a:cubicBezTo>
                    <a:pt x="3155" y="3231"/>
                    <a:pt x="3159" y="3234"/>
                    <a:pt x="3162" y="3237"/>
                  </a:cubicBezTo>
                  <a:close/>
                  <a:moveTo>
                    <a:pt x="497" y="1003"/>
                  </a:moveTo>
                  <a:cubicBezTo>
                    <a:pt x="498" y="1000"/>
                    <a:pt x="500" y="998"/>
                    <a:pt x="501" y="996"/>
                  </a:cubicBezTo>
                  <a:cubicBezTo>
                    <a:pt x="497" y="993"/>
                    <a:pt x="493" y="991"/>
                    <a:pt x="489" y="988"/>
                  </a:cubicBezTo>
                  <a:cubicBezTo>
                    <a:pt x="487" y="990"/>
                    <a:pt x="486" y="991"/>
                    <a:pt x="485" y="993"/>
                  </a:cubicBezTo>
                  <a:cubicBezTo>
                    <a:pt x="489" y="996"/>
                    <a:pt x="493" y="999"/>
                    <a:pt x="497" y="1003"/>
                  </a:cubicBezTo>
                  <a:close/>
                  <a:moveTo>
                    <a:pt x="142" y="2306"/>
                  </a:moveTo>
                  <a:cubicBezTo>
                    <a:pt x="140" y="2311"/>
                    <a:pt x="138" y="2314"/>
                    <a:pt x="137" y="2317"/>
                  </a:cubicBezTo>
                  <a:cubicBezTo>
                    <a:pt x="137" y="2317"/>
                    <a:pt x="142" y="2320"/>
                    <a:pt x="143" y="2320"/>
                  </a:cubicBezTo>
                  <a:cubicBezTo>
                    <a:pt x="146" y="2319"/>
                    <a:pt x="148" y="2316"/>
                    <a:pt x="150" y="2314"/>
                  </a:cubicBezTo>
                  <a:cubicBezTo>
                    <a:pt x="148" y="2311"/>
                    <a:pt x="145" y="2309"/>
                    <a:pt x="142" y="2306"/>
                  </a:cubicBezTo>
                  <a:close/>
                  <a:moveTo>
                    <a:pt x="2199" y="1780"/>
                  </a:moveTo>
                  <a:cubicBezTo>
                    <a:pt x="2197" y="1779"/>
                    <a:pt x="2195" y="1779"/>
                    <a:pt x="2193" y="1778"/>
                  </a:cubicBezTo>
                  <a:cubicBezTo>
                    <a:pt x="2191" y="1785"/>
                    <a:pt x="2190" y="1791"/>
                    <a:pt x="2189" y="1797"/>
                  </a:cubicBezTo>
                  <a:cubicBezTo>
                    <a:pt x="2190" y="1798"/>
                    <a:pt x="2192" y="1798"/>
                    <a:pt x="2194" y="1799"/>
                  </a:cubicBezTo>
                  <a:cubicBezTo>
                    <a:pt x="2195" y="1792"/>
                    <a:pt x="2197" y="1786"/>
                    <a:pt x="2199" y="1780"/>
                  </a:cubicBezTo>
                  <a:close/>
                  <a:moveTo>
                    <a:pt x="2678" y="2517"/>
                  </a:moveTo>
                  <a:cubicBezTo>
                    <a:pt x="2675" y="2515"/>
                    <a:pt x="2672" y="2513"/>
                    <a:pt x="2672" y="2513"/>
                  </a:cubicBezTo>
                  <a:cubicBezTo>
                    <a:pt x="2669" y="2515"/>
                    <a:pt x="2667" y="2518"/>
                    <a:pt x="2665" y="2521"/>
                  </a:cubicBezTo>
                  <a:cubicBezTo>
                    <a:pt x="2667" y="2522"/>
                    <a:pt x="2670" y="2525"/>
                    <a:pt x="2671" y="2524"/>
                  </a:cubicBezTo>
                  <a:cubicBezTo>
                    <a:pt x="2674" y="2522"/>
                    <a:pt x="2676" y="2519"/>
                    <a:pt x="2678" y="2517"/>
                  </a:cubicBezTo>
                  <a:close/>
                  <a:moveTo>
                    <a:pt x="1306" y="968"/>
                  </a:moveTo>
                  <a:cubicBezTo>
                    <a:pt x="1305" y="970"/>
                    <a:pt x="1304" y="972"/>
                    <a:pt x="1303" y="974"/>
                  </a:cubicBezTo>
                  <a:cubicBezTo>
                    <a:pt x="1310" y="976"/>
                    <a:pt x="1316" y="979"/>
                    <a:pt x="1322" y="981"/>
                  </a:cubicBezTo>
                  <a:cubicBezTo>
                    <a:pt x="1322" y="979"/>
                    <a:pt x="1323" y="977"/>
                    <a:pt x="1324" y="976"/>
                  </a:cubicBezTo>
                  <a:cubicBezTo>
                    <a:pt x="1318" y="973"/>
                    <a:pt x="1312" y="970"/>
                    <a:pt x="1306" y="968"/>
                  </a:cubicBezTo>
                  <a:close/>
                  <a:moveTo>
                    <a:pt x="3182" y="2655"/>
                  </a:moveTo>
                  <a:cubicBezTo>
                    <a:pt x="3179" y="2651"/>
                    <a:pt x="3177" y="2649"/>
                    <a:pt x="3174" y="2646"/>
                  </a:cubicBezTo>
                  <a:cubicBezTo>
                    <a:pt x="3172" y="2649"/>
                    <a:pt x="3170" y="2652"/>
                    <a:pt x="3169" y="2655"/>
                  </a:cubicBezTo>
                  <a:cubicBezTo>
                    <a:pt x="3168" y="2656"/>
                    <a:pt x="3171" y="2659"/>
                    <a:pt x="3172" y="2661"/>
                  </a:cubicBezTo>
                  <a:cubicBezTo>
                    <a:pt x="3175" y="2659"/>
                    <a:pt x="3178" y="2658"/>
                    <a:pt x="3182" y="2655"/>
                  </a:cubicBezTo>
                  <a:close/>
                  <a:moveTo>
                    <a:pt x="1273" y="929"/>
                  </a:moveTo>
                  <a:cubicBezTo>
                    <a:pt x="1271" y="930"/>
                    <a:pt x="1269" y="930"/>
                    <a:pt x="1268" y="931"/>
                  </a:cubicBezTo>
                  <a:cubicBezTo>
                    <a:pt x="1269" y="937"/>
                    <a:pt x="1271" y="943"/>
                    <a:pt x="1273" y="949"/>
                  </a:cubicBezTo>
                  <a:cubicBezTo>
                    <a:pt x="1275" y="949"/>
                    <a:pt x="1277" y="948"/>
                    <a:pt x="1280" y="947"/>
                  </a:cubicBezTo>
                  <a:cubicBezTo>
                    <a:pt x="1277" y="941"/>
                    <a:pt x="1275" y="935"/>
                    <a:pt x="1273" y="929"/>
                  </a:cubicBezTo>
                  <a:close/>
                  <a:moveTo>
                    <a:pt x="3661" y="2402"/>
                  </a:moveTo>
                  <a:cubicBezTo>
                    <a:pt x="3661" y="2400"/>
                    <a:pt x="3661" y="2397"/>
                    <a:pt x="3661" y="2395"/>
                  </a:cubicBezTo>
                  <a:cubicBezTo>
                    <a:pt x="3657" y="2396"/>
                    <a:pt x="3652" y="2396"/>
                    <a:pt x="3647" y="2397"/>
                  </a:cubicBezTo>
                  <a:cubicBezTo>
                    <a:pt x="3647" y="2399"/>
                    <a:pt x="3647" y="2400"/>
                    <a:pt x="3647" y="2402"/>
                  </a:cubicBezTo>
                  <a:cubicBezTo>
                    <a:pt x="3652" y="2402"/>
                    <a:pt x="3657" y="2402"/>
                    <a:pt x="3661" y="2402"/>
                  </a:cubicBezTo>
                  <a:close/>
                  <a:moveTo>
                    <a:pt x="760" y="3231"/>
                  </a:moveTo>
                  <a:cubicBezTo>
                    <a:pt x="757" y="3229"/>
                    <a:pt x="754" y="3227"/>
                    <a:pt x="753" y="3227"/>
                  </a:cubicBezTo>
                  <a:cubicBezTo>
                    <a:pt x="751" y="3230"/>
                    <a:pt x="749" y="3233"/>
                    <a:pt x="748" y="3236"/>
                  </a:cubicBezTo>
                  <a:cubicBezTo>
                    <a:pt x="749" y="3237"/>
                    <a:pt x="752" y="3239"/>
                    <a:pt x="753" y="3239"/>
                  </a:cubicBezTo>
                  <a:cubicBezTo>
                    <a:pt x="756" y="3237"/>
                    <a:pt x="758" y="3234"/>
                    <a:pt x="760" y="3231"/>
                  </a:cubicBezTo>
                  <a:close/>
                  <a:moveTo>
                    <a:pt x="2540" y="3803"/>
                  </a:moveTo>
                  <a:cubicBezTo>
                    <a:pt x="2539" y="3801"/>
                    <a:pt x="2538" y="3798"/>
                    <a:pt x="2536" y="3798"/>
                  </a:cubicBezTo>
                  <a:cubicBezTo>
                    <a:pt x="2535" y="3797"/>
                    <a:pt x="2532" y="3799"/>
                    <a:pt x="2530" y="3800"/>
                  </a:cubicBezTo>
                  <a:cubicBezTo>
                    <a:pt x="2531" y="3802"/>
                    <a:pt x="2532" y="3805"/>
                    <a:pt x="2534" y="3805"/>
                  </a:cubicBezTo>
                  <a:cubicBezTo>
                    <a:pt x="2535" y="3805"/>
                    <a:pt x="2538" y="3804"/>
                    <a:pt x="2540" y="3803"/>
                  </a:cubicBezTo>
                  <a:close/>
                  <a:moveTo>
                    <a:pt x="937" y="1941"/>
                  </a:moveTo>
                  <a:cubicBezTo>
                    <a:pt x="938" y="1938"/>
                    <a:pt x="938" y="1935"/>
                    <a:pt x="938" y="1931"/>
                  </a:cubicBezTo>
                  <a:cubicBezTo>
                    <a:pt x="933" y="1932"/>
                    <a:pt x="928" y="1932"/>
                    <a:pt x="922" y="1932"/>
                  </a:cubicBezTo>
                  <a:cubicBezTo>
                    <a:pt x="922" y="1934"/>
                    <a:pt x="922" y="1936"/>
                    <a:pt x="922" y="1938"/>
                  </a:cubicBezTo>
                  <a:cubicBezTo>
                    <a:pt x="927" y="1939"/>
                    <a:pt x="932" y="1940"/>
                    <a:pt x="937" y="1941"/>
                  </a:cubicBezTo>
                  <a:close/>
                  <a:moveTo>
                    <a:pt x="1110" y="3832"/>
                  </a:moveTo>
                  <a:cubicBezTo>
                    <a:pt x="1111" y="3829"/>
                    <a:pt x="1113" y="3826"/>
                    <a:pt x="1113" y="3823"/>
                  </a:cubicBezTo>
                  <a:cubicBezTo>
                    <a:pt x="1113" y="3821"/>
                    <a:pt x="1110" y="3820"/>
                    <a:pt x="1108" y="3819"/>
                  </a:cubicBezTo>
                  <a:cubicBezTo>
                    <a:pt x="1106" y="3821"/>
                    <a:pt x="1104" y="3824"/>
                    <a:pt x="1104" y="3827"/>
                  </a:cubicBezTo>
                  <a:cubicBezTo>
                    <a:pt x="1103" y="3828"/>
                    <a:pt x="1107" y="3830"/>
                    <a:pt x="1110" y="3832"/>
                  </a:cubicBezTo>
                  <a:close/>
                  <a:moveTo>
                    <a:pt x="833" y="523"/>
                  </a:moveTo>
                  <a:cubicBezTo>
                    <a:pt x="831" y="520"/>
                    <a:pt x="830" y="517"/>
                    <a:pt x="830" y="515"/>
                  </a:cubicBezTo>
                  <a:cubicBezTo>
                    <a:pt x="827" y="517"/>
                    <a:pt x="824" y="519"/>
                    <a:pt x="822" y="522"/>
                  </a:cubicBezTo>
                  <a:cubicBezTo>
                    <a:pt x="822" y="523"/>
                    <a:pt x="824" y="526"/>
                    <a:pt x="825" y="528"/>
                  </a:cubicBezTo>
                  <a:cubicBezTo>
                    <a:pt x="827" y="527"/>
                    <a:pt x="830" y="525"/>
                    <a:pt x="833" y="523"/>
                  </a:cubicBezTo>
                  <a:close/>
                  <a:moveTo>
                    <a:pt x="2863" y="3833"/>
                  </a:moveTo>
                  <a:cubicBezTo>
                    <a:pt x="2860" y="3835"/>
                    <a:pt x="2858" y="3836"/>
                    <a:pt x="2857" y="3837"/>
                  </a:cubicBezTo>
                  <a:cubicBezTo>
                    <a:pt x="2859" y="3839"/>
                    <a:pt x="2861" y="3842"/>
                    <a:pt x="2863" y="3844"/>
                  </a:cubicBezTo>
                  <a:cubicBezTo>
                    <a:pt x="2864" y="3845"/>
                    <a:pt x="2867" y="3842"/>
                    <a:pt x="2868" y="3841"/>
                  </a:cubicBezTo>
                  <a:cubicBezTo>
                    <a:pt x="2867" y="3838"/>
                    <a:pt x="2865" y="3836"/>
                    <a:pt x="2863" y="3833"/>
                  </a:cubicBezTo>
                  <a:close/>
                  <a:moveTo>
                    <a:pt x="329" y="2588"/>
                  </a:moveTo>
                  <a:cubicBezTo>
                    <a:pt x="327" y="2588"/>
                    <a:pt x="326" y="2588"/>
                    <a:pt x="324" y="2588"/>
                  </a:cubicBezTo>
                  <a:cubicBezTo>
                    <a:pt x="324" y="2596"/>
                    <a:pt x="324" y="2604"/>
                    <a:pt x="324" y="2612"/>
                  </a:cubicBezTo>
                  <a:cubicBezTo>
                    <a:pt x="326" y="2612"/>
                    <a:pt x="327" y="2612"/>
                    <a:pt x="329" y="2612"/>
                  </a:cubicBezTo>
                  <a:cubicBezTo>
                    <a:pt x="329" y="2604"/>
                    <a:pt x="329" y="2596"/>
                    <a:pt x="329" y="2588"/>
                  </a:cubicBezTo>
                  <a:close/>
                  <a:moveTo>
                    <a:pt x="2600" y="191"/>
                  </a:moveTo>
                  <a:cubicBezTo>
                    <a:pt x="2603" y="186"/>
                    <a:pt x="2606" y="183"/>
                    <a:pt x="2606" y="180"/>
                  </a:cubicBezTo>
                  <a:cubicBezTo>
                    <a:pt x="2606" y="177"/>
                    <a:pt x="2603" y="174"/>
                    <a:pt x="2601" y="171"/>
                  </a:cubicBezTo>
                  <a:cubicBezTo>
                    <a:pt x="2598" y="175"/>
                    <a:pt x="2595" y="178"/>
                    <a:pt x="2594" y="181"/>
                  </a:cubicBezTo>
                  <a:cubicBezTo>
                    <a:pt x="2593" y="183"/>
                    <a:pt x="2597" y="187"/>
                    <a:pt x="2600" y="191"/>
                  </a:cubicBezTo>
                  <a:close/>
                  <a:moveTo>
                    <a:pt x="287" y="1829"/>
                  </a:moveTo>
                  <a:cubicBezTo>
                    <a:pt x="285" y="1831"/>
                    <a:pt x="284" y="1833"/>
                    <a:pt x="282" y="1834"/>
                  </a:cubicBezTo>
                  <a:cubicBezTo>
                    <a:pt x="284" y="1836"/>
                    <a:pt x="286" y="1838"/>
                    <a:pt x="288" y="1838"/>
                  </a:cubicBezTo>
                  <a:cubicBezTo>
                    <a:pt x="290" y="1838"/>
                    <a:pt x="291" y="1835"/>
                    <a:pt x="292" y="1833"/>
                  </a:cubicBezTo>
                  <a:cubicBezTo>
                    <a:pt x="290" y="1832"/>
                    <a:pt x="289" y="1830"/>
                    <a:pt x="287" y="1829"/>
                  </a:cubicBezTo>
                  <a:close/>
                  <a:moveTo>
                    <a:pt x="159" y="1975"/>
                  </a:moveTo>
                  <a:cubicBezTo>
                    <a:pt x="156" y="1972"/>
                    <a:pt x="153" y="1970"/>
                    <a:pt x="151" y="1968"/>
                  </a:cubicBezTo>
                  <a:cubicBezTo>
                    <a:pt x="150" y="1970"/>
                    <a:pt x="148" y="1973"/>
                    <a:pt x="149" y="1974"/>
                  </a:cubicBezTo>
                  <a:cubicBezTo>
                    <a:pt x="149" y="1976"/>
                    <a:pt x="151" y="1978"/>
                    <a:pt x="153" y="1980"/>
                  </a:cubicBezTo>
                  <a:cubicBezTo>
                    <a:pt x="155" y="1978"/>
                    <a:pt x="156" y="1977"/>
                    <a:pt x="159" y="1975"/>
                  </a:cubicBezTo>
                  <a:close/>
                  <a:moveTo>
                    <a:pt x="2966" y="3915"/>
                  </a:moveTo>
                  <a:cubicBezTo>
                    <a:pt x="2962" y="3911"/>
                    <a:pt x="2961" y="3908"/>
                    <a:pt x="2958" y="3906"/>
                  </a:cubicBezTo>
                  <a:cubicBezTo>
                    <a:pt x="2957" y="3905"/>
                    <a:pt x="2952" y="3908"/>
                    <a:pt x="2952" y="3909"/>
                  </a:cubicBezTo>
                  <a:cubicBezTo>
                    <a:pt x="2952" y="3912"/>
                    <a:pt x="2953" y="3916"/>
                    <a:pt x="2955" y="3918"/>
                  </a:cubicBezTo>
                  <a:cubicBezTo>
                    <a:pt x="2957" y="3919"/>
                    <a:pt x="2961" y="3916"/>
                    <a:pt x="2966" y="3915"/>
                  </a:cubicBezTo>
                  <a:close/>
                  <a:moveTo>
                    <a:pt x="502" y="1218"/>
                  </a:moveTo>
                  <a:cubicBezTo>
                    <a:pt x="501" y="1215"/>
                    <a:pt x="500" y="1213"/>
                    <a:pt x="499" y="1211"/>
                  </a:cubicBezTo>
                  <a:cubicBezTo>
                    <a:pt x="497" y="1212"/>
                    <a:pt x="493" y="1214"/>
                    <a:pt x="493" y="1214"/>
                  </a:cubicBezTo>
                  <a:cubicBezTo>
                    <a:pt x="494" y="1217"/>
                    <a:pt x="496" y="1219"/>
                    <a:pt x="497" y="1222"/>
                  </a:cubicBezTo>
                  <a:cubicBezTo>
                    <a:pt x="499" y="1220"/>
                    <a:pt x="500" y="1219"/>
                    <a:pt x="502" y="1218"/>
                  </a:cubicBezTo>
                  <a:close/>
                  <a:moveTo>
                    <a:pt x="1497" y="1871"/>
                  </a:moveTo>
                  <a:cubicBezTo>
                    <a:pt x="1500" y="1871"/>
                    <a:pt x="1503" y="1871"/>
                    <a:pt x="1506" y="1871"/>
                  </a:cubicBezTo>
                  <a:cubicBezTo>
                    <a:pt x="1505" y="1865"/>
                    <a:pt x="1504" y="1860"/>
                    <a:pt x="1504" y="1854"/>
                  </a:cubicBezTo>
                  <a:cubicBezTo>
                    <a:pt x="1502" y="1854"/>
                    <a:pt x="1500" y="1855"/>
                    <a:pt x="1499" y="1855"/>
                  </a:cubicBezTo>
                  <a:cubicBezTo>
                    <a:pt x="1498" y="1860"/>
                    <a:pt x="1497" y="1865"/>
                    <a:pt x="1497" y="1871"/>
                  </a:cubicBezTo>
                  <a:close/>
                  <a:moveTo>
                    <a:pt x="2173" y="3539"/>
                  </a:moveTo>
                  <a:cubicBezTo>
                    <a:pt x="2175" y="3539"/>
                    <a:pt x="2177" y="3540"/>
                    <a:pt x="2179" y="3541"/>
                  </a:cubicBezTo>
                  <a:cubicBezTo>
                    <a:pt x="2180" y="3534"/>
                    <a:pt x="2182" y="3527"/>
                    <a:pt x="2184" y="3520"/>
                  </a:cubicBezTo>
                  <a:cubicBezTo>
                    <a:pt x="2182" y="3520"/>
                    <a:pt x="2181" y="3520"/>
                    <a:pt x="2179" y="3519"/>
                  </a:cubicBezTo>
                  <a:cubicBezTo>
                    <a:pt x="2177" y="3526"/>
                    <a:pt x="2175" y="3532"/>
                    <a:pt x="2173" y="3539"/>
                  </a:cubicBezTo>
                  <a:close/>
                  <a:moveTo>
                    <a:pt x="2192" y="1730"/>
                  </a:moveTo>
                  <a:cubicBezTo>
                    <a:pt x="2190" y="1730"/>
                    <a:pt x="2188" y="1731"/>
                    <a:pt x="2186" y="1731"/>
                  </a:cubicBezTo>
                  <a:cubicBezTo>
                    <a:pt x="2187" y="1738"/>
                    <a:pt x="2187" y="1746"/>
                    <a:pt x="2188" y="1754"/>
                  </a:cubicBezTo>
                  <a:cubicBezTo>
                    <a:pt x="2190" y="1753"/>
                    <a:pt x="2193" y="1753"/>
                    <a:pt x="2195" y="1753"/>
                  </a:cubicBezTo>
                  <a:cubicBezTo>
                    <a:pt x="2194" y="1745"/>
                    <a:pt x="2193" y="1738"/>
                    <a:pt x="2192" y="1730"/>
                  </a:cubicBezTo>
                  <a:close/>
                  <a:moveTo>
                    <a:pt x="921" y="1466"/>
                  </a:moveTo>
                  <a:cubicBezTo>
                    <a:pt x="922" y="1465"/>
                    <a:pt x="924" y="1463"/>
                    <a:pt x="926" y="1462"/>
                  </a:cubicBezTo>
                  <a:cubicBezTo>
                    <a:pt x="924" y="1459"/>
                    <a:pt x="923" y="1454"/>
                    <a:pt x="920" y="1452"/>
                  </a:cubicBezTo>
                  <a:cubicBezTo>
                    <a:pt x="917" y="1449"/>
                    <a:pt x="911" y="1447"/>
                    <a:pt x="907" y="1445"/>
                  </a:cubicBezTo>
                  <a:cubicBezTo>
                    <a:pt x="906" y="1447"/>
                    <a:pt x="904" y="1449"/>
                    <a:pt x="903" y="1451"/>
                  </a:cubicBezTo>
                  <a:cubicBezTo>
                    <a:pt x="909" y="1456"/>
                    <a:pt x="915" y="1461"/>
                    <a:pt x="921" y="1466"/>
                  </a:cubicBezTo>
                  <a:close/>
                  <a:moveTo>
                    <a:pt x="542" y="2943"/>
                  </a:moveTo>
                  <a:cubicBezTo>
                    <a:pt x="539" y="2941"/>
                    <a:pt x="536" y="2939"/>
                    <a:pt x="532" y="2938"/>
                  </a:cubicBezTo>
                  <a:cubicBezTo>
                    <a:pt x="531" y="2938"/>
                    <a:pt x="528" y="2942"/>
                    <a:pt x="528" y="2943"/>
                  </a:cubicBezTo>
                  <a:cubicBezTo>
                    <a:pt x="530" y="2945"/>
                    <a:pt x="532" y="2948"/>
                    <a:pt x="534" y="2951"/>
                  </a:cubicBezTo>
                  <a:cubicBezTo>
                    <a:pt x="536" y="2949"/>
                    <a:pt x="537" y="2948"/>
                    <a:pt x="542" y="2943"/>
                  </a:cubicBezTo>
                  <a:close/>
                  <a:moveTo>
                    <a:pt x="1982" y="4056"/>
                  </a:moveTo>
                  <a:cubicBezTo>
                    <a:pt x="1982" y="4055"/>
                    <a:pt x="1982" y="4053"/>
                    <a:pt x="1982" y="4052"/>
                  </a:cubicBezTo>
                  <a:cubicBezTo>
                    <a:pt x="1975" y="4052"/>
                    <a:pt x="1968" y="4052"/>
                    <a:pt x="1960" y="4052"/>
                  </a:cubicBezTo>
                  <a:cubicBezTo>
                    <a:pt x="1960" y="4053"/>
                    <a:pt x="1960" y="4055"/>
                    <a:pt x="1960" y="4056"/>
                  </a:cubicBezTo>
                  <a:cubicBezTo>
                    <a:pt x="1968" y="4056"/>
                    <a:pt x="1975" y="4056"/>
                    <a:pt x="1982" y="4056"/>
                  </a:cubicBezTo>
                  <a:close/>
                  <a:moveTo>
                    <a:pt x="3318" y="3357"/>
                  </a:moveTo>
                  <a:cubicBezTo>
                    <a:pt x="3317" y="3359"/>
                    <a:pt x="3316" y="3360"/>
                    <a:pt x="3314" y="3362"/>
                  </a:cubicBezTo>
                  <a:cubicBezTo>
                    <a:pt x="3319" y="3366"/>
                    <a:pt x="3323" y="3369"/>
                    <a:pt x="3328" y="3373"/>
                  </a:cubicBezTo>
                  <a:cubicBezTo>
                    <a:pt x="3329" y="3371"/>
                    <a:pt x="3330" y="3370"/>
                    <a:pt x="3332" y="3368"/>
                  </a:cubicBezTo>
                  <a:cubicBezTo>
                    <a:pt x="3327" y="3364"/>
                    <a:pt x="3323" y="3361"/>
                    <a:pt x="3318" y="3357"/>
                  </a:cubicBezTo>
                  <a:close/>
                  <a:moveTo>
                    <a:pt x="809" y="1906"/>
                  </a:moveTo>
                  <a:cubicBezTo>
                    <a:pt x="811" y="1906"/>
                    <a:pt x="813" y="1907"/>
                    <a:pt x="816" y="1907"/>
                  </a:cubicBezTo>
                  <a:cubicBezTo>
                    <a:pt x="817" y="1901"/>
                    <a:pt x="818" y="1895"/>
                    <a:pt x="820" y="1889"/>
                  </a:cubicBezTo>
                  <a:cubicBezTo>
                    <a:pt x="818" y="1889"/>
                    <a:pt x="815" y="1888"/>
                    <a:pt x="813" y="1888"/>
                  </a:cubicBezTo>
                  <a:cubicBezTo>
                    <a:pt x="812" y="1894"/>
                    <a:pt x="810" y="1900"/>
                    <a:pt x="809" y="1906"/>
                  </a:cubicBezTo>
                  <a:close/>
                  <a:moveTo>
                    <a:pt x="1467" y="840"/>
                  </a:moveTo>
                  <a:cubicBezTo>
                    <a:pt x="1469" y="838"/>
                    <a:pt x="1470" y="837"/>
                    <a:pt x="1472" y="835"/>
                  </a:cubicBezTo>
                  <a:cubicBezTo>
                    <a:pt x="1471" y="833"/>
                    <a:pt x="1471" y="829"/>
                    <a:pt x="1469" y="828"/>
                  </a:cubicBezTo>
                  <a:cubicBezTo>
                    <a:pt x="1466" y="827"/>
                    <a:pt x="1461" y="827"/>
                    <a:pt x="1457" y="826"/>
                  </a:cubicBezTo>
                  <a:cubicBezTo>
                    <a:pt x="1461" y="830"/>
                    <a:pt x="1464" y="835"/>
                    <a:pt x="1467" y="840"/>
                  </a:cubicBezTo>
                  <a:close/>
                  <a:moveTo>
                    <a:pt x="636" y="821"/>
                  </a:moveTo>
                  <a:cubicBezTo>
                    <a:pt x="639" y="824"/>
                    <a:pt x="642" y="827"/>
                    <a:pt x="645" y="828"/>
                  </a:cubicBezTo>
                  <a:cubicBezTo>
                    <a:pt x="647" y="828"/>
                    <a:pt x="649" y="824"/>
                    <a:pt x="651" y="821"/>
                  </a:cubicBezTo>
                  <a:cubicBezTo>
                    <a:pt x="649" y="819"/>
                    <a:pt x="646" y="817"/>
                    <a:pt x="643" y="816"/>
                  </a:cubicBezTo>
                  <a:cubicBezTo>
                    <a:pt x="641" y="816"/>
                    <a:pt x="639" y="819"/>
                    <a:pt x="636" y="821"/>
                  </a:cubicBezTo>
                  <a:close/>
                  <a:moveTo>
                    <a:pt x="3759" y="1648"/>
                  </a:moveTo>
                  <a:cubicBezTo>
                    <a:pt x="3768" y="1655"/>
                    <a:pt x="3771" y="1657"/>
                    <a:pt x="3774" y="1659"/>
                  </a:cubicBezTo>
                  <a:cubicBezTo>
                    <a:pt x="3776" y="1657"/>
                    <a:pt x="3778" y="1654"/>
                    <a:pt x="3778" y="1653"/>
                  </a:cubicBezTo>
                  <a:cubicBezTo>
                    <a:pt x="3777" y="1649"/>
                    <a:pt x="3774" y="1645"/>
                    <a:pt x="3772" y="1644"/>
                  </a:cubicBezTo>
                  <a:cubicBezTo>
                    <a:pt x="3769" y="1643"/>
                    <a:pt x="3765" y="1646"/>
                    <a:pt x="3759" y="1648"/>
                  </a:cubicBezTo>
                  <a:close/>
                  <a:moveTo>
                    <a:pt x="2187" y="3224"/>
                  </a:moveTo>
                  <a:cubicBezTo>
                    <a:pt x="2185" y="3224"/>
                    <a:pt x="2183" y="3223"/>
                    <a:pt x="2181" y="3223"/>
                  </a:cubicBezTo>
                  <a:cubicBezTo>
                    <a:pt x="2180" y="3229"/>
                    <a:pt x="2178" y="3235"/>
                    <a:pt x="2177" y="3240"/>
                  </a:cubicBezTo>
                  <a:cubicBezTo>
                    <a:pt x="2179" y="3241"/>
                    <a:pt x="2181" y="3241"/>
                    <a:pt x="2183" y="3242"/>
                  </a:cubicBezTo>
                  <a:cubicBezTo>
                    <a:pt x="2184" y="3236"/>
                    <a:pt x="2186" y="3230"/>
                    <a:pt x="2187" y="3224"/>
                  </a:cubicBezTo>
                  <a:close/>
                  <a:moveTo>
                    <a:pt x="1943" y="4268"/>
                  </a:moveTo>
                  <a:cubicBezTo>
                    <a:pt x="1941" y="4269"/>
                    <a:pt x="1939" y="4270"/>
                    <a:pt x="1937" y="4271"/>
                  </a:cubicBezTo>
                  <a:cubicBezTo>
                    <a:pt x="1939" y="4276"/>
                    <a:pt x="1941" y="4281"/>
                    <a:pt x="1943" y="4285"/>
                  </a:cubicBezTo>
                  <a:cubicBezTo>
                    <a:pt x="1946" y="4284"/>
                    <a:pt x="1949" y="4283"/>
                    <a:pt x="1952" y="4281"/>
                  </a:cubicBezTo>
                  <a:cubicBezTo>
                    <a:pt x="1949" y="4277"/>
                    <a:pt x="1946" y="4272"/>
                    <a:pt x="1943" y="4268"/>
                  </a:cubicBezTo>
                  <a:close/>
                  <a:moveTo>
                    <a:pt x="3281" y="2243"/>
                  </a:moveTo>
                  <a:cubicBezTo>
                    <a:pt x="3279" y="2241"/>
                    <a:pt x="3276" y="2238"/>
                    <a:pt x="3274" y="2236"/>
                  </a:cubicBezTo>
                  <a:cubicBezTo>
                    <a:pt x="3272" y="2238"/>
                    <a:pt x="3270" y="2241"/>
                    <a:pt x="3267" y="2243"/>
                  </a:cubicBezTo>
                  <a:cubicBezTo>
                    <a:pt x="3270" y="2245"/>
                    <a:pt x="3273" y="2248"/>
                    <a:pt x="3276" y="2249"/>
                  </a:cubicBezTo>
                  <a:cubicBezTo>
                    <a:pt x="3277" y="2249"/>
                    <a:pt x="3279" y="2246"/>
                    <a:pt x="3281" y="2243"/>
                  </a:cubicBezTo>
                  <a:close/>
                  <a:moveTo>
                    <a:pt x="1789" y="775"/>
                  </a:moveTo>
                  <a:cubicBezTo>
                    <a:pt x="1785" y="772"/>
                    <a:pt x="1782" y="768"/>
                    <a:pt x="1779" y="769"/>
                  </a:cubicBezTo>
                  <a:cubicBezTo>
                    <a:pt x="1776" y="769"/>
                    <a:pt x="1774" y="773"/>
                    <a:pt x="1772" y="775"/>
                  </a:cubicBezTo>
                  <a:cubicBezTo>
                    <a:pt x="1774" y="778"/>
                    <a:pt x="1777" y="782"/>
                    <a:pt x="1779" y="782"/>
                  </a:cubicBezTo>
                  <a:cubicBezTo>
                    <a:pt x="1782" y="782"/>
                    <a:pt x="1785" y="778"/>
                    <a:pt x="1789" y="775"/>
                  </a:cubicBezTo>
                  <a:close/>
                  <a:moveTo>
                    <a:pt x="908" y="2255"/>
                  </a:moveTo>
                  <a:cubicBezTo>
                    <a:pt x="906" y="2252"/>
                    <a:pt x="904" y="2250"/>
                    <a:pt x="902" y="2247"/>
                  </a:cubicBezTo>
                  <a:cubicBezTo>
                    <a:pt x="899" y="2249"/>
                    <a:pt x="897" y="2251"/>
                    <a:pt x="895" y="2253"/>
                  </a:cubicBezTo>
                  <a:cubicBezTo>
                    <a:pt x="898" y="2255"/>
                    <a:pt x="900" y="2258"/>
                    <a:pt x="903" y="2260"/>
                  </a:cubicBezTo>
                  <a:cubicBezTo>
                    <a:pt x="904" y="2259"/>
                    <a:pt x="906" y="2257"/>
                    <a:pt x="908" y="2255"/>
                  </a:cubicBezTo>
                  <a:close/>
                  <a:moveTo>
                    <a:pt x="434" y="2823"/>
                  </a:moveTo>
                  <a:cubicBezTo>
                    <a:pt x="432" y="2824"/>
                    <a:pt x="430" y="2825"/>
                    <a:pt x="428" y="2826"/>
                  </a:cubicBezTo>
                  <a:cubicBezTo>
                    <a:pt x="431" y="2830"/>
                    <a:pt x="434" y="2834"/>
                    <a:pt x="437" y="2838"/>
                  </a:cubicBezTo>
                  <a:cubicBezTo>
                    <a:pt x="438" y="2837"/>
                    <a:pt x="439" y="2836"/>
                    <a:pt x="441" y="2836"/>
                  </a:cubicBezTo>
                  <a:cubicBezTo>
                    <a:pt x="439" y="2831"/>
                    <a:pt x="437" y="2827"/>
                    <a:pt x="434" y="2823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7"/>
            <p:cNvSpPr/>
            <p:nvPr/>
          </p:nvSpPr>
          <p:spPr>
            <a:xfrm>
              <a:off x="1320480" y="5811480"/>
              <a:ext cx="875160" cy="536400"/>
            </a:xfrm>
            <a:custGeom>
              <a:avLst/>
              <a:gdLst/>
              <a:ahLst/>
              <a:rect l="l" t="t" r="r" b="b"/>
              <a:pathLst>
                <a:path w="575" h="352">
                  <a:moveTo>
                    <a:pt x="266" y="176"/>
                  </a:moveTo>
                  <a:cubicBezTo>
                    <a:pt x="282" y="169"/>
                    <a:pt x="299" y="161"/>
                    <a:pt x="321" y="151"/>
                  </a:cubicBezTo>
                  <a:cubicBezTo>
                    <a:pt x="329" y="157"/>
                    <a:pt x="340" y="167"/>
                    <a:pt x="352" y="177"/>
                  </a:cubicBezTo>
                  <a:cubicBezTo>
                    <a:pt x="354" y="173"/>
                    <a:pt x="359" y="167"/>
                    <a:pt x="358" y="161"/>
                  </a:cubicBezTo>
                  <a:cubicBezTo>
                    <a:pt x="353" y="134"/>
                    <a:pt x="362" y="113"/>
                    <a:pt x="379" y="93"/>
                  </a:cubicBezTo>
                  <a:cubicBezTo>
                    <a:pt x="385" y="85"/>
                    <a:pt x="380" y="69"/>
                    <a:pt x="380" y="54"/>
                  </a:cubicBezTo>
                  <a:cubicBezTo>
                    <a:pt x="392" y="49"/>
                    <a:pt x="398" y="53"/>
                    <a:pt x="402" y="71"/>
                  </a:cubicBezTo>
                  <a:cubicBezTo>
                    <a:pt x="408" y="100"/>
                    <a:pt x="418" y="128"/>
                    <a:pt x="427" y="158"/>
                  </a:cubicBezTo>
                  <a:cubicBezTo>
                    <a:pt x="439" y="156"/>
                    <a:pt x="449" y="153"/>
                    <a:pt x="462" y="151"/>
                  </a:cubicBezTo>
                  <a:cubicBezTo>
                    <a:pt x="455" y="125"/>
                    <a:pt x="448" y="101"/>
                    <a:pt x="442" y="75"/>
                  </a:cubicBezTo>
                  <a:cubicBezTo>
                    <a:pt x="462" y="56"/>
                    <a:pt x="466" y="7"/>
                    <a:pt x="518" y="23"/>
                  </a:cubicBezTo>
                  <a:cubicBezTo>
                    <a:pt x="515" y="36"/>
                    <a:pt x="513" y="49"/>
                    <a:pt x="509" y="68"/>
                  </a:cubicBezTo>
                  <a:cubicBezTo>
                    <a:pt x="529" y="41"/>
                    <a:pt x="545" y="20"/>
                    <a:pt x="560" y="0"/>
                  </a:cubicBezTo>
                  <a:cubicBezTo>
                    <a:pt x="575" y="16"/>
                    <a:pt x="575" y="31"/>
                    <a:pt x="566" y="48"/>
                  </a:cubicBezTo>
                  <a:cubicBezTo>
                    <a:pt x="535" y="114"/>
                    <a:pt x="496" y="172"/>
                    <a:pt x="437" y="218"/>
                  </a:cubicBezTo>
                  <a:cubicBezTo>
                    <a:pt x="403" y="245"/>
                    <a:pt x="371" y="276"/>
                    <a:pt x="328" y="289"/>
                  </a:cubicBezTo>
                  <a:cubicBezTo>
                    <a:pt x="316" y="293"/>
                    <a:pt x="304" y="294"/>
                    <a:pt x="285" y="297"/>
                  </a:cubicBezTo>
                  <a:cubicBezTo>
                    <a:pt x="274" y="321"/>
                    <a:pt x="246" y="334"/>
                    <a:pt x="213" y="334"/>
                  </a:cubicBezTo>
                  <a:cubicBezTo>
                    <a:pt x="174" y="333"/>
                    <a:pt x="135" y="334"/>
                    <a:pt x="98" y="327"/>
                  </a:cubicBezTo>
                  <a:cubicBezTo>
                    <a:pt x="61" y="319"/>
                    <a:pt x="28" y="311"/>
                    <a:pt x="3" y="352"/>
                  </a:cubicBezTo>
                  <a:cubicBezTo>
                    <a:pt x="3" y="329"/>
                    <a:pt x="0" y="311"/>
                    <a:pt x="4" y="294"/>
                  </a:cubicBezTo>
                  <a:cubicBezTo>
                    <a:pt x="9" y="275"/>
                    <a:pt x="19" y="256"/>
                    <a:pt x="27" y="238"/>
                  </a:cubicBezTo>
                  <a:cubicBezTo>
                    <a:pt x="63" y="245"/>
                    <a:pt x="63" y="245"/>
                    <a:pt x="62" y="282"/>
                  </a:cubicBezTo>
                  <a:cubicBezTo>
                    <a:pt x="89" y="272"/>
                    <a:pt x="114" y="262"/>
                    <a:pt x="138" y="253"/>
                  </a:cubicBezTo>
                  <a:cubicBezTo>
                    <a:pt x="138" y="250"/>
                    <a:pt x="138" y="248"/>
                    <a:pt x="137" y="246"/>
                  </a:cubicBezTo>
                  <a:cubicBezTo>
                    <a:pt x="131" y="246"/>
                    <a:pt x="125" y="246"/>
                    <a:pt x="119" y="246"/>
                  </a:cubicBezTo>
                  <a:cubicBezTo>
                    <a:pt x="119" y="247"/>
                    <a:pt x="119" y="247"/>
                    <a:pt x="119" y="247"/>
                  </a:cubicBezTo>
                  <a:cubicBezTo>
                    <a:pt x="123" y="239"/>
                    <a:pt x="127" y="231"/>
                    <a:pt x="129" y="222"/>
                  </a:cubicBezTo>
                  <a:cubicBezTo>
                    <a:pt x="132" y="213"/>
                    <a:pt x="131" y="204"/>
                    <a:pt x="132" y="193"/>
                  </a:cubicBezTo>
                  <a:cubicBezTo>
                    <a:pt x="169" y="204"/>
                    <a:pt x="180" y="240"/>
                    <a:pt x="204" y="267"/>
                  </a:cubicBezTo>
                  <a:cubicBezTo>
                    <a:pt x="209" y="256"/>
                    <a:pt x="213" y="248"/>
                    <a:pt x="217" y="239"/>
                  </a:cubicBezTo>
                  <a:cubicBezTo>
                    <a:pt x="205" y="230"/>
                    <a:pt x="194" y="222"/>
                    <a:pt x="183" y="213"/>
                  </a:cubicBezTo>
                  <a:cubicBezTo>
                    <a:pt x="184" y="212"/>
                    <a:pt x="185" y="210"/>
                    <a:pt x="186" y="208"/>
                  </a:cubicBezTo>
                  <a:cubicBezTo>
                    <a:pt x="196" y="209"/>
                    <a:pt x="205" y="211"/>
                    <a:pt x="215" y="212"/>
                  </a:cubicBezTo>
                  <a:cubicBezTo>
                    <a:pt x="226" y="189"/>
                    <a:pt x="213" y="156"/>
                    <a:pt x="248" y="150"/>
                  </a:cubicBezTo>
                  <a:cubicBezTo>
                    <a:pt x="244" y="141"/>
                    <a:pt x="242" y="135"/>
                    <a:pt x="239" y="128"/>
                  </a:cubicBezTo>
                  <a:cubicBezTo>
                    <a:pt x="255" y="130"/>
                    <a:pt x="270" y="131"/>
                    <a:pt x="291" y="132"/>
                  </a:cubicBezTo>
                  <a:cubicBezTo>
                    <a:pt x="273" y="145"/>
                    <a:pt x="268" y="160"/>
                    <a:pt x="267" y="177"/>
                  </a:cubicBezTo>
                  <a:cubicBezTo>
                    <a:pt x="265" y="178"/>
                    <a:pt x="262" y="179"/>
                    <a:pt x="260" y="180"/>
                  </a:cubicBezTo>
                  <a:cubicBezTo>
                    <a:pt x="257" y="183"/>
                    <a:pt x="255" y="187"/>
                    <a:pt x="252" y="191"/>
                  </a:cubicBezTo>
                  <a:cubicBezTo>
                    <a:pt x="254" y="192"/>
                    <a:pt x="257" y="195"/>
                    <a:pt x="258" y="194"/>
                  </a:cubicBezTo>
                  <a:cubicBezTo>
                    <a:pt x="261" y="191"/>
                    <a:pt x="264" y="188"/>
                    <a:pt x="266" y="184"/>
                  </a:cubicBezTo>
                  <a:cubicBezTo>
                    <a:pt x="267" y="182"/>
                    <a:pt x="266" y="179"/>
                    <a:pt x="266" y="176"/>
                  </a:cubicBezTo>
                  <a:close/>
                  <a:moveTo>
                    <a:pt x="397" y="168"/>
                  </a:moveTo>
                  <a:cubicBezTo>
                    <a:pt x="367" y="183"/>
                    <a:pt x="367" y="183"/>
                    <a:pt x="377" y="217"/>
                  </a:cubicBezTo>
                  <a:cubicBezTo>
                    <a:pt x="385" y="198"/>
                    <a:pt x="391" y="183"/>
                    <a:pt x="397" y="168"/>
                  </a:cubicBezTo>
                  <a:close/>
                  <a:moveTo>
                    <a:pt x="488" y="79"/>
                  </a:moveTo>
                  <a:cubicBezTo>
                    <a:pt x="483" y="76"/>
                    <a:pt x="479" y="73"/>
                    <a:pt x="478" y="73"/>
                  </a:cubicBezTo>
                  <a:cubicBezTo>
                    <a:pt x="474" y="76"/>
                    <a:pt x="471" y="80"/>
                    <a:pt x="468" y="84"/>
                  </a:cubicBezTo>
                  <a:cubicBezTo>
                    <a:pt x="471" y="86"/>
                    <a:pt x="474" y="90"/>
                    <a:pt x="476" y="89"/>
                  </a:cubicBezTo>
                  <a:cubicBezTo>
                    <a:pt x="480" y="87"/>
                    <a:pt x="483" y="84"/>
                    <a:pt x="488" y="79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8"/>
            <p:cNvSpPr/>
            <p:nvPr/>
          </p:nvSpPr>
          <p:spPr>
            <a:xfrm>
              <a:off x="2379960" y="1237320"/>
              <a:ext cx="877320" cy="1898640"/>
            </a:xfrm>
            <a:custGeom>
              <a:avLst/>
              <a:gdLst/>
              <a:ahLst/>
              <a:rect l="l" t="t" r="r" b="b"/>
              <a:pathLst>
                <a:path w="576" h="1247">
                  <a:moveTo>
                    <a:pt x="24" y="0"/>
                  </a:moveTo>
                  <a:cubicBezTo>
                    <a:pt x="34" y="43"/>
                    <a:pt x="45" y="85"/>
                    <a:pt x="53" y="128"/>
                  </a:cubicBezTo>
                  <a:cubicBezTo>
                    <a:pt x="57" y="151"/>
                    <a:pt x="57" y="176"/>
                    <a:pt x="57" y="199"/>
                  </a:cubicBezTo>
                  <a:cubicBezTo>
                    <a:pt x="58" y="235"/>
                    <a:pt x="74" y="260"/>
                    <a:pt x="108" y="273"/>
                  </a:cubicBezTo>
                  <a:cubicBezTo>
                    <a:pt x="122" y="278"/>
                    <a:pt x="136" y="284"/>
                    <a:pt x="149" y="289"/>
                  </a:cubicBezTo>
                  <a:cubicBezTo>
                    <a:pt x="316" y="359"/>
                    <a:pt x="401" y="488"/>
                    <a:pt x="418" y="664"/>
                  </a:cubicBezTo>
                  <a:cubicBezTo>
                    <a:pt x="424" y="718"/>
                    <a:pt x="411" y="772"/>
                    <a:pt x="392" y="824"/>
                  </a:cubicBezTo>
                  <a:cubicBezTo>
                    <a:pt x="382" y="852"/>
                    <a:pt x="374" y="881"/>
                    <a:pt x="390" y="909"/>
                  </a:cubicBezTo>
                  <a:cubicBezTo>
                    <a:pt x="398" y="921"/>
                    <a:pt x="406" y="934"/>
                    <a:pt x="417" y="943"/>
                  </a:cubicBezTo>
                  <a:cubicBezTo>
                    <a:pt x="479" y="996"/>
                    <a:pt x="521" y="1063"/>
                    <a:pt x="554" y="1137"/>
                  </a:cubicBezTo>
                  <a:cubicBezTo>
                    <a:pt x="569" y="1171"/>
                    <a:pt x="576" y="1206"/>
                    <a:pt x="567" y="1247"/>
                  </a:cubicBezTo>
                  <a:cubicBezTo>
                    <a:pt x="555" y="1231"/>
                    <a:pt x="546" y="1211"/>
                    <a:pt x="530" y="1199"/>
                  </a:cubicBezTo>
                  <a:cubicBezTo>
                    <a:pt x="515" y="1186"/>
                    <a:pt x="494" y="1180"/>
                    <a:pt x="473" y="1170"/>
                  </a:cubicBezTo>
                  <a:cubicBezTo>
                    <a:pt x="496" y="1141"/>
                    <a:pt x="505" y="1180"/>
                    <a:pt x="522" y="1177"/>
                  </a:cubicBezTo>
                  <a:cubicBezTo>
                    <a:pt x="520" y="1157"/>
                    <a:pt x="519" y="1136"/>
                    <a:pt x="516" y="1116"/>
                  </a:cubicBezTo>
                  <a:cubicBezTo>
                    <a:pt x="515" y="1109"/>
                    <a:pt x="511" y="1102"/>
                    <a:pt x="506" y="1096"/>
                  </a:cubicBezTo>
                  <a:cubicBezTo>
                    <a:pt x="497" y="1083"/>
                    <a:pt x="486" y="1072"/>
                    <a:pt x="477" y="1059"/>
                  </a:cubicBezTo>
                  <a:cubicBezTo>
                    <a:pt x="454" y="1025"/>
                    <a:pt x="432" y="991"/>
                    <a:pt x="408" y="957"/>
                  </a:cubicBezTo>
                  <a:cubicBezTo>
                    <a:pt x="403" y="949"/>
                    <a:pt x="393" y="943"/>
                    <a:pt x="385" y="938"/>
                  </a:cubicBezTo>
                  <a:cubicBezTo>
                    <a:pt x="361" y="922"/>
                    <a:pt x="357" y="910"/>
                    <a:pt x="365" y="881"/>
                  </a:cubicBezTo>
                  <a:cubicBezTo>
                    <a:pt x="368" y="869"/>
                    <a:pt x="367" y="857"/>
                    <a:pt x="370" y="846"/>
                  </a:cubicBezTo>
                  <a:cubicBezTo>
                    <a:pt x="377" y="816"/>
                    <a:pt x="385" y="787"/>
                    <a:pt x="392" y="758"/>
                  </a:cubicBezTo>
                  <a:cubicBezTo>
                    <a:pt x="396" y="742"/>
                    <a:pt x="403" y="726"/>
                    <a:pt x="385" y="712"/>
                  </a:cubicBezTo>
                  <a:cubicBezTo>
                    <a:pt x="379" y="707"/>
                    <a:pt x="381" y="692"/>
                    <a:pt x="379" y="679"/>
                  </a:cubicBezTo>
                  <a:cubicBezTo>
                    <a:pt x="386" y="683"/>
                    <a:pt x="390" y="685"/>
                    <a:pt x="398" y="688"/>
                  </a:cubicBezTo>
                  <a:cubicBezTo>
                    <a:pt x="401" y="645"/>
                    <a:pt x="371" y="614"/>
                    <a:pt x="361" y="573"/>
                  </a:cubicBezTo>
                  <a:cubicBezTo>
                    <a:pt x="352" y="582"/>
                    <a:pt x="345" y="589"/>
                    <a:pt x="336" y="597"/>
                  </a:cubicBezTo>
                  <a:cubicBezTo>
                    <a:pt x="334" y="575"/>
                    <a:pt x="333" y="555"/>
                    <a:pt x="332" y="532"/>
                  </a:cubicBezTo>
                  <a:cubicBezTo>
                    <a:pt x="321" y="535"/>
                    <a:pt x="313" y="537"/>
                    <a:pt x="304" y="540"/>
                  </a:cubicBezTo>
                  <a:cubicBezTo>
                    <a:pt x="294" y="528"/>
                    <a:pt x="284" y="514"/>
                    <a:pt x="271" y="497"/>
                  </a:cubicBezTo>
                  <a:cubicBezTo>
                    <a:pt x="282" y="497"/>
                    <a:pt x="289" y="497"/>
                    <a:pt x="300" y="497"/>
                  </a:cubicBezTo>
                  <a:cubicBezTo>
                    <a:pt x="289" y="476"/>
                    <a:pt x="279" y="456"/>
                    <a:pt x="270" y="436"/>
                  </a:cubicBezTo>
                  <a:cubicBezTo>
                    <a:pt x="261" y="416"/>
                    <a:pt x="254" y="395"/>
                    <a:pt x="245" y="371"/>
                  </a:cubicBezTo>
                  <a:cubicBezTo>
                    <a:pt x="233" y="378"/>
                    <a:pt x="225" y="382"/>
                    <a:pt x="216" y="388"/>
                  </a:cubicBezTo>
                  <a:cubicBezTo>
                    <a:pt x="215" y="384"/>
                    <a:pt x="214" y="380"/>
                    <a:pt x="214" y="377"/>
                  </a:cubicBezTo>
                  <a:cubicBezTo>
                    <a:pt x="212" y="371"/>
                    <a:pt x="212" y="362"/>
                    <a:pt x="208" y="358"/>
                  </a:cubicBezTo>
                  <a:cubicBezTo>
                    <a:pt x="173" y="323"/>
                    <a:pt x="130" y="299"/>
                    <a:pt x="86" y="280"/>
                  </a:cubicBezTo>
                  <a:cubicBezTo>
                    <a:pt x="65" y="271"/>
                    <a:pt x="51" y="257"/>
                    <a:pt x="52" y="240"/>
                  </a:cubicBezTo>
                  <a:cubicBezTo>
                    <a:pt x="52" y="214"/>
                    <a:pt x="36" y="189"/>
                    <a:pt x="49" y="162"/>
                  </a:cubicBezTo>
                  <a:cubicBezTo>
                    <a:pt x="54" y="151"/>
                    <a:pt x="29" y="125"/>
                    <a:pt x="15" y="122"/>
                  </a:cubicBezTo>
                  <a:cubicBezTo>
                    <a:pt x="10" y="121"/>
                    <a:pt x="6" y="120"/>
                    <a:pt x="0" y="113"/>
                  </a:cubicBezTo>
                  <a:cubicBezTo>
                    <a:pt x="9" y="110"/>
                    <a:pt x="18" y="107"/>
                    <a:pt x="24" y="104"/>
                  </a:cubicBezTo>
                  <a:cubicBezTo>
                    <a:pt x="24" y="68"/>
                    <a:pt x="24" y="34"/>
                    <a:pt x="25" y="0"/>
                  </a:cubicBezTo>
                  <a:cubicBezTo>
                    <a:pt x="25" y="0"/>
                    <a:pt x="24" y="0"/>
                    <a:pt x="24" y="0"/>
                  </a:cubicBezTo>
                  <a:close/>
                  <a:moveTo>
                    <a:pt x="303" y="446"/>
                  </a:moveTo>
                  <a:cubicBezTo>
                    <a:pt x="305" y="443"/>
                    <a:pt x="307" y="441"/>
                    <a:pt x="309" y="438"/>
                  </a:cubicBezTo>
                  <a:cubicBezTo>
                    <a:pt x="303" y="434"/>
                    <a:pt x="297" y="430"/>
                    <a:pt x="291" y="426"/>
                  </a:cubicBezTo>
                  <a:cubicBezTo>
                    <a:pt x="289" y="428"/>
                    <a:pt x="288" y="430"/>
                    <a:pt x="286" y="432"/>
                  </a:cubicBezTo>
                  <a:cubicBezTo>
                    <a:pt x="292" y="437"/>
                    <a:pt x="298" y="441"/>
                    <a:pt x="303" y="446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9"/>
            <p:cNvSpPr/>
            <p:nvPr/>
          </p:nvSpPr>
          <p:spPr>
            <a:xfrm>
              <a:off x="2226960" y="4873680"/>
              <a:ext cx="675720" cy="823320"/>
            </a:xfrm>
            <a:custGeom>
              <a:avLst/>
              <a:gdLst/>
              <a:ahLst/>
              <a:rect l="l" t="t" r="r" b="b"/>
              <a:pathLst>
                <a:path w="444" h="540">
                  <a:moveTo>
                    <a:pt x="336" y="218"/>
                  </a:moveTo>
                  <a:cubicBezTo>
                    <a:pt x="347" y="221"/>
                    <a:pt x="359" y="222"/>
                    <a:pt x="362" y="209"/>
                  </a:cubicBezTo>
                  <a:cubicBezTo>
                    <a:pt x="369" y="176"/>
                    <a:pt x="392" y="145"/>
                    <a:pt x="381" y="108"/>
                  </a:cubicBezTo>
                  <a:cubicBezTo>
                    <a:pt x="429" y="89"/>
                    <a:pt x="411" y="37"/>
                    <a:pt x="436" y="0"/>
                  </a:cubicBezTo>
                  <a:cubicBezTo>
                    <a:pt x="444" y="36"/>
                    <a:pt x="440" y="67"/>
                    <a:pt x="427" y="96"/>
                  </a:cubicBezTo>
                  <a:cubicBezTo>
                    <a:pt x="418" y="117"/>
                    <a:pt x="416" y="136"/>
                    <a:pt x="425" y="148"/>
                  </a:cubicBezTo>
                  <a:cubicBezTo>
                    <a:pt x="419" y="179"/>
                    <a:pt x="416" y="203"/>
                    <a:pt x="410" y="226"/>
                  </a:cubicBezTo>
                  <a:cubicBezTo>
                    <a:pt x="406" y="242"/>
                    <a:pt x="400" y="258"/>
                    <a:pt x="390" y="269"/>
                  </a:cubicBezTo>
                  <a:cubicBezTo>
                    <a:pt x="347" y="321"/>
                    <a:pt x="306" y="377"/>
                    <a:pt x="255" y="420"/>
                  </a:cubicBezTo>
                  <a:cubicBezTo>
                    <a:pt x="213" y="456"/>
                    <a:pt x="160" y="483"/>
                    <a:pt x="104" y="498"/>
                  </a:cubicBezTo>
                  <a:cubicBezTo>
                    <a:pt x="69" y="508"/>
                    <a:pt x="30" y="511"/>
                    <a:pt x="0" y="540"/>
                  </a:cubicBezTo>
                  <a:cubicBezTo>
                    <a:pt x="11" y="504"/>
                    <a:pt x="21" y="468"/>
                    <a:pt x="32" y="432"/>
                  </a:cubicBezTo>
                  <a:cubicBezTo>
                    <a:pt x="34" y="431"/>
                    <a:pt x="36" y="431"/>
                    <a:pt x="39" y="431"/>
                  </a:cubicBezTo>
                  <a:cubicBezTo>
                    <a:pt x="42" y="438"/>
                    <a:pt x="46" y="445"/>
                    <a:pt x="48" y="453"/>
                  </a:cubicBezTo>
                  <a:cubicBezTo>
                    <a:pt x="53" y="485"/>
                    <a:pt x="56" y="487"/>
                    <a:pt x="85" y="476"/>
                  </a:cubicBezTo>
                  <a:cubicBezTo>
                    <a:pt x="92" y="474"/>
                    <a:pt x="98" y="471"/>
                    <a:pt x="106" y="467"/>
                  </a:cubicBezTo>
                  <a:cubicBezTo>
                    <a:pt x="100" y="460"/>
                    <a:pt x="91" y="455"/>
                    <a:pt x="90" y="448"/>
                  </a:cubicBezTo>
                  <a:cubicBezTo>
                    <a:pt x="89" y="440"/>
                    <a:pt x="94" y="430"/>
                    <a:pt x="98" y="419"/>
                  </a:cubicBezTo>
                  <a:cubicBezTo>
                    <a:pt x="88" y="415"/>
                    <a:pt x="79" y="411"/>
                    <a:pt x="68" y="406"/>
                  </a:cubicBezTo>
                  <a:cubicBezTo>
                    <a:pt x="80" y="392"/>
                    <a:pt x="92" y="378"/>
                    <a:pt x="108" y="359"/>
                  </a:cubicBezTo>
                  <a:cubicBezTo>
                    <a:pt x="107" y="380"/>
                    <a:pt x="107" y="393"/>
                    <a:pt x="106" y="408"/>
                  </a:cubicBezTo>
                  <a:cubicBezTo>
                    <a:pt x="126" y="410"/>
                    <a:pt x="142" y="411"/>
                    <a:pt x="165" y="413"/>
                  </a:cubicBezTo>
                  <a:cubicBezTo>
                    <a:pt x="162" y="395"/>
                    <a:pt x="159" y="379"/>
                    <a:pt x="156" y="363"/>
                  </a:cubicBezTo>
                  <a:cubicBezTo>
                    <a:pt x="179" y="367"/>
                    <a:pt x="201" y="375"/>
                    <a:pt x="214" y="345"/>
                  </a:cubicBezTo>
                  <a:cubicBezTo>
                    <a:pt x="220" y="332"/>
                    <a:pt x="245" y="343"/>
                    <a:pt x="252" y="322"/>
                  </a:cubicBezTo>
                  <a:cubicBezTo>
                    <a:pt x="256" y="311"/>
                    <a:pt x="269" y="305"/>
                    <a:pt x="265" y="288"/>
                  </a:cubicBezTo>
                  <a:cubicBezTo>
                    <a:pt x="263" y="279"/>
                    <a:pt x="274" y="267"/>
                    <a:pt x="279" y="256"/>
                  </a:cubicBezTo>
                  <a:cubicBezTo>
                    <a:pt x="274" y="254"/>
                    <a:pt x="269" y="251"/>
                    <a:pt x="260" y="245"/>
                  </a:cubicBezTo>
                  <a:cubicBezTo>
                    <a:pt x="273" y="228"/>
                    <a:pt x="285" y="211"/>
                    <a:pt x="300" y="190"/>
                  </a:cubicBezTo>
                  <a:cubicBezTo>
                    <a:pt x="303" y="204"/>
                    <a:pt x="306" y="213"/>
                    <a:pt x="309" y="227"/>
                  </a:cubicBezTo>
                  <a:cubicBezTo>
                    <a:pt x="319" y="223"/>
                    <a:pt x="328" y="220"/>
                    <a:pt x="337" y="217"/>
                  </a:cubicBezTo>
                  <a:lnTo>
                    <a:pt x="336" y="218"/>
                  </a:lnTo>
                  <a:close/>
                  <a:moveTo>
                    <a:pt x="127" y="472"/>
                  </a:moveTo>
                  <a:cubicBezTo>
                    <a:pt x="129" y="474"/>
                    <a:pt x="130" y="475"/>
                    <a:pt x="132" y="477"/>
                  </a:cubicBezTo>
                  <a:cubicBezTo>
                    <a:pt x="136" y="474"/>
                    <a:pt x="141" y="471"/>
                    <a:pt x="145" y="467"/>
                  </a:cubicBezTo>
                  <a:cubicBezTo>
                    <a:pt x="143" y="465"/>
                    <a:pt x="141" y="463"/>
                    <a:pt x="138" y="460"/>
                  </a:cubicBezTo>
                  <a:cubicBezTo>
                    <a:pt x="135" y="464"/>
                    <a:pt x="131" y="468"/>
                    <a:pt x="127" y="4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0"/>
            <p:cNvSpPr/>
            <p:nvPr/>
          </p:nvSpPr>
          <p:spPr>
            <a:xfrm>
              <a:off x="2997720" y="3978720"/>
              <a:ext cx="263160" cy="548280"/>
            </a:xfrm>
            <a:custGeom>
              <a:avLst/>
              <a:gdLst/>
              <a:ahLst/>
              <a:rect l="l" t="t" r="r" b="b"/>
              <a:pathLst>
                <a:path w="173" h="360">
                  <a:moveTo>
                    <a:pt x="76" y="47"/>
                  </a:moveTo>
                  <a:cubicBezTo>
                    <a:pt x="77" y="36"/>
                    <a:pt x="79" y="24"/>
                    <a:pt x="80" y="11"/>
                  </a:cubicBezTo>
                  <a:cubicBezTo>
                    <a:pt x="90" y="11"/>
                    <a:pt x="99" y="13"/>
                    <a:pt x="107" y="11"/>
                  </a:cubicBezTo>
                  <a:cubicBezTo>
                    <a:pt x="114" y="10"/>
                    <a:pt x="121" y="5"/>
                    <a:pt x="133" y="0"/>
                  </a:cubicBezTo>
                  <a:cubicBezTo>
                    <a:pt x="144" y="42"/>
                    <a:pt x="173" y="76"/>
                    <a:pt x="165" y="121"/>
                  </a:cubicBezTo>
                  <a:cubicBezTo>
                    <a:pt x="162" y="142"/>
                    <a:pt x="159" y="161"/>
                    <a:pt x="135" y="172"/>
                  </a:cubicBezTo>
                  <a:cubicBezTo>
                    <a:pt x="123" y="177"/>
                    <a:pt x="116" y="197"/>
                    <a:pt x="107" y="210"/>
                  </a:cubicBezTo>
                  <a:cubicBezTo>
                    <a:pt x="96" y="209"/>
                    <a:pt x="84" y="208"/>
                    <a:pt x="72" y="206"/>
                  </a:cubicBezTo>
                  <a:cubicBezTo>
                    <a:pt x="80" y="234"/>
                    <a:pt x="91" y="259"/>
                    <a:pt x="93" y="285"/>
                  </a:cubicBezTo>
                  <a:cubicBezTo>
                    <a:pt x="94" y="304"/>
                    <a:pt x="86" y="325"/>
                    <a:pt x="78" y="344"/>
                  </a:cubicBezTo>
                  <a:cubicBezTo>
                    <a:pt x="75" y="352"/>
                    <a:pt x="60" y="354"/>
                    <a:pt x="49" y="360"/>
                  </a:cubicBezTo>
                  <a:cubicBezTo>
                    <a:pt x="44" y="341"/>
                    <a:pt x="41" y="327"/>
                    <a:pt x="39" y="314"/>
                  </a:cubicBezTo>
                  <a:cubicBezTo>
                    <a:pt x="38" y="308"/>
                    <a:pt x="38" y="300"/>
                    <a:pt x="41" y="295"/>
                  </a:cubicBezTo>
                  <a:cubicBezTo>
                    <a:pt x="54" y="265"/>
                    <a:pt x="55" y="261"/>
                    <a:pt x="46" y="231"/>
                  </a:cubicBezTo>
                  <a:cubicBezTo>
                    <a:pt x="44" y="226"/>
                    <a:pt x="47" y="220"/>
                    <a:pt x="46" y="215"/>
                  </a:cubicBezTo>
                  <a:cubicBezTo>
                    <a:pt x="45" y="212"/>
                    <a:pt x="41" y="209"/>
                    <a:pt x="37" y="204"/>
                  </a:cubicBezTo>
                  <a:cubicBezTo>
                    <a:pt x="25" y="218"/>
                    <a:pt x="34" y="250"/>
                    <a:pt x="1" y="245"/>
                  </a:cubicBezTo>
                  <a:cubicBezTo>
                    <a:pt x="1" y="228"/>
                    <a:pt x="0" y="212"/>
                    <a:pt x="1" y="195"/>
                  </a:cubicBezTo>
                  <a:cubicBezTo>
                    <a:pt x="2" y="180"/>
                    <a:pt x="8" y="169"/>
                    <a:pt x="27" y="174"/>
                  </a:cubicBezTo>
                  <a:cubicBezTo>
                    <a:pt x="31" y="175"/>
                    <a:pt x="36" y="173"/>
                    <a:pt x="43" y="172"/>
                  </a:cubicBezTo>
                  <a:cubicBezTo>
                    <a:pt x="41" y="156"/>
                    <a:pt x="40" y="142"/>
                    <a:pt x="39" y="125"/>
                  </a:cubicBezTo>
                  <a:cubicBezTo>
                    <a:pt x="28" y="120"/>
                    <a:pt x="4" y="126"/>
                    <a:pt x="5" y="97"/>
                  </a:cubicBezTo>
                  <a:cubicBezTo>
                    <a:pt x="22" y="95"/>
                    <a:pt x="38" y="93"/>
                    <a:pt x="55" y="90"/>
                  </a:cubicBezTo>
                  <a:cubicBezTo>
                    <a:pt x="71" y="81"/>
                    <a:pt x="49" y="51"/>
                    <a:pt x="77" y="46"/>
                  </a:cubicBezTo>
                  <a:cubicBezTo>
                    <a:pt x="88" y="61"/>
                    <a:pt x="80" y="87"/>
                    <a:pt x="108" y="93"/>
                  </a:cubicBezTo>
                  <a:cubicBezTo>
                    <a:pt x="118" y="95"/>
                    <a:pt x="120" y="115"/>
                    <a:pt x="104" y="126"/>
                  </a:cubicBezTo>
                  <a:cubicBezTo>
                    <a:pt x="95" y="124"/>
                    <a:pt x="84" y="118"/>
                    <a:pt x="75" y="120"/>
                  </a:cubicBezTo>
                  <a:cubicBezTo>
                    <a:pt x="68" y="121"/>
                    <a:pt x="59" y="131"/>
                    <a:pt x="59" y="138"/>
                  </a:cubicBezTo>
                  <a:cubicBezTo>
                    <a:pt x="57" y="147"/>
                    <a:pt x="65" y="151"/>
                    <a:pt x="75" y="145"/>
                  </a:cubicBezTo>
                  <a:cubicBezTo>
                    <a:pt x="77" y="144"/>
                    <a:pt x="83" y="149"/>
                    <a:pt x="86" y="152"/>
                  </a:cubicBezTo>
                  <a:cubicBezTo>
                    <a:pt x="98" y="164"/>
                    <a:pt x="111" y="160"/>
                    <a:pt x="123" y="153"/>
                  </a:cubicBezTo>
                  <a:cubicBezTo>
                    <a:pt x="135" y="146"/>
                    <a:pt x="141" y="134"/>
                    <a:pt x="137" y="119"/>
                  </a:cubicBezTo>
                  <a:cubicBezTo>
                    <a:pt x="131" y="103"/>
                    <a:pt x="124" y="87"/>
                    <a:pt x="119" y="71"/>
                  </a:cubicBezTo>
                  <a:cubicBezTo>
                    <a:pt x="109" y="40"/>
                    <a:pt x="109" y="40"/>
                    <a:pt x="76" y="47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"/>
            <p:cNvSpPr/>
            <p:nvPr/>
          </p:nvSpPr>
          <p:spPr>
            <a:xfrm>
              <a:off x="2112480" y="1182960"/>
              <a:ext cx="241920" cy="164520"/>
            </a:xfrm>
            <a:custGeom>
              <a:avLst/>
              <a:gdLst/>
              <a:ahLst/>
              <a:rect l="l" t="t" r="r" b="b"/>
              <a:pathLst>
                <a:path w="158" h="108">
                  <a:moveTo>
                    <a:pt x="107" y="97"/>
                  </a:moveTo>
                  <a:cubicBezTo>
                    <a:pt x="104" y="89"/>
                    <a:pt x="103" y="78"/>
                    <a:pt x="97" y="74"/>
                  </a:cubicBezTo>
                  <a:cubicBezTo>
                    <a:pt x="87" y="69"/>
                    <a:pt x="78" y="73"/>
                    <a:pt x="71" y="85"/>
                  </a:cubicBezTo>
                  <a:cubicBezTo>
                    <a:pt x="67" y="94"/>
                    <a:pt x="57" y="99"/>
                    <a:pt x="48" y="108"/>
                  </a:cubicBezTo>
                  <a:cubicBezTo>
                    <a:pt x="42" y="98"/>
                    <a:pt x="37" y="92"/>
                    <a:pt x="35" y="85"/>
                  </a:cubicBezTo>
                  <a:cubicBezTo>
                    <a:pt x="32" y="78"/>
                    <a:pt x="30" y="70"/>
                    <a:pt x="28" y="61"/>
                  </a:cubicBezTo>
                  <a:cubicBezTo>
                    <a:pt x="33" y="58"/>
                    <a:pt x="38" y="53"/>
                    <a:pt x="45" y="49"/>
                  </a:cubicBezTo>
                  <a:cubicBezTo>
                    <a:pt x="30" y="39"/>
                    <a:pt x="16" y="30"/>
                    <a:pt x="0" y="21"/>
                  </a:cubicBezTo>
                  <a:cubicBezTo>
                    <a:pt x="22" y="11"/>
                    <a:pt x="32" y="13"/>
                    <a:pt x="72" y="33"/>
                  </a:cubicBezTo>
                  <a:cubicBezTo>
                    <a:pt x="73" y="27"/>
                    <a:pt x="75" y="21"/>
                    <a:pt x="76" y="15"/>
                  </a:cubicBezTo>
                  <a:cubicBezTo>
                    <a:pt x="82" y="16"/>
                    <a:pt x="88" y="18"/>
                    <a:pt x="94" y="20"/>
                  </a:cubicBezTo>
                  <a:cubicBezTo>
                    <a:pt x="98" y="13"/>
                    <a:pt x="102" y="7"/>
                    <a:pt x="106" y="0"/>
                  </a:cubicBezTo>
                  <a:cubicBezTo>
                    <a:pt x="108" y="1"/>
                    <a:pt x="110" y="2"/>
                    <a:pt x="113" y="2"/>
                  </a:cubicBezTo>
                  <a:cubicBezTo>
                    <a:pt x="111" y="16"/>
                    <a:pt x="109" y="30"/>
                    <a:pt x="106" y="50"/>
                  </a:cubicBezTo>
                  <a:cubicBezTo>
                    <a:pt x="112" y="52"/>
                    <a:pt x="123" y="55"/>
                    <a:pt x="133" y="59"/>
                  </a:cubicBezTo>
                  <a:cubicBezTo>
                    <a:pt x="126" y="75"/>
                    <a:pt x="139" y="75"/>
                    <a:pt x="158" y="81"/>
                  </a:cubicBezTo>
                  <a:cubicBezTo>
                    <a:pt x="135" y="87"/>
                    <a:pt x="121" y="92"/>
                    <a:pt x="106" y="96"/>
                  </a:cubicBezTo>
                  <a:lnTo>
                    <a:pt x="107" y="97"/>
                  </a:ln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2"/>
            <p:cNvSpPr/>
            <p:nvPr/>
          </p:nvSpPr>
          <p:spPr>
            <a:xfrm>
              <a:off x="1380240" y="2293200"/>
              <a:ext cx="915840" cy="952920"/>
            </a:xfrm>
            <a:custGeom>
              <a:avLst/>
              <a:gdLst/>
              <a:ahLst/>
              <a:rect l="l" t="t" r="r" b="b"/>
              <a:pathLst>
                <a:path w="601" h="626">
                  <a:moveTo>
                    <a:pt x="420" y="16"/>
                  </a:moveTo>
                  <a:cubicBezTo>
                    <a:pt x="414" y="35"/>
                    <a:pt x="419" y="51"/>
                    <a:pt x="430" y="67"/>
                  </a:cubicBezTo>
                  <a:cubicBezTo>
                    <a:pt x="448" y="93"/>
                    <a:pt x="463" y="121"/>
                    <a:pt x="492" y="136"/>
                  </a:cubicBezTo>
                  <a:cubicBezTo>
                    <a:pt x="496" y="164"/>
                    <a:pt x="499" y="191"/>
                    <a:pt x="505" y="218"/>
                  </a:cubicBezTo>
                  <a:cubicBezTo>
                    <a:pt x="507" y="227"/>
                    <a:pt x="519" y="233"/>
                    <a:pt x="527" y="240"/>
                  </a:cubicBezTo>
                  <a:cubicBezTo>
                    <a:pt x="519" y="260"/>
                    <a:pt x="523" y="279"/>
                    <a:pt x="534" y="296"/>
                  </a:cubicBezTo>
                  <a:cubicBezTo>
                    <a:pt x="551" y="324"/>
                    <a:pt x="555" y="355"/>
                    <a:pt x="556" y="387"/>
                  </a:cubicBezTo>
                  <a:cubicBezTo>
                    <a:pt x="556" y="414"/>
                    <a:pt x="561" y="442"/>
                    <a:pt x="570" y="468"/>
                  </a:cubicBezTo>
                  <a:cubicBezTo>
                    <a:pt x="577" y="490"/>
                    <a:pt x="574" y="506"/>
                    <a:pt x="552" y="522"/>
                  </a:cubicBezTo>
                  <a:cubicBezTo>
                    <a:pt x="601" y="549"/>
                    <a:pt x="550" y="589"/>
                    <a:pt x="573" y="621"/>
                  </a:cubicBezTo>
                  <a:cubicBezTo>
                    <a:pt x="549" y="621"/>
                    <a:pt x="528" y="621"/>
                    <a:pt x="507" y="621"/>
                  </a:cubicBezTo>
                  <a:cubicBezTo>
                    <a:pt x="477" y="622"/>
                    <a:pt x="447" y="626"/>
                    <a:pt x="417" y="625"/>
                  </a:cubicBezTo>
                  <a:cubicBezTo>
                    <a:pt x="403" y="625"/>
                    <a:pt x="389" y="617"/>
                    <a:pt x="376" y="610"/>
                  </a:cubicBezTo>
                  <a:cubicBezTo>
                    <a:pt x="358" y="602"/>
                    <a:pt x="368" y="585"/>
                    <a:pt x="367" y="571"/>
                  </a:cubicBezTo>
                  <a:cubicBezTo>
                    <a:pt x="366" y="554"/>
                    <a:pt x="363" y="537"/>
                    <a:pt x="364" y="520"/>
                  </a:cubicBezTo>
                  <a:cubicBezTo>
                    <a:pt x="365" y="466"/>
                    <a:pt x="325" y="425"/>
                    <a:pt x="271" y="427"/>
                  </a:cubicBezTo>
                  <a:cubicBezTo>
                    <a:pt x="258" y="428"/>
                    <a:pt x="245" y="425"/>
                    <a:pt x="232" y="425"/>
                  </a:cubicBezTo>
                  <a:cubicBezTo>
                    <a:pt x="185" y="424"/>
                    <a:pt x="139" y="424"/>
                    <a:pt x="92" y="422"/>
                  </a:cubicBezTo>
                  <a:cubicBezTo>
                    <a:pt x="78" y="422"/>
                    <a:pt x="63" y="420"/>
                    <a:pt x="49" y="417"/>
                  </a:cubicBezTo>
                  <a:cubicBezTo>
                    <a:pt x="12" y="410"/>
                    <a:pt x="0" y="381"/>
                    <a:pt x="21" y="349"/>
                  </a:cubicBezTo>
                  <a:cubicBezTo>
                    <a:pt x="46" y="313"/>
                    <a:pt x="73" y="279"/>
                    <a:pt x="99" y="244"/>
                  </a:cubicBezTo>
                  <a:cubicBezTo>
                    <a:pt x="111" y="229"/>
                    <a:pt x="123" y="215"/>
                    <a:pt x="135" y="201"/>
                  </a:cubicBezTo>
                  <a:cubicBezTo>
                    <a:pt x="143" y="193"/>
                    <a:pt x="152" y="185"/>
                    <a:pt x="161" y="178"/>
                  </a:cubicBezTo>
                  <a:cubicBezTo>
                    <a:pt x="166" y="174"/>
                    <a:pt x="175" y="172"/>
                    <a:pt x="178" y="167"/>
                  </a:cubicBezTo>
                  <a:cubicBezTo>
                    <a:pt x="202" y="112"/>
                    <a:pt x="262" y="102"/>
                    <a:pt x="302" y="66"/>
                  </a:cubicBezTo>
                  <a:cubicBezTo>
                    <a:pt x="315" y="54"/>
                    <a:pt x="332" y="45"/>
                    <a:pt x="345" y="28"/>
                  </a:cubicBezTo>
                  <a:cubicBezTo>
                    <a:pt x="322" y="32"/>
                    <a:pt x="298" y="37"/>
                    <a:pt x="275" y="41"/>
                  </a:cubicBezTo>
                  <a:cubicBezTo>
                    <a:pt x="300" y="28"/>
                    <a:pt x="325" y="14"/>
                    <a:pt x="352" y="3"/>
                  </a:cubicBezTo>
                  <a:cubicBezTo>
                    <a:pt x="360" y="0"/>
                    <a:pt x="376" y="5"/>
                    <a:pt x="384" y="12"/>
                  </a:cubicBezTo>
                  <a:cubicBezTo>
                    <a:pt x="396" y="23"/>
                    <a:pt x="408" y="21"/>
                    <a:pt x="420" y="16"/>
                  </a:cubicBezTo>
                  <a:close/>
                  <a:moveTo>
                    <a:pt x="411" y="231"/>
                  </a:moveTo>
                  <a:cubicBezTo>
                    <a:pt x="401" y="223"/>
                    <a:pt x="389" y="216"/>
                    <a:pt x="382" y="206"/>
                  </a:cubicBezTo>
                  <a:cubicBezTo>
                    <a:pt x="371" y="191"/>
                    <a:pt x="364" y="174"/>
                    <a:pt x="354" y="158"/>
                  </a:cubicBezTo>
                  <a:cubicBezTo>
                    <a:pt x="339" y="132"/>
                    <a:pt x="324" y="129"/>
                    <a:pt x="299" y="146"/>
                  </a:cubicBezTo>
                  <a:cubicBezTo>
                    <a:pt x="288" y="153"/>
                    <a:pt x="278" y="162"/>
                    <a:pt x="267" y="169"/>
                  </a:cubicBezTo>
                  <a:cubicBezTo>
                    <a:pt x="247" y="182"/>
                    <a:pt x="247" y="182"/>
                    <a:pt x="220" y="164"/>
                  </a:cubicBezTo>
                  <a:cubicBezTo>
                    <a:pt x="208" y="191"/>
                    <a:pt x="196" y="216"/>
                    <a:pt x="183" y="244"/>
                  </a:cubicBezTo>
                  <a:cubicBezTo>
                    <a:pt x="145" y="220"/>
                    <a:pt x="130" y="254"/>
                    <a:pt x="107" y="272"/>
                  </a:cubicBezTo>
                  <a:cubicBezTo>
                    <a:pt x="120" y="276"/>
                    <a:pt x="131" y="280"/>
                    <a:pt x="142" y="284"/>
                  </a:cubicBezTo>
                  <a:cubicBezTo>
                    <a:pt x="139" y="340"/>
                    <a:pt x="154" y="354"/>
                    <a:pt x="206" y="349"/>
                  </a:cubicBezTo>
                  <a:cubicBezTo>
                    <a:pt x="216" y="348"/>
                    <a:pt x="227" y="349"/>
                    <a:pt x="238" y="349"/>
                  </a:cubicBezTo>
                  <a:cubicBezTo>
                    <a:pt x="276" y="350"/>
                    <a:pt x="314" y="353"/>
                    <a:pt x="352" y="353"/>
                  </a:cubicBezTo>
                  <a:cubicBezTo>
                    <a:pt x="374" y="353"/>
                    <a:pt x="379" y="365"/>
                    <a:pt x="379" y="384"/>
                  </a:cubicBezTo>
                  <a:cubicBezTo>
                    <a:pt x="353" y="412"/>
                    <a:pt x="353" y="413"/>
                    <a:pt x="397" y="439"/>
                  </a:cubicBezTo>
                  <a:cubicBezTo>
                    <a:pt x="409" y="413"/>
                    <a:pt x="385" y="401"/>
                    <a:pt x="378" y="383"/>
                  </a:cubicBezTo>
                  <a:cubicBezTo>
                    <a:pt x="410" y="378"/>
                    <a:pt x="426" y="396"/>
                    <a:pt x="435" y="425"/>
                  </a:cubicBezTo>
                  <a:cubicBezTo>
                    <a:pt x="439" y="437"/>
                    <a:pt x="447" y="448"/>
                    <a:pt x="453" y="459"/>
                  </a:cubicBezTo>
                  <a:cubicBezTo>
                    <a:pt x="456" y="458"/>
                    <a:pt x="458" y="457"/>
                    <a:pt x="461" y="456"/>
                  </a:cubicBezTo>
                  <a:cubicBezTo>
                    <a:pt x="459" y="441"/>
                    <a:pt x="459" y="425"/>
                    <a:pt x="455" y="410"/>
                  </a:cubicBezTo>
                  <a:cubicBezTo>
                    <a:pt x="441" y="350"/>
                    <a:pt x="425" y="290"/>
                    <a:pt x="410" y="230"/>
                  </a:cubicBezTo>
                  <a:cubicBezTo>
                    <a:pt x="416" y="231"/>
                    <a:pt x="422" y="233"/>
                    <a:pt x="428" y="234"/>
                  </a:cubicBezTo>
                  <a:cubicBezTo>
                    <a:pt x="428" y="231"/>
                    <a:pt x="427" y="227"/>
                    <a:pt x="426" y="224"/>
                  </a:cubicBezTo>
                  <a:cubicBezTo>
                    <a:pt x="421" y="226"/>
                    <a:pt x="416" y="229"/>
                    <a:pt x="411" y="231"/>
                  </a:cubicBezTo>
                  <a:close/>
                  <a:moveTo>
                    <a:pt x="211" y="372"/>
                  </a:moveTo>
                  <a:cubicBezTo>
                    <a:pt x="210" y="369"/>
                    <a:pt x="209" y="366"/>
                    <a:pt x="207" y="363"/>
                  </a:cubicBezTo>
                  <a:cubicBezTo>
                    <a:pt x="201" y="366"/>
                    <a:pt x="194" y="370"/>
                    <a:pt x="187" y="373"/>
                  </a:cubicBezTo>
                  <a:cubicBezTo>
                    <a:pt x="188" y="375"/>
                    <a:pt x="189" y="378"/>
                    <a:pt x="191" y="380"/>
                  </a:cubicBezTo>
                  <a:cubicBezTo>
                    <a:pt x="197" y="377"/>
                    <a:pt x="204" y="374"/>
                    <a:pt x="211" y="372"/>
                  </a:cubicBezTo>
                  <a:close/>
                </a:path>
              </a:pathLst>
            </a:cu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Text Box 253"/>
          <p:cNvSpPr/>
          <p:nvPr/>
        </p:nvSpPr>
        <p:spPr>
          <a:xfrm>
            <a:off x="9855360" y="6653160"/>
            <a:ext cx="19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www.</a:t>
            </a:r>
            <a:r>
              <a:rPr b="0" i="1" lang="zh-CN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１ｐｐｔ</a:t>
            </a:r>
            <a:r>
              <a:rPr b="0" i="1" lang="en-US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.</a:t>
            </a:r>
            <a:r>
              <a:rPr b="0" i="1" lang="zh-CN" sz="1800" spc="-1" strike="noStrike">
                <a:solidFill>
                  <a:srgbClr val="640000"/>
                </a:solidFill>
                <a:latin typeface="微软雅黑"/>
                <a:ea typeface="微软雅黑"/>
              </a:rPr>
              <a:t>ｃｏ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文本框 17662"/>
          <p:cNvSpPr/>
          <p:nvPr/>
        </p:nvSpPr>
        <p:spPr>
          <a:xfrm>
            <a:off x="3532320" y="1050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1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05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08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