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520-FDF9-4F3C-9A03-62F025E0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69B9-5CE7-4229-B27D-6D8E0674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CD2-C429-49D2-9F80-13BC6ACD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B1A-48E0-4619-A1AC-EC70FFD2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286-40DB-4D37-8AFF-80ADD438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FE0-6D4F-48F9-9069-72038841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90B3-BB60-43E0-9EF7-7C8BBDC7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B46F-BF8C-4D9D-8FAC-64428BD9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FC59-FBAA-4533-ABAF-180E8A9F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4B8-73DF-4ED6-8C66-36F4706D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9069-E89F-400E-9476-FD9C61C9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AECB-A4E3-4F4B-83D3-E820C9B5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67AB-29A7-4B01-AB7F-907BF089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FFC6-77E1-4256-81C4-BE9E3D4C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D3B8-57E2-4C26-8C40-44E74962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3BD8-FEF1-41A0-847A-872ECA97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079F-300C-42D8-9BB9-E279AA90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6970-41E3-46A9-9082-3A0C924F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7BFD-24EE-48C3-A6FC-5FF5647A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8F4-2D12-465C-88C7-66D3789F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645-BEB3-4FE8-A400-1BBF8DAB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1C3-7825-4821-818D-8335F84A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0D5-0BF1-4BB3-96D9-58C12F4C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2E0-E262-4DFB-97D6-113A58DA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FD25-24B5-49AB-A1D5-B8EE6435ED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3EBA-1E72-41E8-8756-CDA2E97474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3A41-2B75-4A89-94BC-6F601DAFED7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9492-3E17-4496-886E-4760BC10E6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FF14-6153-49E5-B243-116526B224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10"/>
          <p:cNvPicPr/>
          <p:nvPr/>
        </p:nvPicPr>
        <p:blipFill>
          <a:blip r:embed="rId1"/>
          <a:stretch/>
        </p:blipFill>
        <p:spPr>
          <a:xfrm>
            <a:off x="0" y="0"/>
            <a:ext cx="9612360" cy="571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9"/>
          <p:cNvPicPr/>
          <p:nvPr/>
        </p:nvPicPr>
        <p:blipFill>
          <a:blip r:embed="rId2"/>
          <a:stretch/>
        </p:blipFill>
        <p:spPr>
          <a:xfrm>
            <a:off x="2411280" y="554040"/>
            <a:ext cx="4392720" cy="356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未标题-4 拷贝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3059280" y="696960"/>
            <a:ext cx="3168360" cy="345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未标题-1拷贝"/>
          <p:cNvPicPr/>
          <p:nvPr/>
        </p:nvPicPr>
        <p:blipFill>
          <a:blip r:embed="rId4"/>
          <a:stretch/>
        </p:blipFill>
        <p:spPr>
          <a:xfrm>
            <a:off x="7885080" y="2857680"/>
            <a:ext cx="1065240" cy="1850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未标题-2 拷贝"/>
          <p:cNvPicPr/>
          <p:nvPr/>
        </p:nvPicPr>
        <p:blipFill>
          <a:blip r:embed="rId5"/>
          <a:stretch/>
        </p:blipFill>
        <p:spPr>
          <a:xfrm>
            <a:off x="7380360" y="3649680"/>
            <a:ext cx="431640" cy="72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未标题-3拷贝"/>
          <p:cNvPicPr/>
          <p:nvPr/>
        </p:nvPicPr>
        <p:blipFill>
          <a:blip r:embed="rId6"/>
          <a:stretch/>
        </p:blipFill>
        <p:spPr>
          <a:xfrm>
            <a:off x="7451640" y="4802040"/>
            <a:ext cx="216000" cy="481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11"/>
          <p:cNvPicPr/>
          <p:nvPr/>
        </p:nvPicPr>
        <p:blipFill>
          <a:blip r:embed="rId7"/>
          <a:stretch/>
        </p:blipFill>
        <p:spPr>
          <a:xfrm>
            <a:off x="5003640" y="-382680"/>
            <a:ext cx="4429440" cy="223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诗"/>
          <p:cNvPicPr/>
          <p:nvPr/>
        </p:nvPicPr>
        <p:blipFill>
          <a:blip r:embed="rId8"/>
          <a:stretch/>
        </p:blipFill>
        <p:spPr>
          <a:xfrm>
            <a:off x="4500720" y="3218040"/>
            <a:ext cx="2663640" cy="2496960"/>
          </a:xfrm>
          <a:prstGeom prst="rect">
            <a:avLst/>
          </a:prstGeom>
          <a:ln w="0">
            <a:noFill/>
          </a:ln>
        </p:spPr>
      </p:pic>
      <p:pic>
        <p:nvPicPr>
          <p:cNvPr id="171" name="smxcyzy.wma" descr=""/>
          <p:cNvPicPr/>
          <p:nvPr/>
        </p:nvPicPr>
        <p:blipFill>
          <a:blip r:embed="rId9"/>
          <a:stretch/>
        </p:blipFill>
        <p:spPr>
          <a:xfrm>
            <a:off x="4419720" y="2705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5130"/>
          <p:cNvSpPr/>
          <p:nvPr/>
        </p:nvSpPr>
        <p:spPr>
          <a:xfrm>
            <a:off x="36360" y="51624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131"/>
          <p:cNvSpPr/>
          <p:nvPr/>
        </p:nvSpPr>
        <p:spPr>
          <a:xfrm>
            <a:off x="2311200" y="2649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中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1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1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1"/>
                            </p:stCondLst>
                            <p:childTnLst>
                              <p:par>
                                <p:cTn id="20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001"/>
                            </p:stCondLst>
                            <p:childTnLst>
                              <p:par>
                                <p:cTn id="3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001"/>
                            </p:stCondLst>
                            <p:childTnLst>
                              <p:par>
                                <p:cTn id="34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02:01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11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