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jpeg" ContentType="image/jpeg"/>
  <Override PartName="/ppt/media/image10.jpeg" ContentType="image/jpeg"/>
  <Override PartName="/ppt/media/image1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B4D9-420C-4A04-B127-0BAEFA64E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7E9A-3BB1-4345-A763-7C4166A90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5D05-F5F4-428E-9404-693D0A66A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6D57-1869-4EC7-B1C9-44C9AE8BB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DEA78-1808-4A95-AF36-A4236113B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C276A-C417-403C-9B78-93C32A081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0991B-87A5-4400-BF04-EB9DFA201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D56D1-0C8B-4E61-A0B0-6AF5015A1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FE191-E7D2-441B-A756-6CA9742FD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C9CC4-6DBB-4D3B-8D4A-078596A2B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C59F3-FBF7-4507-B06C-E9E50C83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C308-B94A-40C6-9D1E-B8204136A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F0EE4-211D-4BD0-BEE0-B2C85AA2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5E77A-7963-4F5B-A53F-37CF06E7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E9B64-51BD-46F1-82F8-7410CD068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EA7FB-C768-4808-BA88-7819382FD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78970-0B5D-4057-BDEB-E97672EE8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9CECE-87FC-4F3A-A0BD-B9A6DB4B5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3928C-BF1C-4FAF-BC2B-6D9B7C29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3D8C6-61DE-48AB-A5E7-3B83A235B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79465-35E6-4792-AA6D-95DE1F11F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7E9AF-B528-401E-BE77-3AC5350F4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5B67-7D95-41A2-836F-3FE82640F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D453B-CD91-474C-A9F6-679BE4587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791BC-3D3B-49BB-AAFF-C46087D2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C9376-5A3B-4C5D-8ED0-BC868520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8145E-EAAF-46FC-A9CA-3C78AE25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71770-CD9E-4CDF-B726-C0480D8F5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99833-9079-4E45-A9E4-3AD961D31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B38F5-6ACD-4BA8-8CB1-B0A1270B2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C5B6-2AB3-4830-803C-342536FD8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718F-4CB0-4183-B6BC-5443213A5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03A5-73E1-4B26-AD53-48559BD3F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B0E4-594E-409E-ADB9-4BE08B65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5863-5A59-40FF-9F1C-06E32B26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CE36-05A2-4D98-94D8-2E859E3E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lvl="1" marL="457200" indent="457200">
              <a:spcBef>
                <a:spcPts val="601"/>
              </a:spcBef>
              <a:buClr>
                <a:srgbClr val="80808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lvl="2" marL="91440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lvl="3" marL="1371600" indent="-457200">
              <a:spcBef>
                <a:spcPts val="601"/>
              </a:spcBef>
              <a:buClr>
                <a:srgbClr val="80808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lvl="4" marL="1828800" indent="-91440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3F7A4-2244-49B9-AA91-19034F6B846D}" type="slidenum">
              <a:rPr b="1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B2E23-98F3-42C8-AD83-EC8C38636E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lvl="1" marL="457200" indent="457200">
              <a:spcBef>
                <a:spcPts val="601"/>
              </a:spcBef>
              <a:buClr>
                <a:srgbClr val="80808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lvl="2" marL="91440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lvl="3" marL="1371600" indent="-457200">
              <a:spcBef>
                <a:spcPts val="601"/>
              </a:spcBef>
              <a:buClr>
                <a:srgbClr val="80808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lvl="4" marL="1828800" indent="-91440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C82AE-E2E3-413C-8BA8-5322613B1532}" type="slidenum">
              <a:rPr b="1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3"/>
          <p:cNvSpPr/>
          <p:nvPr/>
        </p:nvSpPr>
        <p:spPr>
          <a:xfrm>
            <a:off x="1449360" y="3581280"/>
            <a:ext cx="18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4" descr="澳大利亚在世界的位置"/>
          <p:cNvPicPr/>
          <p:nvPr/>
        </p:nvPicPr>
        <p:blipFill>
          <a:blip r:embed="rId1"/>
          <a:stretch/>
        </p:blipFill>
        <p:spPr>
          <a:xfrm>
            <a:off x="1614600" y="2792520"/>
            <a:ext cx="5688000" cy="338616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2"/>
          <p:cNvSpPr/>
          <p:nvPr/>
        </p:nvSpPr>
        <p:spPr>
          <a:xfrm>
            <a:off x="684360" y="404640"/>
            <a:ext cx="766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第八章  东半球其他的国家和地区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第四节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澳大利亚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课件免费下载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4"/>
          <p:cNvSpPr/>
          <p:nvPr/>
        </p:nvSpPr>
        <p:spPr>
          <a:xfrm>
            <a:off x="1782000" y="157320"/>
            <a:ext cx="429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二、“骑在羊背上”的国家：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6" descr="农牧业的分布"/>
          <p:cNvPicPr/>
          <p:nvPr/>
        </p:nvPicPr>
        <p:blipFill>
          <a:blip r:embed="rId1"/>
          <a:stretch/>
        </p:blipFill>
        <p:spPr>
          <a:xfrm>
            <a:off x="1619280" y="885960"/>
            <a:ext cx="5402160" cy="506412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7"/>
          <p:cNvSpPr/>
          <p:nvPr/>
        </p:nvSpPr>
        <p:spPr>
          <a:xfrm>
            <a:off x="826920" y="5845320"/>
            <a:ext cx="727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自主复习：预习题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5—7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题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澳大利亚地形图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-34920" y="44280"/>
            <a:ext cx="9144000" cy="710568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3"/>
          <p:cNvSpPr/>
          <p:nvPr/>
        </p:nvSpPr>
        <p:spPr>
          <a:xfrm>
            <a:off x="2120760" y="2060640"/>
            <a:ext cx="1514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西部高原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5"/>
          <p:cNvSpPr/>
          <p:nvPr/>
        </p:nvSpPr>
        <p:spPr>
          <a:xfrm rot="1516800">
            <a:off x="7327440" y="2965320"/>
            <a:ext cx="115524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大 分 水 岭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4643280" y="3141720"/>
            <a:ext cx="345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大自流盆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/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澳大利亚大盆地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5505480" y="1844640"/>
            <a:ext cx="1514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中部平原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2"/>
          <p:cNvSpPr/>
          <p:nvPr/>
        </p:nvSpPr>
        <p:spPr>
          <a:xfrm>
            <a:off x="7234200" y="1709640"/>
            <a:ext cx="1514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东部山地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7" descr="qihouleixing"/>
          <p:cNvPicPr/>
          <p:nvPr/>
        </p:nvPicPr>
        <p:blipFill>
          <a:blip r:embed="rId1"/>
          <a:stretch/>
        </p:blipFill>
        <p:spPr>
          <a:xfrm>
            <a:off x="611280" y="765000"/>
            <a:ext cx="7991280" cy="587088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8"/>
          <p:cNvSpPr/>
          <p:nvPr/>
        </p:nvSpPr>
        <p:spPr>
          <a:xfrm>
            <a:off x="4718520" y="200664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农牧业的分布"/>
          <p:cNvPicPr/>
          <p:nvPr/>
        </p:nvPicPr>
        <p:blipFill>
          <a:blip r:embed="rId1"/>
          <a:stretch/>
        </p:blipFill>
        <p:spPr>
          <a:xfrm>
            <a:off x="0" y="3990960"/>
            <a:ext cx="3059280" cy="28670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地形图"/>
          <p:cNvPicPr/>
          <p:nvPr/>
        </p:nvPicPr>
        <p:blipFill>
          <a:blip r:embed="rId2"/>
          <a:stretch/>
        </p:blipFill>
        <p:spPr>
          <a:xfrm>
            <a:off x="3060720" y="4014720"/>
            <a:ext cx="3024000" cy="28432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2" descr="气候图"/>
          <p:cNvPicPr/>
          <p:nvPr/>
        </p:nvPicPr>
        <p:blipFill>
          <a:blip r:embed="rId3"/>
          <a:stretch/>
        </p:blipFill>
        <p:spPr>
          <a:xfrm>
            <a:off x="5977080" y="3933720"/>
            <a:ext cx="3203280" cy="28908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16"/>
          <p:cNvSpPr/>
          <p:nvPr/>
        </p:nvSpPr>
        <p:spPr>
          <a:xfrm>
            <a:off x="108000" y="-27000"/>
            <a:ext cx="88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澳大利亚农牧业分布与地形、气候的关系。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9"/>
          <p:cNvSpPr/>
          <p:nvPr/>
        </p:nvSpPr>
        <p:spPr>
          <a:xfrm>
            <a:off x="179280" y="1268280"/>
            <a:ext cx="878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粗放牧带分布在西部、中部、北部地区。这里地形以低矮高原和平原为主，牧草优良；气候以热带草原气候为主，可一年四季露天放牧。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71280" y="1378080"/>
            <a:ext cx="896472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混合经营地带分布在东南和西南部沿海地区。这里多平原，温带气候为主，降水丰富，既适合发展种植业，又适合发展畜牧业。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9"/>
          <p:cNvSpPr/>
          <p:nvPr/>
        </p:nvSpPr>
        <p:spPr>
          <a:xfrm>
            <a:off x="343080" y="189000"/>
            <a:ext cx="856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澳大利亚农牧业分布与地形、气候的关系。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250920" y="2089080"/>
            <a:ext cx="158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分布地形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499680" y="42624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气候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6"/>
          <p:cNvSpPr/>
          <p:nvPr/>
        </p:nvSpPr>
        <p:spPr>
          <a:xfrm>
            <a:off x="1547640" y="2462040"/>
            <a:ext cx="360360" cy="936720"/>
          </a:xfrm>
          <a:custGeom>
            <a:avLst/>
            <a:gdLst>
              <a:gd name="textAreaLeft" fmla="*/ 230400 w 360360"/>
              <a:gd name="textAreaRight" fmla="*/ 360720 w 36036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2472480" y="388476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热带草原区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2464560" y="482112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温带气候区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1763640" y="1927080"/>
            <a:ext cx="597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西部高原、中部平原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Group 24"/>
          <p:cNvGrpSpPr/>
          <p:nvPr/>
        </p:nvGrpSpPr>
        <p:grpSpPr>
          <a:xfrm>
            <a:off x="6877080" y="2967120"/>
            <a:ext cx="1770120" cy="825120"/>
            <a:chOff x="6877080" y="2967120"/>
            <a:chExt cx="1770120" cy="825120"/>
          </a:xfrm>
        </p:grpSpPr>
        <p:grpSp>
          <p:nvGrpSpPr>
            <p:cNvPr id="202" name=""/>
            <p:cNvGrpSpPr/>
            <p:nvPr/>
          </p:nvGrpSpPr>
          <p:grpSpPr>
            <a:xfrm>
              <a:off x="6877080" y="3346200"/>
              <a:ext cx="685440" cy="360"/>
              <a:chOff x="6877080" y="3346200"/>
              <a:chExt cx="685440" cy="360"/>
            </a:xfrm>
          </p:grpSpPr>
          <p:sp>
            <p:nvSpPr>
              <p:cNvPr id="203" name="Line 25"/>
              <p:cNvSpPr/>
              <p:nvPr/>
            </p:nvSpPr>
            <p:spPr>
              <a:xfrm>
                <a:off x="6877080" y="3346200"/>
                <a:ext cx="6854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 txBox="1"/>
              <p:nvPr/>
            </p:nvSpPr>
            <p:spPr>
              <a:xfrm>
                <a:off x="6877080" y="3346200"/>
                <a:ext cx="685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" name="Rectangle 26"/>
            <p:cNvSpPr/>
            <p:nvPr/>
          </p:nvSpPr>
          <p:spPr>
            <a:xfrm>
              <a:off x="7734960" y="2967120"/>
              <a:ext cx="912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3300"/>
                  </a:solidFill>
                  <a:latin typeface="Times New Roman"/>
                </a:rPr>
                <a:t>混合</a:t>
              </a: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Text Box 27"/>
          <p:cNvSpPr/>
          <p:nvPr/>
        </p:nvSpPr>
        <p:spPr>
          <a:xfrm>
            <a:off x="1763640" y="2894040"/>
            <a:ext cx="63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东南、西南沿海平原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utoShape 30"/>
          <p:cNvSpPr/>
          <p:nvPr/>
        </p:nvSpPr>
        <p:spPr>
          <a:xfrm>
            <a:off x="1619280" y="4262400"/>
            <a:ext cx="360360" cy="936720"/>
          </a:xfrm>
          <a:custGeom>
            <a:avLst/>
            <a:gdLst>
              <a:gd name="textAreaLeft" fmla="*/ 230400 w 360360"/>
              <a:gd name="textAreaRight" fmla="*/ 360720 w 36036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Group 31"/>
          <p:cNvGrpSpPr/>
          <p:nvPr/>
        </p:nvGrpSpPr>
        <p:grpSpPr>
          <a:xfrm>
            <a:off x="4857840" y="4910040"/>
            <a:ext cx="1770120" cy="825120"/>
            <a:chOff x="4857840" y="4910040"/>
            <a:chExt cx="1770120" cy="825120"/>
          </a:xfrm>
        </p:grpSpPr>
        <p:grpSp>
          <p:nvGrpSpPr>
            <p:cNvPr id="209" name=""/>
            <p:cNvGrpSpPr/>
            <p:nvPr/>
          </p:nvGrpSpPr>
          <p:grpSpPr>
            <a:xfrm>
              <a:off x="4857840" y="5289480"/>
              <a:ext cx="685440" cy="360"/>
              <a:chOff x="4857840" y="5289480"/>
              <a:chExt cx="685440" cy="360"/>
            </a:xfrm>
          </p:grpSpPr>
          <p:sp>
            <p:nvSpPr>
              <p:cNvPr id="210" name="Line 32"/>
              <p:cNvSpPr/>
              <p:nvPr/>
            </p:nvSpPr>
            <p:spPr>
              <a:xfrm>
                <a:off x="4857840" y="5289480"/>
                <a:ext cx="6854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 txBox="1"/>
              <p:nvPr/>
            </p:nvSpPr>
            <p:spPr>
              <a:xfrm>
                <a:off x="4857840" y="5289480"/>
                <a:ext cx="685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2" name="Rectangle 33"/>
            <p:cNvSpPr/>
            <p:nvPr/>
          </p:nvSpPr>
          <p:spPr>
            <a:xfrm>
              <a:off x="5715720" y="4910040"/>
              <a:ext cx="912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3300"/>
                  </a:solidFill>
                  <a:latin typeface="Times New Roman"/>
                </a:rPr>
                <a:t>混合</a:t>
              </a: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Group 34"/>
          <p:cNvGrpSpPr/>
          <p:nvPr/>
        </p:nvGrpSpPr>
        <p:grpSpPr>
          <a:xfrm>
            <a:off x="6877080" y="1959120"/>
            <a:ext cx="1770120" cy="825120"/>
            <a:chOff x="6877080" y="1959120"/>
            <a:chExt cx="1770120" cy="825120"/>
          </a:xfrm>
        </p:grpSpPr>
        <p:grpSp>
          <p:nvGrpSpPr>
            <p:cNvPr id="214" name=""/>
            <p:cNvGrpSpPr/>
            <p:nvPr/>
          </p:nvGrpSpPr>
          <p:grpSpPr>
            <a:xfrm>
              <a:off x="6877080" y="2338200"/>
              <a:ext cx="685440" cy="360"/>
              <a:chOff x="6877080" y="2338200"/>
              <a:chExt cx="685440" cy="360"/>
            </a:xfrm>
          </p:grpSpPr>
          <p:sp>
            <p:nvSpPr>
              <p:cNvPr id="215" name="Line 35"/>
              <p:cNvSpPr/>
              <p:nvPr/>
            </p:nvSpPr>
            <p:spPr>
              <a:xfrm>
                <a:off x="6877080" y="2338200"/>
                <a:ext cx="6854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 txBox="1"/>
              <p:nvPr/>
            </p:nvSpPr>
            <p:spPr>
              <a:xfrm>
                <a:off x="6877080" y="2338200"/>
                <a:ext cx="685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Rectangle 36"/>
            <p:cNvSpPr/>
            <p:nvPr/>
          </p:nvSpPr>
          <p:spPr>
            <a:xfrm>
              <a:off x="7734960" y="1959120"/>
              <a:ext cx="912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3300"/>
                  </a:solidFill>
                  <a:latin typeface="Times New Roman"/>
                </a:rPr>
                <a:t>粗放</a:t>
              </a: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Group 37"/>
          <p:cNvGrpSpPr/>
          <p:nvPr/>
        </p:nvGrpSpPr>
        <p:grpSpPr>
          <a:xfrm>
            <a:off x="4859280" y="3902040"/>
            <a:ext cx="1770120" cy="825120"/>
            <a:chOff x="4859280" y="3902040"/>
            <a:chExt cx="1770120" cy="825120"/>
          </a:xfrm>
        </p:grpSpPr>
        <p:grpSp>
          <p:nvGrpSpPr>
            <p:cNvPr id="219" name=""/>
            <p:cNvGrpSpPr/>
            <p:nvPr/>
          </p:nvGrpSpPr>
          <p:grpSpPr>
            <a:xfrm>
              <a:off x="4859280" y="4281480"/>
              <a:ext cx="685440" cy="360"/>
              <a:chOff x="4859280" y="4281480"/>
              <a:chExt cx="685440" cy="360"/>
            </a:xfrm>
          </p:grpSpPr>
          <p:sp>
            <p:nvSpPr>
              <p:cNvPr id="220" name="Line 38"/>
              <p:cNvSpPr/>
              <p:nvPr/>
            </p:nvSpPr>
            <p:spPr>
              <a:xfrm>
                <a:off x="4859280" y="4281480"/>
                <a:ext cx="6854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 txBox="1"/>
              <p:nvPr/>
            </p:nvSpPr>
            <p:spPr>
              <a:xfrm>
                <a:off x="4859280" y="4281480"/>
                <a:ext cx="685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" name="Rectangle 39"/>
            <p:cNvSpPr/>
            <p:nvPr/>
          </p:nvSpPr>
          <p:spPr>
            <a:xfrm>
              <a:off x="5717160" y="3902040"/>
              <a:ext cx="912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3300"/>
                  </a:solidFill>
                  <a:latin typeface="Times New Roman"/>
                </a:rPr>
                <a:t>粗放</a:t>
              </a: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Text Box 40"/>
          <p:cNvSpPr/>
          <p:nvPr/>
        </p:nvSpPr>
        <p:spPr>
          <a:xfrm>
            <a:off x="5919840" y="5989680"/>
            <a:ext cx="311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8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.37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4"/>
          <p:cNvSpPr/>
          <p:nvPr/>
        </p:nvSpPr>
        <p:spPr>
          <a:xfrm>
            <a:off x="179280" y="144360"/>
            <a:ext cx="878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预习题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澳大利亚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70%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以上的羊只，集中在东南部和西南部沿海的混合经营地带，其他广大地区放养的羊只相对较少。试从地形和气候条件说明原因。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303120" y="4122720"/>
            <a:ext cx="8589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东南与西南沿海地区地形平坦；气候温和，降水较多。所以羊只数量较多。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文本框 8194"/>
          <p:cNvSpPr/>
          <p:nvPr/>
        </p:nvSpPr>
        <p:spPr>
          <a:xfrm>
            <a:off x="790560" y="37879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 u="sng">
                <a:solidFill>
                  <a:srgbClr val="3399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324000" y="1909800"/>
            <a:ext cx="82803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澳大利亚的农牧业带中，人口和城市集中分布的是：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粗放牧羊带              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粗放牧牛带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绵羊与小麦混合经营带    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羊、牛与经济作物混合经营带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5364000" y="270828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250920" y="115920"/>
            <a:ext cx="85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三、“坐在矿车上”的国家：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自主复习：预习题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0—12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题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1026"/>
          <p:cNvSpPr/>
          <p:nvPr/>
        </p:nvSpPr>
        <p:spPr>
          <a:xfrm>
            <a:off x="2908440" y="115920"/>
            <a:ext cx="1800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世界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活化石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博物馆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1028"/>
          <p:cNvSpPr/>
          <p:nvPr/>
        </p:nvSpPr>
        <p:spPr>
          <a:xfrm>
            <a:off x="971640" y="476280"/>
            <a:ext cx="187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特有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生物多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029"/>
          <p:cNvSpPr/>
          <p:nvPr/>
        </p:nvSpPr>
        <p:spPr>
          <a:xfrm>
            <a:off x="2987640" y="2084400"/>
            <a:ext cx="1871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骑在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羊背上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国家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1032"/>
          <p:cNvSpPr/>
          <p:nvPr/>
        </p:nvSpPr>
        <p:spPr>
          <a:xfrm>
            <a:off x="2195640" y="4133880"/>
            <a:ext cx="331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坐在矿车上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国家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1031"/>
          <p:cNvSpPr/>
          <p:nvPr/>
        </p:nvSpPr>
        <p:spPr>
          <a:xfrm>
            <a:off x="971640" y="2347920"/>
            <a:ext cx="187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绵羊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数最多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1034"/>
          <p:cNvSpPr/>
          <p:nvPr/>
        </p:nvSpPr>
        <p:spPr>
          <a:xfrm>
            <a:off x="1116000" y="4191120"/>
            <a:ext cx="129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矿产丰富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044"/>
          <p:cNvSpPr/>
          <p:nvPr/>
        </p:nvSpPr>
        <p:spPr>
          <a:xfrm>
            <a:off x="4859280" y="2276640"/>
            <a:ext cx="21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农牧业发达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046"/>
          <p:cNvSpPr/>
          <p:nvPr/>
        </p:nvSpPr>
        <p:spPr>
          <a:xfrm>
            <a:off x="5508720" y="413388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工矿业发达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055"/>
          <p:cNvSpPr/>
          <p:nvPr/>
        </p:nvSpPr>
        <p:spPr>
          <a:xfrm>
            <a:off x="5366880" y="6508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位置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6803640" y="2708280"/>
            <a:ext cx="576360" cy="287280"/>
            <a:chOff x="6803640" y="2708280"/>
            <a:chExt cx="576360" cy="287280"/>
          </a:xfrm>
        </p:grpSpPr>
        <p:sp>
          <p:nvSpPr>
            <p:cNvPr id="240" name="Line 1058"/>
            <p:cNvSpPr/>
            <p:nvPr/>
          </p:nvSpPr>
          <p:spPr>
            <a:xfrm flipH="1" flipV="1">
              <a:off x="6803640" y="2708280"/>
              <a:ext cx="576360" cy="287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 txBox="1"/>
            <p:nvPr/>
          </p:nvSpPr>
          <p:spPr>
            <a:xfrm rot="10800000">
              <a:off x="6803640" y="2708280"/>
              <a:ext cx="576360" cy="28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6803640" y="2492280"/>
            <a:ext cx="576720" cy="216000"/>
            <a:chOff x="6803640" y="2492280"/>
            <a:chExt cx="576720" cy="216000"/>
          </a:xfrm>
        </p:grpSpPr>
        <p:sp>
          <p:nvSpPr>
            <p:cNvPr id="243" name="Line 1059"/>
            <p:cNvSpPr/>
            <p:nvPr/>
          </p:nvSpPr>
          <p:spPr>
            <a:xfrm flipH="1">
              <a:off x="6803640" y="2492280"/>
              <a:ext cx="576360" cy="2160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 txBox="1"/>
            <p:nvPr/>
          </p:nvSpPr>
          <p:spPr>
            <a:xfrm>
              <a:off x="6804000" y="2492280"/>
              <a:ext cx="57636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Text Box 1060"/>
          <p:cNvSpPr/>
          <p:nvPr/>
        </p:nvSpPr>
        <p:spPr>
          <a:xfrm>
            <a:off x="4572000" y="5286240"/>
            <a:ext cx="446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现在的经济支柱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人口、城市的分布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2484360" y="1125360"/>
            <a:ext cx="503280" cy="360"/>
            <a:chOff x="2484360" y="1125360"/>
            <a:chExt cx="503280" cy="360"/>
          </a:xfrm>
        </p:grpSpPr>
        <p:sp>
          <p:nvSpPr>
            <p:cNvPr id="247" name="Line 1062"/>
            <p:cNvSpPr/>
            <p:nvPr/>
          </p:nvSpPr>
          <p:spPr>
            <a:xfrm>
              <a:off x="2484360" y="112536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 txBox="1"/>
            <p:nvPr/>
          </p:nvSpPr>
          <p:spPr>
            <a:xfrm>
              <a:off x="2484360" y="1125360"/>
              <a:ext cx="50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2484360" y="3068640"/>
            <a:ext cx="574920" cy="360"/>
            <a:chOff x="2484360" y="3068640"/>
            <a:chExt cx="574920" cy="360"/>
          </a:xfrm>
        </p:grpSpPr>
        <p:sp>
          <p:nvSpPr>
            <p:cNvPr id="250" name="Line 1065"/>
            <p:cNvSpPr/>
            <p:nvPr/>
          </p:nvSpPr>
          <p:spPr>
            <a:xfrm>
              <a:off x="2484360" y="3068640"/>
              <a:ext cx="5749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 txBox="1"/>
            <p:nvPr/>
          </p:nvSpPr>
          <p:spPr>
            <a:xfrm>
              <a:off x="2484360" y="3068640"/>
              <a:ext cx="574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Text Box 1070"/>
          <p:cNvSpPr/>
          <p:nvPr/>
        </p:nvSpPr>
        <p:spPr>
          <a:xfrm>
            <a:off x="182880" y="1559520"/>
            <a:ext cx="85068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澳大利亚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2124000" y="4838760"/>
            <a:ext cx="574920" cy="360"/>
            <a:chOff x="2124000" y="4838760"/>
            <a:chExt cx="574920" cy="360"/>
          </a:xfrm>
        </p:grpSpPr>
        <p:sp>
          <p:nvSpPr>
            <p:cNvPr id="254" name="Line 1071"/>
            <p:cNvSpPr/>
            <p:nvPr/>
          </p:nvSpPr>
          <p:spPr>
            <a:xfrm>
              <a:off x="2124000" y="4838760"/>
              <a:ext cx="5749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 txBox="1"/>
            <p:nvPr/>
          </p:nvSpPr>
          <p:spPr>
            <a:xfrm>
              <a:off x="2124000" y="4838760"/>
              <a:ext cx="574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4637160" y="1154160"/>
            <a:ext cx="574560" cy="360"/>
            <a:chOff x="4637160" y="1154160"/>
            <a:chExt cx="574560" cy="360"/>
          </a:xfrm>
        </p:grpSpPr>
        <p:sp>
          <p:nvSpPr>
            <p:cNvPr id="257" name="Line 1072"/>
            <p:cNvSpPr/>
            <p:nvPr/>
          </p:nvSpPr>
          <p:spPr>
            <a:xfrm>
              <a:off x="4637160" y="1154160"/>
              <a:ext cx="5745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 txBox="1"/>
            <p:nvPr/>
          </p:nvSpPr>
          <p:spPr>
            <a:xfrm>
              <a:off x="4637160" y="1154160"/>
              <a:ext cx="574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4643280" y="3068640"/>
            <a:ext cx="574920" cy="360"/>
            <a:chOff x="4643280" y="3068640"/>
            <a:chExt cx="574920" cy="360"/>
          </a:xfrm>
        </p:grpSpPr>
        <p:sp>
          <p:nvSpPr>
            <p:cNvPr id="260" name="Line 1073"/>
            <p:cNvSpPr/>
            <p:nvPr/>
          </p:nvSpPr>
          <p:spPr>
            <a:xfrm>
              <a:off x="4643280" y="3068640"/>
              <a:ext cx="5749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 txBox="1"/>
            <p:nvPr/>
          </p:nvSpPr>
          <p:spPr>
            <a:xfrm>
              <a:off x="4643280" y="3068640"/>
              <a:ext cx="574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Text Box 1074"/>
          <p:cNvSpPr/>
          <p:nvPr/>
        </p:nvSpPr>
        <p:spPr>
          <a:xfrm>
            <a:off x="7533720" y="191628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地形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气候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5076720" y="4567320"/>
            <a:ext cx="574920" cy="360"/>
            <a:chOff x="5076720" y="4567320"/>
            <a:chExt cx="574920" cy="360"/>
          </a:xfrm>
        </p:grpSpPr>
        <p:sp>
          <p:nvSpPr>
            <p:cNvPr id="264" name="Line 1075"/>
            <p:cNvSpPr/>
            <p:nvPr/>
          </p:nvSpPr>
          <p:spPr>
            <a:xfrm>
              <a:off x="5076720" y="4567320"/>
              <a:ext cx="5749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 txBox="1"/>
            <p:nvPr/>
          </p:nvSpPr>
          <p:spPr>
            <a:xfrm>
              <a:off x="5076720" y="4567320"/>
              <a:ext cx="574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AutoShape 1076"/>
          <p:cNvSpPr/>
          <p:nvPr/>
        </p:nvSpPr>
        <p:spPr>
          <a:xfrm>
            <a:off x="900000" y="981000"/>
            <a:ext cx="287280" cy="4032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104760 h 4032360"/>
              <a:gd name="textAreaBottom" fmla="*/ 3927600 h 403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6659640" y="4854600"/>
            <a:ext cx="360" cy="504720"/>
            <a:chOff x="6659640" y="4854600"/>
            <a:chExt cx="360" cy="504720"/>
          </a:xfrm>
        </p:grpSpPr>
        <p:sp>
          <p:nvSpPr>
            <p:cNvPr id="268" name="Line 1077"/>
            <p:cNvSpPr/>
            <p:nvPr/>
          </p:nvSpPr>
          <p:spPr>
            <a:xfrm>
              <a:off x="6659640" y="4854600"/>
              <a:ext cx="0" cy="5047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 txBox="1"/>
            <p:nvPr/>
          </p:nvSpPr>
          <p:spPr>
            <a:xfrm>
              <a:off x="6659640" y="4854600"/>
              <a:ext cx="360" cy="50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4C852-B9F4-4C10-BCB1-5922B0D604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2"/>
          <p:cNvSpPr/>
          <p:nvPr/>
        </p:nvSpPr>
        <p:spPr>
          <a:xfrm>
            <a:off x="108000" y="-27000"/>
            <a:ext cx="8856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回扣目标：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读图记忆澳大利亚的临海、河湖、地形区、城市，能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分析澳大利亚的位置、地形和人口城市分布特点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记住澳大利亚的特有动物、出口农产品、经济支柱；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分析：①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澳大利亚农牧业分布与地形、气候的关系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澳大利亚养羊业的分布及其自然原因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179280" y="260280"/>
            <a:ext cx="8964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复习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撒哈拉以南的非洲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读图记忆撒哈拉以南非洲的主要临海、地形区、河流；位置和地形特点；主要气候类型及其特征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记住该地区的经济特点，会分析该地区在国际贸易中的地位及原因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记住阻碍非洲经济发展的三大问题及表现，会分析三者的关系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能为非洲经济发展出谋划策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8"/>
          <p:cNvGrpSpPr/>
          <p:nvPr/>
        </p:nvGrpSpPr>
        <p:grpSpPr>
          <a:xfrm>
            <a:off x="1908000" y="981000"/>
            <a:ext cx="5545080" cy="5545080"/>
            <a:chOff x="1908000" y="981000"/>
            <a:chExt cx="5545080" cy="5545080"/>
          </a:xfrm>
        </p:grpSpPr>
        <p:pic>
          <p:nvPicPr>
            <p:cNvPr id="136" name="Picture 4" descr="feizhoukongbai"/>
            <p:cNvPicPr/>
            <p:nvPr/>
          </p:nvPicPr>
          <p:blipFill>
            <a:blip r:embed="rId1"/>
            <a:stretch/>
          </p:blipFill>
          <p:spPr>
            <a:xfrm>
              <a:off x="1908000" y="981000"/>
              <a:ext cx="5545080" cy="5545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Group 7"/>
            <p:cNvGrpSpPr/>
            <p:nvPr/>
          </p:nvGrpSpPr>
          <p:grpSpPr>
            <a:xfrm>
              <a:off x="2916000" y="2192400"/>
              <a:ext cx="3024360" cy="803160"/>
              <a:chOff x="2916000" y="2192400"/>
              <a:chExt cx="3024360" cy="803160"/>
            </a:xfrm>
          </p:grpSpPr>
          <p:sp>
            <p:nvSpPr>
              <p:cNvPr id="138" name="Freeform 5"/>
              <p:cNvSpPr/>
              <p:nvPr/>
            </p:nvSpPr>
            <p:spPr>
              <a:xfrm>
                <a:off x="2916000" y="2192400"/>
                <a:ext cx="2808360" cy="803160"/>
              </a:xfrm>
              <a:custGeom>
                <a:avLst/>
                <a:gdLst/>
                <a:ahLst/>
                <a:rect l="l" t="t" r="r" b="b"/>
                <a:pathLst>
                  <a:path w="1769" h="506">
                    <a:moveTo>
                      <a:pt x="0" y="0"/>
                    </a:moveTo>
                    <a:cubicBezTo>
                      <a:pt x="234" y="170"/>
                      <a:pt x="469" y="340"/>
                      <a:pt x="590" y="408"/>
                    </a:cubicBezTo>
                    <a:cubicBezTo>
                      <a:pt x="711" y="476"/>
                      <a:pt x="658" y="431"/>
                      <a:pt x="726" y="408"/>
                    </a:cubicBezTo>
                    <a:cubicBezTo>
                      <a:pt x="794" y="385"/>
                      <a:pt x="930" y="280"/>
                      <a:pt x="998" y="272"/>
                    </a:cubicBezTo>
                    <a:cubicBezTo>
                      <a:pt x="1066" y="264"/>
                      <a:pt x="1096" y="355"/>
                      <a:pt x="1134" y="363"/>
                    </a:cubicBezTo>
                    <a:cubicBezTo>
                      <a:pt x="1172" y="371"/>
                      <a:pt x="1149" y="295"/>
                      <a:pt x="1225" y="318"/>
                    </a:cubicBezTo>
                    <a:cubicBezTo>
                      <a:pt x="1301" y="341"/>
                      <a:pt x="1520" y="492"/>
                      <a:pt x="1588" y="499"/>
                    </a:cubicBezTo>
                    <a:cubicBezTo>
                      <a:pt x="1656" y="506"/>
                      <a:pt x="1603" y="401"/>
                      <a:pt x="1633" y="363"/>
                    </a:cubicBezTo>
                    <a:cubicBezTo>
                      <a:pt x="1663" y="325"/>
                      <a:pt x="1746" y="287"/>
                      <a:pt x="1769" y="272"/>
                    </a:cubicBezTo>
                  </a:path>
                </a:pathLst>
              </a:custGeom>
              <a:noFill/>
              <a:ln w="572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5724360" y="2624040"/>
                <a:ext cx="216000" cy="360"/>
                <a:chOff x="5724360" y="2624040"/>
                <a:chExt cx="216000" cy="360"/>
              </a:xfrm>
            </p:grpSpPr>
            <p:sp>
              <p:nvSpPr>
                <p:cNvPr id="140" name="Line 6"/>
                <p:cNvSpPr/>
                <p:nvPr/>
              </p:nvSpPr>
              <p:spPr>
                <a:xfrm>
                  <a:off x="5724360" y="2624040"/>
                  <a:ext cx="216000" cy="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 txBox="1"/>
                <p:nvPr/>
              </p:nvSpPr>
              <p:spPr>
                <a:xfrm>
                  <a:off x="5724360" y="2624040"/>
                  <a:ext cx="216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231840" y="260280"/>
            <a:ext cx="86612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复习欧洲西部：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读图记忆临海、地形区、气候类型及特征；主要国家及首都；工业密集地带；旅游胜地及所在国家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记住本区区域性国际组织；工农业主要部门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会分析：①欧洲西部地形特点及其对气候的影响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畜牧业发达与地形、气候的关系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xiouqihou"/>
          <p:cNvPicPr/>
          <p:nvPr/>
        </p:nvPicPr>
        <p:blipFill>
          <a:blip r:embed="rId1"/>
          <a:stretch/>
        </p:blipFill>
        <p:spPr>
          <a:xfrm>
            <a:off x="1028880" y="828720"/>
            <a:ext cx="6207120" cy="5553000"/>
          </a:xfrm>
          <a:prstGeom prst="rect">
            <a:avLst/>
          </a:prstGeom>
          <a:ln w="0">
            <a:noFill/>
          </a:ln>
        </p:spPr>
      </p:pic>
      <p:grpSp>
        <p:nvGrpSpPr>
          <p:cNvPr id="144" name=""/>
          <p:cNvGrpSpPr/>
          <p:nvPr/>
        </p:nvGrpSpPr>
        <p:grpSpPr>
          <a:xfrm>
            <a:off x="5448240" y="5183280"/>
            <a:ext cx="1371600" cy="360"/>
            <a:chOff x="5448240" y="5183280"/>
            <a:chExt cx="1371600" cy="360"/>
          </a:xfrm>
        </p:grpSpPr>
        <p:sp>
          <p:nvSpPr>
            <p:cNvPr id="145" name="Line 3"/>
            <p:cNvSpPr/>
            <p:nvPr/>
          </p:nvSpPr>
          <p:spPr>
            <a:xfrm>
              <a:off x="5448240" y="5183280"/>
              <a:ext cx="13716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 txBox="1"/>
            <p:nvPr/>
          </p:nvSpPr>
          <p:spPr>
            <a:xfrm>
              <a:off x="5448240" y="5183280"/>
              <a:ext cx="1371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Text Box 4"/>
          <p:cNvSpPr/>
          <p:nvPr/>
        </p:nvSpPr>
        <p:spPr>
          <a:xfrm>
            <a:off x="5072040" y="48150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397480" y="2500200"/>
            <a:ext cx="1371600" cy="360"/>
            <a:chOff x="5397480" y="2500200"/>
            <a:chExt cx="1371600" cy="360"/>
          </a:xfrm>
        </p:grpSpPr>
        <p:sp>
          <p:nvSpPr>
            <p:cNvPr id="149" name="Line 5"/>
            <p:cNvSpPr/>
            <p:nvPr/>
          </p:nvSpPr>
          <p:spPr>
            <a:xfrm>
              <a:off x="5397480" y="2500200"/>
              <a:ext cx="13716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 txBox="1"/>
            <p:nvPr/>
          </p:nvSpPr>
          <p:spPr>
            <a:xfrm>
              <a:off x="5397480" y="2500200"/>
              <a:ext cx="1371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Text Box 6"/>
          <p:cNvSpPr/>
          <p:nvPr/>
        </p:nvSpPr>
        <p:spPr>
          <a:xfrm>
            <a:off x="5068800" y="21384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Oval 7"/>
          <p:cNvSpPr/>
          <p:nvPr/>
        </p:nvSpPr>
        <p:spPr>
          <a:xfrm>
            <a:off x="2678040" y="3760920"/>
            <a:ext cx="38124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Oval 8"/>
          <p:cNvSpPr/>
          <p:nvPr/>
        </p:nvSpPr>
        <p:spPr>
          <a:xfrm>
            <a:off x="3059280" y="4654440"/>
            <a:ext cx="38088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Oval 9"/>
          <p:cNvSpPr/>
          <p:nvPr/>
        </p:nvSpPr>
        <p:spPr>
          <a:xfrm>
            <a:off x="5918040" y="3121200"/>
            <a:ext cx="381240" cy="380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Oval 10"/>
          <p:cNvSpPr/>
          <p:nvPr/>
        </p:nvSpPr>
        <p:spPr>
          <a:xfrm>
            <a:off x="5991120" y="5856120"/>
            <a:ext cx="381240" cy="381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Oval 11"/>
          <p:cNvSpPr/>
          <p:nvPr/>
        </p:nvSpPr>
        <p:spPr>
          <a:xfrm>
            <a:off x="3614760" y="3789360"/>
            <a:ext cx="38088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Oval 12"/>
          <p:cNvSpPr/>
          <p:nvPr/>
        </p:nvSpPr>
        <p:spPr>
          <a:xfrm>
            <a:off x="3924360" y="1341360"/>
            <a:ext cx="244440" cy="17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6689880" y="490680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4"/>
          <p:cNvSpPr/>
          <p:nvPr/>
        </p:nvSpPr>
        <p:spPr>
          <a:xfrm>
            <a:off x="6689880" y="225108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文本框 8194"/>
          <p:cNvSpPr/>
          <p:nvPr/>
        </p:nvSpPr>
        <p:spPr>
          <a:xfrm>
            <a:off x="1793880" y="4935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 u="sng">
                <a:solidFill>
                  <a:srgbClr val="3399ff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5"/>
          <p:cNvSpPr/>
          <p:nvPr/>
        </p:nvSpPr>
        <p:spPr>
          <a:xfrm>
            <a:off x="324000" y="289080"/>
            <a:ext cx="8588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南非的一家化妆品公司生产了一批适合黑种人的护肤品，在撒哈拉以南的非洲取得了很高的销售业绩，该公司准备向海外扩大销售，下列地区有可能列入公司推广市场的是：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中国    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俄罗斯 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澳大利亚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英国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7165800" y="414972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5"/>
          <p:cNvSpPr/>
          <p:nvPr/>
        </p:nvSpPr>
        <p:spPr>
          <a:xfrm>
            <a:off x="179280" y="260280"/>
            <a:ext cx="87854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说说看：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澳大利亚是世界上唯一一个独自占有一块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____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的国家。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从位置看，它位于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____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洲，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__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（东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西）半球和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__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（南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北）半球；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从国土面积和人口密度看，它是一个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_________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的国家；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从经济发展水平看，它是一个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____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国家。  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1793880" y="1579680"/>
            <a:ext cx="155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大陆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4643280" y="2227320"/>
            <a:ext cx="155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大洋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4"/>
          <p:cNvSpPr/>
          <p:nvPr/>
        </p:nvSpPr>
        <p:spPr>
          <a:xfrm>
            <a:off x="6995880" y="22050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东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3395520" y="28926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南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6"/>
          <p:cNvSpPr/>
          <p:nvPr/>
        </p:nvSpPr>
        <p:spPr>
          <a:xfrm>
            <a:off x="784080" y="4221000"/>
            <a:ext cx="290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地广人稀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8"/>
          <p:cNvSpPr/>
          <p:nvPr/>
        </p:nvSpPr>
        <p:spPr>
          <a:xfrm>
            <a:off x="7410600" y="4869000"/>
            <a:ext cx="155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发达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108000" y="-27000"/>
            <a:ext cx="8856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复习目标：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读图记忆澳大利亚的临海、河湖、地形区、城市，能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分析澳大利亚的位置、地形和人口城市分布特点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记住澳大利亚的特有动物、出口农产品、经济支柱；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分析：①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澳大利亚农牧业分布与地形、气候的关系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澳大利亚养羊业的分布及其自然原因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13"/>
          <p:cNvSpPr/>
          <p:nvPr/>
        </p:nvSpPr>
        <p:spPr>
          <a:xfrm>
            <a:off x="179280" y="157320"/>
            <a:ext cx="748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一、世界活化石博物馆：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自主复习：预习题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—4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题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4"/>
          <p:cNvSpPr/>
          <p:nvPr/>
        </p:nvSpPr>
        <p:spPr>
          <a:xfrm>
            <a:off x="179280" y="3517920"/>
            <a:ext cx="8785440" cy="228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下列动物中，不是澳大利亚特有动物的是：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袋鼠 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考拉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长颈鹿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鸭嘴兽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5"/>
          <p:cNvSpPr/>
          <p:nvPr/>
        </p:nvSpPr>
        <p:spPr>
          <a:xfrm>
            <a:off x="231840" y="1801800"/>
            <a:ext cx="873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练习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说一说澳大利亚的海陆位置和纬度位置。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6"/>
          <p:cNvSpPr/>
          <p:nvPr/>
        </p:nvSpPr>
        <p:spPr>
          <a:xfrm>
            <a:off x="3852720" y="422100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20" descr="guohui"/>
          <p:cNvPicPr/>
          <p:nvPr/>
        </p:nvPicPr>
        <p:blipFill>
          <a:blip r:embed="rId1"/>
          <a:stretch/>
        </p:blipFill>
        <p:spPr>
          <a:xfrm>
            <a:off x="3419640" y="2416320"/>
            <a:ext cx="5400360" cy="41526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18"/>
          <p:cNvSpPr/>
          <p:nvPr/>
        </p:nvSpPr>
        <p:spPr>
          <a:xfrm>
            <a:off x="4572000" y="6040440"/>
            <a:ext cx="344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澳大利亚国徽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23:42:2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5:45Z</dcterms:modified>
  <cp:revision>6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