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chimes.wav" ContentType="audio/x-wav"/>
  <Override PartName="/ppt/media/image9.gif" ContentType="image/gif"/>
  <Override PartName="/ppt/media/image11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6.png" ContentType="image/png"/>
  <Override PartName="/ppt/media/camera.wav" ContentType="audio/x-wav"/>
  <Override PartName="/ppt/media/cashreg.wav" ContentType="audio/x-wav"/>
  <Override PartName="/ppt/media/image13.png" ContentType="image/png"/>
  <Override PartName="/ppt/media/image12.jpeg" ContentType="image/jpeg"/>
  <Override PartName="/ppt/media/image7.gif" ContentType="image/gif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41C-1C3D-4D45-B27E-67AE5F0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E62-3CD7-4E16-A17C-60C7AD3C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C00-37B7-4430-AAF2-7F8161F8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A82-3CAD-4396-9867-D33F29AA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9C87-404C-4026-8C5E-C6FCBB30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EA54-0EB1-489F-A94C-D749766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D9DC-B4EF-427E-BBCF-8BA7934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B130-94B4-44C0-9DE5-D1880C2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101F-42AC-41F2-ADFB-A7FB48C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264-F3C5-4333-B2F2-8EB63025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6840-ACB8-47B4-AFBC-9826842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DF3-0AB1-418A-8BC8-FF23D785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2334-A3EF-46D0-AAA6-5CAA187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E759-E9D3-40C0-B015-94FCB22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2486-11E9-45B5-84BD-7BE4E01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060E-127E-49D8-8A1A-77B6EB7D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1432-6734-4891-94C0-BF8CECC5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5C38-74B7-4122-8D2F-3A632D5E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F170-3BD6-4080-8C02-E81D05A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95A1-8E41-4024-9F39-8EB5C75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21E3-E6D5-4B66-85B1-5875D6E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88F7-4385-43B5-9C03-2144025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282-EC9D-4B70-9051-F02F8580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ED25-BB6C-48ED-B80D-59EA8A7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07E0-72FB-4B9E-87D5-2010F51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89FB-A29C-498A-8CC3-828091B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4720-446D-4E75-8C34-2C62F66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08A8-EC20-4C33-BCA5-E8F1BAA8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8286-22E9-4038-9EB3-24E3F87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EC32-7B3E-4608-9B9E-CEBACF1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B1F-D90F-428D-8361-742BD932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84B-2FE0-464E-9499-6263D898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214-893D-4069-91DE-46FFEDD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837-FB14-4DBE-B53B-8DBB3D0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EF5-5059-4A0B-B952-349382D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087-20FA-4784-9B1C-786F10D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033F-C5B7-45D7-9EF7-07219FC43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537-888E-4387-B581-DA212E1D7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976-D238-43DE-8272-7950C28E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hudie"/>
          <p:cNvPicPr/>
          <p:nvPr/>
        </p:nvPicPr>
        <p:blipFill>
          <a:blip r:embed="rId2"/>
          <a:stretch/>
        </p:blipFill>
        <p:spPr>
          <a:xfrm>
            <a:off x="7524720" y="249228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2"/>
          <p:cNvPicPr/>
          <p:nvPr/>
        </p:nvPicPr>
        <p:blipFill>
          <a:blip r:embed="rId3"/>
          <a:stretch/>
        </p:blipFill>
        <p:spPr>
          <a:xfrm>
            <a:off x="6443640" y="3213000"/>
            <a:ext cx="1257480" cy="571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55640" y="1701720"/>
            <a:ext cx="79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爸爸的花儿落了语文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551400" y="3981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林海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flowt2"/>
          <p:cNvPicPr/>
          <p:nvPr/>
        </p:nvPicPr>
        <p:blipFill>
          <a:blip r:embed="rId4"/>
          <a:stretch/>
        </p:blipFill>
        <p:spPr>
          <a:xfrm>
            <a:off x="6769080" y="3052800"/>
            <a:ext cx="1511280" cy="1884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822240" y="60404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6155"/>
          <p:cNvSpPr/>
          <p:nvPr/>
        </p:nvSpPr>
        <p:spPr>
          <a:xfrm>
            <a:off x="104472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990720" y="762120"/>
            <a:ext cx="78483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朗读课文，感知文章内容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概括故事情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品读细节，体会深沉的父爱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探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花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意蕴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33520" y="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课文，概括情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952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”                           回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62120" y="1676520"/>
            <a:ext cx="182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典礼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133720" y="1600200"/>
            <a:ext cx="167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夹竹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962520" y="1828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医院探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09680" y="2209680"/>
            <a:ext cx="1600200" cy="360"/>
            <a:chOff x="2209680" y="2209680"/>
            <a:chExt cx="1600200" cy="360"/>
          </a:xfrm>
        </p:grpSpPr>
        <p:sp>
          <p:nvSpPr>
            <p:cNvPr id="147" name="Line 17"/>
            <p:cNvSpPr/>
            <p:nvPr/>
          </p:nvSpPr>
          <p:spPr>
            <a:xfrm>
              <a:off x="2209680" y="220968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209680" y="22096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29200" y="2286000"/>
            <a:ext cx="762120" cy="360"/>
            <a:chOff x="5029200" y="2286000"/>
            <a:chExt cx="762120" cy="360"/>
          </a:xfrm>
        </p:grpSpPr>
        <p:sp>
          <p:nvSpPr>
            <p:cNvPr id="150" name="Line 19"/>
            <p:cNvSpPr/>
            <p:nvPr/>
          </p:nvSpPr>
          <p:spPr>
            <a:xfrm>
              <a:off x="5029200" y="2286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029200" y="22860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21"/>
          <p:cNvSpPr/>
          <p:nvPr/>
        </p:nvSpPr>
        <p:spPr>
          <a:xfrm>
            <a:off x="5943600" y="1828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六年前赖床受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3581280"/>
            <a:ext cx="1600200" cy="360"/>
            <a:chOff x="2209680" y="3581280"/>
            <a:chExt cx="1600200" cy="360"/>
          </a:xfrm>
        </p:grpSpPr>
        <p:sp>
          <p:nvSpPr>
            <p:cNvPr id="154" name="Line 22"/>
            <p:cNvSpPr/>
            <p:nvPr/>
          </p:nvSpPr>
          <p:spPr>
            <a:xfrm>
              <a:off x="2209680" y="358128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209680" y="35812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23"/>
          <p:cNvSpPr/>
          <p:nvPr/>
        </p:nvSpPr>
        <p:spPr>
          <a:xfrm>
            <a:off x="2209680" y="3048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礼堂钟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962520" y="3200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的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4038480" y="4114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爸爸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闯练，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_GB2312"/>
              </a:rPr>
              <a:t>到银行汇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33"/>
          <p:cNvSpPr/>
          <p:nvPr/>
        </p:nvSpPr>
        <p:spPr>
          <a:xfrm>
            <a:off x="3962520" y="1676520"/>
            <a:ext cx="3809880" cy="3504960"/>
          </a:xfrm>
          <a:prstGeom prst="upArrowCallout">
            <a:avLst>
              <a:gd name="adj1" fmla="val 26432"/>
              <a:gd name="adj2" fmla="val 22706"/>
              <a:gd name="adj3" fmla="val 0"/>
              <a:gd name="adj4" fmla="val 7863"/>
            </a:avLst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486400" y="3505320"/>
            <a:ext cx="533520" cy="360"/>
            <a:chOff x="5486400" y="3505320"/>
            <a:chExt cx="533520" cy="360"/>
          </a:xfrm>
        </p:grpSpPr>
        <p:sp>
          <p:nvSpPr>
            <p:cNvPr id="161" name="Line 37"/>
            <p:cNvSpPr/>
            <p:nvPr/>
          </p:nvSpPr>
          <p:spPr>
            <a:xfrm>
              <a:off x="5486400" y="35053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486400" y="3505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38"/>
          <p:cNvSpPr/>
          <p:nvPr/>
        </p:nvSpPr>
        <p:spPr>
          <a:xfrm>
            <a:off x="6385320" y="320040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爱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680" y="4343400"/>
            <a:ext cx="1600200" cy="360"/>
            <a:chOff x="2209680" y="4343400"/>
            <a:chExt cx="1600200" cy="360"/>
          </a:xfrm>
        </p:grpSpPr>
        <p:sp>
          <p:nvSpPr>
            <p:cNvPr id="165" name="Line 39"/>
            <p:cNvSpPr/>
            <p:nvPr/>
          </p:nvSpPr>
          <p:spPr>
            <a:xfrm>
              <a:off x="2209680" y="434340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209680" y="43434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Rectangle 40"/>
          <p:cNvSpPr/>
          <p:nvPr/>
        </p:nvSpPr>
        <p:spPr>
          <a:xfrm>
            <a:off x="2472840" y="373392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骊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2133720" y="5257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看见零落的花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542480" y="525780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辞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自己已经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7288560" y="2666880"/>
            <a:ext cx="1155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插     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270036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projctor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2794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26520" y="80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究细节，体会父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838080" y="14479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长的道路上，爸爸施与了很多的影响。文中也有很多这样的细节。你能找出你认为最感人的一处，细品其中蕴涵的至亲至情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感触最深的句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能引起我联想的句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爸爸的一句话；爸爸的一个动作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的一件事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的花儿落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义怎样理解？结合上下文来参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262728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1371600" y="83808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花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含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实指爸爸种的夹竹桃等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象征爸爸的生命之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严厉和慈爱（借花的柔性来调和爸爸性格中的刚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爸爸病危时，象征对子女的关怀、鼓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爸爸的花儿虽然落了，但所结出的果实却是硕大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"/>
          <p:cNvSpPr/>
          <p:nvPr/>
        </p:nvSpPr>
        <p:spPr>
          <a:xfrm>
            <a:off x="1295280" y="2971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557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sea0121_m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8210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203480" y="32544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-304920" y="1523880"/>
            <a:ext cx="9448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拓展延伸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分组讨论，写一现场片段作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我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来到父亲的陵墓前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34A3-80C5-46EE-8D78-1D11B7848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200312122224857786[1]"/>
          <p:cNvPicPr/>
          <p:nvPr/>
        </p:nvPicPr>
        <p:blipFill>
          <a:blip r:embed="rId1"/>
          <a:stretch/>
        </p:blipFill>
        <p:spPr>
          <a:xfrm>
            <a:off x="-10363320" y="-380880"/>
            <a:ext cx="19507320" cy="7467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380880" y="-152280"/>
            <a:ext cx="85345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父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老了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我们却长大了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是一只小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载着我们的和睦温馨和梦幻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风雨飘摇里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一桨一桨摇去岁月的艰难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小船破旧的时候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我们驶进了避风的港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父亲是一辆牛车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载着我们的童年与少年 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漫漫人生路上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一步一步碾开勤劳的诗篇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隶书"/>
              </a:rPr>
              <a:t>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index.mp3" descr=""/>
          <p:cNvPicPr/>
          <p:nvPr/>
        </p:nvPicPr>
        <p:blipFill>
          <a:blip r:embed="rId2"/>
          <a:stretch/>
        </p:blipFill>
        <p:spPr>
          <a:xfrm>
            <a:off x="838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050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59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18Z</dcterms:modified>
  <cp:revision>1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