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3F7-C157-4A37-A77A-1059CE0A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B12-3543-42A6-9A8F-044FC18E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738F-4F9A-4CE7-A240-89B2D0C4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12C-5570-4B7B-9C2D-5A8D8C45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D23D-488B-4C3A-9556-D2C54AE2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8A31-DCA5-491E-BF82-E183B58B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B615-80CF-47E9-A6B6-433DC249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97C4-F965-4F43-8C04-5D5E4AA7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0E91-A57E-42F4-A0CE-4AC609D1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33E9-15BE-47E9-9656-1272486E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FD00-E71E-4C8C-A978-60D1D373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EC5-4DAD-4E16-8851-042ECE46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A8CA-F113-41D1-BD65-19F29E76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5041-69E9-458A-BD4B-CC0F1F2D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F3B3-57DB-49DF-8722-B3680DDE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FAF5-91E0-4097-A464-622FDC8B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7066-E492-4633-A73B-4534A166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E67-1F31-404B-A3FF-8A4FA0F2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F69-96C5-4362-B46D-944F5E8E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37F-F465-4501-A4F6-DF49DF2A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278-E2AF-4A08-8BC9-47CFD5BD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40B-4F73-4BE3-82C3-E177AE53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108-708E-499E-AF3E-BE6DF07A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83C-3F02-4940-876A-AC8CA11D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9A8E-81B0-4543-9241-758A06807C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BD78-0F66-43ED-9C21-DD2162379C8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458F-E2B5-43DB-987B-83283E3DF6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643120" y="3241800"/>
            <a:ext cx="43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928960" y="40719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明星海报及相关类别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图片 2051" descr="幻灯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3"/>
          <p:cNvSpPr/>
          <p:nvPr/>
        </p:nvSpPr>
        <p:spPr>
          <a:xfrm>
            <a:off x="1393920" y="406440"/>
            <a:ext cx="661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爸爸去哪儿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8198"/>
          <p:cNvSpPr/>
          <p:nvPr/>
        </p:nvSpPr>
        <p:spPr>
          <a:xfrm>
            <a:off x="736560" y="99684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21A0-531A-4885-A19F-95198A9C045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06:25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38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