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CBB-288A-4C25-95F1-29DEF564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0CE-FAC3-43BE-99F4-7D2DB833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E9C-498B-4082-A203-2C042C7E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A94C-1B73-40D9-BCCD-4EEDE50F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A8DB-B33B-4E5D-8D27-DFC6B331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1370-1EF0-4A5F-96C1-56D66C6D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3CCD-C6FD-40B9-B5B7-3B6B22D6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88A9-86C2-4856-8B13-F7776860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4FFE-A77C-4A0E-A340-6E79B990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34B8-8143-44CD-9015-9298D702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CA1A-6C52-425F-A8AF-9C3C1137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288-BC62-4794-9BAA-790AB8CF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383F-4FF5-475D-9E00-1719D7D0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8B4F-83B3-4EDD-9D86-61111296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956F-C55A-409D-92EE-09ED3706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3E36-E9F3-4470-9DC7-AD366391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2C92-769F-4196-B6C1-9AF8D501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C72D-7C46-4530-8CB7-8EF206A1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292-C6C6-475A-B3CE-96795238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098-1E57-45CA-81C1-7430CE74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CBF-D584-43AB-9E9E-983D9012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BAD9-6B10-4D1C-9249-07D06062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CEC-143C-410E-B668-87912EE4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346-242A-4144-87E0-063FF28F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D8A2-35E0-4A34-ABF0-1D63FEFD2B4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CEE0-43C6-471A-8B3A-535DC775868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0418-8127-49CB-950E-CBD6071C668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-11160" y="-11160"/>
            <a:ext cx="9161640" cy="6873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440" y="2152800"/>
            <a:ext cx="9142200" cy="255096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3075"/>
          <p:cNvGrpSpPr/>
          <p:nvPr/>
        </p:nvGrpSpPr>
        <p:grpSpPr>
          <a:xfrm>
            <a:off x="1320840" y="1082520"/>
            <a:ext cx="1473120" cy="1338480"/>
            <a:chOff x="1320840" y="1082520"/>
            <a:chExt cx="1473120" cy="1338480"/>
          </a:xfrm>
        </p:grpSpPr>
        <p:pic>
          <p:nvPicPr>
            <p:cNvPr id="87" name="Picture 2" descr=""/>
            <p:cNvPicPr/>
            <p:nvPr/>
          </p:nvPicPr>
          <p:blipFill>
            <a:blip r:embed="rId3"/>
            <a:stretch/>
          </p:blipFill>
          <p:spPr>
            <a:xfrm>
              <a:off x="2135160" y="1800000"/>
              <a:ext cx="5774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" descr=""/>
            <p:cNvPicPr/>
            <p:nvPr/>
          </p:nvPicPr>
          <p:blipFill>
            <a:blip r:embed="rId4"/>
            <a:stretch/>
          </p:blipFill>
          <p:spPr>
            <a:xfrm>
              <a:off x="1377720" y="1082520"/>
              <a:ext cx="39276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2" descr=""/>
            <p:cNvPicPr/>
            <p:nvPr/>
          </p:nvPicPr>
          <p:blipFill>
            <a:blip r:embed="rId5"/>
            <a:stretch/>
          </p:blipFill>
          <p:spPr>
            <a:xfrm>
              <a:off x="1783440" y="1375200"/>
              <a:ext cx="484920" cy="48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2" descr=""/>
            <p:cNvPicPr/>
            <p:nvPr/>
          </p:nvPicPr>
          <p:blipFill>
            <a:blip r:embed="rId6"/>
            <a:stretch/>
          </p:blipFill>
          <p:spPr>
            <a:xfrm>
              <a:off x="2360880" y="1112760"/>
              <a:ext cx="43308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2" descr=""/>
            <p:cNvPicPr/>
            <p:nvPr/>
          </p:nvPicPr>
          <p:blipFill>
            <a:blip r:embed="rId7"/>
            <a:stretch/>
          </p:blipFill>
          <p:spPr>
            <a:xfrm>
              <a:off x="1783080" y="2133000"/>
              <a:ext cx="288720" cy="2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2" descr=""/>
            <p:cNvPicPr/>
            <p:nvPr/>
          </p:nvPicPr>
          <p:blipFill>
            <a:blip r:embed="rId8"/>
            <a:stretch/>
          </p:blipFill>
          <p:spPr>
            <a:xfrm>
              <a:off x="1320840" y="1614240"/>
              <a:ext cx="484920" cy="48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4"/>
          <p:cNvSpPr/>
          <p:nvPr/>
        </p:nvSpPr>
        <p:spPr>
          <a:xfrm>
            <a:off x="2303640" y="2781360"/>
            <a:ext cx="62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@Eric-lin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</a:rPr>
              <a:t>之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</a:rPr>
              <a:t>商务模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073160" y="3424320"/>
            <a:ext cx="757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北京国通公司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81CB-2C2B-408C-9526-B49B5574883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55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0" y="844560"/>
            <a:ext cx="9144000" cy="352440"/>
          </a:xfrm>
          <a:prstGeom prst="rect">
            <a:avLst/>
          </a:prstGeom>
          <a:ln w="0">
            <a:noFill/>
          </a:ln>
        </p:spPr>
      </p:pic>
      <p:grpSp>
        <p:nvGrpSpPr>
          <p:cNvPr id="103" name="组合 4100"/>
          <p:cNvGrpSpPr/>
          <p:nvPr/>
        </p:nvGrpSpPr>
        <p:grpSpPr>
          <a:xfrm>
            <a:off x="3200400" y="2244600"/>
            <a:ext cx="4324320" cy="574920"/>
            <a:chOff x="3200400" y="2244600"/>
            <a:chExt cx="4324320" cy="574920"/>
          </a:xfrm>
        </p:grpSpPr>
        <p:pic>
          <p:nvPicPr>
            <p:cNvPr id="104" name="Picture 2" descr=""/>
            <p:cNvPicPr/>
            <p:nvPr/>
          </p:nvPicPr>
          <p:blipFill>
            <a:blip r:embed="rId3"/>
            <a:stretch/>
          </p:blipFill>
          <p:spPr>
            <a:xfrm>
              <a:off x="3200400" y="2244600"/>
              <a:ext cx="57708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4"/>
            <p:cNvSpPr/>
            <p:nvPr/>
          </p:nvSpPr>
          <p:spPr>
            <a:xfrm>
              <a:off x="3850920" y="237096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4103"/>
          <p:cNvGrpSpPr/>
          <p:nvPr/>
        </p:nvGrpSpPr>
        <p:grpSpPr>
          <a:xfrm>
            <a:off x="3200400" y="3071880"/>
            <a:ext cx="4324320" cy="576360"/>
            <a:chOff x="3200400" y="3071880"/>
            <a:chExt cx="4324320" cy="576360"/>
          </a:xfrm>
        </p:grpSpPr>
        <p:pic>
          <p:nvPicPr>
            <p:cNvPr id="107" name="Picture 2" descr=""/>
            <p:cNvPicPr/>
            <p:nvPr/>
          </p:nvPicPr>
          <p:blipFill>
            <a:blip r:embed="rId4"/>
            <a:stretch/>
          </p:blipFill>
          <p:spPr>
            <a:xfrm>
              <a:off x="3200400" y="3071880"/>
              <a:ext cx="5770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Box 8"/>
            <p:cNvSpPr/>
            <p:nvPr/>
          </p:nvSpPr>
          <p:spPr>
            <a:xfrm>
              <a:off x="3850920" y="319860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4106"/>
          <p:cNvGrpSpPr/>
          <p:nvPr/>
        </p:nvGrpSpPr>
        <p:grpSpPr>
          <a:xfrm>
            <a:off x="3200400" y="3898800"/>
            <a:ext cx="4324320" cy="574920"/>
            <a:chOff x="3200400" y="3898800"/>
            <a:chExt cx="4324320" cy="574920"/>
          </a:xfrm>
        </p:grpSpPr>
        <p:pic>
          <p:nvPicPr>
            <p:cNvPr id="110" name="Picture 2" descr=""/>
            <p:cNvPicPr/>
            <p:nvPr/>
          </p:nvPicPr>
          <p:blipFill>
            <a:blip r:embed="rId5"/>
            <a:stretch/>
          </p:blipFill>
          <p:spPr>
            <a:xfrm>
              <a:off x="3200400" y="3898800"/>
              <a:ext cx="57708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11"/>
            <p:cNvSpPr/>
            <p:nvPr/>
          </p:nvSpPr>
          <p:spPr>
            <a:xfrm>
              <a:off x="3850920" y="402516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4109"/>
          <p:cNvGrpSpPr/>
          <p:nvPr/>
        </p:nvGrpSpPr>
        <p:grpSpPr>
          <a:xfrm>
            <a:off x="3200400" y="4724280"/>
            <a:ext cx="4324320" cy="576360"/>
            <a:chOff x="3200400" y="4724280"/>
            <a:chExt cx="4324320" cy="576360"/>
          </a:xfrm>
        </p:grpSpPr>
        <p:pic>
          <p:nvPicPr>
            <p:cNvPr id="113" name="Picture 2" descr=""/>
            <p:cNvPicPr/>
            <p:nvPr/>
          </p:nvPicPr>
          <p:blipFill>
            <a:blip r:embed="rId6"/>
            <a:stretch/>
          </p:blipFill>
          <p:spPr>
            <a:xfrm>
              <a:off x="3200400" y="4724280"/>
              <a:ext cx="5770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14"/>
            <p:cNvSpPr/>
            <p:nvPr/>
          </p:nvSpPr>
          <p:spPr>
            <a:xfrm>
              <a:off x="3850920" y="4851000"/>
              <a:ext cx="367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5"/>
          <p:cNvSpPr/>
          <p:nvPr/>
        </p:nvSpPr>
        <p:spPr>
          <a:xfrm>
            <a:off x="466560" y="3142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8194"/>
          <p:cNvSpPr/>
          <p:nvPr/>
        </p:nvSpPr>
        <p:spPr>
          <a:xfrm>
            <a:off x="1233360" y="1655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06:46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0:46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