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C6AD4-9FF6-4618-96FA-0D1463A30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47B9D-0B7B-452A-9B74-1E46204F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25D11-BE12-49EF-A5B1-62A0EC002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4E1DA-A863-4A2E-B317-303D069A0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EA780-020E-4307-9F84-DA35B326F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368F5-AC54-4416-850B-713D2D66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B569B-E3E3-470F-B812-DB399F88A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05B56-6AAF-4E08-9CE3-A1F3518EF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DDC37-929C-4B5C-A48D-E0F9884FF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1D6D6-90D3-4902-BEA8-F30A7F79D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04EFB-44ED-4F3E-88EB-BFD98215F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9F64-DDD8-45B2-A34A-A00CB6C75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CC1E4-D93E-469F-99D7-41C5E124A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149E-E995-41BD-B168-C63C69E17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6F7E8-F9F4-4E5E-A230-5F7F5BCF5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23EE2-2D7C-4801-AA78-25EA3304B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8FBAF-2DE1-40BF-9B6A-8E2CFCBDD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C809A9-4AE5-4286-9364-52C82DBD3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30814-EA4F-4345-89F5-E9C6135FB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10B55-427F-47BA-98C8-529CAF81B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41D99-88AD-458F-98A0-D493E08A9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7E751-B874-4F02-93EE-1FEA1E4CF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98F9C-9C9E-4759-8DFE-6C2DB244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12679-98AA-496E-80D6-3F02B0BC4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6C146-7B5A-4F1C-BE45-916B6CE1C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187B5-C2E6-4361-8E6A-75EF7A10D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7D2D7-4212-40DB-8C1F-BFB802E84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9C82C-EFDB-4870-A26E-0971A5620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9DB17-6AFD-4A52-B085-78536BB95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BAC83-68A5-4587-8022-D0241AFF5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BCA47-6D62-4755-90C6-1C27F9DB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745D0-1544-4189-A6DF-B4688BC5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7A979-8235-44AC-9C12-224C225A2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A0A6-C10E-4F91-BF26-09AACF78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4521-EEDB-4C5D-AD4F-E4FB2B3C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34B3-71B5-4E71-A884-570387D8D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A49D-492F-4F9F-9136-B91EBFEBBD1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4AE2-BDF1-4D8E-BC95-ADA6DAE286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2B13-18E1-47D8-9872-BE7FF60A728C}" type="datetime">
              <a:rPr b="0" lang="en-US" sz="1200" spc="-1" strike="noStrike">
                <a:solidFill>
                  <a:srgbClr val="898989"/>
                </a:solidFill>
                <a:latin typeface="Arial"/>
                <a:ea typeface="宋体"/>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97C8-8E80-437C-91CA-38231D6F9EEB}"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F400-5AA5-405E-ADE1-A5228E011D2C}"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5F6C-8705-454C-A7F2-9B0F22D4399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00400" y="304560"/>
            <a:ext cx="5486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tion Title</a:t>
            </a:r>
            <a:endParaRPr b="1" lang="en-US" sz="3200" spc="-1" strike="noStrike">
              <a:solidFill>
                <a:srgbClr val="000000"/>
              </a:solidFill>
              <a:latin typeface="Arial"/>
            </a:endParaRPr>
          </a:p>
        </p:txBody>
      </p:sp>
      <p:sp>
        <p:nvSpPr>
          <p:cNvPr id="124" name="PlaceHolder 2"/>
          <p:cNvSpPr>
            <a:spLocks noGrp="1"/>
          </p:cNvSpPr>
          <p:nvPr>
            <p:ph type="subTitle"/>
          </p:nvPr>
        </p:nvSpPr>
        <p:spPr>
          <a:xfrm>
            <a:off x="3429000" y="99036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Subtitle</a:t>
            </a:r>
            <a:endParaRPr b="0" lang="en-US" sz="3200" spc="-1" strike="noStrike">
              <a:solidFill>
                <a:srgbClr val="000000"/>
              </a:solidFill>
              <a:latin typeface="Arial"/>
            </a:endParaRPr>
          </a:p>
        </p:txBody>
      </p:sp>
      <p:sp>
        <p:nvSpPr>
          <p:cNvPr id="125"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26" name="文本框 4100"/>
          <p:cNvSpPr/>
          <p:nvPr/>
        </p:nvSpPr>
        <p:spPr>
          <a:xfrm>
            <a:off x="2418840" y="1600200"/>
            <a:ext cx="445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冰球运动</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990360"/>
            <a:ext cx="6782040" cy="513540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Your Text here</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ide Master</a:t>
            </a:r>
            <a:endParaRPr b="1" lang="en-US" sz="3200" spc="-1" strike="noStrike">
              <a:solidFill>
                <a:srgbClr val="000000"/>
              </a:solidFill>
              <a:latin typeface="Arial"/>
            </a:endParaRPr>
          </a:p>
        </p:txBody>
      </p:sp>
      <p:sp>
        <p:nvSpPr>
          <p:cNvPr id="129" name="文本框 5123"/>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69696"/>
                </a:solidFill>
                <a:uFillTx/>
                <a:latin typeface="Calibri"/>
                <a:ea typeface="Calibri"/>
                <a:hlinkClick r:id="rId1"/>
              </a:rPr>
              <a:t>ppt</a:t>
            </a:r>
            <a:r>
              <a:rPr b="0" lang="zh-CN" sz="1600" spc="-1" strike="noStrike" u="sng">
                <a:solidFill>
                  <a:srgbClr val="969696"/>
                </a:solidFill>
                <a:uFillTx/>
                <a:latin typeface="Calibri"/>
                <a:ea typeface="Calibri"/>
                <a:hlinkClick r:id="rId2"/>
              </a:rPr>
              <a:t>模版免费下载</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8280-2FE2-4D81-AA3D-953B67FA95B5}"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t Master</a:t>
            </a:r>
            <a:endParaRPr b="1" lang="en-US" sz="3200" spc="-1" strike="noStrike">
              <a:solidFill>
                <a:srgbClr val="000000"/>
              </a:solidFill>
              <a:latin typeface="Arial"/>
            </a:endParaRPr>
          </a:p>
        </p:txBody>
      </p:sp>
      <p:sp>
        <p:nvSpPr>
          <p:cNvPr id="135" name=""/>
          <p:cNvSpPr txBox="1"/>
          <p:nvPr/>
        </p:nvSpPr>
        <p:spPr>
          <a:xfrm>
            <a:off x="2133360" y="1600200"/>
            <a:ext cx="655308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Text her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pc</cp:lastModifiedBy>
  <dcterms:modified xsi:type="dcterms:W3CDTF">2016-01-24T03:30:40Z</dcterms:modified>
  <cp:revision>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