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13.jpeg" ContentType="image/jpeg"/>
  <Override PartName="/ppt/media/image6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s1.wav" ContentType="audio/x-wav"/>
  <Override PartName="/ppt/media/image10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VOLTAGE.WAV" ContentType="audio/x-wav"/>
  <Override PartName="/ppt/media/image15.jpeg" ContentType="image/jpeg"/>
  <Override PartName="/ppt/media/image16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media/image24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82C0-D138-4F92-90D6-0F10BE0DA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B9BC-8A39-4A5E-B920-F83F2597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8A45-142A-4A6C-B6A8-BA132633F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E9C1-9D79-45E8-A598-94B8CCB68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14E7-0DFF-4A42-A026-52667B5EC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B418-825C-4B02-AFD6-327FACEF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0C95-334D-4CB4-86AB-1FB953EB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A6FA-5EA4-427F-A2D1-F77C4D35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725E-4259-4129-863B-71AED075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29C1-B72F-4EE4-AFE9-BE0FBE30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A513-7E97-4C60-AD10-A7BE565D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125F-050F-4960-BBFB-D44953A1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CF3E-5099-4F4B-95E4-76398025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BCD5-7517-4598-9570-14D38FDF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94D0-BCDB-4E7D-9F9A-A55E315A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7FA3-F1D0-42DC-AA54-B50A159F1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56B1-D647-442E-908E-2B4FE956D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7425-D036-4F6E-B45D-A6204846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29C6-C07D-4C36-AC74-329D47A0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6999-7016-41C5-912D-6797C65A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0C11-F67E-4892-A5FD-6596E1B3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CE87-EFE9-44E1-B60A-ABD6230E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9B17-6FAF-4F46-A66F-2BF7E65E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2F5F-9D65-4143-BE78-8B758F63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63A3-D91B-4665-B6C3-53D752C109E7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EFE6-A14F-441B-87FA-A08B738D57B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06EA-0B20-4435-810E-328D3CD0FA0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7.jpeg"/><Relationship Id="rId19" Type="http://schemas.openxmlformats.org/officeDocument/2006/relationships/image" Target="../media/image18.jpeg"/><Relationship Id="rId20" Type="http://schemas.openxmlformats.org/officeDocument/2006/relationships/image" Target="../media/image19.jpeg"/><Relationship Id="rId21" Type="http://schemas.openxmlformats.org/officeDocument/2006/relationships/image" Target="../media/image20.jpeg"/><Relationship Id="rId22" Type="http://schemas.openxmlformats.org/officeDocument/2006/relationships/image" Target="../media/image21.jpeg"/><Relationship Id="rId23" Type="http://schemas.openxmlformats.org/officeDocument/2006/relationships/image" Target="../media/image22.jpeg"/><Relationship Id="rId24" Type="http://schemas.openxmlformats.org/officeDocument/2006/relationships/image" Target="../media/image23.jpeg"/><Relationship Id="rId25" Type="http://schemas.openxmlformats.org/officeDocument/2006/relationships/image" Target="../media/image24.jpeg"/><Relationship Id="rId26" Type="http://schemas.openxmlformats.org/officeDocument/2006/relationships/image" Target="../media/image25.jpeg"/><Relationship Id="rId27" Type="http://schemas.openxmlformats.org/officeDocument/2006/relationships/image" Target="../media/image26.jpeg"/><Relationship Id="rId28" Type="http://schemas.openxmlformats.org/officeDocument/2006/relationships/image" Target="../media/image27.png"/><Relationship Id="rId29" Type="http://schemas.openxmlformats.org/officeDocument/2006/relationships/image" Target="../media/image28.jpeg"/><Relationship Id="rId30" Type="http://schemas.openxmlformats.org/officeDocument/2006/relationships/audio" Target="../media/VOLTAGE.WAV"/><Relationship Id="rId31" Type="http://schemas.openxmlformats.org/officeDocument/2006/relationships/audio" Target="../media/VOLTAGE.WAV"/><Relationship Id="rId32" Type="http://schemas.openxmlformats.org/officeDocument/2006/relationships/audio" Target="../media/VOLTAGE.WAV"/><Relationship Id="rId33" Type="http://schemas.openxmlformats.org/officeDocument/2006/relationships/audio" Target="../media/VOLTAGE.WAV"/><Relationship Id="rId34" Type="http://schemas.openxmlformats.org/officeDocument/2006/relationships/audio" Target="../media/VOLTAGE.WAV"/><Relationship Id="rId35" Type="http://schemas.openxmlformats.org/officeDocument/2006/relationships/audio" Target="../media/s1.wav"/><Relationship Id="rId3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551A-6D36-4F11-82EB-DE4FEEAE449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3061800" y="3244680"/>
            <a:ext cx="327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巴西世界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3979440" y="32446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巴西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"/>
          <p:cNvSpPr/>
          <p:nvPr/>
        </p:nvSpPr>
        <p:spPr>
          <a:xfrm>
            <a:off x="-189000" y="2708280"/>
            <a:ext cx="5435640" cy="3200400"/>
          </a:xfrm>
          <a:custGeom>
            <a:avLst/>
            <a:gdLst/>
            <a:ahLst/>
            <a:rect l="l" t="t" r="r" b="b"/>
            <a:pathLst>
              <a:path w="3040" h="1794">
                <a:moveTo>
                  <a:pt x="0" y="1794"/>
                </a:moveTo>
                <a:cubicBezTo>
                  <a:pt x="507" y="1495"/>
                  <a:pt x="2533" y="299"/>
                  <a:pt x="3040" y="0"/>
                </a:cubicBezTo>
              </a:path>
            </a:pathLst>
          </a:custGeom>
          <a:noFill/>
          <a:ln w="1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3"/>
          <p:cNvSpPr/>
          <p:nvPr/>
        </p:nvSpPr>
        <p:spPr>
          <a:xfrm>
            <a:off x="5292720" y="-669960"/>
            <a:ext cx="4676760" cy="3333960"/>
          </a:xfrm>
          <a:custGeom>
            <a:avLst/>
            <a:gdLst/>
            <a:ahLst/>
            <a:rect l="l" t="t" r="r" b="b"/>
            <a:pathLst>
              <a:path w="2946" h="2100">
                <a:moveTo>
                  <a:pt x="2946" y="0"/>
                </a:moveTo>
                <a:cubicBezTo>
                  <a:pt x="2456" y="351"/>
                  <a:pt x="614" y="1663"/>
                  <a:pt x="0" y="2100"/>
                </a:cubicBezTo>
              </a:path>
            </a:pathLst>
          </a:custGeom>
          <a:noFill/>
          <a:ln w="1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4797360" y="2168640"/>
            <a:ext cx="1020960" cy="1020600"/>
            <a:chOff x="4797360" y="2168640"/>
            <a:chExt cx="1020960" cy="1020600"/>
          </a:xfrm>
        </p:grpSpPr>
        <p:sp>
          <p:nvSpPr>
            <p:cNvPr id="92" name="Oval 5"/>
            <p:cNvSpPr/>
            <p:nvPr/>
          </p:nvSpPr>
          <p:spPr>
            <a:xfrm>
              <a:off x="4797360" y="2203560"/>
              <a:ext cx="986040" cy="985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Group 6"/>
            <p:cNvGrpSpPr/>
            <p:nvPr/>
          </p:nvGrpSpPr>
          <p:grpSpPr>
            <a:xfrm>
              <a:off x="4797720" y="2168640"/>
              <a:ext cx="1020600" cy="1017720"/>
              <a:chOff x="4797720" y="2168640"/>
              <a:chExt cx="1020600" cy="1017720"/>
            </a:xfrm>
          </p:grpSpPr>
          <p:grpSp>
            <p:nvGrpSpPr>
              <p:cNvPr id="94" name="Group 7"/>
              <p:cNvGrpSpPr/>
              <p:nvPr/>
            </p:nvGrpSpPr>
            <p:grpSpPr>
              <a:xfrm>
                <a:off x="4797720" y="2168640"/>
                <a:ext cx="1020600" cy="1017720"/>
                <a:chOff x="4797720" y="2168640"/>
                <a:chExt cx="1020600" cy="1017720"/>
              </a:xfrm>
            </p:grpSpPr>
            <p:grpSp>
              <p:nvGrpSpPr>
                <p:cNvPr id="95" name="Group 8"/>
                <p:cNvGrpSpPr/>
                <p:nvPr/>
              </p:nvGrpSpPr>
              <p:grpSpPr>
                <a:xfrm>
                  <a:off x="4797720" y="2168640"/>
                  <a:ext cx="1020600" cy="1017720"/>
                  <a:chOff x="4797720" y="2168640"/>
                  <a:chExt cx="1020600" cy="1017720"/>
                </a:xfrm>
              </p:grpSpPr>
              <p:grpSp>
                <p:nvGrpSpPr>
                  <p:cNvPr id="96" name="Group 9"/>
                  <p:cNvGrpSpPr/>
                  <p:nvPr/>
                </p:nvGrpSpPr>
                <p:grpSpPr>
                  <a:xfrm>
                    <a:off x="5287320" y="2168640"/>
                    <a:ext cx="39960" cy="1017720"/>
                    <a:chOff x="5287320" y="2168640"/>
                    <a:chExt cx="39960" cy="1017720"/>
                  </a:xfrm>
                </p:grpSpPr>
                <p:sp>
                  <p:nvSpPr>
                    <p:cNvPr id="97" name="AutoShape 10"/>
                    <p:cNvSpPr/>
                    <p:nvPr/>
                  </p:nvSpPr>
                  <p:spPr>
                    <a:xfrm>
                      <a:off x="5287320" y="2168640"/>
                      <a:ext cx="39960" cy="5090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" name="AutoShape 11"/>
                    <p:cNvSpPr/>
                    <p:nvPr/>
                  </p:nvSpPr>
                  <p:spPr>
                    <a:xfrm flipV="1">
                      <a:off x="5287320" y="2677320"/>
                      <a:ext cx="39960" cy="5090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" name="Group 12"/>
                  <p:cNvGrpSpPr/>
                  <p:nvPr/>
                </p:nvGrpSpPr>
                <p:grpSpPr>
                  <a:xfrm>
                    <a:off x="4797720" y="2657160"/>
                    <a:ext cx="1020600" cy="39600"/>
                    <a:chOff x="4797720" y="2657160"/>
                    <a:chExt cx="1020600" cy="39600"/>
                  </a:xfrm>
                </p:grpSpPr>
                <p:sp>
                  <p:nvSpPr>
                    <p:cNvPr id="100" name="AutoShape 13"/>
                    <p:cNvSpPr/>
                    <p:nvPr/>
                  </p:nvSpPr>
                  <p:spPr>
                    <a:xfrm rot="5400000">
                      <a:off x="5542920" y="2421360"/>
                      <a:ext cx="39600" cy="5108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" name="AutoShape 14"/>
                    <p:cNvSpPr/>
                    <p:nvPr/>
                  </p:nvSpPr>
                  <p:spPr>
                    <a:xfrm flipV="1" rot="5400000">
                      <a:off x="5033160" y="2421720"/>
                      <a:ext cx="39600" cy="5104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02" name="Group 15"/>
                <p:cNvGrpSpPr/>
                <p:nvPr/>
              </p:nvGrpSpPr>
              <p:grpSpPr>
                <a:xfrm>
                  <a:off x="4932000" y="2303280"/>
                  <a:ext cx="749520" cy="749880"/>
                  <a:chOff x="4932000" y="2303280"/>
                  <a:chExt cx="749520" cy="749880"/>
                </a:xfrm>
              </p:grpSpPr>
              <p:grpSp>
                <p:nvGrpSpPr>
                  <p:cNvPr id="103" name="Group 16"/>
                  <p:cNvGrpSpPr/>
                  <p:nvPr/>
                </p:nvGrpSpPr>
                <p:grpSpPr>
                  <a:xfrm>
                    <a:off x="4932720" y="2304720"/>
                    <a:ext cx="747360" cy="747720"/>
                    <a:chOff x="4932720" y="2304720"/>
                    <a:chExt cx="747360" cy="747720"/>
                  </a:xfrm>
                </p:grpSpPr>
                <p:sp>
                  <p:nvSpPr>
                    <p:cNvPr id="104" name="AutoShape 17"/>
                    <p:cNvSpPr/>
                    <p:nvPr/>
                  </p:nvSpPr>
                  <p:spPr>
                    <a:xfrm rot="2700000">
                      <a:off x="5465880" y="2244240"/>
                      <a:ext cx="39960" cy="5094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AutoShape 18"/>
                    <p:cNvSpPr/>
                    <p:nvPr/>
                  </p:nvSpPr>
                  <p:spPr>
                    <a:xfrm flipV="1" rot="2700000">
                      <a:off x="5106600" y="2603520"/>
                      <a:ext cx="39960" cy="5090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6" name="Group 19"/>
                  <p:cNvGrpSpPr/>
                  <p:nvPr/>
                </p:nvGrpSpPr>
                <p:grpSpPr>
                  <a:xfrm>
                    <a:off x="4932000" y="2303280"/>
                    <a:ext cx="749520" cy="749880"/>
                    <a:chOff x="4932000" y="2303280"/>
                    <a:chExt cx="749520" cy="749880"/>
                  </a:xfrm>
                </p:grpSpPr>
                <p:sp>
                  <p:nvSpPr>
                    <p:cNvPr id="107" name="AutoShape 20"/>
                    <p:cNvSpPr/>
                    <p:nvPr/>
                  </p:nvSpPr>
                  <p:spPr>
                    <a:xfrm rot="8100000">
                      <a:off x="5466960" y="2603160"/>
                      <a:ext cx="39600" cy="5104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" name="AutoShape 21"/>
                    <p:cNvSpPr/>
                    <p:nvPr/>
                  </p:nvSpPr>
                  <p:spPr>
                    <a:xfrm flipV="1" rot="8100000">
                      <a:off x="5106600" y="2242080"/>
                      <a:ext cx="39600" cy="5104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9" name="Group 22"/>
              <p:cNvGrpSpPr/>
              <p:nvPr/>
            </p:nvGrpSpPr>
            <p:grpSpPr>
              <a:xfrm>
                <a:off x="4966200" y="2355120"/>
                <a:ext cx="672480" cy="671040"/>
                <a:chOff x="4966200" y="2355120"/>
                <a:chExt cx="672480" cy="671040"/>
              </a:xfrm>
            </p:grpSpPr>
            <p:grpSp>
              <p:nvGrpSpPr>
                <p:cNvPr id="110" name="Group 23"/>
                <p:cNvGrpSpPr/>
                <p:nvPr/>
              </p:nvGrpSpPr>
              <p:grpSpPr>
                <a:xfrm>
                  <a:off x="4966200" y="2355120"/>
                  <a:ext cx="672480" cy="671040"/>
                  <a:chOff x="4966200" y="2355120"/>
                  <a:chExt cx="672480" cy="671040"/>
                </a:xfrm>
              </p:grpSpPr>
              <p:grpSp>
                <p:nvGrpSpPr>
                  <p:cNvPr id="111" name="Group 24"/>
                  <p:cNvGrpSpPr/>
                  <p:nvPr/>
                </p:nvGrpSpPr>
                <p:grpSpPr>
                  <a:xfrm>
                    <a:off x="5155560" y="2355120"/>
                    <a:ext cx="292320" cy="671040"/>
                    <a:chOff x="5155560" y="2355120"/>
                    <a:chExt cx="292320" cy="671040"/>
                  </a:xfrm>
                </p:grpSpPr>
                <p:sp>
                  <p:nvSpPr>
                    <p:cNvPr id="112" name="AutoShape 25"/>
                    <p:cNvSpPr/>
                    <p:nvPr/>
                  </p:nvSpPr>
                  <p:spPr>
                    <a:xfrm rot="1320000">
                      <a:off x="5354280" y="2347200"/>
                      <a:ext cx="27720" cy="3567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AutoShape 26"/>
                    <p:cNvSpPr/>
                    <p:nvPr/>
                  </p:nvSpPr>
                  <p:spPr>
                    <a:xfrm flipV="1" rot="1320000">
                      <a:off x="5221080" y="2676960"/>
                      <a:ext cx="27720" cy="3564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4" name="Group 27"/>
                  <p:cNvGrpSpPr/>
                  <p:nvPr/>
                </p:nvGrpSpPr>
                <p:grpSpPr>
                  <a:xfrm>
                    <a:off x="4966200" y="2544120"/>
                    <a:ext cx="672480" cy="293040"/>
                    <a:chOff x="4966200" y="2544120"/>
                    <a:chExt cx="672480" cy="293040"/>
                  </a:xfrm>
                </p:grpSpPr>
                <p:sp>
                  <p:nvSpPr>
                    <p:cNvPr id="115" name="AutoShape 28"/>
                    <p:cNvSpPr/>
                    <p:nvPr/>
                  </p:nvSpPr>
                  <p:spPr>
                    <a:xfrm rot="6720000">
                      <a:off x="5453640" y="2578320"/>
                      <a:ext cx="27720" cy="3578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AutoShape 29"/>
                    <p:cNvSpPr/>
                    <p:nvPr/>
                  </p:nvSpPr>
                  <p:spPr>
                    <a:xfrm flipV="1" rot="6720000">
                      <a:off x="5123160" y="2444400"/>
                      <a:ext cx="27720" cy="3574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7" name="Group 30"/>
                <p:cNvGrpSpPr/>
                <p:nvPr/>
              </p:nvGrpSpPr>
              <p:grpSpPr>
                <a:xfrm>
                  <a:off x="4967280" y="2356920"/>
                  <a:ext cx="666720" cy="668520"/>
                  <a:chOff x="4967280" y="2356920"/>
                  <a:chExt cx="666720" cy="668520"/>
                </a:xfrm>
              </p:grpSpPr>
              <p:grpSp>
                <p:nvGrpSpPr>
                  <p:cNvPr id="118" name="Group 31"/>
                  <p:cNvGrpSpPr/>
                  <p:nvPr/>
                </p:nvGrpSpPr>
                <p:grpSpPr>
                  <a:xfrm>
                    <a:off x="4967280" y="2539080"/>
                    <a:ext cx="666720" cy="304200"/>
                    <a:chOff x="4967280" y="2539080"/>
                    <a:chExt cx="666720" cy="304200"/>
                  </a:xfrm>
                </p:grpSpPr>
                <p:sp>
                  <p:nvSpPr>
                    <p:cNvPr id="119" name="AutoShape 32"/>
                    <p:cNvSpPr/>
                    <p:nvPr/>
                  </p:nvSpPr>
                  <p:spPr>
                    <a:xfrm rot="4020000">
                      <a:off x="5450400" y="2442960"/>
                      <a:ext cx="27720" cy="3567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AutoShape 33"/>
                    <p:cNvSpPr/>
                    <p:nvPr/>
                  </p:nvSpPr>
                  <p:spPr>
                    <a:xfrm flipV="1" rot="4020000">
                      <a:off x="5122800" y="2582280"/>
                      <a:ext cx="27720" cy="3567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" name="Group 34"/>
                  <p:cNvGrpSpPr/>
                  <p:nvPr/>
                </p:nvGrpSpPr>
                <p:grpSpPr>
                  <a:xfrm>
                    <a:off x="5148720" y="2356920"/>
                    <a:ext cx="304560" cy="668520"/>
                    <a:chOff x="5148720" y="2356920"/>
                    <a:chExt cx="304560" cy="668520"/>
                  </a:xfrm>
                </p:grpSpPr>
                <p:sp>
                  <p:nvSpPr>
                    <p:cNvPr id="122" name="AutoShape 35"/>
                    <p:cNvSpPr/>
                    <p:nvPr/>
                  </p:nvSpPr>
                  <p:spPr>
                    <a:xfrm rot="9420000">
                      <a:off x="5356800" y="2676600"/>
                      <a:ext cx="27720" cy="3574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AutoShape 36"/>
                    <p:cNvSpPr/>
                    <p:nvPr/>
                  </p:nvSpPr>
                  <p:spPr>
                    <a:xfrm flipV="1" rot="9420000">
                      <a:off x="5217480" y="2347920"/>
                      <a:ext cx="27720" cy="3574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24" name="Freeform 37"/>
          <p:cNvSpPr/>
          <p:nvPr/>
        </p:nvSpPr>
        <p:spPr>
          <a:xfrm>
            <a:off x="-919080" y="98280"/>
            <a:ext cx="4762440" cy="4038840"/>
          </a:xfrm>
          <a:custGeom>
            <a:avLst/>
            <a:gdLst/>
            <a:ahLst/>
            <a:rect l="l" t="t" r="r" b="b"/>
            <a:pathLst>
              <a:path w="3000" h="2544">
                <a:moveTo>
                  <a:pt x="0" y="0"/>
                </a:moveTo>
                <a:cubicBezTo>
                  <a:pt x="185" y="160"/>
                  <a:pt x="845" y="602"/>
                  <a:pt x="1095" y="960"/>
                </a:cubicBezTo>
                <a:cubicBezTo>
                  <a:pt x="1345" y="1318"/>
                  <a:pt x="1183" y="1884"/>
                  <a:pt x="1500" y="2148"/>
                </a:cubicBezTo>
                <a:cubicBezTo>
                  <a:pt x="1817" y="2412"/>
                  <a:pt x="2688" y="2462"/>
                  <a:pt x="3000" y="2544"/>
                </a:cubicBezTo>
              </a:path>
            </a:pathLst>
          </a:custGeom>
          <a:noFill/>
          <a:ln cap="rnd" w="1440">
            <a:solidFill>
              <a:srgbClr val="ffffff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38"/>
          <p:cNvSpPr/>
          <p:nvPr/>
        </p:nvSpPr>
        <p:spPr>
          <a:xfrm>
            <a:off x="3807000" y="4140360"/>
            <a:ext cx="5391000" cy="3429000"/>
          </a:xfrm>
          <a:custGeom>
            <a:avLst/>
            <a:gdLst/>
            <a:ahLst/>
            <a:rect l="l" t="t" r="r" b="b"/>
            <a:pathLst>
              <a:path w="3396" h="2160">
                <a:moveTo>
                  <a:pt x="3396" y="2160"/>
                </a:moveTo>
                <a:cubicBezTo>
                  <a:pt x="3346" y="2092"/>
                  <a:pt x="3266" y="1966"/>
                  <a:pt x="3096" y="1752"/>
                </a:cubicBezTo>
                <a:cubicBezTo>
                  <a:pt x="2926" y="1538"/>
                  <a:pt x="2892" y="1168"/>
                  <a:pt x="2376" y="876"/>
                </a:cubicBezTo>
                <a:cubicBezTo>
                  <a:pt x="1860" y="584"/>
                  <a:pt x="495" y="182"/>
                  <a:pt x="0" y="0"/>
                </a:cubicBezTo>
              </a:path>
            </a:pathLst>
          </a:custGeom>
          <a:noFill/>
          <a:ln cap="rnd" w="1440">
            <a:solidFill>
              <a:srgbClr val="ffffff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39"/>
          <p:cNvGrpSpPr/>
          <p:nvPr/>
        </p:nvGrpSpPr>
        <p:grpSpPr>
          <a:xfrm>
            <a:off x="3311280" y="3608280"/>
            <a:ext cx="1020600" cy="1020960"/>
            <a:chOff x="3311280" y="3608280"/>
            <a:chExt cx="1020600" cy="1020960"/>
          </a:xfrm>
        </p:grpSpPr>
        <p:sp>
          <p:nvSpPr>
            <p:cNvPr id="127" name="Oval 40"/>
            <p:cNvSpPr/>
            <p:nvPr/>
          </p:nvSpPr>
          <p:spPr>
            <a:xfrm>
              <a:off x="3311640" y="3643200"/>
              <a:ext cx="985680" cy="986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Group 41"/>
            <p:cNvGrpSpPr/>
            <p:nvPr/>
          </p:nvGrpSpPr>
          <p:grpSpPr>
            <a:xfrm>
              <a:off x="3311280" y="3608280"/>
              <a:ext cx="1020600" cy="1017720"/>
              <a:chOff x="3311280" y="3608280"/>
              <a:chExt cx="1020600" cy="1017720"/>
            </a:xfrm>
          </p:grpSpPr>
          <p:grpSp>
            <p:nvGrpSpPr>
              <p:cNvPr id="129" name="Group 42"/>
              <p:cNvGrpSpPr/>
              <p:nvPr/>
            </p:nvGrpSpPr>
            <p:grpSpPr>
              <a:xfrm>
                <a:off x="3311280" y="3608280"/>
                <a:ext cx="1020600" cy="1017720"/>
                <a:chOff x="3311280" y="3608280"/>
                <a:chExt cx="1020600" cy="1017720"/>
              </a:xfrm>
            </p:grpSpPr>
            <p:grpSp>
              <p:nvGrpSpPr>
                <p:cNvPr id="130" name="Group 43"/>
                <p:cNvGrpSpPr/>
                <p:nvPr/>
              </p:nvGrpSpPr>
              <p:grpSpPr>
                <a:xfrm>
                  <a:off x="3311280" y="3608280"/>
                  <a:ext cx="1020600" cy="1017720"/>
                  <a:chOff x="3311280" y="3608280"/>
                  <a:chExt cx="1020600" cy="1017720"/>
                </a:xfrm>
              </p:grpSpPr>
              <p:grpSp>
                <p:nvGrpSpPr>
                  <p:cNvPr id="131" name="Group 44"/>
                  <p:cNvGrpSpPr/>
                  <p:nvPr/>
                </p:nvGrpSpPr>
                <p:grpSpPr>
                  <a:xfrm>
                    <a:off x="3801600" y="3608280"/>
                    <a:ext cx="39960" cy="1017720"/>
                    <a:chOff x="3801600" y="3608280"/>
                    <a:chExt cx="39960" cy="1017720"/>
                  </a:xfrm>
                </p:grpSpPr>
                <p:sp>
                  <p:nvSpPr>
                    <p:cNvPr id="132" name="AutoShape 45"/>
                    <p:cNvSpPr/>
                    <p:nvPr/>
                  </p:nvSpPr>
                  <p:spPr>
                    <a:xfrm>
                      <a:off x="3801600" y="3608280"/>
                      <a:ext cx="39960" cy="5094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AutoShape 46"/>
                    <p:cNvSpPr/>
                    <p:nvPr/>
                  </p:nvSpPr>
                  <p:spPr>
                    <a:xfrm flipV="1">
                      <a:off x="3801600" y="4116960"/>
                      <a:ext cx="39960" cy="5090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4" name="Group 47"/>
                  <p:cNvGrpSpPr/>
                  <p:nvPr/>
                </p:nvGrpSpPr>
                <p:grpSpPr>
                  <a:xfrm>
                    <a:off x="3311280" y="4096800"/>
                    <a:ext cx="1020600" cy="39600"/>
                    <a:chOff x="3311280" y="4096800"/>
                    <a:chExt cx="1020600" cy="39600"/>
                  </a:xfrm>
                </p:grpSpPr>
                <p:sp>
                  <p:nvSpPr>
                    <p:cNvPr id="135" name="AutoShape 48"/>
                    <p:cNvSpPr/>
                    <p:nvPr/>
                  </p:nvSpPr>
                  <p:spPr>
                    <a:xfrm rot="5400000">
                      <a:off x="4056840" y="3861360"/>
                      <a:ext cx="39600" cy="5104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AutoShape 49"/>
                    <p:cNvSpPr/>
                    <p:nvPr/>
                  </p:nvSpPr>
                  <p:spPr>
                    <a:xfrm flipV="1" rot="5400000">
                      <a:off x="3546720" y="3861360"/>
                      <a:ext cx="39600" cy="5104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7" name="Group 50"/>
                <p:cNvGrpSpPr/>
                <p:nvPr/>
              </p:nvGrpSpPr>
              <p:grpSpPr>
                <a:xfrm>
                  <a:off x="3445920" y="3743640"/>
                  <a:ext cx="749520" cy="749880"/>
                  <a:chOff x="3445920" y="3743640"/>
                  <a:chExt cx="749520" cy="749880"/>
                </a:xfrm>
              </p:grpSpPr>
              <p:grpSp>
                <p:nvGrpSpPr>
                  <p:cNvPr id="138" name="Group 51"/>
                  <p:cNvGrpSpPr/>
                  <p:nvPr/>
                </p:nvGrpSpPr>
                <p:grpSpPr>
                  <a:xfrm>
                    <a:off x="3445920" y="3744720"/>
                    <a:ext cx="747720" cy="747720"/>
                    <a:chOff x="3445920" y="3744720"/>
                    <a:chExt cx="747720" cy="747720"/>
                  </a:xfrm>
                </p:grpSpPr>
                <p:sp>
                  <p:nvSpPr>
                    <p:cNvPr id="139" name="AutoShape 52"/>
                    <p:cNvSpPr/>
                    <p:nvPr/>
                  </p:nvSpPr>
                  <p:spPr>
                    <a:xfrm rot="2700000">
                      <a:off x="3979440" y="3684240"/>
                      <a:ext cx="39960" cy="5090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AutoShape 53"/>
                    <p:cNvSpPr/>
                    <p:nvPr/>
                  </p:nvSpPr>
                  <p:spPr>
                    <a:xfrm flipV="1" rot="2700000">
                      <a:off x="3619800" y="4043520"/>
                      <a:ext cx="39960" cy="5090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1" name="Group 54"/>
                  <p:cNvGrpSpPr/>
                  <p:nvPr/>
                </p:nvGrpSpPr>
                <p:grpSpPr>
                  <a:xfrm>
                    <a:off x="3445920" y="3743640"/>
                    <a:ext cx="749520" cy="749880"/>
                    <a:chOff x="3445920" y="3743640"/>
                    <a:chExt cx="749520" cy="749880"/>
                  </a:xfrm>
                </p:grpSpPr>
                <p:sp>
                  <p:nvSpPr>
                    <p:cNvPr id="142" name="AutoShape 55"/>
                    <p:cNvSpPr/>
                    <p:nvPr/>
                  </p:nvSpPr>
                  <p:spPr>
                    <a:xfrm rot="8100000">
                      <a:off x="3980880" y="4043160"/>
                      <a:ext cx="39600" cy="5108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AutoShape 56"/>
                    <p:cNvSpPr/>
                    <p:nvPr/>
                  </p:nvSpPr>
                  <p:spPr>
                    <a:xfrm flipV="1" rot="8100000">
                      <a:off x="3620520" y="3682440"/>
                      <a:ext cx="39600" cy="5104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4" name="Group 57"/>
              <p:cNvGrpSpPr/>
              <p:nvPr/>
            </p:nvGrpSpPr>
            <p:grpSpPr>
              <a:xfrm>
                <a:off x="3479760" y="3795120"/>
                <a:ext cx="672480" cy="671040"/>
                <a:chOff x="3479760" y="3795120"/>
                <a:chExt cx="672480" cy="671040"/>
              </a:xfrm>
            </p:grpSpPr>
            <p:grpSp>
              <p:nvGrpSpPr>
                <p:cNvPr id="145" name="Group 58"/>
                <p:cNvGrpSpPr/>
                <p:nvPr/>
              </p:nvGrpSpPr>
              <p:grpSpPr>
                <a:xfrm>
                  <a:off x="3479760" y="3795120"/>
                  <a:ext cx="672480" cy="671040"/>
                  <a:chOff x="3479760" y="3795120"/>
                  <a:chExt cx="672480" cy="671040"/>
                </a:xfrm>
              </p:grpSpPr>
              <p:grpSp>
                <p:nvGrpSpPr>
                  <p:cNvPr id="146" name="Group 59"/>
                  <p:cNvGrpSpPr/>
                  <p:nvPr/>
                </p:nvGrpSpPr>
                <p:grpSpPr>
                  <a:xfrm>
                    <a:off x="3669480" y="3795120"/>
                    <a:ext cx="292680" cy="671040"/>
                    <a:chOff x="3669480" y="3795120"/>
                    <a:chExt cx="292680" cy="671040"/>
                  </a:xfrm>
                </p:grpSpPr>
                <p:sp>
                  <p:nvSpPr>
                    <p:cNvPr id="147" name="AutoShape 60"/>
                    <p:cNvSpPr/>
                    <p:nvPr/>
                  </p:nvSpPr>
                  <p:spPr>
                    <a:xfrm rot="1320000">
                      <a:off x="3868560" y="3787200"/>
                      <a:ext cx="27720" cy="3567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AutoShape 61"/>
                    <p:cNvSpPr/>
                    <p:nvPr/>
                  </p:nvSpPr>
                  <p:spPr>
                    <a:xfrm flipV="1" rot="1320000">
                      <a:off x="3735000" y="4116960"/>
                      <a:ext cx="27720" cy="3567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" name="Group 62"/>
                  <p:cNvGrpSpPr/>
                  <p:nvPr/>
                </p:nvGrpSpPr>
                <p:grpSpPr>
                  <a:xfrm>
                    <a:off x="3479760" y="3984120"/>
                    <a:ext cx="672480" cy="293040"/>
                    <a:chOff x="3479760" y="3984120"/>
                    <a:chExt cx="672480" cy="293040"/>
                  </a:xfrm>
                </p:grpSpPr>
                <p:sp>
                  <p:nvSpPr>
                    <p:cNvPr id="150" name="AutoShape 63"/>
                    <p:cNvSpPr/>
                    <p:nvPr/>
                  </p:nvSpPr>
                  <p:spPr>
                    <a:xfrm rot="6720000">
                      <a:off x="3967200" y="4018680"/>
                      <a:ext cx="27720" cy="3574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AutoShape 64"/>
                    <p:cNvSpPr/>
                    <p:nvPr/>
                  </p:nvSpPr>
                  <p:spPr>
                    <a:xfrm flipV="1" rot="6720000">
                      <a:off x="3636720" y="3884400"/>
                      <a:ext cx="27720" cy="3574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52" name="Group 65"/>
                <p:cNvGrpSpPr/>
                <p:nvPr/>
              </p:nvGrpSpPr>
              <p:grpSpPr>
                <a:xfrm>
                  <a:off x="3481920" y="3797280"/>
                  <a:ext cx="666360" cy="668520"/>
                  <a:chOff x="3481920" y="3797280"/>
                  <a:chExt cx="666360" cy="668520"/>
                </a:xfrm>
              </p:grpSpPr>
              <p:grpSp>
                <p:nvGrpSpPr>
                  <p:cNvPr id="153" name="Group 66"/>
                  <p:cNvGrpSpPr/>
                  <p:nvPr/>
                </p:nvGrpSpPr>
                <p:grpSpPr>
                  <a:xfrm>
                    <a:off x="3481920" y="3979080"/>
                    <a:ext cx="666360" cy="303480"/>
                    <a:chOff x="3481920" y="3979080"/>
                    <a:chExt cx="666360" cy="303480"/>
                  </a:xfrm>
                </p:grpSpPr>
                <p:sp>
                  <p:nvSpPr>
                    <p:cNvPr id="154" name="AutoShape 67"/>
                    <p:cNvSpPr/>
                    <p:nvPr/>
                  </p:nvSpPr>
                  <p:spPr>
                    <a:xfrm rot="4020000">
                      <a:off x="3964680" y="3882960"/>
                      <a:ext cx="27720" cy="3567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AutoShape 68"/>
                    <p:cNvSpPr/>
                    <p:nvPr/>
                  </p:nvSpPr>
                  <p:spPr>
                    <a:xfrm flipV="1" rot="4020000">
                      <a:off x="3637440" y="4021560"/>
                      <a:ext cx="27720" cy="3564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Group 69"/>
                  <p:cNvGrpSpPr/>
                  <p:nvPr/>
                </p:nvGrpSpPr>
                <p:grpSpPr>
                  <a:xfrm>
                    <a:off x="3663360" y="3797280"/>
                    <a:ext cx="304560" cy="668520"/>
                    <a:chOff x="3663360" y="3797280"/>
                    <a:chExt cx="304560" cy="668520"/>
                  </a:xfrm>
                </p:grpSpPr>
                <p:sp>
                  <p:nvSpPr>
                    <p:cNvPr id="157" name="AutoShape 70"/>
                    <p:cNvSpPr/>
                    <p:nvPr/>
                  </p:nvSpPr>
                  <p:spPr>
                    <a:xfrm rot="9420000">
                      <a:off x="3871080" y="4116600"/>
                      <a:ext cx="27720" cy="3578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AutoShape 71"/>
                    <p:cNvSpPr/>
                    <p:nvPr/>
                  </p:nvSpPr>
                  <p:spPr>
                    <a:xfrm flipV="1" rot="9420000">
                      <a:off x="3732120" y="3788280"/>
                      <a:ext cx="27720" cy="3574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59" name=""/>
          <p:cNvGrpSpPr/>
          <p:nvPr/>
        </p:nvGrpSpPr>
        <p:grpSpPr>
          <a:xfrm>
            <a:off x="-1459080" y="638280"/>
            <a:ext cx="5334120" cy="2057400"/>
            <a:chOff x="-1459080" y="638280"/>
            <a:chExt cx="5334120" cy="2057400"/>
          </a:xfrm>
        </p:grpSpPr>
        <p:sp>
          <p:nvSpPr>
            <p:cNvPr id="160" name="Line 72"/>
            <p:cNvSpPr/>
            <p:nvPr/>
          </p:nvSpPr>
          <p:spPr>
            <a:xfrm>
              <a:off x="-1459080" y="638280"/>
              <a:ext cx="5334120" cy="2057400"/>
            </a:xfrm>
            <a:prstGeom prst="line">
              <a:avLst/>
            </a:prstGeom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-1459080" y="638280"/>
              <a:ext cx="533412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897360" y="2708280"/>
            <a:ext cx="5638680" cy="2057400"/>
            <a:chOff x="3897360" y="2708280"/>
            <a:chExt cx="5638680" cy="2057400"/>
          </a:xfrm>
        </p:grpSpPr>
        <p:sp>
          <p:nvSpPr>
            <p:cNvPr id="163" name="Line 73"/>
            <p:cNvSpPr/>
            <p:nvPr/>
          </p:nvSpPr>
          <p:spPr>
            <a:xfrm>
              <a:off x="3897360" y="2708280"/>
              <a:ext cx="5638680" cy="2057400"/>
            </a:xfrm>
            <a:prstGeom prst="line">
              <a:avLst/>
            </a:prstGeom>
            <a:ln w="1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3897360" y="2708280"/>
              <a:ext cx="563868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74"/>
          <p:cNvGrpSpPr/>
          <p:nvPr/>
        </p:nvGrpSpPr>
        <p:grpSpPr>
          <a:xfrm>
            <a:off x="3357360" y="2168640"/>
            <a:ext cx="1020600" cy="1020600"/>
            <a:chOff x="3357360" y="2168640"/>
            <a:chExt cx="1020600" cy="1020600"/>
          </a:xfrm>
        </p:grpSpPr>
        <p:sp>
          <p:nvSpPr>
            <p:cNvPr id="166" name="Oval 75"/>
            <p:cNvSpPr/>
            <p:nvPr/>
          </p:nvSpPr>
          <p:spPr>
            <a:xfrm>
              <a:off x="3357720" y="2203560"/>
              <a:ext cx="985680" cy="985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Group 76"/>
            <p:cNvGrpSpPr/>
            <p:nvPr/>
          </p:nvGrpSpPr>
          <p:grpSpPr>
            <a:xfrm>
              <a:off x="3357360" y="2168640"/>
              <a:ext cx="1020600" cy="1017720"/>
              <a:chOff x="3357360" y="2168640"/>
              <a:chExt cx="1020600" cy="1017720"/>
            </a:xfrm>
          </p:grpSpPr>
          <p:grpSp>
            <p:nvGrpSpPr>
              <p:cNvPr id="168" name="Group 77"/>
              <p:cNvGrpSpPr/>
              <p:nvPr/>
            </p:nvGrpSpPr>
            <p:grpSpPr>
              <a:xfrm>
                <a:off x="3357360" y="2168640"/>
                <a:ext cx="1020600" cy="1017720"/>
                <a:chOff x="3357360" y="2168640"/>
                <a:chExt cx="1020600" cy="1017720"/>
              </a:xfrm>
            </p:grpSpPr>
            <p:grpSp>
              <p:nvGrpSpPr>
                <p:cNvPr id="169" name="Group 78"/>
                <p:cNvGrpSpPr/>
                <p:nvPr/>
              </p:nvGrpSpPr>
              <p:grpSpPr>
                <a:xfrm>
                  <a:off x="3357360" y="2168640"/>
                  <a:ext cx="1020600" cy="1017720"/>
                  <a:chOff x="3357360" y="2168640"/>
                  <a:chExt cx="1020600" cy="1017720"/>
                </a:xfrm>
              </p:grpSpPr>
              <p:grpSp>
                <p:nvGrpSpPr>
                  <p:cNvPr id="170" name="Group 79"/>
                  <p:cNvGrpSpPr/>
                  <p:nvPr/>
                </p:nvGrpSpPr>
                <p:grpSpPr>
                  <a:xfrm>
                    <a:off x="3847680" y="2168640"/>
                    <a:ext cx="39960" cy="1017720"/>
                    <a:chOff x="3847680" y="2168640"/>
                    <a:chExt cx="39960" cy="1017720"/>
                  </a:xfrm>
                </p:grpSpPr>
                <p:sp>
                  <p:nvSpPr>
                    <p:cNvPr id="171" name="AutoShape 80"/>
                    <p:cNvSpPr/>
                    <p:nvPr/>
                  </p:nvSpPr>
                  <p:spPr>
                    <a:xfrm>
                      <a:off x="3847680" y="2168640"/>
                      <a:ext cx="39960" cy="5090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AutoShape 81"/>
                    <p:cNvSpPr/>
                    <p:nvPr/>
                  </p:nvSpPr>
                  <p:spPr>
                    <a:xfrm flipV="1">
                      <a:off x="3847680" y="2677320"/>
                      <a:ext cx="39960" cy="5090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3" name="Group 82"/>
                  <p:cNvGrpSpPr/>
                  <p:nvPr/>
                </p:nvGrpSpPr>
                <p:grpSpPr>
                  <a:xfrm>
                    <a:off x="3357360" y="2657160"/>
                    <a:ext cx="1020600" cy="39600"/>
                    <a:chOff x="3357360" y="2657160"/>
                    <a:chExt cx="1020600" cy="39600"/>
                  </a:xfrm>
                </p:grpSpPr>
                <p:sp>
                  <p:nvSpPr>
                    <p:cNvPr id="174" name="AutoShape 83"/>
                    <p:cNvSpPr/>
                    <p:nvPr/>
                  </p:nvSpPr>
                  <p:spPr>
                    <a:xfrm rot="5400000">
                      <a:off x="4102920" y="2421720"/>
                      <a:ext cx="39600" cy="5104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" name="AutoShape 84"/>
                    <p:cNvSpPr/>
                    <p:nvPr/>
                  </p:nvSpPr>
                  <p:spPr>
                    <a:xfrm flipV="1" rot="5400000">
                      <a:off x="3592800" y="2421720"/>
                      <a:ext cx="39600" cy="5104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76" name="Group 85"/>
                <p:cNvGrpSpPr/>
                <p:nvPr/>
              </p:nvGrpSpPr>
              <p:grpSpPr>
                <a:xfrm>
                  <a:off x="3491640" y="2303640"/>
                  <a:ext cx="749880" cy="749520"/>
                  <a:chOff x="3491640" y="2303640"/>
                  <a:chExt cx="749880" cy="749520"/>
                </a:xfrm>
              </p:grpSpPr>
              <p:grpSp>
                <p:nvGrpSpPr>
                  <p:cNvPr id="177" name="Group 86"/>
                  <p:cNvGrpSpPr/>
                  <p:nvPr/>
                </p:nvGrpSpPr>
                <p:grpSpPr>
                  <a:xfrm>
                    <a:off x="3492360" y="2304720"/>
                    <a:ext cx="747720" cy="748080"/>
                    <a:chOff x="3492360" y="2304720"/>
                    <a:chExt cx="747720" cy="748080"/>
                  </a:xfrm>
                </p:grpSpPr>
                <p:sp>
                  <p:nvSpPr>
                    <p:cNvPr id="178" name="AutoShape 87"/>
                    <p:cNvSpPr/>
                    <p:nvPr/>
                  </p:nvSpPr>
                  <p:spPr>
                    <a:xfrm rot="2700000">
                      <a:off x="4025880" y="2244240"/>
                      <a:ext cx="39960" cy="5090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AutoShape 88"/>
                    <p:cNvSpPr/>
                    <p:nvPr/>
                  </p:nvSpPr>
                  <p:spPr>
                    <a:xfrm flipV="1" rot="2700000">
                      <a:off x="3666240" y="2603880"/>
                      <a:ext cx="39960" cy="5090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0" name="Group 89"/>
                  <p:cNvGrpSpPr/>
                  <p:nvPr/>
                </p:nvGrpSpPr>
                <p:grpSpPr>
                  <a:xfrm>
                    <a:off x="3491640" y="2303640"/>
                    <a:ext cx="749880" cy="749520"/>
                    <a:chOff x="3491640" y="2303640"/>
                    <a:chExt cx="749880" cy="749520"/>
                  </a:xfrm>
                </p:grpSpPr>
                <p:sp>
                  <p:nvSpPr>
                    <p:cNvPr id="181" name="AutoShape 90"/>
                    <p:cNvSpPr/>
                    <p:nvPr/>
                  </p:nvSpPr>
                  <p:spPr>
                    <a:xfrm rot="8100000">
                      <a:off x="4026960" y="2603160"/>
                      <a:ext cx="39600" cy="5104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AutoShape 91"/>
                    <p:cNvSpPr/>
                    <p:nvPr/>
                  </p:nvSpPr>
                  <p:spPr>
                    <a:xfrm flipV="1" rot="8100000">
                      <a:off x="3666240" y="2242440"/>
                      <a:ext cx="39600" cy="5104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83" name="Group 92"/>
              <p:cNvGrpSpPr/>
              <p:nvPr/>
            </p:nvGrpSpPr>
            <p:grpSpPr>
              <a:xfrm>
                <a:off x="3525840" y="2355480"/>
                <a:ext cx="672480" cy="670680"/>
                <a:chOff x="3525840" y="2355480"/>
                <a:chExt cx="672480" cy="670680"/>
              </a:xfrm>
            </p:grpSpPr>
            <p:grpSp>
              <p:nvGrpSpPr>
                <p:cNvPr id="184" name="Group 93"/>
                <p:cNvGrpSpPr/>
                <p:nvPr/>
              </p:nvGrpSpPr>
              <p:grpSpPr>
                <a:xfrm>
                  <a:off x="3525840" y="2355480"/>
                  <a:ext cx="672480" cy="670680"/>
                  <a:chOff x="3525840" y="2355480"/>
                  <a:chExt cx="672480" cy="670680"/>
                </a:xfrm>
              </p:grpSpPr>
              <p:grpSp>
                <p:nvGrpSpPr>
                  <p:cNvPr id="185" name="Group 94"/>
                  <p:cNvGrpSpPr/>
                  <p:nvPr/>
                </p:nvGrpSpPr>
                <p:grpSpPr>
                  <a:xfrm>
                    <a:off x="3715560" y="2355480"/>
                    <a:ext cx="292320" cy="670680"/>
                    <a:chOff x="3715560" y="2355480"/>
                    <a:chExt cx="292320" cy="670680"/>
                  </a:xfrm>
                </p:grpSpPr>
                <p:sp>
                  <p:nvSpPr>
                    <p:cNvPr id="186" name="AutoShape 95"/>
                    <p:cNvSpPr/>
                    <p:nvPr/>
                  </p:nvSpPr>
                  <p:spPr>
                    <a:xfrm rot="1320000">
                      <a:off x="3914280" y="2347560"/>
                      <a:ext cx="27720" cy="3567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AutoShape 96"/>
                    <p:cNvSpPr/>
                    <p:nvPr/>
                  </p:nvSpPr>
                  <p:spPr>
                    <a:xfrm flipV="1" rot="1320000">
                      <a:off x="3781080" y="2676960"/>
                      <a:ext cx="27720" cy="3564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8" name="Group 97"/>
                  <p:cNvGrpSpPr/>
                  <p:nvPr/>
                </p:nvGrpSpPr>
                <p:grpSpPr>
                  <a:xfrm>
                    <a:off x="3525840" y="2544120"/>
                    <a:ext cx="672480" cy="293040"/>
                    <a:chOff x="3525840" y="2544120"/>
                    <a:chExt cx="672480" cy="293040"/>
                  </a:xfrm>
                </p:grpSpPr>
                <p:sp>
                  <p:nvSpPr>
                    <p:cNvPr id="189" name="AutoShape 98"/>
                    <p:cNvSpPr/>
                    <p:nvPr/>
                  </p:nvSpPr>
                  <p:spPr>
                    <a:xfrm rot="6720000">
                      <a:off x="4013280" y="2578680"/>
                      <a:ext cx="27720" cy="3574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AutoShape 99"/>
                    <p:cNvSpPr/>
                    <p:nvPr/>
                  </p:nvSpPr>
                  <p:spPr>
                    <a:xfrm flipV="1" rot="6720000">
                      <a:off x="3682800" y="2444400"/>
                      <a:ext cx="27720" cy="3574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91" name="Group 100"/>
                <p:cNvGrpSpPr/>
                <p:nvPr/>
              </p:nvGrpSpPr>
              <p:grpSpPr>
                <a:xfrm>
                  <a:off x="3528000" y="2357280"/>
                  <a:ext cx="666360" cy="668160"/>
                  <a:chOff x="3528000" y="2357280"/>
                  <a:chExt cx="666360" cy="668160"/>
                </a:xfrm>
              </p:grpSpPr>
              <p:grpSp>
                <p:nvGrpSpPr>
                  <p:cNvPr id="192" name="Group 101"/>
                  <p:cNvGrpSpPr/>
                  <p:nvPr/>
                </p:nvGrpSpPr>
                <p:grpSpPr>
                  <a:xfrm>
                    <a:off x="3528000" y="2539080"/>
                    <a:ext cx="666360" cy="304200"/>
                    <a:chOff x="3528000" y="2539080"/>
                    <a:chExt cx="666360" cy="304200"/>
                  </a:xfrm>
                </p:grpSpPr>
                <p:sp>
                  <p:nvSpPr>
                    <p:cNvPr id="193" name="AutoShape 102"/>
                    <p:cNvSpPr/>
                    <p:nvPr/>
                  </p:nvSpPr>
                  <p:spPr>
                    <a:xfrm rot="4020000">
                      <a:off x="4010760" y="2442960"/>
                      <a:ext cx="27720" cy="3567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AutoShape 103"/>
                    <p:cNvSpPr/>
                    <p:nvPr/>
                  </p:nvSpPr>
                  <p:spPr>
                    <a:xfrm flipV="1" rot="4020000">
                      <a:off x="3683520" y="2582280"/>
                      <a:ext cx="27720" cy="3564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Group 104"/>
                  <p:cNvGrpSpPr/>
                  <p:nvPr/>
                </p:nvGrpSpPr>
                <p:grpSpPr>
                  <a:xfrm>
                    <a:off x="3709080" y="2357280"/>
                    <a:ext cx="304920" cy="668160"/>
                    <a:chOff x="3709080" y="2357280"/>
                    <a:chExt cx="304920" cy="668160"/>
                  </a:xfrm>
                </p:grpSpPr>
                <p:sp>
                  <p:nvSpPr>
                    <p:cNvPr id="196" name="AutoShape 105"/>
                    <p:cNvSpPr/>
                    <p:nvPr/>
                  </p:nvSpPr>
                  <p:spPr>
                    <a:xfrm rot="9420000">
                      <a:off x="3917520" y="2676600"/>
                      <a:ext cx="27720" cy="3574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AutoShape 106"/>
                    <p:cNvSpPr/>
                    <p:nvPr/>
                  </p:nvSpPr>
                  <p:spPr>
                    <a:xfrm flipV="1" rot="9420000">
                      <a:off x="3777840" y="2348280"/>
                      <a:ext cx="27720" cy="3574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98" name="Group 111"/>
          <p:cNvGrpSpPr/>
          <p:nvPr/>
        </p:nvGrpSpPr>
        <p:grpSpPr>
          <a:xfrm>
            <a:off x="3489480" y="2346480"/>
            <a:ext cx="2163600" cy="2163240"/>
            <a:chOff x="3489480" y="2346480"/>
            <a:chExt cx="2163600" cy="2163240"/>
          </a:xfrm>
        </p:grpSpPr>
        <p:sp>
          <p:nvSpPr>
            <p:cNvPr id="199" name="Oval 112"/>
            <p:cNvSpPr/>
            <p:nvPr/>
          </p:nvSpPr>
          <p:spPr>
            <a:xfrm>
              <a:off x="3489480" y="2420640"/>
              <a:ext cx="2089080" cy="2089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Group 113"/>
            <p:cNvGrpSpPr/>
            <p:nvPr/>
          </p:nvGrpSpPr>
          <p:grpSpPr>
            <a:xfrm>
              <a:off x="3489840" y="2346480"/>
              <a:ext cx="2163240" cy="2156760"/>
              <a:chOff x="3489840" y="2346480"/>
              <a:chExt cx="2163240" cy="2156760"/>
            </a:xfrm>
          </p:grpSpPr>
          <p:grpSp>
            <p:nvGrpSpPr>
              <p:cNvPr id="201" name="Group 114"/>
              <p:cNvGrpSpPr/>
              <p:nvPr/>
            </p:nvGrpSpPr>
            <p:grpSpPr>
              <a:xfrm>
                <a:off x="3489840" y="2346480"/>
                <a:ext cx="2163240" cy="2156760"/>
                <a:chOff x="3489840" y="2346480"/>
                <a:chExt cx="2163240" cy="2156760"/>
              </a:xfrm>
            </p:grpSpPr>
            <p:grpSp>
              <p:nvGrpSpPr>
                <p:cNvPr id="202" name="Group 115"/>
                <p:cNvGrpSpPr/>
                <p:nvPr/>
              </p:nvGrpSpPr>
              <p:grpSpPr>
                <a:xfrm>
                  <a:off x="3489840" y="2346480"/>
                  <a:ext cx="2163240" cy="2156760"/>
                  <a:chOff x="3489840" y="2346480"/>
                  <a:chExt cx="2163240" cy="2156760"/>
                </a:xfrm>
              </p:grpSpPr>
              <p:grpSp>
                <p:nvGrpSpPr>
                  <p:cNvPr id="203" name="Group 116"/>
                  <p:cNvGrpSpPr/>
                  <p:nvPr/>
                </p:nvGrpSpPr>
                <p:grpSpPr>
                  <a:xfrm>
                    <a:off x="4528080" y="2346480"/>
                    <a:ext cx="84600" cy="2156760"/>
                    <a:chOff x="4528080" y="2346480"/>
                    <a:chExt cx="84600" cy="2156760"/>
                  </a:xfrm>
                </p:grpSpPr>
                <p:sp>
                  <p:nvSpPr>
                    <p:cNvPr id="204" name="AutoShape 117"/>
                    <p:cNvSpPr/>
                    <p:nvPr/>
                  </p:nvSpPr>
                  <p:spPr>
                    <a:xfrm>
                      <a:off x="4528080" y="2346480"/>
                      <a:ext cx="84600" cy="10792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AutoShape 118"/>
                    <p:cNvSpPr/>
                    <p:nvPr/>
                  </p:nvSpPr>
                  <p:spPr>
                    <a:xfrm flipV="1">
                      <a:off x="4528080" y="3423960"/>
                      <a:ext cx="84600" cy="10789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6" name="Group 119"/>
                  <p:cNvGrpSpPr/>
                  <p:nvPr/>
                </p:nvGrpSpPr>
                <p:grpSpPr>
                  <a:xfrm>
                    <a:off x="3489840" y="3382200"/>
                    <a:ext cx="2163240" cy="84240"/>
                    <a:chOff x="3489840" y="3382200"/>
                    <a:chExt cx="2163240" cy="84240"/>
                  </a:xfrm>
                </p:grpSpPr>
                <p:sp>
                  <p:nvSpPr>
                    <p:cNvPr id="207" name="AutoShape 120"/>
                    <p:cNvSpPr/>
                    <p:nvPr/>
                  </p:nvSpPr>
                  <p:spPr>
                    <a:xfrm rot="5400000">
                      <a:off x="5069520" y="2882880"/>
                      <a:ext cx="84240" cy="10825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AutoShape 121"/>
                    <p:cNvSpPr/>
                    <p:nvPr/>
                  </p:nvSpPr>
                  <p:spPr>
                    <a:xfrm flipV="1" rot="5400000">
                      <a:off x="3988800" y="2883240"/>
                      <a:ext cx="84240" cy="10821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9" name="Group 122"/>
                <p:cNvGrpSpPr/>
                <p:nvPr/>
              </p:nvGrpSpPr>
              <p:grpSpPr>
                <a:xfrm>
                  <a:off x="3774240" y="2633400"/>
                  <a:ext cx="1589040" cy="1589040"/>
                  <a:chOff x="3774240" y="2633400"/>
                  <a:chExt cx="1589040" cy="1589040"/>
                </a:xfrm>
              </p:grpSpPr>
              <p:grpSp>
                <p:nvGrpSpPr>
                  <p:cNvPr id="210" name="Group 123"/>
                  <p:cNvGrpSpPr/>
                  <p:nvPr/>
                </p:nvGrpSpPr>
                <p:grpSpPr>
                  <a:xfrm>
                    <a:off x="3775320" y="2635200"/>
                    <a:ext cx="1584720" cy="1584720"/>
                    <a:chOff x="3775320" y="2635200"/>
                    <a:chExt cx="1584720" cy="1584720"/>
                  </a:xfrm>
                </p:grpSpPr>
                <p:sp>
                  <p:nvSpPr>
                    <p:cNvPr id="211" name="AutoShape 124"/>
                    <p:cNvSpPr/>
                    <p:nvPr/>
                  </p:nvSpPr>
                  <p:spPr>
                    <a:xfrm rot="2700000">
                      <a:off x="4906080" y="2507040"/>
                      <a:ext cx="84600" cy="10792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AutoShape 125"/>
                    <p:cNvSpPr/>
                    <p:nvPr/>
                  </p:nvSpPr>
                  <p:spPr>
                    <a:xfrm flipV="1" rot="2700000">
                      <a:off x="4144320" y="3268800"/>
                      <a:ext cx="84600" cy="10789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126"/>
                  <p:cNvGrpSpPr/>
                  <p:nvPr/>
                </p:nvGrpSpPr>
                <p:grpSpPr>
                  <a:xfrm>
                    <a:off x="3774240" y="2633400"/>
                    <a:ext cx="1589040" cy="1589040"/>
                    <a:chOff x="3774240" y="2633400"/>
                    <a:chExt cx="1589040" cy="1589040"/>
                  </a:xfrm>
                </p:grpSpPr>
                <p:sp>
                  <p:nvSpPr>
                    <p:cNvPr id="214" name="AutoShape 127"/>
                    <p:cNvSpPr/>
                    <p:nvPr/>
                  </p:nvSpPr>
                  <p:spPr>
                    <a:xfrm rot="8100000">
                      <a:off x="4908600" y="3268800"/>
                      <a:ext cx="84240" cy="108252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AutoShape 128"/>
                    <p:cNvSpPr/>
                    <p:nvPr/>
                  </p:nvSpPr>
                  <p:spPr>
                    <a:xfrm flipV="1" rot="8100000">
                      <a:off x="4144320" y="2504160"/>
                      <a:ext cx="84240" cy="10821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16" name="Group 129"/>
              <p:cNvGrpSpPr/>
              <p:nvPr/>
            </p:nvGrpSpPr>
            <p:grpSpPr>
              <a:xfrm>
                <a:off x="3846240" y="2742120"/>
                <a:ext cx="1426680" cy="1422360"/>
                <a:chOff x="3846240" y="2742120"/>
                <a:chExt cx="1426680" cy="1422360"/>
              </a:xfrm>
            </p:grpSpPr>
            <p:grpSp>
              <p:nvGrpSpPr>
                <p:cNvPr id="217" name="Group 130"/>
                <p:cNvGrpSpPr/>
                <p:nvPr/>
              </p:nvGrpSpPr>
              <p:grpSpPr>
                <a:xfrm>
                  <a:off x="3846240" y="2742120"/>
                  <a:ext cx="1426680" cy="1422360"/>
                  <a:chOff x="3846240" y="2742120"/>
                  <a:chExt cx="1426680" cy="1422360"/>
                </a:xfrm>
              </p:grpSpPr>
              <p:grpSp>
                <p:nvGrpSpPr>
                  <p:cNvPr id="218" name="Group 131"/>
                  <p:cNvGrpSpPr/>
                  <p:nvPr/>
                </p:nvGrpSpPr>
                <p:grpSpPr>
                  <a:xfrm>
                    <a:off x="4248360" y="2742120"/>
                    <a:ext cx="620280" cy="1422360"/>
                    <a:chOff x="4248360" y="2742120"/>
                    <a:chExt cx="620280" cy="1422360"/>
                  </a:xfrm>
                </p:grpSpPr>
                <p:sp>
                  <p:nvSpPr>
                    <p:cNvPr id="219" name="AutoShape 132"/>
                    <p:cNvSpPr/>
                    <p:nvPr/>
                  </p:nvSpPr>
                  <p:spPr>
                    <a:xfrm rot="1320000">
                      <a:off x="4669920" y="2725560"/>
                      <a:ext cx="59040" cy="755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AutoShape 133"/>
                    <p:cNvSpPr/>
                    <p:nvPr/>
                  </p:nvSpPr>
                  <p:spPr>
                    <a:xfrm flipV="1" rot="1320000">
                      <a:off x="4387680" y="3424680"/>
                      <a:ext cx="59040" cy="755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1" name="Group 134"/>
                  <p:cNvGrpSpPr/>
                  <p:nvPr/>
                </p:nvGrpSpPr>
                <p:grpSpPr>
                  <a:xfrm>
                    <a:off x="3846240" y="3142080"/>
                    <a:ext cx="1426680" cy="622080"/>
                    <a:chOff x="3846240" y="3142080"/>
                    <a:chExt cx="1426680" cy="622080"/>
                  </a:xfrm>
                </p:grpSpPr>
                <p:sp>
                  <p:nvSpPr>
                    <p:cNvPr id="222" name="AutoShape 135"/>
                    <p:cNvSpPr/>
                    <p:nvPr/>
                  </p:nvSpPr>
                  <p:spPr>
                    <a:xfrm rot="6720000">
                      <a:off x="4880880" y="3215880"/>
                      <a:ext cx="59040" cy="7578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AutoShape 136"/>
                    <p:cNvSpPr/>
                    <p:nvPr/>
                  </p:nvSpPr>
                  <p:spPr>
                    <a:xfrm flipV="1" rot="6720000">
                      <a:off x="4178880" y="2932200"/>
                      <a:ext cx="59040" cy="7578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4" name="Group 137"/>
                <p:cNvGrpSpPr/>
                <p:nvPr/>
              </p:nvGrpSpPr>
              <p:grpSpPr>
                <a:xfrm>
                  <a:off x="3849840" y="2746080"/>
                  <a:ext cx="1413000" cy="1416960"/>
                  <a:chOff x="3849840" y="2746080"/>
                  <a:chExt cx="1413000" cy="1416960"/>
                </a:xfrm>
              </p:grpSpPr>
              <p:grpSp>
                <p:nvGrpSpPr>
                  <p:cNvPr id="225" name="Group 138"/>
                  <p:cNvGrpSpPr/>
                  <p:nvPr/>
                </p:nvGrpSpPr>
                <p:grpSpPr>
                  <a:xfrm>
                    <a:off x="3849840" y="3132000"/>
                    <a:ext cx="1413000" cy="644040"/>
                    <a:chOff x="3849840" y="3132000"/>
                    <a:chExt cx="1413000" cy="644040"/>
                  </a:xfrm>
                </p:grpSpPr>
                <p:sp>
                  <p:nvSpPr>
                    <p:cNvPr id="226" name="AutoShape 139"/>
                    <p:cNvSpPr/>
                    <p:nvPr/>
                  </p:nvSpPr>
                  <p:spPr>
                    <a:xfrm rot="4020000">
                      <a:off x="4873680" y="2928960"/>
                      <a:ext cx="59040" cy="755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AutoShape 140"/>
                    <p:cNvSpPr/>
                    <p:nvPr/>
                  </p:nvSpPr>
                  <p:spPr>
                    <a:xfrm flipV="1" rot="4020000">
                      <a:off x="4179600" y="3223080"/>
                      <a:ext cx="59040" cy="7556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Group 141"/>
                  <p:cNvGrpSpPr/>
                  <p:nvPr/>
                </p:nvGrpSpPr>
                <p:grpSpPr>
                  <a:xfrm>
                    <a:off x="4233960" y="2746080"/>
                    <a:ext cx="646200" cy="1416960"/>
                    <a:chOff x="4233960" y="2746080"/>
                    <a:chExt cx="646200" cy="1416960"/>
                  </a:xfrm>
                </p:grpSpPr>
                <p:sp>
                  <p:nvSpPr>
                    <p:cNvPr id="229" name="AutoShape 142"/>
                    <p:cNvSpPr/>
                    <p:nvPr/>
                  </p:nvSpPr>
                  <p:spPr>
                    <a:xfrm rot="9420000">
                      <a:off x="4675320" y="3423600"/>
                      <a:ext cx="59040" cy="7578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AutoShape 143"/>
                    <p:cNvSpPr/>
                    <p:nvPr/>
                  </p:nvSpPr>
                  <p:spPr>
                    <a:xfrm flipV="1" rot="9420000">
                      <a:off x="4379400" y="2727360"/>
                      <a:ext cx="59040" cy="7578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31" name="Freeform 146"/>
          <p:cNvSpPr/>
          <p:nvPr/>
        </p:nvSpPr>
        <p:spPr>
          <a:xfrm>
            <a:off x="5292720" y="-396720"/>
            <a:ext cx="4019400" cy="4552920"/>
          </a:xfrm>
          <a:custGeom>
            <a:avLst/>
            <a:gdLst/>
            <a:ahLst/>
            <a:rect l="l" t="t" r="r" b="b"/>
            <a:pathLst>
              <a:path w="2532" h="2868">
                <a:moveTo>
                  <a:pt x="2532" y="0"/>
                </a:moveTo>
                <a:cubicBezTo>
                  <a:pt x="2208" y="172"/>
                  <a:pt x="952" y="692"/>
                  <a:pt x="588" y="1032"/>
                </a:cubicBezTo>
                <a:cubicBezTo>
                  <a:pt x="224" y="1372"/>
                  <a:pt x="446" y="1734"/>
                  <a:pt x="348" y="2040"/>
                </a:cubicBezTo>
                <a:cubicBezTo>
                  <a:pt x="250" y="2346"/>
                  <a:pt x="72" y="2696"/>
                  <a:pt x="0" y="2868"/>
                </a:cubicBezTo>
              </a:path>
            </a:pathLst>
          </a:custGeom>
          <a:noFill/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47"/>
          <p:cNvSpPr/>
          <p:nvPr/>
        </p:nvSpPr>
        <p:spPr>
          <a:xfrm>
            <a:off x="-558720" y="4137120"/>
            <a:ext cx="5867280" cy="2666880"/>
          </a:xfrm>
          <a:custGeom>
            <a:avLst/>
            <a:gdLst/>
            <a:ahLst/>
            <a:rect l="l" t="t" r="r" b="b"/>
            <a:pathLst>
              <a:path w="3696" h="1680">
                <a:moveTo>
                  <a:pt x="3696" y="0"/>
                </a:moveTo>
                <a:cubicBezTo>
                  <a:pt x="3428" y="244"/>
                  <a:pt x="3160" y="488"/>
                  <a:pt x="2544" y="768"/>
                </a:cubicBezTo>
                <a:cubicBezTo>
                  <a:pt x="1928" y="1048"/>
                  <a:pt x="964" y="1364"/>
                  <a:pt x="0" y="1680"/>
                </a:cubicBezTo>
              </a:path>
            </a:pathLst>
          </a:custGeom>
          <a:noFill/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148"/>
          <p:cNvGrpSpPr/>
          <p:nvPr/>
        </p:nvGrpSpPr>
        <p:grpSpPr>
          <a:xfrm>
            <a:off x="4797360" y="3654360"/>
            <a:ext cx="1020960" cy="1020960"/>
            <a:chOff x="4797360" y="3654360"/>
            <a:chExt cx="1020960" cy="1020960"/>
          </a:xfrm>
        </p:grpSpPr>
        <p:sp>
          <p:nvSpPr>
            <p:cNvPr id="234" name="Oval 149"/>
            <p:cNvSpPr/>
            <p:nvPr/>
          </p:nvSpPr>
          <p:spPr>
            <a:xfrm>
              <a:off x="4797360" y="3689280"/>
              <a:ext cx="986040" cy="986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Group 150"/>
            <p:cNvGrpSpPr/>
            <p:nvPr/>
          </p:nvGrpSpPr>
          <p:grpSpPr>
            <a:xfrm>
              <a:off x="4797720" y="3654360"/>
              <a:ext cx="1020600" cy="1017720"/>
              <a:chOff x="4797720" y="3654360"/>
              <a:chExt cx="1020600" cy="1017720"/>
            </a:xfrm>
          </p:grpSpPr>
          <p:grpSp>
            <p:nvGrpSpPr>
              <p:cNvPr id="236" name="Group 151"/>
              <p:cNvGrpSpPr/>
              <p:nvPr/>
            </p:nvGrpSpPr>
            <p:grpSpPr>
              <a:xfrm>
                <a:off x="4797720" y="3654360"/>
                <a:ext cx="1020600" cy="1017720"/>
                <a:chOff x="4797720" y="3654360"/>
                <a:chExt cx="1020600" cy="1017720"/>
              </a:xfrm>
            </p:grpSpPr>
            <p:grpSp>
              <p:nvGrpSpPr>
                <p:cNvPr id="237" name="Group 152"/>
                <p:cNvGrpSpPr/>
                <p:nvPr/>
              </p:nvGrpSpPr>
              <p:grpSpPr>
                <a:xfrm>
                  <a:off x="4797720" y="3654360"/>
                  <a:ext cx="1020600" cy="1017720"/>
                  <a:chOff x="4797720" y="3654360"/>
                  <a:chExt cx="1020600" cy="1017720"/>
                </a:xfrm>
              </p:grpSpPr>
              <p:grpSp>
                <p:nvGrpSpPr>
                  <p:cNvPr id="238" name="Group 153"/>
                  <p:cNvGrpSpPr/>
                  <p:nvPr/>
                </p:nvGrpSpPr>
                <p:grpSpPr>
                  <a:xfrm>
                    <a:off x="5287320" y="3654360"/>
                    <a:ext cx="39960" cy="1017720"/>
                    <a:chOff x="5287320" y="3654360"/>
                    <a:chExt cx="39960" cy="1017720"/>
                  </a:xfrm>
                </p:grpSpPr>
                <p:sp>
                  <p:nvSpPr>
                    <p:cNvPr id="239" name="AutoShape 154"/>
                    <p:cNvSpPr/>
                    <p:nvPr/>
                  </p:nvSpPr>
                  <p:spPr>
                    <a:xfrm>
                      <a:off x="5287320" y="3654360"/>
                      <a:ext cx="39960" cy="5094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AutoShape 155"/>
                    <p:cNvSpPr/>
                    <p:nvPr/>
                  </p:nvSpPr>
                  <p:spPr>
                    <a:xfrm flipV="1">
                      <a:off x="5287320" y="4163040"/>
                      <a:ext cx="39960" cy="5090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1" name="Group 156"/>
                  <p:cNvGrpSpPr/>
                  <p:nvPr/>
                </p:nvGrpSpPr>
                <p:grpSpPr>
                  <a:xfrm>
                    <a:off x="4797720" y="4142880"/>
                    <a:ext cx="1020600" cy="39600"/>
                    <a:chOff x="4797720" y="4142880"/>
                    <a:chExt cx="1020600" cy="39600"/>
                  </a:xfrm>
                </p:grpSpPr>
                <p:sp>
                  <p:nvSpPr>
                    <p:cNvPr id="242" name="AutoShape 157"/>
                    <p:cNvSpPr/>
                    <p:nvPr/>
                  </p:nvSpPr>
                  <p:spPr>
                    <a:xfrm rot="5400000">
                      <a:off x="5542920" y="3907080"/>
                      <a:ext cx="39600" cy="5108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AutoShape 158"/>
                    <p:cNvSpPr/>
                    <p:nvPr/>
                  </p:nvSpPr>
                  <p:spPr>
                    <a:xfrm flipV="1" rot="5400000">
                      <a:off x="5033160" y="3907440"/>
                      <a:ext cx="39600" cy="5104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44" name="Group 159"/>
                <p:cNvGrpSpPr/>
                <p:nvPr/>
              </p:nvGrpSpPr>
              <p:grpSpPr>
                <a:xfrm>
                  <a:off x="4932360" y="3789720"/>
                  <a:ext cx="749520" cy="749520"/>
                  <a:chOff x="4932360" y="3789720"/>
                  <a:chExt cx="749520" cy="749520"/>
                </a:xfrm>
              </p:grpSpPr>
              <p:grpSp>
                <p:nvGrpSpPr>
                  <p:cNvPr id="245" name="Group 160"/>
                  <p:cNvGrpSpPr/>
                  <p:nvPr/>
                </p:nvGrpSpPr>
                <p:grpSpPr>
                  <a:xfrm>
                    <a:off x="4932360" y="3790440"/>
                    <a:ext cx="747720" cy="747720"/>
                    <a:chOff x="4932360" y="3790440"/>
                    <a:chExt cx="747720" cy="747720"/>
                  </a:xfrm>
                </p:grpSpPr>
                <p:sp>
                  <p:nvSpPr>
                    <p:cNvPr id="246" name="AutoShape 161"/>
                    <p:cNvSpPr/>
                    <p:nvPr/>
                  </p:nvSpPr>
                  <p:spPr>
                    <a:xfrm rot="2700000">
                      <a:off x="5465880" y="3729960"/>
                      <a:ext cx="39960" cy="5094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AutoShape 162"/>
                    <p:cNvSpPr/>
                    <p:nvPr/>
                  </p:nvSpPr>
                  <p:spPr>
                    <a:xfrm flipV="1" rot="2700000">
                      <a:off x="5106240" y="4089240"/>
                      <a:ext cx="39960" cy="5090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Group 163"/>
                  <p:cNvGrpSpPr/>
                  <p:nvPr/>
                </p:nvGrpSpPr>
                <p:grpSpPr>
                  <a:xfrm>
                    <a:off x="4932360" y="3789720"/>
                    <a:ext cx="749520" cy="749520"/>
                    <a:chOff x="4932360" y="3789720"/>
                    <a:chExt cx="749520" cy="749520"/>
                  </a:xfrm>
                </p:grpSpPr>
                <p:sp>
                  <p:nvSpPr>
                    <p:cNvPr id="249" name="AutoShape 164"/>
                    <p:cNvSpPr/>
                    <p:nvPr/>
                  </p:nvSpPr>
                  <p:spPr>
                    <a:xfrm rot="8100000">
                      <a:off x="5467320" y="4088880"/>
                      <a:ext cx="39600" cy="5108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AutoShape 165"/>
                    <p:cNvSpPr/>
                    <p:nvPr/>
                  </p:nvSpPr>
                  <p:spPr>
                    <a:xfrm flipV="1" rot="8100000">
                      <a:off x="5106960" y="3728520"/>
                      <a:ext cx="39600" cy="5104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51" name="Group 166"/>
              <p:cNvGrpSpPr/>
              <p:nvPr/>
            </p:nvGrpSpPr>
            <p:grpSpPr>
              <a:xfrm>
                <a:off x="4966200" y="3840840"/>
                <a:ext cx="672480" cy="671400"/>
                <a:chOff x="4966200" y="3840840"/>
                <a:chExt cx="672480" cy="671400"/>
              </a:xfrm>
            </p:grpSpPr>
            <p:grpSp>
              <p:nvGrpSpPr>
                <p:cNvPr id="252" name="Group 167"/>
                <p:cNvGrpSpPr/>
                <p:nvPr/>
              </p:nvGrpSpPr>
              <p:grpSpPr>
                <a:xfrm>
                  <a:off x="4966200" y="3840840"/>
                  <a:ext cx="672480" cy="671400"/>
                  <a:chOff x="4966200" y="3840840"/>
                  <a:chExt cx="672480" cy="671400"/>
                </a:xfrm>
              </p:grpSpPr>
              <p:grpSp>
                <p:nvGrpSpPr>
                  <p:cNvPr id="253" name="Group 168"/>
                  <p:cNvGrpSpPr/>
                  <p:nvPr/>
                </p:nvGrpSpPr>
                <p:grpSpPr>
                  <a:xfrm>
                    <a:off x="5155560" y="3840840"/>
                    <a:ext cx="292320" cy="671400"/>
                    <a:chOff x="5155560" y="3840840"/>
                    <a:chExt cx="292320" cy="671400"/>
                  </a:xfrm>
                </p:grpSpPr>
                <p:sp>
                  <p:nvSpPr>
                    <p:cNvPr id="254" name="AutoShape 169"/>
                    <p:cNvSpPr/>
                    <p:nvPr/>
                  </p:nvSpPr>
                  <p:spPr>
                    <a:xfrm rot="1320000">
                      <a:off x="5354280" y="3832920"/>
                      <a:ext cx="27720" cy="3567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AutoShape 170"/>
                    <p:cNvSpPr/>
                    <p:nvPr/>
                  </p:nvSpPr>
                  <p:spPr>
                    <a:xfrm flipV="1" rot="1320000">
                      <a:off x="5221080" y="4163040"/>
                      <a:ext cx="27720" cy="3567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6" name="Group 171"/>
                  <p:cNvGrpSpPr/>
                  <p:nvPr/>
                </p:nvGrpSpPr>
                <p:grpSpPr>
                  <a:xfrm>
                    <a:off x="4966200" y="4030200"/>
                    <a:ext cx="672480" cy="293040"/>
                    <a:chOff x="4966200" y="4030200"/>
                    <a:chExt cx="672480" cy="293040"/>
                  </a:xfrm>
                </p:grpSpPr>
                <p:sp>
                  <p:nvSpPr>
                    <p:cNvPr id="257" name="AutoShape 172"/>
                    <p:cNvSpPr/>
                    <p:nvPr/>
                  </p:nvSpPr>
                  <p:spPr>
                    <a:xfrm rot="6720000">
                      <a:off x="5453640" y="4064400"/>
                      <a:ext cx="27720" cy="3578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AutoShape 173"/>
                    <p:cNvSpPr/>
                    <p:nvPr/>
                  </p:nvSpPr>
                  <p:spPr>
                    <a:xfrm flipV="1" rot="6720000">
                      <a:off x="5123160" y="3930480"/>
                      <a:ext cx="27720" cy="3574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9" name="Group 174"/>
                <p:cNvGrpSpPr/>
                <p:nvPr/>
              </p:nvGrpSpPr>
              <p:grpSpPr>
                <a:xfrm>
                  <a:off x="4966920" y="3843360"/>
                  <a:ext cx="667080" cy="668520"/>
                  <a:chOff x="4966920" y="3843360"/>
                  <a:chExt cx="667080" cy="668520"/>
                </a:xfrm>
              </p:grpSpPr>
              <p:grpSp>
                <p:nvGrpSpPr>
                  <p:cNvPr id="260" name="Group 175"/>
                  <p:cNvGrpSpPr/>
                  <p:nvPr/>
                </p:nvGrpSpPr>
                <p:grpSpPr>
                  <a:xfrm>
                    <a:off x="4966920" y="4025160"/>
                    <a:ext cx="667080" cy="303840"/>
                    <a:chOff x="4966920" y="4025160"/>
                    <a:chExt cx="667080" cy="303840"/>
                  </a:xfrm>
                </p:grpSpPr>
                <p:sp>
                  <p:nvSpPr>
                    <p:cNvPr id="261" name="AutoShape 176"/>
                    <p:cNvSpPr/>
                    <p:nvPr/>
                  </p:nvSpPr>
                  <p:spPr>
                    <a:xfrm rot="4020000">
                      <a:off x="5450400" y="3929040"/>
                      <a:ext cx="27720" cy="3567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AutoShape 177"/>
                    <p:cNvSpPr/>
                    <p:nvPr/>
                  </p:nvSpPr>
                  <p:spPr>
                    <a:xfrm flipV="1" rot="4020000">
                      <a:off x="5122440" y="4068000"/>
                      <a:ext cx="27720" cy="35676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178"/>
                  <p:cNvGrpSpPr/>
                  <p:nvPr/>
                </p:nvGrpSpPr>
                <p:grpSpPr>
                  <a:xfrm>
                    <a:off x="5148720" y="3843360"/>
                    <a:ext cx="304560" cy="668520"/>
                    <a:chOff x="5148720" y="3843360"/>
                    <a:chExt cx="304560" cy="668520"/>
                  </a:xfrm>
                </p:grpSpPr>
                <p:sp>
                  <p:nvSpPr>
                    <p:cNvPr id="264" name="AutoShape 179"/>
                    <p:cNvSpPr/>
                    <p:nvPr/>
                  </p:nvSpPr>
                  <p:spPr>
                    <a:xfrm rot="9420000">
                      <a:off x="5356440" y="4162680"/>
                      <a:ext cx="27720" cy="35784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AutoShape 180"/>
                    <p:cNvSpPr/>
                    <p:nvPr/>
                  </p:nvSpPr>
                  <p:spPr>
                    <a:xfrm flipV="1" rot="9420000">
                      <a:off x="5217480" y="3834360"/>
                      <a:ext cx="27720" cy="35748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ffffff">
                        <a:alpha val="18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66" name="AutoShape 226"/>
          <p:cNvSpPr/>
          <p:nvPr/>
        </p:nvSpPr>
        <p:spPr>
          <a:xfrm rot="3000000">
            <a:off x="1743840" y="2150280"/>
            <a:ext cx="108000" cy="7126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27"/>
          <p:cNvSpPr/>
          <p:nvPr/>
        </p:nvSpPr>
        <p:spPr>
          <a:xfrm flipV="1" rot="3000000">
            <a:off x="7215840" y="-2456280"/>
            <a:ext cx="108000" cy="7126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228"/>
          <p:cNvSpPr/>
          <p:nvPr/>
        </p:nvSpPr>
        <p:spPr>
          <a:xfrm rot="7800000">
            <a:off x="1743840" y="-2456640"/>
            <a:ext cx="108000" cy="7126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29"/>
          <p:cNvSpPr/>
          <p:nvPr/>
        </p:nvSpPr>
        <p:spPr>
          <a:xfrm flipV="1" rot="7800000">
            <a:off x="7215840" y="2150280"/>
            <a:ext cx="108000" cy="7126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30"/>
          <p:cNvSpPr/>
          <p:nvPr/>
        </p:nvSpPr>
        <p:spPr>
          <a:xfrm rot="5400000">
            <a:off x="1167480" y="-151560"/>
            <a:ext cx="107640" cy="7126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231"/>
          <p:cNvSpPr/>
          <p:nvPr/>
        </p:nvSpPr>
        <p:spPr>
          <a:xfrm flipV="1" rot="5400000">
            <a:off x="8224920" y="-151920"/>
            <a:ext cx="107640" cy="7124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86"/>
          <p:cNvSpPr/>
          <p:nvPr/>
        </p:nvSpPr>
        <p:spPr>
          <a:xfrm>
            <a:off x="3810960" y="30448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abf8e"/>
                </a:solidFill>
                <a:latin typeface="微软雅黑"/>
                <a:ea typeface="微软雅黑"/>
              </a:rPr>
              <a:t>群星闪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rcRect l="0" t="0" r="5003" b="0"/>
          <a:stretch/>
        </p:blipFill>
        <p:spPr>
          <a:xfrm>
            <a:off x="3143160" y="117360"/>
            <a:ext cx="2855880" cy="30052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"/>
          <p:cNvPicPr/>
          <p:nvPr/>
        </p:nvPicPr>
        <p:blipFill>
          <a:blip r:embed="rId2"/>
          <a:stretch/>
        </p:blipFill>
        <p:spPr>
          <a:xfrm>
            <a:off x="6518160" y="3247920"/>
            <a:ext cx="2140200" cy="1497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6" descr=""/>
          <p:cNvPicPr/>
          <p:nvPr/>
        </p:nvPicPr>
        <p:blipFill>
          <a:blip r:embed="rId3"/>
          <a:stretch/>
        </p:blipFill>
        <p:spPr>
          <a:xfrm>
            <a:off x="3498840" y="5111640"/>
            <a:ext cx="2147760" cy="14972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"/>
          <p:cNvPicPr/>
          <p:nvPr/>
        </p:nvPicPr>
        <p:blipFill>
          <a:blip r:embed="rId4"/>
          <a:stretch/>
        </p:blipFill>
        <p:spPr>
          <a:xfrm>
            <a:off x="480960" y="3247920"/>
            <a:ext cx="2135160" cy="14972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"/>
          <p:cNvPicPr/>
          <p:nvPr/>
        </p:nvPicPr>
        <p:blipFill>
          <a:blip r:embed="rId5"/>
          <a:stretch/>
        </p:blipFill>
        <p:spPr>
          <a:xfrm>
            <a:off x="6518160" y="5062680"/>
            <a:ext cx="2146320" cy="14968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" descr=""/>
          <p:cNvPicPr/>
          <p:nvPr/>
        </p:nvPicPr>
        <p:blipFill>
          <a:blip r:embed="rId6"/>
          <a:stretch/>
        </p:blipFill>
        <p:spPr>
          <a:xfrm>
            <a:off x="479520" y="5068800"/>
            <a:ext cx="2133360" cy="14907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0" descr=""/>
          <p:cNvPicPr/>
          <p:nvPr/>
        </p:nvPicPr>
        <p:blipFill>
          <a:blip r:embed="rId7"/>
          <a:stretch/>
        </p:blipFill>
        <p:spPr>
          <a:xfrm>
            <a:off x="3498840" y="3240000"/>
            <a:ext cx="2135160" cy="1503360"/>
          </a:xfrm>
          <a:prstGeom prst="rect">
            <a:avLst/>
          </a:prstGeom>
          <a:ln w="0">
            <a:noFill/>
          </a:ln>
        </p:spPr>
      </p:pic>
      <p:sp>
        <p:nvSpPr>
          <p:cNvPr id="280" name="TextBox 222"/>
          <p:cNvSpPr/>
          <p:nvPr/>
        </p:nvSpPr>
        <p:spPr>
          <a:xfrm>
            <a:off x="1203840" y="14796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教练：斯科拉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223"/>
          <p:cNvSpPr/>
          <p:nvPr/>
        </p:nvSpPr>
        <p:spPr>
          <a:xfrm>
            <a:off x="1249920" y="45594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马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224"/>
          <p:cNvSpPr/>
          <p:nvPr/>
        </p:nvSpPr>
        <p:spPr>
          <a:xfrm>
            <a:off x="4276440" y="45594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奥斯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25"/>
          <p:cNvSpPr/>
          <p:nvPr/>
        </p:nvSpPr>
        <p:spPr>
          <a:xfrm>
            <a:off x="7295040" y="63752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席尔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26"/>
          <p:cNvSpPr/>
          <p:nvPr/>
        </p:nvSpPr>
        <p:spPr>
          <a:xfrm>
            <a:off x="1251720" y="63752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马塞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27"/>
          <p:cNvSpPr/>
          <p:nvPr/>
        </p:nvSpPr>
        <p:spPr>
          <a:xfrm>
            <a:off x="4276440" y="63752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塞萨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228"/>
          <p:cNvSpPr/>
          <p:nvPr/>
        </p:nvSpPr>
        <p:spPr>
          <a:xfrm>
            <a:off x="7363800" y="45594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浩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椭圆 322"/>
          <p:cNvSpPr/>
          <p:nvPr/>
        </p:nvSpPr>
        <p:spPr>
          <a:xfrm>
            <a:off x="4371840" y="3244680"/>
            <a:ext cx="470160" cy="470160"/>
          </a:xfrm>
          <a:prstGeom prst="ellipse">
            <a:avLst/>
          </a:pr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23"/>
          <p:cNvSpPr/>
          <p:nvPr/>
        </p:nvSpPr>
        <p:spPr>
          <a:xfrm>
            <a:off x="4138560" y="3244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大的敌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4606920" y="1731960"/>
            <a:ext cx="1440" cy="1747800"/>
            <a:chOff x="4606920" y="1731960"/>
            <a:chExt cx="1440" cy="1747800"/>
          </a:xfrm>
        </p:grpSpPr>
        <p:sp>
          <p:nvSpPr>
            <p:cNvPr id="290" name="直接连接符 324"/>
            <p:cNvSpPr/>
            <p:nvPr/>
          </p:nvSpPr>
          <p:spPr>
            <a:xfrm>
              <a:off x="4606920" y="1731960"/>
              <a:ext cx="1440" cy="17478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>
              <a:off x="4606920" y="1731960"/>
              <a:ext cx="1440" cy="1747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4606560" y="1763640"/>
            <a:ext cx="167040" cy="1731960"/>
            <a:chOff x="4606560" y="1763640"/>
            <a:chExt cx="167040" cy="1731960"/>
          </a:xfrm>
        </p:grpSpPr>
        <p:sp>
          <p:nvSpPr>
            <p:cNvPr id="293" name="直接连接符 325"/>
            <p:cNvSpPr/>
            <p:nvPr/>
          </p:nvSpPr>
          <p:spPr>
            <a:xfrm flipH="1">
              <a:off x="4606560" y="1763640"/>
              <a:ext cx="166680" cy="173196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4606920" y="1763640"/>
              <a:ext cx="166680" cy="1731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4613040" y="1787400"/>
            <a:ext cx="339840" cy="1689120"/>
            <a:chOff x="4613040" y="1787400"/>
            <a:chExt cx="339840" cy="1689120"/>
          </a:xfrm>
        </p:grpSpPr>
        <p:sp>
          <p:nvSpPr>
            <p:cNvPr id="296" name="直接连接符 326"/>
            <p:cNvSpPr/>
            <p:nvPr/>
          </p:nvSpPr>
          <p:spPr>
            <a:xfrm flipH="1">
              <a:off x="4613040" y="1787400"/>
              <a:ext cx="339480" cy="16891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 txBox="1"/>
            <p:nvPr/>
          </p:nvSpPr>
          <p:spPr>
            <a:xfrm>
              <a:off x="4613400" y="1787400"/>
              <a:ext cx="339480" cy="168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4606920" y="1822320"/>
            <a:ext cx="519120" cy="1654200"/>
            <a:chOff x="4606920" y="1822320"/>
            <a:chExt cx="519120" cy="1654200"/>
          </a:xfrm>
        </p:grpSpPr>
        <p:sp>
          <p:nvSpPr>
            <p:cNvPr id="299" name="直接连接符 327"/>
            <p:cNvSpPr/>
            <p:nvPr/>
          </p:nvSpPr>
          <p:spPr>
            <a:xfrm flipH="1">
              <a:off x="4606920" y="1822320"/>
              <a:ext cx="519120" cy="16542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4606920" y="1822320"/>
              <a:ext cx="519120" cy="165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606560" y="1889280"/>
            <a:ext cx="695520" cy="1596960"/>
            <a:chOff x="4606560" y="1889280"/>
            <a:chExt cx="695520" cy="1596960"/>
          </a:xfrm>
        </p:grpSpPr>
        <p:sp>
          <p:nvSpPr>
            <p:cNvPr id="302" name="直接连接符 328"/>
            <p:cNvSpPr/>
            <p:nvPr/>
          </p:nvSpPr>
          <p:spPr>
            <a:xfrm flipH="1">
              <a:off x="4606560" y="1889280"/>
              <a:ext cx="695160" cy="159696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4606920" y="1889280"/>
              <a:ext cx="695160" cy="159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606560" y="1984320"/>
            <a:ext cx="857520" cy="1501920"/>
            <a:chOff x="4606560" y="1984320"/>
            <a:chExt cx="857520" cy="1501920"/>
          </a:xfrm>
        </p:grpSpPr>
        <p:sp>
          <p:nvSpPr>
            <p:cNvPr id="305" name="直接连接符 329"/>
            <p:cNvSpPr/>
            <p:nvPr/>
          </p:nvSpPr>
          <p:spPr>
            <a:xfrm flipH="1">
              <a:off x="4606560" y="1984320"/>
              <a:ext cx="857160" cy="15019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 txBox="1"/>
            <p:nvPr/>
          </p:nvSpPr>
          <p:spPr>
            <a:xfrm>
              <a:off x="4606920" y="1984320"/>
              <a:ext cx="857160" cy="1501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4613040" y="2076480"/>
            <a:ext cx="1003680" cy="1409760"/>
            <a:chOff x="4613040" y="2076480"/>
            <a:chExt cx="1003680" cy="1409760"/>
          </a:xfrm>
        </p:grpSpPr>
        <p:sp>
          <p:nvSpPr>
            <p:cNvPr id="308" name="直接连接符 330"/>
            <p:cNvSpPr/>
            <p:nvPr/>
          </p:nvSpPr>
          <p:spPr>
            <a:xfrm flipH="1">
              <a:off x="4613040" y="2076480"/>
              <a:ext cx="1003320" cy="140976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>
              <a:off x="4613400" y="2076480"/>
              <a:ext cx="1003320" cy="1409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606560" y="2190600"/>
            <a:ext cx="1159200" cy="1285920"/>
            <a:chOff x="4606560" y="2190600"/>
            <a:chExt cx="1159200" cy="1285920"/>
          </a:xfrm>
        </p:grpSpPr>
        <p:sp>
          <p:nvSpPr>
            <p:cNvPr id="311" name="直接连接符 331"/>
            <p:cNvSpPr/>
            <p:nvPr/>
          </p:nvSpPr>
          <p:spPr>
            <a:xfrm flipH="1">
              <a:off x="4606560" y="2190600"/>
              <a:ext cx="1158840" cy="12859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4606920" y="2190600"/>
              <a:ext cx="1158840" cy="12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4613040" y="2317680"/>
            <a:ext cx="1276560" cy="1162080"/>
            <a:chOff x="4613040" y="2317680"/>
            <a:chExt cx="1276560" cy="1162080"/>
          </a:xfrm>
        </p:grpSpPr>
        <p:sp>
          <p:nvSpPr>
            <p:cNvPr id="314" name="直接连接符 332"/>
            <p:cNvSpPr/>
            <p:nvPr/>
          </p:nvSpPr>
          <p:spPr>
            <a:xfrm flipH="1">
              <a:off x="4613040" y="2317680"/>
              <a:ext cx="1276200" cy="116208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4613400" y="2317680"/>
              <a:ext cx="1276200" cy="1162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4606560" y="2460600"/>
            <a:ext cx="1397520" cy="1025640"/>
            <a:chOff x="4606560" y="2460600"/>
            <a:chExt cx="1397520" cy="1025640"/>
          </a:xfrm>
        </p:grpSpPr>
        <p:sp>
          <p:nvSpPr>
            <p:cNvPr id="317" name="直接连接符 333"/>
            <p:cNvSpPr/>
            <p:nvPr/>
          </p:nvSpPr>
          <p:spPr>
            <a:xfrm flipH="1">
              <a:off x="4606560" y="2460600"/>
              <a:ext cx="1397160" cy="10256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>
              <a:off x="4606920" y="2460600"/>
              <a:ext cx="1397160" cy="102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4613400" y="2610000"/>
            <a:ext cx="1495440" cy="880920"/>
            <a:chOff x="4613400" y="2610000"/>
            <a:chExt cx="1495440" cy="880920"/>
          </a:xfrm>
        </p:grpSpPr>
        <p:sp>
          <p:nvSpPr>
            <p:cNvPr id="320" name="直接连接符 334"/>
            <p:cNvSpPr/>
            <p:nvPr/>
          </p:nvSpPr>
          <p:spPr>
            <a:xfrm flipH="1">
              <a:off x="4613400" y="2610000"/>
              <a:ext cx="1495440" cy="8809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 txBox="1"/>
            <p:nvPr/>
          </p:nvSpPr>
          <p:spPr>
            <a:xfrm>
              <a:off x="4613400" y="2610000"/>
              <a:ext cx="1495440" cy="880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606560" y="2771640"/>
            <a:ext cx="1591200" cy="708120"/>
            <a:chOff x="4606560" y="2771640"/>
            <a:chExt cx="1591200" cy="708120"/>
          </a:xfrm>
        </p:grpSpPr>
        <p:sp>
          <p:nvSpPr>
            <p:cNvPr id="323" name="直接连接符 335"/>
            <p:cNvSpPr/>
            <p:nvPr/>
          </p:nvSpPr>
          <p:spPr>
            <a:xfrm flipH="1">
              <a:off x="4606560" y="2771640"/>
              <a:ext cx="1590840" cy="7081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 txBox="1"/>
            <p:nvPr/>
          </p:nvSpPr>
          <p:spPr>
            <a:xfrm>
              <a:off x="4606920" y="2771640"/>
              <a:ext cx="1590840" cy="70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606920" y="2943360"/>
            <a:ext cx="1644480" cy="533160"/>
            <a:chOff x="4606920" y="2943360"/>
            <a:chExt cx="1644480" cy="533160"/>
          </a:xfrm>
        </p:grpSpPr>
        <p:sp>
          <p:nvSpPr>
            <p:cNvPr id="326" name="直接连接符 336"/>
            <p:cNvSpPr/>
            <p:nvPr/>
          </p:nvSpPr>
          <p:spPr>
            <a:xfrm flipH="1">
              <a:off x="4606920" y="2943360"/>
              <a:ext cx="1644480" cy="53316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 txBox="1"/>
            <p:nvPr/>
          </p:nvSpPr>
          <p:spPr>
            <a:xfrm>
              <a:off x="4606920" y="2943360"/>
              <a:ext cx="164448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4606560" y="3108240"/>
            <a:ext cx="1686240" cy="378000"/>
            <a:chOff x="4606560" y="3108240"/>
            <a:chExt cx="1686240" cy="378000"/>
          </a:xfrm>
        </p:grpSpPr>
        <p:sp>
          <p:nvSpPr>
            <p:cNvPr id="329" name="直接连接符 337"/>
            <p:cNvSpPr/>
            <p:nvPr/>
          </p:nvSpPr>
          <p:spPr>
            <a:xfrm flipH="1">
              <a:off x="4606560" y="3108240"/>
              <a:ext cx="1685880" cy="3780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4606920" y="3108240"/>
              <a:ext cx="1685880" cy="37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4613400" y="3289320"/>
            <a:ext cx="1714320" cy="190440"/>
            <a:chOff x="4613400" y="3289320"/>
            <a:chExt cx="1714320" cy="190440"/>
          </a:xfrm>
        </p:grpSpPr>
        <p:sp>
          <p:nvSpPr>
            <p:cNvPr id="332" name="直接连接符 338"/>
            <p:cNvSpPr/>
            <p:nvPr/>
          </p:nvSpPr>
          <p:spPr>
            <a:xfrm flipH="1">
              <a:off x="4613400" y="3289320"/>
              <a:ext cx="1714320" cy="1904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4613400" y="3289320"/>
              <a:ext cx="1714320" cy="19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606560" y="3476520"/>
            <a:ext cx="1733760" cy="5040"/>
            <a:chOff x="4606560" y="3476520"/>
            <a:chExt cx="1733760" cy="5040"/>
          </a:xfrm>
        </p:grpSpPr>
        <p:sp>
          <p:nvSpPr>
            <p:cNvPr id="335" name="直接连接符 339"/>
            <p:cNvSpPr/>
            <p:nvPr/>
          </p:nvSpPr>
          <p:spPr>
            <a:xfrm flipH="1">
              <a:off x="4606560" y="3476520"/>
              <a:ext cx="1733400" cy="50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 txBox="1"/>
            <p:nvPr/>
          </p:nvSpPr>
          <p:spPr>
            <a:xfrm>
              <a:off x="4606920" y="3476520"/>
              <a:ext cx="1733400" cy="5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4606560" y="3479400"/>
            <a:ext cx="1730520" cy="181080"/>
            <a:chOff x="4606560" y="3479400"/>
            <a:chExt cx="1730520" cy="181080"/>
          </a:xfrm>
        </p:grpSpPr>
        <p:sp>
          <p:nvSpPr>
            <p:cNvPr id="338" name="直接连接符 340"/>
            <p:cNvSpPr/>
            <p:nvPr/>
          </p:nvSpPr>
          <p:spPr>
            <a:xfrm flipH="1" flipV="1">
              <a:off x="4606560" y="3479400"/>
              <a:ext cx="1730520" cy="18108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 rot="10800000">
              <a:off x="4606560" y="3479400"/>
              <a:ext cx="1730520" cy="181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4613040" y="3485880"/>
            <a:ext cx="1685880" cy="352440"/>
            <a:chOff x="4613040" y="3485880"/>
            <a:chExt cx="1685880" cy="352440"/>
          </a:xfrm>
        </p:grpSpPr>
        <p:sp>
          <p:nvSpPr>
            <p:cNvPr id="341" name="直接连接符 341"/>
            <p:cNvSpPr/>
            <p:nvPr/>
          </p:nvSpPr>
          <p:spPr>
            <a:xfrm flipH="1" flipV="1">
              <a:off x="4613040" y="3485880"/>
              <a:ext cx="1685880" cy="3524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 txBox="1"/>
            <p:nvPr/>
          </p:nvSpPr>
          <p:spPr>
            <a:xfrm rot="10800000">
              <a:off x="4613040" y="3485880"/>
              <a:ext cx="1685880" cy="35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606560" y="3485880"/>
            <a:ext cx="1654200" cy="514440"/>
            <a:chOff x="4606560" y="3485880"/>
            <a:chExt cx="1654200" cy="514440"/>
          </a:xfrm>
        </p:grpSpPr>
        <p:sp>
          <p:nvSpPr>
            <p:cNvPr id="344" name="直接连接符 342"/>
            <p:cNvSpPr/>
            <p:nvPr/>
          </p:nvSpPr>
          <p:spPr>
            <a:xfrm flipH="1" flipV="1">
              <a:off x="4606560" y="3485880"/>
              <a:ext cx="1654200" cy="5144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 txBox="1"/>
            <p:nvPr/>
          </p:nvSpPr>
          <p:spPr>
            <a:xfrm rot="10800000">
              <a:off x="4606560" y="3485880"/>
              <a:ext cx="1654200" cy="51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4606920" y="3489480"/>
            <a:ext cx="1596960" cy="691920"/>
            <a:chOff x="4606920" y="3489480"/>
            <a:chExt cx="1596960" cy="691920"/>
          </a:xfrm>
        </p:grpSpPr>
        <p:sp>
          <p:nvSpPr>
            <p:cNvPr id="347" name="直接连接符 343"/>
            <p:cNvSpPr/>
            <p:nvPr/>
          </p:nvSpPr>
          <p:spPr>
            <a:xfrm flipH="1" flipV="1">
              <a:off x="4606920" y="3489480"/>
              <a:ext cx="1596960" cy="6919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 txBox="1"/>
            <p:nvPr/>
          </p:nvSpPr>
          <p:spPr>
            <a:xfrm rot="10800000">
              <a:off x="4606920" y="3489480"/>
              <a:ext cx="1596960" cy="691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606920" y="3479760"/>
            <a:ext cx="1511280" cy="866880"/>
            <a:chOff x="4606920" y="3479760"/>
            <a:chExt cx="1511280" cy="866880"/>
          </a:xfrm>
        </p:grpSpPr>
        <p:sp>
          <p:nvSpPr>
            <p:cNvPr id="350" name="直接连接符 344"/>
            <p:cNvSpPr/>
            <p:nvPr/>
          </p:nvSpPr>
          <p:spPr>
            <a:xfrm flipH="1" flipV="1">
              <a:off x="4606920" y="3479760"/>
              <a:ext cx="1511280" cy="86688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 rot="10800000">
              <a:off x="4606920" y="3479760"/>
              <a:ext cx="1511280" cy="86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4606560" y="3479400"/>
            <a:ext cx="1406520" cy="1019160"/>
            <a:chOff x="4606560" y="3479400"/>
            <a:chExt cx="1406520" cy="1019160"/>
          </a:xfrm>
        </p:grpSpPr>
        <p:sp>
          <p:nvSpPr>
            <p:cNvPr id="353" name="直接连接符 345"/>
            <p:cNvSpPr/>
            <p:nvPr/>
          </p:nvSpPr>
          <p:spPr>
            <a:xfrm flipH="1" flipV="1">
              <a:off x="4606560" y="3479400"/>
              <a:ext cx="1406520" cy="101916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 txBox="1"/>
            <p:nvPr/>
          </p:nvSpPr>
          <p:spPr>
            <a:xfrm rot="10800000">
              <a:off x="4606560" y="3479400"/>
              <a:ext cx="1406520" cy="1019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606920" y="3476160"/>
            <a:ext cx="1295280" cy="1166760"/>
            <a:chOff x="4606920" y="3476160"/>
            <a:chExt cx="1295280" cy="1166760"/>
          </a:xfrm>
        </p:grpSpPr>
        <p:sp>
          <p:nvSpPr>
            <p:cNvPr id="356" name="直接连接符 346"/>
            <p:cNvSpPr/>
            <p:nvPr/>
          </p:nvSpPr>
          <p:spPr>
            <a:xfrm flipH="1" flipV="1">
              <a:off x="4606920" y="3476160"/>
              <a:ext cx="1295280" cy="116676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 txBox="1"/>
            <p:nvPr/>
          </p:nvSpPr>
          <p:spPr>
            <a:xfrm rot="10800000">
              <a:off x="4606920" y="3476160"/>
              <a:ext cx="1295280" cy="1166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4606920" y="3476160"/>
            <a:ext cx="1162080" cy="1295640"/>
            <a:chOff x="4606920" y="3476160"/>
            <a:chExt cx="1162080" cy="1295640"/>
          </a:xfrm>
        </p:grpSpPr>
        <p:sp>
          <p:nvSpPr>
            <p:cNvPr id="359" name="直接连接符 347"/>
            <p:cNvSpPr/>
            <p:nvPr/>
          </p:nvSpPr>
          <p:spPr>
            <a:xfrm flipH="1" flipV="1">
              <a:off x="4606920" y="3476160"/>
              <a:ext cx="1162080" cy="12956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 txBox="1"/>
            <p:nvPr/>
          </p:nvSpPr>
          <p:spPr>
            <a:xfrm rot="10800000">
              <a:off x="4606920" y="3476160"/>
              <a:ext cx="1162080" cy="129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603680" y="3479760"/>
            <a:ext cx="1028880" cy="1409760"/>
            <a:chOff x="4603680" y="3479760"/>
            <a:chExt cx="1028880" cy="1409760"/>
          </a:xfrm>
        </p:grpSpPr>
        <p:sp>
          <p:nvSpPr>
            <p:cNvPr id="362" name="直接连接符 348"/>
            <p:cNvSpPr/>
            <p:nvPr/>
          </p:nvSpPr>
          <p:spPr>
            <a:xfrm flipH="1" flipV="1">
              <a:off x="4603680" y="3479760"/>
              <a:ext cx="1028880" cy="140976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 txBox="1"/>
            <p:nvPr/>
          </p:nvSpPr>
          <p:spPr>
            <a:xfrm rot="10800000">
              <a:off x="4603680" y="3479760"/>
              <a:ext cx="1028880" cy="1409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4603680" y="3476160"/>
            <a:ext cx="866880" cy="1505160"/>
            <a:chOff x="4603680" y="3476160"/>
            <a:chExt cx="866880" cy="1505160"/>
          </a:xfrm>
        </p:grpSpPr>
        <p:sp>
          <p:nvSpPr>
            <p:cNvPr id="365" name="直接连接符 349"/>
            <p:cNvSpPr/>
            <p:nvPr/>
          </p:nvSpPr>
          <p:spPr>
            <a:xfrm flipH="1" flipV="1">
              <a:off x="4603680" y="3476160"/>
              <a:ext cx="866880" cy="150516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 txBox="1"/>
            <p:nvPr/>
          </p:nvSpPr>
          <p:spPr>
            <a:xfrm rot="10800000">
              <a:off x="4603680" y="3476160"/>
              <a:ext cx="866880" cy="150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4606920" y="3467160"/>
            <a:ext cx="704880" cy="1595520"/>
            <a:chOff x="4606920" y="3467160"/>
            <a:chExt cx="704880" cy="1595520"/>
          </a:xfrm>
        </p:grpSpPr>
        <p:sp>
          <p:nvSpPr>
            <p:cNvPr id="368" name="直接连接符 350"/>
            <p:cNvSpPr/>
            <p:nvPr/>
          </p:nvSpPr>
          <p:spPr>
            <a:xfrm flipH="1" flipV="1">
              <a:off x="4606920" y="3467160"/>
              <a:ext cx="704880" cy="15955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 txBox="1"/>
            <p:nvPr/>
          </p:nvSpPr>
          <p:spPr>
            <a:xfrm rot="10800000">
              <a:off x="4606920" y="3467160"/>
              <a:ext cx="704880" cy="1595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4603680" y="3479400"/>
            <a:ext cx="533520" cy="1654200"/>
            <a:chOff x="4603680" y="3479400"/>
            <a:chExt cx="533520" cy="1654200"/>
          </a:xfrm>
        </p:grpSpPr>
        <p:sp>
          <p:nvSpPr>
            <p:cNvPr id="371" name="直接连接符 351"/>
            <p:cNvSpPr/>
            <p:nvPr/>
          </p:nvSpPr>
          <p:spPr>
            <a:xfrm flipH="1" flipV="1">
              <a:off x="4603680" y="3479400"/>
              <a:ext cx="533520" cy="16542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 txBox="1"/>
            <p:nvPr/>
          </p:nvSpPr>
          <p:spPr>
            <a:xfrm rot="10800000">
              <a:off x="4603680" y="3479400"/>
              <a:ext cx="533520" cy="165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4600080" y="3479400"/>
            <a:ext cx="374760" cy="1701720"/>
            <a:chOff x="4600080" y="3479400"/>
            <a:chExt cx="374760" cy="1701720"/>
          </a:xfrm>
        </p:grpSpPr>
        <p:sp>
          <p:nvSpPr>
            <p:cNvPr id="374" name="直接连接符 352"/>
            <p:cNvSpPr/>
            <p:nvPr/>
          </p:nvSpPr>
          <p:spPr>
            <a:xfrm flipH="1" flipV="1">
              <a:off x="4600080" y="3479400"/>
              <a:ext cx="374760" cy="17017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 txBox="1"/>
            <p:nvPr/>
          </p:nvSpPr>
          <p:spPr>
            <a:xfrm rot="10800000">
              <a:off x="4600080" y="3479400"/>
              <a:ext cx="374760" cy="1701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606920" y="3479760"/>
            <a:ext cx="177840" cy="1727280"/>
            <a:chOff x="4606920" y="3479760"/>
            <a:chExt cx="177840" cy="1727280"/>
          </a:xfrm>
        </p:grpSpPr>
        <p:sp>
          <p:nvSpPr>
            <p:cNvPr id="377" name="直接连接符 353"/>
            <p:cNvSpPr/>
            <p:nvPr/>
          </p:nvSpPr>
          <p:spPr>
            <a:xfrm flipH="1" flipV="1">
              <a:off x="4606920" y="3479760"/>
              <a:ext cx="177840" cy="172728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 txBox="1"/>
            <p:nvPr/>
          </p:nvSpPr>
          <p:spPr>
            <a:xfrm rot="10800000">
              <a:off x="4606920" y="3479760"/>
              <a:ext cx="177840" cy="172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4600440" y="3476520"/>
            <a:ext cx="12960" cy="1749600"/>
            <a:chOff x="4600440" y="3476520"/>
            <a:chExt cx="12960" cy="1749600"/>
          </a:xfrm>
        </p:grpSpPr>
        <p:sp>
          <p:nvSpPr>
            <p:cNvPr id="380" name="直接连接符 354"/>
            <p:cNvSpPr/>
            <p:nvPr/>
          </p:nvSpPr>
          <p:spPr>
            <a:xfrm flipH="1" flipV="1">
              <a:off x="4600440" y="3476520"/>
              <a:ext cx="12960" cy="17496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 txBox="1"/>
            <p:nvPr/>
          </p:nvSpPr>
          <p:spPr>
            <a:xfrm rot="10800000">
              <a:off x="4600440" y="3476520"/>
              <a:ext cx="12960" cy="1749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4416480" y="3479760"/>
            <a:ext cx="177840" cy="1720800"/>
            <a:chOff x="4416480" y="3479760"/>
            <a:chExt cx="177840" cy="1720800"/>
          </a:xfrm>
        </p:grpSpPr>
        <p:sp>
          <p:nvSpPr>
            <p:cNvPr id="383" name="直接连接符 355"/>
            <p:cNvSpPr/>
            <p:nvPr/>
          </p:nvSpPr>
          <p:spPr>
            <a:xfrm flipV="1">
              <a:off x="4416480" y="3479760"/>
              <a:ext cx="177840" cy="17208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 txBox="1"/>
            <p:nvPr/>
          </p:nvSpPr>
          <p:spPr>
            <a:xfrm rot="10800000">
              <a:off x="4416480" y="3479760"/>
              <a:ext cx="177840" cy="1720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4244760" y="3473280"/>
            <a:ext cx="355680" cy="1702080"/>
            <a:chOff x="4244760" y="3473280"/>
            <a:chExt cx="355680" cy="1702080"/>
          </a:xfrm>
        </p:grpSpPr>
        <p:sp>
          <p:nvSpPr>
            <p:cNvPr id="386" name="直接连接符 356"/>
            <p:cNvSpPr/>
            <p:nvPr/>
          </p:nvSpPr>
          <p:spPr>
            <a:xfrm flipV="1">
              <a:off x="4245120" y="3473280"/>
              <a:ext cx="355320" cy="170208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 txBox="1"/>
            <p:nvPr/>
          </p:nvSpPr>
          <p:spPr>
            <a:xfrm rot="10800000">
              <a:off x="4244760" y="3473280"/>
              <a:ext cx="355320" cy="1702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066920" y="3473280"/>
            <a:ext cx="540000" cy="1657440"/>
            <a:chOff x="4066920" y="3473280"/>
            <a:chExt cx="540000" cy="1657440"/>
          </a:xfrm>
        </p:grpSpPr>
        <p:sp>
          <p:nvSpPr>
            <p:cNvPr id="389" name="直接连接符 357"/>
            <p:cNvSpPr/>
            <p:nvPr/>
          </p:nvSpPr>
          <p:spPr>
            <a:xfrm flipV="1">
              <a:off x="4067280" y="3473280"/>
              <a:ext cx="539640" cy="16574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 txBox="1"/>
            <p:nvPr/>
          </p:nvSpPr>
          <p:spPr>
            <a:xfrm rot="10800000">
              <a:off x="4066920" y="3473280"/>
              <a:ext cx="539640" cy="165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3895560" y="3479400"/>
            <a:ext cx="711360" cy="1575000"/>
            <a:chOff x="3895560" y="3479400"/>
            <a:chExt cx="711360" cy="1575000"/>
          </a:xfrm>
        </p:grpSpPr>
        <p:sp>
          <p:nvSpPr>
            <p:cNvPr id="392" name="直接连接符 358"/>
            <p:cNvSpPr/>
            <p:nvPr/>
          </p:nvSpPr>
          <p:spPr>
            <a:xfrm flipV="1">
              <a:off x="3895560" y="3479400"/>
              <a:ext cx="711360" cy="15750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 txBox="1"/>
            <p:nvPr/>
          </p:nvSpPr>
          <p:spPr>
            <a:xfrm rot="10800000">
              <a:off x="3895560" y="3479400"/>
              <a:ext cx="711360" cy="1575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3730680" y="3485880"/>
            <a:ext cx="876240" cy="1492200"/>
            <a:chOff x="3730680" y="3485880"/>
            <a:chExt cx="876240" cy="1492200"/>
          </a:xfrm>
        </p:grpSpPr>
        <p:sp>
          <p:nvSpPr>
            <p:cNvPr id="395" name="直接连接符 359"/>
            <p:cNvSpPr/>
            <p:nvPr/>
          </p:nvSpPr>
          <p:spPr>
            <a:xfrm flipV="1">
              <a:off x="3730680" y="3485880"/>
              <a:ext cx="876240" cy="14922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 txBox="1"/>
            <p:nvPr/>
          </p:nvSpPr>
          <p:spPr>
            <a:xfrm rot="10800000">
              <a:off x="3730680" y="3485880"/>
              <a:ext cx="876240" cy="1492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584520" y="3472920"/>
            <a:ext cx="1028880" cy="1403640"/>
            <a:chOff x="3584520" y="3472920"/>
            <a:chExt cx="1028880" cy="1403640"/>
          </a:xfrm>
        </p:grpSpPr>
        <p:sp>
          <p:nvSpPr>
            <p:cNvPr id="398" name="直接连接符 360"/>
            <p:cNvSpPr/>
            <p:nvPr/>
          </p:nvSpPr>
          <p:spPr>
            <a:xfrm flipV="1">
              <a:off x="3584520" y="3472920"/>
              <a:ext cx="1028880" cy="14036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 txBox="1"/>
            <p:nvPr/>
          </p:nvSpPr>
          <p:spPr>
            <a:xfrm rot="10800000">
              <a:off x="3584520" y="3472920"/>
              <a:ext cx="1028880" cy="140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3451320" y="3472920"/>
            <a:ext cx="1155600" cy="1295640"/>
            <a:chOff x="3451320" y="3472920"/>
            <a:chExt cx="1155600" cy="1295640"/>
          </a:xfrm>
        </p:grpSpPr>
        <p:sp>
          <p:nvSpPr>
            <p:cNvPr id="401" name="直接连接符 361"/>
            <p:cNvSpPr/>
            <p:nvPr/>
          </p:nvSpPr>
          <p:spPr>
            <a:xfrm flipV="1">
              <a:off x="3451320" y="3472920"/>
              <a:ext cx="1155600" cy="12956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 txBox="1"/>
            <p:nvPr/>
          </p:nvSpPr>
          <p:spPr>
            <a:xfrm rot="10800000">
              <a:off x="3451320" y="3472920"/>
              <a:ext cx="1155600" cy="129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3321000" y="3479760"/>
            <a:ext cx="1285920" cy="1155600"/>
            <a:chOff x="3321000" y="3479760"/>
            <a:chExt cx="1285920" cy="1155600"/>
          </a:xfrm>
        </p:grpSpPr>
        <p:sp>
          <p:nvSpPr>
            <p:cNvPr id="404" name="直接连接符 362"/>
            <p:cNvSpPr/>
            <p:nvPr/>
          </p:nvSpPr>
          <p:spPr>
            <a:xfrm flipV="1">
              <a:off x="3321000" y="3479760"/>
              <a:ext cx="1285920" cy="11556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 txBox="1"/>
            <p:nvPr/>
          </p:nvSpPr>
          <p:spPr>
            <a:xfrm rot="10800000">
              <a:off x="3321000" y="3479760"/>
              <a:ext cx="1285920" cy="1155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3203640" y="3479400"/>
            <a:ext cx="1403280" cy="1025640"/>
            <a:chOff x="3203640" y="3479400"/>
            <a:chExt cx="1403280" cy="1025640"/>
          </a:xfrm>
        </p:grpSpPr>
        <p:sp>
          <p:nvSpPr>
            <p:cNvPr id="407" name="直接连接符 363"/>
            <p:cNvSpPr/>
            <p:nvPr/>
          </p:nvSpPr>
          <p:spPr>
            <a:xfrm flipV="1">
              <a:off x="3203640" y="3479400"/>
              <a:ext cx="1403280" cy="10256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 txBox="1"/>
            <p:nvPr/>
          </p:nvSpPr>
          <p:spPr>
            <a:xfrm rot="10800000">
              <a:off x="3203640" y="3479400"/>
              <a:ext cx="1403280" cy="102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3102120" y="3479400"/>
            <a:ext cx="1504800" cy="879480"/>
            <a:chOff x="3102120" y="3479400"/>
            <a:chExt cx="1504800" cy="879480"/>
          </a:xfrm>
        </p:grpSpPr>
        <p:sp>
          <p:nvSpPr>
            <p:cNvPr id="410" name="直接连接符 364"/>
            <p:cNvSpPr/>
            <p:nvPr/>
          </p:nvSpPr>
          <p:spPr>
            <a:xfrm flipV="1">
              <a:off x="3102120" y="3479400"/>
              <a:ext cx="1504800" cy="87948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 txBox="1"/>
            <p:nvPr/>
          </p:nvSpPr>
          <p:spPr>
            <a:xfrm rot="10800000">
              <a:off x="3102120" y="3479400"/>
              <a:ext cx="1504800" cy="87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3015720" y="3479760"/>
            <a:ext cx="1591200" cy="711360"/>
            <a:chOff x="3015720" y="3479760"/>
            <a:chExt cx="1591200" cy="711360"/>
          </a:xfrm>
        </p:grpSpPr>
        <p:sp>
          <p:nvSpPr>
            <p:cNvPr id="413" name="直接连接符 365"/>
            <p:cNvSpPr/>
            <p:nvPr/>
          </p:nvSpPr>
          <p:spPr>
            <a:xfrm flipV="1">
              <a:off x="3016080" y="3479760"/>
              <a:ext cx="1590840" cy="71136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 txBox="1"/>
            <p:nvPr/>
          </p:nvSpPr>
          <p:spPr>
            <a:xfrm rot="10800000">
              <a:off x="3015720" y="3479760"/>
              <a:ext cx="1590840" cy="711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2955960" y="3485880"/>
            <a:ext cx="1650960" cy="530280"/>
            <a:chOff x="2955960" y="3485880"/>
            <a:chExt cx="1650960" cy="530280"/>
          </a:xfrm>
        </p:grpSpPr>
        <p:sp>
          <p:nvSpPr>
            <p:cNvPr id="416" name="直接连接符 366"/>
            <p:cNvSpPr/>
            <p:nvPr/>
          </p:nvSpPr>
          <p:spPr>
            <a:xfrm flipV="1">
              <a:off x="2955960" y="3485880"/>
              <a:ext cx="1650960" cy="53028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 txBox="1"/>
            <p:nvPr/>
          </p:nvSpPr>
          <p:spPr>
            <a:xfrm rot="10800000">
              <a:off x="2955960" y="3485880"/>
              <a:ext cx="1650960" cy="53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2910960" y="3485880"/>
            <a:ext cx="1691280" cy="353880"/>
            <a:chOff x="2910960" y="3485880"/>
            <a:chExt cx="1691280" cy="353880"/>
          </a:xfrm>
        </p:grpSpPr>
        <p:sp>
          <p:nvSpPr>
            <p:cNvPr id="419" name="直接连接符 367"/>
            <p:cNvSpPr/>
            <p:nvPr/>
          </p:nvSpPr>
          <p:spPr>
            <a:xfrm flipV="1">
              <a:off x="2911320" y="3485880"/>
              <a:ext cx="1690920" cy="35388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 txBox="1"/>
            <p:nvPr/>
          </p:nvSpPr>
          <p:spPr>
            <a:xfrm rot="10800000">
              <a:off x="2910960" y="3485880"/>
              <a:ext cx="1690920" cy="35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2879640" y="3479760"/>
            <a:ext cx="1733760" cy="187200"/>
            <a:chOff x="2879640" y="3479760"/>
            <a:chExt cx="1733760" cy="187200"/>
          </a:xfrm>
        </p:grpSpPr>
        <p:sp>
          <p:nvSpPr>
            <p:cNvPr id="422" name="直接连接符 368"/>
            <p:cNvSpPr/>
            <p:nvPr/>
          </p:nvSpPr>
          <p:spPr>
            <a:xfrm flipV="1">
              <a:off x="2879640" y="3479760"/>
              <a:ext cx="1733760" cy="1872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 rot="10800000">
              <a:off x="2879640" y="3479760"/>
              <a:ext cx="1733760" cy="18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2870280" y="3476160"/>
            <a:ext cx="1736640" cy="11160"/>
            <a:chOff x="2870280" y="3476160"/>
            <a:chExt cx="1736640" cy="11160"/>
          </a:xfrm>
        </p:grpSpPr>
        <p:sp>
          <p:nvSpPr>
            <p:cNvPr id="425" name="直接连接符 369"/>
            <p:cNvSpPr/>
            <p:nvPr/>
          </p:nvSpPr>
          <p:spPr>
            <a:xfrm flipV="1">
              <a:off x="2870280" y="3476160"/>
              <a:ext cx="1736640" cy="1116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 rot="10800000">
              <a:off x="2870280" y="3476160"/>
              <a:ext cx="1736640" cy="1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2892600" y="3295800"/>
            <a:ext cx="1709640" cy="183960"/>
            <a:chOff x="2892600" y="3295800"/>
            <a:chExt cx="1709640" cy="183960"/>
          </a:xfrm>
        </p:grpSpPr>
        <p:sp>
          <p:nvSpPr>
            <p:cNvPr id="428" name="直接连接符 370"/>
            <p:cNvSpPr/>
            <p:nvPr/>
          </p:nvSpPr>
          <p:spPr>
            <a:xfrm>
              <a:off x="2892600" y="3295800"/>
              <a:ext cx="1709640" cy="18396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>
              <a:off x="2892600" y="3295800"/>
              <a:ext cx="1709640" cy="18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901960" y="3121200"/>
            <a:ext cx="1709640" cy="358560"/>
            <a:chOff x="2901960" y="3121200"/>
            <a:chExt cx="1709640" cy="358560"/>
          </a:xfrm>
        </p:grpSpPr>
        <p:sp>
          <p:nvSpPr>
            <p:cNvPr id="431" name="直接连接符 371"/>
            <p:cNvSpPr/>
            <p:nvPr/>
          </p:nvSpPr>
          <p:spPr>
            <a:xfrm>
              <a:off x="2901960" y="3121200"/>
              <a:ext cx="1709640" cy="35856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 txBox="1"/>
            <p:nvPr/>
          </p:nvSpPr>
          <p:spPr>
            <a:xfrm>
              <a:off x="2901960" y="3121200"/>
              <a:ext cx="1709640" cy="35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949480" y="2952720"/>
            <a:ext cx="1648080" cy="517680"/>
            <a:chOff x="2949480" y="2952720"/>
            <a:chExt cx="1648080" cy="517680"/>
          </a:xfrm>
        </p:grpSpPr>
        <p:sp>
          <p:nvSpPr>
            <p:cNvPr id="434" name="直接连接符 372"/>
            <p:cNvSpPr/>
            <p:nvPr/>
          </p:nvSpPr>
          <p:spPr>
            <a:xfrm>
              <a:off x="2949480" y="2952720"/>
              <a:ext cx="1648080" cy="51768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 txBox="1"/>
            <p:nvPr/>
          </p:nvSpPr>
          <p:spPr>
            <a:xfrm>
              <a:off x="2949480" y="2952720"/>
              <a:ext cx="16480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3025800" y="2778120"/>
            <a:ext cx="1576440" cy="701640"/>
            <a:chOff x="3025800" y="2778120"/>
            <a:chExt cx="1576440" cy="701640"/>
          </a:xfrm>
        </p:grpSpPr>
        <p:sp>
          <p:nvSpPr>
            <p:cNvPr id="437" name="直接连接符 373"/>
            <p:cNvSpPr/>
            <p:nvPr/>
          </p:nvSpPr>
          <p:spPr>
            <a:xfrm>
              <a:off x="3025800" y="2778120"/>
              <a:ext cx="1576440" cy="7016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 txBox="1"/>
            <p:nvPr/>
          </p:nvSpPr>
          <p:spPr>
            <a:xfrm>
              <a:off x="3025800" y="2778120"/>
              <a:ext cx="1576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098880" y="2610000"/>
            <a:ext cx="1504800" cy="869760"/>
            <a:chOff x="3098880" y="2610000"/>
            <a:chExt cx="1504800" cy="869760"/>
          </a:xfrm>
        </p:grpSpPr>
        <p:sp>
          <p:nvSpPr>
            <p:cNvPr id="440" name="直接连接符 374"/>
            <p:cNvSpPr/>
            <p:nvPr/>
          </p:nvSpPr>
          <p:spPr>
            <a:xfrm>
              <a:off x="3098880" y="2610000"/>
              <a:ext cx="1504800" cy="86976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 txBox="1"/>
            <p:nvPr/>
          </p:nvSpPr>
          <p:spPr>
            <a:xfrm>
              <a:off x="3098880" y="2610000"/>
              <a:ext cx="1504800" cy="869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3206880" y="2463840"/>
            <a:ext cx="1395360" cy="1015920"/>
            <a:chOff x="3206880" y="2463840"/>
            <a:chExt cx="1395360" cy="1015920"/>
          </a:xfrm>
        </p:grpSpPr>
        <p:sp>
          <p:nvSpPr>
            <p:cNvPr id="443" name="直接连接符 375"/>
            <p:cNvSpPr/>
            <p:nvPr/>
          </p:nvSpPr>
          <p:spPr>
            <a:xfrm>
              <a:off x="3206880" y="2463840"/>
              <a:ext cx="1395360" cy="10159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 txBox="1"/>
            <p:nvPr/>
          </p:nvSpPr>
          <p:spPr>
            <a:xfrm>
              <a:off x="3206880" y="2463840"/>
              <a:ext cx="1395360" cy="101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3321000" y="2320920"/>
            <a:ext cx="1285920" cy="1158840"/>
            <a:chOff x="3321000" y="2320920"/>
            <a:chExt cx="1285920" cy="1158840"/>
          </a:xfrm>
        </p:grpSpPr>
        <p:sp>
          <p:nvSpPr>
            <p:cNvPr id="446" name="直接连接符 376"/>
            <p:cNvSpPr/>
            <p:nvPr/>
          </p:nvSpPr>
          <p:spPr>
            <a:xfrm>
              <a:off x="3321000" y="2320920"/>
              <a:ext cx="1285920" cy="11588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 txBox="1"/>
            <p:nvPr/>
          </p:nvSpPr>
          <p:spPr>
            <a:xfrm>
              <a:off x="3321000" y="2320920"/>
              <a:ext cx="1285920" cy="11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3441600" y="2197080"/>
            <a:ext cx="1165320" cy="1282680"/>
            <a:chOff x="3441600" y="2197080"/>
            <a:chExt cx="1165320" cy="1282680"/>
          </a:xfrm>
        </p:grpSpPr>
        <p:sp>
          <p:nvSpPr>
            <p:cNvPr id="449" name="直接连接符 377"/>
            <p:cNvSpPr/>
            <p:nvPr/>
          </p:nvSpPr>
          <p:spPr>
            <a:xfrm>
              <a:off x="3441600" y="2197080"/>
              <a:ext cx="1165320" cy="128268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 txBox="1"/>
            <p:nvPr/>
          </p:nvSpPr>
          <p:spPr>
            <a:xfrm>
              <a:off x="3441600" y="2197080"/>
              <a:ext cx="1165320" cy="1282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3587760" y="2085840"/>
            <a:ext cx="1014480" cy="1393920"/>
            <a:chOff x="3587760" y="2085840"/>
            <a:chExt cx="1014480" cy="1393920"/>
          </a:xfrm>
        </p:grpSpPr>
        <p:sp>
          <p:nvSpPr>
            <p:cNvPr id="452" name="直接连接符 378"/>
            <p:cNvSpPr/>
            <p:nvPr/>
          </p:nvSpPr>
          <p:spPr>
            <a:xfrm>
              <a:off x="3587760" y="2085840"/>
              <a:ext cx="1014480" cy="13939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 txBox="1"/>
            <p:nvPr/>
          </p:nvSpPr>
          <p:spPr>
            <a:xfrm>
              <a:off x="3587760" y="2085840"/>
              <a:ext cx="1014480" cy="1393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3736800" y="1978200"/>
            <a:ext cx="870120" cy="1498320"/>
            <a:chOff x="3736800" y="1978200"/>
            <a:chExt cx="870120" cy="1498320"/>
          </a:xfrm>
        </p:grpSpPr>
        <p:sp>
          <p:nvSpPr>
            <p:cNvPr id="455" name="直接连接符 379"/>
            <p:cNvSpPr/>
            <p:nvPr/>
          </p:nvSpPr>
          <p:spPr>
            <a:xfrm>
              <a:off x="3736800" y="1978200"/>
              <a:ext cx="870120" cy="14983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 txBox="1"/>
            <p:nvPr/>
          </p:nvSpPr>
          <p:spPr>
            <a:xfrm>
              <a:off x="3736800" y="1978200"/>
              <a:ext cx="870120" cy="149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3898800" y="1895400"/>
            <a:ext cx="714600" cy="1579680"/>
            <a:chOff x="3898800" y="1895400"/>
            <a:chExt cx="714600" cy="1579680"/>
          </a:xfrm>
        </p:grpSpPr>
        <p:sp>
          <p:nvSpPr>
            <p:cNvPr id="458" name="直接连接符 380"/>
            <p:cNvSpPr/>
            <p:nvPr/>
          </p:nvSpPr>
          <p:spPr>
            <a:xfrm>
              <a:off x="3898800" y="1895400"/>
              <a:ext cx="714600" cy="157968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 txBox="1"/>
            <p:nvPr/>
          </p:nvSpPr>
          <p:spPr>
            <a:xfrm>
              <a:off x="3898800" y="1895400"/>
              <a:ext cx="714600" cy="157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4070520" y="1838160"/>
            <a:ext cx="536400" cy="1636920"/>
            <a:chOff x="4070520" y="1838160"/>
            <a:chExt cx="536400" cy="1636920"/>
          </a:xfrm>
        </p:grpSpPr>
        <p:sp>
          <p:nvSpPr>
            <p:cNvPr id="461" name="直接连接符 381"/>
            <p:cNvSpPr/>
            <p:nvPr/>
          </p:nvSpPr>
          <p:spPr>
            <a:xfrm>
              <a:off x="4070520" y="1838160"/>
              <a:ext cx="536400" cy="16369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 txBox="1"/>
            <p:nvPr/>
          </p:nvSpPr>
          <p:spPr>
            <a:xfrm>
              <a:off x="4070520" y="1838160"/>
              <a:ext cx="536400" cy="1636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4235400" y="1778040"/>
            <a:ext cx="366840" cy="1701720"/>
            <a:chOff x="4235400" y="1778040"/>
            <a:chExt cx="366840" cy="1701720"/>
          </a:xfrm>
        </p:grpSpPr>
        <p:sp>
          <p:nvSpPr>
            <p:cNvPr id="464" name="直接连接符 382"/>
            <p:cNvSpPr/>
            <p:nvPr/>
          </p:nvSpPr>
          <p:spPr>
            <a:xfrm>
              <a:off x="4235400" y="1778040"/>
              <a:ext cx="366840" cy="17017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 txBox="1"/>
            <p:nvPr/>
          </p:nvSpPr>
          <p:spPr>
            <a:xfrm>
              <a:off x="4235400" y="1778040"/>
              <a:ext cx="366840" cy="1701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4422600" y="1758960"/>
            <a:ext cx="190800" cy="1717560"/>
            <a:chOff x="4422600" y="1758960"/>
            <a:chExt cx="190800" cy="1717560"/>
          </a:xfrm>
        </p:grpSpPr>
        <p:sp>
          <p:nvSpPr>
            <p:cNvPr id="467" name="直接连接符 383"/>
            <p:cNvSpPr/>
            <p:nvPr/>
          </p:nvSpPr>
          <p:spPr>
            <a:xfrm>
              <a:off x="4422600" y="1758960"/>
              <a:ext cx="190800" cy="171756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 txBox="1"/>
            <p:nvPr/>
          </p:nvSpPr>
          <p:spPr>
            <a:xfrm>
              <a:off x="4422600" y="1758960"/>
              <a:ext cx="190800" cy="17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606920" y="1041480"/>
            <a:ext cx="1440" cy="1247760"/>
            <a:chOff x="4606920" y="1041480"/>
            <a:chExt cx="1440" cy="1247760"/>
          </a:xfrm>
        </p:grpSpPr>
        <p:sp>
          <p:nvSpPr>
            <p:cNvPr id="470" name="直接连接符 384"/>
            <p:cNvSpPr/>
            <p:nvPr/>
          </p:nvSpPr>
          <p:spPr>
            <a:xfrm>
              <a:off x="4606920" y="1041480"/>
              <a:ext cx="1440" cy="1247760"/>
            </a:xfrm>
            <a:prstGeom prst="line">
              <a:avLst/>
            </a:prstGeom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 txBox="1"/>
            <p:nvPr/>
          </p:nvSpPr>
          <p:spPr>
            <a:xfrm>
              <a:off x="4606920" y="1041480"/>
              <a:ext cx="1440" cy="1247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5449320" y="1765800"/>
            <a:ext cx="883080" cy="882720"/>
            <a:chOff x="5449320" y="1765800"/>
            <a:chExt cx="883080" cy="882720"/>
          </a:xfrm>
        </p:grpSpPr>
        <p:sp>
          <p:nvSpPr>
            <p:cNvPr id="473" name="直接连接符 385"/>
            <p:cNvSpPr/>
            <p:nvPr/>
          </p:nvSpPr>
          <p:spPr>
            <a:xfrm flipH="1">
              <a:off x="5449680" y="1765800"/>
              <a:ext cx="882360" cy="882360"/>
            </a:xfrm>
            <a:prstGeom prst="line">
              <a:avLst/>
            </a:prstGeom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 txBox="1"/>
            <p:nvPr/>
          </p:nvSpPr>
          <p:spPr>
            <a:xfrm rot="2700000">
              <a:off x="5890680" y="1582920"/>
              <a:ext cx="360" cy="124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2970360" y="3452760"/>
            <a:ext cx="1247760" cy="3240"/>
            <a:chOff x="2970360" y="3452760"/>
            <a:chExt cx="1247760" cy="3240"/>
          </a:xfrm>
        </p:grpSpPr>
        <p:sp>
          <p:nvSpPr>
            <p:cNvPr id="476" name="直接连接符 386"/>
            <p:cNvSpPr/>
            <p:nvPr/>
          </p:nvSpPr>
          <p:spPr>
            <a:xfrm flipH="1">
              <a:off x="2970360" y="3452760"/>
              <a:ext cx="1247760" cy="3240"/>
            </a:xfrm>
            <a:prstGeom prst="line">
              <a:avLst/>
            </a:prstGeom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 txBox="1"/>
            <p:nvPr/>
          </p:nvSpPr>
          <p:spPr>
            <a:xfrm rot="5400000">
              <a:off x="3592440" y="2830320"/>
              <a:ext cx="3240" cy="1247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5460480" y="4322880"/>
            <a:ext cx="882720" cy="882720"/>
            <a:chOff x="5460480" y="4322880"/>
            <a:chExt cx="882720" cy="882720"/>
          </a:xfrm>
        </p:grpSpPr>
        <p:sp>
          <p:nvSpPr>
            <p:cNvPr id="479" name="直接连接符 387"/>
            <p:cNvSpPr/>
            <p:nvPr/>
          </p:nvSpPr>
          <p:spPr>
            <a:xfrm flipH="1" flipV="1">
              <a:off x="5461200" y="4323240"/>
              <a:ext cx="882000" cy="882000"/>
            </a:xfrm>
            <a:prstGeom prst="line">
              <a:avLst/>
            </a:prstGeom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 txBox="1"/>
            <p:nvPr/>
          </p:nvSpPr>
          <p:spPr>
            <a:xfrm rot="8100000">
              <a:off x="5901480" y="4140000"/>
              <a:ext cx="360" cy="1247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2149560" y="3479760"/>
            <a:ext cx="1247760" cy="360"/>
            <a:chOff x="2149560" y="3479760"/>
            <a:chExt cx="1247760" cy="360"/>
          </a:xfrm>
        </p:grpSpPr>
        <p:sp>
          <p:nvSpPr>
            <p:cNvPr id="482" name="直接连接符 388"/>
            <p:cNvSpPr/>
            <p:nvPr/>
          </p:nvSpPr>
          <p:spPr>
            <a:xfrm flipH="1">
              <a:off x="2149560" y="3479760"/>
              <a:ext cx="1247760" cy="0"/>
            </a:xfrm>
            <a:prstGeom prst="line">
              <a:avLst/>
            </a:prstGeom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 txBox="1"/>
            <p:nvPr/>
          </p:nvSpPr>
          <p:spPr>
            <a:xfrm rot="5400000">
              <a:off x="2773080" y="2855880"/>
              <a:ext cx="360" cy="1247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2909880" y="4322520"/>
            <a:ext cx="882720" cy="882720"/>
            <a:chOff x="2909880" y="4322520"/>
            <a:chExt cx="882720" cy="882720"/>
          </a:xfrm>
        </p:grpSpPr>
        <p:sp>
          <p:nvSpPr>
            <p:cNvPr id="485" name="直接连接符 389"/>
            <p:cNvSpPr/>
            <p:nvPr/>
          </p:nvSpPr>
          <p:spPr>
            <a:xfrm flipV="1">
              <a:off x="2910240" y="4323240"/>
              <a:ext cx="882000" cy="882000"/>
            </a:xfrm>
            <a:prstGeom prst="line">
              <a:avLst/>
            </a:prstGeom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 txBox="1"/>
            <p:nvPr/>
          </p:nvSpPr>
          <p:spPr>
            <a:xfrm rot="13500000">
              <a:off x="3350880" y="4140000"/>
              <a:ext cx="360" cy="1247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2934720" y="1803240"/>
            <a:ext cx="883440" cy="883080"/>
            <a:chOff x="2934720" y="1803240"/>
            <a:chExt cx="883440" cy="883080"/>
          </a:xfrm>
        </p:grpSpPr>
        <p:sp>
          <p:nvSpPr>
            <p:cNvPr id="488" name="直接连接符 390"/>
            <p:cNvSpPr/>
            <p:nvPr/>
          </p:nvSpPr>
          <p:spPr>
            <a:xfrm>
              <a:off x="2934720" y="1803600"/>
              <a:ext cx="882360" cy="882360"/>
            </a:xfrm>
            <a:prstGeom prst="line">
              <a:avLst/>
            </a:prstGeom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 txBox="1"/>
            <p:nvPr/>
          </p:nvSpPr>
          <p:spPr>
            <a:xfrm rot="18900000">
              <a:off x="3376440" y="1620360"/>
              <a:ext cx="360" cy="124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4606920" y="4583160"/>
            <a:ext cx="1440" cy="1247760"/>
            <a:chOff x="4606920" y="4583160"/>
            <a:chExt cx="1440" cy="1247760"/>
          </a:xfrm>
        </p:grpSpPr>
        <p:sp>
          <p:nvSpPr>
            <p:cNvPr id="491" name="直接连接符 391"/>
            <p:cNvSpPr/>
            <p:nvPr/>
          </p:nvSpPr>
          <p:spPr>
            <a:xfrm>
              <a:off x="4606920" y="4583160"/>
              <a:ext cx="1440" cy="1247760"/>
            </a:xfrm>
            <a:prstGeom prst="line">
              <a:avLst/>
            </a:prstGeom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 txBox="1"/>
            <p:nvPr/>
          </p:nvSpPr>
          <p:spPr>
            <a:xfrm>
              <a:off x="4606920" y="4583160"/>
              <a:ext cx="1440" cy="1247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椭圆 392"/>
          <p:cNvSpPr/>
          <p:nvPr/>
        </p:nvSpPr>
        <p:spPr>
          <a:xfrm>
            <a:off x="4464000" y="3336840"/>
            <a:ext cx="285840" cy="285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393"/>
          <p:cNvSpPr/>
          <p:nvPr/>
        </p:nvSpPr>
        <p:spPr>
          <a:xfrm>
            <a:off x="3926160" y="385920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逐一消灭 只为成为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焦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椭圆 394"/>
          <p:cNvSpPr/>
          <p:nvPr/>
        </p:nvSpPr>
        <p:spPr>
          <a:xfrm>
            <a:off x="3787920" y="2660760"/>
            <a:ext cx="1638000" cy="1638360"/>
          </a:xfrm>
          <a:prstGeom prst="ellips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椭圆 395"/>
          <p:cNvSpPr/>
          <p:nvPr/>
        </p:nvSpPr>
        <p:spPr>
          <a:xfrm>
            <a:off x="3149640" y="2022480"/>
            <a:ext cx="2914560" cy="2914560"/>
          </a:xfrm>
          <a:prstGeom prst="ellips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椭圆 396"/>
          <p:cNvSpPr/>
          <p:nvPr/>
        </p:nvSpPr>
        <p:spPr>
          <a:xfrm>
            <a:off x="4254480" y="3127320"/>
            <a:ext cx="704880" cy="704880"/>
          </a:xfrm>
          <a:prstGeom prst="ellips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矩形 397"/>
          <p:cNvSpPr/>
          <p:nvPr/>
        </p:nvSpPr>
        <p:spPr>
          <a:xfrm>
            <a:off x="3305160" y="2178000"/>
            <a:ext cx="2603520" cy="2603520"/>
          </a:xfrm>
          <a:prstGeom prst="rect">
            <a:avLst/>
          </a:pr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矩形 398"/>
          <p:cNvSpPr/>
          <p:nvPr/>
        </p:nvSpPr>
        <p:spPr>
          <a:xfrm>
            <a:off x="3305160" y="2178000"/>
            <a:ext cx="2603520" cy="2603520"/>
          </a:xfrm>
          <a:prstGeom prst="rect">
            <a:avLst/>
          </a:pr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399"/>
          <p:cNvSpPr/>
          <p:nvPr/>
        </p:nvSpPr>
        <p:spPr>
          <a:xfrm>
            <a:off x="3305160" y="2178000"/>
            <a:ext cx="2603520" cy="2603520"/>
          </a:xfrm>
          <a:prstGeom prst="rect">
            <a:avLst/>
          </a:pr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矩形 400"/>
          <p:cNvSpPr/>
          <p:nvPr/>
        </p:nvSpPr>
        <p:spPr>
          <a:xfrm>
            <a:off x="3305160" y="2178000"/>
            <a:ext cx="2603520" cy="2603520"/>
          </a:xfrm>
          <a:prstGeom prst="rect">
            <a:avLst/>
          </a:pr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矩形 401"/>
          <p:cNvSpPr/>
          <p:nvPr/>
        </p:nvSpPr>
        <p:spPr>
          <a:xfrm>
            <a:off x="3305160" y="2178000"/>
            <a:ext cx="2603520" cy="2603520"/>
          </a:xfrm>
          <a:prstGeom prst="rect">
            <a:avLst/>
          </a:pr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402"/>
          <p:cNvSpPr/>
          <p:nvPr/>
        </p:nvSpPr>
        <p:spPr>
          <a:xfrm>
            <a:off x="3305160" y="2178000"/>
            <a:ext cx="2603520" cy="2603520"/>
          </a:xfrm>
          <a:prstGeom prst="rect">
            <a:avLst/>
          </a:pr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403"/>
          <p:cNvSpPr/>
          <p:nvPr/>
        </p:nvSpPr>
        <p:spPr>
          <a:xfrm>
            <a:off x="3305160" y="2178000"/>
            <a:ext cx="2603520" cy="2603520"/>
          </a:xfrm>
          <a:prstGeom prst="rect">
            <a:avLst/>
          </a:pr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圆角矩形 404"/>
          <p:cNvSpPr/>
          <p:nvPr/>
        </p:nvSpPr>
        <p:spPr>
          <a:xfrm>
            <a:off x="4584600" y="2697120"/>
            <a:ext cx="46080" cy="366840"/>
          </a:xfrm>
          <a:custGeom>
            <a:avLst/>
            <a:gdLst>
              <a:gd name="textAreaLeft" fmla="*/ 6480 w 46080"/>
              <a:gd name="textAreaRight" fmla="*/ 39600 w 46080"/>
              <a:gd name="textAreaTop" fmla="*/ 6480 h 366840"/>
              <a:gd name="textAreaBottom" fmla="*/ 360360 h 366840"/>
            </a:gdLst>
            <a:ahLst/>
            <a:rect l="textAreaLeft" t="textAreaTop" r="textAreaRight" b="textAreaBottom"/>
            <a:pathLst>
              <a:path w="21600" h="170791">
                <a:moveTo>
                  <a:pt x="10800" y="0"/>
                </a:moveTo>
                <a:arcTo wR="10800" hR="10800" stAng="16200000" swAng="-5400000"/>
                <a:lnTo>
                  <a:pt x="0" y="159991"/>
                </a:lnTo>
                <a:arcTo wR="10800" hR="10800" stAng="10800000" swAng="-5400000"/>
                <a:lnTo>
                  <a:pt x="10800" y="17079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圆角矩形 405"/>
          <p:cNvSpPr/>
          <p:nvPr/>
        </p:nvSpPr>
        <p:spPr>
          <a:xfrm flipV="1" rot="5400000">
            <a:off x="5267880" y="3294720"/>
            <a:ext cx="46080" cy="368280"/>
          </a:xfrm>
          <a:custGeom>
            <a:avLst/>
            <a:gdLst>
              <a:gd name="textAreaLeft" fmla="*/ 6480 w 46080"/>
              <a:gd name="textAreaRight" fmla="*/ 39600 w 46080"/>
              <a:gd name="textAreaTop" fmla="*/ 6480 h 368280"/>
              <a:gd name="textAreaBottom" fmla="*/ 361800 h 368280"/>
            </a:gdLst>
            <a:ahLst/>
            <a:rect l="textAreaLeft" t="textAreaTop" r="textAreaRight" b="textAreaBottom"/>
            <a:pathLst>
              <a:path w="21600" h="171460">
                <a:moveTo>
                  <a:pt x="10800" y="0"/>
                </a:moveTo>
                <a:arcTo wR="10800" hR="10800" stAng="16200000" swAng="-5400000"/>
                <a:lnTo>
                  <a:pt x="0" y="160660"/>
                </a:lnTo>
                <a:arcTo wR="10800" hR="10800" stAng="10800000" swAng="-5400000"/>
                <a:lnTo>
                  <a:pt x="10800" y="17146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圆角矩形 406"/>
          <p:cNvSpPr/>
          <p:nvPr/>
        </p:nvSpPr>
        <p:spPr>
          <a:xfrm flipV="1" rot="5400000">
            <a:off x="3838320" y="3295440"/>
            <a:ext cx="47520" cy="368280"/>
          </a:xfrm>
          <a:custGeom>
            <a:avLst/>
            <a:gdLst>
              <a:gd name="textAreaLeft" fmla="*/ 6840 w 47520"/>
              <a:gd name="textAreaRight" fmla="*/ 40680 w 47520"/>
              <a:gd name="textAreaTop" fmla="*/ 6840 h 368280"/>
              <a:gd name="textAreaBottom" fmla="*/ 361440 h 368280"/>
            </a:gdLst>
            <a:ahLst/>
            <a:rect l="textAreaLeft" t="textAreaTop" r="textAreaRight" b="textAreaBottom"/>
            <a:pathLst>
              <a:path w="21600" h="166304">
                <a:moveTo>
                  <a:pt x="10800" y="0"/>
                </a:moveTo>
                <a:arcTo wR="10800" hR="10800" stAng="16200000" swAng="-5400000"/>
                <a:lnTo>
                  <a:pt x="0" y="155504"/>
                </a:lnTo>
                <a:arcTo wR="10800" hR="10800" stAng="10800000" swAng="-5400000"/>
                <a:lnTo>
                  <a:pt x="10800" y="16630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4825800" y="3152520"/>
            <a:ext cx="122400" cy="114120"/>
            <a:chOff x="4825800" y="3152520"/>
            <a:chExt cx="122400" cy="114120"/>
          </a:xfrm>
        </p:grpSpPr>
        <p:sp>
          <p:nvSpPr>
            <p:cNvPr id="509" name="直接连接符 407"/>
            <p:cNvSpPr/>
            <p:nvPr/>
          </p:nvSpPr>
          <p:spPr>
            <a:xfrm flipV="1">
              <a:off x="4826160" y="3152520"/>
              <a:ext cx="122040" cy="1141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 txBox="1"/>
            <p:nvPr/>
          </p:nvSpPr>
          <p:spPr>
            <a:xfrm rot="10800000">
              <a:off x="4825800" y="3152520"/>
              <a:ext cx="122040" cy="114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4267080" y="3171600"/>
            <a:ext cx="122400" cy="114120"/>
            <a:chOff x="4267080" y="3171600"/>
            <a:chExt cx="122400" cy="114120"/>
          </a:xfrm>
        </p:grpSpPr>
        <p:sp>
          <p:nvSpPr>
            <p:cNvPr id="512" name="直接连接符 408"/>
            <p:cNvSpPr/>
            <p:nvPr/>
          </p:nvSpPr>
          <p:spPr>
            <a:xfrm flipH="1" flipV="1">
              <a:off x="4267080" y="3171600"/>
              <a:ext cx="122400" cy="1141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 txBox="1"/>
            <p:nvPr/>
          </p:nvSpPr>
          <p:spPr>
            <a:xfrm rot="10800000">
              <a:off x="4267080" y="3171600"/>
              <a:ext cx="122400" cy="114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4790880" y="3717720"/>
            <a:ext cx="122040" cy="114120"/>
            <a:chOff x="4790880" y="3717720"/>
            <a:chExt cx="122040" cy="114120"/>
          </a:xfrm>
        </p:grpSpPr>
        <p:sp>
          <p:nvSpPr>
            <p:cNvPr id="515" name="直接连接符 409"/>
            <p:cNvSpPr/>
            <p:nvPr/>
          </p:nvSpPr>
          <p:spPr>
            <a:xfrm flipH="1" flipV="1">
              <a:off x="4790880" y="3717720"/>
              <a:ext cx="122040" cy="1141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 txBox="1"/>
            <p:nvPr/>
          </p:nvSpPr>
          <p:spPr>
            <a:xfrm rot="10800000">
              <a:off x="4790880" y="3717720"/>
              <a:ext cx="122040" cy="114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4254480" y="3698640"/>
            <a:ext cx="122400" cy="114120"/>
            <a:chOff x="4254480" y="3698640"/>
            <a:chExt cx="122400" cy="114120"/>
          </a:xfrm>
        </p:grpSpPr>
        <p:sp>
          <p:nvSpPr>
            <p:cNvPr id="518" name="直接连接符 410"/>
            <p:cNvSpPr/>
            <p:nvPr/>
          </p:nvSpPr>
          <p:spPr>
            <a:xfrm flipV="1">
              <a:off x="4254480" y="3698640"/>
              <a:ext cx="122400" cy="1141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 txBox="1"/>
            <p:nvPr/>
          </p:nvSpPr>
          <p:spPr>
            <a:xfrm rot="10800000">
              <a:off x="4254480" y="3698640"/>
              <a:ext cx="122400" cy="114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圆角矩形 411"/>
          <p:cNvSpPr/>
          <p:nvPr/>
        </p:nvSpPr>
        <p:spPr>
          <a:xfrm>
            <a:off x="4584600" y="3927600"/>
            <a:ext cx="46080" cy="368280"/>
          </a:xfrm>
          <a:custGeom>
            <a:avLst/>
            <a:gdLst>
              <a:gd name="textAreaLeft" fmla="*/ 6480 w 46080"/>
              <a:gd name="textAreaRight" fmla="*/ 39600 w 46080"/>
              <a:gd name="textAreaTop" fmla="*/ 6480 h 368280"/>
              <a:gd name="textAreaBottom" fmla="*/ 361800 h 368280"/>
            </a:gdLst>
            <a:ahLst/>
            <a:rect l="textAreaLeft" t="textAreaTop" r="textAreaRight" b="textAreaBottom"/>
            <a:pathLst>
              <a:path w="21600" h="171460">
                <a:moveTo>
                  <a:pt x="10800" y="0"/>
                </a:moveTo>
                <a:arcTo wR="10800" hR="10800" stAng="16200000" swAng="-5400000"/>
                <a:lnTo>
                  <a:pt x="0" y="160660"/>
                </a:lnTo>
                <a:arcTo wR="10800" hR="10800" stAng="10800000" swAng="-5400000"/>
                <a:lnTo>
                  <a:pt x="10800" y="17146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2" descr="C:\Users\Administrator.WIN7U-20131126L\Desktop\新建文件夹\9ERPON4400DE0005.jpg"/>
          <p:cNvPicPr/>
          <p:nvPr/>
        </p:nvPicPr>
        <p:blipFill>
          <a:blip r:embed="rId8"/>
          <a:srcRect l="35601" t="0" r="0" b="0"/>
          <a:stretch/>
        </p:blipFill>
        <p:spPr>
          <a:xfrm>
            <a:off x="1789200" y="549360"/>
            <a:ext cx="5564160" cy="5759280"/>
          </a:xfrm>
          <a:prstGeom prst="rect">
            <a:avLst/>
          </a:prstGeom>
          <a:ln w="0">
            <a:noFill/>
          </a:ln>
        </p:spPr>
      </p:pic>
      <p:sp>
        <p:nvSpPr>
          <p:cNvPr id="522" name="TextBox 413"/>
          <p:cNvSpPr/>
          <p:nvPr/>
        </p:nvSpPr>
        <p:spPr>
          <a:xfrm>
            <a:off x="4703040" y="532764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捧回大力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414"/>
          <p:cNvSpPr/>
          <p:nvPr/>
        </p:nvSpPr>
        <p:spPr>
          <a:xfrm>
            <a:off x="4201920" y="141120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一步是如此的艰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C:\Users\Administrator.WIN7U-20131126L\Desktop\新建文件夹\1404140342315.jpg"/>
          <p:cNvPicPr/>
          <p:nvPr/>
        </p:nvPicPr>
        <p:blipFill>
          <a:blip r:embed="rId9"/>
          <a:srcRect l="0" t="0" r="0" b="8003"/>
          <a:stretch/>
        </p:blipFill>
        <p:spPr>
          <a:xfrm>
            <a:off x="901800" y="2890800"/>
            <a:ext cx="2349360" cy="143496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4" descr="C:\Users\Administrator.WIN7U-20131126L\Desktop\97a5386bbd2df1918311945a1226730f.jpg"/>
          <p:cNvPicPr/>
          <p:nvPr/>
        </p:nvPicPr>
        <p:blipFill>
          <a:blip r:embed="rId10"/>
          <a:srcRect l="0" t="0" r="0" b="18555"/>
          <a:stretch/>
        </p:blipFill>
        <p:spPr>
          <a:xfrm>
            <a:off x="6181560" y="2930400"/>
            <a:ext cx="2349720" cy="14353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5" descr="C:\Users\Administrator.WIN7U-20131126L\Desktop\4f827f4215381af4082a636ee9f615e3.jpg"/>
          <p:cNvPicPr/>
          <p:nvPr/>
        </p:nvPicPr>
        <p:blipFill>
          <a:blip r:embed="rId11"/>
          <a:srcRect l="0" t="14060" r="0" b="4495"/>
          <a:stretch/>
        </p:blipFill>
        <p:spPr>
          <a:xfrm>
            <a:off x="3543480" y="2930400"/>
            <a:ext cx="2349360" cy="14353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C:\Users\Administrator.WIN7U-20131126L\Desktop\20140618044619177.jpg"/>
          <p:cNvPicPr/>
          <p:nvPr/>
        </p:nvPicPr>
        <p:blipFill>
          <a:blip r:embed="rId12"/>
          <a:srcRect l="0" t="0" r="0" b="7972"/>
          <a:stretch/>
        </p:blipFill>
        <p:spPr>
          <a:xfrm>
            <a:off x="3543480" y="4722840"/>
            <a:ext cx="2349360" cy="14414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0" descr="C:\Users\Administrator.WIN7U-20131126L\Desktop\4348_20140618190634_dge2s.jpg"/>
          <p:cNvPicPr/>
          <p:nvPr/>
        </p:nvPicPr>
        <p:blipFill>
          <a:blip r:embed="rId13"/>
          <a:stretch/>
        </p:blipFill>
        <p:spPr>
          <a:xfrm>
            <a:off x="6181560" y="4730760"/>
            <a:ext cx="2349720" cy="14414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1" descr="C:\Users\Administrator.WIN7U-20131126L\Desktop\0022fad5f4c2150b0e0b0a.jpg"/>
          <p:cNvPicPr/>
          <p:nvPr/>
        </p:nvPicPr>
        <p:blipFill>
          <a:blip r:embed="rId14"/>
          <a:srcRect l="0" t="0" r="0" b="3114"/>
          <a:stretch/>
        </p:blipFill>
        <p:spPr>
          <a:xfrm>
            <a:off x="901800" y="4729320"/>
            <a:ext cx="2349360" cy="1434960"/>
          </a:xfrm>
          <a:prstGeom prst="rect">
            <a:avLst/>
          </a:prstGeom>
          <a:ln w="0">
            <a:noFill/>
          </a:ln>
        </p:spPr>
      </p:pic>
      <p:sp>
        <p:nvSpPr>
          <p:cNvPr id="530" name="TextBox 421"/>
          <p:cNvSpPr/>
          <p:nvPr/>
        </p:nvSpPr>
        <p:spPr>
          <a:xfrm>
            <a:off x="2344320" y="3575160"/>
            <a:ext cx="42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bd4b4"/>
                </a:solidFill>
                <a:latin typeface="微软雅黑"/>
                <a:ea typeface="微软雅黑"/>
              </a:rPr>
              <a:t>我们开始怀恋有他们的日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8" descr=""/>
          <p:cNvPicPr/>
          <p:nvPr/>
        </p:nvPicPr>
        <p:blipFill>
          <a:blip r:embed="rId15"/>
          <a:stretch/>
        </p:blipFill>
        <p:spPr>
          <a:xfrm>
            <a:off x="-4869000" y="2025720"/>
            <a:ext cx="18775440" cy="23050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8" descr=""/>
          <p:cNvPicPr/>
          <p:nvPr/>
        </p:nvPicPr>
        <p:blipFill>
          <a:blip r:embed="rId16"/>
          <a:stretch/>
        </p:blipFill>
        <p:spPr>
          <a:xfrm>
            <a:off x="-4869000" y="2025720"/>
            <a:ext cx="18775440" cy="23050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8" descr=""/>
          <p:cNvPicPr/>
          <p:nvPr/>
        </p:nvPicPr>
        <p:blipFill>
          <a:blip r:embed="rId17"/>
          <a:stretch/>
        </p:blipFill>
        <p:spPr>
          <a:xfrm>
            <a:off x="-4842000" y="2021040"/>
            <a:ext cx="18774000" cy="23047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2" descr="C:\Users\Administrator.WIN7U-20131126L\Desktop\7c5fcc1bfa13d0faac6e753c.jpg"/>
          <p:cNvPicPr/>
          <p:nvPr/>
        </p:nvPicPr>
        <p:blipFill>
          <a:blip r:embed="rId18"/>
          <a:stretch/>
        </p:blipFill>
        <p:spPr>
          <a:xfrm>
            <a:off x="949320" y="646200"/>
            <a:ext cx="2236680" cy="15415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4" descr="C:\Users\Administrator.WIN7U-20131126L\Desktop\20100304091616227.jpg"/>
          <p:cNvPicPr/>
          <p:nvPr/>
        </p:nvPicPr>
        <p:blipFill>
          <a:blip r:embed="rId19"/>
          <a:stretch/>
        </p:blipFill>
        <p:spPr>
          <a:xfrm>
            <a:off x="903240" y="2292480"/>
            <a:ext cx="2151000" cy="15494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5" descr="C:\Users\Administrator.WIN7U-20131126L\Desktop\Img201602443.jpg"/>
          <p:cNvPicPr/>
          <p:nvPr/>
        </p:nvPicPr>
        <p:blipFill>
          <a:blip r:embed="rId20"/>
          <a:stretch/>
        </p:blipFill>
        <p:spPr>
          <a:xfrm>
            <a:off x="3368520" y="652320"/>
            <a:ext cx="2543400" cy="154944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6" descr="C:\Users\Administrator.WIN7U-20131126L\Desktop\res04_attpic_brief.jpg"/>
          <p:cNvPicPr/>
          <p:nvPr/>
        </p:nvPicPr>
        <p:blipFill>
          <a:blip r:embed="rId21"/>
          <a:stretch/>
        </p:blipFill>
        <p:spPr>
          <a:xfrm>
            <a:off x="6161040" y="660240"/>
            <a:ext cx="2141640" cy="15415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7" descr="C:\Users\Administrator.WIN7U-20131126L\Desktop\新建文件夹\20105264157-70019939.jpg"/>
          <p:cNvPicPr/>
          <p:nvPr/>
        </p:nvPicPr>
        <p:blipFill>
          <a:blip r:embed="rId22"/>
          <a:stretch/>
        </p:blipFill>
        <p:spPr>
          <a:xfrm>
            <a:off x="6168960" y="2428920"/>
            <a:ext cx="2467080" cy="15429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18" descr="C:\Users\Administrator.WIN7U-20131126L\Desktop\新建文件夹\20120410143417969.jpg"/>
          <p:cNvPicPr/>
          <p:nvPr/>
        </p:nvPicPr>
        <p:blipFill>
          <a:blip r:embed="rId23"/>
          <a:stretch/>
        </p:blipFill>
        <p:spPr>
          <a:xfrm>
            <a:off x="5396040" y="4016520"/>
            <a:ext cx="2065320" cy="15490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9" descr="C:\Users\Administrator.WIN7U-20131126L\Desktop\新建文件夹\20140517095950572.jpg"/>
          <p:cNvPicPr/>
          <p:nvPr/>
        </p:nvPicPr>
        <p:blipFill>
          <a:blip r:embed="rId24"/>
          <a:stretch/>
        </p:blipFill>
        <p:spPr>
          <a:xfrm>
            <a:off x="1638360" y="3978360"/>
            <a:ext cx="2300400" cy="15429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0" descr="C:\Users\Administrator.WIN7U-20131126L\Desktop\新建文件夹\20131119134503360.jpg"/>
          <p:cNvPicPr/>
          <p:nvPr/>
        </p:nvPicPr>
        <p:blipFill>
          <a:blip r:embed="rId25"/>
          <a:stretch/>
        </p:blipFill>
        <p:spPr>
          <a:xfrm>
            <a:off x="3429000" y="2389320"/>
            <a:ext cx="2286000" cy="15760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3" descr="C:\Users\Administrator.WIN7U-20131126L\Desktop\6C2D441D6AC080A033EF326C58F19375.jpg"/>
          <p:cNvPicPr/>
          <p:nvPr/>
        </p:nvPicPr>
        <p:blipFill>
          <a:blip r:embed="rId26"/>
          <a:stretch/>
        </p:blipFill>
        <p:spPr>
          <a:xfrm>
            <a:off x="324000" y="333360"/>
            <a:ext cx="5178240" cy="366084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" descr="C:\Users\Administrator.WIN7U-20131126L\Desktop\u=2840014556,3416644648&amp;fm=32.jpg"/>
          <p:cNvPicPr/>
          <p:nvPr/>
        </p:nvPicPr>
        <p:blipFill>
          <a:blip r:embed="rId27"/>
          <a:srcRect l="8554" t="15081" r="18860" b="7070"/>
          <a:stretch/>
        </p:blipFill>
        <p:spPr>
          <a:xfrm>
            <a:off x="3708360" y="2924280"/>
            <a:ext cx="5178600" cy="3660840"/>
          </a:xfrm>
          <a:prstGeom prst="rect">
            <a:avLst/>
          </a:prstGeom>
          <a:ln w="0">
            <a:noFill/>
          </a:ln>
        </p:spPr>
      </p:pic>
      <p:sp>
        <p:nvSpPr>
          <p:cNvPr id="544" name="TextBox 437"/>
          <p:cNvSpPr/>
          <p:nvPr/>
        </p:nvSpPr>
        <p:spPr>
          <a:xfrm>
            <a:off x="6439320" y="1413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队长累积黄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438"/>
          <p:cNvSpPr/>
          <p:nvPr/>
        </p:nvSpPr>
        <p:spPr>
          <a:xfrm>
            <a:off x="1389960" y="4570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马尔受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4" descr="C:\Users\Administrator.WIN7U-20131126L\Desktop\0ff41bd5ad6eddc4f550b31738dbb6fd536633a2.jpg"/>
          <p:cNvPicPr/>
          <p:nvPr/>
        </p:nvPicPr>
        <p:blipFill>
          <a:blip r:embed="rId28"/>
          <a:stretch/>
        </p:blipFill>
        <p:spPr>
          <a:xfrm>
            <a:off x="3657600" y="2782800"/>
            <a:ext cx="1828800" cy="1292400"/>
          </a:xfrm>
          <a:prstGeom prst="rect">
            <a:avLst/>
          </a:prstGeom>
          <a:ln w="0">
            <a:noFill/>
          </a:ln>
        </p:spPr>
      </p:pic>
      <p:sp>
        <p:nvSpPr>
          <p:cNvPr id="547" name="TextBox 440"/>
          <p:cNvSpPr/>
          <p:nvPr/>
        </p:nvSpPr>
        <p:spPr>
          <a:xfrm flipH="1">
            <a:off x="-720" y="3244680"/>
            <a:ext cx="914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有强大的德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" descr="C:\Users\Administrator.WIN7U-20131126L\Desktop\4120136_152158086605_2.jpg"/>
          <p:cNvPicPr/>
          <p:nvPr/>
        </p:nvPicPr>
        <p:blipFill>
          <a:blip r:embed="rId29"/>
          <a:srcRect l="0" t="0" r="0" b="4704"/>
          <a:stretch/>
        </p:blipFill>
        <p:spPr>
          <a:xfrm>
            <a:off x="-939960" y="-27000"/>
            <a:ext cx="11025360" cy="6988320"/>
          </a:xfrm>
          <a:prstGeom prst="rect">
            <a:avLst/>
          </a:prstGeom>
          <a:ln w="0">
            <a:noFill/>
          </a:ln>
        </p:spPr>
      </p:pic>
      <p:sp>
        <p:nvSpPr>
          <p:cNvPr id="549" name="TextBox 442"/>
          <p:cNvSpPr/>
          <p:nvPr/>
        </p:nvSpPr>
        <p:spPr>
          <a:xfrm>
            <a:off x="2469960" y="3044880"/>
            <a:ext cx="42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从未放弃坚信终会获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443"/>
          <p:cNvSpPr/>
          <p:nvPr/>
        </p:nvSpPr>
        <p:spPr>
          <a:xfrm>
            <a:off x="2104920" y="313704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谨以此献给所有喜爱巴西并购买巴西获得最终胜利的赌迷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446"/>
          <p:cNvSpPr/>
          <p:nvPr/>
        </p:nvSpPr>
        <p:spPr>
          <a:xfrm>
            <a:off x="3750120" y="31971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书体坊米芾体"/>
                <a:ea typeface="书体坊米芾体"/>
              </a:rPr>
              <a:t>奥索纳活动策划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3391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文本框 3392"/>
          <p:cNvSpPr/>
          <p:nvPr/>
        </p:nvSpPr>
        <p:spPr>
          <a:xfrm>
            <a:off x="2179080" y="62064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巴西世界杯动画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2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2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in">
                                      <p:cBhvr additive="repl">
                                        <p:cTn id="28" dur="2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in">
                                      <p:cBhvr additive="repl">
                                        <p:cTn id="31" dur="2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xit" presetID="23" presetSubtype="16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1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400"/>
                            </p:stCondLst>
                            <p:childTnLst>
                              <p:par>
                                <p:cTn id="4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2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in">
                                      <p:cBhvr additive="repl">
                                        <p:cTn id="49" dur="2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" dur="2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xit" presetID="23" presetSubtype="16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" dur="1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800"/>
                            </p:stCondLst>
                            <p:childTnLst>
                              <p:par>
                                <p:cTn id="6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xit" presetID="22" presetSubtype="1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7" dur="2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2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xit" presetID="22" presetSubtype="4">
                                  <p:stCondLst>
                                    <p:cond delay="200"/>
                                  </p:stCondLst>
                                  <p:childTnLst>
                                    <p:animEffect filter="wipe(down)" transition="in">
                                      <p:cBhvr additive="repl">
                                        <p:cTn id="73" dur="2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xit" presetID="23" presetSubtype="16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1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200"/>
                            </p:stCondLst>
                            <p:childTnLst>
                              <p:par>
                                <p:cTn id="8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2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2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1" dur="2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in">
                                      <p:cBhvr additive="repl">
                                        <p:cTn id="94" dur="2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xit" presetID="23" presetSubtype="16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" dur="1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700"/>
                            </p:stCondLst>
                            <p:childTnLst>
                              <p:par>
                                <p:cTn id="10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" dur="2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xit" presetID="22" presetSubtype="2">
                                  <p:stCondLst>
                                    <p:cond delay="100"/>
                                  </p:stCondLst>
                                  <p:childTnLst>
                                    <p:animEffect filter="wipe(right)" transition="in">
                                      <p:cBhvr additive="repl">
                                        <p:cTn id="109" dur="2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xit" presetID="22" presetSubtype="4">
                                  <p:stCondLst>
                                    <p:cond delay="100"/>
                                  </p:stCondLst>
                                  <p:childTnLst>
                                    <p:animEffect filter="wipe(down)" transition="in">
                                      <p:cBhvr additive="repl">
                                        <p:cTn id="115" dur="2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" dur="2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xit" presetID="22" presetSubtype="2">
                                  <p:stCondLst>
                                    <p:cond delay="100"/>
                                  </p:stCondLst>
                                  <p:childTnLst>
                                    <p:animEffect filter="wipe(right)" transition="in">
                                      <p:cBhvr additive="repl">
                                        <p:cTn id="121" dur="2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xit" presetID="22" presetSubtype="1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7" dur="2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2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xit" presetID="22" presetSubtype="2">
                                  <p:stCondLst>
                                    <p:cond delay="200"/>
                                  </p:stCondLst>
                                  <p:childTnLst>
                                    <p:animEffect filter="wipe(right)" transition="in">
                                      <p:cBhvr additive="repl">
                                        <p:cTn id="133" dur="2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2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xit" presetID="22" presetSubtype="4">
                                  <p:stCondLst>
                                    <p:cond delay="200"/>
                                  </p:stCondLst>
                                  <p:childTnLst>
                                    <p:animEffect filter="wipe(down)" transition="in">
                                      <p:cBhvr additive="repl">
                                        <p:cTn id="139" dur="2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4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4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s1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48" dur="2000" fill="hold"/>
                                        <p:tgtEl>
                                          <p:spTgt spid="198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xit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8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7500"/>
                            </p:stCondLst>
                            <p:childTnLst>
                              <p:par>
                                <p:cTn id="157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8000"/>
                            </p:stCondLst>
                            <p:childTnLst>
                              <p:par>
                                <p:cTn id="16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8500"/>
                            </p:stCondLst>
                            <p:childTnLst>
                              <p:par>
                                <p:cTn id="16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9000"/>
                            </p:stCondLst>
                            <p:childTnLst>
                              <p:par>
                                <p:cTn id="17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9500"/>
                            </p:stCondLst>
                            <p:childTnLst>
                              <p:par>
                                <p:cTn id="1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5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xit" presetID="22" presetSubtype="2">
                                  <p:stCondLst>
                                    <p:cond delay="800"/>
                                  </p:stCondLst>
                                  <p:childTnLst>
                                    <p:animEffect filter="wipe(right)" transition="in">
                                      <p:cBhvr additive="repl">
                                        <p:cTn id="272" dur="6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xit" presetID="23" presetSubtype="544">
                                  <p:stCondLst>
                                    <p:cond delay="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3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3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3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3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3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3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3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3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3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3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3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3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3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3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3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3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3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3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3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3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3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3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3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3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3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3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3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3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3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3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3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3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3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3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3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3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3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3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3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3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3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3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3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3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3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3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3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3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3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3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3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3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3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3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3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3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3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3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3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3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3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3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3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3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3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3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3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3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3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3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3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3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3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3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3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3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3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3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3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3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3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3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3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3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3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3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3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3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3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3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3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3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3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3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3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3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3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3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3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3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3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3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3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3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3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3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3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3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3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3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3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3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3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3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3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3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3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3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3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3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3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3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3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3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3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3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3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3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3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3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3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3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3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3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3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3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3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3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3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dur="indefinite" nodeType="withEffect" fill="hold" presetClass="entr" presetID="23" presetSubtype="52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3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3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3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646" dur="1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648" dur="1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9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650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1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652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3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654" dur="1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5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656" dur="1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7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658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9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660" dur="1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1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662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3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664" dur="1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5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666" dur="1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7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668" dur="1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9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670" dur="1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672" dur="1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3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674" dur="1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5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676" dur="1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7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678" dur="1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9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680" dur="1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1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682" dur="1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3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684" dur="1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5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686" dur="1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7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688" dur="1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9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690" dur="1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1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692" dur="1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3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694" dur="1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5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696" dur="1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7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698" dur="1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9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700" dur="1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1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702" dur="1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3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704" dur="1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5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706" dur="1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7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708" dur="1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9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710" dur="1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1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712" dur="1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3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714" dur="1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5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716" dur="1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7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718" dur="1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9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720" dur="1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1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722" dur="1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3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724" dur="1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5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726" dur="1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7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728" dur="1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9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730" dur="1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1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732" dur="1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3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734" dur="1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5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736" dur="1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7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738" dur="1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9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740" dur="1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1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742" dur="1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3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744" dur="1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5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746" dur="1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7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748" dur="1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9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750" dur="1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1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752" dur="1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3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754" dur="1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5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756" dur="1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7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758" dur="1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9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760" dur="1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1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762" dur="1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3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10800000">
                                      <p:cBhvr>
                                        <p:cTn id="764" dur="1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5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6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2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8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4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0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6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2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8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4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0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6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2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8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4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0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6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2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8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4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0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6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2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8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4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0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6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2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8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4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0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6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2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8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4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0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6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2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8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4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0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6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2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8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4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0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6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2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8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4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0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5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6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2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8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4" dur="5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0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6" dur="5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1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2" dur="5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8" dur="5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4" dur="5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dur="indefinite" nodeType="withEffect" fill="hold" presetClass="exit" presetID="23" presetSubtype="544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0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dur="indefinite" nodeType="withEffect" fill="hold" presetClass="entr" presetID="22" presetSubtype="4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2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dur="indefinite" nodeType="withEffect" fill="hold" presetClass="exit" presetID="22" presetSubtype="4">
                                  <p:stCondLst>
                                    <p:cond delay="3500"/>
                                  </p:stCondLst>
                                  <p:childTnLst>
                                    <p:animEffect filter="wipe(down)" transition="in">
                                      <p:cBhvr additive="repl">
                                        <p:cTn id="1129" dur="2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dur="indefinite" nodeType="withEffect" fill="hold" presetClass="entr" presetID="22" presetSubtype="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2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dur="indefinite" nodeType="withEffect" fill="hold" presetClass="exit" presetID="22" presetSubtype="8">
                                  <p:stCondLst>
                                    <p:cond delay="3500"/>
                                  </p:stCondLst>
                                  <p:childTnLst>
                                    <p:animEffect filter="wipe(left)" transition="in">
                                      <p:cBhvr additive="repl">
                                        <p:cTn id="1135" dur="2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dur="indefinite" nodeType="withEffect" fill="hold" presetClass="entr" presetID="22" presetSubtype="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9" dur="2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dur="indefinite" nodeType="withEffect" fill="hold" presetClass="exit" presetID="22" presetSubtype="8">
                                  <p:stCondLst>
                                    <p:cond delay="3500"/>
                                  </p:stCondLst>
                                  <p:childTnLst>
                                    <p:animEffect filter="wipe(left)" transition="in">
                                      <p:cBhvr additive="repl">
                                        <p:cTn id="1141" dur="2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dur="indefinite" nodeType="withEffect" fill="hold" presetClass="entr" presetID="22" presetSubtype="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2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dur="indefinite" nodeType="withEffect" fill="hold" presetClass="exit" presetID="22" presetSubtype="8">
                                  <p:stCondLst>
                                    <p:cond delay="3500"/>
                                  </p:stCondLst>
                                  <p:childTnLst>
                                    <p:animEffect filter="wipe(left)" transition="in">
                                      <p:cBhvr additive="repl">
                                        <p:cTn id="1147" dur="2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dur="indefinite" nodeType="withEffect" fill="hold" presetClass="entr" presetID="22" presetSubtype="2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1" dur="2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dur="indefinite" nodeType="withEffect" fill="hold" presetClass="exit" presetID="22" presetSubtype="2">
                                  <p:stCondLst>
                                    <p:cond delay="3500"/>
                                  </p:stCondLst>
                                  <p:childTnLst>
                                    <p:animEffect filter="wipe(right)" transition="in">
                                      <p:cBhvr additive="repl">
                                        <p:cTn id="1153" dur="2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dur="indefinite" nodeType="withEffect" fill="hold" presetClass="entr" presetID="22" presetSubtype="2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7" dur="2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dur="indefinite" nodeType="withEffect" fill="hold" presetClass="exit" presetID="22" presetSubtype="2">
                                  <p:stCondLst>
                                    <p:cond delay="3500"/>
                                  </p:stCondLst>
                                  <p:childTnLst>
                                    <p:animEffect filter="wipe(right)" transition="in">
                                      <p:cBhvr additive="repl">
                                        <p:cTn id="1159" dur="2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dur="indefinite" nodeType="withEffect" fill="hold" presetClass="entr" presetID="22" presetSubtype="2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3" dur="2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4" dur="indefinite" nodeType="withEffect" fill="hold" presetClass="exit" presetID="22" presetSubtype="2">
                                  <p:stCondLst>
                                    <p:cond delay="3500"/>
                                  </p:stCondLst>
                                  <p:childTnLst>
                                    <p:animEffect filter="wipe(right)" transition="in">
                                      <p:cBhvr additive="repl">
                                        <p:cTn id="1165" dur="2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dur="indefinite" nodeType="withEffect" fill="hold" presetClass="entr" presetID="22" presetSubtype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9" dur="2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dur="indefinite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1" dur="2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dur="indefinite" nodeType="withEffect" fill="hold" presetClass="entr" presetID="23" presetSubtype="528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3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3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3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3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9" dur="indefinite" nodeType="withEffect" fill="hold" presetClass="entr" presetID="23" presetSubtype="36">
                                  <p:stCondLst>
                                    <p:cond delay="3200"/>
                                  </p:stCondLst>
                                  <p:iterate type="lt">
                                    <p:tmAbs val="99.9990005493164"/>
                                  </p:iterate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3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3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3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3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5" dur="indefinite" nodeType="withEffect" fill="hold" presetClass="entr" presetID="10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8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8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9" dur="8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dur="indefinite" nodeType="withEffect" fill="hold" presetClass="entr" presetID="10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8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dur="indefinite" nodeType="withEffect" fill="hold" presetClass="emph" presetID="6" repeatCount="2000">
                                  <p:stCondLst>
                                    <p:cond delay="4200"/>
                                  </p:stCondLst>
                                  <p:childTnLst>
                                    <p:animScale>
                                      <p:cBhvr>
                                        <p:cTn id="1194" dur="850" fill="hold"/>
                                        <p:tgtEl>
                                          <p:spTgt spid="4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95" dur="indefinite" nodeType="withEffect" fill="hold" presetClass="exit" presetID="10" repeatCount="2000">
                                  <p:stCondLst>
                                    <p:cond delay="42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96" dur="85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84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8" dur="indefinite" nodeType="withEffect" fill="hold" presetClass="entr" presetID="10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8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8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" dur="8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dur="indefinite" nodeType="withEffect" fill="hold" presetClass="entr" presetID="10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8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dur="indefinite" nodeType="withEffect" fill="hold" presetClass="emph" presetID="6" repeatCount="2000">
                                  <p:stCondLst>
                                    <p:cond delay="4500"/>
                                  </p:stCondLst>
                                  <p:childTnLst>
                                    <p:animScale>
                                      <p:cBhvr>
                                        <p:cTn id="1207" dur="850" fill="hold"/>
                                        <p:tgtEl>
                                          <p:spTgt spid="4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08" dur="indefinite" nodeType="withEffect" fill="hold" presetClass="exit" presetID="10" repeatCount="200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209" dur="85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84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1" dur="indefinite" nodeType="withEffect" fill="hold" presetClass="entr" presetID="10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8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8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8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dur="indefinite" nodeType="withEffect" fill="hold" presetClass="entr" presetID="10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8" dur="8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dur="indefinite" nodeType="withEffect" fill="hold" presetClass="emph" presetID="6" repeatCount="2000">
                                  <p:stCondLst>
                                    <p:cond delay="4700"/>
                                  </p:stCondLst>
                                  <p:childTnLst>
                                    <p:animScale>
                                      <p:cBhvr>
                                        <p:cTn id="1220" dur="850" fill="hold"/>
                                        <p:tgtEl>
                                          <p:spTgt spid="4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21" dur="indefinite" nodeType="withEffect" fill="hold" presetClass="exit" presetID="10" repeatCount="2000">
                                  <p:stCondLst>
                                    <p:cond delay="47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222" dur="85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84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dur="indefinite" nodeType="withEffect" fill="hold" presetClass="entr" presetID="23" presetSubtype="528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75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75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75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75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0" dur="indefinite" nodeType="withEffect" fill="hold" presetClass="emph" presetID="8">
                                  <p:stCondLst>
                                    <p:cond delay="3800"/>
                                  </p:stCondLst>
                                  <p:childTnLst>
                                    <p:animRot by="10800000">
                                      <p:cBhvr>
                                        <p:cTn id="1231" dur="75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2" dur="indefinite" nodeType="withEffect" fill="hold" presetClass="exit" presetID="10">
                                  <p:stCondLst>
                                    <p:cond delay="38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233" dur="75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5" dur="indefinite" nodeType="withEffect" fill="hold" presetClass="entr" presetID="23" presetSubtype="52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75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75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75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75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1" dur="indefinite" nodeType="withEffect" fill="hold" presetClass="emph" presetID="8">
                                  <p:stCondLst>
                                    <p:cond delay="4000"/>
                                  </p:stCondLst>
                                  <p:childTnLst>
                                    <p:animRot by="10800000">
                                      <p:cBhvr>
                                        <p:cTn id="1242" dur="75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3" dur="indefinite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244" dur="75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dur="indefinite" nodeType="withEffect" fill="hold" presetClass="entr" presetID="23" presetSubtype="528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75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75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75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75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2" dur="indefinite" nodeType="withEffect" fill="hold" presetClass="emph" presetID="8">
                                  <p:stCondLst>
                                    <p:cond delay="4100"/>
                                  </p:stCondLst>
                                  <p:childTnLst>
                                    <p:animRot by="10800000">
                                      <p:cBhvr>
                                        <p:cTn id="1253" dur="75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4" dur="indefinite" nodeType="withEffect" fill="hold" presetClass="exit" presetID="10">
                                  <p:stCondLst>
                                    <p:cond delay="41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255" dur="75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dur="indefinite" nodeType="withEffect" fill="hold" presetClass="entr" presetID="23" presetSubtype="528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75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75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75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75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3" dur="indefinite" nodeType="withEffect" fill="hold" presetClass="emph" presetID="8">
                                  <p:stCondLst>
                                    <p:cond delay="4300"/>
                                  </p:stCondLst>
                                  <p:childTnLst>
                                    <p:animRot by="10800000">
                                      <p:cBhvr>
                                        <p:cTn id="1264" dur="75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5" dur="indefinite" nodeType="withEffect" fill="hold" presetClass="exit" presetID="10">
                                  <p:stCondLst>
                                    <p:cond delay="43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266" dur="75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dur="indefinite" nodeType="withEffect" fill="hold" presetClass="entr" presetID="23" presetSubtype="52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75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75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75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75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4" dur="indefinite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10800000">
                                      <p:cBhvr>
                                        <p:cTn id="1275" dur="75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6" dur="indefinite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277" dur="75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9" dur="indefinite" nodeType="withEffect" fill="hold" presetClass="entr" presetID="23" presetSubtype="528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75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75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75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75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5" dur="indefinite" nodeType="withEffect" fill="hold" presetClass="emph" presetID="8">
                                  <p:stCondLst>
                                    <p:cond delay="4700"/>
                                  </p:stCondLst>
                                  <p:childTnLst>
                                    <p:animRot by="10800000">
                                      <p:cBhvr>
                                        <p:cTn id="1286" dur="75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7" dur="indefinite" nodeType="withEffect" fill="hold" presetClass="exit" presetID="10">
                                  <p:stCondLst>
                                    <p:cond delay="47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288" dur="75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0" dur="indefinite" nodeType="withEffect" fill="hold" presetClass="entr" presetID="23" presetSubtype="528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" dur="75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75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75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75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6" dur="indefinite" nodeType="withEffect" fill="hold" presetClass="emph" presetID="8">
                                  <p:stCondLst>
                                    <p:cond delay="4900"/>
                                  </p:stCondLst>
                                  <p:childTnLst>
                                    <p:animRot by="10800000">
                                      <p:cBhvr>
                                        <p:cTn id="1297" dur="75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8" dur="indefinite" nodeType="withEffect" fill="hold" presetClass="exit" presetID="10">
                                  <p:stCondLst>
                                    <p:cond delay="49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299" dur="75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dur="indefinite" nodeType="withEffect" fill="hold" presetClass="entr" presetID="23" presetSubtype="52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3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3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3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3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dur="indefinite" nodeType="withEffect" fill="hold" presetClass="entr" presetID="23" presetSubtype="52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3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3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3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3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3" dur="indefinite" nodeType="withEffect" fill="hold" presetClass="entr" presetID="23" presetSubtype="52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3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3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3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3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9" dur="indefinite" nodeType="withEffect" fill="hold" presetClass="exit" presetID="22" presetSubtype="4">
                                  <p:stCondLst>
                                    <p:cond delay="3400"/>
                                  </p:stCondLst>
                                  <p:childTnLst>
                                    <p:animEffect filter="wipe(down)" transition="in">
                                      <p:cBhvr additive="repl">
                                        <p:cTn id="1320" dur="3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dur="indefinite" nodeType="withEffect" fill="hold" presetClass="exit" presetID="22" presetSubtype="8">
                                  <p:stCondLst>
                                    <p:cond delay="3400"/>
                                  </p:stCondLst>
                                  <p:childTnLst>
                                    <p:animEffect filter="wipe(left)" transition="in">
                                      <p:cBhvr additive="repl">
                                        <p:cTn id="1323" dur="3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5" dur="indefinite" nodeType="withEffect" fill="hold" presetClass="exit" presetID="22" presetSubtype="2">
                                  <p:stCondLst>
                                    <p:cond delay="3400"/>
                                  </p:stCondLst>
                                  <p:childTnLst>
                                    <p:animEffect filter="wipe(right)" transition="in">
                                      <p:cBhvr additive="repl">
                                        <p:cTn id="1326" dur="3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8" dur="indefinite" nodeType="withEffect" fill="hold" presetClass="entr" presetID="23" presetSubtype="528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3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3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3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3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4" dur="indefinite" nodeType="withEffect" fill="hold" presetClass="entr" presetID="23" presetSubtype="528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3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3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3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3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0" dur="indefinite" nodeType="withEffect" fill="hold" presetClass="entr" presetID="23" presetSubtype="528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3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3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3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3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6" dur="indefinite" nodeType="withEffect" fill="hold" presetClass="entr" presetID="23" presetSubtype="528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3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3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3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3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2" dur="indefinite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3" dur="3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5" dur="indefinite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6" dur="3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8" dur="indefinite" nodeType="withEffect" fill="hold" presetClass="exit" presetID="22" presetSubtype="4">
                                  <p:stCondLst>
                                    <p:cond delay="3500"/>
                                  </p:stCondLst>
                                  <p:childTnLst>
                                    <p:animEffect filter="wipe(down)" transition="in">
                                      <p:cBhvr additive="repl">
                                        <p:cTn id="1359" dur="3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1" dur="indefinite" nodeType="withEffect" fill="hold" presetClass="exit" presetID="22" presetSubtype="4">
                                  <p:stCondLst>
                                    <p:cond delay="3500"/>
                                  </p:stCondLst>
                                  <p:childTnLst>
                                    <p:animEffect filter="wipe(down)" transition="in">
                                      <p:cBhvr additive="repl">
                                        <p:cTn id="1362" dur="3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4" dur="indefinite" nodeType="withEffect" fill="hold" presetClass="entr" presetID="23" presetSubtype="52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3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3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3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3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0" dur="indefinite" nodeType="withEffect" fill="hold" presetClass="exit" presetID="22" presetSubtype="1">
                                  <p:stCondLst>
                                    <p:cond delay="3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1" dur="3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18900"/>
                            </p:stCondLst>
                            <p:childTnLst>
                              <p:par>
                                <p:cTn id="1374" dur="indefinite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in">
                                      <p:cBhvr additive="repl">
                                        <p:cTn id="137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dur="indefinite" nodeType="withEffect" fill="hold" presetClass="exit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randombar(horizontal)" transition="in">
                                      <p:cBhvr additive="repl">
                                        <p:cTn id="137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19400"/>
                            </p:stCondLst>
                            <p:childTnLst>
                              <p:par>
                                <p:cTn id="138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dur="indefinite" nodeType="withEffect" fill="hold" presetClass="emph" presetID="26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38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6" dur="250" autoRev="1" fill="hold"/>
                                        <p:tgtEl>
                                          <p:spTgt spid="5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87" dur="indefinite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20200"/>
                            </p:stCondLst>
                            <p:childTnLst>
                              <p:par>
                                <p:cTn id="1391" dur="indefinite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9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9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9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9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20900"/>
                            </p:stCondLst>
                            <p:childTnLst>
                              <p:par>
                                <p:cTn id="1398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9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3" dur="indefinite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04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fill="hold">
                            <p:stCondLst>
                              <p:cond delay="21400"/>
                            </p:stCondLst>
                            <p:childTnLst>
                              <p:par>
                                <p:cTn id="140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fill="hold">
                            <p:stCondLst>
                              <p:cond delay="21900"/>
                            </p:stCondLst>
                            <p:childTnLst>
                              <p:par>
                                <p:cTn id="141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5" dur="3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22200"/>
                            </p:stCondLst>
                            <p:childTnLst>
                              <p:par>
                                <p:cTn id="141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9" dur="3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421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3" dur="3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22800"/>
                            </p:stCondLst>
                            <p:childTnLst>
                              <p:par>
                                <p:cTn id="142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7" dur="3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fill="hold">
                            <p:stCondLst>
                              <p:cond delay="23100"/>
                            </p:stCondLst>
                            <p:childTnLst>
                              <p:par>
                                <p:cTn id="142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1" dur="4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23500"/>
                            </p:stCondLst>
                            <p:childTnLst>
                              <p:par>
                                <p:cTn id="143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5" dur="3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6" dur="indefinite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in">
                                      <p:cBhvr additive="repl">
                                        <p:cTn id="143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24000"/>
                            </p:stCondLst>
                            <p:childTnLst>
                              <p:par>
                                <p:cTn id="1440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44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44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44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45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45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4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8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5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465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7.40741E-007 L 0 0.19977 E">
                                      <p:cBhvr>
                                        <p:cTn id="1466" dur="2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27000"/>
                            </p:stCondLst>
                            <p:childTnLst>
                              <p:par>
                                <p:cTn id="1468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27001"/>
                            </p:stCondLst>
                            <p:childTnLst>
                              <p:par>
                                <p:cTn id="147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fill="hold">
                            <p:stCondLst>
                              <p:cond delay="27002"/>
                            </p:stCondLst>
                            <p:childTnLst>
                              <p:par>
                                <p:cTn id="1474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7.40741E-007 L 0 0.19977 E">
                                      <p:cBhvr>
                                        <p:cTn id="1475" dur="2000" fill="hold"/>
                                        <p:tgtEl>
                                          <p:spTgt spid="5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29002"/>
                            </p:stCondLst>
                            <p:childTnLst>
                              <p:par>
                                <p:cTn id="147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29003"/>
                            </p:stCondLst>
                            <p:childTnLst>
                              <p:par>
                                <p:cTn id="148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29004"/>
                            </p:stCondLst>
                            <p:childTnLst>
                              <p:par>
                                <p:cTn id="1483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7.40741E-007 L 0 0.19977 E">
                                      <p:cBhvr>
                                        <p:cTn id="1484" dur="2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fill="hold">
                            <p:stCondLst>
                              <p:cond delay="31004"/>
                            </p:stCondLst>
                            <p:childTnLst>
                              <p:par>
                                <p:cTn id="1486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31005"/>
                            </p:stCondLst>
                            <p:childTnLst>
                              <p:par>
                                <p:cTn id="1491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31505"/>
                            </p:stCondLst>
                            <p:childTnLst>
                              <p:par>
                                <p:cTn id="149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32005"/>
                            </p:stCondLst>
                            <p:childTnLst>
                              <p:par>
                                <p:cTn id="149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32505"/>
                            </p:stCondLst>
                            <p:childTnLst>
                              <p:par>
                                <p:cTn id="150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33005"/>
                            </p:stCondLst>
                            <p:childTnLst>
                              <p:par>
                                <p:cTn id="150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33505"/>
                            </p:stCondLst>
                            <p:childTnLst>
                              <p:par>
                                <p:cTn id="1511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34005"/>
                            </p:stCondLst>
                            <p:childTnLst>
                              <p:par>
                                <p:cTn id="151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34505"/>
                            </p:stCondLst>
                            <p:childTnLst>
                              <p:par>
                                <p:cTn id="151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1" dur="6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fill="hold">
                            <p:stCondLst>
                              <p:cond delay="35105"/>
                            </p:stCondLst>
                            <p:childTnLst>
                              <p:par>
                                <p:cTn id="1523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52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52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53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53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53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53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54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4" dur="indefinite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545" dur="16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15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37105"/>
                            </p:stCondLst>
                            <p:childTnLst>
                              <p:par>
                                <p:cTn id="15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37605"/>
                            </p:stCondLst>
                            <p:childTnLst>
                              <p:par>
                                <p:cTn id="15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fill="hold">
                            <p:stCondLst>
                              <p:cond delay="38105"/>
                            </p:stCondLst>
                            <p:childTnLst>
                              <p:par>
                                <p:cTn id="15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38605"/>
                            </p:stCondLst>
                            <p:childTnLst>
                              <p:par>
                                <p:cTn id="15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39105"/>
                            </p:stCondLst>
                            <p:childTnLst>
                              <p:par>
                                <p:cTn id="15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39605"/>
                            </p:stCondLst>
                            <p:childTnLst>
                              <p:par>
                                <p:cTn id="1568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56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40105"/>
                            </p:stCondLst>
                            <p:childTnLst>
                              <p:par>
                                <p:cTn id="15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40605"/>
                            </p:stCondLst>
                            <p:childTnLst>
                              <p:par>
                                <p:cTn id="1576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77" dur="2000" fill="hold"/>
                                        <p:tgtEl>
                                          <p:spTgt spid="54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578" dur="indefinite" nodeType="withEffect" fill="hold" presetClass="emph" presetID="26" repeatCount="20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579" dur="1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0" dur="50" autoRev="1" fill="hold"/>
                                        <p:tgtEl>
                                          <p:spTgt spid="5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42605"/>
                            </p:stCondLst>
                            <p:childTnLst>
                              <p:par>
                                <p:cTn id="1582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58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58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58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59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59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59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43105"/>
                            </p:stCondLst>
                            <p:childTnLst>
                              <p:par>
                                <p:cTn id="1601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8" dur="indefinite" nodeType="withEffect" fill="hold" presetClass="emph" presetID="26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in">
                                      <p:cBhvr additive="repl">
                                        <p:cTn id="160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0" dur="250" autoRev="1" fill="hold"/>
                                        <p:tgtEl>
                                          <p:spTgt spid="5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44155"/>
                            </p:stCondLst>
                            <p:childTnLst>
                              <p:par>
                                <p:cTn id="1612" dur="indefinite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in">
                                      <p:cBhvr additive="repl">
                                        <p:cTn id="161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44655"/>
                            </p:stCondLst>
                            <p:childTnLst>
                              <p:par>
                                <p:cTn id="16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45155"/>
                            </p:stCondLst>
                            <p:childTnLst>
                              <p:par>
                                <p:cTn id="1622" dur="indefinite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8" dur="indefinite" nodeType="withEffect" fill="hold" presetClass="emph" presetID="16">
                                  <p:stCondLst>
                                    <p:cond delay="1200"/>
                                  </p:stCondLst>
                                  <p:iterate type="lt">
                                    <p:tmAbs val="56"/>
                                  </p:iterate>
                                  <p:childTnLst>
                                    <p:set>
                                      <p:cBhvr>
                                        <p:cTn id="1629" dur="14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ECFD11"/>
                                      </p:to>
                                    </p:set>
                                    <p:set>
                                      <p:cBhvr>
                                        <p:cTn id="1630" dur="14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ECFD11"/>
                                      </p:to>
                                    </p:set>
                                    <p:set>
                                      <p:cBhvr>
                                        <p:cTn id="1631" dur="14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dur="indefinite" nodeType="withEffect" fill="hold" presetClass="emph" presetID="34">
                                  <p:stCondLst>
                                    <p:cond delay="1100"/>
                                  </p:stCondLst>
                                  <p:iterate type="lt">
                                    <p:tmAbs val="77.7119979858398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33" dur="4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3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fill="hold">
                            <p:stCondLst>
                              <p:cond delay="49155"/>
                            </p:stCondLst>
                            <p:childTnLst>
                              <p:par>
                                <p:cTn id="1639" dur="indefinite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in">
                                      <p:cBhvr additive="repl">
                                        <p:cTn id="164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49655"/>
                            </p:stCondLst>
                            <p:childTnLst>
                              <p:par>
                                <p:cTn id="1643" dur="indefinite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arn(inVertical)" transition="in">
                                      <p:cBhvr additive="repl">
                                        <p:cTn id="164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6" fill="hold">
                            <p:stCondLst>
                              <p:cond delay="50155"/>
                            </p:stCondLst>
                            <p:childTnLst>
                              <p:par>
                                <p:cTn id="164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51155"/>
                            </p:stCondLst>
                            <p:childTnLst>
                              <p:par>
                                <p:cTn id="165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652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3T01:21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2:21Z</dcterms:modified>
  <cp:revision>1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