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C8A1-8979-4F97-ABA8-5AE0B112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4BFE-8E2D-4A36-9463-EE5D9409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E9C-5DA4-483F-951B-E8E09DE8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8EE3-5A78-4B18-84F0-AF04E55E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EE19-FF33-4385-8F16-A1126A58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9202-0CFA-4CE2-BB4D-06B9E09B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1785-8DA5-4E70-B419-D4B08E53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10CD-6343-40DE-BEE0-1FD642D7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823D-9D93-484F-92ED-4A98BC97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3D64-3D48-4E00-839D-1E7BF96C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3B44-E8F9-4555-AD50-519AC117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C74F-9DF1-4E4E-BCDB-CB446632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6889-6063-4F78-9BDB-27C1334D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DEE2-461A-4C84-9263-B67B6673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E5B6-E6C9-47FE-9127-259A6233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FE3C-919E-48E8-827C-565F0E8C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E121-4786-43A6-9962-EB22DA0E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40C67-43B1-4AE4-9621-8E33475C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BC629-F63A-4827-A2E9-D31CFD1E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E54B4-BE3B-4879-AC9B-47B11F7F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4EAE4-E0C1-436F-AD68-BD00EB59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4B7E0-9B08-4219-B4B9-7C728BE6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C66C-CFC4-4DFF-977B-1C1B121A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E4452-5B27-4997-B483-6E22CB67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0AFA9-C395-4950-90DF-7D227C04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02C12-A93D-4EC9-A86D-248ACDB8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FF6BA-1B48-446E-B3D6-78FCDC46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4DB0F-4AAA-45E9-BF4E-512DDB8E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31D5D-C349-4351-8ACA-32E8CCD6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6960C-7ED0-4D7E-B3E7-5E34CFC7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5325-163C-4EB9-9E8B-A49E0C39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5AE-6170-4C25-A6F6-B23140F5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4912-4E41-485E-AA04-43F1D873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9BD9-0487-4BBB-A081-BC17C857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154F-663D-42D4-A561-ED927868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58B-7031-48E4-BFE4-812C09B2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2E7E-6C98-46FD-90F1-08B7915F9D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科学内页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C2AF-75A1-4D5C-974A-31B2957E63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6889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38FE-D692-41D5-A574-768E7EF6CEA4}" type="slidenum">
              <a:rPr b="0" lang="zh-CN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3"/>
          <p:cNvSpPr txBox="1"/>
          <p:nvPr/>
        </p:nvSpPr>
        <p:spPr>
          <a:xfrm>
            <a:off x="1654200" y="663480"/>
            <a:ext cx="5689440" cy="48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小学科学教科版四年级下册第二单元</a:t>
            </a:r>
            <a:endParaRPr b="1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23" name="标题 1"/>
          <p:cNvSpPr/>
          <p:nvPr/>
        </p:nvSpPr>
        <p:spPr>
          <a:xfrm>
            <a:off x="324000" y="1528920"/>
            <a:ext cx="792936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把种子散播到远处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4" name="图片 1" descr=""/>
          <p:cNvPicPr/>
          <p:nvPr/>
        </p:nvPicPr>
        <p:blipFill>
          <a:blip r:embed="rId1"/>
          <a:stretch/>
        </p:blipFill>
        <p:spPr>
          <a:xfrm>
            <a:off x="896760" y="3308400"/>
            <a:ext cx="3602160" cy="223668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" descr=""/>
          <p:cNvPicPr/>
          <p:nvPr/>
        </p:nvPicPr>
        <p:blipFill>
          <a:blip r:embed="rId2"/>
          <a:stretch/>
        </p:blipFill>
        <p:spPr>
          <a:xfrm>
            <a:off x="4498920" y="2751120"/>
            <a:ext cx="3754440" cy="278784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5f5f5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285840" cy="1355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09680" y="260280"/>
            <a:ext cx="137880" cy="4809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68360" y="260280"/>
            <a:ext cx="139680" cy="4809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74680" y="528480"/>
            <a:ext cx="136440" cy="4734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31760" y="263520"/>
            <a:ext cx="141120" cy="469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409680" y="523800"/>
            <a:ext cx="137880" cy="469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50920" y="5084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15515" y="3837"/>
                </a:moveTo>
                <a:lnTo>
                  <a:pt x="18091" y="6448"/>
                </a:lnTo>
                <a:lnTo>
                  <a:pt x="18091" y="4707"/>
                </a:lnTo>
                <a:lnTo>
                  <a:pt x="19867" y="4707"/>
                </a:lnTo>
                <a:lnTo>
                  <a:pt x="19867" y="8224"/>
                </a:lnTo>
                <a:lnTo>
                  <a:pt x="22478" y="10800"/>
                </a:lnTo>
                <a:lnTo>
                  <a:pt x="20824" y="10800"/>
                </a:lnTo>
                <a:lnTo>
                  <a:pt x="20824" y="17989"/>
                </a:lnTo>
                <a:lnTo>
                  <a:pt x="10206" y="17989"/>
                </a:lnTo>
                <a:lnTo>
                  <a:pt x="10206" y="10800"/>
                </a:lnTo>
                <a:lnTo>
                  <a:pt x="8552" y="10800"/>
                </a:lnTo>
                <a:close/>
              </a:path>
              <a:path fill="darkenLess" w="31030" h="21600">
                <a:moveTo>
                  <a:pt x="18091" y="6448"/>
                </a:moveTo>
                <a:lnTo>
                  <a:pt x="18091" y="4707"/>
                </a:lnTo>
                <a:lnTo>
                  <a:pt x="19867" y="4707"/>
                </a:lnTo>
                <a:lnTo>
                  <a:pt x="19867" y="8224"/>
                </a:lnTo>
                <a:close/>
              </a:path>
              <a:path fill="darkenLess" w="31030" h="21600">
                <a:moveTo>
                  <a:pt x="14592" y="14299"/>
                </a:moveTo>
                <a:lnTo>
                  <a:pt x="16437" y="14299"/>
                </a:lnTo>
                <a:lnTo>
                  <a:pt x="16437" y="17989"/>
                </a:lnTo>
                <a:lnTo>
                  <a:pt x="20824" y="17989"/>
                </a:lnTo>
                <a:lnTo>
                  <a:pt x="20824" y="10800"/>
                </a:lnTo>
                <a:lnTo>
                  <a:pt x="10206" y="10800"/>
                </a:lnTo>
                <a:lnTo>
                  <a:pt x="10206" y="17989"/>
                </a:lnTo>
                <a:lnTo>
                  <a:pt x="14592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65" name="Picture 10" descr="2008-3-31 9-58-16_0011"/>
          <p:cNvPicPr/>
          <p:nvPr/>
        </p:nvPicPr>
        <p:blipFill>
          <a:blip r:embed="rId1"/>
          <a:srcRect l="0" t="0" r="0" b="-27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1"/>
          <p:cNvSpPr/>
          <p:nvPr/>
        </p:nvSpPr>
        <p:spPr>
          <a:xfrm>
            <a:off x="1371600" y="57150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水  传  播  种   子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0" y="0"/>
          <a:ext cx="9144000" cy="6781680"/>
        </p:xfrm>
        <a:graphic>
          <a:graphicData uri="http://schemas.openxmlformats.org/drawingml/2006/table">
            <a:tbl>
              <a:tblPr/>
              <a:tblGrid>
                <a:gridCol w="2743200"/>
                <a:gridCol w="640080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Text Box 22"/>
          <p:cNvSpPr/>
          <p:nvPr/>
        </p:nvSpPr>
        <p:spPr>
          <a:xfrm>
            <a:off x="179280" y="333360"/>
            <a:ext cx="25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传播方式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" name="Text Box 23"/>
          <p:cNvSpPr/>
          <p:nvPr/>
        </p:nvSpPr>
        <p:spPr>
          <a:xfrm>
            <a:off x="3505320" y="457200"/>
            <a:ext cx="495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植  物  名  称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3200400" y="190512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油菜、豌豆、凤仙花等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Text Box 25"/>
          <p:cNvSpPr/>
          <p:nvPr/>
        </p:nvSpPr>
        <p:spPr>
          <a:xfrm>
            <a:off x="3276720" y="31240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苍耳、鬼针草、蒺藜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3124080" y="449568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柳树、蒲公英等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Text Box 27"/>
          <p:cNvSpPr/>
          <p:nvPr/>
        </p:nvSpPr>
        <p:spPr>
          <a:xfrm>
            <a:off x="3200400" y="57150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莲蓬、椰子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108000" y="170172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自体传播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Text Box 29"/>
          <p:cNvSpPr/>
          <p:nvPr/>
        </p:nvSpPr>
        <p:spPr>
          <a:xfrm>
            <a:off x="108000" y="42210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动物传播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6" name="Text Box 30"/>
          <p:cNvSpPr/>
          <p:nvPr/>
        </p:nvSpPr>
        <p:spPr>
          <a:xfrm>
            <a:off x="324000" y="31417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风传播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Text Box 31"/>
          <p:cNvSpPr/>
          <p:nvPr/>
        </p:nvSpPr>
        <p:spPr>
          <a:xfrm>
            <a:off x="324000" y="55180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水传播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262080"/>
            <a:ext cx="85406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植物怎样传播种子</a:t>
            </a:r>
            <a:endParaRPr b="0" lang="en-US" sz="4000" spc="-1" strike="noStrike">
              <a:solidFill>
                <a:srgbClr val="686868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4000" y="1486080"/>
          <a:ext cx="8815320" cy="4346280"/>
        </p:xfrm>
        <a:graphic>
          <a:graphicData uri="http://schemas.openxmlformats.org/drawingml/2006/table">
            <a:tbl>
              <a:tblPr/>
              <a:tblGrid>
                <a:gridCol w="2233440"/>
                <a:gridCol w="6581880"/>
              </a:tblGrid>
              <a:tr h="101088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传播方式</a:t>
                      </a:r>
                      <a:endParaRPr b="0" lang="en-US" sz="3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果实或种子的特点</a:t>
                      </a:r>
                      <a:endParaRPr b="0" lang="en-US" sz="3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风传播</a:t>
                      </a:r>
                      <a:endParaRPr b="0" lang="en-US" sz="3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果实轻小，有毛或翅</a:t>
                      </a:r>
                      <a:endParaRPr b="0" lang="en-US" sz="3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水传播</a:t>
                      </a:r>
                      <a:endParaRPr b="0" lang="en-US" sz="3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果实中有很多空气，能浮起来</a:t>
                      </a:r>
                      <a:endParaRPr b="0" lang="en-US" sz="3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动物传播</a:t>
                      </a:r>
                      <a:endParaRPr b="0" lang="en-US" sz="3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果实有钩刺，或美味多汁</a:t>
                      </a:r>
                      <a:endParaRPr b="0" lang="en-US" sz="3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自体传播</a:t>
                      </a:r>
                      <a:endParaRPr b="0" lang="en-US" sz="3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果皮干裂后会卷曲</a:t>
                      </a:r>
                      <a:endParaRPr b="0" lang="en-US" sz="3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文本框 8199"/>
          <p:cNvSpPr/>
          <p:nvPr/>
        </p:nvSpPr>
        <p:spPr>
          <a:xfrm>
            <a:off x="2463840" y="944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1607040" y="4035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拓展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066680" y="2229480"/>
            <a:ext cx="74678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种子成熟后，不散播到远处，都掉落在植物近旁，会产生怎样的情况 ？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83" name="Picture 5" descr="u=3008908131,1070995669&amp;fm=0&amp;gp=-16"/>
          <p:cNvPicPr/>
          <p:nvPr/>
        </p:nvPicPr>
        <p:blipFill>
          <a:blip r:embed="rId1"/>
          <a:stretch/>
        </p:blipFill>
        <p:spPr>
          <a:xfrm rot="1260000">
            <a:off x="6048000" y="4044960"/>
            <a:ext cx="21114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7B67-7ABB-487F-9388-33FEAFE011EE}" type="slidenum">
              <a:rPr b="0" lang="zh-CN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3640" y="1269720"/>
            <a:ext cx="878508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送给同学们的科学家名言：</a:t>
            </a:r>
            <a:br>
              <a:rPr sz="3200"/>
            </a:b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     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人的天职在勇于探索真理。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---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哥白尼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波兰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) </a:t>
            </a:r>
            <a:endParaRPr b="0" lang="en-US" sz="4800" spc="-1" strike="noStrike">
              <a:solidFill>
                <a:srgbClr val="6868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402d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2401d"/>
          <p:cNvPicPr/>
          <p:nvPr/>
        </p:nvPicPr>
        <p:blipFill>
          <a:blip r:embed="rId1"/>
          <a:stretch/>
        </p:blipFill>
        <p:spPr>
          <a:xfrm>
            <a:off x="0" y="1440"/>
            <a:ext cx="9144000" cy="54453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1619280" y="537372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弹射传播种子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57200" y="1371600"/>
            <a:ext cx="8229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果荚类植物的果实成熟后干燥而坚硬的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果皮在阳光的烘烤下，会自动爆裂，或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稍有外力，也会爆裂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57200" y="4495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自体传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弹射传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油菜、凤仙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等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鬼针草"/>
          <p:cNvPicPr/>
          <p:nvPr/>
        </p:nvPicPr>
        <p:blipFill>
          <a:blip r:embed="rId1"/>
          <a:stretch/>
        </p:blipFill>
        <p:spPr>
          <a:xfrm>
            <a:off x="0" y="2565360"/>
            <a:ext cx="4665600" cy="3600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115920" y="14670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鬼针草（粘连子）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4" name="图片 2" descr=""/>
          <p:cNvPicPr/>
          <p:nvPr/>
        </p:nvPicPr>
        <p:blipFill>
          <a:blip r:embed="rId2"/>
          <a:stretch/>
        </p:blipFill>
        <p:spPr>
          <a:xfrm>
            <a:off x="4417920" y="0"/>
            <a:ext cx="4753080" cy="35784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7094880" y="260280"/>
            <a:ext cx="8506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苍耳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动物传播</a:t>
            </a:r>
            <a:endParaRPr b="0" lang="en-US" sz="5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37" name="内容占位符 2"/>
          <p:cNvSpPr/>
          <p:nvPr/>
        </p:nvSpPr>
        <p:spPr>
          <a:xfrm>
            <a:off x="584280" y="1727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57400">
              <a:lnSpc>
                <a:spcPct val="150000"/>
              </a:lnSpc>
              <a:spcBef>
                <a:spcPts val="1800"/>
              </a:spcBef>
              <a:buClr>
                <a:srgbClr val="686868"/>
              </a:buClr>
              <a:buSzPct val="85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有些种子的外面生有刺毛、倒钩，只要轻轻一碰，就会立即粘附到人的衣服或动物的毛、羽上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 marL="343080" indent="-257400">
              <a:lnSpc>
                <a:spcPct val="150000"/>
              </a:lnSpc>
              <a:spcBef>
                <a:spcPts val="1800"/>
              </a:spcBef>
              <a:buClr>
                <a:srgbClr val="686868"/>
              </a:buClr>
              <a:buSzPct val="85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如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苍耳、鬼针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 rot="397200">
            <a:off x="6119640" y="1906560"/>
            <a:ext cx="345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0" name="Picture 3" descr="2008-3-31 9-56-01_0010"/>
          <p:cNvPicPr/>
          <p:nvPr/>
        </p:nvPicPr>
        <p:blipFill>
          <a:blip r:embed="rId1"/>
          <a:stretch/>
        </p:blipFill>
        <p:spPr>
          <a:xfrm>
            <a:off x="3635280" y="2997360"/>
            <a:ext cx="4964040" cy="3412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2008-3-31 9-56-01_0010"/>
          <p:cNvPicPr/>
          <p:nvPr/>
        </p:nvPicPr>
        <p:blipFill>
          <a:blip r:embed="rId2"/>
          <a:stretch/>
        </p:blipFill>
        <p:spPr>
          <a:xfrm>
            <a:off x="4716360" y="0"/>
            <a:ext cx="4508640" cy="3011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2008-3-31 9-56-01_0010"/>
          <p:cNvPicPr/>
          <p:nvPr/>
        </p:nvPicPr>
        <p:blipFill>
          <a:blip r:embed="rId3"/>
          <a:stretch/>
        </p:blipFill>
        <p:spPr>
          <a:xfrm>
            <a:off x="111240" y="0"/>
            <a:ext cx="4605120" cy="3124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35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动物传播种子</a:t>
            </a:r>
            <a:endParaRPr b="0" lang="en-US" sz="4800" spc="-1" strike="noStrike">
              <a:solidFill>
                <a:srgbClr val="6868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" descr=""/>
          <p:cNvPicPr/>
          <p:nvPr/>
        </p:nvPicPr>
        <p:blipFill>
          <a:blip r:embed="rId1"/>
          <a:stretch/>
        </p:blipFill>
        <p:spPr>
          <a:xfrm>
            <a:off x="4281480" y="2492280"/>
            <a:ext cx="4861080" cy="36450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7824600" y="693720"/>
            <a:ext cx="9115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松子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6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4289400" cy="3213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334800" y="300600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板栗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标题 1"/>
          <p:cNvSpPr/>
          <p:nvPr/>
        </p:nvSpPr>
        <p:spPr>
          <a:xfrm>
            <a:off x="-15840" y="4803840"/>
            <a:ext cx="453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动物传播种子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5" descr="2008-3-31 9-58-16_0011"/>
          <p:cNvPicPr/>
          <p:nvPr/>
        </p:nvPicPr>
        <p:blipFill>
          <a:blip r:embed="rId1"/>
          <a:stretch/>
        </p:blipFill>
        <p:spPr>
          <a:xfrm>
            <a:off x="34920" y="0"/>
            <a:ext cx="5437080" cy="3195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蒲公英"/>
          <p:cNvPicPr/>
          <p:nvPr/>
        </p:nvPicPr>
        <p:blipFill>
          <a:blip r:embed="rId2"/>
          <a:stretch/>
        </p:blipFill>
        <p:spPr>
          <a:xfrm>
            <a:off x="5472000" y="9360"/>
            <a:ext cx="3672000" cy="5451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3851280" y="3429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蒲公英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2" name="图片 1" descr=""/>
          <p:cNvPicPr/>
          <p:nvPr/>
        </p:nvPicPr>
        <p:blipFill>
          <a:blip r:embed="rId3"/>
          <a:stretch/>
        </p:blipFill>
        <p:spPr>
          <a:xfrm>
            <a:off x="15840" y="3195720"/>
            <a:ext cx="2851200" cy="25635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0" y="31957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槭树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4920" y="60480"/>
            <a:ext cx="28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蓟的果实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728800" y="17460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槭树的果实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405080" y="575316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风  传  播  种  子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3:3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48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