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WHOOSH.WAV" ContentType="audio/x-wav"/>
  <Override PartName="/ppt/media/image31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CAMERA.WAV" ContentType="audio/x-wav"/>
  <Override PartName="/ppt/media/image29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37.jpeg" ContentType="image/jpeg"/>
  <Override PartName="/ppt/media/image12.jpeg" ContentType="image/jpeg"/>
  <Override PartName="/ppt/media/image13.png" ContentType="image/png"/>
  <Override PartName="/ppt/media/image4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43.png" ContentType="image/png"/>
  <Override PartName="/ppt/media/image45.png" ContentType="image/png"/>
  <Override PartName="/ppt/media/image25.gif" ContentType="image/gif"/>
  <Override PartName="/ppt/media/image18.png" ContentType="image/png"/>
  <Override PartName="/ppt/media/image6.jpeg" ContentType="image/jpeg"/>
  <Override PartName="/ppt/media/image46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2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C81-0D2D-4838-8295-3446AB70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CA8-2E82-47A4-ABBE-5E15EE70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DBC96-314A-4322-9947-FD069B05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C7406-BD85-4B9E-88BF-746BA69F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64318-57CD-4BBE-854A-15AB4B52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591CC-D5EF-4B6D-90F7-F4E72FD9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17334-3DD6-415F-951D-07BD1EAE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05662-0CA3-46E3-BB9F-9BCCF405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86806-B9E1-4F32-AF51-5CB0EE7C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FA469-160F-476E-9516-DD5C4262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C1F2C-90B2-4200-BEEE-18AD1078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9CEC2-6ADC-4B64-8C25-D764B9C3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978-C8E6-4F36-B592-6D1163F1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FA855-5556-4D1B-9999-7C8C8ECE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6A011-F768-4DB4-90A9-D470EF89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09474-2F27-4174-BE80-1C0BEE16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05994-ED07-49C5-A508-E2AD8328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0DA69-D41A-4DBF-AE28-670FE707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F6C63-3311-45D5-8EFE-C3C83BF4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81DC3-AD8B-43E5-9199-BCC34661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C830A-F764-49FC-8F40-61D4E68A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75E45-EDF2-4AC5-8F78-974D05F8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22418-098E-4B53-B501-A94F93A7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F38-85BD-46B7-BA26-C1EF71F6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07B23-67F4-455D-86D1-B8B369BD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0B5A4-1C90-4A65-9DD5-AA6791C6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A59AF-0761-42DD-BC53-8FFD5255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D40B5-835C-4130-B48C-C10E7D49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51DFB-8547-4920-92D9-9DB458BD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52F4C-2DE4-4FC0-B496-9D015ACE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CD61F-01D9-4BFA-B8D5-1A9F7160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6728E-F162-456A-A289-307A68DC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F3364-014E-4F2E-BC4D-46760E11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CEB3F-5FCD-4CF2-97A4-34372BEE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D28E-477C-4F7A-8201-F7CA8142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0333F-7805-411D-A1B7-FDCC6654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E60B4-0110-4D3F-BB5D-BC9808C0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36080-50F7-4963-B6DD-964048CF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805E0-D6F1-4A22-B4CA-C3C30B4F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5C362-88AE-43E8-8ED2-5BC6DCBE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EC83A-BC7A-40F1-A312-890864DA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CBB22-C042-4F7E-8EDD-EF3B971D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3D51B-DCE3-4D53-9F11-214DCE9C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117D4-3780-403F-9C24-4E37098D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DEE96-97E3-4F1F-A73B-A791CADD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1E9F-67F2-4C19-B0E7-93EB22BD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B9E3C-6F7B-4CA8-A7CD-498562D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4F1E1-B42E-443C-914E-58C2697D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931AD-3820-410C-B140-643772A0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15A7A-8149-4EC6-9C78-3D9A06E1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038FC-D69F-47FE-A91B-5158A248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C34F5-C82B-44F8-A7E0-19A9B74F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3AB70-91A8-4F4C-95AC-02CDE886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B3D4F-4C1D-4FCE-B0C8-AA90305C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4E3D8-9E84-4F89-805C-E5EF284C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BDC9F-01BF-4270-8DC1-86CA6BC2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0D23-99BE-4BAF-BD27-137B5DAD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60F3F-0F6C-40D6-B28C-85BD2BC9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709C6-CE5E-4A74-8C4F-85B452C7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ACD2A-8F94-46D3-B36D-8FAAF78B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8C6DC-A1FC-40B3-9FA4-035CE614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70E82-1B11-4579-A26A-4C88BECA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A987E-D738-4071-9E32-27A54BB9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B529F-3CD0-44A8-A931-8181A774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49C29-6260-47B4-9D8D-4CA4D3B1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D1031-7E30-4E3A-B355-58B905D9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26AAB-D638-4C23-91FE-BFBBB65A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3EC6-24F6-485B-987D-6E2F76ED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D8D5D-05BC-41A9-A564-C69ACA09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177A1-2867-4BA2-960E-4071C44B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B9DB8-0699-440F-8D16-EF4D1EA3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3CB53F-BA22-4B0D-8420-97C94B15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A5A40-2145-4053-A4F9-B61A87EA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CC9E5-5FA7-43B7-9E12-9D39669F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CC1DE-3E6A-4153-9816-D18ED93A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32984-6F3D-4C80-8188-19A90C02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E532F-9A6A-4C7D-980A-F3CFD8B0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E8E1-EF0E-4AE1-9CE8-E9D808E8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75FF-7009-4773-99DE-3F5C471C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F394-0A61-4EF1-9E6F-2A74B235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CDC-BBE1-4639-AF47-3C8F0473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DF07-4F83-4CCF-AFBF-A7F5C29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EDF1-A1ED-49E6-9E59-E42AB8E4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934C-74C3-4CE5-9B35-4745945C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8BAF-4DFD-4FDB-86AD-B26D6AEB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FBB6-F174-4173-87AC-18AF1A16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FDB32-C37C-4E2A-8C5C-39F1103C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F4FED-6EA8-4077-889A-15F3015B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7833-A74D-4CF9-B709-7E78BB60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ADBE-E093-4694-A881-FAF46258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C339-8EFA-4F6F-BC27-2CAA41B0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189-0E62-426E-BBE0-AFEBAC4D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E9818-892F-40B5-A08A-A38B95DB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67EEF-09BF-441B-B907-9A50326E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7C522-218F-4C5C-998F-4B785494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EEEBB-54EB-4EE5-A946-73E33D0D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4A65-F3D3-47FA-B44F-CFAF9657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B3D7-66DB-4C7B-9D10-37F81EC5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627D-2E12-4B1F-A944-F62BCE1D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569E-8151-4913-89F1-20F056D0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4C63F-3214-4D93-A93F-333B2BA8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B4B9E-DE6D-45F0-922B-0F155640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4E4-B1D3-49DB-923A-85E054E1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D72A5-60C3-4948-875F-90C59CA1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B7C4-D331-47AF-8240-734AB005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783D-E9DF-490D-A0CD-D7C4B57D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2CC48-3236-443C-9A29-06A8262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0D090-997B-41F8-8FF8-A279032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C7035-0820-49E3-A9BC-69300CBD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3A0CC-71E7-49F7-93AF-8ECFD12B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D72E5-4BAB-44A8-AC0F-D07B604A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7EC1-D857-4B42-A7DC-F09CC4D6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0DA4B-CABA-43CD-927C-006C5072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F4D-7C50-45E2-8B47-F470EF8C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E0FC5-57A8-42FF-ACDB-669D77C9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771DC-6B73-4480-AD13-074A6454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93FC6-2633-440E-8927-E883F367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E39F-27C3-4A1E-8071-CC525E86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76E75-9536-4608-BD09-071FCE87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6FF9A-C457-4B25-9380-697DB7F0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D6A2-14EC-4609-A5B5-28EE3F9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F92DB-8AD7-494E-8703-CB8A4A32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EBFCA-66A3-4CAB-9C6E-0C973550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4A31D-E5ED-4428-A304-D37DA116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86B-C7EB-48FF-A510-0445F5CC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16F3-A301-4057-86E1-9DC6CFB6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3E499-7E67-44EC-96F8-D27E518A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D96C-BCF2-4EEF-B120-65AE1177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2AB7F-C7AA-4FA3-A25A-AB28F075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4C6B4-339A-4224-A0D2-EA661928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8DB8D-A74B-4CBF-A298-9DA9C073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FCD6D-A963-4BD3-BE30-C8440E17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7C39C-49AF-413A-8724-03C9DFA0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1CDBE-9870-45C4-9862-E29FC059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E524A-7739-4AE3-B325-4AF3E41A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7B7-F975-40BF-A137-7CD3CFA9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4D97E-13DD-4CE9-979A-B4F01117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8C696-30C9-4471-BD5A-2174F730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BB563-E96F-487F-90B4-6E396C06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65A58-06C0-4721-93BF-09D75E73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286B9-C365-46D3-8BDA-FBA19849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EB46B-16B8-4C36-96AD-E49DEC6B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9AD25-EE03-4BD7-ACCE-6D670DBD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AE747-BA99-45CB-9607-EE880743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5EC0D-D08B-40C5-964D-08712AFF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095D6-05AE-4583-AC75-E5BA5A39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660-C101-4E2B-BB9D-17791045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8DFDE-6752-4D53-8753-60B953FB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23FB9-4016-4949-B54A-2AA4E32F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33926-6127-4BBA-93C4-0AC7FC95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5C53D-7EB1-4A25-859F-0C277D3F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D6D74-DAE9-48DA-9032-40103983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DE85E-6412-46DD-806C-0EC3D4AC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10B82-3255-436E-850F-CC15839F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E9197-C9BF-4419-BA88-AFB261DB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F69A1-34AA-4C6B-A1AD-9ADED3C2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582D4-3543-47E9-AF42-666CFFD8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748-F2C3-465F-A0ED-3C922137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883CF-BD32-4664-957A-C36761A5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4E9E0-27DD-4D38-8571-F4595C1D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BD5C1-F607-4662-99E2-46821E61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5E52D-69F7-45B3-8CCD-31EA4D4A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1A9E9-1654-4A67-92F5-C0032FA6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9CA81-D06B-4B77-940C-FCD9E052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44564-E024-48ED-AC72-BE200811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88A56-5394-4AC0-A159-A259801A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54D24-BC5E-45F0-9428-42052C8F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C3A5C-CA03-4057-8635-49F8DC37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111E-F073-4E2C-B3BE-9307C1E0A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1720"/>
            <a:ext cx="2427840" cy="2247840"/>
            <a:chOff x="7171200" y="-8172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1720"/>
              <a:ext cx="2427840" cy="2247840"/>
              <a:chOff x="7171200" y="-8172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1720"/>
                <a:ext cx="2427840" cy="2247840"/>
                <a:chOff x="7171200" y="-8172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824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108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90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412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720" y="127800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884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2680" y="22248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DE5B-20FC-4501-944F-ADB350308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F93E-BBA7-44E9-B993-2B380E203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BC71-7562-49B6-88B0-0B69C15F2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B9CD-80D0-4716-91A1-ABA084E5C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5BC8-6882-419E-962E-C10C4FBB1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92ED-59B7-4D3C-AF4E-97F14A9F85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1" name="Group 18"/>
          <p:cNvGrpSpPr/>
          <p:nvPr/>
        </p:nvGrpSpPr>
        <p:grpSpPr>
          <a:xfrm>
            <a:off x="7797600" y="4320360"/>
            <a:ext cx="977760" cy="1157400"/>
            <a:chOff x="7797600" y="4320360"/>
            <a:chExt cx="977760" cy="1157400"/>
          </a:xfrm>
        </p:grpSpPr>
        <p:sp>
          <p:nvSpPr>
            <p:cNvPr id="142" name="Freeform 19"/>
            <p:cNvSpPr/>
            <p:nvPr/>
          </p:nvSpPr>
          <p:spPr>
            <a:xfrm rot="7320000">
              <a:off x="7788600" y="4656600"/>
              <a:ext cx="9968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 rot="7320000">
              <a:off x="7764120" y="4635000"/>
              <a:ext cx="9936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 rot="7320000">
              <a:off x="7932240" y="4620960"/>
              <a:ext cx="6588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5" name="Group 22"/>
            <p:cNvGrpSpPr/>
            <p:nvPr/>
          </p:nvGrpSpPr>
          <p:grpSpPr>
            <a:xfrm>
              <a:off x="7797600" y="4320360"/>
              <a:ext cx="977760" cy="1157400"/>
              <a:chOff x="7797600" y="4320360"/>
              <a:chExt cx="977760" cy="1157400"/>
            </a:xfrm>
          </p:grpSpPr>
          <p:sp>
            <p:nvSpPr>
              <p:cNvPr id="146" name="Freeform 23"/>
              <p:cNvSpPr/>
              <p:nvPr/>
            </p:nvSpPr>
            <p:spPr>
              <a:xfrm rot="7320000">
                <a:off x="7916760" y="5064120"/>
                <a:ext cx="9324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7320000">
                <a:off x="7758000" y="4652640"/>
                <a:ext cx="1056960" cy="4924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5"/>
              <p:cNvSpPr/>
              <p:nvPr/>
            </p:nvSpPr>
            <p:spPr>
              <a:xfrm rot="7320000">
                <a:off x="8039880" y="4763160"/>
                <a:ext cx="7477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Freeform 26"/>
              <p:cNvSpPr/>
              <p:nvPr/>
            </p:nvSpPr>
            <p:spPr>
              <a:xfrm rot="7320000">
                <a:off x="8514360" y="4560840"/>
                <a:ext cx="99720" cy="1868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7320000">
                <a:off x="8155080" y="4762440"/>
                <a:ext cx="30564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F61F-88BD-4D77-9933-46DFAAB18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D2B4-9CE5-4875-8FE7-ABE92F4E1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B536-23A1-45AA-BC80-4C6CA6010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BD45-E50B-4034-A123-E2407E03B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D705-6282-419D-9BDA-F280842B9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7906-A3F0-4DB8-9C2D-D52EE2BC5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BEE1-E81F-41B7-94C4-363752C75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hyperlink" Target="http://www.eeppt.com/moban/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hyperlink" Target="307,16,&#24187;&#28783;&#29255; 16" TargetMode="External"/><Relationship Id="rId4" Type="http://schemas.openxmlformats.org/officeDocument/2006/relationships/hyperlink" Target="307,16,&#24187;&#28783;&#29255; 16" TargetMode="External"/><Relationship Id="rId5" Type="http://schemas.openxmlformats.org/officeDocument/2006/relationships/hyperlink" Target="307,16,&#24187;&#28783;&#29255; 16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3" descr=""/>
          <p:cNvPicPr/>
          <p:nvPr/>
        </p:nvPicPr>
        <p:blipFill>
          <a:blip r:embed="rId1"/>
          <a:stretch/>
        </p:blipFill>
        <p:spPr>
          <a:xfrm>
            <a:off x="4859280" y="3444840"/>
            <a:ext cx="2587680" cy="2586240"/>
          </a:xfrm>
          <a:prstGeom prst="rect">
            <a:avLst/>
          </a:prstGeom>
          <a:ln w="0">
            <a:noFill/>
          </a:ln>
        </p:spPr>
      </p:pic>
      <p:pic>
        <p:nvPicPr>
          <p:cNvPr id="646" name="WordArt 2" descr=""/>
          <p:cNvPicPr/>
          <p:nvPr/>
        </p:nvPicPr>
        <p:blipFill>
          <a:blip r:embed="rId2"/>
          <a:stretch/>
        </p:blipFill>
        <p:spPr>
          <a:xfrm>
            <a:off x="393840" y="836640"/>
            <a:ext cx="8353440" cy="2274840"/>
          </a:xfrm>
          <a:prstGeom prst="rect">
            <a:avLst/>
          </a:prstGeom>
          <a:ln w="0">
            <a:noFill/>
          </a:ln>
        </p:spPr>
      </p:pic>
      <p:pic>
        <p:nvPicPr>
          <p:cNvPr id="647" name="图片 1" descr=""/>
          <p:cNvPicPr/>
          <p:nvPr/>
        </p:nvPicPr>
        <p:blipFill>
          <a:blip r:embed="rId3"/>
          <a:stretch/>
        </p:blipFill>
        <p:spPr>
          <a:xfrm>
            <a:off x="971640" y="3726000"/>
            <a:ext cx="3168720" cy="2255760"/>
          </a:xfrm>
          <a:prstGeom prst="rect">
            <a:avLst/>
          </a:prstGeom>
          <a:ln w="0">
            <a:noFill/>
          </a:ln>
        </p:spPr>
      </p:pic>
      <p:sp>
        <p:nvSpPr>
          <p:cNvPr id="64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250920" y="260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(3)</a:t>
            </a:r>
            <a:r>
              <a:rPr b="1" lang="zh-CN" sz="40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正确放置刻度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刻度尺尽可能靠近被测物，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能歪斜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0" name="Picture 4" descr=""/>
          <p:cNvPicPr/>
          <p:nvPr/>
        </p:nvPicPr>
        <p:blipFill>
          <a:blip r:embed="rId1"/>
          <a:stretch/>
        </p:blipFill>
        <p:spPr>
          <a:xfrm>
            <a:off x="0" y="2519280"/>
            <a:ext cx="4067280" cy="2854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5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4376520" cy="27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468360" y="404640"/>
            <a:ext cx="4098960" cy="82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(4)</a:t>
            </a:r>
            <a:r>
              <a:rPr b="1" lang="zh-CN" sz="48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读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539640" y="13082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读数时视线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垂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被测物和刻度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4" name="Group 4"/>
          <p:cNvGrpSpPr/>
          <p:nvPr/>
        </p:nvGrpSpPr>
        <p:grpSpPr>
          <a:xfrm>
            <a:off x="539640" y="2492280"/>
            <a:ext cx="7776720" cy="3096720"/>
            <a:chOff x="539640" y="2492280"/>
            <a:chExt cx="7776720" cy="3096720"/>
          </a:xfrm>
        </p:grpSpPr>
        <p:grpSp>
          <p:nvGrpSpPr>
            <p:cNvPr id="685" name="Group 5"/>
            <p:cNvGrpSpPr/>
            <p:nvPr/>
          </p:nvGrpSpPr>
          <p:grpSpPr>
            <a:xfrm>
              <a:off x="539640" y="2492280"/>
              <a:ext cx="7776720" cy="3096720"/>
              <a:chOff x="539640" y="2492280"/>
              <a:chExt cx="7776720" cy="3096720"/>
            </a:xfrm>
          </p:grpSpPr>
          <p:pic>
            <p:nvPicPr>
              <p:cNvPr id="686" name="Picture 6" descr=""/>
              <p:cNvPicPr/>
              <p:nvPr/>
            </p:nvPicPr>
            <p:blipFill>
              <a:blip r:embed="rId1"/>
              <a:srcRect l="0" t="0" r="0" b="-390"/>
              <a:stretch/>
            </p:blipFill>
            <p:spPr>
              <a:xfrm>
                <a:off x="539640" y="2492280"/>
                <a:ext cx="7776720" cy="309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7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7020360" y="2492280"/>
                <a:ext cx="972000" cy="1289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8" name="Rectangle 8"/>
            <p:cNvSpPr/>
            <p:nvPr/>
          </p:nvSpPr>
          <p:spPr>
            <a:xfrm>
              <a:off x="1295280" y="2750040"/>
              <a:ext cx="1296000" cy="77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Rectangle 9"/>
            <p:cNvSpPr/>
            <p:nvPr/>
          </p:nvSpPr>
          <p:spPr>
            <a:xfrm>
              <a:off x="6156000" y="2621520"/>
              <a:ext cx="92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√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250920" y="990720"/>
            <a:ext cx="89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正误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298116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3" name="Picture 5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3810240" cy="29844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3810240" cy="298440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3810240" cy="29844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"/>
          <p:cNvPicPr/>
          <p:nvPr/>
        </p:nvPicPr>
        <p:blipFill>
          <a:blip r:embed="rId4"/>
          <a:stretch/>
        </p:blipFill>
        <p:spPr>
          <a:xfrm>
            <a:off x="4952880" y="3429000"/>
            <a:ext cx="381024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4" descr="1005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5"/>
          <p:cNvSpPr/>
          <p:nvPr/>
        </p:nvSpPr>
        <p:spPr>
          <a:xfrm>
            <a:off x="1476360" y="33336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       </a:t>
            </a:r>
            <a:r>
              <a:rPr b="0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请读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4"/>
          <p:cNvSpPr/>
          <p:nvPr/>
        </p:nvSpPr>
        <p:spPr>
          <a:xfrm>
            <a:off x="468360" y="2060640"/>
            <a:ext cx="4572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0" name="Group 5"/>
          <p:cNvGrpSpPr/>
          <p:nvPr/>
        </p:nvGrpSpPr>
        <p:grpSpPr>
          <a:xfrm>
            <a:off x="250920" y="2924280"/>
            <a:ext cx="8152920" cy="1218600"/>
            <a:chOff x="250920" y="2924280"/>
            <a:chExt cx="8152920" cy="1218600"/>
          </a:xfrm>
        </p:grpSpPr>
        <p:sp>
          <p:nvSpPr>
            <p:cNvPr id="701" name="Rectangle 6"/>
            <p:cNvSpPr/>
            <p:nvPr/>
          </p:nvSpPr>
          <p:spPr>
            <a:xfrm>
              <a:off x="250920" y="2924280"/>
              <a:ext cx="8152920" cy="121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794520" y="2924280"/>
              <a:ext cx="360" cy="261000"/>
              <a:chOff x="794520" y="2924280"/>
              <a:chExt cx="360" cy="261000"/>
            </a:xfrm>
          </p:grpSpPr>
          <p:sp>
            <p:nvSpPr>
              <p:cNvPr id="703" name="Line 7"/>
              <p:cNvSpPr/>
              <p:nvPr/>
            </p:nvSpPr>
            <p:spPr>
              <a:xfrm>
                <a:off x="79452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"/>
              <p:cNvSpPr txBox="1"/>
              <p:nvPr/>
            </p:nvSpPr>
            <p:spPr>
              <a:xfrm>
                <a:off x="79452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2099160" y="2924280"/>
              <a:ext cx="360" cy="347760"/>
              <a:chOff x="2099160" y="2924280"/>
              <a:chExt cx="360" cy="347760"/>
            </a:xfrm>
          </p:grpSpPr>
          <p:sp>
            <p:nvSpPr>
              <p:cNvPr id="706" name="Line 8"/>
              <p:cNvSpPr/>
              <p:nvPr/>
            </p:nvSpPr>
            <p:spPr>
              <a:xfrm>
                <a:off x="2099160" y="292428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7" name=""/>
              <p:cNvSpPr txBox="1"/>
              <p:nvPr/>
            </p:nvSpPr>
            <p:spPr>
              <a:xfrm>
                <a:off x="2099160" y="2924280"/>
                <a:ext cx="3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1120680" y="2924280"/>
              <a:ext cx="360" cy="261000"/>
              <a:chOff x="1120680" y="2924280"/>
              <a:chExt cx="360" cy="261000"/>
            </a:xfrm>
          </p:grpSpPr>
          <p:sp>
            <p:nvSpPr>
              <p:cNvPr id="709" name="Line 9"/>
              <p:cNvSpPr/>
              <p:nvPr/>
            </p:nvSpPr>
            <p:spPr>
              <a:xfrm>
                <a:off x="112068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0" name=""/>
              <p:cNvSpPr txBox="1"/>
              <p:nvPr/>
            </p:nvSpPr>
            <p:spPr>
              <a:xfrm>
                <a:off x="112068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446840" y="2924280"/>
              <a:ext cx="360" cy="261000"/>
              <a:chOff x="1446840" y="2924280"/>
              <a:chExt cx="360" cy="261000"/>
            </a:xfrm>
          </p:grpSpPr>
          <p:sp>
            <p:nvSpPr>
              <p:cNvPr id="712" name="Line 10"/>
              <p:cNvSpPr/>
              <p:nvPr/>
            </p:nvSpPr>
            <p:spPr>
              <a:xfrm>
                <a:off x="144684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"/>
              <p:cNvSpPr txBox="1"/>
              <p:nvPr/>
            </p:nvSpPr>
            <p:spPr>
              <a:xfrm>
                <a:off x="144684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1773000" y="2924280"/>
              <a:ext cx="360" cy="261000"/>
              <a:chOff x="1773000" y="2924280"/>
              <a:chExt cx="360" cy="261000"/>
            </a:xfrm>
          </p:grpSpPr>
          <p:sp>
            <p:nvSpPr>
              <p:cNvPr id="715" name="Line 11"/>
              <p:cNvSpPr/>
              <p:nvPr/>
            </p:nvSpPr>
            <p:spPr>
              <a:xfrm>
                <a:off x="177300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6" name=""/>
              <p:cNvSpPr txBox="1"/>
              <p:nvPr/>
            </p:nvSpPr>
            <p:spPr>
              <a:xfrm>
                <a:off x="177300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2425320" y="2924280"/>
              <a:ext cx="360" cy="261000"/>
              <a:chOff x="2425320" y="2924280"/>
              <a:chExt cx="360" cy="261000"/>
            </a:xfrm>
          </p:grpSpPr>
          <p:sp>
            <p:nvSpPr>
              <p:cNvPr id="718" name="Line 12"/>
              <p:cNvSpPr/>
              <p:nvPr/>
            </p:nvSpPr>
            <p:spPr>
              <a:xfrm>
                <a:off x="242532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9" name=""/>
              <p:cNvSpPr txBox="1"/>
              <p:nvPr/>
            </p:nvSpPr>
            <p:spPr>
              <a:xfrm>
                <a:off x="242532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2751480" y="2924280"/>
              <a:ext cx="360" cy="261000"/>
              <a:chOff x="2751480" y="2924280"/>
              <a:chExt cx="360" cy="261000"/>
            </a:xfrm>
          </p:grpSpPr>
          <p:sp>
            <p:nvSpPr>
              <p:cNvPr id="721" name="Line 13"/>
              <p:cNvSpPr/>
              <p:nvPr/>
            </p:nvSpPr>
            <p:spPr>
              <a:xfrm>
                <a:off x="275148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2" name=""/>
              <p:cNvSpPr txBox="1"/>
              <p:nvPr/>
            </p:nvSpPr>
            <p:spPr>
              <a:xfrm>
                <a:off x="275148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3077640" y="2924280"/>
              <a:ext cx="360" cy="261000"/>
              <a:chOff x="3077640" y="2924280"/>
              <a:chExt cx="360" cy="261000"/>
            </a:xfrm>
          </p:grpSpPr>
          <p:sp>
            <p:nvSpPr>
              <p:cNvPr id="724" name="Line 14"/>
              <p:cNvSpPr/>
              <p:nvPr/>
            </p:nvSpPr>
            <p:spPr>
              <a:xfrm>
                <a:off x="307764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5" name=""/>
              <p:cNvSpPr txBox="1"/>
              <p:nvPr/>
            </p:nvSpPr>
            <p:spPr>
              <a:xfrm>
                <a:off x="307764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3403800" y="2924280"/>
              <a:ext cx="360" cy="261000"/>
              <a:chOff x="3403800" y="2924280"/>
              <a:chExt cx="360" cy="261000"/>
            </a:xfrm>
          </p:grpSpPr>
          <p:sp>
            <p:nvSpPr>
              <p:cNvPr id="727" name="Line 15"/>
              <p:cNvSpPr/>
              <p:nvPr/>
            </p:nvSpPr>
            <p:spPr>
              <a:xfrm>
                <a:off x="340380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8" name=""/>
              <p:cNvSpPr txBox="1"/>
              <p:nvPr/>
            </p:nvSpPr>
            <p:spPr>
              <a:xfrm>
                <a:off x="340380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468360" y="2924280"/>
              <a:ext cx="360" cy="696240"/>
              <a:chOff x="468360" y="2924280"/>
              <a:chExt cx="360" cy="696240"/>
            </a:xfrm>
          </p:grpSpPr>
          <p:sp>
            <p:nvSpPr>
              <p:cNvPr id="730" name="Line 16"/>
              <p:cNvSpPr/>
              <p:nvPr/>
            </p:nvSpPr>
            <p:spPr>
              <a:xfrm>
                <a:off x="468360" y="2924280"/>
                <a:ext cx="0" cy="69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"/>
              <p:cNvSpPr txBox="1"/>
              <p:nvPr/>
            </p:nvSpPr>
            <p:spPr>
              <a:xfrm>
                <a:off x="468360" y="2924280"/>
                <a:ext cx="360" cy="69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3729600" y="2924280"/>
              <a:ext cx="360" cy="696240"/>
              <a:chOff x="3729600" y="2924280"/>
              <a:chExt cx="360" cy="696240"/>
            </a:xfrm>
          </p:grpSpPr>
          <p:sp>
            <p:nvSpPr>
              <p:cNvPr id="733" name="Line 17"/>
              <p:cNvSpPr/>
              <p:nvPr/>
            </p:nvSpPr>
            <p:spPr>
              <a:xfrm>
                <a:off x="3729600" y="2924280"/>
                <a:ext cx="0" cy="69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4" name=""/>
              <p:cNvSpPr txBox="1"/>
              <p:nvPr/>
            </p:nvSpPr>
            <p:spPr>
              <a:xfrm>
                <a:off x="3729600" y="2924280"/>
                <a:ext cx="360" cy="69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055760" y="2924280"/>
              <a:ext cx="360" cy="261000"/>
              <a:chOff x="4055760" y="2924280"/>
              <a:chExt cx="360" cy="261000"/>
            </a:xfrm>
          </p:grpSpPr>
          <p:sp>
            <p:nvSpPr>
              <p:cNvPr id="736" name="Line 18"/>
              <p:cNvSpPr/>
              <p:nvPr/>
            </p:nvSpPr>
            <p:spPr>
              <a:xfrm>
                <a:off x="405576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7" name=""/>
              <p:cNvSpPr txBox="1"/>
              <p:nvPr/>
            </p:nvSpPr>
            <p:spPr>
              <a:xfrm>
                <a:off x="405576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5360400" y="2924280"/>
              <a:ext cx="360" cy="347760"/>
              <a:chOff x="5360400" y="2924280"/>
              <a:chExt cx="360" cy="347760"/>
            </a:xfrm>
          </p:grpSpPr>
          <p:sp>
            <p:nvSpPr>
              <p:cNvPr id="739" name="Line 19"/>
              <p:cNvSpPr/>
              <p:nvPr/>
            </p:nvSpPr>
            <p:spPr>
              <a:xfrm>
                <a:off x="5360400" y="292428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0" name=""/>
              <p:cNvSpPr txBox="1"/>
              <p:nvPr/>
            </p:nvSpPr>
            <p:spPr>
              <a:xfrm>
                <a:off x="5360400" y="2924280"/>
                <a:ext cx="3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4381920" y="2924280"/>
              <a:ext cx="360" cy="261000"/>
              <a:chOff x="4381920" y="2924280"/>
              <a:chExt cx="360" cy="261000"/>
            </a:xfrm>
          </p:grpSpPr>
          <p:sp>
            <p:nvSpPr>
              <p:cNvPr id="742" name="Line 20"/>
              <p:cNvSpPr/>
              <p:nvPr/>
            </p:nvSpPr>
            <p:spPr>
              <a:xfrm>
                <a:off x="438192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3" name=""/>
              <p:cNvSpPr txBox="1"/>
              <p:nvPr/>
            </p:nvSpPr>
            <p:spPr>
              <a:xfrm>
                <a:off x="438192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4708080" y="2924280"/>
              <a:ext cx="360" cy="261000"/>
              <a:chOff x="4708080" y="2924280"/>
              <a:chExt cx="360" cy="261000"/>
            </a:xfrm>
          </p:grpSpPr>
          <p:sp>
            <p:nvSpPr>
              <p:cNvPr id="745" name="Line 21"/>
              <p:cNvSpPr/>
              <p:nvPr/>
            </p:nvSpPr>
            <p:spPr>
              <a:xfrm>
                <a:off x="470808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"/>
              <p:cNvSpPr txBox="1"/>
              <p:nvPr/>
            </p:nvSpPr>
            <p:spPr>
              <a:xfrm>
                <a:off x="470808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5034240" y="2924280"/>
              <a:ext cx="360" cy="261000"/>
              <a:chOff x="5034240" y="2924280"/>
              <a:chExt cx="360" cy="261000"/>
            </a:xfrm>
          </p:grpSpPr>
          <p:sp>
            <p:nvSpPr>
              <p:cNvPr id="748" name="Line 22"/>
              <p:cNvSpPr/>
              <p:nvPr/>
            </p:nvSpPr>
            <p:spPr>
              <a:xfrm>
                <a:off x="503424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9" name=""/>
              <p:cNvSpPr txBox="1"/>
              <p:nvPr/>
            </p:nvSpPr>
            <p:spPr>
              <a:xfrm>
                <a:off x="503424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5686560" y="2924280"/>
              <a:ext cx="360" cy="261000"/>
              <a:chOff x="5686560" y="2924280"/>
              <a:chExt cx="360" cy="261000"/>
            </a:xfrm>
          </p:grpSpPr>
          <p:sp>
            <p:nvSpPr>
              <p:cNvPr id="751" name="Line 23"/>
              <p:cNvSpPr/>
              <p:nvPr/>
            </p:nvSpPr>
            <p:spPr>
              <a:xfrm>
                <a:off x="568656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2" name=""/>
              <p:cNvSpPr txBox="1"/>
              <p:nvPr/>
            </p:nvSpPr>
            <p:spPr>
              <a:xfrm>
                <a:off x="568656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012720" y="2924280"/>
              <a:ext cx="360" cy="261000"/>
              <a:chOff x="6012720" y="2924280"/>
              <a:chExt cx="360" cy="261000"/>
            </a:xfrm>
          </p:grpSpPr>
          <p:sp>
            <p:nvSpPr>
              <p:cNvPr id="754" name="Line 24"/>
              <p:cNvSpPr/>
              <p:nvPr/>
            </p:nvSpPr>
            <p:spPr>
              <a:xfrm>
                <a:off x="601272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5" name=""/>
              <p:cNvSpPr txBox="1"/>
              <p:nvPr/>
            </p:nvSpPr>
            <p:spPr>
              <a:xfrm>
                <a:off x="601272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6338880" y="2924280"/>
              <a:ext cx="360" cy="261000"/>
              <a:chOff x="6338880" y="2924280"/>
              <a:chExt cx="360" cy="261000"/>
            </a:xfrm>
          </p:grpSpPr>
          <p:sp>
            <p:nvSpPr>
              <p:cNvPr id="757" name="Line 25"/>
              <p:cNvSpPr/>
              <p:nvPr/>
            </p:nvSpPr>
            <p:spPr>
              <a:xfrm>
                <a:off x="633888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"/>
              <p:cNvSpPr txBox="1"/>
              <p:nvPr/>
            </p:nvSpPr>
            <p:spPr>
              <a:xfrm>
                <a:off x="633888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6665040" y="2924280"/>
              <a:ext cx="360" cy="261000"/>
              <a:chOff x="6665040" y="2924280"/>
              <a:chExt cx="360" cy="261000"/>
            </a:xfrm>
          </p:grpSpPr>
          <p:sp>
            <p:nvSpPr>
              <p:cNvPr id="760" name="Line 26"/>
              <p:cNvSpPr/>
              <p:nvPr/>
            </p:nvSpPr>
            <p:spPr>
              <a:xfrm>
                <a:off x="666504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"/>
              <p:cNvSpPr txBox="1"/>
              <p:nvPr/>
            </p:nvSpPr>
            <p:spPr>
              <a:xfrm>
                <a:off x="666504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6990840" y="2924280"/>
              <a:ext cx="360" cy="696240"/>
              <a:chOff x="6990840" y="2924280"/>
              <a:chExt cx="360" cy="696240"/>
            </a:xfrm>
          </p:grpSpPr>
          <p:sp>
            <p:nvSpPr>
              <p:cNvPr id="763" name="Line 27"/>
              <p:cNvSpPr/>
              <p:nvPr/>
            </p:nvSpPr>
            <p:spPr>
              <a:xfrm>
                <a:off x="6990840" y="2924280"/>
                <a:ext cx="0" cy="69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4" name=""/>
              <p:cNvSpPr txBox="1"/>
              <p:nvPr/>
            </p:nvSpPr>
            <p:spPr>
              <a:xfrm>
                <a:off x="6990840" y="2924280"/>
                <a:ext cx="360" cy="69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7317000" y="2924280"/>
              <a:ext cx="360" cy="261000"/>
              <a:chOff x="7317000" y="2924280"/>
              <a:chExt cx="360" cy="261000"/>
            </a:xfrm>
          </p:grpSpPr>
          <p:sp>
            <p:nvSpPr>
              <p:cNvPr id="766" name="Line 28"/>
              <p:cNvSpPr/>
              <p:nvPr/>
            </p:nvSpPr>
            <p:spPr>
              <a:xfrm>
                <a:off x="731700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7" name=""/>
              <p:cNvSpPr txBox="1"/>
              <p:nvPr/>
            </p:nvSpPr>
            <p:spPr>
              <a:xfrm>
                <a:off x="731700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7643160" y="2924280"/>
              <a:ext cx="360" cy="261000"/>
              <a:chOff x="7643160" y="2924280"/>
              <a:chExt cx="360" cy="261000"/>
            </a:xfrm>
          </p:grpSpPr>
          <p:sp>
            <p:nvSpPr>
              <p:cNvPr id="769" name="Line 29"/>
              <p:cNvSpPr/>
              <p:nvPr/>
            </p:nvSpPr>
            <p:spPr>
              <a:xfrm>
                <a:off x="764316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"/>
              <p:cNvSpPr txBox="1"/>
              <p:nvPr/>
            </p:nvSpPr>
            <p:spPr>
              <a:xfrm>
                <a:off x="764316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7969320" y="2924280"/>
              <a:ext cx="360" cy="261000"/>
              <a:chOff x="7969320" y="2924280"/>
              <a:chExt cx="360" cy="261000"/>
            </a:xfrm>
          </p:grpSpPr>
          <p:sp>
            <p:nvSpPr>
              <p:cNvPr id="772" name="Line 30"/>
              <p:cNvSpPr/>
              <p:nvPr/>
            </p:nvSpPr>
            <p:spPr>
              <a:xfrm>
                <a:off x="7969320" y="2924280"/>
                <a:ext cx="0" cy="26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7969320" y="2924280"/>
                <a:ext cx="360" cy="26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74" name="Text Box 31"/>
          <p:cNvSpPr/>
          <p:nvPr/>
        </p:nvSpPr>
        <p:spPr>
          <a:xfrm>
            <a:off x="395280" y="765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记录测量结果既要有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准确值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还要注明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单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468360" y="41497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记录结果时要有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单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395280" y="270828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读数包含两部分：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准确值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和一位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估计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Rectangle 4"/>
          <p:cNvSpPr/>
          <p:nvPr/>
        </p:nvSpPr>
        <p:spPr>
          <a:xfrm>
            <a:off x="468360" y="1700280"/>
            <a:ext cx="84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读数时视线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垂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被测物和刻度尺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3352680" y="609480"/>
            <a:ext cx="2438640" cy="82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读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9" name="Picture 6" descr="Q_011"/>
          <p:cNvPicPr/>
          <p:nvPr/>
        </p:nvPicPr>
        <p:blipFill>
          <a:blip r:embed="rId1"/>
          <a:stretch/>
        </p:blipFill>
        <p:spPr>
          <a:xfrm>
            <a:off x="6804000" y="260280"/>
            <a:ext cx="111924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长度测量的特殊方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979640" y="981000"/>
            <a:ext cx="53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  <a:ea typeface="楷体_GB2312"/>
              </a:rPr>
              <a:t>1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Times New Roman"/>
                <a:ea typeface="楷体_GB2312"/>
              </a:rPr>
              <a:t>、辅助工具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于测圆、圆柱体的直径和圆锥体的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1752480" cy="181152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4"/>
          <p:cNvGrpSpPr/>
          <p:nvPr/>
        </p:nvGrpSpPr>
        <p:grpSpPr>
          <a:xfrm>
            <a:off x="6400800" y="3276720"/>
            <a:ext cx="2114280" cy="2361960"/>
            <a:chOff x="6400800" y="3276720"/>
            <a:chExt cx="2114280" cy="2361960"/>
          </a:xfrm>
        </p:grpSpPr>
        <p:pic>
          <p:nvPicPr>
            <p:cNvPr id="784" name="Picture 5" descr=""/>
            <p:cNvPicPr/>
            <p:nvPr/>
          </p:nvPicPr>
          <p:blipFill>
            <a:blip r:embed="rId2"/>
            <a:stretch/>
          </p:blipFill>
          <p:spPr>
            <a:xfrm>
              <a:off x="6400800" y="3276720"/>
              <a:ext cx="21142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Rectangle 6"/>
            <p:cNvSpPr/>
            <p:nvPr/>
          </p:nvSpPr>
          <p:spPr>
            <a:xfrm>
              <a:off x="6400800" y="3276720"/>
              <a:ext cx="761760" cy="304560"/>
            </a:xfrm>
            <a:prstGeom prst="rect">
              <a:avLst/>
            </a:prstGeom>
            <a:solidFill>
              <a:srgbClr val="e3e3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786" name="Picture 7" descr=""/>
          <p:cNvPicPr/>
          <p:nvPr/>
        </p:nvPicPr>
        <p:blipFill>
          <a:blip r:embed="rId3"/>
          <a:srcRect l="0" t="0" r="-189" b="0"/>
          <a:stretch/>
        </p:blipFill>
        <p:spPr>
          <a:xfrm>
            <a:off x="1295280" y="3886200"/>
            <a:ext cx="2895840" cy="1219320"/>
          </a:xfrm>
          <a:prstGeom prst="rect">
            <a:avLst/>
          </a:prstGeom>
          <a:ln w="0">
            <a:noFill/>
          </a:ln>
        </p:spPr>
      </p:pic>
      <p:sp>
        <p:nvSpPr>
          <p:cNvPr id="787" name="Rectangle 8"/>
          <p:cNvSpPr/>
          <p:nvPr/>
        </p:nvSpPr>
        <p:spPr>
          <a:xfrm>
            <a:off x="2124000" y="0"/>
            <a:ext cx="54104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长度测量的特殊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0" y="76500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2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、软线、轮子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于测较短的曲线，例如地图册上的铁路线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于测较长的曲线例如运动场的跑道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438640" cy="21240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4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2628720" cy="19908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2133360" cy="126360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6"/>
          <p:cNvSpPr/>
          <p:nvPr/>
        </p:nvSpPr>
        <p:spPr>
          <a:xfrm>
            <a:off x="2124000" y="0"/>
            <a:ext cx="54104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长度测量的特殊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539640" y="1125360"/>
            <a:ext cx="7777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3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、累计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于测纸厚，细丝直径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4248000" cy="29098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4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392720" cy="276372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5"/>
          <p:cNvSpPr/>
          <p:nvPr/>
        </p:nvSpPr>
        <p:spPr>
          <a:xfrm>
            <a:off x="2268360" y="0"/>
            <a:ext cx="54104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长度测量的特殊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AutoShape 6"/>
          <p:cNvSpPr/>
          <p:nvPr/>
        </p:nvSpPr>
        <p:spPr>
          <a:xfrm>
            <a:off x="8101080" y="6093000"/>
            <a:ext cx="1042920" cy="76500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3" y="7493"/>
                </a:lnTo>
                <a:lnTo>
                  <a:pt x="11223" y="12828"/>
                </a:lnTo>
                <a:cubicBezTo>
                  <a:pt x="11223" y="13751"/>
                  <a:pt x="12024" y="14482"/>
                  <a:pt x="13059" y="14482"/>
                </a:cubicBezTo>
                <a:lnTo>
                  <a:pt x="14722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2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6" y="7493"/>
                </a:lnTo>
                <a:lnTo>
                  <a:pt x="20066" y="12828"/>
                </a:lnTo>
                <a:cubicBezTo>
                  <a:pt x="20066" y="15596"/>
                  <a:pt x="17490" y="18155"/>
                  <a:pt x="14722" y="18155"/>
                </a:cubicBezTo>
                <a:lnTo>
                  <a:pt x="13059" y="18155"/>
                </a:lnTo>
                <a:cubicBezTo>
                  <a:pt x="10292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7"/>
          <p:cNvSpPr/>
          <p:nvPr/>
        </p:nvSpPr>
        <p:spPr>
          <a:xfrm>
            <a:off x="6467400" y="6093000"/>
            <a:ext cx="1013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b200"/>
                </a:solidFill>
                <a:uFillTx/>
                <a:latin typeface="Verdana"/>
                <a:hlinkClick r:id="rId3"/>
              </a:rPr>
              <a:t>回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Verdana"/>
                <a:hlinkClick r:id="rId4"/>
              </a:rPr>
              <a:t>16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Verdana"/>
                <a:hlinkClick r:id="rId5"/>
              </a:rPr>
              <a:t>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研究运动需先学会</a:t>
            </a:r>
            <a:r>
              <a:rPr b="1" lang="zh-CN" sz="4400" spc="-1" strike="noStrike">
                <a:solidFill>
                  <a:srgbClr val="cc0000"/>
                </a:solidFill>
                <a:latin typeface="Comic Sans MS"/>
                <a:ea typeface="华文新魏"/>
              </a:rPr>
              <a:t>长度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  <a:ea typeface="华文新魏"/>
              </a:rPr>
              <a:t>和</a:t>
            </a:r>
            <a:r>
              <a:rPr b="1" lang="zh-CN" sz="4400" spc="-1" strike="noStrike">
                <a:solidFill>
                  <a:srgbClr val="cc0000"/>
                </a:solidFill>
                <a:latin typeface="Arial Narrow"/>
                <a:ea typeface="华文新魏"/>
              </a:rPr>
              <a:t>时间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测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0" name="Picture 4" descr="F2003081814215004572"/>
          <p:cNvPicPr/>
          <p:nvPr/>
        </p:nvPicPr>
        <p:blipFill>
          <a:blip r:embed="rId1"/>
          <a:stretch/>
        </p:blipFill>
        <p:spPr>
          <a:xfrm>
            <a:off x="179280" y="2492280"/>
            <a:ext cx="4391280" cy="28958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r122011"/>
          <p:cNvPicPr/>
          <p:nvPr/>
        </p:nvPicPr>
        <p:blipFill>
          <a:blip r:embed="rId2"/>
          <a:stretch/>
        </p:blipFill>
        <p:spPr>
          <a:xfrm>
            <a:off x="4533840" y="2502000"/>
            <a:ext cx="3770280" cy="24238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10"/>
          <p:cNvSpPr/>
          <p:nvPr/>
        </p:nvSpPr>
        <p:spPr>
          <a:xfrm>
            <a:off x="1109520" y="223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b800"/>
                </a:solidFill>
                <a:latin typeface="Comic Sans MS"/>
                <a:ea typeface="华文新魏"/>
              </a:rPr>
              <a:t>创设情境引入新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9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、时间的测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时间的单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国际单位制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，主单位是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秒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符号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还有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小时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h)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分钟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min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时间的测量工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钟表，停表（秒表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4" descr="027"/>
          <p:cNvPicPr/>
          <p:nvPr/>
        </p:nvPicPr>
        <p:blipFill>
          <a:blip r:embed="rId1"/>
          <a:srcRect l="0" t="0" r="0" b="-143"/>
          <a:stretch/>
        </p:blipFill>
        <p:spPr>
          <a:xfrm rot="1528200">
            <a:off x="3165120" y="907920"/>
            <a:ext cx="3711600" cy="477540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6"/>
          <p:cNvSpPr/>
          <p:nvPr/>
        </p:nvSpPr>
        <p:spPr>
          <a:xfrm>
            <a:off x="744480" y="5357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钟表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Text Box 7"/>
          <p:cNvSpPr/>
          <p:nvPr/>
        </p:nvSpPr>
        <p:spPr>
          <a:xfrm>
            <a:off x="4416480" y="55022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停表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Text Box 8"/>
          <p:cNvSpPr/>
          <p:nvPr/>
        </p:nvSpPr>
        <p:spPr>
          <a:xfrm>
            <a:off x="1197000" y="2462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想想做做：说出分度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7" name="Group 10"/>
          <p:cNvGrpSpPr/>
          <p:nvPr/>
        </p:nvGrpSpPr>
        <p:grpSpPr>
          <a:xfrm>
            <a:off x="-421560" y="1052640"/>
            <a:ext cx="3697920" cy="3799800"/>
            <a:chOff x="-421560" y="1052640"/>
            <a:chExt cx="3697920" cy="3799800"/>
          </a:xfrm>
        </p:grpSpPr>
        <p:pic>
          <p:nvPicPr>
            <p:cNvPr id="808" name="Picture 5" descr="027"/>
            <p:cNvPicPr/>
            <p:nvPr/>
          </p:nvPicPr>
          <p:blipFill>
            <a:blip r:embed="rId2"/>
            <a:stretch/>
          </p:blipFill>
          <p:spPr>
            <a:xfrm>
              <a:off x="56160" y="1052640"/>
              <a:ext cx="3220200" cy="36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Rectangle 9"/>
            <p:cNvSpPr/>
            <p:nvPr/>
          </p:nvSpPr>
          <p:spPr>
            <a:xfrm rot="19871400">
              <a:off x="-179280" y="3656880"/>
              <a:ext cx="523080" cy="113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810" name="Picture 11" descr="027"/>
          <p:cNvPicPr/>
          <p:nvPr/>
        </p:nvPicPr>
        <p:blipFill>
          <a:blip r:embed="rId3"/>
          <a:stretch/>
        </p:blipFill>
        <p:spPr>
          <a:xfrm>
            <a:off x="6588000" y="620640"/>
            <a:ext cx="2556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Comic Sans MS"/>
                <a:ea typeface="华文新魏"/>
              </a:rPr>
              <a:t>停表读数问题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1128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针转一周，时间为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；短针转一周，时间为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停表长针每走十次，才一秒，故其分度值为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停表长针每个位置对应的读数可能为两个值中的一个，至于究竟是哪个值，需要根据短针读数确定。两个值相差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4" descr=""/>
          <p:cNvPicPr/>
          <p:nvPr/>
        </p:nvPicPr>
        <p:blipFill>
          <a:blip r:embed="rId1"/>
          <a:stretch/>
        </p:blipFill>
        <p:spPr>
          <a:xfrm>
            <a:off x="2519280" y="-24300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7"/>
          <p:cNvSpPr/>
          <p:nvPr/>
        </p:nvSpPr>
        <p:spPr>
          <a:xfrm>
            <a:off x="-281880" y="333360"/>
            <a:ext cx="13993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短针读数大于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分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1372320" y="476280"/>
            <a:ext cx="13993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长针读数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1.6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秒或者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1.6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395280" y="580536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准确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分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1.6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88720" y="1029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想想议议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古人和现代人是如何测量时间的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8" name="Picture 4" descr="027"/>
          <p:cNvPicPr/>
          <p:nvPr/>
        </p:nvPicPr>
        <p:blipFill>
          <a:blip r:embed="rId1"/>
          <a:stretch/>
        </p:blipFill>
        <p:spPr>
          <a:xfrm>
            <a:off x="0" y="1700280"/>
            <a:ext cx="4427640" cy="42735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01-沙漏(現自4下教具)"/>
          <p:cNvPicPr/>
          <p:nvPr/>
        </p:nvPicPr>
        <p:blipFill>
          <a:blip r:embed="rId2"/>
          <a:stretch/>
        </p:blipFill>
        <p:spPr>
          <a:xfrm>
            <a:off x="5867280" y="1528920"/>
            <a:ext cx="3276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2"/>
          <p:cNvSpPr/>
          <p:nvPr/>
        </p:nvSpPr>
        <p:spPr>
          <a:xfrm>
            <a:off x="324000" y="189000"/>
            <a:ext cx="59767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四、测量的误差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Rectangle 3"/>
          <p:cNvSpPr/>
          <p:nvPr/>
        </p:nvSpPr>
        <p:spPr>
          <a:xfrm>
            <a:off x="395280" y="105264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1</a:t>
            </a:r>
            <a:r>
              <a:rPr b="1" i="1" lang="zh-CN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误差</a:t>
            </a:r>
            <a:r>
              <a:rPr b="1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测量值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真实值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差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Rectangle 4"/>
          <p:cNvSpPr/>
          <p:nvPr/>
        </p:nvSpPr>
        <p:spPr>
          <a:xfrm>
            <a:off x="324000" y="2708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测量工具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和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华文新魏"/>
              </a:rPr>
              <a:t>测量方法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的限制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测量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Rectangle 5"/>
          <p:cNvSpPr/>
          <p:nvPr/>
        </p:nvSpPr>
        <p:spPr>
          <a:xfrm>
            <a:off x="393840" y="3500280"/>
            <a:ext cx="58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  <a:ea typeface="楷体_GB2312"/>
              </a:rPr>
              <a:t>3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Times New Roman"/>
                <a:ea typeface="楷体_GB2312"/>
              </a:rPr>
              <a:t>、减小误差的方法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Rectangle 6"/>
          <p:cNvSpPr/>
          <p:nvPr/>
        </p:nvSpPr>
        <p:spPr>
          <a:xfrm>
            <a:off x="395280" y="1916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2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、误差的来源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611280" y="4221000"/>
            <a:ext cx="82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多次测量取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平均值（重点，常用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使用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精密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的测量工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华文新魏"/>
              </a:rPr>
              <a:t>改进测量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方法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179280" y="0"/>
            <a:ext cx="874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注意：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误差不是错误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测量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错误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是由于不遵守测量仪器的使用规则、读数时粗心造成的，是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不该发生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，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能够避免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误差是不能避免的，只能尽量减小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4"/>
          <p:cNvSpPr/>
          <p:nvPr/>
        </p:nvSpPr>
        <p:spPr>
          <a:xfrm>
            <a:off x="755640" y="371628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题：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下列说法正确的是（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只要测量方法正确就不会有误差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测量时误差是不可避免的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选择精密的测量工具可以避免误差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多次测量取平均值可以消除误差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600200" y="762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858000" cy="4232520"/>
          </a:xfrm>
          <a:prstGeom prst="rect">
            <a:avLst/>
          </a:prstGeom>
          <a:ln w="0">
            <a:noFill/>
          </a:ln>
        </p:spPr>
      </p:pic>
      <p:sp>
        <p:nvSpPr>
          <p:cNvPr id="830" name="Rectangle 4">
            <a:hlinkClick r:id="rId2"/>
          </p:cNvPr>
          <p:cNvSpPr/>
          <p:nvPr/>
        </p:nvSpPr>
        <p:spPr>
          <a:xfrm>
            <a:off x="1835280" y="2492280"/>
            <a:ext cx="457200" cy="533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Rectangle 5">
            <a:hlinkClick r:id="rId3"/>
          </p:cNvPr>
          <p:cNvSpPr/>
          <p:nvPr/>
        </p:nvSpPr>
        <p:spPr>
          <a:xfrm>
            <a:off x="1835280" y="4365720"/>
            <a:ext cx="457200" cy="5000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Rectangle 6">
            <a:hlinkClick r:id="rId4"/>
          </p:cNvPr>
          <p:cNvSpPr/>
          <p:nvPr/>
        </p:nvSpPr>
        <p:spPr>
          <a:xfrm>
            <a:off x="1908000" y="3429000"/>
            <a:ext cx="457200" cy="5619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2"/>
          <p:cNvSpPr/>
          <p:nvPr/>
        </p:nvSpPr>
        <p:spPr>
          <a:xfrm>
            <a:off x="1258920" y="18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23640" y="333000"/>
            <a:ext cx="83739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人们的感觉总是可靠的吗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要对物体的某些情况进行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定量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的描述，必须采用科学的测量工具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温度计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时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天平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新魏"/>
              </a:rPr>
              <a:t>刻度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2"/>
          <p:cNvSpPr/>
          <p:nvPr/>
        </p:nvSpPr>
        <p:spPr>
          <a:xfrm>
            <a:off x="395280" y="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6" name="Picture 3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39120" cy="50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2"/>
          <p:cNvSpPr/>
          <p:nvPr/>
        </p:nvSpPr>
        <p:spPr>
          <a:xfrm>
            <a:off x="250920" y="18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8" name="Picture 3" descr=""/>
          <p:cNvPicPr/>
          <p:nvPr/>
        </p:nvPicPr>
        <p:blipFill>
          <a:blip r:embed="rId1"/>
          <a:srcRect l="0" t="0" r="0" b="-89"/>
          <a:stretch/>
        </p:blipFill>
        <p:spPr>
          <a:xfrm>
            <a:off x="611280" y="765000"/>
            <a:ext cx="7921440" cy="4873680"/>
          </a:xfrm>
          <a:prstGeom prst="rect">
            <a:avLst/>
          </a:prstGeom>
          <a:ln w="0">
            <a:noFill/>
          </a:ln>
        </p:spPr>
      </p:pic>
      <p:sp>
        <p:nvSpPr>
          <p:cNvPr id="839" name="文本框 8194"/>
          <p:cNvSpPr/>
          <p:nvPr/>
        </p:nvSpPr>
        <p:spPr>
          <a:xfrm>
            <a:off x="1584360" y="6108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2"/>
          <p:cNvSpPr/>
          <p:nvPr/>
        </p:nvSpPr>
        <p:spPr>
          <a:xfrm>
            <a:off x="179280" y="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五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550280" cy="456552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7"/>
          <p:cNvSpPr/>
          <p:nvPr/>
        </p:nvSpPr>
        <p:spPr>
          <a:xfrm>
            <a:off x="8101080" y="6093000"/>
            <a:ext cx="1042920" cy="76500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3" y="7493"/>
                </a:lnTo>
                <a:lnTo>
                  <a:pt x="11223" y="12828"/>
                </a:lnTo>
                <a:cubicBezTo>
                  <a:pt x="11223" y="13751"/>
                  <a:pt x="12024" y="14482"/>
                  <a:pt x="13059" y="14482"/>
                </a:cubicBezTo>
                <a:lnTo>
                  <a:pt x="14722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2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6" y="7493"/>
                </a:lnTo>
                <a:lnTo>
                  <a:pt x="20066" y="12828"/>
                </a:lnTo>
                <a:cubicBezTo>
                  <a:pt x="20066" y="15596"/>
                  <a:pt x="17490" y="18155"/>
                  <a:pt x="14722" y="18155"/>
                </a:cubicBezTo>
                <a:lnTo>
                  <a:pt x="13059" y="18155"/>
                </a:lnTo>
                <a:cubicBezTo>
                  <a:pt x="10292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2"/>
          <p:cNvSpPr/>
          <p:nvPr/>
        </p:nvSpPr>
        <p:spPr>
          <a:xfrm>
            <a:off x="304920" y="15238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测量某物体长度，测量结果分别是：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25.0cm,25.1cm,25.12cm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25.3cm,26.4c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测量结果中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据是不合理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据是不正确的，测量所使用刻度尺的分度度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1cm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物体的长度更接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25.1cm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3564000" y="26370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5.12c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324000" y="3213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6.4c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684360" y="54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</a:rPr>
              <a:t>练习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A678-EA90-4B80-8ACC-38417E8CA9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一把学生的三角尺，测得一个物体的高度，共得五组数据如下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4.57cm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4.56cm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4.44cm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 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4.58cm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4.59cm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中有问题的数据是哪个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该物体高度比较正确的值应为多大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900000" y="620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题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国际单位制（</a:t>
            </a:r>
            <a:r>
              <a:rPr b="1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SI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单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测量某个物理量时用来进行比较的标准量叫做单位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国际单位制（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SI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国际统一的单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二、长度的测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07640" y="1341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长度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长度的单位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国际单位制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，基本单位是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符号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还有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千米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km)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分米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dm)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厘米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cm)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毫米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mm)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微米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</a:t>
            </a:r>
            <a:r>
              <a:rPr b="1" lang="el-GR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μ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m)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，纳米</a:t>
            </a:r>
            <a:r>
              <a:rPr b="1" lang="en-US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(nm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250920" y="333360"/>
            <a:ext cx="489744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同米的关系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468360" y="1996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米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468360" y="134136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468360" y="26067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500040" y="3292560"/>
            <a:ext cx="63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米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0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468360" y="3978360"/>
            <a:ext cx="71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米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μ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0000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4" name="Picture 8" descr=""/>
          <p:cNvPicPr/>
          <p:nvPr/>
        </p:nvPicPr>
        <p:blipFill>
          <a:blip r:embed="rId1"/>
          <a:stretch/>
        </p:blipFill>
        <p:spPr>
          <a:xfrm>
            <a:off x="7020000" y="2781360"/>
            <a:ext cx="1550880" cy="2333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9" descr=""/>
          <p:cNvPicPr/>
          <p:nvPr/>
        </p:nvPicPr>
        <p:blipFill>
          <a:blip r:embed="rId2"/>
          <a:stretch/>
        </p:blipFill>
        <p:spPr>
          <a:xfrm>
            <a:off x="6934320" y="2666880"/>
            <a:ext cx="1807920" cy="2286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3"/>
          <a:stretch/>
        </p:blipFill>
        <p:spPr>
          <a:xfrm>
            <a:off x="7238880" y="3200400"/>
            <a:ext cx="1322640" cy="26668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4"/>
          <a:stretch/>
        </p:blipFill>
        <p:spPr>
          <a:xfrm>
            <a:off x="6934320" y="4419720"/>
            <a:ext cx="2209680" cy="13302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2"/>
          <p:cNvSpPr/>
          <p:nvPr/>
        </p:nvSpPr>
        <p:spPr>
          <a:xfrm>
            <a:off x="49320" y="5303880"/>
            <a:ext cx="909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小资料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88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年规定：光在真空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9979248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分之一秒内通过的长度定义为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574920" y="4533840"/>
            <a:ext cx="68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纳米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m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0.00000000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4" descr="029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5"/>
          <p:cNvSpPr/>
          <p:nvPr/>
        </p:nvSpPr>
        <p:spPr>
          <a:xfrm>
            <a:off x="2251080" y="29844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长度的测量工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250920" y="1341360"/>
            <a:ext cx="4897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(1)</a:t>
            </a:r>
            <a:r>
              <a:rPr b="1" lang="zh-CN" sz="40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正确选择刻度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测量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需要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合适的刻度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估测，然后选择量程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284720" cy="496872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4"/>
          <p:cNvSpPr/>
          <p:nvPr/>
        </p:nvSpPr>
        <p:spPr>
          <a:xfrm>
            <a:off x="468360" y="404640"/>
            <a:ext cx="640872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3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、刻度尺的使用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395280" y="4762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(2)</a:t>
            </a:r>
            <a:r>
              <a:rPr b="1" lang="zh-CN" sz="4000" spc="-1" strike="noStrike" u="sng">
                <a:solidFill>
                  <a:srgbClr val="cc0000"/>
                </a:solidFill>
                <a:uFillTx/>
                <a:latin typeface="华文新魏"/>
                <a:ea typeface="华文新魏"/>
              </a:rPr>
              <a:t>正确观察刻度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刻度尺的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零刻度线、量程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和</a:t>
            </a:r>
            <a:r>
              <a:rPr b="1" lang="zh-CN" sz="4000" spc="-1" strike="noStrike">
                <a:solidFill>
                  <a:srgbClr val="cc0000"/>
                </a:solidFill>
                <a:latin typeface="华文新魏"/>
                <a:ea typeface="华文新魏"/>
              </a:rPr>
              <a:t>分度值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3"/>
          <p:cNvGrpSpPr/>
          <p:nvPr/>
        </p:nvGrpSpPr>
        <p:grpSpPr>
          <a:xfrm>
            <a:off x="611280" y="2924280"/>
            <a:ext cx="7617960" cy="2472840"/>
            <a:chOff x="611280" y="2924280"/>
            <a:chExt cx="7617960" cy="2472840"/>
          </a:xfrm>
        </p:grpSpPr>
        <p:pic>
          <p:nvPicPr>
            <p:cNvPr id="677" name="Picture 4" descr=""/>
            <p:cNvPicPr/>
            <p:nvPr/>
          </p:nvPicPr>
          <p:blipFill>
            <a:blip r:embed="rId1"/>
            <a:stretch/>
          </p:blipFill>
          <p:spPr>
            <a:xfrm>
              <a:off x="611280" y="2924280"/>
              <a:ext cx="3741480" cy="24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5" descr=""/>
            <p:cNvPicPr/>
            <p:nvPr/>
          </p:nvPicPr>
          <p:blipFill>
            <a:blip r:embed="rId2"/>
            <a:srcRect l="0" t="0" r="0" b="-157"/>
            <a:stretch/>
          </p:blipFill>
          <p:spPr>
            <a:xfrm>
              <a:off x="4196160" y="2941920"/>
              <a:ext cx="4033080" cy="2390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2:37:2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5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8e0a0000000000010250600207f7000400038000</vt:lpwstr>
  </property>
</Properties>
</file>