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46F-A841-4F7A-BEC8-9F078A12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1F2-AFCD-452C-ADBE-7D04AF87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02526-8719-43F0-8085-A0FADADE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06433-D1C1-466C-B2AD-42A37FCE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50734-753A-4979-BD24-76119FC2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61A8E-2577-463A-8C73-99578BFF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AAFEB-1B16-4814-9E19-9BFF46E4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B8309-467F-4194-B42E-F268ED6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A9F0E-77BD-48DB-B658-0F13A491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1DCE6-895B-402C-8C74-BFFC74B7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90369-FB2F-4483-BCE9-E894567F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C66B5-B47D-4F5D-B999-F703C39D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788-DDA8-4CD3-BA1C-D5678844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E9BC1-7585-48B6-9BA1-E1CAE7A5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F9937-77CF-4742-9B8E-612125E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C32A1-3E66-488B-BFF5-C8606BDB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3E386-AB71-404B-A788-1B3589C5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27C3B-3804-4726-97D7-561E56D3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0EE95-81A3-4740-8E61-C7F86BA1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A9B42-7282-4E39-B1FB-47511D87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7CE6B-0403-46B1-BBFD-FF93430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0CE18-0248-4690-AD27-1ADB011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DDBAF-49E0-4BF1-B4FC-916F236B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8E0-68D5-44BF-A87D-688970C9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08884-BE6F-4DDF-A25C-A2D7625E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28661-433C-4B4F-8CD8-14208F80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FDC33-0CA4-4A37-A5C5-5E3BCED5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C2040-908F-4387-9DAC-C57C5552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9E083-9F70-4DED-9DCB-5302A791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5C321-7461-49FB-80FA-2FF9313C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87180-B394-4EF2-9206-562C07BC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EF667-6D51-40A2-8057-18632B9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87853-38E4-4D1A-AE36-1746177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8AF2A-EFAC-44ED-866C-D6F4FB5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C71E-B45B-4675-A103-2EE2ED2A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27C70-7E89-4BA7-B826-B7C75B29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AB158-35D8-4DC6-8C9B-BB8E3B1A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0319F-1A89-4F01-879C-43142A3A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D396D-664A-4E38-910E-853A59F6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9A4EF-1AA7-46E5-B33F-89A9672B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6A436-8655-4F5D-9A54-1FFDAFDD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4DE72-C2D9-447E-9A6E-CA7A8480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3F33E-6B86-4C72-9A0B-DBF232B2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3039E-BF59-42C9-B93F-C0FFD867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C7FA8-8E38-407E-A871-EE2BA065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D17D-52F6-4B21-86F5-76CBEB74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78DD5-A1DB-43AB-A897-D15AFDC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CCB6E-5A8B-4E56-B8CA-367A147E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41712-AC24-4AD2-9F34-1B1884C8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D8E6F-67AF-438E-8226-DF25E61D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E705C-40A2-4890-AB4A-8A4B1BD6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D0B2C-65D9-4B0E-9BBF-2719A1D8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DCB24-9B21-4E35-BE05-D2B4BE29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CDFBE-94C8-4A47-AF8F-44B1AD8E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7AD5C-74F6-4576-B2F8-D02ED19D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D0B0E-73AF-4081-ABE2-3550BD8B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8357-860F-4B36-8B44-73C45A71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70DED-DB7E-4747-8161-7B95794F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5F4B9-E64F-4521-B865-FFF8C88A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090CE-E28F-4F35-8776-75D6841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AB645-1945-4B09-9D07-CEBA2426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82221-10D1-4B78-935D-ECDD3824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6A43A-F0B4-41AE-97E3-2C86E73A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3321A-D5EE-4B3C-8574-2057AEFE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BC615-0C49-4D42-B7EA-B572A45F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530E3-6A8A-480D-86CD-9EEA9851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82DE3-6461-4ED8-BDFB-0FDBB8B2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C012-A014-4D30-BFF4-A80FF633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04A4E-A7DB-4CD7-9565-5703A39C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CAD92-0A1B-4C56-9ABC-A2962919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3EFF7-7E15-4D08-AE10-8FB3BFCA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BA77B-D417-4B62-9BB6-B5D6FE9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B59C4-20AD-4B40-AE62-17ED88C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5D9B8-03E4-4028-B112-713F534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1DE06-0F82-4E27-8EFB-2CD94E53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421CE-071E-4190-B41F-8169F213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4DDD8-0260-4BCF-95A0-3C702394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8B3EA-71C6-4DC5-9767-927BA3BD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73A5-7BEB-46EC-8B0C-1AEC9504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18285-8AF5-4112-A792-1748666D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78F9F-3093-4BFC-AE00-77534439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7E789-F421-45ED-8D5B-494ABC0E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58B5F-11C5-4BFA-9900-36D4748E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FF396-E5A6-4222-BC15-69E2A00D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F69E6-3A37-46F5-853D-46E1485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6E631-96CD-4BF9-8217-7367D739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EF9A5-1000-4FDF-8A4D-C416074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31EAF-79DE-4B77-AF1B-C67B41D7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0B0D17-2E13-4845-B5EF-088920F0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967A-3323-49A6-A3A2-96FE22F2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A3794-F5B4-472C-8D58-D6EC7548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E81B-FF78-4342-B655-40A4986D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BC2-1050-4A85-9C06-BE114CE6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47F3-897A-41FF-B0D0-694DF97F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35EE-532A-4F3C-B0FC-603214C1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61F8-4B86-43BD-B298-D2F3282E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1645-F3CA-419C-AA60-C556AD93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DFF3-E137-4EAC-84AB-15FBDCA5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D4B2-1D7B-41D9-9E25-E4F1569B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E838-80E3-41A4-BD02-72C3C4BD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B4BD-7E63-4838-9A5A-138B408E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F224-54EB-4D11-A1A9-AE10083C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E7B5-4022-421A-9E99-28D14C15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82E-440B-4EF0-9D4F-C9C9A258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6D575-1024-4882-B242-E6439898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CA3D-DA97-4A74-8D01-8358C258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1157-BE11-4441-8600-3ED1508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5949-FC69-449A-A6FE-8F193010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20DC-54E8-4397-BD2B-0F2870E9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B18C-4E2C-46E5-80C4-E5396B88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B8C9-36B0-423E-A0EB-0C990CB8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7BF3-9BF5-4261-BFFA-3265CF94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595B4-36A5-4169-8585-8F369AB6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F1818-F449-4462-A8F7-08071ACC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F8D-D06F-4F96-B8B0-9EEFC846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D177-61C3-4006-A08D-B3606AB1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55A2-F29B-41B7-983A-4E6FEA69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4917-232F-46F5-89C1-A49418B4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04E3-CF09-4EDA-A304-E184B065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57C3-A737-4845-AF09-31CEE949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03C2-07D4-44F4-A97A-75FC1D2B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07F0-AECC-4B9A-AEC6-2CEB3747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5CC2-DCB1-44D6-A4FB-FB528077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041A-5DCE-4B35-82B3-9E4B4397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2348-D37B-455B-A107-03BA471E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78A-2918-4C04-9577-EDB600DE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947D-1A0A-4FE3-B086-F802F57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A5ECA-0A59-4071-AB9B-814330F1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BE655-0C66-4814-9D35-04CAA23C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4CF2F-BAB0-4994-BDA9-41CC7856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588A8-A37F-4ABD-9107-D8EF7126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1E6E-4C6D-422F-A154-DA486F5A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C8F1-ADF9-4C96-86CF-2894C2DE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8F96-E366-4E10-9633-FDD3AE72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FB7D4-D11C-45E5-B893-72860E00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1EB73-1394-4D35-87ED-4921F48B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E1A-D0F3-4360-9132-2E46CEC3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1079E-BD14-49F5-B15B-73763ECC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6B41-B702-4D8C-9DE6-8480F9B3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277F7-DDD9-4765-B424-DC792C9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ECC94-ED29-40F3-B36C-78AA2CF7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82B15-A649-4C9A-AF98-37219057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0DFB-293E-4819-91A1-DB22EF6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1C023-13C3-4B35-9655-78AB911C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C7345-0258-48DF-8CB9-C53BB296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78850-1782-4B58-B970-2F97329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EBF0C-3E69-4925-882A-ADF5F1DE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536-FA74-43BC-BDEC-D120FC66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EF0E3-82C3-4A75-9644-66865C70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F369F-17B6-4B61-A3AB-74783D60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92EA3-3D2B-498D-A919-F798DC7F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987F-08D4-421D-BE6B-6C101A3E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E51A5-A9C5-4F3E-889B-8B91BFCB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6C71-CFA5-4D7D-B3F2-2F0EDEC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C701D-ED32-4686-A10B-CD94F3A8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6EC6-6039-4CED-9AD0-1C9F86C0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78571-DDBC-49B3-80DC-9A36745F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A0F19-D610-4D23-86E6-7C8D282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0F8-0431-4FCB-BB73-DCCA76A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BBE4A-E517-4647-825A-63F617C0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EAD9-AC5C-4ED4-9E4D-DA9F9E4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702F9-4EAD-432E-86E3-A46BAC3D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A085-8C47-4E79-A95F-ECBD75BE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6D75E-2DF1-4ECA-A6B1-842CF988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7F7E0-1CDD-4B9B-AD39-3B7A7A04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F0338-6C85-4C28-A804-FCD3CDD6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2DFFC-0DC7-4C4F-818F-DECDF83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399F-B742-4CB2-96E2-99361CBF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A3590-F05C-4C38-9E96-E2502727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B28-8344-43BE-9512-B90F2684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089F2-8A14-4CE2-8797-C3160985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E238E-ED23-422F-A657-3C8AE284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42408-07B9-43DB-AA2A-E42276A6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F67FB-9EB1-42C0-9683-FF867C61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F19A7-B378-4EF7-9662-C5740820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B09AA-3BEC-49C2-9892-99F8D827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4ABC1-D9C5-4E73-BE4B-F8992860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D9749-AB7E-40A8-913F-30BD22A9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BA45E-71FF-4288-A408-3694A03B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5BACA-D79E-46CA-ACD3-E7CA284F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455B-9B2B-46F1-AEEA-FA0D748948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15C8-DB50-4507-9040-245976FA5CD5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1321-0CC6-47DB-A6DE-8356E2E95564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8EBD-6E99-452C-8D59-3B28D53629F7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8D9-F5E1-47AB-85F6-F86DBDDF9ACA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666D-15E3-477B-84BA-9068889D2F04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759000" y="6409800"/>
            <a:ext cx="1454760" cy="2584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CB89-4FD3-47CC-A70E-FF013D9757D2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FBCD-441C-471A-B3F3-E88B39EEC110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E449-48B5-4472-A403-6712EBFA7C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8267-7ED4-4794-8F24-54686F4AC43A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3920-A7CE-4495-9395-315B5D54C5DA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76B5-1A44-4458-8736-E2D771E750B9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58F2-19CE-49FA-9F33-50812CB58D67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C5CB-F3AC-4B96-BE6B-0A500E410D0D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D8FF-1A17-4792-A55C-B7470CD94EE1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鱼米之乡”——长江三角洲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3" name="矩形 1"/>
          <p:cNvSpPr/>
          <p:nvPr/>
        </p:nvSpPr>
        <p:spPr>
          <a:xfrm>
            <a:off x="3335760" y="6094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七章　南方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5" descr=""/>
          <p:cNvPicPr/>
          <p:nvPr/>
        </p:nvPicPr>
        <p:blipFill>
          <a:blip r:embed="rId2"/>
          <a:stretch/>
        </p:blipFill>
        <p:spPr>
          <a:xfrm>
            <a:off x="685800" y="3222720"/>
            <a:ext cx="2735280" cy="2739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6" descr=""/>
          <p:cNvPicPr/>
          <p:nvPr/>
        </p:nvPicPr>
        <p:blipFill>
          <a:blip r:embed="rId3"/>
          <a:stretch/>
        </p:blipFill>
        <p:spPr>
          <a:xfrm>
            <a:off x="3675240" y="3222720"/>
            <a:ext cx="4887720" cy="27478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1"/>
          <p:cNvSpPr/>
          <p:nvPr/>
        </p:nvSpPr>
        <p:spPr>
          <a:xfrm>
            <a:off x="2015640" y="3816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长江三角洲课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活动：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228600" y="10666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长江三角洲地区位于长江的下游地区。以长江地区为例，补充并归纳河流对区域发展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问号"/>
          <p:cNvPicPr/>
          <p:nvPr/>
        </p:nvPicPr>
        <p:blipFill>
          <a:blip r:embed="rId1"/>
          <a:stretch/>
        </p:blipFill>
        <p:spPr>
          <a:xfrm>
            <a:off x="6359400" y="0"/>
            <a:ext cx="2784600" cy="304812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5"/>
          <p:cNvSpPr/>
          <p:nvPr/>
        </p:nvSpPr>
        <p:spPr>
          <a:xfrm>
            <a:off x="228600" y="1905120"/>
            <a:ext cx="617220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河流为长江三角洲地区提供灌溉水源，有利于农业的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228600" y="3200400"/>
            <a:ext cx="693432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河流为长江三角洲地区提供便利的水路交通，有利于其对外联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" descr="图片1"/>
          <p:cNvPicPr/>
          <p:nvPr/>
        </p:nvPicPr>
        <p:blipFill>
          <a:blip r:embed="rId2"/>
          <a:stretch/>
        </p:blipFill>
        <p:spPr>
          <a:xfrm>
            <a:off x="838080" y="4154400"/>
            <a:ext cx="63248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捕鱼图"/>
          <p:cNvPicPr/>
          <p:nvPr/>
        </p:nvPicPr>
        <p:blipFill>
          <a:blip r:embed="rId1"/>
          <a:stretch/>
        </p:blipFill>
        <p:spPr>
          <a:xfrm>
            <a:off x="0" y="0"/>
            <a:ext cx="4952880" cy="28638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t洗菜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2887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三峡"/>
          <p:cNvPicPr/>
          <p:nvPr/>
        </p:nvPicPr>
        <p:blipFill>
          <a:blip r:embed="rId3"/>
          <a:stretch/>
        </p:blipFill>
        <p:spPr>
          <a:xfrm>
            <a:off x="0" y="3429000"/>
            <a:ext cx="4800600" cy="342900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5"/>
          <p:cNvSpPr/>
          <p:nvPr/>
        </p:nvSpPr>
        <p:spPr>
          <a:xfrm>
            <a:off x="1600200" y="2895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淡水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5562720" y="28195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产、生活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1447920" y="3429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旅游景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8" descr="东方明珠"/>
          <p:cNvPicPr/>
          <p:nvPr/>
        </p:nvPicPr>
        <p:blipFill>
          <a:blip r:embed="rId4"/>
          <a:stretch/>
        </p:blipFill>
        <p:spPr>
          <a:xfrm>
            <a:off x="4800600" y="34290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9"/>
          <p:cNvSpPr/>
          <p:nvPr/>
        </p:nvSpPr>
        <p:spPr>
          <a:xfrm>
            <a:off x="6095880" y="3429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筑用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8198"/>
          <p:cNvSpPr/>
          <p:nvPr/>
        </p:nvSpPr>
        <p:spPr>
          <a:xfrm>
            <a:off x="2703600" y="2987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洪涝"/>
          <p:cNvPicPr/>
          <p:nvPr/>
        </p:nvPicPr>
        <p:blipFill>
          <a:blip r:embed="rId1"/>
          <a:stretch/>
        </p:blipFill>
        <p:spPr>
          <a:xfrm>
            <a:off x="304920" y="15238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" descr="黄浦江死猪"/>
          <p:cNvPicPr/>
          <p:nvPr/>
        </p:nvPicPr>
        <p:blipFill>
          <a:blip r:embed="rId2"/>
          <a:stretch/>
        </p:blipFill>
        <p:spPr>
          <a:xfrm>
            <a:off x="5334120" y="609480"/>
            <a:ext cx="3638520" cy="266724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4"/>
          <p:cNvSpPr/>
          <p:nvPr/>
        </p:nvSpPr>
        <p:spPr>
          <a:xfrm>
            <a:off x="609480" y="304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990720" y="47242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洪涝灾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5867280" y="3352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黄浦江死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304920" y="22860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、成都平原位于长江的上游地区。阅读下面的图文资料，认识岷江对成都平原发展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1 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）说说岷江对成都平原农业发展的利和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）说说都江堰对成都平原农业发展的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3" descr="2CLMJDUJI_NHQK_J2E9$N]J"/>
          <p:cNvPicPr/>
          <p:nvPr/>
        </p:nvPicPr>
        <p:blipFill>
          <a:blip r:embed="rId1"/>
          <a:stretch/>
        </p:blipFill>
        <p:spPr>
          <a:xfrm>
            <a:off x="762120" y="1822320"/>
            <a:ext cx="72388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3"/>
          <p:cNvSpPr/>
          <p:nvPr/>
        </p:nvSpPr>
        <p:spPr>
          <a:xfrm>
            <a:off x="304920" y="60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都江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1523880" y="533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6464"/>
                </a:solidFill>
                <a:latin typeface="Arial"/>
                <a:ea typeface="宋体"/>
              </a:rPr>
              <a:t>成都平原主要由岷江及其支流冲积而成，像一把扇子平铺在四川盆地的西部，地势由西北向东南倾斜。都江堰水利工程修于战国时期，有效的控制了岷江进入成都平原的灌溉水量，使岷江沿岸地区既有便利的水源，又免受水患灾害。由此成都平原成为“天府之国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184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457200" y="3049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）说说岷江对成都平原农业发展的利和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3736080" y="27432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）说说都江堰对成都平原农业发展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1447920" y="3505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都江堰水利工程修于战国时期，有效的控制了岷江进入成都平原的灌溉水量，使岷江沿岸地区既有便利的水源，又免受水患灾害。由此成都平原成为“天府之国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1143000" y="11430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：提供便利的水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弊：丰水期易造成洪涝灾害，淹没大片农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990720" y="1064520"/>
            <a:ext cx="8153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）位置：</a:t>
            </a: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长江的下游地区，濒临黄海，地处江海交汇之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范围：</a:t>
            </a: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上海市、江苏省南部、浙江省北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               </a:t>
            </a:r>
            <a:r>
              <a:rPr b="1" lang="zh-CN" sz="3200" spc="-1" strike="noStrike">
                <a:solidFill>
                  <a:srgbClr val="9b2d1f"/>
                </a:solidFill>
                <a:latin typeface="Arial"/>
                <a:ea typeface="宋体"/>
              </a:rPr>
              <a:t>气候：</a:t>
            </a: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亚热带季风气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1066680" y="4495680"/>
            <a:ext cx="496908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）得天独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自然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"/>
          <p:cNvSpPr/>
          <p:nvPr/>
        </p:nvSpPr>
        <p:spPr>
          <a:xfrm>
            <a:off x="838080" y="1676520"/>
            <a:ext cx="360360" cy="36576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52280" y="152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知识脉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-453240" y="1905120"/>
            <a:ext cx="1399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江海交汇之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914400" y="3048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）鱼米之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3809880" y="251460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"/>
          <p:cNvSpPr/>
          <p:nvPr/>
        </p:nvSpPr>
        <p:spPr>
          <a:xfrm>
            <a:off x="3733920" y="3048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大部分地区地势低平，河网密布，湖泊星罗，自古以来就是我国著名的“鱼米之乡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4267080" y="4419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依托长江干支流发达的水运，可以联系广大的内陆地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同时又是我国南北海上航运的中枢，并通过远洋航线通往世界的主要港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WordArt 2"/>
          <p:cNvSpPr txBox="1"/>
          <p:nvPr/>
        </p:nvSpPr>
        <p:spPr>
          <a:xfrm>
            <a:off x="304920" y="3049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练习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46" name="Picture 3" descr="01300000053621120408972555088"/>
          <p:cNvPicPr/>
          <p:nvPr/>
        </p:nvPicPr>
        <p:blipFill>
          <a:blip r:embed="rId1"/>
          <a:stretch/>
        </p:blipFill>
        <p:spPr>
          <a:xfrm>
            <a:off x="1066680" y="1828800"/>
            <a:ext cx="905040" cy="9525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4" descr="1"/>
          <p:cNvPicPr/>
          <p:nvPr/>
        </p:nvPicPr>
        <p:blipFill>
          <a:blip r:embed="rId2"/>
          <a:stretch/>
        </p:blipFill>
        <p:spPr>
          <a:xfrm>
            <a:off x="2286000" y="1600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5" descr="0"/>
          <p:cNvPicPr/>
          <p:nvPr/>
        </p:nvPicPr>
        <p:blipFill>
          <a:blip r:embed="rId3"/>
          <a:stretch/>
        </p:blipFill>
        <p:spPr>
          <a:xfrm>
            <a:off x="5410080" y="175248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" descr="8zwy"/>
          <p:cNvPicPr/>
          <p:nvPr/>
        </p:nvPicPr>
        <p:blipFill>
          <a:blip r:embed="rId4"/>
          <a:stretch/>
        </p:blipFill>
        <p:spPr>
          <a:xfrm>
            <a:off x="3809880" y="175248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7"/>
          <p:cNvSpPr/>
          <p:nvPr/>
        </p:nvSpPr>
        <p:spPr>
          <a:xfrm>
            <a:off x="3330000" y="920160"/>
            <a:ext cx="147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下列图片哪一张是上海世博会的吉祥物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2514600" y="2666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4330080" y="266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"/>
          <p:cNvSpPr/>
          <p:nvPr/>
        </p:nvSpPr>
        <p:spPr>
          <a:xfrm>
            <a:off x="5842440" y="26661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1"/>
          <p:cNvSpPr/>
          <p:nvPr/>
        </p:nvSpPr>
        <p:spPr>
          <a:xfrm>
            <a:off x="533520" y="3048840"/>
            <a:ext cx="78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长江三角洲是驰名中外的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温带水果之乡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鱼米之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亚热带动物王国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革命旅游胜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长江三角洲地区地形的特征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地表支离破碎，沟壑纵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地面平坦广阔，一望无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地势低平，湖泊河网密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地形以丘陵为主，平均海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米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2"/>
          <p:cNvSpPr/>
          <p:nvPr/>
        </p:nvSpPr>
        <p:spPr>
          <a:xfrm>
            <a:off x="1371600" y="26668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7241040" y="91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54100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6095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152280" y="3808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长江三角洲地区属于 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热带季风气候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亚热带季风气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温带季风气候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温带海洋性气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长江三角洲地区民居墙体高、房顶坡度大是为了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风防潮、利干排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于拆迁，适合游牧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寒保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房顶坡度大是为了防止冬天积雪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 我国长江以南地区与阿拉伯半岛纬度大致相同为什么我国江南是“鱼米之乡”，而阿拉伯半岛水资源匮乏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形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海陆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洋流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纬度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9625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746748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670572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198"/>
          <p:cNvSpPr/>
          <p:nvPr/>
        </p:nvSpPr>
        <p:spPr>
          <a:xfrm>
            <a:off x="3135240" y="51688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"/>
          <p:cNvSpPr/>
          <p:nvPr/>
        </p:nvSpPr>
        <p:spPr>
          <a:xfrm>
            <a:off x="533520" y="13356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于长江三角洲地区范围的描述正确的是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主要包括上海市、福建省的北部及浙江的东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主要包括浙江省、杭州湾、舟山群岛以及江苏省东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主要包括上海市、江苏省南部和浙江省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主要包括上海市、江苏省中部与南部及安徽省东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铁路不在长江三角洲地区的是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沪杭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京九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京沪高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6705720" y="609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5943600" y="38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学习目标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Perpetua"/>
              </a:rPr>
              <a:t>、利用地图说明长江三角洲的位置、范围，并会分析该地区的地形、气候和便利的水运条件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Perpetua"/>
              </a:rPr>
              <a:t>、以长江三角洲地区和成都平原为例，认识河流对区域发展的影响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0" y="228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临沂的小明同学来到“鱼米之乡”看到的景观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1"/>
          <p:cNvPicPr/>
          <p:nvPr/>
        </p:nvPicPr>
        <p:blipFill>
          <a:blip r:embed="rId1"/>
          <a:stretch/>
        </p:blipFill>
        <p:spPr>
          <a:xfrm>
            <a:off x="609480" y="83808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40"/>
          <p:cNvPicPr/>
          <p:nvPr/>
        </p:nvPicPr>
        <p:blipFill>
          <a:blip r:embed="rId2"/>
          <a:stretch/>
        </p:blipFill>
        <p:spPr>
          <a:xfrm>
            <a:off x="4648320" y="838080"/>
            <a:ext cx="3352680" cy="2229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周庄"/>
          <p:cNvPicPr/>
          <p:nvPr/>
        </p:nvPicPr>
        <p:blipFill>
          <a:blip r:embed="rId3"/>
          <a:stretch/>
        </p:blipFill>
        <p:spPr>
          <a:xfrm>
            <a:off x="609480" y="3809880"/>
            <a:ext cx="3353040" cy="24796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3"/>
          <p:cNvPicPr/>
          <p:nvPr/>
        </p:nvPicPr>
        <p:blipFill>
          <a:blip r:embed="rId4"/>
          <a:stretch/>
        </p:blipFill>
        <p:spPr>
          <a:xfrm>
            <a:off x="4572000" y="3733920"/>
            <a:ext cx="3505320" cy="25905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7"/>
          <p:cNvSpPr/>
          <p:nvPr/>
        </p:nvSpPr>
        <p:spPr>
          <a:xfrm>
            <a:off x="2133720" y="30481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8"/>
          <p:cNvSpPr/>
          <p:nvPr/>
        </p:nvSpPr>
        <p:spPr>
          <a:xfrm>
            <a:off x="601992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2057400" y="6172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6095880" y="6338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1"/>
          <p:cNvSpPr/>
          <p:nvPr/>
        </p:nvSpPr>
        <p:spPr>
          <a:xfrm>
            <a:off x="8077320" y="228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ACC5-389D-44F5-8F0B-9F44B635AC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228600" y="915120"/>
            <a:ext cx="426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读“长江三角洲地区分布图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回答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填出图中的地理事物的名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A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海，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B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C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运河，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D______ (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河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该地区的以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气候为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气候特点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_________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5029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地区地形以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我国重要的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产区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粮食作物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由于这里河湖众多，也是我国重要的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产区。因而本区有“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美誉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6094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9051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53352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京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1981080" y="2286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长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190512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亚热带季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1143000" y="3124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夏季高温多雨，冬季温和湿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2895480" y="5029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1752480" y="525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水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22860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淡水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31240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鱼米之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152280" y="358128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铁路干线名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EF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FG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15" descr="图片1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27372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16"/>
          <p:cNvSpPr/>
          <p:nvPr/>
        </p:nvSpPr>
        <p:spPr>
          <a:xfrm>
            <a:off x="12952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京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95280" y="4343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沪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印象鱼米之乡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61" name="Picture 3" descr="油菜田"/>
          <p:cNvPicPr/>
          <p:nvPr/>
        </p:nvPicPr>
        <p:blipFill>
          <a:blip r:embed="rId1"/>
          <a:stretch/>
        </p:blipFill>
        <p:spPr>
          <a:xfrm>
            <a:off x="304920" y="8380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272152_095811011653_2"/>
          <p:cNvPicPr/>
          <p:nvPr/>
        </p:nvPicPr>
        <p:blipFill>
          <a:blip r:embed="rId2"/>
          <a:stretch/>
        </p:blipFill>
        <p:spPr>
          <a:xfrm>
            <a:off x="4343400" y="3809880"/>
            <a:ext cx="4038480" cy="28018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京杭运河"/>
          <p:cNvPicPr/>
          <p:nvPr/>
        </p:nvPicPr>
        <p:blipFill>
          <a:blip r:embed="rId3"/>
          <a:stretch/>
        </p:blipFill>
        <p:spPr>
          <a:xfrm>
            <a:off x="4267080" y="838080"/>
            <a:ext cx="4038840" cy="2892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挖藕图"/>
          <p:cNvPicPr/>
          <p:nvPr/>
        </p:nvPicPr>
        <p:blipFill>
          <a:blip r:embed="rId4"/>
          <a:stretch/>
        </p:blipFill>
        <p:spPr>
          <a:xfrm>
            <a:off x="228600" y="38862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一、江海交汇之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66" name="Picture 3" descr="范围"/>
          <p:cNvPicPr/>
          <p:nvPr/>
        </p:nvPicPr>
        <p:blipFill>
          <a:blip r:embed="rId1"/>
          <a:stretch/>
        </p:blipFill>
        <p:spPr>
          <a:xfrm>
            <a:off x="3319560" y="1219320"/>
            <a:ext cx="5638680" cy="5562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4"/>
          <p:cNvSpPr/>
          <p:nvPr/>
        </p:nvSpPr>
        <p:spPr>
          <a:xfrm>
            <a:off x="457200" y="16765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范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609480" y="2666880"/>
            <a:ext cx="3505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市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省南部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省北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8580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8580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江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6858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浙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长江沿江地带的地形"/>
          <p:cNvPicPr/>
          <p:nvPr/>
        </p:nvPicPr>
        <p:blipFill>
          <a:blip r:embed="rId1"/>
          <a:stretch/>
        </p:blipFill>
        <p:spPr>
          <a:xfrm>
            <a:off x="304920" y="828720"/>
            <a:ext cx="8839080" cy="550548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533520" y="2286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"/>
          <p:cNvSpPr/>
          <p:nvPr/>
        </p:nvSpPr>
        <p:spPr>
          <a:xfrm>
            <a:off x="7315200" y="3124080"/>
            <a:ext cx="971640" cy="1295640"/>
          </a:xfrm>
          <a:custGeom>
            <a:avLst/>
            <a:gdLst/>
            <a:ahLst/>
            <a:rect l="l" t="t" r="r" b="b"/>
            <a:pathLst>
              <a:path w="612" h="816">
                <a:moveTo>
                  <a:pt x="612" y="792"/>
                </a:moveTo>
                <a:cubicBezTo>
                  <a:pt x="568" y="726"/>
                  <a:pt x="564" y="708"/>
                  <a:pt x="492" y="684"/>
                </a:cubicBezTo>
                <a:cubicBezTo>
                  <a:pt x="460" y="688"/>
                  <a:pt x="428" y="692"/>
                  <a:pt x="396" y="696"/>
                </a:cubicBezTo>
                <a:cubicBezTo>
                  <a:pt x="340" y="704"/>
                  <a:pt x="228" y="720"/>
                  <a:pt x="228" y="720"/>
                </a:cubicBezTo>
                <a:cubicBezTo>
                  <a:pt x="199" y="730"/>
                  <a:pt x="179" y="733"/>
                  <a:pt x="156" y="756"/>
                </a:cubicBezTo>
                <a:cubicBezTo>
                  <a:pt x="146" y="766"/>
                  <a:pt x="143" y="783"/>
                  <a:pt x="132" y="792"/>
                </a:cubicBezTo>
                <a:cubicBezTo>
                  <a:pt x="118" y="803"/>
                  <a:pt x="100" y="808"/>
                  <a:pt x="84" y="816"/>
                </a:cubicBezTo>
                <a:cubicBezTo>
                  <a:pt x="30" y="735"/>
                  <a:pt x="27" y="769"/>
                  <a:pt x="48" y="696"/>
                </a:cubicBezTo>
                <a:cubicBezTo>
                  <a:pt x="51" y="684"/>
                  <a:pt x="51" y="669"/>
                  <a:pt x="60" y="660"/>
                </a:cubicBezTo>
                <a:cubicBezTo>
                  <a:pt x="80" y="640"/>
                  <a:pt x="132" y="612"/>
                  <a:pt x="132" y="612"/>
                </a:cubicBezTo>
                <a:cubicBezTo>
                  <a:pt x="149" y="561"/>
                  <a:pt x="177" y="555"/>
                  <a:pt x="216" y="516"/>
                </a:cubicBezTo>
                <a:cubicBezTo>
                  <a:pt x="212" y="456"/>
                  <a:pt x="218" y="395"/>
                  <a:pt x="204" y="336"/>
                </a:cubicBezTo>
                <a:cubicBezTo>
                  <a:pt x="195" y="298"/>
                  <a:pt x="96" y="288"/>
                  <a:pt x="96" y="288"/>
                </a:cubicBezTo>
                <a:cubicBezTo>
                  <a:pt x="84" y="276"/>
                  <a:pt x="69" y="266"/>
                  <a:pt x="60" y="252"/>
                </a:cubicBezTo>
                <a:cubicBezTo>
                  <a:pt x="0" y="161"/>
                  <a:pt x="87" y="141"/>
                  <a:pt x="144" y="120"/>
                </a:cubicBezTo>
                <a:cubicBezTo>
                  <a:pt x="161" y="114"/>
                  <a:pt x="176" y="103"/>
                  <a:pt x="192" y="96"/>
                </a:cubicBezTo>
                <a:cubicBezTo>
                  <a:pt x="204" y="91"/>
                  <a:pt x="216" y="88"/>
                  <a:pt x="228" y="84"/>
                </a:cubicBezTo>
                <a:cubicBezTo>
                  <a:pt x="257" y="40"/>
                  <a:pt x="286" y="17"/>
                  <a:pt x="336" y="0"/>
                </a:cubicBezTo>
                <a:cubicBezTo>
                  <a:pt x="354" y="27"/>
                  <a:pt x="368" y="54"/>
                  <a:pt x="396" y="72"/>
                </a:cubicBezTo>
                <a:cubicBezTo>
                  <a:pt x="407" y="79"/>
                  <a:pt x="432" y="84"/>
                  <a:pt x="432" y="8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5"/>
          <p:cNvGrpSpPr/>
          <p:nvPr/>
        </p:nvGrpSpPr>
        <p:grpSpPr>
          <a:xfrm>
            <a:off x="533520" y="2514600"/>
            <a:ext cx="7619760" cy="3475080"/>
            <a:chOff x="533520" y="2514600"/>
            <a:chExt cx="7619760" cy="3475080"/>
          </a:xfrm>
        </p:grpSpPr>
        <p:sp>
          <p:nvSpPr>
            <p:cNvPr id="676" name="Freeform 6"/>
            <p:cNvSpPr/>
            <p:nvPr/>
          </p:nvSpPr>
          <p:spPr>
            <a:xfrm>
              <a:off x="533520" y="2514600"/>
              <a:ext cx="7619760" cy="3063960"/>
            </a:xfrm>
            <a:custGeom>
              <a:avLst/>
              <a:gdLst/>
              <a:ahLst/>
              <a:rect l="l" t="t" r="r" b="b"/>
              <a:pathLst>
                <a:path w="4917" h="1930">
                  <a:moveTo>
                    <a:pt x="0" y="168"/>
                  </a:moveTo>
                  <a:cubicBezTo>
                    <a:pt x="18" y="141"/>
                    <a:pt x="22" y="115"/>
                    <a:pt x="40" y="88"/>
                  </a:cubicBezTo>
                  <a:cubicBezTo>
                    <a:pt x="43" y="51"/>
                    <a:pt x="62" y="44"/>
                    <a:pt x="72" y="8"/>
                  </a:cubicBezTo>
                  <a:cubicBezTo>
                    <a:pt x="74" y="0"/>
                    <a:pt x="118" y="26"/>
                    <a:pt x="126" y="29"/>
                  </a:cubicBezTo>
                  <a:cubicBezTo>
                    <a:pt x="135" y="33"/>
                    <a:pt x="103" y="20"/>
                    <a:pt x="111" y="26"/>
                  </a:cubicBezTo>
                  <a:cubicBezTo>
                    <a:pt x="118" y="31"/>
                    <a:pt x="131" y="28"/>
                    <a:pt x="138" y="32"/>
                  </a:cubicBezTo>
                  <a:cubicBezTo>
                    <a:pt x="155" y="41"/>
                    <a:pt x="143" y="23"/>
                    <a:pt x="160" y="32"/>
                  </a:cubicBezTo>
                  <a:cubicBezTo>
                    <a:pt x="212" y="58"/>
                    <a:pt x="243" y="62"/>
                    <a:pt x="282" y="89"/>
                  </a:cubicBezTo>
                  <a:cubicBezTo>
                    <a:pt x="315" y="100"/>
                    <a:pt x="315" y="81"/>
                    <a:pt x="360" y="74"/>
                  </a:cubicBezTo>
                  <a:cubicBezTo>
                    <a:pt x="383" y="76"/>
                    <a:pt x="391" y="105"/>
                    <a:pt x="423" y="101"/>
                  </a:cubicBezTo>
                  <a:cubicBezTo>
                    <a:pt x="455" y="97"/>
                    <a:pt x="509" y="55"/>
                    <a:pt x="552" y="48"/>
                  </a:cubicBezTo>
                  <a:cubicBezTo>
                    <a:pt x="595" y="51"/>
                    <a:pt x="638" y="49"/>
                    <a:pt x="680" y="56"/>
                  </a:cubicBezTo>
                  <a:cubicBezTo>
                    <a:pt x="716" y="62"/>
                    <a:pt x="715" y="133"/>
                    <a:pt x="747" y="149"/>
                  </a:cubicBezTo>
                  <a:cubicBezTo>
                    <a:pt x="767" y="159"/>
                    <a:pt x="822" y="222"/>
                    <a:pt x="843" y="227"/>
                  </a:cubicBezTo>
                  <a:cubicBezTo>
                    <a:pt x="900" y="313"/>
                    <a:pt x="953" y="311"/>
                    <a:pt x="992" y="408"/>
                  </a:cubicBezTo>
                  <a:cubicBezTo>
                    <a:pt x="1016" y="467"/>
                    <a:pt x="1044" y="500"/>
                    <a:pt x="1092" y="557"/>
                  </a:cubicBezTo>
                  <a:cubicBezTo>
                    <a:pt x="1113" y="596"/>
                    <a:pt x="1136" y="593"/>
                    <a:pt x="1149" y="632"/>
                  </a:cubicBezTo>
                  <a:cubicBezTo>
                    <a:pt x="1163" y="670"/>
                    <a:pt x="1171" y="748"/>
                    <a:pt x="1176" y="788"/>
                  </a:cubicBezTo>
                  <a:cubicBezTo>
                    <a:pt x="1184" y="827"/>
                    <a:pt x="1179" y="776"/>
                    <a:pt x="1182" y="875"/>
                  </a:cubicBezTo>
                  <a:cubicBezTo>
                    <a:pt x="1190" y="911"/>
                    <a:pt x="1213" y="968"/>
                    <a:pt x="1224" y="1004"/>
                  </a:cubicBezTo>
                  <a:cubicBezTo>
                    <a:pt x="1235" y="1040"/>
                    <a:pt x="1248" y="1059"/>
                    <a:pt x="1248" y="1091"/>
                  </a:cubicBezTo>
                  <a:cubicBezTo>
                    <a:pt x="1248" y="1123"/>
                    <a:pt x="1227" y="1147"/>
                    <a:pt x="1221" y="1196"/>
                  </a:cubicBezTo>
                  <a:cubicBezTo>
                    <a:pt x="1215" y="1245"/>
                    <a:pt x="1210" y="1338"/>
                    <a:pt x="1212" y="1385"/>
                  </a:cubicBezTo>
                  <a:cubicBezTo>
                    <a:pt x="1213" y="1408"/>
                    <a:pt x="1219" y="1458"/>
                    <a:pt x="1230" y="1478"/>
                  </a:cubicBezTo>
                  <a:cubicBezTo>
                    <a:pt x="1240" y="1511"/>
                    <a:pt x="1239" y="1579"/>
                    <a:pt x="1257" y="1610"/>
                  </a:cubicBezTo>
                  <a:cubicBezTo>
                    <a:pt x="1273" y="1646"/>
                    <a:pt x="1305" y="1698"/>
                    <a:pt x="1323" y="1694"/>
                  </a:cubicBezTo>
                  <a:cubicBezTo>
                    <a:pt x="1346" y="1664"/>
                    <a:pt x="1334" y="1604"/>
                    <a:pt x="1365" y="1583"/>
                  </a:cubicBezTo>
                  <a:cubicBezTo>
                    <a:pt x="1374" y="1572"/>
                    <a:pt x="1398" y="1577"/>
                    <a:pt x="1404" y="1613"/>
                  </a:cubicBezTo>
                  <a:cubicBezTo>
                    <a:pt x="1410" y="1633"/>
                    <a:pt x="1401" y="1678"/>
                    <a:pt x="1398" y="1703"/>
                  </a:cubicBezTo>
                  <a:cubicBezTo>
                    <a:pt x="1395" y="1728"/>
                    <a:pt x="1380" y="1742"/>
                    <a:pt x="1383" y="1766"/>
                  </a:cubicBezTo>
                  <a:cubicBezTo>
                    <a:pt x="1386" y="1790"/>
                    <a:pt x="1401" y="1833"/>
                    <a:pt x="1413" y="1847"/>
                  </a:cubicBezTo>
                  <a:cubicBezTo>
                    <a:pt x="1425" y="1867"/>
                    <a:pt x="1403" y="1852"/>
                    <a:pt x="1455" y="1853"/>
                  </a:cubicBezTo>
                  <a:cubicBezTo>
                    <a:pt x="1479" y="1850"/>
                    <a:pt x="1534" y="1834"/>
                    <a:pt x="1560" y="1829"/>
                  </a:cubicBezTo>
                  <a:cubicBezTo>
                    <a:pt x="1586" y="1824"/>
                    <a:pt x="1598" y="1815"/>
                    <a:pt x="1614" y="1820"/>
                  </a:cubicBezTo>
                  <a:cubicBezTo>
                    <a:pt x="1630" y="1825"/>
                    <a:pt x="1652" y="1845"/>
                    <a:pt x="1656" y="1862"/>
                  </a:cubicBezTo>
                  <a:cubicBezTo>
                    <a:pt x="1660" y="1879"/>
                    <a:pt x="1629" y="1921"/>
                    <a:pt x="1641" y="1925"/>
                  </a:cubicBezTo>
                  <a:cubicBezTo>
                    <a:pt x="1652" y="1930"/>
                    <a:pt x="1700" y="1893"/>
                    <a:pt x="1728" y="1889"/>
                  </a:cubicBezTo>
                  <a:cubicBezTo>
                    <a:pt x="1756" y="1885"/>
                    <a:pt x="1794" y="1904"/>
                    <a:pt x="1809" y="1901"/>
                  </a:cubicBezTo>
                  <a:cubicBezTo>
                    <a:pt x="1838" y="1891"/>
                    <a:pt x="1815" y="1891"/>
                    <a:pt x="1821" y="1871"/>
                  </a:cubicBezTo>
                  <a:cubicBezTo>
                    <a:pt x="1827" y="1851"/>
                    <a:pt x="1841" y="1806"/>
                    <a:pt x="1845" y="1781"/>
                  </a:cubicBezTo>
                  <a:cubicBezTo>
                    <a:pt x="1856" y="1757"/>
                    <a:pt x="1836" y="1745"/>
                    <a:pt x="1845" y="1721"/>
                  </a:cubicBezTo>
                  <a:cubicBezTo>
                    <a:pt x="1854" y="1697"/>
                    <a:pt x="1877" y="1670"/>
                    <a:pt x="1899" y="1637"/>
                  </a:cubicBezTo>
                  <a:cubicBezTo>
                    <a:pt x="1965" y="1588"/>
                    <a:pt x="1944" y="1600"/>
                    <a:pt x="1977" y="1523"/>
                  </a:cubicBezTo>
                  <a:cubicBezTo>
                    <a:pt x="2001" y="1490"/>
                    <a:pt x="2004" y="1462"/>
                    <a:pt x="2040" y="1430"/>
                  </a:cubicBezTo>
                  <a:cubicBezTo>
                    <a:pt x="2082" y="1410"/>
                    <a:pt x="2177" y="1412"/>
                    <a:pt x="2229" y="1403"/>
                  </a:cubicBezTo>
                  <a:cubicBezTo>
                    <a:pt x="2279" y="1391"/>
                    <a:pt x="2314" y="1390"/>
                    <a:pt x="2352" y="1376"/>
                  </a:cubicBezTo>
                  <a:cubicBezTo>
                    <a:pt x="2391" y="1359"/>
                    <a:pt x="2434" y="1323"/>
                    <a:pt x="2463" y="1301"/>
                  </a:cubicBezTo>
                  <a:cubicBezTo>
                    <a:pt x="2489" y="1294"/>
                    <a:pt x="2505" y="1256"/>
                    <a:pt x="2529" y="1244"/>
                  </a:cubicBezTo>
                  <a:cubicBezTo>
                    <a:pt x="2538" y="1240"/>
                    <a:pt x="2552" y="1233"/>
                    <a:pt x="2559" y="1226"/>
                  </a:cubicBezTo>
                  <a:cubicBezTo>
                    <a:pt x="2575" y="1210"/>
                    <a:pt x="2614" y="1233"/>
                    <a:pt x="2634" y="1226"/>
                  </a:cubicBezTo>
                  <a:cubicBezTo>
                    <a:pt x="2674" y="1231"/>
                    <a:pt x="2654" y="1184"/>
                    <a:pt x="2694" y="1190"/>
                  </a:cubicBezTo>
                  <a:cubicBezTo>
                    <a:pt x="2726" y="1195"/>
                    <a:pt x="2763" y="1115"/>
                    <a:pt x="2763" y="1115"/>
                  </a:cubicBezTo>
                  <a:cubicBezTo>
                    <a:pt x="2784" y="1090"/>
                    <a:pt x="2782" y="1050"/>
                    <a:pt x="2808" y="1028"/>
                  </a:cubicBezTo>
                  <a:cubicBezTo>
                    <a:pt x="2834" y="1006"/>
                    <a:pt x="2875" y="994"/>
                    <a:pt x="2919" y="986"/>
                  </a:cubicBezTo>
                  <a:cubicBezTo>
                    <a:pt x="2924" y="975"/>
                    <a:pt x="3060" y="983"/>
                    <a:pt x="3072" y="980"/>
                  </a:cubicBezTo>
                  <a:cubicBezTo>
                    <a:pt x="3096" y="975"/>
                    <a:pt x="3156" y="994"/>
                    <a:pt x="3195" y="989"/>
                  </a:cubicBezTo>
                  <a:cubicBezTo>
                    <a:pt x="3229" y="988"/>
                    <a:pt x="3246" y="996"/>
                    <a:pt x="3264" y="1016"/>
                  </a:cubicBezTo>
                  <a:cubicBezTo>
                    <a:pt x="3286" y="1036"/>
                    <a:pt x="3318" y="1076"/>
                    <a:pt x="3327" y="1106"/>
                  </a:cubicBezTo>
                  <a:cubicBezTo>
                    <a:pt x="3363" y="1103"/>
                    <a:pt x="3359" y="1114"/>
                    <a:pt x="3396" y="1100"/>
                  </a:cubicBezTo>
                  <a:cubicBezTo>
                    <a:pt x="3428" y="1116"/>
                    <a:pt x="3414" y="1088"/>
                    <a:pt x="3435" y="1109"/>
                  </a:cubicBezTo>
                  <a:cubicBezTo>
                    <a:pt x="3495" y="1133"/>
                    <a:pt x="3460" y="1107"/>
                    <a:pt x="3480" y="1130"/>
                  </a:cubicBezTo>
                  <a:cubicBezTo>
                    <a:pt x="3498" y="1150"/>
                    <a:pt x="3487" y="1220"/>
                    <a:pt x="3507" y="1238"/>
                  </a:cubicBezTo>
                  <a:cubicBezTo>
                    <a:pt x="3517" y="1247"/>
                    <a:pt x="3561" y="1247"/>
                    <a:pt x="3573" y="1253"/>
                  </a:cubicBezTo>
                  <a:cubicBezTo>
                    <a:pt x="3593" y="1262"/>
                    <a:pt x="3624" y="1256"/>
                    <a:pt x="3645" y="1259"/>
                  </a:cubicBezTo>
                  <a:cubicBezTo>
                    <a:pt x="3661" y="1264"/>
                    <a:pt x="3664" y="1230"/>
                    <a:pt x="3681" y="1232"/>
                  </a:cubicBezTo>
                  <a:cubicBezTo>
                    <a:pt x="3712" y="1235"/>
                    <a:pt x="3703" y="1220"/>
                    <a:pt x="3717" y="1202"/>
                  </a:cubicBezTo>
                  <a:cubicBezTo>
                    <a:pt x="3727" y="1189"/>
                    <a:pt x="3750" y="1163"/>
                    <a:pt x="3750" y="1124"/>
                  </a:cubicBezTo>
                  <a:cubicBezTo>
                    <a:pt x="3786" y="1106"/>
                    <a:pt x="3789" y="1052"/>
                    <a:pt x="3825" y="1034"/>
                  </a:cubicBezTo>
                  <a:cubicBezTo>
                    <a:pt x="3833" y="1023"/>
                    <a:pt x="3895" y="1073"/>
                    <a:pt x="3904" y="1064"/>
                  </a:cubicBezTo>
                  <a:cubicBezTo>
                    <a:pt x="3923" y="1070"/>
                    <a:pt x="3934" y="1076"/>
                    <a:pt x="3954" y="1094"/>
                  </a:cubicBezTo>
                  <a:cubicBezTo>
                    <a:pt x="3974" y="1112"/>
                    <a:pt x="3996" y="1158"/>
                    <a:pt x="4023" y="1172"/>
                  </a:cubicBezTo>
                  <a:cubicBezTo>
                    <a:pt x="4050" y="1184"/>
                    <a:pt x="4091" y="1179"/>
                    <a:pt x="4119" y="1178"/>
                  </a:cubicBezTo>
                  <a:cubicBezTo>
                    <a:pt x="4147" y="1177"/>
                    <a:pt x="4166" y="1185"/>
                    <a:pt x="4191" y="1166"/>
                  </a:cubicBezTo>
                  <a:cubicBezTo>
                    <a:pt x="4244" y="1163"/>
                    <a:pt x="4245" y="1103"/>
                    <a:pt x="4266" y="1064"/>
                  </a:cubicBezTo>
                  <a:cubicBezTo>
                    <a:pt x="4282" y="1063"/>
                    <a:pt x="4275" y="1025"/>
                    <a:pt x="4329" y="989"/>
                  </a:cubicBezTo>
                  <a:cubicBezTo>
                    <a:pt x="4343" y="975"/>
                    <a:pt x="4357" y="956"/>
                    <a:pt x="4362" y="938"/>
                  </a:cubicBezTo>
                  <a:cubicBezTo>
                    <a:pt x="4380" y="907"/>
                    <a:pt x="4467" y="836"/>
                    <a:pt x="4488" y="809"/>
                  </a:cubicBezTo>
                  <a:cubicBezTo>
                    <a:pt x="4509" y="782"/>
                    <a:pt x="4481" y="798"/>
                    <a:pt x="4488" y="776"/>
                  </a:cubicBezTo>
                  <a:cubicBezTo>
                    <a:pt x="4496" y="762"/>
                    <a:pt x="4498" y="695"/>
                    <a:pt x="4530" y="674"/>
                  </a:cubicBezTo>
                  <a:cubicBezTo>
                    <a:pt x="4560" y="651"/>
                    <a:pt x="4638" y="643"/>
                    <a:pt x="4671" y="638"/>
                  </a:cubicBezTo>
                  <a:cubicBezTo>
                    <a:pt x="4701" y="635"/>
                    <a:pt x="4716" y="636"/>
                    <a:pt x="4731" y="644"/>
                  </a:cubicBezTo>
                  <a:cubicBezTo>
                    <a:pt x="4746" y="652"/>
                    <a:pt x="4748" y="687"/>
                    <a:pt x="4761" y="689"/>
                  </a:cubicBezTo>
                  <a:cubicBezTo>
                    <a:pt x="4774" y="691"/>
                    <a:pt x="4786" y="655"/>
                    <a:pt x="4812" y="659"/>
                  </a:cubicBezTo>
                  <a:cubicBezTo>
                    <a:pt x="4838" y="663"/>
                    <a:pt x="4895" y="702"/>
                    <a:pt x="4917" y="713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3429720" y="3352680"/>
              <a:ext cx="450720" cy="1459080"/>
            </a:xfrm>
            <a:custGeom>
              <a:avLst/>
              <a:gdLst/>
              <a:ahLst/>
              <a:rect l="l" t="t" r="r" b="b"/>
              <a:pathLst>
                <a:path w="291" h="919">
                  <a:moveTo>
                    <a:pt x="129" y="0"/>
                  </a:moveTo>
                  <a:cubicBezTo>
                    <a:pt x="134" y="29"/>
                    <a:pt x="150" y="48"/>
                    <a:pt x="159" y="75"/>
                  </a:cubicBezTo>
                  <a:cubicBezTo>
                    <a:pt x="164" y="91"/>
                    <a:pt x="171" y="123"/>
                    <a:pt x="171" y="123"/>
                  </a:cubicBezTo>
                  <a:cubicBezTo>
                    <a:pt x="176" y="173"/>
                    <a:pt x="183" y="224"/>
                    <a:pt x="195" y="273"/>
                  </a:cubicBezTo>
                  <a:cubicBezTo>
                    <a:pt x="194" y="305"/>
                    <a:pt x="195" y="337"/>
                    <a:pt x="192" y="369"/>
                  </a:cubicBezTo>
                  <a:cubicBezTo>
                    <a:pt x="190" y="391"/>
                    <a:pt x="186" y="382"/>
                    <a:pt x="180" y="396"/>
                  </a:cubicBezTo>
                  <a:cubicBezTo>
                    <a:pt x="169" y="421"/>
                    <a:pt x="160" y="447"/>
                    <a:pt x="153" y="474"/>
                  </a:cubicBezTo>
                  <a:cubicBezTo>
                    <a:pt x="155" y="513"/>
                    <a:pt x="149" y="550"/>
                    <a:pt x="171" y="582"/>
                  </a:cubicBezTo>
                  <a:cubicBezTo>
                    <a:pt x="175" y="624"/>
                    <a:pt x="180" y="667"/>
                    <a:pt x="168" y="708"/>
                  </a:cubicBezTo>
                  <a:cubicBezTo>
                    <a:pt x="164" y="723"/>
                    <a:pt x="160" y="738"/>
                    <a:pt x="156" y="753"/>
                  </a:cubicBezTo>
                  <a:cubicBezTo>
                    <a:pt x="154" y="759"/>
                    <a:pt x="150" y="771"/>
                    <a:pt x="150" y="771"/>
                  </a:cubicBezTo>
                  <a:cubicBezTo>
                    <a:pt x="153" y="793"/>
                    <a:pt x="154" y="796"/>
                    <a:pt x="171" y="807"/>
                  </a:cubicBezTo>
                  <a:cubicBezTo>
                    <a:pt x="178" y="817"/>
                    <a:pt x="183" y="821"/>
                    <a:pt x="195" y="825"/>
                  </a:cubicBezTo>
                  <a:cubicBezTo>
                    <a:pt x="204" y="834"/>
                    <a:pt x="215" y="839"/>
                    <a:pt x="222" y="849"/>
                  </a:cubicBezTo>
                  <a:cubicBezTo>
                    <a:pt x="247" y="881"/>
                    <a:pt x="223" y="856"/>
                    <a:pt x="243" y="876"/>
                  </a:cubicBezTo>
                  <a:cubicBezTo>
                    <a:pt x="247" y="888"/>
                    <a:pt x="261" y="900"/>
                    <a:pt x="273" y="906"/>
                  </a:cubicBezTo>
                  <a:cubicBezTo>
                    <a:pt x="276" y="907"/>
                    <a:pt x="279" y="908"/>
                    <a:pt x="282" y="909"/>
                  </a:cubicBezTo>
                  <a:cubicBezTo>
                    <a:pt x="285" y="911"/>
                    <a:pt x="291" y="919"/>
                    <a:pt x="291" y="915"/>
                  </a:cubicBezTo>
                  <a:cubicBezTo>
                    <a:pt x="291" y="911"/>
                    <a:pt x="285" y="909"/>
                    <a:pt x="282" y="906"/>
                  </a:cubicBezTo>
                  <a:cubicBezTo>
                    <a:pt x="267" y="894"/>
                    <a:pt x="251" y="887"/>
                    <a:pt x="237" y="873"/>
                  </a:cubicBezTo>
                  <a:cubicBezTo>
                    <a:pt x="224" y="834"/>
                    <a:pt x="193" y="812"/>
                    <a:pt x="162" y="786"/>
                  </a:cubicBezTo>
                  <a:cubicBezTo>
                    <a:pt x="152" y="778"/>
                    <a:pt x="148" y="769"/>
                    <a:pt x="138" y="762"/>
                  </a:cubicBezTo>
                  <a:cubicBezTo>
                    <a:pt x="126" y="743"/>
                    <a:pt x="124" y="721"/>
                    <a:pt x="108" y="705"/>
                  </a:cubicBezTo>
                  <a:cubicBezTo>
                    <a:pt x="101" y="685"/>
                    <a:pt x="111" y="707"/>
                    <a:pt x="96" y="690"/>
                  </a:cubicBezTo>
                  <a:cubicBezTo>
                    <a:pt x="81" y="672"/>
                    <a:pt x="88" y="668"/>
                    <a:pt x="66" y="654"/>
                  </a:cubicBezTo>
                  <a:cubicBezTo>
                    <a:pt x="51" y="644"/>
                    <a:pt x="37" y="637"/>
                    <a:pt x="24" y="624"/>
                  </a:cubicBezTo>
                  <a:cubicBezTo>
                    <a:pt x="16" y="601"/>
                    <a:pt x="24" y="576"/>
                    <a:pt x="27" y="552"/>
                  </a:cubicBezTo>
                  <a:cubicBezTo>
                    <a:pt x="23" y="527"/>
                    <a:pt x="17" y="515"/>
                    <a:pt x="0" y="49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"/>
            <p:cNvSpPr/>
            <p:nvPr/>
          </p:nvSpPr>
          <p:spPr>
            <a:xfrm>
              <a:off x="4178160" y="4495680"/>
              <a:ext cx="760680" cy="1166760"/>
            </a:xfrm>
            <a:custGeom>
              <a:avLst/>
              <a:gdLst/>
              <a:ahLst/>
              <a:rect l="l" t="t" r="r" b="b"/>
              <a:pathLst>
                <a:path w="491" h="735">
                  <a:moveTo>
                    <a:pt x="279" y="0"/>
                  </a:moveTo>
                  <a:cubicBezTo>
                    <a:pt x="283" y="38"/>
                    <a:pt x="293" y="46"/>
                    <a:pt x="327" y="57"/>
                  </a:cubicBezTo>
                  <a:cubicBezTo>
                    <a:pt x="345" y="75"/>
                    <a:pt x="366" y="72"/>
                    <a:pt x="387" y="81"/>
                  </a:cubicBezTo>
                  <a:cubicBezTo>
                    <a:pt x="402" y="88"/>
                    <a:pt x="416" y="98"/>
                    <a:pt x="429" y="108"/>
                  </a:cubicBezTo>
                  <a:cubicBezTo>
                    <a:pt x="440" y="142"/>
                    <a:pt x="461" y="172"/>
                    <a:pt x="480" y="201"/>
                  </a:cubicBezTo>
                  <a:cubicBezTo>
                    <a:pt x="486" y="226"/>
                    <a:pt x="491" y="233"/>
                    <a:pt x="483" y="261"/>
                  </a:cubicBezTo>
                  <a:cubicBezTo>
                    <a:pt x="480" y="271"/>
                    <a:pt x="465" y="288"/>
                    <a:pt x="465" y="288"/>
                  </a:cubicBezTo>
                  <a:cubicBezTo>
                    <a:pt x="461" y="304"/>
                    <a:pt x="465" y="333"/>
                    <a:pt x="453" y="345"/>
                  </a:cubicBezTo>
                  <a:cubicBezTo>
                    <a:pt x="435" y="363"/>
                    <a:pt x="406" y="388"/>
                    <a:pt x="384" y="399"/>
                  </a:cubicBezTo>
                  <a:cubicBezTo>
                    <a:pt x="369" y="421"/>
                    <a:pt x="341" y="421"/>
                    <a:pt x="321" y="435"/>
                  </a:cubicBezTo>
                  <a:cubicBezTo>
                    <a:pt x="307" y="445"/>
                    <a:pt x="315" y="440"/>
                    <a:pt x="294" y="447"/>
                  </a:cubicBezTo>
                  <a:cubicBezTo>
                    <a:pt x="291" y="448"/>
                    <a:pt x="285" y="450"/>
                    <a:pt x="285" y="450"/>
                  </a:cubicBezTo>
                  <a:cubicBezTo>
                    <a:pt x="272" y="463"/>
                    <a:pt x="259" y="472"/>
                    <a:pt x="252" y="489"/>
                  </a:cubicBezTo>
                  <a:cubicBezTo>
                    <a:pt x="246" y="503"/>
                    <a:pt x="241" y="528"/>
                    <a:pt x="228" y="537"/>
                  </a:cubicBezTo>
                  <a:cubicBezTo>
                    <a:pt x="209" y="550"/>
                    <a:pt x="193" y="569"/>
                    <a:pt x="177" y="585"/>
                  </a:cubicBezTo>
                  <a:cubicBezTo>
                    <a:pt x="168" y="594"/>
                    <a:pt x="156" y="597"/>
                    <a:pt x="147" y="606"/>
                  </a:cubicBezTo>
                  <a:cubicBezTo>
                    <a:pt x="142" y="622"/>
                    <a:pt x="117" y="644"/>
                    <a:pt x="102" y="654"/>
                  </a:cubicBezTo>
                  <a:cubicBezTo>
                    <a:pt x="97" y="661"/>
                    <a:pt x="60" y="721"/>
                    <a:pt x="54" y="726"/>
                  </a:cubicBezTo>
                  <a:cubicBezTo>
                    <a:pt x="42" y="735"/>
                    <a:pt x="9" y="732"/>
                    <a:pt x="0" y="73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9"/>
            <p:cNvSpPr/>
            <p:nvPr/>
          </p:nvSpPr>
          <p:spPr>
            <a:xfrm>
              <a:off x="5010480" y="3433680"/>
              <a:ext cx="1441080" cy="793800"/>
            </a:xfrm>
            <a:custGeom>
              <a:avLst/>
              <a:gdLst/>
              <a:ahLst/>
              <a:rect l="l" t="t" r="r" b="b"/>
              <a:pathLst>
                <a:path w="930" h="500">
                  <a:moveTo>
                    <a:pt x="930" y="455"/>
                  </a:moveTo>
                  <a:cubicBezTo>
                    <a:pt x="920" y="452"/>
                    <a:pt x="900" y="446"/>
                    <a:pt x="900" y="446"/>
                  </a:cubicBezTo>
                  <a:cubicBezTo>
                    <a:pt x="884" y="447"/>
                    <a:pt x="868" y="446"/>
                    <a:pt x="852" y="449"/>
                  </a:cubicBezTo>
                  <a:cubicBezTo>
                    <a:pt x="839" y="451"/>
                    <a:pt x="827" y="473"/>
                    <a:pt x="816" y="479"/>
                  </a:cubicBezTo>
                  <a:cubicBezTo>
                    <a:pt x="810" y="482"/>
                    <a:pt x="797" y="498"/>
                    <a:pt x="789" y="500"/>
                  </a:cubicBezTo>
                  <a:cubicBezTo>
                    <a:pt x="765" y="499"/>
                    <a:pt x="738" y="489"/>
                    <a:pt x="714" y="485"/>
                  </a:cubicBezTo>
                  <a:cubicBezTo>
                    <a:pt x="694" y="482"/>
                    <a:pt x="686" y="457"/>
                    <a:pt x="678" y="443"/>
                  </a:cubicBezTo>
                  <a:cubicBezTo>
                    <a:pt x="661" y="413"/>
                    <a:pt x="656" y="394"/>
                    <a:pt x="645" y="362"/>
                  </a:cubicBezTo>
                  <a:cubicBezTo>
                    <a:pt x="643" y="333"/>
                    <a:pt x="654" y="306"/>
                    <a:pt x="630" y="290"/>
                  </a:cubicBezTo>
                  <a:cubicBezTo>
                    <a:pt x="622" y="278"/>
                    <a:pt x="613" y="264"/>
                    <a:pt x="606" y="251"/>
                  </a:cubicBezTo>
                  <a:cubicBezTo>
                    <a:pt x="594" y="227"/>
                    <a:pt x="590" y="197"/>
                    <a:pt x="567" y="182"/>
                  </a:cubicBezTo>
                  <a:cubicBezTo>
                    <a:pt x="561" y="173"/>
                    <a:pt x="560" y="170"/>
                    <a:pt x="549" y="164"/>
                  </a:cubicBezTo>
                  <a:cubicBezTo>
                    <a:pt x="543" y="161"/>
                    <a:pt x="531" y="158"/>
                    <a:pt x="531" y="158"/>
                  </a:cubicBezTo>
                  <a:cubicBezTo>
                    <a:pt x="514" y="141"/>
                    <a:pt x="454" y="87"/>
                    <a:pt x="429" y="83"/>
                  </a:cubicBezTo>
                  <a:cubicBezTo>
                    <a:pt x="416" y="81"/>
                    <a:pt x="403" y="76"/>
                    <a:pt x="390" y="74"/>
                  </a:cubicBezTo>
                  <a:cubicBezTo>
                    <a:pt x="374" y="71"/>
                    <a:pt x="354" y="53"/>
                    <a:pt x="354" y="53"/>
                  </a:cubicBezTo>
                  <a:cubicBezTo>
                    <a:pt x="343" y="47"/>
                    <a:pt x="327" y="47"/>
                    <a:pt x="315" y="44"/>
                  </a:cubicBezTo>
                  <a:cubicBezTo>
                    <a:pt x="297" y="32"/>
                    <a:pt x="273" y="32"/>
                    <a:pt x="252" y="29"/>
                  </a:cubicBezTo>
                  <a:cubicBezTo>
                    <a:pt x="238" y="23"/>
                    <a:pt x="233" y="12"/>
                    <a:pt x="222" y="8"/>
                  </a:cubicBezTo>
                  <a:cubicBezTo>
                    <a:pt x="211" y="4"/>
                    <a:pt x="200" y="5"/>
                    <a:pt x="186" y="5"/>
                  </a:cubicBezTo>
                  <a:cubicBezTo>
                    <a:pt x="170" y="2"/>
                    <a:pt x="135" y="5"/>
                    <a:pt x="135" y="5"/>
                  </a:cubicBezTo>
                  <a:cubicBezTo>
                    <a:pt x="119" y="0"/>
                    <a:pt x="99" y="52"/>
                    <a:pt x="84" y="56"/>
                  </a:cubicBezTo>
                  <a:cubicBezTo>
                    <a:pt x="58" y="74"/>
                    <a:pt x="16" y="52"/>
                    <a:pt x="0" y="53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0"/>
            <p:cNvSpPr/>
            <p:nvPr/>
          </p:nvSpPr>
          <p:spPr>
            <a:xfrm>
              <a:off x="5882760" y="4527720"/>
              <a:ext cx="31464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75" y="0"/>
                  </a:moveTo>
                  <a:cubicBezTo>
                    <a:pt x="160" y="23"/>
                    <a:pt x="154" y="18"/>
                    <a:pt x="136" y="36"/>
                  </a:cubicBezTo>
                  <a:cubicBezTo>
                    <a:pt x="135" y="54"/>
                    <a:pt x="139" y="73"/>
                    <a:pt x="133" y="90"/>
                  </a:cubicBezTo>
                  <a:cubicBezTo>
                    <a:pt x="131" y="96"/>
                    <a:pt x="120" y="92"/>
                    <a:pt x="115" y="96"/>
                  </a:cubicBezTo>
                  <a:cubicBezTo>
                    <a:pt x="71" y="125"/>
                    <a:pt x="73" y="123"/>
                    <a:pt x="10" y="126"/>
                  </a:cubicBezTo>
                  <a:cubicBezTo>
                    <a:pt x="0" y="155"/>
                    <a:pt x="17" y="160"/>
                    <a:pt x="40" y="168"/>
                  </a:cubicBezTo>
                  <a:cubicBezTo>
                    <a:pt x="109" y="165"/>
                    <a:pt x="105" y="171"/>
                    <a:pt x="151" y="141"/>
                  </a:cubicBezTo>
                  <a:cubicBezTo>
                    <a:pt x="165" y="120"/>
                    <a:pt x="160" y="124"/>
                    <a:pt x="187" y="117"/>
                  </a:cubicBezTo>
                  <a:cubicBezTo>
                    <a:pt x="196" y="99"/>
                    <a:pt x="192" y="109"/>
                    <a:pt x="199" y="87"/>
                  </a:cubicBezTo>
                  <a:cubicBezTo>
                    <a:pt x="200" y="84"/>
                    <a:pt x="202" y="78"/>
                    <a:pt x="202" y="78"/>
                  </a:cubicBezTo>
                  <a:cubicBezTo>
                    <a:pt x="201" y="60"/>
                    <a:pt x="203" y="42"/>
                    <a:pt x="199" y="24"/>
                  </a:cubicBezTo>
                  <a:cubicBezTo>
                    <a:pt x="197" y="16"/>
                    <a:pt x="167" y="8"/>
                    <a:pt x="175" y="0"/>
                  </a:cubicBez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1"/>
            <p:cNvSpPr/>
            <p:nvPr/>
          </p:nvSpPr>
          <p:spPr>
            <a:xfrm>
              <a:off x="5665680" y="4797360"/>
              <a:ext cx="525240" cy="1192320"/>
            </a:xfrm>
            <a:custGeom>
              <a:avLst/>
              <a:gdLst/>
              <a:ahLst/>
              <a:rect l="l" t="t" r="r" b="b"/>
              <a:pathLst>
                <a:path w="339" h="751">
                  <a:moveTo>
                    <a:pt x="0" y="103"/>
                  </a:moveTo>
                  <a:cubicBezTo>
                    <a:pt x="15" y="96"/>
                    <a:pt x="22" y="85"/>
                    <a:pt x="36" y="76"/>
                  </a:cubicBezTo>
                  <a:cubicBezTo>
                    <a:pt x="45" y="70"/>
                    <a:pt x="75" y="61"/>
                    <a:pt x="87" y="58"/>
                  </a:cubicBezTo>
                  <a:cubicBezTo>
                    <a:pt x="105" y="46"/>
                    <a:pt x="129" y="45"/>
                    <a:pt x="150" y="43"/>
                  </a:cubicBezTo>
                  <a:cubicBezTo>
                    <a:pt x="169" y="37"/>
                    <a:pt x="190" y="36"/>
                    <a:pt x="210" y="31"/>
                  </a:cubicBezTo>
                  <a:cubicBezTo>
                    <a:pt x="222" y="28"/>
                    <a:pt x="231" y="22"/>
                    <a:pt x="243" y="19"/>
                  </a:cubicBezTo>
                  <a:cubicBezTo>
                    <a:pt x="248" y="3"/>
                    <a:pt x="237" y="0"/>
                    <a:pt x="252" y="7"/>
                  </a:cubicBezTo>
                  <a:cubicBezTo>
                    <a:pt x="265" y="32"/>
                    <a:pt x="302" y="51"/>
                    <a:pt x="309" y="79"/>
                  </a:cubicBezTo>
                  <a:cubicBezTo>
                    <a:pt x="319" y="100"/>
                    <a:pt x="287" y="126"/>
                    <a:pt x="291" y="148"/>
                  </a:cubicBezTo>
                  <a:cubicBezTo>
                    <a:pt x="296" y="168"/>
                    <a:pt x="338" y="177"/>
                    <a:pt x="339" y="202"/>
                  </a:cubicBezTo>
                  <a:cubicBezTo>
                    <a:pt x="334" y="236"/>
                    <a:pt x="322" y="276"/>
                    <a:pt x="297" y="301"/>
                  </a:cubicBezTo>
                  <a:cubicBezTo>
                    <a:pt x="289" y="322"/>
                    <a:pt x="283" y="324"/>
                    <a:pt x="282" y="334"/>
                  </a:cubicBezTo>
                  <a:cubicBezTo>
                    <a:pt x="281" y="344"/>
                    <a:pt x="298" y="348"/>
                    <a:pt x="288" y="364"/>
                  </a:cubicBezTo>
                  <a:cubicBezTo>
                    <a:pt x="279" y="377"/>
                    <a:pt x="249" y="424"/>
                    <a:pt x="225" y="433"/>
                  </a:cubicBezTo>
                  <a:cubicBezTo>
                    <a:pt x="201" y="442"/>
                    <a:pt x="161" y="418"/>
                    <a:pt x="141" y="421"/>
                  </a:cubicBezTo>
                  <a:cubicBezTo>
                    <a:pt x="128" y="424"/>
                    <a:pt x="108" y="438"/>
                    <a:pt x="102" y="451"/>
                  </a:cubicBezTo>
                  <a:cubicBezTo>
                    <a:pt x="99" y="457"/>
                    <a:pt x="108" y="460"/>
                    <a:pt x="108" y="460"/>
                  </a:cubicBezTo>
                  <a:cubicBezTo>
                    <a:pt x="108" y="466"/>
                    <a:pt x="85" y="454"/>
                    <a:pt x="84" y="502"/>
                  </a:cubicBezTo>
                  <a:cubicBezTo>
                    <a:pt x="83" y="523"/>
                    <a:pt x="95" y="563"/>
                    <a:pt x="102" y="586"/>
                  </a:cubicBezTo>
                  <a:cubicBezTo>
                    <a:pt x="109" y="609"/>
                    <a:pt x="126" y="616"/>
                    <a:pt x="126" y="643"/>
                  </a:cubicBezTo>
                  <a:cubicBezTo>
                    <a:pt x="126" y="670"/>
                    <a:pt x="107" y="729"/>
                    <a:pt x="102" y="751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2"/>
            <p:cNvSpPr/>
            <p:nvPr/>
          </p:nvSpPr>
          <p:spPr>
            <a:xfrm>
              <a:off x="6888240" y="4384800"/>
              <a:ext cx="275760" cy="396720"/>
            </a:xfrm>
            <a:custGeom>
              <a:avLst/>
              <a:gdLst/>
              <a:ahLst/>
              <a:rect l="l" t="t" r="r" b="b"/>
              <a:pathLst>
                <a:path w="178" h="250">
                  <a:moveTo>
                    <a:pt x="57" y="0"/>
                  </a:moveTo>
                  <a:cubicBezTo>
                    <a:pt x="45" y="4"/>
                    <a:pt x="42" y="12"/>
                    <a:pt x="33" y="21"/>
                  </a:cubicBezTo>
                  <a:cubicBezTo>
                    <a:pt x="24" y="48"/>
                    <a:pt x="16" y="75"/>
                    <a:pt x="9" y="102"/>
                  </a:cubicBezTo>
                  <a:cubicBezTo>
                    <a:pt x="0" y="138"/>
                    <a:pt x="13" y="116"/>
                    <a:pt x="0" y="135"/>
                  </a:cubicBezTo>
                  <a:cubicBezTo>
                    <a:pt x="4" y="154"/>
                    <a:pt x="9" y="157"/>
                    <a:pt x="27" y="162"/>
                  </a:cubicBezTo>
                  <a:cubicBezTo>
                    <a:pt x="42" y="173"/>
                    <a:pt x="61" y="200"/>
                    <a:pt x="72" y="216"/>
                  </a:cubicBezTo>
                  <a:cubicBezTo>
                    <a:pt x="74" y="226"/>
                    <a:pt x="72" y="238"/>
                    <a:pt x="78" y="246"/>
                  </a:cubicBezTo>
                  <a:cubicBezTo>
                    <a:pt x="81" y="250"/>
                    <a:pt x="88" y="244"/>
                    <a:pt x="90" y="240"/>
                  </a:cubicBezTo>
                  <a:cubicBezTo>
                    <a:pt x="94" y="233"/>
                    <a:pt x="94" y="224"/>
                    <a:pt x="96" y="216"/>
                  </a:cubicBezTo>
                  <a:cubicBezTo>
                    <a:pt x="96" y="215"/>
                    <a:pt x="128" y="203"/>
                    <a:pt x="135" y="198"/>
                  </a:cubicBezTo>
                  <a:cubicBezTo>
                    <a:pt x="138" y="188"/>
                    <a:pt x="136" y="177"/>
                    <a:pt x="141" y="168"/>
                  </a:cubicBezTo>
                  <a:cubicBezTo>
                    <a:pt x="145" y="162"/>
                    <a:pt x="159" y="156"/>
                    <a:pt x="159" y="156"/>
                  </a:cubicBezTo>
                  <a:cubicBezTo>
                    <a:pt x="162" y="149"/>
                    <a:pt x="178" y="136"/>
                    <a:pt x="177" y="129"/>
                  </a:cubicBezTo>
                  <a:cubicBezTo>
                    <a:pt x="176" y="122"/>
                    <a:pt x="170" y="110"/>
                    <a:pt x="153" y="111"/>
                  </a:cubicBezTo>
                  <a:cubicBezTo>
                    <a:pt x="105" y="78"/>
                    <a:pt x="103" y="126"/>
                    <a:pt x="75" y="135"/>
                  </a:cubicBezTo>
                  <a:cubicBezTo>
                    <a:pt x="56" y="97"/>
                    <a:pt x="75" y="138"/>
                    <a:pt x="63" y="42"/>
                  </a:cubicBezTo>
                  <a:cubicBezTo>
                    <a:pt x="62" y="35"/>
                    <a:pt x="57" y="21"/>
                    <a:pt x="51" y="15"/>
                  </a:cubicBezTo>
                  <a:cubicBezTo>
                    <a:pt x="48" y="12"/>
                    <a:pt x="41" y="12"/>
                    <a:pt x="42" y="9"/>
                  </a:cubicBezTo>
                  <a:cubicBezTo>
                    <a:pt x="44" y="4"/>
                    <a:pt x="52" y="3"/>
                    <a:pt x="57" y="0"/>
                  </a:cubicBez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3"/>
            <p:cNvSpPr/>
            <p:nvPr/>
          </p:nvSpPr>
          <p:spPr>
            <a:xfrm>
              <a:off x="6446880" y="4684680"/>
              <a:ext cx="497160" cy="847800"/>
            </a:xfrm>
            <a:custGeom>
              <a:avLst/>
              <a:gdLst/>
              <a:ahLst/>
              <a:rect l="l" t="t" r="r" b="b"/>
              <a:pathLst>
                <a:path w="321" h="534">
                  <a:moveTo>
                    <a:pt x="321" y="0"/>
                  </a:moveTo>
                  <a:cubicBezTo>
                    <a:pt x="287" y="23"/>
                    <a:pt x="293" y="61"/>
                    <a:pt x="267" y="87"/>
                  </a:cubicBezTo>
                  <a:cubicBezTo>
                    <a:pt x="261" y="105"/>
                    <a:pt x="250" y="103"/>
                    <a:pt x="231" y="105"/>
                  </a:cubicBezTo>
                  <a:cubicBezTo>
                    <a:pt x="212" y="111"/>
                    <a:pt x="204" y="126"/>
                    <a:pt x="186" y="132"/>
                  </a:cubicBezTo>
                  <a:cubicBezTo>
                    <a:pt x="148" y="146"/>
                    <a:pt x="103" y="148"/>
                    <a:pt x="63" y="150"/>
                  </a:cubicBezTo>
                  <a:cubicBezTo>
                    <a:pt x="57" y="151"/>
                    <a:pt x="51" y="152"/>
                    <a:pt x="45" y="153"/>
                  </a:cubicBezTo>
                  <a:cubicBezTo>
                    <a:pt x="39" y="155"/>
                    <a:pt x="27" y="159"/>
                    <a:pt x="27" y="159"/>
                  </a:cubicBezTo>
                  <a:cubicBezTo>
                    <a:pt x="27" y="158"/>
                    <a:pt x="36" y="153"/>
                    <a:pt x="45" y="152"/>
                  </a:cubicBezTo>
                  <a:cubicBezTo>
                    <a:pt x="54" y="151"/>
                    <a:pt x="62" y="151"/>
                    <a:pt x="78" y="150"/>
                  </a:cubicBezTo>
                  <a:cubicBezTo>
                    <a:pt x="99" y="147"/>
                    <a:pt x="120" y="146"/>
                    <a:pt x="141" y="144"/>
                  </a:cubicBezTo>
                  <a:cubicBezTo>
                    <a:pt x="155" y="139"/>
                    <a:pt x="173" y="139"/>
                    <a:pt x="185" y="131"/>
                  </a:cubicBezTo>
                  <a:cubicBezTo>
                    <a:pt x="190" y="127"/>
                    <a:pt x="202" y="126"/>
                    <a:pt x="207" y="122"/>
                  </a:cubicBezTo>
                  <a:cubicBezTo>
                    <a:pt x="212" y="120"/>
                    <a:pt x="209" y="115"/>
                    <a:pt x="216" y="111"/>
                  </a:cubicBezTo>
                  <a:cubicBezTo>
                    <a:pt x="224" y="107"/>
                    <a:pt x="248" y="103"/>
                    <a:pt x="258" y="99"/>
                  </a:cubicBezTo>
                  <a:cubicBezTo>
                    <a:pt x="268" y="95"/>
                    <a:pt x="271" y="82"/>
                    <a:pt x="273" y="90"/>
                  </a:cubicBezTo>
                  <a:cubicBezTo>
                    <a:pt x="279" y="113"/>
                    <a:pt x="281" y="116"/>
                    <a:pt x="273" y="150"/>
                  </a:cubicBezTo>
                  <a:cubicBezTo>
                    <a:pt x="272" y="153"/>
                    <a:pt x="245" y="171"/>
                    <a:pt x="240" y="183"/>
                  </a:cubicBezTo>
                  <a:cubicBezTo>
                    <a:pt x="237" y="190"/>
                    <a:pt x="232" y="210"/>
                    <a:pt x="231" y="210"/>
                  </a:cubicBezTo>
                  <a:cubicBezTo>
                    <a:pt x="215" y="213"/>
                    <a:pt x="202" y="217"/>
                    <a:pt x="186" y="219"/>
                  </a:cubicBezTo>
                  <a:cubicBezTo>
                    <a:pt x="152" y="230"/>
                    <a:pt x="122" y="239"/>
                    <a:pt x="87" y="243"/>
                  </a:cubicBezTo>
                  <a:cubicBezTo>
                    <a:pt x="66" y="248"/>
                    <a:pt x="70" y="246"/>
                    <a:pt x="60" y="248"/>
                  </a:cubicBezTo>
                  <a:cubicBezTo>
                    <a:pt x="50" y="250"/>
                    <a:pt x="34" y="250"/>
                    <a:pt x="24" y="255"/>
                  </a:cubicBezTo>
                  <a:cubicBezTo>
                    <a:pt x="14" y="262"/>
                    <a:pt x="7" y="269"/>
                    <a:pt x="0" y="279"/>
                  </a:cubicBezTo>
                  <a:cubicBezTo>
                    <a:pt x="0" y="280"/>
                    <a:pt x="8" y="270"/>
                    <a:pt x="14" y="266"/>
                  </a:cubicBezTo>
                  <a:cubicBezTo>
                    <a:pt x="20" y="262"/>
                    <a:pt x="21" y="259"/>
                    <a:pt x="36" y="255"/>
                  </a:cubicBezTo>
                  <a:cubicBezTo>
                    <a:pt x="49" y="242"/>
                    <a:pt x="83" y="243"/>
                    <a:pt x="102" y="242"/>
                  </a:cubicBezTo>
                  <a:cubicBezTo>
                    <a:pt x="121" y="236"/>
                    <a:pt x="135" y="240"/>
                    <a:pt x="153" y="228"/>
                  </a:cubicBezTo>
                  <a:cubicBezTo>
                    <a:pt x="159" y="224"/>
                    <a:pt x="168" y="229"/>
                    <a:pt x="174" y="225"/>
                  </a:cubicBezTo>
                  <a:cubicBezTo>
                    <a:pt x="177" y="223"/>
                    <a:pt x="183" y="219"/>
                    <a:pt x="183" y="219"/>
                  </a:cubicBezTo>
                  <a:cubicBezTo>
                    <a:pt x="194" y="220"/>
                    <a:pt x="207" y="216"/>
                    <a:pt x="216" y="222"/>
                  </a:cubicBezTo>
                  <a:cubicBezTo>
                    <a:pt x="217" y="222"/>
                    <a:pt x="212" y="249"/>
                    <a:pt x="210" y="252"/>
                  </a:cubicBezTo>
                  <a:cubicBezTo>
                    <a:pt x="195" y="282"/>
                    <a:pt x="193" y="306"/>
                    <a:pt x="185" y="339"/>
                  </a:cubicBezTo>
                  <a:cubicBezTo>
                    <a:pt x="184" y="350"/>
                    <a:pt x="183" y="367"/>
                    <a:pt x="180" y="378"/>
                  </a:cubicBezTo>
                  <a:cubicBezTo>
                    <a:pt x="179" y="382"/>
                    <a:pt x="150" y="383"/>
                    <a:pt x="147" y="384"/>
                  </a:cubicBezTo>
                  <a:cubicBezTo>
                    <a:pt x="126" y="389"/>
                    <a:pt x="118" y="394"/>
                    <a:pt x="93" y="396"/>
                  </a:cubicBezTo>
                  <a:cubicBezTo>
                    <a:pt x="32" y="409"/>
                    <a:pt x="90" y="401"/>
                    <a:pt x="105" y="399"/>
                  </a:cubicBezTo>
                  <a:cubicBezTo>
                    <a:pt x="111" y="397"/>
                    <a:pt x="117" y="395"/>
                    <a:pt x="123" y="393"/>
                  </a:cubicBezTo>
                  <a:cubicBezTo>
                    <a:pt x="131" y="390"/>
                    <a:pt x="147" y="387"/>
                    <a:pt x="147" y="387"/>
                  </a:cubicBezTo>
                  <a:cubicBezTo>
                    <a:pt x="153" y="388"/>
                    <a:pt x="181" y="371"/>
                    <a:pt x="183" y="377"/>
                  </a:cubicBezTo>
                  <a:cubicBezTo>
                    <a:pt x="191" y="397"/>
                    <a:pt x="164" y="393"/>
                    <a:pt x="152" y="473"/>
                  </a:cubicBezTo>
                  <a:cubicBezTo>
                    <a:pt x="154" y="493"/>
                    <a:pt x="150" y="514"/>
                    <a:pt x="150" y="53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AutoShape 14"/>
          <p:cNvSpPr/>
          <p:nvPr/>
        </p:nvSpPr>
        <p:spPr>
          <a:xfrm>
            <a:off x="6858000" y="4343400"/>
            <a:ext cx="228600" cy="2286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64008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湖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6"/>
          <p:cNvSpPr/>
          <p:nvPr/>
        </p:nvSpPr>
        <p:spPr>
          <a:xfrm>
            <a:off x="80010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黄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7"/>
          <p:cNvSpPr/>
          <p:nvPr/>
        </p:nvSpPr>
        <p:spPr>
          <a:xfrm>
            <a:off x="8229600" y="4267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东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1600200" y="9144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于长江的下游地区，濒临黄海和东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处江海交汇之地，沿海港口众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7166880" y="3352680"/>
            <a:ext cx="45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江苏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7426080" y="4648320"/>
            <a:ext cx="7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浙江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8198"/>
          <p:cNvSpPr/>
          <p:nvPr/>
        </p:nvSpPr>
        <p:spPr>
          <a:xfrm>
            <a:off x="2459160" y="4111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长江三角洲的地形"/>
          <p:cNvPicPr/>
          <p:nvPr/>
        </p:nvPicPr>
        <p:blipFill>
          <a:blip r:embed="rId1"/>
          <a:stretch/>
        </p:blipFill>
        <p:spPr>
          <a:xfrm>
            <a:off x="-1440" y="1025640"/>
            <a:ext cx="9145440" cy="58323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3"/>
          <p:cNvSpPr/>
          <p:nvPr/>
        </p:nvSpPr>
        <p:spPr>
          <a:xfrm>
            <a:off x="304920" y="152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地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22860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部分地区地势低平，河网密布，湖泊星罗，自古以来就是我国著名的“鱼米之乡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1403280" y="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96464"/>
                </a:solidFill>
                <a:latin typeface="Arial"/>
                <a:ea typeface="宋体"/>
              </a:rPr>
              <a:t>长三角地形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152280" y="592200"/>
            <a:ext cx="97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地势低平，河湖密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yingjiang-river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2895480" y="38088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亚热带季风气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2895480" y="10666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夏季高温多雨，冬季温和湿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457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96464"/>
                </a:solidFill>
                <a:latin typeface="Arial"/>
                <a:ea typeface="宋体"/>
              </a:rPr>
              <a:t>4</a:t>
            </a:r>
            <a:r>
              <a:rPr b="1" lang="zh-CN" sz="4000" spc="-1" strike="noStrike">
                <a:solidFill>
                  <a:srgbClr val="696464"/>
                </a:solidFill>
                <a:latin typeface="Arial"/>
                <a:ea typeface="宋体"/>
              </a:rPr>
              <a:t>、气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图片2"/>
          <p:cNvPicPr/>
          <p:nvPr/>
        </p:nvPicPr>
        <p:blipFill>
          <a:blip r:embed="rId1"/>
          <a:stretch/>
        </p:blipFill>
        <p:spPr>
          <a:xfrm>
            <a:off x="914400" y="1539720"/>
            <a:ext cx="7238880" cy="508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图片1"/>
          <p:cNvPicPr/>
          <p:nvPr/>
        </p:nvPicPr>
        <p:blipFill>
          <a:blip r:embed="rId1"/>
          <a:stretch/>
        </p:blipFill>
        <p:spPr>
          <a:xfrm>
            <a:off x="3429000" y="2286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3"/>
          <p:cNvSpPr/>
          <p:nvPr/>
        </p:nvSpPr>
        <p:spPr>
          <a:xfrm>
            <a:off x="304920" y="22860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水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380880" y="137160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托长江干支流发达的水运，可以联系广大的内陆地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380880" y="365760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时又是我国南北海上航运的中枢，并通过远洋航线通往世界的主要港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4419720" y="6172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长江三角洲的港口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7:17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54Z</dcterms:modified>
  <cp:revision>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