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96E-D76A-4CC7-8AA9-1527AFB4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BE8-D0DD-4E16-BE34-213A9CB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C22-35EC-4C91-8147-5A22A25A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401-A98A-41FE-9201-2AB11B4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C5AD-0F20-4CD5-9569-621B8C1D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9DFB-522C-46EB-B913-9E798A37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C31-0E3F-4DCE-9736-FC0576E1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2B81-2C97-463D-AE1A-8A7375A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FF18-5058-4D45-851B-858D401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BA24-F7A5-4BDA-8A7B-1F170401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FDD2-562F-4692-8368-E14CE05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065-CA76-40CD-8234-3D8F8842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D51-EC43-4D33-B252-6579D32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3EE2-59A1-48D3-8D23-70C9319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B46-7550-4A32-82FB-C1FF8ECD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55F-309D-4747-9DFF-6B8A9F0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80EE-DFC0-4132-BC4F-1E694D4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5C1-A5AD-4A20-97FF-89388F0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2F3-7719-4F95-AFBD-261C7728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0AE-AD6E-48E4-9C6A-7C4593F2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B06-1E99-45B4-BF28-5D4C5F86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459-A1BF-4B05-81EC-BB8DE36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8FF-D287-4641-B260-2EE1DBB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306-20E7-4F6E-AE1F-1DE4CFF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9CE-ACE6-4D14-83ED-7C915C46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A405-5918-486C-A6A9-6B87D8AF877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F93D-1B80-4474-809D-625B6C401E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1763640" y="1557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2"/>
          <p:cNvSpPr/>
          <p:nvPr/>
        </p:nvSpPr>
        <p:spPr>
          <a:xfrm>
            <a:off x="3152880" y="59356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916143226761"/>
          <p:cNvPicPr/>
          <p:nvPr/>
        </p:nvPicPr>
        <p:blipFill>
          <a:blip r:embed="rId2"/>
          <a:stretch/>
        </p:blipFill>
        <p:spPr>
          <a:xfrm>
            <a:off x="539640" y="476280"/>
            <a:ext cx="7921800" cy="5935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293200" y="1125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吃水不忘挖井人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06560" y="765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新课标一年级语文下册第六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69-3"/>
          <p:cNvPicPr/>
          <p:nvPr/>
        </p:nvPicPr>
        <p:blipFill>
          <a:blip r:embed="rId1"/>
          <a:stretch/>
        </p:blipFill>
        <p:spPr>
          <a:xfrm>
            <a:off x="-152280" y="-152280"/>
            <a:ext cx="9601200" cy="7162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8200"/>
          <p:cNvSpPr/>
          <p:nvPr/>
        </p:nvSpPr>
        <p:spPr>
          <a:xfrm>
            <a:off x="2411280" y="1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知 识 链 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毛泽东生平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毛泽东，湖南湘潭人。生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日，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97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9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日去世。他一生为中国人民的解放，为祖国的繁荣富强而奋斗，他是中国人民深深热爱的伟大领袖，中国人民将永远怀念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1CE-F406-4140-AC62-DAF9C6723D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700360" y="1628640"/>
            <a:ext cx="38876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再见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教 学 目 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认识本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生字。会写“井、乡”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字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正确、流利地朗读课文，能在朗读中表达出对毛主席的崇敬之情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初步懂得饮水思源的道理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99"/>
                </a:solidFill>
                <a:latin typeface="Arial"/>
              </a:rPr>
              <a:t>我 会 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井台　井口　井水　领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导游　革命　生命　救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主席　凉席　想念　挂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念书　时刻　立刻    挖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 一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197000"/>
            <a:ext cx="8518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g     wā jǐnɡ    ruì jīn   chénɡ          jià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  忘        挖  井       瑞  金     城   外         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ā zhōu bà         zhǔ xí        lǐnɡ dǎo       hěn y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   洲  坝       毛  主  席        领    导             很   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àn shì      xiānɡ qīn     xiānɡ qīn mén      yǐ h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    士         乡   亲             乡   亲  们             以 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200"/>
          <p:cNvSpPr/>
          <p:nvPr/>
        </p:nvSpPr>
        <p:spPr>
          <a:xfrm>
            <a:off x="900000" y="242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99"/>
                </a:solidFill>
                <a:latin typeface="Arial"/>
              </a:rPr>
              <a:t>讨    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是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不忘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小女孩"/>
          <p:cNvPicPr/>
          <p:nvPr/>
        </p:nvPicPr>
        <p:blipFill>
          <a:blip r:embed="rId2"/>
          <a:stretch/>
        </p:blipFill>
        <p:spPr>
          <a:xfrm>
            <a:off x="6300720" y="90792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识记生字，看谁记字的方法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忘：上下结构，上边“亡”下边心字底。忘记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挖：提手旁，右上边是穴宝盖，下面是“乙”。用手拿工具挖，所以是提手旁。挖井，挖洞，挖坑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刻：熟字换偏旁。孩去掉女旁换上立刀旁。立刻：表示赶快，马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念：熟字“今”加心字底。想念，怀念，都是心里在想，所以用心字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2003120513332100000"/>
          <p:cNvPicPr/>
          <p:nvPr/>
        </p:nvPicPr>
        <p:blipFill>
          <a:blip r:embed="rId2"/>
          <a:stretch/>
        </p:blipFill>
        <p:spPr>
          <a:xfrm>
            <a:off x="3924360" y="404640"/>
            <a:ext cx="4824360" cy="5977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136520" y="2370240"/>
            <a:ext cx="219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江西领导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时的毛泽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200"/>
          <p:cNvSpPr/>
          <p:nvPr/>
        </p:nvSpPr>
        <p:spPr>
          <a:xfrm>
            <a:off x="10800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l5"/>
          <p:cNvPicPr/>
          <p:nvPr/>
        </p:nvPicPr>
        <p:blipFill>
          <a:blip r:embed="rId2"/>
          <a:stretch/>
        </p:blipFill>
        <p:spPr>
          <a:xfrm>
            <a:off x="324000" y="260280"/>
            <a:ext cx="4537080" cy="312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552492550734"/>
          <p:cNvPicPr/>
          <p:nvPr/>
        </p:nvPicPr>
        <p:blipFill>
          <a:blip r:embed="rId3"/>
          <a:stretch/>
        </p:blipFill>
        <p:spPr>
          <a:xfrm>
            <a:off x="4140360" y="3357720"/>
            <a:ext cx="4647960" cy="3090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5651640" y="1844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瑞金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76360" y="429264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洲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D:\Documents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2003112009454500000"/>
          <p:cNvPicPr/>
          <p:nvPr/>
        </p:nvPicPr>
        <p:blipFill>
          <a:blip r:embed="rId2"/>
          <a:stretch/>
        </p:blipFill>
        <p:spPr>
          <a:xfrm>
            <a:off x="3995640" y="404640"/>
            <a:ext cx="4537080" cy="5977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250920" y="1884240"/>
            <a:ext cx="4540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毛泽东在延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0:3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