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217-C58B-42BA-BBCB-A5B8894A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DEB4-33DF-43C9-817D-319D7343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7C8D-E9F0-4960-A25F-4365EDD1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949-66E0-45A0-8899-153E3351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D907-2BEA-4564-B45B-B24B250F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CB1F-603D-47CE-94EA-C0211A1E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7475-9E2E-46E0-A62F-E9CF6E01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C358-47A0-47CA-A329-001097E8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6C87-2FBC-4B1C-98FA-8BEE1AAF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31FA-CF46-4CD3-A7D2-7D458CCC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5415-52A9-448D-B1FC-B5A44E41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969-9A6E-4D85-B1B4-E23F3D17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333A-D63F-4D80-8F12-9FD7E522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2328-4659-4C5F-8EF6-25A04326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B8C5-B92B-4D53-A58A-24942151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6052-25DF-42D4-BD98-989F0C6A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71E2-435F-4BBA-ACEA-EBA0D41F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2F0D-F6CB-4AC3-9D99-86AD2A1D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A3A-44F4-45E3-A6B0-BDB3BCA3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264C-BBAE-44FE-B736-DA9A2117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4D9-9026-4BB4-A1F4-B757E722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73BB-D39E-4AFE-B261-2AC3B159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96C-3C22-4683-9D79-C72FE2D3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6DE-0D00-4A80-BC3D-E21DE4E8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7283-D5E6-4032-BFE7-D70DC926378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F6E7-E2C4-45C1-8222-97A33D8BE1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C158-04AD-4E37-A60D-1422F131A8D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F8B3-A20A-409B-9DF2-CFFAE71E32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3286800" y="2674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108000" y="52340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2000" y="2352240"/>
            <a:ext cx="8326440" cy="13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彩条背景企业幻灯片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87" name="组合 4098"/>
          <p:cNvGrpSpPr/>
          <p:nvPr/>
        </p:nvGrpSpPr>
        <p:grpSpPr>
          <a:xfrm>
            <a:off x="2106720" y="744480"/>
            <a:ext cx="4929120" cy="787320"/>
            <a:chOff x="2106720" y="744480"/>
            <a:chExt cx="4929120" cy="787320"/>
          </a:xfrm>
        </p:grpSpPr>
        <p:grpSp>
          <p:nvGrpSpPr>
            <p:cNvPr id="88" name="组合 4099"/>
            <p:cNvGrpSpPr/>
            <p:nvPr/>
          </p:nvGrpSpPr>
          <p:grpSpPr>
            <a:xfrm>
              <a:off x="2106720" y="772200"/>
              <a:ext cx="4929120" cy="759600"/>
              <a:chOff x="2106720" y="772200"/>
              <a:chExt cx="4929120" cy="759600"/>
            </a:xfrm>
          </p:grpSpPr>
          <p:pic>
            <p:nvPicPr>
              <p:cNvPr id="89" name="圆角矩形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106720" y="772200"/>
                <a:ext cx="4929120" cy="75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文本框 4101"/>
              <p:cNvSpPr/>
              <p:nvPr/>
            </p:nvSpPr>
            <p:spPr>
              <a:xfrm>
                <a:off x="2200680" y="834120"/>
                <a:ext cx="4733640" cy="5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标题 1"/>
            <p:cNvSpPr/>
            <p:nvPr/>
          </p:nvSpPr>
          <p:spPr>
            <a:xfrm>
              <a:off x="3025800" y="744480"/>
              <a:ext cx="308340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4103"/>
          <p:cNvGrpSpPr/>
          <p:nvPr/>
        </p:nvGrpSpPr>
        <p:grpSpPr>
          <a:xfrm>
            <a:off x="2106720" y="1681200"/>
            <a:ext cx="4929120" cy="787320"/>
            <a:chOff x="2106720" y="1681200"/>
            <a:chExt cx="4929120" cy="787320"/>
          </a:xfrm>
        </p:grpSpPr>
        <p:grpSp>
          <p:nvGrpSpPr>
            <p:cNvPr id="93" name="组合 4104"/>
            <p:cNvGrpSpPr/>
            <p:nvPr/>
          </p:nvGrpSpPr>
          <p:grpSpPr>
            <a:xfrm>
              <a:off x="2106720" y="1711080"/>
              <a:ext cx="4929120" cy="757440"/>
              <a:chOff x="2106720" y="1711080"/>
              <a:chExt cx="4929120" cy="757440"/>
            </a:xfrm>
          </p:grpSpPr>
          <p:pic>
            <p:nvPicPr>
              <p:cNvPr id="94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06720" y="1711080"/>
                <a:ext cx="4929120" cy="75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文本框 4106"/>
              <p:cNvSpPr/>
              <p:nvPr/>
            </p:nvSpPr>
            <p:spPr>
              <a:xfrm>
                <a:off x="2200680" y="1770840"/>
                <a:ext cx="4733640" cy="56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标题 1"/>
            <p:cNvSpPr/>
            <p:nvPr/>
          </p:nvSpPr>
          <p:spPr>
            <a:xfrm>
              <a:off x="3025800" y="1681200"/>
              <a:ext cx="308340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4108"/>
          <p:cNvGrpSpPr/>
          <p:nvPr/>
        </p:nvGrpSpPr>
        <p:grpSpPr>
          <a:xfrm>
            <a:off x="2106720" y="2619360"/>
            <a:ext cx="4929120" cy="787320"/>
            <a:chOff x="2106720" y="2619360"/>
            <a:chExt cx="4929120" cy="787320"/>
          </a:xfrm>
        </p:grpSpPr>
        <p:grpSp>
          <p:nvGrpSpPr>
            <p:cNvPr id="98" name="组合 4109"/>
            <p:cNvGrpSpPr/>
            <p:nvPr/>
          </p:nvGrpSpPr>
          <p:grpSpPr>
            <a:xfrm>
              <a:off x="2106720" y="2649600"/>
              <a:ext cx="4929120" cy="757080"/>
              <a:chOff x="2106720" y="2649600"/>
              <a:chExt cx="4929120" cy="757080"/>
            </a:xfrm>
          </p:grpSpPr>
          <p:pic>
            <p:nvPicPr>
              <p:cNvPr id="99" name="圆角矩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2106720" y="2649600"/>
                <a:ext cx="4929120" cy="75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文本框 4111"/>
              <p:cNvSpPr/>
              <p:nvPr/>
            </p:nvSpPr>
            <p:spPr>
              <a:xfrm>
                <a:off x="2200680" y="2708640"/>
                <a:ext cx="4733640" cy="56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标题 1"/>
            <p:cNvSpPr/>
            <p:nvPr/>
          </p:nvSpPr>
          <p:spPr>
            <a:xfrm>
              <a:off x="3025800" y="2619360"/>
              <a:ext cx="308340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113"/>
          <p:cNvGrpSpPr/>
          <p:nvPr/>
        </p:nvGrpSpPr>
        <p:grpSpPr>
          <a:xfrm>
            <a:off x="2106720" y="3556080"/>
            <a:ext cx="4929120" cy="787320"/>
            <a:chOff x="2106720" y="3556080"/>
            <a:chExt cx="4929120" cy="787320"/>
          </a:xfrm>
        </p:grpSpPr>
        <p:grpSp>
          <p:nvGrpSpPr>
            <p:cNvPr id="103" name="组合 4114"/>
            <p:cNvGrpSpPr/>
            <p:nvPr/>
          </p:nvGrpSpPr>
          <p:grpSpPr>
            <a:xfrm>
              <a:off x="2106720" y="3588480"/>
              <a:ext cx="4929120" cy="754920"/>
              <a:chOff x="2106720" y="3588480"/>
              <a:chExt cx="4929120" cy="754920"/>
            </a:xfrm>
          </p:grpSpPr>
          <p:pic>
            <p:nvPicPr>
              <p:cNvPr id="104" name="圆角矩形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2106720" y="3588480"/>
                <a:ext cx="4929120" cy="75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文本框 4116"/>
              <p:cNvSpPr/>
              <p:nvPr/>
            </p:nvSpPr>
            <p:spPr>
              <a:xfrm>
                <a:off x="2200680" y="3645720"/>
                <a:ext cx="473364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标题 1"/>
            <p:cNvSpPr/>
            <p:nvPr/>
          </p:nvSpPr>
          <p:spPr>
            <a:xfrm>
              <a:off x="3025800" y="3556080"/>
              <a:ext cx="3083400" cy="7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5C6E-5152-451C-AA97-2269D48D43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4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5715000"/>
          </a:xfrm>
          <a:prstGeom prst="rect">
            <a:avLst/>
          </a:prstGeom>
          <a:ln w="0">
            <a:noFill/>
          </a:ln>
        </p:spPr>
      </p:pic>
      <p:pic>
        <p:nvPicPr>
          <p:cNvPr id="112" name="标题 1" descr=""/>
          <p:cNvPicPr/>
          <p:nvPr/>
        </p:nvPicPr>
        <p:blipFill>
          <a:blip r:embed="rId2"/>
          <a:stretch/>
        </p:blipFill>
        <p:spPr>
          <a:xfrm>
            <a:off x="4383000" y="3352680"/>
            <a:ext cx="4260960" cy="87804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7:57:01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2:23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