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C90-0855-4CAD-A880-80D723D9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DE2-32BE-4A9F-BE4B-EF2C79AE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F99-22A1-4035-9ACC-7B852F82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690-6618-4A70-8C78-264DC285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62AA-EDF0-4E02-8B67-F0A6F90B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9804-0FCC-4341-AEE4-C77C044B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47A5-FC36-4E9B-80BD-0B78849E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A1AE-0C1B-4D8D-A7C1-76A3ED55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63B7-AB94-4C7B-B19C-32AFE6BD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3AAF-11AC-45D4-8B1C-4F829EC2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028A-EBEE-4B61-87CF-06FB501D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11E-F9AE-4BD0-8189-38251837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31C3-CE9D-4242-84E6-2C1CAB2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786A-F1E3-432E-B36B-C2267AC1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F28A-9836-464F-BB07-CE26166F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A959-2D69-4CF5-8BC7-B50C27D0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0B00-F534-4A2E-A0D2-811CDF34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BFC61-93F0-41B3-A7F0-C6D7CCCA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3A926-1835-44C4-92C0-F8A12A4E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77112-0F6C-458B-8C2F-9AF34BA1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7D721-6425-426A-9F8E-0C66AD90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8136E-1149-481E-966C-ED9C4FF7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6D2-BCC1-4C67-8927-0D4C233B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EE96-C94B-426D-8BF8-80F4B5C5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9D77B-40BF-4C62-ABE1-5AF08F89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B8CF7-719F-497F-A123-AC1A7C8E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ECFA2-91C0-4FD8-9445-D84AEB86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EFADB-17FF-41CE-9505-19D0A60C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D79E9-FE0C-45F7-A86B-AFA6D2A4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A5E49-FA2D-4215-AAF5-48C92A0F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3653D-4540-4A46-B4D7-BDD418D5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9947C-92FE-44C4-B3C8-448EF32D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F67E6-FA90-477B-A6E4-A3999FA9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02A-5FCF-432A-A4D1-3EE9F0A0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C18EA-1A3F-44A4-A267-FAD09EEC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D1743-3A81-4FFB-B655-BA9054AC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06CA4-DED5-4C73-9340-A8B05723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2841B-A135-4937-916D-26CCDFB0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B407F-0CCC-4479-BA2F-CF397609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F274C-E4A9-42C4-B4AA-63FF9FAE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EC5A5-FB9B-4B78-B5CC-A9F9F038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B316A-4505-4078-A84A-522DDFEA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1C5F6-6E9B-4E99-96CC-6ADA0E8D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0B108-C1F4-4B6B-A599-892CC5D6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C95-B744-4B98-9118-EBAD9CC8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3E007-9F1C-448F-A04D-978A8CAC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7D3B9-9E77-445A-9031-E4B02802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E4F51-5442-4AB5-B192-B0B2DA32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A5B17-6994-480B-9696-20A052D8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2C552-44A7-4DC8-AFF4-9DAC0409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F56ED-E176-4B02-9F6A-885E055F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1D0B0-2031-4320-9A86-E12E630D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1AD72-428C-4073-A13C-ED5C55B1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CE536-1D67-45CB-BAD2-CE9AA96A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265E0-B573-450E-A65C-7DABC811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784-99E9-4775-BECF-A21C90BC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CBDFF-3FE6-442F-96C9-B2DD388C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4E40D-33F2-48CE-A95E-74F69796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52871-2F57-4962-972A-963A7492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55638-23E3-472B-B4A2-81721D6F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B33C7-DBDE-4499-8B87-27D1E8AB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D9EF1-990C-4B14-9474-A02A7C4D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7FD80-FD32-4940-917D-A4D590F7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E51B8-9FDD-4DBF-936D-A816E2C9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8368F-0F56-4761-9C7B-2DB6802F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597DF-ED84-4F4E-9597-4F9E2FD1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3C7-F94C-4E0E-B924-4913FAE3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90210-0DDB-4219-A763-B0DA2DD5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2CFDD-E442-4EB2-A67B-156D27AC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4D303-9417-4753-97BF-FCC6E94C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01E4A-61C0-4181-8581-1A046054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5729B-3AF0-4103-91F9-D2F33D9D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35BD2-2D02-4B3F-957D-2E22A796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D55D3-06CE-4D6E-9A00-6A2067DE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1BFA3-5ECE-4C25-97A8-B678088D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AF7E8-245D-46F7-A72E-933E6E9E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DC669-F415-4F7C-A2DB-0707E7DF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6F6-0836-47CE-BB70-C946472E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FE726-57A7-4D84-B8EA-81D216E4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33550-31AA-4137-A1E3-C27545D4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C0AF5-363C-437C-B3A3-7E720961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EBD8B-D02E-477E-B516-DA8271F5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EDF07-DFFF-4891-ABB4-2D99C6B9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87C09-20C2-487A-A709-787A5135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215E6-186D-4925-B6E1-69DCCD91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D80CA-A49B-4233-82C2-7BCF4754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ABC98-BA59-4F85-A842-951BC984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901C2-BEFF-46C6-99A0-258E57C3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284-375C-4C3D-B2F9-6140FB3E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83FF1-6F31-4B12-AB0D-4BCACFD1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29576-7FA0-4323-9986-9C02BD4F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C0A2A-669C-4042-AF73-429E580F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531F8-BF24-4A05-BA55-EC416F84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726F7-C846-4FFF-9C4E-1D180E86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29761-5619-4D63-A559-59228711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7BB22-BB66-4C66-ABB8-C0D167F9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8422-800E-47D0-9713-6C77EAE34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2120" y="1709640"/>
              <a:ext cx="7696080" cy="360"/>
              <a:chOff x="762120" y="1709640"/>
              <a:chExt cx="7696080" cy="360"/>
            </a:xfrm>
          </p:grpSpPr>
          <p:sp>
            <p:nvSpPr>
              <p:cNvPr id="8" name="Line 9"/>
              <p:cNvSpPr/>
              <p:nvPr/>
            </p:nvSpPr>
            <p:spPr>
              <a:xfrm>
                <a:off x="762120" y="1709640"/>
                <a:ext cx="7696080" cy="0"/>
              </a:xfrm>
              <a:prstGeom prst="line">
                <a:avLst/>
              </a:prstGeom>
              <a:ln w="38160">
                <a:solidFill>
                  <a:srgbClr val="33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 txBox="1"/>
              <p:nvPr/>
            </p:nvSpPr>
            <p:spPr>
              <a:xfrm>
                <a:off x="762120" y="1709640"/>
                <a:ext cx="7696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47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8AAF-7005-4EF5-9EC4-CA66908EB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5610-25B4-42D5-9B1C-BAD685122EC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7171560" y="-84600"/>
            <a:ext cx="2427480" cy="2247120"/>
            <a:chOff x="7171560" y="-84600"/>
            <a:chExt cx="2427480" cy="2247120"/>
          </a:xfrm>
        </p:grpSpPr>
        <p:grpSp>
          <p:nvGrpSpPr>
            <p:cNvPr id="130" name="Group 41"/>
            <p:cNvGrpSpPr/>
            <p:nvPr/>
          </p:nvGrpSpPr>
          <p:grpSpPr>
            <a:xfrm>
              <a:off x="7171560" y="-84600"/>
              <a:ext cx="2427480" cy="2247120"/>
              <a:chOff x="7171560" y="-84600"/>
              <a:chExt cx="2427480" cy="2247120"/>
            </a:xfrm>
          </p:grpSpPr>
          <p:sp>
            <p:nvSpPr>
              <p:cNvPr id="13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Group 43"/>
              <p:cNvGrpSpPr/>
              <p:nvPr/>
            </p:nvGrpSpPr>
            <p:grpSpPr>
              <a:xfrm>
                <a:off x="7171560" y="-84600"/>
                <a:ext cx="2427480" cy="2247120"/>
                <a:chOff x="7171560" y="-84600"/>
                <a:chExt cx="2427480" cy="2247120"/>
              </a:xfrm>
            </p:grpSpPr>
            <p:sp>
              <p:nvSpPr>
                <p:cNvPr id="133" name="Freeform 44"/>
                <p:cNvSpPr/>
                <p:nvPr/>
              </p:nvSpPr>
              <p:spPr>
                <a:xfrm rot="18427200">
                  <a:off x="7880400" y="112680"/>
                  <a:ext cx="24264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45"/>
                <p:cNvSpPr/>
                <p:nvPr/>
              </p:nvSpPr>
              <p:spPr>
                <a:xfrm rot="18427200">
                  <a:off x="801144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46"/>
                <p:cNvSpPr/>
                <p:nvPr/>
              </p:nvSpPr>
              <p:spPr>
                <a:xfrm rot="18427200">
                  <a:off x="77097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47"/>
                <p:cNvSpPr/>
                <p:nvPr/>
              </p:nvSpPr>
              <p:spPr>
                <a:xfrm rot="18427200">
                  <a:off x="7783200" y="-2736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48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49"/>
                <p:cNvSpPr/>
                <p:nvPr/>
              </p:nvSpPr>
              <p:spPr>
                <a:xfrm rot="18427200">
                  <a:off x="83361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50"/>
                <p:cNvSpPr/>
                <p:nvPr/>
              </p:nvSpPr>
              <p:spPr>
                <a:xfrm rot="18427200">
                  <a:off x="7910640" y="33300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51"/>
                <p:cNvSpPr/>
                <p:nvPr/>
              </p:nvSpPr>
              <p:spPr>
                <a:xfrm rot="18427200">
                  <a:off x="785268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6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142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49C8-DDD7-4BF1-9481-3400A4618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B92B-D545-461A-BCA7-B1A70036F5D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4F0C-0B8F-4E9B-867B-B3F5C57A1E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B5F2-9C3C-4160-96ED-499B38274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307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7E19-C13B-41B9-8475-5C86C02F2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5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5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63" name="Freeform 19"/>
            <p:cNvSpPr/>
            <p:nvPr/>
          </p:nvSpPr>
          <p:spPr>
            <a:xfrm rot="7320000">
              <a:off x="7789680" y="46573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0"/>
            <p:cNvSpPr/>
            <p:nvPr/>
          </p:nvSpPr>
          <p:spPr>
            <a:xfrm rot="7320000">
              <a:off x="7764840" y="4636080"/>
              <a:ext cx="99504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67" name="Freeform 23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5"/>
              <p:cNvSpPr/>
              <p:nvPr/>
            </p:nvSpPr>
            <p:spPr>
              <a:xfrm rot="7320000">
                <a:off x="8039160" y="476100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6"/>
              <p:cNvSpPr/>
              <p:nvPr/>
            </p:nvSpPr>
            <p:spPr>
              <a:xfrm rot="7320000">
                <a:off x="8514000" y="45615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7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A76A-7BEF-4BA6-8F80-585E1CE8A3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WordArt 5"/>
          <p:cNvSpPr txBox="1"/>
          <p:nvPr/>
        </p:nvSpPr>
        <p:spPr>
          <a:xfrm>
            <a:off x="1251000" y="2422440"/>
            <a:ext cx="6956280" cy="17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春雨的色彩语文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页脚占位符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539640" y="1989000"/>
            <a:ext cx="78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春雨听了大家的争论，下得更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欢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了，沙沙沙，沙沙沙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9cc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971640" y="1413000"/>
            <a:ext cx="734364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线  论  趣  题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底  颜  淋  洒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滴  油  欢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755640" y="33336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xiàn lùn  qù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  <a:ea typeface="Arial"/>
              </a:rPr>
              <a:t>í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684360" y="256536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ǐ   yán  lín    sǎ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1116000" y="436572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ī   yóu  huā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971640" y="1413000"/>
            <a:ext cx="734364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线  论  趣  题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底  颜  淋  洒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滴  油  欢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A918-6BB7-4608-95D9-DFC2558786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页脚占位符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900000" y="2133720"/>
            <a:ext cx="1440000" cy="1439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71640" y="2852640"/>
            <a:ext cx="1368360" cy="360"/>
            <a:chOff x="971640" y="2852640"/>
            <a:chExt cx="1368360" cy="360"/>
          </a:xfrm>
        </p:grpSpPr>
        <p:sp>
          <p:nvSpPr>
            <p:cNvPr id="457" name="Line 10"/>
            <p:cNvSpPr/>
            <p:nvPr/>
          </p:nvSpPr>
          <p:spPr>
            <a:xfrm>
              <a:off x="971640" y="28526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971640" y="285264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619280" y="2133720"/>
            <a:ext cx="360" cy="1439640"/>
            <a:chOff x="1619280" y="2133720"/>
            <a:chExt cx="360" cy="1439640"/>
          </a:xfrm>
        </p:grpSpPr>
        <p:sp>
          <p:nvSpPr>
            <p:cNvPr id="460" name="Line 11"/>
            <p:cNvSpPr/>
            <p:nvPr/>
          </p:nvSpPr>
          <p:spPr>
            <a:xfrm>
              <a:off x="1619280" y="21337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1619280" y="2133720"/>
              <a:ext cx="360" cy="14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12"/>
          <p:cNvSpPr/>
          <p:nvPr/>
        </p:nvSpPr>
        <p:spPr>
          <a:xfrm>
            <a:off x="5435640" y="4292640"/>
            <a:ext cx="1440000" cy="14400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435640" y="5013360"/>
            <a:ext cx="1368360" cy="360"/>
            <a:chOff x="5435640" y="5013360"/>
            <a:chExt cx="1368360" cy="360"/>
          </a:xfrm>
        </p:grpSpPr>
        <p:sp>
          <p:nvSpPr>
            <p:cNvPr id="464" name="Line 13"/>
            <p:cNvSpPr/>
            <p:nvPr/>
          </p:nvSpPr>
          <p:spPr>
            <a:xfrm>
              <a:off x="5435640" y="501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5435640" y="501336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6156360" y="4292640"/>
            <a:ext cx="360" cy="1440000"/>
            <a:chOff x="6156360" y="4292640"/>
            <a:chExt cx="360" cy="1440000"/>
          </a:xfrm>
        </p:grpSpPr>
        <p:sp>
          <p:nvSpPr>
            <p:cNvPr id="467" name="Line 14"/>
            <p:cNvSpPr/>
            <p:nvPr/>
          </p:nvSpPr>
          <p:spPr>
            <a:xfrm>
              <a:off x="6156360" y="429264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6156360" y="4292640"/>
              <a:ext cx="36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5"/>
          <p:cNvSpPr/>
          <p:nvPr/>
        </p:nvSpPr>
        <p:spPr>
          <a:xfrm>
            <a:off x="5364000" y="2133720"/>
            <a:ext cx="1440000" cy="1439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987640" y="5013360"/>
            <a:ext cx="1368360" cy="360"/>
            <a:chOff x="2987640" y="5013360"/>
            <a:chExt cx="1368360" cy="360"/>
          </a:xfrm>
        </p:grpSpPr>
        <p:sp>
          <p:nvSpPr>
            <p:cNvPr id="471" name="Line 16"/>
            <p:cNvSpPr/>
            <p:nvPr/>
          </p:nvSpPr>
          <p:spPr>
            <a:xfrm>
              <a:off x="2987640" y="501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2987640" y="501336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708360" y="4292640"/>
            <a:ext cx="360" cy="1440000"/>
            <a:chOff x="3708360" y="4292640"/>
            <a:chExt cx="360" cy="1440000"/>
          </a:xfrm>
        </p:grpSpPr>
        <p:sp>
          <p:nvSpPr>
            <p:cNvPr id="474" name="Line 17"/>
            <p:cNvSpPr/>
            <p:nvPr/>
          </p:nvSpPr>
          <p:spPr>
            <a:xfrm>
              <a:off x="3708360" y="429264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3708360" y="4292640"/>
              <a:ext cx="36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Rectangle 18"/>
          <p:cNvSpPr/>
          <p:nvPr/>
        </p:nvSpPr>
        <p:spPr>
          <a:xfrm>
            <a:off x="3059280" y="2133720"/>
            <a:ext cx="1439640" cy="1439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5364000" y="2852640"/>
            <a:ext cx="1368720" cy="360"/>
            <a:chOff x="5364000" y="2852640"/>
            <a:chExt cx="1368720" cy="360"/>
          </a:xfrm>
        </p:grpSpPr>
        <p:sp>
          <p:nvSpPr>
            <p:cNvPr id="478" name="Line 19"/>
            <p:cNvSpPr/>
            <p:nvPr/>
          </p:nvSpPr>
          <p:spPr>
            <a:xfrm>
              <a:off x="5364000" y="2852640"/>
              <a:ext cx="136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5364000" y="2852640"/>
              <a:ext cx="13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6084720" y="2133720"/>
            <a:ext cx="360" cy="1439640"/>
            <a:chOff x="6084720" y="2133720"/>
            <a:chExt cx="360" cy="1439640"/>
          </a:xfrm>
        </p:grpSpPr>
        <p:sp>
          <p:nvSpPr>
            <p:cNvPr id="481" name="Line 20"/>
            <p:cNvSpPr/>
            <p:nvPr/>
          </p:nvSpPr>
          <p:spPr>
            <a:xfrm>
              <a:off x="6084720" y="21337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6084720" y="2133720"/>
              <a:ext cx="360" cy="14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Rectangle 21"/>
          <p:cNvSpPr/>
          <p:nvPr/>
        </p:nvSpPr>
        <p:spPr>
          <a:xfrm>
            <a:off x="2987640" y="4292640"/>
            <a:ext cx="1440000" cy="14400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132000" y="2852640"/>
            <a:ext cx="1368720" cy="360"/>
            <a:chOff x="3132000" y="2852640"/>
            <a:chExt cx="1368720" cy="360"/>
          </a:xfrm>
        </p:grpSpPr>
        <p:sp>
          <p:nvSpPr>
            <p:cNvPr id="485" name="Line 22"/>
            <p:cNvSpPr/>
            <p:nvPr/>
          </p:nvSpPr>
          <p:spPr>
            <a:xfrm>
              <a:off x="3132000" y="2852640"/>
              <a:ext cx="136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 txBox="1"/>
            <p:nvPr/>
          </p:nvSpPr>
          <p:spPr>
            <a:xfrm>
              <a:off x="3132000" y="2852640"/>
              <a:ext cx="13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780000" y="2133720"/>
            <a:ext cx="360" cy="1439640"/>
            <a:chOff x="3780000" y="2133720"/>
            <a:chExt cx="360" cy="1439640"/>
          </a:xfrm>
        </p:grpSpPr>
        <p:sp>
          <p:nvSpPr>
            <p:cNvPr id="488" name="Line 23"/>
            <p:cNvSpPr/>
            <p:nvPr/>
          </p:nvSpPr>
          <p:spPr>
            <a:xfrm>
              <a:off x="3780000" y="21337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3780000" y="2133720"/>
              <a:ext cx="360" cy="14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24"/>
          <p:cNvSpPr/>
          <p:nvPr/>
        </p:nvSpPr>
        <p:spPr>
          <a:xfrm>
            <a:off x="971640" y="4292640"/>
            <a:ext cx="1439640" cy="14400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042920" y="5013360"/>
            <a:ext cx="1368360" cy="360"/>
            <a:chOff x="1042920" y="5013360"/>
            <a:chExt cx="1368360" cy="360"/>
          </a:xfrm>
        </p:grpSpPr>
        <p:sp>
          <p:nvSpPr>
            <p:cNvPr id="492" name="Line 25"/>
            <p:cNvSpPr/>
            <p:nvPr/>
          </p:nvSpPr>
          <p:spPr>
            <a:xfrm>
              <a:off x="1042920" y="501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1042920" y="501336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1692360" y="4292640"/>
            <a:ext cx="360" cy="1440000"/>
            <a:chOff x="1692360" y="4292640"/>
            <a:chExt cx="360" cy="1440000"/>
          </a:xfrm>
        </p:grpSpPr>
        <p:sp>
          <p:nvSpPr>
            <p:cNvPr id="495" name="Line 26"/>
            <p:cNvSpPr/>
            <p:nvPr/>
          </p:nvSpPr>
          <p:spPr>
            <a:xfrm>
              <a:off x="1692360" y="429264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1692360" y="4292640"/>
              <a:ext cx="36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3708360" y="4292640"/>
            <a:ext cx="360" cy="1441440"/>
            <a:chOff x="3708360" y="4292640"/>
            <a:chExt cx="360" cy="1441440"/>
          </a:xfrm>
        </p:grpSpPr>
        <p:sp>
          <p:nvSpPr>
            <p:cNvPr id="498" name="Line 27"/>
            <p:cNvSpPr/>
            <p:nvPr/>
          </p:nvSpPr>
          <p:spPr>
            <a:xfrm>
              <a:off x="3708360" y="4292640"/>
              <a:ext cx="0" cy="144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 txBox="1"/>
            <p:nvPr/>
          </p:nvSpPr>
          <p:spPr>
            <a:xfrm>
              <a:off x="3708360" y="4292640"/>
              <a:ext cx="360" cy="144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987640" y="5013360"/>
            <a:ext cx="1368360" cy="360"/>
            <a:chOff x="2987640" y="5013360"/>
            <a:chExt cx="1368360" cy="360"/>
          </a:xfrm>
        </p:grpSpPr>
        <p:sp>
          <p:nvSpPr>
            <p:cNvPr id="501" name="Line 29"/>
            <p:cNvSpPr/>
            <p:nvPr/>
          </p:nvSpPr>
          <p:spPr>
            <a:xfrm>
              <a:off x="2987640" y="501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 txBox="1"/>
            <p:nvPr/>
          </p:nvSpPr>
          <p:spPr>
            <a:xfrm>
              <a:off x="2987640" y="501336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Text Box 30"/>
          <p:cNvSpPr/>
          <p:nvPr/>
        </p:nvSpPr>
        <p:spPr>
          <a:xfrm>
            <a:off x="1042920" y="2276640"/>
            <a:ext cx="122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你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1"/>
          <p:cNvSpPr/>
          <p:nvPr/>
        </p:nvSpPr>
        <p:spPr>
          <a:xfrm>
            <a:off x="3203640" y="2276640"/>
            <a:ext cx="107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们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2"/>
          <p:cNvSpPr/>
          <p:nvPr/>
        </p:nvSpPr>
        <p:spPr>
          <a:xfrm>
            <a:off x="5580000" y="2259000"/>
            <a:ext cx="165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红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3"/>
          <p:cNvSpPr/>
          <p:nvPr/>
        </p:nvSpPr>
        <p:spPr>
          <a:xfrm>
            <a:off x="1187280" y="4417920"/>
            <a:ext cx="19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中宋"/>
              </a:rPr>
              <a:t>绿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4"/>
          <p:cNvSpPr/>
          <p:nvPr/>
        </p:nvSpPr>
        <p:spPr>
          <a:xfrm>
            <a:off x="3132000" y="4437000"/>
            <a:ext cx="12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5"/>
          <p:cNvSpPr/>
          <p:nvPr/>
        </p:nvSpPr>
        <p:spPr>
          <a:xfrm>
            <a:off x="5653080" y="4437000"/>
            <a:ext cx="151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草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6"/>
          <p:cNvSpPr/>
          <p:nvPr/>
        </p:nvSpPr>
        <p:spPr>
          <a:xfrm>
            <a:off x="2209680" y="457200"/>
            <a:ext cx="358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我会写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0" y="227664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春雨，像春姑娘纺出的线，轻轻地落到地上，沙沙沙，沙沙沙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157320" y="3214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线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页脚占位符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2436840" y="3357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</a:rPr>
              <a:t>线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979640" y="242100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9cc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页脚占位符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1187280" y="1989000"/>
            <a:ext cx="705672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611280" y="20606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田野里，一群小鸟正在争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论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个有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趣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的问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题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：春雨到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底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是什么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色的？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页脚占位符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1258920" y="364500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论  趣  题  底  颜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1187280" y="2133720"/>
            <a:ext cx="64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lùn q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ǜ t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  <a:ea typeface="Arial"/>
              </a:rPr>
              <a:t>í dǐ y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á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页脚占位符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900000" y="76500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燕子说：“春雨是绿色的。你们瞧，春雨落到草地上，草就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绿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了。春雨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淋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在柳树上，柳枝也绿了。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页脚占位符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1692360" y="3500280"/>
            <a:ext cx="648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</a:rPr>
              <a:t>绿    淋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1908000" y="234936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ǜ        l</a:t>
            </a:r>
            <a:r>
              <a:rPr b="1" lang="en-US" sz="8000" spc="-1" strike="noStrike">
                <a:solidFill>
                  <a:srgbClr val="000000"/>
                </a:solidFill>
                <a:latin typeface="宋体"/>
                <a:ea typeface="Arial"/>
              </a:rPr>
              <a:t>ín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9cc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页脚占位符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468360" y="1773360"/>
            <a:ext cx="81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麻雀说：“不对，春雨是红色的。你们瞧，春雨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洒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在桃树上，桃花红了。春雨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滴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在杜鹃丛中，杜鹃花也红了。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页脚占位符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539640" y="76500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黄莺说：“不对，不对，春雨是黄色的。你们看，春雨落在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油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菜地里，油菜花黄了。春雨落在蒲公英上，蒲公英花也黄了。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00:57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09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