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1.wmf" ContentType="image/x-wmf"/>
  <Override PartName="/ppt/media/image3.png" ContentType="image/png"/>
  <Override PartName="/ppt/media/type.wav" ContentType="audio/x-wav"/>
  <Override PartName="/ppt/media/image8.png" ContentType="image/png"/>
  <Override PartName="/ppt/media/image5.gif" ContentType="image/gif"/>
  <Override PartName="/ppt/media/image7.wmf" ContentType="image/x-wmf"/>
  <Override PartName="/ppt/media/image16.jpeg" ContentType="image/jpeg"/>
  <Override PartName="/ppt/media/driveby.wav" ContentType="audio/x-wav"/>
  <Override PartName="/ppt/media/image15.wmf" ContentType="image/x-wmf"/>
  <Override PartName="/ppt/media/image1.jpeg" ContentType="image/jpeg"/>
  <Override PartName="/ppt/media/applause.wav" ContentType="audio/x-wav"/>
  <Override PartName="/ppt/media/image10.png" ContentType="image/png"/>
  <Override PartName="/ppt/media/image2.png" ContentType="image/png"/>
  <Override PartName="/ppt/media/image4.png" ContentType="image/png"/>
  <Override PartName="/ppt/media/image9.png" ContentType="image/png"/>
  <Override PartName="/ppt/media/image14.wmf" ContentType="image/x-wmf"/>
  <Override PartName="/ppt/media/image6.png" ContentType="image/png"/>
  <Override PartName="/ppt/media/image12.jpeg" ContentType="image/jpeg"/>
  <Override PartName="/ppt/media/image1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0CFF6-4242-41F8-9A8E-78554AED2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9BDF5-C861-4105-B868-56E2F6B19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107F2-4658-4EE0-ABB9-993DD5416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583F8-BFA5-4894-A1F2-8948E98C2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FE015-5841-4A14-AE28-15DFD993A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6580C-1C66-4699-BA91-D0D5F86DD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CBEC0-BBAD-4712-A8B1-880E4862B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E1106-86DF-4B31-95EB-F9FD4B941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97493-C4C5-4D9A-9502-6AF30A675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90E26-1929-475D-9C28-B6C79F3F1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043AF-1279-4292-9651-8C64D22B6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AB0E8-52D5-4884-B585-86E6AD131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AFCBD-814F-4CD8-B0EC-6BDF9EEBE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42C77-34A7-4C10-97D0-1DC0877B0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3A254-E7EB-41C8-BFA5-A4B5D512C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D047F-CC48-4D76-849A-3E721B7A4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8F03A-DDC4-4491-975A-9564E4B4A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2DB4EA-779F-4FD5-B5B1-59776CEF8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53B813-EE62-4557-9D82-50D62CB0D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193542-0B86-445E-BFBD-00CFE6541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BEE443-15E4-4F25-88D3-D5C523CDA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71C61C-D413-4FFB-B79B-7667C7C72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B9FAA-1256-4068-839A-2D43EFB28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6B89B2-B21A-47DE-9722-BE0783186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F48E78-8D9B-4F63-8BD3-AF0FFDE99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94FC89-98D1-4C32-8C47-1D27D4DF4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1E45FC-FE81-4ADA-A73B-120CE447E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FEB899-F16F-487A-A666-6A306E824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505DC3-249C-4360-9B1D-F76EB55F0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DA0055-5755-44B2-86A7-1B93B55BD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BC837-D008-482F-808E-133CCDA0F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51CA0-499D-48F3-9B2B-8820BCD35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E31F2-3F59-457C-858E-F8149FE37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0E5E9-B7F5-4479-919F-37F932B33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5D993-8D78-4373-859C-E3B6C4C37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3D75E-859E-4C50-926D-F04C1AB06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48098-91E3-4B45-9FE2-40A360EE1CC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48DAB-E4BD-4E09-AB75-A010C57AA332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3C947-90A9-4109-96FE-0A68CBA667DF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87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8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89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5BB04-66E3-4CA0-8904-03DEB18354B3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5.gif"/><Relationship Id="rId6" Type="http://schemas.openxmlformats.org/officeDocument/2006/relationships/image" Target="../media/image6.png"/><Relationship Id="rId7" Type="http://schemas.openxmlformats.org/officeDocument/2006/relationships/hyperlink" Target="257,2,&#24187;&#28783;&#29255; 2" TargetMode="External"/><Relationship Id="rId8" Type="http://schemas.openxmlformats.org/officeDocument/2006/relationships/hyperlink" Target="261,6,&#24187;&#28783;&#29255; 6" TargetMode="External"/><Relationship Id="rId9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hyperlink" Target="http://www.1ppt.com/excel/" TargetMode="External"/><Relationship Id="rId11" Type="http://schemas.openxmlformats.org/officeDocument/2006/relationships/hyperlink" Target="http://www.1ppt.com/ziliao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fanwen/" TargetMode="External"/><Relationship Id="rId14" Type="http://schemas.openxmlformats.org/officeDocument/2006/relationships/hyperlink" Target="http://www.1ppt.com/shiti/" TargetMode="External"/><Relationship Id="rId15" Type="http://schemas.openxmlformats.org/officeDocument/2006/relationships/hyperlink" Target="http://www.1ppt.com/jiaoan/" TargetMode="External"/><Relationship Id="rId16" Type="http://schemas.openxmlformats.org/officeDocument/2006/relationships/image" Target="../media/image7.wmf"/><Relationship Id="rId17" Type="http://schemas.openxmlformats.org/officeDocument/2006/relationships/image" Target="../media/image5.gif"/><Relationship Id="rId18" Type="http://schemas.openxmlformats.org/officeDocument/2006/relationships/image" Target="../media/image8.png"/><Relationship Id="rId19" Type="http://schemas.openxmlformats.org/officeDocument/2006/relationships/image" Target="../media/image9.png"/><Relationship Id="rId20" Type="http://schemas.openxmlformats.org/officeDocument/2006/relationships/image" Target="../media/image10.png"/><Relationship Id="rId2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png"/><Relationship Id="rId3" Type="http://schemas.openxmlformats.org/officeDocument/2006/relationships/image" Target="../media/image5.gif"/><Relationship Id="rId4" Type="http://schemas.openxmlformats.org/officeDocument/2006/relationships/image" Target="../media/image10.png"/><Relationship Id="rId5" Type="http://schemas.openxmlformats.org/officeDocument/2006/relationships/image" Target="../media/image9.png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audio" Target="../media/type.wav"/><Relationship Id="rId11" Type="http://schemas.openxmlformats.org/officeDocument/2006/relationships/audio" Target="../media/type.wav"/><Relationship Id="rId12" Type="http://schemas.openxmlformats.org/officeDocument/2006/relationships/audio" Target="../media/type.wav"/><Relationship Id="rId13" Type="http://schemas.openxmlformats.org/officeDocument/2006/relationships/audio" Target="../media/type.wav"/><Relationship Id="rId14" Type="http://schemas.openxmlformats.org/officeDocument/2006/relationships/audio" Target="../media/type.wav"/><Relationship Id="rId15" Type="http://schemas.openxmlformats.org/officeDocument/2006/relationships/audio" Target="../media/type.wav"/><Relationship Id="rId16" Type="http://schemas.openxmlformats.org/officeDocument/2006/relationships/audio" Target="../media/type.wav"/><Relationship Id="rId17" Type="http://schemas.openxmlformats.org/officeDocument/2006/relationships/audio" Target="../media/type.wav"/><Relationship Id="rId18" Type="http://schemas.openxmlformats.org/officeDocument/2006/relationships/audio" Target="../media/type.wav"/><Relationship Id="rId1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png"/><Relationship Id="rId3" Type="http://schemas.openxmlformats.org/officeDocument/2006/relationships/image" Target="../media/image5.gif"/><Relationship Id="rId4" Type="http://schemas.openxmlformats.org/officeDocument/2006/relationships/image" Target="../media/image10.png"/><Relationship Id="rId5" Type="http://schemas.openxmlformats.org/officeDocument/2006/relationships/hyperlink" Target="http://www.eeppt.com" TargetMode="External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audio" Target="../media/type.wav"/><Relationship Id="rId11" Type="http://schemas.openxmlformats.org/officeDocument/2006/relationships/audio" Target="../media/type.wav"/><Relationship Id="rId12" Type="http://schemas.openxmlformats.org/officeDocument/2006/relationships/audio" Target="../media/type.wav"/><Relationship Id="rId13" Type="http://schemas.openxmlformats.org/officeDocument/2006/relationships/audio" Target="../media/type.wav"/><Relationship Id="rId14" Type="http://schemas.openxmlformats.org/officeDocument/2006/relationships/audio" Target="../media/type.wav"/><Relationship Id="rId15" Type="http://schemas.openxmlformats.org/officeDocument/2006/relationships/audio" Target="../media/type.wav"/><Relationship Id="rId16" Type="http://schemas.openxmlformats.org/officeDocument/2006/relationships/audio" Target="../media/type.wav"/><Relationship Id="rId1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cnimg.com/index.htm" TargetMode="External"/><Relationship Id="rId2" Type="http://schemas.openxmlformats.org/officeDocument/2006/relationships/image" Target="../media/image12.jpeg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9.png"/><Relationship Id="rId3" Type="http://schemas.openxmlformats.org/officeDocument/2006/relationships/image" Target="../media/image13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4.wmf"/><Relationship Id="rId3" Type="http://schemas.openxmlformats.org/officeDocument/2006/relationships/image" Target="../media/image14.wmf"/><Relationship Id="rId4" Type="http://schemas.openxmlformats.org/officeDocument/2006/relationships/image" Target="../media/image14.wmf"/><Relationship Id="rId5" Type="http://schemas.openxmlformats.org/officeDocument/2006/relationships/hyperlink" Target="http://www.eeppt.com" TargetMode="External"/><Relationship Id="rId6" Type="http://schemas.openxmlformats.org/officeDocument/2006/relationships/audio" Target="../media/driveby.wav"/><Relationship Id="rId7" Type="http://schemas.openxmlformats.org/officeDocument/2006/relationships/audio" Target="../media/driveby.wav"/><Relationship Id="rId8" Type="http://schemas.openxmlformats.org/officeDocument/2006/relationships/audio" Target="../media/driveby.wav"/><Relationship Id="rId9" Type="http://schemas.openxmlformats.org/officeDocument/2006/relationships/audio" Target="../media/driveby.wav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1911240" y="3968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攀钢二中小       余英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2" name="WordArt 4"/>
          <p:cNvSpPr txBox="1"/>
          <p:nvPr/>
        </p:nvSpPr>
        <p:spPr>
          <a:xfrm>
            <a:off x="1295280" y="1523880"/>
            <a:ext cx="662940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地球爷爷的手</a:t>
            </a:r>
            <a:r>
              <a:rPr b="0" lang="en-US" sz="4400" spc="-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PPT</a:t>
            </a:r>
            <a:r>
              <a:rPr b="0" lang="zh-CN" sz="4400" spc="-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课件打包下载</a:t>
            </a:r>
            <a:endParaRPr b="0" lang="en-US" sz="4400" spc="-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33" name="Picture 15" descr="tuzi1"/>
          <p:cNvPicPr/>
          <p:nvPr/>
        </p:nvPicPr>
        <p:blipFill>
          <a:blip r:embed="rId5"/>
          <a:stretch/>
        </p:blipFill>
        <p:spPr>
          <a:xfrm>
            <a:off x="6553080" y="5105520"/>
            <a:ext cx="1543320" cy="1474560"/>
          </a:xfrm>
          <a:prstGeom prst="rect">
            <a:avLst/>
          </a:prstGeom>
          <a:ln w="0">
            <a:noFill/>
          </a:ln>
        </p:spPr>
      </p:pic>
      <p:pic>
        <p:nvPicPr>
          <p:cNvPr id="134" name="从开始到现在.MP3" descr=""/>
          <p:cNvPicPr/>
          <p:nvPr/>
        </p:nvPicPr>
        <p:blipFill>
          <a:blip r:embed="rId6"/>
          <a:stretch/>
        </p:blipFill>
        <p:spPr>
          <a:xfrm>
            <a:off x="4495680" y="60199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30"/>
          <p:cNvSpPr/>
          <p:nvPr/>
        </p:nvSpPr>
        <p:spPr>
          <a:xfrm>
            <a:off x="457200" y="5943600"/>
            <a:ext cx="83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ff33cc"/>
                </a:solidFill>
                <a:uFillTx/>
                <a:latin typeface="Times New Roman"/>
                <a:hlinkClick r:id="rId7"/>
              </a:rPr>
              <a:t>课文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6" name="Text Box 32"/>
          <p:cNvSpPr/>
          <p:nvPr/>
        </p:nvSpPr>
        <p:spPr>
          <a:xfrm>
            <a:off x="2590920" y="59436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问题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Rectangle 36"/>
          <p:cNvSpPr/>
          <p:nvPr/>
        </p:nvSpPr>
        <p:spPr>
          <a:xfrm>
            <a:off x="1647360" y="5943600"/>
            <a:ext cx="546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cc"/>
                </a:solidFill>
                <a:latin typeface="Times New Roman"/>
              </a:rPr>
              <a:t>生</a:t>
            </a:r>
            <a:r>
              <a:rPr b="0" lang="zh-CN" sz="2400" spc="-1" strike="noStrike" u="sng">
                <a:solidFill>
                  <a:srgbClr val="ff33cc"/>
                </a:solidFill>
                <a:uFillTx/>
                <a:latin typeface="Times New Roman"/>
                <a:hlinkClick r:id="rId8"/>
              </a:rPr>
              <a:t>字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Text Box 37"/>
          <p:cNvSpPr/>
          <p:nvPr/>
        </p:nvSpPr>
        <p:spPr>
          <a:xfrm>
            <a:off x="3657600" y="59436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退出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aeaea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eaeaea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" dur="1" fill="hold"/>
                                        <p:tgtEl>
                                          <p:spTgt spid="1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Picture 2" descr="BD00010_"/>
          <p:cNvPicPr/>
          <p:nvPr/>
        </p:nvPicPr>
        <p:blipFill>
          <a:blip r:embed="rId1"/>
          <a:stretch/>
        </p:blipFill>
        <p:spPr>
          <a:xfrm>
            <a:off x="1600200" y="2684520"/>
            <a:ext cx="1089000" cy="41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0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23" dur="1" fill="hold">
                                    <p:stCondLst>
                                      <p:cond evt="end">
                                        <p:tn val="221"/>
                                      </p:cond>
                                    </p:stCondLst>
                                  </p:cTn>
                                  <p:tgtEl>
                                    <p:spTgt spid="2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Freeform 4"/>
          <p:cNvSpPr/>
          <p:nvPr/>
        </p:nvSpPr>
        <p:spPr>
          <a:xfrm>
            <a:off x="1614600" y="2684520"/>
            <a:ext cx="1063440" cy="4154400"/>
          </a:xfrm>
          <a:custGeom>
            <a:avLst/>
            <a:gdLst/>
            <a:ahLst/>
            <a:rect l="l" t="t" r="r" b="b"/>
            <a:pathLst>
              <a:path w="1341" h="5235">
                <a:moveTo>
                  <a:pt x="844" y="4745"/>
                </a:moveTo>
                <a:lnTo>
                  <a:pt x="831" y="4745"/>
                </a:lnTo>
                <a:lnTo>
                  <a:pt x="818" y="4748"/>
                </a:lnTo>
                <a:lnTo>
                  <a:pt x="808" y="4750"/>
                </a:lnTo>
                <a:lnTo>
                  <a:pt x="799" y="4755"/>
                </a:lnTo>
                <a:lnTo>
                  <a:pt x="792" y="4759"/>
                </a:lnTo>
                <a:lnTo>
                  <a:pt x="788" y="4765"/>
                </a:lnTo>
                <a:lnTo>
                  <a:pt x="786" y="4773"/>
                </a:lnTo>
                <a:lnTo>
                  <a:pt x="788" y="4781"/>
                </a:lnTo>
                <a:lnTo>
                  <a:pt x="791" y="4786"/>
                </a:lnTo>
                <a:lnTo>
                  <a:pt x="793" y="4789"/>
                </a:lnTo>
                <a:lnTo>
                  <a:pt x="797" y="4793"/>
                </a:lnTo>
                <a:lnTo>
                  <a:pt x="801" y="4795"/>
                </a:lnTo>
                <a:lnTo>
                  <a:pt x="807" y="4796"/>
                </a:lnTo>
                <a:lnTo>
                  <a:pt x="811" y="4796"/>
                </a:lnTo>
                <a:lnTo>
                  <a:pt x="818" y="4796"/>
                </a:lnTo>
                <a:lnTo>
                  <a:pt x="824" y="4795"/>
                </a:lnTo>
                <a:lnTo>
                  <a:pt x="827" y="4783"/>
                </a:lnTo>
                <a:lnTo>
                  <a:pt x="833" y="4770"/>
                </a:lnTo>
                <a:lnTo>
                  <a:pt x="839" y="4756"/>
                </a:lnTo>
                <a:lnTo>
                  <a:pt x="844" y="4745"/>
                </a:lnTo>
                <a:lnTo>
                  <a:pt x="854" y="4720"/>
                </a:lnTo>
                <a:lnTo>
                  <a:pt x="860" y="4708"/>
                </a:lnTo>
                <a:lnTo>
                  <a:pt x="865" y="4699"/>
                </a:lnTo>
                <a:lnTo>
                  <a:pt x="871" y="4690"/>
                </a:lnTo>
                <a:lnTo>
                  <a:pt x="877" y="4683"/>
                </a:lnTo>
                <a:lnTo>
                  <a:pt x="880" y="4676"/>
                </a:lnTo>
                <a:lnTo>
                  <a:pt x="882" y="4669"/>
                </a:lnTo>
                <a:lnTo>
                  <a:pt x="880" y="4664"/>
                </a:lnTo>
                <a:lnTo>
                  <a:pt x="875" y="4658"/>
                </a:lnTo>
                <a:lnTo>
                  <a:pt x="864" y="4643"/>
                </a:lnTo>
                <a:lnTo>
                  <a:pt x="862" y="4626"/>
                </a:lnTo>
                <a:lnTo>
                  <a:pt x="867" y="4606"/>
                </a:lnTo>
                <a:lnTo>
                  <a:pt x="875" y="4590"/>
                </a:lnTo>
                <a:lnTo>
                  <a:pt x="877" y="4581"/>
                </a:lnTo>
                <a:lnTo>
                  <a:pt x="875" y="4570"/>
                </a:lnTo>
                <a:lnTo>
                  <a:pt x="870" y="4558"/>
                </a:lnTo>
                <a:lnTo>
                  <a:pt x="865" y="4544"/>
                </a:lnTo>
                <a:lnTo>
                  <a:pt x="861" y="4529"/>
                </a:lnTo>
                <a:lnTo>
                  <a:pt x="857" y="4514"/>
                </a:lnTo>
                <a:lnTo>
                  <a:pt x="857" y="4499"/>
                </a:lnTo>
                <a:lnTo>
                  <a:pt x="862" y="4485"/>
                </a:lnTo>
                <a:lnTo>
                  <a:pt x="872" y="4439"/>
                </a:lnTo>
                <a:lnTo>
                  <a:pt x="875" y="4382"/>
                </a:lnTo>
                <a:lnTo>
                  <a:pt x="869" y="4323"/>
                </a:lnTo>
                <a:lnTo>
                  <a:pt x="858" y="4265"/>
                </a:lnTo>
                <a:lnTo>
                  <a:pt x="850" y="4196"/>
                </a:lnTo>
                <a:lnTo>
                  <a:pt x="849" y="4109"/>
                </a:lnTo>
                <a:lnTo>
                  <a:pt x="850" y="4023"/>
                </a:lnTo>
                <a:lnTo>
                  <a:pt x="854" y="3954"/>
                </a:lnTo>
                <a:lnTo>
                  <a:pt x="847" y="3926"/>
                </a:lnTo>
                <a:lnTo>
                  <a:pt x="839" y="3893"/>
                </a:lnTo>
                <a:lnTo>
                  <a:pt x="829" y="3855"/>
                </a:lnTo>
                <a:lnTo>
                  <a:pt x="820" y="3814"/>
                </a:lnTo>
                <a:lnTo>
                  <a:pt x="812" y="3773"/>
                </a:lnTo>
                <a:lnTo>
                  <a:pt x="807" y="3734"/>
                </a:lnTo>
                <a:lnTo>
                  <a:pt x="804" y="3697"/>
                </a:lnTo>
                <a:lnTo>
                  <a:pt x="807" y="3666"/>
                </a:lnTo>
                <a:lnTo>
                  <a:pt x="812" y="3602"/>
                </a:lnTo>
                <a:lnTo>
                  <a:pt x="816" y="3535"/>
                </a:lnTo>
                <a:lnTo>
                  <a:pt x="817" y="3473"/>
                </a:lnTo>
                <a:lnTo>
                  <a:pt x="818" y="3433"/>
                </a:lnTo>
                <a:lnTo>
                  <a:pt x="811" y="3431"/>
                </a:lnTo>
                <a:lnTo>
                  <a:pt x="804" y="3426"/>
                </a:lnTo>
                <a:lnTo>
                  <a:pt x="799" y="3422"/>
                </a:lnTo>
                <a:lnTo>
                  <a:pt x="793" y="3416"/>
                </a:lnTo>
                <a:lnTo>
                  <a:pt x="788" y="3410"/>
                </a:lnTo>
                <a:lnTo>
                  <a:pt x="785" y="3405"/>
                </a:lnTo>
                <a:lnTo>
                  <a:pt x="784" y="3402"/>
                </a:lnTo>
                <a:lnTo>
                  <a:pt x="782" y="3401"/>
                </a:lnTo>
                <a:lnTo>
                  <a:pt x="787" y="3365"/>
                </a:lnTo>
                <a:lnTo>
                  <a:pt x="787" y="3320"/>
                </a:lnTo>
                <a:lnTo>
                  <a:pt x="780" y="3271"/>
                </a:lnTo>
                <a:lnTo>
                  <a:pt x="766" y="3221"/>
                </a:lnTo>
                <a:lnTo>
                  <a:pt x="761" y="3203"/>
                </a:lnTo>
                <a:lnTo>
                  <a:pt x="754" y="3180"/>
                </a:lnTo>
                <a:lnTo>
                  <a:pt x="748" y="3154"/>
                </a:lnTo>
                <a:lnTo>
                  <a:pt x="742" y="3127"/>
                </a:lnTo>
                <a:lnTo>
                  <a:pt x="734" y="3070"/>
                </a:lnTo>
                <a:lnTo>
                  <a:pt x="731" y="3010"/>
                </a:lnTo>
                <a:lnTo>
                  <a:pt x="733" y="2953"/>
                </a:lnTo>
                <a:lnTo>
                  <a:pt x="742" y="2901"/>
                </a:lnTo>
                <a:lnTo>
                  <a:pt x="729" y="2917"/>
                </a:lnTo>
                <a:lnTo>
                  <a:pt x="720" y="2941"/>
                </a:lnTo>
                <a:lnTo>
                  <a:pt x="713" y="2972"/>
                </a:lnTo>
                <a:lnTo>
                  <a:pt x="710" y="3007"/>
                </a:lnTo>
                <a:lnTo>
                  <a:pt x="709" y="3045"/>
                </a:lnTo>
                <a:lnTo>
                  <a:pt x="710" y="3082"/>
                </a:lnTo>
                <a:lnTo>
                  <a:pt x="713" y="3116"/>
                </a:lnTo>
                <a:lnTo>
                  <a:pt x="718" y="3146"/>
                </a:lnTo>
                <a:lnTo>
                  <a:pt x="705" y="3158"/>
                </a:lnTo>
                <a:lnTo>
                  <a:pt x="691" y="3179"/>
                </a:lnTo>
                <a:lnTo>
                  <a:pt x="676" y="3205"/>
                </a:lnTo>
                <a:lnTo>
                  <a:pt x="662" y="3235"/>
                </a:lnTo>
                <a:lnTo>
                  <a:pt x="647" y="3266"/>
                </a:lnTo>
                <a:lnTo>
                  <a:pt x="632" y="3296"/>
                </a:lnTo>
                <a:lnTo>
                  <a:pt x="619" y="3323"/>
                </a:lnTo>
                <a:lnTo>
                  <a:pt x="607" y="3341"/>
                </a:lnTo>
                <a:lnTo>
                  <a:pt x="596" y="3341"/>
                </a:lnTo>
                <a:lnTo>
                  <a:pt x="584" y="3339"/>
                </a:lnTo>
                <a:lnTo>
                  <a:pt x="574" y="3336"/>
                </a:lnTo>
                <a:lnTo>
                  <a:pt x="564" y="3333"/>
                </a:lnTo>
                <a:lnTo>
                  <a:pt x="554" y="3329"/>
                </a:lnTo>
                <a:lnTo>
                  <a:pt x="544" y="3325"/>
                </a:lnTo>
                <a:lnTo>
                  <a:pt x="534" y="3319"/>
                </a:lnTo>
                <a:lnTo>
                  <a:pt x="523" y="3313"/>
                </a:lnTo>
                <a:lnTo>
                  <a:pt x="513" y="3329"/>
                </a:lnTo>
                <a:lnTo>
                  <a:pt x="499" y="3349"/>
                </a:lnTo>
                <a:lnTo>
                  <a:pt x="483" y="3370"/>
                </a:lnTo>
                <a:lnTo>
                  <a:pt x="466" y="3392"/>
                </a:lnTo>
                <a:lnTo>
                  <a:pt x="448" y="3415"/>
                </a:lnTo>
                <a:lnTo>
                  <a:pt x="431" y="3435"/>
                </a:lnTo>
                <a:lnTo>
                  <a:pt x="415" y="3456"/>
                </a:lnTo>
                <a:lnTo>
                  <a:pt x="400" y="3473"/>
                </a:lnTo>
                <a:lnTo>
                  <a:pt x="385" y="3490"/>
                </a:lnTo>
                <a:lnTo>
                  <a:pt x="369" y="3507"/>
                </a:lnTo>
                <a:lnTo>
                  <a:pt x="352" y="3524"/>
                </a:lnTo>
                <a:lnTo>
                  <a:pt x="337" y="3541"/>
                </a:lnTo>
                <a:lnTo>
                  <a:pt x="324" y="3560"/>
                </a:lnTo>
                <a:lnTo>
                  <a:pt x="317" y="3577"/>
                </a:lnTo>
                <a:lnTo>
                  <a:pt x="315" y="3596"/>
                </a:lnTo>
                <a:lnTo>
                  <a:pt x="319" y="3613"/>
                </a:lnTo>
                <a:lnTo>
                  <a:pt x="330" y="3637"/>
                </a:lnTo>
                <a:lnTo>
                  <a:pt x="341" y="3672"/>
                </a:lnTo>
                <a:lnTo>
                  <a:pt x="353" y="3714"/>
                </a:lnTo>
                <a:lnTo>
                  <a:pt x="363" y="3764"/>
                </a:lnTo>
                <a:lnTo>
                  <a:pt x="372" y="3817"/>
                </a:lnTo>
                <a:lnTo>
                  <a:pt x="377" y="3871"/>
                </a:lnTo>
                <a:lnTo>
                  <a:pt x="377" y="3925"/>
                </a:lnTo>
                <a:lnTo>
                  <a:pt x="371" y="3977"/>
                </a:lnTo>
                <a:lnTo>
                  <a:pt x="379" y="3979"/>
                </a:lnTo>
                <a:lnTo>
                  <a:pt x="388" y="3984"/>
                </a:lnTo>
                <a:lnTo>
                  <a:pt x="397" y="3990"/>
                </a:lnTo>
                <a:lnTo>
                  <a:pt x="403" y="3996"/>
                </a:lnTo>
                <a:lnTo>
                  <a:pt x="410" y="4005"/>
                </a:lnTo>
                <a:lnTo>
                  <a:pt x="415" y="4014"/>
                </a:lnTo>
                <a:lnTo>
                  <a:pt x="416" y="4023"/>
                </a:lnTo>
                <a:lnTo>
                  <a:pt x="415" y="4033"/>
                </a:lnTo>
                <a:lnTo>
                  <a:pt x="428" y="4043"/>
                </a:lnTo>
                <a:lnTo>
                  <a:pt x="436" y="4055"/>
                </a:lnTo>
                <a:lnTo>
                  <a:pt x="440" y="4071"/>
                </a:lnTo>
                <a:lnTo>
                  <a:pt x="444" y="4090"/>
                </a:lnTo>
                <a:lnTo>
                  <a:pt x="461" y="4096"/>
                </a:lnTo>
                <a:lnTo>
                  <a:pt x="481" y="4104"/>
                </a:lnTo>
                <a:lnTo>
                  <a:pt x="501" y="4116"/>
                </a:lnTo>
                <a:lnTo>
                  <a:pt x="523" y="4131"/>
                </a:lnTo>
                <a:lnTo>
                  <a:pt x="545" y="4153"/>
                </a:lnTo>
                <a:lnTo>
                  <a:pt x="566" y="4179"/>
                </a:lnTo>
                <a:lnTo>
                  <a:pt x="585" y="4211"/>
                </a:lnTo>
                <a:lnTo>
                  <a:pt x="604" y="4250"/>
                </a:lnTo>
                <a:lnTo>
                  <a:pt x="598" y="4267"/>
                </a:lnTo>
                <a:lnTo>
                  <a:pt x="587" y="4287"/>
                </a:lnTo>
                <a:lnTo>
                  <a:pt x="572" y="4309"/>
                </a:lnTo>
                <a:lnTo>
                  <a:pt x="554" y="4331"/>
                </a:lnTo>
                <a:lnTo>
                  <a:pt x="535" y="4352"/>
                </a:lnTo>
                <a:lnTo>
                  <a:pt x="515" y="4372"/>
                </a:lnTo>
                <a:lnTo>
                  <a:pt x="496" y="4387"/>
                </a:lnTo>
                <a:lnTo>
                  <a:pt x="480" y="4397"/>
                </a:lnTo>
                <a:lnTo>
                  <a:pt x="466" y="4405"/>
                </a:lnTo>
                <a:lnTo>
                  <a:pt x="454" y="4414"/>
                </a:lnTo>
                <a:lnTo>
                  <a:pt x="446" y="4422"/>
                </a:lnTo>
                <a:lnTo>
                  <a:pt x="439" y="4432"/>
                </a:lnTo>
                <a:lnTo>
                  <a:pt x="433" y="4443"/>
                </a:lnTo>
                <a:lnTo>
                  <a:pt x="429" y="4455"/>
                </a:lnTo>
                <a:lnTo>
                  <a:pt x="425" y="4470"/>
                </a:lnTo>
                <a:lnTo>
                  <a:pt x="423" y="4485"/>
                </a:lnTo>
                <a:lnTo>
                  <a:pt x="414" y="4525"/>
                </a:lnTo>
                <a:lnTo>
                  <a:pt x="401" y="4560"/>
                </a:lnTo>
                <a:lnTo>
                  <a:pt x="385" y="4588"/>
                </a:lnTo>
                <a:lnTo>
                  <a:pt x="365" y="4611"/>
                </a:lnTo>
                <a:lnTo>
                  <a:pt x="345" y="4629"/>
                </a:lnTo>
                <a:lnTo>
                  <a:pt x="323" y="4644"/>
                </a:lnTo>
                <a:lnTo>
                  <a:pt x="301" y="4655"/>
                </a:lnTo>
                <a:lnTo>
                  <a:pt x="279" y="4666"/>
                </a:lnTo>
                <a:lnTo>
                  <a:pt x="257" y="4674"/>
                </a:lnTo>
                <a:lnTo>
                  <a:pt x="233" y="4681"/>
                </a:lnTo>
                <a:lnTo>
                  <a:pt x="208" y="4684"/>
                </a:lnTo>
                <a:lnTo>
                  <a:pt x="185" y="4685"/>
                </a:lnTo>
                <a:lnTo>
                  <a:pt x="162" y="4682"/>
                </a:lnTo>
                <a:lnTo>
                  <a:pt x="143" y="4673"/>
                </a:lnTo>
                <a:lnTo>
                  <a:pt x="128" y="4659"/>
                </a:lnTo>
                <a:lnTo>
                  <a:pt x="120" y="4637"/>
                </a:lnTo>
                <a:lnTo>
                  <a:pt x="115" y="4600"/>
                </a:lnTo>
                <a:lnTo>
                  <a:pt x="119" y="4563"/>
                </a:lnTo>
                <a:lnTo>
                  <a:pt x="128" y="4526"/>
                </a:lnTo>
                <a:lnTo>
                  <a:pt x="139" y="4492"/>
                </a:lnTo>
                <a:lnTo>
                  <a:pt x="149" y="4458"/>
                </a:lnTo>
                <a:lnTo>
                  <a:pt x="157" y="4429"/>
                </a:lnTo>
                <a:lnTo>
                  <a:pt x="160" y="4403"/>
                </a:lnTo>
                <a:lnTo>
                  <a:pt x="156" y="4381"/>
                </a:lnTo>
                <a:lnTo>
                  <a:pt x="136" y="4384"/>
                </a:lnTo>
                <a:lnTo>
                  <a:pt x="118" y="4382"/>
                </a:lnTo>
                <a:lnTo>
                  <a:pt x="104" y="4378"/>
                </a:lnTo>
                <a:lnTo>
                  <a:pt x="92" y="4370"/>
                </a:lnTo>
                <a:lnTo>
                  <a:pt x="84" y="4361"/>
                </a:lnTo>
                <a:lnTo>
                  <a:pt x="80" y="4349"/>
                </a:lnTo>
                <a:lnTo>
                  <a:pt x="81" y="4339"/>
                </a:lnTo>
                <a:lnTo>
                  <a:pt x="86" y="4327"/>
                </a:lnTo>
                <a:lnTo>
                  <a:pt x="94" y="4317"/>
                </a:lnTo>
                <a:lnTo>
                  <a:pt x="104" y="4306"/>
                </a:lnTo>
                <a:lnTo>
                  <a:pt x="115" y="4297"/>
                </a:lnTo>
                <a:lnTo>
                  <a:pt x="127" y="4289"/>
                </a:lnTo>
                <a:lnTo>
                  <a:pt x="140" y="4281"/>
                </a:lnTo>
                <a:lnTo>
                  <a:pt x="152" y="4274"/>
                </a:lnTo>
                <a:lnTo>
                  <a:pt x="164" y="4268"/>
                </a:lnTo>
                <a:lnTo>
                  <a:pt x="175" y="4265"/>
                </a:lnTo>
                <a:lnTo>
                  <a:pt x="173" y="4286"/>
                </a:lnTo>
                <a:lnTo>
                  <a:pt x="158" y="4291"/>
                </a:lnTo>
                <a:lnTo>
                  <a:pt x="145" y="4297"/>
                </a:lnTo>
                <a:lnTo>
                  <a:pt x="134" y="4305"/>
                </a:lnTo>
                <a:lnTo>
                  <a:pt x="124" y="4313"/>
                </a:lnTo>
                <a:lnTo>
                  <a:pt x="115" y="4321"/>
                </a:lnTo>
                <a:lnTo>
                  <a:pt x="110" y="4331"/>
                </a:lnTo>
                <a:lnTo>
                  <a:pt x="106" y="4340"/>
                </a:lnTo>
                <a:lnTo>
                  <a:pt x="105" y="4348"/>
                </a:lnTo>
                <a:lnTo>
                  <a:pt x="107" y="4352"/>
                </a:lnTo>
                <a:lnTo>
                  <a:pt x="111" y="4356"/>
                </a:lnTo>
                <a:lnTo>
                  <a:pt x="117" y="4357"/>
                </a:lnTo>
                <a:lnTo>
                  <a:pt x="124" y="4358"/>
                </a:lnTo>
                <a:lnTo>
                  <a:pt x="132" y="4358"/>
                </a:lnTo>
                <a:lnTo>
                  <a:pt x="141" y="4356"/>
                </a:lnTo>
                <a:lnTo>
                  <a:pt x="150" y="4354"/>
                </a:lnTo>
                <a:lnTo>
                  <a:pt x="160" y="4349"/>
                </a:lnTo>
                <a:lnTo>
                  <a:pt x="158" y="4335"/>
                </a:lnTo>
                <a:lnTo>
                  <a:pt x="160" y="4318"/>
                </a:lnTo>
                <a:lnTo>
                  <a:pt x="165" y="4299"/>
                </a:lnTo>
                <a:lnTo>
                  <a:pt x="173" y="4286"/>
                </a:lnTo>
                <a:lnTo>
                  <a:pt x="175" y="4265"/>
                </a:lnTo>
                <a:lnTo>
                  <a:pt x="177" y="4236"/>
                </a:lnTo>
                <a:lnTo>
                  <a:pt x="181" y="4214"/>
                </a:lnTo>
                <a:lnTo>
                  <a:pt x="189" y="4195"/>
                </a:lnTo>
                <a:lnTo>
                  <a:pt x="200" y="4177"/>
                </a:lnTo>
                <a:lnTo>
                  <a:pt x="194" y="4167"/>
                </a:lnTo>
                <a:lnTo>
                  <a:pt x="188" y="4154"/>
                </a:lnTo>
                <a:lnTo>
                  <a:pt x="182" y="4143"/>
                </a:lnTo>
                <a:lnTo>
                  <a:pt x="179" y="4129"/>
                </a:lnTo>
                <a:lnTo>
                  <a:pt x="177" y="4116"/>
                </a:lnTo>
                <a:lnTo>
                  <a:pt x="178" y="4105"/>
                </a:lnTo>
                <a:lnTo>
                  <a:pt x="181" y="4092"/>
                </a:lnTo>
                <a:lnTo>
                  <a:pt x="188" y="4082"/>
                </a:lnTo>
                <a:lnTo>
                  <a:pt x="171" y="4046"/>
                </a:lnTo>
                <a:lnTo>
                  <a:pt x="153" y="4009"/>
                </a:lnTo>
                <a:lnTo>
                  <a:pt x="135" y="3971"/>
                </a:lnTo>
                <a:lnTo>
                  <a:pt x="118" y="3932"/>
                </a:lnTo>
                <a:lnTo>
                  <a:pt x="101" y="3894"/>
                </a:lnTo>
                <a:lnTo>
                  <a:pt x="83" y="3856"/>
                </a:lnTo>
                <a:lnTo>
                  <a:pt x="67" y="3820"/>
                </a:lnTo>
                <a:lnTo>
                  <a:pt x="51" y="3786"/>
                </a:lnTo>
                <a:lnTo>
                  <a:pt x="37" y="3752"/>
                </a:lnTo>
                <a:lnTo>
                  <a:pt x="24" y="3721"/>
                </a:lnTo>
                <a:lnTo>
                  <a:pt x="14" y="3689"/>
                </a:lnTo>
                <a:lnTo>
                  <a:pt x="6" y="3658"/>
                </a:lnTo>
                <a:lnTo>
                  <a:pt x="1" y="3627"/>
                </a:lnTo>
                <a:lnTo>
                  <a:pt x="0" y="3596"/>
                </a:lnTo>
                <a:lnTo>
                  <a:pt x="4" y="3564"/>
                </a:lnTo>
                <a:lnTo>
                  <a:pt x="12" y="3533"/>
                </a:lnTo>
                <a:lnTo>
                  <a:pt x="23" y="3499"/>
                </a:lnTo>
                <a:lnTo>
                  <a:pt x="36" y="3458"/>
                </a:lnTo>
                <a:lnTo>
                  <a:pt x="50" y="3415"/>
                </a:lnTo>
                <a:lnTo>
                  <a:pt x="64" y="3371"/>
                </a:lnTo>
                <a:lnTo>
                  <a:pt x="77" y="3328"/>
                </a:lnTo>
                <a:lnTo>
                  <a:pt x="90" y="3289"/>
                </a:lnTo>
                <a:lnTo>
                  <a:pt x="102" y="3255"/>
                </a:lnTo>
                <a:lnTo>
                  <a:pt x="112" y="3229"/>
                </a:lnTo>
                <a:lnTo>
                  <a:pt x="102" y="3219"/>
                </a:lnTo>
                <a:lnTo>
                  <a:pt x="90" y="3207"/>
                </a:lnTo>
                <a:lnTo>
                  <a:pt x="80" y="3196"/>
                </a:lnTo>
                <a:lnTo>
                  <a:pt x="71" y="3184"/>
                </a:lnTo>
                <a:lnTo>
                  <a:pt x="62" y="3174"/>
                </a:lnTo>
                <a:lnTo>
                  <a:pt x="57" y="3166"/>
                </a:lnTo>
                <a:lnTo>
                  <a:pt x="52" y="3160"/>
                </a:lnTo>
                <a:lnTo>
                  <a:pt x="51" y="3158"/>
                </a:lnTo>
                <a:lnTo>
                  <a:pt x="62" y="3128"/>
                </a:lnTo>
                <a:lnTo>
                  <a:pt x="76" y="3098"/>
                </a:lnTo>
                <a:lnTo>
                  <a:pt x="91" y="3068"/>
                </a:lnTo>
                <a:lnTo>
                  <a:pt x="107" y="3037"/>
                </a:lnTo>
                <a:lnTo>
                  <a:pt x="126" y="3007"/>
                </a:lnTo>
                <a:lnTo>
                  <a:pt x="147" y="2977"/>
                </a:lnTo>
                <a:lnTo>
                  <a:pt x="168" y="2947"/>
                </a:lnTo>
                <a:lnTo>
                  <a:pt x="192" y="2917"/>
                </a:lnTo>
                <a:lnTo>
                  <a:pt x="215" y="2886"/>
                </a:lnTo>
                <a:lnTo>
                  <a:pt x="236" y="2855"/>
                </a:lnTo>
                <a:lnTo>
                  <a:pt x="257" y="2821"/>
                </a:lnTo>
                <a:lnTo>
                  <a:pt x="274" y="2788"/>
                </a:lnTo>
                <a:lnTo>
                  <a:pt x="289" y="2756"/>
                </a:lnTo>
                <a:lnTo>
                  <a:pt x="300" y="2723"/>
                </a:lnTo>
                <a:lnTo>
                  <a:pt x="308" y="2692"/>
                </a:lnTo>
                <a:lnTo>
                  <a:pt x="311" y="2662"/>
                </a:lnTo>
                <a:lnTo>
                  <a:pt x="316" y="2630"/>
                </a:lnTo>
                <a:lnTo>
                  <a:pt x="326" y="2592"/>
                </a:lnTo>
                <a:lnTo>
                  <a:pt x="340" y="2552"/>
                </a:lnTo>
                <a:lnTo>
                  <a:pt x="356" y="2510"/>
                </a:lnTo>
                <a:lnTo>
                  <a:pt x="375" y="2471"/>
                </a:lnTo>
                <a:lnTo>
                  <a:pt x="394" y="2438"/>
                </a:lnTo>
                <a:lnTo>
                  <a:pt x="414" y="2410"/>
                </a:lnTo>
                <a:lnTo>
                  <a:pt x="431" y="2394"/>
                </a:lnTo>
                <a:lnTo>
                  <a:pt x="436" y="2371"/>
                </a:lnTo>
                <a:lnTo>
                  <a:pt x="425" y="2367"/>
                </a:lnTo>
                <a:lnTo>
                  <a:pt x="417" y="2362"/>
                </a:lnTo>
                <a:lnTo>
                  <a:pt x="410" y="2354"/>
                </a:lnTo>
                <a:lnTo>
                  <a:pt x="405" y="2343"/>
                </a:lnTo>
                <a:lnTo>
                  <a:pt x="401" y="2329"/>
                </a:lnTo>
                <a:lnTo>
                  <a:pt x="400" y="2312"/>
                </a:lnTo>
                <a:lnTo>
                  <a:pt x="400" y="2293"/>
                </a:lnTo>
                <a:lnTo>
                  <a:pt x="403" y="2271"/>
                </a:lnTo>
                <a:lnTo>
                  <a:pt x="409" y="2244"/>
                </a:lnTo>
                <a:lnTo>
                  <a:pt x="418" y="2214"/>
                </a:lnTo>
                <a:lnTo>
                  <a:pt x="428" y="2181"/>
                </a:lnTo>
                <a:lnTo>
                  <a:pt x="438" y="2146"/>
                </a:lnTo>
                <a:lnTo>
                  <a:pt x="447" y="2112"/>
                </a:lnTo>
                <a:lnTo>
                  <a:pt x="453" y="2076"/>
                </a:lnTo>
                <a:lnTo>
                  <a:pt x="455" y="2043"/>
                </a:lnTo>
                <a:lnTo>
                  <a:pt x="452" y="2010"/>
                </a:lnTo>
                <a:lnTo>
                  <a:pt x="444" y="1980"/>
                </a:lnTo>
                <a:lnTo>
                  <a:pt x="435" y="1952"/>
                </a:lnTo>
                <a:lnTo>
                  <a:pt x="422" y="1923"/>
                </a:lnTo>
                <a:lnTo>
                  <a:pt x="409" y="1894"/>
                </a:lnTo>
                <a:lnTo>
                  <a:pt x="395" y="1869"/>
                </a:lnTo>
                <a:lnTo>
                  <a:pt x="382" y="1844"/>
                </a:lnTo>
                <a:lnTo>
                  <a:pt x="370" y="1823"/>
                </a:lnTo>
                <a:lnTo>
                  <a:pt x="360" y="1803"/>
                </a:lnTo>
                <a:lnTo>
                  <a:pt x="346" y="1765"/>
                </a:lnTo>
                <a:lnTo>
                  <a:pt x="339" y="1725"/>
                </a:lnTo>
                <a:lnTo>
                  <a:pt x="341" y="1681"/>
                </a:lnTo>
                <a:lnTo>
                  <a:pt x="352" y="1635"/>
                </a:lnTo>
                <a:lnTo>
                  <a:pt x="372" y="1594"/>
                </a:lnTo>
                <a:lnTo>
                  <a:pt x="393" y="1552"/>
                </a:lnTo>
                <a:lnTo>
                  <a:pt x="413" y="1510"/>
                </a:lnTo>
                <a:lnTo>
                  <a:pt x="432" y="1469"/>
                </a:lnTo>
                <a:lnTo>
                  <a:pt x="447" y="1431"/>
                </a:lnTo>
                <a:lnTo>
                  <a:pt x="459" y="1397"/>
                </a:lnTo>
                <a:lnTo>
                  <a:pt x="465" y="1369"/>
                </a:lnTo>
                <a:lnTo>
                  <a:pt x="463" y="1347"/>
                </a:lnTo>
                <a:lnTo>
                  <a:pt x="468" y="1342"/>
                </a:lnTo>
                <a:lnTo>
                  <a:pt x="473" y="1338"/>
                </a:lnTo>
                <a:lnTo>
                  <a:pt x="478" y="1334"/>
                </a:lnTo>
                <a:lnTo>
                  <a:pt x="483" y="1331"/>
                </a:lnTo>
                <a:lnTo>
                  <a:pt x="489" y="1327"/>
                </a:lnTo>
                <a:lnTo>
                  <a:pt x="496" y="1324"/>
                </a:lnTo>
                <a:lnTo>
                  <a:pt x="504" y="1321"/>
                </a:lnTo>
                <a:lnTo>
                  <a:pt x="512" y="1318"/>
                </a:lnTo>
                <a:lnTo>
                  <a:pt x="498" y="1309"/>
                </a:lnTo>
                <a:lnTo>
                  <a:pt x="485" y="1294"/>
                </a:lnTo>
                <a:lnTo>
                  <a:pt x="474" y="1274"/>
                </a:lnTo>
                <a:lnTo>
                  <a:pt x="463" y="1250"/>
                </a:lnTo>
                <a:lnTo>
                  <a:pt x="456" y="1223"/>
                </a:lnTo>
                <a:lnTo>
                  <a:pt x="452" y="1195"/>
                </a:lnTo>
                <a:lnTo>
                  <a:pt x="452" y="1165"/>
                </a:lnTo>
                <a:lnTo>
                  <a:pt x="456" y="1136"/>
                </a:lnTo>
                <a:lnTo>
                  <a:pt x="448" y="1116"/>
                </a:lnTo>
                <a:lnTo>
                  <a:pt x="445" y="1096"/>
                </a:lnTo>
                <a:lnTo>
                  <a:pt x="447" y="1075"/>
                </a:lnTo>
                <a:lnTo>
                  <a:pt x="453" y="1055"/>
                </a:lnTo>
                <a:lnTo>
                  <a:pt x="462" y="1037"/>
                </a:lnTo>
                <a:lnTo>
                  <a:pt x="471" y="1020"/>
                </a:lnTo>
                <a:lnTo>
                  <a:pt x="482" y="1006"/>
                </a:lnTo>
                <a:lnTo>
                  <a:pt x="491" y="994"/>
                </a:lnTo>
                <a:lnTo>
                  <a:pt x="499" y="982"/>
                </a:lnTo>
                <a:lnTo>
                  <a:pt x="505" y="963"/>
                </a:lnTo>
                <a:lnTo>
                  <a:pt x="511" y="942"/>
                </a:lnTo>
                <a:lnTo>
                  <a:pt x="516" y="920"/>
                </a:lnTo>
                <a:lnTo>
                  <a:pt x="522" y="900"/>
                </a:lnTo>
                <a:lnTo>
                  <a:pt x="530" y="882"/>
                </a:lnTo>
                <a:lnTo>
                  <a:pt x="539" y="871"/>
                </a:lnTo>
                <a:lnTo>
                  <a:pt x="553" y="866"/>
                </a:lnTo>
                <a:lnTo>
                  <a:pt x="567" y="866"/>
                </a:lnTo>
                <a:lnTo>
                  <a:pt x="577" y="865"/>
                </a:lnTo>
                <a:lnTo>
                  <a:pt x="585" y="863"/>
                </a:lnTo>
                <a:lnTo>
                  <a:pt x="594" y="858"/>
                </a:lnTo>
                <a:lnTo>
                  <a:pt x="599" y="854"/>
                </a:lnTo>
                <a:lnTo>
                  <a:pt x="604" y="848"/>
                </a:lnTo>
                <a:lnTo>
                  <a:pt x="610" y="840"/>
                </a:lnTo>
                <a:lnTo>
                  <a:pt x="615" y="831"/>
                </a:lnTo>
                <a:lnTo>
                  <a:pt x="621" y="820"/>
                </a:lnTo>
                <a:lnTo>
                  <a:pt x="627" y="810"/>
                </a:lnTo>
                <a:lnTo>
                  <a:pt x="633" y="801"/>
                </a:lnTo>
                <a:lnTo>
                  <a:pt x="640" y="793"/>
                </a:lnTo>
                <a:lnTo>
                  <a:pt x="647" y="787"/>
                </a:lnTo>
                <a:lnTo>
                  <a:pt x="655" y="782"/>
                </a:lnTo>
                <a:lnTo>
                  <a:pt x="664" y="781"/>
                </a:lnTo>
                <a:lnTo>
                  <a:pt x="675" y="782"/>
                </a:lnTo>
                <a:lnTo>
                  <a:pt x="687" y="787"/>
                </a:lnTo>
                <a:lnTo>
                  <a:pt x="696" y="793"/>
                </a:lnTo>
                <a:lnTo>
                  <a:pt x="704" y="798"/>
                </a:lnTo>
                <a:lnTo>
                  <a:pt x="711" y="804"/>
                </a:lnTo>
                <a:lnTo>
                  <a:pt x="718" y="809"/>
                </a:lnTo>
                <a:lnTo>
                  <a:pt x="725" y="810"/>
                </a:lnTo>
                <a:lnTo>
                  <a:pt x="733" y="809"/>
                </a:lnTo>
                <a:lnTo>
                  <a:pt x="742" y="802"/>
                </a:lnTo>
                <a:lnTo>
                  <a:pt x="753" y="794"/>
                </a:lnTo>
                <a:lnTo>
                  <a:pt x="763" y="789"/>
                </a:lnTo>
                <a:lnTo>
                  <a:pt x="774" y="786"/>
                </a:lnTo>
                <a:lnTo>
                  <a:pt x="784" y="785"/>
                </a:lnTo>
                <a:lnTo>
                  <a:pt x="794" y="785"/>
                </a:lnTo>
                <a:lnTo>
                  <a:pt x="802" y="787"/>
                </a:lnTo>
                <a:lnTo>
                  <a:pt x="809" y="791"/>
                </a:lnTo>
                <a:lnTo>
                  <a:pt x="815" y="798"/>
                </a:lnTo>
                <a:lnTo>
                  <a:pt x="819" y="805"/>
                </a:lnTo>
                <a:lnTo>
                  <a:pt x="823" y="812"/>
                </a:lnTo>
                <a:lnTo>
                  <a:pt x="826" y="818"/>
                </a:lnTo>
                <a:lnTo>
                  <a:pt x="830" y="823"/>
                </a:lnTo>
                <a:lnTo>
                  <a:pt x="833" y="827"/>
                </a:lnTo>
                <a:lnTo>
                  <a:pt x="838" y="829"/>
                </a:lnTo>
                <a:lnTo>
                  <a:pt x="844" y="831"/>
                </a:lnTo>
                <a:lnTo>
                  <a:pt x="850" y="831"/>
                </a:lnTo>
                <a:lnTo>
                  <a:pt x="858" y="831"/>
                </a:lnTo>
                <a:lnTo>
                  <a:pt x="867" y="832"/>
                </a:lnTo>
                <a:lnTo>
                  <a:pt x="875" y="836"/>
                </a:lnTo>
                <a:lnTo>
                  <a:pt x="882" y="842"/>
                </a:lnTo>
                <a:lnTo>
                  <a:pt x="888" y="849"/>
                </a:lnTo>
                <a:lnTo>
                  <a:pt x="894" y="857"/>
                </a:lnTo>
                <a:lnTo>
                  <a:pt x="898" y="865"/>
                </a:lnTo>
                <a:lnTo>
                  <a:pt x="899" y="874"/>
                </a:lnTo>
                <a:lnTo>
                  <a:pt x="901" y="889"/>
                </a:lnTo>
                <a:lnTo>
                  <a:pt x="908" y="901"/>
                </a:lnTo>
                <a:lnTo>
                  <a:pt x="918" y="914"/>
                </a:lnTo>
                <a:lnTo>
                  <a:pt x="930" y="931"/>
                </a:lnTo>
                <a:lnTo>
                  <a:pt x="931" y="911"/>
                </a:lnTo>
                <a:lnTo>
                  <a:pt x="928" y="891"/>
                </a:lnTo>
                <a:lnTo>
                  <a:pt x="921" y="868"/>
                </a:lnTo>
                <a:lnTo>
                  <a:pt x="914" y="843"/>
                </a:lnTo>
                <a:lnTo>
                  <a:pt x="906" y="818"/>
                </a:lnTo>
                <a:lnTo>
                  <a:pt x="900" y="791"/>
                </a:lnTo>
                <a:lnTo>
                  <a:pt x="895" y="765"/>
                </a:lnTo>
                <a:lnTo>
                  <a:pt x="894" y="738"/>
                </a:lnTo>
                <a:lnTo>
                  <a:pt x="895" y="707"/>
                </a:lnTo>
                <a:lnTo>
                  <a:pt x="895" y="672"/>
                </a:lnTo>
                <a:lnTo>
                  <a:pt x="893" y="631"/>
                </a:lnTo>
                <a:lnTo>
                  <a:pt x="888" y="589"/>
                </a:lnTo>
                <a:lnTo>
                  <a:pt x="880" y="546"/>
                </a:lnTo>
                <a:lnTo>
                  <a:pt x="870" y="505"/>
                </a:lnTo>
                <a:lnTo>
                  <a:pt x="856" y="465"/>
                </a:lnTo>
                <a:lnTo>
                  <a:pt x="839" y="432"/>
                </a:lnTo>
                <a:lnTo>
                  <a:pt x="824" y="452"/>
                </a:lnTo>
                <a:lnTo>
                  <a:pt x="808" y="471"/>
                </a:lnTo>
                <a:lnTo>
                  <a:pt x="789" y="487"/>
                </a:lnTo>
                <a:lnTo>
                  <a:pt x="770" y="503"/>
                </a:lnTo>
                <a:lnTo>
                  <a:pt x="749" y="517"/>
                </a:lnTo>
                <a:lnTo>
                  <a:pt x="727" y="529"/>
                </a:lnTo>
                <a:lnTo>
                  <a:pt x="704" y="538"/>
                </a:lnTo>
                <a:lnTo>
                  <a:pt x="680" y="546"/>
                </a:lnTo>
                <a:lnTo>
                  <a:pt x="667" y="554"/>
                </a:lnTo>
                <a:lnTo>
                  <a:pt x="652" y="561"/>
                </a:lnTo>
                <a:lnTo>
                  <a:pt x="636" y="568"/>
                </a:lnTo>
                <a:lnTo>
                  <a:pt x="620" y="574"/>
                </a:lnTo>
                <a:lnTo>
                  <a:pt x="603" y="578"/>
                </a:lnTo>
                <a:lnTo>
                  <a:pt x="587" y="583"/>
                </a:lnTo>
                <a:lnTo>
                  <a:pt x="572" y="589"/>
                </a:lnTo>
                <a:lnTo>
                  <a:pt x="559" y="594"/>
                </a:lnTo>
                <a:lnTo>
                  <a:pt x="547" y="603"/>
                </a:lnTo>
                <a:lnTo>
                  <a:pt x="536" y="615"/>
                </a:lnTo>
                <a:lnTo>
                  <a:pt x="526" y="630"/>
                </a:lnTo>
                <a:lnTo>
                  <a:pt x="514" y="647"/>
                </a:lnTo>
                <a:lnTo>
                  <a:pt x="504" y="667"/>
                </a:lnTo>
                <a:lnTo>
                  <a:pt x="494" y="687"/>
                </a:lnTo>
                <a:lnTo>
                  <a:pt x="485" y="705"/>
                </a:lnTo>
                <a:lnTo>
                  <a:pt x="476" y="722"/>
                </a:lnTo>
                <a:lnTo>
                  <a:pt x="466" y="741"/>
                </a:lnTo>
                <a:lnTo>
                  <a:pt x="454" y="763"/>
                </a:lnTo>
                <a:lnTo>
                  <a:pt x="441" y="786"/>
                </a:lnTo>
                <a:lnTo>
                  <a:pt x="428" y="811"/>
                </a:lnTo>
                <a:lnTo>
                  <a:pt x="416" y="836"/>
                </a:lnTo>
                <a:lnTo>
                  <a:pt x="405" y="861"/>
                </a:lnTo>
                <a:lnTo>
                  <a:pt x="397" y="882"/>
                </a:lnTo>
                <a:lnTo>
                  <a:pt x="392" y="902"/>
                </a:lnTo>
                <a:lnTo>
                  <a:pt x="388" y="924"/>
                </a:lnTo>
                <a:lnTo>
                  <a:pt x="384" y="953"/>
                </a:lnTo>
                <a:lnTo>
                  <a:pt x="378" y="986"/>
                </a:lnTo>
                <a:lnTo>
                  <a:pt x="372" y="1021"/>
                </a:lnTo>
                <a:lnTo>
                  <a:pt x="365" y="1055"/>
                </a:lnTo>
                <a:lnTo>
                  <a:pt x="359" y="1086"/>
                </a:lnTo>
                <a:lnTo>
                  <a:pt x="350" y="1112"/>
                </a:lnTo>
                <a:lnTo>
                  <a:pt x="344" y="1130"/>
                </a:lnTo>
                <a:lnTo>
                  <a:pt x="355" y="1146"/>
                </a:lnTo>
                <a:lnTo>
                  <a:pt x="370" y="1169"/>
                </a:lnTo>
                <a:lnTo>
                  <a:pt x="387" y="1197"/>
                </a:lnTo>
                <a:lnTo>
                  <a:pt x="407" y="1228"/>
                </a:lnTo>
                <a:lnTo>
                  <a:pt x="424" y="1260"/>
                </a:lnTo>
                <a:lnTo>
                  <a:pt x="441" y="1293"/>
                </a:lnTo>
                <a:lnTo>
                  <a:pt x="454" y="1321"/>
                </a:lnTo>
                <a:lnTo>
                  <a:pt x="463" y="1347"/>
                </a:lnTo>
                <a:lnTo>
                  <a:pt x="465" y="1369"/>
                </a:lnTo>
                <a:lnTo>
                  <a:pt x="459" y="1397"/>
                </a:lnTo>
                <a:lnTo>
                  <a:pt x="447" y="1431"/>
                </a:lnTo>
                <a:lnTo>
                  <a:pt x="432" y="1469"/>
                </a:lnTo>
                <a:lnTo>
                  <a:pt x="413" y="1510"/>
                </a:lnTo>
                <a:lnTo>
                  <a:pt x="393" y="1552"/>
                </a:lnTo>
                <a:lnTo>
                  <a:pt x="372" y="1594"/>
                </a:lnTo>
                <a:lnTo>
                  <a:pt x="352" y="1635"/>
                </a:lnTo>
                <a:lnTo>
                  <a:pt x="331" y="1606"/>
                </a:lnTo>
                <a:lnTo>
                  <a:pt x="312" y="1576"/>
                </a:lnTo>
                <a:lnTo>
                  <a:pt x="294" y="1546"/>
                </a:lnTo>
                <a:lnTo>
                  <a:pt x="277" y="1515"/>
                </a:lnTo>
                <a:lnTo>
                  <a:pt x="261" y="1486"/>
                </a:lnTo>
                <a:lnTo>
                  <a:pt x="243" y="1457"/>
                </a:lnTo>
                <a:lnTo>
                  <a:pt x="226" y="1431"/>
                </a:lnTo>
                <a:lnTo>
                  <a:pt x="209" y="1406"/>
                </a:lnTo>
                <a:lnTo>
                  <a:pt x="182" y="1367"/>
                </a:lnTo>
                <a:lnTo>
                  <a:pt x="159" y="1328"/>
                </a:lnTo>
                <a:lnTo>
                  <a:pt x="140" y="1289"/>
                </a:lnTo>
                <a:lnTo>
                  <a:pt x="124" y="1250"/>
                </a:lnTo>
                <a:lnTo>
                  <a:pt x="112" y="1212"/>
                </a:lnTo>
                <a:lnTo>
                  <a:pt x="104" y="1174"/>
                </a:lnTo>
                <a:lnTo>
                  <a:pt x="102" y="1139"/>
                </a:lnTo>
                <a:lnTo>
                  <a:pt x="104" y="1106"/>
                </a:lnTo>
                <a:lnTo>
                  <a:pt x="109" y="1076"/>
                </a:lnTo>
                <a:lnTo>
                  <a:pt x="115" y="1050"/>
                </a:lnTo>
                <a:lnTo>
                  <a:pt x="125" y="1025"/>
                </a:lnTo>
                <a:lnTo>
                  <a:pt x="135" y="1003"/>
                </a:lnTo>
                <a:lnTo>
                  <a:pt x="147" y="982"/>
                </a:lnTo>
                <a:lnTo>
                  <a:pt x="160" y="959"/>
                </a:lnTo>
                <a:lnTo>
                  <a:pt x="175" y="934"/>
                </a:lnTo>
                <a:lnTo>
                  <a:pt x="193" y="909"/>
                </a:lnTo>
                <a:lnTo>
                  <a:pt x="213" y="880"/>
                </a:lnTo>
                <a:lnTo>
                  <a:pt x="238" y="847"/>
                </a:lnTo>
                <a:lnTo>
                  <a:pt x="263" y="811"/>
                </a:lnTo>
                <a:lnTo>
                  <a:pt x="291" y="772"/>
                </a:lnTo>
                <a:lnTo>
                  <a:pt x="316" y="733"/>
                </a:lnTo>
                <a:lnTo>
                  <a:pt x="340" y="692"/>
                </a:lnTo>
                <a:lnTo>
                  <a:pt x="361" y="652"/>
                </a:lnTo>
                <a:lnTo>
                  <a:pt x="376" y="614"/>
                </a:lnTo>
                <a:lnTo>
                  <a:pt x="385" y="575"/>
                </a:lnTo>
                <a:lnTo>
                  <a:pt x="386" y="541"/>
                </a:lnTo>
                <a:lnTo>
                  <a:pt x="383" y="515"/>
                </a:lnTo>
                <a:lnTo>
                  <a:pt x="376" y="492"/>
                </a:lnTo>
                <a:lnTo>
                  <a:pt x="370" y="472"/>
                </a:lnTo>
                <a:lnTo>
                  <a:pt x="365" y="454"/>
                </a:lnTo>
                <a:lnTo>
                  <a:pt x="365" y="438"/>
                </a:lnTo>
                <a:lnTo>
                  <a:pt x="372" y="419"/>
                </a:lnTo>
                <a:lnTo>
                  <a:pt x="364" y="403"/>
                </a:lnTo>
                <a:lnTo>
                  <a:pt x="356" y="387"/>
                </a:lnTo>
                <a:lnTo>
                  <a:pt x="349" y="370"/>
                </a:lnTo>
                <a:lnTo>
                  <a:pt x="344" y="353"/>
                </a:lnTo>
                <a:lnTo>
                  <a:pt x="339" y="334"/>
                </a:lnTo>
                <a:lnTo>
                  <a:pt x="336" y="316"/>
                </a:lnTo>
                <a:lnTo>
                  <a:pt x="334" y="297"/>
                </a:lnTo>
                <a:lnTo>
                  <a:pt x="333" y="278"/>
                </a:lnTo>
                <a:lnTo>
                  <a:pt x="334" y="249"/>
                </a:lnTo>
                <a:lnTo>
                  <a:pt x="339" y="221"/>
                </a:lnTo>
                <a:lnTo>
                  <a:pt x="346" y="195"/>
                </a:lnTo>
                <a:lnTo>
                  <a:pt x="355" y="169"/>
                </a:lnTo>
                <a:lnTo>
                  <a:pt x="367" y="145"/>
                </a:lnTo>
                <a:lnTo>
                  <a:pt x="380" y="122"/>
                </a:lnTo>
                <a:lnTo>
                  <a:pt x="397" y="101"/>
                </a:lnTo>
                <a:lnTo>
                  <a:pt x="415" y="82"/>
                </a:lnTo>
                <a:lnTo>
                  <a:pt x="435" y="63"/>
                </a:lnTo>
                <a:lnTo>
                  <a:pt x="455" y="47"/>
                </a:lnTo>
                <a:lnTo>
                  <a:pt x="478" y="33"/>
                </a:lnTo>
                <a:lnTo>
                  <a:pt x="503" y="22"/>
                </a:lnTo>
                <a:lnTo>
                  <a:pt x="528" y="13"/>
                </a:lnTo>
                <a:lnTo>
                  <a:pt x="554" y="6"/>
                </a:lnTo>
                <a:lnTo>
                  <a:pt x="582" y="1"/>
                </a:lnTo>
                <a:lnTo>
                  <a:pt x="611" y="0"/>
                </a:lnTo>
                <a:lnTo>
                  <a:pt x="620" y="0"/>
                </a:lnTo>
                <a:lnTo>
                  <a:pt x="629" y="1"/>
                </a:lnTo>
                <a:lnTo>
                  <a:pt x="638" y="1"/>
                </a:lnTo>
                <a:lnTo>
                  <a:pt x="647" y="2"/>
                </a:lnTo>
                <a:lnTo>
                  <a:pt x="656" y="3"/>
                </a:lnTo>
                <a:lnTo>
                  <a:pt x="665" y="6"/>
                </a:lnTo>
                <a:lnTo>
                  <a:pt x="673" y="7"/>
                </a:lnTo>
                <a:lnTo>
                  <a:pt x="682" y="9"/>
                </a:lnTo>
                <a:lnTo>
                  <a:pt x="688" y="8"/>
                </a:lnTo>
                <a:lnTo>
                  <a:pt x="695" y="7"/>
                </a:lnTo>
                <a:lnTo>
                  <a:pt x="703" y="8"/>
                </a:lnTo>
                <a:lnTo>
                  <a:pt x="713" y="9"/>
                </a:lnTo>
                <a:lnTo>
                  <a:pt x="723" y="12"/>
                </a:lnTo>
                <a:lnTo>
                  <a:pt x="732" y="14"/>
                </a:lnTo>
                <a:lnTo>
                  <a:pt x="740" y="18"/>
                </a:lnTo>
                <a:lnTo>
                  <a:pt x="747" y="24"/>
                </a:lnTo>
                <a:lnTo>
                  <a:pt x="758" y="21"/>
                </a:lnTo>
                <a:lnTo>
                  <a:pt x="772" y="18"/>
                </a:lnTo>
                <a:lnTo>
                  <a:pt x="787" y="17"/>
                </a:lnTo>
                <a:lnTo>
                  <a:pt x="803" y="20"/>
                </a:lnTo>
                <a:lnTo>
                  <a:pt x="818" y="24"/>
                </a:lnTo>
                <a:lnTo>
                  <a:pt x="832" y="31"/>
                </a:lnTo>
                <a:lnTo>
                  <a:pt x="844" y="41"/>
                </a:lnTo>
                <a:lnTo>
                  <a:pt x="853" y="55"/>
                </a:lnTo>
                <a:lnTo>
                  <a:pt x="863" y="56"/>
                </a:lnTo>
                <a:lnTo>
                  <a:pt x="873" y="61"/>
                </a:lnTo>
                <a:lnTo>
                  <a:pt x="884" y="69"/>
                </a:lnTo>
                <a:lnTo>
                  <a:pt x="893" y="79"/>
                </a:lnTo>
                <a:lnTo>
                  <a:pt x="901" y="92"/>
                </a:lnTo>
                <a:lnTo>
                  <a:pt x="908" y="107"/>
                </a:lnTo>
                <a:lnTo>
                  <a:pt x="914" y="123"/>
                </a:lnTo>
                <a:lnTo>
                  <a:pt x="917" y="141"/>
                </a:lnTo>
                <a:lnTo>
                  <a:pt x="921" y="180"/>
                </a:lnTo>
                <a:lnTo>
                  <a:pt x="926" y="221"/>
                </a:lnTo>
                <a:lnTo>
                  <a:pt x="936" y="262"/>
                </a:lnTo>
                <a:lnTo>
                  <a:pt x="950" y="298"/>
                </a:lnTo>
                <a:lnTo>
                  <a:pt x="961" y="324"/>
                </a:lnTo>
                <a:lnTo>
                  <a:pt x="977" y="362"/>
                </a:lnTo>
                <a:lnTo>
                  <a:pt x="999" y="410"/>
                </a:lnTo>
                <a:lnTo>
                  <a:pt x="1021" y="462"/>
                </a:lnTo>
                <a:lnTo>
                  <a:pt x="1044" y="514"/>
                </a:lnTo>
                <a:lnTo>
                  <a:pt x="1066" y="561"/>
                </a:lnTo>
                <a:lnTo>
                  <a:pt x="1083" y="599"/>
                </a:lnTo>
                <a:lnTo>
                  <a:pt x="1096" y="623"/>
                </a:lnTo>
                <a:lnTo>
                  <a:pt x="1105" y="644"/>
                </a:lnTo>
                <a:lnTo>
                  <a:pt x="1114" y="670"/>
                </a:lnTo>
                <a:lnTo>
                  <a:pt x="1122" y="703"/>
                </a:lnTo>
                <a:lnTo>
                  <a:pt x="1130" y="738"/>
                </a:lnTo>
                <a:lnTo>
                  <a:pt x="1137" y="774"/>
                </a:lnTo>
                <a:lnTo>
                  <a:pt x="1143" y="809"/>
                </a:lnTo>
                <a:lnTo>
                  <a:pt x="1146" y="839"/>
                </a:lnTo>
                <a:lnTo>
                  <a:pt x="1149" y="864"/>
                </a:lnTo>
                <a:lnTo>
                  <a:pt x="1150" y="886"/>
                </a:lnTo>
                <a:lnTo>
                  <a:pt x="1152" y="909"/>
                </a:lnTo>
                <a:lnTo>
                  <a:pt x="1155" y="932"/>
                </a:lnTo>
                <a:lnTo>
                  <a:pt x="1158" y="956"/>
                </a:lnTo>
                <a:lnTo>
                  <a:pt x="1163" y="979"/>
                </a:lnTo>
                <a:lnTo>
                  <a:pt x="1168" y="1001"/>
                </a:lnTo>
                <a:lnTo>
                  <a:pt x="1175" y="1022"/>
                </a:lnTo>
                <a:lnTo>
                  <a:pt x="1183" y="1039"/>
                </a:lnTo>
                <a:lnTo>
                  <a:pt x="1194" y="1062"/>
                </a:lnTo>
                <a:lnTo>
                  <a:pt x="1204" y="1097"/>
                </a:lnTo>
                <a:lnTo>
                  <a:pt x="1214" y="1141"/>
                </a:lnTo>
                <a:lnTo>
                  <a:pt x="1225" y="1188"/>
                </a:lnTo>
                <a:lnTo>
                  <a:pt x="1233" y="1238"/>
                </a:lnTo>
                <a:lnTo>
                  <a:pt x="1239" y="1287"/>
                </a:lnTo>
                <a:lnTo>
                  <a:pt x="1241" y="1329"/>
                </a:lnTo>
                <a:lnTo>
                  <a:pt x="1240" y="1365"/>
                </a:lnTo>
                <a:lnTo>
                  <a:pt x="1255" y="1374"/>
                </a:lnTo>
                <a:lnTo>
                  <a:pt x="1273" y="1386"/>
                </a:lnTo>
                <a:lnTo>
                  <a:pt x="1292" y="1400"/>
                </a:lnTo>
                <a:lnTo>
                  <a:pt x="1309" y="1415"/>
                </a:lnTo>
                <a:lnTo>
                  <a:pt x="1324" y="1431"/>
                </a:lnTo>
                <a:lnTo>
                  <a:pt x="1335" y="1448"/>
                </a:lnTo>
                <a:lnTo>
                  <a:pt x="1341" y="1464"/>
                </a:lnTo>
                <a:lnTo>
                  <a:pt x="1339" y="1479"/>
                </a:lnTo>
                <a:lnTo>
                  <a:pt x="1331" y="1501"/>
                </a:lnTo>
                <a:lnTo>
                  <a:pt x="1323" y="1529"/>
                </a:lnTo>
                <a:lnTo>
                  <a:pt x="1316" y="1562"/>
                </a:lnTo>
                <a:lnTo>
                  <a:pt x="1309" y="1599"/>
                </a:lnTo>
                <a:lnTo>
                  <a:pt x="1303" y="1637"/>
                </a:lnTo>
                <a:lnTo>
                  <a:pt x="1300" y="1675"/>
                </a:lnTo>
                <a:lnTo>
                  <a:pt x="1297" y="1712"/>
                </a:lnTo>
                <a:lnTo>
                  <a:pt x="1299" y="1744"/>
                </a:lnTo>
                <a:lnTo>
                  <a:pt x="1297" y="1776"/>
                </a:lnTo>
                <a:lnTo>
                  <a:pt x="1293" y="1814"/>
                </a:lnTo>
                <a:lnTo>
                  <a:pt x="1286" y="1857"/>
                </a:lnTo>
                <a:lnTo>
                  <a:pt x="1278" y="1902"/>
                </a:lnTo>
                <a:lnTo>
                  <a:pt x="1270" y="1948"/>
                </a:lnTo>
                <a:lnTo>
                  <a:pt x="1265" y="1997"/>
                </a:lnTo>
                <a:lnTo>
                  <a:pt x="1265" y="2044"/>
                </a:lnTo>
                <a:lnTo>
                  <a:pt x="1271" y="2091"/>
                </a:lnTo>
                <a:lnTo>
                  <a:pt x="1276" y="2115"/>
                </a:lnTo>
                <a:lnTo>
                  <a:pt x="1278" y="2141"/>
                </a:lnTo>
                <a:lnTo>
                  <a:pt x="1277" y="2166"/>
                </a:lnTo>
                <a:lnTo>
                  <a:pt x="1271" y="2191"/>
                </a:lnTo>
                <a:lnTo>
                  <a:pt x="1259" y="2218"/>
                </a:lnTo>
                <a:lnTo>
                  <a:pt x="1242" y="2243"/>
                </a:lnTo>
                <a:lnTo>
                  <a:pt x="1217" y="2271"/>
                </a:lnTo>
                <a:lnTo>
                  <a:pt x="1181" y="2298"/>
                </a:lnTo>
                <a:lnTo>
                  <a:pt x="1187" y="2379"/>
                </a:lnTo>
                <a:lnTo>
                  <a:pt x="1202" y="2399"/>
                </a:lnTo>
                <a:lnTo>
                  <a:pt x="1214" y="2424"/>
                </a:lnTo>
                <a:lnTo>
                  <a:pt x="1226" y="2454"/>
                </a:lnTo>
                <a:lnTo>
                  <a:pt x="1234" y="2487"/>
                </a:lnTo>
                <a:lnTo>
                  <a:pt x="1241" y="2522"/>
                </a:lnTo>
                <a:lnTo>
                  <a:pt x="1247" y="2558"/>
                </a:lnTo>
                <a:lnTo>
                  <a:pt x="1249" y="2592"/>
                </a:lnTo>
                <a:lnTo>
                  <a:pt x="1250" y="2623"/>
                </a:lnTo>
                <a:lnTo>
                  <a:pt x="1249" y="2690"/>
                </a:lnTo>
                <a:lnTo>
                  <a:pt x="1247" y="2764"/>
                </a:lnTo>
                <a:lnTo>
                  <a:pt x="1244" y="2841"/>
                </a:lnTo>
                <a:lnTo>
                  <a:pt x="1240" y="2916"/>
                </a:lnTo>
                <a:lnTo>
                  <a:pt x="1240" y="2957"/>
                </a:lnTo>
                <a:lnTo>
                  <a:pt x="1242" y="3009"/>
                </a:lnTo>
                <a:lnTo>
                  <a:pt x="1248" y="3067"/>
                </a:lnTo>
                <a:lnTo>
                  <a:pt x="1256" y="3128"/>
                </a:lnTo>
                <a:lnTo>
                  <a:pt x="1265" y="3189"/>
                </a:lnTo>
                <a:lnTo>
                  <a:pt x="1277" y="3247"/>
                </a:lnTo>
                <a:lnTo>
                  <a:pt x="1289" y="3297"/>
                </a:lnTo>
                <a:lnTo>
                  <a:pt x="1303" y="3338"/>
                </a:lnTo>
                <a:lnTo>
                  <a:pt x="1293" y="3348"/>
                </a:lnTo>
                <a:lnTo>
                  <a:pt x="1282" y="3358"/>
                </a:lnTo>
                <a:lnTo>
                  <a:pt x="1272" y="3369"/>
                </a:lnTo>
                <a:lnTo>
                  <a:pt x="1261" y="3379"/>
                </a:lnTo>
                <a:lnTo>
                  <a:pt x="1247" y="3389"/>
                </a:lnTo>
                <a:lnTo>
                  <a:pt x="1233" y="3400"/>
                </a:lnTo>
                <a:lnTo>
                  <a:pt x="1216" y="3409"/>
                </a:lnTo>
                <a:lnTo>
                  <a:pt x="1197" y="3417"/>
                </a:lnTo>
                <a:lnTo>
                  <a:pt x="1186" y="3450"/>
                </a:lnTo>
                <a:lnTo>
                  <a:pt x="1175" y="3487"/>
                </a:lnTo>
                <a:lnTo>
                  <a:pt x="1166" y="3525"/>
                </a:lnTo>
                <a:lnTo>
                  <a:pt x="1159" y="3564"/>
                </a:lnTo>
                <a:lnTo>
                  <a:pt x="1153" y="3602"/>
                </a:lnTo>
                <a:lnTo>
                  <a:pt x="1150" y="3638"/>
                </a:lnTo>
                <a:lnTo>
                  <a:pt x="1149" y="3672"/>
                </a:lnTo>
                <a:lnTo>
                  <a:pt x="1149" y="3700"/>
                </a:lnTo>
                <a:lnTo>
                  <a:pt x="1153" y="3753"/>
                </a:lnTo>
                <a:lnTo>
                  <a:pt x="1159" y="3811"/>
                </a:lnTo>
                <a:lnTo>
                  <a:pt x="1166" y="3873"/>
                </a:lnTo>
                <a:lnTo>
                  <a:pt x="1175" y="3940"/>
                </a:lnTo>
                <a:lnTo>
                  <a:pt x="1182" y="4032"/>
                </a:lnTo>
                <a:lnTo>
                  <a:pt x="1176" y="4124"/>
                </a:lnTo>
                <a:lnTo>
                  <a:pt x="1163" y="4215"/>
                </a:lnTo>
                <a:lnTo>
                  <a:pt x="1144" y="4298"/>
                </a:lnTo>
                <a:lnTo>
                  <a:pt x="1125" y="4372"/>
                </a:lnTo>
                <a:lnTo>
                  <a:pt x="1107" y="4431"/>
                </a:lnTo>
                <a:lnTo>
                  <a:pt x="1096" y="4471"/>
                </a:lnTo>
                <a:lnTo>
                  <a:pt x="1095" y="4490"/>
                </a:lnTo>
                <a:lnTo>
                  <a:pt x="1100" y="4503"/>
                </a:lnTo>
                <a:lnTo>
                  <a:pt x="1099" y="4518"/>
                </a:lnTo>
                <a:lnTo>
                  <a:pt x="1096" y="4536"/>
                </a:lnTo>
                <a:lnTo>
                  <a:pt x="1090" y="4553"/>
                </a:lnTo>
                <a:lnTo>
                  <a:pt x="1089" y="4563"/>
                </a:lnTo>
                <a:lnTo>
                  <a:pt x="1090" y="4575"/>
                </a:lnTo>
                <a:lnTo>
                  <a:pt x="1094" y="4588"/>
                </a:lnTo>
                <a:lnTo>
                  <a:pt x="1098" y="4601"/>
                </a:lnTo>
                <a:lnTo>
                  <a:pt x="1100" y="4615"/>
                </a:lnTo>
                <a:lnTo>
                  <a:pt x="1103" y="4629"/>
                </a:lnTo>
                <a:lnTo>
                  <a:pt x="1102" y="4643"/>
                </a:lnTo>
                <a:lnTo>
                  <a:pt x="1096" y="4654"/>
                </a:lnTo>
                <a:lnTo>
                  <a:pt x="1103" y="4674"/>
                </a:lnTo>
                <a:lnTo>
                  <a:pt x="1110" y="4693"/>
                </a:lnTo>
                <a:lnTo>
                  <a:pt x="1118" y="4713"/>
                </a:lnTo>
                <a:lnTo>
                  <a:pt x="1123" y="4733"/>
                </a:lnTo>
                <a:lnTo>
                  <a:pt x="1128" y="4752"/>
                </a:lnTo>
                <a:lnTo>
                  <a:pt x="1130" y="4772"/>
                </a:lnTo>
                <a:lnTo>
                  <a:pt x="1129" y="4791"/>
                </a:lnTo>
                <a:lnTo>
                  <a:pt x="1122" y="4810"/>
                </a:lnTo>
                <a:lnTo>
                  <a:pt x="1117" y="4821"/>
                </a:lnTo>
                <a:lnTo>
                  <a:pt x="1111" y="4834"/>
                </a:lnTo>
                <a:lnTo>
                  <a:pt x="1104" y="4848"/>
                </a:lnTo>
                <a:lnTo>
                  <a:pt x="1098" y="4862"/>
                </a:lnTo>
                <a:lnTo>
                  <a:pt x="1105" y="4865"/>
                </a:lnTo>
                <a:lnTo>
                  <a:pt x="1113" y="4869"/>
                </a:lnTo>
                <a:lnTo>
                  <a:pt x="1119" y="4871"/>
                </a:lnTo>
                <a:lnTo>
                  <a:pt x="1121" y="4872"/>
                </a:lnTo>
                <a:lnTo>
                  <a:pt x="1114" y="4900"/>
                </a:lnTo>
                <a:lnTo>
                  <a:pt x="1111" y="4900"/>
                </a:lnTo>
                <a:lnTo>
                  <a:pt x="1103" y="4899"/>
                </a:lnTo>
                <a:lnTo>
                  <a:pt x="1094" y="4896"/>
                </a:lnTo>
                <a:lnTo>
                  <a:pt x="1085" y="4892"/>
                </a:lnTo>
                <a:lnTo>
                  <a:pt x="1079" y="4914"/>
                </a:lnTo>
                <a:lnTo>
                  <a:pt x="1073" y="4935"/>
                </a:lnTo>
                <a:lnTo>
                  <a:pt x="1070" y="4957"/>
                </a:lnTo>
                <a:lnTo>
                  <a:pt x="1070" y="4977"/>
                </a:lnTo>
                <a:lnTo>
                  <a:pt x="1070" y="5000"/>
                </a:lnTo>
                <a:lnTo>
                  <a:pt x="1069" y="5028"/>
                </a:lnTo>
                <a:lnTo>
                  <a:pt x="1066" y="5059"/>
                </a:lnTo>
                <a:lnTo>
                  <a:pt x="1060" y="5091"/>
                </a:lnTo>
                <a:lnTo>
                  <a:pt x="1051" y="5123"/>
                </a:lnTo>
                <a:lnTo>
                  <a:pt x="1039" y="5153"/>
                </a:lnTo>
                <a:lnTo>
                  <a:pt x="1023" y="5180"/>
                </a:lnTo>
                <a:lnTo>
                  <a:pt x="1002" y="5199"/>
                </a:lnTo>
                <a:lnTo>
                  <a:pt x="991" y="5207"/>
                </a:lnTo>
                <a:lnTo>
                  <a:pt x="977" y="5214"/>
                </a:lnTo>
                <a:lnTo>
                  <a:pt x="963" y="5220"/>
                </a:lnTo>
                <a:lnTo>
                  <a:pt x="948" y="5226"/>
                </a:lnTo>
                <a:lnTo>
                  <a:pt x="932" y="5229"/>
                </a:lnTo>
                <a:lnTo>
                  <a:pt x="916" y="5233"/>
                </a:lnTo>
                <a:lnTo>
                  <a:pt x="900" y="5234"/>
                </a:lnTo>
                <a:lnTo>
                  <a:pt x="884" y="5235"/>
                </a:lnTo>
                <a:lnTo>
                  <a:pt x="868" y="5234"/>
                </a:lnTo>
                <a:lnTo>
                  <a:pt x="852" y="5230"/>
                </a:lnTo>
                <a:lnTo>
                  <a:pt x="838" y="5226"/>
                </a:lnTo>
                <a:lnTo>
                  <a:pt x="824" y="5220"/>
                </a:lnTo>
                <a:lnTo>
                  <a:pt x="811" y="5211"/>
                </a:lnTo>
                <a:lnTo>
                  <a:pt x="800" y="5200"/>
                </a:lnTo>
                <a:lnTo>
                  <a:pt x="791" y="5189"/>
                </a:lnTo>
                <a:lnTo>
                  <a:pt x="782" y="5174"/>
                </a:lnTo>
                <a:lnTo>
                  <a:pt x="773" y="5145"/>
                </a:lnTo>
                <a:lnTo>
                  <a:pt x="770" y="5112"/>
                </a:lnTo>
                <a:lnTo>
                  <a:pt x="770" y="5075"/>
                </a:lnTo>
                <a:lnTo>
                  <a:pt x="773" y="5036"/>
                </a:lnTo>
                <a:lnTo>
                  <a:pt x="778" y="4995"/>
                </a:lnTo>
                <a:lnTo>
                  <a:pt x="785" y="4956"/>
                </a:lnTo>
                <a:lnTo>
                  <a:pt x="793" y="4917"/>
                </a:lnTo>
                <a:lnTo>
                  <a:pt x="801" y="4881"/>
                </a:lnTo>
                <a:lnTo>
                  <a:pt x="795" y="4884"/>
                </a:lnTo>
                <a:lnTo>
                  <a:pt x="789" y="4885"/>
                </a:lnTo>
                <a:lnTo>
                  <a:pt x="784" y="4885"/>
                </a:lnTo>
                <a:lnTo>
                  <a:pt x="778" y="4885"/>
                </a:lnTo>
                <a:lnTo>
                  <a:pt x="771" y="4884"/>
                </a:lnTo>
                <a:lnTo>
                  <a:pt x="766" y="4881"/>
                </a:lnTo>
                <a:lnTo>
                  <a:pt x="761" y="4880"/>
                </a:lnTo>
                <a:lnTo>
                  <a:pt x="757" y="4878"/>
                </a:lnTo>
                <a:lnTo>
                  <a:pt x="759" y="4861"/>
                </a:lnTo>
                <a:lnTo>
                  <a:pt x="761" y="4861"/>
                </a:lnTo>
                <a:lnTo>
                  <a:pt x="764" y="4862"/>
                </a:lnTo>
                <a:lnTo>
                  <a:pt x="770" y="4862"/>
                </a:lnTo>
                <a:lnTo>
                  <a:pt x="777" y="4862"/>
                </a:lnTo>
                <a:lnTo>
                  <a:pt x="785" y="4861"/>
                </a:lnTo>
                <a:lnTo>
                  <a:pt x="794" y="4859"/>
                </a:lnTo>
                <a:lnTo>
                  <a:pt x="802" y="4857"/>
                </a:lnTo>
                <a:lnTo>
                  <a:pt x="810" y="4852"/>
                </a:lnTo>
                <a:lnTo>
                  <a:pt x="811" y="4846"/>
                </a:lnTo>
                <a:lnTo>
                  <a:pt x="812" y="4840"/>
                </a:lnTo>
                <a:lnTo>
                  <a:pt x="814" y="4835"/>
                </a:lnTo>
                <a:lnTo>
                  <a:pt x="815" y="4829"/>
                </a:lnTo>
                <a:lnTo>
                  <a:pt x="796" y="4829"/>
                </a:lnTo>
                <a:lnTo>
                  <a:pt x="781" y="4826"/>
                </a:lnTo>
                <a:lnTo>
                  <a:pt x="770" y="4820"/>
                </a:lnTo>
                <a:lnTo>
                  <a:pt x="761" y="4813"/>
                </a:lnTo>
                <a:lnTo>
                  <a:pt x="755" y="4804"/>
                </a:lnTo>
                <a:lnTo>
                  <a:pt x="751" y="4793"/>
                </a:lnTo>
                <a:lnTo>
                  <a:pt x="751" y="4781"/>
                </a:lnTo>
                <a:lnTo>
                  <a:pt x="755" y="4770"/>
                </a:lnTo>
                <a:lnTo>
                  <a:pt x="761" y="4758"/>
                </a:lnTo>
                <a:lnTo>
                  <a:pt x="770" y="4748"/>
                </a:lnTo>
                <a:lnTo>
                  <a:pt x="781" y="4738"/>
                </a:lnTo>
                <a:lnTo>
                  <a:pt x="794" y="4730"/>
                </a:lnTo>
                <a:lnTo>
                  <a:pt x="808" y="4725"/>
                </a:lnTo>
                <a:lnTo>
                  <a:pt x="824" y="4721"/>
                </a:lnTo>
                <a:lnTo>
                  <a:pt x="839" y="4720"/>
                </a:lnTo>
                <a:lnTo>
                  <a:pt x="854" y="4720"/>
                </a:lnTo>
                <a:lnTo>
                  <a:pt x="844" y="474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4" name="Freeform 5"/>
          <p:cNvSpPr/>
          <p:nvPr/>
        </p:nvSpPr>
        <p:spPr>
          <a:xfrm>
            <a:off x="2176560" y="4986360"/>
            <a:ext cx="27000" cy="195120"/>
          </a:xfrm>
          <a:custGeom>
            <a:avLst/>
            <a:gdLst/>
            <a:ahLst/>
            <a:rect l="l" t="t" r="r" b="b"/>
            <a:pathLst>
              <a:path w="33" h="245">
                <a:moveTo>
                  <a:pt x="33" y="226"/>
                </a:moveTo>
                <a:lnTo>
                  <a:pt x="25" y="169"/>
                </a:lnTo>
                <a:lnTo>
                  <a:pt x="22" y="109"/>
                </a:lnTo>
                <a:lnTo>
                  <a:pt x="24" y="52"/>
                </a:lnTo>
                <a:lnTo>
                  <a:pt x="33" y="0"/>
                </a:lnTo>
                <a:lnTo>
                  <a:pt x="20" y="16"/>
                </a:lnTo>
                <a:lnTo>
                  <a:pt x="11" y="40"/>
                </a:lnTo>
                <a:lnTo>
                  <a:pt x="4" y="71"/>
                </a:lnTo>
                <a:lnTo>
                  <a:pt x="1" y="106"/>
                </a:lnTo>
                <a:lnTo>
                  <a:pt x="0" y="144"/>
                </a:lnTo>
                <a:lnTo>
                  <a:pt x="1" y="181"/>
                </a:lnTo>
                <a:lnTo>
                  <a:pt x="4" y="215"/>
                </a:lnTo>
                <a:lnTo>
                  <a:pt x="9" y="245"/>
                </a:lnTo>
                <a:lnTo>
                  <a:pt x="15" y="241"/>
                </a:lnTo>
                <a:lnTo>
                  <a:pt x="22" y="234"/>
                </a:lnTo>
                <a:lnTo>
                  <a:pt x="27" y="228"/>
                </a:lnTo>
                <a:lnTo>
                  <a:pt x="33" y="22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5" name="Freeform 7"/>
          <p:cNvSpPr/>
          <p:nvPr/>
        </p:nvSpPr>
        <p:spPr>
          <a:xfrm>
            <a:off x="2122560" y="2711520"/>
            <a:ext cx="33120" cy="28440"/>
          </a:xfrm>
          <a:custGeom>
            <a:avLst/>
            <a:gdLst/>
            <a:ahLst/>
            <a:rect l="l" t="t" r="r" b="b"/>
            <a:pathLst>
              <a:path w="41" h="35">
                <a:moveTo>
                  <a:pt x="41" y="35"/>
                </a:moveTo>
                <a:lnTo>
                  <a:pt x="38" y="26"/>
                </a:lnTo>
                <a:lnTo>
                  <a:pt x="34" y="17"/>
                </a:lnTo>
                <a:lnTo>
                  <a:pt x="31" y="9"/>
                </a:lnTo>
                <a:lnTo>
                  <a:pt x="26" y="0"/>
                </a:lnTo>
                <a:lnTo>
                  <a:pt x="18" y="3"/>
                </a:lnTo>
                <a:lnTo>
                  <a:pt x="10" y="10"/>
                </a:lnTo>
                <a:lnTo>
                  <a:pt x="3" y="16"/>
                </a:lnTo>
                <a:lnTo>
                  <a:pt x="0" y="18"/>
                </a:lnTo>
                <a:lnTo>
                  <a:pt x="41" y="3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6" name="Freeform 10"/>
          <p:cNvSpPr/>
          <p:nvPr/>
        </p:nvSpPr>
        <p:spPr>
          <a:xfrm>
            <a:off x="1717560" y="3046320"/>
            <a:ext cx="319320" cy="895320"/>
          </a:xfrm>
          <a:custGeom>
            <a:avLst/>
            <a:gdLst/>
            <a:ahLst/>
            <a:rect l="l" t="t" r="r" b="b"/>
            <a:pathLst>
              <a:path w="404" h="1128">
                <a:moveTo>
                  <a:pt x="404" y="117"/>
                </a:moveTo>
                <a:lnTo>
                  <a:pt x="390" y="135"/>
                </a:lnTo>
                <a:lnTo>
                  <a:pt x="370" y="167"/>
                </a:lnTo>
                <a:lnTo>
                  <a:pt x="346" y="208"/>
                </a:lnTo>
                <a:lnTo>
                  <a:pt x="321" y="253"/>
                </a:lnTo>
                <a:lnTo>
                  <a:pt x="295" y="299"/>
                </a:lnTo>
                <a:lnTo>
                  <a:pt x="273" y="342"/>
                </a:lnTo>
                <a:lnTo>
                  <a:pt x="256" y="380"/>
                </a:lnTo>
                <a:lnTo>
                  <a:pt x="247" y="408"/>
                </a:lnTo>
                <a:lnTo>
                  <a:pt x="241" y="433"/>
                </a:lnTo>
                <a:lnTo>
                  <a:pt x="233" y="468"/>
                </a:lnTo>
                <a:lnTo>
                  <a:pt x="224" y="507"/>
                </a:lnTo>
                <a:lnTo>
                  <a:pt x="214" y="549"/>
                </a:lnTo>
                <a:lnTo>
                  <a:pt x="201" y="590"/>
                </a:lnTo>
                <a:lnTo>
                  <a:pt x="188" y="627"/>
                </a:lnTo>
                <a:lnTo>
                  <a:pt x="176" y="658"/>
                </a:lnTo>
                <a:lnTo>
                  <a:pt x="162" y="680"/>
                </a:lnTo>
                <a:lnTo>
                  <a:pt x="156" y="685"/>
                </a:lnTo>
                <a:lnTo>
                  <a:pt x="149" y="690"/>
                </a:lnTo>
                <a:lnTo>
                  <a:pt x="143" y="697"/>
                </a:lnTo>
                <a:lnTo>
                  <a:pt x="138" y="703"/>
                </a:lnTo>
                <a:lnTo>
                  <a:pt x="133" y="710"/>
                </a:lnTo>
                <a:lnTo>
                  <a:pt x="131" y="716"/>
                </a:lnTo>
                <a:lnTo>
                  <a:pt x="131" y="720"/>
                </a:lnTo>
                <a:lnTo>
                  <a:pt x="135" y="725"/>
                </a:lnTo>
                <a:lnTo>
                  <a:pt x="142" y="727"/>
                </a:lnTo>
                <a:lnTo>
                  <a:pt x="151" y="729"/>
                </a:lnTo>
                <a:lnTo>
                  <a:pt x="162" y="731"/>
                </a:lnTo>
                <a:lnTo>
                  <a:pt x="173" y="732"/>
                </a:lnTo>
                <a:lnTo>
                  <a:pt x="185" y="735"/>
                </a:lnTo>
                <a:lnTo>
                  <a:pt x="196" y="740"/>
                </a:lnTo>
                <a:lnTo>
                  <a:pt x="206" y="749"/>
                </a:lnTo>
                <a:lnTo>
                  <a:pt x="215" y="763"/>
                </a:lnTo>
                <a:lnTo>
                  <a:pt x="224" y="779"/>
                </a:lnTo>
                <a:lnTo>
                  <a:pt x="235" y="797"/>
                </a:lnTo>
                <a:lnTo>
                  <a:pt x="248" y="816"/>
                </a:lnTo>
                <a:lnTo>
                  <a:pt x="261" y="834"/>
                </a:lnTo>
                <a:lnTo>
                  <a:pt x="273" y="855"/>
                </a:lnTo>
                <a:lnTo>
                  <a:pt x="286" y="876"/>
                </a:lnTo>
                <a:lnTo>
                  <a:pt x="295" y="897"/>
                </a:lnTo>
                <a:lnTo>
                  <a:pt x="303" y="918"/>
                </a:lnTo>
                <a:lnTo>
                  <a:pt x="300" y="947"/>
                </a:lnTo>
                <a:lnTo>
                  <a:pt x="292" y="976"/>
                </a:lnTo>
                <a:lnTo>
                  <a:pt x="283" y="1003"/>
                </a:lnTo>
                <a:lnTo>
                  <a:pt x="272" y="1028"/>
                </a:lnTo>
                <a:lnTo>
                  <a:pt x="260" y="1054"/>
                </a:lnTo>
                <a:lnTo>
                  <a:pt x="247" y="1079"/>
                </a:lnTo>
                <a:lnTo>
                  <a:pt x="235" y="1104"/>
                </a:lnTo>
                <a:lnTo>
                  <a:pt x="224" y="1128"/>
                </a:lnTo>
                <a:lnTo>
                  <a:pt x="209" y="1099"/>
                </a:lnTo>
                <a:lnTo>
                  <a:pt x="188" y="1065"/>
                </a:lnTo>
                <a:lnTo>
                  <a:pt x="164" y="1027"/>
                </a:lnTo>
                <a:lnTo>
                  <a:pt x="139" y="986"/>
                </a:lnTo>
                <a:lnTo>
                  <a:pt x="112" y="946"/>
                </a:lnTo>
                <a:lnTo>
                  <a:pt x="87" y="908"/>
                </a:lnTo>
                <a:lnTo>
                  <a:pt x="65" y="872"/>
                </a:lnTo>
                <a:lnTo>
                  <a:pt x="47" y="842"/>
                </a:lnTo>
                <a:lnTo>
                  <a:pt x="36" y="823"/>
                </a:lnTo>
                <a:lnTo>
                  <a:pt x="27" y="800"/>
                </a:lnTo>
                <a:lnTo>
                  <a:pt x="19" y="774"/>
                </a:lnTo>
                <a:lnTo>
                  <a:pt x="12" y="749"/>
                </a:lnTo>
                <a:lnTo>
                  <a:pt x="6" y="723"/>
                </a:lnTo>
                <a:lnTo>
                  <a:pt x="2" y="696"/>
                </a:lnTo>
                <a:lnTo>
                  <a:pt x="0" y="670"/>
                </a:lnTo>
                <a:lnTo>
                  <a:pt x="0" y="645"/>
                </a:lnTo>
                <a:lnTo>
                  <a:pt x="4" y="621"/>
                </a:lnTo>
                <a:lnTo>
                  <a:pt x="10" y="596"/>
                </a:lnTo>
                <a:lnTo>
                  <a:pt x="19" y="570"/>
                </a:lnTo>
                <a:lnTo>
                  <a:pt x="30" y="545"/>
                </a:lnTo>
                <a:lnTo>
                  <a:pt x="44" y="520"/>
                </a:lnTo>
                <a:lnTo>
                  <a:pt x="59" y="497"/>
                </a:lnTo>
                <a:lnTo>
                  <a:pt x="75" y="474"/>
                </a:lnTo>
                <a:lnTo>
                  <a:pt x="93" y="453"/>
                </a:lnTo>
                <a:lnTo>
                  <a:pt x="110" y="431"/>
                </a:lnTo>
                <a:lnTo>
                  <a:pt x="128" y="406"/>
                </a:lnTo>
                <a:lnTo>
                  <a:pt x="148" y="378"/>
                </a:lnTo>
                <a:lnTo>
                  <a:pt x="165" y="350"/>
                </a:lnTo>
                <a:lnTo>
                  <a:pt x="182" y="324"/>
                </a:lnTo>
                <a:lnTo>
                  <a:pt x="199" y="299"/>
                </a:lnTo>
                <a:lnTo>
                  <a:pt x="211" y="277"/>
                </a:lnTo>
                <a:lnTo>
                  <a:pt x="220" y="261"/>
                </a:lnTo>
                <a:lnTo>
                  <a:pt x="233" y="238"/>
                </a:lnTo>
                <a:lnTo>
                  <a:pt x="246" y="212"/>
                </a:lnTo>
                <a:lnTo>
                  <a:pt x="257" y="182"/>
                </a:lnTo>
                <a:lnTo>
                  <a:pt x="268" y="151"/>
                </a:lnTo>
                <a:lnTo>
                  <a:pt x="275" y="117"/>
                </a:lnTo>
                <a:lnTo>
                  <a:pt x="277" y="81"/>
                </a:lnTo>
                <a:lnTo>
                  <a:pt x="273" y="43"/>
                </a:lnTo>
                <a:lnTo>
                  <a:pt x="263" y="5"/>
                </a:lnTo>
                <a:lnTo>
                  <a:pt x="265" y="1"/>
                </a:lnTo>
                <a:lnTo>
                  <a:pt x="268" y="0"/>
                </a:lnTo>
                <a:lnTo>
                  <a:pt x="272" y="3"/>
                </a:lnTo>
                <a:lnTo>
                  <a:pt x="278" y="6"/>
                </a:lnTo>
                <a:lnTo>
                  <a:pt x="284" y="12"/>
                </a:lnTo>
                <a:lnTo>
                  <a:pt x="291" y="19"/>
                </a:lnTo>
                <a:lnTo>
                  <a:pt x="298" y="26"/>
                </a:lnTo>
                <a:lnTo>
                  <a:pt x="303" y="35"/>
                </a:lnTo>
                <a:lnTo>
                  <a:pt x="311" y="45"/>
                </a:lnTo>
                <a:lnTo>
                  <a:pt x="322" y="57"/>
                </a:lnTo>
                <a:lnTo>
                  <a:pt x="335" y="70"/>
                </a:lnTo>
                <a:lnTo>
                  <a:pt x="350" y="83"/>
                </a:lnTo>
                <a:lnTo>
                  <a:pt x="364" y="96"/>
                </a:lnTo>
                <a:lnTo>
                  <a:pt x="379" y="106"/>
                </a:lnTo>
                <a:lnTo>
                  <a:pt x="392" y="113"/>
                </a:lnTo>
                <a:lnTo>
                  <a:pt x="404" y="11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7" name="Freeform 11"/>
          <p:cNvSpPr/>
          <p:nvPr/>
        </p:nvSpPr>
        <p:spPr>
          <a:xfrm>
            <a:off x="2013120" y="3389400"/>
            <a:ext cx="317160" cy="474480"/>
          </a:xfrm>
          <a:custGeom>
            <a:avLst/>
            <a:gdLst/>
            <a:ahLst/>
            <a:rect l="l" t="t" r="r" b="b"/>
            <a:pathLst>
              <a:path w="399" h="597">
                <a:moveTo>
                  <a:pt x="117" y="264"/>
                </a:moveTo>
                <a:lnTo>
                  <a:pt x="126" y="265"/>
                </a:lnTo>
                <a:lnTo>
                  <a:pt x="134" y="265"/>
                </a:lnTo>
                <a:lnTo>
                  <a:pt x="144" y="264"/>
                </a:lnTo>
                <a:lnTo>
                  <a:pt x="152" y="262"/>
                </a:lnTo>
                <a:lnTo>
                  <a:pt x="161" y="259"/>
                </a:lnTo>
                <a:lnTo>
                  <a:pt x="169" y="255"/>
                </a:lnTo>
                <a:lnTo>
                  <a:pt x="178" y="249"/>
                </a:lnTo>
                <a:lnTo>
                  <a:pt x="186" y="242"/>
                </a:lnTo>
                <a:lnTo>
                  <a:pt x="195" y="234"/>
                </a:lnTo>
                <a:lnTo>
                  <a:pt x="208" y="227"/>
                </a:lnTo>
                <a:lnTo>
                  <a:pt x="222" y="221"/>
                </a:lnTo>
                <a:lnTo>
                  <a:pt x="238" y="218"/>
                </a:lnTo>
                <a:lnTo>
                  <a:pt x="253" y="216"/>
                </a:lnTo>
                <a:lnTo>
                  <a:pt x="268" y="216"/>
                </a:lnTo>
                <a:lnTo>
                  <a:pt x="282" y="219"/>
                </a:lnTo>
                <a:lnTo>
                  <a:pt x="293" y="225"/>
                </a:lnTo>
                <a:lnTo>
                  <a:pt x="304" y="232"/>
                </a:lnTo>
                <a:lnTo>
                  <a:pt x="314" y="239"/>
                </a:lnTo>
                <a:lnTo>
                  <a:pt x="324" y="243"/>
                </a:lnTo>
                <a:lnTo>
                  <a:pt x="334" y="248"/>
                </a:lnTo>
                <a:lnTo>
                  <a:pt x="343" y="251"/>
                </a:lnTo>
                <a:lnTo>
                  <a:pt x="352" y="253"/>
                </a:lnTo>
                <a:lnTo>
                  <a:pt x="359" y="253"/>
                </a:lnTo>
                <a:lnTo>
                  <a:pt x="366" y="250"/>
                </a:lnTo>
                <a:lnTo>
                  <a:pt x="372" y="247"/>
                </a:lnTo>
                <a:lnTo>
                  <a:pt x="379" y="241"/>
                </a:lnTo>
                <a:lnTo>
                  <a:pt x="385" y="233"/>
                </a:lnTo>
                <a:lnTo>
                  <a:pt x="392" y="224"/>
                </a:lnTo>
                <a:lnTo>
                  <a:pt x="397" y="212"/>
                </a:lnTo>
                <a:lnTo>
                  <a:pt x="399" y="198"/>
                </a:lnTo>
                <a:lnTo>
                  <a:pt x="399" y="181"/>
                </a:lnTo>
                <a:lnTo>
                  <a:pt x="396" y="163"/>
                </a:lnTo>
                <a:lnTo>
                  <a:pt x="390" y="143"/>
                </a:lnTo>
                <a:lnTo>
                  <a:pt x="384" y="124"/>
                </a:lnTo>
                <a:lnTo>
                  <a:pt x="379" y="105"/>
                </a:lnTo>
                <a:lnTo>
                  <a:pt x="370" y="87"/>
                </a:lnTo>
                <a:lnTo>
                  <a:pt x="360" y="69"/>
                </a:lnTo>
                <a:lnTo>
                  <a:pt x="347" y="53"/>
                </a:lnTo>
                <a:lnTo>
                  <a:pt x="330" y="38"/>
                </a:lnTo>
                <a:lnTo>
                  <a:pt x="309" y="24"/>
                </a:lnTo>
                <a:lnTo>
                  <a:pt x="285" y="13"/>
                </a:lnTo>
                <a:lnTo>
                  <a:pt x="261" y="6"/>
                </a:lnTo>
                <a:lnTo>
                  <a:pt x="238" y="1"/>
                </a:lnTo>
                <a:lnTo>
                  <a:pt x="216" y="0"/>
                </a:lnTo>
                <a:lnTo>
                  <a:pt x="194" y="3"/>
                </a:lnTo>
                <a:lnTo>
                  <a:pt x="173" y="7"/>
                </a:lnTo>
                <a:lnTo>
                  <a:pt x="155" y="13"/>
                </a:lnTo>
                <a:lnTo>
                  <a:pt x="139" y="22"/>
                </a:lnTo>
                <a:lnTo>
                  <a:pt x="124" y="32"/>
                </a:lnTo>
                <a:lnTo>
                  <a:pt x="110" y="43"/>
                </a:lnTo>
                <a:lnTo>
                  <a:pt x="97" y="54"/>
                </a:lnTo>
                <a:lnTo>
                  <a:pt x="88" y="66"/>
                </a:lnTo>
                <a:lnTo>
                  <a:pt x="80" y="77"/>
                </a:lnTo>
                <a:lnTo>
                  <a:pt x="76" y="90"/>
                </a:lnTo>
                <a:lnTo>
                  <a:pt x="73" y="102"/>
                </a:lnTo>
                <a:lnTo>
                  <a:pt x="74" y="114"/>
                </a:lnTo>
                <a:lnTo>
                  <a:pt x="80" y="143"/>
                </a:lnTo>
                <a:lnTo>
                  <a:pt x="84" y="178"/>
                </a:lnTo>
                <a:lnTo>
                  <a:pt x="79" y="205"/>
                </a:lnTo>
                <a:lnTo>
                  <a:pt x="64" y="220"/>
                </a:lnTo>
                <a:lnTo>
                  <a:pt x="55" y="220"/>
                </a:lnTo>
                <a:lnTo>
                  <a:pt x="48" y="218"/>
                </a:lnTo>
                <a:lnTo>
                  <a:pt x="42" y="215"/>
                </a:lnTo>
                <a:lnTo>
                  <a:pt x="39" y="209"/>
                </a:lnTo>
                <a:lnTo>
                  <a:pt x="34" y="204"/>
                </a:lnTo>
                <a:lnTo>
                  <a:pt x="29" y="200"/>
                </a:lnTo>
                <a:lnTo>
                  <a:pt x="24" y="196"/>
                </a:lnTo>
                <a:lnTo>
                  <a:pt x="17" y="196"/>
                </a:lnTo>
                <a:lnTo>
                  <a:pt x="4" y="205"/>
                </a:lnTo>
                <a:lnTo>
                  <a:pt x="0" y="224"/>
                </a:lnTo>
                <a:lnTo>
                  <a:pt x="0" y="244"/>
                </a:lnTo>
                <a:lnTo>
                  <a:pt x="4" y="264"/>
                </a:lnTo>
                <a:lnTo>
                  <a:pt x="8" y="273"/>
                </a:lnTo>
                <a:lnTo>
                  <a:pt x="11" y="284"/>
                </a:lnTo>
                <a:lnTo>
                  <a:pt x="16" y="295"/>
                </a:lnTo>
                <a:lnTo>
                  <a:pt x="20" y="306"/>
                </a:lnTo>
                <a:lnTo>
                  <a:pt x="25" y="316"/>
                </a:lnTo>
                <a:lnTo>
                  <a:pt x="31" y="324"/>
                </a:lnTo>
                <a:lnTo>
                  <a:pt x="36" y="330"/>
                </a:lnTo>
                <a:lnTo>
                  <a:pt x="42" y="331"/>
                </a:lnTo>
                <a:lnTo>
                  <a:pt x="48" y="330"/>
                </a:lnTo>
                <a:lnTo>
                  <a:pt x="55" y="326"/>
                </a:lnTo>
                <a:lnTo>
                  <a:pt x="59" y="322"/>
                </a:lnTo>
                <a:lnTo>
                  <a:pt x="65" y="316"/>
                </a:lnTo>
                <a:lnTo>
                  <a:pt x="69" y="309"/>
                </a:lnTo>
                <a:lnTo>
                  <a:pt x="72" y="301"/>
                </a:lnTo>
                <a:lnTo>
                  <a:pt x="73" y="293"/>
                </a:lnTo>
                <a:lnTo>
                  <a:pt x="72" y="285"/>
                </a:lnTo>
                <a:lnTo>
                  <a:pt x="79" y="294"/>
                </a:lnTo>
                <a:lnTo>
                  <a:pt x="84" y="306"/>
                </a:lnTo>
                <a:lnTo>
                  <a:pt x="84" y="319"/>
                </a:lnTo>
                <a:lnTo>
                  <a:pt x="80" y="332"/>
                </a:lnTo>
                <a:lnTo>
                  <a:pt x="87" y="340"/>
                </a:lnTo>
                <a:lnTo>
                  <a:pt x="94" y="348"/>
                </a:lnTo>
                <a:lnTo>
                  <a:pt x="100" y="357"/>
                </a:lnTo>
                <a:lnTo>
                  <a:pt x="104" y="368"/>
                </a:lnTo>
                <a:lnTo>
                  <a:pt x="108" y="379"/>
                </a:lnTo>
                <a:lnTo>
                  <a:pt x="111" y="391"/>
                </a:lnTo>
                <a:lnTo>
                  <a:pt x="114" y="403"/>
                </a:lnTo>
                <a:lnTo>
                  <a:pt x="115" y="418"/>
                </a:lnTo>
                <a:lnTo>
                  <a:pt x="115" y="450"/>
                </a:lnTo>
                <a:lnTo>
                  <a:pt x="112" y="482"/>
                </a:lnTo>
                <a:lnTo>
                  <a:pt x="107" y="512"/>
                </a:lnTo>
                <a:lnTo>
                  <a:pt x="99" y="536"/>
                </a:lnTo>
                <a:lnTo>
                  <a:pt x="93" y="556"/>
                </a:lnTo>
                <a:lnTo>
                  <a:pt x="91" y="572"/>
                </a:lnTo>
                <a:lnTo>
                  <a:pt x="91" y="584"/>
                </a:lnTo>
                <a:lnTo>
                  <a:pt x="88" y="596"/>
                </a:lnTo>
                <a:lnTo>
                  <a:pt x="99" y="597"/>
                </a:lnTo>
                <a:lnTo>
                  <a:pt x="107" y="597"/>
                </a:lnTo>
                <a:lnTo>
                  <a:pt x="114" y="596"/>
                </a:lnTo>
                <a:lnTo>
                  <a:pt x="119" y="595"/>
                </a:lnTo>
                <a:lnTo>
                  <a:pt x="125" y="592"/>
                </a:lnTo>
                <a:lnTo>
                  <a:pt x="131" y="588"/>
                </a:lnTo>
                <a:lnTo>
                  <a:pt x="138" y="581"/>
                </a:lnTo>
                <a:lnTo>
                  <a:pt x="145" y="573"/>
                </a:lnTo>
                <a:lnTo>
                  <a:pt x="153" y="562"/>
                </a:lnTo>
                <a:lnTo>
                  <a:pt x="161" y="553"/>
                </a:lnTo>
                <a:lnTo>
                  <a:pt x="170" y="545"/>
                </a:lnTo>
                <a:lnTo>
                  <a:pt x="178" y="536"/>
                </a:lnTo>
                <a:lnTo>
                  <a:pt x="187" y="529"/>
                </a:lnTo>
                <a:lnTo>
                  <a:pt x="195" y="523"/>
                </a:lnTo>
                <a:lnTo>
                  <a:pt x="202" y="518"/>
                </a:lnTo>
                <a:lnTo>
                  <a:pt x="208" y="514"/>
                </a:lnTo>
                <a:lnTo>
                  <a:pt x="214" y="509"/>
                </a:lnTo>
                <a:lnTo>
                  <a:pt x="221" y="504"/>
                </a:lnTo>
                <a:lnTo>
                  <a:pt x="228" y="496"/>
                </a:lnTo>
                <a:lnTo>
                  <a:pt x="235" y="486"/>
                </a:lnTo>
                <a:lnTo>
                  <a:pt x="241" y="476"/>
                </a:lnTo>
                <a:lnTo>
                  <a:pt x="247" y="465"/>
                </a:lnTo>
                <a:lnTo>
                  <a:pt x="253" y="453"/>
                </a:lnTo>
                <a:lnTo>
                  <a:pt x="258" y="440"/>
                </a:lnTo>
                <a:lnTo>
                  <a:pt x="261" y="428"/>
                </a:lnTo>
                <a:lnTo>
                  <a:pt x="266" y="414"/>
                </a:lnTo>
                <a:lnTo>
                  <a:pt x="271" y="400"/>
                </a:lnTo>
                <a:lnTo>
                  <a:pt x="277" y="386"/>
                </a:lnTo>
                <a:lnTo>
                  <a:pt x="284" y="372"/>
                </a:lnTo>
                <a:lnTo>
                  <a:pt x="291" y="360"/>
                </a:lnTo>
                <a:lnTo>
                  <a:pt x="298" y="349"/>
                </a:lnTo>
                <a:lnTo>
                  <a:pt x="305" y="340"/>
                </a:lnTo>
                <a:lnTo>
                  <a:pt x="313" y="333"/>
                </a:lnTo>
                <a:lnTo>
                  <a:pt x="320" y="326"/>
                </a:lnTo>
                <a:lnTo>
                  <a:pt x="328" y="319"/>
                </a:lnTo>
                <a:lnTo>
                  <a:pt x="335" y="312"/>
                </a:lnTo>
                <a:lnTo>
                  <a:pt x="342" y="306"/>
                </a:lnTo>
                <a:lnTo>
                  <a:pt x="347" y="297"/>
                </a:lnTo>
                <a:lnTo>
                  <a:pt x="352" y="287"/>
                </a:lnTo>
                <a:lnTo>
                  <a:pt x="355" y="277"/>
                </a:lnTo>
                <a:lnTo>
                  <a:pt x="345" y="276"/>
                </a:lnTo>
                <a:lnTo>
                  <a:pt x="336" y="273"/>
                </a:lnTo>
                <a:lnTo>
                  <a:pt x="328" y="272"/>
                </a:lnTo>
                <a:lnTo>
                  <a:pt x="320" y="270"/>
                </a:lnTo>
                <a:lnTo>
                  <a:pt x="312" y="268"/>
                </a:lnTo>
                <a:lnTo>
                  <a:pt x="304" y="263"/>
                </a:lnTo>
                <a:lnTo>
                  <a:pt x="296" y="258"/>
                </a:lnTo>
                <a:lnTo>
                  <a:pt x="288" y="253"/>
                </a:lnTo>
                <a:lnTo>
                  <a:pt x="278" y="247"/>
                </a:lnTo>
                <a:lnTo>
                  <a:pt x="269" y="242"/>
                </a:lnTo>
                <a:lnTo>
                  <a:pt x="259" y="239"/>
                </a:lnTo>
                <a:lnTo>
                  <a:pt x="248" y="238"/>
                </a:lnTo>
                <a:lnTo>
                  <a:pt x="238" y="239"/>
                </a:lnTo>
                <a:lnTo>
                  <a:pt x="226" y="242"/>
                </a:lnTo>
                <a:lnTo>
                  <a:pt x="215" y="247"/>
                </a:lnTo>
                <a:lnTo>
                  <a:pt x="205" y="255"/>
                </a:lnTo>
                <a:lnTo>
                  <a:pt x="193" y="263"/>
                </a:lnTo>
                <a:lnTo>
                  <a:pt x="183" y="269"/>
                </a:lnTo>
                <a:lnTo>
                  <a:pt x="172" y="273"/>
                </a:lnTo>
                <a:lnTo>
                  <a:pt x="161" y="276"/>
                </a:lnTo>
                <a:lnTo>
                  <a:pt x="150" y="277"/>
                </a:lnTo>
                <a:lnTo>
                  <a:pt x="140" y="274"/>
                </a:lnTo>
                <a:lnTo>
                  <a:pt x="129" y="271"/>
                </a:lnTo>
                <a:lnTo>
                  <a:pt x="117" y="26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8" name="Freeform 12"/>
          <p:cNvSpPr/>
          <p:nvPr/>
        </p:nvSpPr>
        <p:spPr>
          <a:xfrm>
            <a:off x="2101680" y="3416400"/>
            <a:ext cx="195480" cy="58680"/>
          </a:xfrm>
          <a:custGeom>
            <a:avLst/>
            <a:gdLst/>
            <a:ahLst/>
            <a:rect l="l" t="t" r="r" b="b"/>
            <a:pathLst>
              <a:path w="246" h="73">
                <a:moveTo>
                  <a:pt x="76" y="27"/>
                </a:moveTo>
                <a:lnTo>
                  <a:pt x="71" y="25"/>
                </a:lnTo>
                <a:lnTo>
                  <a:pt x="65" y="24"/>
                </a:lnTo>
                <a:lnTo>
                  <a:pt x="59" y="23"/>
                </a:lnTo>
                <a:lnTo>
                  <a:pt x="53" y="22"/>
                </a:lnTo>
                <a:lnTo>
                  <a:pt x="48" y="20"/>
                </a:lnTo>
                <a:lnTo>
                  <a:pt x="42" y="20"/>
                </a:lnTo>
                <a:lnTo>
                  <a:pt x="37" y="20"/>
                </a:lnTo>
                <a:lnTo>
                  <a:pt x="33" y="22"/>
                </a:lnTo>
                <a:lnTo>
                  <a:pt x="22" y="25"/>
                </a:lnTo>
                <a:lnTo>
                  <a:pt x="12" y="31"/>
                </a:lnTo>
                <a:lnTo>
                  <a:pt x="3" y="40"/>
                </a:lnTo>
                <a:lnTo>
                  <a:pt x="0" y="53"/>
                </a:lnTo>
                <a:lnTo>
                  <a:pt x="6" y="48"/>
                </a:lnTo>
                <a:lnTo>
                  <a:pt x="12" y="42"/>
                </a:lnTo>
                <a:lnTo>
                  <a:pt x="18" y="38"/>
                </a:lnTo>
                <a:lnTo>
                  <a:pt x="23" y="37"/>
                </a:lnTo>
                <a:lnTo>
                  <a:pt x="26" y="43"/>
                </a:lnTo>
                <a:lnTo>
                  <a:pt x="28" y="49"/>
                </a:lnTo>
                <a:lnTo>
                  <a:pt x="32" y="53"/>
                </a:lnTo>
                <a:lnTo>
                  <a:pt x="37" y="54"/>
                </a:lnTo>
                <a:lnTo>
                  <a:pt x="44" y="51"/>
                </a:lnTo>
                <a:lnTo>
                  <a:pt x="51" y="47"/>
                </a:lnTo>
                <a:lnTo>
                  <a:pt x="55" y="41"/>
                </a:lnTo>
                <a:lnTo>
                  <a:pt x="57" y="34"/>
                </a:lnTo>
                <a:lnTo>
                  <a:pt x="60" y="34"/>
                </a:lnTo>
                <a:lnTo>
                  <a:pt x="64" y="37"/>
                </a:lnTo>
                <a:lnTo>
                  <a:pt x="67" y="39"/>
                </a:lnTo>
                <a:lnTo>
                  <a:pt x="68" y="40"/>
                </a:lnTo>
                <a:lnTo>
                  <a:pt x="66" y="48"/>
                </a:lnTo>
                <a:lnTo>
                  <a:pt x="64" y="58"/>
                </a:lnTo>
                <a:lnTo>
                  <a:pt x="66" y="68"/>
                </a:lnTo>
                <a:lnTo>
                  <a:pt x="75" y="73"/>
                </a:lnTo>
                <a:lnTo>
                  <a:pt x="73" y="65"/>
                </a:lnTo>
                <a:lnTo>
                  <a:pt x="72" y="56"/>
                </a:lnTo>
                <a:lnTo>
                  <a:pt x="74" y="47"/>
                </a:lnTo>
                <a:lnTo>
                  <a:pt x="79" y="40"/>
                </a:lnTo>
                <a:lnTo>
                  <a:pt x="86" y="35"/>
                </a:lnTo>
                <a:lnTo>
                  <a:pt x="94" y="32"/>
                </a:lnTo>
                <a:lnTo>
                  <a:pt x="100" y="27"/>
                </a:lnTo>
                <a:lnTo>
                  <a:pt x="104" y="23"/>
                </a:lnTo>
                <a:lnTo>
                  <a:pt x="109" y="18"/>
                </a:lnTo>
                <a:lnTo>
                  <a:pt x="114" y="15"/>
                </a:lnTo>
                <a:lnTo>
                  <a:pt x="120" y="12"/>
                </a:lnTo>
                <a:lnTo>
                  <a:pt x="126" y="12"/>
                </a:lnTo>
                <a:lnTo>
                  <a:pt x="132" y="15"/>
                </a:lnTo>
                <a:lnTo>
                  <a:pt x="136" y="16"/>
                </a:lnTo>
                <a:lnTo>
                  <a:pt x="141" y="19"/>
                </a:lnTo>
                <a:lnTo>
                  <a:pt x="143" y="24"/>
                </a:lnTo>
                <a:lnTo>
                  <a:pt x="146" y="28"/>
                </a:lnTo>
                <a:lnTo>
                  <a:pt x="150" y="31"/>
                </a:lnTo>
                <a:lnTo>
                  <a:pt x="156" y="33"/>
                </a:lnTo>
                <a:lnTo>
                  <a:pt x="163" y="34"/>
                </a:lnTo>
                <a:lnTo>
                  <a:pt x="171" y="38"/>
                </a:lnTo>
                <a:lnTo>
                  <a:pt x="177" y="47"/>
                </a:lnTo>
                <a:lnTo>
                  <a:pt x="179" y="57"/>
                </a:lnTo>
                <a:lnTo>
                  <a:pt x="174" y="68"/>
                </a:lnTo>
                <a:lnTo>
                  <a:pt x="181" y="64"/>
                </a:lnTo>
                <a:lnTo>
                  <a:pt x="186" y="56"/>
                </a:lnTo>
                <a:lnTo>
                  <a:pt x="187" y="46"/>
                </a:lnTo>
                <a:lnTo>
                  <a:pt x="184" y="37"/>
                </a:lnTo>
                <a:lnTo>
                  <a:pt x="189" y="42"/>
                </a:lnTo>
                <a:lnTo>
                  <a:pt x="194" y="48"/>
                </a:lnTo>
                <a:lnTo>
                  <a:pt x="197" y="53"/>
                </a:lnTo>
                <a:lnTo>
                  <a:pt x="203" y="55"/>
                </a:lnTo>
                <a:lnTo>
                  <a:pt x="209" y="54"/>
                </a:lnTo>
                <a:lnTo>
                  <a:pt x="215" y="50"/>
                </a:lnTo>
                <a:lnTo>
                  <a:pt x="218" y="45"/>
                </a:lnTo>
                <a:lnTo>
                  <a:pt x="218" y="37"/>
                </a:lnTo>
                <a:lnTo>
                  <a:pt x="226" y="35"/>
                </a:lnTo>
                <a:lnTo>
                  <a:pt x="233" y="35"/>
                </a:lnTo>
                <a:lnTo>
                  <a:pt x="240" y="37"/>
                </a:lnTo>
                <a:lnTo>
                  <a:pt x="246" y="40"/>
                </a:lnTo>
                <a:lnTo>
                  <a:pt x="242" y="35"/>
                </a:lnTo>
                <a:lnTo>
                  <a:pt x="238" y="31"/>
                </a:lnTo>
                <a:lnTo>
                  <a:pt x="230" y="26"/>
                </a:lnTo>
                <a:lnTo>
                  <a:pt x="222" y="24"/>
                </a:lnTo>
                <a:lnTo>
                  <a:pt x="211" y="22"/>
                </a:lnTo>
                <a:lnTo>
                  <a:pt x="201" y="22"/>
                </a:lnTo>
                <a:lnTo>
                  <a:pt x="189" y="24"/>
                </a:lnTo>
                <a:lnTo>
                  <a:pt x="178" y="28"/>
                </a:lnTo>
                <a:lnTo>
                  <a:pt x="171" y="25"/>
                </a:lnTo>
                <a:lnTo>
                  <a:pt x="163" y="24"/>
                </a:lnTo>
                <a:lnTo>
                  <a:pt x="155" y="20"/>
                </a:lnTo>
                <a:lnTo>
                  <a:pt x="148" y="12"/>
                </a:lnTo>
                <a:lnTo>
                  <a:pt x="143" y="8"/>
                </a:lnTo>
                <a:lnTo>
                  <a:pt x="138" y="4"/>
                </a:lnTo>
                <a:lnTo>
                  <a:pt x="131" y="2"/>
                </a:lnTo>
                <a:lnTo>
                  <a:pt x="124" y="0"/>
                </a:lnTo>
                <a:lnTo>
                  <a:pt x="117" y="1"/>
                </a:lnTo>
                <a:lnTo>
                  <a:pt x="111" y="2"/>
                </a:lnTo>
                <a:lnTo>
                  <a:pt x="105" y="4"/>
                </a:lnTo>
                <a:lnTo>
                  <a:pt x="102" y="9"/>
                </a:lnTo>
                <a:lnTo>
                  <a:pt x="96" y="17"/>
                </a:lnTo>
                <a:lnTo>
                  <a:pt x="89" y="23"/>
                </a:lnTo>
                <a:lnTo>
                  <a:pt x="82" y="26"/>
                </a:lnTo>
                <a:lnTo>
                  <a:pt x="76" y="2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9" name="Freeform 13"/>
          <p:cNvSpPr/>
          <p:nvPr/>
        </p:nvSpPr>
        <p:spPr>
          <a:xfrm>
            <a:off x="2022480" y="3559320"/>
            <a:ext cx="20520" cy="48960"/>
          </a:xfrm>
          <a:custGeom>
            <a:avLst/>
            <a:gdLst/>
            <a:ahLst/>
            <a:rect l="l" t="t" r="r" b="b"/>
            <a:pathLst>
              <a:path w="26" h="62">
                <a:moveTo>
                  <a:pt x="26" y="9"/>
                </a:moveTo>
                <a:lnTo>
                  <a:pt x="17" y="2"/>
                </a:lnTo>
                <a:lnTo>
                  <a:pt x="12" y="0"/>
                </a:lnTo>
                <a:lnTo>
                  <a:pt x="8" y="3"/>
                </a:lnTo>
                <a:lnTo>
                  <a:pt x="5" y="9"/>
                </a:lnTo>
                <a:lnTo>
                  <a:pt x="1" y="18"/>
                </a:lnTo>
                <a:lnTo>
                  <a:pt x="0" y="32"/>
                </a:lnTo>
                <a:lnTo>
                  <a:pt x="4" y="47"/>
                </a:lnTo>
                <a:lnTo>
                  <a:pt x="13" y="62"/>
                </a:lnTo>
                <a:lnTo>
                  <a:pt x="8" y="41"/>
                </a:lnTo>
                <a:lnTo>
                  <a:pt x="7" y="23"/>
                </a:lnTo>
                <a:lnTo>
                  <a:pt x="12" y="11"/>
                </a:lnTo>
                <a:lnTo>
                  <a:pt x="26" y="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0" name="Freeform 14"/>
          <p:cNvSpPr/>
          <p:nvPr/>
        </p:nvSpPr>
        <p:spPr>
          <a:xfrm>
            <a:off x="2168640" y="3449520"/>
            <a:ext cx="21960" cy="17640"/>
          </a:xfrm>
          <a:custGeom>
            <a:avLst/>
            <a:gdLst/>
            <a:ahLst/>
            <a:rect l="l" t="t" r="r" b="b"/>
            <a:pathLst>
              <a:path w="26" h="22">
                <a:moveTo>
                  <a:pt x="24" y="0"/>
                </a:moveTo>
                <a:lnTo>
                  <a:pt x="16" y="1"/>
                </a:lnTo>
                <a:lnTo>
                  <a:pt x="6" y="5"/>
                </a:lnTo>
                <a:lnTo>
                  <a:pt x="0" y="12"/>
                </a:lnTo>
                <a:lnTo>
                  <a:pt x="2" y="20"/>
                </a:lnTo>
                <a:lnTo>
                  <a:pt x="10" y="22"/>
                </a:lnTo>
                <a:lnTo>
                  <a:pt x="20" y="16"/>
                </a:lnTo>
                <a:lnTo>
                  <a:pt x="26" y="7"/>
                </a:lnTo>
                <a:lnTo>
                  <a:pt x="2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1" name="Freeform 15"/>
          <p:cNvSpPr/>
          <p:nvPr/>
        </p:nvSpPr>
        <p:spPr>
          <a:xfrm>
            <a:off x="2216160" y="3449520"/>
            <a:ext cx="19080" cy="17640"/>
          </a:xfrm>
          <a:custGeom>
            <a:avLst/>
            <a:gdLst/>
            <a:ahLst/>
            <a:rect l="l" t="t" r="r" b="b"/>
            <a:pathLst>
              <a:path w="24" h="21">
                <a:moveTo>
                  <a:pt x="0" y="0"/>
                </a:moveTo>
                <a:lnTo>
                  <a:pt x="9" y="0"/>
                </a:lnTo>
                <a:lnTo>
                  <a:pt x="19" y="4"/>
                </a:lnTo>
                <a:lnTo>
                  <a:pt x="24" y="9"/>
                </a:lnTo>
                <a:lnTo>
                  <a:pt x="22" y="18"/>
                </a:lnTo>
                <a:lnTo>
                  <a:pt x="15" y="21"/>
                </a:lnTo>
                <a:lnTo>
                  <a:pt x="8" y="18"/>
                </a:lnTo>
                <a:lnTo>
                  <a:pt x="4" y="9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2" name="Freeform 16"/>
          <p:cNvSpPr/>
          <p:nvPr/>
        </p:nvSpPr>
        <p:spPr>
          <a:xfrm>
            <a:off x="2149560" y="3473280"/>
            <a:ext cx="108000" cy="46080"/>
          </a:xfrm>
          <a:custGeom>
            <a:avLst/>
            <a:gdLst/>
            <a:ahLst/>
            <a:rect l="l" t="t" r="r" b="b"/>
            <a:pathLst>
              <a:path w="136" h="58">
                <a:moveTo>
                  <a:pt x="0" y="34"/>
                </a:moveTo>
                <a:lnTo>
                  <a:pt x="4" y="30"/>
                </a:lnTo>
                <a:lnTo>
                  <a:pt x="8" y="24"/>
                </a:lnTo>
                <a:lnTo>
                  <a:pt x="14" y="20"/>
                </a:lnTo>
                <a:lnTo>
                  <a:pt x="22" y="14"/>
                </a:lnTo>
                <a:lnTo>
                  <a:pt x="29" y="9"/>
                </a:lnTo>
                <a:lnTo>
                  <a:pt x="37" y="6"/>
                </a:lnTo>
                <a:lnTo>
                  <a:pt x="45" y="4"/>
                </a:lnTo>
                <a:lnTo>
                  <a:pt x="52" y="5"/>
                </a:lnTo>
                <a:lnTo>
                  <a:pt x="61" y="7"/>
                </a:lnTo>
                <a:lnTo>
                  <a:pt x="68" y="7"/>
                </a:lnTo>
                <a:lnTo>
                  <a:pt x="73" y="6"/>
                </a:lnTo>
                <a:lnTo>
                  <a:pt x="80" y="3"/>
                </a:lnTo>
                <a:lnTo>
                  <a:pt x="87" y="0"/>
                </a:lnTo>
                <a:lnTo>
                  <a:pt x="95" y="1"/>
                </a:lnTo>
                <a:lnTo>
                  <a:pt x="102" y="4"/>
                </a:lnTo>
                <a:lnTo>
                  <a:pt x="110" y="7"/>
                </a:lnTo>
                <a:lnTo>
                  <a:pt x="117" y="12"/>
                </a:lnTo>
                <a:lnTo>
                  <a:pt x="125" y="18"/>
                </a:lnTo>
                <a:lnTo>
                  <a:pt x="131" y="23"/>
                </a:lnTo>
                <a:lnTo>
                  <a:pt x="136" y="28"/>
                </a:lnTo>
                <a:lnTo>
                  <a:pt x="133" y="32"/>
                </a:lnTo>
                <a:lnTo>
                  <a:pt x="127" y="37"/>
                </a:lnTo>
                <a:lnTo>
                  <a:pt x="120" y="43"/>
                </a:lnTo>
                <a:lnTo>
                  <a:pt x="112" y="47"/>
                </a:lnTo>
                <a:lnTo>
                  <a:pt x="103" y="52"/>
                </a:lnTo>
                <a:lnTo>
                  <a:pt x="91" y="56"/>
                </a:lnTo>
                <a:lnTo>
                  <a:pt x="79" y="58"/>
                </a:lnTo>
                <a:lnTo>
                  <a:pt x="64" y="58"/>
                </a:lnTo>
                <a:lnTo>
                  <a:pt x="50" y="57"/>
                </a:lnTo>
                <a:lnTo>
                  <a:pt x="37" y="56"/>
                </a:lnTo>
                <a:lnTo>
                  <a:pt x="28" y="54"/>
                </a:lnTo>
                <a:lnTo>
                  <a:pt x="20" y="52"/>
                </a:lnTo>
                <a:lnTo>
                  <a:pt x="14" y="49"/>
                </a:lnTo>
                <a:lnTo>
                  <a:pt x="8" y="44"/>
                </a:lnTo>
                <a:lnTo>
                  <a:pt x="4" y="39"/>
                </a:lnTo>
                <a:lnTo>
                  <a:pt x="0" y="3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3" name="Freeform 17"/>
          <p:cNvSpPr/>
          <p:nvPr/>
        </p:nvSpPr>
        <p:spPr>
          <a:xfrm>
            <a:off x="2157480" y="3486240"/>
            <a:ext cx="90360" cy="12600"/>
          </a:xfrm>
          <a:custGeom>
            <a:avLst/>
            <a:gdLst/>
            <a:ahLst/>
            <a:rect l="l" t="t" r="r" b="b"/>
            <a:pathLst>
              <a:path w="114" h="16">
                <a:moveTo>
                  <a:pt x="0" y="16"/>
                </a:moveTo>
                <a:lnTo>
                  <a:pt x="3" y="15"/>
                </a:lnTo>
                <a:lnTo>
                  <a:pt x="8" y="14"/>
                </a:lnTo>
                <a:lnTo>
                  <a:pt x="14" y="12"/>
                </a:lnTo>
                <a:lnTo>
                  <a:pt x="19" y="8"/>
                </a:lnTo>
                <a:lnTo>
                  <a:pt x="26" y="6"/>
                </a:lnTo>
                <a:lnTo>
                  <a:pt x="34" y="4"/>
                </a:lnTo>
                <a:lnTo>
                  <a:pt x="42" y="2"/>
                </a:lnTo>
                <a:lnTo>
                  <a:pt x="52" y="0"/>
                </a:lnTo>
                <a:lnTo>
                  <a:pt x="61" y="0"/>
                </a:lnTo>
                <a:lnTo>
                  <a:pt x="69" y="2"/>
                </a:lnTo>
                <a:lnTo>
                  <a:pt x="77" y="3"/>
                </a:lnTo>
                <a:lnTo>
                  <a:pt x="84" y="5"/>
                </a:lnTo>
                <a:lnTo>
                  <a:pt x="91" y="7"/>
                </a:lnTo>
                <a:lnTo>
                  <a:pt x="99" y="8"/>
                </a:lnTo>
                <a:lnTo>
                  <a:pt x="106" y="11"/>
                </a:lnTo>
                <a:lnTo>
                  <a:pt x="114" y="12"/>
                </a:lnTo>
                <a:lnTo>
                  <a:pt x="108" y="13"/>
                </a:lnTo>
                <a:lnTo>
                  <a:pt x="101" y="12"/>
                </a:lnTo>
                <a:lnTo>
                  <a:pt x="94" y="12"/>
                </a:lnTo>
                <a:lnTo>
                  <a:pt x="87" y="11"/>
                </a:lnTo>
                <a:lnTo>
                  <a:pt x="79" y="10"/>
                </a:lnTo>
                <a:lnTo>
                  <a:pt x="72" y="8"/>
                </a:lnTo>
                <a:lnTo>
                  <a:pt x="64" y="7"/>
                </a:lnTo>
                <a:lnTo>
                  <a:pt x="56" y="7"/>
                </a:lnTo>
                <a:lnTo>
                  <a:pt x="49" y="8"/>
                </a:lnTo>
                <a:lnTo>
                  <a:pt x="42" y="10"/>
                </a:lnTo>
                <a:lnTo>
                  <a:pt x="34" y="11"/>
                </a:lnTo>
                <a:lnTo>
                  <a:pt x="27" y="13"/>
                </a:lnTo>
                <a:lnTo>
                  <a:pt x="19" y="15"/>
                </a:lnTo>
                <a:lnTo>
                  <a:pt x="12" y="16"/>
                </a:lnTo>
                <a:lnTo>
                  <a:pt x="5" y="16"/>
                </a:lnTo>
                <a:lnTo>
                  <a:pt x="0" y="1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4" name="Freeform 18"/>
          <p:cNvSpPr/>
          <p:nvPr/>
        </p:nvSpPr>
        <p:spPr>
          <a:xfrm>
            <a:off x="2116080" y="2711520"/>
            <a:ext cx="461880" cy="1128600"/>
          </a:xfrm>
          <a:custGeom>
            <a:avLst/>
            <a:gdLst/>
            <a:ahLst/>
            <a:rect l="l" t="t" r="r" b="b"/>
            <a:pathLst>
              <a:path w="583" h="1421">
                <a:moveTo>
                  <a:pt x="231" y="47"/>
                </a:moveTo>
                <a:lnTo>
                  <a:pt x="242" y="56"/>
                </a:lnTo>
                <a:lnTo>
                  <a:pt x="251" y="71"/>
                </a:lnTo>
                <a:lnTo>
                  <a:pt x="259" y="91"/>
                </a:lnTo>
                <a:lnTo>
                  <a:pt x="265" y="112"/>
                </a:lnTo>
                <a:lnTo>
                  <a:pt x="269" y="137"/>
                </a:lnTo>
                <a:lnTo>
                  <a:pt x="273" y="162"/>
                </a:lnTo>
                <a:lnTo>
                  <a:pt x="274" y="185"/>
                </a:lnTo>
                <a:lnTo>
                  <a:pt x="274" y="207"/>
                </a:lnTo>
                <a:lnTo>
                  <a:pt x="275" y="231"/>
                </a:lnTo>
                <a:lnTo>
                  <a:pt x="282" y="260"/>
                </a:lnTo>
                <a:lnTo>
                  <a:pt x="292" y="293"/>
                </a:lnTo>
                <a:lnTo>
                  <a:pt x="306" y="327"/>
                </a:lnTo>
                <a:lnTo>
                  <a:pt x="320" y="360"/>
                </a:lnTo>
                <a:lnTo>
                  <a:pt x="334" y="391"/>
                </a:lnTo>
                <a:lnTo>
                  <a:pt x="346" y="418"/>
                </a:lnTo>
                <a:lnTo>
                  <a:pt x="356" y="436"/>
                </a:lnTo>
                <a:lnTo>
                  <a:pt x="366" y="456"/>
                </a:lnTo>
                <a:lnTo>
                  <a:pt x="380" y="483"/>
                </a:lnTo>
                <a:lnTo>
                  <a:pt x="396" y="517"/>
                </a:lnTo>
                <a:lnTo>
                  <a:pt x="413" y="554"/>
                </a:lnTo>
                <a:lnTo>
                  <a:pt x="431" y="593"/>
                </a:lnTo>
                <a:lnTo>
                  <a:pt x="444" y="632"/>
                </a:lnTo>
                <a:lnTo>
                  <a:pt x="456" y="670"/>
                </a:lnTo>
                <a:lnTo>
                  <a:pt x="463" y="703"/>
                </a:lnTo>
                <a:lnTo>
                  <a:pt x="465" y="754"/>
                </a:lnTo>
                <a:lnTo>
                  <a:pt x="466" y="816"/>
                </a:lnTo>
                <a:lnTo>
                  <a:pt x="471" y="884"/>
                </a:lnTo>
                <a:lnTo>
                  <a:pt x="487" y="951"/>
                </a:lnTo>
                <a:lnTo>
                  <a:pt x="495" y="973"/>
                </a:lnTo>
                <a:lnTo>
                  <a:pt x="505" y="1000"/>
                </a:lnTo>
                <a:lnTo>
                  <a:pt x="516" y="1030"/>
                </a:lnTo>
                <a:lnTo>
                  <a:pt x="527" y="1062"/>
                </a:lnTo>
                <a:lnTo>
                  <a:pt x="538" y="1094"/>
                </a:lnTo>
                <a:lnTo>
                  <a:pt x="547" y="1127"/>
                </a:lnTo>
                <a:lnTo>
                  <a:pt x="554" y="1159"/>
                </a:lnTo>
                <a:lnTo>
                  <a:pt x="556" y="1188"/>
                </a:lnTo>
                <a:lnTo>
                  <a:pt x="558" y="1250"/>
                </a:lnTo>
                <a:lnTo>
                  <a:pt x="564" y="1314"/>
                </a:lnTo>
                <a:lnTo>
                  <a:pt x="572" y="1374"/>
                </a:lnTo>
                <a:lnTo>
                  <a:pt x="583" y="1421"/>
                </a:lnTo>
                <a:lnTo>
                  <a:pt x="572" y="1420"/>
                </a:lnTo>
                <a:lnTo>
                  <a:pt x="561" y="1418"/>
                </a:lnTo>
                <a:lnTo>
                  <a:pt x="550" y="1415"/>
                </a:lnTo>
                <a:lnTo>
                  <a:pt x="540" y="1412"/>
                </a:lnTo>
                <a:lnTo>
                  <a:pt x="530" y="1409"/>
                </a:lnTo>
                <a:lnTo>
                  <a:pt x="519" y="1404"/>
                </a:lnTo>
                <a:lnTo>
                  <a:pt x="508" y="1399"/>
                </a:lnTo>
                <a:lnTo>
                  <a:pt x="497" y="1394"/>
                </a:lnTo>
                <a:lnTo>
                  <a:pt x="499" y="1374"/>
                </a:lnTo>
                <a:lnTo>
                  <a:pt x="499" y="1353"/>
                </a:lnTo>
                <a:lnTo>
                  <a:pt x="496" y="1331"/>
                </a:lnTo>
                <a:lnTo>
                  <a:pt x="493" y="1309"/>
                </a:lnTo>
                <a:lnTo>
                  <a:pt x="487" y="1288"/>
                </a:lnTo>
                <a:lnTo>
                  <a:pt x="481" y="1267"/>
                </a:lnTo>
                <a:lnTo>
                  <a:pt x="473" y="1248"/>
                </a:lnTo>
                <a:lnTo>
                  <a:pt x="465" y="1231"/>
                </a:lnTo>
                <a:lnTo>
                  <a:pt x="455" y="1215"/>
                </a:lnTo>
                <a:lnTo>
                  <a:pt x="443" y="1197"/>
                </a:lnTo>
                <a:lnTo>
                  <a:pt x="431" y="1179"/>
                </a:lnTo>
                <a:lnTo>
                  <a:pt x="418" y="1160"/>
                </a:lnTo>
                <a:lnTo>
                  <a:pt x="406" y="1141"/>
                </a:lnTo>
                <a:lnTo>
                  <a:pt x="397" y="1122"/>
                </a:lnTo>
                <a:lnTo>
                  <a:pt x="390" y="1103"/>
                </a:lnTo>
                <a:lnTo>
                  <a:pt x="388" y="1085"/>
                </a:lnTo>
                <a:lnTo>
                  <a:pt x="386" y="1095"/>
                </a:lnTo>
                <a:lnTo>
                  <a:pt x="384" y="1110"/>
                </a:lnTo>
                <a:lnTo>
                  <a:pt x="386" y="1126"/>
                </a:lnTo>
                <a:lnTo>
                  <a:pt x="389" y="1144"/>
                </a:lnTo>
                <a:lnTo>
                  <a:pt x="394" y="1161"/>
                </a:lnTo>
                <a:lnTo>
                  <a:pt x="399" y="1178"/>
                </a:lnTo>
                <a:lnTo>
                  <a:pt x="405" y="1194"/>
                </a:lnTo>
                <a:lnTo>
                  <a:pt x="412" y="1207"/>
                </a:lnTo>
                <a:lnTo>
                  <a:pt x="420" y="1222"/>
                </a:lnTo>
                <a:lnTo>
                  <a:pt x="428" y="1239"/>
                </a:lnTo>
                <a:lnTo>
                  <a:pt x="437" y="1261"/>
                </a:lnTo>
                <a:lnTo>
                  <a:pt x="444" y="1284"/>
                </a:lnTo>
                <a:lnTo>
                  <a:pt x="451" y="1307"/>
                </a:lnTo>
                <a:lnTo>
                  <a:pt x="454" y="1331"/>
                </a:lnTo>
                <a:lnTo>
                  <a:pt x="454" y="1353"/>
                </a:lnTo>
                <a:lnTo>
                  <a:pt x="449" y="1373"/>
                </a:lnTo>
                <a:lnTo>
                  <a:pt x="434" y="1365"/>
                </a:lnTo>
                <a:lnTo>
                  <a:pt x="416" y="1351"/>
                </a:lnTo>
                <a:lnTo>
                  <a:pt x="396" y="1334"/>
                </a:lnTo>
                <a:lnTo>
                  <a:pt x="376" y="1311"/>
                </a:lnTo>
                <a:lnTo>
                  <a:pt x="359" y="1284"/>
                </a:lnTo>
                <a:lnTo>
                  <a:pt x="343" y="1253"/>
                </a:lnTo>
                <a:lnTo>
                  <a:pt x="331" y="1218"/>
                </a:lnTo>
                <a:lnTo>
                  <a:pt x="325" y="1180"/>
                </a:lnTo>
                <a:lnTo>
                  <a:pt x="318" y="1111"/>
                </a:lnTo>
                <a:lnTo>
                  <a:pt x="315" y="1057"/>
                </a:lnTo>
                <a:lnTo>
                  <a:pt x="315" y="1008"/>
                </a:lnTo>
                <a:lnTo>
                  <a:pt x="319" y="951"/>
                </a:lnTo>
                <a:lnTo>
                  <a:pt x="321" y="894"/>
                </a:lnTo>
                <a:lnTo>
                  <a:pt x="318" y="845"/>
                </a:lnTo>
                <a:lnTo>
                  <a:pt x="310" y="804"/>
                </a:lnTo>
                <a:lnTo>
                  <a:pt x="297" y="767"/>
                </a:lnTo>
                <a:lnTo>
                  <a:pt x="288" y="732"/>
                </a:lnTo>
                <a:lnTo>
                  <a:pt x="287" y="697"/>
                </a:lnTo>
                <a:lnTo>
                  <a:pt x="288" y="663"/>
                </a:lnTo>
                <a:lnTo>
                  <a:pt x="289" y="631"/>
                </a:lnTo>
                <a:lnTo>
                  <a:pt x="288" y="612"/>
                </a:lnTo>
                <a:lnTo>
                  <a:pt x="285" y="587"/>
                </a:lnTo>
                <a:lnTo>
                  <a:pt x="281" y="557"/>
                </a:lnTo>
                <a:lnTo>
                  <a:pt x="275" y="524"/>
                </a:lnTo>
                <a:lnTo>
                  <a:pt x="267" y="489"/>
                </a:lnTo>
                <a:lnTo>
                  <a:pt x="259" y="453"/>
                </a:lnTo>
                <a:lnTo>
                  <a:pt x="249" y="420"/>
                </a:lnTo>
                <a:lnTo>
                  <a:pt x="238" y="389"/>
                </a:lnTo>
                <a:lnTo>
                  <a:pt x="228" y="361"/>
                </a:lnTo>
                <a:lnTo>
                  <a:pt x="216" y="336"/>
                </a:lnTo>
                <a:lnTo>
                  <a:pt x="206" y="313"/>
                </a:lnTo>
                <a:lnTo>
                  <a:pt x="194" y="291"/>
                </a:lnTo>
                <a:lnTo>
                  <a:pt x="183" y="270"/>
                </a:lnTo>
                <a:lnTo>
                  <a:pt x="170" y="250"/>
                </a:lnTo>
                <a:lnTo>
                  <a:pt x="158" y="229"/>
                </a:lnTo>
                <a:lnTo>
                  <a:pt x="143" y="207"/>
                </a:lnTo>
                <a:lnTo>
                  <a:pt x="126" y="185"/>
                </a:lnTo>
                <a:lnTo>
                  <a:pt x="108" y="162"/>
                </a:lnTo>
                <a:lnTo>
                  <a:pt x="90" y="140"/>
                </a:lnTo>
                <a:lnTo>
                  <a:pt x="70" y="118"/>
                </a:lnTo>
                <a:lnTo>
                  <a:pt x="52" y="100"/>
                </a:lnTo>
                <a:lnTo>
                  <a:pt x="35" y="83"/>
                </a:lnTo>
                <a:lnTo>
                  <a:pt x="22" y="70"/>
                </a:lnTo>
                <a:lnTo>
                  <a:pt x="10" y="61"/>
                </a:lnTo>
                <a:lnTo>
                  <a:pt x="0" y="48"/>
                </a:lnTo>
                <a:lnTo>
                  <a:pt x="0" y="38"/>
                </a:lnTo>
                <a:lnTo>
                  <a:pt x="7" y="33"/>
                </a:lnTo>
                <a:lnTo>
                  <a:pt x="18" y="36"/>
                </a:lnTo>
                <a:lnTo>
                  <a:pt x="26" y="41"/>
                </a:lnTo>
                <a:lnTo>
                  <a:pt x="37" y="48"/>
                </a:lnTo>
                <a:lnTo>
                  <a:pt x="50" y="55"/>
                </a:lnTo>
                <a:lnTo>
                  <a:pt x="64" y="63"/>
                </a:lnTo>
                <a:lnTo>
                  <a:pt x="79" y="72"/>
                </a:lnTo>
                <a:lnTo>
                  <a:pt x="93" y="80"/>
                </a:lnTo>
                <a:lnTo>
                  <a:pt x="106" y="87"/>
                </a:lnTo>
                <a:lnTo>
                  <a:pt x="116" y="93"/>
                </a:lnTo>
                <a:lnTo>
                  <a:pt x="113" y="84"/>
                </a:lnTo>
                <a:lnTo>
                  <a:pt x="108" y="73"/>
                </a:lnTo>
                <a:lnTo>
                  <a:pt x="102" y="62"/>
                </a:lnTo>
                <a:lnTo>
                  <a:pt x="95" y="49"/>
                </a:lnTo>
                <a:lnTo>
                  <a:pt x="88" y="36"/>
                </a:lnTo>
                <a:lnTo>
                  <a:pt x="80" y="24"/>
                </a:lnTo>
                <a:lnTo>
                  <a:pt x="71" y="11"/>
                </a:lnTo>
                <a:lnTo>
                  <a:pt x="61" y="0"/>
                </a:lnTo>
                <a:lnTo>
                  <a:pt x="72" y="1"/>
                </a:lnTo>
                <a:lnTo>
                  <a:pt x="86" y="6"/>
                </a:lnTo>
                <a:lnTo>
                  <a:pt x="100" y="17"/>
                </a:lnTo>
                <a:lnTo>
                  <a:pt x="115" y="30"/>
                </a:lnTo>
                <a:lnTo>
                  <a:pt x="129" y="44"/>
                </a:lnTo>
                <a:lnTo>
                  <a:pt x="143" y="61"/>
                </a:lnTo>
                <a:lnTo>
                  <a:pt x="154" y="78"/>
                </a:lnTo>
                <a:lnTo>
                  <a:pt x="164" y="95"/>
                </a:lnTo>
                <a:lnTo>
                  <a:pt x="166" y="79"/>
                </a:lnTo>
                <a:lnTo>
                  <a:pt x="163" y="61"/>
                </a:lnTo>
                <a:lnTo>
                  <a:pt x="153" y="39"/>
                </a:lnTo>
                <a:lnTo>
                  <a:pt x="137" y="12"/>
                </a:lnTo>
                <a:lnTo>
                  <a:pt x="146" y="12"/>
                </a:lnTo>
                <a:lnTo>
                  <a:pt x="158" y="17"/>
                </a:lnTo>
                <a:lnTo>
                  <a:pt x="170" y="25"/>
                </a:lnTo>
                <a:lnTo>
                  <a:pt x="183" y="36"/>
                </a:lnTo>
                <a:lnTo>
                  <a:pt x="197" y="51"/>
                </a:lnTo>
                <a:lnTo>
                  <a:pt x="209" y="69"/>
                </a:lnTo>
                <a:lnTo>
                  <a:pt x="221" y="88"/>
                </a:lnTo>
                <a:lnTo>
                  <a:pt x="231" y="109"/>
                </a:lnTo>
                <a:lnTo>
                  <a:pt x="235" y="95"/>
                </a:lnTo>
                <a:lnTo>
                  <a:pt x="236" y="79"/>
                </a:lnTo>
                <a:lnTo>
                  <a:pt x="235" y="62"/>
                </a:lnTo>
                <a:lnTo>
                  <a:pt x="231" y="4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5" name="Freeform 19"/>
          <p:cNvSpPr/>
          <p:nvPr/>
        </p:nvSpPr>
        <p:spPr>
          <a:xfrm>
            <a:off x="1901880" y="3621240"/>
            <a:ext cx="722160" cy="917280"/>
          </a:xfrm>
          <a:custGeom>
            <a:avLst/>
            <a:gdLst/>
            <a:ahLst/>
            <a:rect l="l" t="t" r="r" b="b"/>
            <a:pathLst>
              <a:path w="909" h="1155">
                <a:moveTo>
                  <a:pt x="221" y="128"/>
                </a:moveTo>
                <a:lnTo>
                  <a:pt x="228" y="142"/>
                </a:lnTo>
                <a:lnTo>
                  <a:pt x="232" y="160"/>
                </a:lnTo>
                <a:lnTo>
                  <a:pt x="232" y="181"/>
                </a:lnTo>
                <a:lnTo>
                  <a:pt x="225" y="203"/>
                </a:lnTo>
                <a:lnTo>
                  <a:pt x="217" y="227"/>
                </a:lnTo>
                <a:lnTo>
                  <a:pt x="212" y="251"/>
                </a:lnTo>
                <a:lnTo>
                  <a:pt x="210" y="273"/>
                </a:lnTo>
                <a:lnTo>
                  <a:pt x="206" y="290"/>
                </a:lnTo>
                <a:lnTo>
                  <a:pt x="202" y="288"/>
                </a:lnTo>
                <a:lnTo>
                  <a:pt x="195" y="287"/>
                </a:lnTo>
                <a:lnTo>
                  <a:pt x="188" y="283"/>
                </a:lnTo>
                <a:lnTo>
                  <a:pt x="180" y="280"/>
                </a:lnTo>
                <a:lnTo>
                  <a:pt x="172" y="275"/>
                </a:lnTo>
                <a:lnTo>
                  <a:pt x="165" y="268"/>
                </a:lnTo>
                <a:lnTo>
                  <a:pt x="159" y="260"/>
                </a:lnTo>
                <a:lnTo>
                  <a:pt x="156" y="251"/>
                </a:lnTo>
                <a:lnTo>
                  <a:pt x="156" y="265"/>
                </a:lnTo>
                <a:lnTo>
                  <a:pt x="159" y="279"/>
                </a:lnTo>
                <a:lnTo>
                  <a:pt x="166" y="291"/>
                </a:lnTo>
                <a:lnTo>
                  <a:pt x="174" y="304"/>
                </a:lnTo>
                <a:lnTo>
                  <a:pt x="184" y="316"/>
                </a:lnTo>
                <a:lnTo>
                  <a:pt x="196" y="326"/>
                </a:lnTo>
                <a:lnTo>
                  <a:pt x="209" y="333"/>
                </a:lnTo>
                <a:lnTo>
                  <a:pt x="221" y="336"/>
                </a:lnTo>
                <a:lnTo>
                  <a:pt x="235" y="337"/>
                </a:lnTo>
                <a:lnTo>
                  <a:pt x="248" y="335"/>
                </a:lnTo>
                <a:lnTo>
                  <a:pt x="260" y="332"/>
                </a:lnTo>
                <a:lnTo>
                  <a:pt x="273" y="327"/>
                </a:lnTo>
                <a:lnTo>
                  <a:pt x="285" y="321"/>
                </a:lnTo>
                <a:lnTo>
                  <a:pt x="294" y="314"/>
                </a:lnTo>
                <a:lnTo>
                  <a:pt x="303" y="306"/>
                </a:lnTo>
                <a:lnTo>
                  <a:pt x="310" y="298"/>
                </a:lnTo>
                <a:lnTo>
                  <a:pt x="316" y="290"/>
                </a:lnTo>
                <a:lnTo>
                  <a:pt x="323" y="283"/>
                </a:lnTo>
                <a:lnTo>
                  <a:pt x="330" y="276"/>
                </a:lnTo>
                <a:lnTo>
                  <a:pt x="338" y="269"/>
                </a:lnTo>
                <a:lnTo>
                  <a:pt x="345" y="264"/>
                </a:lnTo>
                <a:lnTo>
                  <a:pt x="353" y="259"/>
                </a:lnTo>
                <a:lnTo>
                  <a:pt x="360" y="254"/>
                </a:lnTo>
                <a:lnTo>
                  <a:pt x="368" y="251"/>
                </a:lnTo>
                <a:lnTo>
                  <a:pt x="376" y="246"/>
                </a:lnTo>
                <a:lnTo>
                  <a:pt x="384" y="241"/>
                </a:lnTo>
                <a:lnTo>
                  <a:pt x="392" y="231"/>
                </a:lnTo>
                <a:lnTo>
                  <a:pt x="401" y="222"/>
                </a:lnTo>
                <a:lnTo>
                  <a:pt x="408" y="211"/>
                </a:lnTo>
                <a:lnTo>
                  <a:pt x="415" y="198"/>
                </a:lnTo>
                <a:lnTo>
                  <a:pt x="422" y="184"/>
                </a:lnTo>
                <a:lnTo>
                  <a:pt x="426" y="170"/>
                </a:lnTo>
                <a:lnTo>
                  <a:pt x="430" y="157"/>
                </a:lnTo>
                <a:lnTo>
                  <a:pt x="434" y="143"/>
                </a:lnTo>
                <a:lnTo>
                  <a:pt x="439" y="129"/>
                </a:lnTo>
                <a:lnTo>
                  <a:pt x="444" y="116"/>
                </a:lnTo>
                <a:lnTo>
                  <a:pt x="448" y="104"/>
                </a:lnTo>
                <a:lnTo>
                  <a:pt x="454" y="93"/>
                </a:lnTo>
                <a:lnTo>
                  <a:pt x="461" y="84"/>
                </a:lnTo>
                <a:lnTo>
                  <a:pt x="469" y="77"/>
                </a:lnTo>
                <a:lnTo>
                  <a:pt x="477" y="69"/>
                </a:lnTo>
                <a:lnTo>
                  <a:pt x="486" y="59"/>
                </a:lnTo>
                <a:lnTo>
                  <a:pt x="494" y="46"/>
                </a:lnTo>
                <a:lnTo>
                  <a:pt x="504" y="32"/>
                </a:lnTo>
                <a:lnTo>
                  <a:pt x="510" y="21"/>
                </a:lnTo>
                <a:lnTo>
                  <a:pt x="516" y="9"/>
                </a:lnTo>
                <a:lnTo>
                  <a:pt x="521" y="2"/>
                </a:lnTo>
                <a:lnTo>
                  <a:pt x="522" y="0"/>
                </a:lnTo>
                <a:lnTo>
                  <a:pt x="525" y="21"/>
                </a:lnTo>
                <a:lnTo>
                  <a:pt x="530" y="42"/>
                </a:lnTo>
                <a:lnTo>
                  <a:pt x="538" y="67"/>
                </a:lnTo>
                <a:lnTo>
                  <a:pt x="547" y="90"/>
                </a:lnTo>
                <a:lnTo>
                  <a:pt x="558" y="114"/>
                </a:lnTo>
                <a:lnTo>
                  <a:pt x="570" y="137"/>
                </a:lnTo>
                <a:lnTo>
                  <a:pt x="584" y="159"/>
                </a:lnTo>
                <a:lnTo>
                  <a:pt x="599" y="178"/>
                </a:lnTo>
                <a:lnTo>
                  <a:pt x="607" y="188"/>
                </a:lnTo>
                <a:lnTo>
                  <a:pt x="618" y="198"/>
                </a:lnTo>
                <a:lnTo>
                  <a:pt x="629" y="208"/>
                </a:lnTo>
                <a:lnTo>
                  <a:pt x="642" y="219"/>
                </a:lnTo>
                <a:lnTo>
                  <a:pt x="656" y="230"/>
                </a:lnTo>
                <a:lnTo>
                  <a:pt x="671" y="241"/>
                </a:lnTo>
                <a:lnTo>
                  <a:pt x="688" y="251"/>
                </a:lnTo>
                <a:lnTo>
                  <a:pt x="706" y="260"/>
                </a:lnTo>
                <a:lnTo>
                  <a:pt x="726" y="271"/>
                </a:lnTo>
                <a:lnTo>
                  <a:pt x="748" y="279"/>
                </a:lnTo>
                <a:lnTo>
                  <a:pt x="770" y="288"/>
                </a:lnTo>
                <a:lnTo>
                  <a:pt x="795" y="295"/>
                </a:lnTo>
                <a:lnTo>
                  <a:pt x="820" y="302"/>
                </a:lnTo>
                <a:lnTo>
                  <a:pt x="848" y="307"/>
                </a:lnTo>
                <a:lnTo>
                  <a:pt x="878" y="311"/>
                </a:lnTo>
                <a:lnTo>
                  <a:pt x="909" y="314"/>
                </a:lnTo>
                <a:lnTo>
                  <a:pt x="904" y="343"/>
                </a:lnTo>
                <a:lnTo>
                  <a:pt x="899" y="378"/>
                </a:lnTo>
                <a:lnTo>
                  <a:pt x="895" y="418"/>
                </a:lnTo>
                <a:lnTo>
                  <a:pt x="898" y="462"/>
                </a:lnTo>
                <a:lnTo>
                  <a:pt x="892" y="447"/>
                </a:lnTo>
                <a:lnTo>
                  <a:pt x="885" y="431"/>
                </a:lnTo>
                <a:lnTo>
                  <a:pt x="877" y="415"/>
                </a:lnTo>
                <a:lnTo>
                  <a:pt x="866" y="398"/>
                </a:lnTo>
                <a:lnTo>
                  <a:pt x="855" y="383"/>
                </a:lnTo>
                <a:lnTo>
                  <a:pt x="841" y="370"/>
                </a:lnTo>
                <a:lnTo>
                  <a:pt x="826" y="357"/>
                </a:lnTo>
                <a:lnTo>
                  <a:pt x="808" y="347"/>
                </a:lnTo>
                <a:lnTo>
                  <a:pt x="815" y="363"/>
                </a:lnTo>
                <a:lnTo>
                  <a:pt x="822" y="379"/>
                </a:lnTo>
                <a:lnTo>
                  <a:pt x="830" y="396"/>
                </a:lnTo>
                <a:lnTo>
                  <a:pt x="838" y="412"/>
                </a:lnTo>
                <a:lnTo>
                  <a:pt x="846" y="430"/>
                </a:lnTo>
                <a:lnTo>
                  <a:pt x="854" y="446"/>
                </a:lnTo>
                <a:lnTo>
                  <a:pt x="861" y="461"/>
                </a:lnTo>
                <a:lnTo>
                  <a:pt x="866" y="475"/>
                </a:lnTo>
                <a:lnTo>
                  <a:pt x="872" y="493"/>
                </a:lnTo>
                <a:lnTo>
                  <a:pt x="871" y="502"/>
                </a:lnTo>
                <a:lnTo>
                  <a:pt x="865" y="514"/>
                </a:lnTo>
                <a:lnTo>
                  <a:pt x="860" y="538"/>
                </a:lnTo>
                <a:lnTo>
                  <a:pt x="845" y="516"/>
                </a:lnTo>
                <a:lnTo>
                  <a:pt x="826" y="489"/>
                </a:lnTo>
                <a:lnTo>
                  <a:pt x="804" y="462"/>
                </a:lnTo>
                <a:lnTo>
                  <a:pt x="781" y="433"/>
                </a:lnTo>
                <a:lnTo>
                  <a:pt x="759" y="409"/>
                </a:lnTo>
                <a:lnTo>
                  <a:pt x="739" y="389"/>
                </a:lnTo>
                <a:lnTo>
                  <a:pt x="722" y="379"/>
                </a:lnTo>
                <a:lnTo>
                  <a:pt x="711" y="379"/>
                </a:lnTo>
                <a:lnTo>
                  <a:pt x="704" y="387"/>
                </a:lnTo>
                <a:lnTo>
                  <a:pt x="701" y="395"/>
                </a:lnTo>
                <a:lnTo>
                  <a:pt x="701" y="405"/>
                </a:lnTo>
                <a:lnTo>
                  <a:pt x="704" y="418"/>
                </a:lnTo>
                <a:lnTo>
                  <a:pt x="710" y="432"/>
                </a:lnTo>
                <a:lnTo>
                  <a:pt x="720" y="447"/>
                </a:lnTo>
                <a:lnTo>
                  <a:pt x="734" y="464"/>
                </a:lnTo>
                <a:lnTo>
                  <a:pt x="751" y="483"/>
                </a:lnTo>
                <a:lnTo>
                  <a:pt x="772" y="503"/>
                </a:lnTo>
                <a:lnTo>
                  <a:pt x="793" y="525"/>
                </a:lnTo>
                <a:lnTo>
                  <a:pt x="813" y="549"/>
                </a:lnTo>
                <a:lnTo>
                  <a:pt x="831" y="577"/>
                </a:lnTo>
                <a:lnTo>
                  <a:pt x="846" y="607"/>
                </a:lnTo>
                <a:lnTo>
                  <a:pt x="855" y="643"/>
                </a:lnTo>
                <a:lnTo>
                  <a:pt x="858" y="682"/>
                </a:lnTo>
                <a:lnTo>
                  <a:pt x="855" y="726"/>
                </a:lnTo>
                <a:lnTo>
                  <a:pt x="848" y="707"/>
                </a:lnTo>
                <a:lnTo>
                  <a:pt x="842" y="696"/>
                </a:lnTo>
                <a:lnTo>
                  <a:pt x="836" y="688"/>
                </a:lnTo>
                <a:lnTo>
                  <a:pt x="832" y="682"/>
                </a:lnTo>
                <a:lnTo>
                  <a:pt x="826" y="678"/>
                </a:lnTo>
                <a:lnTo>
                  <a:pt x="819" y="675"/>
                </a:lnTo>
                <a:lnTo>
                  <a:pt x="810" y="669"/>
                </a:lnTo>
                <a:lnTo>
                  <a:pt x="800" y="661"/>
                </a:lnTo>
                <a:lnTo>
                  <a:pt x="789" y="651"/>
                </a:lnTo>
                <a:lnTo>
                  <a:pt x="780" y="642"/>
                </a:lnTo>
                <a:lnTo>
                  <a:pt x="773" y="631"/>
                </a:lnTo>
                <a:lnTo>
                  <a:pt x="767" y="620"/>
                </a:lnTo>
                <a:lnTo>
                  <a:pt x="763" y="609"/>
                </a:lnTo>
                <a:lnTo>
                  <a:pt x="758" y="597"/>
                </a:lnTo>
                <a:lnTo>
                  <a:pt x="752" y="585"/>
                </a:lnTo>
                <a:lnTo>
                  <a:pt x="745" y="571"/>
                </a:lnTo>
                <a:lnTo>
                  <a:pt x="739" y="557"/>
                </a:lnTo>
                <a:lnTo>
                  <a:pt x="731" y="546"/>
                </a:lnTo>
                <a:lnTo>
                  <a:pt x="722" y="536"/>
                </a:lnTo>
                <a:lnTo>
                  <a:pt x="713" y="526"/>
                </a:lnTo>
                <a:lnTo>
                  <a:pt x="704" y="519"/>
                </a:lnTo>
                <a:lnTo>
                  <a:pt x="694" y="514"/>
                </a:lnTo>
                <a:lnTo>
                  <a:pt x="683" y="509"/>
                </a:lnTo>
                <a:lnTo>
                  <a:pt x="672" y="507"/>
                </a:lnTo>
                <a:lnTo>
                  <a:pt x="682" y="521"/>
                </a:lnTo>
                <a:lnTo>
                  <a:pt x="691" y="534"/>
                </a:lnTo>
                <a:lnTo>
                  <a:pt x="701" y="548"/>
                </a:lnTo>
                <a:lnTo>
                  <a:pt x="709" y="563"/>
                </a:lnTo>
                <a:lnTo>
                  <a:pt x="716" y="579"/>
                </a:lnTo>
                <a:lnTo>
                  <a:pt x="721" y="597"/>
                </a:lnTo>
                <a:lnTo>
                  <a:pt x="725" y="616"/>
                </a:lnTo>
                <a:lnTo>
                  <a:pt x="727" y="637"/>
                </a:lnTo>
                <a:lnTo>
                  <a:pt x="728" y="658"/>
                </a:lnTo>
                <a:lnTo>
                  <a:pt x="731" y="677"/>
                </a:lnTo>
                <a:lnTo>
                  <a:pt x="734" y="696"/>
                </a:lnTo>
                <a:lnTo>
                  <a:pt x="739" y="712"/>
                </a:lnTo>
                <a:lnTo>
                  <a:pt x="744" y="728"/>
                </a:lnTo>
                <a:lnTo>
                  <a:pt x="752" y="743"/>
                </a:lnTo>
                <a:lnTo>
                  <a:pt x="762" y="758"/>
                </a:lnTo>
                <a:lnTo>
                  <a:pt x="773" y="773"/>
                </a:lnTo>
                <a:lnTo>
                  <a:pt x="786" y="788"/>
                </a:lnTo>
                <a:lnTo>
                  <a:pt x="800" y="805"/>
                </a:lnTo>
                <a:lnTo>
                  <a:pt x="811" y="822"/>
                </a:lnTo>
                <a:lnTo>
                  <a:pt x="822" y="841"/>
                </a:lnTo>
                <a:lnTo>
                  <a:pt x="830" y="863"/>
                </a:lnTo>
                <a:lnTo>
                  <a:pt x="833" y="886"/>
                </a:lnTo>
                <a:lnTo>
                  <a:pt x="832" y="912"/>
                </a:lnTo>
                <a:lnTo>
                  <a:pt x="826" y="941"/>
                </a:lnTo>
                <a:lnTo>
                  <a:pt x="815" y="933"/>
                </a:lnTo>
                <a:lnTo>
                  <a:pt x="803" y="925"/>
                </a:lnTo>
                <a:lnTo>
                  <a:pt x="793" y="919"/>
                </a:lnTo>
                <a:lnTo>
                  <a:pt x="782" y="913"/>
                </a:lnTo>
                <a:lnTo>
                  <a:pt x="773" y="909"/>
                </a:lnTo>
                <a:lnTo>
                  <a:pt x="764" y="905"/>
                </a:lnTo>
                <a:lnTo>
                  <a:pt x="755" y="903"/>
                </a:lnTo>
                <a:lnTo>
                  <a:pt x="745" y="902"/>
                </a:lnTo>
                <a:lnTo>
                  <a:pt x="757" y="917"/>
                </a:lnTo>
                <a:lnTo>
                  <a:pt x="766" y="933"/>
                </a:lnTo>
                <a:lnTo>
                  <a:pt x="772" y="951"/>
                </a:lnTo>
                <a:lnTo>
                  <a:pt x="775" y="969"/>
                </a:lnTo>
                <a:lnTo>
                  <a:pt x="775" y="988"/>
                </a:lnTo>
                <a:lnTo>
                  <a:pt x="774" y="1008"/>
                </a:lnTo>
                <a:lnTo>
                  <a:pt x="770" y="1029"/>
                </a:lnTo>
                <a:lnTo>
                  <a:pt x="764" y="1049"/>
                </a:lnTo>
                <a:lnTo>
                  <a:pt x="759" y="1060"/>
                </a:lnTo>
                <a:lnTo>
                  <a:pt x="752" y="1070"/>
                </a:lnTo>
                <a:lnTo>
                  <a:pt x="744" y="1080"/>
                </a:lnTo>
                <a:lnTo>
                  <a:pt x="735" y="1091"/>
                </a:lnTo>
                <a:lnTo>
                  <a:pt x="724" y="1100"/>
                </a:lnTo>
                <a:lnTo>
                  <a:pt x="711" y="1109"/>
                </a:lnTo>
                <a:lnTo>
                  <a:pt x="697" y="1117"/>
                </a:lnTo>
                <a:lnTo>
                  <a:pt x="682" y="1125"/>
                </a:lnTo>
                <a:lnTo>
                  <a:pt x="666" y="1132"/>
                </a:lnTo>
                <a:lnTo>
                  <a:pt x="649" y="1138"/>
                </a:lnTo>
                <a:lnTo>
                  <a:pt x="631" y="1143"/>
                </a:lnTo>
                <a:lnTo>
                  <a:pt x="613" y="1147"/>
                </a:lnTo>
                <a:lnTo>
                  <a:pt x="595" y="1150"/>
                </a:lnTo>
                <a:lnTo>
                  <a:pt x="575" y="1151"/>
                </a:lnTo>
                <a:lnTo>
                  <a:pt x="555" y="1151"/>
                </a:lnTo>
                <a:lnTo>
                  <a:pt x="536" y="1150"/>
                </a:lnTo>
                <a:lnTo>
                  <a:pt x="524" y="1147"/>
                </a:lnTo>
                <a:lnTo>
                  <a:pt x="513" y="1145"/>
                </a:lnTo>
                <a:lnTo>
                  <a:pt x="501" y="1142"/>
                </a:lnTo>
                <a:lnTo>
                  <a:pt x="490" y="1138"/>
                </a:lnTo>
                <a:lnTo>
                  <a:pt x="478" y="1135"/>
                </a:lnTo>
                <a:lnTo>
                  <a:pt x="467" y="1130"/>
                </a:lnTo>
                <a:lnTo>
                  <a:pt x="455" y="1125"/>
                </a:lnTo>
                <a:lnTo>
                  <a:pt x="444" y="1122"/>
                </a:lnTo>
                <a:lnTo>
                  <a:pt x="431" y="1119"/>
                </a:lnTo>
                <a:lnTo>
                  <a:pt x="419" y="1115"/>
                </a:lnTo>
                <a:lnTo>
                  <a:pt x="408" y="1113"/>
                </a:lnTo>
                <a:lnTo>
                  <a:pt x="395" y="1112"/>
                </a:lnTo>
                <a:lnTo>
                  <a:pt x="383" y="1110"/>
                </a:lnTo>
                <a:lnTo>
                  <a:pt x="370" y="1112"/>
                </a:lnTo>
                <a:lnTo>
                  <a:pt x="357" y="1114"/>
                </a:lnTo>
                <a:lnTo>
                  <a:pt x="345" y="1117"/>
                </a:lnTo>
                <a:lnTo>
                  <a:pt x="355" y="1104"/>
                </a:lnTo>
                <a:lnTo>
                  <a:pt x="365" y="1093"/>
                </a:lnTo>
                <a:lnTo>
                  <a:pt x="376" y="1084"/>
                </a:lnTo>
                <a:lnTo>
                  <a:pt x="386" y="1077"/>
                </a:lnTo>
                <a:lnTo>
                  <a:pt x="399" y="1071"/>
                </a:lnTo>
                <a:lnTo>
                  <a:pt x="413" y="1067"/>
                </a:lnTo>
                <a:lnTo>
                  <a:pt x="429" y="1062"/>
                </a:lnTo>
                <a:lnTo>
                  <a:pt x="447" y="1059"/>
                </a:lnTo>
                <a:lnTo>
                  <a:pt x="468" y="1053"/>
                </a:lnTo>
                <a:lnTo>
                  <a:pt x="489" y="1045"/>
                </a:lnTo>
                <a:lnTo>
                  <a:pt x="508" y="1033"/>
                </a:lnTo>
                <a:lnTo>
                  <a:pt x="528" y="1018"/>
                </a:lnTo>
                <a:lnTo>
                  <a:pt x="544" y="1000"/>
                </a:lnTo>
                <a:lnTo>
                  <a:pt x="558" y="977"/>
                </a:lnTo>
                <a:lnTo>
                  <a:pt x="569" y="949"/>
                </a:lnTo>
                <a:lnTo>
                  <a:pt x="575" y="917"/>
                </a:lnTo>
                <a:lnTo>
                  <a:pt x="560" y="931"/>
                </a:lnTo>
                <a:lnTo>
                  <a:pt x="545" y="946"/>
                </a:lnTo>
                <a:lnTo>
                  <a:pt x="530" y="961"/>
                </a:lnTo>
                <a:lnTo>
                  <a:pt x="515" y="976"/>
                </a:lnTo>
                <a:lnTo>
                  <a:pt x="498" y="989"/>
                </a:lnTo>
                <a:lnTo>
                  <a:pt x="479" y="1001"/>
                </a:lnTo>
                <a:lnTo>
                  <a:pt x="457" y="1010"/>
                </a:lnTo>
                <a:lnTo>
                  <a:pt x="431" y="1016"/>
                </a:lnTo>
                <a:lnTo>
                  <a:pt x="404" y="1021"/>
                </a:lnTo>
                <a:lnTo>
                  <a:pt x="378" y="1025"/>
                </a:lnTo>
                <a:lnTo>
                  <a:pt x="352" y="1032"/>
                </a:lnTo>
                <a:lnTo>
                  <a:pt x="327" y="1039"/>
                </a:lnTo>
                <a:lnTo>
                  <a:pt x="305" y="1048"/>
                </a:lnTo>
                <a:lnTo>
                  <a:pt x="285" y="1059"/>
                </a:lnTo>
                <a:lnTo>
                  <a:pt x="266" y="1070"/>
                </a:lnTo>
                <a:lnTo>
                  <a:pt x="251" y="1083"/>
                </a:lnTo>
                <a:lnTo>
                  <a:pt x="237" y="1098"/>
                </a:lnTo>
                <a:lnTo>
                  <a:pt x="221" y="1113"/>
                </a:lnTo>
                <a:lnTo>
                  <a:pt x="205" y="1128"/>
                </a:lnTo>
                <a:lnTo>
                  <a:pt x="187" y="1140"/>
                </a:lnTo>
                <a:lnTo>
                  <a:pt x="168" y="1151"/>
                </a:lnTo>
                <a:lnTo>
                  <a:pt x="146" y="1155"/>
                </a:lnTo>
                <a:lnTo>
                  <a:pt x="125" y="1154"/>
                </a:lnTo>
                <a:lnTo>
                  <a:pt x="100" y="1145"/>
                </a:lnTo>
                <a:lnTo>
                  <a:pt x="100" y="1137"/>
                </a:lnTo>
                <a:lnTo>
                  <a:pt x="102" y="1129"/>
                </a:lnTo>
                <a:lnTo>
                  <a:pt x="104" y="1120"/>
                </a:lnTo>
                <a:lnTo>
                  <a:pt x="110" y="1109"/>
                </a:lnTo>
                <a:lnTo>
                  <a:pt x="118" y="1099"/>
                </a:lnTo>
                <a:lnTo>
                  <a:pt x="128" y="1087"/>
                </a:lnTo>
                <a:lnTo>
                  <a:pt x="142" y="1075"/>
                </a:lnTo>
                <a:lnTo>
                  <a:pt x="158" y="1061"/>
                </a:lnTo>
                <a:lnTo>
                  <a:pt x="176" y="1046"/>
                </a:lnTo>
                <a:lnTo>
                  <a:pt x="193" y="1027"/>
                </a:lnTo>
                <a:lnTo>
                  <a:pt x="208" y="1008"/>
                </a:lnTo>
                <a:lnTo>
                  <a:pt x="220" y="985"/>
                </a:lnTo>
                <a:lnTo>
                  <a:pt x="229" y="960"/>
                </a:lnTo>
                <a:lnTo>
                  <a:pt x="233" y="933"/>
                </a:lnTo>
                <a:lnTo>
                  <a:pt x="232" y="904"/>
                </a:lnTo>
                <a:lnTo>
                  <a:pt x="225" y="874"/>
                </a:lnTo>
                <a:lnTo>
                  <a:pt x="221" y="893"/>
                </a:lnTo>
                <a:lnTo>
                  <a:pt x="216" y="913"/>
                </a:lnTo>
                <a:lnTo>
                  <a:pt x="209" y="935"/>
                </a:lnTo>
                <a:lnTo>
                  <a:pt x="202" y="956"/>
                </a:lnTo>
                <a:lnTo>
                  <a:pt x="193" y="976"/>
                </a:lnTo>
                <a:lnTo>
                  <a:pt x="182" y="993"/>
                </a:lnTo>
                <a:lnTo>
                  <a:pt x="171" y="1006"/>
                </a:lnTo>
                <a:lnTo>
                  <a:pt x="158" y="1014"/>
                </a:lnTo>
                <a:lnTo>
                  <a:pt x="145" y="1018"/>
                </a:lnTo>
                <a:lnTo>
                  <a:pt x="135" y="1023"/>
                </a:lnTo>
                <a:lnTo>
                  <a:pt x="125" y="1026"/>
                </a:lnTo>
                <a:lnTo>
                  <a:pt x="117" y="1032"/>
                </a:lnTo>
                <a:lnTo>
                  <a:pt x="107" y="1038"/>
                </a:lnTo>
                <a:lnTo>
                  <a:pt x="100" y="1045"/>
                </a:lnTo>
                <a:lnTo>
                  <a:pt x="92" y="1054"/>
                </a:lnTo>
                <a:lnTo>
                  <a:pt x="85" y="1064"/>
                </a:lnTo>
                <a:lnTo>
                  <a:pt x="87" y="1031"/>
                </a:lnTo>
                <a:lnTo>
                  <a:pt x="93" y="1000"/>
                </a:lnTo>
                <a:lnTo>
                  <a:pt x="103" y="968"/>
                </a:lnTo>
                <a:lnTo>
                  <a:pt x="113" y="933"/>
                </a:lnTo>
                <a:lnTo>
                  <a:pt x="117" y="913"/>
                </a:lnTo>
                <a:lnTo>
                  <a:pt x="120" y="890"/>
                </a:lnTo>
                <a:lnTo>
                  <a:pt x="122" y="865"/>
                </a:lnTo>
                <a:lnTo>
                  <a:pt x="122" y="839"/>
                </a:lnTo>
                <a:lnTo>
                  <a:pt x="120" y="811"/>
                </a:lnTo>
                <a:lnTo>
                  <a:pt x="114" y="784"/>
                </a:lnTo>
                <a:lnTo>
                  <a:pt x="105" y="758"/>
                </a:lnTo>
                <a:lnTo>
                  <a:pt x="91" y="734"/>
                </a:lnTo>
                <a:lnTo>
                  <a:pt x="75" y="710"/>
                </a:lnTo>
                <a:lnTo>
                  <a:pt x="58" y="683"/>
                </a:lnTo>
                <a:lnTo>
                  <a:pt x="42" y="655"/>
                </a:lnTo>
                <a:lnTo>
                  <a:pt x="27" y="625"/>
                </a:lnTo>
                <a:lnTo>
                  <a:pt x="14" y="595"/>
                </a:lnTo>
                <a:lnTo>
                  <a:pt x="5" y="566"/>
                </a:lnTo>
                <a:lnTo>
                  <a:pt x="0" y="536"/>
                </a:lnTo>
                <a:lnTo>
                  <a:pt x="0" y="507"/>
                </a:lnTo>
                <a:lnTo>
                  <a:pt x="5" y="480"/>
                </a:lnTo>
                <a:lnTo>
                  <a:pt x="11" y="455"/>
                </a:lnTo>
                <a:lnTo>
                  <a:pt x="17" y="432"/>
                </a:lnTo>
                <a:lnTo>
                  <a:pt x="27" y="410"/>
                </a:lnTo>
                <a:lnTo>
                  <a:pt x="35" y="390"/>
                </a:lnTo>
                <a:lnTo>
                  <a:pt x="45" y="372"/>
                </a:lnTo>
                <a:lnTo>
                  <a:pt x="54" y="355"/>
                </a:lnTo>
                <a:lnTo>
                  <a:pt x="62" y="339"/>
                </a:lnTo>
                <a:lnTo>
                  <a:pt x="70" y="321"/>
                </a:lnTo>
                <a:lnTo>
                  <a:pt x="78" y="302"/>
                </a:lnTo>
                <a:lnTo>
                  <a:pt x="88" y="281"/>
                </a:lnTo>
                <a:lnTo>
                  <a:pt x="95" y="259"/>
                </a:lnTo>
                <a:lnTo>
                  <a:pt x="102" y="238"/>
                </a:lnTo>
                <a:lnTo>
                  <a:pt x="106" y="218"/>
                </a:lnTo>
                <a:lnTo>
                  <a:pt x="110" y="199"/>
                </a:lnTo>
                <a:lnTo>
                  <a:pt x="110" y="184"/>
                </a:lnTo>
                <a:lnTo>
                  <a:pt x="119" y="180"/>
                </a:lnTo>
                <a:lnTo>
                  <a:pt x="133" y="173"/>
                </a:lnTo>
                <a:lnTo>
                  <a:pt x="149" y="165"/>
                </a:lnTo>
                <a:lnTo>
                  <a:pt x="167" y="155"/>
                </a:lnTo>
                <a:lnTo>
                  <a:pt x="184" y="146"/>
                </a:lnTo>
                <a:lnTo>
                  <a:pt x="201" y="138"/>
                </a:lnTo>
                <a:lnTo>
                  <a:pt x="213" y="131"/>
                </a:lnTo>
                <a:lnTo>
                  <a:pt x="221" y="12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6" name="Freeform 20"/>
          <p:cNvSpPr/>
          <p:nvPr/>
        </p:nvSpPr>
        <p:spPr>
          <a:xfrm>
            <a:off x="2014560" y="4151160"/>
            <a:ext cx="217440" cy="198720"/>
          </a:xfrm>
          <a:custGeom>
            <a:avLst/>
            <a:gdLst/>
            <a:ahLst/>
            <a:rect l="l" t="t" r="r" b="b"/>
            <a:pathLst>
              <a:path w="274" h="250">
                <a:moveTo>
                  <a:pt x="0" y="0"/>
                </a:moveTo>
                <a:lnTo>
                  <a:pt x="15" y="2"/>
                </a:lnTo>
                <a:lnTo>
                  <a:pt x="36" y="3"/>
                </a:lnTo>
                <a:lnTo>
                  <a:pt x="59" y="5"/>
                </a:lnTo>
                <a:lnTo>
                  <a:pt x="84" y="7"/>
                </a:lnTo>
                <a:lnTo>
                  <a:pt x="109" y="11"/>
                </a:lnTo>
                <a:lnTo>
                  <a:pt x="135" y="16"/>
                </a:lnTo>
                <a:lnTo>
                  <a:pt x="159" y="24"/>
                </a:lnTo>
                <a:lnTo>
                  <a:pt x="181" y="34"/>
                </a:lnTo>
                <a:lnTo>
                  <a:pt x="203" y="48"/>
                </a:lnTo>
                <a:lnTo>
                  <a:pt x="224" y="66"/>
                </a:lnTo>
                <a:lnTo>
                  <a:pt x="245" y="87"/>
                </a:lnTo>
                <a:lnTo>
                  <a:pt x="262" y="113"/>
                </a:lnTo>
                <a:lnTo>
                  <a:pt x="273" y="142"/>
                </a:lnTo>
                <a:lnTo>
                  <a:pt x="274" y="174"/>
                </a:lnTo>
                <a:lnTo>
                  <a:pt x="264" y="210"/>
                </a:lnTo>
                <a:lnTo>
                  <a:pt x="238" y="250"/>
                </a:lnTo>
                <a:lnTo>
                  <a:pt x="243" y="228"/>
                </a:lnTo>
                <a:lnTo>
                  <a:pt x="245" y="205"/>
                </a:lnTo>
                <a:lnTo>
                  <a:pt x="248" y="181"/>
                </a:lnTo>
                <a:lnTo>
                  <a:pt x="245" y="157"/>
                </a:lnTo>
                <a:lnTo>
                  <a:pt x="239" y="134"/>
                </a:lnTo>
                <a:lnTo>
                  <a:pt x="228" y="111"/>
                </a:lnTo>
                <a:lnTo>
                  <a:pt x="211" y="90"/>
                </a:lnTo>
                <a:lnTo>
                  <a:pt x="186" y="71"/>
                </a:lnTo>
                <a:lnTo>
                  <a:pt x="171" y="63"/>
                </a:lnTo>
                <a:lnTo>
                  <a:pt x="158" y="56"/>
                </a:lnTo>
                <a:lnTo>
                  <a:pt x="144" y="49"/>
                </a:lnTo>
                <a:lnTo>
                  <a:pt x="129" y="44"/>
                </a:lnTo>
                <a:lnTo>
                  <a:pt x="115" y="39"/>
                </a:lnTo>
                <a:lnTo>
                  <a:pt x="102" y="34"/>
                </a:lnTo>
                <a:lnTo>
                  <a:pt x="89" y="30"/>
                </a:lnTo>
                <a:lnTo>
                  <a:pt x="76" y="26"/>
                </a:lnTo>
                <a:lnTo>
                  <a:pt x="64" y="23"/>
                </a:lnTo>
                <a:lnTo>
                  <a:pt x="53" y="19"/>
                </a:lnTo>
                <a:lnTo>
                  <a:pt x="41" y="17"/>
                </a:lnTo>
                <a:lnTo>
                  <a:pt x="32" y="14"/>
                </a:lnTo>
                <a:lnTo>
                  <a:pt x="23" y="10"/>
                </a:lnTo>
                <a:lnTo>
                  <a:pt x="14" y="7"/>
                </a:lnTo>
                <a:lnTo>
                  <a:pt x="7" y="3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7" name="Freeform 21"/>
          <p:cNvSpPr/>
          <p:nvPr/>
        </p:nvSpPr>
        <p:spPr>
          <a:xfrm>
            <a:off x="2130480" y="4246560"/>
            <a:ext cx="169920" cy="185760"/>
          </a:xfrm>
          <a:custGeom>
            <a:avLst/>
            <a:gdLst/>
            <a:ahLst/>
            <a:rect l="l" t="t" r="r" b="b"/>
            <a:pathLst>
              <a:path w="214" h="235">
                <a:moveTo>
                  <a:pt x="0" y="235"/>
                </a:moveTo>
                <a:lnTo>
                  <a:pt x="11" y="221"/>
                </a:lnTo>
                <a:lnTo>
                  <a:pt x="21" y="209"/>
                </a:lnTo>
                <a:lnTo>
                  <a:pt x="32" y="200"/>
                </a:lnTo>
                <a:lnTo>
                  <a:pt x="45" y="192"/>
                </a:lnTo>
                <a:lnTo>
                  <a:pt x="60" y="184"/>
                </a:lnTo>
                <a:lnTo>
                  <a:pt x="76" y="176"/>
                </a:lnTo>
                <a:lnTo>
                  <a:pt x="93" y="168"/>
                </a:lnTo>
                <a:lnTo>
                  <a:pt x="114" y="158"/>
                </a:lnTo>
                <a:lnTo>
                  <a:pt x="135" y="145"/>
                </a:lnTo>
                <a:lnTo>
                  <a:pt x="155" y="131"/>
                </a:lnTo>
                <a:lnTo>
                  <a:pt x="171" y="114"/>
                </a:lnTo>
                <a:lnTo>
                  <a:pt x="182" y="95"/>
                </a:lnTo>
                <a:lnTo>
                  <a:pt x="190" y="75"/>
                </a:lnTo>
                <a:lnTo>
                  <a:pt x="193" y="52"/>
                </a:lnTo>
                <a:lnTo>
                  <a:pt x="188" y="26"/>
                </a:lnTo>
                <a:lnTo>
                  <a:pt x="178" y="0"/>
                </a:lnTo>
                <a:lnTo>
                  <a:pt x="194" y="15"/>
                </a:lnTo>
                <a:lnTo>
                  <a:pt x="205" y="34"/>
                </a:lnTo>
                <a:lnTo>
                  <a:pt x="212" y="58"/>
                </a:lnTo>
                <a:lnTo>
                  <a:pt x="214" y="83"/>
                </a:lnTo>
                <a:lnTo>
                  <a:pt x="211" y="108"/>
                </a:lnTo>
                <a:lnTo>
                  <a:pt x="201" y="132"/>
                </a:lnTo>
                <a:lnTo>
                  <a:pt x="182" y="154"/>
                </a:lnTo>
                <a:lnTo>
                  <a:pt x="157" y="170"/>
                </a:lnTo>
                <a:lnTo>
                  <a:pt x="137" y="178"/>
                </a:lnTo>
                <a:lnTo>
                  <a:pt x="116" y="186"/>
                </a:lnTo>
                <a:lnTo>
                  <a:pt x="97" y="193"/>
                </a:lnTo>
                <a:lnTo>
                  <a:pt x="76" y="199"/>
                </a:lnTo>
                <a:lnTo>
                  <a:pt x="57" y="207"/>
                </a:lnTo>
                <a:lnTo>
                  <a:pt x="37" y="214"/>
                </a:lnTo>
                <a:lnTo>
                  <a:pt x="17" y="223"/>
                </a:lnTo>
                <a:lnTo>
                  <a:pt x="0" y="23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8" name="Freeform 22"/>
          <p:cNvSpPr/>
          <p:nvPr/>
        </p:nvSpPr>
        <p:spPr>
          <a:xfrm>
            <a:off x="2214720" y="4098960"/>
            <a:ext cx="214200" cy="66600"/>
          </a:xfrm>
          <a:custGeom>
            <a:avLst/>
            <a:gdLst/>
            <a:ahLst/>
            <a:rect l="l" t="t" r="r" b="b"/>
            <a:pathLst>
              <a:path w="270" h="83">
                <a:moveTo>
                  <a:pt x="0" y="13"/>
                </a:moveTo>
                <a:lnTo>
                  <a:pt x="9" y="18"/>
                </a:lnTo>
                <a:lnTo>
                  <a:pt x="20" y="22"/>
                </a:lnTo>
                <a:lnTo>
                  <a:pt x="34" y="27"/>
                </a:lnTo>
                <a:lnTo>
                  <a:pt x="47" y="30"/>
                </a:lnTo>
                <a:lnTo>
                  <a:pt x="63" y="34"/>
                </a:lnTo>
                <a:lnTo>
                  <a:pt x="80" y="37"/>
                </a:lnTo>
                <a:lnTo>
                  <a:pt x="98" y="39"/>
                </a:lnTo>
                <a:lnTo>
                  <a:pt x="116" y="41"/>
                </a:lnTo>
                <a:lnTo>
                  <a:pt x="136" y="42"/>
                </a:lnTo>
                <a:lnTo>
                  <a:pt x="156" y="41"/>
                </a:lnTo>
                <a:lnTo>
                  <a:pt x="175" y="38"/>
                </a:lnTo>
                <a:lnTo>
                  <a:pt x="195" y="35"/>
                </a:lnTo>
                <a:lnTo>
                  <a:pt x="214" y="29"/>
                </a:lnTo>
                <a:lnTo>
                  <a:pt x="234" y="22"/>
                </a:lnTo>
                <a:lnTo>
                  <a:pt x="252" y="12"/>
                </a:lnTo>
                <a:lnTo>
                  <a:pt x="270" y="0"/>
                </a:lnTo>
                <a:lnTo>
                  <a:pt x="259" y="18"/>
                </a:lnTo>
                <a:lnTo>
                  <a:pt x="245" y="34"/>
                </a:lnTo>
                <a:lnTo>
                  <a:pt x="232" y="47"/>
                </a:lnTo>
                <a:lnTo>
                  <a:pt x="214" y="59"/>
                </a:lnTo>
                <a:lnTo>
                  <a:pt x="197" y="68"/>
                </a:lnTo>
                <a:lnTo>
                  <a:pt x="179" y="75"/>
                </a:lnTo>
                <a:lnTo>
                  <a:pt x="160" y="81"/>
                </a:lnTo>
                <a:lnTo>
                  <a:pt x="141" y="83"/>
                </a:lnTo>
                <a:lnTo>
                  <a:pt x="120" y="83"/>
                </a:lnTo>
                <a:lnTo>
                  <a:pt x="100" y="81"/>
                </a:lnTo>
                <a:lnTo>
                  <a:pt x="81" y="76"/>
                </a:lnTo>
                <a:lnTo>
                  <a:pt x="62" y="68"/>
                </a:lnTo>
                <a:lnTo>
                  <a:pt x="45" y="59"/>
                </a:lnTo>
                <a:lnTo>
                  <a:pt x="29" y="46"/>
                </a:lnTo>
                <a:lnTo>
                  <a:pt x="14" y="31"/>
                </a:lnTo>
                <a:lnTo>
                  <a:pt x="0" y="1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9" name="Freeform 23"/>
          <p:cNvSpPr/>
          <p:nvPr/>
        </p:nvSpPr>
        <p:spPr>
          <a:xfrm>
            <a:off x="2028960" y="3930480"/>
            <a:ext cx="145800" cy="209880"/>
          </a:xfrm>
          <a:custGeom>
            <a:avLst/>
            <a:gdLst/>
            <a:ahLst/>
            <a:rect l="l" t="t" r="r" b="b"/>
            <a:pathLst>
              <a:path w="185" h="264">
                <a:moveTo>
                  <a:pt x="0" y="75"/>
                </a:moveTo>
                <a:lnTo>
                  <a:pt x="22" y="144"/>
                </a:lnTo>
                <a:lnTo>
                  <a:pt x="99" y="102"/>
                </a:lnTo>
                <a:lnTo>
                  <a:pt x="96" y="117"/>
                </a:lnTo>
                <a:lnTo>
                  <a:pt x="92" y="134"/>
                </a:lnTo>
                <a:lnTo>
                  <a:pt x="90" y="153"/>
                </a:lnTo>
                <a:lnTo>
                  <a:pt x="90" y="175"/>
                </a:lnTo>
                <a:lnTo>
                  <a:pt x="91" y="197"/>
                </a:lnTo>
                <a:lnTo>
                  <a:pt x="97" y="220"/>
                </a:lnTo>
                <a:lnTo>
                  <a:pt x="106" y="242"/>
                </a:lnTo>
                <a:lnTo>
                  <a:pt x="120" y="264"/>
                </a:lnTo>
                <a:lnTo>
                  <a:pt x="171" y="243"/>
                </a:lnTo>
                <a:lnTo>
                  <a:pt x="165" y="226"/>
                </a:lnTo>
                <a:lnTo>
                  <a:pt x="158" y="208"/>
                </a:lnTo>
                <a:lnTo>
                  <a:pt x="151" y="188"/>
                </a:lnTo>
                <a:lnTo>
                  <a:pt x="147" y="166"/>
                </a:lnTo>
                <a:lnTo>
                  <a:pt x="147" y="143"/>
                </a:lnTo>
                <a:lnTo>
                  <a:pt x="151" y="119"/>
                </a:lnTo>
                <a:lnTo>
                  <a:pt x="164" y="94"/>
                </a:lnTo>
                <a:lnTo>
                  <a:pt x="185" y="67"/>
                </a:lnTo>
                <a:lnTo>
                  <a:pt x="163" y="0"/>
                </a:lnTo>
                <a:lnTo>
                  <a:pt x="0" y="7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0" name="Freeform 24"/>
          <p:cNvSpPr/>
          <p:nvPr/>
        </p:nvSpPr>
        <p:spPr>
          <a:xfrm>
            <a:off x="2027160" y="4530600"/>
            <a:ext cx="490680" cy="84240"/>
          </a:xfrm>
          <a:custGeom>
            <a:avLst/>
            <a:gdLst/>
            <a:ahLst/>
            <a:rect l="l" t="t" r="r" b="b"/>
            <a:pathLst>
              <a:path w="617" h="106">
                <a:moveTo>
                  <a:pt x="0" y="47"/>
                </a:moveTo>
                <a:lnTo>
                  <a:pt x="7" y="45"/>
                </a:lnTo>
                <a:lnTo>
                  <a:pt x="16" y="41"/>
                </a:lnTo>
                <a:lnTo>
                  <a:pt x="25" y="38"/>
                </a:lnTo>
                <a:lnTo>
                  <a:pt x="37" y="33"/>
                </a:lnTo>
                <a:lnTo>
                  <a:pt x="48" y="30"/>
                </a:lnTo>
                <a:lnTo>
                  <a:pt x="61" y="27"/>
                </a:lnTo>
                <a:lnTo>
                  <a:pt x="74" y="23"/>
                </a:lnTo>
                <a:lnTo>
                  <a:pt x="88" y="20"/>
                </a:lnTo>
                <a:lnTo>
                  <a:pt x="101" y="17"/>
                </a:lnTo>
                <a:lnTo>
                  <a:pt x="115" y="15"/>
                </a:lnTo>
                <a:lnTo>
                  <a:pt x="129" y="14"/>
                </a:lnTo>
                <a:lnTo>
                  <a:pt x="143" y="14"/>
                </a:lnTo>
                <a:lnTo>
                  <a:pt x="155" y="14"/>
                </a:lnTo>
                <a:lnTo>
                  <a:pt x="168" y="16"/>
                </a:lnTo>
                <a:lnTo>
                  <a:pt x="181" y="18"/>
                </a:lnTo>
                <a:lnTo>
                  <a:pt x="192" y="23"/>
                </a:lnTo>
                <a:lnTo>
                  <a:pt x="204" y="28"/>
                </a:lnTo>
                <a:lnTo>
                  <a:pt x="217" y="32"/>
                </a:lnTo>
                <a:lnTo>
                  <a:pt x="229" y="38"/>
                </a:lnTo>
                <a:lnTo>
                  <a:pt x="244" y="41"/>
                </a:lnTo>
                <a:lnTo>
                  <a:pt x="259" y="46"/>
                </a:lnTo>
                <a:lnTo>
                  <a:pt x="275" y="50"/>
                </a:lnTo>
                <a:lnTo>
                  <a:pt x="291" y="53"/>
                </a:lnTo>
                <a:lnTo>
                  <a:pt x="309" y="56"/>
                </a:lnTo>
                <a:lnTo>
                  <a:pt x="325" y="59"/>
                </a:lnTo>
                <a:lnTo>
                  <a:pt x="342" y="61"/>
                </a:lnTo>
                <a:lnTo>
                  <a:pt x="359" y="63"/>
                </a:lnTo>
                <a:lnTo>
                  <a:pt x="376" y="63"/>
                </a:lnTo>
                <a:lnTo>
                  <a:pt x="392" y="63"/>
                </a:lnTo>
                <a:lnTo>
                  <a:pt x="408" y="63"/>
                </a:lnTo>
                <a:lnTo>
                  <a:pt x="423" y="62"/>
                </a:lnTo>
                <a:lnTo>
                  <a:pt x="437" y="60"/>
                </a:lnTo>
                <a:lnTo>
                  <a:pt x="463" y="55"/>
                </a:lnTo>
                <a:lnTo>
                  <a:pt x="488" y="52"/>
                </a:lnTo>
                <a:lnTo>
                  <a:pt x="514" y="48"/>
                </a:lnTo>
                <a:lnTo>
                  <a:pt x="538" y="44"/>
                </a:lnTo>
                <a:lnTo>
                  <a:pt x="560" y="37"/>
                </a:lnTo>
                <a:lnTo>
                  <a:pt x="582" y="28"/>
                </a:lnTo>
                <a:lnTo>
                  <a:pt x="600" y="16"/>
                </a:lnTo>
                <a:lnTo>
                  <a:pt x="617" y="0"/>
                </a:lnTo>
                <a:lnTo>
                  <a:pt x="617" y="48"/>
                </a:lnTo>
                <a:lnTo>
                  <a:pt x="609" y="53"/>
                </a:lnTo>
                <a:lnTo>
                  <a:pt x="597" y="59"/>
                </a:lnTo>
                <a:lnTo>
                  <a:pt x="581" y="67"/>
                </a:lnTo>
                <a:lnTo>
                  <a:pt x="561" y="76"/>
                </a:lnTo>
                <a:lnTo>
                  <a:pt x="539" y="85"/>
                </a:lnTo>
                <a:lnTo>
                  <a:pt x="515" y="93"/>
                </a:lnTo>
                <a:lnTo>
                  <a:pt x="490" y="99"/>
                </a:lnTo>
                <a:lnTo>
                  <a:pt x="463" y="104"/>
                </a:lnTo>
                <a:lnTo>
                  <a:pt x="449" y="105"/>
                </a:lnTo>
                <a:lnTo>
                  <a:pt x="434" y="106"/>
                </a:lnTo>
                <a:lnTo>
                  <a:pt x="418" y="106"/>
                </a:lnTo>
                <a:lnTo>
                  <a:pt x="402" y="106"/>
                </a:lnTo>
                <a:lnTo>
                  <a:pt x="385" y="106"/>
                </a:lnTo>
                <a:lnTo>
                  <a:pt x="367" y="106"/>
                </a:lnTo>
                <a:lnTo>
                  <a:pt x="350" y="105"/>
                </a:lnTo>
                <a:lnTo>
                  <a:pt x="332" y="103"/>
                </a:lnTo>
                <a:lnTo>
                  <a:pt x="314" y="101"/>
                </a:lnTo>
                <a:lnTo>
                  <a:pt x="297" y="99"/>
                </a:lnTo>
                <a:lnTo>
                  <a:pt x="280" y="96"/>
                </a:lnTo>
                <a:lnTo>
                  <a:pt x="264" y="92"/>
                </a:lnTo>
                <a:lnTo>
                  <a:pt x="249" y="88"/>
                </a:lnTo>
                <a:lnTo>
                  <a:pt x="234" y="83"/>
                </a:lnTo>
                <a:lnTo>
                  <a:pt x="220" y="77"/>
                </a:lnTo>
                <a:lnTo>
                  <a:pt x="207" y="71"/>
                </a:lnTo>
                <a:lnTo>
                  <a:pt x="196" y="66"/>
                </a:lnTo>
                <a:lnTo>
                  <a:pt x="183" y="60"/>
                </a:lnTo>
                <a:lnTo>
                  <a:pt x="170" y="55"/>
                </a:lnTo>
                <a:lnTo>
                  <a:pt x="157" y="52"/>
                </a:lnTo>
                <a:lnTo>
                  <a:pt x="144" y="48"/>
                </a:lnTo>
                <a:lnTo>
                  <a:pt x="130" y="46"/>
                </a:lnTo>
                <a:lnTo>
                  <a:pt x="117" y="45"/>
                </a:lnTo>
                <a:lnTo>
                  <a:pt x="104" y="44"/>
                </a:lnTo>
                <a:lnTo>
                  <a:pt x="90" y="43"/>
                </a:lnTo>
                <a:lnTo>
                  <a:pt x="77" y="43"/>
                </a:lnTo>
                <a:lnTo>
                  <a:pt x="63" y="43"/>
                </a:lnTo>
                <a:lnTo>
                  <a:pt x="51" y="43"/>
                </a:lnTo>
                <a:lnTo>
                  <a:pt x="37" y="44"/>
                </a:lnTo>
                <a:lnTo>
                  <a:pt x="24" y="45"/>
                </a:lnTo>
                <a:lnTo>
                  <a:pt x="11" y="46"/>
                </a:lnTo>
                <a:lnTo>
                  <a:pt x="0" y="4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1" name="Freeform 25"/>
          <p:cNvSpPr/>
          <p:nvPr/>
        </p:nvSpPr>
        <p:spPr>
          <a:xfrm>
            <a:off x="2349360" y="4637160"/>
            <a:ext cx="38160" cy="264960"/>
          </a:xfrm>
          <a:custGeom>
            <a:avLst/>
            <a:gdLst/>
            <a:ahLst/>
            <a:rect l="l" t="t" r="r" b="b"/>
            <a:pathLst>
              <a:path w="47" h="333">
                <a:moveTo>
                  <a:pt x="13" y="0"/>
                </a:moveTo>
                <a:lnTo>
                  <a:pt x="19" y="26"/>
                </a:lnTo>
                <a:lnTo>
                  <a:pt x="23" y="70"/>
                </a:lnTo>
                <a:lnTo>
                  <a:pt x="20" y="122"/>
                </a:lnTo>
                <a:lnTo>
                  <a:pt x="10" y="170"/>
                </a:lnTo>
                <a:lnTo>
                  <a:pt x="1" y="213"/>
                </a:lnTo>
                <a:lnTo>
                  <a:pt x="0" y="253"/>
                </a:lnTo>
                <a:lnTo>
                  <a:pt x="7" y="294"/>
                </a:lnTo>
                <a:lnTo>
                  <a:pt x="22" y="333"/>
                </a:lnTo>
                <a:lnTo>
                  <a:pt x="18" y="298"/>
                </a:lnTo>
                <a:lnTo>
                  <a:pt x="17" y="257"/>
                </a:lnTo>
                <a:lnTo>
                  <a:pt x="19" y="218"/>
                </a:lnTo>
                <a:lnTo>
                  <a:pt x="30" y="184"/>
                </a:lnTo>
                <a:lnTo>
                  <a:pt x="41" y="148"/>
                </a:lnTo>
                <a:lnTo>
                  <a:pt x="47" y="101"/>
                </a:lnTo>
                <a:lnTo>
                  <a:pt x="46" y="49"/>
                </a:lnTo>
                <a:lnTo>
                  <a:pt x="40" y="0"/>
                </a:lnTo>
                <a:lnTo>
                  <a:pt x="13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2" name="Freeform 26"/>
          <p:cNvSpPr/>
          <p:nvPr/>
        </p:nvSpPr>
        <p:spPr>
          <a:xfrm>
            <a:off x="2486160" y="4606920"/>
            <a:ext cx="55440" cy="179280"/>
          </a:xfrm>
          <a:custGeom>
            <a:avLst/>
            <a:gdLst/>
            <a:ahLst/>
            <a:rect l="l" t="t" r="r" b="b"/>
            <a:pathLst>
              <a:path w="70" h="225">
                <a:moveTo>
                  <a:pt x="22" y="0"/>
                </a:moveTo>
                <a:lnTo>
                  <a:pt x="0" y="8"/>
                </a:lnTo>
                <a:lnTo>
                  <a:pt x="8" y="24"/>
                </a:lnTo>
                <a:lnTo>
                  <a:pt x="17" y="43"/>
                </a:lnTo>
                <a:lnTo>
                  <a:pt x="28" y="66"/>
                </a:lnTo>
                <a:lnTo>
                  <a:pt x="39" y="92"/>
                </a:lnTo>
                <a:lnTo>
                  <a:pt x="48" y="122"/>
                </a:lnTo>
                <a:lnTo>
                  <a:pt x="54" y="154"/>
                </a:lnTo>
                <a:lnTo>
                  <a:pt x="57" y="189"/>
                </a:lnTo>
                <a:lnTo>
                  <a:pt x="54" y="225"/>
                </a:lnTo>
                <a:lnTo>
                  <a:pt x="65" y="200"/>
                </a:lnTo>
                <a:lnTo>
                  <a:pt x="70" y="172"/>
                </a:lnTo>
                <a:lnTo>
                  <a:pt x="70" y="142"/>
                </a:lnTo>
                <a:lnTo>
                  <a:pt x="67" y="111"/>
                </a:lnTo>
                <a:lnTo>
                  <a:pt x="59" y="81"/>
                </a:lnTo>
                <a:lnTo>
                  <a:pt x="48" y="51"/>
                </a:lnTo>
                <a:lnTo>
                  <a:pt x="36" y="24"/>
                </a:lnTo>
                <a:lnTo>
                  <a:pt x="22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3" name="Freeform 27"/>
          <p:cNvSpPr/>
          <p:nvPr/>
        </p:nvSpPr>
        <p:spPr>
          <a:xfrm>
            <a:off x="2206800" y="4621320"/>
            <a:ext cx="36360" cy="177840"/>
          </a:xfrm>
          <a:custGeom>
            <a:avLst/>
            <a:gdLst/>
            <a:ahLst/>
            <a:rect l="l" t="t" r="r" b="b"/>
            <a:pathLst>
              <a:path w="47" h="224">
                <a:moveTo>
                  <a:pt x="45" y="13"/>
                </a:moveTo>
                <a:lnTo>
                  <a:pt x="46" y="31"/>
                </a:lnTo>
                <a:lnTo>
                  <a:pt x="47" y="54"/>
                </a:lnTo>
                <a:lnTo>
                  <a:pt x="45" y="82"/>
                </a:lnTo>
                <a:lnTo>
                  <a:pt x="41" y="111"/>
                </a:lnTo>
                <a:lnTo>
                  <a:pt x="35" y="142"/>
                </a:lnTo>
                <a:lnTo>
                  <a:pt x="26" y="172"/>
                </a:lnTo>
                <a:lnTo>
                  <a:pt x="15" y="199"/>
                </a:lnTo>
                <a:lnTo>
                  <a:pt x="0" y="224"/>
                </a:lnTo>
                <a:lnTo>
                  <a:pt x="8" y="174"/>
                </a:lnTo>
                <a:lnTo>
                  <a:pt x="17" y="116"/>
                </a:lnTo>
                <a:lnTo>
                  <a:pt x="22" y="57"/>
                </a:lnTo>
                <a:lnTo>
                  <a:pt x="18" y="0"/>
                </a:lnTo>
                <a:lnTo>
                  <a:pt x="45" y="1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4" name="Freeform 28"/>
          <p:cNvSpPr/>
          <p:nvPr/>
        </p:nvSpPr>
        <p:spPr>
          <a:xfrm>
            <a:off x="1978200" y="4597560"/>
            <a:ext cx="93600" cy="271440"/>
          </a:xfrm>
          <a:custGeom>
            <a:avLst/>
            <a:gdLst/>
            <a:ahLst/>
            <a:rect l="l" t="t" r="r" b="b"/>
            <a:pathLst>
              <a:path w="117" h="341">
                <a:moveTo>
                  <a:pt x="117" y="4"/>
                </a:moveTo>
                <a:lnTo>
                  <a:pt x="90" y="0"/>
                </a:lnTo>
                <a:lnTo>
                  <a:pt x="78" y="14"/>
                </a:lnTo>
                <a:lnTo>
                  <a:pt x="66" y="34"/>
                </a:lnTo>
                <a:lnTo>
                  <a:pt x="54" y="57"/>
                </a:lnTo>
                <a:lnTo>
                  <a:pt x="45" y="82"/>
                </a:lnTo>
                <a:lnTo>
                  <a:pt x="36" y="111"/>
                </a:lnTo>
                <a:lnTo>
                  <a:pt x="30" y="140"/>
                </a:lnTo>
                <a:lnTo>
                  <a:pt x="26" y="169"/>
                </a:lnTo>
                <a:lnTo>
                  <a:pt x="26" y="198"/>
                </a:lnTo>
                <a:lnTo>
                  <a:pt x="29" y="247"/>
                </a:lnTo>
                <a:lnTo>
                  <a:pt x="25" y="285"/>
                </a:lnTo>
                <a:lnTo>
                  <a:pt x="17" y="315"/>
                </a:lnTo>
                <a:lnTo>
                  <a:pt x="0" y="341"/>
                </a:lnTo>
                <a:lnTo>
                  <a:pt x="15" y="331"/>
                </a:lnTo>
                <a:lnTo>
                  <a:pt x="26" y="318"/>
                </a:lnTo>
                <a:lnTo>
                  <a:pt x="34" y="302"/>
                </a:lnTo>
                <a:lnTo>
                  <a:pt x="40" y="282"/>
                </a:lnTo>
                <a:lnTo>
                  <a:pt x="44" y="263"/>
                </a:lnTo>
                <a:lnTo>
                  <a:pt x="45" y="241"/>
                </a:lnTo>
                <a:lnTo>
                  <a:pt x="45" y="219"/>
                </a:lnTo>
                <a:lnTo>
                  <a:pt x="45" y="198"/>
                </a:lnTo>
                <a:lnTo>
                  <a:pt x="45" y="175"/>
                </a:lnTo>
                <a:lnTo>
                  <a:pt x="48" y="148"/>
                </a:lnTo>
                <a:lnTo>
                  <a:pt x="55" y="119"/>
                </a:lnTo>
                <a:lnTo>
                  <a:pt x="63" y="90"/>
                </a:lnTo>
                <a:lnTo>
                  <a:pt x="74" y="62"/>
                </a:lnTo>
                <a:lnTo>
                  <a:pt x="86" y="37"/>
                </a:lnTo>
                <a:lnTo>
                  <a:pt x="101" y="17"/>
                </a:lnTo>
                <a:lnTo>
                  <a:pt x="117" y="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5" name="Freeform 29"/>
          <p:cNvSpPr/>
          <p:nvPr/>
        </p:nvSpPr>
        <p:spPr>
          <a:xfrm>
            <a:off x="1639800" y="5267160"/>
            <a:ext cx="316080" cy="648000"/>
          </a:xfrm>
          <a:custGeom>
            <a:avLst/>
            <a:gdLst/>
            <a:ahLst/>
            <a:rect l="l" t="t" r="r" b="b"/>
            <a:pathLst>
              <a:path w="397" h="817">
                <a:moveTo>
                  <a:pt x="14" y="284"/>
                </a:moveTo>
                <a:lnTo>
                  <a:pt x="10" y="300"/>
                </a:lnTo>
                <a:lnTo>
                  <a:pt x="5" y="316"/>
                </a:lnTo>
                <a:lnTo>
                  <a:pt x="1" y="336"/>
                </a:lnTo>
                <a:lnTo>
                  <a:pt x="0" y="356"/>
                </a:lnTo>
                <a:lnTo>
                  <a:pt x="0" y="382"/>
                </a:lnTo>
                <a:lnTo>
                  <a:pt x="4" y="411"/>
                </a:lnTo>
                <a:lnTo>
                  <a:pt x="14" y="445"/>
                </a:lnTo>
                <a:lnTo>
                  <a:pt x="30" y="484"/>
                </a:lnTo>
                <a:lnTo>
                  <a:pt x="46" y="519"/>
                </a:lnTo>
                <a:lnTo>
                  <a:pt x="64" y="563"/>
                </a:lnTo>
                <a:lnTo>
                  <a:pt x="86" y="610"/>
                </a:lnTo>
                <a:lnTo>
                  <a:pt x="108" y="661"/>
                </a:lnTo>
                <a:lnTo>
                  <a:pt x="130" y="710"/>
                </a:lnTo>
                <a:lnTo>
                  <a:pt x="148" y="754"/>
                </a:lnTo>
                <a:lnTo>
                  <a:pt x="163" y="791"/>
                </a:lnTo>
                <a:lnTo>
                  <a:pt x="172" y="817"/>
                </a:lnTo>
                <a:lnTo>
                  <a:pt x="189" y="817"/>
                </a:lnTo>
                <a:lnTo>
                  <a:pt x="205" y="816"/>
                </a:lnTo>
                <a:lnTo>
                  <a:pt x="220" y="815"/>
                </a:lnTo>
                <a:lnTo>
                  <a:pt x="236" y="810"/>
                </a:lnTo>
                <a:lnTo>
                  <a:pt x="251" y="805"/>
                </a:lnTo>
                <a:lnTo>
                  <a:pt x="267" y="796"/>
                </a:lnTo>
                <a:lnTo>
                  <a:pt x="284" y="785"/>
                </a:lnTo>
                <a:lnTo>
                  <a:pt x="302" y="769"/>
                </a:lnTo>
                <a:lnTo>
                  <a:pt x="303" y="740"/>
                </a:lnTo>
                <a:lnTo>
                  <a:pt x="304" y="700"/>
                </a:lnTo>
                <a:lnTo>
                  <a:pt x="304" y="650"/>
                </a:lnTo>
                <a:lnTo>
                  <a:pt x="300" y="595"/>
                </a:lnTo>
                <a:lnTo>
                  <a:pt x="295" y="538"/>
                </a:lnTo>
                <a:lnTo>
                  <a:pt x="285" y="482"/>
                </a:lnTo>
                <a:lnTo>
                  <a:pt x="270" y="431"/>
                </a:lnTo>
                <a:lnTo>
                  <a:pt x="250" y="389"/>
                </a:lnTo>
                <a:lnTo>
                  <a:pt x="243" y="398"/>
                </a:lnTo>
                <a:lnTo>
                  <a:pt x="236" y="406"/>
                </a:lnTo>
                <a:lnTo>
                  <a:pt x="229" y="413"/>
                </a:lnTo>
                <a:lnTo>
                  <a:pt x="221" y="420"/>
                </a:lnTo>
                <a:lnTo>
                  <a:pt x="210" y="426"/>
                </a:lnTo>
                <a:lnTo>
                  <a:pt x="198" y="430"/>
                </a:lnTo>
                <a:lnTo>
                  <a:pt x="182" y="434"/>
                </a:lnTo>
                <a:lnTo>
                  <a:pt x="161" y="436"/>
                </a:lnTo>
                <a:lnTo>
                  <a:pt x="175" y="424"/>
                </a:lnTo>
                <a:lnTo>
                  <a:pt x="190" y="411"/>
                </a:lnTo>
                <a:lnTo>
                  <a:pt x="205" y="398"/>
                </a:lnTo>
                <a:lnTo>
                  <a:pt x="219" y="383"/>
                </a:lnTo>
                <a:lnTo>
                  <a:pt x="230" y="368"/>
                </a:lnTo>
                <a:lnTo>
                  <a:pt x="239" y="353"/>
                </a:lnTo>
                <a:lnTo>
                  <a:pt x="244" y="337"/>
                </a:lnTo>
                <a:lnTo>
                  <a:pt x="245" y="321"/>
                </a:lnTo>
                <a:lnTo>
                  <a:pt x="245" y="303"/>
                </a:lnTo>
                <a:lnTo>
                  <a:pt x="249" y="286"/>
                </a:lnTo>
                <a:lnTo>
                  <a:pt x="253" y="269"/>
                </a:lnTo>
                <a:lnTo>
                  <a:pt x="261" y="250"/>
                </a:lnTo>
                <a:lnTo>
                  <a:pt x="270" y="233"/>
                </a:lnTo>
                <a:lnTo>
                  <a:pt x="282" y="216"/>
                </a:lnTo>
                <a:lnTo>
                  <a:pt x="295" y="200"/>
                </a:lnTo>
                <a:lnTo>
                  <a:pt x="310" y="185"/>
                </a:lnTo>
                <a:lnTo>
                  <a:pt x="325" y="170"/>
                </a:lnTo>
                <a:lnTo>
                  <a:pt x="338" y="156"/>
                </a:lnTo>
                <a:lnTo>
                  <a:pt x="351" y="143"/>
                </a:lnTo>
                <a:lnTo>
                  <a:pt x="363" y="129"/>
                </a:lnTo>
                <a:lnTo>
                  <a:pt x="373" y="114"/>
                </a:lnTo>
                <a:lnTo>
                  <a:pt x="382" y="99"/>
                </a:lnTo>
                <a:lnTo>
                  <a:pt x="390" y="83"/>
                </a:lnTo>
                <a:lnTo>
                  <a:pt x="397" y="65"/>
                </a:lnTo>
                <a:lnTo>
                  <a:pt x="383" y="68"/>
                </a:lnTo>
                <a:lnTo>
                  <a:pt x="368" y="71"/>
                </a:lnTo>
                <a:lnTo>
                  <a:pt x="353" y="73"/>
                </a:lnTo>
                <a:lnTo>
                  <a:pt x="336" y="75"/>
                </a:lnTo>
                <a:lnTo>
                  <a:pt x="318" y="75"/>
                </a:lnTo>
                <a:lnTo>
                  <a:pt x="299" y="75"/>
                </a:lnTo>
                <a:lnTo>
                  <a:pt x="280" y="74"/>
                </a:lnTo>
                <a:lnTo>
                  <a:pt x="260" y="72"/>
                </a:lnTo>
                <a:lnTo>
                  <a:pt x="239" y="68"/>
                </a:lnTo>
                <a:lnTo>
                  <a:pt x="220" y="63"/>
                </a:lnTo>
                <a:lnTo>
                  <a:pt x="199" y="57"/>
                </a:lnTo>
                <a:lnTo>
                  <a:pt x="178" y="49"/>
                </a:lnTo>
                <a:lnTo>
                  <a:pt x="159" y="40"/>
                </a:lnTo>
                <a:lnTo>
                  <a:pt x="139" y="28"/>
                </a:lnTo>
                <a:lnTo>
                  <a:pt x="119" y="15"/>
                </a:lnTo>
                <a:lnTo>
                  <a:pt x="101" y="0"/>
                </a:lnTo>
                <a:lnTo>
                  <a:pt x="92" y="23"/>
                </a:lnTo>
                <a:lnTo>
                  <a:pt x="80" y="57"/>
                </a:lnTo>
                <a:lnTo>
                  <a:pt x="68" y="96"/>
                </a:lnTo>
                <a:lnTo>
                  <a:pt x="54" y="138"/>
                </a:lnTo>
                <a:lnTo>
                  <a:pt x="41" y="180"/>
                </a:lnTo>
                <a:lnTo>
                  <a:pt x="30" y="222"/>
                </a:lnTo>
                <a:lnTo>
                  <a:pt x="19" y="256"/>
                </a:lnTo>
                <a:lnTo>
                  <a:pt x="14" y="28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6" name="Freeform 30"/>
          <p:cNvSpPr/>
          <p:nvPr/>
        </p:nvSpPr>
        <p:spPr>
          <a:xfrm>
            <a:off x="1776240" y="5881680"/>
            <a:ext cx="149400" cy="144360"/>
          </a:xfrm>
          <a:custGeom>
            <a:avLst/>
            <a:gdLst/>
            <a:ahLst/>
            <a:rect l="l" t="t" r="r" b="b"/>
            <a:pathLst>
              <a:path w="189" h="183">
                <a:moveTo>
                  <a:pt x="157" y="0"/>
                </a:moveTo>
                <a:lnTo>
                  <a:pt x="149" y="11"/>
                </a:lnTo>
                <a:lnTo>
                  <a:pt x="136" y="25"/>
                </a:lnTo>
                <a:lnTo>
                  <a:pt x="120" y="38"/>
                </a:lnTo>
                <a:lnTo>
                  <a:pt x="100" y="49"/>
                </a:lnTo>
                <a:lnTo>
                  <a:pt x="79" y="60"/>
                </a:lnTo>
                <a:lnTo>
                  <a:pt x="54" y="66"/>
                </a:lnTo>
                <a:lnTo>
                  <a:pt x="29" y="69"/>
                </a:lnTo>
                <a:lnTo>
                  <a:pt x="2" y="66"/>
                </a:lnTo>
                <a:lnTo>
                  <a:pt x="0" y="79"/>
                </a:lnTo>
                <a:lnTo>
                  <a:pt x="5" y="96"/>
                </a:lnTo>
                <a:lnTo>
                  <a:pt x="12" y="118"/>
                </a:lnTo>
                <a:lnTo>
                  <a:pt x="19" y="141"/>
                </a:lnTo>
                <a:lnTo>
                  <a:pt x="21" y="153"/>
                </a:lnTo>
                <a:lnTo>
                  <a:pt x="21" y="162"/>
                </a:lnTo>
                <a:lnTo>
                  <a:pt x="21" y="169"/>
                </a:lnTo>
                <a:lnTo>
                  <a:pt x="22" y="175"/>
                </a:lnTo>
                <a:lnTo>
                  <a:pt x="23" y="179"/>
                </a:lnTo>
                <a:lnTo>
                  <a:pt x="28" y="182"/>
                </a:lnTo>
                <a:lnTo>
                  <a:pt x="35" y="183"/>
                </a:lnTo>
                <a:lnTo>
                  <a:pt x="45" y="182"/>
                </a:lnTo>
                <a:lnTo>
                  <a:pt x="57" y="178"/>
                </a:lnTo>
                <a:lnTo>
                  <a:pt x="67" y="174"/>
                </a:lnTo>
                <a:lnTo>
                  <a:pt x="76" y="168"/>
                </a:lnTo>
                <a:lnTo>
                  <a:pt x="83" y="162"/>
                </a:lnTo>
                <a:lnTo>
                  <a:pt x="90" y="156"/>
                </a:lnTo>
                <a:lnTo>
                  <a:pt x="97" y="152"/>
                </a:lnTo>
                <a:lnTo>
                  <a:pt x="104" y="148"/>
                </a:lnTo>
                <a:lnTo>
                  <a:pt x="112" y="147"/>
                </a:lnTo>
                <a:lnTo>
                  <a:pt x="121" y="147"/>
                </a:lnTo>
                <a:lnTo>
                  <a:pt x="132" y="145"/>
                </a:lnTo>
                <a:lnTo>
                  <a:pt x="143" y="142"/>
                </a:lnTo>
                <a:lnTo>
                  <a:pt x="155" y="137"/>
                </a:lnTo>
                <a:lnTo>
                  <a:pt x="166" y="129"/>
                </a:lnTo>
                <a:lnTo>
                  <a:pt x="175" y="116"/>
                </a:lnTo>
                <a:lnTo>
                  <a:pt x="183" y="101"/>
                </a:lnTo>
                <a:lnTo>
                  <a:pt x="189" y="80"/>
                </a:lnTo>
                <a:lnTo>
                  <a:pt x="178" y="88"/>
                </a:lnTo>
                <a:lnTo>
                  <a:pt x="165" y="98"/>
                </a:lnTo>
                <a:lnTo>
                  <a:pt x="150" y="106"/>
                </a:lnTo>
                <a:lnTo>
                  <a:pt x="133" y="113"/>
                </a:lnTo>
                <a:lnTo>
                  <a:pt x="114" y="118"/>
                </a:lnTo>
                <a:lnTo>
                  <a:pt x="93" y="121"/>
                </a:lnTo>
                <a:lnTo>
                  <a:pt x="73" y="121"/>
                </a:lnTo>
                <a:lnTo>
                  <a:pt x="50" y="117"/>
                </a:lnTo>
                <a:lnTo>
                  <a:pt x="66" y="113"/>
                </a:lnTo>
                <a:lnTo>
                  <a:pt x="83" y="107"/>
                </a:lnTo>
                <a:lnTo>
                  <a:pt x="102" y="100"/>
                </a:lnTo>
                <a:lnTo>
                  <a:pt x="120" y="91"/>
                </a:lnTo>
                <a:lnTo>
                  <a:pt x="137" y="81"/>
                </a:lnTo>
                <a:lnTo>
                  <a:pt x="152" y="69"/>
                </a:lnTo>
                <a:lnTo>
                  <a:pt x="164" y="53"/>
                </a:lnTo>
                <a:lnTo>
                  <a:pt x="171" y="34"/>
                </a:lnTo>
                <a:lnTo>
                  <a:pt x="172" y="25"/>
                </a:lnTo>
                <a:lnTo>
                  <a:pt x="170" y="16"/>
                </a:lnTo>
                <a:lnTo>
                  <a:pt x="165" y="7"/>
                </a:lnTo>
                <a:lnTo>
                  <a:pt x="157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7" name="Freeform 31"/>
          <p:cNvSpPr/>
          <p:nvPr/>
        </p:nvSpPr>
        <p:spPr>
          <a:xfrm>
            <a:off x="1731960" y="5965920"/>
            <a:ext cx="324000" cy="411120"/>
          </a:xfrm>
          <a:custGeom>
            <a:avLst/>
            <a:gdLst/>
            <a:ahLst/>
            <a:rect l="l" t="t" r="r" b="b"/>
            <a:pathLst>
              <a:path w="409" h="517">
                <a:moveTo>
                  <a:pt x="289" y="0"/>
                </a:moveTo>
                <a:lnTo>
                  <a:pt x="288" y="10"/>
                </a:lnTo>
                <a:lnTo>
                  <a:pt x="284" y="22"/>
                </a:lnTo>
                <a:lnTo>
                  <a:pt x="279" y="33"/>
                </a:lnTo>
                <a:lnTo>
                  <a:pt x="269" y="45"/>
                </a:lnTo>
                <a:lnTo>
                  <a:pt x="259" y="56"/>
                </a:lnTo>
                <a:lnTo>
                  <a:pt x="245" y="65"/>
                </a:lnTo>
                <a:lnTo>
                  <a:pt x="230" y="71"/>
                </a:lnTo>
                <a:lnTo>
                  <a:pt x="214" y="75"/>
                </a:lnTo>
                <a:lnTo>
                  <a:pt x="216" y="90"/>
                </a:lnTo>
                <a:lnTo>
                  <a:pt x="215" y="108"/>
                </a:lnTo>
                <a:lnTo>
                  <a:pt x="211" y="128"/>
                </a:lnTo>
                <a:lnTo>
                  <a:pt x="204" y="144"/>
                </a:lnTo>
                <a:lnTo>
                  <a:pt x="214" y="150"/>
                </a:lnTo>
                <a:lnTo>
                  <a:pt x="223" y="156"/>
                </a:lnTo>
                <a:lnTo>
                  <a:pt x="231" y="166"/>
                </a:lnTo>
                <a:lnTo>
                  <a:pt x="238" y="177"/>
                </a:lnTo>
                <a:lnTo>
                  <a:pt x="243" y="189"/>
                </a:lnTo>
                <a:lnTo>
                  <a:pt x="245" y="201"/>
                </a:lnTo>
                <a:lnTo>
                  <a:pt x="245" y="214"/>
                </a:lnTo>
                <a:lnTo>
                  <a:pt x="241" y="227"/>
                </a:lnTo>
                <a:lnTo>
                  <a:pt x="235" y="237"/>
                </a:lnTo>
                <a:lnTo>
                  <a:pt x="228" y="246"/>
                </a:lnTo>
                <a:lnTo>
                  <a:pt x="221" y="253"/>
                </a:lnTo>
                <a:lnTo>
                  <a:pt x="212" y="257"/>
                </a:lnTo>
                <a:lnTo>
                  <a:pt x="203" y="259"/>
                </a:lnTo>
                <a:lnTo>
                  <a:pt x="193" y="260"/>
                </a:lnTo>
                <a:lnTo>
                  <a:pt x="182" y="259"/>
                </a:lnTo>
                <a:lnTo>
                  <a:pt x="169" y="255"/>
                </a:lnTo>
                <a:lnTo>
                  <a:pt x="166" y="277"/>
                </a:lnTo>
                <a:lnTo>
                  <a:pt x="161" y="300"/>
                </a:lnTo>
                <a:lnTo>
                  <a:pt x="155" y="322"/>
                </a:lnTo>
                <a:lnTo>
                  <a:pt x="148" y="344"/>
                </a:lnTo>
                <a:lnTo>
                  <a:pt x="139" y="363"/>
                </a:lnTo>
                <a:lnTo>
                  <a:pt x="130" y="380"/>
                </a:lnTo>
                <a:lnTo>
                  <a:pt x="119" y="394"/>
                </a:lnTo>
                <a:lnTo>
                  <a:pt x="105" y="403"/>
                </a:lnTo>
                <a:lnTo>
                  <a:pt x="91" y="409"/>
                </a:lnTo>
                <a:lnTo>
                  <a:pt x="79" y="414"/>
                </a:lnTo>
                <a:lnTo>
                  <a:pt x="67" y="418"/>
                </a:lnTo>
                <a:lnTo>
                  <a:pt x="56" y="420"/>
                </a:lnTo>
                <a:lnTo>
                  <a:pt x="45" y="423"/>
                </a:lnTo>
                <a:lnTo>
                  <a:pt x="32" y="423"/>
                </a:lnTo>
                <a:lnTo>
                  <a:pt x="21" y="423"/>
                </a:lnTo>
                <a:lnTo>
                  <a:pt x="7" y="421"/>
                </a:lnTo>
                <a:lnTo>
                  <a:pt x="3" y="439"/>
                </a:lnTo>
                <a:lnTo>
                  <a:pt x="1" y="457"/>
                </a:lnTo>
                <a:lnTo>
                  <a:pt x="0" y="473"/>
                </a:lnTo>
                <a:lnTo>
                  <a:pt x="1" y="488"/>
                </a:lnTo>
                <a:lnTo>
                  <a:pt x="3" y="500"/>
                </a:lnTo>
                <a:lnTo>
                  <a:pt x="10" y="510"/>
                </a:lnTo>
                <a:lnTo>
                  <a:pt x="21" y="516"/>
                </a:lnTo>
                <a:lnTo>
                  <a:pt x="36" y="517"/>
                </a:lnTo>
                <a:lnTo>
                  <a:pt x="54" y="516"/>
                </a:lnTo>
                <a:lnTo>
                  <a:pt x="74" y="512"/>
                </a:lnTo>
                <a:lnTo>
                  <a:pt x="93" y="509"/>
                </a:lnTo>
                <a:lnTo>
                  <a:pt x="112" y="502"/>
                </a:lnTo>
                <a:lnTo>
                  <a:pt x="130" y="494"/>
                </a:lnTo>
                <a:lnTo>
                  <a:pt x="146" y="484"/>
                </a:lnTo>
                <a:lnTo>
                  <a:pt x="160" y="470"/>
                </a:lnTo>
                <a:lnTo>
                  <a:pt x="172" y="454"/>
                </a:lnTo>
                <a:lnTo>
                  <a:pt x="182" y="435"/>
                </a:lnTo>
                <a:lnTo>
                  <a:pt x="192" y="418"/>
                </a:lnTo>
                <a:lnTo>
                  <a:pt x="201" y="401"/>
                </a:lnTo>
                <a:lnTo>
                  <a:pt x="212" y="382"/>
                </a:lnTo>
                <a:lnTo>
                  <a:pt x="220" y="365"/>
                </a:lnTo>
                <a:lnTo>
                  <a:pt x="227" y="348"/>
                </a:lnTo>
                <a:lnTo>
                  <a:pt x="231" y="332"/>
                </a:lnTo>
                <a:lnTo>
                  <a:pt x="234" y="314"/>
                </a:lnTo>
                <a:lnTo>
                  <a:pt x="236" y="297"/>
                </a:lnTo>
                <a:lnTo>
                  <a:pt x="243" y="280"/>
                </a:lnTo>
                <a:lnTo>
                  <a:pt x="251" y="262"/>
                </a:lnTo>
                <a:lnTo>
                  <a:pt x="263" y="245"/>
                </a:lnTo>
                <a:lnTo>
                  <a:pt x="274" y="231"/>
                </a:lnTo>
                <a:lnTo>
                  <a:pt x="288" y="219"/>
                </a:lnTo>
                <a:lnTo>
                  <a:pt x="301" y="209"/>
                </a:lnTo>
                <a:lnTo>
                  <a:pt x="313" y="205"/>
                </a:lnTo>
                <a:lnTo>
                  <a:pt x="326" y="201"/>
                </a:lnTo>
                <a:lnTo>
                  <a:pt x="340" y="194"/>
                </a:lnTo>
                <a:lnTo>
                  <a:pt x="354" y="186"/>
                </a:lnTo>
                <a:lnTo>
                  <a:pt x="367" y="177"/>
                </a:lnTo>
                <a:lnTo>
                  <a:pt x="380" y="164"/>
                </a:lnTo>
                <a:lnTo>
                  <a:pt x="392" y="151"/>
                </a:lnTo>
                <a:lnTo>
                  <a:pt x="402" y="133"/>
                </a:lnTo>
                <a:lnTo>
                  <a:pt x="409" y="115"/>
                </a:lnTo>
                <a:lnTo>
                  <a:pt x="403" y="98"/>
                </a:lnTo>
                <a:lnTo>
                  <a:pt x="397" y="80"/>
                </a:lnTo>
                <a:lnTo>
                  <a:pt x="388" y="64"/>
                </a:lnTo>
                <a:lnTo>
                  <a:pt x="377" y="49"/>
                </a:lnTo>
                <a:lnTo>
                  <a:pt x="362" y="35"/>
                </a:lnTo>
                <a:lnTo>
                  <a:pt x="342" y="22"/>
                </a:lnTo>
                <a:lnTo>
                  <a:pt x="318" y="10"/>
                </a:lnTo>
                <a:lnTo>
                  <a:pt x="289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8" name="Freeform 32"/>
          <p:cNvSpPr/>
          <p:nvPr/>
        </p:nvSpPr>
        <p:spPr>
          <a:xfrm>
            <a:off x="1758960" y="6081840"/>
            <a:ext cx="20520" cy="47520"/>
          </a:xfrm>
          <a:custGeom>
            <a:avLst/>
            <a:gdLst/>
            <a:ahLst/>
            <a:rect l="l" t="t" r="r" b="b"/>
            <a:pathLst>
              <a:path w="26" h="60">
                <a:moveTo>
                  <a:pt x="25" y="24"/>
                </a:moveTo>
                <a:lnTo>
                  <a:pt x="26" y="18"/>
                </a:lnTo>
                <a:lnTo>
                  <a:pt x="25" y="13"/>
                </a:lnTo>
                <a:lnTo>
                  <a:pt x="25" y="7"/>
                </a:lnTo>
                <a:lnTo>
                  <a:pt x="25" y="0"/>
                </a:lnTo>
                <a:lnTo>
                  <a:pt x="17" y="13"/>
                </a:lnTo>
                <a:lnTo>
                  <a:pt x="7" y="30"/>
                </a:lnTo>
                <a:lnTo>
                  <a:pt x="2" y="46"/>
                </a:lnTo>
                <a:lnTo>
                  <a:pt x="0" y="60"/>
                </a:lnTo>
                <a:lnTo>
                  <a:pt x="10" y="52"/>
                </a:lnTo>
                <a:lnTo>
                  <a:pt x="17" y="43"/>
                </a:lnTo>
                <a:lnTo>
                  <a:pt x="22" y="33"/>
                </a:lnTo>
                <a:lnTo>
                  <a:pt x="25" y="2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9" name="Freeform 33"/>
          <p:cNvSpPr/>
          <p:nvPr/>
        </p:nvSpPr>
        <p:spPr>
          <a:xfrm>
            <a:off x="1824120" y="6078600"/>
            <a:ext cx="77760" cy="66600"/>
          </a:xfrm>
          <a:custGeom>
            <a:avLst/>
            <a:gdLst/>
            <a:ahLst/>
            <a:rect l="l" t="t" r="r" b="b"/>
            <a:pathLst>
              <a:path w="98" h="85">
                <a:moveTo>
                  <a:pt x="3" y="26"/>
                </a:moveTo>
                <a:lnTo>
                  <a:pt x="0" y="19"/>
                </a:lnTo>
                <a:lnTo>
                  <a:pt x="0" y="13"/>
                </a:lnTo>
                <a:lnTo>
                  <a:pt x="0" y="7"/>
                </a:lnTo>
                <a:lnTo>
                  <a:pt x="0" y="0"/>
                </a:lnTo>
                <a:lnTo>
                  <a:pt x="15" y="4"/>
                </a:lnTo>
                <a:lnTo>
                  <a:pt x="34" y="11"/>
                </a:lnTo>
                <a:lnTo>
                  <a:pt x="52" y="20"/>
                </a:lnTo>
                <a:lnTo>
                  <a:pt x="69" y="32"/>
                </a:lnTo>
                <a:lnTo>
                  <a:pt x="84" y="44"/>
                </a:lnTo>
                <a:lnTo>
                  <a:pt x="95" y="58"/>
                </a:lnTo>
                <a:lnTo>
                  <a:pt x="98" y="70"/>
                </a:lnTo>
                <a:lnTo>
                  <a:pt x="94" y="80"/>
                </a:lnTo>
                <a:lnTo>
                  <a:pt x="84" y="85"/>
                </a:lnTo>
                <a:lnTo>
                  <a:pt x="73" y="85"/>
                </a:lnTo>
                <a:lnTo>
                  <a:pt x="60" y="81"/>
                </a:lnTo>
                <a:lnTo>
                  <a:pt x="47" y="74"/>
                </a:lnTo>
                <a:lnTo>
                  <a:pt x="35" y="65"/>
                </a:lnTo>
                <a:lnTo>
                  <a:pt x="22" y="53"/>
                </a:lnTo>
                <a:lnTo>
                  <a:pt x="12" y="40"/>
                </a:lnTo>
                <a:lnTo>
                  <a:pt x="3" y="2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0" name="Freeform 34"/>
          <p:cNvSpPr/>
          <p:nvPr/>
        </p:nvSpPr>
        <p:spPr>
          <a:xfrm>
            <a:off x="1776240" y="6018120"/>
            <a:ext cx="108000" cy="55800"/>
          </a:xfrm>
          <a:custGeom>
            <a:avLst/>
            <a:gdLst/>
            <a:ahLst/>
            <a:rect l="l" t="t" r="r" b="b"/>
            <a:pathLst>
              <a:path w="135" h="72">
                <a:moveTo>
                  <a:pt x="10" y="15"/>
                </a:moveTo>
                <a:lnTo>
                  <a:pt x="15" y="20"/>
                </a:lnTo>
                <a:lnTo>
                  <a:pt x="22" y="24"/>
                </a:lnTo>
                <a:lnTo>
                  <a:pt x="31" y="27"/>
                </a:lnTo>
                <a:lnTo>
                  <a:pt x="41" y="28"/>
                </a:lnTo>
                <a:lnTo>
                  <a:pt x="51" y="29"/>
                </a:lnTo>
                <a:lnTo>
                  <a:pt x="61" y="28"/>
                </a:lnTo>
                <a:lnTo>
                  <a:pt x="71" y="26"/>
                </a:lnTo>
                <a:lnTo>
                  <a:pt x="79" y="21"/>
                </a:lnTo>
                <a:lnTo>
                  <a:pt x="86" y="15"/>
                </a:lnTo>
                <a:lnTo>
                  <a:pt x="95" y="9"/>
                </a:lnTo>
                <a:lnTo>
                  <a:pt x="103" y="5"/>
                </a:lnTo>
                <a:lnTo>
                  <a:pt x="112" y="1"/>
                </a:lnTo>
                <a:lnTo>
                  <a:pt x="119" y="0"/>
                </a:lnTo>
                <a:lnTo>
                  <a:pt x="126" y="1"/>
                </a:lnTo>
                <a:lnTo>
                  <a:pt x="131" y="6"/>
                </a:lnTo>
                <a:lnTo>
                  <a:pt x="134" y="15"/>
                </a:lnTo>
                <a:lnTo>
                  <a:pt x="135" y="37"/>
                </a:lnTo>
                <a:lnTo>
                  <a:pt x="133" y="56"/>
                </a:lnTo>
                <a:lnTo>
                  <a:pt x="129" y="67"/>
                </a:lnTo>
                <a:lnTo>
                  <a:pt x="127" y="72"/>
                </a:lnTo>
                <a:lnTo>
                  <a:pt x="121" y="69"/>
                </a:lnTo>
                <a:lnTo>
                  <a:pt x="113" y="68"/>
                </a:lnTo>
                <a:lnTo>
                  <a:pt x="105" y="66"/>
                </a:lnTo>
                <a:lnTo>
                  <a:pt x="96" y="65"/>
                </a:lnTo>
                <a:lnTo>
                  <a:pt x="87" y="64"/>
                </a:lnTo>
                <a:lnTo>
                  <a:pt x="76" y="62"/>
                </a:lnTo>
                <a:lnTo>
                  <a:pt x="66" y="60"/>
                </a:lnTo>
                <a:lnTo>
                  <a:pt x="57" y="59"/>
                </a:lnTo>
                <a:lnTo>
                  <a:pt x="51" y="54"/>
                </a:lnTo>
                <a:lnTo>
                  <a:pt x="44" y="52"/>
                </a:lnTo>
                <a:lnTo>
                  <a:pt x="37" y="51"/>
                </a:lnTo>
                <a:lnTo>
                  <a:pt x="29" y="52"/>
                </a:lnTo>
                <a:lnTo>
                  <a:pt x="21" y="53"/>
                </a:lnTo>
                <a:lnTo>
                  <a:pt x="13" y="56"/>
                </a:lnTo>
                <a:lnTo>
                  <a:pt x="6" y="59"/>
                </a:lnTo>
                <a:lnTo>
                  <a:pt x="0" y="61"/>
                </a:lnTo>
                <a:lnTo>
                  <a:pt x="0" y="50"/>
                </a:lnTo>
                <a:lnTo>
                  <a:pt x="1" y="37"/>
                </a:lnTo>
                <a:lnTo>
                  <a:pt x="5" y="26"/>
                </a:lnTo>
                <a:lnTo>
                  <a:pt x="10" y="1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1" name="Freeform 35"/>
          <p:cNvSpPr/>
          <p:nvPr/>
        </p:nvSpPr>
        <p:spPr>
          <a:xfrm>
            <a:off x="1787400" y="6226200"/>
            <a:ext cx="44640" cy="39600"/>
          </a:xfrm>
          <a:custGeom>
            <a:avLst/>
            <a:gdLst/>
            <a:ahLst/>
            <a:rect l="l" t="t" r="r" b="b"/>
            <a:pathLst>
              <a:path w="58" h="49">
                <a:moveTo>
                  <a:pt x="36" y="0"/>
                </a:moveTo>
                <a:lnTo>
                  <a:pt x="58" y="8"/>
                </a:lnTo>
                <a:lnTo>
                  <a:pt x="53" y="22"/>
                </a:lnTo>
                <a:lnTo>
                  <a:pt x="46" y="34"/>
                </a:lnTo>
                <a:lnTo>
                  <a:pt x="38" y="44"/>
                </a:lnTo>
                <a:lnTo>
                  <a:pt x="30" y="49"/>
                </a:lnTo>
                <a:lnTo>
                  <a:pt x="0" y="22"/>
                </a:lnTo>
                <a:lnTo>
                  <a:pt x="3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2" name="Freeform 36"/>
          <p:cNvSpPr/>
          <p:nvPr/>
        </p:nvSpPr>
        <p:spPr>
          <a:xfrm>
            <a:off x="1743120" y="6253200"/>
            <a:ext cx="52200" cy="30240"/>
          </a:xfrm>
          <a:custGeom>
            <a:avLst/>
            <a:gdLst/>
            <a:ahLst/>
            <a:rect l="l" t="t" r="r" b="b"/>
            <a:pathLst>
              <a:path w="66" h="40">
                <a:moveTo>
                  <a:pt x="31" y="0"/>
                </a:moveTo>
                <a:lnTo>
                  <a:pt x="66" y="22"/>
                </a:lnTo>
                <a:lnTo>
                  <a:pt x="59" y="27"/>
                </a:lnTo>
                <a:lnTo>
                  <a:pt x="49" y="30"/>
                </a:lnTo>
                <a:lnTo>
                  <a:pt x="40" y="34"/>
                </a:lnTo>
                <a:lnTo>
                  <a:pt x="30" y="37"/>
                </a:lnTo>
                <a:lnTo>
                  <a:pt x="21" y="40"/>
                </a:lnTo>
                <a:lnTo>
                  <a:pt x="11" y="40"/>
                </a:lnTo>
                <a:lnTo>
                  <a:pt x="6" y="37"/>
                </a:lnTo>
                <a:lnTo>
                  <a:pt x="1" y="33"/>
                </a:lnTo>
                <a:lnTo>
                  <a:pt x="0" y="23"/>
                </a:lnTo>
                <a:lnTo>
                  <a:pt x="1" y="18"/>
                </a:lnTo>
                <a:lnTo>
                  <a:pt x="4" y="15"/>
                </a:lnTo>
                <a:lnTo>
                  <a:pt x="6" y="14"/>
                </a:lnTo>
                <a:lnTo>
                  <a:pt x="31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3" name="Freeform 37"/>
          <p:cNvSpPr/>
          <p:nvPr/>
        </p:nvSpPr>
        <p:spPr>
          <a:xfrm>
            <a:off x="1758960" y="6207120"/>
            <a:ext cx="44280" cy="27000"/>
          </a:xfrm>
          <a:custGeom>
            <a:avLst/>
            <a:gdLst/>
            <a:ahLst/>
            <a:rect l="l" t="t" r="r" b="b"/>
            <a:pathLst>
              <a:path w="58" h="34">
                <a:moveTo>
                  <a:pt x="0" y="16"/>
                </a:moveTo>
                <a:lnTo>
                  <a:pt x="23" y="34"/>
                </a:lnTo>
                <a:lnTo>
                  <a:pt x="58" y="16"/>
                </a:lnTo>
                <a:lnTo>
                  <a:pt x="29" y="0"/>
                </a:lnTo>
                <a:lnTo>
                  <a:pt x="0" y="1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4" name="Freeform 38"/>
          <p:cNvSpPr/>
          <p:nvPr/>
        </p:nvSpPr>
        <p:spPr>
          <a:xfrm>
            <a:off x="1746360" y="6229440"/>
            <a:ext cx="17280" cy="20520"/>
          </a:xfrm>
          <a:custGeom>
            <a:avLst/>
            <a:gdLst/>
            <a:ahLst/>
            <a:rect l="l" t="t" r="r" b="b"/>
            <a:pathLst>
              <a:path w="21" h="27">
                <a:moveTo>
                  <a:pt x="5" y="0"/>
                </a:moveTo>
                <a:lnTo>
                  <a:pt x="21" y="17"/>
                </a:lnTo>
                <a:lnTo>
                  <a:pt x="0" y="27"/>
                </a:lnTo>
                <a:lnTo>
                  <a:pt x="5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5" name="Freeform 39"/>
          <p:cNvSpPr/>
          <p:nvPr/>
        </p:nvSpPr>
        <p:spPr>
          <a:xfrm>
            <a:off x="1797120" y="6183360"/>
            <a:ext cx="41040" cy="33120"/>
          </a:xfrm>
          <a:custGeom>
            <a:avLst/>
            <a:gdLst/>
            <a:ahLst/>
            <a:rect l="l" t="t" r="r" b="b"/>
            <a:pathLst>
              <a:path w="53" h="41">
                <a:moveTo>
                  <a:pt x="43" y="41"/>
                </a:moveTo>
                <a:lnTo>
                  <a:pt x="0" y="21"/>
                </a:lnTo>
                <a:lnTo>
                  <a:pt x="53" y="0"/>
                </a:lnTo>
                <a:lnTo>
                  <a:pt x="52" y="9"/>
                </a:lnTo>
                <a:lnTo>
                  <a:pt x="49" y="22"/>
                </a:lnTo>
                <a:lnTo>
                  <a:pt x="46" y="34"/>
                </a:lnTo>
                <a:lnTo>
                  <a:pt x="43" y="4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6" name="Freeform 40"/>
          <p:cNvSpPr/>
          <p:nvPr/>
        </p:nvSpPr>
        <p:spPr>
          <a:xfrm>
            <a:off x="1754280" y="6181560"/>
            <a:ext cx="17280" cy="25560"/>
          </a:xfrm>
          <a:custGeom>
            <a:avLst/>
            <a:gdLst/>
            <a:ahLst/>
            <a:rect l="l" t="t" r="r" b="b"/>
            <a:pathLst>
              <a:path w="20" h="31">
                <a:moveTo>
                  <a:pt x="20" y="19"/>
                </a:moveTo>
                <a:lnTo>
                  <a:pt x="0" y="31"/>
                </a:lnTo>
                <a:lnTo>
                  <a:pt x="4" y="0"/>
                </a:lnTo>
                <a:lnTo>
                  <a:pt x="20" y="1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7" name="Freeform 41"/>
          <p:cNvSpPr/>
          <p:nvPr/>
        </p:nvSpPr>
        <p:spPr>
          <a:xfrm>
            <a:off x="1766880" y="6153120"/>
            <a:ext cx="60480" cy="36720"/>
          </a:xfrm>
          <a:custGeom>
            <a:avLst/>
            <a:gdLst/>
            <a:ahLst/>
            <a:rect l="l" t="t" r="r" b="b"/>
            <a:pathLst>
              <a:path w="76" h="46">
                <a:moveTo>
                  <a:pt x="0" y="20"/>
                </a:moveTo>
                <a:lnTo>
                  <a:pt x="25" y="46"/>
                </a:lnTo>
                <a:lnTo>
                  <a:pt x="76" y="26"/>
                </a:lnTo>
                <a:lnTo>
                  <a:pt x="41" y="0"/>
                </a:lnTo>
                <a:lnTo>
                  <a:pt x="0" y="2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8" name="Freeform 42"/>
          <p:cNvSpPr/>
          <p:nvPr/>
        </p:nvSpPr>
        <p:spPr>
          <a:xfrm>
            <a:off x="1817640" y="6132600"/>
            <a:ext cx="28800" cy="36360"/>
          </a:xfrm>
          <a:custGeom>
            <a:avLst/>
            <a:gdLst/>
            <a:ahLst/>
            <a:rect l="l" t="t" r="r" b="b"/>
            <a:pathLst>
              <a:path w="36" h="46">
                <a:moveTo>
                  <a:pt x="36" y="35"/>
                </a:moveTo>
                <a:lnTo>
                  <a:pt x="27" y="46"/>
                </a:lnTo>
                <a:lnTo>
                  <a:pt x="0" y="18"/>
                </a:lnTo>
                <a:lnTo>
                  <a:pt x="17" y="0"/>
                </a:lnTo>
                <a:lnTo>
                  <a:pt x="20" y="8"/>
                </a:lnTo>
                <a:lnTo>
                  <a:pt x="23" y="19"/>
                </a:lnTo>
                <a:lnTo>
                  <a:pt x="30" y="28"/>
                </a:lnTo>
                <a:lnTo>
                  <a:pt x="36" y="3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9" name="Freeform 43"/>
          <p:cNvSpPr/>
          <p:nvPr/>
        </p:nvSpPr>
        <p:spPr>
          <a:xfrm>
            <a:off x="1790640" y="6108840"/>
            <a:ext cx="23760" cy="31680"/>
          </a:xfrm>
          <a:custGeom>
            <a:avLst/>
            <a:gdLst/>
            <a:ahLst/>
            <a:rect l="l" t="t" r="r" b="b"/>
            <a:pathLst>
              <a:path w="29" h="40">
                <a:moveTo>
                  <a:pt x="29" y="24"/>
                </a:moveTo>
                <a:lnTo>
                  <a:pt x="12" y="40"/>
                </a:lnTo>
                <a:lnTo>
                  <a:pt x="0" y="26"/>
                </a:lnTo>
                <a:lnTo>
                  <a:pt x="19" y="0"/>
                </a:lnTo>
                <a:lnTo>
                  <a:pt x="29" y="2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0" name="Freeform 44"/>
          <p:cNvSpPr/>
          <p:nvPr/>
        </p:nvSpPr>
        <p:spPr>
          <a:xfrm>
            <a:off x="1758960" y="6140520"/>
            <a:ext cx="27000" cy="15840"/>
          </a:xfrm>
          <a:custGeom>
            <a:avLst/>
            <a:gdLst/>
            <a:ahLst/>
            <a:rect l="l" t="t" r="r" b="b"/>
            <a:pathLst>
              <a:path w="34" h="20">
                <a:moveTo>
                  <a:pt x="28" y="0"/>
                </a:moveTo>
                <a:lnTo>
                  <a:pt x="34" y="9"/>
                </a:lnTo>
                <a:lnTo>
                  <a:pt x="0" y="20"/>
                </a:lnTo>
                <a:lnTo>
                  <a:pt x="7" y="16"/>
                </a:lnTo>
                <a:lnTo>
                  <a:pt x="17" y="10"/>
                </a:lnTo>
                <a:lnTo>
                  <a:pt x="23" y="4"/>
                </a:lnTo>
                <a:lnTo>
                  <a:pt x="2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1" name="Freeform 45"/>
          <p:cNvSpPr/>
          <p:nvPr/>
        </p:nvSpPr>
        <p:spPr>
          <a:xfrm>
            <a:off x="2273400" y="5419800"/>
            <a:ext cx="236520" cy="839880"/>
          </a:xfrm>
          <a:custGeom>
            <a:avLst/>
            <a:gdLst/>
            <a:ahLst/>
            <a:rect l="l" t="t" r="r" b="b"/>
            <a:pathLst>
              <a:path w="298" h="1058">
                <a:moveTo>
                  <a:pt x="14" y="0"/>
                </a:moveTo>
                <a:lnTo>
                  <a:pt x="21" y="3"/>
                </a:lnTo>
                <a:lnTo>
                  <a:pt x="29" y="6"/>
                </a:lnTo>
                <a:lnTo>
                  <a:pt x="39" y="9"/>
                </a:lnTo>
                <a:lnTo>
                  <a:pt x="52" y="11"/>
                </a:lnTo>
                <a:lnTo>
                  <a:pt x="64" y="15"/>
                </a:lnTo>
                <a:lnTo>
                  <a:pt x="79" y="17"/>
                </a:lnTo>
                <a:lnTo>
                  <a:pt x="95" y="18"/>
                </a:lnTo>
                <a:lnTo>
                  <a:pt x="113" y="21"/>
                </a:lnTo>
                <a:lnTo>
                  <a:pt x="130" y="22"/>
                </a:lnTo>
                <a:lnTo>
                  <a:pt x="148" y="23"/>
                </a:lnTo>
                <a:lnTo>
                  <a:pt x="168" y="23"/>
                </a:lnTo>
                <a:lnTo>
                  <a:pt x="186" y="22"/>
                </a:lnTo>
                <a:lnTo>
                  <a:pt x="206" y="21"/>
                </a:lnTo>
                <a:lnTo>
                  <a:pt x="226" y="20"/>
                </a:lnTo>
                <a:lnTo>
                  <a:pt x="245" y="16"/>
                </a:lnTo>
                <a:lnTo>
                  <a:pt x="265" y="13"/>
                </a:lnTo>
                <a:lnTo>
                  <a:pt x="256" y="55"/>
                </a:lnTo>
                <a:lnTo>
                  <a:pt x="250" y="102"/>
                </a:lnTo>
                <a:lnTo>
                  <a:pt x="249" y="151"/>
                </a:lnTo>
                <a:lnTo>
                  <a:pt x="251" y="195"/>
                </a:lnTo>
                <a:lnTo>
                  <a:pt x="254" y="220"/>
                </a:lnTo>
                <a:lnTo>
                  <a:pt x="258" y="252"/>
                </a:lnTo>
                <a:lnTo>
                  <a:pt x="261" y="291"/>
                </a:lnTo>
                <a:lnTo>
                  <a:pt x="261" y="333"/>
                </a:lnTo>
                <a:lnTo>
                  <a:pt x="257" y="377"/>
                </a:lnTo>
                <a:lnTo>
                  <a:pt x="244" y="417"/>
                </a:lnTo>
                <a:lnTo>
                  <a:pt x="222" y="453"/>
                </a:lnTo>
                <a:lnTo>
                  <a:pt x="190" y="483"/>
                </a:lnTo>
                <a:lnTo>
                  <a:pt x="199" y="487"/>
                </a:lnTo>
                <a:lnTo>
                  <a:pt x="211" y="488"/>
                </a:lnTo>
                <a:lnTo>
                  <a:pt x="223" y="486"/>
                </a:lnTo>
                <a:lnTo>
                  <a:pt x="237" y="483"/>
                </a:lnTo>
                <a:lnTo>
                  <a:pt x="250" y="477"/>
                </a:lnTo>
                <a:lnTo>
                  <a:pt x="263" y="471"/>
                </a:lnTo>
                <a:lnTo>
                  <a:pt x="273" y="464"/>
                </a:lnTo>
                <a:lnTo>
                  <a:pt x="281" y="458"/>
                </a:lnTo>
                <a:lnTo>
                  <a:pt x="294" y="511"/>
                </a:lnTo>
                <a:lnTo>
                  <a:pt x="298" y="581"/>
                </a:lnTo>
                <a:lnTo>
                  <a:pt x="296" y="662"/>
                </a:lnTo>
                <a:lnTo>
                  <a:pt x="288" y="750"/>
                </a:lnTo>
                <a:lnTo>
                  <a:pt x="275" y="836"/>
                </a:lnTo>
                <a:lnTo>
                  <a:pt x="259" y="917"/>
                </a:lnTo>
                <a:lnTo>
                  <a:pt x="241" y="986"/>
                </a:lnTo>
                <a:lnTo>
                  <a:pt x="222" y="1037"/>
                </a:lnTo>
                <a:lnTo>
                  <a:pt x="210" y="1043"/>
                </a:lnTo>
                <a:lnTo>
                  <a:pt x="193" y="1048"/>
                </a:lnTo>
                <a:lnTo>
                  <a:pt x="176" y="1054"/>
                </a:lnTo>
                <a:lnTo>
                  <a:pt x="155" y="1056"/>
                </a:lnTo>
                <a:lnTo>
                  <a:pt x="135" y="1058"/>
                </a:lnTo>
                <a:lnTo>
                  <a:pt x="113" y="1053"/>
                </a:lnTo>
                <a:lnTo>
                  <a:pt x="90" y="1044"/>
                </a:lnTo>
                <a:lnTo>
                  <a:pt x="68" y="1029"/>
                </a:lnTo>
                <a:lnTo>
                  <a:pt x="69" y="967"/>
                </a:lnTo>
                <a:lnTo>
                  <a:pt x="67" y="901"/>
                </a:lnTo>
                <a:lnTo>
                  <a:pt x="62" y="838"/>
                </a:lnTo>
                <a:lnTo>
                  <a:pt x="54" y="781"/>
                </a:lnTo>
                <a:lnTo>
                  <a:pt x="46" y="719"/>
                </a:lnTo>
                <a:lnTo>
                  <a:pt x="42" y="643"/>
                </a:lnTo>
                <a:lnTo>
                  <a:pt x="45" y="569"/>
                </a:lnTo>
                <a:lnTo>
                  <a:pt x="54" y="511"/>
                </a:lnTo>
                <a:lnTo>
                  <a:pt x="46" y="485"/>
                </a:lnTo>
                <a:lnTo>
                  <a:pt x="37" y="452"/>
                </a:lnTo>
                <a:lnTo>
                  <a:pt x="27" y="412"/>
                </a:lnTo>
                <a:lnTo>
                  <a:pt x="17" y="372"/>
                </a:lnTo>
                <a:lnTo>
                  <a:pt x="9" y="331"/>
                </a:lnTo>
                <a:lnTo>
                  <a:pt x="3" y="290"/>
                </a:lnTo>
                <a:lnTo>
                  <a:pt x="0" y="256"/>
                </a:lnTo>
                <a:lnTo>
                  <a:pt x="1" y="227"/>
                </a:lnTo>
                <a:lnTo>
                  <a:pt x="7" y="169"/>
                </a:lnTo>
                <a:lnTo>
                  <a:pt x="11" y="102"/>
                </a:lnTo>
                <a:lnTo>
                  <a:pt x="15" y="43"/>
                </a:lnTo>
                <a:lnTo>
                  <a:pt x="14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2" name="Freeform 46"/>
          <p:cNvSpPr/>
          <p:nvPr/>
        </p:nvSpPr>
        <p:spPr>
          <a:xfrm>
            <a:off x="2311560" y="6256440"/>
            <a:ext cx="144360" cy="141120"/>
          </a:xfrm>
          <a:custGeom>
            <a:avLst/>
            <a:gdLst/>
            <a:ahLst/>
            <a:rect l="l" t="t" r="r" b="b"/>
            <a:pathLst>
              <a:path w="181" h="177">
                <a:moveTo>
                  <a:pt x="170" y="11"/>
                </a:moveTo>
                <a:lnTo>
                  <a:pt x="160" y="16"/>
                </a:lnTo>
                <a:lnTo>
                  <a:pt x="144" y="21"/>
                </a:lnTo>
                <a:lnTo>
                  <a:pt x="125" y="26"/>
                </a:lnTo>
                <a:lnTo>
                  <a:pt x="102" y="30"/>
                </a:lnTo>
                <a:lnTo>
                  <a:pt x="76" y="30"/>
                </a:lnTo>
                <a:lnTo>
                  <a:pt x="51" y="26"/>
                </a:lnTo>
                <a:lnTo>
                  <a:pt x="27" y="16"/>
                </a:lnTo>
                <a:lnTo>
                  <a:pt x="5" y="0"/>
                </a:lnTo>
                <a:lnTo>
                  <a:pt x="1" y="9"/>
                </a:lnTo>
                <a:lnTo>
                  <a:pt x="0" y="24"/>
                </a:lnTo>
                <a:lnTo>
                  <a:pt x="4" y="43"/>
                </a:lnTo>
                <a:lnTo>
                  <a:pt x="12" y="60"/>
                </a:lnTo>
                <a:lnTo>
                  <a:pt x="19" y="74"/>
                </a:lnTo>
                <a:lnTo>
                  <a:pt x="21" y="84"/>
                </a:lnTo>
                <a:lnTo>
                  <a:pt x="19" y="92"/>
                </a:lnTo>
                <a:lnTo>
                  <a:pt x="12" y="101"/>
                </a:lnTo>
                <a:lnTo>
                  <a:pt x="5" y="114"/>
                </a:lnTo>
                <a:lnTo>
                  <a:pt x="3" y="128"/>
                </a:lnTo>
                <a:lnTo>
                  <a:pt x="6" y="143"/>
                </a:lnTo>
                <a:lnTo>
                  <a:pt x="15" y="155"/>
                </a:lnTo>
                <a:lnTo>
                  <a:pt x="21" y="160"/>
                </a:lnTo>
                <a:lnTo>
                  <a:pt x="26" y="165"/>
                </a:lnTo>
                <a:lnTo>
                  <a:pt x="31" y="168"/>
                </a:lnTo>
                <a:lnTo>
                  <a:pt x="36" y="172"/>
                </a:lnTo>
                <a:lnTo>
                  <a:pt x="41" y="174"/>
                </a:lnTo>
                <a:lnTo>
                  <a:pt x="46" y="175"/>
                </a:lnTo>
                <a:lnTo>
                  <a:pt x="52" y="175"/>
                </a:lnTo>
                <a:lnTo>
                  <a:pt x="59" y="175"/>
                </a:lnTo>
                <a:lnTo>
                  <a:pt x="67" y="175"/>
                </a:lnTo>
                <a:lnTo>
                  <a:pt x="76" y="174"/>
                </a:lnTo>
                <a:lnTo>
                  <a:pt x="85" y="173"/>
                </a:lnTo>
                <a:lnTo>
                  <a:pt x="96" y="173"/>
                </a:lnTo>
                <a:lnTo>
                  <a:pt x="105" y="173"/>
                </a:lnTo>
                <a:lnTo>
                  <a:pt x="115" y="173"/>
                </a:lnTo>
                <a:lnTo>
                  <a:pt x="125" y="174"/>
                </a:lnTo>
                <a:lnTo>
                  <a:pt x="134" y="175"/>
                </a:lnTo>
                <a:lnTo>
                  <a:pt x="142" y="177"/>
                </a:lnTo>
                <a:lnTo>
                  <a:pt x="151" y="177"/>
                </a:lnTo>
                <a:lnTo>
                  <a:pt x="160" y="176"/>
                </a:lnTo>
                <a:lnTo>
                  <a:pt x="168" y="173"/>
                </a:lnTo>
                <a:lnTo>
                  <a:pt x="174" y="168"/>
                </a:lnTo>
                <a:lnTo>
                  <a:pt x="179" y="160"/>
                </a:lnTo>
                <a:lnTo>
                  <a:pt x="181" y="151"/>
                </a:lnTo>
                <a:lnTo>
                  <a:pt x="181" y="139"/>
                </a:lnTo>
                <a:lnTo>
                  <a:pt x="173" y="143"/>
                </a:lnTo>
                <a:lnTo>
                  <a:pt x="163" y="146"/>
                </a:lnTo>
                <a:lnTo>
                  <a:pt x="151" y="149"/>
                </a:lnTo>
                <a:lnTo>
                  <a:pt x="136" y="150"/>
                </a:lnTo>
                <a:lnTo>
                  <a:pt x="121" y="150"/>
                </a:lnTo>
                <a:lnTo>
                  <a:pt x="106" y="149"/>
                </a:lnTo>
                <a:lnTo>
                  <a:pt x="91" y="145"/>
                </a:lnTo>
                <a:lnTo>
                  <a:pt x="77" y="139"/>
                </a:lnTo>
                <a:lnTo>
                  <a:pt x="88" y="139"/>
                </a:lnTo>
                <a:lnTo>
                  <a:pt x="100" y="137"/>
                </a:lnTo>
                <a:lnTo>
                  <a:pt x="115" y="135"/>
                </a:lnTo>
                <a:lnTo>
                  <a:pt x="129" y="131"/>
                </a:lnTo>
                <a:lnTo>
                  <a:pt x="142" y="127"/>
                </a:lnTo>
                <a:lnTo>
                  <a:pt x="151" y="120"/>
                </a:lnTo>
                <a:lnTo>
                  <a:pt x="156" y="112"/>
                </a:lnTo>
                <a:lnTo>
                  <a:pt x="153" y="101"/>
                </a:lnTo>
                <a:lnTo>
                  <a:pt x="143" y="104"/>
                </a:lnTo>
                <a:lnTo>
                  <a:pt x="132" y="105"/>
                </a:lnTo>
                <a:lnTo>
                  <a:pt x="119" y="106"/>
                </a:lnTo>
                <a:lnTo>
                  <a:pt x="106" y="105"/>
                </a:lnTo>
                <a:lnTo>
                  <a:pt x="94" y="104"/>
                </a:lnTo>
                <a:lnTo>
                  <a:pt x="81" y="100"/>
                </a:lnTo>
                <a:lnTo>
                  <a:pt x="69" y="96"/>
                </a:lnTo>
                <a:lnTo>
                  <a:pt x="59" y="90"/>
                </a:lnTo>
                <a:lnTo>
                  <a:pt x="72" y="89"/>
                </a:lnTo>
                <a:lnTo>
                  <a:pt x="91" y="86"/>
                </a:lnTo>
                <a:lnTo>
                  <a:pt x="113" y="82"/>
                </a:lnTo>
                <a:lnTo>
                  <a:pt x="135" y="75"/>
                </a:lnTo>
                <a:lnTo>
                  <a:pt x="155" y="66"/>
                </a:lnTo>
                <a:lnTo>
                  <a:pt x="170" y="52"/>
                </a:lnTo>
                <a:lnTo>
                  <a:pt x="175" y="35"/>
                </a:lnTo>
                <a:lnTo>
                  <a:pt x="170" y="1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3" name="Freeform 47"/>
          <p:cNvSpPr/>
          <p:nvPr/>
        </p:nvSpPr>
        <p:spPr>
          <a:xfrm>
            <a:off x="2332080" y="6610320"/>
            <a:ext cx="61920" cy="58680"/>
          </a:xfrm>
          <a:custGeom>
            <a:avLst/>
            <a:gdLst/>
            <a:ahLst/>
            <a:rect l="l" t="t" r="r" b="b"/>
            <a:pathLst>
              <a:path w="78" h="73">
                <a:moveTo>
                  <a:pt x="78" y="0"/>
                </a:moveTo>
                <a:lnTo>
                  <a:pt x="0" y="30"/>
                </a:lnTo>
                <a:lnTo>
                  <a:pt x="51" y="73"/>
                </a:lnTo>
                <a:lnTo>
                  <a:pt x="59" y="60"/>
                </a:lnTo>
                <a:lnTo>
                  <a:pt x="69" y="40"/>
                </a:lnTo>
                <a:lnTo>
                  <a:pt x="76" y="18"/>
                </a:lnTo>
                <a:lnTo>
                  <a:pt x="7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4" name="Freeform 48"/>
          <p:cNvSpPr/>
          <p:nvPr/>
        </p:nvSpPr>
        <p:spPr>
          <a:xfrm>
            <a:off x="2274840" y="6648480"/>
            <a:ext cx="81000" cy="39600"/>
          </a:xfrm>
          <a:custGeom>
            <a:avLst/>
            <a:gdLst/>
            <a:ahLst/>
            <a:rect l="l" t="t" r="r" b="b"/>
            <a:pathLst>
              <a:path w="103" h="52">
                <a:moveTo>
                  <a:pt x="103" y="38"/>
                </a:moveTo>
                <a:lnTo>
                  <a:pt x="54" y="0"/>
                </a:lnTo>
                <a:lnTo>
                  <a:pt x="0" y="27"/>
                </a:lnTo>
                <a:lnTo>
                  <a:pt x="5" y="35"/>
                </a:lnTo>
                <a:lnTo>
                  <a:pt x="14" y="42"/>
                </a:lnTo>
                <a:lnTo>
                  <a:pt x="25" y="47"/>
                </a:lnTo>
                <a:lnTo>
                  <a:pt x="39" y="51"/>
                </a:lnTo>
                <a:lnTo>
                  <a:pt x="55" y="52"/>
                </a:lnTo>
                <a:lnTo>
                  <a:pt x="71" y="51"/>
                </a:lnTo>
                <a:lnTo>
                  <a:pt x="88" y="46"/>
                </a:lnTo>
                <a:lnTo>
                  <a:pt x="103" y="3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5" name="Freeform 49"/>
          <p:cNvSpPr/>
          <p:nvPr/>
        </p:nvSpPr>
        <p:spPr>
          <a:xfrm>
            <a:off x="2263680" y="6603840"/>
            <a:ext cx="36720" cy="46080"/>
          </a:xfrm>
          <a:custGeom>
            <a:avLst/>
            <a:gdLst/>
            <a:ahLst/>
            <a:rect l="l" t="t" r="r" b="b"/>
            <a:pathLst>
              <a:path w="46" h="56">
                <a:moveTo>
                  <a:pt x="0" y="56"/>
                </a:moveTo>
                <a:lnTo>
                  <a:pt x="46" y="34"/>
                </a:lnTo>
                <a:lnTo>
                  <a:pt x="6" y="0"/>
                </a:lnTo>
                <a:lnTo>
                  <a:pt x="1" y="11"/>
                </a:lnTo>
                <a:lnTo>
                  <a:pt x="0" y="28"/>
                </a:lnTo>
                <a:lnTo>
                  <a:pt x="0" y="45"/>
                </a:lnTo>
                <a:lnTo>
                  <a:pt x="0" y="5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6" name="Freeform 50"/>
          <p:cNvSpPr/>
          <p:nvPr/>
        </p:nvSpPr>
        <p:spPr>
          <a:xfrm>
            <a:off x="2287440" y="6578640"/>
            <a:ext cx="79560" cy="46080"/>
          </a:xfrm>
          <a:custGeom>
            <a:avLst/>
            <a:gdLst/>
            <a:ahLst/>
            <a:rect l="l" t="t" r="r" b="b"/>
            <a:pathLst>
              <a:path w="100" h="58">
                <a:moveTo>
                  <a:pt x="43" y="58"/>
                </a:moveTo>
                <a:lnTo>
                  <a:pt x="100" y="33"/>
                </a:lnTo>
                <a:lnTo>
                  <a:pt x="57" y="0"/>
                </a:lnTo>
                <a:lnTo>
                  <a:pt x="0" y="28"/>
                </a:lnTo>
                <a:lnTo>
                  <a:pt x="43" y="5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7" name="Freeform 51"/>
          <p:cNvSpPr/>
          <p:nvPr/>
        </p:nvSpPr>
        <p:spPr>
          <a:xfrm>
            <a:off x="2349360" y="6541920"/>
            <a:ext cx="65160" cy="54000"/>
          </a:xfrm>
          <a:custGeom>
            <a:avLst/>
            <a:gdLst/>
            <a:ahLst/>
            <a:rect l="l" t="t" r="r" b="b"/>
            <a:pathLst>
              <a:path w="82" h="68">
                <a:moveTo>
                  <a:pt x="68" y="68"/>
                </a:moveTo>
                <a:lnTo>
                  <a:pt x="0" y="33"/>
                </a:lnTo>
                <a:lnTo>
                  <a:pt x="82" y="0"/>
                </a:lnTo>
                <a:lnTo>
                  <a:pt x="80" y="15"/>
                </a:lnTo>
                <a:lnTo>
                  <a:pt x="75" y="36"/>
                </a:lnTo>
                <a:lnTo>
                  <a:pt x="71" y="57"/>
                </a:lnTo>
                <a:lnTo>
                  <a:pt x="68" y="6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8" name="Freeform 52"/>
          <p:cNvSpPr/>
          <p:nvPr/>
        </p:nvSpPr>
        <p:spPr>
          <a:xfrm>
            <a:off x="2270160" y="6543720"/>
            <a:ext cx="50760" cy="41400"/>
          </a:xfrm>
          <a:custGeom>
            <a:avLst/>
            <a:gdLst/>
            <a:ahLst/>
            <a:rect l="l" t="t" r="r" b="b"/>
            <a:pathLst>
              <a:path w="66" h="52">
                <a:moveTo>
                  <a:pt x="7" y="14"/>
                </a:moveTo>
                <a:lnTo>
                  <a:pt x="5" y="25"/>
                </a:lnTo>
                <a:lnTo>
                  <a:pt x="3" y="35"/>
                </a:lnTo>
                <a:lnTo>
                  <a:pt x="1" y="45"/>
                </a:lnTo>
                <a:lnTo>
                  <a:pt x="0" y="52"/>
                </a:lnTo>
                <a:lnTo>
                  <a:pt x="66" y="24"/>
                </a:lnTo>
                <a:lnTo>
                  <a:pt x="35" y="0"/>
                </a:lnTo>
                <a:lnTo>
                  <a:pt x="32" y="2"/>
                </a:lnTo>
                <a:lnTo>
                  <a:pt x="27" y="5"/>
                </a:lnTo>
                <a:lnTo>
                  <a:pt x="18" y="10"/>
                </a:lnTo>
                <a:lnTo>
                  <a:pt x="7" y="1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9" name="Freeform 53"/>
          <p:cNvSpPr/>
          <p:nvPr/>
        </p:nvSpPr>
        <p:spPr>
          <a:xfrm>
            <a:off x="2274840" y="6483240"/>
            <a:ext cx="66600" cy="39960"/>
          </a:xfrm>
          <a:custGeom>
            <a:avLst/>
            <a:gdLst/>
            <a:ahLst/>
            <a:rect l="l" t="t" r="r" b="b"/>
            <a:pathLst>
              <a:path w="83" h="50">
                <a:moveTo>
                  <a:pt x="19" y="50"/>
                </a:moveTo>
                <a:lnTo>
                  <a:pt x="0" y="37"/>
                </a:lnTo>
                <a:lnTo>
                  <a:pt x="12" y="33"/>
                </a:lnTo>
                <a:lnTo>
                  <a:pt x="24" y="27"/>
                </a:lnTo>
                <a:lnTo>
                  <a:pt x="36" y="22"/>
                </a:lnTo>
                <a:lnTo>
                  <a:pt x="47" y="15"/>
                </a:lnTo>
                <a:lnTo>
                  <a:pt x="57" y="9"/>
                </a:lnTo>
                <a:lnTo>
                  <a:pt x="65" y="4"/>
                </a:lnTo>
                <a:lnTo>
                  <a:pt x="69" y="1"/>
                </a:lnTo>
                <a:lnTo>
                  <a:pt x="72" y="0"/>
                </a:lnTo>
                <a:lnTo>
                  <a:pt x="75" y="1"/>
                </a:lnTo>
                <a:lnTo>
                  <a:pt x="80" y="2"/>
                </a:lnTo>
                <a:lnTo>
                  <a:pt x="82" y="3"/>
                </a:lnTo>
                <a:lnTo>
                  <a:pt x="83" y="3"/>
                </a:lnTo>
                <a:lnTo>
                  <a:pt x="76" y="12"/>
                </a:lnTo>
                <a:lnTo>
                  <a:pt x="68" y="20"/>
                </a:lnTo>
                <a:lnTo>
                  <a:pt x="59" y="27"/>
                </a:lnTo>
                <a:lnTo>
                  <a:pt x="49" y="34"/>
                </a:lnTo>
                <a:lnTo>
                  <a:pt x="39" y="40"/>
                </a:lnTo>
                <a:lnTo>
                  <a:pt x="31" y="45"/>
                </a:lnTo>
                <a:lnTo>
                  <a:pt x="23" y="48"/>
                </a:lnTo>
                <a:lnTo>
                  <a:pt x="19" y="5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0" name="Freeform 54"/>
          <p:cNvSpPr/>
          <p:nvPr/>
        </p:nvSpPr>
        <p:spPr>
          <a:xfrm>
            <a:off x="2317680" y="6488280"/>
            <a:ext cx="76320" cy="55440"/>
          </a:xfrm>
          <a:custGeom>
            <a:avLst/>
            <a:gdLst/>
            <a:ahLst/>
            <a:rect l="l" t="t" r="r" b="b"/>
            <a:pathLst>
              <a:path w="96" h="69">
                <a:moveTo>
                  <a:pt x="46" y="3"/>
                </a:moveTo>
                <a:lnTo>
                  <a:pt x="44" y="8"/>
                </a:lnTo>
                <a:lnTo>
                  <a:pt x="39" y="13"/>
                </a:lnTo>
                <a:lnTo>
                  <a:pt x="35" y="21"/>
                </a:lnTo>
                <a:lnTo>
                  <a:pt x="28" y="28"/>
                </a:lnTo>
                <a:lnTo>
                  <a:pt x="21" y="36"/>
                </a:lnTo>
                <a:lnTo>
                  <a:pt x="14" y="44"/>
                </a:lnTo>
                <a:lnTo>
                  <a:pt x="7" y="50"/>
                </a:lnTo>
                <a:lnTo>
                  <a:pt x="0" y="55"/>
                </a:lnTo>
                <a:lnTo>
                  <a:pt x="29" y="69"/>
                </a:lnTo>
                <a:lnTo>
                  <a:pt x="96" y="47"/>
                </a:lnTo>
                <a:lnTo>
                  <a:pt x="92" y="42"/>
                </a:lnTo>
                <a:lnTo>
                  <a:pt x="83" y="31"/>
                </a:lnTo>
                <a:lnTo>
                  <a:pt x="74" y="16"/>
                </a:lnTo>
                <a:lnTo>
                  <a:pt x="66" y="0"/>
                </a:lnTo>
                <a:lnTo>
                  <a:pt x="64" y="4"/>
                </a:lnTo>
                <a:lnTo>
                  <a:pt x="60" y="4"/>
                </a:lnTo>
                <a:lnTo>
                  <a:pt x="54" y="4"/>
                </a:lnTo>
                <a:lnTo>
                  <a:pt x="46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1" name="Freeform 55"/>
          <p:cNvSpPr/>
          <p:nvPr/>
        </p:nvSpPr>
        <p:spPr>
          <a:xfrm>
            <a:off x="2295360" y="6453360"/>
            <a:ext cx="34920" cy="29880"/>
          </a:xfrm>
          <a:custGeom>
            <a:avLst/>
            <a:gdLst/>
            <a:ahLst/>
            <a:rect l="l" t="t" r="r" b="b"/>
            <a:pathLst>
              <a:path w="45" h="38">
                <a:moveTo>
                  <a:pt x="0" y="38"/>
                </a:moveTo>
                <a:lnTo>
                  <a:pt x="6" y="34"/>
                </a:lnTo>
                <a:lnTo>
                  <a:pt x="13" y="31"/>
                </a:lnTo>
                <a:lnTo>
                  <a:pt x="20" y="26"/>
                </a:lnTo>
                <a:lnTo>
                  <a:pt x="27" y="22"/>
                </a:lnTo>
                <a:lnTo>
                  <a:pt x="33" y="17"/>
                </a:lnTo>
                <a:lnTo>
                  <a:pt x="39" y="12"/>
                </a:lnTo>
                <a:lnTo>
                  <a:pt x="42" y="9"/>
                </a:lnTo>
                <a:lnTo>
                  <a:pt x="45" y="7"/>
                </a:lnTo>
                <a:lnTo>
                  <a:pt x="39" y="4"/>
                </a:lnTo>
                <a:lnTo>
                  <a:pt x="30" y="2"/>
                </a:lnTo>
                <a:lnTo>
                  <a:pt x="24" y="1"/>
                </a:lnTo>
                <a:lnTo>
                  <a:pt x="15" y="0"/>
                </a:lnTo>
                <a:lnTo>
                  <a:pt x="11" y="8"/>
                </a:lnTo>
                <a:lnTo>
                  <a:pt x="7" y="18"/>
                </a:lnTo>
                <a:lnTo>
                  <a:pt x="4" y="30"/>
                </a:lnTo>
                <a:lnTo>
                  <a:pt x="0" y="3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2" name="Freeform 56"/>
          <p:cNvSpPr/>
          <p:nvPr/>
        </p:nvSpPr>
        <p:spPr>
          <a:xfrm>
            <a:off x="2428920" y="6459480"/>
            <a:ext cx="41400" cy="52560"/>
          </a:xfrm>
          <a:custGeom>
            <a:avLst/>
            <a:gdLst/>
            <a:ahLst/>
            <a:rect l="l" t="t" r="r" b="b"/>
            <a:pathLst>
              <a:path w="52" h="67">
                <a:moveTo>
                  <a:pt x="0" y="67"/>
                </a:moveTo>
                <a:lnTo>
                  <a:pt x="3" y="67"/>
                </a:lnTo>
                <a:lnTo>
                  <a:pt x="8" y="67"/>
                </a:lnTo>
                <a:lnTo>
                  <a:pt x="13" y="65"/>
                </a:lnTo>
                <a:lnTo>
                  <a:pt x="17" y="64"/>
                </a:lnTo>
                <a:lnTo>
                  <a:pt x="23" y="62"/>
                </a:lnTo>
                <a:lnTo>
                  <a:pt x="27" y="60"/>
                </a:lnTo>
                <a:lnTo>
                  <a:pt x="32" y="57"/>
                </a:lnTo>
                <a:lnTo>
                  <a:pt x="37" y="55"/>
                </a:lnTo>
                <a:lnTo>
                  <a:pt x="46" y="48"/>
                </a:lnTo>
                <a:lnTo>
                  <a:pt x="51" y="41"/>
                </a:lnTo>
                <a:lnTo>
                  <a:pt x="52" y="33"/>
                </a:lnTo>
                <a:lnTo>
                  <a:pt x="49" y="25"/>
                </a:lnTo>
                <a:lnTo>
                  <a:pt x="42" y="18"/>
                </a:lnTo>
                <a:lnTo>
                  <a:pt x="33" y="11"/>
                </a:lnTo>
                <a:lnTo>
                  <a:pt x="21" y="4"/>
                </a:lnTo>
                <a:lnTo>
                  <a:pt x="6" y="0"/>
                </a:lnTo>
                <a:lnTo>
                  <a:pt x="4" y="15"/>
                </a:lnTo>
                <a:lnTo>
                  <a:pt x="3" y="33"/>
                </a:lnTo>
                <a:lnTo>
                  <a:pt x="2" y="52"/>
                </a:lnTo>
                <a:lnTo>
                  <a:pt x="0" y="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3" name="Freeform 57"/>
          <p:cNvSpPr/>
          <p:nvPr/>
        </p:nvSpPr>
        <p:spPr>
          <a:xfrm>
            <a:off x="2384280" y="6456240"/>
            <a:ext cx="27000" cy="38160"/>
          </a:xfrm>
          <a:custGeom>
            <a:avLst/>
            <a:gdLst/>
            <a:ahLst/>
            <a:rect l="l" t="t" r="r" b="b"/>
            <a:pathLst>
              <a:path w="36" h="48">
                <a:moveTo>
                  <a:pt x="27" y="48"/>
                </a:moveTo>
                <a:lnTo>
                  <a:pt x="19" y="37"/>
                </a:lnTo>
                <a:lnTo>
                  <a:pt x="12" y="24"/>
                </a:lnTo>
                <a:lnTo>
                  <a:pt x="6" y="13"/>
                </a:lnTo>
                <a:lnTo>
                  <a:pt x="0" y="2"/>
                </a:lnTo>
                <a:lnTo>
                  <a:pt x="5" y="1"/>
                </a:lnTo>
                <a:lnTo>
                  <a:pt x="9" y="1"/>
                </a:lnTo>
                <a:lnTo>
                  <a:pt x="14" y="1"/>
                </a:lnTo>
                <a:lnTo>
                  <a:pt x="19" y="0"/>
                </a:lnTo>
                <a:lnTo>
                  <a:pt x="23" y="0"/>
                </a:lnTo>
                <a:lnTo>
                  <a:pt x="28" y="0"/>
                </a:lnTo>
                <a:lnTo>
                  <a:pt x="32" y="1"/>
                </a:lnTo>
                <a:lnTo>
                  <a:pt x="36" y="1"/>
                </a:lnTo>
                <a:lnTo>
                  <a:pt x="35" y="12"/>
                </a:lnTo>
                <a:lnTo>
                  <a:pt x="34" y="25"/>
                </a:lnTo>
                <a:lnTo>
                  <a:pt x="30" y="38"/>
                </a:lnTo>
                <a:lnTo>
                  <a:pt x="27" y="4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4" name="Freeform 58"/>
          <p:cNvSpPr/>
          <p:nvPr/>
        </p:nvSpPr>
        <p:spPr>
          <a:xfrm>
            <a:off x="2244600" y="6550200"/>
            <a:ext cx="203400" cy="255240"/>
          </a:xfrm>
          <a:custGeom>
            <a:avLst/>
            <a:gdLst/>
            <a:ahLst/>
            <a:rect l="l" t="t" r="r" b="b"/>
            <a:pathLst>
              <a:path w="256" h="322">
                <a:moveTo>
                  <a:pt x="256" y="12"/>
                </a:moveTo>
                <a:lnTo>
                  <a:pt x="248" y="44"/>
                </a:lnTo>
                <a:lnTo>
                  <a:pt x="242" y="77"/>
                </a:lnTo>
                <a:lnTo>
                  <a:pt x="239" y="110"/>
                </a:lnTo>
                <a:lnTo>
                  <a:pt x="241" y="145"/>
                </a:lnTo>
                <a:lnTo>
                  <a:pt x="242" y="159"/>
                </a:lnTo>
                <a:lnTo>
                  <a:pt x="241" y="177"/>
                </a:lnTo>
                <a:lnTo>
                  <a:pt x="237" y="198"/>
                </a:lnTo>
                <a:lnTo>
                  <a:pt x="231" y="221"/>
                </a:lnTo>
                <a:lnTo>
                  <a:pt x="220" y="243"/>
                </a:lnTo>
                <a:lnTo>
                  <a:pt x="207" y="266"/>
                </a:lnTo>
                <a:lnTo>
                  <a:pt x="189" y="287"/>
                </a:lnTo>
                <a:lnTo>
                  <a:pt x="167" y="304"/>
                </a:lnTo>
                <a:lnTo>
                  <a:pt x="144" y="315"/>
                </a:lnTo>
                <a:lnTo>
                  <a:pt x="121" y="321"/>
                </a:lnTo>
                <a:lnTo>
                  <a:pt x="98" y="322"/>
                </a:lnTo>
                <a:lnTo>
                  <a:pt x="76" y="320"/>
                </a:lnTo>
                <a:lnTo>
                  <a:pt x="55" y="314"/>
                </a:lnTo>
                <a:lnTo>
                  <a:pt x="38" y="305"/>
                </a:lnTo>
                <a:lnTo>
                  <a:pt x="23" y="295"/>
                </a:lnTo>
                <a:lnTo>
                  <a:pt x="13" y="283"/>
                </a:lnTo>
                <a:lnTo>
                  <a:pt x="1" y="253"/>
                </a:lnTo>
                <a:lnTo>
                  <a:pt x="0" y="215"/>
                </a:lnTo>
                <a:lnTo>
                  <a:pt x="5" y="181"/>
                </a:lnTo>
                <a:lnTo>
                  <a:pt x="15" y="158"/>
                </a:lnTo>
                <a:lnTo>
                  <a:pt x="37" y="184"/>
                </a:lnTo>
                <a:lnTo>
                  <a:pt x="61" y="199"/>
                </a:lnTo>
                <a:lnTo>
                  <a:pt x="88" y="204"/>
                </a:lnTo>
                <a:lnTo>
                  <a:pt x="113" y="200"/>
                </a:lnTo>
                <a:lnTo>
                  <a:pt x="137" y="191"/>
                </a:lnTo>
                <a:lnTo>
                  <a:pt x="159" y="178"/>
                </a:lnTo>
                <a:lnTo>
                  <a:pt x="176" y="163"/>
                </a:lnTo>
                <a:lnTo>
                  <a:pt x="189" y="150"/>
                </a:lnTo>
                <a:lnTo>
                  <a:pt x="196" y="137"/>
                </a:lnTo>
                <a:lnTo>
                  <a:pt x="203" y="120"/>
                </a:lnTo>
                <a:lnTo>
                  <a:pt x="209" y="101"/>
                </a:lnTo>
                <a:lnTo>
                  <a:pt x="214" y="80"/>
                </a:lnTo>
                <a:lnTo>
                  <a:pt x="219" y="59"/>
                </a:lnTo>
                <a:lnTo>
                  <a:pt x="224" y="38"/>
                </a:lnTo>
                <a:lnTo>
                  <a:pt x="227" y="17"/>
                </a:lnTo>
                <a:lnTo>
                  <a:pt x="231" y="0"/>
                </a:lnTo>
                <a:lnTo>
                  <a:pt x="234" y="3"/>
                </a:lnTo>
                <a:lnTo>
                  <a:pt x="241" y="8"/>
                </a:lnTo>
                <a:lnTo>
                  <a:pt x="248" y="11"/>
                </a:lnTo>
                <a:lnTo>
                  <a:pt x="256" y="1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5" name="Freeform 59"/>
          <p:cNvSpPr/>
          <p:nvPr/>
        </p:nvSpPr>
        <p:spPr>
          <a:xfrm>
            <a:off x="2316240" y="6405480"/>
            <a:ext cx="95040" cy="38160"/>
          </a:xfrm>
          <a:custGeom>
            <a:avLst/>
            <a:gdLst/>
            <a:ahLst/>
            <a:rect l="l" t="t" r="r" b="b"/>
            <a:pathLst>
              <a:path w="120" h="47">
                <a:moveTo>
                  <a:pt x="0" y="30"/>
                </a:moveTo>
                <a:lnTo>
                  <a:pt x="8" y="32"/>
                </a:lnTo>
                <a:lnTo>
                  <a:pt x="17" y="36"/>
                </a:lnTo>
                <a:lnTo>
                  <a:pt x="25" y="40"/>
                </a:lnTo>
                <a:lnTo>
                  <a:pt x="33" y="47"/>
                </a:lnTo>
                <a:lnTo>
                  <a:pt x="38" y="45"/>
                </a:lnTo>
                <a:lnTo>
                  <a:pt x="43" y="41"/>
                </a:lnTo>
                <a:lnTo>
                  <a:pt x="48" y="39"/>
                </a:lnTo>
                <a:lnTo>
                  <a:pt x="55" y="37"/>
                </a:lnTo>
                <a:lnTo>
                  <a:pt x="61" y="36"/>
                </a:lnTo>
                <a:lnTo>
                  <a:pt x="68" y="36"/>
                </a:lnTo>
                <a:lnTo>
                  <a:pt x="74" y="37"/>
                </a:lnTo>
                <a:lnTo>
                  <a:pt x="79" y="40"/>
                </a:lnTo>
                <a:lnTo>
                  <a:pt x="85" y="40"/>
                </a:lnTo>
                <a:lnTo>
                  <a:pt x="91" y="39"/>
                </a:lnTo>
                <a:lnTo>
                  <a:pt x="97" y="38"/>
                </a:lnTo>
                <a:lnTo>
                  <a:pt x="101" y="37"/>
                </a:lnTo>
                <a:lnTo>
                  <a:pt x="106" y="37"/>
                </a:lnTo>
                <a:lnTo>
                  <a:pt x="111" y="36"/>
                </a:lnTo>
                <a:lnTo>
                  <a:pt x="115" y="37"/>
                </a:lnTo>
                <a:lnTo>
                  <a:pt x="120" y="37"/>
                </a:lnTo>
                <a:lnTo>
                  <a:pt x="116" y="26"/>
                </a:lnTo>
                <a:lnTo>
                  <a:pt x="113" y="18"/>
                </a:lnTo>
                <a:lnTo>
                  <a:pt x="109" y="13"/>
                </a:lnTo>
                <a:lnTo>
                  <a:pt x="104" y="8"/>
                </a:lnTo>
                <a:lnTo>
                  <a:pt x="98" y="6"/>
                </a:lnTo>
                <a:lnTo>
                  <a:pt x="91" y="3"/>
                </a:lnTo>
                <a:lnTo>
                  <a:pt x="83" y="2"/>
                </a:lnTo>
                <a:lnTo>
                  <a:pt x="75" y="2"/>
                </a:lnTo>
                <a:lnTo>
                  <a:pt x="67" y="2"/>
                </a:lnTo>
                <a:lnTo>
                  <a:pt x="58" y="3"/>
                </a:lnTo>
                <a:lnTo>
                  <a:pt x="51" y="4"/>
                </a:lnTo>
                <a:lnTo>
                  <a:pt x="43" y="4"/>
                </a:lnTo>
                <a:lnTo>
                  <a:pt x="36" y="6"/>
                </a:lnTo>
                <a:lnTo>
                  <a:pt x="29" y="4"/>
                </a:lnTo>
                <a:lnTo>
                  <a:pt x="23" y="3"/>
                </a:lnTo>
                <a:lnTo>
                  <a:pt x="17" y="0"/>
                </a:lnTo>
                <a:lnTo>
                  <a:pt x="10" y="4"/>
                </a:lnTo>
                <a:lnTo>
                  <a:pt x="5" y="13"/>
                </a:lnTo>
                <a:lnTo>
                  <a:pt x="1" y="21"/>
                </a:lnTo>
                <a:lnTo>
                  <a:pt x="0" y="3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6" name="Freeform 60"/>
          <p:cNvSpPr/>
          <p:nvPr/>
        </p:nvSpPr>
        <p:spPr>
          <a:xfrm>
            <a:off x="2427120" y="6405480"/>
            <a:ext cx="44640" cy="50760"/>
          </a:xfrm>
          <a:custGeom>
            <a:avLst/>
            <a:gdLst/>
            <a:ahLst/>
            <a:rect l="l" t="t" r="r" b="b"/>
            <a:pathLst>
              <a:path w="57" h="62">
                <a:moveTo>
                  <a:pt x="0" y="10"/>
                </a:moveTo>
                <a:lnTo>
                  <a:pt x="4" y="18"/>
                </a:lnTo>
                <a:lnTo>
                  <a:pt x="7" y="28"/>
                </a:lnTo>
                <a:lnTo>
                  <a:pt x="10" y="36"/>
                </a:lnTo>
                <a:lnTo>
                  <a:pt x="11" y="43"/>
                </a:lnTo>
                <a:lnTo>
                  <a:pt x="18" y="45"/>
                </a:lnTo>
                <a:lnTo>
                  <a:pt x="25" y="47"/>
                </a:lnTo>
                <a:lnTo>
                  <a:pt x="31" y="49"/>
                </a:lnTo>
                <a:lnTo>
                  <a:pt x="37" y="52"/>
                </a:lnTo>
                <a:lnTo>
                  <a:pt x="42" y="54"/>
                </a:lnTo>
                <a:lnTo>
                  <a:pt x="48" y="56"/>
                </a:lnTo>
                <a:lnTo>
                  <a:pt x="51" y="59"/>
                </a:lnTo>
                <a:lnTo>
                  <a:pt x="55" y="62"/>
                </a:lnTo>
                <a:lnTo>
                  <a:pt x="57" y="48"/>
                </a:lnTo>
                <a:lnTo>
                  <a:pt x="56" y="33"/>
                </a:lnTo>
                <a:lnTo>
                  <a:pt x="51" y="17"/>
                </a:lnTo>
                <a:lnTo>
                  <a:pt x="42" y="0"/>
                </a:lnTo>
                <a:lnTo>
                  <a:pt x="38" y="2"/>
                </a:lnTo>
                <a:lnTo>
                  <a:pt x="35" y="4"/>
                </a:lnTo>
                <a:lnTo>
                  <a:pt x="30" y="7"/>
                </a:lnTo>
                <a:lnTo>
                  <a:pt x="25" y="8"/>
                </a:lnTo>
                <a:lnTo>
                  <a:pt x="20" y="10"/>
                </a:lnTo>
                <a:lnTo>
                  <a:pt x="13" y="11"/>
                </a:lnTo>
                <a:lnTo>
                  <a:pt x="7" y="11"/>
                </a:lnTo>
                <a:lnTo>
                  <a:pt x="0" y="1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7" name="Freeform 61"/>
          <p:cNvSpPr/>
          <p:nvPr/>
        </p:nvSpPr>
        <p:spPr>
          <a:xfrm>
            <a:off x="1793880" y="6070680"/>
            <a:ext cx="22320" cy="31680"/>
          </a:xfrm>
          <a:custGeom>
            <a:avLst/>
            <a:gdLst/>
            <a:ahLst/>
            <a:rect l="l" t="t" r="r" b="b"/>
            <a:pathLst>
              <a:path w="29" h="40">
                <a:moveTo>
                  <a:pt x="15" y="0"/>
                </a:moveTo>
                <a:lnTo>
                  <a:pt x="7" y="7"/>
                </a:lnTo>
                <a:lnTo>
                  <a:pt x="1" y="20"/>
                </a:lnTo>
                <a:lnTo>
                  <a:pt x="0" y="32"/>
                </a:lnTo>
                <a:lnTo>
                  <a:pt x="7" y="40"/>
                </a:lnTo>
                <a:lnTo>
                  <a:pt x="13" y="40"/>
                </a:lnTo>
                <a:lnTo>
                  <a:pt x="20" y="37"/>
                </a:lnTo>
                <a:lnTo>
                  <a:pt x="24" y="32"/>
                </a:lnTo>
                <a:lnTo>
                  <a:pt x="28" y="27"/>
                </a:lnTo>
                <a:lnTo>
                  <a:pt x="29" y="20"/>
                </a:lnTo>
                <a:lnTo>
                  <a:pt x="28" y="13"/>
                </a:lnTo>
                <a:lnTo>
                  <a:pt x="23" y="6"/>
                </a:lnTo>
                <a:lnTo>
                  <a:pt x="15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8" name="Freeform 62"/>
          <p:cNvSpPr/>
          <p:nvPr/>
        </p:nvSpPr>
        <p:spPr>
          <a:xfrm>
            <a:off x="2344680" y="6450120"/>
            <a:ext cx="28800" cy="27000"/>
          </a:xfrm>
          <a:custGeom>
            <a:avLst/>
            <a:gdLst/>
            <a:ahLst/>
            <a:rect l="l" t="t" r="r" b="b"/>
            <a:pathLst>
              <a:path w="37" h="36">
                <a:moveTo>
                  <a:pt x="24" y="1"/>
                </a:moveTo>
                <a:lnTo>
                  <a:pt x="15" y="0"/>
                </a:lnTo>
                <a:lnTo>
                  <a:pt x="8" y="5"/>
                </a:lnTo>
                <a:lnTo>
                  <a:pt x="2" y="12"/>
                </a:lnTo>
                <a:lnTo>
                  <a:pt x="0" y="18"/>
                </a:lnTo>
                <a:lnTo>
                  <a:pt x="2" y="25"/>
                </a:lnTo>
                <a:lnTo>
                  <a:pt x="9" y="31"/>
                </a:lnTo>
                <a:lnTo>
                  <a:pt x="17" y="36"/>
                </a:lnTo>
                <a:lnTo>
                  <a:pt x="26" y="35"/>
                </a:lnTo>
                <a:lnTo>
                  <a:pt x="33" y="28"/>
                </a:lnTo>
                <a:lnTo>
                  <a:pt x="37" y="20"/>
                </a:lnTo>
                <a:lnTo>
                  <a:pt x="34" y="9"/>
                </a:lnTo>
                <a:lnTo>
                  <a:pt x="24" y="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9" name="Freeform 63"/>
          <p:cNvSpPr/>
          <p:nvPr/>
        </p:nvSpPr>
        <p:spPr>
          <a:xfrm>
            <a:off x="2440080" y="6518160"/>
            <a:ext cx="27000" cy="19080"/>
          </a:xfrm>
          <a:custGeom>
            <a:avLst/>
            <a:gdLst/>
            <a:ahLst/>
            <a:rect l="l" t="t" r="r" b="b"/>
            <a:pathLst>
              <a:path w="34" h="26">
                <a:moveTo>
                  <a:pt x="34" y="0"/>
                </a:moveTo>
                <a:lnTo>
                  <a:pt x="32" y="3"/>
                </a:lnTo>
                <a:lnTo>
                  <a:pt x="28" y="5"/>
                </a:lnTo>
                <a:lnTo>
                  <a:pt x="24" y="7"/>
                </a:lnTo>
                <a:lnTo>
                  <a:pt x="19" y="10"/>
                </a:lnTo>
                <a:lnTo>
                  <a:pt x="13" y="12"/>
                </a:lnTo>
                <a:lnTo>
                  <a:pt x="9" y="14"/>
                </a:lnTo>
                <a:lnTo>
                  <a:pt x="4" y="15"/>
                </a:lnTo>
                <a:lnTo>
                  <a:pt x="0" y="17"/>
                </a:lnTo>
                <a:lnTo>
                  <a:pt x="4" y="19"/>
                </a:lnTo>
                <a:lnTo>
                  <a:pt x="11" y="22"/>
                </a:lnTo>
                <a:lnTo>
                  <a:pt x="19" y="25"/>
                </a:lnTo>
                <a:lnTo>
                  <a:pt x="25" y="26"/>
                </a:lnTo>
                <a:lnTo>
                  <a:pt x="28" y="21"/>
                </a:lnTo>
                <a:lnTo>
                  <a:pt x="31" y="14"/>
                </a:lnTo>
                <a:lnTo>
                  <a:pt x="33" y="6"/>
                </a:lnTo>
                <a:lnTo>
                  <a:pt x="34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0" name="Oval 64"/>
          <p:cNvSpPr/>
          <p:nvPr/>
        </p:nvSpPr>
        <p:spPr>
          <a:xfrm>
            <a:off x="3657600" y="228600"/>
            <a:ext cx="533520" cy="380880"/>
          </a:xfrm>
          <a:prstGeom prst="ellipse">
            <a:avLst/>
          </a:prstGeom>
          <a:solidFill>
            <a:srgbClr val="eaeaea"/>
          </a:solidFill>
          <a:ln cap="sq" w="1260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1" name="Oval 65"/>
          <p:cNvSpPr/>
          <p:nvPr/>
        </p:nvSpPr>
        <p:spPr>
          <a:xfrm>
            <a:off x="3809880" y="228600"/>
            <a:ext cx="228600" cy="380880"/>
          </a:xfrm>
          <a:prstGeom prst="ellipse">
            <a:avLst/>
          </a:prstGeom>
          <a:solidFill>
            <a:srgbClr val="eaeaea"/>
          </a:solidFill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Freeform 3"/>
          <p:cNvSpPr/>
          <p:nvPr/>
        </p:nvSpPr>
        <p:spPr>
          <a:xfrm>
            <a:off x="1614600" y="2684520"/>
            <a:ext cx="1063440" cy="4154400"/>
          </a:xfrm>
          <a:custGeom>
            <a:avLst/>
            <a:gdLst/>
            <a:ahLst/>
            <a:rect l="l" t="t" r="r" b="b"/>
            <a:pathLst>
              <a:path w="1341" h="5235">
                <a:moveTo>
                  <a:pt x="844" y="4745"/>
                </a:moveTo>
                <a:lnTo>
                  <a:pt x="831" y="4745"/>
                </a:lnTo>
                <a:lnTo>
                  <a:pt x="818" y="4748"/>
                </a:lnTo>
                <a:lnTo>
                  <a:pt x="808" y="4750"/>
                </a:lnTo>
                <a:lnTo>
                  <a:pt x="799" y="4755"/>
                </a:lnTo>
                <a:lnTo>
                  <a:pt x="792" y="4759"/>
                </a:lnTo>
                <a:lnTo>
                  <a:pt x="788" y="4765"/>
                </a:lnTo>
                <a:lnTo>
                  <a:pt x="786" y="4773"/>
                </a:lnTo>
                <a:lnTo>
                  <a:pt x="788" y="4781"/>
                </a:lnTo>
                <a:lnTo>
                  <a:pt x="791" y="4786"/>
                </a:lnTo>
                <a:lnTo>
                  <a:pt x="793" y="4789"/>
                </a:lnTo>
                <a:lnTo>
                  <a:pt x="797" y="4793"/>
                </a:lnTo>
                <a:lnTo>
                  <a:pt x="801" y="4795"/>
                </a:lnTo>
                <a:lnTo>
                  <a:pt x="807" y="4796"/>
                </a:lnTo>
                <a:lnTo>
                  <a:pt x="811" y="4796"/>
                </a:lnTo>
                <a:lnTo>
                  <a:pt x="818" y="4796"/>
                </a:lnTo>
                <a:lnTo>
                  <a:pt x="824" y="4795"/>
                </a:lnTo>
                <a:lnTo>
                  <a:pt x="827" y="4783"/>
                </a:lnTo>
                <a:lnTo>
                  <a:pt x="833" y="4770"/>
                </a:lnTo>
                <a:lnTo>
                  <a:pt x="839" y="4756"/>
                </a:lnTo>
                <a:lnTo>
                  <a:pt x="844" y="4745"/>
                </a:lnTo>
                <a:lnTo>
                  <a:pt x="854" y="4720"/>
                </a:lnTo>
                <a:lnTo>
                  <a:pt x="860" y="4708"/>
                </a:lnTo>
                <a:lnTo>
                  <a:pt x="865" y="4699"/>
                </a:lnTo>
                <a:lnTo>
                  <a:pt x="871" y="4690"/>
                </a:lnTo>
                <a:lnTo>
                  <a:pt x="877" y="4683"/>
                </a:lnTo>
                <a:lnTo>
                  <a:pt x="880" y="4676"/>
                </a:lnTo>
                <a:lnTo>
                  <a:pt x="882" y="4669"/>
                </a:lnTo>
                <a:lnTo>
                  <a:pt x="880" y="4664"/>
                </a:lnTo>
                <a:lnTo>
                  <a:pt x="875" y="4658"/>
                </a:lnTo>
                <a:lnTo>
                  <a:pt x="864" y="4643"/>
                </a:lnTo>
                <a:lnTo>
                  <a:pt x="862" y="4626"/>
                </a:lnTo>
                <a:lnTo>
                  <a:pt x="867" y="4606"/>
                </a:lnTo>
                <a:lnTo>
                  <a:pt x="875" y="4590"/>
                </a:lnTo>
                <a:lnTo>
                  <a:pt x="877" y="4581"/>
                </a:lnTo>
                <a:lnTo>
                  <a:pt x="875" y="4570"/>
                </a:lnTo>
                <a:lnTo>
                  <a:pt x="870" y="4558"/>
                </a:lnTo>
                <a:lnTo>
                  <a:pt x="865" y="4544"/>
                </a:lnTo>
                <a:lnTo>
                  <a:pt x="861" y="4529"/>
                </a:lnTo>
                <a:lnTo>
                  <a:pt x="857" y="4514"/>
                </a:lnTo>
                <a:lnTo>
                  <a:pt x="857" y="4499"/>
                </a:lnTo>
                <a:lnTo>
                  <a:pt x="862" y="4485"/>
                </a:lnTo>
                <a:lnTo>
                  <a:pt x="872" y="4439"/>
                </a:lnTo>
                <a:lnTo>
                  <a:pt x="875" y="4382"/>
                </a:lnTo>
                <a:lnTo>
                  <a:pt x="869" y="4323"/>
                </a:lnTo>
                <a:lnTo>
                  <a:pt x="858" y="4265"/>
                </a:lnTo>
                <a:lnTo>
                  <a:pt x="850" y="4196"/>
                </a:lnTo>
                <a:lnTo>
                  <a:pt x="849" y="4109"/>
                </a:lnTo>
                <a:lnTo>
                  <a:pt x="850" y="4023"/>
                </a:lnTo>
                <a:lnTo>
                  <a:pt x="854" y="3954"/>
                </a:lnTo>
                <a:lnTo>
                  <a:pt x="847" y="3926"/>
                </a:lnTo>
                <a:lnTo>
                  <a:pt x="839" y="3893"/>
                </a:lnTo>
                <a:lnTo>
                  <a:pt x="829" y="3855"/>
                </a:lnTo>
                <a:lnTo>
                  <a:pt x="820" y="3814"/>
                </a:lnTo>
                <a:lnTo>
                  <a:pt x="812" y="3773"/>
                </a:lnTo>
                <a:lnTo>
                  <a:pt x="807" y="3734"/>
                </a:lnTo>
                <a:lnTo>
                  <a:pt x="804" y="3697"/>
                </a:lnTo>
                <a:lnTo>
                  <a:pt x="807" y="3666"/>
                </a:lnTo>
                <a:lnTo>
                  <a:pt x="812" y="3602"/>
                </a:lnTo>
                <a:lnTo>
                  <a:pt x="816" y="3535"/>
                </a:lnTo>
                <a:lnTo>
                  <a:pt x="817" y="3473"/>
                </a:lnTo>
                <a:lnTo>
                  <a:pt x="818" y="3433"/>
                </a:lnTo>
                <a:lnTo>
                  <a:pt x="811" y="3431"/>
                </a:lnTo>
                <a:lnTo>
                  <a:pt x="804" y="3426"/>
                </a:lnTo>
                <a:lnTo>
                  <a:pt x="799" y="3422"/>
                </a:lnTo>
                <a:lnTo>
                  <a:pt x="793" y="3416"/>
                </a:lnTo>
                <a:lnTo>
                  <a:pt x="788" y="3410"/>
                </a:lnTo>
                <a:lnTo>
                  <a:pt x="785" y="3405"/>
                </a:lnTo>
                <a:lnTo>
                  <a:pt x="784" y="3402"/>
                </a:lnTo>
                <a:lnTo>
                  <a:pt x="782" y="3401"/>
                </a:lnTo>
                <a:lnTo>
                  <a:pt x="787" y="3365"/>
                </a:lnTo>
                <a:lnTo>
                  <a:pt x="787" y="3320"/>
                </a:lnTo>
                <a:lnTo>
                  <a:pt x="780" y="3271"/>
                </a:lnTo>
                <a:lnTo>
                  <a:pt x="766" y="3221"/>
                </a:lnTo>
                <a:lnTo>
                  <a:pt x="761" y="3203"/>
                </a:lnTo>
                <a:lnTo>
                  <a:pt x="754" y="3180"/>
                </a:lnTo>
                <a:lnTo>
                  <a:pt x="748" y="3154"/>
                </a:lnTo>
                <a:lnTo>
                  <a:pt x="742" y="3127"/>
                </a:lnTo>
                <a:lnTo>
                  <a:pt x="734" y="3070"/>
                </a:lnTo>
                <a:lnTo>
                  <a:pt x="731" y="3010"/>
                </a:lnTo>
                <a:lnTo>
                  <a:pt x="733" y="2953"/>
                </a:lnTo>
                <a:lnTo>
                  <a:pt x="742" y="2901"/>
                </a:lnTo>
                <a:lnTo>
                  <a:pt x="729" y="2917"/>
                </a:lnTo>
                <a:lnTo>
                  <a:pt x="720" y="2941"/>
                </a:lnTo>
                <a:lnTo>
                  <a:pt x="713" y="2972"/>
                </a:lnTo>
                <a:lnTo>
                  <a:pt x="710" y="3007"/>
                </a:lnTo>
                <a:lnTo>
                  <a:pt x="709" y="3045"/>
                </a:lnTo>
                <a:lnTo>
                  <a:pt x="710" y="3082"/>
                </a:lnTo>
                <a:lnTo>
                  <a:pt x="713" y="3116"/>
                </a:lnTo>
                <a:lnTo>
                  <a:pt x="718" y="3146"/>
                </a:lnTo>
                <a:lnTo>
                  <a:pt x="705" y="3158"/>
                </a:lnTo>
                <a:lnTo>
                  <a:pt x="691" y="3179"/>
                </a:lnTo>
                <a:lnTo>
                  <a:pt x="676" y="3205"/>
                </a:lnTo>
                <a:lnTo>
                  <a:pt x="662" y="3235"/>
                </a:lnTo>
                <a:lnTo>
                  <a:pt x="647" y="3266"/>
                </a:lnTo>
                <a:lnTo>
                  <a:pt x="632" y="3296"/>
                </a:lnTo>
                <a:lnTo>
                  <a:pt x="619" y="3323"/>
                </a:lnTo>
                <a:lnTo>
                  <a:pt x="607" y="3341"/>
                </a:lnTo>
                <a:lnTo>
                  <a:pt x="596" y="3341"/>
                </a:lnTo>
                <a:lnTo>
                  <a:pt x="584" y="3339"/>
                </a:lnTo>
                <a:lnTo>
                  <a:pt x="574" y="3336"/>
                </a:lnTo>
                <a:lnTo>
                  <a:pt x="564" y="3333"/>
                </a:lnTo>
                <a:lnTo>
                  <a:pt x="554" y="3329"/>
                </a:lnTo>
                <a:lnTo>
                  <a:pt x="544" y="3325"/>
                </a:lnTo>
                <a:lnTo>
                  <a:pt x="534" y="3319"/>
                </a:lnTo>
                <a:lnTo>
                  <a:pt x="523" y="3313"/>
                </a:lnTo>
                <a:lnTo>
                  <a:pt x="513" y="3329"/>
                </a:lnTo>
                <a:lnTo>
                  <a:pt x="499" y="3349"/>
                </a:lnTo>
                <a:lnTo>
                  <a:pt x="483" y="3370"/>
                </a:lnTo>
                <a:lnTo>
                  <a:pt x="466" y="3392"/>
                </a:lnTo>
                <a:lnTo>
                  <a:pt x="448" y="3415"/>
                </a:lnTo>
                <a:lnTo>
                  <a:pt x="431" y="3435"/>
                </a:lnTo>
                <a:lnTo>
                  <a:pt x="415" y="3456"/>
                </a:lnTo>
                <a:lnTo>
                  <a:pt x="400" y="3473"/>
                </a:lnTo>
                <a:lnTo>
                  <a:pt x="385" y="3490"/>
                </a:lnTo>
                <a:lnTo>
                  <a:pt x="369" y="3507"/>
                </a:lnTo>
                <a:lnTo>
                  <a:pt x="352" y="3524"/>
                </a:lnTo>
                <a:lnTo>
                  <a:pt x="337" y="3541"/>
                </a:lnTo>
                <a:lnTo>
                  <a:pt x="324" y="3560"/>
                </a:lnTo>
                <a:lnTo>
                  <a:pt x="317" y="3577"/>
                </a:lnTo>
                <a:lnTo>
                  <a:pt x="315" y="3596"/>
                </a:lnTo>
                <a:lnTo>
                  <a:pt x="319" y="3613"/>
                </a:lnTo>
                <a:lnTo>
                  <a:pt x="330" y="3637"/>
                </a:lnTo>
                <a:lnTo>
                  <a:pt x="341" y="3672"/>
                </a:lnTo>
                <a:lnTo>
                  <a:pt x="353" y="3714"/>
                </a:lnTo>
                <a:lnTo>
                  <a:pt x="363" y="3764"/>
                </a:lnTo>
                <a:lnTo>
                  <a:pt x="372" y="3817"/>
                </a:lnTo>
                <a:lnTo>
                  <a:pt x="377" y="3871"/>
                </a:lnTo>
                <a:lnTo>
                  <a:pt x="377" y="3925"/>
                </a:lnTo>
                <a:lnTo>
                  <a:pt x="371" y="3977"/>
                </a:lnTo>
                <a:lnTo>
                  <a:pt x="379" y="3979"/>
                </a:lnTo>
                <a:lnTo>
                  <a:pt x="388" y="3984"/>
                </a:lnTo>
                <a:lnTo>
                  <a:pt x="397" y="3990"/>
                </a:lnTo>
                <a:lnTo>
                  <a:pt x="403" y="3996"/>
                </a:lnTo>
                <a:lnTo>
                  <a:pt x="410" y="4005"/>
                </a:lnTo>
                <a:lnTo>
                  <a:pt x="415" y="4014"/>
                </a:lnTo>
                <a:lnTo>
                  <a:pt x="416" y="4023"/>
                </a:lnTo>
                <a:lnTo>
                  <a:pt x="415" y="4033"/>
                </a:lnTo>
                <a:lnTo>
                  <a:pt x="428" y="4043"/>
                </a:lnTo>
                <a:lnTo>
                  <a:pt x="436" y="4055"/>
                </a:lnTo>
                <a:lnTo>
                  <a:pt x="440" y="4071"/>
                </a:lnTo>
                <a:lnTo>
                  <a:pt x="444" y="4090"/>
                </a:lnTo>
                <a:lnTo>
                  <a:pt x="461" y="4096"/>
                </a:lnTo>
                <a:lnTo>
                  <a:pt x="481" y="4104"/>
                </a:lnTo>
                <a:lnTo>
                  <a:pt x="501" y="4116"/>
                </a:lnTo>
                <a:lnTo>
                  <a:pt x="523" y="4131"/>
                </a:lnTo>
                <a:lnTo>
                  <a:pt x="545" y="4153"/>
                </a:lnTo>
                <a:lnTo>
                  <a:pt x="566" y="4179"/>
                </a:lnTo>
                <a:lnTo>
                  <a:pt x="585" y="4211"/>
                </a:lnTo>
                <a:lnTo>
                  <a:pt x="604" y="4250"/>
                </a:lnTo>
                <a:lnTo>
                  <a:pt x="598" y="4267"/>
                </a:lnTo>
                <a:lnTo>
                  <a:pt x="587" y="4287"/>
                </a:lnTo>
                <a:lnTo>
                  <a:pt x="572" y="4309"/>
                </a:lnTo>
                <a:lnTo>
                  <a:pt x="554" y="4331"/>
                </a:lnTo>
                <a:lnTo>
                  <a:pt x="535" y="4352"/>
                </a:lnTo>
                <a:lnTo>
                  <a:pt x="515" y="4372"/>
                </a:lnTo>
                <a:lnTo>
                  <a:pt x="496" y="4387"/>
                </a:lnTo>
                <a:lnTo>
                  <a:pt x="480" y="4397"/>
                </a:lnTo>
                <a:lnTo>
                  <a:pt x="466" y="4405"/>
                </a:lnTo>
                <a:lnTo>
                  <a:pt x="454" y="4414"/>
                </a:lnTo>
                <a:lnTo>
                  <a:pt x="446" y="4422"/>
                </a:lnTo>
                <a:lnTo>
                  <a:pt x="439" y="4432"/>
                </a:lnTo>
                <a:lnTo>
                  <a:pt x="433" y="4443"/>
                </a:lnTo>
                <a:lnTo>
                  <a:pt x="429" y="4455"/>
                </a:lnTo>
                <a:lnTo>
                  <a:pt x="425" y="4470"/>
                </a:lnTo>
                <a:lnTo>
                  <a:pt x="423" y="4485"/>
                </a:lnTo>
                <a:lnTo>
                  <a:pt x="414" y="4525"/>
                </a:lnTo>
                <a:lnTo>
                  <a:pt x="401" y="4560"/>
                </a:lnTo>
                <a:lnTo>
                  <a:pt x="385" y="4588"/>
                </a:lnTo>
                <a:lnTo>
                  <a:pt x="365" y="4611"/>
                </a:lnTo>
                <a:lnTo>
                  <a:pt x="345" y="4629"/>
                </a:lnTo>
                <a:lnTo>
                  <a:pt x="323" y="4644"/>
                </a:lnTo>
                <a:lnTo>
                  <a:pt x="301" y="4655"/>
                </a:lnTo>
                <a:lnTo>
                  <a:pt x="279" y="4666"/>
                </a:lnTo>
                <a:lnTo>
                  <a:pt x="257" y="4674"/>
                </a:lnTo>
                <a:lnTo>
                  <a:pt x="233" y="4681"/>
                </a:lnTo>
                <a:lnTo>
                  <a:pt x="208" y="4684"/>
                </a:lnTo>
                <a:lnTo>
                  <a:pt x="185" y="4685"/>
                </a:lnTo>
                <a:lnTo>
                  <a:pt x="162" y="4682"/>
                </a:lnTo>
                <a:lnTo>
                  <a:pt x="143" y="4673"/>
                </a:lnTo>
                <a:lnTo>
                  <a:pt x="128" y="4659"/>
                </a:lnTo>
                <a:lnTo>
                  <a:pt x="120" y="4637"/>
                </a:lnTo>
                <a:lnTo>
                  <a:pt x="115" y="4600"/>
                </a:lnTo>
                <a:lnTo>
                  <a:pt x="119" y="4563"/>
                </a:lnTo>
                <a:lnTo>
                  <a:pt x="128" y="4526"/>
                </a:lnTo>
                <a:lnTo>
                  <a:pt x="139" y="4492"/>
                </a:lnTo>
                <a:lnTo>
                  <a:pt x="149" y="4458"/>
                </a:lnTo>
                <a:lnTo>
                  <a:pt x="157" y="4429"/>
                </a:lnTo>
                <a:lnTo>
                  <a:pt x="160" y="4403"/>
                </a:lnTo>
                <a:lnTo>
                  <a:pt x="156" y="4381"/>
                </a:lnTo>
                <a:lnTo>
                  <a:pt x="136" y="4384"/>
                </a:lnTo>
                <a:lnTo>
                  <a:pt x="118" y="4382"/>
                </a:lnTo>
                <a:lnTo>
                  <a:pt x="104" y="4378"/>
                </a:lnTo>
                <a:lnTo>
                  <a:pt x="92" y="4370"/>
                </a:lnTo>
                <a:lnTo>
                  <a:pt x="84" y="4361"/>
                </a:lnTo>
                <a:lnTo>
                  <a:pt x="80" y="4349"/>
                </a:lnTo>
                <a:lnTo>
                  <a:pt x="81" y="4339"/>
                </a:lnTo>
                <a:lnTo>
                  <a:pt x="86" y="4327"/>
                </a:lnTo>
                <a:lnTo>
                  <a:pt x="94" y="4317"/>
                </a:lnTo>
                <a:lnTo>
                  <a:pt x="104" y="4306"/>
                </a:lnTo>
                <a:lnTo>
                  <a:pt x="115" y="4297"/>
                </a:lnTo>
                <a:lnTo>
                  <a:pt x="127" y="4289"/>
                </a:lnTo>
                <a:lnTo>
                  <a:pt x="140" y="4281"/>
                </a:lnTo>
                <a:lnTo>
                  <a:pt x="152" y="4274"/>
                </a:lnTo>
                <a:lnTo>
                  <a:pt x="164" y="4268"/>
                </a:lnTo>
                <a:lnTo>
                  <a:pt x="175" y="4265"/>
                </a:lnTo>
                <a:lnTo>
                  <a:pt x="173" y="4286"/>
                </a:lnTo>
                <a:lnTo>
                  <a:pt x="158" y="4291"/>
                </a:lnTo>
                <a:lnTo>
                  <a:pt x="145" y="4297"/>
                </a:lnTo>
                <a:lnTo>
                  <a:pt x="134" y="4305"/>
                </a:lnTo>
                <a:lnTo>
                  <a:pt x="124" y="4313"/>
                </a:lnTo>
                <a:lnTo>
                  <a:pt x="115" y="4321"/>
                </a:lnTo>
                <a:lnTo>
                  <a:pt x="110" y="4331"/>
                </a:lnTo>
                <a:lnTo>
                  <a:pt x="106" y="4340"/>
                </a:lnTo>
                <a:lnTo>
                  <a:pt x="105" y="4348"/>
                </a:lnTo>
                <a:lnTo>
                  <a:pt x="107" y="4352"/>
                </a:lnTo>
                <a:lnTo>
                  <a:pt x="111" y="4356"/>
                </a:lnTo>
                <a:lnTo>
                  <a:pt x="117" y="4357"/>
                </a:lnTo>
                <a:lnTo>
                  <a:pt x="124" y="4358"/>
                </a:lnTo>
                <a:lnTo>
                  <a:pt x="132" y="4358"/>
                </a:lnTo>
                <a:lnTo>
                  <a:pt x="141" y="4356"/>
                </a:lnTo>
                <a:lnTo>
                  <a:pt x="150" y="4354"/>
                </a:lnTo>
                <a:lnTo>
                  <a:pt x="160" y="4349"/>
                </a:lnTo>
                <a:lnTo>
                  <a:pt x="158" y="4335"/>
                </a:lnTo>
                <a:lnTo>
                  <a:pt x="160" y="4318"/>
                </a:lnTo>
                <a:lnTo>
                  <a:pt x="165" y="4299"/>
                </a:lnTo>
                <a:lnTo>
                  <a:pt x="173" y="4286"/>
                </a:lnTo>
                <a:lnTo>
                  <a:pt x="175" y="4265"/>
                </a:lnTo>
                <a:lnTo>
                  <a:pt x="177" y="4236"/>
                </a:lnTo>
                <a:lnTo>
                  <a:pt x="181" y="4214"/>
                </a:lnTo>
                <a:lnTo>
                  <a:pt x="189" y="4195"/>
                </a:lnTo>
                <a:lnTo>
                  <a:pt x="200" y="4177"/>
                </a:lnTo>
                <a:lnTo>
                  <a:pt x="194" y="4167"/>
                </a:lnTo>
                <a:lnTo>
                  <a:pt x="188" y="4154"/>
                </a:lnTo>
                <a:lnTo>
                  <a:pt x="182" y="4143"/>
                </a:lnTo>
                <a:lnTo>
                  <a:pt x="179" y="4129"/>
                </a:lnTo>
                <a:lnTo>
                  <a:pt x="177" y="4116"/>
                </a:lnTo>
                <a:lnTo>
                  <a:pt x="178" y="4105"/>
                </a:lnTo>
                <a:lnTo>
                  <a:pt x="181" y="4092"/>
                </a:lnTo>
                <a:lnTo>
                  <a:pt x="188" y="4082"/>
                </a:lnTo>
                <a:lnTo>
                  <a:pt x="171" y="4046"/>
                </a:lnTo>
                <a:lnTo>
                  <a:pt x="153" y="4009"/>
                </a:lnTo>
                <a:lnTo>
                  <a:pt x="135" y="3971"/>
                </a:lnTo>
                <a:lnTo>
                  <a:pt x="118" y="3932"/>
                </a:lnTo>
                <a:lnTo>
                  <a:pt x="101" y="3894"/>
                </a:lnTo>
                <a:lnTo>
                  <a:pt x="83" y="3856"/>
                </a:lnTo>
                <a:lnTo>
                  <a:pt x="67" y="3820"/>
                </a:lnTo>
                <a:lnTo>
                  <a:pt x="51" y="3786"/>
                </a:lnTo>
                <a:lnTo>
                  <a:pt x="37" y="3752"/>
                </a:lnTo>
                <a:lnTo>
                  <a:pt x="24" y="3721"/>
                </a:lnTo>
                <a:lnTo>
                  <a:pt x="14" y="3689"/>
                </a:lnTo>
                <a:lnTo>
                  <a:pt x="6" y="3658"/>
                </a:lnTo>
                <a:lnTo>
                  <a:pt x="1" y="3627"/>
                </a:lnTo>
                <a:lnTo>
                  <a:pt x="0" y="3596"/>
                </a:lnTo>
                <a:lnTo>
                  <a:pt x="4" y="3564"/>
                </a:lnTo>
                <a:lnTo>
                  <a:pt x="12" y="3533"/>
                </a:lnTo>
                <a:lnTo>
                  <a:pt x="23" y="3499"/>
                </a:lnTo>
                <a:lnTo>
                  <a:pt x="36" y="3458"/>
                </a:lnTo>
                <a:lnTo>
                  <a:pt x="50" y="3415"/>
                </a:lnTo>
                <a:lnTo>
                  <a:pt x="64" y="3371"/>
                </a:lnTo>
                <a:lnTo>
                  <a:pt x="77" y="3328"/>
                </a:lnTo>
                <a:lnTo>
                  <a:pt x="90" y="3289"/>
                </a:lnTo>
                <a:lnTo>
                  <a:pt x="102" y="3255"/>
                </a:lnTo>
                <a:lnTo>
                  <a:pt x="112" y="3229"/>
                </a:lnTo>
                <a:lnTo>
                  <a:pt x="102" y="3219"/>
                </a:lnTo>
                <a:lnTo>
                  <a:pt x="90" y="3207"/>
                </a:lnTo>
                <a:lnTo>
                  <a:pt x="80" y="3196"/>
                </a:lnTo>
                <a:lnTo>
                  <a:pt x="71" y="3184"/>
                </a:lnTo>
                <a:lnTo>
                  <a:pt x="62" y="3174"/>
                </a:lnTo>
                <a:lnTo>
                  <a:pt x="57" y="3166"/>
                </a:lnTo>
                <a:lnTo>
                  <a:pt x="52" y="3160"/>
                </a:lnTo>
                <a:lnTo>
                  <a:pt x="51" y="3158"/>
                </a:lnTo>
                <a:lnTo>
                  <a:pt x="62" y="3128"/>
                </a:lnTo>
                <a:lnTo>
                  <a:pt x="76" y="3098"/>
                </a:lnTo>
                <a:lnTo>
                  <a:pt x="91" y="3068"/>
                </a:lnTo>
                <a:lnTo>
                  <a:pt x="107" y="3037"/>
                </a:lnTo>
                <a:lnTo>
                  <a:pt x="126" y="3007"/>
                </a:lnTo>
                <a:lnTo>
                  <a:pt x="147" y="2977"/>
                </a:lnTo>
                <a:lnTo>
                  <a:pt x="168" y="2947"/>
                </a:lnTo>
                <a:lnTo>
                  <a:pt x="192" y="2917"/>
                </a:lnTo>
                <a:lnTo>
                  <a:pt x="215" y="2886"/>
                </a:lnTo>
                <a:lnTo>
                  <a:pt x="236" y="2855"/>
                </a:lnTo>
                <a:lnTo>
                  <a:pt x="257" y="2821"/>
                </a:lnTo>
                <a:lnTo>
                  <a:pt x="274" y="2788"/>
                </a:lnTo>
                <a:lnTo>
                  <a:pt x="289" y="2756"/>
                </a:lnTo>
                <a:lnTo>
                  <a:pt x="300" y="2723"/>
                </a:lnTo>
                <a:lnTo>
                  <a:pt x="308" y="2692"/>
                </a:lnTo>
                <a:lnTo>
                  <a:pt x="311" y="2662"/>
                </a:lnTo>
                <a:lnTo>
                  <a:pt x="316" y="2630"/>
                </a:lnTo>
                <a:lnTo>
                  <a:pt x="326" y="2592"/>
                </a:lnTo>
                <a:lnTo>
                  <a:pt x="340" y="2552"/>
                </a:lnTo>
                <a:lnTo>
                  <a:pt x="356" y="2510"/>
                </a:lnTo>
                <a:lnTo>
                  <a:pt x="375" y="2471"/>
                </a:lnTo>
                <a:lnTo>
                  <a:pt x="394" y="2438"/>
                </a:lnTo>
                <a:lnTo>
                  <a:pt x="414" y="2410"/>
                </a:lnTo>
                <a:lnTo>
                  <a:pt x="431" y="2394"/>
                </a:lnTo>
                <a:lnTo>
                  <a:pt x="436" y="2371"/>
                </a:lnTo>
                <a:lnTo>
                  <a:pt x="425" y="2367"/>
                </a:lnTo>
                <a:lnTo>
                  <a:pt x="417" y="2362"/>
                </a:lnTo>
                <a:lnTo>
                  <a:pt x="410" y="2354"/>
                </a:lnTo>
                <a:lnTo>
                  <a:pt x="405" y="2343"/>
                </a:lnTo>
                <a:lnTo>
                  <a:pt x="401" y="2329"/>
                </a:lnTo>
                <a:lnTo>
                  <a:pt x="400" y="2312"/>
                </a:lnTo>
                <a:lnTo>
                  <a:pt x="400" y="2293"/>
                </a:lnTo>
                <a:lnTo>
                  <a:pt x="403" y="2271"/>
                </a:lnTo>
                <a:lnTo>
                  <a:pt x="409" y="2244"/>
                </a:lnTo>
                <a:lnTo>
                  <a:pt x="418" y="2214"/>
                </a:lnTo>
                <a:lnTo>
                  <a:pt x="428" y="2181"/>
                </a:lnTo>
                <a:lnTo>
                  <a:pt x="438" y="2146"/>
                </a:lnTo>
                <a:lnTo>
                  <a:pt x="447" y="2112"/>
                </a:lnTo>
                <a:lnTo>
                  <a:pt x="453" y="2076"/>
                </a:lnTo>
                <a:lnTo>
                  <a:pt x="455" y="2043"/>
                </a:lnTo>
                <a:lnTo>
                  <a:pt x="452" y="2010"/>
                </a:lnTo>
                <a:lnTo>
                  <a:pt x="444" y="1980"/>
                </a:lnTo>
                <a:lnTo>
                  <a:pt x="435" y="1952"/>
                </a:lnTo>
                <a:lnTo>
                  <a:pt x="422" y="1923"/>
                </a:lnTo>
                <a:lnTo>
                  <a:pt x="409" y="1894"/>
                </a:lnTo>
                <a:lnTo>
                  <a:pt x="395" y="1869"/>
                </a:lnTo>
                <a:lnTo>
                  <a:pt x="382" y="1844"/>
                </a:lnTo>
                <a:lnTo>
                  <a:pt x="370" y="1823"/>
                </a:lnTo>
                <a:lnTo>
                  <a:pt x="360" y="1803"/>
                </a:lnTo>
                <a:lnTo>
                  <a:pt x="346" y="1765"/>
                </a:lnTo>
                <a:lnTo>
                  <a:pt x="339" y="1725"/>
                </a:lnTo>
                <a:lnTo>
                  <a:pt x="341" y="1681"/>
                </a:lnTo>
                <a:lnTo>
                  <a:pt x="352" y="1635"/>
                </a:lnTo>
                <a:lnTo>
                  <a:pt x="372" y="1594"/>
                </a:lnTo>
                <a:lnTo>
                  <a:pt x="393" y="1552"/>
                </a:lnTo>
                <a:lnTo>
                  <a:pt x="413" y="1510"/>
                </a:lnTo>
                <a:lnTo>
                  <a:pt x="432" y="1469"/>
                </a:lnTo>
                <a:lnTo>
                  <a:pt x="447" y="1431"/>
                </a:lnTo>
                <a:lnTo>
                  <a:pt x="459" y="1397"/>
                </a:lnTo>
                <a:lnTo>
                  <a:pt x="465" y="1369"/>
                </a:lnTo>
                <a:lnTo>
                  <a:pt x="463" y="1347"/>
                </a:lnTo>
                <a:lnTo>
                  <a:pt x="468" y="1342"/>
                </a:lnTo>
                <a:lnTo>
                  <a:pt x="473" y="1338"/>
                </a:lnTo>
                <a:lnTo>
                  <a:pt x="478" y="1334"/>
                </a:lnTo>
                <a:lnTo>
                  <a:pt x="483" y="1331"/>
                </a:lnTo>
                <a:lnTo>
                  <a:pt x="489" y="1327"/>
                </a:lnTo>
                <a:lnTo>
                  <a:pt x="496" y="1324"/>
                </a:lnTo>
                <a:lnTo>
                  <a:pt x="504" y="1321"/>
                </a:lnTo>
                <a:lnTo>
                  <a:pt x="512" y="1318"/>
                </a:lnTo>
                <a:lnTo>
                  <a:pt x="498" y="1309"/>
                </a:lnTo>
                <a:lnTo>
                  <a:pt x="485" y="1294"/>
                </a:lnTo>
                <a:lnTo>
                  <a:pt x="474" y="1274"/>
                </a:lnTo>
                <a:lnTo>
                  <a:pt x="463" y="1250"/>
                </a:lnTo>
                <a:lnTo>
                  <a:pt x="456" y="1223"/>
                </a:lnTo>
                <a:lnTo>
                  <a:pt x="452" y="1195"/>
                </a:lnTo>
                <a:lnTo>
                  <a:pt x="452" y="1165"/>
                </a:lnTo>
                <a:lnTo>
                  <a:pt x="456" y="1136"/>
                </a:lnTo>
                <a:lnTo>
                  <a:pt x="448" y="1116"/>
                </a:lnTo>
                <a:lnTo>
                  <a:pt x="445" y="1096"/>
                </a:lnTo>
                <a:lnTo>
                  <a:pt x="447" y="1075"/>
                </a:lnTo>
                <a:lnTo>
                  <a:pt x="453" y="1055"/>
                </a:lnTo>
                <a:lnTo>
                  <a:pt x="462" y="1037"/>
                </a:lnTo>
                <a:lnTo>
                  <a:pt x="471" y="1020"/>
                </a:lnTo>
                <a:lnTo>
                  <a:pt x="482" y="1006"/>
                </a:lnTo>
                <a:lnTo>
                  <a:pt x="491" y="994"/>
                </a:lnTo>
                <a:lnTo>
                  <a:pt x="499" y="982"/>
                </a:lnTo>
                <a:lnTo>
                  <a:pt x="505" y="963"/>
                </a:lnTo>
                <a:lnTo>
                  <a:pt x="511" y="942"/>
                </a:lnTo>
                <a:lnTo>
                  <a:pt x="516" y="920"/>
                </a:lnTo>
                <a:lnTo>
                  <a:pt x="522" y="900"/>
                </a:lnTo>
                <a:lnTo>
                  <a:pt x="530" y="882"/>
                </a:lnTo>
                <a:lnTo>
                  <a:pt x="539" y="871"/>
                </a:lnTo>
                <a:lnTo>
                  <a:pt x="553" y="866"/>
                </a:lnTo>
                <a:lnTo>
                  <a:pt x="567" y="866"/>
                </a:lnTo>
                <a:lnTo>
                  <a:pt x="577" y="865"/>
                </a:lnTo>
                <a:lnTo>
                  <a:pt x="585" y="863"/>
                </a:lnTo>
                <a:lnTo>
                  <a:pt x="594" y="858"/>
                </a:lnTo>
                <a:lnTo>
                  <a:pt x="599" y="854"/>
                </a:lnTo>
                <a:lnTo>
                  <a:pt x="604" y="848"/>
                </a:lnTo>
                <a:lnTo>
                  <a:pt x="610" y="840"/>
                </a:lnTo>
                <a:lnTo>
                  <a:pt x="615" y="831"/>
                </a:lnTo>
                <a:lnTo>
                  <a:pt x="621" y="820"/>
                </a:lnTo>
                <a:lnTo>
                  <a:pt x="627" y="810"/>
                </a:lnTo>
                <a:lnTo>
                  <a:pt x="633" y="801"/>
                </a:lnTo>
                <a:lnTo>
                  <a:pt x="640" y="793"/>
                </a:lnTo>
                <a:lnTo>
                  <a:pt x="647" y="787"/>
                </a:lnTo>
                <a:lnTo>
                  <a:pt x="655" y="782"/>
                </a:lnTo>
                <a:lnTo>
                  <a:pt x="664" y="781"/>
                </a:lnTo>
                <a:lnTo>
                  <a:pt x="675" y="782"/>
                </a:lnTo>
                <a:lnTo>
                  <a:pt x="687" y="787"/>
                </a:lnTo>
                <a:lnTo>
                  <a:pt x="696" y="793"/>
                </a:lnTo>
                <a:lnTo>
                  <a:pt x="704" y="798"/>
                </a:lnTo>
                <a:lnTo>
                  <a:pt x="711" y="804"/>
                </a:lnTo>
                <a:lnTo>
                  <a:pt x="718" y="809"/>
                </a:lnTo>
                <a:lnTo>
                  <a:pt x="725" y="810"/>
                </a:lnTo>
                <a:lnTo>
                  <a:pt x="733" y="809"/>
                </a:lnTo>
                <a:lnTo>
                  <a:pt x="742" y="802"/>
                </a:lnTo>
                <a:lnTo>
                  <a:pt x="753" y="794"/>
                </a:lnTo>
                <a:lnTo>
                  <a:pt x="763" y="789"/>
                </a:lnTo>
                <a:lnTo>
                  <a:pt x="774" y="786"/>
                </a:lnTo>
                <a:lnTo>
                  <a:pt x="784" y="785"/>
                </a:lnTo>
                <a:lnTo>
                  <a:pt x="794" y="785"/>
                </a:lnTo>
                <a:lnTo>
                  <a:pt x="802" y="787"/>
                </a:lnTo>
                <a:lnTo>
                  <a:pt x="809" y="791"/>
                </a:lnTo>
                <a:lnTo>
                  <a:pt x="815" y="798"/>
                </a:lnTo>
                <a:lnTo>
                  <a:pt x="819" y="805"/>
                </a:lnTo>
                <a:lnTo>
                  <a:pt x="823" y="812"/>
                </a:lnTo>
                <a:lnTo>
                  <a:pt x="826" y="818"/>
                </a:lnTo>
                <a:lnTo>
                  <a:pt x="830" y="823"/>
                </a:lnTo>
                <a:lnTo>
                  <a:pt x="833" y="827"/>
                </a:lnTo>
                <a:lnTo>
                  <a:pt x="838" y="829"/>
                </a:lnTo>
                <a:lnTo>
                  <a:pt x="844" y="831"/>
                </a:lnTo>
                <a:lnTo>
                  <a:pt x="850" y="831"/>
                </a:lnTo>
                <a:lnTo>
                  <a:pt x="858" y="831"/>
                </a:lnTo>
                <a:lnTo>
                  <a:pt x="867" y="832"/>
                </a:lnTo>
                <a:lnTo>
                  <a:pt x="875" y="836"/>
                </a:lnTo>
                <a:lnTo>
                  <a:pt x="882" y="842"/>
                </a:lnTo>
                <a:lnTo>
                  <a:pt x="888" y="849"/>
                </a:lnTo>
                <a:lnTo>
                  <a:pt x="894" y="857"/>
                </a:lnTo>
                <a:lnTo>
                  <a:pt x="898" y="865"/>
                </a:lnTo>
                <a:lnTo>
                  <a:pt x="899" y="874"/>
                </a:lnTo>
                <a:lnTo>
                  <a:pt x="901" y="889"/>
                </a:lnTo>
                <a:lnTo>
                  <a:pt x="908" y="901"/>
                </a:lnTo>
                <a:lnTo>
                  <a:pt x="918" y="914"/>
                </a:lnTo>
                <a:lnTo>
                  <a:pt x="930" y="931"/>
                </a:lnTo>
                <a:lnTo>
                  <a:pt x="931" y="911"/>
                </a:lnTo>
                <a:lnTo>
                  <a:pt x="928" y="891"/>
                </a:lnTo>
                <a:lnTo>
                  <a:pt x="921" y="868"/>
                </a:lnTo>
                <a:lnTo>
                  <a:pt x="914" y="843"/>
                </a:lnTo>
                <a:lnTo>
                  <a:pt x="906" y="818"/>
                </a:lnTo>
                <a:lnTo>
                  <a:pt x="900" y="791"/>
                </a:lnTo>
                <a:lnTo>
                  <a:pt x="895" y="765"/>
                </a:lnTo>
                <a:lnTo>
                  <a:pt x="894" y="738"/>
                </a:lnTo>
                <a:lnTo>
                  <a:pt x="895" y="707"/>
                </a:lnTo>
                <a:lnTo>
                  <a:pt x="895" y="672"/>
                </a:lnTo>
                <a:lnTo>
                  <a:pt x="893" y="631"/>
                </a:lnTo>
                <a:lnTo>
                  <a:pt x="888" y="589"/>
                </a:lnTo>
                <a:lnTo>
                  <a:pt x="880" y="546"/>
                </a:lnTo>
                <a:lnTo>
                  <a:pt x="870" y="505"/>
                </a:lnTo>
                <a:lnTo>
                  <a:pt x="856" y="465"/>
                </a:lnTo>
                <a:lnTo>
                  <a:pt x="839" y="432"/>
                </a:lnTo>
                <a:lnTo>
                  <a:pt x="824" y="452"/>
                </a:lnTo>
                <a:lnTo>
                  <a:pt x="808" y="471"/>
                </a:lnTo>
                <a:lnTo>
                  <a:pt x="789" y="487"/>
                </a:lnTo>
                <a:lnTo>
                  <a:pt x="770" y="503"/>
                </a:lnTo>
                <a:lnTo>
                  <a:pt x="749" y="517"/>
                </a:lnTo>
                <a:lnTo>
                  <a:pt x="727" y="529"/>
                </a:lnTo>
                <a:lnTo>
                  <a:pt x="704" y="538"/>
                </a:lnTo>
                <a:lnTo>
                  <a:pt x="680" y="546"/>
                </a:lnTo>
                <a:lnTo>
                  <a:pt x="667" y="554"/>
                </a:lnTo>
                <a:lnTo>
                  <a:pt x="652" y="561"/>
                </a:lnTo>
                <a:lnTo>
                  <a:pt x="636" y="568"/>
                </a:lnTo>
                <a:lnTo>
                  <a:pt x="620" y="574"/>
                </a:lnTo>
                <a:lnTo>
                  <a:pt x="603" y="578"/>
                </a:lnTo>
                <a:lnTo>
                  <a:pt x="587" y="583"/>
                </a:lnTo>
                <a:lnTo>
                  <a:pt x="572" y="589"/>
                </a:lnTo>
                <a:lnTo>
                  <a:pt x="559" y="594"/>
                </a:lnTo>
                <a:lnTo>
                  <a:pt x="547" y="603"/>
                </a:lnTo>
                <a:lnTo>
                  <a:pt x="536" y="615"/>
                </a:lnTo>
                <a:lnTo>
                  <a:pt x="526" y="630"/>
                </a:lnTo>
                <a:lnTo>
                  <a:pt x="514" y="647"/>
                </a:lnTo>
                <a:lnTo>
                  <a:pt x="504" y="667"/>
                </a:lnTo>
                <a:lnTo>
                  <a:pt x="494" y="687"/>
                </a:lnTo>
                <a:lnTo>
                  <a:pt x="485" y="705"/>
                </a:lnTo>
                <a:lnTo>
                  <a:pt x="476" y="722"/>
                </a:lnTo>
                <a:lnTo>
                  <a:pt x="466" y="741"/>
                </a:lnTo>
                <a:lnTo>
                  <a:pt x="454" y="763"/>
                </a:lnTo>
                <a:lnTo>
                  <a:pt x="441" y="786"/>
                </a:lnTo>
                <a:lnTo>
                  <a:pt x="428" y="811"/>
                </a:lnTo>
                <a:lnTo>
                  <a:pt x="416" y="836"/>
                </a:lnTo>
                <a:lnTo>
                  <a:pt x="405" y="861"/>
                </a:lnTo>
                <a:lnTo>
                  <a:pt x="397" y="882"/>
                </a:lnTo>
                <a:lnTo>
                  <a:pt x="392" y="902"/>
                </a:lnTo>
                <a:lnTo>
                  <a:pt x="388" y="924"/>
                </a:lnTo>
                <a:lnTo>
                  <a:pt x="384" y="953"/>
                </a:lnTo>
                <a:lnTo>
                  <a:pt x="378" y="986"/>
                </a:lnTo>
                <a:lnTo>
                  <a:pt x="372" y="1021"/>
                </a:lnTo>
                <a:lnTo>
                  <a:pt x="365" y="1055"/>
                </a:lnTo>
                <a:lnTo>
                  <a:pt x="359" y="1086"/>
                </a:lnTo>
                <a:lnTo>
                  <a:pt x="350" y="1112"/>
                </a:lnTo>
                <a:lnTo>
                  <a:pt x="344" y="1130"/>
                </a:lnTo>
                <a:lnTo>
                  <a:pt x="355" y="1146"/>
                </a:lnTo>
                <a:lnTo>
                  <a:pt x="370" y="1169"/>
                </a:lnTo>
                <a:lnTo>
                  <a:pt x="387" y="1197"/>
                </a:lnTo>
                <a:lnTo>
                  <a:pt x="407" y="1228"/>
                </a:lnTo>
                <a:lnTo>
                  <a:pt x="424" y="1260"/>
                </a:lnTo>
                <a:lnTo>
                  <a:pt x="441" y="1293"/>
                </a:lnTo>
                <a:lnTo>
                  <a:pt x="454" y="1321"/>
                </a:lnTo>
                <a:lnTo>
                  <a:pt x="463" y="1347"/>
                </a:lnTo>
                <a:lnTo>
                  <a:pt x="465" y="1369"/>
                </a:lnTo>
                <a:lnTo>
                  <a:pt x="459" y="1397"/>
                </a:lnTo>
                <a:lnTo>
                  <a:pt x="447" y="1431"/>
                </a:lnTo>
                <a:lnTo>
                  <a:pt x="432" y="1469"/>
                </a:lnTo>
                <a:lnTo>
                  <a:pt x="413" y="1510"/>
                </a:lnTo>
                <a:lnTo>
                  <a:pt x="393" y="1552"/>
                </a:lnTo>
                <a:lnTo>
                  <a:pt x="372" y="1594"/>
                </a:lnTo>
                <a:lnTo>
                  <a:pt x="352" y="1635"/>
                </a:lnTo>
                <a:lnTo>
                  <a:pt x="331" y="1606"/>
                </a:lnTo>
                <a:lnTo>
                  <a:pt x="312" y="1576"/>
                </a:lnTo>
                <a:lnTo>
                  <a:pt x="294" y="1546"/>
                </a:lnTo>
                <a:lnTo>
                  <a:pt x="277" y="1515"/>
                </a:lnTo>
                <a:lnTo>
                  <a:pt x="261" y="1486"/>
                </a:lnTo>
                <a:lnTo>
                  <a:pt x="243" y="1457"/>
                </a:lnTo>
                <a:lnTo>
                  <a:pt x="226" y="1431"/>
                </a:lnTo>
                <a:lnTo>
                  <a:pt x="209" y="1406"/>
                </a:lnTo>
                <a:lnTo>
                  <a:pt x="182" y="1367"/>
                </a:lnTo>
                <a:lnTo>
                  <a:pt x="159" y="1328"/>
                </a:lnTo>
                <a:lnTo>
                  <a:pt x="140" y="1289"/>
                </a:lnTo>
                <a:lnTo>
                  <a:pt x="124" y="1250"/>
                </a:lnTo>
                <a:lnTo>
                  <a:pt x="112" y="1212"/>
                </a:lnTo>
                <a:lnTo>
                  <a:pt x="104" y="1174"/>
                </a:lnTo>
                <a:lnTo>
                  <a:pt x="102" y="1139"/>
                </a:lnTo>
                <a:lnTo>
                  <a:pt x="104" y="1106"/>
                </a:lnTo>
                <a:lnTo>
                  <a:pt x="109" y="1076"/>
                </a:lnTo>
                <a:lnTo>
                  <a:pt x="115" y="1050"/>
                </a:lnTo>
                <a:lnTo>
                  <a:pt x="125" y="1025"/>
                </a:lnTo>
                <a:lnTo>
                  <a:pt x="135" y="1003"/>
                </a:lnTo>
                <a:lnTo>
                  <a:pt x="147" y="982"/>
                </a:lnTo>
                <a:lnTo>
                  <a:pt x="160" y="959"/>
                </a:lnTo>
                <a:lnTo>
                  <a:pt x="175" y="934"/>
                </a:lnTo>
                <a:lnTo>
                  <a:pt x="193" y="909"/>
                </a:lnTo>
                <a:lnTo>
                  <a:pt x="213" y="880"/>
                </a:lnTo>
                <a:lnTo>
                  <a:pt x="238" y="847"/>
                </a:lnTo>
                <a:lnTo>
                  <a:pt x="263" y="811"/>
                </a:lnTo>
                <a:lnTo>
                  <a:pt x="291" y="772"/>
                </a:lnTo>
                <a:lnTo>
                  <a:pt x="316" y="733"/>
                </a:lnTo>
                <a:lnTo>
                  <a:pt x="340" y="692"/>
                </a:lnTo>
                <a:lnTo>
                  <a:pt x="361" y="652"/>
                </a:lnTo>
                <a:lnTo>
                  <a:pt x="376" y="614"/>
                </a:lnTo>
                <a:lnTo>
                  <a:pt x="385" y="575"/>
                </a:lnTo>
                <a:lnTo>
                  <a:pt x="386" y="541"/>
                </a:lnTo>
                <a:lnTo>
                  <a:pt x="383" y="515"/>
                </a:lnTo>
                <a:lnTo>
                  <a:pt x="376" y="492"/>
                </a:lnTo>
                <a:lnTo>
                  <a:pt x="370" y="472"/>
                </a:lnTo>
                <a:lnTo>
                  <a:pt x="365" y="454"/>
                </a:lnTo>
                <a:lnTo>
                  <a:pt x="365" y="438"/>
                </a:lnTo>
                <a:lnTo>
                  <a:pt x="372" y="419"/>
                </a:lnTo>
                <a:lnTo>
                  <a:pt x="364" y="403"/>
                </a:lnTo>
                <a:lnTo>
                  <a:pt x="356" y="387"/>
                </a:lnTo>
                <a:lnTo>
                  <a:pt x="349" y="370"/>
                </a:lnTo>
                <a:lnTo>
                  <a:pt x="344" y="353"/>
                </a:lnTo>
                <a:lnTo>
                  <a:pt x="339" y="334"/>
                </a:lnTo>
                <a:lnTo>
                  <a:pt x="336" y="316"/>
                </a:lnTo>
                <a:lnTo>
                  <a:pt x="334" y="297"/>
                </a:lnTo>
                <a:lnTo>
                  <a:pt x="333" y="278"/>
                </a:lnTo>
                <a:lnTo>
                  <a:pt x="334" y="249"/>
                </a:lnTo>
                <a:lnTo>
                  <a:pt x="339" y="221"/>
                </a:lnTo>
                <a:lnTo>
                  <a:pt x="346" y="195"/>
                </a:lnTo>
                <a:lnTo>
                  <a:pt x="355" y="169"/>
                </a:lnTo>
                <a:lnTo>
                  <a:pt x="367" y="145"/>
                </a:lnTo>
                <a:lnTo>
                  <a:pt x="380" y="122"/>
                </a:lnTo>
                <a:lnTo>
                  <a:pt x="397" y="101"/>
                </a:lnTo>
                <a:lnTo>
                  <a:pt x="415" y="82"/>
                </a:lnTo>
                <a:lnTo>
                  <a:pt x="435" y="63"/>
                </a:lnTo>
                <a:lnTo>
                  <a:pt x="455" y="47"/>
                </a:lnTo>
                <a:lnTo>
                  <a:pt x="478" y="33"/>
                </a:lnTo>
                <a:lnTo>
                  <a:pt x="503" y="22"/>
                </a:lnTo>
                <a:lnTo>
                  <a:pt x="528" y="13"/>
                </a:lnTo>
                <a:lnTo>
                  <a:pt x="554" y="6"/>
                </a:lnTo>
                <a:lnTo>
                  <a:pt x="582" y="1"/>
                </a:lnTo>
                <a:lnTo>
                  <a:pt x="611" y="0"/>
                </a:lnTo>
                <a:lnTo>
                  <a:pt x="620" y="0"/>
                </a:lnTo>
                <a:lnTo>
                  <a:pt x="629" y="1"/>
                </a:lnTo>
                <a:lnTo>
                  <a:pt x="638" y="1"/>
                </a:lnTo>
                <a:lnTo>
                  <a:pt x="647" y="2"/>
                </a:lnTo>
                <a:lnTo>
                  <a:pt x="656" y="3"/>
                </a:lnTo>
                <a:lnTo>
                  <a:pt x="665" y="6"/>
                </a:lnTo>
                <a:lnTo>
                  <a:pt x="673" y="7"/>
                </a:lnTo>
                <a:lnTo>
                  <a:pt x="682" y="9"/>
                </a:lnTo>
                <a:lnTo>
                  <a:pt x="688" y="8"/>
                </a:lnTo>
                <a:lnTo>
                  <a:pt x="695" y="7"/>
                </a:lnTo>
                <a:lnTo>
                  <a:pt x="703" y="8"/>
                </a:lnTo>
                <a:lnTo>
                  <a:pt x="713" y="9"/>
                </a:lnTo>
                <a:lnTo>
                  <a:pt x="723" y="12"/>
                </a:lnTo>
                <a:lnTo>
                  <a:pt x="732" y="14"/>
                </a:lnTo>
                <a:lnTo>
                  <a:pt x="740" y="18"/>
                </a:lnTo>
                <a:lnTo>
                  <a:pt x="747" y="24"/>
                </a:lnTo>
                <a:lnTo>
                  <a:pt x="758" y="21"/>
                </a:lnTo>
                <a:lnTo>
                  <a:pt x="772" y="18"/>
                </a:lnTo>
                <a:lnTo>
                  <a:pt x="787" y="17"/>
                </a:lnTo>
                <a:lnTo>
                  <a:pt x="803" y="20"/>
                </a:lnTo>
                <a:lnTo>
                  <a:pt x="818" y="24"/>
                </a:lnTo>
                <a:lnTo>
                  <a:pt x="832" y="31"/>
                </a:lnTo>
                <a:lnTo>
                  <a:pt x="844" y="41"/>
                </a:lnTo>
                <a:lnTo>
                  <a:pt x="853" y="55"/>
                </a:lnTo>
                <a:lnTo>
                  <a:pt x="863" y="56"/>
                </a:lnTo>
                <a:lnTo>
                  <a:pt x="873" y="61"/>
                </a:lnTo>
                <a:lnTo>
                  <a:pt x="884" y="69"/>
                </a:lnTo>
                <a:lnTo>
                  <a:pt x="893" y="79"/>
                </a:lnTo>
                <a:lnTo>
                  <a:pt x="901" y="92"/>
                </a:lnTo>
                <a:lnTo>
                  <a:pt x="908" y="107"/>
                </a:lnTo>
                <a:lnTo>
                  <a:pt x="914" y="123"/>
                </a:lnTo>
                <a:lnTo>
                  <a:pt x="917" y="141"/>
                </a:lnTo>
                <a:lnTo>
                  <a:pt x="921" y="180"/>
                </a:lnTo>
                <a:lnTo>
                  <a:pt x="926" y="221"/>
                </a:lnTo>
                <a:lnTo>
                  <a:pt x="936" y="262"/>
                </a:lnTo>
                <a:lnTo>
                  <a:pt x="950" y="298"/>
                </a:lnTo>
                <a:lnTo>
                  <a:pt x="961" y="324"/>
                </a:lnTo>
                <a:lnTo>
                  <a:pt x="977" y="362"/>
                </a:lnTo>
                <a:lnTo>
                  <a:pt x="999" y="410"/>
                </a:lnTo>
                <a:lnTo>
                  <a:pt x="1021" y="462"/>
                </a:lnTo>
                <a:lnTo>
                  <a:pt x="1044" y="514"/>
                </a:lnTo>
                <a:lnTo>
                  <a:pt x="1066" y="561"/>
                </a:lnTo>
                <a:lnTo>
                  <a:pt x="1083" y="599"/>
                </a:lnTo>
                <a:lnTo>
                  <a:pt x="1096" y="623"/>
                </a:lnTo>
                <a:lnTo>
                  <a:pt x="1105" y="644"/>
                </a:lnTo>
                <a:lnTo>
                  <a:pt x="1114" y="670"/>
                </a:lnTo>
                <a:lnTo>
                  <a:pt x="1122" y="703"/>
                </a:lnTo>
                <a:lnTo>
                  <a:pt x="1130" y="738"/>
                </a:lnTo>
                <a:lnTo>
                  <a:pt x="1137" y="774"/>
                </a:lnTo>
                <a:lnTo>
                  <a:pt x="1143" y="809"/>
                </a:lnTo>
                <a:lnTo>
                  <a:pt x="1146" y="839"/>
                </a:lnTo>
                <a:lnTo>
                  <a:pt x="1149" y="864"/>
                </a:lnTo>
                <a:lnTo>
                  <a:pt x="1150" y="886"/>
                </a:lnTo>
                <a:lnTo>
                  <a:pt x="1152" y="909"/>
                </a:lnTo>
                <a:lnTo>
                  <a:pt x="1155" y="932"/>
                </a:lnTo>
                <a:lnTo>
                  <a:pt x="1158" y="956"/>
                </a:lnTo>
                <a:lnTo>
                  <a:pt x="1163" y="979"/>
                </a:lnTo>
                <a:lnTo>
                  <a:pt x="1168" y="1001"/>
                </a:lnTo>
                <a:lnTo>
                  <a:pt x="1175" y="1022"/>
                </a:lnTo>
                <a:lnTo>
                  <a:pt x="1183" y="1039"/>
                </a:lnTo>
                <a:lnTo>
                  <a:pt x="1194" y="1062"/>
                </a:lnTo>
                <a:lnTo>
                  <a:pt x="1204" y="1097"/>
                </a:lnTo>
                <a:lnTo>
                  <a:pt x="1214" y="1141"/>
                </a:lnTo>
                <a:lnTo>
                  <a:pt x="1225" y="1188"/>
                </a:lnTo>
                <a:lnTo>
                  <a:pt x="1233" y="1238"/>
                </a:lnTo>
                <a:lnTo>
                  <a:pt x="1239" y="1287"/>
                </a:lnTo>
                <a:lnTo>
                  <a:pt x="1241" y="1329"/>
                </a:lnTo>
                <a:lnTo>
                  <a:pt x="1240" y="1365"/>
                </a:lnTo>
                <a:lnTo>
                  <a:pt x="1255" y="1374"/>
                </a:lnTo>
                <a:lnTo>
                  <a:pt x="1273" y="1386"/>
                </a:lnTo>
                <a:lnTo>
                  <a:pt x="1292" y="1400"/>
                </a:lnTo>
                <a:lnTo>
                  <a:pt x="1309" y="1415"/>
                </a:lnTo>
                <a:lnTo>
                  <a:pt x="1324" y="1431"/>
                </a:lnTo>
                <a:lnTo>
                  <a:pt x="1335" y="1448"/>
                </a:lnTo>
                <a:lnTo>
                  <a:pt x="1341" y="1464"/>
                </a:lnTo>
                <a:lnTo>
                  <a:pt x="1339" y="1479"/>
                </a:lnTo>
                <a:lnTo>
                  <a:pt x="1331" y="1501"/>
                </a:lnTo>
                <a:lnTo>
                  <a:pt x="1323" y="1529"/>
                </a:lnTo>
                <a:lnTo>
                  <a:pt x="1316" y="1562"/>
                </a:lnTo>
                <a:lnTo>
                  <a:pt x="1309" y="1599"/>
                </a:lnTo>
                <a:lnTo>
                  <a:pt x="1303" y="1637"/>
                </a:lnTo>
                <a:lnTo>
                  <a:pt x="1300" y="1675"/>
                </a:lnTo>
                <a:lnTo>
                  <a:pt x="1297" y="1712"/>
                </a:lnTo>
                <a:lnTo>
                  <a:pt x="1299" y="1744"/>
                </a:lnTo>
                <a:lnTo>
                  <a:pt x="1297" y="1776"/>
                </a:lnTo>
                <a:lnTo>
                  <a:pt x="1293" y="1814"/>
                </a:lnTo>
                <a:lnTo>
                  <a:pt x="1286" y="1857"/>
                </a:lnTo>
                <a:lnTo>
                  <a:pt x="1278" y="1902"/>
                </a:lnTo>
                <a:lnTo>
                  <a:pt x="1270" y="1948"/>
                </a:lnTo>
                <a:lnTo>
                  <a:pt x="1265" y="1997"/>
                </a:lnTo>
                <a:lnTo>
                  <a:pt x="1265" y="2044"/>
                </a:lnTo>
                <a:lnTo>
                  <a:pt x="1271" y="2091"/>
                </a:lnTo>
                <a:lnTo>
                  <a:pt x="1276" y="2115"/>
                </a:lnTo>
                <a:lnTo>
                  <a:pt x="1278" y="2141"/>
                </a:lnTo>
                <a:lnTo>
                  <a:pt x="1277" y="2166"/>
                </a:lnTo>
                <a:lnTo>
                  <a:pt x="1271" y="2191"/>
                </a:lnTo>
                <a:lnTo>
                  <a:pt x="1259" y="2218"/>
                </a:lnTo>
                <a:lnTo>
                  <a:pt x="1242" y="2243"/>
                </a:lnTo>
                <a:lnTo>
                  <a:pt x="1217" y="2271"/>
                </a:lnTo>
                <a:lnTo>
                  <a:pt x="1181" y="2298"/>
                </a:lnTo>
                <a:lnTo>
                  <a:pt x="1187" y="2379"/>
                </a:lnTo>
                <a:lnTo>
                  <a:pt x="1202" y="2399"/>
                </a:lnTo>
                <a:lnTo>
                  <a:pt x="1214" y="2424"/>
                </a:lnTo>
                <a:lnTo>
                  <a:pt x="1226" y="2454"/>
                </a:lnTo>
                <a:lnTo>
                  <a:pt x="1234" y="2487"/>
                </a:lnTo>
                <a:lnTo>
                  <a:pt x="1241" y="2522"/>
                </a:lnTo>
                <a:lnTo>
                  <a:pt x="1247" y="2558"/>
                </a:lnTo>
                <a:lnTo>
                  <a:pt x="1249" y="2592"/>
                </a:lnTo>
                <a:lnTo>
                  <a:pt x="1250" y="2623"/>
                </a:lnTo>
                <a:lnTo>
                  <a:pt x="1249" y="2690"/>
                </a:lnTo>
                <a:lnTo>
                  <a:pt x="1247" y="2764"/>
                </a:lnTo>
                <a:lnTo>
                  <a:pt x="1244" y="2841"/>
                </a:lnTo>
                <a:lnTo>
                  <a:pt x="1240" y="2916"/>
                </a:lnTo>
                <a:lnTo>
                  <a:pt x="1240" y="2957"/>
                </a:lnTo>
                <a:lnTo>
                  <a:pt x="1242" y="3009"/>
                </a:lnTo>
                <a:lnTo>
                  <a:pt x="1248" y="3067"/>
                </a:lnTo>
                <a:lnTo>
                  <a:pt x="1256" y="3128"/>
                </a:lnTo>
                <a:lnTo>
                  <a:pt x="1265" y="3189"/>
                </a:lnTo>
                <a:lnTo>
                  <a:pt x="1277" y="3247"/>
                </a:lnTo>
                <a:lnTo>
                  <a:pt x="1289" y="3297"/>
                </a:lnTo>
                <a:lnTo>
                  <a:pt x="1303" y="3338"/>
                </a:lnTo>
                <a:lnTo>
                  <a:pt x="1293" y="3348"/>
                </a:lnTo>
                <a:lnTo>
                  <a:pt x="1282" y="3358"/>
                </a:lnTo>
                <a:lnTo>
                  <a:pt x="1272" y="3369"/>
                </a:lnTo>
                <a:lnTo>
                  <a:pt x="1261" y="3379"/>
                </a:lnTo>
                <a:lnTo>
                  <a:pt x="1247" y="3389"/>
                </a:lnTo>
                <a:lnTo>
                  <a:pt x="1233" y="3400"/>
                </a:lnTo>
                <a:lnTo>
                  <a:pt x="1216" y="3409"/>
                </a:lnTo>
                <a:lnTo>
                  <a:pt x="1197" y="3417"/>
                </a:lnTo>
                <a:lnTo>
                  <a:pt x="1186" y="3450"/>
                </a:lnTo>
                <a:lnTo>
                  <a:pt x="1175" y="3487"/>
                </a:lnTo>
                <a:lnTo>
                  <a:pt x="1166" y="3525"/>
                </a:lnTo>
                <a:lnTo>
                  <a:pt x="1159" y="3564"/>
                </a:lnTo>
                <a:lnTo>
                  <a:pt x="1153" y="3602"/>
                </a:lnTo>
                <a:lnTo>
                  <a:pt x="1150" y="3638"/>
                </a:lnTo>
                <a:lnTo>
                  <a:pt x="1149" y="3672"/>
                </a:lnTo>
                <a:lnTo>
                  <a:pt x="1149" y="3700"/>
                </a:lnTo>
                <a:lnTo>
                  <a:pt x="1153" y="3753"/>
                </a:lnTo>
                <a:lnTo>
                  <a:pt x="1159" y="3811"/>
                </a:lnTo>
                <a:lnTo>
                  <a:pt x="1166" y="3873"/>
                </a:lnTo>
                <a:lnTo>
                  <a:pt x="1175" y="3940"/>
                </a:lnTo>
                <a:lnTo>
                  <a:pt x="1182" y="4032"/>
                </a:lnTo>
                <a:lnTo>
                  <a:pt x="1176" y="4124"/>
                </a:lnTo>
                <a:lnTo>
                  <a:pt x="1163" y="4215"/>
                </a:lnTo>
                <a:lnTo>
                  <a:pt x="1144" y="4298"/>
                </a:lnTo>
                <a:lnTo>
                  <a:pt x="1125" y="4372"/>
                </a:lnTo>
                <a:lnTo>
                  <a:pt x="1107" y="4431"/>
                </a:lnTo>
                <a:lnTo>
                  <a:pt x="1096" y="4471"/>
                </a:lnTo>
                <a:lnTo>
                  <a:pt x="1095" y="4490"/>
                </a:lnTo>
                <a:lnTo>
                  <a:pt x="1100" y="4503"/>
                </a:lnTo>
                <a:lnTo>
                  <a:pt x="1099" y="4518"/>
                </a:lnTo>
                <a:lnTo>
                  <a:pt x="1096" y="4536"/>
                </a:lnTo>
                <a:lnTo>
                  <a:pt x="1090" y="4553"/>
                </a:lnTo>
                <a:lnTo>
                  <a:pt x="1089" y="4563"/>
                </a:lnTo>
                <a:lnTo>
                  <a:pt x="1090" y="4575"/>
                </a:lnTo>
                <a:lnTo>
                  <a:pt x="1094" y="4588"/>
                </a:lnTo>
                <a:lnTo>
                  <a:pt x="1098" y="4601"/>
                </a:lnTo>
                <a:lnTo>
                  <a:pt x="1100" y="4615"/>
                </a:lnTo>
                <a:lnTo>
                  <a:pt x="1103" y="4629"/>
                </a:lnTo>
                <a:lnTo>
                  <a:pt x="1102" y="4643"/>
                </a:lnTo>
                <a:lnTo>
                  <a:pt x="1096" y="4654"/>
                </a:lnTo>
                <a:lnTo>
                  <a:pt x="1103" y="4674"/>
                </a:lnTo>
                <a:lnTo>
                  <a:pt x="1110" y="4693"/>
                </a:lnTo>
                <a:lnTo>
                  <a:pt x="1118" y="4713"/>
                </a:lnTo>
                <a:lnTo>
                  <a:pt x="1123" y="4733"/>
                </a:lnTo>
                <a:lnTo>
                  <a:pt x="1128" y="4752"/>
                </a:lnTo>
                <a:lnTo>
                  <a:pt x="1130" y="4772"/>
                </a:lnTo>
                <a:lnTo>
                  <a:pt x="1129" y="4791"/>
                </a:lnTo>
                <a:lnTo>
                  <a:pt x="1122" y="4810"/>
                </a:lnTo>
                <a:lnTo>
                  <a:pt x="1117" y="4821"/>
                </a:lnTo>
                <a:lnTo>
                  <a:pt x="1111" y="4834"/>
                </a:lnTo>
                <a:lnTo>
                  <a:pt x="1104" y="4848"/>
                </a:lnTo>
                <a:lnTo>
                  <a:pt x="1098" y="4862"/>
                </a:lnTo>
                <a:lnTo>
                  <a:pt x="1105" y="4865"/>
                </a:lnTo>
                <a:lnTo>
                  <a:pt x="1113" y="4869"/>
                </a:lnTo>
                <a:lnTo>
                  <a:pt x="1119" y="4871"/>
                </a:lnTo>
                <a:lnTo>
                  <a:pt x="1121" y="4872"/>
                </a:lnTo>
                <a:lnTo>
                  <a:pt x="1114" y="4900"/>
                </a:lnTo>
                <a:lnTo>
                  <a:pt x="1111" y="4900"/>
                </a:lnTo>
                <a:lnTo>
                  <a:pt x="1103" y="4899"/>
                </a:lnTo>
                <a:lnTo>
                  <a:pt x="1094" y="4896"/>
                </a:lnTo>
                <a:lnTo>
                  <a:pt x="1085" y="4892"/>
                </a:lnTo>
                <a:lnTo>
                  <a:pt x="1079" y="4914"/>
                </a:lnTo>
                <a:lnTo>
                  <a:pt x="1073" y="4935"/>
                </a:lnTo>
                <a:lnTo>
                  <a:pt x="1070" y="4957"/>
                </a:lnTo>
                <a:lnTo>
                  <a:pt x="1070" y="4977"/>
                </a:lnTo>
                <a:lnTo>
                  <a:pt x="1070" y="5000"/>
                </a:lnTo>
                <a:lnTo>
                  <a:pt x="1069" y="5028"/>
                </a:lnTo>
                <a:lnTo>
                  <a:pt x="1066" y="5059"/>
                </a:lnTo>
                <a:lnTo>
                  <a:pt x="1060" y="5091"/>
                </a:lnTo>
                <a:lnTo>
                  <a:pt x="1051" y="5123"/>
                </a:lnTo>
                <a:lnTo>
                  <a:pt x="1039" y="5153"/>
                </a:lnTo>
                <a:lnTo>
                  <a:pt x="1023" y="5180"/>
                </a:lnTo>
                <a:lnTo>
                  <a:pt x="1002" y="5199"/>
                </a:lnTo>
                <a:lnTo>
                  <a:pt x="991" y="5207"/>
                </a:lnTo>
                <a:lnTo>
                  <a:pt x="977" y="5214"/>
                </a:lnTo>
                <a:lnTo>
                  <a:pt x="963" y="5220"/>
                </a:lnTo>
                <a:lnTo>
                  <a:pt x="948" y="5226"/>
                </a:lnTo>
                <a:lnTo>
                  <a:pt x="932" y="5229"/>
                </a:lnTo>
                <a:lnTo>
                  <a:pt x="916" y="5233"/>
                </a:lnTo>
                <a:lnTo>
                  <a:pt x="900" y="5234"/>
                </a:lnTo>
                <a:lnTo>
                  <a:pt x="884" y="5235"/>
                </a:lnTo>
                <a:lnTo>
                  <a:pt x="868" y="5234"/>
                </a:lnTo>
                <a:lnTo>
                  <a:pt x="852" y="5230"/>
                </a:lnTo>
                <a:lnTo>
                  <a:pt x="838" y="5226"/>
                </a:lnTo>
                <a:lnTo>
                  <a:pt x="824" y="5220"/>
                </a:lnTo>
                <a:lnTo>
                  <a:pt x="811" y="5211"/>
                </a:lnTo>
                <a:lnTo>
                  <a:pt x="800" y="5200"/>
                </a:lnTo>
                <a:lnTo>
                  <a:pt x="791" y="5189"/>
                </a:lnTo>
                <a:lnTo>
                  <a:pt x="782" y="5174"/>
                </a:lnTo>
                <a:lnTo>
                  <a:pt x="773" y="5145"/>
                </a:lnTo>
                <a:lnTo>
                  <a:pt x="770" y="5112"/>
                </a:lnTo>
                <a:lnTo>
                  <a:pt x="770" y="5075"/>
                </a:lnTo>
                <a:lnTo>
                  <a:pt x="773" y="5036"/>
                </a:lnTo>
                <a:lnTo>
                  <a:pt x="778" y="4995"/>
                </a:lnTo>
                <a:lnTo>
                  <a:pt x="785" y="4956"/>
                </a:lnTo>
                <a:lnTo>
                  <a:pt x="793" y="4917"/>
                </a:lnTo>
                <a:lnTo>
                  <a:pt x="801" y="4881"/>
                </a:lnTo>
                <a:lnTo>
                  <a:pt x="795" y="4884"/>
                </a:lnTo>
                <a:lnTo>
                  <a:pt x="789" y="4885"/>
                </a:lnTo>
                <a:lnTo>
                  <a:pt x="784" y="4885"/>
                </a:lnTo>
                <a:lnTo>
                  <a:pt x="778" y="4885"/>
                </a:lnTo>
                <a:lnTo>
                  <a:pt x="771" y="4884"/>
                </a:lnTo>
                <a:lnTo>
                  <a:pt x="766" y="4881"/>
                </a:lnTo>
                <a:lnTo>
                  <a:pt x="761" y="4880"/>
                </a:lnTo>
                <a:lnTo>
                  <a:pt x="757" y="4878"/>
                </a:lnTo>
                <a:lnTo>
                  <a:pt x="759" y="4861"/>
                </a:lnTo>
                <a:lnTo>
                  <a:pt x="761" y="4861"/>
                </a:lnTo>
                <a:lnTo>
                  <a:pt x="764" y="4862"/>
                </a:lnTo>
                <a:lnTo>
                  <a:pt x="770" y="4862"/>
                </a:lnTo>
                <a:lnTo>
                  <a:pt x="777" y="4862"/>
                </a:lnTo>
                <a:lnTo>
                  <a:pt x="785" y="4861"/>
                </a:lnTo>
                <a:lnTo>
                  <a:pt x="794" y="4859"/>
                </a:lnTo>
                <a:lnTo>
                  <a:pt x="802" y="4857"/>
                </a:lnTo>
                <a:lnTo>
                  <a:pt x="810" y="4852"/>
                </a:lnTo>
                <a:lnTo>
                  <a:pt x="811" y="4846"/>
                </a:lnTo>
                <a:lnTo>
                  <a:pt x="812" y="4840"/>
                </a:lnTo>
                <a:lnTo>
                  <a:pt x="814" y="4835"/>
                </a:lnTo>
                <a:lnTo>
                  <a:pt x="815" y="4829"/>
                </a:lnTo>
                <a:lnTo>
                  <a:pt x="796" y="4829"/>
                </a:lnTo>
                <a:lnTo>
                  <a:pt x="781" y="4826"/>
                </a:lnTo>
                <a:lnTo>
                  <a:pt x="770" y="4820"/>
                </a:lnTo>
                <a:lnTo>
                  <a:pt x="761" y="4813"/>
                </a:lnTo>
                <a:lnTo>
                  <a:pt x="755" y="4804"/>
                </a:lnTo>
                <a:lnTo>
                  <a:pt x="751" y="4793"/>
                </a:lnTo>
                <a:lnTo>
                  <a:pt x="751" y="4781"/>
                </a:lnTo>
                <a:lnTo>
                  <a:pt x="755" y="4770"/>
                </a:lnTo>
                <a:lnTo>
                  <a:pt x="761" y="4758"/>
                </a:lnTo>
                <a:lnTo>
                  <a:pt x="770" y="4748"/>
                </a:lnTo>
                <a:lnTo>
                  <a:pt x="781" y="4738"/>
                </a:lnTo>
                <a:lnTo>
                  <a:pt x="794" y="4730"/>
                </a:lnTo>
                <a:lnTo>
                  <a:pt x="808" y="4725"/>
                </a:lnTo>
                <a:lnTo>
                  <a:pt x="824" y="4721"/>
                </a:lnTo>
                <a:lnTo>
                  <a:pt x="839" y="4720"/>
                </a:lnTo>
                <a:lnTo>
                  <a:pt x="854" y="4720"/>
                </a:lnTo>
                <a:lnTo>
                  <a:pt x="844" y="474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3" name="Freeform 4"/>
          <p:cNvSpPr/>
          <p:nvPr/>
        </p:nvSpPr>
        <p:spPr>
          <a:xfrm>
            <a:off x="2176560" y="4986360"/>
            <a:ext cx="27000" cy="195120"/>
          </a:xfrm>
          <a:custGeom>
            <a:avLst/>
            <a:gdLst/>
            <a:ahLst/>
            <a:rect l="l" t="t" r="r" b="b"/>
            <a:pathLst>
              <a:path w="33" h="245">
                <a:moveTo>
                  <a:pt x="33" y="226"/>
                </a:moveTo>
                <a:lnTo>
                  <a:pt x="25" y="169"/>
                </a:lnTo>
                <a:lnTo>
                  <a:pt x="22" y="109"/>
                </a:lnTo>
                <a:lnTo>
                  <a:pt x="24" y="52"/>
                </a:lnTo>
                <a:lnTo>
                  <a:pt x="33" y="0"/>
                </a:lnTo>
                <a:lnTo>
                  <a:pt x="20" y="16"/>
                </a:lnTo>
                <a:lnTo>
                  <a:pt x="11" y="40"/>
                </a:lnTo>
                <a:lnTo>
                  <a:pt x="4" y="71"/>
                </a:lnTo>
                <a:lnTo>
                  <a:pt x="1" y="106"/>
                </a:lnTo>
                <a:lnTo>
                  <a:pt x="0" y="144"/>
                </a:lnTo>
                <a:lnTo>
                  <a:pt x="1" y="181"/>
                </a:lnTo>
                <a:lnTo>
                  <a:pt x="4" y="215"/>
                </a:lnTo>
                <a:lnTo>
                  <a:pt x="9" y="245"/>
                </a:lnTo>
                <a:lnTo>
                  <a:pt x="15" y="241"/>
                </a:lnTo>
                <a:lnTo>
                  <a:pt x="22" y="234"/>
                </a:lnTo>
                <a:lnTo>
                  <a:pt x="27" y="228"/>
                </a:lnTo>
                <a:lnTo>
                  <a:pt x="33" y="22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4" name="Freeform 6"/>
          <p:cNvSpPr/>
          <p:nvPr/>
        </p:nvSpPr>
        <p:spPr>
          <a:xfrm>
            <a:off x="2122560" y="2711520"/>
            <a:ext cx="33120" cy="28440"/>
          </a:xfrm>
          <a:custGeom>
            <a:avLst/>
            <a:gdLst/>
            <a:ahLst/>
            <a:rect l="l" t="t" r="r" b="b"/>
            <a:pathLst>
              <a:path w="41" h="35">
                <a:moveTo>
                  <a:pt x="41" y="35"/>
                </a:moveTo>
                <a:lnTo>
                  <a:pt x="38" y="26"/>
                </a:lnTo>
                <a:lnTo>
                  <a:pt x="34" y="17"/>
                </a:lnTo>
                <a:lnTo>
                  <a:pt x="31" y="9"/>
                </a:lnTo>
                <a:lnTo>
                  <a:pt x="26" y="0"/>
                </a:lnTo>
                <a:lnTo>
                  <a:pt x="18" y="3"/>
                </a:lnTo>
                <a:lnTo>
                  <a:pt x="10" y="10"/>
                </a:lnTo>
                <a:lnTo>
                  <a:pt x="3" y="16"/>
                </a:lnTo>
                <a:lnTo>
                  <a:pt x="0" y="18"/>
                </a:lnTo>
                <a:lnTo>
                  <a:pt x="41" y="3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5" name="Freeform 9"/>
          <p:cNvSpPr/>
          <p:nvPr/>
        </p:nvSpPr>
        <p:spPr>
          <a:xfrm>
            <a:off x="1717560" y="3046320"/>
            <a:ext cx="319320" cy="895320"/>
          </a:xfrm>
          <a:custGeom>
            <a:avLst/>
            <a:gdLst/>
            <a:ahLst/>
            <a:rect l="l" t="t" r="r" b="b"/>
            <a:pathLst>
              <a:path w="404" h="1128">
                <a:moveTo>
                  <a:pt x="404" y="117"/>
                </a:moveTo>
                <a:lnTo>
                  <a:pt x="390" y="135"/>
                </a:lnTo>
                <a:lnTo>
                  <a:pt x="370" y="167"/>
                </a:lnTo>
                <a:lnTo>
                  <a:pt x="346" y="208"/>
                </a:lnTo>
                <a:lnTo>
                  <a:pt x="321" y="253"/>
                </a:lnTo>
                <a:lnTo>
                  <a:pt x="295" y="299"/>
                </a:lnTo>
                <a:lnTo>
                  <a:pt x="273" y="342"/>
                </a:lnTo>
                <a:lnTo>
                  <a:pt x="256" y="380"/>
                </a:lnTo>
                <a:lnTo>
                  <a:pt x="247" y="408"/>
                </a:lnTo>
                <a:lnTo>
                  <a:pt x="241" y="433"/>
                </a:lnTo>
                <a:lnTo>
                  <a:pt x="233" y="468"/>
                </a:lnTo>
                <a:lnTo>
                  <a:pt x="224" y="507"/>
                </a:lnTo>
                <a:lnTo>
                  <a:pt x="214" y="549"/>
                </a:lnTo>
                <a:lnTo>
                  <a:pt x="201" y="590"/>
                </a:lnTo>
                <a:lnTo>
                  <a:pt x="188" y="627"/>
                </a:lnTo>
                <a:lnTo>
                  <a:pt x="176" y="658"/>
                </a:lnTo>
                <a:lnTo>
                  <a:pt x="162" y="680"/>
                </a:lnTo>
                <a:lnTo>
                  <a:pt x="156" y="685"/>
                </a:lnTo>
                <a:lnTo>
                  <a:pt x="149" y="690"/>
                </a:lnTo>
                <a:lnTo>
                  <a:pt x="143" y="697"/>
                </a:lnTo>
                <a:lnTo>
                  <a:pt x="138" y="703"/>
                </a:lnTo>
                <a:lnTo>
                  <a:pt x="133" y="710"/>
                </a:lnTo>
                <a:lnTo>
                  <a:pt x="131" y="716"/>
                </a:lnTo>
                <a:lnTo>
                  <a:pt x="131" y="720"/>
                </a:lnTo>
                <a:lnTo>
                  <a:pt x="135" y="725"/>
                </a:lnTo>
                <a:lnTo>
                  <a:pt x="142" y="727"/>
                </a:lnTo>
                <a:lnTo>
                  <a:pt x="151" y="729"/>
                </a:lnTo>
                <a:lnTo>
                  <a:pt x="162" y="731"/>
                </a:lnTo>
                <a:lnTo>
                  <a:pt x="173" y="732"/>
                </a:lnTo>
                <a:lnTo>
                  <a:pt x="185" y="735"/>
                </a:lnTo>
                <a:lnTo>
                  <a:pt x="196" y="740"/>
                </a:lnTo>
                <a:lnTo>
                  <a:pt x="206" y="749"/>
                </a:lnTo>
                <a:lnTo>
                  <a:pt x="215" y="763"/>
                </a:lnTo>
                <a:lnTo>
                  <a:pt x="224" y="779"/>
                </a:lnTo>
                <a:lnTo>
                  <a:pt x="235" y="797"/>
                </a:lnTo>
                <a:lnTo>
                  <a:pt x="248" y="816"/>
                </a:lnTo>
                <a:lnTo>
                  <a:pt x="261" y="834"/>
                </a:lnTo>
                <a:lnTo>
                  <a:pt x="273" y="855"/>
                </a:lnTo>
                <a:lnTo>
                  <a:pt x="286" y="876"/>
                </a:lnTo>
                <a:lnTo>
                  <a:pt x="295" y="897"/>
                </a:lnTo>
                <a:lnTo>
                  <a:pt x="303" y="918"/>
                </a:lnTo>
                <a:lnTo>
                  <a:pt x="300" y="947"/>
                </a:lnTo>
                <a:lnTo>
                  <a:pt x="292" y="976"/>
                </a:lnTo>
                <a:lnTo>
                  <a:pt x="283" y="1003"/>
                </a:lnTo>
                <a:lnTo>
                  <a:pt x="272" y="1028"/>
                </a:lnTo>
                <a:lnTo>
                  <a:pt x="260" y="1054"/>
                </a:lnTo>
                <a:lnTo>
                  <a:pt x="247" y="1079"/>
                </a:lnTo>
                <a:lnTo>
                  <a:pt x="235" y="1104"/>
                </a:lnTo>
                <a:lnTo>
                  <a:pt x="224" y="1128"/>
                </a:lnTo>
                <a:lnTo>
                  <a:pt x="209" y="1099"/>
                </a:lnTo>
                <a:lnTo>
                  <a:pt x="188" y="1065"/>
                </a:lnTo>
                <a:lnTo>
                  <a:pt x="164" y="1027"/>
                </a:lnTo>
                <a:lnTo>
                  <a:pt x="139" y="986"/>
                </a:lnTo>
                <a:lnTo>
                  <a:pt x="112" y="946"/>
                </a:lnTo>
                <a:lnTo>
                  <a:pt x="87" y="908"/>
                </a:lnTo>
                <a:lnTo>
                  <a:pt x="65" y="872"/>
                </a:lnTo>
                <a:lnTo>
                  <a:pt x="47" y="842"/>
                </a:lnTo>
                <a:lnTo>
                  <a:pt x="36" y="823"/>
                </a:lnTo>
                <a:lnTo>
                  <a:pt x="27" y="800"/>
                </a:lnTo>
                <a:lnTo>
                  <a:pt x="19" y="774"/>
                </a:lnTo>
                <a:lnTo>
                  <a:pt x="12" y="749"/>
                </a:lnTo>
                <a:lnTo>
                  <a:pt x="6" y="723"/>
                </a:lnTo>
                <a:lnTo>
                  <a:pt x="2" y="696"/>
                </a:lnTo>
                <a:lnTo>
                  <a:pt x="0" y="670"/>
                </a:lnTo>
                <a:lnTo>
                  <a:pt x="0" y="645"/>
                </a:lnTo>
                <a:lnTo>
                  <a:pt x="4" y="621"/>
                </a:lnTo>
                <a:lnTo>
                  <a:pt x="10" y="596"/>
                </a:lnTo>
                <a:lnTo>
                  <a:pt x="19" y="570"/>
                </a:lnTo>
                <a:lnTo>
                  <a:pt x="30" y="545"/>
                </a:lnTo>
                <a:lnTo>
                  <a:pt x="44" y="520"/>
                </a:lnTo>
                <a:lnTo>
                  <a:pt x="59" y="497"/>
                </a:lnTo>
                <a:lnTo>
                  <a:pt x="75" y="474"/>
                </a:lnTo>
                <a:lnTo>
                  <a:pt x="93" y="453"/>
                </a:lnTo>
                <a:lnTo>
                  <a:pt x="110" y="431"/>
                </a:lnTo>
                <a:lnTo>
                  <a:pt x="128" y="406"/>
                </a:lnTo>
                <a:lnTo>
                  <a:pt x="148" y="378"/>
                </a:lnTo>
                <a:lnTo>
                  <a:pt x="165" y="350"/>
                </a:lnTo>
                <a:lnTo>
                  <a:pt x="182" y="324"/>
                </a:lnTo>
                <a:lnTo>
                  <a:pt x="199" y="299"/>
                </a:lnTo>
                <a:lnTo>
                  <a:pt x="211" y="277"/>
                </a:lnTo>
                <a:lnTo>
                  <a:pt x="220" y="261"/>
                </a:lnTo>
                <a:lnTo>
                  <a:pt x="233" y="238"/>
                </a:lnTo>
                <a:lnTo>
                  <a:pt x="246" y="212"/>
                </a:lnTo>
                <a:lnTo>
                  <a:pt x="257" y="182"/>
                </a:lnTo>
                <a:lnTo>
                  <a:pt x="268" y="151"/>
                </a:lnTo>
                <a:lnTo>
                  <a:pt x="275" y="117"/>
                </a:lnTo>
                <a:lnTo>
                  <a:pt x="277" y="81"/>
                </a:lnTo>
                <a:lnTo>
                  <a:pt x="273" y="43"/>
                </a:lnTo>
                <a:lnTo>
                  <a:pt x="263" y="5"/>
                </a:lnTo>
                <a:lnTo>
                  <a:pt x="265" y="1"/>
                </a:lnTo>
                <a:lnTo>
                  <a:pt x="268" y="0"/>
                </a:lnTo>
                <a:lnTo>
                  <a:pt x="272" y="3"/>
                </a:lnTo>
                <a:lnTo>
                  <a:pt x="278" y="6"/>
                </a:lnTo>
                <a:lnTo>
                  <a:pt x="284" y="12"/>
                </a:lnTo>
                <a:lnTo>
                  <a:pt x="291" y="19"/>
                </a:lnTo>
                <a:lnTo>
                  <a:pt x="298" y="26"/>
                </a:lnTo>
                <a:lnTo>
                  <a:pt x="303" y="35"/>
                </a:lnTo>
                <a:lnTo>
                  <a:pt x="311" y="45"/>
                </a:lnTo>
                <a:lnTo>
                  <a:pt x="322" y="57"/>
                </a:lnTo>
                <a:lnTo>
                  <a:pt x="335" y="70"/>
                </a:lnTo>
                <a:lnTo>
                  <a:pt x="350" y="83"/>
                </a:lnTo>
                <a:lnTo>
                  <a:pt x="364" y="96"/>
                </a:lnTo>
                <a:lnTo>
                  <a:pt x="379" y="106"/>
                </a:lnTo>
                <a:lnTo>
                  <a:pt x="392" y="113"/>
                </a:lnTo>
                <a:lnTo>
                  <a:pt x="404" y="11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6" name="Freeform 10"/>
          <p:cNvSpPr/>
          <p:nvPr/>
        </p:nvSpPr>
        <p:spPr>
          <a:xfrm>
            <a:off x="2013120" y="3389400"/>
            <a:ext cx="317160" cy="474480"/>
          </a:xfrm>
          <a:custGeom>
            <a:avLst/>
            <a:gdLst/>
            <a:ahLst/>
            <a:rect l="l" t="t" r="r" b="b"/>
            <a:pathLst>
              <a:path w="399" h="597">
                <a:moveTo>
                  <a:pt x="117" y="264"/>
                </a:moveTo>
                <a:lnTo>
                  <a:pt x="126" y="265"/>
                </a:lnTo>
                <a:lnTo>
                  <a:pt x="134" y="265"/>
                </a:lnTo>
                <a:lnTo>
                  <a:pt x="144" y="264"/>
                </a:lnTo>
                <a:lnTo>
                  <a:pt x="152" y="262"/>
                </a:lnTo>
                <a:lnTo>
                  <a:pt x="161" y="259"/>
                </a:lnTo>
                <a:lnTo>
                  <a:pt x="169" y="255"/>
                </a:lnTo>
                <a:lnTo>
                  <a:pt x="178" y="249"/>
                </a:lnTo>
                <a:lnTo>
                  <a:pt x="186" y="242"/>
                </a:lnTo>
                <a:lnTo>
                  <a:pt x="195" y="234"/>
                </a:lnTo>
                <a:lnTo>
                  <a:pt x="208" y="227"/>
                </a:lnTo>
                <a:lnTo>
                  <a:pt x="222" y="221"/>
                </a:lnTo>
                <a:lnTo>
                  <a:pt x="238" y="218"/>
                </a:lnTo>
                <a:lnTo>
                  <a:pt x="253" y="216"/>
                </a:lnTo>
                <a:lnTo>
                  <a:pt x="268" y="216"/>
                </a:lnTo>
                <a:lnTo>
                  <a:pt x="282" y="219"/>
                </a:lnTo>
                <a:lnTo>
                  <a:pt x="293" y="225"/>
                </a:lnTo>
                <a:lnTo>
                  <a:pt x="304" y="232"/>
                </a:lnTo>
                <a:lnTo>
                  <a:pt x="314" y="239"/>
                </a:lnTo>
                <a:lnTo>
                  <a:pt x="324" y="243"/>
                </a:lnTo>
                <a:lnTo>
                  <a:pt x="334" y="248"/>
                </a:lnTo>
                <a:lnTo>
                  <a:pt x="343" y="251"/>
                </a:lnTo>
                <a:lnTo>
                  <a:pt x="352" y="253"/>
                </a:lnTo>
                <a:lnTo>
                  <a:pt x="359" y="253"/>
                </a:lnTo>
                <a:lnTo>
                  <a:pt x="366" y="250"/>
                </a:lnTo>
                <a:lnTo>
                  <a:pt x="372" y="247"/>
                </a:lnTo>
                <a:lnTo>
                  <a:pt x="379" y="241"/>
                </a:lnTo>
                <a:lnTo>
                  <a:pt x="385" y="233"/>
                </a:lnTo>
                <a:lnTo>
                  <a:pt x="392" y="224"/>
                </a:lnTo>
                <a:lnTo>
                  <a:pt x="397" y="212"/>
                </a:lnTo>
                <a:lnTo>
                  <a:pt x="399" y="198"/>
                </a:lnTo>
                <a:lnTo>
                  <a:pt x="399" y="181"/>
                </a:lnTo>
                <a:lnTo>
                  <a:pt x="396" y="163"/>
                </a:lnTo>
                <a:lnTo>
                  <a:pt x="390" y="143"/>
                </a:lnTo>
                <a:lnTo>
                  <a:pt x="384" y="124"/>
                </a:lnTo>
                <a:lnTo>
                  <a:pt x="379" y="105"/>
                </a:lnTo>
                <a:lnTo>
                  <a:pt x="370" y="87"/>
                </a:lnTo>
                <a:lnTo>
                  <a:pt x="360" y="69"/>
                </a:lnTo>
                <a:lnTo>
                  <a:pt x="347" y="53"/>
                </a:lnTo>
                <a:lnTo>
                  <a:pt x="330" y="38"/>
                </a:lnTo>
                <a:lnTo>
                  <a:pt x="309" y="24"/>
                </a:lnTo>
                <a:lnTo>
                  <a:pt x="285" y="13"/>
                </a:lnTo>
                <a:lnTo>
                  <a:pt x="261" y="6"/>
                </a:lnTo>
                <a:lnTo>
                  <a:pt x="238" y="1"/>
                </a:lnTo>
                <a:lnTo>
                  <a:pt x="216" y="0"/>
                </a:lnTo>
                <a:lnTo>
                  <a:pt x="194" y="3"/>
                </a:lnTo>
                <a:lnTo>
                  <a:pt x="173" y="7"/>
                </a:lnTo>
                <a:lnTo>
                  <a:pt x="155" y="13"/>
                </a:lnTo>
                <a:lnTo>
                  <a:pt x="139" y="22"/>
                </a:lnTo>
                <a:lnTo>
                  <a:pt x="124" y="32"/>
                </a:lnTo>
                <a:lnTo>
                  <a:pt x="110" y="43"/>
                </a:lnTo>
                <a:lnTo>
                  <a:pt x="97" y="54"/>
                </a:lnTo>
                <a:lnTo>
                  <a:pt x="88" y="66"/>
                </a:lnTo>
                <a:lnTo>
                  <a:pt x="80" y="77"/>
                </a:lnTo>
                <a:lnTo>
                  <a:pt x="76" y="90"/>
                </a:lnTo>
                <a:lnTo>
                  <a:pt x="73" y="102"/>
                </a:lnTo>
                <a:lnTo>
                  <a:pt x="74" y="114"/>
                </a:lnTo>
                <a:lnTo>
                  <a:pt x="80" y="143"/>
                </a:lnTo>
                <a:lnTo>
                  <a:pt x="84" y="178"/>
                </a:lnTo>
                <a:lnTo>
                  <a:pt x="79" y="205"/>
                </a:lnTo>
                <a:lnTo>
                  <a:pt x="64" y="220"/>
                </a:lnTo>
                <a:lnTo>
                  <a:pt x="55" y="220"/>
                </a:lnTo>
                <a:lnTo>
                  <a:pt x="48" y="218"/>
                </a:lnTo>
                <a:lnTo>
                  <a:pt x="42" y="215"/>
                </a:lnTo>
                <a:lnTo>
                  <a:pt x="39" y="209"/>
                </a:lnTo>
                <a:lnTo>
                  <a:pt x="34" y="204"/>
                </a:lnTo>
                <a:lnTo>
                  <a:pt x="29" y="200"/>
                </a:lnTo>
                <a:lnTo>
                  <a:pt x="24" y="196"/>
                </a:lnTo>
                <a:lnTo>
                  <a:pt x="17" y="196"/>
                </a:lnTo>
                <a:lnTo>
                  <a:pt x="4" y="205"/>
                </a:lnTo>
                <a:lnTo>
                  <a:pt x="0" y="224"/>
                </a:lnTo>
                <a:lnTo>
                  <a:pt x="0" y="244"/>
                </a:lnTo>
                <a:lnTo>
                  <a:pt x="4" y="264"/>
                </a:lnTo>
                <a:lnTo>
                  <a:pt x="8" y="273"/>
                </a:lnTo>
                <a:lnTo>
                  <a:pt x="11" y="284"/>
                </a:lnTo>
                <a:lnTo>
                  <a:pt x="16" y="295"/>
                </a:lnTo>
                <a:lnTo>
                  <a:pt x="20" y="306"/>
                </a:lnTo>
                <a:lnTo>
                  <a:pt x="25" y="316"/>
                </a:lnTo>
                <a:lnTo>
                  <a:pt x="31" y="324"/>
                </a:lnTo>
                <a:lnTo>
                  <a:pt x="36" y="330"/>
                </a:lnTo>
                <a:lnTo>
                  <a:pt x="42" y="331"/>
                </a:lnTo>
                <a:lnTo>
                  <a:pt x="48" y="330"/>
                </a:lnTo>
                <a:lnTo>
                  <a:pt x="55" y="326"/>
                </a:lnTo>
                <a:lnTo>
                  <a:pt x="59" y="322"/>
                </a:lnTo>
                <a:lnTo>
                  <a:pt x="65" y="316"/>
                </a:lnTo>
                <a:lnTo>
                  <a:pt x="69" y="309"/>
                </a:lnTo>
                <a:lnTo>
                  <a:pt x="72" y="301"/>
                </a:lnTo>
                <a:lnTo>
                  <a:pt x="73" y="293"/>
                </a:lnTo>
                <a:lnTo>
                  <a:pt x="72" y="285"/>
                </a:lnTo>
                <a:lnTo>
                  <a:pt x="79" y="294"/>
                </a:lnTo>
                <a:lnTo>
                  <a:pt x="84" y="306"/>
                </a:lnTo>
                <a:lnTo>
                  <a:pt x="84" y="319"/>
                </a:lnTo>
                <a:lnTo>
                  <a:pt x="80" y="332"/>
                </a:lnTo>
                <a:lnTo>
                  <a:pt x="87" y="340"/>
                </a:lnTo>
                <a:lnTo>
                  <a:pt x="94" y="348"/>
                </a:lnTo>
                <a:lnTo>
                  <a:pt x="100" y="357"/>
                </a:lnTo>
                <a:lnTo>
                  <a:pt x="104" y="368"/>
                </a:lnTo>
                <a:lnTo>
                  <a:pt x="108" y="379"/>
                </a:lnTo>
                <a:lnTo>
                  <a:pt x="111" y="391"/>
                </a:lnTo>
                <a:lnTo>
                  <a:pt x="114" y="403"/>
                </a:lnTo>
                <a:lnTo>
                  <a:pt x="115" y="418"/>
                </a:lnTo>
                <a:lnTo>
                  <a:pt x="115" y="450"/>
                </a:lnTo>
                <a:lnTo>
                  <a:pt x="112" y="482"/>
                </a:lnTo>
                <a:lnTo>
                  <a:pt x="107" y="512"/>
                </a:lnTo>
                <a:lnTo>
                  <a:pt x="99" y="536"/>
                </a:lnTo>
                <a:lnTo>
                  <a:pt x="93" y="556"/>
                </a:lnTo>
                <a:lnTo>
                  <a:pt x="91" y="572"/>
                </a:lnTo>
                <a:lnTo>
                  <a:pt x="91" y="584"/>
                </a:lnTo>
                <a:lnTo>
                  <a:pt x="88" y="596"/>
                </a:lnTo>
                <a:lnTo>
                  <a:pt x="99" y="597"/>
                </a:lnTo>
                <a:lnTo>
                  <a:pt x="107" y="597"/>
                </a:lnTo>
                <a:lnTo>
                  <a:pt x="114" y="596"/>
                </a:lnTo>
                <a:lnTo>
                  <a:pt x="119" y="595"/>
                </a:lnTo>
                <a:lnTo>
                  <a:pt x="125" y="592"/>
                </a:lnTo>
                <a:lnTo>
                  <a:pt x="131" y="588"/>
                </a:lnTo>
                <a:lnTo>
                  <a:pt x="138" y="581"/>
                </a:lnTo>
                <a:lnTo>
                  <a:pt x="145" y="573"/>
                </a:lnTo>
                <a:lnTo>
                  <a:pt x="153" y="562"/>
                </a:lnTo>
                <a:lnTo>
                  <a:pt x="161" y="553"/>
                </a:lnTo>
                <a:lnTo>
                  <a:pt x="170" y="545"/>
                </a:lnTo>
                <a:lnTo>
                  <a:pt x="178" y="536"/>
                </a:lnTo>
                <a:lnTo>
                  <a:pt x="187" y="529"/>
                </a:lnTo>
                <a:lnTo>
                  <a:pt x="195" y="523"/>
                </a:lnTo>
                <a:lnTo>
                  <a:pt x="202" y="518"/>
                </a:lnTo>
                <a:lnTo>
                  <a:pt x="208" y="514"/>
                </a:lnTo>
                <a:lnTo>
                  <a:pt x="214" y="509"/>
                </a:lnTo>
                <a:lnTo>
                  <a:pt x="221" y="504"/>
                </a:lnTo>
                <a:lnTo>
                  <a:pt x="228" y="496"/>
                </a:lnTo>
                <a:lnTo>
                  <a:pt x="235" y="486"/>
                </a:lnTo>
                <a:lnTo>
                  <a:pt x="241" y="476"/>
                </a:lnTo>
                <a:lnTo>
                  <a:pt x="247" y="465"/>
                </a:lnTo>
                <a:lnTo>
                  <a:pt x="253" y="453"/>
                </a:lnTo>
                <a:lnTo>
                  <a:pt x="258" y="440"/>
                </a:lnTo>
                <a:lnTo>
                  <a:pt x="261" y="428"/>
                </a:lnTo>
                <a:lnTo>
                  <a:pt x="266" y="414"/>
                </a:lnTo>
                <a:lnTo>
                  <a:pt x="271" y="400"/>
                </a:lnTo>
                <a:lnTo>
                  <a:pt x="277" y="386"/>
                </a:lnTo>
                <a:lnTo>
                  <a:pt x="284" y="372"/>
                </a:lnTo>
                <a:lnTo>
                  <a:pt x="291" y="360"/>
                </a:lnTo>
                <a:lnTo>
                  <a:pt x="298" y="349"/>
                </a:lnTo>
                <a:lnTo>
                  <a:pt x="305" y="340"/>
                </a:lnTo>
                <a:lnTo>
                  <a:pt x="313" y="333"/>
                </a:lnTo>
                <a:lnTo>
                  <a:pt x="320" y="326"/>
                </a:lnTo>
                <a:lnTo>
                  <a:pt x="328" y="319"/>
                </a:lnTo>
                <a:lnTo>
                  <a:pt x="335" y="312"/>
                </a:lnTo>
                <a:lnTo>
                  <a:pt x="342" y="306"/>
                </a:lnTo>
                <a:lnTo>
                  <a:pt x="347" y="297"/>
                </a:lnTo>
                <a:lnTo>
                  <a:pt x="352" y="287"/>
                </a:lnTo>
                <a:lnTo>
                  <a:pt x="355" y="277"/>
                </a:lnTo>
                <a:lnTo>
                  <a:pt x="345" y="276"/>
                </a:lnTo>
                <a:lnTo>
                  <a:pt x="336" y="273"/>
                </a:lnTo>
                <a:lnTo>
                  <a:pt x="328" y="272"/>
                </a:lnTo>
                <a:lnTo>
                  <a:pt x="320" y="270"/>
                </a:lnTo>
                <a:lnTo>
                  <a:pt x="312" y="268"/>
                </a:lnTo>
                <a:lnTo>
                  <a:pt x="304" y="263"/>
                </a:lnTo>
                <a:lnTo>
                  <a:pt x="296" y="258"/>
                </a:lnTo>
                <a:lnTo>
                  <a:pt x="288" y="253"/>
                </a:lnTo>
                <a:lnTo>
                  <a:pt x="278" y="247"/>
                </a:lnTo>
                <a:lnTo>
                  <a:pt x="269" y="242"/>
                </a:lnTo>
                <a:lnTo>
                  <a:pt x="259" y="239"/>
                </a:lnTo>
                <a:lnTo>
                  <a:pt x="248" y="238"/>
                </a:lnTo>
                <a:lnTo>
                  <a:pt x="238" y="239"/>
                </a:lnTo>
                <a:lnTo>
                  <a:pt x="226" y="242"/>
                </a:lnTo>
                <a:lnTo>
                  <a:pt x="215" y="247"/>
                </a:lnTo>
                <a:lnTo>
                  <a:pt x="205" y="255"/>
                </a:lnTo>
                <a:lnTo>
                  <a:pt x="193" y="263"/>
                </a:lnTo>
                <a:lnTo>
                  <a:pt x="183" y="269"/>
                </a:lnTo>
                <a:lnTo>
                  <a:pt x="172" y="273"/>
                </a:lnTo>
                <a:lnTo>
                  <a:pt x="161" y="276"/>
                </a:lnTo>
                <a:lnTo>
                  <a:pt x="150" y="277"/>
                </a:lnTo>
                <a:lnTo>
                  <a:pt x="140" y="274"/>
                </a:lnTo>
                <a:lnTo>
                  <a:pt x="129" y="271"/>
                </a:lnTo>
                <a:lnTo>
                  <a:pt x="117" y="26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7" name="Freeform 11"/>
          <p:cNvSpPr/>
          <p:nvPr/>
        </p:nvSpPr>
        <p:spPr>
          <a:xfrm>
            <a:off x="2101680" y="3416400"/>
            <a:ext cx="195480" cy="58680"/>
          </a:xfrm>
          <a:custGeom>
            <a:avLst/>
            <a:gdLst/>
            <a:ahLst/>
            <a:rect l="l" t="t" r="r" b="b"/>
            <a:pathLst>
              <a:path w="246" h="73">
                <a:moveTo>
                  <a:pt x="76" y="27"/>
                </a:moveTo>
                <a:lnTo>
                  <a:pt x="71" y="25"/>
                </a:lnTo>
                <a:lnTo>
                  <a:pt x="65" y="24"/>
                </a:lnTo>
                <a:lnTo>
                  <a:pt x="59" y="23"/>
                </a:lnTo>
                <a:lnTo>
                  <a:pt x="53" y="22"/>
                </a:lnTo>
                <a:lnTo>
                  <a:pt x="48" y="20"/>
                </a:lnTo>
                <a:lnTo>
                  <a:pt x="42" y="20"/>
                </a:lnTo>
                <a:lnTo>
                  <a:pt x="37" y="20"/>
                </a:lnTo>
                <a:lnTo>
                  <a:pt x="33" y="22"/>
                </a:lnTo>
                <a:lnTo>
                  <a:pt x="22" y="25"/>
                </a:lnTo>
                <a:lnTo>
                  <a:pt x="12" y="31"/>
                </a:lnTo>
                <a:lnTo>
                  <a:pt x="3" y="40"/>
                </a:lnTo>
                <a:lnTo>
                  <a:pt x="0" y="53"/>
                </a:lnTo>
                <a:lnTo>
                  <a:pt x="6" y="48"/>
                </a:lnTo>
                <a:lnTo>
                  <a:pt x="12" y="42"/>
                </a:lnTo>
                <a:lnTo>
                  <a:pt x="18" y="38"/>
                </a:lnTo>
                <a:lnTo>
                  <a:pt x="23" y="37"/>
                </a:lnTo>
                <a:lnTo>
                  <a:pt x="26" y="43"/>
                </a:lnTo>
                <a:lnTo>
                  <a:pt x="28" y="49"/>
                </a:lnTo>
                <a:lnTo>
                  <a:pt x="32" y="53"/>
                </a:lnTo>
                <a:lnTo>
                  <a:pt x="37" y="54"/>
                </a:lnTo>
                <a:lnTo>
                  <a:pt x="44" y="51"/>
                </a:lnTo>
                <a:lnTo>
                  <a:pt x="51" y="47"/>
                </a:lnTo>
                <a:lnTo>
                  <a:pt x="55" y="41"/>
                </a:lnTo>
                <a:lnTo>
                  <a:pt x="57" y="34"/>
                </a:lnTo>
                <a:lnTo>
                  <a:pt x="60" y="34"/>
                </a:lnTo>
                <a:lnTo>
                  <a:pt x="64" y="37"/>
                </a:lnTo>
                <a:lnTo>
                  <a:pt x="67" y="39"/>
                </a:lnTo>
                <a:lnTo>
                  <a:pt x="68" y="40"/>
                </a:lnTo>
                <a:lnTo>
                  <a:pt x="66" y="48"/>
                </a:lnTo>
                <a:lnTo>
                  <a:pt x="64" y="58"/>
                </a:lnTo>
                <a:lnTo>
                  <a:pt x="66" y="68"/>
                </a:lnTo>
                <a:lnTo>
                  <a:pt x="75" y="73"/>
                </a:lnTo>
                <a:lnTo>
                  <a:pt x="73" y="65"/>
                </a:lnTo>
                <a:lnTo>
                  <a:pt x="72" y="56"/>
                </a:lnTo>
                <a:lnTo>
                  <a:pt x="74" y="47"/>
                </a:lnTo>
                <a:lnTo>
                  <a:pt x="79" y="40"/>
                </a:lnTo>
                <a:lnTo>
                  <a:pt x="86" y="35"/>
                </a:lnTo>
                <a:lnTo>
                  <a:pt x="94" y="32"/>
                </a:lnTo>
                <a:lnTo>
                  <a:pt x="100" y="27"/>
                </a:lnTo>
                <a:lnTo>
                  <a:pt x="104" y="23"/>
                </a:lnTo>
                <a:lnTo>
                  <a:pt x="109" y="18"/>
                </a:lnTo>
                <a:lnTo>
                  <a:pt x="114" y="15"/>
                </a:lnTo>
                <a:lnTo>
                  <a:pt x="120" y="12"/>
                </a:lnTo>
                <a:lnTo>
                  <a:pt x="126" y="12"/>
                </a:lnTo>
                <a:lnTo>
                  <a:pt x="132" y="15"/>
                </a:lnTo>
                <a:lnTo>
                  <a:pt x="136" y="16"/>
                </a:lnTo>
                <a:lnTo>
                  <a:pt x="141" y="19"/>
                </a:lnTo>
                <a:lnTo>
                  <a:pt x="143" y="24"/>
                </a:lnTo>
                <a:lnTo>
                  <a:pt x="146" y="28"/>
                </a:lnTo>
                <a:lnTo>
                  <a:pt x="150" y="31"/>
                </a:lnTo>
                <a:lnTo>
                  <a:pt x="156" y="33"/>
                </a:lnTo>
                <a:lnTo>
                  <a:pt x="163" y="34"/>
                </a:lnTo>
                <a:lnTo>
                  <a:pt x="171" y="38"/>
                </a:lnTo>
                <a:lnTo>
                  <a:pt x="177" y="47"/>
                </a:lnTo>
                <a:lnTo>
                  <a:pt x="179" y="57"/>
                </a:lnTo>
                <a:lnTo>
                  <a:pt x="174" y="68"/>
                </a:lnTo>
                <a:lnTo>
                  <a:pt x="181" y="64"/>
                </a:lnTo>
                <a:lnTo>
                  <a:pt x="186" y="56"/>
                </a:lnTo>
                <a:lnTo>
                  <a:pt x="187" y="46"/>
                </a:lnTo>
                <a:lnTo>
                  <a:pt x="184" y="37"/>
                </a:lnTo>
                <a:lnTo>
                  <a:pt x="189" y="42"/>
                </a:lnTo>
                <a:lnTo>
                  <a:pt x="194" y="48"/>
                </a:lnTo>
                <a:lnTo>
                  <a:pt x="197" y="53"/>
                </a:lnTo>
                <a:lnTo>
                  <a:pt x="203" y="55"/>
                </a:lnTo>
                <a:lnTo>
                  <a:pt x="209" y="54"/>
                </a:lnTo>
                <a:lnTo>
                  <a:pt x="215" y="50"/>
                </a:lnTo>
                <a:lnTo>
                  <a:pt x="218" y="45"/>
                </a:lnTo>
                <a:lnTo>
                  <a:pt x="218" y="37"/>
                </a:lnTo>
                <a:lnTo>
                  <a:pt x="226" y="35"/>
                </a:lnTo>
                <a:lnTo>
                  <a:pt x="233" y="35"/>
                </a:lnTo>
                <a:lnTo>
                  <a:pt x="240" y="37"/>
                </a:lnTo>
                <a:lnTo>
                  <a:pt x="246" y="40"/>
                </a:lnTo>
                <a:lnTo>
                  <a:pt x="242" y="35"/>
                </a:lnTo>
                <a:lnTo>
                  <a:pt x="238" y="31"/>
                </a:lnTo>
                <a:lnTo>
                  <a:pt x="230" y="26"/>
                </a:lnTo>
                <a:lnTo>
                  <a:pt x="222" y="24"/>
                </a:lnTo>
                <a:lnTo>
                  <a:pt x="211" y="22"/>
                </a:lnTo>
                <a:lnTo>
                  <a:pt x="201" y="22"/>
                </a:lnTo>
                <a:lnTo>
                  <a:pt x="189" y="24"/>
                </a:lnTo>
                <a:lnTo>
                  <a:pt x="178" y="28"/>
                </a:lnTo>
                <a:lnTo>
                  <a:pt x="171" y="25"/>
                </a:lnTo>
                <a:lnTo>
                  <a:pt x="163" y="24"/>
                </a:lnTo>
                <a:lnTo>
                  <a:pt x="155" y="20"/>
                </a:lnTo>
                <a:lnTo>
                  <a:pt x="148" y="12"/>
                </a:lnTo>
                <a:lnTo>
                  <a:pt x="143" y="8"/>
                </a:lnTo>
                <a:lnTo>
                  <a:pt x="138" y="4"/>
                </a:lnTo>
                <a:lnTo>
                  <a:pt x="131" y="2"/>
                </a:lnTo>
                <a:lnTo>
                  <a:pt x="124" y="0"/>
                </a:lnTo>
                <a:lnTo>
                  <a:pt x="117" y="1"/>
                </a:lnTo>
                <a:lnTo>
                  <a:pt x="111" y="2"/>
                </a:lnTo>
                <a:lnTo>
                  <a:pt x="105" y="4"/>
                </a:lnTo>
                <a:lnTo>
                  <a:pt x="102" y="9"/>
                </a:lnTo>
                <a:lnTo>
                  <a:pt x="96" y="17"/>
                </a:lnTo>
                <a:lnTo>
                  <a:pt x="89" y="23"/>
                </a:lnTo>
                <a:lnTo>
                  <a:pt x="82" y="26"/>
                </a:lnTo>
                <a:lnTo>
                  <a:pt x="76" y="2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8" name="Freeform 12"/>
          <p:cNvSpPr/>
          <p:nvPr/>
        </p:nvSpPr>
        <p:spPr>
          <a:xfrm>
            <a:off x="2022480" y="3559320"/>
            <a:ext cx="20520" cy="48960"/>
          </a:xfrm>
          <a:custGeom>
            <a:avLst/>
            <a:gdLst/>
            <a:ahLst/>
            <a:rect l="l" t="t" r="r" b="b"/>
            <a:pathLst>
              <a:path w="26" h="62">
                <a:moveTo>
                  <a:pt x="26" y="9"/>
                </a:moveTo>
                <a:lnTo>
                  <a:pt x="17" y="2"/>
                </a:lnTo>
                <a:lnTo>
                  <a:pt x="12" y="0"/>
                </a:lnTo>
                <a:lnTo>
                  <a:pt x="8" y="3"/>
                </a:lnTo>
                <a:lnTo>
                  <a:pt x="5" y="9"/>
                </a:lnTo>
                <a:lnTo>
                  <a:pt x="1" y="18"/>
                </a:lnTo>
                <a:lnTo>
                  <a:pt x="0" y="32"/>
                </a:lnTo>
                <a:lnTo>
                  <a:pt x="4" y="47"/>
                </a:lnTo>
                <a:lnTo>
                  <a:pt x="13" y="62"/>
                </a:lnTo>
                <a:lnTo>
                  <a:pt x="8" y="41"/>
                </a:lnTo>
                <a:lnTo>
                  <a:pt x="7" y="23"/>
                </a:lnTo>
                <a:lnTo>
                  <a:pt x="12" y="11"/>
                </a:lnTo>
                <a:lnTo>
                  <a:pt x="26" y="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9" name="Freeform 13"/>
          <p:cNvSpPr/>
          <p:nvPr/>
        </p:nvSpPr>
        <p:spPr>
          <a:xfrm>
            <a:off x="2168640" y="3449520"/>
            <a:ext cx="21960" cy="17640"/>
          </a:xfrm>
          <a:custGeom>
            <a:avLst/>
            <a:gdLst/>
            <a:ahLst/>
            <a:rect l="l" t="t" r="r" b="b"/>
            <a:pathLst>
              <a:path w="26" h="22">
                <a:moveTo>
                  <a:pt x="24" y="0"/>
                </a:moveTo>
                <a:lnTo>
                  <a:pt x="16" y="1"/>
                </a:lnTo>
                <a:lnTo>
                  <a:pt x="6" y="5"/>
                </a:lnTo>
                <a:lnTo>
                  <a:pt x="0" y="12"/>
                </a:lnTo>
                <a:lnTo>
                  <a:pt x="2" y="20"/>
                </a:lnTo>
                <a:lnTo>
                  <a:pt x="10" y="22"/>
                </a:lnTo>
                <a:lnTo>
                  <a:pt x="20" y="16"/>
                </a:lnTo>
                <a:lnTo>
                  <a:pt x="26" y="7"/>
                </a:lnTo>
                <a:lnTo>
                  <a:pt x="2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0" name="Freeform 14"/>
          <p:cNvSpPr/>
          <p:nvPr/>
        </p:nvSpPr>
        <p:spPr>
          <a:xfrm>
            <a:off x="2216160" y="3449520"/>
            <a:ext cx="19080" cy="17640"/>
          </a:xfrm>
          <a:custGeom>
            <a:avLst/>
            <a:gdLst/>
            <a:ahLst/>
            <a:rect l="l" t="t" r="r" b="b"/>
            <a:pathLst>
              <a:path w="24" h="21">
                <a:moveTo>
                  <a:pt x="0" y="0"/>
                </a:moveTo>
                <a:lnTo>
                  <a:pt x="9" y="0"/>
                </a:lnTo>
                <a:lnTo>
                  <a:pt x="19" y="4"/>
                </a:lnTo>
                <a:lnTo>
                  <a:pt x="24" y="9"/>
                </a:lnTo>
                <a:lnTo>
                  <a:pt x="22" y="18"/>
                </a:lnTo>
                <a:lnTo>
                  <a:pt x="15" y="21"/>
                </a:lnTo>
                <a:lnTo>
                  <a:pt x="8" y="18"/>
                </a:lnTo>
                <a:lnTo>
                  <a:pt x="4" y="9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1" name="Freeform 15"/>
          <p:cNvSpPr/>
          <p:nvPr/>
        </p:nvSpPr>
        <p:spPr>
          <a:xfrm>
            <a:off x="2149560" y="3473280"/>
            <a:ext cx="108000" cy="46080"/>
          </a:xfrm>
          <a:custGeom>
            <a:avLst/>
            <a:gdLst/>
            <a:ahLst/>
            <a:rect l="l" t="t" r="r" b="b"/>
            <a:pathLst>
              <a:path w="136" h="58">
                <a:moveTo>
                  <a:pt x="0" y="34"/>
                </a:moveTo>
                <a:lnTo>
                  <a:pt x="4" y="30"/>
                </a:lnTo>
                <a:lnTo>
                  <a:pt x="8" y="24"/>
                </a:lnTo>
                <a:lnTo>
                  <a:pt x="14" y="20"/>
                </a:lnTo>
                <a:lnTo>
                  <a:pt x="22" y="14"/>
                </a:lnTo>
                <a:lnTo>
                  <a:pt x="29" y="9"/>
                </a:lnTo>
                <a:lnTo>
                  <a:pt x="37" y="6"/>
                </a:lnTo>
                <a:lnTo>
                  <a:pt x="45" y="4"/>
                </a:lnTo>
                <a:lnTo>
                  <a:pt x="52" y="5"/>
                </a:lnTo>
                <a:lnTo>
                  <a:pt x="61" y="7"/>
                </a:lnTo>
                <a:lnTo>
                  <a:pt x="68" y="7"/>
                </a:lnTo>
                <a:lnTo>
                  <a:pt x="73" y="6"/>
                </a:lnTo>
                <a:lnTo>
                  <a:pt x="80" y="3"/>
                </a:lnTo>
                <a:lnTo>
                  <a:pt x="87" y="0"/>
                </a:lnTo>
                <a:lnTo>
                  <a:pt x="95" y="1"/>
                </a:lnTo>
                <a:lnTo>
                  <a:pt x="102" y="4"/>
                </a:lnTo>
                <a:lnTo>
                  <a:pt x="110" y="7"/>
                </a:lnTo>
                <a:lnTo>
                  <a:pt x="117" y="12"/>
                </a:lnTo>
                <a:lnTo>
                  <a:pt x="125" y="18"/>
                </a:lnTo>
                <a:lnTo>
                  <a:pt x="131" y="23"/>
                </a:lnTo>
                <a:lnTo>
                  <a:pt x="136" y="28"/>
                </a:lnTo>
                <a:lnTo>
                  <a:pt x="133" y="32"/>
                </a:lnTo>
                <a:lnTo>
                  <a:pt x="127" y="37"/>
                </a:lnTo>
                <a:lnTo>
                  <a:pt x="120" y="43"/>
                </a:lnTo>
                <a:lnTo>
                  <a:pt x="112" y="47"/>
                </a:lnTo>
                <a:lnTo>
                  <a:pt x="103" y="52"/>
                </a:lnTo>
                <a:lnTo>
                  <a:pt x="91" y="56"/>
                </a:lnTo>
                <a:lnTo>
                  <a:pt x="79" y="58"/>
                </a:lnTo>
                <a:lnTo>
                  <a:pt x="64" y="58"/>
                </a:lnTo>
                <a:lnTo>
                  <a:pt x="50" y="57"/>
                </a:lnTo>
                <a:lnTo>
                  <a:pt x="37" y="56"/>
                </a:lnTo>
                <a:lnTo>
                  <a:pt x="28" y="54"/>
                </a:lnTo>
                <a:lnTo>
                  <a:pt x="20" y="52"/>
                </a:lnTo>
                <a:lnTo>
                  <a:pt x="14" y="49"/>
                </a:lnTo>
                <a:lnTo>
                  <a:pt x="8" y="44"/>
                </a:lnTo>
                <a:lnTo>
                  <a:pt x="4" y="39"/>
                </a:lnTo>
                <a:lnTo>
                  <a:pt x="0" y="3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2" name="Freeform 16"/>
          <p:cNvSpPr/>
          <p:nvPr/>
        </p:nvSpPr>
        <p:spPr>
          <a:xfrm>
            <a:off x="2157480" y="3486240"/>
            <a:ext cx="90360" cy="12600"/>
          </a:xfrm>
          <a:custGeom>
            <a:avLst/>
            <a:gdLst/>
            <a:ahLst/>
            <a:rect l="l" t="t" r="r" b="b"/>
            <a:pathLst>
              <a:path w="114" h="16">
                <a:moveTo>
                  <a:pt x="0" y="16"/>
                </a:moveTo>
                <a:lnTo>
                  <a:pt x="3" y="15"/>
                </a:lnTo>
                <a:lnTo>
                  <a:pt x="8" y="14"/>
                </a:lnTo>
                <a:lnTo>
                  <a:pt x="14" y="12"/>
                </a:lnTo>
                <a:lnTo>
                  <a:pt x="19" y="8"/>
                </a:lnTo>
                <a:lnTo>
                  <a:pt x="26" y="6"/>
                </a:lnTo>
                <a:lnTo>
                  <a:pt x="34" y="4"/>
                </a:lnTo>
                <a:lnTo>
                  <a:pt x="42" y="2"/>
                </a:lnTo>
                <a:lnTo>
                  <a:pt x="52" y="0"/>
                </a:lnTo>
                <a:lnTo>
                  <a:pt x="61" y="0"/>
                </a:lnTo>
                <a:lnTo>
                  <a:pt x="69" y="2"/>
                </a:lnTo>
                <a:lnTo>
                  <a:pt x="77" y="3"/>
                </a:lnTo>
                <a:lnTo>
                  <a:pt x="84" y="5"/>
                </a:lnTo>
                <a:lnTo>
                  <a:pt x="91" y="7"/>
                </a:lnTo>
                <a:lnTo>
                  <a:pt x="99" y="8"/>
                </a:lnTo>
                <a:lnTo>
                  <a:pt x="106" y="11"/>
                </a:lnTo>
                <a:lnTo>
                  <a:pt x="114" y="12"/>
                </a:lnTo>
                <a:lnTo>
                  <a:pt x="108" y="13"/>
                </a:lnTo>
                <a:lnTo>
                  <a:pt x="101" y="12"/>
                </a:lnTo>
                <a:lnTo>
                  <a:pt x="94" y="12"/>
                </a:lnTo>
                <a:lnTo>
                  <a:pt x="87" y="11"/>
                </a:lnTo>
                <a:lnTo>
                  <a:pt x="79" y="10"/>
                </a:lnTo>
                <a:lnTo>
                  <a:pt x="72" y="8"/>
                </a:lnTo>
                <a:lnTo>
                  <a:pt x="64" y="7"/>
                </a:lnTo>
                <a:lnTo>
                  <a:pt x="56" y="7"/>
                </a:lnTo>
                <a:lnTo>
                  <a:pt x="49" y="8"/>
                </a:lnTo>
                <a:lnTo>
                  <a:pt x="42" y="10"/>
                </a:lnTo>
                <a:lnTo>
                  <a:pt x="34" y="11"/>
                </a:lnTo>
                <a:lnTo>
                  <a:pt x="27" y="13"/>
                </a:lnTo>
                <a:lnTo>
                  <a:pt x="19" y="15"/>
                </a:lnTo>
                <a:lnTo>
                  <a:pt x="12" y="16"/>
                </a:lnTo>
                <a:lnTo>
                  <a:pt x="5" y="16"/>
                </a:lnTo>
                <a:lnTo>
                  <a:pt x="0" y="1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3" name="Freeform 17"/>
          <p:cNvSpPr/>
          <p:nvPr/>
        </p:nvSpPr>
        <p:spPr>
          <a:xfrm>
            <a:off x="2116080" y="2711520"/>
            <a:ext cx="461880" cy="1128600"/>
          </a:xfrm>
          <a:custGeom>
            <a:avLst/>
            <a:gdLst/>
            <a:ahLst/>
            <a:rect l="l" t="t" r="r" b="b"/>
            <a:pathLst>
              <a:path w="583" h="1421">
                <a:moveTo>
                  <a:pt x="231" y="47"/>
                </a:moveTo>
                <a:lnTo>
                  <a:pt x="242" y="56"/>
                </a:lnTo>
                <a:lnTo>
                  <a:pt x="251" y="71"/>
                </a:lnTo>
                <a:lnTo>
                  <a:pt x="259" y="91"/>
                </a:lnTo>
                <a:lnTo>
                  <a:pt x="265" y="112"/>
                </a:lnTo>
                <a:lnTo>
                  <a:pt x="269" y="137"/>
                </a:lnTo>
                <a:lnTo>
                  <a:pt x="273" y="162"/>
                </a:lnTo>
                <a:lnTo>
                  <a:pt x="274" y="185"/>
                </a:lnTo>
                <a:lnTo>
                  <a:pt x="274" y="207"/>
                </a:lnTo>
                <a:lnTo>
                  <a:pt x="275" y="231"/>
                </a:lnTo>
                <a:lnTo>
                  <a:pt x="282" y="260"/>
                </a:lnTo>
                <a:lnTo>
                  <a:pt x="292" y="293"/>
                </a:lnTo>
                <a:lnTo>
                  <a:pt x="306" y="327"/>
                </a:lnTo>
                <a:lnTo>
                  <a:pt x="320" y="360"/>
                </a:lnTo>
                <a:lnTo>
                  <a:pt x="334" y="391"/>
                </a:lnTo>
                <a:lnTo>
                  <a:pt x="346" y="418"/>
                </a:lnTo>
                <a:lnTo>
                  <a:pt x="356" y="436"/>
                </a:lnTo>
                <a:lnTo>
                  <a:pt x="366" y="456"/>
                </a:lnTo>
                <a:lnTo>
                  <a:pt x="380" y="483"/>
                </a:lnTo>
                <a:lnTo>
                  <a:pt x="396" y="517"/>
                </a:lnTo>
                <a:lnTo>
                  <a:pt x="413" y="554"/>
                </a:lnTo>
                <a:lnTo>
                  <a:pt x="431" y="593"/>
                </a:lnTo>
                <a:lnTo>
                  <a:pt x="444" y="632"/>
                </a:lnTo>
                <a:lnTo>
                  <a:pt x="456" y="670"/>
                </a:lnTo>
                <a:lnTo>
                  <a:pt x="463" y="703"/>
                </a:lnTo>
                <a:lnTo>
                  <a:pt x="465" y="754"/>
                </a:lnTo>
                <a:lnTo>
                  <a:pt x="466" y="816"/>
                </a:lnTo>
                <a:lnTo>
                  <a:pt x="471" y="884"/>
                </a:lnTo>
                <a:lnTo>
                  <a:pt x="487" y="951"/>
                </a:lnTo>
                <a:lnTo>
                  <a:pt x="495" y="973"/>
                </a:lnTo>
                <a:lnTo>
                  <a:pt x="505" y="1000"/>
                </a:lnTo>
                <a:lnTo>
                  <a:pt x="516" y="1030"/>
                </a:lnTo>
                <a:lnTo>
                  <a:pt x="527" y="1062"/>
                </a:lnTo>
                <a:lnTo>
                  <a:pt x="538" y="1094"/>
                </a:lnTo>
                <a:lnTo>
                  <a:pt x="547" y="1127"/>
                </a:lnTo>
                <a:lnTo>
                  <a:pt x="554" y="1159"/>
                </a:lnTo>
                <a:lnTo>
                  <a:pt x="556" y="1188"/>
                </a:lnTo>
                <a:lnTo>
                  <a:pt x="558" y="1250"/>
                </a:lnTo>
                <a:lnTo>
                  <a:pt x="564" y="1314"/>
                </a:lnTo>
                <a:lnTo>
                  <a:pt x="572" y="1374"/>
                </a:lnTo>
                <a:lnTo>
                  <a:pt x="583" y="1421"/>
                </a:lnTo>
                <a:lnTo>
                  <a:pt x="572" y="1420"/>
                </a:lnTo>
                <a:lnTo>
                  <a:pt x="561" y="1418"/>
                </a:lnTo>
                <a:lnTo>
                  <a:pt x="550" y="1415"/>
                </a:lnTo>
                <a:lnTo>
                  <a:pt x="540" y="1412"/>
                </a:lnTo>
                <a:lnTo>
                  <a:pt x="530" y="1409"/>
                </a:lnTo>
                <a:lnTo>
                  <a:pt x="519" y="1404"/>
                </a:lnTo>
                <a:lnTo>
                  <a:pt x="508" y="1399"/>
                </a:lnTo>
                <a:lnTo>
                  <a:pt x="497" y="1394"/>
                </a:lnTo>
                <a:lnTo>
                  <a:pt x="499" y="1374"/>
                </a:lnTo>
                <a:lnTo>
                  <a:pt x="499" y="1353"/>
                </a:lnTo>
                <a:lnTo>
                  <a:pt x="496" y="1331"/>
                </a:lnTo>
                <a:lnTo>
                  <a:pt x="493" y="1309"/>
                </a:lnTo>
                <a:lnTo>
                  <a:pt x="487" y="1288"/>
                </a:lnTo>
                <a:lnTo>
                  <a:pt x="481" y="1267"/>
                </a:lnTo>
                <a:lnTo>
                  <a:pt x="473" y="1248"/>
                </a:lnTo>
                <a:lnTo>
                  <a:pt x="465" y="1231"/>
                </a:lnTo>
                <a:lnTo>
                  <a:pt x="455" y="1215"/>
                </a:lnTo>
                <a:lnTo>
                  <a:pt x="443" y="1197"/>
                </a:lnTo>
                <a:lnTo>
                  <a:pt x="431" y="1179"/>
                </a:lnTo>
                <a:lnTo>
                  <a:pt x="418" y="1160"/>
                </a:lnTo>
                <a:lnTo>
                  <a:pt x="406" y="1141"/>
                </a:lnTo>
                <a:lnTo>
                  <a:pt x="397" y="1122"/>
                </a:lnTo>
                <a:lnTo>
                  <a:pt x="390" y="1103"/>
                </a:lnTo>
                <a:lnTo>
                  <a:pt x="388" y="1085"/>
                </a:lnTo>
                <a:lnTo>
                  <a:pt x="386" y="1095"/>
                </a:lnTo>
                <a:lnTo>
                  <a:pt x="384" y="1110"/>
                </a:lnTo>
                <a:lnTo>
                  <a:pt x="386" y="1126"/>
                </a:lnTo>
                <a:lnTo>
                  <a:pt x="389" y="1144"/>
                </a:lnTo>
                <a:lnTo>
                  <a:pt x="394" y="1161"/>
                </a:lnTo>
                <a:lnTo>
                  <a:pt x="399" y="1178"/>
                </a:lnTo>
                <a:lnTo>
                  <a:pt x="405" y="1194"/>
                </a:lnTo>
                <a:lnTo>
                  <a:pt x="412" y="1207"/>
                </a:lnTo>
                <a:lnTo>
                  <a:pt x="420" y="1222"/>
                </a:lnTo>
                <a:lnTo>
                  <a:pt x="428" y="1239"/>
                </a:lnTo>
                <a:lnTo>
                  <a:pt x="437" y="1261"/>
                </a:lnTo>
                <a:lnTo>
                  <a:pt x="444" y="1284"/>
                </a:lnTo>
                <a:lnTo>
                  <a:pt x="451" y="1307"/>
                </a:lnTo>
                <a:lnTo>
                  <a:pt x="454" y="1331"/>
                </a:lnTo>
                <a:lnTo>
                  <a:pt x="454" y="1353"/>
                </a:lnTo>
                <a:lnTo>
                  <a:pt x="449" y="1373"/>
                </a:lnTo>
                <a:lnTo>
                  <a:pt x="434" y="1365"/>
                </a:lnTo>
                <a:lnTo>
                  <a:pt x="416" y="1351"/>
                </a:lnTo>
                <a:lnTo>
                  <a:pt x="396" y="1334"/>
                </a:lnTo>
                <a:lnTo>
                  <a:pt x="376" y="1311"/>
                </a:lnTo>
                <a:lnTo>
                  <a:pt x="359" y="1284"/>
                </a:lnTo>
                <a:lnTo>
                  <a:pt x="343" y="1253"/>
                </a:lnTo>
                <a:lnTo>
                  <a:pt x="331" y="1218"/>
                </a:lnTo>
                <a:lnTo>
                  <a:pt x="325" y="1180"/>
                </a:lnTo>
                <a:lnTo>
                  <a:pt x="318" y="1111"/>
                </a:lnTo>
                <a:lnTo>
                  <a:pt x="315" y="1057"/>
                </a:lnTo>
                <a:lnTo>
                  <a:pt x="315" y="1008"/>
                </a:lnTo>
                <a:lnTo>
                  <a:pt x="319" y="951"/>
                </a:lnTo>
                <a:lnTo>
                  <a:pt x="321" y="894"/>
                </a:lnTo>
                <a:lnTo>
                  <a:pt x="318" y="845"/>
                </a:lnTo>
                <a:lnTo>
                  <a:pt x="310" y="804"/>
                </a:lnTo>
                <a:lnTo>
                  <a:pt x="297" y="767"/>
                </a:lnTo>
                <a:lnTo>
                  <a:pt x="288" y="732"/>
                </a:lnTo>
                <a:lnTo>
                  <a:pt x="287" y="697"/>
                </a:lnTo>
                <a:lnTo>
                  <a:pt x="288" y="663"/>
                </a:lnTo>
                <a:lnTo>
                  <a:pt x="289" y="631"/>
                </a:lnTo>
                <a:lnTo>
                  <a:pt x="288" y="612"/>
                </a:lnTo>
                <a:lnTo>
                  <a:pt x="285" y="587"/>
                </a:lnTo>
                <a:lnTo>
                  <a:pt x="281" y="557"/>
                </a:lnTo>
                <a:lnTo>
                  <a:pt x="275" y="524"/>
                </a:lnTo>
                <a:lnTo>
                  <a:pt x="267" y="489"/>
                </a:lnTo>
                <a:lnTo>
                  <a:pt x="259" y="453"/>
                </a:lnTo>
                <a:lnTo>
                  <a:pt x="249" y="420"/>
                </a:lnTo>
                <a:lnTo>
                  <a:pt x="238" y="389"/>
                </a:lnTo>
                <a:lnTo>
                  <a:pt x="228" y="361"/>
                </a:lnTo>
                <a:lnTo>
                  <a:pt x="216" y="336"/>
                </a:lnTo>
                <a:lnTo>
                  <a:pt x="206" y="313"/>
                </a:lnTo>
                <a:lnTo>
                  <a:pt x="194" y="291"/>
                </a:lnTo>
                <a:lnTo>
                  <a:pt x="183" y="270"/>
                </a:lnTo>
                <a:lnTo>
                  <a:pt x="170" y="250"/>
                </a:lnTo>
                <a:lnTo>
                  <a:pt x="158" y="229"/>
                </a:lnTo>
                <a:lnTo>
                  <a:pt x="143" y="207"/>
                </a:lnTo>
                <a:lnTo>
                  <a:pt x="126" y="185"/>
                </a:lnTo>
                <a:lnTo>
                  <a:pt x="108" y="162"/>
                </a:lnTo>
                <a:lnTo>
                  <a:pt x="90" y="140"/>
                </a:lnTo>
                <a:lnTo>
                  <a:pt x="70" y="118"/>
                </a:lnTo>
                <a:lnTo>
                  <a:pt x="52" y="100"/>
                </a:lnTo>
                <a:lnTo>
                  <a:pt x="35" y="83"/>
                </a:lnTo>
                <a:lnTo>
                  <a:pt x="22" y="70"/>
                </a:lnTo>
                <a:lnTo>
                  <a:pt x="10" y="61"/>
                </a:lnTo>
                <a:lnTo>
                  <a:pt x="0" y="48"/>
                </a:lnTo>
                <a:lnTo>
                  <a:pt x="0" y="38"/>
                </a:lnTo>
                <a:lnTo>
                  <a:pt x="7" y="33"/>
                </a:lnTo>
                <a:lnTo>
                  <a:pt x="18" y="36"/>
                </a:lnTo>
                <a:lnTo>
                  <a:pt x="26" y="41"/>
                </a:lnTo>
                <a:lnTo>
                  <a:pt x="37" y="48"/>
                </a:lnTo>
                <a:lnTo>
                  <a:pt x="50" y="55"/>
                </a:lnTo>
                <a:lnTo>
                  <a:pt x="64" y="63"/>
                </a:lnTo>
                <a:lnTo>
                  <a:pt x="79" y="72"/>
                </a:lnTo>
                <a:lnTo>
                  <a:pt x="93" y="80"/>
                </a:lnTo>
                <a:lnTo>
                  <a:pt x="106" y="87"/>
                </a:lnTo>
                <a:lnTo>
                  <a:pt x="116" y="93"/>
                </a:lnTo>
                <a:lnTo>
                  <a:pt x="113" y="84"/>
                </a:lnTo>
                <a:lnTo>
                  <a:pt x="108" y="73"/>
                </a:lnTo>
                <a:lnTo>
                  <a:pt x="102" y="62"/>
                </a:lnTo>
                <a:lnTo>
                  <a:pt x="95" y="49"/>
                </a:lnTo>
                <a:lnTo>
                  <a:pt x="88" y="36"/>
                </a:lnTo>
                <a:lnTo>
                  <a:pt x="80" y="24"/>
                </a:lnTo>
                <a:lnTo>
                  <a:pt x="71" y="11"/>
                </a:lnTo>
                <a:lnTo>
                  <a:pt x="61" y="0"/>
                </a:lnTo>
                <a:lnTo>
                  <a:pt x="72" y="1"/>
                </a:lnTo>
                <a:lnTo>
                  <a:pt x="86" y="6"/>
                </a:lnTo>
                <a:lnTo>
                  <a:pt x="100" y="17"/>
                </a:lnTo>
                <a:lnTo>
                  <a:pt x="115" y="30"/>
                </a:lnTo>
                <a:lnTo>
                  <a:pt x="129" y="44"/>
                </a:lnTo>
                <a:lnTo>
                  <a:pt x="143" y="61"/>
                </a:lnTo>
                <a:lnTo>
                  <a:pt x="154" y="78"/>
                </a:lnTo>
                <a:lnTo>
                  <a:pt x="164" y="95"/>
                </a:lnTo>
                <a:lnTo>
                  <a:pt x="166" y="79"/>
                </a:lnTo>
                <a:lnTo>
                  <a:pt x="163" y="61"/>
                </a:lnTo>
                <a:lnTo>
                  <a:pt x="153" y="39"/>
                </a:lnTo>
                <a:lnTo>
                  <a:pt x="137" y="12"/>
                </a:lnTo>
                <a:lnTo>
                  <a:pt x="146" y="12"/>
                </a:lnTo>
                <a:lnTo>
                  <a:pt x="158" y="17"/>
                </a:lnTo>
                <a:lnTo>
                  <a:pt x="170" y="25"/>
                </a:lnTo>
                <a:lnTo>
                  <a:pt x="183" y="36"/>
                </a:lnTo>
                <a:lnTo>
                  <a:pt x="197" y="51"/>
                </a:lnTo>
                <a:lnTo>
                  <a:pt x="209" y="69"/>
                </a:lnTo>
                <a:lnTo>
                  <a:pt x="221" y="88"/>
                </a:lnTo>
                <a:lnTo>
                  <a:pt x="231" y="109"/>
                </a:lnTo>
                <a:lnTo>
                  <a:pt x="235" y="95"/>
                </a:lnTo>
                <a:lnTo>
                  <a:pt x="236" y="79"/>
                </a:lnTo>
                <a:lnTo>
                  <a:pt x="235" y="62"/>
                </a:lnTo>
                <a:lnTo>
                  <a:pt x="231" y="4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4" name="Freeform 18"/>
          <p:cNvSpPr/>
          <p:nvPr/>
        </p:nvSpPr>
        <p:spPr>
          <a:xfrm>
            <a:off x="1901880" y="3621240"/>
            <a:ext cx="722160" cy="917280"/>
          </a:xfrm>
          <a:custGeom>
            <a:avLst/>
            <a:gdLst/>
            <a:ahLst/>
            <a:rect l="l" t="t" r="r" b="b"/>
            <a:pathLst>
              <a:path w="909" h="1155">
                <a:moveTo>
                  <a:pt x="221" y="128"/>
                </a:moveTo>
                <a:lnTo>
                  <a:pt x="228" y="142"/>
                </a:lnTo>
                <a:lnTo>
                  <a:pt x="232" y="160"/>
                </a:lnTo>
                <a:lnTo>
                  <a:pt x="232" y="181"/>
                </a:lnTo>
                <a:lnTo>
                  <a:pt x="225" y="203"/>
                </a:lnTo>
                <a:lnTo>
                  <a:pt x="217" y="227"/>
                </a:lnTo>
                <a:lnTo>
                  <a:pt x="212" y="251"/>
                </a:lnTo>
                <a:lnTo>
                  <a:pt x="210" y="273"/>
                </a:lnTo>
                <a:lnTo>
                  <a:pt x="206" y="290"/>
                </a:lnTo>
                <a:lnTo>
                  <a:pt x="202" y="288"/>
                </a:lnTo>
                <a:lnTo>
                  <a:pt x="195" y="287"/>
                </a:lnTo>
                <a:lnTo>
                  <a:pt x="188" y="283"/>
                </a:lnTo>
                <a:lnTo>
                  <a:pt x="180" y="280"/>
                </a:lnTo>
                <a:lnTo>
                  <a:pt x="172" y="275"/>
                </a:lnTo>
                <a:lnTo>
                  <a:pt x="165" y="268"/>
                </a:lnTo>
                <a:lnTo>
                  <a:pt x="159" y="260"/>
                </a:lnTo>
                <a:lnTo>
                  <a:pt x="156" y="251"/>
                </a:lnTo>
                <a:lnTo>
                  <a:pt x="156" y="265"/>
                </a:lnTo>
                <a:lnTo>
                  <a:pt x="159" y="279"/>
                </a:lnTo>
                <a:lnTo>
                  <a:pt x="166" y="291"/>
                </a:lnTo>
                <a:lnTo>
                  <a:pt x="174" y="304"/>
                </a:lnTo>
                <a:lnTo>
                  <a:pt x="184" y="316"/>
                </a:lnTo>
                <a:lnTo>
                  <a:pt x="196" y="326"/>
                </a:lnTo>
                <a:lnTo>
                  <a:pt x="209" y="333"/>
                </a:lnTo>
                <a:lnTo>
                  <a:pt x="221" y="336"/>
                </a:lnTo>
                <a:lnTo>
                  <a:pt x="235" y="337"/>
                </a:lnTo>
                <a:lnTo>
                  <a:pt x="248" y="335"/>
                </a:lnTo>
                <a:lnTo>
                  <a:pt x="260" y="332"/>
                </a:lnTo>
                <a:lnTo>
                  <a:pt x="273" y="327"/>
                </a:lnTo>
                <a:lnTo>
                  <a:pt x="285" y="321"/>
                </a:lnTo>
                <a:lnTo>
                  <a:pt x="294" y="314"/>
                </a:lnTo>
                <a:lnTo>
                  <a:pt x="303" y="306"/>
                </a:lnTo>
                <a:lnTo>
                  <a:pt x="310" y="298"/>
                </a:lnTo>
                <a:lnTo>
                  <a:pt x="316" y="290"/>
                </a:lnTo>
                <a:lnTo>
                  <a:pt x="323" y="283"/>
                </a:lnTo>
                <a:lnTo>
                  <a:pt x="330" y="276"/>
                </a:lnTo>
                <a:lnTo>
                  <a:pt x="338" y="269"/>
                </a:lnTo>
                <a:lnTo>
                  <a:pt x="345" y="264"/>
                </a:lnTo>
                <a:lnTo>
                  <a:pt x="353" y="259"/>
                </a:lnTo>
                <a:lnTo>
                  <a:pt x="360" y="254"/>
                </a:lnTo>
                <a:lnTo>
                  <a:pt x="368" y="251"/>
                </a:lnTo>
                <a:lnTo>
                  <a:pt x="376" y="246"/>
                </a:lnTo>
                <a:lnTo>
                  <a:pt x="384" y="241"/>
                </a:lnTo>
                <a:lnTo>
                  <a:pt x="392" y="231"/>
                </a:lnTo>
                <a:lnTo>
                  <a:pt x="401" y="222"/>
                </a:lnTo>
                <a:lnTo>
                  <a:pt x="408" y="211"/>
                </a:lnTo>
                <a:lnTo>
                  <a:pt x="415" y="198"/>
                </a:lnTo>
                <a:lnTo>
                  <a:pt x="422" y="184"/>
                </a:lnTo>
                <a:lnTo>
                  <a:pt x="426" y="170"/>
                </a:lnTo>
                <a:lnTo>
                  <a:pt x="430" y="157"/>
                </a:lnTo>
                <a:lnTo>
                  <a:pt x="434" y="143"/>
                </a:lnTo>
                <a:lnTo>
                  <a:pt x="439" y="129"/>
                </a:lnTo>
                <a:lnTo>
                  <a:pt x="444" y="116"/>
                </a:lnTo>
                <a:lnTo>
                  <a:pt x="448" y="104"/>
                </a:lnTo>
                <a:lnTo>
                  <a:pt x="454" y="93"/>
                </a:lnTo>
                <a:lnTo>
                  <a:pt x="461" y="84"/>
                </a:lnTo>
                <a:lnTo>
                  <a:pt x="469" y="77"/>
                </a:lnTo>
                <a:lnTo>
                  <a:pt x="477" y="69"/>
                </a:lnTo>
                <a:lnTo>
                  <a:pt x="486" y="59"/>
                </a:lnTo>
                <a:lnTo>
                  <a:pt x="494" y="46"/>
                </a:lnTo>
                <a:lnTo>
                  <a:pt x="504" y="32"/>
                </a:lnTo>
                <a:lnTo>
                  <a:pt x="510" y="21"/>
                </a:lnTo>
                <a:lnTo>
                  <a:pt x="516" y="9"/>
                </a:lnTo>
                <a:lnTo>
                  <a:pt x="521" y="2"/>
                </a:lnTo>
                <a:lnTo>
                  <a:pt x="522" y="0"/>
                </a:lnTo>
                <a:lnTo>
                  <a:pt x="525" y="21"/>
                </a:lnTo>
                <a:lnTo>
                  <a:pt x="530" y="42"/>
                </a:lnTo>
                <a:lnTo>
                  <a:pt x="538" y="67"/>
                </a:lnTo>
                <a:lnTo>
                  <a:pt x="547" y="90"/>
                </a:lnTo>
                <a:lnTo>
                  <a:pt x="558" y="114"/>
                </a:lnTo>
                <a:lnTo>
                  <a:pt x="570" y="137"/>
                </a:lnTo>
                <a:lnTo>
                  <a:pt x="584" y="159"/>
                </a:lnTo>
                <a:lnTo>
                  <a:pt x="599" y="178"/>
                </a:lnTo>
                <a:lnTo>
                  <a:pt x="607" y="188"/>
                </a:lnTo>
                <a:lnTo>
                  <a:pt x="618" y="198"/>
                </a:lnTo>
                <a:lnTo>
                  <a:pt x="629" y="208"/>
                </a:lnTo>
                <a:lnTo>
                  <a:pt x="642" y="219"/>
                </a:lnTo>
                <a:lnTo>
                  <a:pt x="656" y="230"/>
                </a:lnTo>
                <a:lnTo>
                  <a:pt x="671" y="241"/>
                </a:lnTo>
                <a:lnTo>
                  <a:pt x="688" y="251"/>
                </a:lnTo>
                <a:lnTo>
                  <a:pt x="706" y="260"/>
                </a:lnTo>
                <a:lnTo>
                  <a:pt x="726" y="271"/>
                </a:lnTo>
                <a:lnTo>
                  <a:pt x="748" y="279"/>
                </a:lnTo>
                <a:lnTo>
                  <a:pt x="770" y="288"/>
                </a:lnTo>
                <a:lnTo>
                  <a:pt x="795" y="295"/>
                </a:lnTo>
                <a:lnTo>
                  <a:pt x="820" y="302"/>
                </a:lnTo>
                <a:lnTo>
                  <a:pt x="848" y="307"/>
                </a:lnTo>
                <a:lnTo>
                  <a:pt x="878" y="311"/>
                </a:lnTo>
                <a:lnTo>
                  <a:pt x="909" y="314"/>
                </a:lnTo>
                <a:lnTo>
                  <a:pt x="904" y="343"/>
                </a:lnTo>
                <a:lnTo>
                  <a:pt x="899" y="378"/>
                </a:lnTo>
                <a:lnTo>
                  <a:pt x="895" y="418"/>
                </a:lnTo>
                <a:lnTo>
                  <a:pt x="898" y="462"/>
                </a:lnTo>
                <a:lnTo>
                  <a:pt x="892" y="447"/>
                </a:lnTo>
                <a:lnTo>
                  <a:pt x="885" y="431"/>
                </a:lnTo>
                <a:lnTo>
                  <a:pt x="877" y="415"/>
                </a:lnTo>
                <a:lnTo>
                  <a:pt x="866" y="398"/>
                </a:lnTo>
                <a:lnTo>
                  <a:pt x="855" y="383"/>
                </a:lnTo>
                <a:lnTo>
                  <a:pt x="841" y="370"/>
                </a:lnTo>
                <a:lnTo>
                  <a:pt x="826" y="357"/>
                </a:lnTo>
                <a:lnTo>
                  <a:pt x="808" y="347"/>
                </a:lnTo>
                <a:lnTo>
                  <a:pt x="815" y="363"/>
                </a:lnTo>
                <a:lnTo>
                  <a:pt x="822" y="379"/>
                </a:lnTo>
                <a:lnTo>
                  <a:pt x="830" y="396"/>
                </a:lnTo>
                <a:lnTo>
                  <a:pt x="838" y="412"/>
                </a:lnTo>
                <a:lnTo>
                  <a:pt x="846" y="430"/>
                </a:lnTo>
                <a:lnTo>
                  <a:pt x="854" y="446"/>
                </a:lnTo>
                <a:lnTo>
                  <a:pt x="861" y="461"/>
                </a:lnTo>
                <a:lnTo>
                  <a:pt x="866" y="475"/>
                </a:lnTo>
                <a:lnTo>
                  <a:pt x="872" y="493"/>
                </a:lnTo>
                <a:lnTo>
                  <a:pt x="871" y="502"/>
                </a:lnTo>
                <a:lnTo>
                  <a:pt x="865" y="514"/>
                </a:lnTo>
                <a:lnTo>
                  <a:pt x="860" y="538"/>
                </a:lnTo>
                <a:lnTo>
                  <a:pt x="845" y="516"/>
                </a:lnTo>
                <a:lnTo>
                  <a:pt x="826" y="489"/>
                </a:lnTo>
                <a:lnTo>
                  <a:pt x="804" y="462"/>
                </a:lnTo>
                <a:lnTo>
                  <a:pt x="781" y="433"/>
                </a:lnTo>
                <a:lnTo>
                  <a:pt x="759" y="409"/>
                </a:lnTo>
                <a:lnTo>
                  <a:pt x="739" y="389"/>
                </a:lnTo>
                <a:lnTo>
                  <a:pt x="722" y="379"/>
                </a:lnTo>
                <a:lnTo>
                  <a:pt x="711" y="379"/>
                </a:lnTo>
                <a:lnTo>
                  <a:pt x="704" y="387"/>
                </a:lnTo>
                <a:lnTo>
                  <a:pt x="701" y="395"/>
                </a:lnTo>
                <a:lnTo>
                  <a:pt x="701" y="405"/>
                </a:lnTo>
                <a:lnTo>
                  <a:pt x="704" y="418"/>
                </a:lnTo>
                <a:lnTo>
                  <a:pt x="710" y="432"/>
                </a:lnTo>
                <a:lnTo>
                  <a:pt x="720" y="447"/>
                </a:lnTo>
                <a:lnTo>
                  <a:pt x="734" y="464"/>
                </a:lnTo>
                <a:lnTo>
                  <a:pt x="751" y="483"/>
                </a:lnTo>
                <a:lnTo>
                  <a:pt x="772" y="503"/>
                </a:lnTo>
                <a:lnTo>
                  <a:pt x="793" y="525"/>
                </a:lnTo>
                <a:lnTo>
                  <a:pt x="813" y="549"/>
                </a:lnTo>
                <a:lnTo>
                  <a:pt x="831" y="577"/>
                </a:lnTo>
                <a:lnTo>
                  <a:pt x="846" y="607"/>
                </a:lnTo>
                <a:lnTo>
                  <a:pt x="855" y="643"/>
                </a:lnTo>
                <a:lnTo>
                  <a:pt x="858" y="682"/>
                </a:lnTo>
                <a:lnTo>
                  <a:pt x="855" y="726"/>
                </a:lnTo>
                <a:lnTo>
                  <a:pt x="848" y="707"/>
                </a:lnTo>
                <a:lnTo>
                  <a:pt x="842" y="696"/>
                </a:lnTo>
                <a:lnTo>
                  <a:pt x="836" y="688"/>
                </a:lnTo>
                <a:lnTo>
                  <a:pt x="832" y="682"/>
                </a:lnTo>
                <a:lnTo>
                  <a:pt x="826" y="678"/>
                </a:lnTo>
                <a:lnTo>
                  <a:pt x="819" y="675"/>
                </a:lnTo>
                <a:lnTo>
                  <a:pt x="810" y="669"/>
                </a:lnTo>
                <a:lnTo>
                  <a:pt x="800" y="661"/>
                </a:lnTo>
                <a:lnTo>
                  <a:pt x="789" y="651"/>
                </a:lnTo>
                <a:lnTo>
                  <a:pt x="780" y="642"/>
                </a:lnTo>
                <a:lnTo>
                  <a:pt x="773" y="631"/>
                </a:lnTo>
                <a:lnTo>
                  <a:pt x="767" y="620"/>
                </a:lnTo>
                <a:lnTo>
                  <a:pt x="763" y="609"/>
                </a:lnTo>
                <a:lnTo>
                  <a:pt x="758" y="597"/>
                </a:lnTo>
                <a:lnTo>
                  <a:pt x="752" y="585"/>
                </a:lnTo>
                <a:lnTo>
                  <a:pt x="745" y="571"/>
                </a:lnTo>
                <a:lnTo>
                  <a:pt x="739" y="557"/>
                </a:lnTo>
                <a:lnTo>
                  <a:pt x="731" y="546"/>
                </a:lnTo>
                <a:lnTo>
                  <a:pt x="722" y="536"/>
                </a:lnTo>
                <a:lnTo>
                  <a:pt x="713" y="526"/>
                </a:lnTo>
                <a:lnTo>
                  <a:pt x="704" y="519"/>
                </a:lnTo>
                <a:lnTo>
                  <a:pt x="694" y="514"/>
                </a:lnTo>
                <a:lnTo>
                  <a:pt x="683" y="509"/>
                </a:lnTo>
                <a:lnTo>
                  <a:pt x="672" y="507"/>
                </a:lnTo>
                <a:lnTo>
                  <a:pt x="682" y="521"/>
                </a:lnTo>
                <a:lnTo>
                  <a:pt x="691" y="534"/>
                </a:lnTo>
                <a:lnTo>
                  <a:pt x="701" y="548"/>
                </a:lnTo>
                <a:lnTo>
                  <a:pt x="709" y="563"/>
                </a:lnTo>
                <a:lnTo>
                  <a:pt x="716" y="579"/>
                </a:lnTo>
                <a:lnTo>
                  <a:pt x="721" y="597"/>
                </a:lnTo>
                <a:lnTo>
                  <a:pt x="725" y="616"/>
                </a:lnTo>
                <a:lnTo>
                  <a:pt x="727" y="637"/>
                </a:lnTo>
                <a:lnTo>
                  <a:pt x="728" y="658"/>
                </a:lnTo>
                <a:lnTo>
                  <a:pt x="731" y="677"/>
                </a:lnTo>
                <a:lnTo>
                  <a:pt x="734" y="696"/>
                </a:lnTo>
                <a:lnTo>
                  <a:pt x="739" y="712"/>
                </a:lnTo>
                <a:lnTo>
                  <a:pt x="744" y="728"/>
                </a:lnTo>
                <a:lnTo>
                  <a:pt x="752" y="743"/>
                </a:lnTo>
                <a:lnTo>
                  <a:pt x="762" y="758"/>
                </a:lnTo>
                <a:lnTo>
                  <a:pt x="773" y="773"/>
                </a:lnTo>
                <a:lnTo>
                  <a:pt x="786" y="788"/>
                </a:lnTo>
                <a:lnTo>
                  <a:pt x="800" y="805"/>
                </a:lnTo>
                <a:lnTo>
                  <a:pt x="811" y="822"/>
                </a:lnTo>
                <a:lnTo>
                  <a:pt x="822" y="841"/>
                </a:lnTo>
                <a:lnTo>
                  <a:pt x="830" y="863"/>
                </a:lnTo>
                <a:lnTo>
                  <a:pt x="833" y="886"/>
                </a:lnTo>
                <a:lnTo>
                  <a:pt x="832" y="912"/>
                </a:lnTo>
                <a:lnTo>
                  <a:pt x="826" y="941"/>
                </a:lnTo>
                <a:lnTo>
                  <a:pt x="815" y="933"/>
                </a:lnTo>
                <a:lnTo>
                  <a:pt x="803" y="925"/>
                </a:lnTo>
                <a:lnTo>
                  <a:pt x="793" y="919"/>
                </a:lnTo>
                <a:lnTo>
                  <a:pt x="782" y="913"/>
                </a:lnTo>
                <a:lnTo>
                  <a:pt x="773" y="909"/>
                </a:lnTo>
                <a:lnTo>
                  <a:pt x="764" y="905"/>
                </a:lnTo>
                <a:lnTo>
                  <a:pt x="755" y="903"/>
                </a:lnTo>
                <a:lnTo>
                  <a:pt x="745" y="902"/>
                </a:lnTo>
                <a:lnTo>
                  <a:pt x="757" y="917"/>
                </a:lnTo>
                <a:lnTo>
                  <a:pt x="766" y="933"/>
                </a:lnTo>
                <a:lnTo>
                  <a:pt x="772" y="951"/>
                </a:lnTo>
                <a:lnTo>
                  <a:pt x="775" y="969"/>
                </a:lnTo>
                <a:lnTo>
                  <a:pt x="775" y="988"/>
                </a:lnTo>
                <a:lnTo>
                  <a:pt x="774" y="1008"/>
                </a:lnTo>
                <a:lnTo>
                  <a:pt x="770" y="1029"/>
                </a:lnTo>
                <a:lnTo>
                  <a:pt x="764" y="1049"/>
                </a:lnTo>
                <a:lnTo>
                  <a:pt x="759" y="1060"/>
                </a:lnTo>
                <a:lnTo>
                  <a:pt x="752" y="1070"/>
                </a:lnTo>
                <a:lnTo>
                  <a:pt x="744" y="1080"/>
                </a:lnTo>
                <a:lnTo>
                  <a:pt x="735" y="1091"/>
                </a:lnTo>
                <a:lnTo>
                  <a:pt x="724" y="1100"/>
                </a:lnTo>
                <a:lnTo>
                  <a:pt x="711" y="1109"/>
                </a:lnTo>
                <a:lnTo>
                  <a:pt x="697" y="1117"/>
                </a:lnTo>
                <a:lnTo>
                  <a:pt x="682" y="1125"/>
                </a:lnTo>
                <a:lnTo>
                  <a:pt x="666" y="1132"/>
                </a:lnTo>
                <a:lnTo>
                  <a:pt x="649" y="1138"/>
                </a:lnTo>
                <a:lnTo>
                  <a:pt x="631" y="1143"/>
                </a:lnTo>
                <a:lnTo>
                  <a:pt x="613" y="1147"/>
                </a:lnTo>
                <a:lnTo>
                  <a:pt x="595" y="1150"/>
                </a:lnTo>
                <a:lnTo>
                  <a:pt x="575" y="1151"/>
                </a:lnTo>
                <a:lnTo>
                  <a:pt x="555" y="1151"/>
                </a:lnTo>
                <a:lnTo>
                  <a:pt x="536" y="1150"/>
                </a:lnTo>
                <a:lnTo>
                  <a:pt x="524" y="1147"/>
                </a:lnTo>
                <a:lnTo>
                  <a:pt x="513" y="1145"/>
                </a:lnTo>
                <a:lnTo>
                  <a:pt x="501" y="1142"/>
                </a:lnTo>
                <a:lnTo>
                  <a:pt x="490" y="1138"/>
                </a:lnTo>
                <a:lnTo>
                  <a:pt x="478" y="1135"/>
                </a:lnTo>
                <a:lnTo>
                  <a:pt x="467" y="1130"/>
                </a:lnTo>
                <a:lnTo>
                  <a:pt x="455" y="1125"/>
                </a:lnTo>
                <a:lnTo>
                  <a:pt x="444" y="1122"/>
                </a:lnTo>
                <a:lnTo>
                  <a:pt x="431" y="1119"/>
                </a:lnTo>
                <a:lnTo>
                  <a:pt x="419" y="1115"/>
                </a:lnTo>
                <a:lnTo>
                  <a:pt x="408" y="1113"/>
                </a:lnTo>
                <a:lnTo>
                  <a:pt x="395" y="1112"/>
                </a:lnTo>
                <a:lnTo>
                  <a:pt x="383" y="1110"/>
                </a:lnTo>
                <a:lnTo>
                  <a:pt x="370" y="1112"/>
                </a:lnTo>
                <a:lnTo>
                  <a:pt x="357" y="1114"/>
                </a:lnTo>
                <a:lnTo>
                  <a:pt x="345" y="1117"/>
                </a:lnTo>
                <a:lnTo>
                  <a:pt x="355" y="1104"/>
                </a:lnTo>
                <a:lnTo>
                  <a:pt x="365" y="1093"/>
                </a:lnTo>
                <a:lnTo>
                  <a:pt x="376" y="1084"/>
                </a:lnTo>
                <a:lnTo>
                  <a:pt x="386" y="1077"/>
                </a:lnTo>
                <a:lnTo>
                  <a:pt x="399" y="1071"/>
                </a:lnTo>
                <a:lnTo>
                  <a:pt x="413" y="1067"/>
                </a:lnTo>
                <a:lnTo>
                  <a:pt x="429" y="1062"/>
                </a:lnTo>
                <a:lnTo>
                  <a:pt x="447" y="1059"/>
                </a:lnTo>
                <a:lnTo>
                  <a:pt x="468" y="1053"/>
                </a:lnTo>
                <a:lnTo>
                  <a:pt x="489" y="1045"/>
                </a:lnTo>
                <a:lnTo>
                  <a:pt x="508" y="1033"/>
                </a:lnTo>
                <a:lnTo>
                  <a:pt x="528" y="1018"/>
                </a:lnTo>
                <a:lnTo>
                  <a:pt x="544" y="1000"/>
                </a:lnTo>
                <a:lnTo>
                  <a:pt x="558" y="977"/>
                </a:lnTo>
                <a:lnTo>
                  <a:pt x="569" y="949"/>
                </a:lnTo>
                <a:lnTo>
                  <a:pt x="575" y="917"/>
                </a:lnTo>
                <a:lnTo>
                  <a:pt x="560" y="931"/>
                </a:lnTo>
                <a:lnTo>
                  <a:pt x="545" y="946"/>
                </a:lnTo>
                <a:lnTo>
                  <a:pt x="530" y="961"/>
                </a:lnTo>
                <a:lnTo>
                  <a:pt x="515" y="976"/>
                </a:lnTo>
                <a:lnTo>
                  <a:pt x="498" y="989"/>
                </a:lnTo>
                <a:lnTo>
                  <a:pt x="479" y="1001"/>
                </a:lnTo>
                <a:lnTo>
                  <a:pt x="457" y="1010"/>
                </a:lnTo>
                <a:lnTo>
                  <a:pt x="431" y="1016"/>
                </a:lnTo>
                <a:lnTo>
                  <a:pt x="404" y="1021"/>
                </a:lnTo>
                <a:lnTo>
                  <a:pt x="378" y="1025"/>
                </a:lnTo>
                <a:lnTo>
                  <a:pt x="352" y="1032"/>
                </a:lnTo>
                <a:lnTo>
                  <a:pt x="327" y="1039"/>
                </a:lnTo>
                <a:lnTo>
                  <a:pt x="305" y="1048"/>
                </a:lnTo>
                <a:lnTo>
                  <a:pt x="285" y="1059"/>
                </a:lnTo>
                <a:lnTo>
                  <a:pt x="266" y="1070"/>
                </a:lnTo>
                <a:lnTo>
                  <a:pt x="251" y="1083"/>
                </a:lnTo>
                <a:lnTo>
                  <a:pt x="237" y="1098"/>
                </a:lnTo>
                <a:lnTo>
                  <a:pt x="221" y="1113"/>
                </a:lnTo>
                <a:lnTo>
                  <a:pt x="205" y="1128"/>
                </a:lnTo>
                <a:lnTo>
                  <a:pt x="187" y="1140"/>
                </a:lnTo>
                <a:lnTo>
                  <a:pt x="168" y="1151"/>
                </a:lnTo>
                <a:lnTo>
                  <a:pt x="146" y="1155"/>
                </a:lnTo>
                <a:lnTo>
                  <a:pt x="125" y="1154"/>
                </a:lnTo>
                <a:lnTo>
                  <a:pt x="100" y="1145"/>
                </a:lnTo>
                <a:lnTo>
                  <a:pt x="100" y="1137"/>
                </a:lnTo>
                <a:lnTo>
                  <a:pt x="102" y="1129"/>
                </a:lnTo>
                <a:lnTo>
                  <a:pt x="104" y="1120"/>
                </a:lnTo>
                <a:lnTo>
                  <a:pt x="110" y="1109"/>
                </a:lnTo>
                <a:lnTo>
                  <a:pt x="118" y="1099"/>
                </a:lnTo>
                <a:lnTo>
                  <a:pt x="128" y="1087"/>
                </a:lnTo>
                <a:lnTo>
                  <a:pt x="142" y="1075"/>
                </a:lnTo>
                <a:lnTo>
                  <a:pt x="158" y="1061"/>
                </a:lnTo>
                <a:lnTo>
                  <a:pt x="176" y="1046"/>
                </a:lnTo>
                <a:lnTo>
                  <a:pt x="193" y="1027"/>
                </a:lnTo>
                <a:lnTo>
                  <a:pt x="208" y="1008"/>
                </a:lnTo>
                <a:lnTo>
                  <a:pt x="220" y="985"/>
                </a:lnTo>
                <a:lnTo>
                  <a:pt x="229" y="960"/>
                </a:lnTo>
                <a:lnTo>
                  <a:pt x="233" y="933"/>
                </a:lnTo>
                <a:lnTo>
                  <a:pt x="232" y="904"/>
                </a:lnTo>
                <a:lnTo>
                  <a:pt x="225" y="874"/>
                </a:lnTo>
                <a:lnTo>
                  <a:pt x="221" y="893"/>
                </a:lnTo>
                <a:lnTo>
                  <a:pt x="216" y="913"/>
                </a:lnTo>
                <a:lnTo>
                  <a:pt x="209" y="935"/>
                </a:lnTo>
                <a:lnTo>
                  <a:pt x="202" y="956"/>
                </a:lnTo>
                <a:lnTo>
                  <a:pt x="193" y="976"/>
                </a:lnTo>
                <a:lnTo>
                  <a:pt x="182" y="993"/>
                </a:lnTo>
                <a:lnTo>
                  <a:pt x="171" y="1006"/>
                </a:lnTo>
                <a:lnTo>
                  <a:pt x="158" y="1014"/>
                </a:lnTo>
                <a:lnTo>
                  <a:pt x="145" y="1018"/>
                </a:lnTo>
                <a:lnTo>
                  <a:pt x="135" y="1023"/>
                </a:lnTo>
                <a:lnTo>
                  <a:pt x="125" y="1026"/>
                </a:lnTo>
                <a:lnTo>
                  <a:pt x="117" y="1032"/>
                </a:lnTo>
                <a:lnTo>
                  <a:pt x="107" y="1038"/>
                </a:lnTo>
                <a:lnTo>
                  <a:pt x="100" y="1045"/>
                </a:lnTo>
                <a:lnTo>
                  <a:pt x="92" y="1054"/>
                </a:lnTo>
                <a:lnTo>
                  <a:pt x="85" y="1064"/>
                </a:lnTo>
                <a:lnTo>
                  <a:pt x="87" y="1031"/>
                </a:lnTo>
                <a:lnTo>
                  <a:pt x="93" y="1000"/>
                </a:lnTo>
                <a:lnTo>
                  <a:pt x="103" y="968"/>
                </a:lnTo>
                <a:lnTo>
                  <a:pt x="113" y="933"/>
                </a:lnTo>
                <a:lnTo>
                  <a:pt x="117" y="913"/>
                </a:lnTo>
                <a:lnTo>
                  <a:pt x="120" y="890"/>
                </a:lnTo>
                <a:lnTo>
                  <a:pt x="122" y="865"/>
                </a:lnTo>
                <a:lnTo>
                  <a:pt x="122" y="839"/>
                </a:lnTo>
                <a:lnTo>
                  <a:pt x="120" y="811"/>
                </a:lnTo>
                <a:lnTo>
                  <a:pt x="114" y="784"/>
                </a:lnTo>
                <a:lnTo>
                  <a:pt x="105" y="758"/>
                </a:lnTo>
                <a:lnTo>
                  <a:pt x="91" y="734"/>
                </a:lnTo>
                <a:lnTo>
                  <a:pt x="75" y="710"/>
                </a:lnTo>
                <a:lnTo>
                  <a:pt x="58" y="683"/>
                </a:lnTo>
                <a:lnTo>
                  <a:pt x="42" y="655"/>
                </a:lnTo>
                <a:lnTo>
                  <a:pt x="27" y="625"/>
                </a:lnTo>
                <a:lnTo>
                  <a:pt x="14" y="595"/>
                </a:lnTo>
                <a:lnTo>
                  <a:pt x="5" y="566"/>
                </a:lnTo>
                <a:lnTo>
                  <a:pt x="0" y="536"/>
                </a:lnTo>
                <a:lnTo>
                  <a:pt x="0" y="507"/>
                </a:lnTo>
                <a:lnTo>
                  <a:pt x="5" y="480"/>
                </a:lnTo>
                <a:lnTo>
                  <a:pt x="11" y="455"/>
                </a:lnTo>
                <a:lnTo>
                  <a:pt x="17" y="432"/>
                </a:lnTo>
                <a:lnTo>
                  <a:pt x="27" y="410"/>
                </a:lnTo>
                <a:lnTo>
                  <a:pt x="35" y="390"/>
                </a:lnTo>
                <a:lnTo>
                  <a:pt x="45" y="372"/>
                </a:lnTo>
                <a:lnTo>
                  <a:pt x="54" y="355"/>
                </a:lnTo>
                <a:lnTo>
                  <a:pt x="62" y="339"/>
                </a:lnTo>
                <a:lnTo>
                  <a:pt x="70" y="321"/>
                </a:lnTo>
                <a:lnTo>
                  <a:pt x="78" y="302"/>
                </a:lnTo>
                <a:lnTo>
                  <a:pt x="88" y="281"/>
                </a:lnTo>
                <a:lnTo>
                  <a:pt x="95" y="259"/>
                </a:lnTo>
                <a:lnTo>
                  <a:pt x="102" y="238"/>
                </a:lnTo>
                <a:lnTo>
                  <a:pt x="106" y="218"/>
                </a:lnTo>
                <a:lnTo>
                  <a:pt x="110" y="199"/>
                </a:lnTo>
                <a:lnTo>
                  <a:pt x="110" y="184"/>
                </a:lnTo>
                <a:lnTo>
                  <a:pt x="119" y="180"/>
                </a:lnTo>
                <a:lnTo>
                  <a:pt x="133" y="173"/>
                </a:lnTo>
                <a:lnTo>
                  <a:pt x="149" y="165"/>
                </a:lnTo>
                <a:lnTo>
                  <a:pt x="167" y="155"/>
                </a:lnTo>
                <a:lnTo>
                  <a:pt x="184" y="146"/>
                </a:lnTo>
                <a:lnTo>
                  <a:pt x="201" y="138"/>
                </a:lnTo>
                <a:lnTo>
                  <a:pt x="213" y="131"/>
                </a:lnTo>
                <a:lnTo>
                  <a:pt x="221" y="12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5" name="Freeform 19"/>
          <p:cNvSpPr/>
          <p:nvPr/>
        </p:nvSpPr>
        <p:spPr>
          <a:xfrm>
            <a:off x="2014560" y="4151160"/>
            <a:ext cx="217440" cy="198720"/>
          </a:xfrm>
          <a:custGeom>
            <a:avLst/>
            <a:gdLst/>
            <a:ahLst/>
            <a:rect l="l" t="t" r="r" b="b"/>
            <a:pathLst>
              <a:path w="274" h="250">
                <a:moveTo>
                  <a:pt x="0" y="0"/>
                </a:moveTo>
                <a:lnTo>
                  <a:pt x="15" y="2"/>
                </a:lnTo>
                <a:lnTo>
                  <a:pt x="36" y="3"/>
                </a:lnTo>
                <a:lnTo>
                  <a:pt x="59" y="5"/>
                </a:lnTo>
                <a:lnTo>
                  <a:pt x="84" y="7"/>
                </a:lnTo>
                <a:lnTo>
                  <a:pt x="109" y="11"/>
                </a:lnTo>
                <a:lnTo>
                  <a:pt x="135" y="16"/>
                </a:lnTo>
                <a:lnTo>
                  <a:pt x="159" y="24"/>
                </a:lnTo>
                <a:lnTo>
                  <a:pt x="181" y="34"/>
                </a:lnTo>
                <a:lnTo>
                  <a:pt x="203" y="48"/>
                </a:lnTo>
                <a:lnTo>
                  <a:pt x="224" y="66"/>
                </a:lnTo>
                <a:lnTo>
                  <a:pt x="245" y="87"/>
                </a:lnTo>
                <a:lnTo>
                  <a:pt x="262" y="113"/>
                </a:lnTo>
                <a:lnTo>
                  <a:pt x="273" y="142"/>
                </a:lnTo>
                <a:lnTo>
                  <a:pt x="274" y="174"/>
                </a:lnTo>
                <a:lnTo>
                  <a:pt x="264" y="210"/>
                </a:lnTo>
                <a:lnTo>
                  <a:pt x="238" y="250"/>
                </a:lnTo>
                <a:lnTo>
                  <a:pt x="243" y="228"/>
                </a:lnTo>
                <a:lnTo>
                  <a:pt x="245" y="205"/>
                </a:lnTo>
                <a:lnTo>
                  <a:pt x="248" y="181"/>
                </a:lnTo>
                <a:lnTo>
                  <a:pt x="245" y="157"/>
                </a:lnTo>
                <a:lnTo>
                  <a:pt x="239" y="134"/>
                </a:lnTo>
                <a:lnTo>
                  <a:pt x="228" y="111"/>
                </a:lnTo>
                <a:lnTo>
                  <a:pt x="211" y="90"/>
                </a:lnTo>
                <a:lnTo>
                  <a:pt x="186" y="71"/>
                </a:lnTo>
                <a:lnTo>
                  <a:pt x="171" y="63"/>
                </a:lnTo>
                <a:lnTo>
                  <a:pt x="158" y="56"/>
                </a:lnTo>
                <a:lnTo>
                  <a:pt x="144" y="49"/>
                </a:lnTo>
                <a:lnTo>
                  <a:pt x="129" y="44"/>
                </a:lnTo>
                <a:lnTo>
                  <a:pt x="115" y="39"/>
                </a:lnTo>
                <a:lnTo>
                  <a:pt x="102" y="34"/>
                </a:lnTo>
                <a:lnTo>
                  <a:pt x="89" y="30"/>
                </a:lnTo>
                <a:lnTo>
                  <a:pt x="76" y="26"/>
                </a:lnTo>
                <a:lnTo>
                  <a:pt x="64" y="23"/>
                </a:lnTo>
                <a:lnTo>
                  <a:pt x="53" y="19"/>
                </a:lnTo>
                <a:lnTo>
                  <a:pt x="41" y="17"/>
                </a:lnTo>
                <a:lnTo>
                  <a:pt x="32" y="14"/>
                </a:lnTo>
                <a:lnTo>
                  <a:pt x="23" y="10"/>
                </a:lnTo>
                <a:lnTo>
                  <a:pt x="14" y="7"/>
                </a:lnTo>
                <a:lnTo>
                  <a:pt x="7" y="3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6" name="Freeform 20"/>
          <p:cNvSpPr/>
          <p:nvPr/>
        </p:nvSpPr>
        <p:spPr>
          <a:xfrm>
            <a:off x="2130480" y="4246560"/>
            <a:ext cx="169920" cy="185760"/>
          </a:xfrm>
          <a:custGeom>
            <a:avLst/>
            <a:gdLst/>
            <a:ahLst/>
            <a:rect l="l" t="t" r="r" b="b"/>
            <a:pathLst>
              <a:path w="214" h="235">
                <a:moveTo>
                  <a:pt x="0" y="235"/>
                </a:moveTo>
                <a:lnTo>
                  <a:pt x="11" y="221"/>
                </a:lnTo>
                <a:lnTo>
                  <a:pt x="21" y="209"/>
                </a:lnTo>
                <a:lnTo>
                  <a:pt x="32" y="200"/>
                </a:lnTo>
                <a:lnTo>
                  <a:pt x="45" y="192"/>
                </a:lnTo>
                <a:lnTo>
                  <a:pt x="60" y="184"/>
                </a:lnTo>
                <a:lnTo>
                  <a:pt x="76" y="176"/>
                </a:lnTo>
                <a:lnTo>
                  <a:pt x="93" y="168"/>
                </a:lnTo>
                <a:lnTo>
                  <a:pt x="114" y="158"/>
                </a:lnTo>
                <a:lnTo>
                  <a:pt x="135" y="145"/>
                </a:lnTo>
                <a:lnTo>
                  <a:pt x="155" y="131"/>
                </a:lnTo>
                <a:lnTo>
                  <a:pt x="171" y="114"/>
                </a:lnTo>
                <a:lnTo>
                  <a:pt x="182" y="95"/>
                </a:lnTo>
                <a:lnTo>
                  <a:pt x="190" y="75"/>
                </a:lnTo>
                <a:lnTo>
                  <a:pt x="193" y="52"/>
                </a:lnTo>
                <a:lnTo>
                  <a:pt x="188" y="26"/>
                </a:lnTo>
                <a:lnTo>
                  <a:pt x="178" y="0"/>
                </a:lnTo>
                <a:lnTo>
                  <a:pt x="194" y="15"/>
                </a:lnTo>
                <a:lnTo>
                  <a:pt x="205" y="34"/>
                </a:lnTo>
                <a:lnTo>
                  <a:pt x="212" y="58"/>
                </a:lnTo>
                <a:lnTo>
                  <a:pt x="214" y="83"/>
                </a:lnTo>
                <a:lnTo>
                  <a:pt x="211" y="108"/>
                </a:lnTo>
                <a:lnTo>
                  <a:pt x="201" y="132"/>
                </a:lnTo>
                <a:lnTo>
                  <a:pt x="182" y="154"/>
                </a:lnTo>
                <a:lnTo>
                  <a:pt x="157" y="170"/>
                </a:lnTo>
                <a:lnTo>
                  <a:pt x="137" y="178"/>
                </a:lnTo>
                <a:lnTo>
                  <a:pt x="116" y="186"/>
                </a:lnTo>
                <a:lnTo>
                  <a:pt x="97" y="193"/>
                </a:lnTo>
                <a:lnTo>
                  <a:pt x="76" y="199"/>
                </a:lnTo>
                <a:lnTo>
                  <a:pt x="57" y="207"/>
                </a:lnTo>
                <a:lnTo>
                  <a:pt x="37" y="214"/>
                </a:lnTo>
                <a:lnTo>
                  <a:pt x="17" y="223"/>
                </a:lnTo>
                <a:lnTo>
                  <a:pt x="0" y="23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7" name="Freeform 21"/>
          <p:cNvSpPr/>
          <p:nvPr/>
        </p:nvSpPr>
        <p:spPr>
          <a:xfrm>
            <a:off x="2214720" y="4098960"/>
            <a:ext cx="214200" cy="66600"/>
          </a:xfrm>
          <a:custGeom>
            <a:avLst/>
            <a:gdLst/>
            <a:ahLst/>
            <a:rect l="l" t="t" r="r" b="b"/>
            <a:pathLst>
              <a:path w="270" h="83">
                <a:moveTo>
                  <a:pt x="0" y="13"/>
                </a:moveTo>
                <a:lnTo>
                  <a:pt x="9" y="18"/>
                </a:lnTo>
                <a:lnTo>
                  <a:pt x="20" y="22"/>
                </a:lnTo>
                <a:lnTo>
                  <a:pt x="34" y="27"/>
                </a:lnTo>
                <a:lnTo>
                  <a:pt x="47" y="30"/>
                </a:lnTo>
                <a:lnTo>
                  <a:pt x="63" y="34"/>
                </a:lnTo>
                <a:lnTo>
                  <a:pt x="80" y="37"/>
                </a:lnTo>
                <a:lnTo>
                  <a:pt x="98" y="39"/>
                </a:lnTo>
                <a:lnTo>
                  <a:pt x="116" y="41"/>
                </a:lnTo>
                <a:lnTo>
                  <a:pt x="136" y="42"/>
                </a:lnTo>
                <a:lnTo>
                  <a:pt x="156" y="41"/>
                </a:lnTo>
                <a:lnTo>
                  <a:pt x="175" y="38"/>
                </a:lnTo>
                <a:lnTo>
                  <a:pt x="195" y="35"/>
                </a:lnTo>
                <a:lnTo>
                  <a:pt x="214" y="29"/>
                </a:lnTo>
                <a:lnTo>
                  <a:pt x="234" y="22"/>
                </a:lnTo>
                <a:lnTo>
                  <a:pt x="252" y="12"/>
                </a:lnTo>
                <a:lnTo>
                  <a:pt x="270" y="0"/>
                </a:lnTo>
                <a:lnTo>
                  <a:pt x="259" y="18"/>
                </a:lnTo>
                <a:lnTo>
                  <a:pt x="245" y="34"/>
                </a:lnTo>
                <a:lnTo>
                  <a:pt x="232" y="47"/>
                </a:lnTo>
                <a:lnTo>
                  <a:pt x="214" y="59"/>
                </a:lnTo>
                <a:lnTo>
                  <a:pt x="197" y="68"/>
                </a:lnTo>
                <a:lnTo>
                  <a:pt x="179" y="75"/>
                </a:lnTo>
                <a:lnTo>
                  <a:pt x="160" y="81"/>
                </a:lnTo>
                <a:lnTo>
                  <a:pt x="141" y="83"/>
                </a:lnTo>
                <a:lnTo>
                  <a:pt x="120" y="83"/>
                </a:lnTo>
                <a:lnTo>
                  <a:pt x="100" y="81"/>
                </a:lnTo>
                <a:lnTo>
                  <a:pt x="81" y="76"/>
                </a:lnTo>
                <a:lnTo>
                  <a:pt x="62" y="68"/>
                </a:lnTo>
                <a:lnTo>
                  <a:pt x="45" y="59"/>
                </a:lnTo>
                <a:lnTo>
                  <a:pt x="29" y="46"/>
                </a:lnTo>
                <a:lnTo>
                  <a:pt x="14" y="31"/>
                </a:lnTo>
                <a:lnTo>
                  <a:pt x="0" y="1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8" name="Freeform 22"/>
          <p:cNvSpPr/>
          <p:nvPr/>
        </p:nvSpPr>
        <p:spPr>
          <a:xfrm>
            <a:off x="2028960" y="3930480"/>
            <a:ext cx="145800" cy="209880"/>
          </a:xfrm>
          <a:custGeom>
            <a:avLst/>
            <a:gdLst/>
            <a:ahLst/>
            <a:rect l="l" t="t" r="r" b="b"/>
            <a:pathLst>
              <a:path w="185" h="264">
                <a:moveTo>
                  <a:pt x="0" y="75"/>
                </a:moveTo>
                <a:lnTo>
                  <a:pt x="22" y="144"/>
                </a:lnTo>
                <a:lnTo>
                  <a:pt x="99" y="102"/>
                </a:lnTo>
                <a:lnTo>
                  <a:pt x="96" y="117"/>
                </a:lnTo>
                <a:lnTo>
                  <a:pt x="92" y="134"/>
                </a:lnTo>
                <a:lnTo>
                  <a:pt x="90" y="153"/>
                </a:lnTo>
                <a:lnTo>
                  <a:pt x="90" y="175"/>
                </a:lnTo>
                <a:lnTo>
                  <a:pt x="91" y="197"/>
                </a:lnTo>
                <a:lnTo>
                  <a:pt x="97" y="220"/>
                </a:lnTo>
                <a:lnTo>
                  <a:pt x="106" y="242"/>
                </a:lnTo>
                <a:lnTo>
                  <a:pt x="120" y="264"/>
                </a:lnTo>
                <a:lnTo>
                  <a:pt x="171" y="243"/>
                </a:lnTo>
                <a:lnTo>
                  <a:pt x="165" y="226"/>
                </a:lnTo>
                <a:lnTo>
                  <a:pt x="158" y="208"/>
                </a:lnTo>
                <a:lnTo>
                  <a:pt x="151" y="188"/>
                </a:lnTo>
                <a:lnTo>
                  <a:pt x="147" y="166"/>
                </a:lnTo>
                <a:lnTo>
                  <a:pt x="147" y="143"/>
                </a:lnTo>
                <a:lnTo>
                  <a:pt x="151" y="119"/>
                </a:lnTo>
                <a:lnTo>
                  <a:pt x="164" y="94"/>
                </a:lnTo>
                <a:lnTo>
                  <a:pt x="185" y="67"/>
                </a:lnTo>
                <a:lnTo>
                  <a:pt x="163" y="0"/>
                </a:lnTo>
                <a:lnTo>
                  <a:pt x="0" y="7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9" name="Freeform 23"/>
          <p:cNvSpPr/>
          <p:nvPr/>
        </p:nvSpPr>
        <p:spPr>
          <a:xfrm>
            <a:off x="2027160" y="4530600"/>
            <a:ext cx="490680" cy="84240"/>
          </a:xfrm>
          <a:custGeom>
            <a:avLst/>
            <a:gdLst/>
            <a:ahLst/>
            <a:rect l="l" t="t" r="r" b="b"/>
            <a:pathLst>
              <a:path w="617" h="106">
                <a:moveTo>
                  <a:pt x="0" y="47"/>
                </a:moveTo>
                <a:lnTo>
                  <a:pt x="7" y="45"/>
                </a:lnTo>
                <a:lnTo>
                  <a:pt x="16" y="41"/>
                </a:lnTo>
                <a:lnTo>
                  <a:pt x="25" y="38"/>
                </a:lnTo>
                <a:lnTo>
                  <a:pt x="37" y="33"/>
                </a:lnTo>
                <a:lnTo>
                  <a:pt x="48" y="30"/>
                </a:lnTo>
                <a:lnTo>
                  <a:pt x="61" y="27"/>
                </a:lnTo>
                <a:lnTo>
                  <a:pt x="74" y="23"/>
                </a:lnTo>
                <a:lnTo>
                  <a:pt x="88" y="20"/>
                </a:lnTo>
                <a:lnTo>
                  <a:pt x="101" y="17"/>
                </a:lnTo>
                <a:lnTo>
                  <a:pt x="115" y="15"/>
                </a:lnTo>
                <a:lnTo>
                  <a:pt x="129" y="14"/>
                </a:lnTo>
                <a:lnTo>
                  <a:pt x="143" y="14"/>
                </a:lnTo>
                <a:lnTo>
                  <a:pt x="155" y="14"/>
                </a:lnTo>
                <a:lnTo>
                  <a:pt x="168" y="16"/>
                </a:lnTo>
                <a:lnTo>
                  <a:pt x="181" y="18"/>
                </a:lnTo>
                <a:lnTo>
                  <a:pt x="192" y="23"/>
                </a:lnTo>
                <a:lnTo>
                  <a:pt x="204" y="28"/>
                </a:lnTo>
                <a:lnTo>
                  <a:pt x="217" y="32"/>
                </a:lnTo>
                <a:lnTo>
                  <a:pt x="229" y="38"/>
                </a:lnTo>
                <a:lnTo>
                  <a:pt x="244" y="41"/>
                </a:lnTo>
                <a:lnTo>
                  <a:pt x="259" y="46"/>
                </a:lnTo>
                <a:lnTo>
                  <a:pt x="275" y="50"/>
                </a:lnTo>
                <a:lnTo>
                  <a:pt x="291" y="53"/>
                </a:lnTo>
                <a:lnTo>
                  <a:pt x="309" y="56"/>
                </a:lnTo>
                <a:lnTo>
                  <a:pt x="325" y="59"/>
                </a:lnTo>
                <a:lnTo>
                  <a:pt x="342" y="61"/>
                </a:lnTo>
                <a:lnTo>
                  <a:pt x="359" y="63"/>
                </a:lnTo>
                <a:lnTo>
                  <a:pt x="376" y="63"/>
                </a:lnTo>
                <a:lnTo>
                  <a:pt x="392" y="63"/>
                </a:lnTo>
                <a:lnTo>
                  <a:pt x="408" y="63"/>
                </a:lnTo>
                <a:lnTo>
                  <a:pt x="423" y="62"/>
                </a:lnTo>
                <a:lnTo>
                  <a:pt x="437" y="60"/>
                </a:lnTo>
                <a:lnTo>
                  <a:pt x="463" y="55"/>
                </a:lnTo>
                <a:lnTo>
                  <a:pt x="488" y="52"/>
                </a:lnTo>
                <a:lnTo>
                  <a:pt x="514" y="48"/>
                </a:lnTo>
                <a:lnTo>
                  <a:pt x="538" y="44"/>
                </a:lnTo>
                <a:lnTo>
                  <a:pt x="560" y="37"/>
                </a:lnTo>
                <a:lnTo>
                  <a:pt x="582" y="28"/>
                </a:lnTo>
                <a:lnTo>
                  <a:pt x="600" y="16"/>
                </a:lnTo>
                <a:lnTo>
                  <a:pt x="617" y="0"/>
                </a:lnTo>
                <a:lnTo>
                  <a:pt x="617" y="48"/>
                </a:lnTo>
                <a:lnTo>
                  <a:pt x="609" y="53"/>
                </a:lnTo>
                <a:lnTo>
                  <a:pt x="597" y="59"/>
                </a:lnTo>
                <a:lnTo>
                  <a:pt x="581" y="67"/>
                </a:lnTo>
                <a:lnTo>
                  <a:pt x="561" y="76"/>
                </a:lnTo>
                <a:lnTo>
                  <a:pt x="539" y="85"/>
                </a:lnTo>
                <a:lnTo>
                  <a:pt x="515" y="93"/>
                </a:lnTo>
                <a:lnTo>
                  <a:pt x="490" y="99"/>
                </a:lnTo>
                <a:lnTo>
                  <a:pt x="463" y="104"/>
                </a:lnTo>
                <a:lnTo>
                  <a:pt x="449" y="105"/>
                </a:lnTo>
                <a:lnTo>
                  <a:pt x="434" y="106"/>
                </a:lnTo>
                <a:lnTo>
                  <a:pt x="418" y="106"/>
                </a:lnTo>
                <a:lnTo>
                  <a:pt x="402" y="106"/>
                </a:lnTo>
                <a:lnTo>
                  <a:pt x="385" y="106"/>
                </a:lnTo>
                <a:lnTo>
                  <a:pt x="367" y="106"/>
                </a:lnTo>
                <a:lnTo>
                  <a:pt x="350" y="105"/>
                </a:lnTo>
                <a:lnTo>
                  <a:pt x="332" y="103"/>
                </a:lnTo>
                <a:lnTo>
                  <a:pt x="314" y="101"/>
                </a:lnTo>
                <a:lnTo>
                  <a:pt x="297" y="99"/>
                </a:lnTo>
                <a:lnTo>
                  <a:pt x="280" y="96"/>
                </a:lnTo>
                <a:lnTo>
                  <a:pt x="264" y="92"/>
                </a:lnTo>
                <a:lnTo>
                  <a:pt x="249" y="88"/>
                </a:lnTo>
                <a:lnTo>
                  <a:pt x="234" y="83"/>
                </a:lnTo>
                <a:lnTo>
                  <a:pt x="220" y="77"/>
                </a:lnTo>
                <a:lnTo>
                  <a:pt x="207" y="71"/>
                </a:lnTo>
                <a:lnTo>
                  <a:pt x="196" y="66"/>
                </a:lnTo>
                <a:lnTo>
                  <a:pt x="183" y="60"/>
                </a:lnTo>
                <a:lnTo>
                  <a:pt x="170" y="55"/>
                </a:lnTo>
                <a:lnTo>
                  <a:pt x="157" y="52"/>
                </a:lnTo>
                <a:lnTo>
                  <a:pt x="144" y="48"/>
                </a:lnTo>
                <a:lnTo>
                  <a:pt x="130" y="46"/>
                </a:lnTo>
                <a:lnTo>
                  <a:pt x="117" y="45"/>
                </a:lnTo>
                <a:lnTo>
                  <a:pt x="104" y="44"/>
                </a:lnTo>
                <a:lnTo>
                  <a:pt x="90" y="43"/>
                </a:lnTo>
                <a:lnTo>
                  <a:pt x="77" y="43"/>
                </a:lnTo>
                <a:lnTo>
                  <a:pt x="63" y="43"/>
                </a:lnTo>
                <a:lnTo>
                  <a:pt x="51" y="43"/>
                </a:lnTo>
                <a:lnTo>
                  <a:pt x="37" y="44"/>
                </a:lnTo>
                <a:lnTo>
                  <a:pt x="24" y="45"/>
                </a:lnTo>
                <a:lnTo>
                  <a:pt x="11" y="46"/>
                </a:lnTo>
                <a:lnTo>
                  <a:pt x="0" y="4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0" name="Freeform 24"/>
          <p:cNvSpPr/>
          <p:nvPr/>
        </p:nvSpPr>
        <p:spPr>
          <a:xfrm>
            <a:off x="2349360" y="4637160"/>
            <a:ext cx="38160" cy="264960"/>
          </a:xfrm>
          <a:custGeom>
            <a:avLst/>
            <a:gdLst/>
            <a:ahLst/>
            <a:rect l="l" t="t" r="r" b="b"/>
            <a:pathLst>
              <a:path w="47" h="333">
                <a:moveTo>
                  <a:pt x="13" y="0"/>
                </a:moveTo>
                <a:lnTo>
                  <a:pt x="19" y="26"/>
                </a:lnTo>
                <a:lnTo>
                  <a:pt x="23" y="70"/>
                </a:lnTo>
                <a:lnTo>
                  <a:pt x="20" y="122"/>
                </a:lnTo>
                <a:lnTo>
                  <a:pt x="10" y="170"/>
                </a:lnTo>
                <a:lnTo>
                  <a:pt x="1" y="213"/>
                </a:lnTo>
                <a:lnTo>
                  <a:pt x="0" y="253"/>
                </a:lnTo>
                <a:lnTo>
                  <a:pt x="7" y="294"/>
                </a:lnTo>
                <a:lnTo>
                  <a:pt x="22" y="333"/>
                </a:lnTo>
                <a:lnTo>
                  <a:pt x="18" y="298"/>
                </a:lnTo>
                <a:lnTo>
                  <a:pt x="17" y="257"/>
                </a:lnTo>
                <a:lnTo>
                  <a:pt x="19" y="218"/>
                </a:lnTo>
                <a:lnTo>
                  <a:pt x="30" y="184"/>
                </a:lnTo>
                <a:lnTo>
                  <a:pt x="41" y="148"/>
                </a:lnTo>
                <a:lnTo>
                  <a:pt x="47" y="101"/>
                </a:lnTo>
                <a:lnTo>
                  <a:pt x="46" y="49"/>
                </a:lnTo>
                <a:lnTo>
                  <a:pt x="40" y="0"/>
                </a:lnTo>
                <a:lnTo>
                  <a:pt x="13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1" name="Freeform 25"/>
          <p:cNvSpPr/>
          <p:nvPr/>
        </p:nvSpPr>
        <p:spPr>
          <a:xfrm>
            <a:off x="2486160" y="4606920"/>
            <a:ext cx="55440" cy="179280"/>
          </a:xfrm>
          <a:custGeom>
            <a:avLst/>
            <a:gdLst/>
            <a:ahLst/>
            <a:rect l="l" t="t" r="r" b="b"/>
            <a:pathLst>
              <a:path w="70" h="225">
                <a:moveTo>
                  <a:pt x="22" y="0"/>
                </a:moveTo>
                <a:lnTo>
                  <a:pt x="0" y="8"/>
                </a:lnTo>
                <a:lnTo>
                  <a:pt x="8" y="24"/>
                </a:lnTo>
                <a:lnTo>
                  <a:pt x="17" y="43"/>
                </a:lnTo>
                <a:lnTo>
                  <a:pt x="28" y="66"/>
                </a:lnTo>
                <a:lnTo>
                  <a:pt x="39" y="92"/>
                </a:lnTo>
                <a:lnTo>
                  <a:pt x="48" y="122"/>
                </a:lnTo>
                <a:lnTo>
                  <a:pt x="54" y="154"/>
                </a:lnTo>
                <a:lnTo>
                  <a:pt x="57" y="189"/>
                </a:lnTo>
                <a:lnTo>
                  <a:pt x="54" y="225"/>
                </a:lnTo>
                <a:lnTo>
                  <a:pt x="65" y="200"/>
                </a:lnTo>
                <a:lnTo>
                  <a:pt x="70" y="172"/>
                </a:lnTo>
                <a:lnTo>
                  <a:pt x="70" y="142"/>
                </a:lnTo>
                <a:lnTo>
                  <a:pt x="67" y="111"/>
                </a:lnTo>
                <a:lnTo>
                  <a:pt x="59" y="81"/>
                </a:lnTo>
                <a:lnTo>
                  <a:pt x="48" y="51"/>
                </a:lnTo>
                <a:lnTo>
                  <a:pt x="36" y="24"/>
                </a:lnTo>
                <a:lnTo>
                  <a:pt x="22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2" name="Freeform 26"/>
          <p:cNvSpPr/>
          <p:nvPr/>
        </p:nvSpPr>
        <p:spPr>
          <a:xfrm>
            <a:off x="2206800" y="4621320"/>
            <a:ext cx="36360" cy="177840"/>
          </a:xfrm>
          <a:custGeom>
            <a:avLst/>
            <a:gdLst/>
            <a:ahLst/>
            <a:rect l="l" t="t" r="r" b="b"/>
            <a:pathLst>
              <a:path w="47" h="224">
                <a:moveTo>
                  <a:pt x="45" y="13"/>
                </a:moveTo>
                <a:lnTo>
                  <a:pt x="46" y="31"/>
                </a:lnTo>
                <a:lnTo>
                  <a:pt x="47" y="54"/>
                </a:lnTo>
                <a:lnTo>
                  <a:pt x="45" y="82"/>
                </a:lnTo>
                <a:lnTo>
                  <a:pt x="41" y="111"/>
                </a:lnTo>
                <a:lnTo>
                  <a:pt x="35" y="142"/>
                </a:lnTo>
                <a:lnTo>
                  <a:pt x="26" y="172"/>
                </a:lnTo>
                <a:lnTo>
                  <a:pt x="15" y="199"/>
                </a:lnTo>
                <a:lnTo>
                  <a:pt x="0" y="224"/>
                </a:lnTo>
                <a:lnTo>
                  <a:pt x="8" y="174"/>
                </a:lnTo>
                <a:lnTo>
                  <a:pt x="17" y="116"/>
                </a:lnTo>
                <a:lnTo>
                  <a:pt x="22" y="57"/>
                </a:lnTo>
                <a:lnTo>
                  <a:pt x="18" y="0"/>
                </a:lnTo>
                <a:lnTo>
                  <a:pt x="45" y="1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3" name="Freeform 27"/>
          <p:cNvSpPr/>
          <p:nvPr/>
        </p:nvSpPr>
        <p:spPr>
          <a:xfrm>
            <a:off x="1978200" y="4597560"/>
            <a:ext cx="93600" cy="271440"/>
          </a:xfrm>
          <a:custGeom>
            <a:avLst/>
            <a:gdLst/>
            <a:ahLst/>
            <a:rect l="l" t="t" r="r" b="b"/>
            <a:pathLst>
              <a:path w="117" h="341">
                <a:moveTo>
                  <a:pt x="117" y="4"/>
                </a:moveTo>
                <a:lnTo>
                  <a:pt x="90" y="0"/>
                </a:lnTo>
                <a:lnTo>
                  <a:pt x="78" y="14"/>
                </a:lnTo>
                <a:lnTo>
                  <a:pt x="66" y="34"/>
                </a:lnTo>
                <a:lnTo>
                  <a:pt x="54" y="57"/>
                </a:lnTo>
                <a:lnTo>
                  <a:pt x="45" y="82"/>
                </a:lnTo>
                <a:lnTo>
                  <a:pt x="36" y="111"/>
                </a:lnTo>
                <a:lnTo>
                  <a:pt x="30" y="140"/>
                </a:lnTo>
                <a:lnTo>
                  <a:pt x="26" y="169"/>
                </a:lnTo>
                <a:lnTo>
                  <a:pt x="26" y="198"/>
                </a:lnTo>
                <a:lnTo>
                  <a:pt x="29" y="247"/>
                </a:lnTo>
                <a:lnTo>
                  <a:pt x="25" y="285"/>
                </a:lnTo>
                <a:lnTo>
                  <a:pt x="17" y="315"/>
                </a:lnTo>
                <a:lnTo>
                  <a:pt x="0" y="341"/>
                </a:lnTo>
                <a:lnTo>
                  <a:pt x="15" y="331"/>
                </a:lnTo>
                <a:lnTo>
                  <a:pt x="26" y="318"/>
                </a:lnTo>
                <a:lnTo>
                  <a:pt x="34" y="302"/>
                </a:lnTo>
                <a:lnTo>
                  <a:pt x="40" y="282"/>
                </a:lnTo>
                <a:lnTo>
                  <a:pt x="44" y="263"/>
                </a:lnTo>
                <a:lnTo>
                  <a:pt x="45" y="241"/>
                </a:lnTo>
                <a:lnTo>
                  <a:pt x="45" y="219"/>
                </a:lnTo>
                <a:lnTo>
                  <a:pt x="45" y="198"/>
                </a:lnTo>
                <a:lnTo>
                  <a:pt x="45" y="175"/>
                </a:lnTo>
                <a:lnTo>
                  <a:pt x="48" y="148"/>
                </a:lnTo>
                <a:lnTo>
                  <a:pt x="55" y="119"/>
                </a:lnTo>
                <a:lnTo>
                  <a:pt x="63" y="90"/>
                </a:lnTo>
                <a:lnTo>
                  <a:pt x="74" y="62"/>
                </a:lnTo>
                <a:lnTo>
                  <a:pt x="86" y="37"/>
                </a:lnTo>
                <a:lnTo>
                  <a:pt x="101" y="17"/>
                </a:lnTo>
                <a:lnTo>
                  <a:pt x="117" y="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4" name="Freeform 28"/>
          <p:cNvSpPr/>
          <p:nvPr/>
        </p:nvSpPr>
        <p:spPr>
          <a:xfrm>
            <a:off x="1639800" y="5267160"/>
            <a:ext cx="316080" cy="648000"/>
          </a:xfrm>
          <a:custGeom>
            <a:avLst/>
            <a:gdLst/>
            <a:ahLst/>
            <a:rect l="l" t="t" r="r" b="b"/>
            <a:pathLst>
              <a:path w="397" h="817">
                <a:moveTo>
                  <a:pt x="14" y="284"/>
                </a:moveTo>
                <a:lnTo>
                  <a:pt x="10" y="300"/>
                </a:lnTo>
                <a:lnTo>
                  <a:pt x="5" y="316"/>
                </a:lnTo>
                <a:lnTo>
                  <a:pt x="1" y="336"/>
                </a:lnTo>
                <a:lnTo>
                  <a:pt x="0" y="356"/>
                </a:lnTo>
                <a:lnTo>
                  <a:pt x="0" y="382"/>
                </a:lnTo>
                <a:lnTo>
                  <a:pt x="4" y="411"/>
                </a:lnTo>
                <a:lnTo>
                  <a:pt x="14" y="445"/>
                </a:lnTo>
                <a:lnTo>
                  <a:pt x="30" y="484"/>
                </a:lnTo>
                <a:lnTo>
                  <a:pt x="46" y="519"/>
                </a:lnTo>
                <a:lnTo>
                  <a:pt x="64" y="563"/>
                </a:lnTo>
                <a:lnTo>
                  <a:pt x="86" y="610"/>
                </a:lnTo>
                <a:lnTo>
                  <a:pt x="108" y="661"/>
                </a:lnTo>
                <a:lnTo>
                  <a:pt x="130" y="710"/>
                </a:lnTo>
                <a:lnTo>
                  <a:pt x="148" y="754"/>
                </a:lnTo>
                <a:lnTo>
                  <a:pt x="163" y="791"/>
                </a:lnTo>
                <a:lnTo>
                  <a:pt x="172" y="817"/>
                </a:lnTo>
                <a:lnTo>
                  <a:pt x="189" y="817"/>
                </a:lnTo>
                <a:lnTo>
                  <a:pt x="205" y="816"/>
                </a:lnTo>
                <a:lnTo>
                  <a:pt x="220" y="815"/>
                </a:lnTo>
                <a:lnTo>
                  <a:pt x="236" y="810"/>
                </a:lnTo>
                <a:lnTo>
                  <a:pt x="251" y="805"/>
                </a:lnTo>
                <a:lnTo>
                  <a:pt x="267" y="796"/>
                </a:lnTo>
                <a:lnTo>
                  <a:pt x="284" y="785"/>
                </a:lnTo>
                <a:lnTo>
                  <a:pt x="302" y="769"/>
                </a:lnTo>
                <a:lnTo>
                  <a:pt x="303" y="740"/>
                </a:lnTo>
                <a:lnTo>
                  <a:pt x="304" y="700"/>
                </a:lnTo>
                <a:lnTo>
                  <a:pt x="304" y="650"/>
                </a:lnTo>
                <a:lnTo>
                  <a:pt x="300" y="595"/>
                </a:lnTo>
                <a:lnTo>
                  <a:pt x="295" y="538"/>
                </a:lnTo>
                <a:lnTo>
                  <a:pt x="285" y="482"/>
                </a:lnTo>
                <a:lnTo>
                  <a:pt x="270" y="431"/>
                </a:lnTo>
                <a:lnTo>
                  <a:pt x="250" y="389"/>
                </a:lnTo>
                <a:lnTo>
                  <a:pt x="243" y="398"/>
                </a:lnTo>
                <a:lnTo>
                  <a:pt x="236" y="406"/>
                </a:lnTo>
                <a:lnTo>
                  <a:pt x="229" y="413"/>
                </a:lnTo>
                <a:lnTo>
                  <a:pt x="221" y="420"/>
                </a:lnTo>
                <a:lnTo>
                  <a:pt x="210" y="426"/>
                </a:lnTo>
                <a:lnTo>
                  <a:pt x="198" y="430"/>
                </a:lnTo>
                <a:lnTo>
                  <a:pt x="182" y="434"/>
                </a:lnTo>
                <a:lnTo>
                  <a:pt x="161" y="436"/>
                </a:lnTo>
                <a:lnTo>
                  <a:pt x="175" y="424"/>
                </a:lnTo>
                <a:lnTo>
                  <a:pt x="190" y="411"/>
                </a:lnTo>
                <a:lnTo>
                  <a:pt x="205" y="398"/>
                </a:lnTo>
                <a:lnTo>
                  <a:pt x="219" y="383"/>
                </a:lnTo>
                <a:lnTo>
                  <a:pt x="230" y="368"/>
                </a:lnTo>
                <a:lnTo>
                  <a:pt x="239" y="353"/>
                </a:lnTo>
                <a:lnTo>
                  <a:pt x="244" y="337"/>
                </a:lnTo>
                <a:lnTo>
                  <a:pt x="245" y="321"/>
                </a:lnTo>
                <a:lnTo>
                  <a:pt x="245" y="303"/>
                </a:lnTo>
                <a:lnTo>
                  <a:pt x="249" y="286"/>
                </a:lnTo>
                <a:lnTo>
                  <a:pt x="253" y="269"/>
                </a:lnTo>
                <a:lnTo>
                  <a:pt x="261" y="250"/>
                </a:lnTo>
                <a:lnTo>
                  <a:pt x="270" y="233"/>
                </a:lnTo>
                <a:lnTo>
                  <a:pt x="282" y="216"/>
                </a:lnTo>
                <a:lnTo>
                  <a:pt x="295" y="200"/>
                </a:lnTo>
                <a:lnTo>
                  <a:pt x="310" y="185"/>
                </a:lnTo>
                <a:lnTo>
                  <a:pt x="325" y="170"/>
                </a:lnTo>
                <a:lnTo>
                  <a:pt x="338" y="156"/>
                </a:lnTo>
                <a:lnTo>
                  <a:pt x="351" y="143"/>
                </a:lnTo>
                <a:lnTo>
                  <a:pt x="363" y="129"/>
                </a:lnTo>
                <a:lnTo>
                  <a:pt x="373" y="114"/>
                </a:lnTo>
                <a:lnTo>
                  <a:pt x="382" y="99"/>
                </a:lnTo>
                <a:lnTo>
                  <a:pt x="390" y="83"/>
                </a:lnTo>
                <a:lnTo>
                  <a:pt x="397" y="65"/>
                </a:lnTo>
                <a:lnTo>
                  <a:pt x="383" y="68"/>
                </a:lnTo>
                <a:lnTo>
                  <a:pt x="368" y="71"/>
                </a:lnTo>
                <a:lnTo>
                  <a:pt x="353" y="73"/>
                </a:lnTo>
                <a:lnTo>
                  <a:pt x="336" y="75"/>
                </a:lnTo>
                <a:lnTo>
                  <a:pt x="318" y="75"/>
                </a:lnTo>
                <a:lnTo>
                  <a:pt x="299" y="75"/>
                </a:lnTo>
                <a:lnTo>
                  <a:pt x="280" y="74"/>
                </a:lnTo>
                <a:lnTo>
                  <a:pt x="260" y="72"/>
                </a:lnTo>
                <a:lnTo>
                  <a:pt x="239" y="68"/>
                </a:lnTo>
                <a:lnTo>
                  <a:pt x="220" y="63"/>
                </a:lnTo>
                <a:lnTo>
                  <a:pt x="199" y="57"/>
                </a:lnTo>
                <a:lnTo>
                  <a:pt x="178" y="49"/>
                </a:lnTo>
                <a:lnTo>
                  <a:pt x="159" y="40"/>
                </a:lnTo>
                <a:lnTo>
                  <a:pt x="139" y="28"/>
                </a:lnTo>
                <a:lnTo>
                  <a:pt x="119" y="15"/>
                </a:lnTo>
                <a:lnTo>
                  <a:pt x="101" y="0"/>
                </a:lnTo>
                <a:lnTo>
                  <a:pt x="92" y="23"/>
                </a:lnTo>
                <a:lnTo>
                  <a:pt x="80" y="57"/>
                </a:lnTo>
                <a:lnTo>
                  <a:pt x="68" y="96"/>
                </a:lnTo>
                <a:lnTo>
                  <a:pt x="54" y="138"/>
                </a:lnTo>
                <a:lnTo>
                  <a:pt x="41" y="180"/>
                </a:lnTo>
                <a:lnTo>
                  <a:pt x="30" y="222"/>
                </a:lnTo>
                <a:lnTo>
                  <a:pt x="19" y="256"/>
                </a:lnTo>
                <a:lnTo>
                  <a:pt x="14" y="28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5" name="Freeform 29"/>
          <p:cNvSpPr/>
          <p:nvPr/>
        </p:nvSpPr>
        <p:spPr>
          <a:xfrm>
            <a:off x="1776240" y="5881680"/>
            <a:ext cx="149400" cy="144360"/>
          </a:xfrm>
          <a:custGeom>
            <a:avLst/>
            <a:gdLst/>
            <a:ahLst/>
            <a:rect l="l" t="t" r="r" b="b"/>
            <a:pathLst>
              <a:path w="189" h="183">
                <a:moveTo>
                  <a:pt x="157" y="0"/>
                </a:moveTo>
                <a:lnTo>
                  <a:pt x="149" y="11"/>
                </a:lnTo>
                <a:lnTo>
                  <a:pt x="136" y="25"/>
                </a:lnTo>
                <a:lnTo>
                  <a:pt x="120" y="38"/>
                </a:lnTo>
                <a:lnTo>
                  <a:pt x="100" y="49"/>
                </a:lnTo>
                <a:lnTo>
                  <a:pt x="79" y="60"/>
                </a:lnTo>
                <a:lnTo>
                  <a:pt x="54" y="66"/>
                </a:lnTo>
                <a:lnTo>
                  <a:pt x="29" y="69"/>
                </a:lnTo>
                <a:lnTo>
                  <a:pt x="2" y="66"/>
                </a:lnTo>
                <a:lnTo>
                  <a:pt x="0" y="79"/>
                </a:lnTo>
                <a:lnTo>
                  <a:pt x="5" y="96"/>
                </a:lnTo>
                <a:lnTo>
                  <a:pt x="12" y="118"/>
                </a:lnTo>
                <a:lnTo>
                  <a:pt x="19" y="141"/>
                </a:lnTo>
                <a:lnTo>
                  <a:pt x="21" y="153"/>
                </a:lnTo>
                <a:lnTo>
                  <a:pt x="21" y="162"/>
                </a:lnTo>
                <a:lnTo>
                  <a:pt x="21" y="169"/>
                </a:lnTo>
                <a:lnTo>
                  <a:pt x="22" y="175"/>
                </a:lnTo>
                <a:lnTo>
                  <a:pt x="23" y="179"/>
                </a:lnTo>
                <a:lnTo>
                  <a:pt x="28" y="182"/>
                </a:lnTo>
                <a:lnTo>
                  <a:pt x="35" y="183"/>
                </a:lnTo>
                <a:lnTo>
                  <a:pt x="45" y="182"/>
                </a:lnTo>
                <a:lnTo>
                  <a:pt x="57" y="178"/>
                </a:lnTo>
                <a:lnTo>
                  <a:pt x="67" y="174"/>
                </a:lnTo>
                <a:lnTo>
                  <a:pt x="76" y="168"/>
                </a:lnTo>
                <a:lnTo>
                  <a:pt x="83" y="162"/>
                </a:lnTo>
                <a:lnTo>
                  <a:pt x="90" y="156"/>
                </a:lnTo>
                <a:lnTo>
                  <a:pt x="97" y="152"/>
                </a:lnTo>
                <a:lnTo>
                  <a:pt x="104" y="148"/>
                </a:lnTo>
                <a:lnTo>
                  <a:pt x="112" y="147"/>
                </a:lnTo>
                <a:lnTo>
                  <a:pt x="121" y="147"/>
                </a:lnTo>
                <a:lnTo>
                  <a:pt x="132" y="145"/>
                </a:lnTo>
                <a:lnTo>
                  <a:pt x="143" y="142"/>
                </a:lnTo>
                <a:lnTo>
                  <a:pt x="155" y="137"/>
                </a:lnTo>
                <a:lnTo>
                  <a:pt x="166" y="129"/>
                </a:lnTo>
                <a:lnTo>
                  <a:pt x="175" y="116"/>
                </a:lnTo>
                <a:lnTo>
                  <a:pt x="183" y="101"/>
                </a:lnTo>
                <a:lnTo>
                  <a:pt x="189" y="80"/>
                </a:lnTo>
                <a:lnTo>
                  <a:pt x="178" y="88"/>
                </a:lnTo>
                <a:lnTo>
                  <a:pt x="165" y="98"/>
                </a:lnTo>
                <a:lnTo>
                  <a:pt x="150" y="106"/>
                </a:lnTo>
                <a:lnTo>
                  <a:pt x="133" y="113"/>
                </a:lnTo>
                <a:lnTo>
                  <a:pt x="114" y="118"/>
                </a:lnTo>
                <a:lnTo>
                  <a:pt x="93" y="121"/>
                </a:lnTo>
                <a:lnTo>
                  <a:pt x="73" y="121"/>
                </a:lnTo>
                <a:lnTo>
                  <a:pt x="50" y="117"/>
                </a:lnTo>
                <a:lnTo>
                  <a:pt x="66" y="113"/>
                </a:lnTo>
                <a:lnTo>
                  <a:pt x="83" y="107"/>
                </a:lnTo>
                <a:lnTo>
                  <a:pt x="102" y="100"/>
                </a:lnTo>
                <a:lnTo>
                  <a:pt x="120" y="91"/>
                </a:lnTo>
                <a:lnTo>
                  <a:pt x="137" y="81"/>
                </a:lnTo>
                <a:lnTo>
                  <a:pt x="152" y="69"/>
                </a:lnTo>
                <a:lnTo>
                  <a:pt x="164" y="53"/>
                </a:lnTo>
                <a:lnTo>
                  <a:pt x="171" y="34"/>
                </a:lnTo>
                <a:lnTo>
                  <a:pt x="172" y="25"/>
                </a:lnTo>
                <a:lnTo>
                  <a:pt x="170" y="16"/>
                </a:lnTo>
                <a:lnTo>
                  <a:pt x="165" y="7"/>
                </a:lnTo>
                <a:lnTo>
                  <a:pt x="157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6" name="Freeform 30"/>
          <p:cNvSpPr/>
          <p:nvPr/>
        </p:nvSpPr>
        <p:spPr>
          <a:xfrm>
            <a:off x="1731960" y="5965920"/>
            <a:ext cx="324000" cy="411120"/>
          </a:xfrm>
          <a:custGeom>
            <a:avLst/>
            <a:gdLst/>
            <a:ahLst/>
            <a:rect l="l" t="t" r="r" b="b"/>
            <a:pathLst>
              <a:path w="409" h="517">
                <a:moveTo>
                  <a:pt x="289" y="0"/>
                </a:moveTo>
                <a:lnTo>
                  <a:pt x="288" y="10"/>
                </a:lnTo>
                <a:lnTo>
                  <a:pt x="284" y="22"/>
                </a:lnTo>
                <a:lnTo>
                  <a:pt x="279" y="33"/>
                </a:lnTo>
                <a:lnTo>
                  <a:pt x="269" y="45"/>
                </a:lnTo>
                <a:lnTo>
                  <a:pt x="259" y="56"/>
                </a:lnTo>
                <a:lnTo>
                  <a:pt x="245" y="65"/>
                </a:lnTo>
                <a:lnTo>
                  <a:pt x="230" y="71"/>
                </a:lnTo>
                <a:lnTo>
                  <a:pt x="214" y="75"/>
                </a:lnTo>
                <a:lnTo>
                  <a:pt x="216" y="90"/>
                </a:lnTo>
                <a:lnTo>
                  <a:pt x="215" y="108"/>
                </a:lnTo>
                <a:lnTo>
                  <a:pt x="211" y="128"/>
                </a:lnTo>
                <a:lnTo>
                  <a:pt x="204" y="144"/>
                </a:lnTo>
                <a:lnTo>
                  <a:pt x="214" y="150"/>
                </a:lnTo>
                <a:lnTo>
                  <a:pt x="223" y="156"/>
                </a:lnTo>
                <a:lnTo>
                  <a:pt x="231" y="166"/>
                </a:lnTo>
                <a:lnTo>
                  <a:pt x="238" y="177"/>
                </a:lnTo>
                <a:lnTo>
                  <a:pt x="243" y="189"/>
                </a:lnTo>
                <a:lnTo>
                  <a:pt x="245" y="201"/>
                </a:lnTo>
                <a:lnTo>
                  <a:pt x="245" y="214"/>
                </a:lnTo>
                <a:lnTo>
                  <a:pt x="241" y="227"/>
                </a:lnTo>
                <a:lnTo>
                  <a:pt x="235" y="237"/>
                </a:lnTo>
                <a:lnTo>
                  <a:pt x="228" y="246"/>
                </a:lnTo>
                <a:lnTo>
                  <a:pt x="221" y="253"/>
                </a:lnTo>
                <a:lnTo>
                  <a:pt x="212" y="257"/>
                </a:lnTo>
                <a:lnTo>
                  <a:pt x="203" y="259"/>
                </a:lnTo>
                <a:lnTo>
                  <a:pt x="193" y="260"/>
                </a:lnTo>
                <a:lnTo>
                  <a:pt x="182" y="259"/>
                </a:lnTo>
                <a:lnTo>
                  <a:pt x="169" y="255"/>
                </a:lnTo>
                <a:lnTo>
                  <a:pt x="166" y="277"/>
                </a:lnTo>
                <a:lnTo>
                  <a:pt x="161" y="300"/>
                </a:lnTo>
                <a:lnTo>
                  <a:pt x="155" y="322"/>
                </a:lnTo>
                <a:lnTo>
                  <a:pt x="148" y="344"/>
                </a:lnTo>
                <a:lnTo>
                  <a:pt x="139" y="363"/>
                </a:lnTo>
                <a:lnTo>
                  <a:pt x="130" y="380"/>
                </a:lnTo>
                <a:lnTo>
                  <a:pt x="119" y="394"/>
                </a:lnTo>
                <a:lnTo>
                  <a:pt x="105" y="403"/>
                </a:lnTo>
                <a:lnTo>
                  <a:pt x="91" y="409"/>
                </a:lnTo>
                <a:lnTo>
                  <a:pt x="79" y="414"/>
                </a:lnTo>
                <a:lnTo>
                  <a:pt x="67" y="418"/>
                </a:lnTo>
                <a:lnTo>
                  <a:pt x="56" y="420"/>
                </a:lnTo>
                <a:lnTo>
                  <a:pt x="45" y="423"/>
                </a:lnTo>
                <a:lnTo>
                  <a:pt x="32" y="423"/>
                </a:lnTo>
                <a:lnTo>
                  <a:pt x="21" y="423"/>
                </a:lnTo>
                <a:lnTo>
                  <a:pt x="7" y="421"/>
                </a:lnTo>
                <a:lnTo>
                  <a:pt x="3" y="439"/>
                </a:lnTo>
                <a:lnTo>
                  <a:pt x="1" y="457"/>
                </a:lnTo>
                <a:lnTo>
                  <a:pt x="0" y="473"/>
                </a:lnTo>
                <a:lnTo>
                  <a:pt x="1" y="488"/>
                </a:lnTo>
                <a:lnTo>
                  <a:pt x="3" y="500"/>
                </a:lnTo>
                <a:lnTo>
                  <a:pt x="10" y="510"/>
                </a:lnTo>
                <a:lnTo>
                  <a:pt x="21" y="516"/>
                </a:lnTo>
                <a:lnTo>
                  <a:pt x="36" y="517"/>
                </a:lnTo>
                <a:lnTo>
                  <a:pt x="54" y="516"/>
                </a:lnTo>
                <a:lnTo>
                  <a:pt x="74" y="512"/>
                </a:lnTo>
                <a:lnTo>
                  <a:pt x="93" y="509"/>
                </a:lnTo>
                <a:lnTo>
                  <a:pt x="112" y="502"/>
                </a:lnTo>
                <a:lnTo>
                  <a:pt x="130" y="494"/>
                </a:lnTo>
                <a:lnTo>
                  <a:pt x="146" y="484"/>
                </a:lnTo>
                <a:lnTo>
                  <a:pt x="160" y="470"/>
                </a:lnTo>
                <a:lnTo>
                  <a:pt x="172" y="454"/>
                </a:lnTo>
                <a:lnTo>
                  <a:pt x="182" y="435"/>
                </a:lnTo>
                <a:lnTo>
                  <a:pt x="192" y="418"/>
                </a:lnTo>
                <a:lnTo>
                  <a:pt x="201" y="401"/>
                </a:lnTo>
                <a:lnTo>
                  <a:pt x="212" y="382"/>
                </a:lnTo>
                <a:lnTo>
                  <a:pt x="220" y="365"/>
                </a:lnTo>
                <a:lnTo>
                  <a:pt x="227" y="348"/>
                </a:lnTo>
                <a:lnTo>
                  <a:pt x="231" y="332"/>
                </a:lnTo>
                <a:lnTo>
                  <a:pt x="234" y="314"/>
                </a:lnTo>
                <a:lnTo>
                  <a:pt x="236" y="297"/>
                </a:lnTo>
                <a:lnTo>
                  <a:pt x="243" y="280"/>
                </a:lnTo>
                <a:lnTo>
                  <a:pt x="251" y="262"/>
                </a:lnTo>
                <a:lnTo>
                  <a:pt x="263" y="245"/>
                </a:lnTo>
                <a:lnTo>
                  <a:pt x="274" y="231"/>
                </a:lnTo>
                <a:lnTo>
                  <a:pt x="288" y="219"/>
                </a:lnTo>
                <a:lnTo>
                  <a:pt x="301" y="209"/>
                </a:lnTo>
                <a:lnTo>
                  <a:pt x="313" y="205"/>
                </a:lnTo>
                <a:lnTo>
                  <a:pt x="326" y="201"/>
                </a:lnTo>
                <a:lnTo>
                  <a:pt x="340" y="194"/>
                </a:lnTo>
                <a:lnTo>
                  <a:pt x="354" y="186"/>
                </a:lnTo>
                <a:lnTo>
                  <a:pt x="367" y="177"/>
                </a:lnTo>
                <a:lnTo>
                  <a:pt x="380" y="164"/>
                </a:lnTo>
                <a:lnTo>
                  <a:pt x="392" y="151"/>
                </a:lnTo>
                <a:lnTo>
                  <a:pt x="402" y="133"/>
                </a:lnTo>
                <a:lnTo>
                  <a:pt x="409" y="115"/>
                </a:lnTo>
                <a:lnTo>
                  <a:pt x="403" y="98"/>
                </a:lnTo>
                <a:lnTo>
                  <a:pt x="397" y="80"/>
                </a:lnTo>
                <a:lnTo>
                  <a:pt x="388" y="64"/>
                </a:lnTo>
                <a:lnTo>
                  <a:pt x="377" y="49"/>
                </a:lnTo>
                <a:lnTo>
                  <a:pt x="362" y="35"/>
                </a:lnTo>
                <a:lnTo>
                  <a:pt x="342" y="22"/>
                </a:lnTo>
                <a:lnTo>
                  <a:pt x="318" y="10"/>
                </a:lnTo>
                <a:lnTo>
                  <a:pt x="289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7" name="Freeform 31"/>
          <p:cNvSpPr/>
          <p:nvPr/>
        </p:nvSpPr>
        <p:spPr>
          <a:xfrm>
            <a:off x="1758960" y="6081840"/>
            <a:ext cx="20520" cy="47520"/>
          </a:xfrm>
          <a:custGeom>
            <a:avLst/>
            <a:gdLst/>
            <a:ahLst/>
            <a:rect l="l" t="t" r="r" b="b"/>
            <a:pathLst>
              <a:path w="26" h="60">
                <a:moveTo>
                  <a:pt x="25" y="24"/>
                </a:moveTo>
                <a:lnTo>
                  <a:pt x="26" y="18"/>
                </a:lnTo>
                <a:lnTo>
                  <a:pt x="25" y="13"/>
                </a:lnTo>
                <a:lnTo>
                  <a:pt x="25" y="7"/>
                </a:lnTo>
                <a:lnTo>
                  <a:pt x="25" y="0"/>
                </a:lnTo>
                <a:lnTo>
                  <a:pt x="17" y="13"/>
                </a:lnTo>
                <a:lnTo>
                  <a:pt x="7" y="30"/>
                </a:lnTo>
                <a:lnTo>
                  <a:pt x="2" y="46"/>
                </a:lnTo>
                <a:lnTo>
                  <a:pt x="0" y="60"/>
                </a:lnTo>
                <a:lnTo>
                  <a:pt x="10" y="52"/>
                </a:lnTo>
                <a:lnTo>
                  <a:pt x="17" y="43"/>
                </a:lnTo>
                <a:lnTo>
                  <a:pt x="22" y="33"/>
                </a:lnTo>
                <a:lnTo>
                  <a:pt x="25" y="2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8" name="Freeform 32"/>
          <p:cNvSpPr/>
          <p:nvPr/>
        </p:nvSpPr>
        <p:spPr>
          <a:xfrm>
            <a:off x="1824120" y="6078600"/>
            <a:ext cx="77760" cy="66600"/>
          </a:xfrm>
          <a:custGeom>
            <a:avLst/>
            <a:gdLst/>
            <a:ahLst/>
            <a:rect l="l" t="t" r="r" b="b"/>
            <a:pathLst>
              <a:path w="98" h="85">
                <a:moveTo>
                  <a:pt x="3" y="26"/>
                </a:moveTo>
                <a:lnTo>
                  <a:pt x="0" y="19"/>
                </a:lnTo>
                <a:lnTo>
                  <a:pt x="0" y="13"/>
                </a:lnTo>
                <a:lnTo>
                  <a:pt x="0" y="7"/>
                </a:lnTo>
                <a:lnTo>
                  <a:pt x="0" y="0"/>
                </a:lnTo>
                <a:lnTo>
                  <a:pt x="15" y="4"/>
                </a:lnTo>
                <a:lnTo>
                  <a:pt x="34" y="11"/>
                </a:lnTo>
                <a:lnTo>
                  <a:pt x="52" y="20"/>
                </a:lnTo>
                <a:lnTo>
                  <a:pt x="69" y="32"/>
                </a:lnTo>
                <a:lnTo>
                  <a:pt x="84" y="44"/>
                </a:lnTo>
                <a:lnTo>
                  <a:pt x="95" y="58"/>
                </a:lnTo>
                <a:lnTo>
                  <a:pt x="98" y="70"/>
                </a:lnTo>
                <a:lnTo>
                  <a:pt x="94" y="80"/>
                </a:lnTo>
                <a:lnTo>
                  <a:pt x="84" y="85"/>
                </a:lnTo>
                <a:lnTo>
                  <a:pt x="73" y="85"/>
                </a:lnTo>
                <a:lnTo>
                  <a:pt x="60" y="81"/>
                </a:lnTo>
                <a:lnTo>
                  <a:pt x="47" y="74"/>
                </a:lnTo>
                <a:lnTo>
                  <a:pt x="35" y="65"/>
                </a:lnTo>
                <a:lnTo>
                  <a:pt x="22" y="53"/>
                </a:lnTo>
                <a:lnTo>
                  <a:pt x="12" y="40"/>
                </a:lnTo>
                <a:lnTo>
                  <a:pt x="3" y="2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9" name="Freeform 33"/>
          <p:cNvSpPr/>
          <p:nvPr/>
        </p:nvSpPr>
        <p:spPr>
          <a:xfrm>
            <a:off x="1776240" y="6018120"/>
            <a:ext cx="108000" cy="55800"/>
          </a:xfrm>
          <a:custGeom>
            <a:avLst/>
            <a:gdLst/>
            <a:ahLst/>
            <a:rect l="l" t="t" r="r" b="b"/>
            <a:pathLst>
              <a:path w="135" h="72">
                <a:moveTo>
                  <a:pt x="10" y="15"/>
                </a:moveTo>
                <a:lnTo>
                  <a:pt x="15" y="20"/>
                </a:lnTo>
                <a:lnTo>
                  <a:pt x="22" y="24"/>
                </a:lnTo>
                <a:lnTo>
                  <a:pt x="31" y="27"/>
                </a:lnTo>
                <a:lnTo>
                  <a:pt x="41" y="28"/>
                </a:lnTo>
                <a:lnTo>
                  <a:pt x="51" y="29"/>
                </a:lnTo>
                <a:lnTo>
                  <a:pt x="61" y="28"/>
                </a:lnTo>
                <a:lnTo>
                  <a:pt x="71" y="26"/>
                </a:lnTo>
                <a:lnTo>
                  <a:pt x="79" y="21"/>
                </a:lnTo>
                <a:lnTo>
                  <a:pt x="86" y="15"/>
                </a:lnTo>
                <a:lnTo>
                  <a:pt x="95" y="9"/>
                </a:lnTo>
                <a:lnTo>
                  <a:pt x="103" y="5"/>
                </a:lnTo>
                <a:lnTo>
                  <a:pt x="112" y="1"/>
                </a:lnTo>
                <a:lnTo>
                  <a:pt x="119" y="0"/>
                </a:lnTo>
                <a:lnTo>
                  <a:pt x="126" y="1"/>
                </a:lnTo>
                <a:lnTo>
                  <a:pt x="131" y="6"/>
                </a:lnTo>
                <a:lnTo>
                  <a:pt x="134" y="15"/>
                </a:lnTo>
                <a:lnTo>
                  <a:pt x="135" y="37"/>
                </a:lnTo>
                <a:lnTo>
                  <a:pt x="133" y="56"/>
                </a:lnTo>
                <a:lnTo>
                  <a:pt x="129" y="67"/>
                </a:lnTo>
                <a:lnTo>
                  <a:pt x="127" y="72"/>
                </a:lnTo>
                <a:lnTo>
                  <a:pt x="121" y="69"/>
                </a:lnTo>
                <a:lnTo>
                  <a:pt x="113" y="68"/>
                </a:lnTo>
                <a:lnTo>
                  <a:pt x="105" y="66"/>
                </a:lnTo>
                <a:lnTo>
                  <a:pt x="96" y="65"/>
                </a:lnTo>
                <a:lnTo>
                  <a:pt x="87" y="64"/>
                </a:lnTo>
                <a:lnTo>
                  <a:pt x="76" y="62"/>
                </a:lnTo>
                <a:lnTo>
                  <a:pt x="66" y="60"/>
                </a:lnTo>
                <a:lnTo>
                  <a:pt x="57" y="59"/>
                </a:lnTo>
                <a:lnTo>
                  <a:pt x="51" y="54"/>
                </a:lnTo>
                <a:lnTo>
                  <a:pt x="44" y="52"/>
                </a:lnTo>
                <a:lnTo>
                  <a:pt x="37" y="51"/>
                </a:lnTo>
                <a:lnTo>
                  <a:pt x="29" y="52"/>
                </a:lnTo>
                <a:lnTo>
                  <a:pt x="21" y="53"/>
                </a:lnTo>
                <a:lnTo>
                  <a:pt x="13" y="56"/>
                </a:lnTo>
                <a:lnTo>
                  <a:pt x="6" y="59"/>
                </a:lnTo>
                <a:lnTo>
                  <a:pt x="0" y="61"/>
                </a:lnTo>
                <a:lnTo>
                  <a:pt x="0" y="50"/>
                </a:lnTo>
                <a:lnTo>
                  <a:pt x="1" y="37"/>
                </a:lnTo>
                <a:lnTo>
                  <a:pt x="5" y="26"/>
                </a:lnTo>
                <a:lnTo>
                  <a:pt x="10" y="1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0" name="Freeform 34"/>
          <p:cNvSpPr/>
          <p:nvPr/>
        </p:nvSpPr>
        <p:spPr>
          <a:xfrm>
            <a:off x="1787400" y="6226200"/>
            <a:ext cx="44640" cy="39600"/>
          </a:xfrm>
          <a:custGeom>
            <a:avLst/>
            <a:gdLst/>
            <a:ahLst/>
            <a:rect l="l" t="t" r="r" b="b"/>
            <a:pathLst>
              <a:path w="58" h="49">
                <a:moveTo>
                  <a:pt x="36" y="0"/>
                </a:moveTo>
                <a:lnTo>
                  <a:pt x="58" y="8"/>
                </a:lnTo>
                <a:lnTo>
                  <a:pt x="53" y="22"/>
                </a:lnTo>
                <a:lnTo>
                  <a:pt x="46" y="34"/>
                </a:lnTo>
                <a:lnTo>
                  <a:pt x="38" y="44"/>
                </a:lnTo>
                <a:lnTo>
                  <a:pt x="30" y="49"/>
                </a:lnTo>
                <a:lnTo>
                  <a:pt x="0" y="22"/>
                </a:lnTo>
                <a:lnTo>
                  <a:pt x="3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1" name="Freeform 35"/>
          <p:cNvSpPr/>
          <p:nvPr/>
        </p:nvSpPr>
        <p:spPr>
          <a:xfrm>
            <a:off x="1743120" y="6253200"/>
            <a:ext cx="52200" cy="30240"/>
          </a:xfrm>
          <a:custGeom>
            <a:avLst/>
            <a:gdLst/>
            <a:ahLst/>
            <a:rect l="l" t="t" r="r" b="b"/>
            <a:pathLst>
              <a:path w="66" h="40">
                <a:moveTo>
                  <a:pt x="31" y="0"/>
                </a:moveTo>
                <a:lnTo>
                  <a:pt x="66" y="22"/>
                </a:lnTo>
                <a:lnTo>
                  <a:pt x="59" y="27"/>
                </a:lnTo>
                <a:lnTo>
                  <a:pt x="49" y="30"/>
                </a:lnTo>
                <a:lnTo>
                  <a:pt x="40" y="34"/>
                </a:lnTo>
                <a:lnTo>
                  <a:pt x="30" y="37"/>
                </a:lnTo>
                <a:lnTo>
                  <a:pt x="21" y="40"/>
                </a:lnTo>
                <a:lnTo>
                  <a:pt x="11" y="40"/>
                </a:lnTo>
                <a:lnTo>
                  <a:pt x="6" y="37"/>
                </a:lnTo>
                <a:lnTo>
                  <a:pt x="1" y="33"/>
                </a:lnTo>
                <a:lnTo>
                  <a:pt x="0" y="23"/>
                </a:lnTo>
                <a:lnTo>
                  <a:pt x="1" y="18"/>
                </a:lnTo>
                <a:lnTo>
                  <a:pt x="4" y="15"/>
                </a:lnTo>
                <a:lnTo>
                  <a:pt x="6" y="14"/>
                </a:lnTo>
                <a:lnTo>
                  <a:pt x="31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2" name="Freeform 36"/>
          <p:cNvSpPr/>
          <p:nvPr/>
        </p:nvSpPr>
        <p:spPr>
          <a:xfrm>
            <a:off x="1758960" y="6207120"/>
            <a:ext cx="44280" cy="27000"/>
          </a:xfrm>
          <a:custGeom>
            <a:avLst/>
            <a:gdLst/>
            <a:ahLst/>
            <a:rect l="l" t="t" r="r" b="b"/>
            <a:pathLst>
              <a:path w="58" h="34">
                <a:moveTo>
                  <a:pt x="0" y="16"/>
                </a:moveTo>
                <a:lnTo>
                  <a:pt x="23" y="34"/>
                </a:lnTo>
                <a:lnTo>
                  <a:pt x="58" y="16"/>
                </a:lnTo>
                <a:lnTo>
                  <a:pt x="29" y="0"/>
                </a:lnTo>
                <a:lnTo>
                  <a:pt x="0" y="1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3" name="Freeform 37"/>
          <p:cNvSpPr/>
          <p:nvPr/>
        </p:nvSpPr>
        <p:spPr>
          <a:xfrm>
            <a:off x="1746360" y="6229440"/>
            <a:ext cx="17280" cy="20520"/>
          </a:xfrm>
          <a:custGeom>
            <a:avLst/>
            <a:gdLst/>
            <a:ahLst/>
            <a:rect l="l" t="t" r="r" b="b"/>
            <a:pathLst>
              <a:path w="21" h="27">
                <a:moveTo>
                  <a:pt x="5" y="0"/>
                </a:moveTo>
                <a:lnTo>
                  <a:pt x="21" y="17"/>
                </a:lnTo>
                <a:lnTo>
                  <a:pt x="0" y="27"/>
                </a:lnTo>
                <a:lnTo>
                  <a:pt x="5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4" name="Freeform 38"/>
          <p:cNvSpPr/>
          <p:nvPr/>
        </p:nvSpPr>
        <p:spPr>
          <a:xfrm>
            <a:off x="1797120" y="6183360"/>
            <a:ext cx="41040" cy="33120"/>
          </a:xfrm>
          <a:custGeom>
            <a:avLst/>
            <a:gdLst/>
            <a:ahLst/>
            <a:rect l="l" t="t" r="r" b="b"/>
            <a:pathLst>
              <a:path w="53" h="41">
                <a:moveTo>
                  <a:pt x="43" y="41"/>
                </a:moveTo>
                <a:lnTo>
                  <a:pt x="0" y="21"/>
                </a:lnTo>
                <a:lnTo>
                  <a:pt x="53" y="0"/>
                </a:lnTo>
                <a:lnTo>
                  <a:pt x="52" y="9"/>
                </a:lnTo>
                <a:lnTo>
                  <a:pt x="49" y="22"/>
                </a:lnTo>
                <a:lnTo>
                  <a:pt x="46" y="34"/>
                </a:lnTo>
                <a:lnTo>
                  <a:pt x="43" y="4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5" name="Freeform 39"/>
          <p:cNvSpPr/>
          <p:nvPr/>
        </p:nvSpPr>
        <p:spPr>
          <a:xfrm>
            <a:off x="1754280" y="6181560"/>
            <a:ext cx="17280" cy="25560"/>
          </a:xfrm>
          <a:custGeom>
            <a:avLst/>
            <a:gdLst/>
            <a:ahLst/>
            <a:rect l="l" t="t" r="r" b="b"/>
            <a:pathLst>
              <a:path w="20" h="31">
                <a:moveTo>
                  <a:pt x="20" y="19"/>
                </a:moveTo>
                <a:lnTo>
                  <a:pt x="0" y="31"/>
                </a:lnTo>
                <a:lnTo>
                  <a:pt x="4" y="0"/>
                </a:lnTo>
                <a:lnTo>
                  <a:pt x="20" y="1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6" name="Freeform 40"/>
          <p:cNvSpPr/>
          <p:nvPr/>
        </p:nvSpPr>
        <p:spPr>
          <a:xfrm>
            <a:off x="1766880" y="6153120"/>
            <a:ext cx="60480" cy="36720"/>
          </a:xfrm>
          <a:custGeom>
            <a:avLst/>
            <a:gdLst/>
            <a:ahLst/>
            <a:rect l="l" t="t" r="r" b="b"/>
            <a:pathLst>
              <a:path w="76" h="46">
                <a:moveTo>
                  <a:pt x="0" y="20"/>
                </a:moveTo>
                <a:lnTo>
                  <a:pt x="25" y="46"/>
                </a:lnTo>
                <a:lnTo>
                  <a:pt x="76" y="26"/>
                </a:lnTo>
                <a:lnTo>
                  <a:pt x="41" y="0"/>
                </a:lnTo>
                <a:lnTo>
                  <a:pt x="0" y="2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7" name="Freeform 41"/>
          <p:cNvSpPr/>
          <p:nvPr/>
        </p:nvSpPr>
        <p:spPr>
          <a:xfrm>
            <a:off x="1817640" y="6132600"/>
            <a:ext cx="28800" cy="36360"/>
          </a:xfrm>
          <a:custGeom>
            <a:avLst/>
            <a:gdLst/>
            <a:ahLst/>
            <a:rect l="l" t="t" r="r" b="b"/>
            <a:pathLst>
              <a:path w="36" h="46">
                <a:moveTo>
                  <a:pt x="36" y="35"/>
                </a:moveTo>
                <a:lnTo>
                  <a:pt x="27" y="46"/>
                </a:lnTo>
                <a:lnTo>
                  <a:pt x="0" y="18"/>
                </a:lnTo>
                <a:lnTo>
                  <a:pt x="17" y="0"/>
                </a:lnTo>
                <a:lnTo>
                  <a:pt x="20" y="8"/>
                </a:lnTo>
                <a:lnTo>
                  <a:pt x="23" y="19"/>
                </a:lnTo>
                <a:lnTo>
                  <a:pt x="30" y="28"/>
                </a:lnTo>
                <a:lnTo>
                  <a:pt x="36" y="3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8" name="Freeform 42"/>
          <p:cNvSpPr/>
          <p:nvPr/>
        </p:nvSpPr>
        <p:spPr>
          <a:xfrm>
            <a:off x="1790640" y="6108840"/>
            <a:ext cx="23760" cy="31680"/>
          </a:xfrm>
          <a:custGeom>
            <a:avLst/>
            <a:gdLst/>
            <a:ahLst/>
            <a:rect l="l" t="t" r="r" b="b"/>
            <a:pathLst>
              <a:path w="29" h="40">
                <a:moveTo>
                  <a:pt x="29" y="24"/>
                </a:moveTo>
                <a:lnTo>
                  <a:pt x="12" y="40"/>
                </a:lnTo>
                <a:lnTo>
                  <a:pt x="0" y="26"/>
                </a:lnTo>
                <a:lnTo>
                  <a:pt x="19" y="0"/>
                </a:lnTo>
                <a:lnTo>
                  <a:pt x="29" y="2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9" name="Freeform 43"/>
          <p:cNvSpPr/>
          <p:nvPr/>
        </p:nvSpPr>
        <p:spPr>
          <a:xfrm>
            <a:off x="1758960" y="6140520"/>
            <a:ext cx="27000" cy="15840"/>
          </a:xfrm>
          <a:custGeom>
            <a:avLst/>
            <a:gdLst/>
            <a:ahLst/>
            <a:rect l="l" t="t" r="r" b="b"/>
            <a:pathLst>
              <a:path w="34" h="20">
                <a:moveTo>
                  <a:pt x="28" y="0"/>
                </a:moveTo>
                <a:lnTo>
                  <a:pt x="34" y="9"/>
                </a:lnTo>
                <a:lnTo>
                  <a:pt x="0" y="20"/>
                </a:lnTo>
                <a:lnTo>
                  <a:pt x="7" y="16"/>
                </a:lnTo>
                <a:lnTo>
                  <a:pt x="17" y="10"/>
                </a:lnTo>
                <a:lnTo>
                  <a:pt x="23" y="4"/>
                </a:lnTo>
                <a:lnTo>
                  <a:pt x="2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0" name="Freeform 44"/>
          <p:cNvSpPr/>
          <p:nvPr/>
        </p:nvSpPr>
        <p:spPr>
          <a:xfrm>
            <a:off x="2273400" y="5419800"/>
            <a:ext cx="236520" cy="839880"/>
          </a:xfrm>
          <a:custGeom>
            <a:avLst/>
            <a:gdLst/>
            <a:ahLst/>
            <a:rect l="l" t="t" r="r" b="b"/>
            <a:pathLst>
              <a:path w="298" h="1058">
                <a:moveTo>
                  <a:pt x="14" y="0"/>
                </a:moveTo>
                <a:lnTo>
                  <a:pt x="21" y="3"/>
                </a:lnTo>
                <a:lnTo>
                  <a:pt x="29" y="6"/>
                </a:lnTo>
                <a:lnTo>
                  <a:pt x="39" y="9"/>
                </a:lnTo>
                <a:lnTo>
                  <a:pt x="52" y="11"/>
                </a:lnTo>
                <a:lnTo>
                  <a:pt x="64" y="15"/>
                </a:lnTo>
                <a:lnTo>
                  <a:pt x="79" y="17"/>
                </a:lnTo>
                <a:lnTo>
                  <a:pt x="95" y="18"/>
                </a:lnTo>
                <a:lnTo>
                  <a:pt x="113" y="21"/>
                </a:lnTo>
                <a:lnTo>
                  <a:pt x="130" y="22"/>
                </a:lnTo>
                <a:lnTo>
                  <a:pt x="148" y="23"/>
                </a:lnTo>
                <a:lnTo>
                  <a:pt x="168" y="23"/>
                </a:lnTo>
                <a:lnTo>
                  <a:pt x="186" y="22"/>
                </a:lnTo>
                <a:lnTo>
                  <a:pt x="206" y="21"/>
                </a:lnTo>
                <a:lnTo>
                  <a:pt x="226" y="20"/>
                </a:lnTo>
                <a:lnTo>
                  <a:pt x="245" y="16"/>
                </a:lnTo>
                <a:lnTo>
                  <a:pt x="265" y="13"/>
                </a:lnTo>
                <a:lnTo>
                  <a:pt x="256" y="55"/>
                </a:lnTo>
                <a:lnTo>
                  <a:pt x="250" y="102"/>
                </a:lnTo>
                <a:lnTo>
                  <a:pt x="249" y="151"/>
                </a:lnTo>
                <a:lnTo>
                  <a:pt x="251" y="195"/>
                </a:lnTo>
                <a:lnTo>
                  <a:pt x="254" y="220"/>
                </a:lnTo>
                <a:lnTo>
                  <a:pt x="258" y="252"/>
                </a:lnTo>
                <a:lnTo>
                  <a:pt x="261" y="291"/>
                </a:lnTo>
                <a:lnTo>
                  <a:pt x="261" y="333"/>
                </a:lnTo>
                <a:lnTo>
                  <a:pt x="257" y="377"/>
                </a:lnTo>
                <a:lnTo>
                  <a:pt x="244" y="417"/>
                </a:lnTo>
                <a:lnTo>
                  <a:pt x="222" y="453"/>
                </a:lnTo>
                <a:lnTo>
                  <a:pt x="190" y="483"/>
                </a:lnTo>
                <a:lnTo>
                  <a:pt x="199" y="487"/>
                </a:lnTo>
                <a:lnTo>
                  <a:pt x="211" y="488"/>
                </a:lnTo>
                <a:lnTo>
                  <a:pt x="223" y="486"/>
                </a:lnTo>
                <a:lnTo>
                  <a:pt x="237" y="483"/>
                </a:lnTo>
                <a:lnTo>
                  <a:pt x="250" y="477"/>
                </a:lnTo>
                <a:lnTo>
                  <a:pt x="263" y="471"/>
                </a:lnTo>
                <a:lnTo>
                  <a:pt x="273" y="464"/>
                </a:lnTo>
                <a:lnTo>
                  <a:pt x="281" y="458"/>
                </a:lnTo>
                <a:lnTo>
                  <a:pt x="294" y="511"/>
                </a:lnTo>
                <a:lnTo>
                  <a:pt x="298" y="581"/>
                </a:lnTo>
                <a:lnTo>
                  <a:pt x="296" y="662"/>
                </a:lnTo>
                <a:lnTo>
                  <a:pt x="288" y="750"/>
                </a:lnTo>
                <a:lnTo>
                  <a:pt x="275" y="836"/>
                </a:lnTo>
                <a:lnTo>
                  <a:pt x="259" y="917"/>
                </a:lnTo>
                <a:lnTo>
                  <a:pt x="241" y="986"/>
                </a:lnTo>
                <a:lnTo>
                  <a:pt x="222" y="1037"/>
                </a:lnTo>
                <a:lnTo>
                  <a:pt x="210" y="1043"/>
                </a:lnTo>
                <a:lnTo>
                  <a:pt x="193" y="1048"/>
                </a:lnTo>
                <a:lnTo>
                  <a:pt x="176" y="1054"/>
                </a:lnTo>
                <a:lnTo>
                  <a:pt x="155" y="1056"/>
                </a:lnTo>
                <a:lnTo>
                  <a:pt x="135" y="1058"/>
                </a:lnTo>
                <a:lnTo>
                  <a:pt x="113" y="1053"/>
                </a:lnTo>
                <a:lnTo>
                  <a:pt x="90" y="1044"/>
                </a:lnTo>
                <a:lnTo>
                  <a:pt x="68" y="1029"/>
                </a:lnTo>
                <a:lnTo>
                  <a:pt x="69" y="967"/>
                </a:lnTo>
                <a:lnTo>
                  <a:pt x="67" y="901"/>
                </a:lnTo>
                <a:lnTo>
                  <a:pt x="62" y="838"/>
                </a:lnTo>
                <a:lnTo>
                  <a:pt x="54" y="781"/>
                </a:lnTo>
                <a:lnTo>
                  <a:pt x="46" y="719"/>
                </a:lnTo>
                <a:lnTo>
                  <a:pt x="42" y="643"/>
                </a:lnTo>
                <a:lnTo>
                  <a:pt x="45" y="569"/>
                </a:lnTo>
                <a:lnTo>
                  <a:pt x="54" y="511"/>
                </a:lnTo>
                <a:lnTo>
                  <a:pt x="46" y="485"/>
                </a:lnTo>
                <a:lnTo>
                  <a:pt x="37" y="452"/>
                </a:lnTo>
                <a:lnTo>
                  <a:pt x="27" y="412"/>
                </a:lnTo>
                <a:lnTo>
                  <a:pt x="17" y="372"/>
                </a:lnTo>
                <a:lnTo>
                  <a:pt x="9" y="331"/>
                </a:lnTo>
                <a:lnTo>
                  <a:pt x="3" y="290"/>
                </a:lnTo>
                <a:lnTo>
                  <a:pt x="0" y="256"/>
                </a:lnTo>
                <a:lnTo>
                  <a:pt x="1" y="227"/>
                </a:lnTo>
                <a:lnTo>
                  <a:pt x="7" y="169"/>
                </a:lnTo>
                <a:lnTo>
                  <a:pt x="11" y="102"/>
                </a:lnTo>
                <a:lnTo>
                  <a:pt x="15" y="43"/>
                </a:lnTo>
                <a:lnTo>
                  <a:pt x="14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1" name="Freeform 45"/>
          <p:cNvSpPr/>
          <p:nvPr/>
        </p:nvSpPr>
        <p:spPr>
          <a:xfrm>
            <a:off x="2311560" y="6256440"/>
            <a:ext cx="144360" cy="141120"/>
          </a:xfrm>
          <a:custGeom>
            <a:avLst/>
            <a:gdLst/>
            <a:ahLst/>
            <a:rect l="l" t="t" r="r" b="b"/>
            <a:pathLst>
              <a:path w="181" h="177">
                <a:moveTo>
                  <a:pt x="170" y="11"/>
                </a:moveTo>
                <a:lnTo>
                  <a:pt x="160" y="16"/>
                </a:lnTo>
                <a:lnTo>
                  <a:pt x="144" y="21"/>
                </a:lnTo>
                <a:lnTo>
                  <a:pt x="125" y="26"/>
                </a:lnTo>
                <a:lnTo>
                  <a:pt x="102" y="30"/>
                </a:lnTo>
                <a:lnTo>
                  <a:pt x="76" y="30"/>
                </a:lnTo>
                <a:lnTo>
                  <a:pt x="51" y="26"/>
                </a:lnTo>
                <a:lnTo>
                  <a:pt x="27" y="16"/>
                </a:lnTo>
                <a:lnTo>
                  <a:pt x="5" y="0"/>
                </a:lnTo>
                <a:lnTo>
                  <a:pt x="1" y="9"/>
                </a:lnTo>
                <a:lnTo>
                  <a:pt x="0" y="24"/>
                </a:lnTo>
                <a:lnTo>
                  <a:pt x="4" y="43"/>
                </a:lnTo>
                <a:lnTo>
                  <a:pt x="12" y="60"/>
                </a:lnTo>
                <a:lnTo>
                  <a:pt x="19" y="74"/>
                </a:lnTo>
                <a:lnTo>
                  <a:pt x="21" y="84"/>
                </a:lnTo>
                <a:lnTo>
                  <a:pt x="19" y="92"/>
                </a:lnTo>
                <a:lnTo>
                  <a:pt x="12" y="101"/>
                </a:lnTo>
                <a:lnTo>
                  <a:pt x="5" y="114"/>
                </a:lnTo>
                <a:lnTo>
                  <a:pt x="3" y="128"/>
                </a:lnTo>
                <a:lnTo>
                  <a:pt x="6" y="143"/>
                </a:lnTo>
                <a:lnTo>
                  <a:pt x="15" y="155"/>
                </a:lnTo>
                <a:lnTo>
                  <a:pt x="21" y="160"/>
                </a:lnTo>
                <a:lnTo>
                  <a:pt x="26" y="165"/>
                </a:lnTo>
                <a:lnTo>
                  <a:pt x="31" y="168"/>
                </a:lnTo>
                <a:lnTo>
                  <a:pt x="36" y="172"/>
                </a:lnTo>
                <a:lnTo>
                  <a:pt x="41" y="174"/>
                </a:lnTo>
                <a:lnTo>
                  <a:pt x="46" y="175"/>
                </a:lnTo>
                <a:lnTo>
                  <a:pt x="52" y="175"/>
                </a:lnTo>
                <a:lnTo>
                  <a:pt x="59" y="175"/>
                </a:lnTo>
                <a:lnTo>
                  <a:pt x="67" y="175"/>
                </a:lnTo>
                <a:lnTo>
                  <a:pt x="76" y="174"/>
                </a:lnTo>
                <a:lnTo>
                  <a:pt x="85" y="173"/>
                </a:lnTo>
                <a:lnTo>
                  <a:pt x="96" y="173"/>
                </a:lnTo>
                <a:lnTo>
                  <a:pt x="105" y="173"/>
                </a:lnTo>
                <a:lnTo>
                  <a:pt x="115" y="173"/>
                </a:lnTo>
                <a:lnTo>
                  <a:pt x="125" y="174"/>
                </a:lnTo>
                <a:lnTo>
                  <a:pt x="134" y="175"/>
                </a:lnTo>
                <a:lnTo>
                  <a:pt x="142" y="177"/>
                </a:lnTo>
                <a:lnTo>
                  <a:pt x="151" y="177"/>
                </a:lnTo>
                <a:lnTo>
                  <a:pt x="160" y="176"/>
                </a:lnTo>
                <a:lnTo>
                  <a:pt x="168" y="173"/>
                </a:lnTo>
                <a:lnTo>
                  <a:pt x="174" y="168"/>
                </a:lnTo>
                <a:lnTo>
                  <a:pt x="179" y="160"/>
                </a:lnTo>
                <a:lnTo>
                  <a:pt x="181" y="151"/>
                </a:lnTo>
                <a:lnTo>
                  <a:pt x="181" y="139"/>
                </a:lnTo>
                <a:lnTo>
                  <a:pt x="173" y="143"/>
                </a:lnTo>
                <a:lnTo>
                  <a:pt x="163" y="146"/>
                </a:lnTo>
                <a:lnTo>
                  <a:pt x="151" y="149"/>
                </a:lnTo>
                <a:lnTo>
                  <a:pt x="136" y="150"/>
                </a:lnTo>
                <a:lnTo>
                  <a:pt x="121" y="150"/>
                </a:lnTo>
                <a:lnTo>
                  <a:pt x="106" y="149"/>
                </a:lnTo>
                <a:lnTo>
                  <a:pt x="91" y="145"/>
                </a:lnTo>
                <a:lnTo>
                  <a:pt x="77" y="139"/>
                </a:lnTo>
                <a:lnTo>
                  <a:pt x="88" y="139"/>
                </a:lnTo>
                <a:lnTo>
                  <a:pt x="100" y="137"/>
                </a:lnTo>
                <a:lnTo>
                  <a:pt x="115" y="135"/>
                </a:lnTo>
                <a:lnTo>
                  <a:pt x="129" y="131"/>
                </a:lnTo>
                <a:lnTo>
                  <a:pt x="142" y="127"/>
                </a:lnTo>
                <a:lnTo>
                  <a:pt x="151" y="120"/>
                </a:lnTo>
                <a:lnTo>
                  <a:pt x="156" y="112"/>
                </a:lnTo>
                <a:lnTo>
                  <a:pt x="153" y="101"/>
                </a:lnTo>
                <a:lnTo>
                  <a:pt x="143" y="104"/>
                </a:lnTo>
                <a:lnTo>
                  <a:pt x="132" y="105"/>
                </a:lnTo>
                <a:lnTo>
                  <a:pt x="119" y="106"/>
                </a:lnTo>
                <a:lnTo>
                  <a:pt x="106" y="105"/>
                </a:lnTo>
                <a:lnTo>
                  <a:pt x="94" y="104"/>
                </a:lnTo>
                <a:lnTo>
                  <a:pt x="81" y="100"/>
                </a:lnTo>
                <a:lnTo>
                  <a:pt x="69" y="96"/>
                </a:lnTo>
                <a:lnTo>
                  <a:pt x="59" y="90"/>
                </a:lnTo>
                <a:lnTo>
                  <a:pt x="72" y="89"/>
                </a:lnTo>
                <a:lnTo>
                  <a:pt x="91" y="86"/>
                </a:lnTo>
                <a:lnTo>
                  <a:pt x="113" y="82"/>
                </a:lnTo>
                <a:lnTo>
                  <a:pt x="135" y="75"/>
                </a:lnTo>
                <a:lnTo>
                  <a:pt x="155" y="66"/>
                </a:lnTo>
                <a:lnTo>
                  <a:pt x="170" y="52"/>
                </a:lnTo>
                <a:lnTo>
                  <a:pt x="175" y="35"/>
                </a:lnTo>
                <a:lnTo>
                  <a:pt x="170" y="1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2" name="Freeform 46"/>
          <p:cNvSpPr/>
          <p:nvPr/>
        </p:nvSpPr>
        <p:spPr>
          <a:xfrm>
            <a:off x="2332080" y="6610320"/>
            <a:ext cx="61920" cy="58680"/>
          </a:xfrm>
          <a:custGeom>
            <a:avLst/>
            <a:gdLst/>
            <a:ahLst/>
            <a:rect l="l" t="t" r="r" b="b"/>
            <a:pathLst>
              <a:path w="78" h="73">
                <a:moveTo>
                  <a:pt x="78" y="0"/>
                </a:moveTo>
                <a:lnTo>
                  <a:pt x="0" y="30"/>
                </a:lnTo>
                <a:lnTo>
                  <a:pt x="51" y="73"/>
                </a:lnTo>
                <a:lnTo>
                  <a:pt x="59" y="60"/>
                </a:lnTo>
                <a:lnTo>
                  <a:pt x="69" y="40"/>
                </a:lnTo>
                <a:lnTo>
                  <a:pt x="76" y="18"/>
                </a:lnTo>
                <a:lnTo>
                  <a:pt x="7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3" name="Freeform 47"/>
          <p:cNvSpPr/>
          <p:nvPr/>
        </p:nvSpPr>
        <p:spPr>
          <a:xfrm>
            <a:off x="2274840" y="6648480"/>
            <a:ext cx="81000" cy="39600"/>
          </a:xfrm>
          <a:custGeom>
            <a:avLst/>
            <a:gdLst/>
            <a:ahLst/>
            <a:rect l="l" t="t" r="r" b="b"/>
            <a:pathLst>
              <a:path w="103" h="52">
                <a:moveTo>
                  <a:pt x="103" y="38"/>
                </a:moveTo>
                <a:lnTo>
                  <a:pt x="54" y="0"/>
                </a:lnTo>
                <a:lnTo>
                  <a:pt x="0" y="27"/>
                </a:lnTo>
                <a:lnTo>
                  <a:pt x="5" y="35"/>
                </a:lnTo>
                <a:lnTo>
                  <a:pt x="14" y="42"/>
                </a:lnTo>
                <a:lnTo>
                  <a:pt x="25" y="47"/>
                </a:lnTo>
                <a:lnTo>
                  <a:pt x="39" y="51"/>
                </a:lnTo>
                <a:lnTo>
                  <a:pt x="55" y="52"/>
                </a:lnTo>
                <a:lnTo>
                  <a:pt x="71" y="51"/>
                </a:lnTo>
                <a:lnTo>
                  <a:pt x="88" y="46"/>
                </a:lnTo>
                <a:lnTo>
                  <a:pt x="103" y="3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4" name="Freeform 48"/>
          <p:cNvSpPr/>
          <p:nvPr/>
        </p:nvSpPr>
        <p:spPr>
          <a:xfrm>
            <a:off x="2263680" y="6603840"/>
            <a:ext cx="36720" cy="46080"/>
          </a:xfrm>
          <a:custGeom>
            <a:avLst/>
            <a:gdLst/>
            <a:ahLst/>
            <a:rect l="l" t="t" r="r" b="b"/>
            <a:pathLst>
              <a:path w="46" h="56">
                <a:moveTo>
                  <a:pt x="0" y="56"/>
                </a:moveTo>
                <a:lnTo>
                  <a:pt x="46" y="34"/>
                </a:lnTo>
                <a:lnTo>
                  <a:pt x="6" y="0"/>
                </a:lnTo>
                <a:lnTo>
                  <a:pt x="1" y="11"/>
                </a:lnTo>
                <a:lnTo>
                  <a:pt x="0" y="28"/>
                </a:lnTo>
                <a:lnTo>
                  <a:pt x="0" y="45"/>
                </a:lnTo>
                <a:lnTo>
                  <a:pt x="0" y="5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5" name="Freeform 49"/>
          <p:cNvSpPr/>
          <p:nvPr/>
        </p:nvSpPr>
        <p:spPr>
          <a:xfrm>
            <a:off x="2287440" y="6578640"/>
            <a:ext cx="79560" cy="46080"/>
          </a:xfrm>
          <a:custGeom>
            <a:avLst/>
            <a:gdLst/>
            <a:ahLst/>
            <a:rect l="l" t="t" r="r" b="b"/>
            <a:pathLst>
              <a:path w="100" h="58">
                <a:moveTo>
                  <a:pt x="43" y="58"/>
                </a:moveTo>
                <a:lnTo>
                  <a:pt x="100" y="33"/>
                </a:lnTo>
                <a:lnTo>
                  <a:pt x="57" y="0"/>
                </a:lnTo>
                <a:lnTo>
                  <a:pt x="0" y="28"/>
                </a:lnTo>
                <a:lnTo>
                  <a:pt x="43" y="5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6" name="Freeform 50"/>
          <p:cNvSpPr/>
          <p:nvPr/>
        </p:nvSpPr>
        <p:spPr>
          <a:xfrm>
            <a:off x="2349360" y="6541920"/>
            <a:ext cx="65160" cy="54000"/>
          </a:xfrm>
          <a:custGeom>
            <a:avLst/>
            <a:gdLst/>
            <a:ahLst/>
            <a:rect l="l" t="t" r="r" b="b"/>
            <a:pathLst>
              <a:path w="82" h="68">
                <a:moveTo>
                  <a:pt x="68" y="68"/>
                </a:moveTo>
                <a:lnTo>
                  <a:pt x="0" y="33"/>
                </a:lnTo>
                <a:lnTo>
                  <a:pt x="82" y="0"/>
                </a:lnTo>
                <a:lnTo>
                  <a:pt x="80" y="15"/>
                </a:lnTo>
                <a:lnTo>
                  <a:pt x="75" y="36"/>
                </a:lnTo>
                <a:lnTo>
                  <a:pt x="71" y="57"/>
                </a:lnTo>
                <a:lnTo>
                  <a:pt x="68" y="6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7" name="Freeform 51"/>
          <p:cNvSpPr/>
          <p:nvPr/>
        </p:nvSpPr>
        <p:spPr>
          <a:xfrm>
            <a:off x="2270160" y="6543720"/>
            <a:ext cx="50760" cy="41400"/>
          </a:xfrm>
          <a:custGeom>
            <a:avLst/>
            <a:gdLst/>
            <a:ahLst/>
            <a:rect l="l" t="t" r="r" b="b"/>
            <a:pathLst>
              <a:path w="66" h="52">
                <a:moveTo>
                  <a:pt x="7" y="14"/>
                </a:moveTo>
                <a:lnTo>
                  <a:pt x="5" y="25"/>
                </a:lnTo>
                <a:lnTo>
                  <a:pt x="3" y="35"/>
                </a:lnTo>
                <a:lnTo>
                  <a:pt x="1" y="45"/>
                </a:lnTo>
                <a:lnTo>
                  <a:pt x="0" y="52"/>
                </a:lnTo>
                <a:lnTo>
                  <a:pt x="66" y="24"/>
                </a:lnTo>
                <a:lnTo>
                  <a:pt x="35" y="0"/>
                </a:lnTo>
                <a:lnTo>
                  <a:pt x="32" y="2"/>
                </a:lnTo>
                <a:lnTo>
                  <a:pt x="27" y="5"/>
                </a:lnTo>
                <a:lnTo>
                  <a:pt x="18" y="10"/>
                </a:lnTo>
                <a:lnTo>
                  <a:pt x="7" y="1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8" name="Freeform 52"/>
          <p:cNvSpPr/>
          <p:nvPr/>
        </p:nvSpPr>
        <p:spPr>
          <a:xfrm>
            <a:off x="2274840" y="6483240"/>
            <a:ext cx="66600" cy="39960"/>
          </a:xfrm>
          <a:custGeom>
            <a:avLst/>
            <a:gdLst/>
            <a:ahLst/>
            <a:rect l="l" t="t" r="r" b="b"/>
            <a:pathLst>
              <a:path w="83" h="50">
                <a:moveTo>
                  <a:pt x="19" y="50"/>
                </a:moveTo>
                <a:lnTo>
                  <a:pt x="0" y="37"/>
                </a:lnTo>
                <a:lnTo>
                  <a:pt x="12" y="33"/>
                </a:lnTo>
                <a:lnTo>
                  <a:pt x="24" y="27"/>
                </a:lnTo>
                <a:lnTo>
                  <a:pt x="36" y="22"/>
                </a:lnTo>
                <a:lnTo>
                  <a:pt x="47" y="15"/>
                </a:lnTo>
                <a:lnTo>
                  <a:pt x="57" y="9"/>
                </a:lnTo>
                <a:lnTo>
                  <a:pt x="65" y="4"/>
                </a:lnTo>
                <a:lnTo>
                  <a:pt x="69" y="1"/>
                </a:lnTo>
                <a:lnTo>
                  <a:pt x="72" y="0"/>
                </a:lnTo>
                <a:lnTo>
                  <a:pt x="75" y="1"/>
                </a:lnTo>
                <a:lnTo>
                  <a:pt x="80" y="2"/>
                </a:lnTo>
                <a:lnTo>
                  <a:pt x="82" y="3"/>
                </a:lnTo>
                <a:lnTo>
                  <a:pt x="83" y="3"/>
                </a:lnTo>
                <a:lnTo>
                  <a:pt x="76" y="12"/>
                </a:lnTo>
                <a:lnTo>
                  <a:pt x="68" y="20"/>
                </a:lnTo>
                <a:lnTo>
                  <a:pt x="59" y="27"/>
                </a:lnTo>
                <a:lnTo>
                  <a:pt x="49" y="34"/>
                </a:lnTo>
                <a:lnTo>
                  <a:pt x="39" y="40"/>
                </a:lnTo>
                <a:lnTo>
                  <a:pt x="31" y="45"/>
                </a:lnTo>
                <a:lnTo>
                  <a:pt x="23" y="48"/>
                </a:lnTo>
                <a:lnTo>
                  <a:pt x="19" y="5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9" name="Freeform 53"/>
          <p:cNvSpPr/>
          <p:nvPr/>
        </p:nvSpPr>
        <p:spPr>
          <a:xfrm>
            <a:off x="2317680" y="6488280"/>
            <a:ext cx="76320" cy="55440"/>
          </a:xfrm>
          <a:custGeom>
            <a:avLst/>
            <a:gdLst/>
            <a:ahLst/>
            <a:rect l="l" t="t" r="r" b="b"/>
            <a:pathLst>
              <a:path w="96" h="69">
                <a:moveTo>
                  <a:pt x="46" y="3"/>
                </a:moveTo>
                <a:lnTo>
                  <a:pt x="44" y="8"/>
                </a:lnTo>
                <a:lnTo>
                  <a:pt x="39" y="13"/>
                </a:lnTo>
                <a:lnTo>
                  <a:pt x="35" y="21"/>
                </a:lnTo>
                <a:lnTo>
                  <a:pt x="28" y="28"/>
                </a:lnTo>
                <a:lnTo>
                  <a:pt x="21" y="36"/>
                </a:lnTo>
                <a:lnTo>
                  <a:pt x="14" y="44"/>
                </a:lnTo>
                <a:lnTo>
                  <a:pt x="7" y="50"/>
                </a:lnTo>
                <a:lnTo>
                  <a:pt x="0" y="55"/>
                </a:lnTo>
                <a:lnTo>
                  <a:pt x="29" y="69"/>
                </a:lnTo>
                <a:lnTo>
                  <a:pt x="96" y="47"/>
                </a:lnTo>
                <a:lnTo>
                  <a:pt x="92" y="42"/>
                </a:lnTo>
                <a:lnTo>
                  <a:pt x="83" y="31"/>
                </a:lnTo>
                <a:lnTo>
                  <a:pt x="74" y="16"/>
                </a:lnTo>
                <a:lnTo>
                  <a:pt x="66" y="0"/>
                </a:lnTo>
                <a:lnTo>
                  <a:pt x="64" y="4"/>
                </a:lnTo>
                <a:lnTo>
                  <a:pt x="60" y="4"/>
                </a:lnTo>
                <a:lnTo>
                  <a:pt x="54" y="4"/>
                </a:lnTo>
                <a:lnTo>
                  <a:pt x="46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0" name="Freeform 54"/>
          <p:cNvSpPr/>
          <p:nvPr/>
        </p:nvSpPr>
        <p:spPr>
          <a:xfrm>
            <a:off x="2295360" y="6453360"/>
            <a:ext cx="34920" cy="29880"/>
          </a:xfrm>
          <a:custGeom>
            <a:avLst/>
            <a:gdLst/>
            <a:ahLst/>
            <a:rect l="l" t="t" r="r" b="b"/>
            <a:pathLst>
              <a:path w="45" h="38">
                <a:moveTo>
                  <a:pt x="0" y="38"/>
                </a:moveTo>
                <a:lnTo>
                  <a:pt x="6" y="34"/>
                </a:lnTo>
                <a:lnTo>
                  <a:pt x="13" y="31"/>
                </a:lnTo>
                <a:lnTo>
                  <a:pt x="20" y="26"/>
                </a:lnTo>
                <a:lnTo>
                  <a:pt x="27" y="22"/>
                </a:lnTo>
                <a:lnTo>
                  <a:pt x="33" y="17"/>
                </a:lnTo>
                <a:lnTo>
                  <a:pt x="39" y="12"/>
                </a:lnTo>
                <a:lnTo>
                  <a:pt x="42" y="9"/>
                </a:lnTo>
                <a:lnTo>
                  <a:pt x="45" y="7"/>
                </a:lnTo>
                <a:lnTo>
                  <a:pt x="39" y="4"/>
                </a:lnTo>
                <a:lnTo>
                  <a:pt x="30" y="2"/>
                </a:lnTo>
                <a:lnTo>
                  <a:pt x="24" y="1"/>
                </a:lnTo>
                <a:lnTo>
                  <a:pt x="15" y="0"/>
                </a:lnTo>
                <a:lnTo>
                  <a:pt x="11" y="8"/>
                </a:lnTo>
                <a:lnTo>
                  <a:pt x="7" y="18"/>
                </a:lnTo>
                <a:lnTo>
                  <a:pt x="4" y="30"/>
                </a:lnTo>
                <a:lnTo>
                  <a:pt x="0" y="3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1" name="Freeform 55"/>
          <p:cNvSpPr/>
          <p:nvPr/>
        </p:nvSpPr>
        <p:spPr>
          <a:xfrm>
            <a:off x="2428920" y="6459480"/>
            <a:ext cx="41400" cy="52560"/>
          </a:xfrm>
          <a:custGeom>
            <a:avLst/>
            <a:gdLst/>
            <a:ahLst/>
            <a:rect l="l" t="t" r="r" b="b"/>
            <a:pathLst>
              <a:path w="52" h="67">
                <a:moveTo>
                  <a:pt x="0" y="67"/>
                </a:moveTo>
                <a:lnTo>
                  <a:pt x="3" y="67"/>
                </a:lnTo>
                <a:lnTo>
                  <a:pt x="8" y="67"/>
                </a:lnTo>
                <a:lnTo>
                  <a:pt x="13" y="65"/>
                </a:lnTo>
                <a:lnTo>
                  <a:pt x="17" y="64"/>
                </a:lnTo>
                <a:lnTo>
                  <a:pt x="23" y="62"/>
                </a:lnTo>
                <a:lnTo>
                  <a:pt x="27" y="60"/>
                </a:lnTo>
                <a:lnTo>
                  <a:pt x="32" y="57"/>
                </a:lnTo>
                <a:lnTo>
                  <a:pt x="37" y="55"/>
                </a:lnTo>
                <a:lnTo>
                  <a:pt x="46" y="48"/>
                </a:lnTo>
                <a:lnTo>
                  <a:pt x="51" y="41"/>
                </a:lnTo>
                <a:lnTo>
                  <a:pt x="52" y="33"/>
                </a:lnTo>
                <a:lnTo>
                  <a:pt x="49" y="25"/>
                </a:lnTo>
                <a:lnTo>
                  <a:pt x="42" y="18"/>
                </a:lnTo>
                <a:lnTo>
                  <a:pt x="33" y="11"/>
                </a:lnTo>
                <a:lnTo>
                  <a:pt x="21" y="4"/>
                </a:lnTo>
                <a:lnTo>
                  <a:pt x="6" y="0"/>
                </a:lnTo>
                <a:lnTo>
                  <a:pt x="4" y="15"/>
                </a:lnTo>
                <a:lnTo>
                  <a:pt x="3" y="33"/>
                </a:lnTo>
                <a:lnTo>
                  <a:pt x="2" y="52"/>
                </a:lnTo>
                <a:lnTo>
                  <a:pt x="0" y="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2" name="Freeform 56"/>
          <p:cNvSpPr/>
          <p:nvPr/>
        </p:nvSpPr>
        <p:spPr>
          <a:xfrm>
            <a:off x="2384280" y="6456240"/>
            <a:ext cx="27000" cy="38160"/>
          </a:xfrm>
          <a:custGeom>
            <a:avLst/>
            <a:gdLst/>
            <a:ahLst/>
            <a:rect l="l" t="t" r="r" b="b"/>
            <a:pathLst>
              <a:path w="36" h="48">
                <a:moveTo>
                  <a:pt x="27" y="48"/>
                </a:moveTo>
                <a:lnTo>
                  <a:pt x="19" y="37"/>
                </a:lnTo>
                <a:lnTo>
                  <a:pt x="12" y="24"/>
                </a:lnTo>
                <a:lnTo>
                  <a:pt x="6" y="13"/>
                </a:lnTo>
                <a:lnTo>
                  <a:pt x="0" y="2"/>
                </a:lnTo>
                <a:lnTo>
                  <a:pt x="5" y="1"/>
                </a:lnTo>
                <a:lnTo>
                  <a:pt x="9" y="1"/>
                </a:lnTo>
                <a:lnTo>
                  <a:pt x="14" y="1"/>
                </a:lnTo>
                <a:lnTo>
                  <a:pt x="19" y="0"/>
                </a:lnTo>
                <a:lnTo>
                  <a:pt x="23" y="0"/>
                </a:lnTo>
                <a:lnTo>
                  <a:pt x="28" y="0"/>
                </a:lnTo>
                <a:lnTo>
                  <a:pt x="32" y="1"/>
                </a:lnTo>
                <a:lnTo>
                  <a:pt x="36" y="1"/>
                </a:lnTo>
                <a:lnTo>
                  <a:pt x="35" y="12"/>
                </a:lnTo>
                <a:lnTo>
                  <a:pt x="34" y="25"/>
                </a:lnTo>
                <a:lnTo>
                  <a:pt x="30" y="38"/>
                </a:lnTo>
                <a:lnTo>
                  <a:pt x="27" y="4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3" name="Freeform 57"/>
          <p:cNvSpPr/>
          <p:nvPr/>
        </p:nvSpPr>
        <p:spPr>
          <a:xfrm>
            <a:off x="2244600" y="6550200"/>
            <a:ext cx="203400" cy="255240"/>
          </a:xfrm>
          <a:custGeom>
            <a:avLst/>
            <a:gdLst/>
            <a:ahLst/>
            <a:rect l="l" t="t" r="r" b="b"/>
            <a:pathLst>
              <a:path w="256" h="322">
                <a:moveTo>
                  <a:pt x="256" y="12"/>
                </a:moveTo>
                <a:lnTo>
                  <a:pt x="248" y="44"/>
                </a:lnTo>
                <a:lnTo>
                  <a:pt x="242" y="77"/>
                </a:lnTo>
                <a:lnTo>
                  <a:pt x="239" y="110"/>
                </a:lnTo>
                <a:lnTo>
                  <a:pt x="241" y="145"/>
                </a:lnTo>
                <a:lnTo>
                  <a:pt x="242" y="159"/>
                </a:lnTo>
                <a:lnTo>
                  <a:pt x="241" y="177"/>
                </a:lnTo>
                <a:lnTo>
                  <a:pt x="237" y="198"/>
                </a:lnTo>
                <a:lnTo>
                  <a:pt x="231" y="221"/>
                </a:lnTo>
                <a:lnTo>
                  <a:pt x="220" y="243"/>
                </a:lnTo>
                <a:lnTo>
                  <a:pt x="207" y="266"/>
                </a:lnTo>
                <a:lnTo>
                  <a:pt x="189" y="287"/>
                </a:lnTo>
                <a:lnTo>
                  <a:pt x="167" y="304"/>
                </a:lnTo>
                <a:lnTo>
                  <a:pt x="144" y="315"/>
                </a:lnTo>
                <a:lnTo>
                  <a:pt x="121" y="321"/>
                </a:lnTo>
                <a:lnTo>
                  <a:pt x="98" y="322"/>
                </a:lnTo>
                <a:lnTo>
                  <a:pt x="76" y="320"/>
                </a:lnTo>
                <a:lnTo>
                  <a:pt x="55" y="314"/>
                </a:lnTo>
                <a:lnTo>
                  <a:pt x="38" y="305"/>
                </a:lnTo>
                <a:lnTo>
                  <a:pt x="23" y="295"/>
                </a:lnTo>
                <a:lnTo>
                  <a:pt x="13" y="283"/>
                </a:lnTo>
                <a:lnTo>
                  <a:pt x="1" y="253"/>
                </a:lnTo>
                <a:lnTo>
                  <a:pt x="0" y="215"/>
                </a:lnTo>
                <a:lnTo>
                  <a:pt x="5" y="181"/>
                </a:lnTo>
                <a:lnTo>
                  <a:pt x="15" y="158"/>
                </a:lnTo>
                <a:lnTo>
                  <a:pt x="37" y="184"/>
                </a:lnTo>
                <a:lnTo>
                  <a:pt x="61" y="199"/>
                </a:lnTo>
                <a:lnTo>
                  <a:pt x="88" y="204"/>
                </a:lnTo>
                <a:lnTo>
                  <a:pt x="113" y="200"/>
                </a:lnTo>
                <a:lnTo>
                  <a:pt x="137" y="191"/>
                </a:lnTo>
                <a:lnTo>
                  <a:pt x="159" y="178"/>
                </a:lnTo>
                <a:lnTo>
                  <a:pt x="176" y="163"/>
                </a:lnTo>
                <a:lnTo>
                  <a:pt x="189" y="150"/>
                </a:lnTo>
                <a:lnTo>
                  <a:pt x="196" y="137"/>
                </a:lnTo>
                <a:lnTo>
                  <a:pt x="203" y="120"/>
                </a:lnTo>
                <a:lnTo>
                  <a:pt x="209" y="101"/>
                </a:lnTo>
                <a:lnTo>
                  <a:pt x="214" y="80"/>
                </a:lnTo>
                <a:lnTo>
                  <a:pt x="219" y="59"/>
                </a:lnTo>
                <a:lnTo>
                  <a:pt x="224" y="38"/>
                </a:lnTo>
                <a:lnTo>
                  <a:pt x="227" y="17"/>
                </a:lnTo>
                <a:lnTo>
                  <a:pt x="231" y="0"/>
                </a:lnTo>
                <a:lnTo>
                  <a:pt x="234" y="3"/>
                </a:lnTo>
                <a:lnTo>
                  <a:pt x="241" y="8"/>
                </a:lnTo>
                <a:lnTo>
                  <a:pt x="248" y="11"/>
                </a:lnTo>
                <a:lnTo>
                  <a:pt x="256" y="1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4" name="Freeform 58"/>
          <p:cNvSpPr/>
          <p:nvPr/>
        </p:nvSpPr>
        <p:spPr>
          <a:xfrm>
            <a:off x="2316240" y="6405480"/>
            <a:ext cx="95040" cy="38160"/>
          </a:xfrm>
          <a:custGeom>
            <a:avLst/>
            <a:gdLst/>
            <a:ahLst/>
            <a:rect l="l" t="t" r="r" b="b"/>
            <a:pathLst>
              <a:path w="120" h="47">
                <a:moveTo>
                  <a:pt x="0" y="30"/>
                </a:moveTo>
                <a:lnTo>
                  <a:pt x="8" y="32"/>
                </a:lnTo>
                <a:lnTo>
                  <a:pt x="17" y="36"/>
                </a:lnTo>
                <a:lnTo>
                  <a:pt x="25" y="40"/>
                </a:lnTo>
                <a:lnTo>
                  <a:pt x="33" y="47"/>
                </a:lnTo>
                <a:lnTo>
                  <a:pt x="38" y="45"/>
                </a:lnTo>
                <a:lnTo>
                  <a:pt x="43" y="41"/>
                </a:lnTo>
                <a:lnTo>
                  <a:pt x="48" y="39"/>
                </a:lnTo>
                <a:lnTo>
                  <a:pt x="55" y="37"/>
                </a:lnTo>
                <a:lnTo>
                  <a:pt x="61" y="36"/>
                </a:lnTo>
                <a:lnTo>
                  <a:pt x="68" y="36"/>
                </a:lnTo>
                <a:lnTo>
                  <a:pt x="74" y="37"/>
                </a:lnTo>
                <a:lnTo>
                  <a:pt x="79" y="40"/>
                </a:lnTo>
                <a:lnTo>
                  <a:pt x="85" y="40"/>
                </a:lnTo>
                <a:lnTo>
                  <a:pt x="91" y="39"/>
                </a:lnTo>
                <a:lnTo>
                  <a:pt x="97" y="38"/>
                </a:lnTo>
                <a:lnTo>
                  <a:pt x="101" y="37"/>
                </a:lnTo>
                <a:lnTo>
                  <a:pt x="106" y="37"/>
                </a:lnTo>
                <a:lnTo>
                  <a:pt x="111" y="36"/>
                </a:lnTo>
                <a:lnTo>
                  <a:pt x="115" y="37"/>
                </a:lnTo>
                <a:lnTo>
                  <a:pt x="120" y="37"/>
                </a:lnTo>
                <a:lnTo>
                  <a:pt x="116" y="26"/>
                </a:lnTo>
                <a:lnTo>
                  <a:pt x="113" y="18"/>
                </a:lnTo>
                <a:lnTo>
                  <a:pt x="109" y="13"/>
                </a:lnTo>
                <a:lnTo>
                  <a:pt x="104" y="8"/>
                </a:lnTo>
                <a:lnTo>
                  <a:pt x="98" y="6"/>
                </a:lnTo>
                <a:lnTo>
                  <a:pt x="91" y="3"/>
                </a:lnTo>
                <a:lnTo>
                  <a:pt x="83" y="2"/>
                </a:lnTo>
                <a:lnTo>
                  <a:pt x="75" y="2"/>
                </a:lnTo>
                <a:lnTo>
                  <a:pt x="67" y="2"/>
                </a:lnTo>
                <a:lnTo>
                  <a:pt x="58" y="3"/>
                </a:lnTo>
                <a:lnTo>
                  <a:pt x="51" y="4"/>
                </a:lnTo>
                <a:lnTo>
                  <a:pt x="43" y="4"/>
                </a:lnTo>
                <a:lnTo>
                  <a:pt x="36" y="6"/>
                </a:lnTo>
                <a:lnTo>
                  <a:pt x="29" y="4"/>
                </a:lnTo>
                <a:lnTo>
                  <a:pt x="23" y="3"/>
                </a:lnTo>
                <a:lnTo>
                  <a:pt x="17" y="0"/>
                </a:lnTo>
                <a:lnTo>
                  <a:pt x="10" y="4"/>
                </a:lnTo>
                <a:lnTo>
                  <a:pt x="5" y="13"/>
                </a:lnTo>
                <a:lnTo>
                  <a:pt x="1" y="21"/>
                </a:lnTo>
                <a:lnTo>
                  <a:pt x="0" y="3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5" name="Freeform 59"/>
          <p:cNvSpPr/>
          <p:nvPr/>
        </p:nvSpPr>
        <p:spPr>
          <a:xfrm>
            <a:off x="2427120" y="6405480"/>
            <a:ext cx="44640" cy="50760"/>
          </a:xfrm>
          <a:custGeom>
            <a:avLst/>
            <a:gdLst/>
            <a:ahLst/>
            <a:rect l="l" t="t" r="r" b="b"/>
            <a:pathLst>
              <a:path w="57" h="62">
                <a:moveTo>
                  <a:pt x="0" y="10"/>
                </a:moveTo>
                <a:lnTo>
                  <a:pt x="4" y="18"/>
                </a:lnTo>
                <a:lnTo>
                  <a:pt x="7" y="28"/>
                </a:lnTo>
                <a:lnTo>
                  <a:pt x="10" y="36"/>
                </a:lnTo>
                <a:lnTo>
                  <a:pt x="11" y="43"/>
                </a:lnTo>
                <a:lnTo>
                  <a:pt x="18" y="45"/>
                </a:lnTo>
                <a:lnTo>
                  <a:pt x="25" y="47"/>
                </a:lnTo>
                <a:lnTo>
                  <a:pt x="31" y="49"/>
                </a:lnTo>
                <a:lnTo>
                  <a:pt x="37" y="52"/>
                </a:lnTo>
                <a:lnTo>
                  <a:pt x="42" y="54"/>
                </a:lnTo>
                <a:lnTo>
                  <a:pt x="48" y="56"/>
                </a:lnTo>
                <a:lnTo>
                  <a:pt x="51" y="59"/>
                </a:lnTo>
                <a:lnTo>
                  <a:pt x="55" y="62"/>
                </a:lnTo>
                <a:lnTo>
                  <a:pt x="57" y="48"/>
                </a:lnTo>
                <a:lnTo>
                  <a:pt x="56" y="33"/>
                </a:lnTo>
                <a:lnTo>
                  <a:pt x="51" y="17"/>
                </a:lnTo>
                <a:lnTo>
                  <a:pt x="42" y="0"/>
                </a:lnTo>
                <a:lnTo>
                  <a:pt x="38" y="2"/>
                </a:lnTo>
                <a:lnTo>
                  <a:pt x="35" y="4"/>
                </a:lnTo>
                <a:lnTo>
                  <a:pt x="30" y="7"/>
                </a:lnTo>
                <a:lnTo>
                  <a:pt x="25" y="8"/>
                </a:lnTo>
                <a:lnTo>
                  <a:pt x="20" y="10"/>
                </a:lnTo>
                <a:lnTo>
                  <a:pt x="13" y="11"/>
                </a:lnTo>
                <a:lnTo>
                  <a:pt x="7" y="11"/>
                </a:lnTo>
                <a:lnTo>
                  <a:pt x="0" y="1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6" name="Freeform 60"/>
          <p:cNvSpPr/>
          <p:nvPr/>
        </p:nvSpPr>
        <p:spPr>
          <a:xfrm>
            <a:off x="1793880" y="6070680"/>
            <a:ext cx="22320" cy="31680"/>
          </a:xfrm>
          <a:custGeom>
            <a:avLst/>
            <a:gdLst/>
            <a:ahLst/>
            <a:rect l="l" t="t" r="r" b="b"/>
            <a:pathLst>
              <a:path w="29" h="40">
                <a:moveTo>
                  <a:pt x="15" y="0"/>
                </a:moveTo>
                <a:lnTo>
                  <a:pt x="7" y="7"/>
                </a:lnTo>
                <a:lnTo>
                  <a:pt x="1" y="20"/>
                </a:lnTo>
                <a:lnTo>
                  <a:pt x="0" y="32"/>
                </a:lnTo>
                <a:lnTo>
                  <a:pt x="7" y="40"/>
                </a:lnTo>
                <a:lnTo>
                  <a:pt x="13" y="40"/>
                </a:lnTo>
                <a:lnTo>
                  <a:pt x="20" y="37"/>
                </a:lnTo>
                <a:lnTo>
                  <a:pt x="24" y="32"/>
                </a:lnTo>
                <a:lnTo>
                  <a:pt x="28" y="27"/>
                </a:lnTo>
                <a:lnTo>
                  <a:pt x="29" y="20"/>
                </a:lnTo>
                <a:lnTo>
                  <a:pt x="28" y="13"/>
                </a:lnTo>
                <a:lnTo>
                  <a:pt x="23" y="6"/>
                </a:lnTo>
                <a:lnTo>
                  <a:pt x="15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7" name="Freeform 61"/>
          <p:cNvSpPr/>
          <p:nvPr/>
        </p:nvSpPr>
        <p:spPr>
          <a:xfrm>
            <a:off x="2344680" y="6450120"/>
            <a:ext cx="28800" cy="27000"/>
          </a:xfrm>
          <a:custGeom>
            <a:avLst/>
            <a:gdLst/>
            <a:ahLst/>
            <a:rect l="l" t="t" r="r" b="b"/>
            <a:pathLst>
              <a:path w="37" h="36">
                <a:moveTo>
                  <a:pt x="24" y="1"/>
                </a:moveTo>
                <a:lnTo>
                  <a:pt x="15" y="0"/>
                </a:lnTo>
                <a:lnTo>
                  <a:pt x="8" y="5"/>
                </a:lnTo>
                <a:lnTo>
                  <a:pt x="2" y="12"/>
                </a:lnTo>
                <a:lnTo>
                  <a:pt x="0" y="18"/>
                </a:lnTo>
                <a:lnTo>
                  <a:pt x="2" y="25"/>
                </a:lnTo>
                <a:lnTo>
                  <a:pt x="9" y="31"/>
                </a:lnTo>
                <a:lnTo>
                  <a:pt x="17" y="36"/>
                </a:lnTo>
                <a:lnTo>
                  <a:pt x="26" y="35"/>
                </a:lnTo>
                <a:lnTo>
                  <a:pt x="33" y="28"/>
                </a:lnTo>
                <a:lnTo>
                  <a:pt x="37" y="20"/>
                </a:lnTo>
                <a:lnTo>
                  <a:pt x="34" y="9"/>
                </a:lnTo>
                <a:lnTo>
                  <a:pt x="24" y="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8" name="Freeform 62"/>
          <p:cNvSpPr/>
          <p:nvPr/>
        </p:nvSpPr>
        <p:spPr>
          <a:xfrm>
            <a:off x="2440080" y="6518160"/>
            <a:ext cx="27000" cy="19080"/>
          </a:xfrm>
          <a:custGeom>
            <a:avLst/>
            <a:gdLst/>
            <a:ahLst/>
            <a:rect l="l" t="t" r="r" b="b"/>
            <a:pathLst>
              <a:path w="34" h="26">
                <a:moveTo>
                  <a:pt x="34" y="0"/>
                </a:moveTo>
                <a:lnTo>
                  <a:pt x="32" y="3"/>
                </a:lnTo>
                <a:lnTo>
                  <a:pt x="28" y="5"/>
                </a:lnTo>
                <a:lnTo>
                  <a:pt x="24" y="7"/>
                </a:lnTo>
                <a:lnTo>
                  <a:pt x="19" y="10"/>
                </a:lnTo>
                <a:lnTo>
                  <a:pt x="13" y="12"/>
                </a:lnTo>
                <a:lnTo>
                  <a:pt x="9" y="14"/>
                </a:lnTo>
                <a:lnTo>
                  <a:pt x="4" y="15"/>
                </a:lnTo>
                <a:lnTo>
                  <a:pt x="0" y="17"/>
                </a:lnTo>
                <a:lnTo>
                  <a:pt x="4" y="19"/>
                </a:lnTo>
                <a:lnTo>
                  <a:pt x="11" y="22"/>
                </a:lnTo>
                <a:lnTo>
                  <a:pt x="19" y="25"/>
                </a:lnTo>
                <a:lnTo>
                  <a:pt x="25" y="26"/>
                </a:lnTo>
                <a:lnTo>
                  <a:pt x="28" y="21"/>
                </a:lnTo>
                <a:lnTo>
                  <a:pt x="31" y="14"/>
                </a:lnTo>
                <a:lnTo>
                  <a:pt x="33" y="6"/>
                </a:lnTo>
                <a:lnTo>
                  <a:pt x="34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9" name="Oval 63"/>
          <p:cNvSpPr/>
          <p:nvPr/>
        </p:nvSpPr>
        <p:spPr>
          <a:xfrm>
            <a:off x="2743200" y="1371600"/>
            <a:ext cx="457200" cy="457200"/>
          </a:xfrm>
          <a:prstGeom prst="ellipse">
            <a:avLst/>
          </a:prstGeom>
          <a:solidFill>
            <a:srgbClr val="eaeaea"/>
          </a:solidFill>
          <a:ln cap="sq" w="1260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0" name="Oval 65"/>
          <p:cNvSpPr/>
          <p:nvPr/>
        </p:nvSpPr>
        <p:spPr>
          <a:xfrm>
            <a:off x="2895480" y="1371600"/>
            <a:ext cx="152640" cy="457200"/>
          </a:xfrm>
          <a:prstGeom prst="ellipse">
            <a:avLst/>
          </a:prstGeom>
          <a:solidFill>
            <a:srgbClr val="eaeaea"/>
          </a:solidFill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Freeform 4"/>
          <p:cNvSpPr/>
          <p:nvPr/>
        </p:nvSpPr>
        <p:spPr>
          <a:xfrm>
            <a:off x="1614600" y="2684520"/>
            <a:ext cx="1063440" cy="4154400"/>
          </a:xfrm>
          <a:custGeom>
            <a:avLst/>
            <a:gdLst/>
            <a:ahLst/>
            <a:rect l="l" t="t" r="r" b="b"/>
            <a:pathLst>
              <a:path w="1341" h="5235">
                <a:moveTo>
                  <a:pt x="844" y="4745"/>
                </a:moveTo>
                <a:lnTo>
                  <a:pt x="831" y="4745"/>
                </a:lnTo>
                <a:lnTo>
                  <a:pt x="818" y="4748"/>
                </a:lnTo>
                <a:lnTo>
                  <a:pt x="808" y="4750"/>
                </a:lnTo>
                <a:lnTo>
                  <a:pt x="799" y="4755"/>
                </a:lnTo>
                <a:lnTo>
                  <a:pt x="792" y="4759"/>
                </a:lnTo>
                <a:lnTo>
                  <a:pt x="788" y="4765"/>
                </a:lnTo>
                <a:lnTo>
                  <a:pt x="786" y="4773"/>
                </a:lnTo>
                <a:lnTo>
                  <a:pt x="788" y="4781"/>
                </a:lnTo>
                <a:lnTo>
                  <a:pt x="791" y="4786"/>
                </a:lnTo>
                <a:lnTo>
                  <a:pt x="793" y="4789"/>
                </a:lnTo>
                <a:lnTo>
                  <a:pt x="797" y="4793"/>
                </a:lnTo>
                <a:lnTo>
                  <a:pt x="801" y="4795"/>
                </a:lnTo>
                <a:lnTo>
                  <a:pt x="807" y="4796"/>
                </a:lnTo>
                <a:lnTo>
                  <a:pt x="811" y="4796"/>
                </a:lnTo>
                <a:lnTo>
                  <a:pt x="818" y="4796"/>
                </a:lnTo>
                <a:lnTo>
                  <a:pt x="824" y="4795"/>
                </a:lnTo>
                <a:lnTo>
                  <a:pt x="827" y="4783"/>
                </a:lnTo>
                <a:lnTo>
                  <a:pt x="833" y="4770"/>
                </a:lnTo>
                <a:lnTo>
                  <a:pt x="839" y="4756"/>
                </a:lnTo>
                <a:lnTo>
                  <a:pt x="844" y="4745"/>
                </a:lnTo>
                <a:lnTo>
                  <a:pt x="854" y="4720"/>
                </a:lnTo>
                <a:lnTo>
                  <a:pt x="860" y="4708"/>
                </a:lnTo>
                <a:lnTo>
                  <a:pt x="865" y="4699"/>
                </a:lnTo>
                <a:lnTo>
                  <a:pt x="871" y="4690"/>
                </a:lnTo>
                <a:lnTo>
                  <a:pt x="877" y="4683"/>
                </a:lnTo>
                <a:lnTo>
                  <a:pt x="880" y="4676"/>
                </a:lnTo>
                <a:lnTo>
                  <a:pt x="882" y="4669"/>
                </a:lnTo>
                <a:lnTo>
                  <a:pt x="880" y="4664"/>
                </a:lnTo>
                <a:lnTo>
                  <a:pt x="875" y="4658"/>
                </a:lnTo>
                <a:lnTo>
                  <a:pt x="864" y="4643"/>
                </a:lnTo>
                <a:lnTo>
                  <a:pt x="862" y="4626"/>
                </a:lnTo>
                <a:lnTo>
                  <a:pt x="867" y="4606"/>
                </a:lnTo>
                <a:lnTo>
                  <a:pt x="875" y="4590"/>
                </a:lnTo>
                <a:lnTo>
                  <a:pt x="877" y="4581"/>
                </a:lnTo>
                <a:lnTo>
                  <a:pt x="875" y="4570"/>
                </a:lnTo>
                <a:lnTo>
                  <a:pt x="870" y="4558"/>
                </a:lnTo>
                <a:lnTo>
                  <a:pt x="865" y="4544"/>
                </a:lnTo>
                <a:lnTo>
                  <a:pt x="861" y="4529"/>
                </a:lnTo>
                <a:lnTo>
                  <a:pt x="857" y="4514"/>
                </a:lnTo>
                <a:lnTo>
                  <a:pt x="857" y="4499"/>
                </a:lnTo>
                <a:lnTo>
                  <a:pt x="862" y="4485"/>
                </a:lnTo>
                <a:lnTo>
                  <a:pt x="872" y="4439"/>
                </a:lnTo>
                <a:lnTo>
                  <a:pt x="875" y="4382"/>
                </a:lnTo>
                <a:lnTo>
                  <a:pt x="869" y="4323"/>
                </a:lnTo>
                <a:lnTo>
                  <a:pt x="858" y="4265"/>
                </a:lnTo>
                <a:lnTo>
                  <a:pt x="850" y="4196"/>
                </a:lnTo>
                <a:lnTo>
                  <a:pt x="849" y="4109"/>
                </a:lnTo>
                <a:lnTo>
                  <a:pt x="850" y="4023"/>
                </a:lnTo>
                <a:lnTo>
                  <a:pt x="854" y="3954"/>
                </a:lnTo>
                <a:lnTo>
                  <a:pt x="847" y="3926"/>
                </a:lnTo>
                <a:lnTo>
                  <a:pt x="839" y="3893"/>
                </a:lnTo>
                <a:lnTo>
                  <a:pt x="829" y="3855"/>
                </a:lnTo>
                <a:lnTo>
                  <a:pt x="820" y="3814"/>
                </a:lnTo>
                <a:lnTo>
                  <a:pt x="812" y="3773"/>
                </a:lnTo>
                <a:lnTo>
                  <a:pt x="807" y="3734"/>
                </a:lnTo>
                <a:lnTo>
                  <a:pt x="804" y="3697"/>
                </a:lnTo>
                <a:lnTo>
                  <a:pt x="807" y="3666"/>
                </a:lnTo>
                <a:lnTo>
                  <a:pt x="812" y="3602"/>
                </a:lnTo>
                <a:lnTo>
                  <a:pt x="816" y="3535"/>
                </a:lnTo>
                <a:lnTo>
                  <a:pt x="817" y="3473"/>
                </a:lnTo>
                <a:lnTo>
                  <a:pt x="818" y="3433"/>
                </a:lnTo>
                <a:lnTo>
                  <a:pt x="811" y="3431"/>
                </a:lnTo>
                <a:lnTo>
                  <a:pt x="804" y="3426"/>
                </a:lnTo>
                <a:lnTo>
                  <a:pt x="799" y="3422"/>
                </a:lnTo>
                <a:lnTo>
                  <a:pt x="793" y="3416"/>
                </a:lnTo>
                <a:lnTo>
                  <a:pt x="788" y="3410"/>
                </a:lnTo>
                <a:lnTo>
                  <a:pt x="785" y="3405"/>
                </a:lnTo>
                <a:lnTo>
                  <a:pt x="784" y="3402"/>
                </a:lnTo>
                <a:lnTo>
                  <a:pt x="782" y="3401"/>
                </a:lnTo>
                <a:lnTo>
                  <a:pt x="787" y="3365"/>
                </a:lnTo>
                <a:lnTo>
                  <a:pt x="787" y="3320"/>
                </a:lnTo>
                <a:lnTo>
                  <a:pt x="780" y="3271"/>
                </a:lnTo>
                <a:lnTo>
                  <a:pt x="766" y="3221"/>
                </a:lnTo>
                <a:lnTo>
                  <a:pt x="761" y="3203"/>
                </a:lnTo>
                <a:lnTo>
                  <a:pt x="754" y="3180"/>
                </a:lnTo>
                <a:lnTo>
                  <a:pt x="748" y="3154"/>
                </a:lnTo>
                <a:lnTo>
                  <a:pt x="742" y="3127"/>
                </a:lnTo>
                <a:lnTo>
                  <a:pt x="734" y="3070"/>
                </a:lnTo>
                <a:lnTo>
                  <a:pt x="731" y="3010"/>
                </a:lnTo>
                <a:lnTo>
                  <a:pt x="733" y="2953"/>
                </a:lnTo>
                <a:lnTo>
                  <a:pt x="742" y="2901"/>
                </a:lnTo>
                <a:lnTo>
                  <a:pt x="729" y="2917"/>
                </a:lnTo>
                <a:lnTo>
                  <a:pt x="720" y="2941"/>
                </a:lnTo>
                <a:lnTo>
                  <a:pt x="713" y="2972"/>
                </a:lnTo>
                <a:lnTo>
                  <a:pt x="710" y="3007"/>
                </a:lnTo>
                <a:lnTo>
                  <a:pt x="709" y="3045"/>
                </a:lnTo>
                <a:lnTo>
                  <a:pt x="710" y="3082"/>
                </a:lnTo>
                <a:lnTo>
                  <a:pt x="713" y="3116"/>
                </a:lnTo>
                <a:lnTo>
                  <a:pt x="718" y="3146"/>
                </a:lnTo>
                <a:lnTo>
                  <a:pt x="705" y="3158"/>
                </a:lnTo>
                <a:lnTo>
                  <a:pt x="691" y="3179"/>
                </a:lnTo>
                <a:lnTo>
                  <a:pt x="676" y="3205"/>
                </a:lnTo>
                <a:lnTo>
                  <a:pt x="662" y="3235"/>
                </a:lnTo>
                <a:lnTo>
                  <a:pt x="647" y="3266"/>
                </a:lnTo>
                <a:lnTo>
                  <a:pt x="632" y="3296"/>
                </a:lnTo>
                <a:lnTo>
                  <a:pt x="619" y="3323"/>
                </a:lnTo>
                <a:lnTo>
                  <a:pt x="607" y="3341"/>
                </a:lnTo>
                <a:lnTo>
                  <a:pt x="596" y="3341"/>
                </a:lnTo>
                <a:lnTo>
                  <a:pt x="584" y="3339"/>
                </a:lnTo>
                <a:lnTo>
                  <a:pt x="574" y="3336"/>
                </a:lnTo>
                <a:lnTo>
                  <a:pt x="564" y="3333"/>
                </a:lnTo>
                <a:lnTo>
                  <a:pt x="554" y="3329"/>
                </a:lnTo>
                <a:lnTo>
                  <a:pt x="544" y="3325"/>
                </a:lnTo>
                <a:lnTo>
                  <a:pt x="534" y="3319"/>
                </a:lnTo>
                <a:lnTo>
                  <a:pt x="523" y="3313"/>
                </a:lnTo>
                <a:lnTo>
                  <a:pt x="513" y="3329"/>
                </a:lnTo>
                <a:lnTo>
                  <a:pt x="499" y="3349"/>
                </a:lnTo>
                <a:lnTo>
                  <a:pt x="483" y="3370"/>
                </a:lnTo>
                <a:lnTo>
                  <a:pt x="466" y="3392"/>
                </a:lnTo>
                <a:lnTo>
                  <a:pt x="448" y="3415"/>
                </a:lnTo>
                <a:lnTo>
                  <a:pt x="431" y="3435"/>
                </a:lnTo>
                <a:lnTo>
                  <a:pt x="415" y="3456"/>
                </a:lnTo>
                <a:lnTo>
                  <a:pt x="400" y="3473"/>
                </a:lnTo>
                <a:lnTo>
                  <a:pt x="385" y="3490"/>
                </a:lnTo>
                <a:lnTo>
                  <a:pt x="369" y="3507"/>
                </a:lnTo>
                <a:lnTo>
                  <a:pt x="352" y="3524"/>
                </a:lnTo>
                <a:lnTo>
                  <a:pt x="337" y="3541"/>
                </a:lnTo>
                <a:lnTo>
                  <a:pt x="324" y="3560"/>
                </a:lnTo>
                <a:lnTo>
                  <a:pt x="317" y="3577"/>
                </a:lnTo>
                <a:lnTo>
                  <a:pt x="315" y="3596"/>
                </a:lnTo>
                <a:lnTo>
                  <a:pt x="319" y="3613"/>
                </a:lnTo>
                <a:lnTo>
                  <a:pt x="330" y="3637"/>
                </a:lnTo>
                <a:lnTo>
                  <a:pt x="341" y="3672"/>
                </a:lnTo>
                <a:lnTo>
                  <a:pt x="353" y="3714"/>
                </a:lnTo>
                <a:lnTo>
                  <a:pt x="363" y="3764"/>
                </a:lnTo>
                <a:lnTo>
                  <a:pt x="372" y="3817"/>
                </a:lnTo>
                <a:lnTo>
                  <a:pt x="377" y="3871"/>
                </a:lnTo>
                <a:lnTo>
                  <a:pt x="377" y="3925"/>
                </a:lnTo>
                <a:lnTo>
                  <a:pt x="371" y="3977"/>
                </a:lnTo>
                <a:lnTo>
                  <a:pt x="379" y="3979"/>
                </a:lnTo>
                <a:lnTo>
                  <a:pt x="388" y="3984"/>
                </a:lnTo>
                <a:lnTo>
                  <a:pt x="397" y="3990"/>
                </a:lnTo>
                <a:lnTo>
                  <a:pt x="403" y="3996"/>
                </a:lnTo>
                <a:lnTo>
                  <a:pt x="410" y="4005"/>
                </a:lnTo>
                <a:lnTo>
                  <a:pt x="415" y="4014"/>
                </a:lnTo>
                <a:lnTo>
                  <a:pt x="416" y="4023"/>
                </a:lnTo>
                <a:lnTo>
                  <a:pt x="415" y="4033"/>
                </a:lnTo>
                <a:lnTo>
                  <a:pt x="428" y="4043"/>
                </a:lnTo>
                <a:lnTo>
                  <a:pt x="436" y="4055"/>
                </a:lnTo>
                <a:lnTo>
                  <a:pt x="440" y="4071"/>
                </a:lnTo>
                <a:lnTo>
                  <a:pt x="444" y="4090"/>
                </a:lnTo>
                <a:lnTo>
                  <a:pt x="461" y="4096"/>
                </a:lnTo>
                <a:lnTo>
                  <a:pt x="481" y="4104"/>
                </a:lnTo>
                <a:lnTo>
                  <a:pt x="501" y="4116"/>
                </a:lnTo>
                <a:lnTo>
                  <a:pt x="523" y="4131"/>
                </a:lnTo>
                <a:lnTo>
                  <a:pt x="545" y="4153"/>
                </a:lnTo>
                <a:lnTo>
                  <a:pt x="566" y="4179"/>
                </a:lnTo>
                <a:lnTo>
                  <a:pt x="585" y="4211"/>
                </a:lnTo>
                <a:lnTo>
                  <a:pt x="604" y="4250"/>
                </a:lnTo>
                <a:lnTo>
                  <a:pt x="598" y="4267"/>
                </a:lnTo>
                <a:lnTo>
                  <a:pt x="587" y="4287"/>
                </a:lnTo>
                <a:lnTo>
                  <a:pt x="572" y="4309"/>
                </a:lnTo>
                <a:lnTo>
                  <a:pt x="554" y="4331"/>
                </a:lnTo>
                <a:lnTo>
                  <a:pt x="535" y="4352"/>
                </a:lnTo>
                <a:lnTo>
                  <a:pt x="515" y="4372"/>
                </a:lnTo>
                <a:lnTo>
                  <a:pt x="496" y="4387"/>
                </a:lnTo>
                <a:lnTo>
                  <a:pt x="480" y="4397"/>
                </a:lnTo>
                <a:lnTo>
                  <a:pt x="466" y="4405"/>
                </a:lnTo>
                <a:lnTo>
                  <a:pt x="454" y="4414"/>
                </a:lnTo>
                <a:lnTo>
                  <a:pt x="446" y="4422"/>
                </a:lnTo>
                <a:lnTo>
                  <a:pt x="439" y="4432"/>
                </a:lnTo>
                <a:lnTo>
                  <a:pt x="433" y="4443"/>
                </a:lnTo>
                <a:lnTo>
                  <a:pt x="429" y="4455"/>
                </a:lnTo>
                <a:lnTo>
                  <a:pt x="425" y="4470"/>
                </a:lnTo>
                <a:lnTo>
                  <a:pt x="423" y="4485"/>
                </a:lnTo>
                <a:lnTo>
                  <a:pt x="414" y="4525"/>
                </a:lnTo>
                <a:lnTo>
                  <a:pt x="401" y="4560"/>
                </a:lnTo>
                <a:lnTo>
                  <a:pt x="385" y="4588"/>
                </a:lnTo>
                <a:lnTo>
                  <a:pt x="365" y="4611"/>
                </a:lnTo>
                <a:lnTo>
                  <a:pt x="345" y="4629"/>
                </a:lnTo>
                <a:lnTo>
                  <a:pt x="323" y="4644"/>
                </a:lnTo>
                <a:lnTo>
                  <a:pt x="301" y="4655"/>
                </a:lnTo>
                <a:lnTo>
                  <a:pt x="279" y="4666"/>
                </a:lnTo>
                <a:lnTo>
                  <a:pt x="257" y="4674"/>
                </a:lnTo>
                <a:lnTo>
                  <a:pt x="233" y="4681"/>
                </a:lnTo>
                <a:lnTo>
                  <a:pt x="208" y="4684"/>
                </a:lnTo>
                <a:lnTo>
                  <a:pt x="185" y="4685"/>
                </a:lnTo>
                <a:lnTo>
                  <a:pt x="162" y="4682"/>
                </a:lnTo>
                <a:lnTo>
                  <a:pt x="143" y="4673"/>
                </a:lnTo>
                <a:lnTo>
                  <a:pt x="128" y="4659"/>
                </a:lnTo>
                <a:lnTo>
                  <a:pt x="120" y="4637"/>
                </a:lnTo>
                <a:lnTo>
                  <a:pt x="115" y="4600"/>
                </a:lnTo>
                <a:lnTo>
                  <a:pt x="119" y="4563"/>
                </a:lnTo>
                <a:lnTo>
                  <a:pt x="128" y="4526"/>
                </a:lnTo>
                <a:lnTo>
                  <a:pt x="139" y="4492"/>
                </a:lnTo>
                <a:lnTo>
                  <a:pt x="149" y="4458"/>
                </a:lnTo>
                <a:lnTo>
                  <a:pt x="157" y="4429"/>
                </a:lnTo>
                <a:lnTo>
                  <a:pt x="160" y="4403"/>
                </a:lnTo>
                <a:lnTo>
                  <a:pt x="156" y="4381"/>
                </a:lnTo>
                <a:lnTo>
                  <a:pt x="136" y="4384"/>
                </a:lnTo>
                <a:lnTo>
                  <a:pt x="118" y="4382"/>
                </a:lnTo>
                <a:lnTo>
                  <a:pt x="104" y="4378"/>
                </a:lnTo>
                <a:lnTo>
                  <a:pt x="92" y="4370"/>
                </a:lnTo>
                <a:lnTo>
                  <a:pt x="84" y="4361"/>
                </a:lnTo>
                <a:lnTo>
                  <a:pt x="80" y="4349"/>
                </a:lnTo>
                <a:lnTo>
                  <a:pt x="81" y="4339"/>
                </a:lnTo>
                <a:lnTo>
                  <a:pt x="86" y="4327"/>
                </a:lnTo>
                <a:lnTo>
                  <a:pt x="94" y="4317"/>
                </a:lnTo>
                <a:lnTo>
                  <a:pt x="104" y="4306"/>
                </a:lnTo>
                <a:lnTo>
                  <a:pt x="115" y="4297"/>
                </a:lnTo>
                <a:lnTo>
                  <a:pt x="127" y="4289"/>
                </a:lnTo>
                <a:lnTo>
                  <a:pt x="140" y="4281"/>
                </a:lnTo>
                <a:lnTo>
                  <a:pt x="152" y="4274"/>
                </a:lnTo>
                <a:lnTo>
                  <a:pt x="164" y="4268"/>
                </a:lnTo>
                <a:lnTo>
                  <a:pt x="175" y="4265"/>
                </a:lnTo>
                <a:lnTo>
                  <a:pt x="173" y="4286"/>
                </a:lnTo>
                <a:lnTo>
                  <a:pt x="158" y="4291"/>
                </a:lnTo>
                <a:lnTo>
                  <a:pt x="145" y="4297"/>
                </a:lnTo>
                <a:lnTo>
                  <a:pt x="134" y="4305"/>
                </a:lnTo>
                <a:lnTo>
                  <a:pt x="124" y="4313"/>
                </a:lnTo>
                <a:lnTo>
                  <a:pt x="115" y="4321"/>
                </a:lnTo>
                <a:lnTo>
                  <a:pt x="110" y="4331"/>
                </a:lnTo>
                <a:lnTo>
                  <a:pt x="106" y="4340"/>
                </a:lnTo>
                <a:lnTo>
                  <a:pt x="105" y="4348"/>
                </a:lnTo>
                <a:lnTo>
                  <a:pt x="107" y="4352"/>
                </a:lnTo>
                <a:lnTo>
                  <a:pt x="111" y="4356"/>
                </a:lnTo>
                <a:lnTo>
                  <a:pt x="117" y="4357"/>
                </a:lnTo>
                <a:lnTo>
                  <a:pt x="124" y="4358"/>
                </a:lnTo>
                <a:lnTo>
                  <a:pt x="132" y="4358"/>
                </a:lnTo>
                <a:lnTo>
                  <a:pt x="141" y="4356"/>
                </a:lnTo>
                <a:lnTo>
                  <a:pt x="150" y="4354"/>
                </a:lnTo>
                <a:lnTo>
                  <a:pt x="160" y="4349"/>
                </a:lnTo>
                <a:lnTo>
                  <a:pt x="158" y="4335"/>
                </a:lnTo>
                <a:lnTo>
                  <a:pt x="160" y="4318"/>
                </a:lnTo>
                <a:lnTo>
                  <a:pt x="165" y="4299"/>
                </a:lnTo>
                <a:lnTo>
                  <a:pt x="173" y="4286"/>
                </a:lnTo>
                <a:lnTo>
                  <a:pt x="175" y="4265"/>
                </a:lnTo>
                <a:lnTo>
                  <a:pt x="177" y="4236"/>
                </a:lnTo>
                <a:lnTo>
                  <a:pt x="181" y="4214"/>
                </a:lnTo>
                <a:lnTo>
                  <a:pt x="189" y="4195"/>
                </a:lnTo>
                <a:lnTo>
                  <a:pt x="200" y="4177"/>
                </a:lnTo>
                <a:lnTo>
                  <a:pt x="194" y="4167"/>
                </a:lnTo>
                <a:lnTo>
                  <a:pt x="188" y="4154"/>
                </a:lnTo>
                <a:lnTo>
                  <a:pt x="182" y="4143"/>
                </a:lnTo>
                <a:lnTo>
                  <a:pt x="179" y="4129"/>
                </a:lnTo>
                <a:lnTo>
                  <a:pt x="177" y="4116"/>
                </a:lnTo>
                <a:lnTo>
                  <a:pt x="178" y="4105"/>
                </a:lnTo>
                <a:lnTo>
                  <a:pt x="181" y="4092"/>
                </a:lnTo>
                <a:lnTo>
                  <a:pt x="188" y="4082"/>
                </a:lnTo>
                <a:lnTo>
                  <a:pt x="171" y="4046"/>
                </a:lnTo>
                <a:lnTo>
                  <a:pt x="153" y="4009"/>
                </a:lnTo>
                <a:lnTo>
                  <a:pt x="135" y="3971"/>
                </a:lnTo>
                <a:lnTo>
                  <a:pt x="118" y="3932"/>
                </a:lnTo>
                <a:lnTo>
                  <a:pt x="101" y="3894"/>
                </a:lnTo>
                <a:lnTo>
                  <a:pt x="83" y="3856"/>
                </a:lnTo>
                <a:lnTo>
                  <a:pt x="67" y="3820"/>
                </a:lnTo>
                <a:lnTo>
                  <a:pt x="51" y="3786"/>
                </a:lnTo>
                <a:lnTo>
                  <a:pt x="37" y="3752"/>
                </a:lnTo>
                <a:lnTo>
                  <a:pt x="24" y="3721"/>
                </a:lnTo>
                <a:lnTo>
                  <a:pt x="14" y="3689"/>
                </a:lnTo>
                <a:lnTo>
                  <a:pt x="6" y="3658"/>
                </a:lnTo>
                <a:lnTo>
                  <a:pt x="1" y="3627"/>
                </a:lnTo>
                <a:lnTo>
                  <a:pt x="0" y="3596"/>
                </a:lnTo>
                <a:lnTo>
                  <a:pt x="4" y="3564"/>
                </a:lnTo>
                <a:lnTo>
                  <a:pt x="12" y="3533"/>
                </a:lnTo>
                <a:lnTo>
                  <a:pt x="23" y="3499"/>
                </a:lnTo>
                <a:lnTo>
                  <a:pt x="36" y="3458"/>
                </a:lnTo>
                <a:lnTo>
                  <a:pt x="50" y="3415"/>
                </a:lnTo>
                <a:lnTo>
                  <a:pt x="64" y="3371"/>
                </a:lnTo>
                <a:lnTo>
                  <a:pt x="77" y="3328"/>
                </a:lnTo>
                <a:lnTo>
                  <a:pt x="90" y="3289"/>
                </a:lnTo>
                <a:lnTo>
                  <a:pt x="102" y="3255"/>
                </a:lnTo>
                <a:lnTo>
                  <a:pt x="112" y="3229"/>
                </a:lnTo>
                <a:lnTo>
                  <a:pt x="102" y="3219"/>
                </a:lnTo>
                <a:lnTo>
                  <a:pt x="90" y="3207"/>
                </a:lnTo>
                <a:lnTo>
                  <a:pt x="80" y="3196"/>
                </a:lnTo>
                <a:lnTo>
                  <a:pt x="71" y="3184"/>
                </a:lnTo>
                <a:lnTo>
                  <a:pt x="62" y="3174"/>
                </a:lnTo>
                <a:lnTo>
                  <a:pt x="57" y="3166"/>
                </a:lnTo>
                <a:lnTo>
                  <a:pt x="52" y="3160"/>
                </a:lnTo>
                <a:lnTo>
                  <a:pt x="51" y="3158"/>
                </a:lnTo>
                <a:lnTo>
                  <a:pt x="62" y="3128"/>
                </a:lnTo>
                <a:lnTo>
                  <a:pt x="76" y="3098"/>
                </a:lnTo>
                <a:lnTo>
                  <a:pt x="91" y="3068"/>
                </a:lnTo>
                <a:lnTo>
                  <a:pt x="107" y="3037"/>
                </a:lnTo>
                <a:lnTo>
                  <a:pt x="126" y="3007"/>
                </a:lnTo>
                <a:lnTo>
                  <a:pt x="147" y="2977"/>
                </a:lnTo>
                <a:lnTo>
                  <a:pt x="168" y="2947"/>
                </a:lnTo>
                <a:lnTo>
                  <a:pt x="192" y="2917"/>
                </a:lnTo>
                <a:lnTo>
                  <a:pt x="215" y="2886"/>
                </a:lnTo>
                <a:lnTo>
                  <a:pt x="236" y="2855"/>
                </a:lnTo>
                <a:lnTo>
                  <a:pt x="257" y="2821"/>
                </a:lnTo>
                <a:lnTo>
                  <a:pt x="274" y="2788"/>
                </a:lnTo>
                <a:lnTo>
                  <a:pt x="289" y="2756"/>
                </a:lnTo>
                <a:lnTo>
                  <a:pt x="300" y="2723"/>
                </a:lnTo>
                <a:lnTo>
                  <a:pt x="308" y="2692"/>
                </a:lnTo>
                <a:lnTo>
                  <a:pt x="311" y="2662"/>
                </a:lnTo>
                <a:lnTo>
                  <a:pt x="316" y="2630"/>
                </a:lnTo>
                <a:lnTo>
                  <a:pt x="326" y="2592"/>
                </a:lnTo>
                <a:lnTo>
                  <a:pt x="340" y="2552"/>
                </a:lnTo>
                <a:lnTo>
                  <a:pt x="356" y="2510"/>
                </a:lnTo>
                <a:lnTo>
                  <a:pt x="375" y="2471"/>
                </a:lnTo>
                <a:lnTo>
                  <a:pt x="394" y="2438"/>
                </a:lnTo>
                <a:lnTo>
                  <a:pt x="414" y="2410"/>
                </a:lnTo>
                <a:lnTo>
                  <a:pt x="431" y="2394"/>
                </a:lnTo>
                <a:lnTo>
                  <a:pt x="436" y="2371"/>
                </a:lnTo>
                <a:lnTo>
                  <a:pt x="425" y="2367"/>
                </a:lnTo>
                <a:lnTo>
                  <a:pt x="417" y="2362"/>
                </a:lnTo>
                <a:lnTo>
                  <a:pt x="410" y="2354"/>
                </a:lnTo>
                <a:lnTo>
                  <a:pt x="405" y="2343"/>
                </a:lnTo>
                <a:lnTo>
                  <a:pt x="401" y="2329"/>
                </a:lnTo>
                <a:lnTo>
                  <a:pt x="400" y="2312"/>
                </a:lnTo>
                <a:lnTo>
                  <a:pt x="400" y="2293"/>
                </a:lnTo>
                <a:lnTo>
                  <a:pt x="403" y="2271"/>
                </a:lnTo>
                <a:lnTo>
                  <a:pt x="409" y="2244"/>
                </a:lnTo>
                <a:lnTo>
                  <a:pt x="418" y="2214"/>
                </a:lnTo>
                <a:lnTo>
                  <a:pt x="428" y="2181"/>
                </a:lnTo>
                <a:lnTo>
                  <a:pt x="438" y="2146"/>
                </a:lnTo>
                <a:lnTo>
                  <a:pt x="447" y="2112"/>
                </a:lnTo>
                <a:lnTo>
                  <a:pt x="453" y="2076"/>
                </a:lnTo>
                <a:lnTo>
                  <a:pt x="455" y="2043"/>
                </a:lnTo>
                <a:lnTo>
                  <a:pt x="452" y="2010"/>
                </a:lnTo>
                <a:lnTo>
                  <a:pt x="444" y="1980"/>
                </a:lnTo>
                <a:lnTo>
                  <a:pt x="435" y="1952"/>
                </a:lnTo>
                <a:lnTo>
                  <a:pt x="422" y="1923"/>
                </a:lnTo>
                <a:lnTo>
                  <a:pt x="409" y="1894"/>
                </a:lnTo>
                <a:lnTo>
                  <a:pt x="395" y="1869"/>
                </a:lnTo>
                <a:lnTo>
                  <a:pt x="382" y="1844"/>
                </a:lnTo>
                <a:lnTo>
                  <a:pt x="370" y="1823"/>
                </a:lnTo>
                <a:lnTo>
                  <a:pt x="360" y="1803"/>
                </a:lnTo>
                <a:lnTo>
                  <a:pt x="346" y="1765"/>
                </a:lnTo>
                <a:lnTo>
                  <a:pt x="339" y="1725"/>
                </a:lnTo>
                <a:lnTo>
                  <a:pt x="341" y="1681"/>
                </a:lnTo>
                <a:lnTo>
                  <a:pt x="352" y="1635"/>
                </a:lnTo>
                <a:lnTo>
                  <a:pt x="372" y="1594"/>
                </a:lnTo>
                <a:lnTo>
                  <a:pt x="393" y="1552"/>
                </a:lnTo>
                <a:lnTo>
                  <a:pt x="413" y="1510"/>
                </a:lnTo>
                <a:lnTo>
                  <a:pt x="432" y="1469"/>
                </a:lnTo>
                <a:lnTo>
                  <a:pt x="447" y="1431"/>
                </a:lnTo>
                <a:lnTo>
                  <a:pt x="459" y="1397"/>
                </a:lnTo>
                <a:lnTo>
                  <a:pt x="465" y="1369"/>
                </a:lnTo>
                <a:lnTo>
                  <a:pt x="463" y="1347"/>
                </a:lnTo>
                <a:lnTo>
                  <a:pt x="468" y="1342"/>
                </a:lnTo>
                <a:lnTo>
                  <a:pt x="473" y="1338"/>
                </a:lnTo>
                <a:lnTo>
                  <a:pt x="478" y="1334"/>
                </a:lnTo>
                <a:lnTo>
                  <a:pt x="483" y="1331"/>
                </a:lnTo>
                <a:lnTo>
                  <a:pt x="489" y="1327"/>
                </a:lnTo>
                <a:lnTo>
                  <a:pt x="496" y="1324"/>
                </a:lnTo>
                <a:lnTo>
                  <a:pt x="504" y="1321"/>
                </a:lnTo>
                <a:lnTo>
                  <a:pt x="512" y="1318"/>
                </a:lnTo>
                <a:lnTo>
                  <a:pt x="498" y="1309"/>
                </a:lnTo>
                <a:lnTo>
                  <a:pt x="485" y="1294"/>
                </a:lnTo>
                <a:lnTo>
                  <a:pt x="474" y="1274"/>
                </a:lnTo>
                <a:lnTo>
                  <a:pt x="463" y="1250"/>
                </a:lnTo>
                <a:lnTo>
                  <a:pt x="456" y="1223"/>
                </a:lnTo>
                <a:lnTo>
                  <a:pt x="452" y="1195"/>
                </a:lnTo>
                <a:lnTo>
                  <a:pt x="452" y="1165"/>
                </a:lnTo>
                <a:lnTo>
                  <a:pt x="456" y="1136"/>
                </a:lnTo>
                <a:lnTo>
                  <a:pt x="448" y="1116"/>
                </a:lnTo>
                <a:lnTo>
                  <a:pt x="445" y="1096"/>
                </a:lnTo>
                <a:lnTo>
                  <a:pt x="447" y="1075"/>
                </a:lnTo>
                <a:lnTo>
                  <a:pt x="453" y="1055"/>
                </a:lnTo>
                <a:lnTo>
                  <a:pt x="462" y="1037"/>
                </a:lnTo>
                <a:lnTo>
                  <a:pt x="471" y="1020"/>
                </a:lnTo>
                <a:lnTo>
                  <a:pt x="482" y="1006"/>
                </a:lnTo>
                <a:lnTo>
                  <a:pt x="491" y="994"/>
                </a:lnTo>
                <a:lnTo>
                  <a:pt x="499" y="982"/>
                </a:lnTo>
                <a:lnTo>
                  <a:pt x="505" y="963"/>
                </a:lnTo>
                <a:lnTo>
                  <a:pt x="511" y="942"/>
                </a:lnTo>
                <a:lnTo>
                  <a:pt x="516" y="920"/>
                </a:lnTo>
                <a:lnTo>
                  <a:pt x="522" y="900"/>
                </a:lnTo>
                <a:lnTo>
                  <a:pt x="530" y="882"/>
                </a:lnTo>
                <a:lnTo>
                  <a:pt x="539" y="871"/>
                </a:lnTo>
                <a:lnTo>
                  <a:pt x="553" y="866"/>
                </a:lnTo>
                <a:lnTo>
                  <a:pt x="567" y="866"/>
                </a:lnTo>
                <a:lnTo>
                  <a:pt x="577" y="865"/>
                </a:lnTo>
                <a:lnTo>
                  <a:pt x="585" y="863"/>
                </a:lnTo>
                <a:lnTo>
                  <a:pt x="594" y="858"/>
                </a:lnTo>
                <a:lnTo>
                  <a:pt x="599" y="854"/>
                </a:lnTo>
                <a:lnTo>
                  <a:pt x="604" y="848"/>
                </a:lnTo>
                <a:lnTo>
                  <a:pt x="610" y="840"/>
                </a:lnTo>
                <a:lnTo>
                  <a:pt x="615" y="831"/>
                </a:lnTo>
                <a:lnTo>
                  <a:pt x="621" y="820"/>
                </a:lnTo>
                <a:lnTo>
                  <a:pt x="627" y="810"/>
                </a:lnTo>
                <a:lnTo>
                  <a:pt x="633" y="801"/>
                </a:lnTo>
                <a:lnTo>
                  <a:pt x="640" y="793"/>
                </a:lnTo>
                <a:lnTo>
                  <a:pt x="647" y="787"/>
                </a:lnTo>
                <a:lnTo>
                  <a:pt x="655" y="782"/>
                </a:lnTo>
                <a:lnTo>
                  <a:pt x="664" y="781"/>
                </a:lnTo>
                <a:lnTo>
                  <a:pt x="675" y="782"/>
                </a:lnTo>
                <a:lnTo>
                  <a:pt x="687" y="787"/>
                </a:lnTo>
                <a:lnTo>
                  <a:pt x="696" y="793"/>
                </a:lnTo>
                <a:lnTo>
                  <a:pt x="704" y="798"/>
                </a:lnTo>
                <a:lnTo>
                  <a:pt x="711" y="804"/>
                </a:lnTo>
                <a:lnTo>
                  <a:pt x="718" y="809"/>
                </a:lnTo>
                <a:lnTo>
                  <a:pt x="725" y="810"/>
                </a:lnTo>
                <a:lnTo>
                  <a:pt x="733" y="809"/>
                </a:lnTo>
                <a:lnTo>
                  <a:pt x="742" y="802"/>
                </a:lnTo>
                <a:lnTo>
                  <a:pt x="753" y="794"/>
                </a:lnTo>
                <a:lnTo>
                  <a:pt x="763" y="789"/>
                </a:lnTo>
                <a:lnTo>
                  <a:pt x="774" y="786"/>
                </a:lnTo>
                <a:lnTo>
                  <a:pt x="784" y="785"/>
                </a:lnTo>
                <a:lnTo>
                  <a:pt x="794" y="785"/>
                </a:lnTo>
                <a:lnTo>
                  <a:pt x="802" y="787"/>
                </a:lnTo>
                <a:lnTo>
                  <a:pt x="809" y="791"/>
                </a:lnTo>
                <a:lnTo>
                  <a:pt x="815" y="798"/>
                </a:lnTo>
                <a:lnTo>
                  <a:pt x="819" y="805"/>
                </a:lnTo>
                <a:lnTo>
                  <a:pt x="823" y="812"/>
                </a:lnTo>
                <a:lnTo>
                  <a:pt x="826" y="818"/>
                </a:lnTo>
                <a:lnTo>
                  <a:pt x="830" y="823"/>
                </a:lnTo>
                <a:lnTo>
                  <a:pt x="833" y="827"/>
                </a:lnTo>
                <a:lnTo>
                  <a:pt x="838" y="829"/>
                </a:lnTo>
                <a:lnTo>
                  <a:pt x="844" y="831"/>
                </a:lnTo>
                <a:lnTo>
                  <a:pt x="850" y="831"/>
                </a:lnTo>
                <a:lnTo>
                  <a:pt x="858" y="831"/>
                </a:lnTo>
                <a:lnTo>
                  <a:pt x="867" y="832"/>
                </a:lnTo>
                <a:lnTo>
                  <a:pt x="875" y="836"/>
                </a:lnTo>
                <a:lnTo>
                  <a:pt x="882" y="842"/>
                </a:lnTo>
                <a:lnTo>
                  <a:pt x="888" y="849"/>
                </a:lnTo>
                <a:lnTo>
                  <a:pt x="894" y="857"/>
                </a:lnTo>
                <a:lnTo>
                  <a:pt x="898" y="865"/>
                </a:lnTo>
                <a:lnTo>
                  <a:pt x="899" y="874"/>
                </a:lnTo>
                <a:lnTo>
                  <a:pt x="901" y="889"/>
                </a:lnTo>
                <a:lnTo>
                  <a:pt x="908" y="901"/>
                </a:lnTo>
                <a:lnTo>
                  <a:pt x="918" y="914"/>
                </a:lnTo>
                <a:lnTo>
                  <a:pt x="930" y="931"/>
                </a:lnTo>
                <a:lnTo>
                  <a:pt x="931" y="911"/>
                </a:lnTo>
                <a:lnTo>
                  <a:pt x="928" y="891"/>
                </a:lnTo>
                <a:lnTo>
                  <a:pt x="921" y="868"/>
                </a:lnTo>
                <a:lnTo>
                  <a:pt x="914" y="843"/>
                </a:lnTo>
                <a:lnTo>
                  <a:pt x="906" y="818"/>
                </a:lnTo>
                <a:lnTo>
                  <a:pt x="900" y="791"/>
                </a:lnTo>
                <a:lnTo>
                  <a:pt x="895" y="765"/>
                </a:lnTo>
                <a:lnTo>
                  <a:pt x="894" y="738"/>
                </a:lnTo>
                <a:lnTo>
                  <a:pt x="895" y="707"/>
                </a:lnTo>
                <a:lnTo>
                  <a:pt x="895" y="672"/>
                </a:lnTo>
                <a:lnTo>
                  <a:pt x="893" y="631"/>
                </a:lnTo>
                <a:lnTo>
                  <a:pt x="888" y="589"/>
                </a:lnTo>
                <a:lnTo>
                  <a:pt x="880" y="546"/>
                </a:lnTo>
                <a:lnTo>
                  <a:pt x="870" y="505"/>
                </a:lnTo>
                <a:lnTo>
                  <a:pt x="856" y="465"/>
                </a:lnTo>
                <a:lnTo>
                  <a:pt x="839" y="432"/>
                </a:lnTo>
                <a:lnTo>
                  <a:pt x="824" y="452"/>
                </a:lnTo>
                <a:lnTo>
                  <a:pt x="808" y="471"/>
                </a:lnTo>
                <a:lnTo>
                  <a:pt x="789" y="487"/>
                </a:lnTo>
                <a:lnTo>
                  <a:pt x="770" y="503"/>
                </a:lnTo>
                <a:lnTo>
                  <a:pt x="749" y="517"/>
                </a:lnTo>
                <a:lnTo>
                  <a:pt x="727" y="529"/>
                </a:lnTo>
                <a:lnTo>
                  <a:pt x="704" y="538"/>
                </a:lnTo>
                <a:lnTo>
                  <a:pt x="680" y="546"/>
                </a:lnTo>
                <a:lnTo>
                  <a:pt x="667" y="554"/>
                </a:lnTo>
                <a:lnTo>
                  <a:pt x="652" y="561"/>
                </a:lnTo>
                <a:lnTo>
                  <a:pt x="636" y="568"/>
                </a:lnTo>
                <a:lnTo>
                  <a:pt x="620" y="574"/>
                </a:lnTo>
                <a:lnTo>
                  <a:pt x="603" y="578"/>
                </a:lnTo>
                <a:lnTo>
                  <a:pt x="587" y="583"/>
                </a:lnTo>
                <a:lnTo>
                  <a:pt x="572" y="589"/>
                </a:lnTo>
                <a:lnTo>
                  <a:pt x="559" y="594"/>
                </a:lnTo>
                <a:lnTo>
                  <a:pt x="547" y="603"/>
                </a:lnTo>
                <a:lnTo>
                  <a:pt x="536" y="615"/>
                </a:lnTo>
                <a:lnTo>
                  <a:pt x="526" y="630"/>
                </a:lnTo>
                <a:lnTo>
                  <a:pt x="514" y="647"/>
                </a:lnTo>
                <a:lnTo>
                  <a:pt x="504" y="667"/>
                </a:lnTo>
                <a:lnTo>
                  <a:pt x="494" y="687"/>
                </a:lnTo>
                <a:lnTo>
                  <a:pt x="485" y="705"/>
                </a:lnTo>
                <a:lnTo>
                  <a:pt x="476" y="722"/>
                </a:lnTo>
                <a:lnTo>
                  <a:pt x="466" y="741"/>
                </a:lnTo>
                <a:lnTo>
                  <a:pt x="454" y="763"/>
                </a:lnTo>
                <a:lnTo>
                  <a:pt x="441" y="786"/>
                </a:lnTo>
                <a:lnTo>
                  <a:pt x="428" y="811"/>
                </a:lnTo>
                <a:lnTo>
                  <a:pt x="416" y="836"/>
                </a:lnTo>
                <a:lnTo>
                  <a:pt x="405" y="861"/>
                </a:lnTo>
                <a:lnTo>
                  <a:pt x="397" y="882"/>
                </a:lnTo>
                <a:lnTo>
                  <a:pt x="392" y="902"/>
                </a:lnTo>
                <a:lnTo>
                  <a:pt x="388" y="924"/>
                </a:lnTo>
                <a:lnTo>
                  <a:pt x="384" y="953"/>
                </a:lnTo>
                <a:lnTo>
                  <a:pt x="378" y="986"/>
                </a:lnTo>
                <a:lnTo>
                  <a:pt x="372" y="1021"/>
                </a:lnTo>
                <a:lnTo>
                  <a:pt x="365" y="1055"/>
                </a:lnTo>
                <a:lnTo>
                  <a:pt x="359" y="1086"/>
                </a:lnTo>
                <a:lnTo>
                  <a:pt x="350" y="1112"/>
                </a:lnTo>
                <a:lnTo>
                  <a:pt x="344" y="1130"/>
                </a:lnTo>
                <a:lnTo>
                  <a:pt x="355" y="1146"/>
                </a:lnTo>
                <a:lnTo>
                  <a:pt x="370" y="1169"/>
                </a:lnTo>
                <a:lnTo>
                  <a:pt x="387" y="1197"/>
                </a:lnTo>
                <a:lnTo>
                  <a:pt x="407" y="1228"/>
                </a:lnTo>
                <a:lnTo>
                  <a:pt x="424" y="1260"/>
                </a:lnTo>
                <a:lnTo>
                  <a:pt x="441" y="1293"/>
                </a:lnTo>
                <a:lnTo>
                  <a:pt x="454" y="1321"/>
                </a:lnTo>
                <a:lnTo>
                  <a:pt x="463" y="1347"/>
                </a:lnTo>
                <a:lnTo>
                  <a:pt x="465" y="1369"/>
                </a:lnTo>
                <a:lnTo>
                  <a:pt x="459" y="1397"/>
                </a:lnTo>
                <a:lnTo>
                  <a:pt x="447" y="1431"/>
                </a:lnTo>
                <a:lnTo>
                  <a:pt x="432" y="1469"/>
                </a:lnTo>
                <a:lnTo>
                  <a:pt x="413" y="1510"/>
                </a:lnTo>
                <a:lnTo>
                  <a:pt x="393" y="1552"/>
                </a:lnTo>
                <a:lnTo>
                  <a:pt x="372" y="1594"/>
                </a:lnTo>
                <a:lnTo>
                  <a:pt x="352" y="1635"/>
                </a:lnTo>
                <a:lnTo>
                  <a:pt x="331" y="1606"/>
                </a:lnTo>
                <a:lnTo>
                  <a:pt x="312" y="1576"/>
                </a:lnTo>
                <a:lnTo>
                  <a:pt x="294" y="1546"/>
                </a:lnTo>
                <a:lnTo>
                  <a:pt x="277" y="1515"/>
                </a:lnTo>
                <a:lnTo>
                  <a:pt x="261" y="1486"/>
                </a:lnTo>
                <a:lnTo>
                  <a:pt x="243" y="1457"/>
                </a:lnTo>
                <a:lnTo>
                  <a:pt x="226" y="1431"/>
                </a:lnTo>
                <a:lnTo>
                  <a:pt x="209" y="1406"/>
                </a:lnTo>
                <a:lnTo>
                  <a:pt x="182" y="1367"/>
                </a:lnTo>
                <a:lnTo>
                  <a:pt x="159" y="1328"/>
                </a:lnTo>
                <a:lnTo>
                  <a:pt x="140" y="1289"/>
                </a:lnTo>
                <a:lnTo>
                  <a:pt x="124" y="1250"/>
                </a:lnTo>
                <a:lnTo>
                  <a:pt x="112" y="1212"/>
                </a:lnTo>
                <a:lnTo>
                  <a:pt x="104" y="1174"/>
                </a:lnTo>
                <a:lnTo>
                  <a:pt x="102" y="1139"/>
                </a:lnTo>
                <a:lnTo>
                  <a:pt x="104" y="1106"/>
                </a:lnTo>
                <a:lnTo>
                  <a:pt x="109" y="1076"/>
                </a:lnTo>
                <a:lnTo>
                  <a:pt x="115" y="1050"/>
                </a:lnTo>
                <a:lnTo>
                  <a:pt x="125" y="1025"/>
                </a:lnTo>
                <a:lnTo>
                  <a:pt x="135" y="1003"/>
                </a:lnTo>
                <a:lnTo>
                  <a:pt x="147" y="982"/>
                </a:lnTo>
                <a:lnTo>
                  <a:pt x="160" y="959"/>
                </a:lnTo>
                <a:lnTo>
                  <a:pt x="175" y="934"/>
                </a:lnTo>
                <a:lnTo>
                  <a:pt x="193" y="909"/>
                </a:lnTo>
                <a:lnTo>
                  <a:pt x="213" y="880"/>
                </a:lnTo>
                <a:lnTo>
                  <a:pt x="238" y="847"/>
                </a:lnTo>
                <a:lnTo>
                  <a:pt x="263" y="811"/>
                </a:lnTo>
                <a:lnTo>
                  <a:pt x="291" y="772"/>
                </a:lnTo>
                <a:lnTo>
                  <a:pt x="316" y="733"/>
                </a:lnTo>
                <a:lnTo>
                  <a:pt x="340" y="692"/>
                </a:lnTo>
                <a:lnTo>
                  <a:pt x="361" y="652"/>
                </a:lnTo>
                <a:lnTo>
                  <a:pt x="376" y="614"/>
                </a:lnTo>
                <a:lnTo>
                  <a:pt x="385" y="575"/>
                </a:lnTo>
                <a:lnTo>
                  <a:pt x="386" y="541"/>
                </a:lnTo>
                <a:lnTo>
                  <a:pt x="383" y="515"/>
                </a:lnTo>
                <a:lnTo>
                  <a:pt x="376" y="492"/>
                </a:lnTo>
                <a:lnTo>
                  <a:pt x="370" y="472"/>
                </a:lnTo>
                <a:lnTo>
                  <a:pt x="365" y="454"/>
                </a:lnTo>
                <a:lnTo>
                  <a:pt x="365" y="438"/>
                </a:lnTo>
                <a:lnTo>
                  <a:pt x="372" y="419"/>
                </a:lnTo>
                <a:lnTo>
                  <a:pt x="364" y="403"/>
                </a:lnTo>
                <a:lnTo>
                  <a:pt x="356" y="387"/>
                </a:lnTo>
                <a:lnTo>
                  <a:pt x="349" y="370"/>
                </a:lnTo>
                <a:lnTo>
                  <a:pt x="344" y="353"/>
                </a:lnTo>
                <a:lnTo>
                  <a:pt x="339" y="334"/>
                </a:lnTo>
                <a:lnTo>
                  <a:pt x="336" y="316"/>
                </a:lnTo>
                <a:lnTo>
                  <a:pt x="334" y="297"/>
                </a:lnTo>
                <a:lnTo>
                  <a:pt x="333" y="278"/>
                </a:lnTo>
                <a:lnTo>
                  <a:pt x="334" y="249"/>
                </a:lnTo>
                <a:lnTo>
                  <a:pt x="339" y="221"/>
                </a:lnTo>
                <a:lnTo>
                  <a:pt x="346" y="195"/>
                </a:lnTo>
                <a:lnTo>
                  <a:pt x="355" y="169"/>
                </a:lnTo>
                <a:lnTo>
                  <a:pt x="367" y="145"/>
                </a:lnTo>
                <a:lnTo>
                  <a:pt x="380" y="122"/>
                </a:lnTo>
                <a:lnTo>
                  <a:pt x="397" y="101"/>
                </a:lnTo>
                <a:lnTo>
                  <a:pt x="415" y="82"/>
                </a:lnTo>
                <a:lnTo>
                  <a:pt x="435" y="63"/>
                </a:lnTo>
                <a:lnTo>
                  <a:pt x="455" y="47"/>
                </a:lnTo>
                <a:lnTo>
                  <a:pt x="478" y="33"/>
                </a:lnTo>
                <a:lnTo>
                  <a:pt x="503" y="22"/>
                </a:lnTo>
                <a:lnTo>
                  <a:pt x="528" y="13"/>
                </a:lnTo>
                <a:lnTo>
                  <a:pt x="554" y="6"/>
                </a:lnTo>
                <a:lnTo>
                  <a:pt x="582" y="1"/>
                </a:lnTo>
                <a:lnTo>
                  <a:pt x="611" y="0"/>
                </a:lnTo>
                <a:lnTo>
                  <a:pt x="620" y="0"/>
                </a:lnTo>
                <a:lnTo>
                  <a:pt x="629" y="1"/>
                </a:lnTo>
                <a:lnTo>
                  <a:pt x="638" y="1"/>
                </a:lnTo>
                <a:lnTo>
                  <a:pt x="647" y="2"/>
                </a:lnTo>
                <a:lnTo>
                  <a:pt x="656" y="3"/>
                </a:lnTo>
                <a:lnTo>
                  <a:pt x="665" y="6"/>
                </a:lnTo>
                <a:lnTo>
                  <a:pt x="673" y="7"/>
                </a:lnTo>
                <a:lnTo>
                  <a:pt x="682" y="9"/>
                </a:lnTo>
                <a:lnTo>
                  <a:pt x="688" y="8"/>
                </a:lnTo>
                <a:lnTo>
                  <a:pt x="695" y="7"/>
                </a:lnTo>
                <a:lnTo>
                  <a:pt x="703" y="8"/>
                </a:lnTo>
                <a:lnTo>
                  <a:pt x="713" y="9"/>
                </a:lnTo>
                <a:lnTo>
                  <a:pt x="723" y="12"/>
                </a:lnTo>
                <a:lnTo>
                  <a:pt x="732" y="14"/>
                </a:lnTo>
                <a:lnTo>
                  <a:pt x="740" y="18"/>
                </a:lnTo>
                <a:lnTo>
                  <a:pt x="747" y="24"/>
                </a:lnTo>
                <a:lnTo>
                  <a:pt x="758" y="21"/>
                </a:lnTo>
                <a:lnTo>
                  <a:pt x="772" y="18"/>
                </a:lnTo>
                <a:lnTo>
                  <a:pt x="787" y="17"/>
                </a:lnTo>
                <a:lnTo>
                  <a:pt x="803" y="20"/>
                </a:lnTo>
                <a:lnTo>
                  <a:pt x="818" y="24"/>
                </a:lnTo>
                <a:lnTo>
                  <a:pt x="832" y="31"/>
                </a:lnTo>
                <a:lnTo>
                  <a:pt x="844" y="41"/>
                </a:lnTo>
                <a:lnTo>
                  <a:pt x="853" y="55"/>
                </a:lnTo>
                <a:lnTo>
                  <a:pt x="863" y="56"/>
                </a:lnTo>
                <a:lnTo>
                  <a:pt x="873" y="61"/>
                </a:lnTo>
                <a:lnTo>
                  <a:pt x="884" y="69"/>
                </a:lnTo>
                <a:lnTo>
                  <a:pt x="893" y="79"/>
                </a:lnTo>
                <a:lnTo>
                  <a:pt x="901" y="92"/>
                </a:lnTo>
                <a:lnTo>
                  <a:pt x="908" y="107"/>
                </a:lnTo>
                <a:lnTo>
                  <a:pt x="914" y="123"/>
                </a:lnTo>
                <a:lnTo>
                  <a:pt x="917" y="141"/>
                </a:lnTo>
                <a:lnTo>
                  <a:pt x="921" y="180"/>
                </a:lnTo>
                <a:lnTo>
                  <a:pt x="926" y="221"/>
                </a:lnTo>
                <a:lnTo>
                  <a:pt x="936" y="262"/>
                </a:lnTo>
                <a:lnTo>
                  <a:pt x="950" y="298"/>
                </a:lnTo>
                <a:lnTo>
                  <a:pt x="961" y="324"/>
                </a:lnTo>
                <a:lnTo>
                  <a:pt x="977" y="362"/>
                </a:lnTo>
                <a:lnTo>
                  <a:pt x="999" y="410"/>
                </a:lnTo>
                <a:lnTo>
                  <a:pt x="1021" y="462"/>
                </a:lnTo>
                <a:lnTo>
                  <a:pt x="1044" y="514"/>
                </a:lnTo>
                <a:lnTo>
                  <a:pt x="1066" y="561"/>
                </a:lnTo>
                <a:lnTo>
                  <a:pt x="1083" y="599"/>
                </a:lnTo>
                <a:lnTo>
                  <a:pt x="1096" y="623"/>
                </a:lnTo>
                <a:lnTo>
                  <a:pt x="1105" y="644"/>
                </a:lnTo>
                <a:lnTo>
                  <a:pt x="1114" y="670"/>
                </a:lnTo>
                <a:lnTo>
                  <a:pt x="1122" y="703"/>
                </a:lnTo>
                <a:lnTo>
                  <a:pt x="1130" y="738"/>
                </a:lnTo>
                <a:lnTo>
                  <a:pt x="1137" y="774"/>
                </a:lnTo>
                <a:lnTo>
                  <a:pt x="1143" y="809"/>
                </a:lnTo>
                <a:lnTo>
                  <a:pt x="1146" y="839"/>
                </a:lnTo>
                <a:lnTo>
                  <a:pt x="1149" y="864"/>
                </a:lnTo>
                <a:lnTo>
                  <a:pt x="1150" y="886"/>
                </a:lnTo>
                <a:lnTo>
                  <a:pt x="1152" y="909"/>
                </a:lnTo>
                <a:lnTo>
                  <a:pt x="1155" y="932"/>
                </a:lnTo>
                <a:lnTo>
                  <a:pt x="1158" y="956"/>
                </a:lnTo>
                <a:lnTo>
                  <a:pt x="1163" y="979"/>
                </a:lnTo>
                <a:lnTo>
                  <a:pt x="1168" y="1001"/>
                </a:lnTo>
                <a:lnTo>
                  <a:pt x="1175" y="1022"/>
                </a:lnTo>
                <a:lnTo>
                  <a:pt x="1183" y="1039"/>
                </a:lnTo>
                <a:lnTo>
                  <a:pt x="1194" y="1062"/>
                </a:lnTo>
                <a:lnTo>
                  <a:pt x="1204" y="1097"/>
                </a:lnTo>
                <a:lnTo>
                  <a:pt x="1214" y="1141"/>
                </a:lnTo>
                <a:lnTo>
                  <a:pt x="1225" y="1188"/>
                </a:lnTo>
                <a:lnTo>
                  <a:pt x="1233" y="1238"/>
                </a:lnTo>
                <a:lnTo>
                  <a:pt x="1239" y="1287"/>
                </a:lnTo>
                <a:lnTo>
                  <a:pt x="1241" y="1329"/>
                </a:lnTo>
                <a:lnTo>
                  <a:pt x="1240" y="1365"/>
                </a:lnTo>
                <a:lnTo>
                  <a:pt x="1255" y="1374"/>
                </a:lnTo>
                <a:lnTo>
                  <a:pt x="1273" y="1386"/>
                </a:lnTo>
                <a:lnTo>
                  <a:pt x="1292" y="1400"/>
                </a:lnTo>
                <a:lnTo>
                  <a:pt x="1309" y="1415"/>
                </a:lnTo>
                <a:lnTo>
                  <a:pt x="1324" y="1431"/>
                </a:lnTo>
                <a:lnTo>
                  <a:pt x="1335" y="1448"/>
                </a:lnTo>
                <a:lnTo>
                  <a:pt x="1341" y="1464"/>
                </a:lnTo>
                <a:lnTo>
                  <a:pt x="1339" y="1479"/>
                </a:lnTo>
                <a:lnTo>
                  <a:pt x="1331" y="1501"/>
                </a:lnTo>
                <a:lnTo>
                  <a:pt x="1323" y="1529"/>
                </a:lnTo>
                <a:lnTo>
                  <a:pt x="1316" y="1562"/>
                </a:lnTo>
                <a:lnTo>
                  <a:pt x="1309" y="1599"/>
                </a:lnTo>
                <a:lnTo>
                  <a:pt x="1303" y="1637"/>
                </a:lnTo>
                <a:lnTo>
                  <a:pt x="1300" y="1675"/>
                </a:lnTo>
                <a:lnTo>
                  <a:pt x="1297" y="1712"/>
                </a:lnTo>
                <a:lnTo>
                  <a:pt x="1299" y="1744"/>
                </a:lnTo>
                <a:lnTo>
                  <a:pt x="1297" y="1776"/>
                </a:lnTo>
                <a:lnTo>
                  <a:pt x="1293" y="1814"/>
                </a:lnTo>
                <a:lnTo>
                  <a:pt x="1286" y="1857"/>
                </a:lnTo>
                <a:lnTo>
                  <a:pt x="1278" y="1902"/>
                </a:lnTo>
                <a:lnTo>
                  <a:pt x="1270" y="1948"/>
                </a:lnTo>
                <a:lnTo>
                  <a:pt x="1265" y="1997"/>
                </a:lnTo>
                <a:lnTo>
                  <a:pt x="1265" y="2044"/>
                </a:lnTo>
                <a:lnTo>
                  <a:pt x="1271" y="2091"/>
                </a:lnTo>
                <a:lnTo>
                  <a:pt x="1276" y="2115"/>
                </a:lnTo>
                <a:lnTo>
                  <a:pt x="1278" y="2141"/>
                </a:lnTo>
                <a:lnTo>
                  <a:pt x="1277" y="2166"/>
                </a:lnTo>
                <a:lnTo>
                  <a:pt x="1271" y="2191"/>
                </a:lnTo>
                <a:lnTo>
                  <a:pt x="1259" y="2218"/>
                </a:lnTo>
                <a:lnTo>
                  <a:pt x="1242" y="2243"/>
                </a:lnTo>
                <a:lnTo>
                  <a:pt x="1217" y="2271"/>
                </a:lnTo>
                <a:lnTo>
                  <a:pt x="1181" y="2298"/>
                </a:lnTo>
                <a:lnTo>
                  <a:pt x="1187" y="2379"/>
                </a:lnTo>
                <a:lnTo>
                  <a:pt x="1202" y="2399"/>
                </a:lnTo>
                <a:lnTo>
                  <a:pt x="1214" y="2424"/>
                </a:lnTo>
                <a:lnTo>
                  <a:pt x="1226" y="2454"/>
                </a:lnTo>
                <a:lnTo>
                  <a:pt x="1234" y="2487"/>
                </a:lnTo>
                <a:lnTo>
                  <a:pt x="1241" y="2522"/>
                </a:lnTo>
                <a:lnTo>
                  <a:pt x="1247" y="2558"/>
                </a:lnTo>
                <a:lnTo>
                  <a:pt x="1249" y="2592"/>
                </a:lnTo>
                <a:lnTo>
                  <a:pt x="1250" y="2623"/>
                </a:lnTo>
                <a:lnTo>
                  <a:pt x="1249" y="2690"/>
                </a:lnTo>
                <a:lnTo>
                  <a:pt x="1247" y="2764"/>
                </a:lnTo>
                <a:lnTo>
                  <a:pt x="1244" y="2841"/>
                </a:lnTo>
                <a:lnTo>
                  <a:pt x="1240" y="2916"/>
                </a:lnTo>
                <a:lnTo>
                  <a:pt x="1240" y="2957"/>
                </a:lnTo>
                <a:lnTo>
                  <a:pt x="1242" y="3009"/>
                </a:lnTo>
                <a:lnTo>
                  <a:pt x="1248" y="3067"/>
                </a:lnTo>
                <a:lnTo>
                  <a:pt x="1256" y="3128"/>
                </a:lnTo>
                <a:lnTo>
                  <a:pt x="1265" y="3189"/>
                </a:lnTo>
                <a:lnTo>
                  <a:pt x="1277" y="3247"/>
                </a:lnTo>
                <a:lnTo>
                  <a:pt x="1289" y="3297"/>
                </a:lnTo>
                <a:lnTo>
                  <a:pt x="1303" y="3338"/>
                </a:lnTo>
                <a:lnTo>
                  <a:pt x="1293" y="3348"/>
                </a:lnTo>
                <a:lnTo>
                  <a:pt x="1282" y="3358"/>
                </a:lnTo>
                <a:lnTo>
                  <a:pt x="1272" y="3369"/>
                </a:lnTo>
                <a:lnTo>
                  <a:pt x="1261" y="3379"/>
                </a:lnTo>
                <a:lnTo>
                  <a:pt x="1247" y="3389"/>
                </a:lnTo>
                <a:lnTo>
                  <a:pt x="1233" y="3400"/>
                </a:lnTo>
                <a:lnTo>
                  <a:pt x="1216" y="3409"/>
                </a:lnTo>
                <a:lnTo>
                  <a:pt x="1197" y="3417"/>
                </a:lnTo>
                <a:lnTo>
                  <a:pt x="1186" y="3450"/>
                </a:lnTo>
                <a:lnTo>
                  <a:pt x="1175" y="3487"/>
                </a:lnTo>
                <a:lnTo>
                  <a:pt x="1166" y="3525"/>
                </a:lnTo>
                <a:lnTo>
                  <a:pt x="1159" y="3564"/>
                </a:lnTo>
                <a:lnTo>
                  <a:pt x="1153" y="3602"/>
                </a:lnTo>
                <a:lnTo>
                  <a:pt x="1150" y="3638"/>
                </a:lnTo>
                <a:lnTo>
                  <a:pt x="1149" y="3672"/>
                </a:lnTo>
                <a:lnTo>
                  <a:pt x="1149" y="3700"/>
                </a:lnTo>
                <a:lnTo>
                  <a:pt x="1153" y="3753"/>
                </a:lnTo>
                <a:lnTo>
                  <a:pt x="1159" y="3811"/>
                </a:lnTo>
                <a:lnTo>
                  <a:pt x="1166" y="3873"/>
                </a:lnTo>
                <a:lnTo>
                  <a:pt x="1175" y="3940"/>
                </a:lnTo>
                <a:lnTo>
                  <a:pt x="1182" y="4032"/>
                </a:lnTo>
                <a:lnTo>
                  <a:pt x="1176" y="4124"/>
                </a:lnTo>
                <a:lnTo>
                  <a:pt x="1163" y="4215"/>
                </a:lnTo>
                <a:lnTo>
                  <a:pt x="1144" y="4298"/>
                </a:lnTo>
                <a:lnTo>
                  <a:pt x="1125" y="4372"/>
                </a:lnTo>
                <a:lnTo>
                  <a:pt x="1107" y="4431"/>
                </a:lnTo>
                <a:lnTo>
                  <a:pt x="1096" y="4471"/>
                </a:lnTo>
                <a:lnTo>
                  <a:pt x="1095" y="4490"/>
                </a:lnTo>
                <a:lnTo>
                  <a:pt x="1100" y="4503"/>
                </a:lnTo>
                <a:lnTo>
                  <a:pt x="1099" y="4518"/>
                </a:lnTo>
                <a:lnTo>
                  <a:pt x="1096" y="4536"/>
                </a:lnTo>
                <a:lnTo>
                  <a:pt x="1090" y="4553"/>
                </a:lnTo>
                <a:lnTo>
                  <a:pt x="1089" y="4563"/>
                </a:lnTo>
                <a:lnTo>
                  <a:pt x="1090" y="4575"/>
                </a:lnTo>
                <a:lnTo>
                  <a:pt x="1094" y="4588"/>
                </a:lnTo>
                <a:lnTo>
                  <a:pt x="1098" y="4601"/>
                </a:lnTo>
                <a:lnTo>
                  <a:pt x="1100" y="4615"/>
                </a:lnTo>
                <a:lnTo>
                  <a:pt x="1103" y="4629"/>
                </a:lnTo>
                <a:lnTo>
                  <a:pt x="1102" y="4643"/>
                </a:lnTo>
                <a:lnTo>
                  <a:pt x="1096" y="4654"/>
                </a:lnTo>
                <a:lnTo>
                  <a:pt x="1103" y="4674"/>
                </a:lnTo>
                <a:lnTo>
                  <a:pt x="1110" y="4693"/>
                </a:lnTo>
                <a:lnTo>
                  <a:pt x="1118" y="4713"/>
                </a:lnTo>
                <a:lnTo>
                  <a:pt x="1123" y="4733"/>
                </a:lnTo>
                <a:lnTo>
                  <a:pt x="1128" y="4752"/>
                </a:lnTo>
                <a:lnTo>
                  <a:pt x="1130" y="4772"/>
                </a:lnTo>
                <a:lnTo>
                  <a:pt x="1129" y="4791"/>
                </a:lnTo>
                <a:lnTo>
                  <a:pt x="1122" y="4810"/>
                </a:lnTo>
                <a:lnTo>
                  <a:pt x="1117" y="4821"/>
                </a:lnTo>
                <a:lnTo>
                  <a:pt x="1111" y="4834"/>
                </a:lnTo>
                <a:lnTo>
                  <a:pt x="1104" y="4848"/>
                </a:lnTo>
                <a:lnTo>
                  <a:pt x="1098" y="4862"/>
                </a:lnTo>
                <a:lnTo>
                  <a:pt x="1105" y="4865"/>
                </a:lnTo>
                <a:lnTo>
                  <a:pt x="1113" y="4869"/>
                </a:lnTo>
                <a:lnTo>
                  <a:pt x="1119" y="4871"/>
                </a:lnTo>
                <a:lnTo>
                  <a:pt x="1121" y="4872"/>
                </a:lnTo>
                <a:lnTo>
                  <a:pt x="1114" y="4900"/>
                </a:lnTo>
                <a:lnTo>
                  <a:pt x="1111" y="4900"/>
                </a:lnTo>
                <a:lnTo>
                  <a:pt x="1103" y="4899"/>
                </a:lnTo>
                <a:lnTo>
                  <a:pt x="1094" y="4896"/>
                </a:lnTo>
                <a:lnTo>
                  <a:pt x="1085" y="4892"/>
                </a:lnTo>
                <a:lnTo>
                  <a:pt x="1079" y="4914"/>
                </a:lnTo>
                <a:lnTo>
                  <a:pt x="1073" y="4935"/>
                </a:lnTo>
                <a:lnTo>
                  <a:pt x="1070" y="4957"/>
                </a:lnTo>
                <a:lnTo>
                  <a:pt x="1070" y="4977"/>
                </a:lnTo>
                <a:lnTo>
                  <a:pt x="1070" y="5000"/>
                </a:lnTo>
                <a:lnTo>
                  <a:pt x="1069" y="5028"/>
                </a:lnTo>
                <a:lnTo>
                  <a:pt x="1066" y="5059"/>
                </a:lnTo>
                <a:lnTo>
                  <a:pt x="1060" y="5091"/>
                </a:lnTo>
                <a:lnTo>
                  <a:pt x="1051" y="5123"/>
                </a:lnTo>
                <a:lnTo>
                  <a:pt x="1039" y="5153"/>
                </a:lnTo>
                <a:lnTo>
                  <a:pt x="1023" y="5180"/>
                </a:lnTo>
                <a:lnTo>
                  <a:pt x="1002" y="5199"/>
                </a:lnTo>
                <a:lnTo>
                  <a:pt x="991" y="5207"/>
                </a:lnTo>
                <a:lnTo>
                  <a:pt x="977" y="5214"/>
                </a:lnTo>
                <a:lnTo>
                  <a:pt x="963" y="5220"/>
                </a:lnTo>
                <a:lnTo>
                  <a:pt x="948" y="5226"/>
                </a:lnTo>
                <a:lnTo>
                  <a:pt x="932" y="5229"/>
                </a:lnTo>
                <a:lnTo>
                  <a:pt x="916" y="5233"/>
                </a:lnTo>
                <a:lnTo>
                  <a:pt x="900" y="5234"/>
                </a:lnTo>
                <a:lnTo>
                  <a:pt x="884" y="5235"/>
                </a:lnTo>
                <a:lnTo>
                  <a:pt x="868" y="5234"/>
                </a:lnTo>
                <a:lnTo>
                  <a:pt x="852" y="5230"/>
                </a:lnTo>
                <a:lnTo>
                  <a:pt x="838" y="5226"/>
                </a:lnTo>
                <a:lnTo>
                  <a:pt x="824" y="5220"/>
                </a:lnTo>
                <a:lnTo>
                  <a:pt x="811" y="5211"/>
                </a:lnTo>
                <a:lnTo>
                  <a:pt x="800" y="5200"/>
                </a:lnTo>
                <a:lnTo>
                  <a:pt x="791" y="5189"/>
                </a:lnTo>
                <a:lnTo>
                  <a:pt x="782" y="5174"/>
                </a:lnTo>
                <a:lnTo>
                  <a:pt x="773" y="5145"/>
                </a:lnTo>
                <a:lnTo>
                  <a:pt x="770" y="5112"/>
                </a:lnTo>
                <a:lnTo>
                  <a:pt x="770" y="5075"/>
                </a:lnTo>
                <a:lnTo>
                  <a:pt x="773" y="5036"/>
                </a:lnTo>
                <a:lnTo>
                  <a:pt x="778" y="4995"/>
                </a:lnTo>
                <a:lnTo>
                  <a:pt x="785" y="4956"/>
                </a:lnTo>
                <a:lnTo>
                  <a:pt x="793" y="4917"/>
                </a:lnTo>
                <a:lnTo>
                  <a:pt x="801" y="4881"/>
                </a:lnTo>
                <a:lnTo>
                  <a:pt x="795" y="4884"/>
                </a:lnTo>
                <a:lnTo>
                  <a:pt x="789" y="4885"/>
                </a:lnTo>
                <a:lnTo>
                  <a:pt x="784" y="4885"/>
                </a:lnTo>
                <a:lnTo>
                  <a:pt x="778" y="4885"/>
                </a:lnTo>
                <a:lnTo>
                  <a:pt x="771" y="4884"/>
                </a:lnTo>
                <a:lnTo>
                  <a:pt x="766" y="4881"/>
                </a:lnTo>
                <a:lnTo>
                  <a:pt x="761" y="4880"/>
                </a:lnTo>
                <a:lnTo>
                  <a:pt x="757" y="4878"/>
                </a:lnTo>
                <a:lnTo>
                  <a:pt x="759" y="4861"/>
                </a:lnTo>
                <a:lnTo>
                  <a:pt x="761" y="4861"/>
                </a:lnTo>
                <a:lnTo>
                  <a:pt x="764" y="4862"/>
                </a:lnTo>
                <a:lnTo>
                  <a:pt x="770" y="4862"/>
                </a:lnTo>
                <a:lnTo>
                  <a:pt x="777" y="4862"/>
                </a:lnTo>
                <a:lnTo>
                  <a:pt x="785" y="4861"/>
                </a:lnTo>
                <a:lnTo>
                  <a:pt x="794" y="4859"/>
                </a:lnTo>
                <a:lnTo>
                  <a:pt x="802" y="4857"/>
                </a:lnTo>
                <a:lnTo>
                  <a:pt x="810" y="4852"/>
                </a:lnTo>
                <a:lnTo>
                  <a:pt x="811" y="4846"/>
                </a:lnTo>
                <a:lnTo>
                  <a:pt x="812" y="4840"/>
                </a:lnTo>
                <a:lnTo>
                  <a:pt x="814" y="4835"/>
                </a:lnTo>
                <a:lnTo>
                  <a:pt x="815" y="4829"/>
                </a:lnTo>
                <a:lnTo>
                  <a:pt x="796" y="4829"/>
                </a:lnTo>
                <a:lnTo>
                  <a:pt x="781" y="4826"/>
                </a:lnTo>
                <a:lnTo>
                  <a:pt x="770" y="4820"/>
                </a:lnTo>
                <a:lnTo>
                  <a:pt x="761" y="4813"/>
                </a:lnTo>
                <a:lnTo>
                  <a:pt x="755" y="4804"/>
                </a:lnTo>
                <a:lnTo>
                  <a:pt x="751" y="4793"/>
                </a:lnTo>
                <a:lnTo>
                  <a:pt x="751" y="4781"/>
                </a:lnTo>
                <a:lnTo>
                  <a:pt x="755" y="4770"/>
                </a:lnTo>
                <a:lnTo>
                  <a:pt x="761" y="4758"/>
                </a:lnTo>
                <a:lnTo>
                  <a:pt x="770" y="4748"/>
                </a:lnTo>
                <a:lnTo>
                  <a:pt x="781" y="4738"/>
                </a:lnTo>
                <a:lnTo>
                  <a:pt x="794" y="4730"/>
                </a:lnTo>
                <a:lnTo>
                  <a:pt x="808" y="4725"/>
                </a:lnTo>
                <a:lnTo>
                  <a:pt x="824" y="4721"/>
                </a:lnTo>
                <a:lnTo>
                  <a:pt x="839" y="4720"/>
                </a:lnTo>
                <a:lnTo>
                  <a:pt x="854" y="4720"/>
                </a:lnTo>
                <a:lnTo>
                  <a:pt x="844" y="474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2" name="Freeform 5"/>
          <p:cNvSpPr/>
          <p:nvPr/>
        </p:nvSpPr>
        <p:spPr>
          <a:xfrm>
            <a:off x="2176560" y="4986360"/>
            <a:ext cx="27000" cy="195120"/>
          </a:xfrm>
          <a:custGeom>
            <a:avLst/>
            <a:gdLst/>
            <a:ahLst/>
            <a:rect l="l" t="t" r="r" b="b"/>
            <a:pathLst>
              <a:path w="33" h="245">
                <a:moveTo>
                  <a:pt x="33" y="226"/>
                </a:moveTo>
                <a:lnTo>
                  <a:pt x="25" y="169"/>
                </a:lnTo>
                <a:lnTo>
                  <a:pt x="22" y="109"/>
                </a:lnTo>
                <a:lnTo>
                  <a:pt x="24" y="52"/>
                </a:lnTo>
                <a:lnTo>
                  <a:pt x="33" y="0"/>
                </a:lnTo>
                <a:lnTo>
                  <a:pt x="20" y="16"/>
                </a:lnTo>
                <a:lnTo>
                  <a:pt x="11" y="40"/>
                </a:lnTo>
                <a:lnTo>
                  <a:pt x="4" y="71"/>
                </a:lnTo>
                <a:lnTo>
                  <a:pt x="1" y="106"/>
                </a:lnTo>
                <a:lnTo>
                  <a:pt x="0" y="144"/>
                </a:lnTo>
                <a:lnTo>
                  <a:pt x="1" y="181"/>
                </a:lnTo>
                <a:lnTo>
                  <a:pt x="4" y="215"/>
                </a:lnTo>
                <a:lnTo>
                  <a:pt x="9" y="245"/>
                </a:lnTo>
                <a:lnTo>
                  <a:pt x="15" y="241"/>
                </a:lnTo>
                <a:lnTo>
                  <a:pt x="22" y="234"/>
                </a:lnTo>
                <a:lnTo>
                  <a:pt x="27" y="228"/>
                </a:lnTo>
                <a:lnTo>
                  <a:pt x="33" y="22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3" name="Freeform 7"/>
          <p:cNvSpPr/>
          <p:nvPr/>
        </p:nvSpPr>
        <p:spPr>
          <a:xfrm>
            <a:off x="2122560" y="2711520"/>
            <a:ext cx="33120" cy="28440"/>
          </a:xfrm>
          <a:custGeom>
            <a:avLst/>
            <a:gdLst/>
            <a:ahLst/>
            <a:rect l="l" t="t" r="r" b="b"/>
            <a:pathLst>
              <a:path w="41" h="35">
                <a:moveTo>
                  <a:pt x="41" y="35"/>
                </a:moveTo>
                <a:lnTo>
                  <a:pt x="38" y="26"/>
                </a:lnTo>
                <a:lnTo>
                  <a:pt x="34" y="17"/>
                </a:lnTo>
                <a:lnTo>
                  <a:pt x="31" y="9"/>
                </a:lnTo>
                <a:lnTo>
                  <a:pt x="26" y="0"/>
                </a:lnTo>
                <a:lnTo>
                  <a:pt x="18" y="3"/>
                </a:lnTo>
                <a:lnTo>
                  <a:pt x="10" y="10"/>
                </a:lnTo>
                <a:lnTo>
                  <a:pt x="3" y="16"/>
                </a:lnTo>
                <a:lnTo>
                  <a:pt x="0" y="18"/>
                </a:lnTo>
                <a:lnTo>
                  <a:pt x="41" y="3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4" name="Freeform 10"/>
          <p:cNvSpPr/>
          <p:nvPr/>
        </p:nvSpPr>
        <p:spPr>
          <a:xfrm>
            <a:off x="1752480" y="3048120"/>
            <a:ext cx="319320" cy="895320"/>
          </a:xfrm>
          <a:custGeom>
            <a:avLst/>
            <a:gdLst/>
            <a:ahLst/>
            <a:rect l="l" t="t" r="r" b="b"/>
            <a:pathLst>
              <a:path w="404" h="1128">
                <a:moveTo>
                  <a:pt x="404" y="117"/>
                </a:moveTo>
                <a:lnTo>
                  <a:pt x="390" y="135"/>
                </a:lnTo>
                <a:lnTo>
                  <a:pt x="370" y="167"/>
                </a:lnTo>
                <a:lnTo>
                  <a:pt x="346" y="208"/>
                </a:lnTo>
                <a:lnTo>
                  <a:pt x="321" y="253"/>
                </a:lnTo>
                <a:lnTo>
                  <a:pt x="295" y="299"/>
                </a:lnTo>
                <a:lnTo>
                  <a:pt x="273" y="342"/>
                </a:lnTo>
                <a:lnTo>
                  <a:pt x="256" y="380"/>
                </a:lnTo>
                <a:lnTo>
                  <a:pt x="247" y="408"/>
                </a:lnTo>
                <a:lnTo>
                  <a:pt x="241" y="433"/>
                </a:lnTo>
                <a:lnTo>
                  <a:pt x="233" y="468"/>
                </a:lnTo>
                <a:lnTo>
                  <a:pt x="224" y="507"/>
                </a:lnTo>
                <a:lnTo>
                  <a:pt x="214" y="549"/>
                </a:lnTo>
                <a:lnTo>
                  <a:pt x="201" y="590"/>
                </a:lnTo>
                <a:lnTo>
                  <a:pt x="188" y="627"/>
                </a:lnTo>
                <a:lnTo>
                  <a:pt x="176" y="658"/>
                </a:lnTo>
                <a:lnTo>
                  <a:pt x="162" y="680"/>
                </a:lnTo>
                <a:lnTo>
                  <a:pt x="156" y="685"/>
                </a:lnTo>
                <a:lnTo>
                  <a:pt x="149" y="690"/>
                </a:lnTo>
                <a:lnTo>
                  <a:pt x="143" y="697"/>
                </a:lnTo>
                <a:lnTo>
                  <a:pt x="138" y="703"/>
                </a:lnTo>
                <a:lnTo>
                  <a:pt x="133" y="710"/>
                </a:lnTo>
                <a:lnTo>
                  <a:pt x="131" y="716"/>
                </a:lnTo>
                <a:lnTo>
                  <a:pt x="131" y="720"/>
                </a:lnTo>
                <a:lnTo>
                  <a:pt x="135" y="725"/>
                </a:lnTo>
                <a:lnTo>
                  <a:pt x="142" y="727"/>
                </a:lnTo>
                <a:lnTo>
                  <a:pt x="151" y="729"/>
                </a:lnTo>
                <a:lnTo>
                  <a:pt x="162" y="731"/>
                </a:lnTo>
                <a:lnTo>
                  <a:pt x="173" y="732"/>
                </a:lnTo>
                <a:lnTo>
                  <a:pt x="185" y="735"/>
                </a:lnTo>
                <a:lnTo>
                  <a:pt x="196" y="740"/>
                </a:lnTo>
                <a:lnTo>
                  <a:pt x="206" y="749"/>
                </a:lnTo>
                <a:lnTo>
                  <a:pt x="215" y="763"/>
                </a:lnTo>
                <a:lnTo>
                  <a:pt x="224" y="779"/>
                </a:lnTo>
                <a:lnTo>
                  <a:pt x="235" y="797"/>
                </a:lnTo>
                <a:lnTo>
                  <a:pt x="248" y="816"/>
                </a:lnTo>
                <a:lnTo>
                  <a:pt x="261" y="834"/>
                </a:lnTo>
                <a:lnTo>
                  <a:pt x="273" y="855"/>
                </a:lnTo>
                <a:lnTo>
                  <a:pt x="286" y="876"/>
                </a:lnTo>
                <a:lnTo>
                  <a:pt x="295" y="897"/>
                </a:lnTo>
                <a:lnTo>
                  <a:pt x="303" y="918"/>
                </a:lnTo>
                <a:lnTo>
                  <a:pt x="300" y="947"/>
                </a:lnTo>
                <a:lnTo>
                  <a:pt x="292" y="976"/>
                </a:lnTo>
                <a:lnTo>
                  <a:pt x="283" y="1003"/>
                </a:lnTo>
                <a:lnTo>
                  <a:pt x="272" y="1028"/>
                </a:lnTo>
                <a:lnTo>
                  <a:pt x="260" y="1054"/>
                </a:lnTo>
                <a:lnTo>
                  <a:pt x="247" y="1079"/>
                </a:lnTo>
                <a:lnTo>
                  <a:pt x="235" y="1104"/>
                </a:lnTo>
                <a:lnTo>
                  <a:pt x="224" y="1128"/>
                </a:lnTo>
                <a:lnTo>
                  <a:pt x="209" y="1099"/>
                </a:lnTo>
                <a:lnTo>
                  <a:pt x="188" y="1065"/>
                </a:lnTo>
                <a:lnTo>
                  <a:pt x="164" y="1027"/>
                </a:lnTo>
                <a:lnTo>
                  <a:pt x="139" y="986"/>
                </a:lnTo>
                <a:lnTo>
                  <a:pt x="112" y="946"/>
                </a:lnTo>
                <a:lnTo>
                  <a:pt x="87" y="908"/>
                </a:lnTo>
                <a:lnTo>
                  <a:pt x="65" y="872"/>
                </a:lnTo>
                <a:lnTo>
                  <a:pt x="47" y="842"/>
                </a:lnTo>
                <a:lnTo>
                  <a:pt x="36" y="823"/>
                </a:lnTo>
                <a:lnTo>
                  <a:pt x="27" y="800"/>
                </a:lnTo>
                <a:lnTo>
                  <a:pt x="19" y="774"/>
                </a:lnTo>
                <a:lnTo>
                  <a:pt x="12" y="749"/>
                </a:lnTo>
                <a:lnTo>
                  <a:pt x="6" y="723"/>
                </a:lnTo>
                <a:lnTo>
                  <a:pt x="2" y="696"/>
                </a:lnTo>
                <a:lnTo>
                  <a:pt x="0" y="670"/>
                </a:lnTo>
                <a:lnTo>
                  <a:pt x="0" y="645"/>
                </a:lnTo>
                <a:lnTo>
                  <a:pt x="4" y="621"/>
                </a:lnTo>
                <a:lnTo>
                  <a:pt x="10" y="596"/>
                </a:lnTo>
                <a:lnTo>
                  <a:pt x="19" y="570"/>
                </a:lnTo>
                <a:lnTo>
                  <a:pt x="30" y="545"/>
                </a:lnTo>
                <a:lnTo>
                  <a:pt x="44" y="520"/>
                </a:lnTo>
                <a:lnTo>
                  <a:pt x="59" y="497"/>
                </a:lnTo>
                <a:lnTo>
                  <a:pt x="75" y="474"/>
                </a:lnTo>
                <a:lnTo>
                  <a:pt x="93" y="453"/>
                </a:lnTo>
                <a:lnTo>
                  <a:pt x="110" y="431"/>
                </a:lnTo>
                <a:lnTo>
                  <a:pt x="128" y="406"/>
                </a:lnTo>
                <a:lnTo>
                  <a:pt x="148" y="378"/>
                </a:lnTo>
                <a:lnTo>
                  <a:pt x="165" y="350"/>
                </a:lnTo>
                <a:lnTo>
                  <a:pt x="182" y="324"/>
                </a:lnTo>
                <a:lnTo>
                  <a:pt x="199" y="299"/>
                </a:lnTo>
                <a:lnTo>
                  <a:pt x="211" y="277"/>
                </a:lnTo>
                <a:lnTo>
                  <a:pt x="220" y="261"/>
                </a:lnTo>
                <a:lnTo>
                  <a:pt x="233" y="238"/>
                </a:lnTo>
                <a:lnTo>
                  <a:pt x="246" y="212"/>
                </a:lnTo>
                <a:lnTo>
                  <a:pt x="257" y="182"/>
                </a:lnTo>
                <a:lnTo>
                  <a:pt x="268" y="151"/>
                </a:lnTo>
                <a:lnTo>
                  <a:pt x="275" y="117"/>
                </a:lnTo>
                <a:lnTo>
                  <a:pt x="277" y="81"/>
                </a:lnTo>
                <a:lnTo>
                  <a:pt x="273" y="43"/>
                </a:lnTo>
                <a:lnTo>
                  <a:pt x="263" y="5"/>
                </a:lnTo>
                <a:lnTo>
                  <a:pt x="265" y="1"/>
                </a:lnTo>
                <a:lnTo>
                  <a:pt x="268" y="0"/>
                </a:lnTo>
                <a:lnTo>
                  <a:pt x="272" y="3"/>
                </a:lnTo>
                <a:lnTo>
                  <a:pt x="278" y="6"/>
                </a:lnTo>
                <a:lnTo>
                  <a:pt x="284" y="12"/>
                </a:lnTo>
                <a:lnTo>
                  <a:pt x="291" y="19"/>
                </a:lnTo>
                <a:lnTo>
                  <a:pt x="298" y="26"/>
                </a:lnTo>
                <a:lnTo>
                  <a:pt x="303" y="35"/>
                </a:lnTo>
                <a:lnTo>
                  <a:pt x="311" y="45"/>
                </a:lnTo>
                <a:lnTo>
                  <a:pt x="322" y="57"/>
                </a:lnTo>
                <a:lnTo>
                  <a:pt x="335" y="70"/>
                </a:lnTo>
                <a:lnTo>
                  <a:pt x="350" y="83"/>
                </a:lnTo>
                <a:lnTo>
                  <a:pt x="364" y="96"/>
                </a:lnTo>
                <a:lnTo>
                  <a:pt x="379" y="106"/>
                </a:lnTo>
                <a:lnTo>
                  <a:pt x="392" y="113"/>
                </a:lnTo>
                <a:lnTo>
                  <a:pt x="404" y="11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5" name="Freeform 11"/>
          <p:cNvSpPr/>
          <p:nvPr/>
        </p:nvSpPr>
        <p:spPr>
          <a:xfrm>
            <a:off x="2013120" y="3389400"/>
            <a:ext cx="317160" cy="474480"/>
          </a:xfrm>
          <a:custGeom>
            <a:avLst/>
            <a:gdLst/>
            <a:ahLst/>
            <a:rect l="l" t="t" r="r" b="b"/>
            <a:pathLst>
              <a:path w="399" h="597">
                <a:moveTo>
                  <a:pt x="117" y="264"/>
                </a:moveTo>
                <a:lnTo>
                  <a:pt x="126" y="265"/>
                </a:lnTo>
                <a:lnTo>
                  <a:pt x="134" y="265"/>
                </a:lnTo>
                <a:lnTo>
                  <a:pt x="144" y="264"/>
                </a:lnTo>
                <a:lnTo>
                  <a:pt x="152" y="262"/>
                </a:lnTo>
                <a:lnTo>
                  <a:pt x="161" y="259"/>
                </a:lnTo>
                <a:lnTo>
                  <a:pt x="169" y="255"/>
                </a:lnTo>
                <a:lnTo>
                  <a:pt x="178" y="249"/>
                </a:lnTo>
                <a:lnTo>
                  <a:pt x="186" y="242"/>
                </a:lnTo>
                <a:lnTo>
                  <a:pt x="195" y="234"/>
                </a:lnTo>
                <a:lnTo>
                  <a:pt x="208" y="227"/>
                </a:lnTo>
                <a:lnTo>
                  <a:pt x="222" y="221"/>
                </a:lnTo>
                <a:lnTo>
                  <a:pt x="238" y="218"/>
                </a:lnTo>
                <a:lnTo>
                  <a:pt x="253" y="216"/>
                </a:lnTo>
                <a:lnTo>
                  <a:pt x="268" y="216"/>
                </a:lnTo>
                <a:lnTo>
                  <a:pt x="282" y="219"/>
                </a:lnTo>
                <a:lnTo>
                  <a:pt x="293" y="225"/>
                </a:lnTo>
                <a:lnTo>
                  <a:pt x="304" y="232"/>
                </a:lnTo>
                <a:lnTo>
                  <a:pt x="314" y="239"/>
                </a:lnTo>
                <a:lnTo>
                  <a:pt x="324" y="243"/>
                </a:lnTo>
                <a:lnTo>
                  <a:pt x="334" y="248"/>
                </a:lnTo>
                <a:lnTo>
                  <a:pt x="343" y="251"/>
                </a:lnTo>
                <a:lnTo>
                  <a:pt x="352" y="253"/>
                </a:lnTo>
                <a:lnTo>
                  <a:pt x="359" y="253"/>
                </a:lnTo>
                <a:lnTo>
                  <a:pt x="366" y="250"/>
                </a:lnTo>
                <a:lnTo>
                  <a:pt x="372" y="247"/>
                </a:lnTo>
                <a:lnTo>
                  <a:pt x="379" y="241"/>
                </a:lnTo>
                <a:lnTo>
                  <a:pt x="385" y="233"/>
                </a:lnTo>
                <a:lnTo>
                  <a:pt x="392" y="224"/>
                </a:lnTo>
                <a:lnTo>
                  <a:pt x="397" y="212"/>
                </a:lnTo>
                <a:lnTo>
                  <a:pt x="399" y="198"/>
                </a:lnTo>
                <a:lnTo>
                  <a:pt x="399" y="181"/>
                </a:lnTo>
                <a:lnTo>
                  <a:pt x="396" y="163"/>
                </a:lnTo>
                <a:lnTo>
                  <a:pt x="390" y="143"/>
                </a:lnTo>
                <a:lnTo>
                  <a:pt x="384" y="124"/>
                </a:lnTo>
                <a:lnTo>
                  <a:pt x="379" y="105"/>
                </a:lnTo>
                <a:lnTo>
                  <a:pt x="370" y="87"/>
                </a:lnTo>
                <a:lnTo>
                  <a:pt x="360" y="69"/>
                </a:lnTo>
                <a:lnTo>
                  <a:pt x="347" y="53"/>
                </a:lnTo>
                <a:lnTo>
                  <a:pt x="330" y="38"/>
                </a:lnTo>
                <a:lnTo>
                  <a:pt x="309" y="24"/>
                </a:lnTo>
                <a:lnTo>
                  <a:pt x="285" y="13"/>
                </a:lnTo>
                <a:lnTo>
                  <a:pt x="261" y="6"/>
                </a:lnTo>
                <a:lnTo>
                  <a:pt x="238" y="1"/>
                </a:lnTo>
                <a:lnTo>
                  <a:pt x="216" y="0"/>
                </a:lnTo>
                <a:lnTo>
                  <a:pt x="194" y="3"/>
                </a:lnTo>
                <a:lnTo>
                  <a:pt x="173" y="7"/>
                </a:lnTo>
                <a:lnTo>
                  <a:pt x="155" y="13"/>
                </a:lnTo>
                <a:lnTo>
                  <a:pt x="139" y="22"/>
                </a:lnTo>
                <a:lnTo>
                  <a:pt x="124" y="32"/>
                </a:lnTo>
                <a:lnTo>
                  <a:pt x="110" y="43"/>
                </a:lnTo>
                <a:lnTo>
                  <a:pt x="97" y="54"/>
                </a:lnTo>
                <a:lnTo>
                  <a:pt x="88" y="66"/>
                </a:lnTo>
                <a:lnTo>
                  <a:pt x="80" y="77"/>
                </a:lnTo>
                <a:lnTo>
                  <a:pt x="76" y="90"/>
                </a:lnTo>
                <a:lnTo>
                  <a:pt x="73" y="102"/>
                </a:lnTo>
                <a:lnTo>
                  <a:pt x="74" y="114"/>
                </a:lnTo>
                <a:lnTo>
                  <a:pt x="80" y="143"/>
                </a:lnTo>
                <a:lnTo>
                  <a:pt x="84" y="178"/>
                </a:lnTo>
                <a:lnTo>
                  <a:pt x="79" y="205"/>
                </a:lnTo>
                <a:lnTo>
                  <a:pt x="64" y="220"/>
                </a:lnTo>
                <a:lnTo>
                  <a:pt x="55" y="220"/>
                </a:lnTo>
                <a:lnTo>
                  <a:pt x="48" y="218"/>
                </a:lnTo>
                <a:lnTo>
                  <a:pt x="42" y="215"/>
                </a:lnTo>
                <a:lnTo>
                  <a:pt x="39" y="209"/>
                </a:lnTo>
                <a:lnTo>
                  <a:pt x="34" y="204"/>
                </a:lnTo>
                <a:lnTo>
                  <a:pt x="29" y="200"/>
                </a:lnTo>
                <a:lnTo>
                  <a:pt x="24" y="196"/>
                </a:lnTo>
                <a:lnTo>
                  <a:pt x="17" y="196"/>
                </a:lnTo>
                <a:lnTo>
                  <a:pt x="4" y="205"/>
                </a:lnTo>
                <a:lnTo>
                  <a:pt x="0" y="224"/>
                </a:lnTo>
                <a:lnTo>
                  <a:pt x="0" y="244"/>
                </a:lnTo>
                <a:lnTo>
                  <a:pt x="4" y="264"/>
                </a:lnTo>
                <a:lnTo>
                  <a:pt x="8" y="273"/>
                </a:lnTo>
                <a:lnTo>
                  <a:pt x="11" y="284"/>
                </a:lnTo>
                <a:lnTo>
                  <a:pt x="16" y="295"/>
                </a:lnTo>
                <a:lnTo>
                  <a:pt x="20" y="306"/>
                </a:lnTo>
                <a:lnTo>
                  <a:pt x="25" y="316"/>
                </a:lnTo>
                <a:lnTo>
                  <a:pt x="31" y="324"/>
                </a:lnTo>
                <a:lnTo>
                  <a:pt x="36" y="330"/>
                </a:lnTo>
                <a:lnTo>
                  <a:pt x="42" y="331"/>
                </a:lnTo>
                <a:lnTo>
                  <a:pt x="48" y="330"/>
                </a:lnTo>
                <a:lnTo>
                  <a:pt x="55" y="326"/>
                </a:lnTo>
                <a:lnTo>
                  <a:pt x="59" y="322"/>
                </a:lnTo>
                <a:lnTo>
                  <a:pt x="65" y="316"/>
                </a:lnTo>
                <a:lnTo>
                  <a:pt x="69" y="309"/>
                </a:lnTo>
                <a:lnTo>
                  <a:pt x="72" y="301"/>
                </a:lnTo>
                <a:lnTo>
                  <a:pt x="73" y="293"/>
                </a:lnTo>
                <a:lnTo>
                  <a:pt x="72" y="285"/>
                </a:lnTo>
                <a:lnTo>
                  <a:pt x="79" y="294"/>
                </a:lnTo>
                <a:lnTo>
                  <a:pt x="84" y="306"/>
                </a:lnTo>
                <a:lnTo>
                  <a:pt x="84" y="319"/>
                </a:lnTo>
                <a:lnTo>
                  <a:pt x="80" y="332"/>
                </a:lnTo>
                <a:lnTo>
                  <a:pt x="87" y="340"/>
                </a:lnTo>
                <a:lnTo>
                  <a:pt x="94" y="348"/>
                </a:lnTo>
                <a:lnTo>
                  <a:pt x="100" y="357"/>
                </a:lnTo>
                <a:lnTo>
                  <a:pt x="104" y="368"/>
                </a:lnTo>
                <a:lnTo>
                  <a:pt x="108" y="379"/>
                </a:lnTo>
                <a:lnTo>
                  <a:pt x="111" y="391"/>
                </a:lnTo>
                <a:lnTo>
                  <a:pt x="114" y="403"/>
                </a:lnTo>
                <a:lnTo>
                  <a:pt x="115" y="418"/>
                </a:lnTo>
                <a:lnTo>
                  <a:pt x="115" y="450"/>
                </a:lnTo>
                <a:lnTo>
                  <a:pt x="112" y="482"/>
                </a:lnTo>
                <a:lnTo>
                  <a:pt x="107" y="512"/>
                </a:lnTo>
                <a:lnTo>
                  <a:pt x="99" y="536"/>
                </a:lnTo>
                <a:lnTo>
                  <a:pt x="93" y="556"/>
                </a:lnTo>
                <a:lnTo>
                  <a:pt x="91" y="572"/>
                </a:lnTo>
                <a:lnTo>
                  <a:pt x="91" y="584"/>
                </a:lnTo>
                <a:lnTo>
                  <a:pt x="88" y="596"/>
                </a:lnTo>
                <a:lnTo>
                  <a:pt x="99" y="597"/>
                </a:lnTo>
                <a:lnTo>
                  <a:pt x="107" y="597"/>
                </a:lnTo>
                <a:lnTo>
                  <a:pt x="114" y="596"/>
                </a:lnTo>
                <a:lnTo>
                  <a:pt x="119" y="595"/>
                </a:lnTo>
                <a:lnTo>
                  <a:pt x="125" y="592"/>
                </a:lnTo>
                <a:lnTo>
                  <a:pt x="131" y="588"/>
                </a:lnTo>
                <a:lnTo>
                  <a:pt x="138" y="581"/>
                </a:lnTo>
                <a:lnTo>
                  <a:pt x="145" y="573"/>
                </a:lnTo>
                <a:lnTo>
                  <a:pt x="153" y="562"/>
                </a:lnTo>
                <a:lnTo>
                  <a:pt x="161" y="553"/>
                </a:lnTo>
                <a:lnTo>
                  <a:pt x="170" y="545"/>
                </a:lnTo>
                <a:lnTo>
                  <a:pt x="178" y="536"/>
                </a:lnTo>
                <a:lnTo>
                  <a:pt x="187" y="529"/>
                </a:lnTo>
                <a:lnTo>
                  <a:pt x="195" y="523"/>
                </a:lnTo>
                <a:lnTo>
                  <a:pt x="202" y="518"/>
                </a:lnTo>
                <a:lnTo>
                  <a:pt x="208" y="514"/>
                </a:lnTo>
                <a:lnTo>
                  <a:pt x="214" y="509"/>
                </a:lnTo>
                <a:lnTo>
                  <a:pt x="221" y="504"/>
                </a:lnTo>
                <a:lnTo>
                  <a:pt x="228" y="496"/>
                </a:lnTo>
                <a:lnTo>
                  <a:pt x="235" y="486"/>
                </a:lnTo>
                <a:lnTo>
                  <a:pt x="241" y="476"/>
                </a:lnTo>
                <a:lnTo>
                  <a:pt x="247" y="465"/>
                </a:lnTo>
                <a:lnTo>
                  <a:pt x="253" y="453"/>
                </a:lnTo>
                <a:lnTo>
                  <a:pt x="258" y="440"/>
                </a:lnTo>
                <a:lnTo>
                  <a:pt x="261" y="428"/>
                </a:lnTo>
                <a:lnTo>
                  <a:pt x="266" y="414"/>
                </a:lnTo>
                <a:lnTo>
                  <a:pt x="271" y="400"/>
                </a:lnTo>
                <a:lnTo>
                  <a:pt x="277" y="386"/>
                </a:lnTo>
                <a:lnTo>
                  <a:pt x="284" y="372"/>
                </a:lnTo>
                <a:lnTo>
                  <a:pt x="291" y="360"/>
                </a:lnTo>
                <a:lnTo>
                  <a:pt x="298" y="349"/>
                </a:lnTo>
                <a:lnTo>
                  <a:pt x="305" y="340"/>
                </a:lnTo>
                <a:lnTo>
                  <a:pt x="313" y="333"/>
                </a:lnTo>
                <a:lnTo>
                  <a:pt x="320" y="326"/>
                </a:lnTo>
                <a:lnTo>
                  <a:pt x="328" y="319"/>
                </a:lnTo>
                <a:lnTo>
                  <a:pt x="335" y="312"/>
                </a:lnTo>
                <a:lnTo>
                  <a:pt x="342" y="306"/>
                </a:lnTo>
                <a:lnTo>
                  <a:pt x="347" y="297"/>
                </a:lnTo>
                <a:lnTo>
                  <a:pt x="352" y="287"/>
                </a:lnTo>
                <a:lnTo>
                  <a:pt x="355" y="277"/>
                </a:lnTo>
                <a:lnTo>
                  <a:pt x="345" y="276"/>
                </a:lnTo>
                <a:lnTo>
                  <a:pt x="336" y="273"/>
                </a:lnTo>
                <a:lnTo>
                  <a:pt x="328" y="272"/>
                </a:lnTo>
                <a:lnTo>
                  <a:pt x="320" y="270"/>
                </a:lnTo>
                <a:lnTo>
                  <a:pt x="312" y="268"/>
                </a:lnTo>
                <a:lnTo>
                  <a:pt x="304" y="263"/>
                </a:lnTo>
                <a:lnTo>
                  <a:pt x="296" y="258"/>
                </a:lnTo>
                <a:lnTo>
                  <a:pt x="288" y="253"/>
                </a:lnTo>
                <a:lnTo>
                  <a:pt x="278" y="247"/>
                </a:lnTo>
                <a:lnTo>
                  <a:pt x="269" y="242"/>
                </a:lnTo>
                <a:lnTo>
                  <a:pt x="259" y="239"/>
                </a:lnTo>
                <a:lnTo>
                  <a:pt x="248" y="238"/>
                </a:lnTo>
                <a:lnTo>
                  <a:pt x="238" y="239"/>
                </a:lnTo>
                <a:lnTo>
                  <a:pt x="226" y="242"/>
                </a:lnTo>
                <a:lnTo>
                  <a:pt x="215" y="247"/>
                </a:lnTo>
                <a:lnTo>
                  <a:pt x="205" y="255"/>
                </a:lnTo>
                <a:lnTo>
                  <a:pt x="193" y="263"/>
                </a:lnTo>
                <a:lnTo>
                  <a:pt x="183" y="269"/>
                </a:lnTo>
                <a:lnTo>
                  <a:pt x="172" y="273"/>
                </a:lnTo>
                <a:lnTo>
                  <a:pt x="161" y="276"/>
                </a:lnTo>
                <a:lnTo>
                  <a:pt x="150" y="277"/>
                </a:lnTo>
                <a:lnTo>
                  <a:pt x="140" y="274"/>
                </a:lnTo>
                <a:lnTo>
                  <a:pt x="129" y="271"/>
                </a:lnTo>
                <a:lnTo>
                  <a:pt x="117" y="26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6" name="Freeform 12"/>
          <p:cNvSpPr/>
          <p:nvPr/>
        </p:nvSpPr>
        <p:spPr>
          <a:xfrm>
            <a:off x="2101680" y="3416400"/>
            <a:ext cx="195480" cy="58680"/>
          </a:xfrm>
          <a:custGeom>
            <a:avLst/>
            <a:gdLst/>
            <a:ahLst/>
            <a:rect l="l" t="t" r="r" b="b"/>
            <a:pathLst>
              <a:path w="246" h="73">
                <a:moveTo>
                  <a:pt x="76" y="27"/>
                </a:moveTo>
                <a:lnTo>
                  <a:pt x="71" y="25"/>
                </a:lnTo>
                <a:lnTo>
                  <a:pt x="65" y="24"/>
                </a:lnTo>
                <a:lnTo>
                  <a:pt x="59" y="23"/>
                </a:lnTo>
                <a:lnTo>
                  <a:pt x="53" y="22"/>
                </a:lnTo>
                <a:lnTo>
                  <a:pt x="48" y="20"/>
                </a:lnTo>
                <a:lnTo>
                  <a:pt x="42" y="20"/>
                </a:lnTo>
                <a:lnTo>
                  <a:pt x="37" y="20"/>
                </a:lnTo>
                <a:lnTo>
                  <a:pt x="33" y="22"/>
                </a:lnTo>
                <a:lnTo>
                  <a:pt x="22" y="25"/>
                </a:lnTo>
                <a:lnTo>
                  <a:pt x="12" y="31"/>
                </a:lnTo>
                <a:lnTo>
                  <a:pt x="3" y="40"/>
                </a:lnTo>
                <a:lnTo>
                  <a:pt x="0" y="53"/>
                </a:lnTo>
                <a:lnTo>
                  <a:pt x="6" y="48"/>
                </a:lnTo>
                <a:lnTo>
                  <a:pt x="12" y="42"/>
                </a:lnTo>
                <a:lnTo>
                  <a:pt x="18" y="38"/>
                </a:lnTo>
                <a:lnTo>
                  <a:pt x="23" y="37"/>
                </a:lnTo>
                <a:lnTo>
                  <a:pt x="26" y="43"/>
                </a:lnTo>
                <a:lnTo>
                  <a:pt x="28" y="49"/>
                </a:lnTo>
                <a:lnTo>
                  <a:pt x="32" y="53"/>
                </a:lnTo>
                <a:lnTo>
                  <a:pt x="37" y="54"/>
                </a:lnTo>
                <a:lnTo>
                  <a:pt x="44" y="51"/>
                </a:lnTo>
                <a:lnTo>
                  <a:pt x="51" y="47"/>
                </a:lnTo>
                <a:lnTo>
                  <a:pt x="55" y="41"/>
                </a:lnTo>
                <a:lnTo>
                  <a:pt x="57" y="34"/>
                </a:lnTo>
                <a:lnTo>
                  <a:pt x="60" y="34"/>
                </a:lnTo>
                <a:lnTo>
                  <a:pt x="64" y="37"/>
                </a:lnTo>
                <a:lnTo>
                  <a:pt x="67" y="39"/>
                </a:lnTo>
                <a:lnTo>
                  <a:pt x="68" y="40"/>
                </a:lnTo>
                <a:lnTo>
                  <a:pt x="66" y="48"/>
                </a:lnTo>
                <a:lnTo>
                  <a:pt x="64" y="58"/>
                </a:lnTo>
                <a:lnTo>
                  <a:pt x="66" y="68"/>
                </a:lnTo>
                <a:lnTo>
                  <a:pt x="75" y="73"/>
                </a:lnTo>
                <a:lnTo>
                  <a:pt x="73" y="65"/>
                </a:lnTo>
                <a:lnTo>
                  <a:pt x="72" y="56"/>
                </a:lnTo>
                <a:lnTo>
                  <a:pt x="74" y="47"/>
                </a:lnTo>
                <a:lnTo>
                  <a:pt x="79" y="40"/>
                </a:lnTo>
                <a:lnTo>
                  <a:pt x="86" y="35"/>
                </a:lnTo>
                <a:lnTo>
                  <a:pt x="94" y="32"/>
                </a:lnTo>
                <a:lnTo>
                  <a:pt x="100" y="27"/>
                </a:lnTo>
                <a:lnTo>
                  <a:pt x="104" y="23"/>
                </a:lnTo>
                <a:lnTo>
                  <a:pt x="109" y="18"/>
                </a:lnTo>
                <a:lnTo>
                  <a:pt x="114" y="15"/>
                </a:lnTo>
                <a:lnTo>
                  <a:pt x="120" y="12"/>
                </a:lnTo>
                <a:lnTo>
                  <a:pt x="126" y="12"/>
                </a:lnTo>
                <a:lnTo>
                  <a:pt x="132" y="15"/>
                </a:lnTo>
                <a:lnTo>
                  <a:pt x="136" y="16"/>
                </a:lnTo>
                <a:lnTo>
                  <a:pt x="141" y="19"/>
                </a:lnTo>
                <a:lnTo>
                  <a:pt x="143" y="24"/>
                </a:lnTo>
                <a:lnTo>
                  <a:pt x="146" y="28"/>
                </a:lnTo>
                <a:lnTo>
                  <a:pt x="150" y="31"/>
                </a:lnTo>
                <a:lnTo>
                  <a:pt x="156" y="33"/>
                </a:lnTo>
                <a:lnTo>
                  <a:pt x="163" y="34"/>
                </a:lnTo>
                <a:lnTo>
                  <a:pt x="171" y="38"/>
                </a:lnTo>
                <a:lnTo>
                  <a:pt x="177" y="47"/>
                </a:lnTo>
                <a:lnTo>
                  <a:pt x="179" y="57"/>
                </a:lnTo>
                <a:lnTo>
                  <a:pt x="174" y="68"/>
                </a:lnTo>
                <a:lnTo>
                  <a:pt x="181" y="64"/>
                </a:lnTo>
                <a:lnTo>
                  <a:pt x="186" y="56"/>
                </a:lnTo>
                <a:lnTo>
                  <a:pt x="187" y="46"/>
                </a:lnTo>
                <a:lnTo>
                  <a:pt x="184" y="37"/>
                </a:lnTo>
                <a:lnTo>
                  <a:pt x="189" y="42"/>
                </a:lnTo>
                <a:lnTo>
                  <a:pt x="194" y="48"/>
                </a:lnTo>
                <a:lnTo>
                  <a:pt x="197" y="53"/>
                </a:lnTo>
                <a:lnTo>
                  <a:pt x="203" y="55"/>
                </a:lnTo>
                <a:lnTo>
                  <a:pt x="209" y="54"/>
                </a:lnTo>
                <a:lnTo>
                  <a:pt x="215" y="50"/>
                </a:lnTo>
                <a:lnTo>
                  <a:pt x="218" y="45"/>
                </a:lnTo>
                <a:lnTo>
                  <a:pt x="218" y="37"/>
                </a:lnTo>
                <a:lnTo>
                  <a:pt x="226" y="35"/>
                </a:lnTo>
                <a:lnTo>
                  <a:pt x="233" y="35"/>
                </a:lnTo>
                <a:lnTo>
                  <a:pt x="240" y="37"/>
                </a:lnTo>
                <a:lnTo>
                  <a:pt x="246" y="40"/>
                </a:lnTo>
                <a:lnTo>
                  <a:pt x="242" y="35"/>
                </a:lnTo>
                <a:lnTo>
                  <a:pt x="238" y="31"/>
                </a:lnTo>
                <a:lnTo>
                  <a:pt x="230" y="26"/>
                </a:lnTo>
                <a:lnTo>
                  <a:pt x="222" y="24"/>
                </a:lnTo>
                <a:lnTo>
                  <a:pt x="211" y="22"/>
                </a:lnTo>
                <a:lnTo>
                  <a:pt x="201" y="22"/>
                </a:lnTo>
                <a:lnTo>
                  <a:pt x="189" y="24"/>
                </a:lnTo>
                <a:lnTo>
                  <a:pt x="178" y="28"/>
                </a:lnTo>
                <a:lnTo>
                  <a:pt x="171" y="25"/>
                </a:lnTo>
                <a:lnTo>
                  <a:pt x="163" y="24"/>
                </a:lnTo>
                <a:lnTo>
                  <a:pt x="155" y="20"/>
                </a:lnTo>
                <a:lnTo>
                  <a:pt x="148" y="12"/>
                </a:lnTo>
                <a:lnTo>
                  <a:pt x="143" y="8"/>
                </a:lnTo>
                <a:lnTo>
                  <a:pt x="138" y="4"/>
                </a:lnTo>
                <a:lnTo>
                  <a:pt x="131" y="2"/>
                </a:lnTo>
                <a:lnTo>
                  <a:pt x="124" y="0"/>
                </a:lnTo>
                <a:lnTo>
                  <a:pt x="117" y="1"/>
                </a:lnTo>
                <a:lnTo>
                  <a:pt x="111" y="2"/>
                </a:lnTo>
                <a:lnTo>
                  <a:pt x="105" y="4"/>
                </a:lnTo>
                <a:lnTo>
                  <a:pt x="102" y="9"/>
                </a:lnTo>
                <a:lnTo>
                  <a:pt x="96" y="17"/>
                </a:lnTo>
                <a:lnTo>
                  <a:pt x="89" y="23"/>
                </a:lnTo>
                <a:lnTo>
                  <a:pt x="82" y="26"/>
                </a:lnTo>
                <a:lnTo>
                  <a:pt x="76" y="2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7" name="Freeform 13"/>
          <p:cNvSpPr/>
          <p:nvPr/>
        </p:nvSpPr>
        <p:spPr>
          <a:xfrm>
            <a:off x="2022480" y="3559320"/>
            <a:ext cx="20520" cy="48960"/>
          </a:xfrm>
          <a:custGeom>
            <a:avLst/>
            <a:gdLst/>
            <a:ahLst/>
            <a:rect l="l" t="t" r="r" b="b"/>
            <a:pathLst>
              <a:path w="26" h="62">
                <a:moveTo>
                  <a:pt x="26" y="9"/>
                </a:moveTo>
                <a:lnTo>
                  <a:pt x="17" y="2"/>
                </a:lnTo>
                <a:lnTo>
                  <a:pt x="12" y="0"/>
                </a:lnTo>
                <a:lnTo>
                  <a:pt x="8" y="3"/>
                </a:lnTo>
                <a:lnTo>
                  <a:pt x="5" y="9"/>
                </a:lnTo>
                <a:lnTo>
                  <a:pt x="1" y="18"/>
                </a:lnTo>
                <a:lnTo>
                  <a:pt x="0" y="32"/>
                </a:lnTo>
                <a:lnTo>
                  <a:pt x="4" y="47"/>
                </a:lnTo>
                <a:lnTo>
                  <a:pt x="13" y="62"/>
                </a:lnTo>
                <a:lnTo>
                  <a:pt x="8" y="41"/>
                </a:lnTo>
                <a:lnTo>
                  <a:pt x="7" y="23"/>
                </a:lnTo>
                <a:lnTo>
                  <a:pt x="12" y="11"/>
                </a:lnTo>
                <a:lnTo>
                  <a:pt x="26" y="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8" name="Freeform 14"/>
          <p:cNvSpPr/>
          <p:nvPr/>
        </p:nvSpPr>
        <p:spPr>
          <a:xfrm>
            <a:off x="2168640" y="3449520"/>
            <a:ext cx="21960" cy="17640"/>
          </a:xfrm>
          <a:custGeom>
            <a:avLst/>
            <a:gdLst/>
            <a:ahLst/>
            <a:rect l="l" t="t" r="r" b="b"/>
            <a:pathLst>
              <a:path w="26" h="22">
                <a:moveTo>
                  <a:pt x="24" y="0"/>
                </a:moveTo>
                <a:lnTo>
                  <a:pt x="16" y="1"/>
                </a:lnTo>
                <a:lnTo>
                  <a:pt x="6" y="5"/>
                </a:lnTo>
                <a:lnTo>
                  <a:pt x="0" y="12"/>
                </a:lnTo>
                <a:lnTo>
                  <a:pt x="2" y="20"/>
                </a:lnTo>
                <a:lnTo>
                  <a:pt x="10" y="22"/>
                </a:lnTo>
                <a:lnTo>
                  <a:pt x="20" y="16"/>
                </a:lnTo>
                <a:lnTo>
                  <a:pt x="26" y="7"/>
                </a:lnTo>
                <a:lnTo>
                  <a:pt x="2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9" name="Freeform 15"/>
          <p:cNvSpPr/>
          <p:nvPr/>
        </p:nvSpPr>
        <p:spPr>
          <a:xfrm>
            <a:off x="2216160" y="3449520"/>
            <a:ext cx="19080" cy="17640"/>
          </a:xfrm>
          <a:custGeom>
            <a:avLst/>
            <a:gdLst/>
            <a:ahLst/>
            <a:rect l="l" t="t" r="r" b="b"/>
            <a:pathLst>
              <a:path w="24" h="21">
                <a:moveTo>
                  <a:pt x="0" y="0"/>
                </a:moveTo>
                <a:lnTo>
                  <a:pt x="9" y="0"/>
                </a:lnTo>
                <a:lnTo>
                  <a:pt x="19" y="4"/>
                </a:lnTo>
                <a:lnTo>
                  <a:pt x="24" y="9"/>
                </a:lnTo>
                <a:lnTo>
                  <a:pt x="22" y="18"/>
                </a:lnTo>
                <a:lnTo>
                  <a:pt x="15" y="21"/>
                </a:lnTo>
                <a:lnTo>
                  <a:pt x="8" y="18"/>
                </a:lnTo>
                <a:lnTo>
                  <a:pt x="4" y="9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0" name="Freeform 16"/>
          <p:cNvSpPr/>
          <p:nvPr/>
        </p:nvSpPr>
        <p:spPr>
          <a:xfrm>
            <a:off x="2149560" y="3473280"/>
            <a:ext cx="108000" cy="46080"/>
          </a:xfrm>
          <a:custGeom>
            <a:avLst/>
            <a:gdLst/>
            <a:ahLst/>
            <a:rect l="l" t="t" r="r" b="b"/>
            <a:pathLst>
              <a:path w="136" h="58">
                <a:moveTo>
                  <a:pt x="0" y="34"/>
                </a:moveTo>
                <a:lnTo>
                  <a:pt x="4" y="30"/>
                </a:lnTo>
                <a:lnTo>
                  <a:pt x="8" y="24"/>
                </a:lnTo>
                <a:lnTo>
                  <a:pt x="14" y="20"/>
                </a:lnTo>
                <a:lnTo>
                  <a:pt x="22" y="14"/>
                </a:lnTo>
                <a:lnTo>
                  <a:pt x="29" y="9"/>
                </a:lnTo>
                <a:lnTo>
                  <a:pt x="37" y="6"/>
                </a:lnTo>
                <a:lnTo>
                  <a:pt x="45" y="4"/>
                </a:lnTo>
                <a:lnTo>
                  <a:pt x="52" y="5"/>
                </a:lnTo>
                <a:lnTo>
                  <a:pt x="61" y="7"/>
                </a:lnTo>
                <a:lnTo>
                  <a:pt x="68" y="7"/>
                </a:lnTo>
                <a:lnTo>
                  <a:pt x="73" y="6"/>
                </a:lnTo>
                <a:lnTo>
                  <a:pt x="80" y="3"/>
                </a:lnTo>
                <a:lnTo>
                  <a:pt x="87" y="0"/>
                </a:lnTo>
                <a:lnTo>
                  <a:pt x="95" y="1"/>
                </a:lnTo>
                <a:lnTo>
                  <a:pt x="102" y="4"/>
                </a:lnTo>
                <a:lnTo>
                  <a:pt x="110" y="7"/>
                </a:lnTo>
                <a:lnTo>
                  <a:pt x="117" y="12"/>
                </a:lnTo>
                <a:lnTo>
                  <a:pt x="125" y="18"/>
                </a:lnTo>
                <a:lnTo>
                  <a:pt x="131" y="23"/>
                </a:lnTo>
                <a:lnTo>
                  <a:pt x="136" y="28"/>
                </a:lnTo>
                <a:lnTo>
                  <a:pt x="133" y="32"/>
                </a:lnTo>
                <a:lnTo>
                  <a:pt x="127" y="37"/>
                </a:lnTo>
                <a:lnTo>
                  <a:pt x="120" y="43"/>
                </a:lnTo>
                <a:lnTo>
                  <a:pt x="112" y="47"/>
                </a:lnTo>
                <a:lnTo>
                  <a:pt x="103" y="52"/>
                </a:lnTo>
                <a:lnTo>
                  <a:pt x="91" y="56"/>
                </a:lnTo>
                <a:lnTo>
                  <a:pt x="79" y="58"/>
                </a:lnTo>
                <a:lnTo>
                  <a:pt x="64" y="58"/>
                </a:lnTo>
                <a:lnTo>
                  <a:pt x="50" y="57"/>
                </a:lnTo>
                <a:lnTo>
                  <a:pt x="37" y="56"/>
                </a:lnTo>
                <a:lnTo>
                  <a:pt x="28" y="54"/>
                </a:lnTo>
                <a:lnTo>
                  <a:pt x="20" y="52"/>
                </a:lnTo>
                <a:lnTo>
                  <a:pt x="14" y="49"/>
                </a:lnTo>
                <a:lnTo>
                  <a:pt x="8" y="44"/>
                </a:lnTo>
                <a:lnTo>
                  <a:pt x="4" y="39"/>
                </a:lnTo>
                <a:lnTo>
                  <a:pt x="0" y="3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1" name="Freeform 17"/>
          <p:cNvSpPr/>
          <p:nvPr/>
        </p:nvSpPr>
        <p:spPr>
          <a:xfrm>
            <a:off x="2157480" y="3486240"/>
            <a:ext cx="90360" cy="12600"/>
          </a:xfrm>
          <a:custGeom>
            <a:avLst/>
            <a:gdLst/>
            <a:ahLst/>
            <a:rect l="l" t="t" r="r" b="b"/>
            <a:pathLst>
              <a:path w="114" h="16">
                <a:moveTo>
                  <a:pt x="0" y="16"/>
                </a:moveTo>
                <a:lnTo>
                  <a:pt x="3" y="15"/>
                </a:lnTo>
                <a:lnTo>
                  <a:pt x="8" y="14"/>
                </a:lnTo>
                <a:lnTo>
                  <a:pt x="14" y="12"/>
                </a:lnTo>
                <a:lnTo>
                  <a:pt x="19" y="8"/>
                </a:lnTo>
                <a:lnTo>
                  <a:pt x="26" y="6"/>
                </a:lnTo>
                <a:lnTo>
                  <a:pt x="34" y="4"/>
                </a:lnTo>
                <a:lnTo>
                  <a:pt x="42" y="2"/>
                </a:lnTo>
                <a:lnTo>
                  <a:pt x="52" y="0"/>
                </a:lnTo>
                <a:lnTo>
                  <a:pt x="61" y="0"/>
                </a:lnTo>
                <a:lnTo>
                  <a:pt x="69" y="2"/>
                </a:lnTo>
                <a:lnTo>
                  <a:pt x="77" y="3"/>
                </a:lnTo>
                <a:lnTo>
                  <a:pt x="84" y="5"/>
                </a:lnTo>
                <a:lnTo>
                  <a:pt x="91" y="7"/>
                </a:lnTo>
                <a:lnTo>
                  <a:pt x="99" y="8"/>
                </a:lnTo>
                <a:lnTo>
                  <a:pt x="106" y="11"/>
                </a:lnTo>
                <a:lnTo>
                  <a:pt x="114" y="12"/>
                </a:lnTo>
                <a:lnTo>
                  <a:pt x="108" y="13"/>
                </a:lnTo>
                <a:lnTo>
                  <a:pt x="101" y="12"/>
                </a:lnTo>
                <a:lnTo>
                  <a:pt x="94" y="12"/>
                </a:lnTo>
                <a:lnTo>
                  <a:pt x="87" y="11"/>
                </a:lnTo>
                <a:lnTo>
                  <a:pt x="79" y="10"/>
                </a:lnTo>
                <a:lnTo>
                  <a:pt x="72" y="8"/>
                </a:lnTo>
                <a:lnTo>
                  <a:pt x="64" y="7"/>
                </a:lnTo>
                <a:lnTo>
                  <a:pt x="56" y="7"/>
                </a:lnTo>
                <a:lnTo>
                  <a:pt x="49" y="8"/>
                </a:lnTo>
                <a:lnTo>
                  <a:pt x="42" y="10"/>
                </a:lnTo>
                <a:lnTo>
                  <a:pt x="34" y="11"/>
                </a:lnTo>
                <a:lnTo>
                  <a:pt x="27" y="13"/>
                </a:lnTo>
                <a:lnTo>
                  <a:pt x="19" y="15"/>
                </a:lnTo>
                <a:lnTo>
                  <a:pt x="12" y="16"/>
                </a:lnTo>
                <a:lnTo>
                  <a:pt x="5" y="16"/>
                </a:lnTo>
                <a:lnTo>
                  <a:pt x="0" y="1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2" name="Freeform 18"/>
          <p:cNvSpPr/>
          <p:nvPr/>
        </p:nvSpPr>
        <p:spPr>
          <a:xfrm>
            <a:off x="2116080" y="2711520"/>
            <a:ext cx="461880" cy="1128600"/>
          </a:xfrm>
          <a:custGeom>
            <a:avLst/>
            <a:gdLst/>
            <a:ahLst/>
            <a:rect l="l" t="t" r="r" b="b"/>
            <a:pathLst>
              <a:path w="583" h="1421">
                <a:moveTo>
                  <a:pt x="231" y="47"/>
                </a:moveTo>
                <a:lnTo>
                  <a:pt x="242" y="56"/>
                </a:lnTo>
                <a:lnTo>
                  <a:pt x="251" y="71"/>
                </a:lnTo>
                <a:lnTo>
                  <a:pt x="259" y="91"/>
                </a:lnTo>
                <a:lnTo>
                  <a:pt x="265" y="112"/>
                </a:lnTo>
                <a:lnTo>
                  <a:pt x="269" y="137"/>
                </a:lnTo>
                <a:lnTo>
                  <a:pt x="273" y="162"/>
                </a:lnTo>
                <a:lnTo>
                  <a:pt x="274" y="185"/>
                </a:lnTo>
                <a:lnTo>
                  <a:pt x="274" y="207"/>
                </a:lnTo>
                <a:lnTo>
                  <a:pt x="275" y="231"/>
                </a:lnTo>
                <a:lnTo>
                  <a:pt x="282" y="260"/>
                </a:lnTo>
                <a:lnTo>
                  <a:pt x="292" y="293"/>
                </a:lnTo>
                <a:lnTo>
                  <a:pt x="306" y="327"/>
                </a:lnTo>
                <a:lnTo>
                  <a:pt x="320" y="360"/>
                </a:lnTo>
                <a:lnTo>
                  <a:pt x="334" y="391"/>
                </a:lnTo>
                <a:lnTo>
                  <a:pt x="346" y="418"/>
                </a:lnTo>
                <a:lnTo>
                  <a:pt x="356" y="436"/>
                </a:lnTo>
                <a:lnTo>
                  <a:pt x="366" y="456"/>
                </a:lnTo>
                <a:lnTo>
                  <a:pt x="380" y="483"/>
                </a:lnTo>
                <a:lnTo>
                  <a:pt x="396" y="517"/>
                </a:lnTo>
                <a:lnTo>
                  <a:pt x="413" y="554"/>
                </a:lnTo>
                <a:lnTo>
                  <a:pt x="431" y="593"/>
                </a:lnTo>
                <a:lnTo>
                  <a:pt x="444" y="632"/>
                </a:lnTo>
                <a:lnTo>
                  <a:pt x="456" y="670"/>
                </a:lnTo>
                <a:lnTo>
                  <a:pt x="463" y="703"/>
                </a:lnTo>
                <a:lnTo>
                  <a:pt x="465" y="754"/>
                </a:lnTo>
                <a:lnTo>
                  <a:pt x="466" y="816"/>
                </a:lnTo>
                <a:lnTo>
                  <a:pt x="471" y="884"/>
                </a:lnTo>
                <a:lnTo>
                  <a:pt x="487" y="951"/>
                </a:lnTo>
                <a:lnTo>
                  <a:pt x="495" y="973"/>
                </a:lnTo>
                <a:lnTo>
                  <a:pt x="505" y="1000"/>
                </a:lnTo>
                <a:lnTo>
                  <a:pt x="516" y="1030"/>
                </a:lnTo>
                <a:lnTo>
                  <a:pt x="527" y="1062"/>
                </a:lnTo>
                <a:lnTo>
                  <a:pt x="538" y="1094"/>
                </a:lnTo>
                <a:lnTo>
                  <a:pt x="547" y="1127"/>
                </a:lnTo>
                <a:lnTo>
                  <a:pt x="554" y="1159"/>
                </a:lnTo>
                <a:lnTo>
                  <a:pt x="556" y="1188"/>
                </a:lnTo>
                <a:lnTo>
                  <a:pt x="558" y="1250"/>
                </a:lnTo>
                <a:lnTo>
                  <a:pt x="564" y="1314"/>
                </a:lnTo>
                <a:lnTo>
                  <a:pt x="572" y="1374"/>
                </a:lnTo>
                <a:lnTo>
                  <a:pt x="583" y="1421"/>
                </a:lnTo>
                <a:lnTo>
                  <a:pt x="572" y="1420"/>
                </a:lnTo>
                <a:lnTo>
                  <a:pt x="561" y="1418"/>
                </a:lnTo>
                <a:lnTo>
                  <a:pt x="550" y="1415"/>
                </a:lnTo>
                <a:lnTo>
                  <a:pt x="540" y="1412"/>
                </a:lnTo>
                <a:lnTo>
                  <a:pt x="530" y="1409"/>
                </a:lnTo>
                <a:lnTo>
                  <a:pt x="519" y="1404"/>
                </a:lnTo>
                <a:lnTo>
                  <a:pt x="508" y="1399"/>
                </a:lnTo>
                <a:lnTo>
                  <a:pt x="497" y="1394"/>
                </a:lnTo>
                <a:lnTo>
                  <a:pt x="499" y="1374"/>
                </a:lnTo>
                <a:lnTo>
                  <a:pt x="499" y="1353"/>
                </a:lnTo>
                <a:lnTo>
                  <a:pt x="496" y="1331"/>
                </a:lnTo>
                <a:lnTo>
                  <a:pt x="493" y="1309"/>
                </a:lnTo>
                <a:lnTo>
                  <a:pt x="487" y="1288"/>
                </a:lnTo>
                <a:lnTo>
                  <a:pt x="481" y="1267"/>
                </a:lnTo>
                <a:lnTo>
                  <a:pt x="473" y="1248"/>
                </a:lnTo>
                <a:lnTo>
                  <a:pt x="465" y="1231"/>
                </a:lnTo>
                <a:lnTo>
                  <a:pt x="455" y="1215"/>
                </a:lnTo>
                <a:lnTo>
                  <a:pt x="443" y="1197"/>
                </a:lnTo>
                <a:lnTo>
                  <a:pt x="431" y="1179"/>
                </a:lnTo>
                <a:lnTo>
                  <a:pt x="418" y="1160"/>
                </a:lnTo>
                <a:lnTo>
                  <a:pt x="406" y="1141"/>
                </a:lnTo>
                <a:lnTo>
                  <a:pt x="397" y="1122"/>
                </a:lnTo>
                <a:lnTo>
                  <a:pt x="390" y="1103"/>
                </a:lnTo>
                <a:lnTo>
                  <a:pt x="388" y="1085"/>
                </a:lnTo>
                <a:lnTo>
                  <a:pt x="386" y="1095"/>
                </a:lnTo>
                <a:lnTo>
                  <a:pt x="384" y="1110"/>
                </a:lnTo>
                <a:lnTo>
                  <a:pt x="386" y="1126"/>
                </a:lnTo>
                <a:lnTo>
                  <a:pt x="389" y="1144"/>
                </a:lnTo>
                <a:lnTo>
                  <a:pt x="394" y="1161"/>
                </a:lnTo>
                <a:lnTo>
                  <a:pt x="399" y="1178"/>
                </a:lnTo>
                <a:lnTo>
                  <a:pt x="405" y="1194"/>
                </a:lnTo>
                <a:lnTo>
                  <a:pt x="412" y="1207"/>
                </a:lnTo>
                <a:lnTo>
                  <a:pt x="420" y="1222"/>
                </a:lnTo>
                <a:lnTo>
                  <a:pt x="428" y="1239"/>
                </a:lnTo>
                <a:lnTo>
                  <a:pt x="437" y="1261"/>
                </a:lnTo>
                <a:lnTo>
                  <a:pt x="444" y="1284"/>
                </a:lnTo>
                <a:lnTo>
                  <a:pt x="451" y="1307"/>
                </a:lnTo>
                <a:lnTo>
                  <a:pt x="454" y="1331"/>
                </a:lnTo>
                <a:lnTo>
                  <a:pt x="454" y="1353"/>
                </a:lnTo>
                <a:lnTo>
                  <a:pt x="449" y="1373"/>
                </a:lnTo>
                <a:lnTo>
                  <a:pt x="434" y="1365"/>
                </a:lnTo>
                <a:lnTo>
                  <a:pt x="416" y="1351"/>
                </a:lnTo>
                <a:lnTo>
                  <a:pt x="396" y="1334"/>
                </a:lnTo>
                <a:lnTo>
                  <a:pt x="376" y="1311"/>
                </a:lnTo>
                <a:lnTo>
                  <a:pt x="359" y="1284"/>
                </a:lnTo>
                <a:lnTo>
                  <a:pt x="343" y="1253"/>
                </a:lnTo>
                <a:lnTo>
                  <a:pt x="331" y="1218"/>
                </a:lnTo>
                <a:lnTo>
                  <a:pt x="325" y="1180"/>
                </a:lnTo>
                <a:lnTo>
                  <a:pt x="318" y="1111"/>
                </a:lnTo>
                <a:lnTo>
                  <a:pt x="315" y="1057"/>
                </a:lnTo>
                <a:lnTo>
                  <a:pt x="315" y="1008"/>
                </a:lnTo>
                <a:lnTo>
                  <a:pt x="319" y="951"/>
                </a:lnTo>
                <a:lnTo>
                  <a:pt x="321" y="894"/>
                </a:lnTo>
                <a:lnTo>
                  <a:pt x="318" y="845"/>
                </a:lnTo>
                <a:lnTo>
                  <a:pt x="310" y="804"/>
                </a:lnTo>
                <a:lnTo>
                  <a:pt x="297" y="767"/>
                </a:lnTo>
                <a:lnTo>
                  <a:pt x="288" y="732"/>
                </a:lnTo>
                <a:lnTo>
                  <a:pt x="287" y="697"/>
                </a:lnTo>
                <a:lnTo>
                  <a:pt x="288" y="663"/>
                </a:lnTo>
                <a:lnTo>
                  <a:pt x="289" y="631"/>
                </a:lnTo>
                <a:lnTo>
                  <a:pt x="288" y="612"/>
                </a:lnTo>
                <a:lnTo>
                  <a:pt x="285" y="587"/>
                </a:lnTo>
                <a:lnTo>
                  <a:pt x="281" y="557"/>
                </a:lnTo>
                <a:lnTo>
                  <a:pt x="275" y="524"/>
                </a:lnTo>
                <a:lnTo>
                  <a:pt x="267" y="489"/>
                </a:lnTo>
                <a:lnTo>
                  <a:pt x="259" y="453"/>
                </a:lnTo>
                <a:lnTo>
                  <a:pt x="249" y="420"/>
                </a:lnTo>
                <a:lnTo>
                  <a:pt x="238" y="389"/>
                </a:lnTo>
                <a:lnTo>
                  <a:pt x="228" y="361"/>
                </a:lnTo>
                <a:lnTo>
                  <a:pt x="216" y="336"/>
                </a:lnTo>
                <a:lnTo>
                  <a:pt x="206" y="313"/>
                </a:lnTo>
                <a:lnTo>
                  <a:pt x="194" y="291"/>
                </a:lnTo>
                <a:lnTo>
                  <a:pt x="183" y="270"/>
                </a:lnTo>
                <a:lnTo>
                  <a:pt x="170" y="250"/>
                </a:lnTo>
                <a:lnTo>
                  <a:pt x="158" y="229"/>
                </a:lnTo>
                <a:lnTo>
                  <a:pt x="143" y="207"/>
                </a:lnTo>
                <a:lnTo>
                  <a:pt x="126" y="185"/>
                </a:lnTo>
                <a:lnTo>
                  <a:pt x="108" y="162"/>
                </a:lnTo>
                <a:lnTo>
                  <a:pt x="90" y="140"/>
                </a:lnTo>
                <a:lnTo>
                  <a:pt x="70" y="118"/>
                </a:lnTo>
                <a:lnTo>
                  <a:pt x="52" y="100"/>
                </a:lnTo>
                <a:lnTo>
                  <a:pt x="35" y="83"/>
                </a:lnTo>
                <a:lnTo>
                  <a:pt x="22" y="70"/>
                </a:lnTo>
                <a:lnTo>
                  <a:pt x="10" y="61"/>
                </a:lnTo>
                <a:lnTo>
                  <a:pt x="0" y="48"/>
                </a:lnTo>
                <a:lnTo>
                  <a:pt x="0" y="38"/>
                </a:lnTo>
                <a:lnTo>
                  <a:pt x="7" y="33"/>
                </a:lnTo>
                <a:lnTo>
                  <a:pt x="18" y="36"/>
                </a:lnTo>
                <a:lnTo>
                  <a:pt x="26" y="41"/>
                </a:lnTo>
                <a:lnTo>
                  <a:pt x="37" y="48"/>
                </a:lnTo>
                <a:lnTo>
                  <a:pt x="50" y="55"/>
                </a:lnTo>
                <a:lnTo>
                  <a:pt x="64" y="63"/>
                </a:lnTo>
                <a:lnTo>
                  <a:pt x="79" y="72"/>
                </a:lnTo>
                <a:lnTo>
                  <a:pt x="93" y="80"/>
                </a:lnTo>
                <a:lnTo>
                  <a:pt x="106" y="87"/>
                </a:lnTo>
                <a:lnTo>
                  <a:pt x="116" y="93"/>
                </a:lnTo>
                <a:lnTo>
                  <a:pt x="113" y="84"/>
                </a:lnTo>
                <a:lnTo>
                  <a:pt x="108" y="73"/>
                </a:lnTo>
                <a:lnTo>
                  <a:pt x="102" y="62"/>
                </a:lnTo>
                <a:lnTo>
                  <a:pt x="95" y="49"/>
                </a:lnTo>
                <a:lnTo>
                  <a:pt x="88" y="36"/>
                </a:lnTo>
                <a:lnTo>
                  <a:pt x="80" y="24"/>
                </a:lnTo>
                <a:lnTo>
                  <a:pt x="71" y="11"/>
                </a:lnTo>
                <a:lnTo>
                  <a:pt x="61" y="0"/>
                </a:lnTo>
                <a:lnTo>
                  <a:pt x="72" y="1"/>
                </a:lnTo>
                <a:lnTo>
                  <a:pt x="86" y="6"/>
                </a:lnTo>
                <a:lnTo>
                  <a:pt x="100" y="17"/>
                </a:lnTo>
                <a:lnTo>
                  <a:pt x="115" y="30"/>
                </a:lnTo>
                <a:lnTo>
                  <a:pt x="129" y="44"/>
                </a:lnTo>
                <a:lnTo>
                  <a:pt x="143" y="61"/>
                </a:lnTo>
                <a:lnTo>
                  <a:pt x="154" y="78"/>
                </a:lnTo>
                <a:lnTo>
                  <a:pt x="164" y="95"/>
                </a:lnTo>
                <a:lnTo>
                  <a:pt x="166" y="79"/>
                </a:lnTo>
                <a:lnTo>
                  <a:pt x="163" y="61"/>
                </a:lnTo>
                <a:lnTo>
                  <a:pt x="153" y="39"/>
                </a:lnTo>
                <a:lnTo>
                  <a:pt x="137" y="12"/>
                </a:lnTo>
                <a:lnTo>
                  <a:pt x="146" y="12"/>
                </a:lnTo>
                <a:lnTo>
                  <a:pt x="158" y="17"/>
                </a:lnTo>
                <a:lnTo>
                  <a:pt x="170" y="25"/>
                </a:lnTo>
                <a:lnTo>
                  <a:pt x="183" y="36"/>
                </a:lnTo>
                <a:lnTo>
                  <a:pt x="197" y="51"/>
                </a:lnTo>
                <a:lnTo>
                  <a:pt x="209" y="69"/>
                </a:lnTo>
                <a:lnTo>
                  <a:pt x="221" y="88"/>
                </a:lnTo>
                <a:lnTo>
                  <a:pt x="231" y="109"/>
                </a:lnTo>
                <a:lnTo>
                  <a:pt x="235" y="95"/>
                </a:lnTo>
                <a:lnTo>
                  <a:pt x="236" y="79"/>
                </a:lnTo>
                <a:lnTo>
                  <a:pt x="235" y="62"/>
                </a:lnTo>
                <a:lnTo>
                  <a:pt x="231" y="4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3" name="Freeform 19"/>
          <p:cNvSpPr/>
          <p:nvPr/>
        </p:nvSpPr>
        <p:spPr>
          <a:xfrm>
            <a:off x="1901880" y="3621240"/>
            <a:ext cx="722160" cy="917280"/>
          </a:xfrm>
          <a:custGeom>
            <a:avLst/>
            <a:gdLst/>
            <a:ahLst/>
            <a:rect l="l" t="t" r="r" b="b"/>
            <a:pathLst>
              <a:path w="909" h="1155">
                <a:moveTo>
                  <a:pt x="221" y="128"/>
                </a:moveTo>
                <a:lnTo>
                  <a:pt x="228" y="142"/>
                </a:lnTo>
                <a:lnTo>
                  <a:pt x="232" y="160"/>
                </a:lnTo>
                <a:lnTo>
                  <a:pt x="232" y="181"/>
                </a:lnTo>
                <a:lnTo>
                  <a:pt x="225" y="203"/>
                </a:lnTo>
                <a:lnTo>
                  <a:pt x="217" y="227"/>
                </a:lnTo>
                <a:lnTo>
                  <a:pt x="212" y="251"/>
                </a:lnTo>
                <a:lnTo>
                  <a:pt x="210" y="273"/>
                </a:lnTo>
                <a:lnTo>
                  <a:pt x="206" y="290"/>
                </a:lnTo>
                <a:lnTo>
                  <a:pt x="202" y="288"/>
                </a:lnTo>
                <a:lnTo>
                  <a:pt x="195" y="287"/>
                </a:lnTo>
                <a:lnTo>
                  <a:pt x="188" y="283"/>
                </a:lnTo>
                <a:lnTo>
                  <a:pt x="180" y="280"/>
                </a:lnTo>
                <a:lnTo>
                  <a:pt x="172" y="275"/>
                </a:lnTo>
                <a:lnTo>
                  <a:pt x="165" y="268"/>
                </a:lnTo>
                <a:lnTo>
                  <a:pt x="159" y="260"/>
                </a:lnTo>
                <a:lnTo>
                  <a:pt x="156" y="251"/>
                </a:lnTo>
                <a:lnTo>
                  <a:pt x="156" y="265"/>
                </a:lnTo>
                <a:lnTo>
                  <a:pt x="159" y="279"/>
                </a:lnTo>
                <a:lnTo>
                  <a:pt x="166" y="291"/>
                </a:lnTo>
                <a:lnTo>
                  <a:pt x="174" y="304"/>
                </a:lnTo>
                <a:lnTo>
                  <a:pt x="184" y="316"/>
                </a:lnTo>
                <a:lnTo>
                  <a:pt x="196" y="326"/>
                </a:lnTo>
                <a:lnTo>
                  <a:pt x="209" y="333"/>
                </a:lnTo>
                <a:lnTo>
                  <a:pt x="221" y="336"/>
                </a:lnTo>
                <a:lnTo>
                  <a:pt x="235" y="337"/>
                </a:lnTo>
                <a:lnTo>
                  <a:pt x="248" y="335"/>
                </a:lnTo>
                <a:lnTo>
                  <a:pt x="260" y="332"/>
                </a:lnTo>
                <a:lnTo>
                  <a:pt x="273" y="327"/>
                </a:lnTo>
                <a:lnTo>
                  <a:pt x="285" y="321"/>
                </a:lnTo>
                <a:lnTo>
                  <a:pt x="294" y="314"/>
                </a:lnTo>
                <a:lnTo>
                  <a:pt x="303" y="306"/>
                </a:lnTo>
                <a:lnTo>
                  <a:pt x="310" y="298"/>
                </a:lnTo>
                <a:lnTo>
                  <a:pt x="316" y="290"/>
                </a:lnTo>
                <a:lnTo>
                  <a:pt x="323" y="283"/>
                </a:lnTo>
                <a:lnTo>
                  <a:pt x="330" y="276"/>
                </a:lnTo>
                <a:lnTo>
                  <a:pt x="338" y="269"/>
                </a:lnTo>
                <a:lnTo>
                  <a:pt x="345" y="264"/>
                </a:lnTo>
                <a:lnTo>
                  <a:pt x="353" y="259"/>
                </a:lnTo>
                <a:lnTo>
                  <a:pt x="360" y="254"/>
                </a:lnTo>
                <a:lnTo>
                  <a:pt x="368" y="251"/>
                </a:lnTo>
                <a:lnTo>
                  <a:pt x="376" y="246"/>
                </a:lnTo>
                <a:lnTo>
                  <a:pt x="384" y="241"/>
                </a:lnTo>
                <a:lnTo>
                  <a:pt x="392" y="231"/>
                </a:lnTo>
                <a:lnTo>
                  <a:pt x="401" y="222"/>
                </a:lnTo>
                <a:lnTo>
                  <a:pt x="408" y="211"/>
                </a:lnTo>
                <a:lnTo>
                  <a:pt x="415" y="198"/>
                </a:lnTo>
                <a:lnTo>
                  <a:pt x="422" y="184"/>
                </a:lnTo>
                <a:lnTo>
                  <a:pt x="426" y="170"/>
                </a:lnTo>
                <a:lnTo>
                  <a:pt x="430" y="157"/>
                </a:lnTo>
                <a:lnTo>
                  <a:pt x="434" y="143"/>
                </a:lnTo>
                <a:lnTo>
                  <a:pt x="439" y="129"/>
                </a:lnTo>
                <a:lnTo>
                  <a:pt x="444" y="116"/>
                </a:lnTo>
                <a:lnTo>
                  <a:pt x="448" y="104"/>
                </a:lnTo>
                <a:lnTo>
                  <a:pt x="454" y="93"/>
                </a:lnTo>
                <a:lnTo>
                  <a:pt x="461" y="84"/>
                </a:lnTo>
                <a:lnTo>
                  <a:pt x="469" y="77"/>
                </a:lnTo>
                <a:lnTo>
                  <a:pt x="477" y="69"/>
                </a:lnTo>
                <a:lnTo>
                  <a:pt x="486" y="59"/>
                </a:lnTo>
                <a:lnTo>
                  <a:pt x="494" y="46"/>
                </a:lnTo>
                <a:lnTo>
                  <a:pt x="504" y="32"/>
                </a:lnTo>
                <a:lnTo>
                  <a:pt x="510" y="21"/>
                </a:lnTo>
                <a:lnTo>
                  <a:pt x="516" y="9"/>
                </a:lnTo>
                <a:lnTo>
                  <a:pt x="521" y="2"/>
                </a:lnTo>
                <a:lnTo>
                  <a:pt x="522" y="0"/>
                </a:lnTo>
                <a:lnTo>
                  <a:pt x="525" y="21"/>
                </a:lnTo>
                <a:lnTo>
                  <a:pt x="530" y="42"/>
                </a:lnTo>
                <a:lnTo>
                  <a:pt x="538" y="67"/>
                </a:lnTo>
                <a:lnTo>
                  <a:pt x="547" y="90"/>
                </a:lnTo>
                <a:lnTo>
                  <a:pt x="558" y="114"/>
                </a:lnTo>
                <a:lnTo>
                  <a:pt x="570" y="137"/>
                </a:lnTo>
                <a:lnTo>
                  <a:pt x="584" y="159"/>
                </a:lnTo>
                <a:lnTo>
                  <a:pt x="599" y="178"/>
                </a:lnTo>
                <a:lnTo>
                  <a:pt x="607" y="188"/>
                </a:lnTo>
                <a:lnTo>
                  <a:pt x="618" y="198"/>
                </a:lnTo>
                <a:lnTo>
                  <a:pt x="629" y="208"/>
                </a:lnTo>
                <a:lnTo>
                  <a:pt x="642" y="219"/>
                </a:lnTo>
                <a:lnTo>
                  <a:pt x="656" y="230"/>
                </a:lnTo>
                <a:lnTo>
                  <a:pt x="671" y="241"/>
                </a:lnTo>
                <a:lnTo>
                  <a:pt x="688" y="251"/>
                </a:lnTo>
                <a:lnTo>
                  <a:pt x="706" y="260"/>
                </a:lnTo>
                <a:lnTo>
                  <a:pt x="726" y="271"/>
                </a:lnTo>
                <a:lnTo>
                  <a:pt x="748" y="279"/>
                </a:lnTo>
                <a:lnTo>
                  <a:pt x="770" y="288"/>
                </a:lnTo>
                <a:lnTo>
                  <a:pt x="795" y="295"/>
                </a:lnTo>
                <a:lnTo>
                  <a:pt x="820" y="302"/>
                </a:lnTo>
                <a:lnTo>
                  <a:pt x="848" y="307"/>
                </a:lnTo>
                <a:lnTo>
                  <a:pt x="878" y="311"/>
                </a:lnTo>
                <a:lnTo>
                  <a:pt x="909" y="314"/>
                </a:lnTo>
                <a:lnTo>
                  <a:pt x="904" y="343"/>
                </a:lnTo>
                <a:lnTo>
                  <a:pt x="899" y="378"/>
                </a:lnTo>
                <a:lnTo>
                  <a:pt x="895" y="418"/>
                </a:lnTo>
                <a:lnTo>
                  <a:pt x="898" y="462"/>
                </a:lnTo>
                <a:lnTo>
                  <a:pt x="892" y="447"/>
                </a:lnTo>
                <a:lnTo>
                  <a:pt x="885" y="431"/>
                </a:lnTo>
                <a:lnTo>
                  <a:pt x="877" y="415"/>
                </a:lnTo>
                <a:lnTo>
                  <a:pt x="866" y="398"/>
                </a:lnTo>
                <a:lnTo>
                  <a:pt x="855" y="383"/>
                </a:lnTo>
                <a:lnTo>
                  <a:pt x="841" y="370"/>
                </a:lnTo>
                <a:lnTo>
                  <a:pt x="826" y="357"/>
                </a:lnTo>
                <a:lnTo>
                  <a:pt x="808" y="347"/>
                </a:lnTo>
                <a:lnTo>
                  <a:pt x="815" y="363"/>
                </a:lnTo>
                <a:lnTo>
                  <a:pt x="822" y="379"/>
                </a:lnTo>
                <a:lnTo>
                  <a:pt x="830" y="396"/>
                </a:lnTo>
                <a:lnTo>
                  <a:pt x="838" y="412"/>
                </a:lnTo>
                <a:lnTo>
                  <a:pt x="846" y="430"/>
                </a:lnTo>
                <a:lnTo>
                  <a:pt x="854" y="446"/>
                </a:lnTo>
                <a:lnTo>
                  <a:pt x="861" y="461"/>
                </a:lnTo>
                <a:lnTo>
                  <a:pt x="866" y="475"/>
                </a:lnTo>
                <a:lnTo>
                  <a:pt x="872" y="493"/>
                </a:lnTo>
                <a:lnTo>
                  <a:pt x="871" y="502"/>
                </a:lnTo>
                <a:lnTo>
                  <a:pt x="865" y="514"/>
                </a:lnTo>
                <a:lnTo>
                  <a:pt x="860" y="538"/>
                </a:lnTo>
                <a:lnTo>
                  <a:pt x="845" y="516"/>
                </a:lnTo>
                <a:lnTo>
                  <a:pt x="826" y="489"/>
                </a:lnTo>
                <a:lnTo>
                  <a:pt x="804" y="462"/>
                </a:lnTo>
                <a:lnTo>
                  <a:pt x="781" y="433"/>
                </a:lnTo>
                <a:lnTo>
                  <a:pt x="759" y="409"/>
                </a:lnTo>
                <a:lnTo>
                  <a:pt x="739" y="389"/>
                </a:lnTo>
                <a:lnTo>
                  <a:pt x="722" y="379"/>
                </a:lnTo>
                <a:lnTo>
                  <a:pt x="711" y="379"/>
                </a:lnTo>
                <a:lnTo>
                  <a:pt x="704" y="387"/>
                </a:lnTo>
                <a:lnTo>
                  <a:pt x="701" y="395"/>
                </a:lnTo>
                <a:lnTo>
                  <a:pt x="701" y="405"/>
                </a:lnTo>
                <a:lnTo>
                  <a:pt x="704" y="418"/>
                </a:lnTo>
                <a:lnTo>
                  <a:pt x="710" y="432"/>
                </a:lnTo>
                <a:lnTo>
                  <a:pt x="720" y="447"/>
                </a:lnTo>
                <a:lnTo>
                  <a:pt x="734" y="464"/>
                </a:lnTo>
                <a:lnTo>
                  <a:pt x="751" y="483"/>
                </a:lnTo>
                <a:lnTo>
                  <a:pt x="772" y="503"/>
                </a:lnTo>
                <a:lnTo>
                  <a:pt x="793" y="525"/>
                </a:lnTo>
                <a:lnTo>
                  <a:pt x="813" y="549"/>
                </a:lnTo>
                <a:lnTo>
                  <a:pt x="831" y="577"/>
                </a:lnTo>
                <a:lnTo>
                  <a:pt x="846" y="607"/>
                </a:lnTo>
                <a:lnTo>
                  <a:pt x="855" y="643"/>
                </a:lnTo>
                <a:lnTo>
                  <a:pt x="858" y="682"/>
                </a:lnTo>
                <a:lnTo>
                  <a:pt x="855" y="726"/>
                </a:lnTo>
                <a:lnTo>
                  <a:pt x="848" y="707"/>
                </a:lnTo>
                <a:lnTo>
                  <a:pt x="842" y="696"/>
                </a:lnTo>
                <a:lnTo>
                  <a:pt x="836" y="688"/>
                </a:lnTo>
                <a:lnTo>
                  <a:pt x="832" y="682"/>
                </a:lnTo>
                <a:lnTo>
                  <a:pt x="826" y="678"/>
                </a:lnTo>
                <a:lnTo>
                  <a:pt x="819" y="675"/>
                </a:lnTo>
                <a:lnTo>
                  <a:pt x="810" y="669"/>
                </a:lnTo>
                <a:lnTo>
                  <a:pt x="800" y="661"/>
                </a:lnTo>
                <a:lnTo>
                  <a:pt x="789" y="651"/>
                </a:lnTo>
                <a:lnTo>
                  <a:pt x="780" y="642"/>
                </a:lnTo>
                <a:lnTo>
                  <a:pt x="773" y="631"/>
                </a:lnTo>
                <a:lnTo>
                  <a:pt x="767" y="620"/>
                </a:lnTo>
                <a:lnTo>
                  <a:pt x="763" y="609"/>
                </a:lnTo>
                <a:lnTo>
                  <a:pt x="758" y="597"/>
                </a:lnTo>
                <a:lnTo>
                  <a:pt x="752" y="585"/>
                </a:lnTo>
                <a:lnTo>
                  <a:pt x="745" y="571"/>
                </a:lnTo>
                <a:lnTo>
                  <a:pt x="739" y="557"/>
                </a:lnTo>
                <a:lnTo>
                  <a:pt x="731" y="546"/>
                </a:lnTo>
                <a:lnTo>
                  <a:pt x="722" y="536"/>
                </a:lnTo>
                <a:lnTo>
                  <a:pt x="713" y="526"/>
                </a:lnTo>
                <a:lnTo>
                  <a:pt x="704" y="519"/>
                </a:lnTo>
                <a:lnTo>
                  <a:pt x="694" y="514"/>
                </a:lnTo>
                <a:lnTo>
                  <a:pt x="683" y="509"/>
                </a:lnTo>
                <a:lnTo>
                  <a:pt x="672" y="507"/>
                </a:lnTo>
                <a:lnTo>
                  <a:pt x="682" y="521"/>
                </a:lnTo>
                <a:lnTo>
                  <a:pt x="691" y="534"/>
                </a:lnTo>
                <a:lnTo>
                  <a:pt x="701" y="548"/>
                </a:lnTo>
                <a:lnTo>
                  <a:pt x="709" y="563"/>
                </a:lnTo>
                <a:lnTo>
                  <a:pt x="716" y="579"/>
                </a:lnTo>
                <a:lnTo>
                  <a:pt x="721" y="597"/>
                </a:lnTo>
                <a:lnTo>
                  <a:pt x="725" y="616"/>
                </a:lnTo>
                <a:lnTo>
                  <a:pt x="727" y="637"/>
                </a:lnTo>
                <a:lnTo>
                  <a:pt x="728" y="658"/>
                </a:lnTo>
                <a:lnTo>
                  <a:pt x="731" y="677"/>
                </a:lnTo>
                <a:lnTo>
                  <a:pt x="734" y="696"/>
                </a:lnTo>
                <a:lnTo>
                  <a:pt x="739" y="712"/>
                </a:lnTo>
                <a:lnTo>
                  <a:pt x="744" y="728"/>
                </a:lnTo>
                <a:lnTo>
                  <a:pt x="752" y="743"/>
                </a:lnTo>
                <a:lnTo>
                  <a:pt x="762" y="758"/>
                </a:lnTo>
                <a:lnTo>
                  <a:pt x="773" y="773"/>
                </a:lnTo>
                <a:lnTo>
                  <a:pt x="786" y="788"/>
                </a:lnTo>
                <a:lnTo>
                  <a:pt x="800" y="805"/>
                </a:lnTo>
                <a:lnTo>
                  <a:pt x="811" y="822"/>
                </a:lnTo>
                <a:lnTo>
                  <a:pt x="822" y="841"/>
                </a:lnTo>
                <a:lnTo>
                  <a:pt x="830" y="863"/>
                </a:lnTo>
                <a:lnTo>
                  <a:pt x="833" y="886"/>
                </a:lnTo>
                <a:lnTo>
                  <a:pt x="832" y="912"/>
                </a:lnTo>
                <a:lnTo>
                  <a:pt x="826" y="941"/>
                </a:lnTo>
                <a:lnTo>
                  <a:pt x="815" y="933"/>
                </a:lnTo>
                <a:lnTo>
                  <a:pt x="803" y="925"/>
                </a:lnTo>
                <a:lnTo>
                  <a:pt x="793" y="919"/>
                </a:lnTo>
                <a:lnTo>
                  <a:pt x="782" y="913"/>
                </a:lnTo>
                <a:lnTo>
                  <a:pt x="773" y="909"/>
                </a:lnTo>
                <a:lnTo>
                  <a:pt x="764" y="905"/>
                </a:lnTo>
                <a:lnTo>
                  <a:pt x="755" y="903"/>
                </a:lnTo>
                <a:lnTo>
                  <a:pt x="745" y="902"/>
                </a:lnTo>
                <a:lnTo>
                  <a:pt x="757" y="917"/>
                </a:lnTo>
                <a:lnTo>
                  <a:pt x="766" y="933"/>
                </a:lnTo>
                <a:lnTo>
                  <a:pt x="772" y="951"/>
                </a:lnTo>
                <a:lnTo>
                  <a:pt x="775" y="969"/>
                </a:lnTo>
                <a:lnTo>
                  <a:pt x="775" y="988"/>
                </a:lnTo>
                <a:lnTo>
                  <a:pt x="774" y="1008"/>
                </a:lnTo>
                <a:lnTo>
                  <a:pt x="770" y="1029"/>
                </a:lnTo>
                <a:lnTo>
                  <a:pt x="764" y="1049"/>
                </a:lnTo>
                <a:lnTo>
                  <a:pt x="759" y="1060"/>
                </a:lnTo>
                <a:lnTo>
                  <a:pt x="752" y="1070"/>
                </a:lnTo>
                <a:lnTo>
                  <a:pt x="744" y="1080"/>
                </a:lnTo>
                <a:lnTo>
                  <a:pt x="735" y="1091"/>
                </a:lnTo>
                <a:lnTo>
                  <a:pt x="724" y="1100"/>
                </a:lnTo>
                <a:lnTo>
                  <a:pt x="711" y="1109"/>
                </a:lnTo>
                <a:lnTo>
                  <a:pt x="697" y="1117"/>
                </a:lnTo>
                <a:lnTo>
                  <a:pt x="682" y="1125"/>
                </a:lnTo>
                <a:lnTo>
                  <a:pt x="666" y="1132"/>
                </a:lnTo>
                <a:lnTo>
                  <a:pt x="649" y="1138"/>
                </a:lnTo>
                <a:lnTo>
                  <a:pt x="631" y="1143"/>
                </a:lnTo>
                <a:lnTo>
                  <a:pt x="613" y="1147"/>
                </a:lnTo>
                <a:lnTo>
                  <a:pt x="595" y="1150"/>
                </a:lnTo>
                <a:lnTo>
                  <a:pt x="575" y="1151"/>
                </a:lnTo>
                <a:lnTo>
                  <a:pt x="555" y="1151"/>
                </a:lnTo>
                <a:lnTo>
                  <a:pt x="536" y="1150"/>
                </a:lnTo>
                <a:lnTo>
                  <a:pt x="524" y="1147"/>
                </a:lnTo>
                <a:lnTo>
                  <a:pt x="513" y="1145"/>
                </a:lnTo>
                <a:lnTo>
                  <a:pt x="501" y="1142"/>
                </a:lnTo>
                <a:lnTo>
                  <a:pt x="490" y="1138"/>
                </a:lnTo>
                <a:lnTo>
                  <a:pt x="478" y="1135"/>
                </a:lnTo>
                <a:lnTo>
                  <a:pt x="467" y="1130"/>
                </a:lnTo>
                <a:lnTo>
                  <a:pt x="455" y="1125"/>
                </a:lnTo>
                <a:lnTo>
                  <a:pt x="444" y="1122"/>
                </a:lnTo>
                <a:lnTo>
                  <a:pt x="431" y="1119"/>
                </a:lnTo>
                <a:lnTo>
                  <a:pt x="419" y="1115"/>
                </a:lnTo>
                <a:lnTo>
                  <a:pt x="408" y="1113"/>
                </a:lnTo>
                <a:lnTo>
                  <a:pt x="395" y="1112"/>
                </a:lnTo>
                <a:lnTo>
                  <a:pt x="383" y="1110"/>
                </a:lnTo>
                <a:lnTo>
                  <a:pt x="370" y="1112"/>
                </a:lnTo>
                <a:lnTo>
                  <a:pt x="357" y="1114"/>
                </a:lnTo>
                <a:lnTo>
                  <a:pt x="345" y="1117"/>
                </a:lnTo>
                <a:lnTo>
                  <a:pt x="355" y="1104"/>
                </a:lnTo>
                <a:lnTo>
                  <a:pt x="365" y="1093"/>
                </a:lnTo>
                <a:lnTo>
                  <a:pt x="376" y="1084"/>
                </a:lnTo>
                <a:lnTo>
                  <a:pt x="386" y="1077"/>
                </a:lnTo>
                <a:lnTo>
                  <a:pt x="399" y="1071"/>
                </a:lnTo>
                <a:lnTo>
                  <a:pt x="413" y="1067"/>
                </a:lnTo>
                <a:lnTo>
                  <a:pt x="429" y="1062"/>
                </a:lnTo>
                <a:lnTo>
                  <a:pt x="447" y="1059"/>
                </a:lnTo>
                <a:lnTo>
                  <a:pt x="468" y="1053"/>
                </a:lnTo>
                <a:lnTo>
                  <a:pt x="489" y="1045"/>
                </a:lnTo>
                <a:lnTo>
                  <a:pt x="508" y="1033"/>
                </a:lnTo>
                <a:lnTo>
                  <a:pt x="528" y="1018"/>
                </a:lnTo>
                <a:lnTo>
                  <a:pt x="544" y="1000"/>
                </a:lnTo>
                <a:lnTo>
                  <a:pt x="558" y="977"/>
                </a:lnTo>
                <a:lnTo>
                  <a:pt x="569" y="949"/>
                </a:lnTo>
                <a:lnTo>
                  <a:pt x="575" y="917"/>
                </a:lnTo>
                <a:lnTo>
                  <a:pt x="560" y="931"/>
                </a:lnTo>
                <a:lnTo>
                  <a:pt x="545" y="946"/>
                </a:lnTo>
                <a:lnTo>
                  <a:pt x="530" y="961"/>
                </a:lnTo>
                <a:lnTo>
                  <a:pt x="515" y="976"/>
                </a:lnTo>
                <a:lnTo>
                  <a:pt x="498" y="989"/>
                </a:lnTo>
                <a:lnTo>
                  <a:pt x="479" y="1001"/>
                </a:lnTo>
                <a:lnTo>
                  <a:pt x="457" y="1010"/>
                </a:lnTo>
                <a:lnTo>
                  <a:pt x="431" y="1016"/>
                </a:lnTo>
                <a:lnTo>
                  <a:pt x="404" y="1021"/>
                </a:lnTo>
                <a:lnTo>
                  <a:pt x="378" y="1025"/>
                </a:lnTo>
                <a:lnTo>
                  <a:pt x="352" y="1032"/>
                </a:lnTo>
                <a:lnTo>
                  <a:pt x="327" y="1039"/>
                </a:lnTo>
                <a:lnTo>
                  <a:pt x="305" y="1048"/>
                </a:lnTo>
                <a:lnTo>
                  <a:pt x="285" y="1059"/>
                </a:lnTo>
                <a:lnTo>
                  <a:pt x="266" y="1070"/>
                </a:lnTo>
                <a:lnTo>
                  <a:pt x="251" y="1083"/>
                </a:lnTo>
                <a:lnTo>
                  <a:pt x="237" y="1098"/>
                </a:lnTo>
                <a:lnTo>
                  <a:pt x="221" y="1113"/>
                </a:lnTo>
                <a:lnTo>
                  <a:pt x="205" y="1128"/>
                </a:lnTo>
                <a:lnTo>
                  <a:pt x="187" y="1140"/>
                </a:lnTo>
                <a:lnTo>
                  <a:pt x="168" y="1151"/>
                </a:lnTo>
                <a:lnTo>
                  <a:pt x="146" y="1155"/>
                </a:lnTo>
                <a:lnTo>
                  <a:pt x="125" y="1154"/>
                </a:lnTo>
                <a:lnTo>
                  <a:pt x="100" y="1145"/>
                </a:lnTo>
                <a:lnTo>
                  <a:pt x="100" y="1137"/>
                </a:lnTo>
                <a:lnTo>
                  <a:pt x="102" y="1129"/>
                </a:lnTo>
                <a:lnTo>
                  <a:pt x="104" y="1120"/>
                </a:lnTo>
                <a:lnTo>
                  <a:pt x="110" y="1109"/>
                </a:lnTo>
                <a:lnTo>
                  <a:pt x="118" y="1099"/>
                </a:lnTo>
                <a:lnTo>
                  <a:pt x="128" y="1087"/>
                </a:lnTo>
                <a:lnTo>
                  <a:pt x="142" y="1075"/>
                </a:lnTo>
                <a:lnTo>
                  <a:pt x="158" y="1061"/>
                </a:lnTo>
                <a:lnTo>
                  <a:pt x="176" y="1046"/>
                </a:lnTo>
                <a:lnTo>
                  <a:pt x="193" y="1027"/>
                </a:lnTo>
                <a:lnTo>
                  <a:pt x="208" y="1008"/>
                </a:lnTo>
                <a:lnTo>
                  <a:pt x="220" y="985"/>
                </a:lnTo>
                <a:lnTo>
                  <a:pt x="229" y="960"/>
                </a:lnTo>
                <a:lnTo>
                  <a:pt x="233" y="933"/>
                </a:lnTo>
                <a:lnTo>
                  <a:pt x="232" y="904"/>
                </a:lnTo>
                <a:lnTo>
                  <a:pt x="225" y="874"/>
                </a:lnTo>
                <a:lnTo>
                  <a:pt x="221" y="893"/>
                </a:lnTo>
                <a:lnTo>
                  <a:pt x="216" y="913"/>
                </a:lnTo>
                <a:lnTo>
                  <a:pt x="209" y="935"/>
                </a:lnTo>
                <a:lnTo>
                  <a:pt x="202" y="956"/>
                </a:lnTo>
                <a:lnTo>
                  <a:pt x="193" y="976"/>
                </a:lnTo>
                <a:lnTo>
                  <a:pt x="182" y="993"/>
                </a:lnTo>
                <a:lnTo>
                  <a:pt x="171" y="1006"/>
                </a:lnTo>
                <a:lnTo>
                  <a:pt x="158" y="1014"/>
                </a:lnTo>
                <a:lnTo>
                  <a:pt x="145" y="1018"/>
                </a:lnTo>
                <a:lnTo>
                  <a:pt x="135" y="1023"/>
                </a:lnTo>
                <a:lnTo>
                  <a:pt x="125" y="1026"/>
                </a:lnTo>
                <a:lnTo>
                  <a:pt x="117" y="1032"/>
                </a:lnTo>
                <a:lnTo>
                  <a:pt x="107" y="1038"/>
                </a:lnTo>
                <a:lnTo>
                  <a:pt x="100" y="1045"/>
                </a:lnTo>
                <a:lnTo>
                  <a:pt x="92" y="1054"/>
                </a:lnTo>
                <a:lnTo>
                  <a:pt x="85" y="1064"/>
                </a:lnTo>
                <a:lnTo>
                  <a:pt x="87" y="1031"/>
                </a:lnTo>
                <a:lnTo>
                  <a:pt x="93" y="1000"/>
                </a:lnTo>
                <a:lnTo>
                  <a:pt x="103" y="968"/>
                </a:lnTo>
                <a:lnTo>
                  <a:pt x="113" y="933"/>
                </a:lnTo>
                <a:lnTo>
                  <a:pt x="117" y="913"/>
                </a:lnTo>
                <a:lnTo>
                  <a:pt x="120" y="890"/>
                </a:lnTo>
                <a:lnTo>
                  <a:pt x="122" y="865"/>
                </a:lnTo>
                <a:lnTo>
                  <a:pt x="122" y="839"/>
                </a:lnTo>
                <a:lnTo>
                  <a:pt x="120" y="811"/>
                </a:lnTo>
                <a:lnTo>
                  <a:pt x="114" y="784"/>
                </a:lnTo>
                <a:lnTo>
                  <a:pt x="105" y="758"/>
                </a:lnTo>
                <a:lnTo>
                  <a:pt x="91" y="734"/>
                </a:lnTo>
                <a:lnTo>
                  <a:pt x="75" y="710"/>
                </a:lnTo>
                <a:lnTo>
                  <a:pt x="58" y="683"/>
                </a:lnTo>
                <a:lnTo>
                  <a:pt x="42" y="655"/>
                </a:lnTo>
                <a:lnTo>
                  <a:pt x="27" y="625"/>
                </a:lnTo>
                <a:lnTo>
                  <a:pt x="14" y="595"/>
                </a:lnTo>
                <a:lnTo>
                  <a:pt x="5" y="566"/>
                </a:lnTo>
                <a:lnTo>
                  <a:pt x="0" y="536"/>
                </a:lnTo>
                <a:lnTo>
                  <a:pt x="0" y="507"/>
                </a:lnTo>
                <a:lnTo>
                  <a:pt x="5" y="480"/>
                </a:lnTo>
                <a:lnTo>
                  <a:pt x="11" y="455"/>
                </a:lnTo>
                <a:lnTo>
                  <a:pt x="17" y="432"/>
                </a:lnTo>
                <a:lnTo>
                  <a:pt x="27" y="410"/>
                </a:lnTo>
                <a:lnTo>
                  <a:pt x="35" y="390"/>
                </a:lnTo>
                <a:lnTo>
                  <a:pt x="45" y="372"/>
                </a:lnTo>
                <a:lnTo>
                  <a:pt x="54" y="355"/>
                </a:lnTo>
                <a:lnTo>
                  <a:pt x="62" y="339"/>
                </a:lnTo>
                <a:lnTo>
                  <a:pt x="70" y="321"/>
                </a:lnTo>
                <a:lnTo>
                  <a:pt x="78" y="302"/>
                </a:lnTo>
                <a:lnTo>
                  <a:pt x="88" y="281"/>
                </a:lnTo>
                <a:lnTo>
                  <a:pt x="95" y="259"/>
                </a:lnTo>
                <a:lnTo>
                  <a:pt x="102" y="238"/>
                </a:lnTo>
                <a:lnTo>
                  <a:pt x="106" y="218"/>
                </a:lnTo>
                <a:lnTo>
                  <a:pt x="110" y="199"/>
                </a:lnTo>
                <a:lnTo>
                  <a:pt x="110" y="184"/>
                </a:lnTo>
                <a:lnTo>
                  <a:pt x="119" y="180"/>
                </a:lnTo>
                <a:lnTo>
                  <a:pt x="133" y="173"/>
                </a:lnTo>
                <a:lnTo>
                  <a:pt x="149" y="165"/>
                </a:lnTo>
                <a:lnTo>
                  <a:pt x="167" y="155"/>
                </a:lnTo>
                <a:lnTo>
                  <a:pt x="184" y="146"/>
                </a:lnTo>
                <a:lnTo>
                  <a:pt x="201" y="138"/>
                </a:lnTo>
                <a:lnTo>
                  <a:pt x="213" y="131"/>
                </a:lnTo>
                <a:lnTo>
                  <a:pt x="221" y="12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4" name="Freeform 20"/>
          <p:cNvSpPr/>
          <p:nvPr/>
        </p:nvSpPr>
        <p:spPr>
          <a:xfrm>
            <a:off x="2014560" y="4151160"/>
            <a:ext cx="217440" cy="198720"/>
          </a:xfrm>
          <a:custGeom>
            <a:avLst/>
            <a:gdLst/>
            <a:ahLst/>
            <a:rect l="l" t="t" r="r" b="b"/>
            <a:pathLst>
              <a:path w="274" h="250">
                <a:moveTo>
                  <a:pt x="0" y="0"/>
                </a:moveTo>
                <a:lnTo>
                  <a:pt x="15" y="2"/>
                </a:lnTo>
                <a:lnTo>
                  <a:pt x="36" y="3"/>
                </a:lnTo>
                <a:lnTo>
                  <a:pt x="59" y="5"/>
                </a:lnTo>
                <a:lnTo>
                  <a:pt x="84" y="7"/>
                </a:lnTo>
                <a:lnTo>
                  <a:pt x="109" y="11"/>
                </a:lnTo>
                <a:lnTo>
                  <a:pt x="135" y="16"/>
                </a:lnTo>
                <a:lnTo>
                  <a:pt x="159" y="24"/>
                </a:lnTo>
                <a:lnTo>
                  <a:pt x="181" y="34"/>
                </a:lnTo>
                <a:lnTo>
                  <a:pt x="203" y="48"/>
                </a:lnTo>
                <a:lnTo>
                  <a:pt x="224" y="66"/>
                </a:lnTo>
                <a:lnTo>
                  <a:pt x="245" y="87"/>
                </a:lnTo>
                <a:lnTo>
                  <a:pt x="262" y="113"/>
                </a:lnTo>
                <a:lnTo>
                  <a:pt x="273" y="142"/>
                </a:lnTo>
                <a:lnTo>
                  <a:pt x="274" y="174"/>
                </a:lnTo>
                <a:lnTo>
                  <a:pt x="264" y="210"/>
                </a:lnTo>
                <a:lnTo>
                  <a:pt x="238" y="250"/>
                </a:lnTo>
                <a:lnTo>
                  <a:pt x="243" y="228"/>
                </a:lnTo>
                <a:lnTo>
                  <a:pt x="245" y="205"/>
                </a:lnTo>
                <a:lnTo>
                  <a:pt x="248" y="181"/>
                </a:lnTo>
                <a:lnTo>
                  <a:pt x="245" y="157"/>
                </a:lnTo>
                <a:lnTo>
                  <a:pt x="239" y="134"/>
                </a:lnTo>
                <a:lnTo>
                  <a:pt x="228" y="111"/>
                </a:lnTo>
                <a:lnTo>
                  <a:pt x="211" y="90"/>
                </a:lnTo>
                <a:lnTo>
                  <a:pt x="186" y="71"/>
                </a:lnTo>
                <a:lnTo>
                  <a:pt x="171" y="63"/>
                </a:lnTo>
                <a:lnTo>
                  <a:pt x="158" y="56"/>
                </a:lnTo>
                <a:lnTo>
                  <a:pt x="144" y="49"/>
                </a:lnTo>
                <a:lnTo>
                  <a:pt x="129" y="44"/>
                </a:lnTo>
                <a:lnTo>
                  <a:pt x="115" y="39"/>
                </a:lnTo>
                <a:lnTo>
                  <a:pt x="102" y="34"/>
                </a:lnTo>
                <a:lnTo>
                  <a:pt x="89" y="30"/>
                </a:lnTo>
                <a:lnTo>
                  <a:pt x="76" y="26"/>
                </a:lnTo>
                <a:lnTo>
                  <a:pt x="64" y="23"/>
                </a:lnTo>
                <a:lnTo>
                  <a:pt x="53" y="19"/>
                </a:lnTo>
                <a:lnTo>
                  <a:pt x="41" y="17"/>
                </a:lnTo>
                <a:lnTo>
                  <a:pt x="32" y="14"/>
                </a:lnTo>
                <a:lnTo>
                  <a:pt x="23" y="10"/>
                </a:lnTo>
                <a:lnTo>
                  <a:pt x="14" y="7"/>
                </a:lnTo>
                <a:lnTo>
                  <a:pt x="7" y="3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5" name="Freeform 21"/>
          <p:cNvSpPr/>
          <p:nvPr/>
        </p:nvSpPr>
        <p:spPr>
          <a:xfrm>
            <a:off x="2130480" y="4246560"/>
            <a:ext cx="169920" cy="185760"/>
          </a:xfrm>
          <a:custGeom>
            <a:avLst/>
            <a:gdLst/>
            <a:ahLst/>
            <a:rect l="l" t="t" r="r" b="b"/>
            <a:pathLst>
              <a:path w="214" h="235">
                <a:moveTo>
                  <a:pt x="0" y="235"/>
                </a:moveTo>
                <a:lnTo>
                  <a:pt x="11" y="221"/>
                </a:lnTo>
                <a:lnTo>
                  <a:pt x="21" y="209"/>
                </a:lnTo>
                <a:lnTo>
                  <a:pt x="32" y="200"/>
                </a:lnTo>
                <a:lnTo>
                  <a:pt x="45" y="192"/>
                </a:lnTo>
                <a:lnTo>
                  <a:pt x="60" y="184"/>
                </a:lnTo>
                <a:lnTo>
                  <a:pt x="76" y="176"/>
                </a:lnTo>
                <a:lnTo>
                  <a:pt x="93" y="168"/>
                </a:lnTo>
                <a:lnTo>
                  <a:pt x="114" y="158"/>
                </a:lnTo>
                <a:lnTo>
                  <a:pt x="135" y="145"/>
                </a:lnTo>
                <a:lnTo>
                  <a:pt x="155" y="131"/>
                </a:lnTo>
                <a:lnTo>
                  <a:pt x="171" y="114"/>
                </a:lnTo>
                <a:lnTo>
                  <a:pt x="182" y="95"/>
                </a:lnTo>
                <a:lnTo>
                  <a:pt x="190" y="75"/>
                </a:lnTo>
                <a:lnTo>
                  <a:pt x="193" y="52"/>
                </a:lnTo>
                <a:lnTo>
                  <a:pt x="188" y="26"/>
                </a:lnTo>
                <a:lnTo>
                  <a:pt x="178" y="0"/>
                </a:lnTo>
                <a:lnTo>
                  <a:pt x="194" y="15"/>
                </a:lnTo>
                <a:lnTo>
                  <a:pt x="205" y="34"/>
                </a:lnTo>
                <a:lnTo>
                  <a:pt x="212" y="58"/>
                </a:lnTo>
                <a:lnTo>
                  <a:pt x="214" y="83"/>
                </a:lnTo>
                <a:lnTo>
                  <a:pt x="211" y="108"/>
                </a:lnTo>
                <a:lnTo>
                  <a:pt x="201" y="132"/>
                </a:lnTo>
                <a:lnTo>
                  <a:pt x="182" y="154"/>
                </a:lnTo>
                <a:lnTo>
                  <a:pt x="157" y="170"/>
                </a:lnTo>
                <a:lnTo>
                  <a:pt x="137" y="178"/>
                </a:lnTo>
                <a:lnTo>
                  <a:pt x="116" y="186"/>
                </a:lnTo>
                <a:lnTo>
                  <a:pt x="97" y="193"/>
                </a:lnTo>
                <a:lnTo>
                  <a:pt x="76" y="199"/>
                </a:lnTo>
                <a:lnTo>
                  <a:pt x="57" y="207"/>
                </a:lnTo>
                <a:lnTo>
                  <a:pt x="37" y="214"/>
                </a:lnTo>
                <a:lnTo>
                  <a:pt x="17" y="223"/>
                </a:lnTo>
                <a:lnTo>
                  <a:pt x="0" y="23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6" name="Freeform 22"/>
          <p:cNvSpPr/>
          <p:nvPr/>
        </p:nvSpPr>
        <p:spPr>
          <a:xfrm>
            <a:off x="2214720" y="4098960"/>
            <a:ext cx="214200" cy="66600"/>
          </a:xfrm>
          <a:custGeom>
            <a:avLst/>
            <a:gdLst/>
            <a:ahLst/>
            <a:rect l="l" t="t" r="r" b="b"/>
            <a:pathLst>
              <a:path w="270" h="83">
                <a:moveTo>
                  <a:pt x="0" y="13"/>
                </a:moveTo>
                <a:lnTo>
                  <a:pt x="9" y="18"/>
                </a:lnTo>
                <a:lnTo>
                  <a:pt x="20" y="22"/>
                </a:lnTo>
                <a:lnTo>
                  <a:pt x="34" y="27"/>
                </a:lnTo>
                <a:lnTo>
                  <a:pt x="47" y="30"/>
                </a:lnTo>
                <a:lnTo>
                  <a:pt x="63" y="34"/>
                </a:lnTo>
                <a:lnTo>
                  <a:pt x="80" y="37"/>
                </a:lnTo>
                <a:lnTo>
                  <a:pt x="98" y="39"/>
                </a:lnTo>
                <a:lnTo>
                  <a:pt x="116" y="41"/>
                </a:lnTo>
                <a:lnTo>
                  <a:pt x="136" y="42"/>
                </a:lnTo>
                <a:lnTo>
                  <a:pt x="156" y="41"/>
                </a:lnTo>
                <a:lnTo>
                  <a:pt x="175" y="38"/>
                </a:lnTo>
                <a:lnTo>
                  <a:pt x="195" y="35"/>
                </a:lnTo>
                <a:lnTo>
                  <a:pt x="214" y="29"/>
                </a:lnTo>
                <a:lnTo>
                  <a:pt x="234" y="22"/>
                </a:lnTo>
                <a:lnTo>
                  <a:pt x="252" y="12"/>
                </a:lnTo>
                <a:lnTo>
                  <a:pt x="270" y="0"/>
                </a:lnTo>
                <a:lnTo>
                  <a:pt x="259" y="18"/>
                </a:lnTo>
                <a:lnTo>
                  <a:pt x="245" y="34"/>
                </a:lnTo>
                <a:lnTo>
                  <a:pt x="232" y="47"/>
                </a:lnTo>
                <a:lnTo>
                  <a:pt x="214" y="59"/>
                </a:lnTo>
                <a:lnTo>
                  <a:pt x="197" y="68"/>
                </a:lnTo>
                <a:lnTo>
                  <a:pt x="179" y="75"/>
                </a:lnTo>
                <a:lnTo>
                  <a:pt x="160" y="81"/>
                </a:lnTo>
                <a:lnTo>
                  <a:pt x="141" y="83"/>
                </a:lnTo>
                <a:lnTo>
                  <a:pt x="120" y="83"/>
                </a:lnTo>
                <a:lnTo>
                  <a:pt x="100" y="81"/>
                </a:lnTo>
                <a:lnTo>
                  <a:pt x="81" y="76"/>
                </a:lnTo>
                <a:lnTo>
                  <a:pt x="62" y="68"/>
                </a:lnTo>
                <a:lnTo>
                  <a:pt x="45" y="59"/>
                </a:lnTo>
                <a:lnTo>
                  <a:pt x="29" y="46"/>
                </a:lnTo>
                <a:lnTo>
                  <a:pt x="14" y="31"/>
                </a:lnTo>
                <a:lnTo>
                  <a:pt x="0" y="1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7" name="Freeform 23"/>
          <p:cNvSpPr/>
          <p:nvPr/>
        </p:nvSpPr>
        <p:spPr>
          <a:xfrm>
            <a:off x="2028960" y="3930480"/>
            <a:ext cx="145800" cy="209880"/>
          </a:xfrm>
          <a:custGeom>
            <a:avLst/>
            <a:gdLst/>
            <a:ahLst/>
            <a:rect l="l" t="t" r="r" b="b"/>
            <a:pathLst>
              <a:path w="185" h="264">
                <a:moveTo>
                  <a:pt x="0" y="75"/>
                </a:moveTo>
                <a:lnTo>
                  <a:pt x="22" y="144"/>
                </a:lnTo>
                <a:lnTo>
                  <a:pt x="99" y="102"/>
                </a:lnTo>
                <a:lnTo>
                  <a:pt x="96" y="117"/>
                </a:lnTo>
                <a:lnTo>
                  <a:pt x="92" y="134"/>
                </a:lnTo>
                <a:lnTo>
                  <a:pt x="90" y="153"/>
                </a:lnTo>
                <a:lnTo>
                  <a:pt x="90" y="175"/>
                </a:lnTo>
                <a:lnTo>
                  <a:pt x="91" y="197"/>
                </a:lnTo>
                <a:lnTo>
                  <a:pt x="97" y="220"/>
                </a:lnTo>
                <a:lnTo>
                  <a:pt x="106" y="242"/>
                </a:lnTo>
                <a:lnTo>
                  <a:pt x="120" y="264"/>
                </a:lnTo>
                <a:lnTo>
                  <a:pt x="171" y="243"/>
                </a:lnTo>
                <a:lnTo>
                  <a:pt x="165" y="226"/>
                </a:lnTo>
                <a:lnTo>
                  <a:pt x="158" y="208"/>
                </a:lnTo>
                <a:lnTo>
                  <a:pt x="151" y="188"/>
                </a:lnTo>
                <a:lnTo>
                  <a:pt x="147" y="166"/>
                </a:lnTo>
                <a:lnTo>
                  <a:pt x="147" y="143"/>
                </a:lnTo>
                <a:lnTo>
                  <a:pt x="151" y="119"/>
                </a:lnTo>
                <a:lnTo>
                  <a:pt x="164" y="94"/>
                </a:lnTo>
                <a:lnTo>
                  <a:pt x="185" y="67"/>
                </a:lnTo>
                <a:lnTo>
                  <a:pt x="163" y="0"/>
                </a:lnTo>
                <a:lnTo>
                  <a:pt x="0" y="7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8" name="Freeform 24"/>
          <p:cNvSpPr/>
          <p:nvPr/>
        </p:nvSpPr>
        <p:spPr>
          <a:xfrm>
            <a:off x="2027160" y="4530600"/>
            <a:ext cx="490680" cy="84240"/>
          </a:xfrm>
          <a:custGeom>
            <a:avLst/>
            <a:gdLst/>
            <a:ahLst/>
            <a:rect l="l" t="t" r="r" b="b"/>
            <a:pathLst>
              <a:path w="617" h="106">
                <a:moveTo>
                  <a:pt x="0" y="47"/>
                </a:moveTo>
                <a:lnTo>
                  <a:pt x="7" y="45"/>
                </a:lnTo>
                <a:lnTo>
                  <a:pt x="16" y="41"/>
                </a:lnTo>
                <a:lnTo>
                  <a:pt x="25" y="38"/>
                </a:lnTo>
                <a:lnTo>
                  <a:pt x="37" y="33"/>
                </a:lnTo>
                <a:lnTo>
                  <a:pt x="48" y="30"/>
                </a:lnTo>
                <a:lnTo>
                  <a:pt x="61" y="27"/>
                </a:lnTo>
                <a:lnTo>
                  <a:pt x="74" y="23"/>
                </a:lnTo>
                <a:lnTo>
                  <a:pt x="88" y="20"/>
                </a:lnTo>
                <a:lnTo>
                  <a:pt x="101" y="17"/>
                </a:lnTo>
                <a:lnTo>
                  <a:pt x="115" y="15"/>
                </a:lnTo>
                <a:lnTo>
                  <a:pt x="129" y="14"/>
                </a:lnTo>
                <a:lnTo>
                  <a:pt x="143" y="14"/>
                </a:lnTo>
                <a:lnTo>
                  <a:pt x="155" y="14"/>
                </a:lnTo>
                <a:lnTo>
                  <a:pt x="168" y="16"/>
                </a:lnTo>
                <a:lnTo>
                  <a:pt x="181" y="18"/>
                </a:lnTo>
                <a:lnTo>
                  <a:pt x="192" y="23"/>
                </a:lnTo>
                <a:lnTo>
                  <a:pt x="204" y="28"/>
                </a:lnTo>
                <a:lnTo>
                  <a:pt x="217" y="32"/>
                </a:lnTo>
                <a:lnTo>
                  <a:pt x="229" y="38"/>
                </a:lnTo>
                <a:lnTo>
                  <a:pt x="244" y="41"/>
                </a:lnTo>
                <a:lnTo>
                  <a:pt x="259" y="46"/>
                </a:lnTo>
                <a:lnTo>
                  <a:pt x="275" y="50"/>
                </a:lnTo>
                <a:lnTo>
                  <a:pt x="291" y="53"/>
                </a:lnTo>
                <a:lnTo>
                  <a:pt x="309" y="56"/>
                </a:lnTo>
                <a:lnTo>
                  <a:pt x="325" y="59"/>
                </a:lnTo>
                <a:lnTo>
                  <a:pt x="342" y="61"/>
                </a:lnTo>
                <a:lnTo>
                  <a:pt x="359" y="63"/>
                </a:lnTo>
                <a:lnTo>
                  <a:pt x="376" y="63"/>
                </a:lnTo>
                <a:lnTo>
                  <a:pt x="392" y="63"/>
                </a:lnTo>
                <a:lnTo>
                  <a:pt x="408" y="63"/>
                </a:lnTo>
                <a:lnTo>
                  <a:pt x="423" y="62"/>
                </a:lnTo>
                <a:lnTo>
                  <a:pt x="437" y="60"/>
                </a:lnTo>
                <a:lnTo>
                  <a:pt x="463" y="55"/>
                </a:lnTo>
                <a:lnTo>
                  <a:pt x="488" y="52"/>
                </a:lnTo>
                <a:lnTo>
                  <a:pt x="514" y="48"/>
                </a:lnTo>
                <a:lnTo>
                  <a:pt x="538" y="44"/>
                </a:lnTo>
                <a:lnTo>
                  <a:pt x="560" y="37"/>
                </a:lnTo>
                <a:lnTo>
                  <a:pt x="582" y="28"/>
                </a:lnTo>
                <a:lnTo>
                  <a:pt x="600" y="16"/>
                </a:lnTo>
                <a:lnTo>
                  <a:pt x="617" y="0"/>
                </a:lnTo>
                <a:lnTo>
                  <a:pt x="617" y="48"/>
                </a:lnTo>
                <a:lnTo>
                  <a:pt x="609" y="53"/>
                </a:lnTo>
                <a:lnTo>
                  <a:pt x="597" y="59"/>
                </a:lnTo>
                <a:lnTo>
                  <a:pt x="581" y="67"/>
                </a:lnTo>
                <a:lnTo>
                  <a:pt x="561" y="76"/>
                </a:lnTo>
                <a:lnTo>
                  <a:pt x="539" y="85"/>
                </a:lnTo>
                <a:lnTo>
                  <a:pt x="515" y="93"/>
                </a:lnTo>
                <a:lnTo>
                  <a:pt x="490" y="99"/>
                </a:lnTo>
                <a:lnTo>
                  <a:pt x="463" y="104"/>
                </a:lnTo>
                <a:lnTo>
                  <a:pt x="449" y="105"/>
                </a:lnTo>
                <a:lnTo>
                  <a:pt x="434" y="106"/>
                </a:lnTo>
                <a:lnTo>
                  <a:pt x="418" y="106"/>
                </a:lnTo>
                <a:lnTo>
                  <a:pt x="402" y="106"/>
                </a:lnTo>
                <a:lnTo>
                  <a:pt x="385" y="106"/>
                </a:lnTo>
                <a:lnTo>
                  <a:pt x="367" y="106"/>
                </a:lnTo>
                <a:lnTo>
                  <a:pt x="350" y="105"/>
                </a:lnTo>
                <a:lnTo>
                  <a:pt x="332" y="103"/>
                </a:lnTo>
                <a:lnTo>
                  <a:pt x="314" y="101"/>
                </a:lnTo>
                <a:lnTo>
                  <a:pt x="297" y="99"/>
                </a:lnTo>
                <a:lnTo>
                  <a:pt x="280" y="96"/>
                </a:lnTo>
                <a:lnTo>
                  <a:pt x="264" y="92"/>
                </a:lnTo>
                <a:lnTo>
                  <a:pt x="249" y="88"/>
                </a:lnTo>
                <a:lnTo>
                  <a:pt x="234" y="83"/>
                </a:lnTo>
                <a:lnTo>
                  <a:pt x="220" y="77"/>
                </a:lnTo>
                <a:lnTo>
                  <a:pt x="207" y="71"/>
                </a:lnTo>
                <a:lnTo>
                  <a:pt x="196" y="66"/>
                </a:lnTo>
                <a:lnTo>
                  <a:pt x="183" y="60"/>
                </a:lnTo>
                <a:lnTo>
                  <a:pt x="170" y="55"/>
                </a:lnTo>
                <a:lnTo>
                  <a:pt x="157" y="52"/>
                </a:lnTo>
                <a:lnTo>
                  <a:pt x="144" y="48"/>
                </a:lnTo>
                <a:lnTo>
                  <a:pt x="130" y="46"/>
                </a:lnTo>
                <a:lnTo>
                  <a:pt x="117" y="45"/>
                </a:lnTo>
                <a:lnTo>
                  <a:pt x="104" y="44"/>
                </a:lnTo>
                <a:lnTo>
                  <a:pt x="90" y="43"/>
                </a:lnTo>
                <a:lnTo>
                  <a:pt x="77" y="43"/>
                </a:lnTo>
                <a:lnTo>
                  <a:pt x="63" y="43"/>
                </a:lnTo>
                <a:lnTo>
                  <a:pt x="51" y="43"/>
                </a:lnTo>
                <a:lnTo>
                  <a:pt x="37" y="44"/>
                </a:lnTo>
                <a:lnTo>
                  <a:pt x="24" y="45"/>
                </a:lnTo>
                <a:lnTo>
                  <a:pt x="11" y="46"/>
                </a:lnTo>
                <a:lnTo>
                  <a:pt x="0" y="4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9" name="Freeform 25"/>
          <p:cNvSpPr/>
          <p:nvPr/>
        </p:nvSpPr>
        <p:spPr>
          <a:xfrm>
            <a:off x="2349360" y="4637160"/>
            <a:ext cx="38160" cy="264960"/>
          </a:xfrm>
          <a:custGeom>
            <a:avLst/>
            <a:gdLst/>
            <a:ahLst/>
            <a:rect l="l" t="t" r="r" b="b"/>
            <a:pathLst>
              <a:path w="47" h="333">
                <a:moveTo>
                  <a:pt x="13" y="0"/>
                </a:moveTo>
                <a:lnTo>
                  <a:pt x="19" y="26"/>
                </a:lnTo>
                <a:lnTo>
                  <a:pt x="23" y="70"/>
                </a:lnTo>
                <a:lnTo>
                  <a:pt x="20" y="122"/>
                </a:lnTo>
                <a:lnTo>
                  <a:pt x="10" y="170"/>
                </a:lnTo>
                <a:lnTo>
                  <a:pt x="1" y="213"/>
                </a:lnTo>
                <a:lnTo>
                  <a:pt x="0" y="253"/>
                </a:lnTo>
                <a:lnTo>
                  <a:pt x="7" y="294"/>
                </a:lnTo>
                <a:lnTo>
                  <a:pt x="22" y="333"/>
                </a:lnTo>
                <a:lnTo>
                  <a:pt x="18" y="298"/>
                </a:lnTo>
                <a:lnTo>
                  <a:pt x="17" y="257"/>
                </a:lnTo>
                <a:lnTo>
                  <a:pt x="19" y="218"/>
                </a:lnTo>
                <a:lnTo>
                  <a:pt x="30" y="184"/>
                </a:lnTo>
                <a:lnTo>
                  <a:pt x="41" y="148"/>
                </a:lnTo>
                <a:lnTo>
                  <a:pt x="47" y="101"/>
                </a:lnTo>
                <a:lnTo>
                  <a:pt x="46" y="49"/>
                </a:lnTo>
                <a:lnTo>
                  <a:pt x="40" y="0"/>
                </a:lnTo>
                <a:lnTo>
                  <a:pt x="13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0" name="Freeform 26"/>
          <p:cNvSpPr/>
          <p:nvPr/>
        </p:nvSpPr>
        <p:spPr>
          <a:xfrm>
            <a:off x="2486160" y="4606920"/>
            <a:ext cx="55440" cy="179280"/>
          </a:xfrm>
          <a:custGeom>
            <a:avLst/>
            <a:gdLst/>
            <a:ahLst/>
            <a:rect l="l" t="t" r="r" b="b"/>
            <a:pathLst>
              <a:path w="70" h="225">
                <a:moveTo>
                  <a:pt x="22" y="0"/>
                </a:moveTo>
                <a:lnTo>
                  <a:pt x="0" y="8"/>
                </a:lnTo>
                <a:lnTo>
                  <a:pt x="8" y="24"/>
                </a:lnTo>
                <a:lnTo>
                  <a:pt x="17" y="43"/>
                </a:lnTo>
                <a:lnTo>
                  <a:pt x="28" y="66"/>
                </a:lnTo>
                <a:lnTo>
                  <a:pt x="39" y="92"/>
                </a:lnTo>
                <a:lnTo>
                  <a:pt x="48" y="122"/>
                </a:lnTo>
                <a:lnTo>
                  <a:pt x="54" y="154"/>
                </a:lnTo>
                <a:lnTo>
                  <a:pt x="57" y="189"/>
                </a:lnTo>
                <a:lnTo>
                  <a:pt x="54" y="225"/>
                </a:lnTo>
                <a:lnTo>
                  <a:pt x="65" y="200"/>
                </a:lnTo>
                <a:lnTo>
                  <a:pt x="70" y="172"/>
                </a:lnTo>
                <a:lnTo>
                  <a:pt x="70" y="142"/>
                </a:lnTo>
                <a:lnTo>
                  <a:pt x="67" y="111"/>
                </a:lnTo>
                <a:lnTo>
                  <a:pt x="59" y="81"/>
                </a:lnTo>
                <a:lnTo>
                  <a:pt x="48" y="51"/>
                </a:lnTo>
                <a:lnTo>
                  <a:pt x="36" y="24"/>
                </a:lnTo>
                <a:lnTo>
                  <a:pt x="22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1" name="Freeform 27"/>
          <p:cNvSpPr/>
          <p:nvPr/>
        </p:nvSpPr>
        <p:spPr>
          <a:xfrm>
            <a:off x="2206800" y="4621320"/>
            <a:ext cx="36360" cy="177840"/>
          </a:xfrm>
          <a:custGeom>
            <a:avLst/>
            <a:gdLst/>
            <a:ahLst/>
            <a:rect l="l" t="t" r="r" b="b"/>
            <a:pathLst>
              <a:path w="47" h="224">
                <a:moveTo>
                  <a:pt x="45" y="13"/>
                </a:moveTo>
                <a:lnTo>
                  <a:pt x="46" y="31"/>
                </a:lnTo>
                <a:lnTo>
                  <a:pt x="47" y="54"/>
                </a:lnTo>
                <a:lnTo>
                  <a:pt x="45" y="82"/>
                </a:lnTo>
                <a:lnTo>
                  <a:pt x="41" y="111"/>
                </a:lnTo>
                <a:lnTo>
                  <a:pt x="35" y="142"/>
                </a:lnTo>
                <a:lnTo>
                  <a:pt x="26" y="172"/>
                </a:lnTo>
                <a:lnTo>
                  <a:pt x="15" y="199"/>
                </a:lnTo>
                <a:lnTo>
                  <a:pt x="0" y="224"/>
                </a:lnTo>
                <a:lnTo>
                  <a:pt x="8" y="174"/>
                </a:lnTo>
                <a:lnTo>
                  <a:pt x="17" y="116"/>
                </a:lnTo>
                <a:lnTo>
                  <a:pt x="22" y="57"/>
                </a:lnTo>
                <a:lnTo>
                  <a:pt x="18" y="0"/>
                </a:lnTo>
                <a:lnTo>
                  <a:pt x="45" y="1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2" name="Freeform 28"/>
          <p:cNvSpPr/>
          <p:nvPr/>
        </p:nvSpPr>
        <p:spPr>
          <a:xfrm>
            <a:off x="1978200" y="4597560"/>
            <a:ext cx="93600" cy="271440"/>
          </a:xfrm>
          <a:custGeom>
            <a:avLst/>
            <a:gdLst/>
            <a:ahLst/>
            <a:rect l="l" t="t" r="r" b="b"/>
            <a:pathLst>
              <a:path w="117" h="341">
                <a:moveTo>
                  <a:pt x="117" y="4"/>
                </a:moveTo>
                <a:lnTo>
                  <a:pt x="90" y="0"/>
                </a:lnTo>
                <a:lnTo>
                  <a:pt x="78" y="14"/>
                </a:lnTo>
                <a:lnTo>
                  <a:pt x="66" y="34"/>
                </a:lnTo>
                <a:lnTo>
                  <a:pt x="54" y="57"/>
                </a:lnTo>
                <a:lnTo>
                  <a:pt x="45" y="82"/>
                </a:lnTo>
                <a:lnTo>
                  <a:pt x="36" y="111"/>
                </a:lnTo>
                <a:lnTo>
                  <a:pt x="30" y="140"/>
                </a:lnTo>
                <a:lnTo>
                  <a:pt x="26" y="169"/>
                </a:lnTo>
                <a:lnTo>
                  <a:pt x="26" y="198"/>
                </a:lnTo>
                <a:lnTo>
                  <a:pt x="29" y="247"/>
                </a:lnTo>
                <a:lnTo>
                  <a:pt x="25" y="285"/>
                </a:lnTo>
                <a:lnTo>
                  <a:pt x="17" y="315"/>
                </a:lnTo>
                <a:lnTo>
                  <a:pt x="0" y="341"/>
                </a:lnTo>
                <a:lnTo>
                  <a:pt x="15" y="331"/>
                </a:lnTo>
                <a:lnTo>
                  <a:pt x="26" y="318"/>
                </a:lnTo>
                <a:lnTo>
                  <a:pt x="34" y="302"/>
                </a:lnTo>
                <a:lnTo>
                  <a:pt x="40" y="282"/>
                </a:lnTo>
                <a:lnTo>
                  <a:pt x="44" y="263"/>
                </a:lnTo>
                <a:lnTo>
                  <a:pt x="45" y="241"/>
                </a:lnTo>
                <a:lnTo>
                  <a:pt x="45" y="219"/>
                </a:lnTo>
                <a:lnTo>
                  <a:pt x="45" y="198"/>
                </a:lnTo>
                <a:lnTo>
                  <a:pt x="45" y="175"/>
                </a:lnTo>
                <a:lnTo>
                  <a:pt x="48" y="148"/>
                </a:lnTo>
                <a:lnTo>
                  <a:pt x="55" y="119"/>
                </a:lnTo>
                <a:lnTo>
                  <a:pt x="63" y="90"/>
                </a:lnTo>
                <a:lnTo>
                  <a:pt x="74" y="62"/>
                </a:lnTo>
                <a:lnTo>
                  <a:pt x="86" y="37"/>
                </a:lnTo>
                <a:lnTo>
                  <a:pt x="101" y="17"/>
                </a:lnTo>
                <a:lnTo>
                  <a:pt x="117" y="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3" name="Freeform 29"/>
          <p:cNvSpPr/>
          <p:nvPr/>
        </p:nvSpPr>
        <p:spPr>
          <a:xfrm>
            <a:off x="1639800" y="5267160"/>
            <a:ext cx="316080" cy="648000"/>
          </a:xfrm>
          <a:custGeom>
            <a:avLst/>
            <a:gdLst/>
            <a:ahLst/>
            <a:rect l="l" t="t" r="r" b="b"/>
            <a:pathLst>
              <a:path w="397" h="817">
                <a:moveTo>
                  <a:pt x="14" y="284"/>
                </a:moveTo>
                <a:lnTo>
                  <a:pt x="10" y="300"/>
                </a:lnTo>
                <a:lnTo>
                  <a:pt x="5" y="316"/>
                </a:lnTo>
                <a:lnTo>
                  <a:pt x="1" y="336"/>
                </a:lnTo>
                <a:lnTo>
                  <a:pt x="0" y="356"/>
                </a:lnTo>
                <a:lnTo>
                  <a:pt x="0" y="382"/>
                </a:lnTo>
                <a:lnTo>
                  <a:pt x="4" y="411"/>
                </a:lnTo>
                <a:lnTo>
                  <a:pt x="14" y="445"/>
                </a:lnTo>
                <a:lnTo>
                  <a:pt x="30" y="484"/>
                </a:lnTo>
                <a:lnTo>
                  <a:pt x="46" y="519"/>
                </a:lnTo>
                <a:lnTo>
                  <a:pt x="64" y="563"/>
                </a:lnTo>
                <a:lnTo>
                  <a:pt x="86" y="610"/>
                </a:lnTo>
                <a:lnTo>
                  <a:pt x="108" y="661"/>
                </a:lnTo>
                <a:lnTo>
                  <a:pt x="130" y="710"/>
                </a:lnTo>
                <a:lnTo>
                  <a:pt x="148" y="754"/>
                </a:lnTo>
                <a:lnTo>
                  <a:pt x="163" y="791"/>
                </a:lnTo>
                <a:lnTo>
                  <a:pt x="172" y="817"/>
                </a:lnTo>
                <a:lnTo>
                  <a:pt x="189" y="817"/>
                </a:lnTo>
                <a:lnTo>
                  <a:pt x="205" y="816"/>
                </a:lnTo>
                <a:lnTo>
                  <a:pt x="220" y="815"/>
                </a:lnTo>
                <a:lnTo>
                  <a:pt x="236" y="810"/>
                </a:lnTo>
                <a:lnTo>
                  <a:pt x="251" y="805"/>
                </a:lnTo>
                <a:lnTo>
                  <a:pt x="267" y="796"/>
                </a:lnTo>
                <a:lnTo>
                  <a:pt x="284" y="785"/>
                </a:lnTo>
                <a:lnTo>
                  <a:pt x="302" y="769"/>
                </a:lnTo>
                <a:lnTo>
                  <a:pt x="303" y="740"/>
                </a:lnTo>
                <a:lnTo>
                  <a:pt x="304" y="700"/>
                </a:lnTo>
                <a:lnTo>
                  <a:pt x="304" y="650"/>
                </a:lnTo>
                <a:lnTo>
                  <a:pt x="300" y="595"/>
                </a:lnTo>
                <a:lnTo>
                  <a:pt x="295" y="538"/>
                </a:lnTo>
                <a:lnTo>
                  <a:pt x="285" y="482"/>
                </a:lnTo>
                <a:lnTo>
                  <a:pt x="270" y="431"/>
                </a:lnTo>
                <a:lnTo>
                  <a:pt x="250" y="389"/>
                </a:lnTo>
                <a:lnTo>
                  <a:pt x="243" y="398"/>
                </a:lnTo>
                <a:lnTo>
                  <a:pt x="236" y="406"/>
                </a:lnTo>
                <a:lnTo>
                  <a:pt x="229" y="413"/>
                </a:lnTo>
                <a:lnTo>
                  <a:pt x="221" y="420"/>
                </a:lnTo>
                <a:lnTo>
                  <a:pt x="210" y="426"/>
                </a:lnTo>
                <a:lnTo>
                  <a:pt x="198" y="430"/>
                </a:lnTo>
                <a:lnTo>
                  <a:pt x="182" y="434"/>
                </a:lnTo>
                <a:lnTo>
                  <a:pt x="161" y="436"/>
                </a:lnTo>
                <a:lnTo>
                  <a:pt x="175" y="424"/>
                </a:lnTo>
                <a:lnTo>
                  <a:pt x="190" y="411"/>
                </a:lnTo>
                <a:lnTo>
                  <a:pt x="205" y="398"/>
                </a:lnTo>
                <a:lnTo>
                  <a:pt x="219" y="383"/>
                </a:lnTo>
                <a:lnTo>
                  <a:pt x="230" y="368"/>
                </a:lnTo>
                <a:lnTo>
                  <a:pt x="239" y="353"/>
                </a:lnTo>
                <a:lnTo>
                  <a:pt x="244" y="337"/>
                </a:lnTo>
                <a:lnTo>
                  <a:pt x="245" y="321"/>
                </a:lnTo>
                <a:lnTo>
                  <a:pt x="245" y="303"/>
                </a:lnTo>
                <a:lnTo>
                  <a:pt x="249" y="286"/>
                </a:lnTo>
                <a:lnTo>
                  <a:pt x="253" y="269"/>
                </a:lnTo>
                <a:lnTo>
                  <a:pt x="261" y="250"/>
                </a:lnTo>
                <a:lnTo>
                  <a:pt x="270" y="233"/>
                </a:lnTo>
                <a:lnTo>
                  <a:pt x="282" y="216"/>
                </a:lnTo>
                <a:lnTo>
                  <a:pt x="295" y="200"/>
                </a:lnTo>
                <a:lnTo>
                  <a:pt x="310" y="185"/>
                </a:lnTo>
                <a:lnTo>
                  <a:pt x="325" y="170"/>
                </a:lnTo>
                <a:lnTo>
                  <a:pt x="338" y="156"/>
                </a:lnTo>
                <a:lnTo>
                  <a:pt x="351" y="143"/>
                </a:lnTo>
                <a:lnTo>
                  <a:pt x="363" y="129"/>
                </a:lnTo>
                <a:lnTo>
                  <a:pt x="373" y="114"/>
                </a:lnTo>
                <a:lnTo>
                  <a:pt x="382" y="99"/>
                </a:lnTo>
                <a:lnTo>
                  <a:pt x="390" y="83"/>
                </a:lnTo>
                <a:lnTo>
                  <a:pt x="397" y="65"/>
                </a:lnTo>
                <a:lnTo>
                  <a:pt x="383" y="68"/>
                </a:lnTo>
                <a:lnTo>
                  <a:pt x="368" y="71"/>
                </a:lnTo>
                <a:lnTo>
                  <a:pt x="353" y="73"/>
                </a:lnTo>
                <a:lnTo>
                  <a:pt x="336" y="75"/>
                </a:lnTo>
                <a:lnTo>
                  <a:pt x="318" y="75"/>
                </a:lnTo>
                <a:lnTo>
                  <a:pt x="299" y="75"/>
                </a:lnTo>
                <a:lnTo>
                  <a:pt x="280" y="74"/>
                </a:lnTo>
                <a:lnTo>
                  <a:pt x="260" y="72"/>
                </a:lnTo>
                <a:lnTo>
                  <a:pt x="239" y="68"/>
                </a:lnTo>
                <a:lnTo>
                  <a:pt x="220" y="63"/>
                </a:lnTo>
                <a:lnTo>
                  <a:pt x="199" y="57"/>
                </a:lnTo>
                <a:lnTo>
                  <a:pt x="178" y="49"/>
                </a:lnTo>
                <a:lnTo>
                  <a:pt x="159" y="40"/>
                </a:lnTo>
                <a:lnTo>
                  <a:pt x="139" y="28"/>
                </a:lnTo>
                <a:lnTo>
                  <a:pt x="119" y="15"/>
                </a:lnTo>
                <a:lnTo>
                  <a:pt x="101" y="0"/>
                </a:lnTo>
                <a:lnTo>
                  <a:pt x="92" y="23"/>
                </a:lnTo>
                <a:lnTo>
                  <a:pt x="80" y="57"/>
                </a:lnTo>
                <a:lnTo>
                  <a:pt x="68" y="96"/>
                </a:lnTo>
                <a:lnTo>
                  <a:pt x="54" y="138"/>
                </a:lnTo>
                <a:lnTo>
                  <a:pt x="41" y="180"/>
                </a:lnTo>
                <a:lnTo>
                  <a:pt x="30" y="222"/>
                </a:lnTo>
                <a:lnTo>
                  <a:pt x="19" y="256"/>
                </a:lnTo>
                <a:lnTo>
                  <a:pt x="14" y="28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4" name="Freeform 30"/>
          <p:cNvSpPr/>
          <p:nvPr/>
        </p:nvSpPr>
        <p:spPr>
          <a:xfrm>
            <a:off x="1776240" y="5881680"/>
            <a:ext cx="149400" cy="144360"/>
          </a:xfrm>
          <a:custGeom>
            <a:avLst/>
            <a:gdLst/>
            <a:ahLst/>
            <a:rect l="l" t="t" r="r" b="b"/>
            <a:pathLst>
              <a:path w="189" h="183">
                <a:moveTo>
                  <a:pt x="157" y="0"/>
                </a:moveTo>
                <a:lnTo>
                  <a:pt x="149" y="11"/>
                </a:lnTo>
                <a:lnTo>
                  <a:pt x="136" y="25"/>
                </a:lnTo>
                <a:lnTo>
                  <a:pt x="120" y="38"/>
                </a:lnTo>
                <a:lnTo>
                  <a:pt x="100" y="49"/>
                </a:lnTo>
                <a:lnTo>
                  <a:pt x="79" y="60"/>
                </a:lnTo>
                <a:lnTo>
                  <a:pt x="54" y="66"/>
                </a:lnTo>
                <a:lnTo>
                  <a:pt x="29" y="69"/>
                </a:lnTo>
                <a:lnTo>
                  <a:pt x="2" y="66"/>
                </a:lnTo>
                <a:lnTo>
                  <a:pt x="0" y="79"/>
                </a:lnTo>
                <a:lnTo>
                  <a:pt x="5" y="96"/>
                </a:lnTo>
                <a:lnTo>
                  <a:pt x="12" y="118"/>
                </a:lnTo>
                <a:lnTo>
                  <a:pt x="19" y="141"/>
                </a:lnTo>
                <a:lnTo>
                  <a:pt x="21" y="153"/>
                </a:lnTo>
                <a:lnTo>
                  <a:pt x="21" y="162"/>
                </a:lnTo>
                <a:lnTo>
                  <a:pt x="21" y="169"/>
                </a:lnTo>
                <a:lnTo>
                  <a:pt x="22" y="175"/>
                </a:lnTo>
                <a:lnTo>
                  <a:pt x="23" y="179"/>
                </a:lnTo>
                <a:lnTo>
                  <a:pt x="28" y="182"/>
                </a:lnTo>
                <a:lnTo>
                  <a:pt x="35" y="183"/>
                </a:lnTo>
                <a:lnTo>
                  <a:pt x="45" y="182"/>
                </a:lnTo>
                <a:lnTo>
                  <a:pt x="57" y="178"/>
                </a:lnTo>
                <a:lnTo>
                  <a:pt x="67" y="174"/>
                </a:lnTo>
                <a:lnTo>
                  <a:pt x="76" y="168"/>
                </a:lnTo>
                <a:lnTo>
                  <a:pt x="83" y="162"/>
                </a:lnTo>
                <a:lnTo>
                  <a:pt x="90" y="156"/>
                </a:lnTo>
                <a:lnTo>
                  <a:pt x="97" y="152"/>
                </a:lnTo>
                <a:lnTo>
                  <a:pt x="104" y="148"/>
                </a:lnTo>
                <a:lnTo>
                  <a:pt x="112" y="147"/>
                </a:lnTo>
                <a:lnTo>
                  <a:pt x="121" y="147"/>
                </a:lnTo>
                <a:lnTo>
                  <a:pt x="132" y="145"/>
                </a:lnTo>
                <a:lnTo>
                  <a:pt x="143" y="142"/>
                </a:lnTo>
                <a:lnTo>
                  <a:pt x="155" y="137"/>
                </a:lnTo>
                <a:lnTo>
                  <a:pt x="166" y="129"/>
                </a:lnTo>
                <a:lnTo>
                  <a:pt x="175" y="116"/>
                </a:lnTo>
                <a:lnTo>
                  <a:pt x="183" y="101"/>
                </a:lnTo>
                <a:lnTo>
                  <a:pt x="189" y="80"/>
                </a:lnTo>
                <a:lnTo>
                  <a:pt x="178" y="88"/>
                </a:lnTo>
                <a:lnTo>
                  <a:pt x="165" y="98"/>
                </a:lnTo>
                <a:lnTo>
                  <a:pt x="150" y="106"/>
                </a:lnTo>
                <a:lnTo>
                  <a:pt x="133" y="113"/>
                </a:lnTo>
                <a:lnTo>
                  <a:pt x="114" y="118"/>
                </a:lnTo>
                <a:lnTo>
                  <a:pt x="93" y="121"/>
                </a:lnTo>
                <a:lnTo>
                  <a:pt x="73" y="121"/>
                </a:lnTo>
                <a:lnTo>
                  <a:pt x="50" y="117"/>
                </a:lnTo>
                <a:lnTo>
                  <a:pt x="66" y="113"/>
                </a:lnTo>
                <a:lnTo>
                  <a:pt x="83" y="107"/>
                </a:lnTo>
                <a:lnTo>
                  <a:pt x="102" y="100"/>
                </a:lnTo>
                <a:lnTo>
                  <a:pt x="120" y="91"/>
                </a:lnTo>
                <a:lnTo>
                  <a:pt x="137" y="81"/>
                </a:lnTo>
                <a:lnTo>
                  <a:pt x="152" y="69"/>
                </a:lnTo>
                <a:lnTo>
                  <a:pt x="164" y="53"/>
                </a:lnTo>
                <a:lnTo>
                  <a:pt x="171" y="34"/>
                </a:lnTo>
                <a:lnTo>
                  <a:pt x="172" y="25"/>
                </a:lnTo>
                <a:lnTo>
                  <a:pt x="170" y="16"/>
                </a:lnTo>
                <a:lnTo>
                  <a:pt x="165" y="7"/>
                </a:lnTo>
                <a:lnTo>
                  <a:pt x="157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5" name="Freeform 31"/>
          <p:cNvSpPr/>
          <p:nvPr/>
        </p:nvSpPr>
        <p:spPr>
          <a:xfrm>
            <a:off x="1731960" y="5965920"/>
            <a:ext cx="324000" cy="411120"/>
          </a:xfrm>
          <a:custGeom>
            <a:avLst/>
            <a:gdLst/>
            <a:ahLst/>
            <a:rect l="l" t="t" r="r" b="b"/>
            <a:pathLst>
              <a:path w="409" h="517">
                <a:moveTo>
                  <a:pt x="289" y="0"/>
                </a:moveTo>
                <a:lnTo>
                  <a:pt x="288" y="10"/>
                </a:lnTo>
                <a:lnTo>
                  <a:pt x="284" y="22"/>
                </a:lnTo>
                <a:lnTo>
                  <a:pt x="279" y="33"/>
                </a:lnTo>
                <a:lnTo>
                  <a:pt x="269" y="45"/>
                </a:lnTo>
                <a:lnTo>
                  <a:pt x="259" y="56"/>
                </a:lnTo>
                <a:lnTo>
                  <a:pt x="245" y="65"/>
                </a:lnTo>
                <a:lnTo>
                  <a:pt x="230" y="71"/>
                </a:lnTo>
                <a:lnTo>
                  <a:pt x="214" y="75"/>
                </a:lnTo>
                <a:lnTo>
                  <a:pt x="216" y="90"/>
                </a:lnTo>
                <a:lnTo>
                  <a:pt x="215" y="108"/>
                </a:lnTo>
                <a:lnTo>
                  <a:pt x="211" y="128"/>
                </a:lnTo>
                <a:lnTo>
                  <a:pt x="204" y="144"/>
                </a:lnTo>
                <a:lnTo>
                  <a:pt x="214" y="150"/>
                </a:lnTo>
                <a:lnTo>
                  <a:pt x="223" y="156"/>
                </a:lnTo>
                <a:lnTo>
                  <a:pt x="231" y="166"/>
                </a:lnTo>
                <a:lnTo>
                  <a:pt x="238" y="177"/>
                </a:lnTo>
                <a:lnTo>
                  <a:pt x="243" y="189"/>
                </a:lnTo>
                <a:lnTo>
                  <a:pt x="245" y="201"/>
                </a:lnTo>
                <a:lnTo>
                  <a:pt x="245" y="214"/>
                </a:lnTo>
                <a:lnTo>
                  <a:pt x="241" y="227"/>
                </a:lnTo>
                <a:lnTo>
                  <a:pt x="235" y="237"/>
                </a:lnTo>
                <a:lnTo>
                  <a:pt x="228" y="246"/>
                </a:lnTo>
                <a:lnTo>
                  <a:pt x="221" y="253"/>
                </a:lnTo>
                <a:lnTo>
                  <a:pt x="212" y="257"/>
                </a:lnTo>
                <a:lnTo>
                  <a:pt x="203" y="259"/>
                </a:lnTo>
                <a:lnTo>
                  <a:pt x="193" y="260"/>
                </a:lnTo>
                <a:lnTo>
                  <a:pt x="182" y="259"/>
                </a:lnTo>
                <a:lnTo>
                  <a:pt x="169" y="255"/>
                </a:lnTo>
                <a:lnTo>
                  <a:pt x="166" y="277"/>
                </a:lnTo>
                <a:lnTo>
                  <a:pt x="161" y="300"/>
                </a:lnTo>
                <a:lnTo>
                  <a:pt x="155" y="322"/>
                </a:lnTo>
                <a:lnTo>
                  <a:pt x="148" y="344"/>
                </a:lnTo>
                <a:lnTo>
                  <a:pt x="139" y="363"/>
                </a:lnTo>
                <a:lnTo>
                  <a:pt x="130" y="380"/>
                </a:lnTo>
                <a:lnTo>
                  <a:pt x="119" y="394"/>
                </a:lnTo>
                <a:lnTo>
                  <a:pt x="105" y="403"/>
                </a:lnTo>
                <a:lnTo>
                  <a:pt x="91" y="409"/>
                </a:lnTo>
                <a:lnTo>
                  <a:pt x="79" y="414"/>
                </a:lnTo>
                <a:lnTo>
                  <a:pt x="67" y="418"/>
                </a:lnTo>
                <a:lnTo>
                  <a:pt x="56" y="420"/>
                </a:lnTo>
                <a:lnTo>
                  <a:pt x="45" y="423"/>
                </a:lnTo>
                <a:lnTo>
                  <a:pt x="32" y="423"/>
                </a:lnTo>
                <a:lnTo>
                  <a:pt x="21" y="423"/>
                </a:lnTo>
                <a:lnTo>
                  <a:pt x="7" y="421"/>
                </a:lnTo>
                <a:lnTo>
                  <a:pt x="3" y="439"/>
                </a:lnTo>
                <a:lnTo>
                  <a:pt x="1" y="457"/>
                </a:lnTo>
                <a:lnTo>
                  <a:pt x="0" y="473"/>
                </a:lnTo>
                <a:lnTo>
                  <a:pt x="1" y="488"/>
                </a:lnTo>
                <a:lnTo>
                  <a:pt x="3" y="500"/>
                </a:lnTo>
                <a:lnTo>
                  <a:pt x="10" y="510"/>
                </a:lnTo>
                <a:lnTo>
                  <a:pt x="21" y="516"/>
                </a:lnTo>
                <a:lnTo>
                  <a:pt x="36" y="517"/>
                </a:lnTo>
                <a:lnTo>
                  <a:pt x="54" y="516"/>
                </a:lnTo>
                <a:lnTo>
                  <a:pt x="74" y="512"/>
                </a:lnTo>
                <a:lnTo>
                  <a:pt x="93" y="509"/>
                </a:lnTo>
                <a:lnTo>
                  <a:pt x="112" y="502"/>
                </a:lnTo>
                <a:lnTo>
                  <a:pt x="130" y="494"/>
                </a:lnTo>
                <a:lnTo>
                  <a:pt x="146" y="484"/>
                </a:lnTo>
                <a:lnTo>
                  <a:pt x="160" y="470"/>
                </a:lnTo>
                <a:lnTo>
                  <a:pt x="172" y="454"/>
                </a:lnTo>
                <a:lnTo>
                  <a:pt x="182" y="435"/>
                </a:lnTo>
                <a:lnTo>
                  <a:pt x="192" y="418"/>
                </a:lnTo>
                <a:lnTo>
                  <a:pt x="201" y="401"/>
                </a:lnTo>
                <a:lnTo>
                  <a:pt x="212" y="382"/>
                </a:lnTo>
                <a:lnTo>
                  <a:pt x="220" y="365"/>
                </a:lnTo>
                <a:lnTo>
                  <a:pt x="227" y="348"/>
                </a:lnTo>
                <a:lnTo>
                  <a:pt x="231" y="332"/>
                </a:lnTo>
                <a:lnTo>
                  <a:pt x="234" y="314"/>
                </a:lnTo>
                <a:lnTo>
                  <a:pt x="236" y="297"/>
                </a:lnTo>
                <a:lnTo>
                  <a:pt x="243" y="280"/>
                </a:lnTo>
                <a:lnTo>
                  <a:pt x="251" y="262"/>
                </a:lnTo>
                <a:lnTo>
                  <a:pt x="263" y="245"/>
                </a:lnTo>
                <a:lnTo>
                  <a:pt x="274" y="231"/>
                </a:lnTo>
                <a:lnTo>
                  <a:pt x="288" y="219"/>
                </a:lnTo>
                <a:lnTo>
                  <a:pt x="301" y="209"/>
                </a:lnTo>
                <a:lnTo>
                  <a:pt x="313" y="205"/>
                </a:lnTo>
                <a:lnTo>
                  <a:pt x="326" y="201"/>
                </a:lnTo>
                <a:lnTo>
                  <a:pt x="340" y="194"/>
                </a:lnTo>
                <a:lnTo>
                  <a:pt x="354" y="186"/>
                </a:lnTo>
                <a:lnTo>
                  <a:pt x="367" y="177"/>
                </a:lnTo>
                <a:lnTo>
                  <a:pt x="380" y="164"/>
                </a:lnTo>
                <a:lnTo>
                  <a:pt x="392" y="151"/>
                </a:lnTo>
                <a:lnTo>
                  <a:pt x="402" y="133"/>
                </a:lnTo>
                <a:lnTo>
                  <a:pt x="409" y="115"/>
                </a:lnTo>
                <a:lnTo>
                  <a:pt x="403" y="98"/>
                </a:lnTo>
                <a:lnTo>
                  <a:pt x="397" y="80"/>
                </a:lnTo>
                <a:lnTo>
                  <a:pt x="388" y="64"/>
                </a:lnTo>
                <a:lnTo>
                  <a:pt x="377" y="49"/>
                </a:lnTo>
                <a:lnTo>
                  <a:pt x="362" y="35"/>
                </a:lnTo>
                <a:lnTo>
                  <a:pt x="342" y="22"/>
                </a:lnTo>
                <a:lnTo>
                  <a:pt x="318" y="10"/>
                </a:lnTo>
                <a:lnTo>
                  <a:pt x="289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6" name="Freeform 32"/>
          <p:cNvSpPr/>
          <p:nvPr/>
        </p:nvSpPr>
        <p:spPr>
          <a:xfrm>
            <a:off x="1758960" y="6081840"/>
            <a:ext cx="20520" cy="47520"/>
          </a:xfrm>
          <a:custGeom>
            <a:avLst/>
            <a:gdLst/>
            <a:ahLst/>
            <a:rect l="l" t="t" r="r" b="b"/>
            <a:pathLst>
              <a:path w="26" h="60">
                <a:moveTo>
                  <a:pt x="25" y="24"/>
                </a:moveTo>
                <a:lnTo>
                  <a:pt x="26" y="18"/>
                </a:lnTo>
                <a:lnTo>
                  <a:pt x="25" y="13"/>
                </a:lnTo>
                <a:lnTo>
                  <a:pt x="25" y="7"/>
                </a:lnTo>
                <a:lnTo>
                  <a:pt x="25" y="0"/>
                </a:lnTo>
                <a:lnTo>
                  <a:pt x="17" y="13"/>
                </a:lnTo>
                <a:lnTo>
                  <a:pt x="7" y="30"/>
                </a:lnTo>
                <a:lnTo>
                  <a:pt x="2" y="46"/>
                </a:lnTo>
                <a:lnTo>
                  <a:pt x="0" y="60"/>
                </a:lnTo>
                <a:lnTo>
                  <a:pt x="10" y="52"/>
                </a:lnTo>
                <a:lnTo>
                  <a:pt x="17" y="43"/>
                </a:lnTo>
                <a:lnTo>
                  <a:pt x="22" y="33"/>
                </a:lnTo>
                <a:lnTo>
                  <a:pt x="25" y="2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7" name="Freeform 33"/>
          <p:cNvSpPr/>
          <p:nvPr/>
        </p:nvSpPr>
        <p:spPr>
          <a:xfrm>
            <a:off x="1824120" y="6078600"/>
            <a:ext cx="77760" cy="66600"/>
          </a:xfrm>
          <a:custGeom>
            <a:avLst/>
            <a:gdLst/>
            <a:ahLst/>
            <a:rect l="l" t="t" r="r" b="b"/>
            <a:pathLst>
              <a:path w="98" h="85">
                <a:moveTo>
                  <a:pt x="3" y="26"/>
                </a:moveTo>
                <a:lnTo>
                  <a:pt x="0" y="19"/>
                </a:lnTo>
                <a:lnTo>
                  <a:pt x="0" y="13"/>
                </a:lnTo>
                <a:lnTo>
                  <a:pt x="0" y="7"/>
                </a:lnTo>
                <a:lnTo>
                  <a:pt x="0" y="0"/>
                </a:lnTo>
                <a:lnTo>
                  <a:pt x="15" y="4"/>
                </a:lnTo>
                <a:lnTo>
                  <a:pt x="34" y="11"/>
                </a:lnTo>
                <a:lnTo>
                  <a:pt x="52" y="20"/>
                </a:lnTo>
                <a:lnTo>
                  <a:pt x="69" y="32"/>
                </a:lnTo>
                <a:lnTo>
                  <a:pt x="84" y="44"/>
                </a:lnTo>
                <a:lnTo>
                  <a:pt x="95" y="58"/>
                </a:lnTo>
                <a:lnTo>
                  <a:pt x="98" y="70"/>
                </a:lnTo>
                <a:lnTo>
                  <a:pt x="94" y="80"/>
                </a:lnTo>
                <a:lnTo>
                  <a:pt x="84" y="85"/>
                </a:lnTo>
                <a:lnTo>
                  <a:pt x="73" y="85"/>
                </a:lnTo>
                <a:lnTo>
                  <a:pt x="60" y="81"/>
                </a:lnTo>
                <a:lnTo>
                  <a:pt x="47" y="74"/>
                </a:lnTo>
                <a:lnTo>
                  <a:pt x="35" y="65"/>
                </a:lnTo>
                <a:lnTo>
                  <a:pt x="22" y="53"/>
                </a:lnTo>
                <a:lnTo>
                  <a:pt x="12" y="40"/>
                </a:lnTo>
                <a:lnTo>
                  <a:pt x="3" y="2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8" name="Freeform 34"/>
          <p:cNvSpPr/>
          <p:nvPr/>
        </p:nvSpPr>
        <p:spPr>
          <a:xfrm>
            <a:off x="1776240" y="6018120"/>
            <a:ext cx="108000" cy="55800"/>
          </a:xfrm>
          <a:custGeom>
            <a:avLst/>
            <a:gdLst/>
            <a:ahLst/>
            <a:rect l="l" t="t" r="r" b="b"/>
            <a:pathLst>
              <a:path w="135" h="72">
                <a:moveTo>
                  <a:pt x="10" y="15"/>
                </a:moveTo>
                <a:lnTo>
                  <a:pt x="15" y="20"/>
                </a:lnTo>
                <a:lnTo>
                  <a:pt x="22" y="24"/>
                </a:lnTo>
                <a:lnTo>
                  <a:pt x="31" y="27"/>
                </a:lnTo>
                <a:lnTo>
                  <a:pt x="41" y="28"/>
                </a:lnTo>
                <a:lnTo>
                  <a:pt x="51" y="29"/>
                </a:lnTo>
                <a:lnTo>
                  <a:pt x="61" y="28"/>
                </a:lnTo>
                <a:lnTo>
                  <a:pt x="71" y="26"/>
                </a:lnTo>
                <a:lnTo>
                  <a:pt x="79" y="21"/>
                </a:lnTo>
                <a:lnTo>
                  <a:pt x="86" y="15"/>
                </a:lnTo>
                <a:lnTo>
                  <a:pt x="95" y="9"/>
                </a:lnTo>
                <a:lnTo>
                  <a:pt x="103" y="5"/>
                </a:lnTo>
                <a:lnTo>
                  <a:pt x="112" y="1"/>
                </a:lnTo>
                <a:lnTo>
                  <a:pt x="119" y="0"/>
                </a:lnTo>
                <a:lnTo>
                  <a:pt x="126" y="1"/>
                </a:lnTo>
                <a:lnTo>
                  <a:pt x="131" y="6"/>
                </a:lnTo>
                <a:lnTo>
                  <a:pt x="134" y="15"/>
                </a:lnTo>
                <a:lnTo>
                  <a:pt x="135" y="37"/>
                </a:lnTo>
                <a:lnTo>
                  <a:pt x="133" y="56"/>
                </a:lnTo>
                <a:lnTo>
                  <a:pt x="129" y="67"/>
                </a:lnTo>
                <a:lnTo>
                  <a:pt x="127" y="72"/>
                </a:lnTo>
                <a:lnTo>
                  <a:pt x="121" y="69"/>
                </a:lnTo>
                <a:lnTo>
                  <a:pt x="113" y="68"/>
                </a:lnTo>
                <a:lnTo>
                  <a:pt x="105" y="66"/>
                </a:lnTo>
                <a:lnTo>
                  <a:pt x="96" y="65"/>
                </a:lnTo>
                <a:lnTo>
                  <a:pt x="87" y="64"/>
                </a:lnTo>
                <a:lnTo>
                  <a:pt x="76" y="62"/>
                </a:lnTo>
                <a:lnTo>
                  <a:pt x="66" y="60"/>
                </a:lnTo>
                <a:lnTo>
                  <a:pt x="57" y="59"/>
                </a:lnTo>
                <a:lnTo>
                  <a:pt x="51" y="54"/>
                </a:lnTo>
                <a:lnTo>
                  <a:pt x="44" y="52"/>
                </a:lnTo>
                <a:lnTo>
                  <a:pt x="37" y="51"/>
                </a:lnTo>
                <a:lnTo>
                  <a:pt x="29" y="52"/>
                </a:lnTo>
                <a:lnTo>
                  <a:pt x="21" y="53"/>
                </a:lnTo>
                <a:lnTo>
                  <a:pt x="13" y="56"/>
                </a:lnTo>
                <a:lnTo>
                  <a:pt x="6" y="59"/>
                </a:lnTo>
                <a:lnTo>
                  <a:pt x="0" y="61"/>
                </a:lnTo>
                <a:lnTo>
                  <a:pt x="0" y="50"/>
                </a:lnTo>
                <a:lnTo>
                  <a:pt x="1" y="37"/>
                </a:lnTo>
                <a:lnTo>
                  <a:pt x="5" y="26"/>
                </a:lnTo>
                <a:lnTo>
                  <a:pt x="10" y="1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9" name="Freeform 35"/>
          <p:cNvSpPr/>
          <p:nvPr/>
        </p:nvSpPr>
        <p:spPr>
          <a:xfrm>
            <a:off x="1787400" y="6226200"/>
            <a:ext cx="44640" cy="39600"/>
          </a:xfrm>
          <a:custGeom>
            <a:avLst/>
            <a:gdLst/>
            <a:ahLst/>
            <a:rect l="l" t="t" r="r" b="b"/>
            <a:pathLst>
              <a:path w="58" h="49">
                <a:moveTo>
                  <a:pt x="36" y="0"/>
                </a:moveTo>
                <a:lnTo>
                  <a:pt x="58" y="8"/>
                </a:lnTo>
                <a:lnTo>
                  <a:pt x="53" y="22"/>
                </a:lnTo>
                <a:lnTo>
                  <a:pt x="46" y="34"/>
                </a:lnTo>
                <a:lnTo>
                  <a:pt x="38" y="44"/>
                </a:lnTo>
                <a:lnTo>
                  <a:pt x="30" y="49"/>
                </a:lnTo>
                <a:lnTo>
                  <a:pt x="0" y="22"/>
                </a:lnTo>
                <a:lnTo>
                  <a:pt x="3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0" name="Freeform 36"/>
          <p:cNvSpPr/>
          <p:nvPr/>
        </p:nvSpPr>
        <p:spPr>
          <a:xfrm>
            <a:off x="1743120" y="6253200"/>
            <a:ext cx="52200" cy="30240"/>
          </a:xfrm>
          <a:custGeom>
            <a:avLst/>
            <a:gdLst/>
            <a:ahLst/>
            <a:rect l="l" t="t" r="r" b="b"/>
            <a:pathLst>
              <a:path w="66" h="40">
                <a:moveTo>
                  <a:pt x="31" y="0"/>
                </a:moveTo>
                <a:lnTo>
                  <a:pt x="66" y="22"/>
                </a:lnTo>
                <a:lnTo>
                  <a:pt x="59" y="27"/>
                </a:lnTo>
                <a:lnTo>
                  <a:pt x="49" y="30"/>
                </a:lnTo>
                <a:lnTo>
                  <a:pt x="40" y="34"/>
                </a:lnTo>
                <a:lnTo>
                  <a:pt x="30" y="37"/>
                </a:lnTo>
                <a:lnTo>
                  <a:pt x="21" y="40"/>
                </a:lnTo>
                <a:lnTo>
                  <a:pt x="11" y="40"/>
                </a:lnTo>
                <a:lnTo>
                  <a:pt x="6" y="37"/>
                </a:lnTo>
                <a:lnTo>
                  <a:pt x="1" y="33"/>
                </a:lnTo>
                <a:lnTo>
                  <a:pt x="0" y="23"/>
                </a:lnTo>
                <a:lnTo>
                  <a:pt x="1" y="18"/>
                </a:lnTo>
                <a:lnTo>
                  <a:pt x="4" y="15"/>
                </a:lnTo>
                <a:lnTo>
                  <a:pt x="6" y="14"/>
                </a:lnTo>
                <a:lnTo>
                  <a:pt x="31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1" name="Freeform 37"/>
          <p:cNvSpPr/>
          <p:nvPr/>
        </p:nvSpPr>
        <p:spPr>
          <a:xfrm>
            <a:off x="1758960" y="6207120"/>
            <a:ext cx="44280" cy="27000"/>
          </a:xfrm>
          <a:custGeom>
            <a:avLst/>
            <a:gdLst/>
            <a:ahLst/>
            <a:rect l="l" t="t" r="r" b="b"/>
            <a:pathLst>
              <a:path w="58" h="34">
                <a:moveTo>
                  <a:pt x="0" y="16"/>
                </a:moveTo>
                <a:lnTo>
                  <a:pt x="23" y="34"/>
                </a:lnTo>
                <a:lnTo>
                  <a:pt x="58" y="16"/>
                </a:lnTo>
                <a:lnTo>
                  <a:pt x="29" y="0"/>
                </a:lnTo>
                <a:lnTo>
                  <a:pt x="0" y="1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2" name="Freeform 38"/>
          <p:cNvSpPr/>
          <p:nvPr/>
        </p:nvSpPr>
        <p:spPr>
          <a:xfrm>
            <a:off x="1746360" y="6229440"/>
            <a:ext cx="17280" cy="20520"/>
          </a:xfrm>
          <a:custGeom>
            <a:avLst/>
            <a:gdLst/>
            <a:ahLst/>
            <a:rect l="l" t="t" r="r" b="b"/>
            <a:pathLst>
              <a:path w="21" h="27">
                <a:moveTo>
                  <a:pt x="5" y="0"/>
                </a:moveTo>
                <a:lnTo>
                  <a:pt x="21" y="17"/>
                </a:lnTo>
                <a:lnTo>
                  <a:pt x="0" y="27"/>
                </a:lnTo>
                <a:lnTo>
                  <a:pt x="5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3" name="Freeform 39"/>
          <p:cNvSpPr/>
          <p:nvPr/>
        </p:nvSpPr>
        <p:spPr>
          <a:xfrm>
            <a:off x="1797120" y="6183360"/>
            <a:ext cx="41040" cy="33120"/>
          </a:xfrm>
          <a:custGeom>
            <a:avLst/>
            <a:gdLst/>
            <a:ahLst/>
            <a:rect l="l" t="t" r="r" b="b"/>
            <a:pathLst>
              <a:path w="53" h="41">
                <a:moveTo>
                  <a:pt x="43" y="41"/>
                </a:moveTo>
                <a:lnTo>
                  <a:pt x="0" y="21"/>
                </a:lnTo>
                <a:lnTo>
                  <a:pt x="53" y="0"/>
                </a:lnTo>
                <a:lnTo>
                  <a:pt x="52" y="9"/>
                </a:lnTo>
                <a:lnTo>
                  <a:pt x="49" y="22"/>
                </a:lnTo>
                <a:lnTo>
                  <a:pt x="46" y="34"/>
                </a:lnTo>
                <a:lnTo>
                  <a:pt x="43" y="4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4" name="Freeform 40"/>
          <p:cNvSpPr/>
          <p:nvPr/>
        </p:nvSpPr>
        <p:spPr>
          <a:xfrm>
            <a:off x="1754280" y="6181560"/>
            <a:ext cx="17280" cy="25560"/>
          </a:xfrm>
          <a:custGeom>
            <a:avLst/>
            <a:gdLst/>
            <a:ahLst/>
            <a:rect l="l" t="t" r="r" b="b"/>
            <a:pathLst>
              <a:path w="20" h="31">
                <a:moveTo>
                  <a:pt x="20" y="19"/>
                </a:moveTo>
                <a:lnTo>
                  <a:pt x="0" y="31"/>
                </a:lnTo>
                <a:lnTo>
                  <a:pt x="4" y="0"/>
                </a:lnTo>
                <a:lnTo>
                  <a:pt x="20" y="1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5" name="Freeform 41"/>
          <p:cNvSpPr/>
          <p:nvPr/>
        </p:nvSpPr>
        <p:spPr>
          <a:xfrm>
            <a:off x="1766880" y="6153120"/>
            <a:ext cx="60480" cy="36720"/>
          </a:xfrm>
          <a:custGeom>
            <a:avLst/>
            <a:gdLst/>
            <a:ahLst/>
            <a:rect l="l" t="t" r="r" b="b"/>
            <a:pathLst>
              <a:path w="76" h="46">
                <a:moveTo>
                  <a:pt x="0" y="20"/>
                </a:moveTo>
                <a:lnTo>
                  <a:pt x="25" y="46"/>
                </a:lnTo>
                <a:lnTo>
                  <a:pt x="76" y="26"/>
                </a:lnTo>
                <a:lnTo>
                  <a:pt x="41" y="0"/>
                </a:lnTo>
                <a:lnTo>
                  <a:pt x="0" y="2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6" name="Freeform 42"/>
          <p:cNvSpPr/>
          <p:nvPr/>
        </p:nvSpPr>
        <p:spPr>
          <a:xfrm>
            <a:off x="1817640" y="6132600"/>
            <a:ext cx="28800" cy="36360"/>
          </a:xfrm>
          <a:custGeom>
            <a:avLst/>
            <a:gdLst/>
            <a:ahLst/>
            <a:rect l="l" t="t" r="r" b="b"/>
            <a:pathLst>
              <a:path w="36" h="46">
                <a:moveTo>
                  <a:pt x="36" y="35"/>
                </a:moveTo>
                <a:lnTo>
                  <a:pt x="27" y="46"/>
                </a:lnTo>
                <a:lnTo>
                  <a:pt x="0" y="18"/>
                </a:lnTo>
                <a:lnTo>
                  <a:pt x="17" y="0"/>
                </a:lnTo>
                <a:lnTo>
                  <a:pt x="20" y="8"/>
                </a:lnTo>
                <a:lnTo>
                  <a:pt x="23" y="19"/>
                </a:lnTo>
                <a:lnTo>
                  <a:pt x="30" y="28"/>
                </a:lnTo>
                <a:lnTo>
                  <a:pt x="36" y="3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7" name="Freeform 43"/>
          <p:cNvSpPr/>
          <p:nvPr/>
        </p:nvSpPr>
        <p:spPr>
          <a:xfrm>
            <a:off x="1790640" y="6108840"/>
            <a:ext cx="23760" cy="31680"/>
          </a:xfrm>
          <a:custGeom>
            <a:avLst/>
            <a:gdLst/>
            <a:ahLst/>
            <a:rect l="l" t="t" r="r" b="b"/>
            <a:pathLst>
              <a:path w="29" h="40">
                <a:moveTo>
                  <a:pt x="29" y="24"/>
                </a:moveTo>
                <a:lnTo>
                  <a:pt x="12" y="40"/>
                </a:lnTo>
                <a:lnTo>
                  <a:pt x="0" y="26"/>
                </a:lnTo>
                <a:lnTo>
                  <a:pt x="19" y="0"/>
                </a:lnTo>
                <a:lnTo>
                  <a:pt x="29" y="2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8" name="Freeform 44"/>
          <p:cNvSpPr/>
          <p:nvPr/>
        </p:nvSpPr>
        <p:spPr>
          <a:xfrm>
            <a:off x="1758960" y="6140520"/>
            <a:ext cx="27000" cy="15840"/>
          </a:xfrm>
          <a:custGeom>
            <a:avLst/>
            <a:gdLst/>
            <a:ahLst/>
            <a:rect l="l" t="t" r="r" b="b"/>
            <a:pathLst>
              <a:path w="34" h="20">
                <a:moveTo>
                  <a:pt x="28" y="0"/>
                </a:moveTo>
                <a:lnTo>
                  <a:pt x="34" y="9"/>
                </a:lnTo>
                <a:lnTo>
                  <a:pt x="0" y="20"/>
                </a:lnTo>
                <a:lnTo>
                  <a:pt x="7" y="16"/>
                </a:lnTo>
                <a:lnTo>
                  <a:pt x="17" y="10"/>
                </a:lnTo>
                <a:lnTo>
                  <a:pt x="23" y="4"/>
                </a:lnTo>
                <a:lnTo>
                  <a:pt x="2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9" name="Freeform 45"/>
          <p:cNvSpPr/>
          <p:nvPr/>
        </p:nvSpPr>
        <p:spPr>
          <a:xfrm>
            <a:off x="2273400" y="5419800"/>
            <a:ext cx="236520" cy="839880"/>
          </a:xfrm>
          <a:custGeom>
            <a:avLst/>
            <a:gdLst/>
            <a:ahLst/>
            <a:rect l="l" t="t" r="r" b="b"/>
            <a:pathLst>
              <a:path w="298" h="1058">
                <a:moveTo>
                  <a:pt x="14" y="0"/>
                </a:moveTo>
                <a:lnTo>
                  <a:pt x="21" y="3"/>
                </a:lnTo>
                <a:lnTo>
                  <a:pt x="29" y="6"/>
                </a:lnTo>
                <a:lnTo>
                  <a:pt x="39" y="9"/>
                </a:lnTo>
                <a:lnTo>
                  <a:pt x="52" y="11"/>
                </a:lnTo>
                <a:lnTo>
                  <a:pt x="64" y="15"/>
                </a:lnTo>
                <a:lnTo>
                  <a:pt x="79" y="17"/>
                </a:lnTo>
                <a:lnTo>
                  <a:pt x="95" y="18"/>
                </a:lnTo>
                <a:lnTo>
                  <a:pt x="113" y="21"/>
                </a:lnTo>
                <a:lnTo>
                  <a:pt x="130" y="22"/>
                </a:lnTo>
                <a:lnTo>
                  <a:pt x="148" y="23"/>
                </a:lnTo>
                <a:lnTo>
                  <a:pt x="168" y="23"/>
                </a:lnTo>
                <a:lnTo>
                  <a:pt x="186" y="22"/>
                </a:lnTo>
                <a:lnTo>
                  <a:pt x="206" y="21"/>
                </a:lnTo>
                <a:lnTo>
                  <a:pt x="226" y="20"/>
                </a:lnTo>
                <a:lnTo>
                  <a:pt x="245" y="16"/>
                </a:lnTo>
                <a:lnTo>
                  <a:pt x="265" y="13"/>
                </a:lnTo>
                <a:lnTo>
                  <a:pt x="256" y="55"/>
                </a:lnTo>
                <a:lnTo>
                  <a:pt x="250" y="102"/>
                </a:lnTo>
                <a:lnTo>
                  <a:pt x="249" y="151"/>
                </a:lnTo>
                <a:lnTo>
                  <a:pt x="251" y="195"/>
                </a:lnTo>
                <a:lnTo>
                  <a:pt x="254" y="220"/>
                </a:lnTo>
                <a:lnTo>
                  <a:pt x="258" y="252"/>
                </a:lnTo>
                <a:lnTo>
                  <a:pt x="261" y="291"/>
                </a:lnTo>
                <a:lnTo>
                  <a:pt x="261" y="333"/>
                </a:lnTo>
                <a:lnTo>
                  <a:pt x="257" y="377"/>
                </a:lnTo>
                <a:lnTo>
                  <a:pt x="244" y="417"/>
                </a:lnTo>
                <a:lnTo>
                  <a:pt x="222" y="453"/>
                </a:lnTo>
                <a:lnTo>
                  <a:pt x="190" y="483"/>
                </a:lnTo>
                <a:lnTo>
                  <a:pt x="199" y="487"/>
                </a:lnTo>
                <a:lnTo>
                  <a:pt x="211" y="488"/>
                </a:lnTo>
                <a:lnTo>
                  <a:pt x="223" y="486"/>
                </a:lnTo>
                <a:lnTo>
                  <a:pt x="237" y="483"/>
                </a:lnTo>
                <a:lnTo>
                  <a:pt x="250" y="477"/>
                </a:lnTo>
                <a:lnTo>
                  <a:pt x="263" y="471"/>
                </a:lnTo>
                <a:lnTo>
                  <a:pt x="273" y="464"/>
                </a:lnTo>
                <a:lnTo>
                  <a:pt x="281" y="458"/>
                </a:lnTo>
                <a:lnTo>
                  <a:pt x="294" y="511"/>
                </a:lnTo>
                <a:lnTo>
                  <a:pt x="298" y="581"/>
                </a:lnTo>
                <a:lnTo>
                  <a:pt x="296" y="662"/>
                </a:lnTo>
                <a:lnTo>
                  <a:pt x="288" y="750"/>
                </a:lnTo>
                <a:lnTo>
                  <a:pt x="275" y="836"/>
                </a:lnTo>
                <a:lnTo>
                  <a:pt x="259" y="917"/>
                </a:lnTo>
                <a:lnTo>
                  <a:pt x="241" y="986"/>
                </a:lnTo>
                <a:lnTo>
                  <a:pt x="222" y="1037"/>
                </a:lnTo>
                <a:lnTo>
                  <a:pt x="210" y="1043"/>
                </a:lnTo>
                <a:lnTo>
                  <a:pt x="193" y="1048"/>
                </a:lnTo>
                <a:lnTo>
                  <a:pt x="176" y="1054"/>
                </a:lnTo>
                <a:lnTo>
                  <a:pt x="155" y="1056"/>
                </a:lnTo>
                <a:lnTo>
                  <a:pt x="135" y="1058"/>
                </a:lnTo>
                <a:lnTo>
                  <a:pt x="113" y="1053"/>
                </a:lnTo>
                <a:lnTo>
                  <a:pt x="90" y="1044"/>
                </a:lnTo>
                <a:lnTo>
                  <a:pt x="68" y="1029"/>
                </a:lnTo>
                <a:lnTo>
                  <a:pt x="69" y="967"/>
                </a:lnTo>
                <a:lnTo>
                  <a:pt x="67" y="901"/>
                </a:lnTo>
                <a:lnTo>
                  <a:pt x="62" y="838"/>
                </a:lnTo>
                <a:lnTo>
                  <a:pt x="54" y="781"/>
                </a:lnTo>
                <a:lnTo>
                  <a:pt x="46" y="719"/>
                </a:lnTo>
                <a:lnTo>
                  <a:pt x="42" y="643"/>
                </a:lnTo>
                <a:lnTo>
                  <a:pt x="45" y="569"/>
                </a:lnTo>
                <a:lnTo>
                  <a:pt x="54" y="511"/>
                </a:lnTo>
                <a:lnTo>
                  <a:pt x="46" y="485"/>
                </a:lnTo>
                <a:lnTo>
                  <a:pt x="37" y="452"/>
                </a:lnTo>
                <a:lnTo>
                  <a:pt x="27" y="412"/>
                </a:lnTo>
                <a:lnTo>
                  <a:pt x="17" y="372"/>
                </a:lnTo>
                <a:lnTo>
                  <a:pt x="9" y="331"/>
                </a:lnTo>
                <a:lnTo>
                  <a:pt x="3" y="290"/>
                </a:lnTo>
                <a:lnTo>
                  <a:pt x="0" y="256"/>
                </a:lnTo>
                <a:lnTo>
                  <a:pt x="1" y="227"/>
                </a:lnTo>
                <a:lnTo>
                  <a:pt x="7" y="169"/>
                </a:lnTo>
                <a:lnTo>
                  <a:pt x="11" y="102"/>
                </a:lnTo>
                <a:lnTo>
                  <a:pt x="15" y="43"/>
                </a:lnTo>
                <a:lnTo>
                  <a:pt x="14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0" name="Freeform 46"/>
          <p:cNvSpPr/>
          <p:nvPr/>
        </p:nvSpPr>
        <p:spPr>
          <a:xfrm>
            <a:off x="2311560" y="6256440"/>
            <a:ext cx="144360" cy="141120"/>
          </a:xfrm>
          <a:custGeom>
            <a:avLst/>
            <a:gdLst/>
            <a:ahLst/>
            <a:rect l="l" t="t" r="r" b="b"/>
            <a:pathLst>
              <a:path w="181" h="177">
                <a:moveTo>
                  <a:pt x="170" y="11"/>
                </a:moveTo>
                <a:lnTo>
                  <a:pt x="160" y="16"/>
                </a:lnTo>
                <a:lnTo>
                  <a:pt x="144" y="21"/>
                </a:lnTo>
                <a:lnTo>
                  <a:pt x="125" y="26"/>
                </a:lnTo>
                <a:lnTo>
                  <a:pt x="102" y="30"/>
                </a:lnTo>
                <a:lnTo>
                  <a:pt x="76" y="30"/>
                </a:lnTo>
                <a:lnTo>
                  <a:pt x="51" y="26"/>
                </a:lnTo>
                <a:lnTo>
                  <a:pt x="27" y="16"/>
                </a:lnTo>
                <a:lnTo>
                  <a:pt x="5" y="0"/>
                </a:lnTo>
                <a:lnTo>
                  <a:pt x="1" y="9"/>
                </a:lnTo>
                <a:lnTo>
                  <a:pt x="0" y="24"/>
                </a:lnTo>
                <a:lnTo>
                  <a:pt x="4" y="43"/>
                </a:lnTo>
                <a:lnTo>
                  <a:pt x="12" y="60"/>
                </a:lnTo>
                <a:lnTo>
                  <a:pt x="19" y="74"/>
                </a:lnTo>
                <a:lnTo>
                  <a:pt x="21" y="84"/>
                </a:lnTo>
                <a:lnTo>
                  <a:pt x="19" y="92"/>
                </a:lnTo>
                <a:lnTo>
                  <a:pt x="12" y="101"/>
                </a:lnTo>
                <a:lnTo>
                  <a:pt x="5" y="114"/>
                </a:lnTo>
                <a:lnTo>
                  <a:pt x="3" y="128"/>
                </a:lnTo>
                <a:lnTo>
                  <a:pt x="6" y="143"/>
                </a:lnTo>
                <a:lnTo>
                  <a:pt x="15" y="155"/>
                </a:lnTo>
                <a:lnTo>
                  <a:pt x="21" y="160"/>
                </a:lnTo>
                <a:lnTo>
                  <a:pt x="26" y="165"/>
                </a:lnTo>
                <a:lnTo>
                  <a:pt x="31" y="168"/>
                </a:lnTo>
                <a:lnTo>
                  <a:pt x="36" y="172"/>
                </a:lnTo>
                <a:lnTo>
                  <a:pt x="41" y="174"/>
                </a:lnTo>
                <a:lnTo>
                  <a:pt x="46" y="175"/>
                </a:lnTo>
                <a:lnTo>
                  <a:pt x="52" y="175"/>
                </a:lnTo>
                <a:lnTo>
                  <a:pt x="59" y="175"/>
                </a:lnTo>
                <a:lnTo>
                  <a:pt x="67" y="175"/>
                </a:lnTo>
                <a:lnTo>
                  <a:pt x="76" y="174"/>
                </a:lnTo>
                <a:lnTo>
                  <a:pt x="85" y="173"/>
                </a:lnTo>
                <a:lnTo>
                  <a:pt x="96" y="173"/>
                </a:lnTo>
                <a:lnTo>
                  <a:pt x="105" y="173"/>
                </a:lnTo>
                <a:lnTo>
                  <a:pt x="115" y="173"/>
                </a:lnTo>
                <a:lnTo>
                  <a:pt x="125" y="174"/>
                </a:lnTo>
                <a:lnTo>
                  <a:pt x="134" y="175"/>
                </a:lnTo>
                <a:lnTo>
                  <a:pt x="142" y="177"/>
                </a:lnTo>
                <a:lnTo>
                  <a:pt x="151" y="177"/>
                </a:lnTo>
                <a:lnTo>
                  <a:pt x="160" y="176"/>
                </a:lnTo>
                <a:lnTo>
                  <a:pt x="168" y="173"/>
                </a:lnTo>
                <a:lnTo>
                  <a:pt x="174" y="168"/>
                </a:lnTo>
                <a:lnTo>
                  <a:pt x="179" y="160"/>
                </a:lnTo>
                <a:lnTo>
                  <a:pt x="181" y="151"/>
                </a:lnTo>
                <a:lnTo>
                  <a:pt x="181" y="139"/>
                </a:lnTo>
                <a:lnTo>
                  <a:pt x="173" y="143"/>
                </a:lnTo>
                <a:lnTo>
                  <a:pt x="163" y="146"/>
                </a:lnTo>
                <a:lnTo>
                  <a:pt x="151" y="149"/>
                </a:lnTo>
                <a:lnTo>
                  <a:pt x="136" y="150"/>
                </a:lnTo>
                <a:lnTo>
                  <a:pt x="121" y="150"/>
                </a:lnTo>
                <a:lnTo>
                  <a:pt x="106" y="149"/>
                </a:lnTo>
                <a:lnTo>
                  <a:pt x="91" y="145"/>
                </a:lnTo>
                <a:lnTo>
                  <a:pt x="77" y="139"/>
                </a:lnTo>
                <a:lnTo>
                  <a:pt x="88" y="139"/>
                </a:lnTo>
                <a:lnTo>
                  <a:pt x="100" y="137"/>
                </a:lnTo>
                <a:lnTo>
                  <a:pt x="115" y="135"/>
                </a:lnTo>
                <a:lnTo>
                  <a:pt x="129" y="131"/>
                </a:lnTo>
                <a:lnTo>
                  <a:pt x="142" y="127"/>
                </a:lnTo>
                <a:lnTo>
                  <a:pt x="151" y="120"/>
                </a:lnTo>
                <a:lnTo>
                  <a:pt x="156" y="112"/>
                </a:lnTo>
                <a:lnTo>
                  <a:pt x="153" y="101"/>
                </a:lnTo>
                <a:lnTo>
                  <a:pt x="143" y="104"/>
                </a:lnTo>
                <a:lnTo>
                  <a:pt x="132" y="105"/>
                </a:lnTo>
                <a:lnTo>
                  <a:pt x="119" y="106"/>
                </a:lnTo>
                <a:lnTo>
                  <a:pt x="106" y="105"/>
                </a:lnTo>
                <a:lnTo>
                  <a:pt x="94" y="104"/>
                </a:lnTo>
                <a:lnTo>
                  <a:pt x="81" y="100"/>
                </a:lnTo>
                <a:lnTo>
                  <a:pt x="69" y="96"/>
                </a:lnTo>
                <a:lnTo>
                  <a:pt x="59" y="90"/>
                </a:lnTo>
                <a:lnTo>
                  <a:pt x="72" y="89"/>
                </a:lnTo>
                <a:lnTo>
                  <a:pt x="91" y="86"/>
                </a:lnTo>
                <a:lnTo>
                  <a:pt x="113" y="82"/>
                </a:lnTo>
                <a:lnTo>
                  <a:pt x="135" y="75"/>
                </a:lnTo>
                <a:lnTo>
                  <a:pt x="155" y="66"/>
                </a:lnTo>
                <a:lnTo>
                  <a:pt x="170" y="52"/>
                </a:lnTo>
                <a:lnTo>
                  <a:pt x="175" y="35"/>
                </a:lnTo>
                <a:lnTo>
                  <a:pt x="170" y="1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1" name="Freeform 47"/>
          <p:cNvSpPr/>
          <p:nvPr/>
        </p:nvSpPr>
        <p:spPr>
          <a:xfrm>
            <a:off x="2332080" y="6610320"/>
            <a:ext cx="61920" cy="58680"/>
          </a:xfrm>
          <a:custGeom>
            <a:avLst/>
            <a:gdLst/>
            <a:ahLst/>
            <a:rect l="l" t="t" r="r" b="b"/>
            <a:pathLst>
              <a:path w="78" h="73">
                <a:moveTo>
                  <a:pt x="78" y="0"/>
                </a:moveTo>
                <a:lnTo>
                  <a:pt x="0" y="30"/>
                </a:lnTo>
                <a:lnTo>
                  <a:pt x="51" y="73"/>
                </a:lnTo>
                <a:lnTo>
                  <a:pt x="59" y="60"/>
                </a:lnTo>
                <a:lnTo>
                  <a:pt x="69" y="40"/>
                </a:lnTo>
                <a:lnTo>
                  <a:pt x="76" y="18"/>
                </a:lnTo>
                <a:lnTo>
                  <a:pt x="7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2" name="Freeform 48"/>
          <p:cNvSpPr/>
          <p:nvPr/>
        </p:nvSpPr>
        <p:spPr>
          <a:xfrm>
            <a:off x="2274840" y="6648480"/>
            <a:ext cx="81000" cy="39600"/>
          </a:xfrm>
          <a:custGeom>
            <a:avLst/>
            <a:gdLst/>
            <a:ahLst/>
            <a:rect l="l" t="t" r="r" b="b"/>
            <a:pathLst>
              <a:path w="103" h="52">
                <a:moveTo>
                  <a:pt x="103" y="38"/>
                </a:moveTo>
                <a:lnTo>
                  <a:pt x="54" y="0"/>
                </a:lnTo>
                <a:lnTo>
                  <a:pt x="0" y="27"/>
                </a:lnTo>
                <a:lnTo>
                  <a:pt x="5" y="35"/>
                </a:lnTo>
                <a:lnTo>
                  <a:pt x="14" y="42"/>
                </a:lnTo>
                <a:lnTo>
                  <a:pt x="25" y="47"/>
                </a:lnTo>
                <a:lnTo>
                  <a:pt x="39" y="51"/>
                </a:lnTo>
                <a:lnTo>
                  <a:pt x="55" y="52"/>
                </a:lnTo>
                <a:lnTo>
                  <a:pt x="71" y="51"/>
                </a:lnTo>
                <a:lnTo>
                  <a:pt x="88" y="46"/>
                </a:lnTo>
                <a:lnTo>
                  <a:pt x="103" y="3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3" name="Freeform 49"/>
          <p:cNvSpPr/>
          <p:nvPr/>
        </p:nvSpPr>
        <p:spPr>
          <a:xfrm>
            <a:off x="2263680" y="6603840"/>
            <a:ext cx="36720" cy="46080"/>
          </a:xfrm>
          <a:custGeom>
            <a:avLst/>
            <a:gdLst/>
            <a:ahLst/>
            <a:rect l="l" t="t" r="r" b="b"/>
            <a:pathLst>
              <a:path w="46" h="56">
                <a:moveTo>
                  <a:pt x="0" y="56"/>
                </a:moveTo>
                <a:lnTo>
                  <a:pt x="46" y="34"/>
                </a:lnTo>
                <a:lnTo>
                  <a:pt x="6" y="0"/>
                </a:lnTo>
                <a:lnTo>
                  <a:pt x="1" y="11"/>
                </a:lnTo>
                <a:lnTo>
                  <a:pt x="0" y="28"/>
                </a:lnTo>
                <a:lnTo>
                  <a:pt x="0" y="45"/>
                </a:lnTo>
                <a:lnTo>
                  <a:pt x="0" y="5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4" name="Freeform 50"/>
          <p:cNvSpPr/>
          <p:nvPr/>
        </p:nvSpPr>
        <p:spPr>
          <a:xfrm>
            <a:off x="2287440" y="6578640"/>
            <a:ext cx="79560" cy="46080"/>
          </a:xfrm>
          <a:custGeom>
            <a:avLst/>
            <a:gdLst/>
            <a:ahLst/>
            <a:rect l="l" t="t" r="r" b="b"/>
            <a:pathLst>
              <a:path w="100" h="58">
                <a:moveTo>
                  <a:pt x="43" y="58"/>
                </a:moveTo>
                <a:lnTo>
                  <a:pt x="100" y="33"/>
                </a:lnTo>
                <a:lnTo>
                  <a:pt x="57" y="0"/>
                </a:lnTo>
                <a:lnTo>
                  <a:pt x="0" y="28"/>
                </a:lnTo>
                <a:lnTo>
                  <a:pt x="43" y="5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5" name="Freeform 51"/>
          <p:cNvSpPr/>
          <p:nvPr/>
        </p:nvSpPr>
        <p:spPr>
          <a:xfrm>
            <a:off x="2349360" y="6541920"/>
            <a:ext cx="65160" cy="54000"/>
          </a:xfrm>
          <a:custGeom>
            <a:avLst/>
            <a:gdLst/>
            <a:ahLst/>
            <a:rect l="l" t="t" r="r" b="b"/>
            <a:pathLst>
              <a:path w="82" h="68">
                <a:moveTo>
                  <a:pt x="68" y="68"/>
                </a:moveTo>
                <a:lnTo>
                  <a:pt x="0" y="33"/>
                </a:lnTo>
                <a:lnTo>
                  <a:pt x="82" y="0"/>
                </a:lnTo>
                <a:lnTo>
                  <a:pt x="80" y="15"/>
                </a:lnTo>
                <a:lnTo>
                  <a:pt x="75" y="36"/>
                </a:lnTo>
                <a:lnTo>
                  <a:pt x="71" y="57"/>
                </a:lnTo>
                <a:lnTo>
                  <a:pt x="68" y="6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6" name="Freeform 52"/>
          <p:cNvSpPr/>
          <p:nvPr/>
        </p:nvSpPr>
        <p:spPr>
          <a:xfrm>
            <a:off x="2270160" y="6543720"/>
            <a:ext cx="50760" cy="41400"/>
          </a:xfrm>
          <a:custGeom>
            <a:avLst/>
            <a:gdLst/>
            <a:ahLst/>
            <a:rect l="l" t="t" r="r" b="b"/>
            <a:pathLst>
              <a:path w="66" h="52">
                <a:moveTo>
                  <a:pt x="7" y="14"/>
                </a:moveTo>
                <a:lnTo>
                  <a:pt x="5" y="25"/>
                </a:lnTo>
                <a:lnTo>
                  <a:pt x="3" y="35"/>
                </a:lnTo>
                <a:lnTo>
                  <a:pt x="1" y="45"/>
                </a:lnTo>
                <a:lnTo>
                  <a:pt x="0" y="52"/>
                </a:lnTo>
                <a:lnTo>
                  <a:pt x="66" y="24"/>
                </a:lnTo>
                <a:lnTo>
                  <a:pt x="35" y="0"/>
                </a:lnTo>
                <a:lnTo>
                  <a:pt x="32" y="2"/>
                </a:lnTo>
                <a:lnTo>
                  <a:pt x="27" y="5"/>
                </a:lnTo>
                <a:lnTo>
                  <a:pt x="18" y="10"/>
                </a:lnTo>
                <a:lnTo>
                  <a:pt x="7" y="1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7" name="Freeform 53"/>
          <p:cNvSpPr/>
          <p:nvPr/>
        </p:nvSpPr>
        <p:spPr>
          <a:xfrm>
            <a:off x="2274840" y="6483240"/>
            <a:ext cx="66600" cy="39960"/>
          </a:xfrm>
          <a:custGeom>
            <a:avLst/>
            <a:gdLst/>
            <a:ahLst/>
            <a:rect l="l" t="t" r="r" b="b"/>
            <a:pathLst>
              <a:path w="83" h="50">
                <a:moveTo>
                  <a:pt x="19" y="50"/>
                </a:moveTo>
                <a:lnTo>
                  <a:pt x="0" y="37"/>
                </a:lnTo>
                <a:lnTo>
                  <a:pt x="12" y="33"/>
                </a:lnTo>
                <a:lnTo>
                  <a:pt x="24" y="27"/>
                </a:lnTo>
                <a:lnTo>
                  <a:pt x="36" y="22"/>
                </a:lnTo>
                <a:lnTo>
                  <a:pt x="47" y="15"/>
                </a:lnTo>
                <a:lnTo>
                  <a:pt x="57" y="9"/>
                </a:lnTo>
                <a:lnTo>
                  <a:pt x="65" y="4"/>
                </a:lnTo>
                <a:lnTo>
                  <a:pt x="69" y="1"/>
                </a:lnTo>
                <a:lnTo>
                  <a:pt x="72" y="0"/>
                </a:lnTo>
                <a:lnTo>
                  <a:pt x="75" y="1"/>
                </a:lnTo>
                <a:lnTo>
                  <a:pt x="80" y="2"/>
                </a:lnTo>
                <a:lnTo>
                  <a:pt x="82" y="3"/>
                </a:lnTo>
                <a:lnTo>
                  <a:pt x="83" y="3"/>
                </a:lnTo>
                <a:lnTo>
                  <a:pt x="76" y="12"/>
                </a:lnTo>
                <a:lnTo>
                  <a:pt x="68" y="20"/>
                </a:lnTo>
                <a:lnTo>
                  <a:pt x="59" y="27"/>
                </a:lnTo>
                <a:lnTo>
                  <a:pt x="49" y="34"/>
                </a:lnTo>
                <a:lnTo>
                  <a:pt x="39" y="40"/>
                </a:lnTo>
                <a:lnTo>
                  <a:pt x="31" y="45"/>
                </a:lnTo>
                <a:lnTo>
                  <a:pt x="23" y="48"/>
                </a:lnTo>
                <a:lnTo>
                  <a:pt x="19" y="5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8" name="Freeform 54"/>
          <p:cNvSpPr/>
          <p:nvPr/>
        </p:nvSpPr>
        <p:spPr>
          <a:xfrm>
            <a:off x="2317680" y="6488280"/>
            <a:ext cx="76320" cy="55440"/>
          </a:xfrm>
          <a:custGeom>
            <a:avLst/>
            <a:gdLst/>
            <a:ahLst/>
            <a:rect l="l" t="t" r="r" b="b"/>
            <a:pathLst>
              <a:path w="96" h="69">
                <a:moveTo>
                  <a:pt x="46" y="3"/>
                </a:moveTo>
                <a:lnTo>
                  <a:pt x="44" y="8"/>
                </a:lnTo>
                <a:lnTo>
                  <a:pt x="39" y="13"/>
                </a:lnTo>
                <a:lnTo>
                  <a:pt x="35" y="21"/>
                </a:lnTo>
                <a:lnTo>
                  <a:pt x="28" y="28"/>
                </a:lnTo>
                <a:lnTo>
                  <a:pt x="21" y="36"/>
                </a:lnTo>
                <a:lnTo>
                  <a:pt x="14" y="44"/>
                </a:lnTo>
                <a:lnTo>
                  <a:pt x="7" y="50"/>
                </a:lnTo>
                <a:lnTo>
                  <a:pt x="0" y="55"/>
                </a:lnTo>
                <a:lnTo>
                  <a:pt x="29" y="69"/>
                </a:lnTo>
                <a:lnTo>
                  <a:pt x="96" y="47"/>
                </a:lnTo>
                <a:lnTo>
                  <a:pt x="92" y="42"/>
                </a:lnTo>
                <a:lnTo>
                  <a:pt x="83" y="31"/>
                </a:lnTo>
                <a:lnTo>
                  <a:pt x="74" y="16"/>
                </a:lnTo>
                <a:lnTo>
                  <a:pt x="66" y="0"/>
                </a:lnTo>
                <a:lnTo>
                  <a:pt x="64" y="4"/>
                </a:lnTo>
                <a:lnTo>
                  <a:pt x="60" y="4"/>
                </a:lnTo>
                <a:lnTo>
                  <a:pt x="54" y="4"/>
                </a:lnTo>
                <a:lnTo>
                  <a:pt x="46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9" name="Freeform 55"/>
          <p:cNvSpPr/>
          <p:nvPr/>
        </p:nvSpPr>
        <p:spPr>
          <a:xfrm>
            <a:off x="2295360" y="6453360"/>
            <a:ext cx="34920" cy="29880"/>
          </a:xfrm>
          <a:custGeom>
            <a:avLst/>
            <a:gdLst/>
            <a:ahLst/>
            <a:rect l="l" t="t" r="r" b="b"/>
            <a:pathLst>
              <a:path w="45" h="38">
                <a:moveTo>
                  <a:pt x="0" y="38"/>
                </a:moveTo>
                <a:lnTo>
                  <a:pt x="6" y="34"/>
                </a:lnTo>
                <a:lnTo>
                  <a:pt x="13" y="31"/>
                </a:lnTo>
                <a:lnTo>
                  <a:pt x="20" y="26"/>
                </a:lnTo>
                <a:lnTo>
                  <a:pt x="27" y="22"/>
                </a:lnTo>
                <a:lnTo>
                  <a:pt x="33" y="17"/>
                </a:lnTo>
                <a:lnTo>
                  <a:pt x="39" y="12"/>
                </a:lnTo>
                <a:lnTo>
                  <a:pt x="42" y="9"/>
                </a:lnTo>
                <a:lnTo>
                  <a:pt x="45" y="7"/>
                </a:lnTo>
                <a:lnTo>
                  <a:pt x="39" y="4"/>
                </a:lnTo>
                <a:lnTo>
                  <a:pt x="30" y="2"/>
                </a:lnTo>
                <a:lnTo>
                  <a:pt x="24" y="1"/>
                </a:lnTo>
                <a:lnTo>
                  <a:pt x="15" y="0"/>
                </a:lnTo>
                <a:lnTo>
                  <a:pt x="11" y="8"/>
                </a:lnTo>
                <a:lnTo>
                  <a:pt x="7" y="18"/>
                </a:lnTo>
                <a:lnTo>
                  <a:pt x="4" y="30"/>
                </a:lnTo>
                <a:lnTo>
                  <a:pt x="0" y="3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0" name="Freeform 56"/>
          <p:cNvSpPr/>
          <p:nvPr/>
        </p:nvSpPr>
        <p:spPr>
          <a:xfrm>
            <a:off x="2428920" y="6459480"/>
            <a:ext cx="41400" cy="52560"/>
          </a:xfrm>
          <a:custGeom>
            <a:avLst/>
            <a:gdLst/>
            <a:ahLst/>
            <a:rect l="l" t="t" r="r" b="b"/>
            <a:pathLst>
              <a:path w="52" h="67">
                <a:moveTo>
                  <a:pt x="0" y="67"/>
                </a:moveTo>
                <a:lnTo>
                  <a:pt x="3" y="67"/>
                </a:lnTo>
                <a:lnTo>
                  <a:pt x="8" y="67"/>
                </a:lnTo>
                <a:lnTo>
                  <a:pt x="13" y="65"/>
                </a:lnTo>
                <a:lnTo>
                  <a:pt x="17" y="64"/>
                </a:lnTo>
                <a:lnTo>
                  <a:pt x="23" y="62"/>
                </a:lnTo>
                <a:lnTo>
                  <a:pt x="27" y="60"/>
                </a:lnTo>
                <a:lnTo>
                  <a:pt x="32" y="57"/>
                </a:lnTo>
                <a:lnTo>
                  <a:pt x="37" y="55"/>
                </a:lnTo>
                <a:lnTo>
                  <a:pt x="46" y="48"/>
                </a:lnTo>
                <a:lnTo>
                  <a:pt x="51" y="41"/>
                </a:lnTo>
                <a:lnTo>
                  <a:pt x="52" y="33"/>
                </a:lnTo>
                <a:lnTo>
                  <a:pt x="49" y="25"/>
                </a:lnTo>
                <a:lnTo>
                  <a:pt x="42" y="18"/>
                </a:lnTo>
                <a:lnTo>
                  <a:pt x="33" y="11"/>
                </a:lnTo>
                <a:lnTo>
                  <a:pt x="21" y="4"/>
                </a:lnTo>
                <a:lnTo>
                  <a:pt x="6" y="0"/>
                </a:lnTo>
                <a:lnTo>
                  <a:pt x="4" y="15"/>
                </a:lnTo>
                <a:lnTo>
                  <a:pt x="3" y="33"/>
                </a:lnTo>
                <a:lnTo>
                  <a:pt x="2" y="52"/>
                </a:lnTo>
                <a:lnTo>
                  <a:pt x="0" y="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1" name="Freeform 57"/>
          <p:cNvSpPr/>
          <p:nvPr/>
        </p:nvSpPr>
        <p:spPr>
          <a:xfrm>
            <a:off x="2384280" y="6456240"/>
            <a:ext cx="27000" cy="38160"/>
          </a:xfrm>
          <a:custGeom>
            <a:avLst/>
            <a:gdLst/>
            <a:ahLst/>
            <a:rect l="l" t="t" r="r" b="b"/>
            <a:pathLst>
              <a:path w="36" h="48">
                <a:moveTo>
                  <a:pt x="27" y="48"/>
                </a:moveTo>
                <a:lnTo>
                  <a:pt x="19" y="37"/>
                </a:lnTo>
                <a:lnTo>
                  <a:pt x="12" y="24"/>
                </a:lnTo>
                <a:lnTo>
                  <a:pt x="6" y="13"/>
                </a:lnTo>
                <a:lnTo>
                  <a:pt x="0" y="2"/>
                </a:lnTo>
                <a:lnTo>
                  <a:pt x="5" y="1"/>
                </a:lnTo>
                <a:lnTo>
                  <a:pt x="9" y="1"/>
                </a:lnTo>
                <a:lnTo>
                  <a:pt x="14" y="1"/>
                </a:lnTo>
                <a:lnTo>
                  <a:pt x="19" y="0"/>
                </a:lnTo>
                <a:lnTo>
                  <a:pt x="23" y="0"/>
                </a:lnTo>
                <a:lnTo>
                  <a:pt x="28" y="0"/>
                </a:lnTo>
                <a:lnTo>
                  <a:pt x="32" y="1"/>
                </a:lnTo>
                <a:lnTo>
                  <a:pt x="36" y="1"/>
                </a:lnTo>
                <a:lnTo>
                  <a:pt x="35" y="12"/>
                </a:lnTo>
                <a:lnTo>
                  <a:pt x="34" y="25"/>
                </a:lnTo>
                <a:lnTo>
                  <a:pt x="30" y="38"/>
                </a:lnTo>
                <a:lnTo>
                  <a:pt x="27" y="4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2" name="Freeform 58"/>
          <p:cNvSpPr/>
          <p:nvPr/>
        </p:nvSpPr>
        <p:spPr>
          <a:xfrm>
            <a:off x="2244600" y="6550200"/>
            <a:ext cx="203400" cy="255240"/>
          </a:xfrm>
          <a:custGeom>
            <a:avLst/>
            <a:gdLst/>
            <a:ahLst/>
            <a:rect l="l" t="t" r="r" b="b"/>
            <a:pathLst>
              <a:path w="256" h="322">
                <a:moveTo>
                  <a:pt x="256" y="12"/>
                </a:moveTo>
                <a:lnTo>
                  <a:pt x="248" y="44"/>
                </a:lnTo>
                <a:lnTo>
                  <a:pt x="242" y="77"/>
                </a:lnTo>
                <a:lnTo>
                  <a:pt x="239" y="110"/>
                </a:lnTo>
                <a:lnTo>
                  <a:pt x="241" y="145"/>
                </a:lnTo>
                <a:lnTo>
                  <a:pt x="242" y="159"/>
                </a:lnTo>
                <a:lnTo>
                  <a:pt x="241" y="177"/>
                </a:lnTo>
                <a:lnTo>
                  <a:pt x="237" y="198"/>
                </a:lnTo>
                <a:lnTo>
                  <a:pt x="231" y="221"/>
                </a:lnTo>
                <a:lnTo>
                  <a:pt x="220" y="243"/>
                </a:lnTo>
                <a:lnTo>
                  <a:pt x="207" y="266"/>
                </a:lnTo>
                <a:lnTo>
                  <a:pt x="189" y="287"/>
                </a:lnTo>
                <a:lnTo>
                  <a:pt x="167" y="304"/>
                </a:lnTo>
                <a:lnTo>
                  <a:pt x="144" y="315"/>
                </a:lnTo>
                <a:lnTo>
                  <a:pt x="121" y="321"/>
                </a:lnTo>
                <a:lnTo>
                  <a:pt x="98" y="322"/>
                </a:lnTo>
                <a:lnTo>
                  <a:pt x="76" y="320"/>
                </a:lnTo>
                <a:lnTo>
                  <a:pt x="55" y="314"/>
                </a:lnTo>
                <a:lnTo>
                  <a:pt x="38" y="305"/>
                </a:lnTo>
                <a:lnTo>
                  <a:pt x="23" y="295"/>
                </a:lnTo>
                <a:lnTo>
                  <a:pt x="13" y="283"/>
                </a:lnTo>
                <a:lnTo>
                  <a:pt x="1" y="253"/>
                </a:lnTo>
                <a:lnTo>
                  <a:pt x="0" y="215"/>
                </a:lnTo>
                <a:lnTo>
                  <a:pt x="5" y="181"/>
                </a:lnTo>
                <a:lnTo>
                  <a:pt x="15" y="158"/>
                </a:lnTo>
                <a:lnTo>
                  <a:pt x="37" y="184"/>
                </a:lnTo>
                <a:lnTo>
                  <a:pt x="61" y="199"/>
                </a:lnTo>
                <a:lnTo>
                  <a:pt x="88" y="204"/>
                </a:lnTo>
                <a:lnTo>
                  <a:pt x="113" y="200"/>
                </a:lnTo>
                <a:lnTo>
                  <a:pt x="137" y="191"/>
                </a:lnTo>
                <a:lnTo>
                  <a:pt x="159" y="178"/>
                </a:lnTo>
                <a:lnTo>
                  <a:pt x="176" y="163"/>
                </a:lnTo>
                <a:lnTo>
                  <a:pt x="189" y="150"/>
                </a:lnTo>
                <a:lnTo>
                  <a:pt x="196" y="137"/>
                </a:lnTo>
                <a:lnTo>
                  <a:pt x="203" y="120"/>
                </a:lnTo>
                <a:lnTo>
                  <a:pt x="209" y="101"/>
                </a:lnTo>
                <a:lnTo>
                  <a:pt x="214" y="80"/>
                </a:lnTo>
                <a:lnTo>
                  <a:pt x="219" y="59"/>
                </a:lnTo>
                <a:lnTo>
                  <a:pt x="224" y="38"/>
                </a:lnTo>
                <a:lnTo>
                  <a:pt x="227" y="17"/>
                </a:lnTo>
                <a:lnTo>
                  <a:pt x="231" y="0"/>
                </a:lnTo>
                <a:lnTo>
                  <a:pt x="234" y="3"/>
                </a:lnTo>
                <a:lnTo>
                  <a:pt x="241" y="8"/>
                </a:lnTo>
                <a:lnTo>
                  <a:pt x="248" y="11"/>
                </a:lnTo>
                <a:lnTo>
                  <a:pt x="256" y="1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3" name="Freeform 59"/>
          <p:cNvSpPr/>
          <p:nvPr/>
        </p:nvSpPr>
        <p:spPr>
          <a:xfrm>
            <a:off x="2316240" y="6405480"/>
            <a:ext cx="95040" cy="38160"/>
          </a:xfrm>
          <a:custGeom>
            <a:avLst/>
            <a:gdLst/>
            <a:ahLst/>
            <a:rect l="l" t="t" r="r" b="b"/>
            <a:pathLst>
              <a:path w="120" h="47">
                <a:moveTo>
                  <a:pt x="0" y="30"/>
                </a:moveTo>
                <a:lnTo>
                  <a:pt x="8" y="32"/>
                </a:lnTo>
                <a:lnTo>
                  <a:pt x="17" y="36"/>
                </a:lnTo>
                <a:lnTo>
                  <a:pt x="25" y="40"/>
                </a:lnTo>
                <a:lnTo>
                  <a:pt x="33" y="47"/>
                </a:lnTo>
                <a:lnTo>
                  <a:pt x="38" y="45"/>
                </a:lnTo>
                <a:lnTo>
                  <a:pt x="43" y="41"/>
                </a:lnTo>
                <a:lnTo>
                  <a:pt x="48" y="39"/>
                </a:lnTo>
                <a:lnTo>
                  <a:pt x="55" y="37"/>
                </a:lnTo>
                <a:lnTo>
                  <a:pt x="61" y="36"/>
                </a:lnTo>
                <a:lnTo>
                  <a:pt x="68" y="36"/>
                </a:lnTo>
                <a:lnTo>
                  <a:pt x="74" y="37"/>
                </a:lnTo>
                <a:lnTo>
                  <a:pt x="79" y="40"/>
                </a:lnTo>
                <a:lnTo>
                  <a:pt x="85" y="40"/>
                </a:lnTo>
                <a:lnTo>
                  <a:pt x="91" y="39"/>
                </a:lnTo>
                <a:lnTo>
                  <a:pt x="97" y="38"/>
                </a:lnTo>
                <a:lnTo>
                  <a:pt x="101" y="37"/>
                </a:lnTo>
                <a:lnTo>
                  <a:pt x="106" y="37"/>
                </a:lnTo>
                <a:lnTo>
                  <a:pt x="111" y="36"/>
                </a:lnTo>
                <a:lnTo>
                  <a:pt x="115" y="37"/>
                </a:lnTo>
                <a:lnTo>
                  <a:pt x="120" y="37"/>
                </a:lnTo>
                <a:lnTo>
                  <a:pt x="116" y="26"/>
                </a:lnTo>
                <a:lnTo>
                  <a:pt x="113" y="18"/>
                </a:lnTo>
                <a:lnTo>
                  <a:pt x="109" y="13"/>
                </a:lnTo>
                <a:lnTo>
                  <a:pt x="104" y="8"/>
                </a:lnTo>
                <a:lnTo>
                  <a:pt x="98" y="6"/>
                </a:lnTo>
                <a:lnTo>
                  <a:pt x="91" y="3"/>
                </a:lnTo>
                <a:lnTo>
                  <a:pt x="83" y="2"/>
                </a:lnTo>
                <a:lnTo>
                  <a:pt x="75" y="2"/>
                </a:lnTo>
                <a:lnTo>
                  <a:pt x="67" y="2"/>
                </a:lnTo>
                <a:lnTo>
                  <a:pt x="58" y="3"/>
                </a:lnTo>
                <a:lnTo>
                  <a:pt x="51" y="4"/>
                </a:lnTo>
                <a:lnTo>
                  <a:pt x="43" y="4"/>
                </a:lnTo>
                <a:lnTo>
                  <a:pt x="36" y="6"/>
                </a:lnTo>
                <a:lnTo>
                  <a:pt x="29" y="4"/>
                </a:lnTo>
                <a:lnTo>
                  <a:pt x="23" y="3"/>
                </a:lnTo>
                <a:lnTo>
                  <a:pt x="17" y="0"/>
                </a:lnTo>
                <a:lnTo>
                  <a:pt x="10" y="4"/>
                </a:lnTo>
                <a:lnTo>
                  <a:pt x="5" y="13"/>
                </a:lnTo>
                <a:lnTo>
                  <a:pt x="1" y="21"/>
                </a:lnTo>
                <a:lnTo>
                  <a:pt x="0" y="3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4" name="Freeform 60"/>
          <p:cNvSpPr/>
          <p:nvPr/>
        </p:nvSpPr>
        <p:spPr>
          <a:xfrm>
            <a:off x="2427120" y="6405480"/>
            <a:ext cx="44640" cy="50760"/>
          </a:xfrm>
          <a:custGeom>
            <a:avLst/>
            <a:gdLst/>
            <a:ahLst/>
            <a:rect l="l" t="t" r="r" b="b"/>
            <a:pathLst>
              <a:path w="57" h="62">
                <a:moveTo>
                  <a:pt x="0" y="10"/>
                </a:moveTo>
                <a:lnTo>
                  <a:pt x="4" y="18"/>
                </a:lnTo>
                <a:lnTo>
                  <a:pt x="7" y="28"/>
                </a:lnTo>
                <a:lnTo>
                  <a:pt x="10" y="36"/>
                </a:lnTo>
                <a:lnTo>
                  <a:pt x="11" y="43"/>
                </a:lnTo>
                <a:lnTo>
                  <a:pt x="18" y="45"/>
                </a:lnTo>
                <a:lnTo>
                  <a:pt x="25" y="47"/>
                </a:lnTo>
                <a:lnTo>
                  <a:pt x="31" y="49"/>
                </a:lnTo>
                <a:lnTo>
                  <a:pt x="37" y="52"/>
                </a:lnTo>
                <a:lnTo>
                  <a:pt x="42" y="54"/>
                </a:lnTo>
                <a:lnTo>
                  <a:pt x="48" y="56"/>
                </a:lnTo>
                <a:lnTo>
                  <a:pt x="51" y="59"/>
                </a:lnTo>
                <a:lnTo>
                  <a:pt x="55" y="62"/>
                </a:lnTo>
                <a:lnTo>
                  <a:pt x="57" y="48"/>
                </a:lnTo>
                <a:lnTo>
                  <a:pt x="56" y="33"/>
                </a:lnTo>
                <a:lnTo>
                  <a:pt x="51" y="17"/>
                </a:lnTo>
                <a:lnTo>
                  <a:pt x="42" y="0"/>
                </a:lnTo>
                <a:lnTo>
                  <a:pt x="38" y="2"/>
                </a:lnTo>
                <a:lnTo>
                  <a:pt x="35" y="4"/>
                </a:lnTo>
                <a:lnTo>
                  <a:pt x="30" y="7"/>
                </a:lnTo>
                <a:lnTo>
                  <a:pt x="25" y="8"/>
                </a:lnTo>
                <a:lnTo>
                  <a:pt x="20" y="10"/>
                </a:lnTo>
                <a:lnTo>
                  <a:pt x="13" y="11"/>
                </a:lnTo>
                <a:lnTo>
                  <a:pt x="7" y="11"/>
                </a:lnTo>
                <a:lnTo>
                  <a:pt x="0" y="1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5" name="Freeform 61"/>
          <p:cNvSpPr/>
          <p:nvPr/>
        </p:nvSpPr>
        <p:spPr>
          <a:xfrm>
            <a:off x="1793880" y="6070680"/>
            <a:ext cx="22320" cy="31680"/>
          </a:xfrm>
          <a:custGeom>
            <a:avLst/>
            <a:gdLst/>
            <a:ahLst/>
            <a:rect l="l" t="t" r="r" b="b"/>
            <a:pathLst>
              <a:path w="29" h="40">
                <a:moveTo>
                  <a:pt x="15" y="0"/>
                </a:moveTo>
                <a:lnTo>
                  <a:pt x="7" y="7"/>
                </a:lnTo>
                <a:lnTo>
                  <a:pt x="1" y="20"/>
                </a:lnTo>
                <a:lnTo>
                  <a:pt x="0" y="32"/>
                </a:lnTo>
                <a:lnTo>
                  <a:pt x="7" y="40"/>
                </a:lnTo>
                <a:lnTo>
                  <a:pt x="13" y="40"/>
                </a:lnTo>
                <a:lnTo>
                  <a:pt x="20" y="37"/>
                </a:lnTo>
                <a:lnTo>
                  <a:pt x="24" y="32"/>
                </a:lnTo>
                <a:lnTo>
                  <a:pt x="28" y="27"/>
                </a:lnTo>
                <a:lnTo>
                  <a:pt x="29" y="20"/>
                </a:lnTo>
                <a:lnTo>
                  <a:pt x="28" y="13"/>
                </a:lnTo>
                <a:lnTo>
                  <a:pt x="23" y="6"/>
                </a:lnTo>
                <a:lnTo>
                  <a:pt x="15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6" name="Freeform 62"/>
          <p:cNvSpPr/>
          <p:nvPr/>
        </p:nvSpPr>
        <p:spPr>
          <a:xfrm>
            <a:off x="2344680" y="6450120"/>
            <a:ext cx="28800" cy="27000"/>
          </a:xfrm>
          <a:custGeom>
            <a:avLst/>
            <a:gdLst/>
            <a:ahLst/>
            <a:rect l="l" t="t" r="r" b="b"/>
            <a:pathLst>
              <a:path w="37" h="36">
                <a:moveTo>
                  <a:pt x="24" y="1"/>
                </a:moveTo>
                <a:lnTo>
                  <a:pt x="15" y="0"/>
                </a:lnTo>
                <a:lnTo>
                  <a:pt x="8" y="5"/>
                </a:lnTo>
                <a:lnTo>
                  <a:pt x="2" y="12"/>
                </a:lnTo>
                <a:lnTo>
                  <a:pt x="0" y="18"/>
                </a:lnTo>
                <a:lnTo>
                  <a:pt x="2" y="25"/>
                </a:lnTo>
                <a:lnTo>
                  <a:pt x="9" y="31"/>
                </a:lnTo>
                <a:lnTo>
                  <a:pt x="17" y="36"/>
                </a:lnTo>
                <a:lnTo>
                  <a:pt x="26" y="35"/>
                </a:lnTo>
                <a:lnTo>
                  <a:pt x="33" y="28"/>
                </a:lnTo>
                <a:lnTo>
                  <a:pt x="37" y="20"/>
                </a:lnTo>
                <a:lnTo>
                  <a:pt x="34" y="9"/>
                </a:lnTo>
                <a:lnTo>
                  <a:pt x="24" y="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7" name="Freeform 63"/>
          <p:cNvSpPr/>
          <p:nvPr/>
        </p:nvSpPr>
        <p:spPr>
          <a:xfrm>
            <a:off x="2440080" y="6518160"/>
            <a:ext cx="27000" cy="19080"/>
          </a:xfrm>
          <a:custGeom>
            <a:avLst/>
            <a:gdLst/>
            <a:ahLst/>
            <a:rect l="l" t="t" r="r" b="b"/>
            <a:pathLst>
              <a:path w="34" h="26">
                <a:moveTo>
                  <a:pt x="34" y="0"/>
                </a:moveTo>
                <a:lnTo>
                  <a:pt x="32" y="3"/>
                </a:lnTo>
                <a:lnTo>
                  <a:pt x="28" y="5"/>
                </a:lnTo>
                <a:lnTo>
                  <a:pt x="24" y="7"/>
                </a:lnTo>
                <a:lnTo>
                  <a:pt x="19" y="10"/>
                </a:lnTo>
                <a:lnTo>
                  <a:pt x="13" y="12"/>
                </a:lnTo>
                <a:lnTo>
                  <a:pt x="9" y="14"/>
                </a:lnTo>
                <a:lnTo>
                  <a:pt x="4" y="15"/>
                </a:lnTo>
                <a:lnTo>
                  <a:pt x="0" y="17"/>
                </a:lnTo>
                <a:lnTo>
                  <a:pt x="4" y="19"/>
                </a:lnTo>
                <a:lnTo>
                  <a:pt x="11" y="22"/>
                </a:lnTo>
                <a:lnTo>
                  <a:pt x="19" y="25"/>
                </a:lnTo>
                <a:lnTo>
                  <a:pt x="25" y="26"/>
                </a:lnTo>
                <a:lnTo>
                  <a:pt x="28" y="21"/>
                </a:lnTo>
                <a:lnTo>
                  <a:pt x="31" y="14"/>
                </a:lnTo>
                <a:lnTo>
                  <a:pt x="33" y="6"/>
                </a:lnTo>
                <a:lnTo>
                  <a:pt x="34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8" name="Oval 65"/>
          <p:cNvSpPr/>
          <p:nvPr/>
        </p:nvSpPr>
        <p:spPr>
          <a:xfrm>
            <a:off x="5410080" y="2286000"/>
            <a:ext cx="533520" cy="533520"/>
          </a:xfrm>
          <a:prstGeom prst="ellipse">
            <a:avLst/>
          </a:prstGeom>
          <a:solidFill>
            <a:srgbClr val="eaeaea"/>
          </a:solidFill>
          <a:ln cap="sq" w="1260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9" name="Oval 66"/>
          <p:cNvSpPr/>
          <p:nvPr/>
        </p:nvSpPr>
        <p:spPr>
          <a:xfrm>
            <a:off x="5562720" y="2286000"/>
            <a:ext cx="228600" cy="533520"/>
          </a:xfrm>
          <a:prstGeom prst="ellipse">
            <a:avLst/>
          </a:prstGeom>
          <a:solidFill>
            <a:srgbClr val="eaeaea"/>
          </a:solidFill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Freeform 4"/>
          <p:cNvSpPr/>
          <p:nvPr/>
        </p:nvSpPr>
        <p:spPr>
          <a:xfrm>
            <a:off x="1614600" y="2684520"/>
            <a:ext cx="1063440" cy="4154400"/>
          </a:xfrm>
          <a:custGeom>
            <a:avLst/>
            <a:gdLst/>
            <a:ahLst/>
            <a:rect l="l" t="t" r="r" b="b"/>
            <a:pathLst>
              <a:path w="1341" h="5235">
                <a:moveTo>
                  <a:pt x="844" y="4745"/>
                </a:moveTo>
                <a:lnTo>
                  <a:pt x="831" y="4745"/>
                </a:lnTo>
                <a:lnTo>
                  <a:pt x="818" y="4748"/>
                </a:lnTo>
                <a:lnTo>
                  <a:pt x="808" y="4750"/>
                </a:lnTo>
                <a:lnTo>
                  <a:pt x="799" y="4755"/>
                </a:lnTo>
                <a:lnTo>
                  <a:pt x="792" y="4759"/>
                </a:lnTo>
                <a:lnTo>
                  <a:pt x="788" y="4765"/>
                </a:lnTo>
                <a:lnTo>
                  <a:pt x="786" y="4773"/>
                </a:lnTo>
                <a:lnTo>
                  <a:pt x="788" y="4781"/>
                </a:lnTo>
                <a:lnTo>
                  <a:pt x="791" y="4786"/>
                </a:lnTo>
                <a:lnTo>
                  <a:pt x="793" y="4789"/>
                </a:lnTo>
                <a:lnTo>
                  <a:pt x="797" y="4793"/>
                </a:lnTo>
                <a:lnTo>
                  <a:pt x="801" y="4795"/>
                </a:lnTo>
                <a:lnTo>
                  <a:pt x="807" y="4796"/>
                </a:lnTo>
                <a:lnTo>
                  <a:pt x="811" y="4796"/>
                </a:lnTo>
                <a:lnTo>
                  <a:pt x="818" y="4796"/>
                </a:lnTo>
                <a:lnTo>
                  <a:pt x="824" y="4795"/>
                </a:lnTo>
                <a:lnTo>
                  <a:pt x="827" y="4783"/>
                </a:lnTo>
                <a:lnTo>
                  <a:pt x="833" y="4770"/>
                </a:lnTo>
                <a:lnTo>
                  <a:pt x="839" y="4756"/>
                </a:lnTo>
                <a:lnTo>
                  <a:pt x="844" y="4745"/>
                </a:lnTo>
                <a:lnTo>
                  <a:pt x="854" y="4720"/>
                </a:lnTo>
                <a:lnTo>
                  <a:pt x="860" y="4708"/>
                </a:lnTo>
                <a:lnTo>
                  <a:pt x="865" y="4699"/>
                </a:lnTo>
                <a:lnTo>
                  <a:pt x="871" y="4690"/>
                </a:lnTo>
                <a:lnTo>
                  <a:pt x="877" y="4683"/>
                </a:lnTo>
                <a:lnTo>
                  <a:pt x="880" y="4676"/>
                </a:lnTo>
                <a:lnTo>
                  <a:pt x="882" y="4669"/>
                </a:lnTo>
                <a:lnTo>
                  <a:pt x="880" y="4664"/>
                </a:lnTo>
                <a:lnTo>
                  <a:pt x="875" y="4658"/>
                </a:lnTo>
                <a:lnTo>
                  <a:pt x="864" y="4643"/>
                </a:lnTo>
                <a:lnTo>
                  <a:pt x="862" y="4626"/>
                </a:lnTo>
                <a:lnTo>
                  <a:pt x="867" y="4606"/>
                </a:lnTo>
                <a:lnTo>
                  <a:pt x="875" y="4590"/>
                </a:lnTo>
                <a:lnTo>
                  <a:pt x="877" y="4581"/>
                </a:lnTo>
                <a:lnTo>
                  <a:pt x="875" y="4570"/>
                </a:lnTo>
                <a:lnTo>
                  <a:pt x="870" y="4558"/>
                </a:lnTo>
                <a:lnTo>
                  <a:pt x="865" y="4544"/>
                </a:lnTo>
                <a:lnTo>
                  <a:pt x="861" y="4529"/>
                </a:lnTo>
                <a:lnTo>
                  <a:pt x="857" y="4514"/>
                </a:lnTo>
                <a:lnTo>
                  <a:pt x="857" y="4499"/>
                </a:lnTo>
                <a:lnTo>
                  <a:pt x="862" y="4485"/>
                </a:lnTo>
                <a:lnTo>
                  <a:pt x="872" y="4439"/>
                </a:lnTo>
                <a:lnTo>
                  <a:pt x="875" y="4382"/>
                </a:lnTo>
                <a:lnTo>
                  <a:pt x="869" y="4323"/>
                </a:lnTo>
                <a:lnTo>
                  <a:pt x="858" y="4265"/>
                </a:lnTo>
                <a:lnTo>
                  <a:pt x="850" y="4196"/>
                </a:lnTo>
                <a:lnTo>
                  <a:pt x="849" y="4109"/>
                </a:lnTo>
                <a:lnTo>
                  <a:pt x="850" y="4023"/>
                </a:lnTo>
                <a:lnTo>
                  <a:pt x="854" y="3954"/>
                </a:lnTo>
                <a:lnTo>
                  <a:pt x="847" y="3926"/>
                </a:lnTo>
                <a:lnTo>
                  <a:pt x="839" y="3893"/>
                </a:lnTo>
                <a:lnTo>
                  <a:pt x="829" y="3855"/>
                </a:lnTo>
                <a:lnTo>
                  <a:pt x="820" y="3814"/>
                </a:lnTo>
                <a:lnTo>
                  <a:pt x="812" y="3773"/>
                </a:lnTo>
                <a:lnTo>
                  <a:pt x="807" y="3734"/>
                </a:lnTo>
                <a:lnTo>
                  <a:pt x="804" y="3697"/>
                </a:lnTo>
                <a:lnTo>
                  <a:pt x="807" y="3666"/>
                </a:lnTo>
                <a:lnTo>
                  <a:pt x="812" y="3602"/>
                </a:lnTo>
                <a:lnTo>
                  <a:pt x="816" y="3535"/>
                </a:lnTo>
                <a:lnTo>
                  <a:pt x="817" y="3473"/>
                </a:lnTo>
                <a:lnTo>
                  <a:pt x="818" y="3433"/>
                </a:lnTo>
                <a:lnTo>
                  <a:pt x="811" y="3431"/>
                </a:lnTo>
                <a:lnTo>
                  <a:pt x="804" y="3426"/>
                </a:lnTo>
                <a:lnTo>
                  <a:pt x="799" y="3422"/>
                </a:lnTo>
                <a:lnTo>
                  <a:pt x="793" y="3416"/>
                </a:lnTo>
                <a:lnTo>
                  <a:pt x="788" y="3410"/>
                </a:lnTo>
                <a:lnTo>
                  <a:pt x="785" y="3405"/>
                </a:lnTo>
                <a:lnTo>
                  <a:pt x="784" y="3402"/>
                </a:lnTo>
                <a:lnTo>
                  <a:pt x="782" y="3401"/>
                </a:lnTo>
                <a:lnTo>
                  <a:pt x="787" y="3365"/>
                </a:lnTo>
                <a:lnTo>
                  <a:pt x="787" y="3320"/>
                </a:lnTo>
                <a:lnTo>
                  <a:pt x="780" y="3271"/>
                </a:lnTo>
                <a:lnTo>
                  <a:pt x="766" y="3221"/>
                </a:lnTo>
                <a:lnTo>
                  <a:pt x="761" y="3203"/>
                </a:lnTo>
                <a:lnTo>
                  <a:pt x="754" y="3180"/>
                </a:lnTo>
                <a:lnTo>
                  <a:pt x="748" y="3154"/>
                </a:lnTo>
                <a:lnTo>
                  <a:pt x="742" y="3127"/>
                </a:lnTo>
                <a:lnTo>
                  <a:pt x="734" y="3070"/>
                </a:lnTo>
                <a:lnTo>
                  <a:pt x="731" y="3010"/>
                </a:lnTo>
                <a:lnTo>
                  <a:pt x="733" y="2953"/>
                </a:lnTo>
                <a:lnTo>
                  <a:pt x="742" y="2901"/>
                </a:lnTo>
                <a:lnTo>
                  <a:pt x="729" y="2917"/>
                </a:lnTo>
                <a:lnTo>
                  <a:pt x="720" y="2941"/>
                </a:lnTo>
                <a:lnTo>
                  <a:pt x="713" y="2972"/>
                </a:lnTo>
                <a:lnTo>
                  <a:pt x="710" y="3007"/>
                </a:lnTo>
                <a:lnTo>
                  <a:pt x="709" y="3045"/>
                </a:lnTo>
                <a:lnTo>
                  <a:pt x="710" y="3082"/>
                </a:lnTo>
                <a:lnTo>
                  <a:pt x="713" y="3116"/>
                </a:lnTo>
                <a:lnTo>
                  <a:pt x="718" y="3146"/>
                </a:lnTo>
                <a:lnTo>
                  <a:pt x="705" y="3158"/>
                </a:lnTo>
                <a:lnTo>
                  <a:pt x="691" y="3179"/>
                </a:lnTo>
                <a:lnTo>
                  <a:pt x="676" y="3205"/>
                </a:lnTo>
                <a:lnTo>
                  <a:pt x="662" y="3235"/>
                </a:lnTo>
                <a:lnTo>
                  <a:pt x="647" y="3266"/>
                </a:lnTo>
                <a:lnTo>
                  <a:pt x="632" y="3296"/>
                </a:lnTo>
                <a:lnTo>
                  <a:pt x="619" y="3323"/>
                </a:lnTo>
                <a:lnTo>
                  <a:pt x="607" y="3341"/>
                </a:lnTo>
                <a:lnTo>
                  <a:pt x="596" y="3341"/>
                </a:lnTo>
                <a:lnTo>
                  <a:pt x="584" y="3339"/>
                </a:lnTo>
                <a:lnTo>
                  <a:pt x="574" y="3336"/>
                </a:lnTo>
                <a:lnTo>
                  <a:pt x="564" y="3333"/>
                </a:lnTo>
                <a:lnTo>
                  <a:pt x="554" y="3329"/>
                </a:lnTo>
                <a:lnTo>
                  <a:pt x="544" y="3325"/>
                </a:lnTo>
                <a:lnTo>
                  <a:pt x="534" y="3319"/>
                </a:lnTo>
                <a:lnTo>
                  <a:pt x="523" y="3313"/>
                </a:lnTo>
                <a:lnTo>
                  <a:pt x="513" y="3329"/>
                </a:lnTo>
                <a:lnTo>
                  <a:pt x="499" y="3349"/>
                </a:lnTo>
                <a:lnTo>
                  <a:pt x="483" y="3370"/>
                </a:lnTo>
                <a:lnTo>
                  <a:pt x="466" y="3392"/>
                </a:lnTo>
                <a:lnTo>
                  <a:pt x="448" y="3415"/>
                </a:lnTo>
                <a:lnTo>
                  <a:pt x="431" y="3435"/>
                </a:lnTo>
                <a:lnTo>
                  <a:pt x="415" y="3456"/>
                </a:lnTo>
                <a:lnTo>
                  <a:pt x="400" y="3473"/>
                </a:lnTo>
                <a:lnTo>
                  <a:pt x="385" y="3490"/>
                </a:lnTo>
                <a:lnTo>
                  <a:pt x="369" y="3507"/>
                </a:lnTo>
                <a:lnTo>
                  <a:pt x="352" y="3524"/>
                </a:lnTo>
                <a:lnTo>
                  <a:pt x="337" y="3541"/>
                </a:lnTo>
                <a:lnTo>
                  <a:pt x="324" y="3560"/>
                </a:lnTo>
                <a:lnTo>
                  <a:pt x="317" y="3577"/>
                </a:lnTo>
                <a:lnTo>
                  <a:pt x="315" y="3596"/>
                </a:lnTo>
                <a:lnTo>
                  <a:pt x="319" y="3613"/>
                </a:lnTo>
                <a:lnTo>
                  <a:pt x="330" y="3637"/>
                </a:lnTo>
                <a:lnTo>
                  <a:pt x="341" y="3672"/>
                </a:lnTo>
                <a:lnTo>
                  <a:pt x="353" y="3714"/>
                </a:lnTo>
                <a:lnTo>
                  <a:pt x="363" y="3764"/>
                </a:lnTo>
                <a:lnTo>
                  <a:pt x="372" y="3817"/>
                </a:lnTo>
                <a:lnTo>
                  <a:pt x="377" y="3871"/>
                </a:lnTo>
                <a:lnTo>
                  <a:pt x="377" y="3925"/>
                </a:lnTo>
                <a:lnTo>
                  <a:pt x="371" y="3977"/>
                </a:lnTo>
                <a:lnTo>
                  <a:pt x="379" y="3979"/>
                </a:lnTo>
                <a:lnTo>
                  <a:pt x="388" y="3984"/>
                </a:lnTo>
                <a:lnTo>
                  <a:pt x="397" y="3990"/>
                </a:lnTo>
                <a:lnTo>
                  <a:pt x="403" y="3996"/>
                </a:lnTo>
                <a:lnTo>
                  <a:pt x="410" y="4005"/>
                </a:lnTo>
                <a:lnTo>
                  <a:pt x="415" y="4014"/>
                </a:lnTo>
                <a:lnTo>
                  <a:pt x="416" y="4023"/>
                </a:lnTo>
                <a:lnTo>
                  <a:pt x="415" y="4033"/>
                </a:lnTo>
                <a:lnTo>
                  <a:pt x="428" y="4043"/>
                </a:lnTo>
                <a:lnTo>
                  <a:pt x="436" y="4055"/>
                </a:lnTo>
                <a:lnTo>
                  <a:pt x="440" y="4071"/>
                </a:lnTo>
                <a:lnTo>
                  <a:pt x="444" y="4090"/>
                </a:lnTo>
                <a:lnTo>
                  <a:pt x="461" y="4096"/>
                </a:lnTo>
                <a:lnTo>
                  <a:pt x="481" y="4104"/>
                </a:lnTo>
                <a:lnTo>
                  <a:pt x="501" y="4116"/>
                </a:lnTo>
                <a:lnTo>
                  <a:pt x="523" y="4131"/>
                </a:lnTo>
                <a:lnTo>
                  <a:pt x="545" y="4153"/>
                </a:lnTo>
                <a:lnTo>
                  <a:pt x="566" y="4179"/>
                </a:lnTo>
                <a:lnTo>
                  <a:pt x="585" y="4211"/>
                </a:lnTo>
                <a:lnTo>
                  <a:pt x="604" y="4250"/>
                </a:lnTo>
                <a:lnTo>
                  <a:pt x="598" y="4267"/>
                </a:lnTo>
                <a:lnTo>
                  <a:pt x="587" y="4287"/>
                </a:lnTo>
                <a:lnTo>
                  <a:pt x="572" y="4309"/>
                </a:lnTo>
                <a:lnTo>
                  <a:pt x="554" y="4331"/>
                </a:lnTo>
                <a:lnTo>
                  <a:pt x="535" y="4352"/>
                </a:lnTo>
                <a:lnTo>
                  <a:pt x="515" y="4372"/>
                </a:lnTo>
                <a:lnTo>
                  <a:pt x="496" y="4387"/>
                </a:lnTo>
                <a:lnTo>
                  <a:pt x="480" y="4397"/>
                </a:lnTo>
                <a:lnTo>
                  <a:pt x="466" y="4405"/>
                </a:lnTo>
                <a:lnTo>
                  <a:pt x="454" y="4414"/>
                </a:lnTo>
                <a:lnTo>
                  <a:pt x="446" y="4422"/>
                </a:lnTo>
                <a:lnTo>
                  <a:pt x="439" y="4432"/>
                </a:lnTo>
                <a:lnTo>
                  <a:pt x="433" y="4443"/>
                </a:lnTo>
                <a:lnTo>
                  <a:pt x="429" y="4455"/>
                </a:lnTo>
                <a:lnTo>
                  <a:pt x="425" y="4470"/>
                </a:lnTo>
                <a:lnTo>
                  <a:pt x="423" y="4485"/>
                </a:lnTo>
                <a:lnTo>
                  <a:pt x="414" y="4525"/>
                </a:lnTo>
                <a:lnTo>
                  <a:pt x="401" y="4560"/>
                </a:lnTo>
                <a:lnTo>
                  <a:pt x="385" y="4588"/>
                </a:lnTo>
                <a:lnTo>
                  <a:pt x="365" y="4611"/>
                </a:lnTo>
                <a:lnTo>
                  <a:pt x="345" y="4629"/>
                </a:lnTo>
                <a:lnTo>
                  <a:pt x="323" y="4644"/>
                </a:lnTo>
                <a:lnTo>
                  <a:pt x="301" y="4655"/>
                </a:lnTo>
                <a:lnTo>
                  <a:pt x="279" y="4666"/>
                </a:lnTo>
                <a:lnTo>
                  <a:pt x="257" y="4674"/>
                </a:lnTo>
                <a:lnTo>
                  <a:pt x="233" y="4681"/>
                </a:lnTo>
                <a:lnTo>
                  <a:pt x="208" y="4684"/>
                </a:lnTo>
                <a:lnTo>
                  <a:pt x="185" y="4685"/>
                </a:lnTo>
                <a:lnTo>
                  <a:pt x="162" y="4682"/>
                </a:lnTo>
                <a:lnTo>
                  <a:pt x="143" y="4673"/>
                </a:lnTo>
                <a:lnTo>
                  <a:pt x="128" y="4659"/>
                </a:lnTo>
                <a:lnTo>
                  <a:pt x="120" y="4637"/>
                </a:lnTo>
                <a:lnTo>
                  <a:pt x="115" y="4600"/>
                </a:lnTo>
                <a:lnTo>
                  <a:pt x="119" y="4563"/>
                </a:lnTo>
                <a:lnTo>
                  <a:pt x="128" y="4526"/>
                </a:lnTo>
                <a:lnTo>
                  <a:pt x="139" y="4492"/>
                </a:lnTo>
                <a:lnTo>
                  <a:pt x="149" y="4458"/>
                </a:lnTo>
                <a:lnTo>
                  <a:pt x="157" y="4429"/>
                </a:lnTo>
                <a:lnTo>
                  <a:pt x="160" y="4403"/>
                </a:lnTo>
                <a:lnTo>
                  <a:pt x="156" y="4381"/>
                </a:lnTo>
                <a:lnTo>
                  <a:pt x="136" y="4384"/>
                </a:lnTo>
                <a:lnTo>
                  <a:pt x="118" y="4382"/>
                </a:lnTo>
                <a:lnTo>
                  <a:pt x="104" y="4378"/>
                </a:lnTo>
                <a:lnTo>
                  <a:pt x="92" y="4370"/>
                </a:lnTo>
                <a:lnTo>
                  <a:pt x="84" y="4361"/>
                </a:lnTo>
                <a:lnTo>
                  <a:pt x="80" y="4349"/>
                </a:lnTo>
                <a:lnTo>
                  <a:pt x="81" y="4339"/>
                </a:lnTo>
                <a:lnTo>
                  <a:pt x="86" y="4327"/>
                </a:lnTo>
                <a:lnTo>
                  <a:pt x="94" y="4317"/>
                </a:lnTo>
                <a:lnTo>
                  <a:pt x="104" y="4306"/>
                </a:lnTo>
                <a:lnTo>
                  <a:pt x="115" y="4297"/>
                </a:lnTo>
                <a:lnTo>
                  <a:pt x="127" y="4289"/>
                </a:lnTo>
                <a:lnTo>
                  <a:pt x="140" y="4281"/>
                </a:lnTo>
                <a:lnTo>
                  <a:pt x="152" y="4274"/>
                </a:lnTo>
                <a:lnTo>
                  <a:pt x="164" y="4268"/>
                </a:lnTo>
                <a:lnTo>
                  <a:pt x="175" y="4265"/>
                </a:lnTo>
                <a:lnTo>
                  <a:pt x="173" y="4286"/>
                </a:lnTo>
                <a:lnTo>
                  <a:pt x="158" y="4291"/>
                </a:lnTo>
                <a:lnTo>
                  <a:pt x="145" y="4297"/>
                </a:lnTo>
                <a:lnTo>
                  <a:pt x="134" y="4305"/>
                </a:lnTo>
                <a:lnTo>
                  <a:pt x="124" y="4313"/>
                </a:lnTo>
                <a:lnTo>
                  <a:pt x="115" y="4321"/>
                </a:lnTo>
                <a:lnTo>
                  <a:pt x="110" y="4331"/>
                </a:lnTo>
                <a:lnTo>
                  <a:pt x="106" y="4340"/>
                </a:lnTo>
                <a:lnTo>
                  <a:pt x="105" y="4348"/>
                </a:lnTo>
                <a:lnTo>
                  <a:pt x="107" y="4352"/>
                </a:lnTo>
                <a:lnTo>
                  <a:pt x="111" y="4356"/>
                </a:lnTo>
                <a:lnTo>
                  <a:pt x="117" y="4357"/>
                </a:lnTo>
                <a:lnTo>
                  <a:pt x="124" y="4358"/>
                </a:lnTo>
                <a:lnTo>
                  <a:pt x="132" y="4358"/>
                </a:lnTo>
                <a:lnTo>
                  <a:pt x="141" y="4356"/>
                </a:lnTo>
                <a:lnTo>
                  <a:pt x="150" y="4354"/>
                </a:lnTo>
                <a:lnTo>
                  <a:pt x="160" y="4349"/>
                </a:lnTo>
                <a:lnTo>
                  <a:pt x="158" y="4335"/>
                </a:lnTo>
                <a:lnTo>
                  <a:pt x="160" y="4318"/>
                </a:lnTo>
                <a:lnTo>
                  <a:pt x="165" y="4299"/>
                </a:lnTo>
                <a:lnTo>
                  <a:pt x="173" y="4286"/>
                </a:lnTo>
                <a:lnTo>
                  <a:pt x="175" y="4265"/>
                </a:lnTo>
                <a:lnTo>
                  <a:pt x="177" y="4236"/>
                </a:lnTo>
                <a:lnTo>
                  <a:pt x="181" y="4214"/>
                </a:lnTo>
                <a:lnTo>
                  <a:pt x="189" y="4195"/>
                </a:lnTo>
                <a:lnTo>
                  <a:pt x="200" y="4177"/>
                </a:lnTo>
                <a:lnTo>
                  <a:pt x="194" y="4167"/>
                </a:lnTo>
                <a:lnTo>
                  <a:pt x="188" y="4154"/>
                </a:lnTo>
                <a:lnTo>
                  <a:pt x="182" y="4143"/>
                </a:lnTo>
                <a:lnTo>
                  <a:pt x="179" y="4129"/>
                </a:lnTo>
                <a:lnTo>
                  <a:pt x="177" y="4116"/>
                </a:lnTo>
                <a:lnTo>
                  <a:pt x="178" y="4105"/>
                </a:lnTo>
                <a:lnTo>
                  <a:pt x="181" y="4092"/>
                </a:lnTo>
                <a:lnTo>
                  <a:pt x="188" y="4082"/>
                </a:lnTo>
                <a:lnTo>
                  <a:pt x="171" y="4046"/>
                </a:lnTo>
                <a:lnTo>
                  <a:pt x="153" y="4009"/>
                </a:lnTo>
                <a:lnTo>
                  <a:pt x="135" y="3971"/>
                </a:lnTo>
                <a:lnTo>
                  <a:pt x="118" y="3932"/>
                </a:lnTo>
                <a:lnTo>
                  <a:pt x="101" y="3894"/>
                </a:lnTo>
                <a:lnTo>
                  <a:pt x="83" y="3856"/>
                </a:lnTo>
                <a:lnTo>
                  <a:pt x="67" y="3820"/>
                </a:lnTo>
                <a:lnTo>
                  <a:pt x="51" y="3786"/>
                </a:lnTo>
                <a:lnTo>
                  <a:pt x="37" y="3752"/>
                </a:lnTo>
                <a:lnTo>
                  <a:pt x="24" y="3721"/>
                </a:lnTo>
                <a:lnTo>
                  <a:pt x="14" y="3689"/>
                </a:lnTo>
                <a:lnTo>
                  <a:pt x="6" y="3658"/>
                </a:lnTo>
                <a:lnTo>
                  <a:pt x="1" y="3627"/>
                </a:lnTo>
                <a:lnTo>
                  <a:pt x="0" y="3596"/>
                </a:lnTo>
                <a:lnTo>
                  <a:pt x="4" y="3564"/>
                </a:lnTo>
                <a:lnTo>
                  <a:pt x="12" y="3533"/>
                </a:lnTo>
                <a:lnTo>
                  <a:pt x="23" y="3499"/>
                </a:lnTo>
                <a:lnTo>
                  <a:pt x="36" y="3458"/>
                </a:lnTo>
                <a:lnTo>
                  <a:pt x="50" y="3415"/>
                </a:lnTo>
                <a:lnTo>
                  <a:pt x="64" y="3371"/>
                </a:lnTo>
                <a:lnTo>
                  <a:pt x="77" y="3328"/>
                </a:lnTo>
                <a:lnTo>
                  <a:pt x="90" y="3289"/>
                </a:lnTo>
                <a:lnTo>
                  <a:pt x="102" y="3255"/>
                </a:lnTo>
                <a:lnTo>
                  <a:pt x="112" y="3229"/>
                </a:lnTo>
                <a:lnTo>
                  <a:pt x="102" y="3219"/>
                </a:lnTo>
                <a:lnTo>
                  <a:pt x="90" y="3207"/>
                </a:lnTo>
                <a:lnTo>
                  <a:pt x="80" y="3196"/>
                </a:lnTo>
                <a:lnTo>
                  <a:pt x="71" y="3184"/>
                </a:lnTo>
                <a:lnTo>
                  <a:pt x="62" y="3174"/>
                </a:lnTo>
                <a:lnTo>
                  <a:pt x="57" y="3166"/>
                </a:lnTo>
                <a:lnTo>
                  <a:pt x="52" y="3160"/>
                </a:lnTo>
                <a:lnTo>
                  <a:pt x="51" y="3158"/>
                </a:lnTo>
                <a:lnTo>
                  <a:pt x="62" y="3128"/>
                </a:lnTo>
                <a:lnTo>
                  <a:pt x="76" y="3098"/>
                </a:lnTo>
                <a:lnTo>
                  <a:pt x="91" y="3068"/>
                </a:lnTo>
                <a:lnTo>
                  <a:pt x="107" y="3037"/>
                </a:lnTo>
                <a:lnTo>
                  <a:pt x="126" y="3007"/>
                </a:lnTo>
                <a:lnTo>
                  <a:pt x="147" y="2977"/>
                </a:lnTo>
                <a:lnTo>
                  <a:pt x="168" y="2947"/>
                </a:lnTo>
                <a:lnTo>
                  <a:pt x="192" y="2917"/>
                </a:lnTo>
                <a:lnTo>
                  <a:pt x="215" y="2886"/>
                </a:lnTo>
                <a:lnTo>
                  <a:pt x="236" y="2855"/>
                </a:lnTo>
                <a:lnTo>
                  <a:pt x="257" y="2821"/>
                </a:lnTo>
                <a:lnTo>
                  <a:pt x="274" y="2788"/>
                </a:lnTo>
                <a:lnTo>
                  <a:pt x="289" y="2756"/>
                </a:lnTo>
                <a:lnTo>
                  <a:pt x="300" y="2723"/>
                </a:lnTo>
                <a:lnTo>
                  <a:pt x="308" y="2692"/>
                </a:lnTo>
                <a:lnTo>
                  <a:pt x="311" y="2662"/>
                </a:lnTo>
                <a:lnTo>
                  <a:pt x="316" y="2630"/>
                </a:lnTo>
                <a:lnTo>
                  <a:pt x="326" y="2592"/>
                </a:lnTo>
                <a:lnTo>
                  <a:pt x="340" y="2552"/>
                </a:lnTo>
                <a:lnTo>
                  <a:pt x="356" y="2510"/>
                </a:lnTo>
                <a:lnTo>
                  <a:pt x="375" y="2471"/>
                </a:lnTo>
                <a:lnTo>
                  <a:pt x="394" y="2438"/>
                </a:lnTo>
                <a:lnTo>
                  <a:pt x="414" y="2410"/>
                </a:lnTo>
                <a:lnTo>
                  <a:pt x="431" y="2394"/>
                </a:lnTo>
                <a:lnTo>
                  <a:pt x="436" y="2371"/>
                </a:lnTo>
                <a:lnTo>
                  <a:pt x="425" y="2367"/>
                </a:lnTo>
                <a:lnTo>
                  <a:pt x="417" y="2362"/>
                </a:lnTo>
                <a:lnTo>
                  <a:pt x="410" y="2354"/>
                </a:lnTo>
                <a:lnTo>
                  <a:pt x="405" y="2343"/>
                </a:lnTo>
                <a:lnTo>
                  <a:pt x="401" y="2329"/>
                </a:lnTo>
                <a:lnTo>
                  <a:pt x="400" y="2312"/>
                </a:lnTo>
                <a:lnTo>
                  <a:pt x="400" y="2293"/>
                </a:lnTo>
                <a:lnTo>
                  <a:pt x="403" y="2271"/>
                </a:lnTo>
                <a:lnTo>
                  <a:pt x="409" y="2244"/>
                </a:lnTo>
                <a:lnTo>
                  <a:pt x="418" y="2214"/>
                </a:lnTo>
                <a:lnTo>
                  <a:pt x="428" y="2181"/>
                </a:lnTo>
                <a:lnTo>
                  <a:pt x="438" y="2146"/>
                </a:lnTo>
                <a:lnTo>
                  <a:pt x="447" y="2112"/>
                </a:lnTo>
                <a:lnTo>
                  <a:pt x="453" y="2076"/>
                </a:lnTo>
                <a:lnTo>
                  <a:pt x="455" y="2043"/>
                </a:lnTo>
                <a:lnTo>
                  <a:pt x="452" y="2010"/>
                </a:lnTo>
                <a:lnTo>
                  <a:pt x="444" y="1980"/>
                </a:lnTo>
                <a:lnTo>
                  <a:pt x="435" y="1952"/>
                </a:lnTo>
                <a:lnTo>
                  <a:pt x="422" y="1923"/>
                </a:lnTo>
                <a:lnTo>
                  <a:pt x="409" y="1894"/>
                </a:lnTo>
                <a:lnTo>
                  <a:pt x="395" y="1869"/>
                </a:lnTo>
                <a:lnTo>
                  <a:pt x="382" y="1844"/>
                </a:lnTo>
                <a:lnTo>
                  <a:pt x="370" y="1823"/>
                </a:lnTo>
                <a:lnTo>
                  <a:pt x="360" y="1803"/>
                </a:lnTo>
                <a:lnTo>
                  <a:pt x="346" y="1765"/>
                </a:lnTo>
                <a:lnTo>
                  <a:pt x="339" y="1725"/>
                </a:lnTo>
                <a:lnTo>
                  <a:pt x="341" y="1681"/>
                </a:lnTo>
                <a:lnTo>
                  <a:pt x="352" y="1635"/>
                </a:lnTo>
                <a:lnTo>
                  <a:pt x="372" y="1594"/>
                </a:lnTo>
                <a:lnTo>
                  <a:pt x="393" y="1552"/>
                </a:lnTo>
                <a:lnTo>
                  <a:pt x="413" y="1510"/>
                </a:lnTo>
                <a:lnTo>
                  <a:pt x="432" y="1469"/>
                </a:lnTo>
                <a:lnTo>
                  <a:pt x="447" y="1431"/>
                </a:lnTo>
                <a:lnTo>
                  <a:pt x="459" y="1397"/>
                </a:lnTo>
                <a:lnTo>
                  <a:pt x="465" y="1369"/>
                </a:lnTo>
                <a:lnTo>
                  <a:pt x="463" y="1347"/>
                </a:lnTo>
                <a:lnTo>
                  <a:pt x="468" y="1342"/>
                </a:lnTo>
                <a:lnTo>
                  <a:pt x="473" y="1338"/>
                </a:lnTo>
                <a:lnTo>
                  <a:pt x="478" y="1334"/>
                </a:lnTo>
                <a:lnTo>
                  <a:pt x="483" y="1331"/>
                </a:lnTo>
                <a:lnTo>
                  <a:pt x="489" y="1327"/>
                </a:lnTo>
                <a:lnTo>
                  <a:pt x="496" y="1324"/>
                </a:lnTo>
                <a:lnTo>
                  <a:pt x="504" y="1321"/>
                </a:lnTo>
                <a:lnTo>
                  <a:pt x="512" y="1318"/>
                </a:lnTo>
                <a:lnTo>
                  <a:pt x="498" y="1309"/>
                </a:lnTo>
                <a:lnTo>
                  <a:pt x="485" y="1294"/>
                </a:lnTo>
                <a:lnTo>
                  <a:pt x="474" y="1274"/>
                </a:lnTo>
                <a:lnTo>
                  <a:pt x="463" y="1250"/>
                </a:lnTo>
                <a:lnTo>
                  <a:pt x="456" y="1223"/>
                </a:lnTo>
                <a:lnTo>
                  <a:pt x="452" y="1195"/>
                </a:lnTo>
                <a:lnTo>
                  <a:pt x="452" y="1165"/>
                </a:lnTo>
                <a:lnTo>
                  <a:pt x="456" y="1136"/>
                </a:lnTo>
                <a:lnTo>
                  <a:pt x="448" y="1116"/>
                </a:lnTo>
                <a:lnTo>
                  <a:pt x="445" y="1096"/>
                </a:lnTo>
                <a:lnTo>
                  <a:pt x="447" y="1075"/>
                </a:lnTo>
                <a:lnTo>
                  <a:pt x="453" y="1055"/>
                </a:lnTo>
                <a:lnTo>
                  <a:pt x="462" y="1037"/>
                </a:lnTo>
                <a:lnTo>
                  <a:pt x="471" y="1020"/>
                </a:lnTo>
                <a:lnTo>
                  <a:pt x="482" y="1006"/>
                </a:lnTo>
                <a:lnTo>
                  <a:pt x="491" y="994"/>
                </a:lnTo>
                <a:lnTo>
                  <a:pt x="499" y="982"/>
                </a:lnTo>
                <a:lnTo>
                  <a:pt x="505" y="963"/>
                </a:lnTo>
                <a:lnTo>
                  <a:pt x="511" y="942"/>
                </a:lnTo>
                <a:lnTo>
                  <a:pt x="516" y="920"/>
                </a:lnTo>
                <a:lnTo>
                  <a:pt x="522" y="900"/>
                </a:lnTo>
                <a:lnTo>
                  <a:pt x="530" y="882"/>
                </a:lnTo>
                <a:lnTo>
                  <a:pt x="539" y="871"/>
                </a:lnTo>
                <a:lnTo>
                  <a:pt x="553" y="866"/>
                </a:lnTo>
                <a:lnTo>
                  <a:pt x="567" y="866"/>
                </a:lnTo>
                <a:lnTo>
                  <a:pt x="577" y="865"/>
                </a:lnTo>
                <a:lnTo>
                  <a:pt x="585" y="863"/>
                </a:lnTo>
                <a:lnTo>
                  <a:pt x="594" y="858"/>
                </a:lnTo>
                <a:lnTo>
                  <a:pt x="599" y="854"/>
                </a:lnTo>
                <a:lnTo>
                  <a:pt x="604" y="848"/>
                </a:lnTo>
                <a:lnTo>
                  <a:pt x="610" y="840"/>
                </a:lnTo>
                <a:lnTo>
                  <a:pt x="615" y="831"/>
                </a:lnTo>
                <a:lnTo>
                  <a:pt x="621" y="820"/>
                </a:lnTo>
                <a:lnTo>
                  <a:pt x="627" y="810"/>
                </a:lnTo>
                <a:lnTo>
                  <a:pt x="633" y="801"/>
                </a:lnTo>
                <a:lnTo>
                  <a:pt x="640" y="793"/>
                </a:lnTo>
                <a:lnTo>
                  <a:pt x="647" y="787"/>
                </a:lnTo>
                <a:lnTo>
                  <a:pt x="655" y="782"/>
                </a:lnTo>
                <a:lnTo>
                  <a:pt x="664" y="781"/>
                </a:lnTo>
                <a:lnTo>
                  <a:pt x="675" y="782"/>
                </a:lnTo>
                <a:lnTo>
                  <a:pt x="687" y="787"/>
                </a:lnTo>
                <a:lnTo>
                  <a:pt x="696" y="793"/>
                </a:lnTo>
                <a:lnTo>
                  <a:pt x="704" y="798"/>
                </a:lnTo>
                <a:lnTo>
                  <a:pt x="711" y="804"/>
                </a:lnTo>
                <a:lnTo>
                  <a:pt x="718" y="809"/>
                </a:lnTo>
                <a:lnTo>
                  <a:pt x="725" y="810"/>
                </a:lnTo>
                <a:lnTo>
                  <a:pt x="733" y="809"/>
                </a:lnTo>
                <a:lnTo>
                  <a:pt x="742" y="802"/>
                </a:lnTo>
                <a:lnTo>
                  <a:pt x="753" y="794"/>
                </a:lnTo>
                <a:lnTo>
                  <a:pt x="763" y="789"/>
                </a:lnTo>
                <a:lnTo>
                  <a:pt x="774" y="786"/>
                </a:lnTo>
                <a:lnTo>
                  <a:pt x="784" y="785"/>
                </a:lnTo>
                <a:lnTo>
                  <a:pt x="794" y="785"/>
                </a:lnTo>
                <a:lnTo>
                  <a:pt x="802" y="787"/>
                </a:lnTo>
                <a:lnTo>
                  <a:pt x="809" y="791"/>
                </a:lnTo>
                <a:lnTo>
                  <a:pt x="815" y="798"/>
                </a:lnTo>
                <a:lnTo>
                  <a:pt x="819" y="805"/>
                </a:lnTo>
                <a:lnTo>
                  <a:pt x="823" y="812"/>
                </a:lnTo>
                <a:lnTo>
                  <a:pt x="826" y="818"/>
                </a:lnTo>
                <a:lnTo>
                  <a:pt x="830" y="823"/>
                </a:lnTo>
                <a:lnTo>
                  <a:pt x="833" y="827"/>
                </a:lnTo>
                <a:lnTo>
                  <a:pt x="838" y="829"/>
                </a:lnTo>
                <a:lnTo>
                  <a:pt x="844" y="831"/>
                </a:lnTo>
                <a:lnTo>
                  <a:pt x="850" y="831"/>
                </a:lnTo>
                <a:lnTo>
                  <a:pt x="858" y="831"/>
                </a:lnTo>
                <a:lnTo>
                  <a:pt x="867" y="832"/>
                </a:lnTo>
                <a:lnTo>
                  <a:pt x="875" y="836"/>
                </a:lnTo>
                <a:lnTo>
                  <a:pt x="882" y="842"/>
                </a:lnTo>
                <a:lnTo>
                  <a:pt x="888" y="849"/>
                </a:lnTo>
                <a:lnTo>
                  <a:pt x="894" y="857"/>
                </a:lnTo>
                <a:lnTo>
                  <a:pt x="898" y="865"/>
                </a:lnTo>
                <a:lnTo>
                  <a:pt x="899" y="874"/>
                </a:lnTo>
                <a:lnTo>
                  <a:pt x="901" y="889"/>
                </a:lnTo>
                <a:lnTo>
                  <a:pt x="908" y="901"/>
                </a:lnTo>
                <a:lnTo>
                  <a:pt x="918" y="914"/>
                </a:lnTo>
                <a:lnTo>
                  <a:pt x="930" y="931"/>
                </a:lnTo>
                <a:lnTo>
                  <a:pt x="931" y="911"/>
                </a:lnTo>
                <a:lnTo>
                  <a:pt x="928" y="891"/>
                </a:lnTo>
                <a:lnTo>
                  <a:pt x="921" y="868"/>
                </a:lnTo>
                <a:lnTo>
                  <a:pt x="914" y="843"/>
                </a:lnTo>
                <a:lnTo>
                  <a:pt x="906" y="818"/>
                </a:lnTo>
                <a:lnTo>
                  <a:pt x="900" y="791"/>
                </a:lnTo>
                <a:lnTo>
                  <a:pt x="895" y="765"/>
                </a:lnTo>
                <a:lnTo>
                  <a:pt x="894" y="738"/>
                </a:lnTo>
                <a:lnTo>
                  <a:pt x="895" y="707"/>
                </a:lnTo>
                <a:lnTo>
                  <a:pt x="895" y="672"/>
                </a:lnTo>
                <a:lnTo>
                  <a:pt x="893" y="631"/>
                </a:lnTo>
                <a:lnTo>
                  <a:pt x="888" y="589"/>
                </a:lnTo>
                <a:lnTo>
                  <a:pt x="880" y="546"/>
                </a:lnTo>
                <a:lnTo>
                  <a:pt x="870" y="505"/>
                </a:lnTo>
                <a:lnTo>
                  <a:pt x="856" y="465"/>
                </a:lnTo>
                <a:lnTo>
                  <a:pt x="839" y="432"/>
                </a:lnTo>
                <a:lnTo>
                  <a:pt x="824" y="452"/>
                </a:lnTo>
                <a:lnTo>
                  <a:pt x="808" y="471"/>
                </a:lnTo>
                <a:lnTo>
                  <a:pt x="789" y="487"/>
                </a:lnTo>
                <a:lnTo>
                  <a:pt x="770" y="503"/>
                </a:lnTo>
                <a:lnTo>
                  <a:pt x="749" y="517"/>
                </a:lnTo>
                <a:lnTo>
                  <a:pt x="727" y="529"/>
                </a:lnTo>
                <a:lnTo>
                  <a:pt x="704" y="538"/>
                </a:lnTo>
                <a:lnTo>
                  <a:pt x="680" y="546"/>
                </a:lnTo>
                <a:lnTo>
                  <a:pt x="667" y="554"/>
                </a:lnTo>
                <a:lnTo>
                  <a:pt x="652" y="561"/>
                </a:lnTo>
                <a:lnTo>
                  <a:pt x="636" y="568"/>
                </a:lnTo>
                <a:lnTo>
                  <a:pt x="620" y="574"/>
                </a:lnTo>
                <a:lnTo>
                  <a:pt x="603" y="578"/>
                </a:lnTo>
                <a:lnTo>
                  <a:pt x="587" y="583"/>
                </a:lnTo>
                <a:lnTo>
                  <a:pt x="572" y="589"/>
                </a:lnTo>
                <a:lnTo>
                  <a:pt x="559" y="594"/>
                </a:lnTo>
                <a:lnTo>
                  <a:pt x="547" y="603"/>
                </a:lnTo>
                <a:lnTo>
                  <a:pt x="536" y="615"/>
                </a:lnTo>
                <a:lnTo>
                  <a:pt x="526" y="630"/>
                </a:lnTo>
                <a:lnTo>
                  <a:pt x="514" y="647"/>
                </a:lnTo>
                <a:lnTo>
                  <a:pt x="504" y="667"/>
                </a:lnTo>
                <a:lnTo>
                  <a:pt x="494" y="687"/>
                </a:lnTo>
                <a:lnTo>
                  <a:pt x="485" y="705"/>
                </a:lnTo>
                <a:lnTo>
                  <a:pt x="476" y="722"/>
                </a:lnTo>
                <a:lnTo>
                  <a:pt x="466" y="741"/>
                </a:lnTo>
                <a:lnTo>
                  <a:pt x="454" y="763"/>
                </a:lnTo>
                <a:lnTo>
                  <a:pt x="441" y="786"/>
                </a:lnTo>
                <a:lnTo>
                  <a:pt x="428" y="811"/>
                </a:lnTo>
                <a:lnTo>
                  <a:pt x="416" y="836"/>
                </a:lnTo>
                <a:lnTo>
                  <a:pt x="405" y="861"/>
                </a:lnTo>
                <a:lnTo>
                  <a:pt x="397" y="882"/>
                </a:lnTo>
                <a:lnTo>
                  <a:pt x="392" y="902"/>
                </a:lnTo>
                <a:lnTo>
                  <a:pt x="388" y="924"/>
                </a:lnTo>
                <a:lnTo>
                  <a:pt x="384" y="953"/>
                </a:lnTo>
                <a:lnTo>
                  <a:pt x="378" y="986"/>
                </a:lnTo>
                <a:lnTo>
                  <a:pt x="372" y="1021"/>
                </a:lnTo>
                <a:lnTo>
                  <a:pt x="365" y="1055"/>
                </a:lnTo>
                <a:lnTo>
                  <a:pt x="359" y="1086"/>
                </a:lnTo>
                <a:lnTo>
                  <a:pt x="350" y="1112"/>
                </a:lnTo>
                <a:lnTo>
                  <a:pt x="344" y="1130"/>
                </a:lnTo>
                <a:lnTo>
                  <a:pt x="355" y="1146"/>
                </a:lnTo>
                <a:lnTo>
                  <a:pt x="370" y="1169"/>
                </a:lnTo>
                <a:lnTo>
                  <a:pt x="387" y="1197"/>
                </a:lnTo>
                <a:lnTo>
                  <a:pt x="407" y="1228"/>
                </a:lnTo>
                <a:lnTo>
                  <a:pt x="424" y="1260"/>
                </a:lnTo>
                <a:lnTo>
                  <a:pt x="441" y="1293"/>
                </a:lnTo>
                <a:lnTo>
                  <a:pt x="454" y="1321"/>
                </a:lnTo>
                <a:lnTo>
                  <a:pt x="463" y="1347"/>
                </a:lnTo>
                <a:lnTo>
                  <a:pt x="465" y="1369"/>
                </a:lnTo>
                <a:lnTo>
                  <a:pt x="459" y="1397"/>
                </a:lnTo>
                <a:lnTo>
                  <a:pt x="447" y="1431"/>
                </a:lnTo>
                <a:lnTo>
                  <a:pt x="432" y="1469"/>
                </a:lnTo>
                <a:lnTo>
                  <a:pt x="413" y="1510"/>
                </a:lnTo>
                <a:lnTo>
                  <a:pt x="393" y="1552"/>
                </a:lnTo>
                <a:lnTo>
                  <a:pt x="372" y="1594"/>
                </a:lnTo>
                <a:lnTo>
                  <a:pt x="352" y="1635"/>
                </a:lnTo>
                <a:lnTo>
                  <a:pt x="331" y="1606"/>
                </a:lnTo>
                <a:lnTo>
                  <a:pt x="312" y="1576"/>
                </a:lnTo>
                <a:lnTo>
                  <a:pt x="294" y="1546"/>
                </a:lnTo>
                <a:lnTo>
                  <a:pt x="277" y="1515"/>
                </a:lnTo>
                <a:lnTo>
                  <a:pt x="261" y="1486"/>
                </a:lnTo>
                <a:lnTo>
                  <a:pt x="243" y="1457"/>
                </a:lnTo>
                <a:lnTo>
                  <a:pt x="226" y="1431"/>
                </a:lnTo>
                <a:lnTo>
                  <a:pt x="209" y="1406"/>
                </a:lnTo>
                <a:lnTo>
                  <a:pt x="182" y="1367"/>
                </a:lnTo>
                <a:lnTo>
                  <a:pt x="159" y="1328"/>
                </a:lnTo>
                <a:lnTo>
                  <a:pt x="140" y="1289"/>
                </a:lnTo>
                <a:lnTo>
                  <a:pt x="124" y="1250"/>
                </a:lnTo>
                <a:lnTo>
                  <a:pt x="112" y="1212"/>
                </a:lnTo>
                <a:lnTo>
                  <a:pt x="104" y="1174"/>
                </a:lnTo>
                <a:lnTo>
                  <a:pt x="102" y="1139"/>
                </a:lnTo>
                <a:lnTo>
                  <a:pt x="104" y="1106"/>
                </a:lnTo>
                <a:lnTo>
                  <a:pt x="109" y="1076"/>
                </a:lnTo>
                <a:lnTo>
                  <a:pt x="115" y="1050"/>
                </a:lnTo>
                <a:lnTo>
                  <a:pt x="125" y="1025"/>
                </a:lnTo>
                <a:lnTo>
                  <a:pt x="135" y="1003"/>
                </a:lnTo>
                <a:lnTo>
                  <a:pt x="147" y="982"/>
                </a:lnTo>
                <a:lnTo>
                  <a:pt x="160" y="959"/>
                </a:lnTo>
                <a:lnTo>
                  <a:pt x="175" y="934"/>
                </a:lnTo>
                <a:lnTo>
                  <a:pt x="193" y="909"/>
                </a:lnTo>
                <a:lnTo>
                  <a:pt x="213" y="880"/>
                </a:lnTo>
                <a:lnTo>
                  <a:pt x="238" y="847"/>
                </a:lnTo>
                <a:lnTo>
                  <a:pt x="263" y="811"/>
                </a:lnTo>
                <a:lnTo>
                  <a:pt x="291" y="772"/>
                </a:lnTo>
                <a:lnTo>
                  <a:pt x="316" y="733"/>
                </a:lnTo>
                <a:lnTo>
                  <a:pt x="340" y="692"/>
                </a:lnTo>
                <a:lnTo>
                  <a:pt x="361" y="652"/>
                </a:lnTo>
                <a:lnTo>
                  <a:pt x="376" y="614"/>
                </a:lnTo>
                <a:lnTo>
                  <a:pt x="385" y="575"/>
                </a:lnTo>
                <a:lnTo>
                  <a:pt x="386" y="541"/>
                </a:lnTo>
                <a:lnTo>
                  <a:pt x="383" y="515"/>
                </a:lnTo>
                <a:lnTo>
                  <a:pt x="376" y="492"/>
                </a:lnTo>
                <a:lnTo>
                  <a:pt x="370" y="472"/>
                </a:lnTo>
                <a:lnTo>
                  <a:pt x="365" y="454"/>
                </a:lnTo>
                <a:lnTo>
                  <a:pt x="365" y="438"/>
                </a:lnTo>
                <a:lnTo>
                  <a:pt x="372" y="419"/>
                </a:lnTo>
                <a:lnTo>
                  <a:pt x="364" y="403"/>
                </a:lnTo>
                <a:lnTo>
                  <a:pt x="356" y="387"/>
                </a:lnTo>
                <a:lnTo>
                  <a:pt x="349" y="370"/>
                </a:lnTo>
                <a:lnTo>
                  <a:pt x="344" y="353"/>
                </a:lnTo>
                <a:lnTo>
                  <a:pt x="339" y="334"/>
                </a:lnTo>
                <a:lnTo>
                  <a:pt x="336" y="316"/>
                </a:lnTo>
                <a:lnTo>
                  <a:pt x="334" y="297"/>
                </a:lnTo>
                <a:lnTo>
                  <a:pt x="333" y="278"/>
                </a:lnTo>
                <a:lnTo>
                  <a:pt x="334" y="249"/>
                </a:lnTo>
                <a:lnTo>
                  <a:pt x="339" y="221"/>
                </a:lnTo>
                <a:lnTo>
                  <a:pt x="346" y="195"/>
                </a:lnTo>
                <a:lnTo>
                  <a:pt x="355" y="169"/>
                </a:lnTo>
                <a:lnTo>
                  <a:pt x="367" y="145"/>
                </a:lnTo>
                <a:lnTo>
                  <a:pt x="380" y="122"/>
                </a:lnTo>
                <a:lnTo>
                  <a:pt x="397" y="101"/>
                </a:lnTo>
                <a:lnTo>
                  <a:pt x="415" y="82"/>
                </a:lnTo>
                <a:lnTo>
                  <a:pt x="435" y="63"/>
                </a:lnTo>
                <a:lnTo>
                  <a:pt x="455" y="47"/>
                </a:lnTo>
                <a:lnTo>
                  <a:pt x="478" y="33"/>
                </a:lnTo>
                <a:lnTo>
                  <a:pt x="503" y="22"/>
                </a:lnTo>
                <a:lnTo>
                  <a:pt x="528" y="13"/>
                </a:lnTo>
                <a:lnTo>
                  <a:pt x="554" y="6"/>
                </a:lnTo>
                <a:lnTo>
                  <a:pt x="582" y="1"/>
                </a:lnTo>
                <a:lnTo>
                  <a:pt x="611" y="0"/>
                </a:lnTo>
                <a:lnTo>
                  <a:pt x="620" y="0"/>
                </a:lnTo>
                <a:lnTo>
                  <a:pt x="629" y="1"/>
                </a:lnTo>
                <a:lnTo>
                  <a:pt x="638" y="1"/>
                </a:lnTo>
                <a:lnTo>
                  <a:pt x="647" y="2"/>
                </a:lnTo>
                <a:lnTo>
                  <a:pt x="656" y="3"/>
                </a:lnTo>
                <a:lnTo>
                  <a:pt x="665" y="6"/>
                </a:lnTo>
                <a:lnTo>
                  <a:pt x="673" y="7"/>
                </a:lnTo>
                <a:lnTo>
                  <a:pt x="682" y="9"/>
                </a:lnTo>
                <a:lnTo>
                  <a:pt x="688" y="8"/>
                </a:lnTo>
                <a:lnTo>
                  <a:pt x="695" y="7"/>
                </a:lnTo>
                <a:lnTo>
                  <a:pt x="703" y="8"/>
                </a:lnTo>
                <a:lnTo>
                  <a:pt x="713" y="9"/>
                </a:lnTo>
                <a:lnTo>
                  <a:pt x="723" y="12"/>
                </a:lnTo>
                <a:lnTo>
                  <a:pt x="732" y="14"/>
                </a:lnTo>
                <a:lnTo>
                  <a:pt x="740" y="18"/>
                </a:lnTo>
                <a:lnTo>
                  <a:pt x="747" y="24"/>
                </a:lnTo>
                <a:lnTo>
                  <a:pt x="758" y="21"/>
                </a:lnTo>
                <a:lnTo>
                  <a:pt x="772" y="18"/>
                </a:lnTo>
                <a:lnTo>
                  <a:pt x="787" y="17"/>
                </a:lnTo>
                <a:lnTo>
                  <a:pt x="803" y="20"/>
                </a:lnTo>
                <a:lnTo>
                  <a:pt x="818" y="24"/>
                </a:lnTo>
                <a:lnTo>
                  <a:pt x="832" y="31"/>
                </a:lnTo>
                <a:lnTo>
                  <a:pt x="844" y="41"/>
                </a:lnTo>
                <a:lnTo>
                  <a:pt x="853" y="55"/>
                </a:lnTo>
                <a:lnTo>
                  <a:pt x="863" y="56"/>
                </a:lnTo>
                <a:lnTo>
                  <a:pt x="873" y="61"/>
                </a:lnTo>
                <a:lnTo>
                  <a:pt x="884" y="69"/>
                </a:lnTo>
                <a:lnTo>
                  <a:pt x="893" y="79"/>
                </a:lnTo>
                <a:lnTo>
                  <a:pt x="901" y="92"/>
                </a:lnTo>
                <a:lnTo>
                  <a:pt x="908" y="107"/>
                </a:lnTo>
                <a:lnTo>
                  <a:pt x="914" y="123"/>
                </a:lnTo>
                <a:lnTo>
                  <a:pt x="917" y="141"/>
                </a:lnTo>
                <a:lnTo>
                  <a:pt x="921" y="180"/>
                </a:lnTo>
                <a:lnTo>
                  <a:pt x="926" y="221"/>
                </a:lnTo>
                <a:lnTo>
                  <a:pt x="936" y="262"/>
                </a:lnTo>
                <a:lnTo>
                  <a:pt x="950" y="298"/>
                </a:lnTo>
                <a:lnTo>
                  <a:pt x="961" y="324"/>
                </a:lnTo>
                <a:lnTo>
                  <a:pt x="977" y="362"/>
                </a:lnTo>
                <a:lnTo>
                  <a:pt x="999" y="410"/>
                </a:lnTo>
                <a:lnTo>
                  <a:pt x="1021" y="462"/>
                </a:lnTo>
                <a:lnTo>
                  <a:pt x="1044" y="514"/>
                </a:lnTo>
                <a:lnTo>
                  <a:pt x="1066" y="561"/>
                </a:lnTo>
                <a:lnTo>
                  <a:pt x="1083" y="599"/>
                </a:lnTo>
                <a:lnTo>
                  <a:pt x="1096" y="623"/>
                </a:lnTo>
                <a:lnTo>
                  <a:pt x="1105" y="644"/>
                </a:lnTo>
                <a:lnTo>
                  <a:pt x="1114" y="670"/>
                </a:lnTo>
                <a:lnTo>
                  <a:pt x="1122" y="703"/>
                </a:lnTo>
                <a:lnTo>
                  <a:pt x="1130" y="738"/>
                </a:lnTo>
                <a:lnTo>
                  <a:pt x="1137" y="774"/>
                </a:lnTo>
                <a:lnTo>
                  <a:pt x="1143" y="809"/>
                </a:lnTo>
                <a:lnTo>
                  <a:pt x="1146" y="839"/>
                </a:lnTo>
                <a:lnTo>
                  <a:pt x="1149" y="864"/>
                </a:lnTo>
                <a:lnTo>
                  <a:pt x="1150" y="886"/>
                </a:lnTo>
                <a:lnTo>
                  <a:pt x="1152" y="909"/>
                </a:lnTo>
                <a:lnTo>
                  <a:pt x="1155" y="932"/>
                </a:lnTo>
                <a:lnTo>
                  <a:pt x="1158" y="956"/>
                </a:lnTo>
                <a:lnTo>
                  <a:pt x="1163" y="979"/>
                </a:lnTo>
                <a:lnTo>
                  <a:pt x="1168" y="1001"/>
                </a:lnTo>
                <a:lnTo>
                  <a:pt x="1175" y="1022"/>
                </a:lnTo>
                <a:lnTo>
                  <a:pt x="1183" y="1039"/>
                </a:lnTo>
                <a:lnTo>
                  <a:pt x="1194" y="1062"/>
                </a:lnTo>
                <a:lnTo>
                  <a:pt x="1204" y="1097"/>
                </a:lnTo>
                <a:lnTo>
                  <a:pt x="1214" y="1141"/>
                </a:lnTo>
                <a:lnTo>
                  <a:pt x="1225" y="1188"/>
                </a:lnTo>
                <a:lnTo>
                  <a:pt x="1233" y="1238"/>
                </a:lnTo>
                <a:lnTo>
                  <a:pt x="1239" y="1287"/>
                </a:lnTo>
                <a:lnTo>
                  <a:pt x="1241" y="1329"/>
                </a:lnTo>
                <a:lnTo>
                  <a:pt x="1240" y="1365"/>
                </a:lnTo>
                <a:lnTo>
                  <a:pt x="1255" y="1374"/>
                </a:lnTo>
                <a:lnTo>
                  <a:pt x="1273" y="1386"/>
                </a:lnTo>
                <a:lnTo>
                  <a:pt x="1292" y="1400"/>
                </a:lnTo>
                <a:lnTo>
                  <a:pt x="1309" y="1415"/>
                </a:lnTo>
                <a:lnTo>
                  <a:pt x="1324" y="1431"/>
                </a:lnTo>
                <a:lnTo>
                  <a:pt x="1335" y="1448"/>
                </a:lnTo>
                <a:lnTo>
                  <a:pt x="1341" y="1464"/>
                </a:lnTo>
                <a:lnTo>
                  <a:pt x="1339" y="1479"/>
                </a:lnTo>
                <a:lnTo>
                  <a:pt x="1331" y="1501"/>
                </a:lnTo>
                <a:lnTo>
                  <a:pt x="1323" y="1529"/>
                </a:lnTo>
                <a:lnTo>
                  <a:pt x="1316" y="1562"/>
                </a:lnTo>
                <a:lnTo>
                  <a:pt x="1309" y="1599"/>
                </a:lnTo>
                <a:lnTo>
                  <a:pt x="1303" y="1637"/>
                </a:lnTo>
                <a:lnTo>
                  <a:pt x="1300" y="1675"/>
                </a:lnTo>
                <a:lnTo>
                  <a:pt x="1297" y="1712"/>
                </a:lnTo>
                <a:lnTo>
                  <a:pt x="1299" y="1744"/>
                </a:lnTo>
                <a:lnTo>
                  <a:pt x="1297" y="1776"/>
                </a:lnTo>
                <a:lnTo>
                  <a:pt x="1293" y="1814"/>
                </a:lnTo>
                <a:lnTo>
                  <a:pt x="1286" y="1857"/>
                </a:lnTo>
                <a:lnTo>
                  <a:pt x="1278" y="1902"/>
                </a:lnTo>
                <a:lnTo>
                  <a:pt x="1270" y="1948"/>
                </a:lnTo>
                <a:lnTo>
                  <a:pt x="1265" y="1997"/>
                </a:lnTo>
                <a:lnTo>
                  <a:pt x="1265" y="2044"/>
                </a:lnTo>
                <a:lnTo>
                  <a:pt x="1271" y="2091"/>
                </a:lnTo>
                <a:lnTo>
                  <a:pt x="1276" y="2115"/>
                </a:lnTo>
                <a:lnTo>
                  <a:pt x="1278" y="2141"/>
                </a:lnTo>
                <a:lnTo>
                  <a:pt x="1277" y="2166"/>
                </a:lnTo>
                <a:lnTo>
                  <a:pt x="1271" y="2191"/>
                </a:lnTo>
                <a:lnTo>
                  <a:pt x="1259" y="2218"/>
                </a:lnTo>
                <a:lnTo>
                  <a:pt x="1242" y="2243"/>
                </a:lnTo>
                <a:lnTo>
                  <a:pt x="1217" y="2271"/>
                </a:lnTo>
                <a:lnTo>
                  <a:pt x="1181" y="2298"/>
                </a:lnTo>
                <a:lnTo>
                  <a:pt x="1187" y="2379"/>
                </a:lnTo>
                <a:lnTo>
                  <a:pt x="1202" y="2399"/>
                </a:lnTo>
                <a:lnTo>
                  <a:pt x="1214" y="2424"/>
                </a:lnTo>
                <a:lnTo>
                  <a:pt x="1226" y="2454"/>
                </a:lnTo>
                <a:lnTo>
                  <a:pt x="1234" y="2487"/>
                </a:lnTo>
                <a:lnTo>
                  <a:pt x="1241" y="2522"/>
                </a:lnTo>
                <a:lnTo>
                  <a:pt x="1247" y="2558"/>
                </a:lnTo>
                <a:lnTo>
                  <a:pt x="1249" y="2592"/>
                </a:lnTo>
                <a:lnTo>
                  <a:pt x="1250" y="2623"/>
                </a:lnTo>
                <a:lnTo>
                  <a:pt x="1249" y="2690"/>
                </a:lnTo>
                <a:lnTo>
                  <a:pt x="1247" y="2764"/>
                </a:lnTo>
                <a:lnTo>
                  <a:pt x="1244" y="2841"/>
                </a:lnTo>
                <a:lnTo>
                  <a:pt x="1240" y="2916"/>
                </a:lnTo>
                <a:lnTo>
                  <a:pt x="1240" y="2957"/>
                </a:lnTo>
                <a:lnTo>
                  <a:pt x="1242" y="3009"/>
                </a:lnTo>
                <a:lnTo>
                  <a:pt x="1248" y="3067"/>
                </a:lnTo>
                <a:lnTo>
                  <a:pt x="1256" y="3128"/>
                </a:lnTo>
                <a:lnTo>
                  <a:pt x="1265" y="3189"/>
                </a:lnTo>
                <a:lnTo>
                  <a:pt x="1277" y="3247"/>
                </a:lnTo>
                <a:lnTo>
                  <a:pt x="1289" y="3297"/>
                </a:lnTo>
                <a:lnTo>
                  <a:pt x="1303" y="3338"/>
                </a:lnTo>
                <a:lnTo>
                  <a:pt x="1293" y="3348"/>
                </a:lnTo>
                <a:lnTo>
                  <a:pt x="1282" y="3358"/>
                </a:lnTo>
                <a:lnTo>
                  <a:pt x="1272" y="3369"/>
                </a:lnTo>
                <a:lnTo>
                  <a:pt x="1261" y="3379"/>
                </a:lnTo>
                <a:lnTo>
                  <a:pt x="1247" y="3389"/>
                </a:lnTo>
                <a:lnTo>
                  <a:pt x="1233" y="3400"/>
                </a:lnTo>
                <a:lnTo>
                  <a:pt x="1216" y="3409"/>
                </a:lnTo>
                <a:lnTo>
                  <a:pt x="1197" y="3417"/>
                </a:lnTo>
                <a:lnTo>
                  <a:pt x="1186" y="3450"/>
                </a:lnTo>
                <a:lnTo>
                  <a:pt x="1175" y="3487"/>
                </a:lnTo>
                <a:lnTo>
                  <a:pt x="1166" y="3525"/>
                </a:lnTo>
                <a:lnTo>
                  <a:pt x="1159" y="3564"/>
                </a:lnTo>
                <a:lnTo>
                  <a:pt x="1153" y="3602"/>
                </a:lnTo>
                <a:lnTo>
                  <a:pt x="1150" y="3638"/>
                </a:lnTo>
                <a:lnTo>
                  <a:pt x="1149" y="3672"/>
                </a:lnTo>
                <a:lnTo>
                  <a:pt x="1149" y="3700"/>
                </a:lnTo>
                <a:lnTo>
                  <a:pt x="1153" y="3753"/>
                </a:lnTo>
                <a:lnTo>
                  <a:pt x="1159" y="3811"/>
                </a:lnTo>
                <a:lnTo>
                  <a:pt x="1166" y="3873"/>
                </a:lnTo>
                <a:lnTo>
                  <a:pt x="1175" y="3940"/>
                </a:lnTo>
                <a:lnTo>
                  <a:pt x="1182" y="4032"/>
                </a:lnTo>
                <a:lnTo>
                  <a:pt x="1176" y="4124"/>
                </a:lnTo>
                <a:lnTo>
                  <a:pt x="1163" y="4215"/>
                </a:lnTo>
                <a:lnTo>
                  <a:pt x="1144" y="4298"/>
                </a:lnTo>
                <a:lnTo>
                  <a:pt x="1125" y="4372"/>
                </a:lnTo>
                <a:lnTo>
                  <a:pt x="1107" y="4431"/>
                </a:lnTo>
                <a:lnTo>
                  <a:pt x="1096" y="4471"/>
                </a:lnTo>
                <a:lnTo>
                  <a:pt x="1095" y="4490"/>
                </a:lnTo>
                <a:lnTo>
                  <a:pt x="1100" y="4503"/>
                </a:lnTo>
                <a:lnTo>
                  <a:pt x="1099" y="4518"/>
                </a:lnTo>
                <a:lnTo>
                  <a:pt x="1096" y="4536"/>
                </a:lnTo>
                <a:lnTo>
                  <a:pt x="1090" y="4553"/>
                </a:lnTo>
                <a:lnTo>
                  <a:pt x="1089" y="4563"/>
                </a:lnTo>
                <a:lnTo>
                  <a:pt x="1090" y="4575"/>
                </a:lnTo>
                <a:lnTo>
                  <a:pt x="1094" y="4588"/>
                </a:lnTo>
                <a:lnTo>
                  <a:pt x="1098" y="4601"/>
                </a:lnTo>
                <a:lnTo>
                  <a:pt x="1100" y="4615"/>
                </a:lnTo>
                <a:lnTo>
                  <a:pt x="1103" y="4629"/>
                </a:lnTo>
                <a:lnTo>
                  <a:pt x="1102" y="4643"/>
                </a:lnTo>
                <a:lnTo>
                  <a:pt x="1096" y="4654"/>
                </a:lnTo>
                <a:lnTo>
                  <a:pt x="1103" y="4674"/>
                </a:lnTo>
                <a:lnTo>
                  <a:pt x="1110" y="4693"/>
                </a:lnTo>
                <a:lnTo>
                  <a:pt x="1118" y="4713"/>
                </a:lnTo>
                <a:lnTo>
                  <a:pt x="1123" y="4733"/>
                </a:lnTo>
                <a:lnTo>
                  <a:pt x="1128" y="4752"/>
                </a:lnTo>
                <a:lnTo>
                  <a:pt x="1130" y="4772"/>
                </a:lnTo>
                <a:lnTo>
                  <a:pt x="1129" y="4791"/>
                </a:lnTo>
                <a:lnTo>
                  <a:pt x="1122" y="4810"/>
                </a:lnTo>
                <a:lnTo>
                  <a:pt x="1117" y="4821"/>
                </a:lnTo>
                <a:lnTo>
                  <a:pt x="1111" y="4834"/>
                </a:lnTo>
                <a:lnTo>
                  <a:pt x="1104" y="4848"/>
                </a:lnTo>
                <a:lnTo>
                  <a:pt x="1098" y="4862"/>
                </a:lnTo>
                <a:lnTo>
                  <a:pt x="1105" y="4865"/>
                </a:lnTo>
                <a:lnTo>
                  <a:pt x="1113" y="4869"/>
                </a:lnTo>
                <a:lnTo>
                  <a:pt x="1119" y="4871"/>
                </a:lnTo>
                <a:lnTo>
                  <a:pt x="1121" y="4872"/>
                </a:lnTo>
                <a:lnTo>
                  <a:pt x="1114" y="4900"/>
                </a:lnTo>
                <a:lnTo>
                  <a:pt x="1111" y="4900"/>
                </a:lnTo>
                <a:lnTo>
                  <a:pt x="1103" y="4899"/>
                </a:lnTo>
                <a:lnTo>
                  <a:pt x="1094" y="4896"/>
                </a:lnTo>
                <a:lnTo>
                  <a:pt x="1085" y="4892"/>
                </a:lnTo>
                <a:lnTo>
                  <a:pt x="1079" y="4914"/>
                </a:lnTo>
                <a:lnTo>
                  <a:pt x="1073" y="4935"/>
                </a:lnTo>
                <a:lnTo>
                  <a:pt x="1070" y="4957"/>
                </a:lnTo>
                <a:lnTo>
                  <a:pt x="1070" y="4977"/>
                </a:lnTo>
                <a:lnTo>
                  <a:pt x="1070" y="5000"/>
                </a:lnTo>
                <a:lnTo>
                  <a:pt x="1069" y="5028"/>
                </a:lnTo>
                <a:lnTo>
                  <a:pt x="1066" y="5059"/>
                </a:lnTo>
                <a:lnTo>
                  <a:pt x="1060" y="5091"/>
                </a:lnTo>
                <a:lnTo>
                  <a:pt x="1051" y="5123"/>
                </a:lnTo>
                <a:lnTo>
                  <a:pt x="1039" y="5153"/>
                </a:lnTo>
                <a:lnTo>
                  <a:pt x="1023" y="5180"/>
                </a:lnTo>
                <a:lnTo>
                  <a:pt x="1002" y="5199"/>
                </a:lnTo>
                <a:lnTo>
                  <a:pt x="991" y="5207"/>
                </a:lnTo>
                <a:lnTo>
                  <a:pt x="977" y="5214"/>
                </a:lnTo>
                <a:lnTo>
                  <a:pt x="963" y="5220"/>
                </a:lnTo>
                <a:lnTo>
                  <a:pt x="948" y="5226"/>
                </a:lnTo>
                <a:lnTo>
                  <a:pt x="932" y="5229"/>
                </a:lnTo>
                <a:lnTo>
                  <a:pt x="916" y="5233"/>
                </a:lnTo>
                <a:lnTo>
                  <a:pt x="900" y="5234"/>
                </a:lnTo>
                <a:lnTo>
                  <a:pt x="884" y="5235"/>
                </a:lnTo>
                <a:lnTo>
                  <a:pt x="868" y="5234"/>
                </a:lnTo>
                <a:lnTo>
                  <a:pt x="852" y="5230"/>
                </a:lnTo>
                <a:lnTo>
                  <a:pt x="838" y="5226"/>
                </a:lnTo>
                <a:lnTo>
                  <a:pt x="824" y="5220"/>
                </a:lnTo>
                <a:lnTo>
                  <a:pt x="811" y="5211"/>
                </a:lnTo>
                <a:lnTo>
                  <a:pt x="800" y="5200"/>
                </a:lnTo>
                <a:lnTo>
                  <a:pt x="791" y="5189"/>
                </a:lnTo>
                <a:lnTo>
                  <a:pt x="782" y="5174"/>
                </a:lnTo>
                <a:lnTo>
                  <a:pt x="773" y="5145"/>
                </a:lnTo>
                <a:lnTo>
                  <a:pt x="770" y="5112"/>
                </a:lnTo>
                <a:lnTo>
                  <a:pt x="770" y="5075"/>
                </a:lnTo>
                <a:lnTo>
                  <a:pt x="773" y="5036"/>
                </a:lnTo>
                <a:lnTo>
                  <a:pt x="778" y="4995"/>
                </a:lnTo>
                <a:lnTo>
                  <a:pt x="785" y="4956"/>
                </a:lnTo>
                <a:lnTo>
                  <a:pt x="793" y="4917"/>
                </a:lnTo>
                <a:lnTo>
                  <a:pt x="801" y="4881"/>
                </a:lnTo>
                <a:lnTo>
                  <a:pt x="795" y="4884"/>
                </a:lnTo>
                <a:lnTo>
                  <a:pt x="789" y="4885"/>
                </a:lnTo>
                <a:lnTo>
                  <a:pt x="784" y="4885"/>
                </a:lnTo>
                <a:lnTo>
                  <a:pt x="778" y="4885"/>
                </a:lnTo>
                <a:lnTo>
                  <a:pt x="771" y="4884"/>
                </a:lnTo>
                <a:lnTo>
                  <a:pt x="766" y="4881"/>
                </a:lnTo>
                <a:lnTo>
                  <a:pt x="761" y="4880"/>
                </a:lnTo>
                <a:lnTo>
                  <a:pt x="757" y="4878"/>
                </a:lnTo>
                <a:lnTo>
                  <a:pt x="759" y="4861"/>
                </a:lnTo>
                <a:lnTo>
                  <a:pt x="761" y="4861"/>
                </a:lnTo>
                <a:lnTo>
                  <a:pt x="764" y="4862"/>
                </a:lnTo>
                <a:lnTo>
                  <a:pt x="770" y="4862"/>
                </a:lnTo>
                <a:lnTo>
                  <a:pt x="777" y="4862"/>
                </a:lnTo>
                <a:lnTo>
                  <a:pt x="785" y="4861"/>
                </a:lnTo>
                <a:lnTo>
                  <a:pt x="794" y="4859"/>
                </a:lnTo>
                <a:lnTo>
                  <a:pt x="802" y="4857"/>
                </a:lnTo>
                <a:lnTo>
                  <a:pt x="810" y="4852"/>
                </a:lnTo>
                <a:lnTo>
                  <a:pt x="811" y="4846"/>
                </a:lnTo>
                <a:lnTo>
                  <a:pt x="812" y="4840"/>
                </a:lnTo>
                <a:lnTo>
                  <a:pt x="814" y="4835"/>
                </a:lnTo>
                <a:lnTo>
                  <a:pt x="815" y="4829"/>
                </a:lnTo>
                <a:lnTo>
                  <a:pt x="796" y="4829"/>
                </a:lnTo>
                <a:lnTo>
                  <a:pt x="781" y="4826"/>
                </a:lnTo>
                <a:lnTo>
                  <a:pt x="770" y="4820"/>
                </a:lnTo>
                <a:lnTo>
                  <a:pt x="761" y="4813"/>
                </a:lnTo>
                <a:lnTo>
                  <a:pt x="755" y="4804"/>
                </a:lnTo>
                <a:lnTo>
                  <a:pt x="751" y="4793"/>
                </a:lnTo>
                <a:lnTo>
                  <a:pt x="751" y="4781"/>
                </a:lnTo>
                <a:lnTo>
                  <a:pt x="755" y="4770"/>
                </a:lnTo>
                <a:lnTo>
                  <a:pt x="761" y="4758"/>
                </a:lnTo>
                <a:lnTo>
                  <a:pt x="770" y="4748"/>
                </a:lnTo>
                <a:lnTo>
                  <a:pt x="781" y="4738"/>
                </a:lnTo>
                <a:lnTo>
                  <a:pt x="794" y="4730"/>
                </a:lnTo>
                <a:lnTo>
                  <a:pt x="808" y="4725"/>
                </a:lnTo>
                <a:lnTo>
                  <a:pt x="824" y="4721"/>
                </a:lnTo>
                <a:lnTo>
                  <a:pt x="839" y="4720"/>
                </a:lnTo>
                <a:lnTo>
                  <a:pt x="854" y="4720"/>
                </a:lnTo>
                <a:lnTo>
                  <a:pt x="844" y="474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1" name="Freeform 5"/>
          <p:cNvSpPr/>
          <p:nvPr/>
        </p:nvSpPr>
        <p:spPr>
          <a:xfrm>
            <a:off x="2176560" y="4986360"/>
            <a:ext cx="27000" cy="195120"/>
          </a:xfrm>
          <a:custGeom>
            <a:avLst/>
            <a:gdLst/>
            <a:ahLst/>
            <a:rect l="l" t="t" r="r" b="b"/>
            <a:pathLst>
              <a:path w="33" h="245">
                <a:moveTo>
                  <a:pt x="33" y="226"/>
                </a:moveTo>
                <a:lnTo>
                  <a:pt x="25" y="169"/>
                </a:lnTo>
                <a:lnTo>
                  <a:pt x="22" y="109"/>
                </a:lnTo>
                <a:lnTo>
                  <a:pt x="24" y="52"/>
                </a:lnTo>
                <a:lnTo>
                  <a:pt x="33" y="0"/>
                </a:lnTo>
                <a:lnTo>
                  <a:pt x="20" y="16"/>
                </a:lnTo>
                <a:lnTo>
                  <a:pt x="11" y="40"/>
                </a:lnTo>
                <a:lnTo>
                  <a:pt x="4" y="71"/>
                </a:lnTo>
                <a:lnTo>
                  <a:pt x="1" y="106"/>
                </a:lnTo>
                <a:lnTo>
                  <a:pt x="0" y="144"/>
                </a:lnTo>
                <a:lnTo>
                  <a:pt x="1" y="181"/>
                </a:lnTo>
                <a:lnTo>
                  <a:pt x="4" y="215"/>
                </a:lnTo>
                <a:lnTo>
                  <a:pt x="9" y="245"/>
                </a:lnTo>
                <a:lnTo>
                  <a:pt x="15" y="241"/>
                </a:lnTo>
                <a:lnTo>
                  <a:pt x="22" y="234"/>
                </a:lnTo>
                <a:lnTo>
                  <a:pt x="27" y="228"/>
                </a:lnTo>
                <a:lnTo>
                  <a:pt x="33" y="22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2" name="Freeform 7"/>
          <p:cNvSpPr/>
          <p:nvPr/>
        </p:nvSpPr>
        <p:spPr>
          <a:xfrm>
            <a:off x="2122560" y="2711520"/>
            <a:ext cx="33120" cy="28440"/>
          </a:xfrm>
          <a:custGeom>
            <a:avLst/>
            <a:gdLst/>
            <a:ahLst/>
            <a:rect l="l" t="t" r="r" b="b"/>
            <a:pathLst>
              <a:path w="41" h="35">
                <a:moveTo>
                  <a:pt x="41" y="35"/>
                </a:moveTo>
                <a:lnTo>
                  <a:pt x="38" y="26"/>
                </a:lnTo>
                <a:lnTo>
                  <a:pt x="34" y="17"/>
                </a:lnTo>
                <a:lnTo>
                  <a:pt x="31" y="9"/>
                </a:lnTo>
                <a:lnTo>
                  <a:pt x="26" y="0"/>
                </a:lnTo>
                <a:lnTo>
                  <a:pt x="18" y="3"/>
                </a:lnTo>
                <a:lnTo>
                  <a:pt x="10" y="10"/>
                </a:lnTo>
                <a:lnTo>
                  <a:pt x="3" y="16"/>
                </a:lnTo>
                <a:lnTo>
                  <a:pt x="0" y="18"/>
                </a:lnTo>
                <a:lnTo>
                  <a:pt x="41" y="3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3" name="Freeform 10"/>
          <p:cNvSpPr/>
          <p:nvPr/>
        </p:nvSpPr>
        <p:spPr>
          <a:xfrm rot="9304800">
            <a:off x="2437560" y="3733560"/>
            <a:ext cx="319320" cy="895320"/>
          </a:xfrm>
          <a:custGeom>
            <a:avLst/>
            <a:gdLst/>
            <a:ahLst/>
            <a:rect l="l" t="t" r="r" b="b"/>
            <a:pathLst>
              <a:path w="404" h="1128">
                <a:moveTo>
                  <a:pt x="404" y="117"/>
                </a:moveTo>
                <a:lnTo>
                  <a:pt x="390" y="135"/>
                </a:lnTo>
                <a:lnTo>
                  <a:pt x="370" y="167"/>
                </a:lnTo>
                <a:lnTo>
                  <a:pt x="346" y="208"/>
                </a:lnTo>
                <a:lnTo>
                  <a:pt x="321" y="253"/>
                </a:lnTo>
                <a:lnTo>
                  <a:pt x="295" y="299"/>
                </a:lnTo>
                <a:lnTo>
                  <a:pt x="273" y="342"/>
                </a:lnTo>
                <a:lnTo>
                  <a:pt x="256" y="380"/>
                </a:lnTo>
                <a:lnTo>
                  <a:pt x="247" y="408"/>
                </a:lnTo>
                <a:lnTo>
                  <a:pt x="241" y="433"/>
                </a:lnTo>
                <a:lnTo>
                  <a:pt x="233" y="468"/>
                </a:lnTo>
                <a:lnTo>
                  <a:pt x="224" y="507"/>
                </a:lnTo>
                <a:lnTo>
                  <a:pt x="214" y="549"/>
                </a:lnTo>
                <a:lnTo>
                  <a:pt x="201" y="590"/>
                </a:lnTo>
                <a:lnTo>
                  <a:pt x="188" y="627"/>
                </a:lnTo>
                <a:lnTo>
                  <a:pt x="176" y="658"/>
                </a:lnTo>
                <a:lnTo>
                  <a:pt x="162" y="680"/>
                </a:lnTo>
                <a:lnTo>
                  <a:pt x="156" y="685"/>
                </a:lnTo>
                <a:lnTo>
                  <a:pt x="149" y="690"/>
                </a:lnTo>
                <a:lnTo>
                  <a:pt x="143" y="697"/>
                </a:lnTo>
                <a:lnTo>
                  <a:pt x="138" y="703"/>
                </a:lnTo>
                <a:lnTo>
                  <a:pt x="133" y="710"/>
                </a:lnTo>
                <a:lnTo>
                  <a:pt x="131" y="716"/>
                </a:lnTo>
                <a:lnTo>
                  <a:pt x="131" y="720"/>
                </a:lnTo>
                <a:lnTo>
                  <a:pt x="135" y="725"/>
                </a:lnTo>
                <a:lnTo>
                  <a:pt x="142" y="727"/>
                </a:lnTo>
                <a:lnTo>
                  <a:pt x="151" y="729"/>
                </a:lnTo>
                <a:lnTo>
                  <a:pt x="162" y="731"/>
                </a:lnTo>
                <a:lnTo>
                  <a:pt x="173" y="732"/>
                </a:lnTo>
                <a:lnTo>
                  <a:pt x="185" y="735"/>
                </a:lnTo>
                <a:lnTo>
                  <a:pt x="196" y="740"/>
                </a:lnTo>
                <a:lnTo>
                  <a:pt x="206" y="749"/>
                </a:lnTo>
                <a:lnTo>
                  <a:pt x="215" y="763"/>
                </a:lnTo>
                <a:lnTo>
                  <a:pt x="224" y="779"/>
                </a:lnTo>
                <a:lnTo>
                  <a:pt x="235" y="797"/>
                </a:lnTo>
                <a:lnTo>
                  <a:pt x="248" y="816"/>
                </a:lnTo>
                <a:lnTo>
                  <a:pt x="261" y="834"/>
                </a:lnTo>
                <a:lnTo>
                  <a:pt x="273" y="855"/>
                </a:lnTo>
                <a:lnTo>
                  <a:pt x="286" y="876"/>
                </a:lnTo>
                <a:lnTo>
                  <a:pt x="295" y="897"/>
                </a:lnTo>
                <a:lnTo>
                  <a:pt x="303" y="918"/>
                </a:lnTo>
                <a:lnTo>
                  <a:pt x="300" y="947"/>
                </a:lnTo>
                <a:lnTo>
                  <a:pt x="292" y="976"/>
                </a:lnTo>
                <a:lnTo>
                  <a:pt x="283" y="1003"/>
                </a:lnTo>
                <a:lnTo>
                  <a:pt x="272" y="1028"/>
                </a:lnTo>
                <a:lnTo>
                  <a:pt x="260" y="1054"/>
                </a:lnTo>
                <a:lnTo>
                  <a:pt x="247" y="1079"/>
                </a:lnTo>
                <a:lnTo>
                  <a:pt x="235" y="1104"/>
                </a:lnTo>
                <a:lnTo>
                  <a:pt x="224" y="1128"/>
                </a:lnTo>
                <a:lnTo>
                  <a:pt x="209" y="1099"/>
                </a:lnTo>
                <a:lnTo>
                  <a:pt x="188" y="1065"/>
                </a:lnTo>
                <a:lnTo>
                  <a:pt x="164" y="1027"/>
                </a:lnTo>
                <a:lnTo>
                  <a:pt x="139" y="986"/>
                </a:lnTo>
                <a:lnTo>
                  <a:pt x="112" y="946"/>
                </a:lnTo>
                <a:lnTo>
                  <a:pt x="87" y="908"/>
                </a:lnTo>
                <a:lnTo>
                  <a:pt x="65" y="872"/>
                </a:lnTo>
                <a:lnTo>
                  <a:pt x="47" y="842"/>
                </a:lnTo>
                <a:lnTo>
                  <a:pt x="36" y="823"/>
                </a:lnTo>
                <a:lnTo>
                  <a:pt x="27" y="800"/>
                </a:lnTo>
                <a:lnTo>
                  <a:pt x="19" y="774"/>
                </a:lnTo>
                <a:lnTo>
                  <a:pt x="12" y="749"/>
                </a:lnTo>
                <a:lnTo>
                  <a:pt x="6" y="723"/>
                </a:lnTo>
                <a:lnTo>
                  <a:pt x="2" y="696"/>
                </a:lnTo>
                <a:lnTo>
                  <a:pt x="0" y="670"/>
                </a:lnTo>
                <a:lnTo>
                  <a:pt x="0" y="645"/>
                </a:lnTo>
                <a:lnTo>
                  <a:pt x="4" y="621"/>
                </a:lnTo>
                <a:lnTo>
                  <a:pt x="10" y="596"/>
                </a:lnTo>
                <a:lnTo>
                  <a:pt x="19" y="570"/>
                </a:lnTo>
                <a:lnTo>
                  <a:pt x="30" y="545"/>
                </a:lnTo>
                <a:lnTo>
                  <a:pt x="44" y="520"/>
                </a:lnTo>
                <a:lnTo>
                  <a:pt x="59" y="497"/>
                </a:lnTo>
                <a:lnTo>
                  <a:pt x="75" y="474"/>
                </a:lnTo>
                <a:lnTo>
                  <a:pt x="93" y="453"/>
                </a:lnTo>
                <a:lnTo>
                  <a:pt x="110" y="431"/>
                </a:lnTo>
                <a:lnTo>
                  <a:pt x="128" y="406"/>
                </a:lnTo>
                <a:lnTo>
                  <a:pt x="148" y="378"/>
                </a:lnTo>
                <a:lnTo>
                  <a:pt x="165" y="350"/>
                </a:lnTo>
                <a:lnTo>
                  <a:pt x="182" y="324"/>
                </a:lnTo>
                <a:lnTo>
                  <a:pt x="199" y="299"/>
                </a:lnTo>
                <a:lnTo>
                  <a:pt x="211" y="277"/>
                </a:lnTo>
                <a:lnTo>
                  <a:pt x="220" y="261"/>
                </a:lnTo>
                <a:lnTo>
                  <a:pt x="233" y="238"/>
                </a:lnTo>
                <a:lnTo>
                  <a:pt x="246" y="212"/>
                </a:lnTo>
                <a:lnTo>
                  <a:pt x="257" y="182"/>
                </a:lnTo>
                <a:lnTo>
                  <a:pt x="268" y="151"/>
                </a:lnTo>
                <a:lnTo>
                  <a:pt x="275" y="117"/>
                </a:lnTo>
                <a:lnTo>
                  <a:pt x="277" y="81"/>
                </a:lnTo>
                <a:lnTo>
                  <a:pt x="273" y="43"/>
                </a:lnTo>
                <a:lnTo>
                  <a:pt x="263" y="5"/>
                </a:lnTo>
                <a:lnTo>
                  <a:pt x="265" y="1"/>
                </a:lnTo>
                <a:lnTo>
                  <a:pt x="268" y="0"/>
                </a:lnTo>
                <a:lnTo>
                  <a:pt x="272" y="3"/>
                </a:lnTo>
                <a:lnTo>
                  <a:pt x="278" y="6"/>
                </a:lnTo>
                <a:lnTo>
                  <a:pt x="284" y="12"/>
                </a:lnTo>
                <a:lnTo>
                  <a:pt x="291" y="19"/>
                </a:lnTo>
                <a:lnTo>
                  <a:pt x="298" y="26"/>
                </a:lnTo>
                <a:lnTo>
                  <a:pt x="303" y="35"/>
                </a:lnTo>
                <a:lnTo>
                  <a:pt x="311" y="45"/>
                </a:lnTo>
                <a:lnTo>
                  <a:pt x="322" y="57"/>
                </a:lnTo>
                <a:lnTo>
                  <a:pt x="335" y="70"/>
                </a:lnTo>
                <a:lnTo>
                  <a:pt x="350" y="83"/>
                </a:lnTo>
                <a:lnTo>
                  <a:pt x="364" y="96"/>
                </a:lnTo>
                <a:lnTo>
                  <a:pt x="379" y="106"/>
                </a:lnTo>
                <a:lnTo>
                  <a:pt x="392" y="113"/>
                </a:lnTo>
                <a:lnTo>
                  <a:pt x="404" y="11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4" name="Freeform 11"/>
          <p:cNvSpPr/>
          <p:nvPr/>
        </p:nvSpPr>
        <p:spPr>
          <a:xfrm>
            <a:off x="2013120" y="3389400"/>
            <a:ext cx="317160" cy="474480"/>
          </a:xfrm>
          <a:custGeom>
            <a:avLst/>
            <a:gdLst/>
            <a:ahLst/>
            <a:rect l="l" t="t" r="r" b="b"/>
            <a:pathLst>
              <a:path w="399" h="597">
                <a:moveTo>
                  <a:pt x="117" y="264"/>
                </a:moveTo>
                <a:lnTo>
                  <a:pt x="126" y="265"/>
                </a:lnTo>
                <a:lnTo>
                  <a:pt x="134" y="265"/>
                </a:lnTo>
                <a:lnTo>
                  <a:pt x="144" y="264"/>
                </a:lnTo>
                <a:lnTo>
                  <a:pt x="152" y="262"/>
                </a:lnTo>
                <a:lnTo>
                  <a:pt x="161" y="259"/>
                </a:lnTo>
                <a:lnTo>
                  <a:pt x="169" y="255"/>
                </a:lnTo>
                <a:lnTo>
                  <a:pt x="178" y="249"/>
                </a:lnTo>
                <a:lnTo>
                  <a:pt x="186" y="242"/>
                </a:lnTo>
                <a:lnTo>
                  <a:pt x="195" y="234"/>
                </a:lnTo>
                <a:lnTo>
                  <a:pt x="208" y="227"/>
                </a:lnTo>
                <a:lnTo>
                  <a:pt x="222" y="221"/>
                </a:lnTo>
                <a:lnTo>
                  <a:pt x="238" y="218"/>
                </a:lnTo>
                <a:lnTo>
                  <a:pt x="253" y="216"/>
                </a:lnTo>
                <a:lnTo>
                  <a:pt x="268" y="216"/>
                </a:lnTo>
                <a:lnTo>
                  <a:pt x="282" y="219"/>
                </a:lnTo>
                <a:lnTo>
                  <a:pt x="293" y="225"/>
                </a:lnTo>
                <a:lnTo>
                  <a:pt x="304" y="232"/>
                </a:lnTo>
                <a:lnTo>
                  <a:pt x="314" y="239"/>
                </a:lnTo>
                <a:lnTo>
                  <a:pt x="324" y="243"/>
                </a:lnTo>
                <a:lnTo>
                  <a:pt x="334" y="248"/>
                </a:lnTo>
                <a:lnTo>
                  <a:pt x="343" y="251"/>
                </a:lnTo>
                <a:lnTo>
                  <a:pt x="352" y="253"/>
                </a:lnTo>
                <a:lnTo>
                  <a:pt x="359" y="253"/>
                </a:lnTo>
                <a:lnTo>
                  <a:pt x="366" y="250"/>
                </a:lnTo>
                <a:lnTo>
                  <a:pt x="372" y="247"/>
                </a:lnTo>
                <a:lnTo>
                  <a:pt x="379" y="241"/>
                </a:lnTo>
                <a:lnTo>
                  <a:pt x="385" y="233"/>
                </a:lnTo>
                <a:lnTo>
                  <a:pt x="392" y="224"/>
                </a:lnTo>
                <a:lnTo>
                  <a:pt x="397" y="212"/>
                </a:lnTo>
                <a:lnTo>
                  <a:pt x="399" y="198"/>
                </a:lnTo>
                <a:lnTo>
                  <a:pt x="399" y="181"/>
                </a:lnTo>
                <a:lnTo>
                  <a:pt x="396" y="163"/>
                </a:lnTo>
                <a:lnTo>
                  <a:pt x="390" y="143"/>
                </a:lnTo>
                <a:lnTo>
                  <a:pt x="384" y="124"/>
                </a:lnTo>
                <a:lnTo>
                  <a:pt x="379" y="105"/>
                </a:lnTo>
                <a:lnTo>
                  <a:pt x="370" y="87"/>
                </a:lnTo>
                <a:lnTo>
                  <a:pt x="360" y="69"/>
                </a:lnTo>
                <a:lnTo>
                  <a:pt x="347" y="53"/>
                </a:lnTo>
                <a:lnTo>
                  <a:pt x="330" y="38"/>
                </a:lnTo>
                <a:lnTo>
                  <a:pt x="309" y="24"/>
                </a:lnTo>
                <a:lnTo>
                  <a:pt x="285" y="13"/>
                </a:lnTo>
                <a:lnTo>
                  <a:pt x="261" y="6"/>
                </a:lnTo>
                <a:lnTo>
                  <a:pt x="238" y="1"/>
                </a:lnTo>
                <a:lnTo>
                  <a:pt x="216" y="0"/>
                </a:lnTo>
                <a:lnTo>
                  <a:pt x="194" y="3"/>
                </a:lnTo>
                <a:lnTo>
                  <a:pt x="173" y="7"/>
                </a:lnTo>
                <a:lnTo>
                  <a:pt x="155" y="13"/>
                </a:lnTo>
                <a:lnTo>
                  <a:pt x="139" y="22"/>
                </a:lnTo>
                <a:lnTo>
                  <a:pt x="124" y="32"/>
                </a:lnTo>
                <a:lnTo>
                  <a:pt x="110" y="43"/>
                </a:lnTo>
                <a:lnTo>
                  <a:pt x="97" y="54"/>
                </a:lnTo>
                <a:lnTo>
                  <a:pt x="88" y="66"/>
                </a:lnTo>
                <a:lnTo>
                  <a:pt x="80" y="77"/>
                </a:lnTo>
                <a:lnTo>
                  <a:pt x="76" y="90"/>
                </a:lnTo>
                <a:lnTo>
                  <a:pt x="73" y="102"/>
                </a:lnTo>
                <a:lnTo>
                  <a:pt x="74" y="114"/>
                </a:lnTo>
                <a:lnTo>
                  <a:pt x="80" y="143"/>
                </a:lnTo>
                <a:lnTo>
                  <a:pt x="84" y="178"/>
                </a:lnTo>
                <a:lnTo>
                  <a:pt x="79" y="205"/>
                </a:lnTo>
                <a:lnTo>
                  <a:pt x="64" y="220"/>
                </a:lnTo>
                <a:lnTo>
                  <a:pt x="55" y="220"/>
                </a:lnTo>
                <a:lnTo>
                  <a:pt x="48" y="218"/>
                </a:lnTo>
                <a:lnTo>
                  <a:pt x="42" y="215"/>
                </a:lnTo>
                <a:lnTo>
                  <a:pt x="39" y="209"/>
                </a:lnTo>
                <a:lnTo>
                  <a:pt x="34" y="204"/>
                </a:lnTo>
                <a:lnTo>
                  <a:pt x="29" y="200"/>
                </a:lnTo>
                <a:lnTo>
                  <a:pt x="24" y="196"/>
                </a:lnTo>
                <a:lnTo>
                  <a:pt x="17" y="196"/>
                </a:lnTo>
                <a:lnTo>
                  <a:pt x="4" y="205"/>
                </a:lnTo>
                <a:lnTo>
                  <a:pt x="0" y="224"/>
                </a:lnTo>
                <a:lnTo>
                  <a:pt x="0" y="244"/>
                </a:lnTo>
                <a:lnTo>
                  <a:pt x="4" y="264"/>
                </a:lnTo>
                <a:lnTo>
                  <a:pt x="8" y="273"/>
                </a:lnTo>
                <a:lnTo>
                  <a:pt x="11" y="284"/>
                </a:lnTo>
                <a:lnTo>
                  <a:pt x="16" y="295"/>
                </a:lnTo>
                <a:lnTo>
                  <a:pt x="20" y="306"/>
                </a:lnTo>
                <a:lnTo>
                  <a:pt x="25" y="316"/>
                </a:lnTo>
                <a:lnTo>
                  <a:pt x="31" y="324"/>
                </a:lnTo>
                <a:lnTo>
                  <a:pt x="36" y="330"/>
                </a:lnTo>
                <a:lnTo>
                  <a:pt x="42" y="331"/>
                </a:lnTo>
                <a:lnTo>
                  <a:pt x="48" y="330"/>
                </a:lnTo>
                <a:lnTo>
                  <a:pt x="55" y="326"/>
                </a:lnTo>
                <a:lnTo>
                  <a:pt x="59" y="322"/>
                </a:lnTo>
                <a:lnTo>
                  <a:pt x="65" y="316"/>
                </a:lnTo>
                <a:lnTo>
                  <a:pt x="69" y="309"/>
                </a:lnTo>
                <a:lnTo>
                  <a:pt x="72" y="301"/>
                </a:lnTo>
                <a:lnTo>
                  <a:pt x="73" y="293"/>
                </a:lnTo>
                <a:lnTo>
                  <a:pt x="72" y="285"/>
                </a:lnTo>
                <a:lnTo>
                  <a:pt x="79" y="294"/>
                </a:lnTo>
                <a:lnTo>
                  <a:pt x="84" y="306"/>
                </a:lnTo>
                <a:lnTo>
                  <a:pt x="84" y="319"/>
                </a:lnTo>
                <a:lnTo>
                  <a:pt x="80" y="332"/>
                </a:lnTo>
                <a:lnTo>
                  <a:pt x="87" y="340"/>
                </a:lnTo>
                <a:lnTo>
                  <a:pt x="94" y="348"/>
                </a:lnTo>
                <a:lnTo>
                  <a:pt x="100" y="357"/>
                </a:lnTo>
                <a:lnTo>
                  <a:pt x="104" y="368"/>
                </a:lnTo>
                <a:lnTo>
                  <a:pt x="108" y="379"/>
                </a:lnTo>
                <a:lnTo>
                  <a:pt x="111" y="391"/>
                </a:lnTo>
                <a:lnTo>
                  <a:pt x="114" y="403"/>
                </a:lnTo>
                <a:lnTo>
                  <a:pt x="115" y="418"/>
                </a:lnTo>
                <a:lnTo>
                  <a:pt x="115" y="450"/>
                </a:lnTo>
                <a:lnTo>
                  <a:pt x="112" y="482"/>
                </a:lnTo>
                <a:lnTo>
                  <a:pt x="107" y="512"/>
                </a:lnTo>
                <a:lnTo>
                  <a:pt x="99" y="536"/>
                </a:lnTo>
                <a:lnTo>
                  <a:pt x="93" y="556"/>
                </a:lnTo>
                <a:lnTo>
                  <a:pt x="91" y="572"/>
                </a:lnTo>
                <a:lnTo>
                  <a:pt x="91" y="584"/>
                </a:lnTo>
                <a:lnTo>
                  <a:pt x="88" y="596"/>
                </a:lnTo>
                <a:lnTo>
                  <a:pt x="99" y="597"/>
                </a:lnTo>
                <a:lnTo>
                  <a:pt x="107" y="597"/>
                </a:lnTo>
                <a:lnTo>
                  <a:pt x="114" y="596"/>
                </a:lnTo>
                <a:lnTo>
                  <a:pt x="119" y="595"/>
                </a:lnTo>
                <a:lnTo>
                  <a:pt x="125" y="592"/>
                </a:lnTo>
                <a:lnTo>
                  <a:pt x="131" y="588"/>
                </a:lnTo>
                <a:lnTo>
                  <a:pt x="138" y="581"/>
                </a:lnTo>
                <a:lnTo>
                  <a:pt x="145" y="573"/>
                </a:lnTo>
                <a:lnTo>
                  <a:pt x="153" y="562"/>
                </a:lnTo>
                <a:lnTo>
                  <a:pt x="161" y="553"/>
                </a:lnTo>
                <a:lnTo>
                  <a:pt x="170" y="545"/>
                </a:lnTo>
                <a:lnTo>
                  <a:pt x="178" y="536"/>
                </a:lnTo>
                <a:lnTo>
                  <a:pt x="187" y="529"/>
                </a:lnTo>
                <a:lnTo>
                  <a:pt x="195" y="523"/>
                </a:lnTo>
                <a:lnTo>
                  <a:pt x="202" y="518"/>
                </a:lnTo>
                <a:lnTo>
                  <a:pt x="208" y="514"/>
                </a:lnTo>
                <a:lnTo>
                  <a:pt x="214" y="509"/>
                </a:lnTo>
                <a:lnTo>
                  <a:pt x="221" y="504"/>
                </a:lnTo>
                <a:lnTo>
                  <a:pt x="228" y="496"/>
                </a:lnTo>
                <a:lnTo>
                  <a:pt x="235" y="486"/>
                </a:lnTo>
                <a:lnTo>
                  <a:pt x="241" y="476"/>
                </a:lnTo>
                <a:lnTo>
                  <a:pt x="247" y="465"/>
                </a:lnTo>
                <a:lnTo>
                  <a:pt x="253" y="453"/>
                </a:lnTo>
                <a:lnTo>
                  <a:pt x="258" y="440"/>
                </a:lnTo>
                <a:lnTo>
                  <a:pt x="261" y="428"/>
                </a:lnTo>
                <a:lnTo>
                  <a:pt x="266" y="414"/>
                </a:lnTo>
                <a:lnTo>
                  <a:pt x="271" y="400"/>
                </a:lnTo>
                <a:lnTo>
                  <a:pt x="277" y="386"/>
                </a:lnTo>
                <a:lnTo>
                  <a:pt x="284" y="372"/>
                </a:lnTo>
                <a:lnTo>
                  <a:pt x="291" y="360"/>
                </a:lnTo>
                <a:lnTo>
                  <a:pt x="298" y="349"/>
                </a:lnTo>
                <a:lnTo>
                  <a:pt x="305" y="340"/>
                </a:lnTo>
                <a:lnTo>
                  <a:pt x="313" y="333"/>
                </a:lnTo>
                <a:lnTo>
                  <a:pt x="320" y="326"/>
                </a:lnTo>
                <a:lnTo>
                  <a:pt x="328" y="319"/>
                </a:lnTo>
                <a:lnTo>
                  <a:pt x="335" y="312"/>
                </a:lnTo>
                <a:lnTo>
                  <a:pt x="342" y="306"/>
                </a:lnTo>
                <a:lnTo>
                  <a:pt x="347" y="297"/>
                </a:lnTo>
                <a:lnTo>
                  <a:pt x="352" y="287"/>
                </a:lnTo>
                <a:lnTo>
                  <a:pt x="355" y="277"/>
                </a:lnTo>
                <a:lnTo>
                  <a:pt x="345" y="276"/>
                </a:lnTo>
                <a:lnTo>
                  <a:pt x="336" y="273"/>
                </a:lnTo>
                <a:lnTo>
                  <a:pt x="328" y="272"/>
                </a:lnTo>
                <a:lnTo>
                  <a:pt x="320" y="270"/>
                </a:lnTo>
                <a:lnTo>
                  <a:pt x="312" y="268"/>
                </a:lnTo>
                <a:lnTo>
                  <a:pt x="304" y="263"/>
                </a:lnTo>
                <a:lnTo>
                  <a:pt x="296" y="258"/>
                </a:lnTo>
                <a:lnTo>
                  <a:pt x="288" y="253"/>
                </a:lnTo>
                <a:lnTo>
                  <a:pt x="278" y="247"/>
                </a:lnTo>
                <a:lnTo>
                  <a:pt x="269" y="242"/>
                </a:lnTo>
                <a:lnTo>
                  <a:pt x="259" y="239"/>
                </a:lnTo>
                <a:lnTo>
                  <a:pt x="248" y="238"/>
                </a:lnTo>
                <a:lnTo>
                  <a:pt x="238" y="239"/>
                </a:lnTo>
                <a:lnTo>
                  <a:pt x="226" y="242"/>
                </a:lnTo>
                <a:lnTo>
                  <a:pt x="215" y="247"/>
                </a:lnTo>
                <a:lnTo>
                  <a:pt x="205" y="255"/>
                </a:lnTo>
                <a:lnTo>
                  <a:pt x="193" y="263"/>
                </a:lnTo>
                <a:lnTo>
                  <a:pt x="183" y="269"/>
                </a:lnTo>
                <a:lnTo>
                  <a:pt x="172" y="273"/>
                </a:lnTo>
                <a:lnTo>
                  <a:pt x="161" y="276"/>
                </a:lnTo>
                <a:lnTo>
                  <a:pt x="150" y="277"/>
                </a:lnTo>
                <a:lnTo>
                  <a:pt x="140" y="274"/>
                </a:lnTo>
                <a:lnTo>
                  <a:pt x="129" y="271"/>
                </a:lnTo>
                <a:lnTo>
                  <a:pt x="117" y="26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5" name="Freeform 12"/>
          <p:cNvSpPr/>
          <p:nvPr/>
        </p:nvSpPr>
        <p:spPr>
          <a:xfrm>
            <a:off x="2101680" y="3416400"/>
            <a:ext cx="195480" cy="58680"/>
          </a:xfrm>
          <a:custGeom>
            <a:avLst/>
            <a:gdLst/>
            <a:ahLst/>
            <a:rect l="l" t="t" r="r" b="b"/>
            <a:pathLst>
              <a:path w="246" h="73">
                <a:moveTo>
                  <a:pt x="76" y="27"/>
                </a:moveTo>
                <a:lnTo>
                  <a:pt x="71" y="25"/>
                </a:lnTo>
                <a:lnTo>
                  <a:pt x="65" y="24"/>
                </a:lnTo>
                <a:lnTo>
                  <a:pt x="59" y="23"/>
                </a:lnTo>
                <a:lnTo>
                  <a:pt x="53" y="22"/>
                </a:lnTo>
                <a:lnTo>
                  <a:pt x="48" y="20"/>
                </a:lnTo>
                <a:lnTo>
                  <a:pt x="42" y="20"/>
                </a:lnTo>
                <a:lnTo>
                  <a:pt x="37" y="20"/>
                </a:lnTo>
                <a:lnTo>
                  <a:pt x="33" y="22"/>
                </a:lnTo>
                <a:lnTo>
                  <a:pt x="22" y="25"/>
                </a:lnTo>
                <a:lnTo>
                  <a:pt x="12" y="31"/>
                </a:lnTo>
                <a:lnTo>
                  <a:pt x="3" y="40"/>
                </a:lnTo>
                <a:lnTo>
                  <a:pt x="0" y="53"/>
                </a:lnTo>
                <a:lnTo>
                  <a:pt x="6" y="48"/>
                </a:lnTo>
                <a:lnTo>
                  <a:pt x="12" y="42"/>
                </a:lnTo>
                <a:lnTo>
                  <a:pt x="18" y="38"/>
                </a:lnTo>
                <a:lnTo>
                  <a:pt x="23" y="37"/>
                </a:lnTo>
                <a:lnTo>
                  <a:pt x="26" y="43"/>
                </a:lnTo>
                <a:lnTo>
                  <a:pt x="28" y="49"/>
                </a:lnTo>
                <a:lnTo>
                  <a:pt x="32" y="53"/>
                </a:lnTo>
                <a:lnTo>
                  <a:pt x="37" y="54"/>
                </a:lnTo>
                <a:lnTo>
                  <a:pt x="44" y="51"/>
                </a:lnTo>
                <a:lnTo>
                  <a:pt x="51" y="47"/>
                </a:lnTo>
                <a:lnTo>
                  <a:pt x="55" y="41"/>
                </a:lnTo>
                <a:lnTo>
                  <a:pt x="57" y="34"/>
                </a:lnTo>
                <a:lnTo>
                  <a:pt x="60" y="34"/>
                </a:lnTo>
                <a:lnTo>
                  <a:pt x="64" y="37"/>
                </a:lnTo>
                <a:lnTo>
                  <a:pt x="67" y="39"/>
                </a:lnTo>
                <a:lnTo>
                  <a:pt x="68" y="40"/>
                </a:lnTo>
                <a:lnTo>
                  <a:pt x="66" y="48"/>
                </a:lnTo>
                <a:lnTo>
                  <a:pt x="64" y="58"/>
                </a:lnTo>
                <a:lnTo>
                  <a:pt x="66" y="68"/>
                </a:lnTo>
                <a:lnTo>
                  <a:pt x="75" y="73"/>
                </a:lnTo>
                <a:lnTo>
                  <a:pt x="73" y="65"/>
                </a:lnTo>
                <a:lnTo>
                  <a:pt x="72" y="56"/>
                </a:lnTo>
                <a:lnTo>
                  <a:pt x="74" y="47"/>
                </a:lnTo>
                <a:lnTo>
                  <a:pt x="79" y="40"/>
                </a:lnTo>
                <a:lnTo>
                  <a:pt x="86" y="35"/>
                </a:lnTo>
                <a:lnTo>
                  <a:pt x="94" y="32"/>
                </a:lnTo>
                <a:lnTo>
                  <a:pt x="100" y="27"/>
                </a:lnTo>
                <a:lnTo>
                  <a:pt x="104" y="23"/>
                </a:lnTo>
                <a:lnTo>
                  <a:pt x="109" y="18"/>
                </a:lnTo>
                <a:lnTo>
                  <a:pt x="114" y="15"/>
                </a:lnTo>
                <a:lnTo>
                  <a:pt x="120" y="12"/>
                </a:lnTo>
                <a:lnTo>
                  <a:pt x="126" y="12"/>
                </a:lnTo>
                <a:lnTo>
                  <a:pt x="132" y="15"/>
                </a:lnTo>
                <a:lnTo>
                  <a:pt x="136" y="16"/>
                </a:lnTo>
                <a:lnTo>
                  <a:pt x="141" y="19"/>
                </a:lnTo>
                <a:lnTo>
                  <a:pt x="143" y="24"/>
                </a:lnTo>
                <a:lnTo>
                  <a:pt x="146" y="28"/>
                </a:lnTo>
                <a:lnTo>
                  <a:pt x="150" y="31"/>
                </a:lnTo>
                <a:lnTo>
                  <a:pt x="156" y="33"/>
                </a:lnTo>
                <a:lnTo>
                  <a:pt x="163" y="34"/>
                </a:lnTo>
                <a:lnTo>
                  <a:pt x="171" y="38"/>
                </a:lnTo>
                <a:lnTo>
                  <a:pt x="177" y="47"/>
                </a:lnTo>
                <a:lnTo>
                  <a:pt x="179" y="57"/>
                </a:lnTo>
                <a:lnTo>
                  <a:pt x="174" y="68"/>
                </a:lnTo>
                <a:lnTo>
                  <a:pt x="181" y="64"/>
                </a:lnTo>
                <a:lnTo>
                  <a:pt x="186" y="56"/>
                </a:lnTo>
                <a:lnTo>
                  <a:pt x="187" y="46"/>
                </a:lnTo>
                <a:lnTo>
                  <a:pt x="184" y="37"/>
                </a:lnTo>
                <a:lnTo>
                  <a:pt x="189" y="42"/>
                </a:lnTo>
                <a:lnTo>
                  <a:pt x="194" y="48"/>
                </a:lnTo>
                <a:lnTo>
                  <a:pt x="197" y="53"/>
                </a:lnTo>
                <a:lnTo>
                  <a:pt x="203" y="55"/>
                </a:lnTo>
                <a:lnTo>
                  <a:pt x="209" y="54"/>
                </a:lnTo>
                <a:lnTo>
                  <a:pt x="215" y="50"/>
                </a:lnTo>
                <a:lnTo>
                  <a:pt x="218" y="45"/>
                </a:lnTo>
                <a:lnTo>
                  <a:pt x="218" y="37"/>
                </a:lnTo>
                <a:lnTo>
                  <a:pt x="226" y="35"/>
                </a:lnTo>
                <a:lnTo>
                  <a:pt x="233" y="35"/>
                </a:lnTo>
                <a:lnTo>
                  <a:pt x="240" y="37"/>
                </a:lnTo>
                <a:lnTo>
                  <a:pt x="246" y="40"/>
                </a:lnTo>
                <a:lnTo>
                  <a:pt x="242" y="35"/>
                </a:lnTo>
                <a:lnTo>
                  <a:pt x="238" y="31"/>
                </a:lnTo>
                <a:lnTo>
                  <a:pt x="230" y="26"/>
                </a:lnTo>
                <a:lnTo>
                  <a:pt x="222" y="24"/>
                </a:lnTo>
                <a:lnTo>
                  <a:pt x="211" y="22"/>
                </a:lnTo>
                <a:lnTo>
                  <a:pt x="201" y="22"/>
                </a:lnTo>
                <a:lnTo>
                  <a:pt x="189" y="24"/>
                </a:lnTo>
                <a:lnTo>
                  <a:pt x="178" y="28"/>
                </a:lnTo>
                <a:lnTo>
                  <a:pt x="171" y="25"/>
                </a:lnTo>
                <a:lnTo>
                  <a:pt x="163" y="24"/>
                </a:lnTo>
                <a:lnTo>
                  <a:pt x="155" y="20"/>
                </a:lnTo>
                <a:lnTo>
                  <a:pt x="148" y="12"/>
                </a:lnTo>
                <a:lnTo>
                  <a:pt x="143" y="8"/>
                </a:lnTo>
                <a:lnTo>
                  <a:pt x="138" y="4"/>
                </a:lnTo>
                <a:lnTo>
                  <a:pt x="131" y="2"/>
                </a:lnTo>
                <a:lnTo>
                  <a:pt x="124" y="0"/>
                </a:lnTo>
                <a:lnTo>
                  <a:pt x="117" y="1"/>
                </a:lnTo>
                <a:lnTo>
                  <a:pt x="111" y="2"/>
                </a:lnTo>
                <a:lnTo>
                  <a:pt x="105" y="4"/>
                </a:lnTo>
                <a:lnTo>
                  <a:pt x="102" y="9"/>
                </a:lnTo>
                <a:lnTo>
                  <a:pt x="96" y="17"/>
                </a:lnTo>
                <a:lnTo>
                  <a:pt x="89" y="23"/>
                </a:lnTo>
                <a:lnTo>
                  <a:pt x="82" y="26"/>
                </a:lnTo>
                <a:lnTo>
                  <a:pt x="76" y="2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6" name="Freeform 13"/>
          <p:cNvSpPr/>
          <p:nvPr/>
        </p:nvSpPr>
        <p:spPr>
          <a:xfrm>
            <a:off x="2022480" y="3559320"/>
            <a:ext cx="20520" cy="48960"/>
          </a:xfrm>
          <a:custGeom>
            <a:avLst/>
            <a:gdLst/>
            <a:ahLst/>
            <a:rect l="l" t="t" r="r" b="b"/>
            <a:pathLst>
              <a:path w="26" h="62">
                <a:moveTo>
                  <a:pt x="26" y="9"/>
                </a:moveTo>
                <a:lnTo>
                  <a:pt x="17" y="2"/>
                </a:lnTo>
                <a:lnTo>
                  <a:pt x="12" y="0"/>
                </a:lnTo>
                <a:lnTo>
                  <a:pt x="8" y="3"/>
                </a:lnTo>
                <a:lnTo>
                  <a:pt x="5" y="9"/>
                </a:lnTo>
                <a:lnTo>
                  <a:pt x="1" y="18"/>
                </a:lnTo>
                <a:lnTo>
                  <a:pt x="0" y="32"/>
                </a:lnTo>
                <a:lnTo>
                  <a:pt x="4" y="47"/>
                </a:lnTo>
                <a:lnTo>
                  <a:pt x="13" y="62"/>
                </a:lnTo>
                <a:lnTo>
                  <a:pt x="8" y="41"/>
                </a:lnTo>
                <a:lnTo>
                  <a:pt x="7" y="23"/>
                </a:lnTo>
                <a:lnTo>
                  <a:pt x="12" y="11"/>
                </a:lnTo>
                <a:lnTo>
                  <a:pt x="26" y="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7" name="Freeform 14"/>
          <p:cNvSpPr/>
          <p:nvPr/>
        </p:nvSpPr>
        <p:spPr>
          <a:xfrm>
            <a:off x="2168640" y="3449520"/>
            <a:ext cx="21960" cy="17640"/>
          </a:xfrm>
          <a:custGeom>
            <a:avLst/>
            <a:gdLst/>
            <a:ahLst/>
            <a:rect l="l" t="t" r="r" b="b"/>
            <a:pathLst>
              <a:path w="26" h="22">
                <a:moveTo>
                  <a:pt x="24" y="0"/>
                </a:moveTo>
                <a:lnTo>
                  <a:pt x="16" y="1"/>
                </a:lnTo>
                <a:lnTo>
                  <a:pt x="6" y="5"/>
                </a:lnTo>
                <a:lnTo>
                  <a:pt x="0" y="12"/>
                </a:lnTo>
                <a:lnTo>
                  <a:pt x="2" y="20"/>
                </a:lnTo>
                <a:lnTo>
                  <a:pt x="10" y="22"/>
                </a:lnTo>
                <a:lnTo>
                  <a:pt x="20" y="16"/>
                </a:lnTo>
                <a:lnTo>
                  <a:pt x="26" y="7"/>
                </a:lnTo>
                <a:lnTo>
                  <a:pt x="2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8" name="Freeform 15"/>
          <p:cNvSpPr/>
          <p:nvPr/>
        </p:nvSpPr>
        <p:spPr>
          <a:xfrm>
            <a:off x="2216160" y="3449520"/>
            <a:ext cx="19080" cy="17640"/>
          </a:xfrm>
          <a:custGeom>
            <a:avLst/>
            <a:gdLst/>
            <a:ahLst/>
            <a:rect l="l" t="t" r="r" b="b"/>
            <a:pathLst>
              <a:path w="24" h="21">
                <a:moveTo>
                  <a:pt x="0" y="0"/>
                </a:moveTo>
                <a:lnTo>
                  <a:pt x="9" y="0"/>
                </a:lnTo>
                <a:lnTo>
                  <a:pt x="19" y="4"/>
                </a:lnTo>
                <a:lnTo>
                  <a:pt x="24" y="9"/>
                </a:lnTo>
                <a:lnTo>
                  <a:pt x="22" y="18"/>
                </a:lnTo>
                <a:lnTo>
                  <a:pt x="15" y="21"/>
                </a:lnTo>
                <a:lnTo>
                  <a:pt x="8" y="18"/>
                </a:lnTo>
                <a:lnTo>
                  <a:pt x="4" y="9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9" name="Freeform 16"/>
          <p:cNvSpPr/>
          <p:nvPr/>
        </p:nvSpPr>
        <p:spPr>
          <a:xfrm>
            <a:off x="2149560" y="3473280"/>
            <a:ext cx="108000" cy="46080"/>
          </a:xfrm>
          <a:custGeom>
            <a:avLst/>
            <a:gdLst/>
            <a:ahLst/>
            <a:rect l="l" t="t" r="r" b="b"/>
            <a:pathLst>
              <a:path w="136" h="58">
                <a:moveTo>
                  <a:pt x="0" y="34"/>
                </a:moveTo>
                <a:lnTo>
                  <a:pt x="4" y="30"/>
                </a:lnTo>
                <a:lnTo>
                  <a:pt x="8" y="24"/>
                </a:lnTo>
                <a:lnTo>
                  <a:pt x="14" y="20"/>
                </a:lnTo>
                <a:lnTo>
                  <a:pt x="22" y="14"/>
                </a:lnTo>
                <a:lnTo>
                  <a:pt x="29" y="9"/>
                </a:lnTo>
                <a:lnTo>
                  <a:pt x="37" y="6"/>
                </a:lnTo>
                <a:lnTo>
                  <a:pt x="45" y="4"/>
                </a:lnTo>
                <a:lnTo>
                  <a:pt x="52" y="5"/>
                </a:lnTo>
                <a:lnTo>
                  <a:pt x="61" y="7"/>
                </a:lnTo>
                <a:lnTo>
                  <a:pt x="68" y="7"/>
                </a:lnTo>
                <a:lnTo>
                  <a:pt x="73" y="6"/>
                </a:lnTo>
                <a:lnTo>
                  <a:pt x="80" y="3"/>
                </a:lnTo>
                <a:lnTo>
                  <a:pt x="87" y="0"/>
                </a:lnTo>
                <a:lnTo>
                  <a:pt x="95" y="1"/>
                </a:lnTo>
                <a:lnTo>
                  <a:pt x="102" y="4"/>
                </a:lnTo>
                <a:lnTo>
                  <a:pt x="110" y="7"/>
                </a:lnTo>
                <a:lnTo>
                  <a:pt x="117" y="12"/>
                </a:lnTo>
                <a:lnTo>
                  <a:pt x="125" y="18"/>
                </a:lnTo>
                <a:lnTo>
                  <a:pt x="131" y="23"/>
                </a:lnTo>
                <a:lnTo>
                  <a:pt x="136" y="28"/>
                </a:lnTo>
                <a:lnTo>
                  <a:pt x="133" y="32"/>
                </a:lnTo>
                <a:lnTo>
                  <a:pt x="127" y="37"/>
                </a:lnTo>
                <a:lnTo>
                  <a:pt x="120" y="43"/>
                </a:lnTo>
                <a:lnTo>
                  <a:pt x="112" y="47"/>
                </a:lnTo>
                <a:lnTo>
                  <a:pt x="103" y="52"/>
                </a:lnTo>
                <a:lnTo>
                  <a:pt x="91" y="56"/>
                </a:lnTo>
                <a:lnTo>
                  <a:pt x="79" y="58"/>
                </a:lnTo>
                <a:lnTo>
                  <a:pt x="64" y="58"/>
                </a:lnTo>
                <a:lnTo>
                  <a:pt x="50" y="57"/>
                </a:lnTo>
                <a:lnTo>
                  <a:pt x="37" y="56"/>
                </a:lnTo>
                <a:lnTo>
                  <a:pt x="28" y="54"/>
                </a:lnTo>
                <a:lnTo>
                  <a:pt x="20" y="52"/>
                </a:lnTo>
                <a:lnTo>
                  <a:pt x="14" y="49"/>
                </a:lnTo>
                <a:lnTo>
                  <a:pt x="8" y="44"/>
                </a:lnTo>
                <a:lnTo>
                  <a:pt x="4" y="39"/>
                </a:lnTo>
                <a:lnTo>
                  <a:pt x="0" y="3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0" name="Freeform 17"/>
          <p:cNvSpPr/>
          <p:nvPr/>
        </p:nvSpPr>
        <p:spPr>
          <a:xfrm>
            <a:off x="2157480" y="3486240"/>
            <a:ext cx="90360" cy="12600"/>
          </a:xfrm>
          <a:custGeom>
            <a:avLst/>
            <a:gdLst/>
            <a:ahLst/>
            <a:rect l="l" t="t" r="r" b="b"/>
            <a:pathLst>
              <a:path w="114" h="16">
                <a:moveTo>
                  <a:pt x="0" y="16"/>
                </a:moveTo>
                <a:lnTo>
                  <a:pt x="3" y="15"/>
                </a:lnTo>
                <a:lnTo>
                  <a:pt x="8" y="14"/>
                </a:lnTo>
                <a:lnTo>
                  <a:pt x="14" y="12"/>
                </a:lnTo>
                <a:lnTo>
                  <a:pt x="19" y="8"/>
                </a:lnTo>
                <a:lnTo>
                  <a:pt x="26" y="6"/>
                </a:lnTo>
                <a:lnTo>
                  <a:pt x="34" y="4"/>
                </a:lnTo>
                <a:lnTo>
                  <a:pt x="42" y="2"/>
                </a:lnTo>
                <a:lnTo>
                  <a:pt x="52" y="0"/>
                </a:lnTo>
                <a:lnTo>
                  <a:pt x="61" y="0"/>
                </a:lnTo>
                <a:lnTo>
                  <a:pt x="69" y="2"/>
                </a:lnTo>
                <a:lnTo>
                  <a:pt x="77" y="3"/>
                </a:lnTo>
                <a:lnTo>
                  <a:pt x="84" y="5"/>
                </a:lnTo>
                <a:lnTo>
                  <a:pt x="91" y="7"/>
                </a:lnTo>
                <a:lnTo>
                  <a:pt x="99" y="8"/>
                </a:lnTo>
                <a:lnTo>
                  <a:pt x="106" y="11"/>
                </a:lnTo>
                <a:lnTo>
                  <a:pt x="114" y="12"/>
                </a:lnTo>
                <a:lnTo>
                  <a:pt x="108" y="13"/>
                </a:lnTo>
                <a:lnTo>
                  <a:pt x="101" y="12"/>
                </a:lnTo>
                <a:lnTo>
                  <a:pt x="94" y="12"/>
                </a:lnTo>
                <a:lnTo>
                  <a:pt x="87" y="11"/>
                </a:lnTo>
                <a:lnTo>
                  <a:pt x="79" y="10"/>
                </a:lnTo>
                <a:lnTo>
                  <a:pt x="72" y="8"/>
                </a:lnTo>
                <a:lnTo>
                  <a:pt x="64" y="7"/>
                </a:lnTo>
                <a:lnTo>
                  <a:pt x="56" y="7"/>
                </a:lnTo>
                <a:lnTo>
                  <a:pt x="49" y="8"/>
                </a:lnTo>
                <a:lnTo>
                  <a:pt x="42" y="10"/>
                </a:lnTo>
                <a:lnTo>
                  <a:pt x="34" y="11"/>
                </a:lnTo>
                <a:lnTo>
                  <a:pt x="27" y="13"/>
                </a:lnTo>
                <a:lnTo>
                  <a:pt x="19" y="15"/>
                </a:lnTo>
                <a:lnTo>
                  <a:pt x="12" y="16"/>
                </a:lnTo>
                <a:lnTo>
                  <a:pt x="5" y="16"/>
                </a:lnTo>
                <a:lnTo>
                  <a:pt x="0" y="1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1" name="Freeform 18"/>
          <p:cNvSpPr/>
          <p:nvPr/>
        </p:nvSpPr>
        <p:spPr>
          <a:xfrm rot="13295400">
            <a:off x="1523880" y="3809880"/>
            <a:ext cx="462240" cy="1128960"/>
          </a:xfrm>
          <a:custGeom>
            <a:avLst/>
            <a:gdLst/>
            <a:ahLst/>
            <a:rect l="l" t="t" r="r" b="b"/>
            <a:pathLst>
              <a:path w="583" h="1421">
                <a:moveTo>
                  <a:pt x="231" y="47"/>
                </a:moveTo>
                <a:lnTo>
                  <a:pt x="242" y="56"/>
                </a:lnTo>
                <a:lnTo>
                  <a:pt x="251" y="71"/>
                </a:lnTo>
                <a:lnTo>
                  <a:pt x="259" y="91"/>
                </a:lnTo>
                <a:lnTo>
                  <a:pt x="265" y="112"/>
                </a:lnTo>
                <a:lnTo>
                  <a:pt x="269" y="137"/>
                </a:lnTo>
                <a:lnTo>
                  <a:pt x="273" y="162"/>
                </a:lnTo>
                <a:lnTo>
                  <a:pt x="274" y="185"/>
                </a:lnTo>
                <a:lnTo>
                  <a:pt x="274" y="207"/>
                </a:lnTo>
                <a:lnTo>
                  <a:pt x="275" y="231"/>
                </a:lnTo>
                <a:lnTo>
                  <a:pt x="282" y="260"/>
                </a:lnTo>
                <a:lnTo>
                  <a:pt x="292" y="293"/>
                </a:lnTo>
                <a:lnTo>
                  <a:pt x="306" y="327"/>
                </a:lnTo>
                <a:lnTo>
                  <a:pt x="320" y="360"/>
                </a:lnTo>
                <a:lnTo>
                  <a:pt x="334" y="391"/>
                </a:lnTo>
                <a:lnTo>
                  <a:pt x="346" y="418"/>
                </a:lnTo>
                <a:lnTo>
                  <a:pt x="356" y="436"/>
                </a:lnTo>
                <a:lnTo>
                  <a:pt x="366" y="456"/>
                </a:lnTo>
                <a:lnTo>
                  <a:pt x="380" y="483"/>
                </a:lnTo>
                <a:lnTo>
                  <a:pt x="396" y="517"/>
                </a:lnTo>
                <a:lnTo>
                  <a:pt x="413" y="554"/>
                </a:lnTo>
                <a:lnTo>
                  <a:pt x="431" y="593"/>
                </a:lnTo>
                <a:lnTo>
                  <a:pt x="444" y="632"/>
                </a:lnTo>
                <a:lnTo>
                  <a:pt x="456" y="670"/>
                </a:lnTo>
                <a:lnTo>
                  <a:pt x="463" y="703"/>
                </a:lnTo>
                <a:lnTo>
                  <a:pt x="465" y="754"/>
                </a:lnTo>
                <a:lnTo>
                  <a:pt x="466" y="816"/>
                </a:lnTo>
                <a:lnTo>
                  <a:pt x="471" y="884"/>
                </a:lnTo>
                <a:lnTo>
                  <a:pt x="487" y="951"/>
                </a:lnTo>
                <a:lnTo>
                  <a:pt x="495" y="973"/>
                </a:lnTo>
                <a:lnTo>
                  <a:pt x="505" y="1000"/>
                </a:lnTo>
                <a:lnTo>
                  <a:pt x="516" y="1030"/>
                </a:lnTo>
                <a:lnTo>
                  <a:pt x="527" y="1062"/>
                </a:lnTo>
                <a:lnTo>
                  <a:pt x="538" y="1094"/>
                </a:lnTo>
                <a:lnTo>
                  <a:pt x="547" y="1127"/>
                </a:lnTo>
                <a:lnTo>
                  <a:pt x="554" y="1159"/>
                </a:lnTo>
                <a:lnTo>
                  <a:pt x="556" y="1188"/>
                </a:lnTo>
                <a:lnTo>
                  <a:pt x="558" y="1250"/>
                </a:lnTo>
                <a:lnTo>
                  <a:pt x="564" y="1314"/>
                </a:lnTo>
                <a:lnTo>
                  <a:pt x="572" y="1374"/>
                </a:lnTo>
                <a:lnTo>
                  <a:pt x="583" y="1421"/>
                </a:lnTo>
                <a:lnTo>
                  <a:pt x="572" y="1420"/>
                </a:lnTo>
                <a:lnTo>
                  <a:pt x="561" y="1418"/>
                </a:lnTo>
                <a:lnTo>
                  <a:pt x="550" y="1415"/>
                </a:lnTo>
                <a:lnTo>
                  <a:pt x="540" y="1412"/>
                </a:lnTo>
                <a:lnTo>
                  <a:pt x="530" y="1409"/>
                </a:lnTo>
                <a:lnTo>
                  <a:pt x="519" y="1404"/>
                </a:lnTo>
                <a:lnTo>
                  <a:pt x="508" y="1399"/>
                </a:lnTo>
                <a:lnTo>
                  <a:pt x="497" y="1394"/>
                </a:lnTo>
                <a:lnTo>
                  <a:pt x="499" y="1374"/>
                </a:lnTo>
                <a:lnTo>
                  <a:pt x="499" y="1353"/>
                </a:lnTo>
                <a:lnTo>
                  <a:pt x="496" y="1331"/>
                </a:lnTo>
                <a:lnTo>
                  <a:pt x="493" y="1309"/>
                </a:lnTo>
                <a:lnTo>
                  <a:pt x="487" y="1288"/>
                </a:lnTo>
                <a:lnTo>
                  <a:pt x="481" y="1267"/>
                </a:lnTo>
                <a:lnTo>
                  <a:pt x="473" y="1248"/>
                </a:lnTo>
                <a:lnTo>
                  <a:pt x="465" y="1231"/>
                </a:lnTo>
                <a:lnTo>
                  <a:pt x="455" y="1215"/>
                </a:lnTo>
                <a:lnTo>
                  <a:pt x="443" y="1197"/>
                </a:lnTo>
                <a:lnTo>
                  <a:pt x="431" y="1179"/>
                </a:lnTo>
                <a:lnTo>
                  <a:pt x="418" y="1160"/>
                </a:lnTo>
                <a:lnTo>
                  <a:pt x="406" y="1141"/>
                </a:lnTo>
                <a:lnTo>
                  <a:pt x="397" y="1122"/>
                </a:lnTo>
                <a:lnTo>
                  <a:pt x="390" y="1103"/>
                </a:lnTo>
                <a:lnTo>
                  <a:pt x="388" y="1085"/>
                </a:lnTo>
                <a:lnTo>
                  <a:pt x="386" y="1095"/>
                </a:lnTo>
                <a:lnTo>
                  <a:pt x="384" y="1110"/>
                </a:lnTo>
                <a:lnTo>
                  <a:pt x="386" y="1126"/>
                </a:lnTo>
                <a:lnTo>
                  <a:pt x="389" y="1144"/>
                </a:lnTo>
                <a:lnTo>
                  <a:pt x="394" y="1161"/>
                </a:lnTo>
                <a:lnTo>
                  <a:pt x="399" y="1178"/>
                </a:lnTo>
                <a:lnTo>
                  <a:pt x="405" y="1194"/>
                </a:lnTo>
                <a:lnTo>
                  <a:pt x="412" y="1207"/>
                </a:lnTo>
                <a:lnTo>
                  <a:pt x="420" y="1222"/>
                </a:lnTo>
                <a:lnTo>
                  <a:pt x="428" y="1239"/>
                </a:lnTo>
                <a:lnTo>
                  <a:pt x="437" y="1261"/>
                </a:lnTo>
                <a:lnTo>
                  <a:pt x="444" y="1284"/>
                </a:lnTo>
                <a:lnTo>
                  <a:pt x="451" y="1307"/>
                </a:lnTo>
                <a:lnTo>
                  <a:pt x="454" y="1331"/>
                </a:lnTo>
                <a:lnTo>
                  <a:pt x="454" y="1353"/>
                </a:lnTo>
                <a:lnTo>
                  <a:pt x="449" y="1373"/>
                </a:lnTo>
                <a:lnTo>
                  <a:pt x="434" y="1365"/>
                </a:lnTo>
                <a:lnTo>
                  <a:pt x="416" y="1351"/>
                </a:lnTo>
                <a:lnTo>
                  <a:pt x="396" y="1334"/>
                </a:lnTo>
                <a:lnTo>
                  <a:pt x="376" y="1311"/>
                </a:lnTo>
                <a:lnTo>
                  <a:pt x="359" y="1284"/>
                </a:lnTo>
                <a:lnTo>
                  <a:pt x="343" y="1253"/>
                </a:lnTo>
                <a:lnTo>
                  <a:pt x="331" y="1218"/>
                </a:lnTo>
                <a:lnTo>
                  <a:pt x="325" y="1180"/>
                </a:lnTo>
                <a:lnTo>
                  <a:pt x="318" y="1111"/>
                </a:lnTo>
                <a:lnTo>
                  <a:pt x="315" y="1057"/>
                </a:lnTo>
                <a:lnTo>
                  <a:pt x="315" y="1008"/>
                </a:lnTo>
                <a:lnTo>
                  <a:pt x="319" y="951"/>
                </a:lnTo>
                <a:lnTo>
                  <a:pt x="321" y="894"/>
                </a:lnTo>
                <a:lnTo>
                  <a:pt x="318" y="845"/>
                </a:lnTo>
                <a:lnTo>
                  <a:pt x="310" y="804"/>
                </a:lnTo>
                <a:lnTo>
                  <a:pt x="297" y="767"/>
                </a:lnTo>
                <a:lnTo>
                  <a:pt x="288" y="732"/>
                </a:lnTo>
                <a:lnTo>
                  <a:pt x="287" y="697"/>
                </a:lnTo>
                <a:lnTo>
                  <a:pt x="288" y="663"/>
                </a:lnTo>
                <a:lnTo>
                  <a:pt x="289" y="631"/>
                </a:lnTo>
                <a:lnTo>
                  <a:pt x="288" y="612"/>
                </a:lnTo>
                <a:lnTo>
                  <a:pt x="285" y="587"/>
                </a:lnTo>
                <a:lnTo>
                  <a:pt x="281" y="557"/>
                </a:lnTo>
                <a:lnTo>
                  <a:pt x="275" y="524"/>
                </a:lnTo>
                <a:lnTo>
                  <a:pt x="267" y="489"/>
                </a:lnTo>
                <a:lnTo>
                  <a:pt x="259" y="453"/>
                </a:lnTo>
                <a:lnTo>
                  <a:pt x="249" y="420"/>
                </a:lnTo>
                <a:lnTo>
                  <a:pt x="238" y="389"/>
                </a:lnTo>
                <a:lnTo>
                  <a:pt x="228" y="361"/>
                </a:lnTo>
                <a:lnTo>
                  <a:pt x="216" y="336"/>
                </a:lnTo>
                <a:lnTo>
                  <a:pt x="206" y="313"/>
                </a:lnTo>
                <a:lnTo>
                  <a:pt x="194" y="291"/>
                </a:lnTo>
                <a:lnTo>
                  <a:pt x="183" y="270"/>
                </a:lnTo>
                <a:lnTo>
                  <a:pt x="170" y="250"/>
                </a:lnTo>
                <a:lnTo>
                  <a:pt x="158" y="229"/>
                </a:lnTo>
                <a:lnTo>
                  <a:pt x="143" y="207"/>
                </a:lnTo>
                <a:lnTo>
                  <a:pt x="126" y="185"/>
                </a:lnTo>
                <a:lnTo>
                  <a:pt x="108" y="162"/>
                </a:lnTo>
                <a:lnTo>
                  <a:pt x="90" y="140"/>
                </a:lnTo>
                <a:lnTo>
                  <a:pt x="70" y="118"/>
                </a:lnTo>
                <a:lnTo>
                  <a:pt x="52" y="100"/>
                </a:lnTo>
                <a:lnTo>
                  <a:pt x="35" y="83"/>
                </a:lnTo>
                <a:lnTo>
                  <a:pt x="22" y="70"/>
                </a:lnTo>
                <a:lnTo>
                  <a:pt x="10" y="61"/>
                </a:lnTo>
                <a:lnTo>
                  <a:pt x="0" y="48"/>
                </a:lnTo>
                <a:lnTo>
                  <a:pt x="0" y="38"/>
                </a:lnTo>
                <a:lnTo>
                  <a:pt x="7" y="33"/>
                </a:lnTo>
                <a:lnTo>
                  <a:pt x="18" y="36"/>
                </a:lnTo>
                <a:lnTo>
                  <a:pt x="26" y="41"/>
                </a:lnTo>
                <a:lnTo>
                  <a:pt x="37" y="48"/>
                </a:lnTo>
                <a:lnTo>
                  <a:pt x="50" y="55"/>
                </a:lnTo>
                <a:lnTo>
                  <a:pt x="64" y="63"/>
                </a:lnTo>
                <a:lnTo>
                  <a:pt x="79" y="72"/>
                </a:lnTo>
                <a:lnTo>
                  <a:pt x="93" y="80"/>
                </a:lnTo>
                <a:lnTo>
                  <a:pt x="106" y="87"/>
                </a:lnTo>
                <a:lnTo>
                  <a:pt x="116" y="93"/>
                </a:lnTo>
                <a:lnTo>
                  <a:pt x="113" y="84"/>
                </a:lnTo>
                <a:lnTo>
                  <a:pt x="108" y="73"/>
                </a:lnTo>
                <a:lnTo>
                  <a:pt x="102" y="62"/>
                </a:lnTo>
                <a:lnTo>
                  <a:pt x="95" y="49"/>
                </a:lnTo>
                <a:lnTo>
                  <a:pt x="88" y="36"/>
                </a:lnTo>
                <a:lnTo>
                  <a:pt x="80" y="24"/>
                </a:lnTo>
                <a:lnTo>
                  <a:pt x="71" y="11"/>
                </a:lnTo>
                <a:lnTo>
                  <a:pt x="61" y="0"/>
                </a:lnTo>
                <a:lnTo>
                  <a:pt x="72" y="1"/>
                </a:lnTo>
                <a:lnTo>
                  <a:pt x="86" y="6"/>
                </a:lnTo>
                <a:lnTo>
                  <a:pt x="100" y="17"/>
                </a:lnTo>
                <a:lnTo>
                  <a:pt x="115" y="30"/>
                </a:lnTo>
                <a:lnTo>
                  <a:pt x="129" y="44"/>
                </a:lnTo>
                <a:lnTo>
                  <a:pt x="143" y="61"/>
                </a:lnTo>
                <a:lnTo>
                  <a:pt x="154" y="78"/>
                </a:lnTo>
                <a:lnTo>
                  <a:pt x="164" y="95"/>
                </a:lnTo>
                <a:lnTo>
                  <a:pt x="166" y="79"/>
                </a:lnTo>
                <a:lnTo>
                  <a:pt x="163" y="61"/>
                </a:lnTo>
                <a:lnTo>
                  <a:pt x="153" y="39"/>
                </a:lnTo>
                <a:lnTo>
                  <a:pt x="137" y="12"/>
                </a:lnTo>
                <a:lnTo>
                  <a:pt x="146" y="12"/>
                </a:lnTo>
                <a:lnTo>
                  <a:pt x="158" y="17"/>
                </a:lnTo>
                <a:lnTo>
                  <a:pt x="170" y="25"/>
                </a:lnTo>
                <a:lnTo>
                  <a:pt x="183" y="36"/>
                </a:lnTo>
                <a:lnTo>
                  <a:pt x="197" y="51"/>
                </a:lnTo>
                <a:lnTo>
                  <a:pt x="209" y="69"/>
                </a:lnTo>
                <a:lnTo>
                  <a:pt x="221" y="88"/>
                </a:lnTo>
                <a:lnTo>
                  <a:pt x="231" y="109"/>
                </a:lnTo>
                <a:lnTo>
                  <a:pt x="235" y="95"/>
                </a:lnTo>
                <a:lnTo>
                  <a:pt x="236" y="79"/>
                </a:lnTo>
                <a:lnTo>
                  <a:pt x="235" y="62"/>
                </a:lnTo>
                <a:lnTo>
                  <a:pt x="231" y="4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2" name="Freeform 19"/>
          <p:cNvSpPr/>
          <p:nvPr/>
        </p:nvSpPr>
        <p:spPr>
          <a:xfrm>
            <a:off x="1901880" y="3621240"/>
            <a:ext cx="722160" cy="917280"/>
          </a:xfrm>
          <a:custGeom>
            <a:avLst/>
            <a:gdLst/>
            <a:ahLst/>
            <a:rect l="l" t="t" r="r" b="b"/>
            <a:pathLst>
              <a:path w="909" h="1155">
                <a:moveTo>
                  <a:pt x="221" y="128"/>
                </a:moveTo>
                <a:lnTo>
                  <a:pt x="228" y="142"/>
                </a:lnTo>
                <a:lnTo>
                  <a:pt x="232" y="160"/>
                </a:lnTo>
                <a:lnTo>
                  <a:pt x="232" y="181"/>
                </a:lnTo>
                <a:lnTo>
                  <a:pt x="225" y="203"/>
                </a:lnTo>
                <a:lnTo>
                  <a:pt x="217" y="227"/>
                </a:lnTo>
                <a:lnTo>
                  <a:pt x="212" y="251"/>
                </a:lnTo>
                <a:lnTo>
                  <a:pt x="210" y="273"/>
                </a:lnTo>
                <a:lnTo>
                  <a:pt x="206" y="290"/>
                </a:lnTo>
                <a:lnTo>
                  <a:pt x="202" y="288"/>
                </a:lnTo>
                <a:lnTo>
                  <a:pt x="195" y="287"/>
                </a:lnTo>
                <a:lnTo>
                  <a:pt x="188" y="283"/>
                </a:lnTo>
                <a:lnTo>
                  <a:pt x="180" y="280"/>
                </a:lnTo>
                <a:lnTo>
                  <a:pt x="172" y="275"/>
                </a:lnTo>
                <a:lnTo>
                  <a:pt x="165" y="268"/>
                </a:lnTo>
                <a:lnTo>
                  <a:pt x="159" y="260"/>
                </a:lnTo>
                <a:lnTo>
                  <a:pt x="156" y="251"/>
                </a:lnTo>
                <a:lnTo>
                  <a:pt x="156" y="265"/>
                </a:lnTo>
                <a:lnTo>
                  <a:pt x="159" y="279"/>
                </a:lnTo>
                <a:lnTo>
                  <a:pt x="166" y="291"/>
                </a:lnTo>
                <a:lnTo>
                  <a:pt x="174" y="304"/>
                </a:lnTo>
                <a:lnTo>
                  <a:pt x="184" y="316"/>
                </a:lnTo>
                <a:lnTo>
                  <a:pt x="196" y="326"/>
                </a:lnTo>
                <a:lnTo>
                  <a:pt x="209" y="333"/>
                </a:lnTo>
                <a:lnTo>
                  <a:pt x="221" y="336"/>
                </a:lnTo>
                <a:lnTo>
                  <a:pt x="235" y="337"/>
                </a:lnTo>
                <a:lnTo>
                  <a:pt x="248" y="335"/>
                </a:lnTo>
                <a:lnTo>
                  <a:pt x="260" y="332"/>
                </a:lnTo>
                <a:lnTo>
                  <a:pt x="273" y="327"/>
                </a:lnTo>
                <a:lnTo>
                  <a:pt x="285" y="321"/>
                </a:lnTo>
                <a:lnTo>
                  <a:pt x="294" y="314"/>
                </a:lnTo>
                <a:lnTo>
                  <a:pt x="303" y="306"/>
                </a:lnTo>
                <a:lnTo>
                  <a:pt x="310" y="298"/>
                </a:lnTo>
                <a:lnTo>
                  <a:pt x="316" y="290"/>
                </a:lnTo>
                <a:lnTo>
                  <a:pt x="323" y="283"/>
                </a:lnTo>
                <a:lnTo>
                  <a:pt x="330" y="276"/>
                </a:lnTo>
                <a:lnTo>
                  <a:pt x="338" y="269"/>
                </a:lnTo>
                <a:lnTo>
                  <a:pt x="345" y="264"/>
                </a:lnTo>
                <a:lnTo>
                  <a:pt x="353" y="259"/>
                </a:lnTo>
                <a:lnTo>
                  <a:pt x="360" y="254"/>
                </a:lnTo>
                <a:lnTo>
                  <a:pt x="368" y="251"/>
                </a:lnTo>
                <a:lnTo>
                  <a:pt x="376" y="246"/>
                </a:lnTo>
                <a:lnTo>
                  <a:pt x="384" y="241"/>
                </a:lnTo>
                <a:lnTo>
                  <a:pt x="392" y="231"/>
                </a:lnTo>
                <a:lnTo>
                  <a:pt x="401" y="222"/>
                </a:lnTo>
                <a:lnTo>
                  <a:pt x="408" y="211"/>
                </a:lnTo>
                <a:lnTo>
                  <a:pt x="415" y="198"/>
                </a:lnTo>
                <a:lnTo>
                  <a:pt x="422" y="184"/>
                </a:lnTo>
                <a:lnTo>
                  <a:pt x="426" y="170"/>
                </a:lnTo>
                <a:lnTo>
                  <a:pt x="430" y="157"/>
                </a:lnTo>
                <a:lnTo>
                  <a:pt x="434" y="143"/>
                </a:lnTo>
                <a:lnTo>
                  <a:pt x="439" y="129"/>
                </a:lnTo>
                <a:lnTo>
                  <a:pt x="444" y="116"/>
                </a:lnTo>
                <a:lnTo>
                  <a:pt x="448" y="104"/>
                </a:lnTo>
                <a:lnTo>
                  <a:pt x="454" y="93"/>
                </a:lnTo>
                <a:lnTo>
                  <a:pt x="461" y="84"/>
                </a:lnTo>
                <a:lnTo>
                  <a:pt x="469" y="77"/>
                </a:lnTo>
                <a:lnTo>
                  <a:pt x="477" y="69"/>
                </a:lnTo>
                <a:lnTo>
                  <a:pt x="486" y="59"/>
                </a:lnTo>
                <a:lnTo>
                  <a:pt x="494" y="46"/>
                </a:lnTo>
                <a:lnTo>
                  <a:pt x="504" y="32"/>
                </a:lnTo>
                <a:lnTo>
                  <a:pt x="510" y="21"/>
                </a:lnTo>
                <a:lnTo>
                  <a:pt x="516" y="9"/>
                </a:lnTo>
                <a:lnTo>
                  <a:pt x="521" y="2"/>
                </a:lnTo>
                <a:lnTo>
                  <a:pt x="522" y="0"/>
                </a:lnTo>
                <a:lnTo>
                  <a:pt x="525" y="21"/>
                </a:lnTo>
                <a:lnTo>
                  <a:pt x="530" y="42"/>
                </a:lnTo>
                <a:lnTo>
                  <a:pt x="538" y="67"/>
                </a:lnTo>
                <a:lnTo>
                  <a:pt x="547" y="90"/>
                </a:lnTo>
                <a:lnTo>
                  <a:pt x="558" y="114"/>
                </a:lnTo>
                <a:lnTo>
                  <a:pt x="570" y="137"/>
                </a:lnTo>
                <a:lnTo>
                  <a:pt x="584" y="159"/>
                </a:lnTo>
                <a:lnTo>
                  <a:pt x="599" y="178"/>
                </a:lnTo>
                <a:lnTo>
                  <a:pt x="607" y="188"/>
                </a:lnTo>
                <a:lnTo>
                  <a:pt x="618" y="198"/>
                </a:lnTo>
                <a:lnTo>
                  <a:pt x="629" y="208"/>
                </a:lnTo>
                <a:lnTo>
                  <a:pt x="642" y="219"/>
                </a:lnTo>
                <a:lnTo>
                  <a:pt x="656" y="230"/>
                </a:lnTo>
                <a:lnTo>
                  <a:pt x="671" y="241"/>
                </a:lnTo>
                <a:lnTo>
                  <a:pt x="688" y="251"/>
                </a:lnTo>
                <a:lnTo>
                  <a:pt x="706" y="260"/>
                </a:lnTo>
                <a:lnTo>
                  <a:pt x="726" y="271"/>
                </a:lnTo>
                <a:lnTo>
                  <a:pt x="748" y="279"/>
                </a:lnTo>
                <a:lnTo>
                  <a:pt x="770" y="288"/>
                </a:lnTo>
                <a:lnTo>
                  <a:pt x="795" y="295"/>
                </a:lnTo>
                <a:lnTo>
                  <a:pt x="820" y="302"/>
                </a:lnTo>
                <a:lnTo>
                  <a:pt x="848" y="307"/>
                </a:lnTo>
                <a:lnTo>
                  <a:pt x="878" y="311"/>
                </a:lnTo>
                <a:lnTo>
                  <a:pt x="909" y="314"/>
                </a:lnTo>
                <a:lnTo>
                  <a:pt x="904" y="343"/>
                </a:lnTo>
                <a:lnTo>
                  <a:pt x="899" y="378"/>
                </a:lnTo>
                <a:lnTo>
                  <a:pt x="895" y="418"/>
                </a:lnTo>
                <a:lnTo>
                  <a:pt x="898" y="462"/>
                </a:lnTo>
                <a:lnTo>
                  <a:pt x="892" y="447"/>
                </a:lnTo>
                <a:lnTo>
                  <a:pt x="885" y="431"/>
                </a:lnTo>
                <a:lnTo>
                  <a:pt x="877" y="415"/>
                </a:lnTo>
                <a:lnTo>
                  <a:pt x="866" y="398"/>
                </a:lnTo>
                <a:lnTo>
                  <a:pt x="855" y="383"/>
                </a:lnTo>
                <a:lnTo>
                  <a:pt x="841" y="370"/>
                </a:lnTo>
                <a:lnTo>
                  <a:pt x="826" y="357"/>
                </a:lnTo>
                <a:lnTo>
                  <a:pt x="808" y="347"/>
                </a:lnTo>
                <a:lnTo>
                  <a:pt x="815" y="363"/>
                </a:lnTo>
                <a:lnTo>
                  <a:pt x="822" y="379"/>
                </a:lnTo>
                <a:lnTo>
                  <a:pt x="830" y="396"/>
                </a:lnTo>
                <a:lnTo>
                  <a:pt x="838" y="412"/>
                </a:lnTo>
                <a:lnTo>
                  <a:pt x="846" y="430"/>
                </a:lnTo>
                <a:lnTo>
                  <a:pt x="854" y="446"/>
                </a:lnTo>
                <a:lnTo>
                  <a:pt x="861" y="461"/>
                </a:lnTo>
                <a:lnTo>
                  <a:pt x="866" y="475"/>
                </a:lnTo>
                <a:lnTo>
                  <a:pt x="872" y="493"/>
                </a:lnTo>
                <a:lnTo>
                  <a:pt x="871" y="502"/>
                </a:lnTo>
                <a:lnTo>
                  <a:pt x="865" y="514"/>
                </a:lnTo>
                <a:lnTo>
                  <a:pt x="860" y="538"/>
                </a:lnTo>
                <a:lnTo>
                  <a:pt x="845" y="516"/>
                </a:lnTo>
                <a:lnTo>
                  <a:pt x="826" y="489"/>
                </a:lnTo>
                <a:lnTo>
                  <a:pt x="804" y="462"/>
                </a:lnTo>
                <a:lnTo>
                  <a:pt x="781" y="433"/>
                </a:lnTo>
                <a:lnTo>
                  <a:pt x="759" y="409"/>
                </a:lnTo>
                <a:lnTo>
                  <a:pt x="739" y="389"/>
                </a:lnTo>
                <a:lnTo>
                  <a:pt x="722" y="379"/>
                </a:lnTo>
                <a:lnTo>
                  <a:pt x="711" y="379"/>
                </a:lnTo>
                <a:lnTo>
                  <a:pt x="704" y="387"/>
                </a:lnTo>
                <a:lnTo>
                  <a:pt x="701" y="395"/>
                </a:lnTo>
                <a:lnTo>
                  <a:pt x="701" y="405"/>
                </a:lnTo>
                <a:lnTo>
                  <a:pt x="704" y="418"/>
                </a:lnTo>
                <a:lnTo>
                  <a:pt x="710" y="432"/>
                </a:lnTo>
                <a:lnTo>
                  <a:pt x="720" y="447"/>
                </a:lnTo>
                <a:lnTo>
                  <a:pt x="734" y="464"/>
                </a:lnTo>
                <a:lnTo>
                  <a:pt x="751" y="483"/>
                </a:lnTo>
                <a:lnTo>
                  <a:pt x="772" y="503"/>
                </a:lnTo>
                <a:lnTo>
                  <a:pt x="793" y="525"/>
                </a:lnTo>
                <a:lnTo>
                  <a:pt x="813" y="549"/>
                </a:lnTo>
                <a:lnTo>
                  <a:pt x="831" y="577"/>
                </a:lnTo>
                <a:lnTo>
                  <a:pt x="846" y="607"/>
                </a:lnTo>
                <a:lnTo>
                  <a:pt x="855" y="643"/>
                </a:lnTo>
                <a:lnTo>
                  <a:pt x="858" y="682"/>
                </a:lnTo>
                <a:lnTo>
                  <a:pt x="855" y="726"/>
                </a:lnTo>
                <a:lnTo>
                  <a:pt x="848" y="707"/>
                </a:lnTo>
                <a:lnTo>
                  <a:pt x="842" y="696"/>
                </a:lnTo>
                <a:lnTo>
                  <a:pt x="836" y="688"/>
                </a:lnTo>
                <a:lnTo>
                  <a:pt x="832" y="682"/>
                </a:lnTo>
                <a:lnTo>
                  <a:pt x="826" y="678"/>
                </a:lnTo>
                <a:lnTo>
                  <a:pt x="819" y="675"/>
                </a:lnTo>
                <a:lnTo>
                  <a:pt x="810" y="669"/>
                </a:lnTo>
                <a:lnTo>
                  <a:pt x="800" y="661"/>
                </a:lnTo>
                <a:lnTo>
                  <a:pt x="789" y="651"/>
                </a:lnTo>
                <a:lnTo>
                  <a:pt x="780" y="642"/>
                </a:lnTo>
                <a:lnTo>
                  <a:pt x="773" y="631"/>
                </a:lnTo>
                <a:lnTo>
                  <a:pt x="767" y="620"/>
                </a:lnTo>
                <a:lnTo>
                  <a:pt x="763" y="609"/>
                </a:lnTo>
                <a:lnTo>
                  <a:pt x="758" y="597"/>
                </a:lnTo>
                <a:lnTo>
                  <a:pt x="752" y="585"/>
                </a:lnTo>
                <a:lnTo>
                  <a:pt x="745" y="571"/>
                </a:lnTo>
                <a:lnTo>
                  <a:pt x="739" y="557"/>
                </a:lnTo>
                <a:lnTo>
                  <a:pt x="731" y="546"/>
                </a:lnTo>
                <a:lnTo>
                  <a:pt x="722" y="536"/>
                </a:lnTo>
                <a:lnTo>
                  <a:pt x="713" y="526"/>
                </a:lnTo>
                <a:lnTo>
                  <a:pt x="704" y="519"/>
                </a:lnTo>
                <a:lnTo>
                  <a:pt x="694" y="514"/>
                </a:lnTo>
                <a:lnTo>
                  <a:pt x="683" y="509"/>
                </a:lnTo>
                <a:lnTo>
                  <a:pt x="672" y="507"/>
                </a:lnTo>
                <a:lnTo>
                  <a:pt x="682" y="521"/>
                </a:lnTo>
                <a:lnTo>
                  <a:pt x="691" y="534"/>
                </a:lnTo>
                <a:lnTo>
                  <a:pt x="701" y="548"/>
                </a:lnTo>
                <a:lnTo>
                  <a:pt x="709" y="563"/>
                </a:lnTo>
                <a:lnTo>
                  <a:pt x="716" y="579"/>
                </a:lnTo>
                <a:lnTo>
                  <a:pt x="721" y="597"/>
                </a:lnTo>
                <a:lnTo>
                  <a:pt x="725" y="616"/>
                </a:lnTo>
                <a:lnTo>
                  <a:pt x="727" y="637"/>
                </a:lnTo>
                <a:lnTo>
                  <a:pt x="728" y="658"/>
                </a:lnTo>
                <a:lnTo>
                  <a:pt x="731" y="677"/>
                </a:lnTo>
                <a:lnTo>
                  <a:pt x="734" y="696"/>
                </a:lnTo>
                <a:lnTo>
                  <a:pt x="739" y="712"/>
                </a:lnTo>
                <a:lnTo>
                  <a:pt x="744" y="728"/>
                </a:lnTo>
                <a:lnTo>
                  <a:pt x="752" y="743"/>
                </a:lnTo>
                <a:lnTo>
                  <a:pt x="762" y="758"/>
                </a:lnTo>
                <a:lnTo>
                  <a:pt x="773" y="773"/>
                </a:lnTo>
                <a:lnTo>
                  <a:pt x="786" y="788"/>
                </a:lnTo>
                <a:lnTo>
                  <a:pt x="800" y="805"/>
                </a:lnTo>
                <a:lnTo>
                  <a:pt x="811" y="822"/>
                </a:lnTo>
                <a:lnTo>
                  <a:pt x="822" y="841"/>
                </a:lnTo>
                <a:lnTo>
                  <a:pt x="830" y="863"/>
                </a:lnTo>
                <a:lnTo>
                  <a:pt x="833" y="886"/>
                </a:lnTo>
                <a:lnTo>
                  <a:pt x="832" y="912"/>
                </a:lnTo>
                <a:lnTo>
                  <a:pt x="826" y="941"/>
                </a:lnTo>
                <a:lnTo>
                  <a:pt x="815" y="933"/>
                </a:lnTo>
                <a:lnTo>
                  <a:pt x="803" y="925"/>
                </a:lnTo>
                <a:lnTo>
                  <a:pt x="793" y="919"/>
                </a:lnTo>
                <a:lnTo>
                  <a:pt x="782" y="913"/>
                </a:lnTo>
                <a:lnTo>
                  <a:pt x="773" y="909"/>
                </a:lnTo>
                <a:lnTo>
                  <a:pt x="764" y="905"/>
                </a:lnTo>
                <a:lnTo>
                  <a:pt x="755" y="903"/>
                </a:lnTo>
                <a:lnTo>
                  <a:pt x="745" y="902"/>
                </a:lnTo>
                <a:lnTo>
                  <a:pt x="757" y="917"/>
                </a:lnTo>
                <a:lnTo>
                  <a:pt x="766" y="933"/>
                </a:lnTo>
                <a:lnTo>
                  <a:pt x="772" y="951"/>
                </a:lnTo>
                <a:lnTo>
                  <a:pt x="775" y="969"/>
                </a:lnTo>
                <a:lnTo>
                  <a:pt x="775" y="988"/>
                </a:lnTo>
                <a:lnTo>
                  <a:pt x="774" y="1008"/>
                </a:lnTo>
                <a:lnTo>
                  <a:pt x="770" y="1029"/>
                </a:lnTo>
                <a:lnTo>
                  <a:pt x="764" y="1049"/>
                </a:lnTo>
                <a:lnTo>
                  <a:pt x="759" y="1060"/>
                </a:lnTo>
                <a:lnTo>
                  <a:pt x="752" y="1070"/>
                </a:lnTo>
                <a:lnTo>
                  <a:pt x="744" y="1080"/>
                </a:lnTo>
                <a:lnTo>
                  <a:pt x="735" y="1091"/>
                </a:lnTo>
                <a:lnTo>
                  <a:pt x="724" y="1100"/>
                </a:lnTo>
                <a:lnTo>
                  <a:pt x="711" y="1109"/>
                </a:lnTo>
                <a:lnTo>
                  <a:pt x="697" y="1117"/>
                </a:lnTo>
                <a:lnTo>
                  <a:pt x="682" y="1125"/>
                </a:lnTo>
                <a:lnTo>
                  <a:pt x="666" y="1132"/>
                </a:lnTo>
                <a:lnTo>
                  <a:pt x="649" y="1138"/>
                </a:lnTo>
                <a:lnTo>
                  <a:pt x="631" y="1143"/>
                </a:lnTo>
                <a:lnTo>
                  <a:pt x="613" y="1147"/>
                </a:lnTo>
                <a:lnTo>
                  <a:pt x="595" y="1150"/>
                </a:lnTo>
                <a:lnTo>
                  <a:pt x="575" y="1151"/>
                </a:lnTo>
                <a:lnTo>
                  <a:pt x="555" y="1151"/>
                </a:lnTo>
                <a:lnTo>
                  <a:pt x="536" y="1150"/>
                </a:lnTo>
                <a:lnTo>
                  <a:pt x="524" y="1147"/>
                </a:lnTo>
                <a:lnTo>
                  <a:pt x="513" y="1145"/>
                </a:lnTo>
                <a:lnTo>
                  <a:pt x="501" y="1142"/>
                </a:lnTo>
                <a:lnTo>
                  <a:pt x="490" y="1138"/>
                </a:lnTo>
                <a:lnTo>
                  <a:pt x="478" y="1135"/>
                </a:lnTo>
                <a:lnTo>
                  <a:pt x="467" y="1130"/>
                </a:lnTo>
                <a:lnTo>
                  <a:pt x="455" y="1125"/>
                </a:lnTo>
                <a:lnTo>
                  <a:pt x="444" y="1122"/>
                </a:lnTo>
                <a:lnTo>
                  <a:pt x="431" y="1119"/>
                </a:lnTo>
                <a:lnTo>
                  <a:pt x="419" y="1115"/>
                </a:lnTo>
                <a:lnTo>
                  <a:pt x="408" y="1113"/>
                </a:lnTo>
                <a:lnTo>
                  <a:pt x="395" y="1112"/>
                </a:lnTo>
                <a:lnTo>
                  <a:pt x="383" y="1110"/>
                </a:lnTo>
                <a:lnTo>
                  <a:pt x="370" y="1112"/>
                </a:lnTo>
                <a:lnTo>
                  <a:pt x="357" y="1114"/>
                </a:lnTo>
                <a:lnTo>
                  <a:pt x="345" y="1117"/>
                </a:lnTo>
                <a:lnTo>
                  <a:pt x="355" y="1104"/>
                </a:lnTo>
                <a:lnTo>
                  <a:pt x="365" y="1093"/>
                </a:lnTo>
                <a:lnTo>
                  <a:pt x="376" y="1084"/>
                </a:lnTo>
                <a:lnTo>
                  <a:pt x="386" y="1077"/>
                </a:lnTo>
                <a:lnTo>
                  <a:pt x="399" y="1071"/>
                </a:lnTo>
                <a:lnTo>
                  <a:pt x="413" y="1067"/>
                </a:lnTo>
                <a:lnTo>
                  <a:pt x="429" y="1062"/>
                </a:lnTo>
                <a:lnTo>
                  <a:pt x="447" y="1059"/>
                </a:lnTo>
                <a:lnTo>
                  <a:pt x="468" y="1053"/>
                </a:lnTo>
                <a:lnTo>
                  <a:pt x="489" y="1045"/>
                </a:lnTo>
                <a:lnTo>
                  <a:pt x="508" y="1033"/>
                </a:lnTo>
                <a:lnTo>
                  <a:pt x="528" y="1018"/>
                </a:lnTo>
                <a:lnTo>
                  <a:pt x="544" y="1000"/>
                </a:lnTo>
                <a:lnTo>
                  <a:pt x="558" y="977"/>
                </a:lnTo>
                <a:lnTo>
                  <a:pt x="569" y="949"/>
                </a:lnTo>
                <a:lnTo>
                  <a:pt x="575" y="917"/>
                </a:lnTo>
                <a:lnTo>
                  <a:pt x="560" y="931"/>
                </a:lnTo>
                <a:lnTo>
                  <a:pt x="545" y="946"/>
                </a:lnTo>
                <a:lnTo>
                  <a:pt x="530" y="961"/>
                </a:lnTo>
                <a:lnTo>
                  <a:pt x="515" y="976"/>
                </a:lnTo>
                <a:lnTo>
                  <a:pt x="498" y="989"/>
                </a:lnTo>
                <a:lnTo>
                  <a:pt x="479" y="1001"/>
                </a:lnTo>
                <a:lnTo>
                  <a:pt x="457" y="1010"/>
                </a:lnTo>
                <a:lnTo>
                  <a:pt x="431" y="1016"/>
                </a:lnTo>
                <a:lnTo>
                  <a:pt x="404" y="1021"/>
                </a:lnTo>
                <a:lnTo>
                  <a:pt x="378" y="1025"/>
                </a:lnTo>
                <a:lnTo>
                  <a:pt x="352" y="1032"/>
                </a:lnTo>
                <a:lnTo>
                  <a:pt x="327" y="1039"/>
                </a:lnTo>
                <a:lnTo>
                  <a:pt x="305" y="1048"/>
                </a:lnTo>
                <a:lnTo>
                  <a:pt x="285" y="1059"/>
                </a:lnTo>
                <a:lnTo>
                  <a:pt x="266" y="1070"/>
                </a:lnTo>
                <a:lnTo>
                  <a:pt x="251" y="1083"/>
                </a:lnTo>
                <a:lnTo>
                  <a:pt x="237" y="1098"/>
                </a:lnTo>
                <a:lnTo>
                  <a:pt x="221" y="1113"/>
                </a:lnTo>
                <a:lnTo>
                  <a:pt x="205" y="1128"/>
                </a:lnTo>
                <a:lnTo>
                  <a:pt x="187" y="1140"/>
                </a:lnTo>
                <a:lnTo>
                  <a:pt x="168" y="1151"/>
                </a:lnTo>
                <a:lnTo>
                  <a:pt x="146" y="1155"/>
                </a:lnTo>
                <a:lnTo>
                  <a:pt x="125" y="1154"/>
                </a:lnTo>
                <a:lnTo>
                  <a:pt x="100" y="1145"/>
                </a:lnTo>
                <a:lnTo>
                  <a:pt x="100" y="1137"/>
                </a:lnTo>
                <a:lnTo>
                  <a:pt x="102" y="1129"/>
                </a:lnTo>
                <a:lnTo>
                  <a:pt x="104" y="1120"/>
                </a:lnTo>
                <a:lnTo>
                  <a:pt x="110" y="1109"/>
                </a:lnTo>
                <a:lnTo>
                  <a:pt x="118" y="1099"/>
                </a:lnTo>
                <a:lnTo>
                  <a:pt x="128" y="1087"/>
                </a:lnTo>
                <a:lnTo>
                  <a:pt x="142" y="1075"/>
                </a:lnTo>
                <a:lnTo>
                  <a:pt x="158" y="1061"/>
                </a:lnTo>
                <a:lnTo>
                  <a:pt x="176" y="1046"/>
                </a:lnTo>
                <a:lnTo>
                  <a:pt x="193" y="1027"/>
                </a:lnTo>
                <a:lnTo>
                  <a:pt x="208" y="1008"/>
                </a:lnTo>
                <a:lnTo>
                  <a:pt x="220" y="985"/>
                </a:lnTo>
                <a:lnTo>
                  <a:pt x="229" y="960"/>
                </a:lnTo>
                <a:lnTo>
                  <a:pt x="233" y="933"/>
                </a:lnTo>
                <a:lnTo>
                  <a:pt x="232" y="904"/>
                </a:lnTo>
                <a:lnTo>
                  <a:pt x="225" y="874"/>
                </a:lnTo>
                <a:lnTo>
                  <a:pt x="221" y="893"/>
                </a:lnTo>
                <a:lnTo>
                  <a:pt x="216" y="913"/>
                </a:lnTo>
                <a:lnTo>
                  <a:pt x="209" y="935"/>
                </a:lnTo>
                <a:lnTo>
                  <a:pt x="202" y="956"/>
                </a:lnTo>
                <a:lnTo>
                  <a:pt x="193" y="976"/>
                </a:lnTo>
                <a:lnTo>
                  <a:pt x="182" y="993"/>
                </a:lnTo>
                <a:lnTo>
                  <a:pt x="171" y="1006"/>
                </a:lnTo>
                <a:lnTo>
                  <a:pt x="158" y="1014"/>
                </a:lnTo>
                <a:lnTo>
                  <a:pt x="145" y="1018"/>
                </a:lnTo>
                <a:lnTo>
                  <a:pt x="135" y="1023"/>
                </a:lnTo>
                <a:lnTo>
                  <a:pt x="125" y="1026"/>
                </a:lnTo>
                <a:lnTo>
                  <a:pt x="117" y="1032"/>
                </a:lnTo>
                <a:lnTo>
                  <a:pt x="107" y="1038"/>
                </a:lnTo>
                <a:lnTo>
                  <a:pt x="100" y="1045"/>
                </a:lnTo>
                <a:lnTo>
                  <a:pt x="92" y="1054"/>
                </a:lnTo>
                <a:lnTo>
                  <a:pt x="85" y="1064"/>
                </a:lnTo>
                <a:lnTo>
                  <a:pt x="87" y="1031"/>
                </a:lnTo>
                <a:lnTo>
                  <a:pt x="93" y="1000"/>
                </a:lnTo>
                <a:lnTo>
                  <a:pt x="103" y="968"/>
                </a:lnTo>
                <a:lnTo>
                  <a:pt x="113" y="933"/>
                </a:lnTo>
                <a:lnTo>
                  <a:pt x="117" y="913"/>
                </a:lnTo>
                <a:lnTo>
                  <a:pt x="120" y="890"/>
                </a:lnTo>
                <a:lnTo>
                  <a:pt x="122" y="865"/>
                </a:lnTo>
                <a:lnTo>
                  <a:pt x="122" y="839"/>
                </a:lnTo>
                <a:lnTo>
                  <a:pt x="120" y="811"/>
                </a:lnTo>
                <a:lnTo>
                  <a:pt x="114" y="784"/>
                </a:lnTo>
                <a:lnTo>
                  <a:pt x="105" y="758"/>
                </a:lnTo>
                <a:lnTo>
                  <a:pt x="91" y="734"/>
                </a:lnTo>
                <a:lnTo>
                  <a:pt x="75" y="710"/>
                </a:lnTo>
                <a:lnTo>
                  <a:pt x="58" y="683"/>
                </a:lnTo>
                <a:lnTo>
                  <a:pt x="42" y="655"/>
                </a:lnTo>
                <a:lnTo>
                  <a:pt x="27" y="625"/>
                </a:lnTo>
                <a:lnTo>
                  <a:pt x="14" y="595"/>
                </a:lnTo>
                <a:lnTo>
                  <a:pt x="5" y="566"/>
                </a:lnTo>
                <a:lnTo>
                  <a:pt x="0" y="536"/>
                </a:lnTo>
                <a:lnTo>
                  <a:pt x="0" y="507"/>
                </a:lnTo>
                <a:lnTo>
                  <a:pt x="5" y="480"/>
                </a:lnTo>
                <a:lnTo>
                  <a:pt x="11" y="455"/>
                </a:lnTo>
                <a:lnTo>
                  <a:pt x="17" y="432"/>
                </a:lnTo>
                <a:lnTo>
                  <a:pt x="27" y="410"/>
                </a:lnTo>
                <a:lnTo>
                  <a:pt x="35" y="390"/>
                </a:lnTo>
                <a:lnTo>
                  <a:pt x="45" y="372"/>
                </a:lnTo>
                <a:lnTo>
                  <a:pt x="54" y="355"/>
                </a:lnTo>
                <a:lnTo>
                  <a:pt x="62" y="339"/>
                </a:lnTo>
                <a:lnTo>
                  <a:pt x="70" y="321"/>
                </a:lnTo>
                <a:lnTo>
                  <a:pt x="78" y="302"/>
                </a:lnTo>
                <a:lnTo>
                  <a:pt x="88" y="281"/>
                </a:lnTo>
                <a:lnTo>
                  <a:pt x="95" y="259"/>
                </a:lnTo>
                <a:lnTo>
                  <a:pt x="102" y="238"/>
                </a:lnTo>
                <a:lnTo>
                  <a:pt x="106" y="218"/>
                </a:lnTo>
                <a:lnTo>
                  <a:pt x="110" y="199"/>
                </a:lnTo>
                <a:lnTo>
                  <a:pt x="110" y="184"/>
                </a:lnTo>
                <a:lnTo>
                  <a:pt x="119" y="180"/>
                </a:lnTo>
                <a:lnTo>
                  <a:pt x="133" y="173"/>
                </a:lnTo>
                <a:lnTo>
                  <a:pt x="149" y="165"/>
                </a:lnTo>
                <a:lnTo>
                  <a:pt x="167" y="155"/>
                </a:lnTo>
                <a:lnTo>
                  <a:pt x="184" y="146"/>
                </a:lnTo>
                <a:lnTo>
                  <a:pt x="201" y="138"/>
                </a:lnTo>
                <a:lnTo>
                  <a:pt x="213" y="131"/>
                </a:lnTo>
                <a:lnTo>
                  <a:pt x="221" y="12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3" name="Freeform 20"/>
          <p:cNvSpPr/>
          <p:nvPr/>
        </p:nvSpPr>
        <p:spPr>
          <a:xfrm>
            <a:off x="2014560" y="4151160"/>
            <a:ext cx="217440" cy="198720"/>
          </a:xfrm>
          <a:custGeom>
            <a:avLst/>
            <a:gdLst/>
            <a:ahLst/>
            <a:rect l="l" t="t" r="r" b="b"/>
            <a:pathLst>
              <a:path w="274" h="250">
                <a:moveTo>
                  <a:pt x="0" y="0"/>
                </a:moveTo>
                <a:lnTo>
                  <a:pt x="15" y="2"/>
                </a:lnTo>
                <a:lnTo>
                  <a:pt x="36" y="3"/>
                </a:lnTo>
                <a:lnTo>
                  <a:pt x="59" y="5"/>
                </a:lnTo>
                <a:lnTo>
                  <a:pt x="84" y="7"/>
                </a:lnTo>
                <a:lnTo>
                  <a:pt x="109" y="11"/>
                </a:lnTo>
                <a:lnTo>
                  <a:pt x="135" y="16"/>
                </a:lnTo>
                <a:lnTo>
                  <a:pt x="159" y="24"/>
                </a:lnTo>
                <a:lnTo>
                  <a:pt x="181" y="34"/>
                </a:lnTo>
                <a:lnTo>
                  <a:pt x="203" y="48"/>
                </a:lnTo>
                <a:lnTo>
                  <a:pt x="224" y="66"/>
                </a:lnTo>
                <a:lnTo>
                  <a:pt x="245" y="87"/>
                </a:lnTo>
                <a:lnTo>
                  <a:pt x="262" y="113"/>
                </a:lnTo>
                <a:lnTo>
                  <a:pt x="273" y="142"/>
                </a:lnTo>
                <a:lnTo>
                  <a:pt x="274" y="174"/>
                </a:lnTo>
                <a:lnTo>
                  <a:pt x="264" y="210"/>
                </a:lnTo>
                <a:lnTo>
                  <a:pt x="238" y="250"/>
                </a:lnTo>
                <a:lnTo>
                  <a:pt x="243" y="228"/>
                </a:lnTo>
                <a:lnTo>
                  <a:pt x="245" y="205"/>
                </a:lnTo>
                <a:lnTo>
                  <a:pt x="248" y="181"/>
                </a:lnTo>
                <a:lnTo>
                  <a:pt x="245" y="157"/>
                </a:lnTo>
                <a:lnTo>
                  <a:pt x="239" y="134"/>
                </a:lnTo>
                <a:lnTo>
                  <a:pt x="228" y="111"/>
                </a:lnTo>
                <a:lnTo>
                  <a:pt x="211" y="90"/>
                </a:lnTo>
                <a:lnTo>
                  <a:pt x="186" y="71"/>
                </a:lnTo>
                <a:lnTo>
                  <a:pt x="171" y="63"/>
                </a:lnTo>
                <a:lnTo>
                  <a:pt x="158" y="56"/>
                </a:lnTo>
                <a:lnTo>
                  <a:pt x="144" y="49"/>
                </a:lnTo>
                <a:lnTo>
                  <a:pt x="129" y="44"/>
                </a:lnTo>
                <a:lnTo>
                  <a:pt x="115" y="39"/>
                </a:lnTo>
                <a:lnTo>
                  <a:pt x="102" y="34"/>
                </a:lnTo>
                <a:lnTo>
                  <a:pt x="89" y="30"/>
                </a:lnTo>
                <a:lnTo>
                  <a:pt x="76" y="26"/>
                </a:lnTo>
                <a:lnTo>
                  <a:pt x="64" y="23"/>
                </a:lnTo>
                <a:lnTo>
                  <a:pt x="53" y="19"/>
                </a:lnTo>
                <a:lnTo>
                  <a:pt x="41" y="17"/>
                </a:lnTo>
                <a:lnTo>
                  <a:pt x="32" y="14"/>
                </a:lnTo>
                <a:lnTo>
                  <a:pt x="23" y="10"/>
                </a:lnTo>
                <a:lnTo>
                  <a:pt x="14" y="7"/>
                </a:lnTo>
                <a:lnTo>
                  <a:pt x="7" y="3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4" name="Freeform 21"/>
          <p:cNvSpPr/>
          <p:nvPr/>
        </p:nvSpPr>
        <p:spPr>
          <a:xfrm>
            <a:off x="2130480" y="4246560"/>
            <a:ext cx="169920" cy="185760"/>
          </a:xfrm>
          <a:custGeom>
            <a:avLst/>
            <a:gdLst/>
            <a:ahLst/>
            <a:rect l="l" t="t" r="r" b="b"/>
            <a:pathLst>
              <a:path w="214" h="235">
                <a:moveTo>
                  <a:pt x="0" y="235"/>
                </a:moveTo>
                <a:lnTo>
                  <a:pt x="11" y="221"/>
                </a:lnTo>
                <a:lnTo>
                  <a:pt x="21" y="209"/>
                </a:lnTo>
                <a:lnTo>
                  <a:pt x="32" y="200"/>
                </a:lnTo>
                <a:lnTo>
                  <a:pt x="45" y="192"/>
                </a:lnTo>
                <a:lnTo>
                  <a:pt x="60" y="184"/>
                </a:lnTo>
                <a:lnTo>
                  <a:pt x="76" y="176"/>
                </a:lnTo>
                <a:lnTo>
                  <a:pt x="93" y="168"/>
                </a:lnTo>
                <a:lnTo>
                  <a:pt x="114" y="158"/>
                </a:lnTo>
                <a:lnTo>
                  <a:pt x="135" y="145"/>
                </a:lnTo>
                <a:lnTo>
                  <a:pt x="155" y="131"/>
                </a:lnTo>
                <a:lnTo>
                  <a:pt x="171" y="114"/>
                </a:lnTo>
                <a:lnTo>
                  <a:pt x="182" y="95"/>
                </a:lnTo>
                <a:lnTo>
                  <a:pt x="190" y="75"/>
                </a:lnTo>
                <a:lnTo>
                  <a:pt x="193" y="52"/>
                </a:lnTo>
                <a:lnTo>
                  <a:pt x="188" y="26"/>
                </a:lnTo>
                <a:lnTo>
                  <a:pt x="178" y="0"/>
                </a:lnTo>
                <a:lnTo>
                  <a:pt x="194" y="15"/>
                </a:lnTo>
                <a:lnTo>
                  <a:pt x="205" y="34"/>
                </a:lnTo>
                <a:lnTo>
                  <a:pt x="212" y="58"/>
                </a:lnTo>
                <a:lnTo>
                  <a:pt x="214" y="83"/>
                </a:lnTo>
                <a:lnTo>
                  <a:pt x="211" y="108"/>
                </a:lnTo>
                <a:lnTo>
                  <a:pt x="201" y="132"/>
                </a:lnTo>
                <a:lnTo>
                  <a:pt x="182" y="154"/>
                </a:lnTo>
                <a:lnTo>
                  <a:pt x="157" y="170"/>
                </a:lnTo>
                <a:lnTo>
                  <a:pt x="137" y="178"/>
                </a:lnTo>
                <a:lnTo>
                  <a:pt x="116" y="186"/>
                </a:lnTo>
                <a:lnTo>
                  <a:pt x="97" y="193"/>
                </a:lnTo>
                <a:lnTo>
                  <a:pt x="76" y="199"/>
                </a:lnTo>
                <a:lnTo>
                  <a:pt x="57" y="207"/>
                </a:lnTo>
                <a:lnTo>
                  <a:pt x="37" y="214"/>
                </a:lnTo>
                <a:lnTo>
                  <a:pt x="17" y="223"/>
                </a:lnTo>
                <a:lnTo>
                  <a:pt x="0" y="23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5" name="Freeform 22"/>
          <p:cNvSpPr/>
          <p:nvPr/>
        </p:nvSpPr>
        <p:spPr>
          <a:xfrm>
            <a:off x="2214720" y="4098960"/>
            <a:ext cx="214200" cy="66600"/>
          </a:xfrm>
          <a:custGeom>
            <a:avLst/>
            <a:gdLst/>
            <a:ahLst/>
            <a:rect l="l" t="t" r="r" b="b"/>
            <a:pathLst>
              <a:path w="270" h="83">
                <a:moveTo>
                  <a:pt x="0" y="13"/>
                </a:moveTo>
                <a:lnTo>
                  <a:pt x="9" y="18"/>
                </a:lnTo>
                <a:lnTo>
                  <a:pt x="20" y="22"/>
                </a:lnTo>
                <a:lnTo>
                  <a:pt x="34" y="27"/>
                </a:lnTo>
                <a:lnTo>
                  <a:pt x="47" y="30"/>
                </a:lnTo>
                <a:lnTo>
                  <a:pt x="63" y="34"/>
                </a:lnTo>
                <a:lnTo>
                  <a:pt x="80" y="37"/>
                </a:lnTo>
                <a:lnTo>
                  <a:pt x="98" y="39"/>
                </a:lnTo>
                <a:lnTo>
                  <a:pt x="116" y="41"/>
                </a:lnTo>
                <a:lnTo>
                  <a:pt x="136" y="42"/>
                </a:lnTo>
                <a:lnTo>
                  <a:pt x="156" y="41"/>
                </a:lnTo>
                <a:lnTo>
                  <a:pt x="175" y="38"/>
                </a:lnTo>
                <a:lnTo>
                  <a:pt x="195" y="35"/>
                </a:lnTo>
                <a:lnTo>
                  <a:pt x="214" y="29"/>
                </a:lnTo>
                <a:lnTo>
                  <a:pt x="234" y="22"/>
                </a:lnTo>
                <a:lnTo>
                  <a:pt x="252" y="12"/>
                </a:lnTo>
                <a:lnTo>
                  <a:pt x="270" y="0"/>
                </a:lnTo>
                <a:lnTo>
                  <a:pt x="259" y="18"/>
                </a:lnTo>
                <a:lnTo>
                  <a:pt x="245" y="34"/>
                </a:lnTo>
                <a:lnTo>
                  <a:pt x="232" y="47"/>
                </a:lnTo>
                <a:lnTo>
                  <a:pt x="214" y="59"/>
                </a:lnTo>
                <a:lnTo>
                  <a:pt x="197" y="68"/>
                </a:lnTo>
                <a:lnTo>
                  <a:pt x="179" y="75"/>
                </a:lnTo>
                <a:lnTo>
                  <a:pt x="160" y="81"/>
                </a:lnTo>
                <a:lnTo>
                  <a:pt x="141" y="83"/>
                </a:lnTo>
                <a:lnTo>
                  <a:pt x="120" y="83"/>
                </a:lnTo>
                <a:lnTo>
                  <a:pt x="100" y="81"/>
                </a:lnTo>
                <a:lnTo>
                  <a:pt x="81" y="76"/>
                </a:lnTo>
                <a:lnTo>
                  <a:pt x="62" y="68"/>
                </a:lnTo>
                <a:lnTo>
                  <a:pt x="45" y="59"/>
                </a:lnTo>
                <a:lnTo>
                  <a:pt x="29" y="46"/>
                </a:lnTo>
                <a:lnTo>
                  <a:pt x="14" y="31"/>
                </a:lnTo>
                <a:lnTo>
                  <a:pt x="0" y="1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6" name="Freeform 23"/>
          <p:cNvSpPr/>
          <p:nvPr/>
        </p:nvSpPr>
        <p:spPr>
          <a:xfrm>
            <a:off x="2028960" y="3930480"/>
            <a:ext cx="145800" cy="209880"/>
          </a:xfrm>
          <a:custGeom>
            <a:avLst/>
            <a:gdLst/>
            <a:ahLst/>
            <a:rect l="l" t="t" r="r" b="b"/>
            <a:pathLst>
              <a:path w="185" h="264">
                <a:moveTo>
                  <a:pt x="0" y="75"/>
                </a:moveTo>
                <a:lnTo>
                  <a:pt x="22" y="144"/>
                </a:lnTo>
                <a:lnTo>
                  <a:pt x="99" y="102"/>
                </a:lnTo>
                <a:lnTo>
                  <a:pt x="96" y="117"/>
                </a:lnTo>
                <a:lnTo>
                  <a:pt x="92" y="134"/>
                </a:lnTo>
                <a:lnTo>
                  <a:pt x="90" y="153"/>
                </a:lnTo>
                <a:lnTo>
                  <a:pt x="90" y="175"/>
                </a:lnTo>
                <a:lnTo>
                  <a:pt x="91" y="197"/>
                </a:lnTo>
                <a:lnTo>
                  <a:pt x="97" y="220"/>
                </a:lnTo>
                <a:lnTo>
                  <a:pt x="106" y="242"/>
                </a:lnTo>
                <a:lnTo>
                  <a:pt x="120" y="264"/>
                </a:lnTo>
                <a:lnTo>
                  <a:pt x="171" y="243"/>
                </a:lnTo>
                <a:lnTo>
                  <a:pt x="165" y="226"/>
                </a:lnTo>
                <a:lnTo>
                  <a:pt x="158" y="208"/>
                </a:lnTo>
                <a:lnTo>
                  <a:pt x="151" y="188"/>
                </a:lnTo>
                <a:lnTo>
                  <a:pt x="147" y="166"/>
                </a:lnTo>
                <a:lnTo>
                  <a:pt x="147" y="143"/>
                </a:lnTo>
                <a:lnTo>
                  <a:pt x="151" y="119"/>
                </a:lnTo>
                <a:lnTo>
                  <a:pt x="164" y="94"/>
                </a:lnTo>
                <a:lnTo>
                  <a:pt x="185" y="67"/>
                </a:lnTo>
                <a:lnTo>
                  <a:pt x="163" y="0"/>
                </a:lnTo>
                <a:lnTo>
                  <a:pt x="0" y="7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7" name="Freeform 24"/>
          <p:cNvSpPr/>
          <p:nvPr/>
        </p:nvSpPr>
        <p:spPr>
          <a:xfrm>
            <a:off x="2027160" y="4530600"/>
            <a:ext cx="490680" cy="84240"/>
          </a:xfrm>
          <a:custGeom>
            <a:avLst/>
            <a:gdLst/>
            <a:ahLst/>
            <a:rect l="l" t="t" r="r" b="b"/>
            <a:pathLst>
              <a:path w="617" h="106">
                <a:moveTo>
                  <a:pt x="0" y="47"/>
                </a:moveTo>
                <a:lnTo>
                  <a:pt x="7" y="45"/>
                </a:lnTo>
                <a:lnTo>
                  <a:pt x="16" y="41"/>
                </a:lnTo>
                <a:lnTo>
                  <a:pt x="25" y="38"/>
                </a:lnTo>
                <a:lnTo>
                  <a:pt x="37" y="33"/>
                </a:lnTo>
                <a:lnTo>
                  <a:pt x="48" y="30"/>
                </a:lnTo>
                <a:lnTo>
                  <a:pt x="61" y="27"/>
                </a:lnTo>
                <a:lnTo>
                  <a:pt x="74" y="23"/>
                </a:lnTo>
                <a:lnTo>
                  <a:pt x="88" y="20"/>
                </a:lnTo>
                <a:lnTo>
                  <a:pt x="101" y="17"/>
                </a:lnTo>
                <a:lnTo>
                  <a:pt x="115" y="15"/>
                </a:lnTo>
                <a:lnTo>
                  <a:pt x="129" y="14"/>
                </a:lnTo>
                <a:lnTo>
                  <a:pt x="143" y="14"/>
                </a:lnTo>
                <a:lnTo>
                  <a:pt x="155" y="14"/>
                </a:lnTo>
                <a:lnTo>
                  <a:pt x="168" y="16"/>
                </a:lnTo>
                <a:lnTo>
                  <a:pt x="181" y="18"/>
                </a:lnTo>
                <a:lnTo>
                  <a:pt x="192" y="23"/>
                </a:lnTo>
                <a:lnTo>
                  <a:pt x="204" y="28"/>
                </a:lnTo>
                <a:lnTo>
                  <a:pt x="217" y="32"/>
                </a:lnTo>
                <a:lnTo>
                  <a:pt x="229" y="38"/>
                </a:lnTo>
                <a:lnTo>
                  <a:pt x="244" y="41"/>
                </a:lnTo>
                <a:lnTo>
                  <a:pt x="259" y="46"/>
                </a:lnTo>
                <a:lnTo>
                  <a:pt x="275" y="50"/>
                </a:lnTo>
                <a:lnTo>
                  <a:pt x="291" y="53"/>
                </a:lnTo>
                <a:lnTo>
                  <a:pt x="309" y="56"/>
                </a:lnTo>
                <a:lnTo>
                  <a:pt x="325" y="59"/>
                </a:lnTo>
                <a:lnTo>
                  <a:pt x="342" y="61"/>
                </a:lnTo>
                <a:lnTo>
                  <a:pt x="359" y="63"/>
                </a:lnTo>
                <a:lnTo>
                  <a:pt x="376" y="63"/>
                </a:lnTo>
                <a:lnTo>
                  <a:pt x="392" y="63"/>
                </a:lnTo>
                <a:lnTo>
                  <a:pt x="408" y="63"/>
                </a:lnTo>
                <a:lnTo>
                  <a:pt x="423" y="62"/>
                </a:lnTo>
                <a:lnTo>
                  <a:pt x="437" y="60"/>
                </a:lnTo>
                <a:lnTo>
                  <a:pt x="463" y="55"/>
                </a:lnTo>
                <a:lnTo>
                  <a:pt x="488" y="52"/>
                </a:lnTo>
                <a:lnTo>
                  <a:pt x="514" y="48"/>
                </a:lnTo>
                <a:lnTo>
                  <a:pt x="538" y="44"/>
                </a:lnTo>
                <a:lnTo>
                  <a:pt x="560" y="37"/>
                </a:lnTo>
                <a:lnTo>
                  <a:pt x="582" y="28"/>
                </a:lnTo>
                <a:lnTo>
                  <a:pt x="600" y="16"/>
                </a:lnTo>
                <a:lnTo>
                  <a:pt x="617" y="0"/>
                </a:lnTo>
                <a:lnTo>
                  <a:pt x="617" y="48"/>
                </a:lnTo>
                <a:lnTo>
                  <a:pt x="609" y="53"/>
                </a:lnTo>
                <a:lnTo>
                  <a:pt x="597" y="59"/>
                </a:lnTo>
                <a:lnTo>
                  <a:pt x="581" y="67"/>
                </a:lnTo>
                <a:lnTo>
                  <a:pt x="561" y="76"/>
                </a:lnTo>
                <a:lnTo>
                  <a:pt x="539" y="85"/>
                </a:lnTo>
                <a:lnTo>
                  <a:pt x="515" y="93"/>
                </a:lnTo>
                <a:lnTo>
                  <a:pt x="490" y="99"/>
                </a:lnTo>
                <a:lnTo>
                  <a:pt x="463" y="104"/>
                </a:lnTo>
                <a:lnTo>
                  <a:pt x="449" y="105"/>
                </a:lnTo>
                <a:lnTo>
                  <a:pt x="434" y="106"/>
                </a:lnTo>
                <a:lnTo>
                  <a:pt x="418" y="106"/>
                </a:lnTo>
                <a:lnTo>
                  <a:pt x="402" y="106"/>
                </a:lnTo>
                <a:lnTo>
                  <a:pt x="385" y="106"/>
                </a:lnTo>
                <a:lnTo>
                  <a:pt x="367" y="106"/>
                </a:lnTo>
                <a:lnTo>
                  <a:pt x="350" y="105"/>
                </a:lnTo>
                <a:lnTo>
                  <a:pt x="332" y="103"/>
                </a:lnTo>
                <a:lnTo>
                  <a:pt x="314" y="101"/>
                </a:lnTo>
                <a:lnTo>
                  <a:pt x="297" y="99"/>
                </a:lnTo>
                <a:lnTo>
                  <a:pt x="280" y="96"/>
                </a:lnTo>
                <a:lnTo>
                  <a:pt x="264" y="92"/>
                </a:lnTo>
                <a:lnTo>
                  <a:pt x="249" y="88"/>
                </a:lnTo>
                <a:lnTo>
                  <a:pt x="234" y="83"/>
                </a:lnTo>
                <a:lnTo>
                  <a:pt x="220" y="77"/>
                </a:lnTo>
                <a:lnTo>
                  <a:pt x="207" y="71"/>
                </a:lnTo>
                <a:lnTo>
                  <a:pt x="196" y="66"/>
                </a:lnTo>
                <a:lnTo>
                  <a:pt x="183" y="60"/>
                </a:lnTo>
                <a:lnTo>
                  <a:pt x="170" y="55"/>
                </a:lnTo>
                <a:lnTo>
                  <a:pt x="157" y="52"/>
                </a:lnTo>
                <a:lnTo>
                  <a:pt x="144" y="48"/>
                </a:lnTo>
                <a:lnTo>
                  <a:pt x="130" y="46"/>
                </a:lnTo>
                <a:lnTo>
                  <a:pt x="117" y="45"/>
                </a:lnTo>
                <a:lnTo>
                  <a:pt x="104" y="44"/>
                </a:lnTo>
                <a:lnTo>
                  <a:pt x="90" y="43"/>
                </a:lnTo>
                <a:lnTo>
                  <a:pt x="77" y="43"/>
                </a:lnTo>
                <a:lnTo>
                  <a:pt x="63" y="43"/>
                </a:lnTo>
                <a:lnTo>
                  <a:pt x="51" y="43"/>
                </a:lnTo>
                <a:lnTo>
                  <a:pt x="37" y="44"/>
                </a:lnTo>
                <a:lnTo>
                  <a:pt x="24" y="45"/>
                </a:lnTo>
                <a:lnTo>
                  <a:pt x="11" y="46"/>
                </a:lnTo>
                <a:lnTo>
                  <a:pt x="0" y="4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8" name="Freeform 25"/>
          <p:cNvSpPr/>
          <p:nvPr/>
        </p:nvSpPr>
        <p:spPr>
          <a:xfrm>
            <a:off x="2349360" y="4637160"/>
            <a:ext cx="38160" cy="264960"/>
          </a:xfrm>
          <a:custGeom>
            <a:avLst/>
            <a:gdLst/>
            <a:ahLst/>
            <a:rect l="l" t="t" r="r" b="b"/>
            <a:pathLst>
              <a:path w="47" h="333">
                <a:moveTo>
                  <a:pt x="13" y="0"/>
                </a:moveTo>
                <a:lnTo>
                  <a:pt x="19" y="26"/>
                </a:lnTo>
                <a:lnTo>
                  <a:pt x="23" y="70"/>
                </a:lnTo>
                <a:lnTo>
                  <a:pt x="20" y="122"/>
                </a:lnTo>
                <a:lnTo>
                  <a:pt x="10" y="170"/>
                </a:lnTo>
                <a:lnTo>
                  <a:pt x="1" y="213"/>
                </a:lnTo>
                <a:lnTo>
                  <a:pt x="0" y="253"/>
                </a:lnTo>
                <a:lnTo>
                  <a:pt x="7" y="294"/>
                </a:lnTo>
                <a:lnTo>
                  <a:pt x="22" y="333"/>
                </a:lnTo>
                <a:lnTo>
                  <a:pt x="18" y="298"/>
                </a:lnTo>
                <a:lnTo>
                  <a:pt x="17" y="257"/>
                </a:lnTo>
                <a:lnTo>
                  <a:pt x="19" y="218"/>
                </a:lnTo>
                <a:lnTo>
                  <a:pt x="30" y="184"/>
                </a:lnTo>
                <a:lnTo>
                  <a:pt x="41" y="148"/>
                </a:lnTo>
                <a:lnTo>
                  <a:pt x="47" y="101"/>
                </a:lnTo>
                <a:lnTo>
                  <a:pt x="46" y="49"/>
                </a:lnTo>
                <a:lnTo>
                  <a:pt x="40" y="0"/>
                </a:lnTo>
                <a:lnTo>
                  <a:pt x="13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9" name="Freeform 26"/>
          <p:cNvSpPr/>
          <p:nvPr/>
        </p:nvSpPr>
        <p:spPr>
          <a:xfrm>
            <a:off x="2486160" y="4606920"/>
            <a:ext cx="55440" cy="179280"/>
          </a:xfrm>
          <a:custGeom>
            <a:avLst/>
            <a:gdLst/>
            <a:ahLst/>
            <a:rect l="l" t="t" r="r" b="b"/>
            <a:pathLst>
              <a:path w="70" h="225">
                <a:moveTo>
                  <a:pt x="22" y="0"/>
                </a:moveTo>
                <a:lnTo>
                  <a:pt x="0" y="8"/>
                </a:lnTo>
                <a:lnTo>
                  <a:pt x="8" y="24"/>
                </a:lnTo>
                <a:lnTo>
                  <a:pt x="17" y="43"/>
                </a:lnTo>
                <a:lnTo>
                  <a:pt x="28" y="66"/>
                </a:lnTo>
                <a:lnTo>
                  <a:pt x="39" y="92"/>
                </a:lnTo>
                <a:lnTo>
                  <a:pt x="48" y="122"/>
                </a:lnTo>
                <a:lnTo>
                  <a:pt x="54" y="154"/>
                </a:lnTo>
                <a:lnTo>
                  <a:pt x="57" y="189"/>
                </a:lnTo>
                <a:lnTo>
                  <a:pt x="54" y="225"/>
                </a:lnTo>
                <a:lnTo>
                  <a:pt x="65" y="200"/>
                </a:lnTo>
                <a:lnTo>
                  <a:pt x="70" y="172"/>
                </a:lnTo>
                <a:lnTo>
                  <a:pt x="70" y="142"/>
                </a:lnTo>
                <a:lnTo>
                  <a:pt x="67" y="111"/>
                </a:lnTo>
                <a:lnTo>
                  <a:pt x="59" y="81"/>
                </a:lnTo>
                <a:lnTo>
                  <a:pt x="48" y="51"/>
                </a:lnTo>
                <a:lnTo>
                  <a:pt x="36" y="24"/>
                </a:lnTo>
                <a:lnTo>
                  <a:pt x="22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0" name="Freeform 27"/>
          <p:cNvSpPr/>
          <p:nvPr/>
        </p:nvSpPr>
        <p:spPr>
          <a:xfrm>
            <a:off x="2206800" y="4621320"/>
            <a:ext cx="36360" cy="177840"/>
          </a:xfrm>
          <a:custGeom>
            <a:avLst/>
            <a:gdLst/>
            <a:ahLst/>
            <a:rect l="l" t="t" r="r" b="b"/>
            <a:pathLst>
              <a:path w="47" h="224">
                <a:moveTo>
                  <a:pt x="45" y="13"/>
                </a:moveTo>
                <a:lnTo>
                  <a:pt x="46" y="31"/>
                </a:lnTo>
                <a:lnTo>
                  <a:pt x="47" y="54"/>
                </a:lnTo>
                <a:lnTo>
                  <a:pt x="45" y="82"/>
                </a:lnTo>
                <a:lnTo>
                  <a:pt x="41" y="111"/>
                </a:lnTo>
                <a:lnTo>
                  <a:pt x="35" y="142"/>
                </a:lnTo>
                <a:lnTo>
                  <a:pt x="26" y="172"/>
                </a:lnTo>
                <a:lnTo>
                  <a:pt x="15" y="199"/>
                </a:lnTo>
                <a:lnTo>
                  <a:pt x="0" y="224"/>
                </a:lnTo>
                <a:lnTo>
                  <a:pt x="8" y="174"/>
                </a:lnTo>
                <a:lnTo>
                  <a:pt x="17" y="116"/>
                </a:lnTo>
                <a:lnTo>
                  <a:pt x="22" y="57"/>
                </a:lnTo>
                <a:lnTo>
                  <a:pt x="18" y="0"/>
                </a:lnTo>
                <a:lnTo>
                  <a:pt x="45" y="1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1" name="Freeform 28"/>
          <p:cNvSpPr/>
          <p:nvPr/>
        </p:nvSpPr>
        <p:spPr>
          <a:xfrm>
            <a:off x="1978200" y="4597560"/>
            <a:ext cx="93600" cy="271440"/>
          </a:xfrm>
          <a:custGeom>
            <a:avLst/>
            <a:gdLst/>
            <a:ahLst/>
            <a:rect l="l" t="t" r="r" b="b"/>
            <a:pathLst>
              <a:path w="117" h="341">
                <a:moveTo>
                  <a:pt x="117" y="4"/>
                </a:moveTo>
                <a:lnTo>
                  <a:pt x="90" y="0"/>
                </a:lnTo>
                <a:lnTo>
                  <a:pt x="78" y="14"/>
                </a:lnTo>
                <a:lnTo>
                  <a:pt x="66" y="34"/>
                </a:lnTo>
                <a:lnTo>
                  <a:pt x="54" y="57"/>
                </a:lnTo>
                <a:lnTo>
                  <a:pt x="45" y="82"/>
                </a:lnTo>
                <a:lnTo>
                  <a:pt x="36" y="111"/>
                </a:lnTo>
                <a:lnTo>
                  <a:pt x="30" y="140"/>
                </a:lnTo>
                <a:lnTo>
                  <a:pt x="26" y="169"/>
                </a:lnTo>
                <a:lnTo>
                  <a:pt x="26" y="198"/>
                </a:lnTo>
                <a:lnTo>
                  <a:pt x="29" y="247"/>
                </a:lnTo>
                <a:lnTo>
                  <a:pt x="25" y="285"/>
                </a:lnTo>
                <a:lnTo>
                  <a:pt x="17" y="315"/>
                </a:lnTo>
                <a:lnTo>
                  <a:pt x="0" y="341"/>
                </a:lnTo>
                <a:lnTo>
                  <a:pt x="15" y="331"/>
                </a:lnTo>
                <a:lnTo>
                  <a:pt x="26" y="318"/>
                </a:lnTo>
                <a:lnTo>
                  <a:pt x="34" y="302"/>
                </a:lnTo>
                <a:lnTo>
                  <a:pt x="40" y="282"/>
                </a:lnTo>
                <a:lnTo>
                  <a:pt x="44" y="263"/>
                </a:lnTo>
                <a:lnTo>
                  <a:pt x="45" y="241"/>
                </a:lnTo>
                <a:lnTo>
                  <a:pt x="45" y="219"/>
                </a:lnTo>
                <a:lnTo>
                  <a:pt x="45" y="198"/>
                </a:lnTo>
                <a:lnTo>
                  <a:pt x="45" y="175"/>
                </a:lnTo>
                <a:lnTo>
                  <a:pt x="48" y="148"/>
                </a:lnTo>
                <a:lnTo>
                  <a:pt x="55" y="119"/>
                </a:lnTo>
                <a:lnTo>
                  <a:pt x="63" y="90"/>
                </a:lnTo>
                <a:lnTo>
                  <a:pt x="74" y="62"/>
                </a:lnTo>
                <a:lnTo>
                  <a:pt x="86" y="37"/>
                </a:lnTo>
                <a:lnTo>
                  <a:pt x="101" y="17"/>
                </a:lnTo>
                <a:lnTo>
                  <a:pt x="117" y="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2" name="Freeform 29"/>
          <p:cNvSpPr/>
          <p:nvPr/>
        </p:nvSpPr>
        <p:spPr>
          <a:xfrm>
            <a:off x="1639800" y="5267160"/>
            <a:ext cx="316080" cy="648000"/>
          </a:xfrm>
          <a:custGeom>
            <a:avLst/>
            <a:gdLst/>
            <a:ahLst/>
            <a:rect l="l" t="t" r="r" b="b"/>
            <a:pathLst>
              <a:path w="397" h="817">
                <a:moveTo>
                  <a:pt x="14" y="284"/>
                </a:moveTo>
                <a:lnTo>
                  <a:pt x="10" y="300"/>
                </a:lnTo>
                <a:lnTo>
                  <a:pt x="5" y="316"/>
                </a:lnTo>
                <a:lnTo>
                  <a:pt x="1" y="336"/>
                </a:lnTo>
                <a:lnTo>
                  <a:pt x="0" y="356"/>
                </a:lnTo>
                <a:lnTo>
                  <a:pt x="0" y="382"/>
                </a:lnTo>
                <a:lnTo>
                  <a:pt x="4" y="411"/>
                </a:lnTo>
                <a:lnTo>
                  <a:pt x="14" y="445"/>
                </a:lnTo>
                <a:lnTo>
                  <a:pt x="30" y="484"/>
                </a:lnTo>
                <a:lnTo>
                  <a:pt x="46" y="519"/>
                </a:lnTo>
                <a:lnTo>
                  <a:pt x="64" y="563"/>
                </a:lnTo>
                <a:lnTo>
                  <a:pt x="86" y="610"/>
                </a:lnTo>
                <a:lnTo>
                  <a:pt x="108" y="661"/>
                </a:lnTo>
                <a:lnTo>
                  <a:pt x="130" y="710"/>
                </a:lnTo>
                <a:lnTo>
                  <a:pt x="148" y="754"/>
                </a:lnTo>
                <a:lnTo>
                  <a:pt x="163" y="791"/>
                </a:lnTo>
                <a:lnTo>
                  <a:pt x="172" y="817"/>
                </a:lnTo>
                <a:lnTo>
                  <a:pt x="189" y="817"/>
                </a:lnTo>
                <a:lnTo>
                  <a:pt x="205" y="816"/>
                </a:lnTo>
                <a:lnTo>
                  <a:pt x="220" y="815"/>
                </a:lnTo>
                <a:lnTo>
                  <a:pt x="236" y="810"/>
                </a:lnTo>
                <a:lnTo>
                  <a:pt x="251" y="805"/>
                </a:lnTo>
                <a:lnTo>
                  <a:pt x="267" y="796"/>
                </a:lnTo>
                <a:lnTo>
                  <a:pt x="284" y="785"/>
                </a:lnTo>
                <a:lnTo>
                  <a:pt x="302" y="769"/>
                </a:lnTo>
                <a:lnTo>
                  <a:pt x="303" y="740"/>
                </a:lnTo>
                <a:lnTo>
                  <a:pt x="304" y="700"/>
                </a:lnTo>
                <a:lnTo>
                  <a:pt x="304" y="650"/>
                </a:lnTo>
                <a:lnTo>
                  <a:pt x="300" y="595"/>
                </a:lnTo>
                <a:lnTo>
                  <a:pt x="295" y="538"/>
                </a:lnTo>
                <a:lnTo>
                  <a:pt x="285" y="482"/>
                </a:lnTo>
                <a:lnTo>
                  <a:pt x="270" y="431"/>
                </a:lnTo>
                <a:lnTo>
                  <a:pt x="250" y="389"/>
                </a:lnTo>
                <a:lnTo>
                  <a:pt x="243" y="398"/>
                </a:lnTo>
                <a:lnTo>
                  <a:pt x="236" y="406"/>
                </a:lnTo>
                <a:lnTo>
                  <a:pt x="229" y="413"/>
                </a:lnTo>
                <a:lnTo>
                  <a:pt x="221" y="420"/>
                </a:lnTo>
                <a:lnTo>
                  <a:pt x="210" y="426"/>
                </a:lnTo>
                <a:lnTo>
                  <a:pt x="198" y="430"/>
                </a:lnTo>
                <a:lnTo>
                  <a:pt x="182" y="434"/>
                </a:lnTo>
                <a:lnTo>
                  <a:pt x="161" y="436"/>
                </a:lnTo>
                <a:lnTo>
                  <a:pt x="175" y="424"/>
                </a:lnTo>
                <a:lnTo>
                  <a:pt x="190" y="411"/>
                </a:lnTo>
                <a:lnTo>
                  <a:pt x="205" y="398"/>
                </a:lnTo>
                <a:lnTo>
                  <a:pt x="219" y="383"/>
                </a:lnTo>
                <a:lnTo>
                  <a:pt x="230" y="368"/>
                </a:lnTo>
                <a:lnTo>
                  <a:pt x="239" y="353"/>
                </a:lnTo>
                <a:lnTo>
                  <a:pt x="244" y="337"/>
                </a:lnTo>
                <a:lnTo>
                  <a:pt x="245" y="321"/>
                </a:lnTo>
                <a:lnTo>
                  <a:pt x="245" y="303"/>
                </a:lnTo>
                <a:lnTo>
                  <a:pt x="249" y="286"/>
                </a:lnTo>
                <a:lnTo>
                  <a:pt x="253" y="269"/>
                </a:lnTo>
                <a:lnTo>
                  <a:pt x="261" y="250"/>
                </a:lnTo>
                <a:lnTo>
                  <a:pt x="270" y="233"/>
                </a:lnTo>
                <a:lnTo>
                  <a:pt x="282" y="216"/>
                </a:lnTo>
                <a:lnTo>
                  <a:pt x="295" y="200"/>
                </a:lnTo>
                <a:lnTo>
                  <a:pt x="310" y="185"/>
                </a:lnTo>
                <a:lnTo>
                  <a:pt x="325" y="170"/>
                </a:lnTo>
                <a:lnTo>
                  <a:pt x="338" y="156"/>
                </a:lnTo>
                <a:lnTo>
                  <a:pt x="351" y="143"/>
                </a:lnTo>
                <a:lnTo>
                  <a:pt x="363" y="129"/>
                </a:lnTo>
                <a:lnTo>
                  <a:pt x="373" y="114"/>
                </a:lnTo>
                <a:lnTo>
                  <a:pt x="382" y="99"/>
                </a:lnTo>
                <a:lnTo>
                  <a:pt x="390" y="83"/>
                </a:lnTo>
                <a:lnTo>
                  <a:pt x="397" y="65"/>
                </a:lnTo>
                <a:lnTo>
                  <a:pt x="383" y="68"/>
                </a:lnTo>
                <a:lnTo>
                  <a:pt x="368" y="71"/>
                </a:lnTo>
                <a:lnTo>
                  <a:pt x="353" y="73"/>
                </a:lnTo>
                <a:lnTo>
                  <a:pt x="336" y="75"/>
                </a:lnTo>
                <a:lnTo>
                  <a:pt x="318" y="75"/>
                </a:lnTo>
                <a:lnTo>
                  <a:pt x="299" y="75"/>
                </a:lnTo>
                <a:lnTo>
                  <a:pt x="280" y="74"/>
                </a:lnTo>
                <a:lnTo>
                  <a:pt x="260" y="72"/>
                </a:lnTo>
                <a:lnTo>
                  <a:pt x="239" y="68"/>
                </a:lnTo>
                <a:lnTo>
                  <a:pt x="220" y="63"/>
                </a:lnTo>
                <a:lnTo>
                  <a:pt x="199" y="57"/>
                </a:lnTo>
                <a:lnTo>
                  <a:pt x="178" y="49"/>
                </a:lnTo>
                <a:lnTo>
                  <a:pt x="159" y="40"/>
                </a:lnTo>
                <a:lnTo>
                  <a:pt x="139" y="28"/>
                </a:lnTo>
                <a:lnTo>
                  <a:pt x="119" y="15"/>
                </a:lnTo>
                <a:lnTo>
                  <a:pt x="101" y="0"/>
                </a:lnTo>
                <a:lnTo>
                  <a:pt x="92" y="23"/>
                </a:lnTo>
                <a:lnTo>
                  <a:pt x="80" y="57"/>
                </a:lnTo>
                <a:lnTo>
                  <a:pt x="68" y="96"/>
                </a:lnTo>
                <a:lnTo>
                  <a:pt x="54" y="138"/>
                </a:lnTo>
                <a:lnTo>
                  <a:pt x="41" y="180"/>
                </a:lnTo>
                <a:lnTo>
                  <a:pt x="30" y="222"/>
                </a:lnTo>
                <a:lnTo>
                  <a:pt x="19" y="256"/>
                </a:lnTo>
                <a:lnTo>
                  <a:pt x="14" y="28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3" name="Freeform 30"/>
          <p:cNvSpPr/>
          <p:nvPr/>
        </p:nvSpPr>
        <p:spPr>
          <a:xfrm>
            <a:off x="1776240" y="5881680"/>
            <a:ext cx="149400" cy="144360"/>
          </a:xfrm>
          <a:custGeom>
            <a:avLst/>
            <a:gdLst/>
            <a:ahLst/>
            <a:rect l="l" t="t" r="r" b="b"/>
            <a:pathLst>
              <a:path w="189" h="183">
                <a:moveTo>
                  <a:pt x="157" y="0"/>
                </a:moveTo>
                <a:lnTo>
                  <a:pt x="149" y="11"/>
                </a:lnTo>
                <a:lnTo>
                  <a:pt x="136" y="25"/>
                </a:lnTo>
                <a:lnTo>
                  <a:pt x="120" y="38"/>
                </a:lnTo>
                <a:lnTo>
                  <a:pt x="100" y="49"/>
                </a:lnTo>
                <a:lnTo>
                  <a:pt x="79" y="60"/>
                </a:lnTo>
                <a:lnTo>
                  <a:pt x="54" y="66"/>
                </a:lnTo>
                <a:lnTo>
                  <a:pt x="29" y="69"/>
                </a:lnTo>
                <a:lnTo>
                  <a:pt x="2" y="66"/>
                </a:lnTo>
                <a:lnTo>
                  <a:pt x="0" y="79"/>
                </a:lnTo>
                <a:lnTo>
                  <a:pt x="5" y="96"/>
                </a:lnTo>
                <a:lnTo>
                  <a:pt x="12" y="118"/>
                </a:lnTo>
                <a:lnTo>
                  <a:pt x="19" y="141"/>
                </a:lnTo>
                <a:lnTo>
                  <a:pt x="21" y="153"/>
                </a:lnTo>
                <a:lnTo>
                  <a:pt x="21" y="162"/>
                </a:lnTo>
                <a:lnTo>
                  <a:pt x="21" y="169"/>
                </a:lnTo>
                <a:lnTo>
                  <a:pt x="22" y="175"/>
                </a:lnTo>
                <a:lnTo>
                  <a:pt x="23" y="179"/>
                </a:lnTo>
                <a:lnTo>
                  <a:pt x="28" y="182"/>
                </a:lnTo>
                <a:lnTo>
                  <a:pt x="35" y="183"/>
                </a:lnTo>
                <a:lnTo>
                  <a:pt x="45" y="182"/>
                </a:lnTo>
                <a:lnTo>
                  <a:pt x="57" y="178"/>
                </a:lnTo>
                <a:lnTo>
                  <a:pt x="67" y="174"/>
                </a:lnTo>
                <a:lnTo>
                  <a:pt x="76" y="168"/>
                </a:lnTo>
                <a:lnTo>
                  <a:pt x="83" y="162"/>
                </a:lnTo>
                <a:lnTo>
                  <a:pt x="90" y="156"/>
                </a:lnTo>
                <a:lnTo>
                  <a:pt x="97" y="152"/>
                </a:lnTo>
                <a:lnTo>
                  <a:pt x="104" y="148"/>
                </a:lnTo>
                <a:lnTo>
                  <a:pt x="112" y="147"/>
                </a:lnTo>
                <a:lnTo>
                  <a:pt x="121" y="147"/>
                </a:lnTo>
                <a:lnTo>
                  <a:pt x="132" y="145"/>
                </a:lnTo>
                <a:lnTo>
                  <a:pt x="143" y="142"/>
                </a:lnTo>
                <a:lnTo>
                  <a:pt x="155" y="137"/>
                </a:lnTo>
                <a:lnTo>
                  <a:pt x="166" y="129"/>
                </a:lnTo>
                <a:lnTo>
                  <a:pt x="175" y="116"/>
                </a:lnTo>
                <a:lnTo>
                  <a:pt x="183" y="101"/>
                </a:lnTo>
                <a:lnTo>
                  <a:pt x="189" y="80"/>
                </a:lnTo>
                <a:lnTo>
                  <a:pt x="178" y="88"/>
                </a:lnTo>
                <a:lnTo>
                  <a:pt x="165" y="98"/>
                </a:lnTo>
                <a:lnTo>
                  <a:pt x="150" y="106"/>
                </a:lnTo>
                <a:lnTo>
                  <a:pt x="133" y="113"/>
                </a:lnTo>
                <a:lnTo>
                  <a:pt x="114" y="118"/>
                </a:lnTo>
                <a:lnTo>
                  <a:pt x="93" y="121"/>
                </a:lnTo>
                <a:lnTo>
                  <a:pt x="73" y="121"/>
                </a:lnTo>
                <a:lnTo>
                  <a:pt x="50" y="117"/>
                </a:lnTo>
                <a:lnTo>
                  <a:pt x="66" y="113"/>
                </a:lnTo>
                <a:lnTo>
                  <a:pt x="83" y="107"/>
                </a:lnTo>
                <a:lnTo>
                  <a:pt x="102" y="100"/>
                </a:lnTo>
                <a:lnTo>
                  <a:pt x="120" y="91"/>
                </a:lnTo>
                <a:lnTo>
                  <a:pt x="137" y="81"/>
                </a:lnTo>
                <a:lnTo>
                  <a:pt x="152" y="69"/>
                </a:lnTo>
                <a:lnTo>
                  <a:pt x="164" y="53"/>
                </a:lnTo>
                <a:lnTo>
                  <a:pt x="171" y="34"/>
                </a:lnTo>
                <a:lnTo>
                  <a:pt x="172" y="25"/>
                </a:lnTo>
                <a:lnTo>
                  <a:pt x="170" y="16"/>
                </a:lnTo>
                <a:lnTo>
                  <a:pt x="165" y="7"/>
                </a:lnTo>
                <a:lnTo>
                  <a:pt x="157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4" name="Freeform 31"/>
          <p:cNvSpPr/>
          <p:nvPr/>
        </p:nvSpPr>
        <p:spPr>
          <a:xfrm>
            <a:off x="1731960" y="5965920"/>
            <a:ext cx="324000" cy="411120"/>
          </a:xfrm>
          <a:custGeom>
            <a:avLst/>
            <a:gdLst/>
            <a:ahLst/>
            <a:rect l="l" t="t" r="r" b="b"/>
            <a:pathLst>
              <a:path w="409" h="517">
                <a:moveTo>
                  <a:pt x="289" y="0"/>
                </a:moveTo>
                <a:lnTo>
                  <a:pt x="288" y="10"/>
                </a:lnTo>
                <a:lnTo>
                  <a:pt x="284" y="22"/>
                </a:lnTo>
                <a:lnTo>
                  <a:pt x="279" y="33"/>
                </a:lnTo>
                <a:lnTo>
                  <a:pt x="269" y="45"/>
                </a:lnTo>
                <a:lnTo>
                  <a:pt x="259" y="56"/>
                </a:lnTo>
                <a:lnTo>
                  <a:pt x="245" y="65"/>
                </a:lnTo>
                <a:lnTo>
                  <a:pt x="230" y="71"/>
                </a:lnTo>
                <a:lnTo>
                  <a:pt x="214" y="75"/>
                </a:lnTo>
                <a:lnTo>
                  <a:pt x="216" y="90"/>
                </a:lnTo>
                <a:lnTo>
                  <a:pt x="215" y="108"/>
                </a:lnTo>
                <a:lnTo>
                  <a:pt x="211" y="128"/>
                </a:lnTo>
                <a:lnTo>
                  <a:pt x="204" y="144"/>
                </a:lnTo>
                <a:lnTo>
                  <a:pt x="214" y="150"/>
                </a:lnTo>
                <a:lnTo>
                  <a:pt x="223" y="156"/>
                </a:lnTo>
                <a:lnTo>
                  <a:pt x="231" y="166"/>
                </a:lnTo>
                <a:lnTo>
                  <a:pt x="238" y="177"/>
                </a:lnTo>
                <a:lnTo>
                  <a:pt x="243" y="189"/>
                </a:lnTo>
                <a:lnTo>
                  <a:pt x="245" y="201"/>
                </a:lnTo>
                <a:lnTo>
                  <a:pt x="245" y="214"/>
                </a:lnTo>
                <a:lnTo>
                  <a:pt x="241" y="227"/>
                </a:lnTo>
                <a:lnTo>
                  <a:pt x="235" y="237"/>
                </a:lnTo>
                <a:lnTo>
                  <a:pt x="228" y="246"/>
                </a:lnTo>
                <a:lnTo>
                  <a:pt x="221" y="253"/>
                </a:lnTo>
                <a:lnTo>
                  <a:pt x="212" y="257"/>
                </a:lnTo>
                <a:lnTo>
                  <a:pt x="203" y="259"/>
                </a:lnTo>
                <a:lnTo>
                  <a:pt x="193" y="260"/>
                </a:lnTo>
                <a:lnTo>
                  <a:pt x="182" y="259"/>
                </a:lnTo>
                <a:lnTo>
                  <a:pt x="169" y="255"/>
                </a:lnTo>
                <a:lnTo>
                  <a:pt x="166" y="277"/>
                </a:lnTo>
                <a:lnTo>
                  <a:pt x="161" y="300"/>
                </a:lnTo>
                <a:lnTo>
                  <a:pt x="155" y="322"/>
                </a:lnTo>
                <a:lnTo>
                  <a:pt x="148" y="344"/>
                </a:lnTo>
                <a:lnTo>
                  <a:pt x="139" y="363"/>
                </a:lnTo>
                <a:lnTo>
                  <a:pt x="130" y="380"/>
                </a:lnTo>
                <a:lnTo>
                  <a:pt x="119" y="394"/>
                </a:lnTo>
                <a:lnTo>
                  <a:pt x="105" y="403"/>
                </a:lnTo>
                <a:lnTo>
                  <a:pt x="91" y="409"/>
                </a:lnTo>
                <a:lnTo>
                  <a:pt x="79" y="414"/>
                </a:lnTo>
                <a:lnTo>
                  <a:pt x="67" y="418"/>
                </a:lnTo>
                <a:lnTo>
                  <a:pt x="56" y="420"/>
                </a:lnTo>
                <a:lnTo>
                  <a:pt x="45" y="423"/>
                </a:lnTo>
                <a:lnTo>
                  <a:pt x="32" y="423"/>
                </a:lnTo>
                <a:lnTo>
                  <a:pt x="21" y="423"/>
                </a:lnTo>
                <a:lnTo>
                  <a:pt x="7" y="421"/>
                </a:lnTo>
                <a:lnTo>
                  <a:pt x="3" y="439"/>
                </a:lnTo>
                <a:lnTo>
                  <a:pt x="1" y="457"/>
                </a:lnTo>
                <a:lnTo>
                  <a:pt x="0" y="473"/>
                </a:lnTo>
                <a:lnTo>
                  <a:pt x="1" y="488"/>
                </a:lnTo>
                <a:lnTo>
                  <a:pt x="3" y="500"/>
                </a:lnTo>
                <a:lnTo>
                  <a:pt x="10" y="510"/>
                </a:lnTo>
                <a:lnTo>
                  <a:pt x="21" y="516"/>
                </a:lnTo>
                <a:lnTo>
                  <a:pt x="36" y="517"/>
                </a:lnTo>
                <a:lnTo>
                  <a:pt x="54" y="516"/>
                </a:lnTo>
                <a:lnTo>
                  <a:pt x="74" y="512"/>
                </a:lnTo>
                <a:lnTo>
                  <a:pt x="93" y="509"/>
                </a:lnTo>
                <a:lnTo>
                  <a:pt x="112" y="502"/>
                </a:lnTo>
                <a:lnTo>
                  <a:pt x="130" y="494"/>
                </a:lnTo>
                <a:lnTo>
                  <a:pt x="146" y="484"/>
                </a:lnTo>
                <a:lnTo>
                  <a:pt x="160" y="470"/>
                </a:lnTo>
                <a:lnTo>
                  <a:pt x="172" y="454"/>
                </a:lnTo>
                <a:lnTo>
                  <a:pt x="182" y="435"/>
                </a:lnTo>
                <a:lnTo>
                  <a:pt x="192" y="418"/>
                </a:lnTo>
                <a:lnTo>
                  <a:pt x="201" y="401"/>
                </a:lnTo>
                <a:lnTo>
                  <a:pt x="212" y="382"/>
                </a:lnTo>
                <a:lnTo>
                  <a:pt x="220" y="365"/>
                </a:lnTo>
                <a:lnTo>
                  <a:pt x="227" y="348"/>
                </a:lnTo>
                <a:lnTo>
                  <a:pt x="231" y="332"/>
                </a:lnTo>
                <a:lnTo>
                  <a:pt x="234" y="314"/>
                </a:lnTo>
                <a:lnTo>
                  <a:pt x="236" y="297"/>
                </a:lnTo>
                <a:lnTo>
                  <a:pt x="243" y="280"/>
                </a:lnTo>
                <a:lnTo>
                  <a:pt x="251" y="262"/>
                </a:lnTo>
                <a:lnTo>
                  <a:pt x="263" y="245"/>
                </a:lnTo>
                <a:lnTo>
                  <a:pt x="274" y="231"/>
                </a:lnTo>
                <a:lnTo>
                  <a:pt x="288" y="219"/>
                </a:lnTo>
                <a:lnTo>
                  <a:pt x="301" y="209"/>
                </a:lnTo>
                <a:lnTo>
                  <a:pt x="313" y="205"/>
                </a:lnTo>
                <a:lnTo>
                  <a:pt x="326" y="201"/>
                </a:lnTo>
                <a:lnTo>
                  <a:pt x="340" y="194"/>
                </a:lnTo>
                <a:lnTo>
                  <a:pt x="354" y="186"/>
                </a:lnTo>
                <a:lnTo>
                  <a:pt x="367" y="177"/>
                </a:lnTo>
                <a:lnTo>
                  <a:pt x="380" y="164"/>
                </a:lnTo>
                <a:lnTo>
                  <a:pt x="392" y="151"/>
                </a:lnTo>
                <a:lnTo>
                  <a:pt x="402" y="133"/>
                </a:lnTo>
                <a:lnTo>
                  <a:pt x="409" y="115"/>
                </a:lnTo>
                <a:lnTo>
                  <a:pt x="403" y="98"/>
                </a:lnTo>
                <a:lnTo>
                  <a:pt x="397" y="80"/>
                </a:lnTo>
                <a:lnTo>
                  <a:pt x="388" y="64"/>
                </a:lnTo>
                <a:lnTo>
                  <a:pt x="377" y="49"/>
                </a:lnTo>
                <a:lnTo>
                  <a:pt x="362" y="35"/>
                </a:lnTo>
                <a:lnTo>
                  <a:pt x="342" y="22"/>
                </a:lnTo>
                <a:lnTo>
                  <a:pt x="318" y="10"/>
                </a:lnTo>
                <a:lnTo>
                  <a:pt x="289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5" name="Freeform 32"/>
          <p:cNvSpPr/>
          <p:nvPr/>
        </p:nvSpPr>
        <p:spPr>
          <a:xfrm>
            <a:off x="1758960" y="6081840"/>
            <a:ext cx="20520" cy="47520"/>
          </a:xfrm>
          <a:custGeom>
            <a:avLst/>
            <a:gdLst/>
            <a:ahLst/>
            <a:rect l="l" t="t" r="r" b="b"/>
            <a:pathLst>
              <a:path w="26" h="60">
                <a:moveTo>
                  <a:pt x="25" y="24"/>
                </a:moveTo>
                <a:lnTo>
                  <a:pt x="26" y="18"/>
                </a:lnTo>
                <a:lnTo>
                  <a:pt x="25" y="13"/>
                </a:lnTo>
                <a:lnTo>
                  <a:pt x="25" y="7"/>
                </a:lnTo>
                <a:lnTo>
                  <a:pt x="25" y="0"/>
                </a:lnTo>
                <a:lnTo>
                  <a:pt x="17" y="13"/>
                </a:lnTo>
                <a:lnTo>
                  <a:pt x="7" y="30"/>
                </a:lnTo>
                <a:lnTo>
                  <a:pt x="2" y="46"/>
                </a:lnTo>
                <a:lnTo>
                  <a:pt x="0" y="60"/>
                </a:lnTo>
                <a:lnTo>
                  <a:pt x="10" y="52"/>
                </a:lnTo>
                <a:lnTo>
                  <a:pt x="17" y="43"/>
                </a:lnTo>
                <a:lnTo>
                  <a:pt x="22" y="33"/>
                </a:lnTo>
                <a:lnTo>
                  <a:pt x="25" y="2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6" name="Freeform 33"/>
          <p:cNvSpPr/>
          <p:nvPr/>
        </p:nvSpPr>
        <p:spPr>
          <a:xfrm>
            <a:off x="1824120" y="6078600"/>
            <a:ext cx="77760" cy="66600"/>
          </a:xfrm>
          <a:custGeom>
            <a:avLst/>
            <a:gdLst/>
            <a:ahLst/>
            <a:rect l="l" t="t" r="r" b="b"/>
            <a:pathLst>
              <a:path w="98" h="85">
                <a:moveTo>
                  <a:pt x="3" y="26"/>
                </a:moveTo>
                <a:lnTo>
                  <a:pt x="0" y="19"/>
                </a:lnTo>
                <a:lnTo>
                  <a:pt x="0" y="13"/>
                </a:lnTo>
                <a:lnTo>
                  <a:pt x="0" y="7"/>
                </a:lnTo>
                <a:lnTo>
                  <a:pt x="0" y="0"/>
                </a:lnTo>
                <a:lnTo>
                  <a:pt x="15" y="4"/>
                </a:lnTo>
                <a:lnTo>
                  <a:pt x="34" y="11"/>
                </a:lnTo>
                <a:lnTo>
                  <a:pt x="52" y="20"/>
                </a:lnTo>
                <a:lnTo>
                  <a:pt x="69" y="32"/>
                </a:lnTo>
                <a:lnTo>
                  <a:pt x="84" y="44"/>
                </a:lnTo>
                <a:lnTo>
                  <a:pt x="95" y="58"/>
                </a:lnTo>
                <a:lnTo>
                  <a:pt x="98" y="70"/>
                </a:lnTo>
                <a:lnTo>
                  <a:pt x="94" y="80"/>
                </a:lnTo>
                <a:lnTo>
                  <a:pt x="84" y="85"/>
                </a:lnTo>
                <a:lnTo>
                  <a:pt x="73" y="85"/>
                </a:lnTo>
                <a:lnTo>
                  <a:pt x="60" y="81"/>
                </a:lnTo>
                <a:lnTo>
                  <a:pt x="47" y="74"/>
                </a:lnTo>
                <a:lnTo>
                  <a:pt x="35" y="65"/>
                </a:lnTo>
                <a:lnTo>
                  <a:pt x="22" y="53"/>
                </a:lnTo>
                <a:lnTo>
                  <a:pt x="12" y="40"/>
                </a:lnTo>
                <a:lnTo>
                  <a:pt x="3" y="2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7" name="Freeform 34"/>
          <p:cNvSpPr/>
          <p:nvPr/>
        </p:nvSpPr>
        <p:spPr>
          <a:xfrm>
            <a:off x="1776240" y="6018120"/>
            <a:ext cx="108000" cy="55800"/>
          </a:xfrm>
          <a:custGeom>
            <a:avLst/>
            <a:gdLst/>
            <a:ahLst/>
            <a:rect l="l" t="t" r="r" b="b"/>
            <a:pathLst>
              <a:path w="135" h="72">
                <a:moveTo>
                  <a:pt x="10" y="15"/>
                </a:moveTo>
                <a:lnTo>
                  <a:pt x="15" y="20"/>
                </a:lnTo>
                <a:lnTo>
                  <a:pt x="22" y="24"/>
                </a:lnTo>
                <a:lnTo>
                  <a:pt x="31" y="27"/>
                </a:lnTo>
                <a:lnTo>
                  <a:pt x="41" y="28"/>
                </a:lnTo>
                <a:lnTo>
                  <a:pt x="51" y="29"/>
                </a:lnTo>
                <a:lnTo>
                  <a:pt x="61" y="28"/>
                </a:lnTo>
                <a:lnTo>
                  <a:pt x="71" y="26"/>
                </a:lnTo>
                <a:lnTo>
                  <a:pt x="79" y="21"/>
                </a:lnTo>
                <a:lnTo>
                  <a:pt x="86" y="15"/>
                </a:lnTo>
                <a:lnTo>
                  <a:pt x="95" y="9"/>
                </a:lnTo>
                <a:lnTo>
                  <a:pt x="103" y="5"/>
                </a:lnTo>
                <a:lnTo>
                  <a:pt x="112" y="1"/>
                </a:lnTo>
                <a:lnTo>
                  <a:pt x="119" y="0"/>
                </a:lnTo>
                <a:lnTo>
                  <a:pt x="126" y="1"/>
                </a:lnTo>
                <a:lnTo>
                  <a:pt x="131" y="6"/>
                </a:lnTo>
                <a:lnTo>
                  <a:pt x="134" y="15"/>
                </a:lnTo>
                <a:lnTo>
                  <a:pt x="135" y="37"/>
                </a:lnTo>
                <a:lnTo>
                  <a:pt x="133" y="56"/>
                </a:lnTo>
                <a:lnTo>
                  <a:pt x="129" y="67"/>
                </a:lnTo>
                <a:lnTo>
                  <a:pt x="127" y="72"/>
                </a:lnTo>
                <a:lnTo>
                  <a:pt x="121" y="69"/>
                </a:lnTo>
                <a:lnTo>
                  <a:pt x="113" y="68"/>
                </a:lnTo>
                <a:lnTo>
                  <a:pt x="105" y="66"/>
                </a:lnTo>
                <a:lnTo>
                  <a:pt x="96" y="65"/>
                </a:lnTo>
                <a:lnTo>
                  <a:pt x="87" y="64"/>
                </a:lnTo>
                <a:lnTo>
                  <a:pt x="76" y="62"/>
                </a:lnTo>
                <a:lnTo>
                  <a:pt x="66" y="60"/>
                </a:lnTo>
                <a:lnTo>
                  <a:pt x="57" y="59"/>
                </a:lnTo>
                <a:lnTo>
                  <a:pt x="51" y="54"/>
                </a:lnTo>
                <a:lnTo>
                  <a:pt x="44" y="52"/>
                </a:lnTo>
                <a:lnTo>
                  <a:pt x="37" y="51"/>
                </a:lnTo>
                <a:lnTo>
                  <a:pt x="29" y="52"/>
                </a:lnTo>
                <a:lnTo>
                  <a:pt x="21" y="53"/>
                </a:lnTo>
                <a:lnTo>
                  <a:pt x="13" y="56"/>
                </a:lnTo>
                <a:lnTo>
                  <a:pt x="6" y="59"/>
                </a:lnTo>
                <a:lnTo>
                  <a:pt x="0" y="61"/>
                </a:lnTo>
                <a:lnTo>
                  <a:pt x="0" y="50"/>
                </a:lnTo>
                <a:lnTo>
                  <a:pt x="1" y="37"/>
                </a:lnTo>
                <a:lnTo>
                  <a:pt x="5" y="26"/>
                </a:lnTo>
                <a:lnTo>
                  <a:pt x="10" y="1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8" name="Freeform 35"/>
          <p:cNvSpPr/>
          <p:nvPr/>
        </p:nvSpPr>
        <p:spPr>
          <a:xfrm>
            <a:off x="1787400" y="6226200"/>
            <a:ext cx="44640" cy="39600"/>
          </a:xfrm>
          <a:custGeom>
            <a:avLst/>
            <a:gdLst/>
            <a:ahLst/>
            <a:rect l="l" t="t" r="r" b="b"/>
            <a:pathLst>
              <a:path w="58" h="49">
                <a:moveTo>
                  <a:pt x="36" y="0"/>
                </a:moveTo>
                <a:lnTo>
                  <a:pt x="58" y="8"/>
                </a:lnTo>
                <a:lnTo>
                  <a:pt x="53" y="22"/>
                </a:lnTo>
                <a:lnTo>
                  <a:pt x="46" y="34"/>
                </a:lnTo>
                <a:lnTo>
                  <a:pt x="38" y="44"/>
                </a:lnTo>
                <a:lnTo>
                  <a:pt x="30" y="49"/>
                </a:lnTo>
                <a:lnTo>
                  <a:pt x="0" y="22"/>
                </a:lnTo>
                <a:lnTo>
                  <a:pt x="3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9" name="Freeform 36"/>
          <p:cNvSpPr/>
          <p:nvPr/>
        </p:nvSpPr>
        <p:spPr>
          <a:xfrm>
            <a:off x="1743120" y="6253200"/>
            <a:ext cx="52200" cy="30240"/>
          </a:xfrm>
          <a:custGeom>
            <a:avLst/>
            <a:gdLst/>
            <a:ahLst/>
            <a:rect l="l" t="t" r="r" b="b"/>
            <a:pathLst>
              <a:path w="66" h="40">
                <a:moveTo>
                  <a:pt x="31" y="0"/>
                </a:moveTo>
                <a:lnTo>
                  <a:pt x="66" y="22"/>
                </a:lnTo>
                <a:lnTo>
                  <a:pt x="59" y="27"/>
                </a:lnTo>
                <a:lnTo>
                  <a:pt x="49" y="30"/>
                </a:lnTo>
                <a:lnTo>
                  <a:pt x="40" y="34"/>
                </a:lnTo>
                <a:lnTo>
                  <a:pt x="30" y="37"/>
                </a:lnTo>
                <a:lnTo>
                  <a:pt x="21" y="40"/>
                </a:lnTo>
                <a:lnTo>
                  <a:pt x="11" y="40"/>
                </a:lnTo>
                <a:lnTo>
                  <a:pt x="6" y="37"/>
                </a:lnTo>
                <a:lnTo>
                  <a:pt x="1" y="33"/>
                </a:lnTo>
                <a:lnTo>
                  <a:pt x="0" y="23"/>
                </a:lnTo>
                <a:lnTo>
                  <a:pt x="1" y="18"/>
                </a:lnTo>
                <a:lnTo>
                  <a:pt x="4" y="15"/>
                </a:lnTo>
                <a:lnTo>
                  <a:pt x="6" y="14"/>
                </a:lnTo>
                <a:lnTo>
                  <a:pt x="31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0" name="Freeform 37"/>
          <p:cNvSpPr/>
          <p:nvPr/>
        </p:nvSpPr>
        <p:spPr>
          <a:xfrm>
            <a:off x="1758960" y="6207120"/>
            <a:ext cx="44280" cy="27000"/>
          </a:xfrm>
          <a:custGeom>
            <a:avLst/>
            <a:gdLst/>
            <a:ahLst/>
            <a:rect l="l" t="t" r="r" b="b"/>
            <a:pathLst>
              <a:path w="58" h="34">
                <a:moveTo>
                  <a:pt x="0" y="16"/>
                </a:moveTo>
                <a:lnTo>
                  <a:pt x="23" y="34"/>
                </a:lnTo>
                <a:lnTo>
                  <a:pt x="58" y="16"/>
                </a:lnTo>
                <a:lnTo>
                  <a:pt x="29" y="0"/>
                </a:lnTo>
                <a:lnTo>
                  <a:pt x="0" y="1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1" name="Freeform 38"/>
          <p:cNvSpPr/>
          <p:nvPr/>
        </p:nvSpPr>
        <p:spPr>
          <a:xfrm>
            <a:off x="1746360" y="6229440"/>
            <a:ext cx="17280" cy="20520"/>
          </a:xfrm>
          <a:custGeom>
            <a:avLst/>
            <a:gdLst/>
            <a:ahLst/>
            <a:rect l="l" t="t" r="r" b="b"/>
            <a:pathLst>
              <a:path w="21" h="27">
                <a:moveTo>
                  <a:pt x="5" y="0"/>
                </a:moveTo>
                <a:lnTo>
                  <a:pt x="21" y="17"/>
                </a:lnTo>
                <a:lnTo>
                  <a:pt x="0" y="27"/>
                </a:lnTo>
                <a:lnTo>
                  <a:pt x="5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2" name="Freeform 39"/>
          <p:cNvSpPr/>
          <p:nvPr/>
        </p:nvSpPr>
        <p:spPr>
          <a:xfrm>
            <a:off x="1797120" y="6183360"/>
            <a:ext cx="41040" cy="33120"/>
          </a:xfrm>
          <a:custGeom>
            <a:avLst/>
            <a:gdLst/>
            <a:ahLst/>
            <a:rect l="l" t="t" r="r" b="b"/>
            <a:pathLst>
              <a:path w="53" h="41">
                <a:moveTo>
                  <a:pt x="43" y="41"/>
                </a:moveTo>
                <a:lnTo>
                  <a:pt x="0" y="21"/>
                </a:lnTo>
                <a:lnTo>
                  <a:pt x="53" y="0"/>
                </a:lnTo>
                <a:lnTo>
                  <a:pt x="52" y="9"/>
                </a:lnTo>
                <a:lnTo>
                  <a:pt x="49" y="22"/>
                </a:lnTo>
                <a:lnTo>
                  <a:pt x="46" y="34"/>
                </a:lnTo>
                <a:lnTo>
                  <a:pt x="43" y="4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3" name="Freeform 40"/>
          <p:cNvSpPr/>
          <p:nvPr/>
        </p:nvSpPr>
        <p:spPr>
          <a:xfrm>
            <a:off x="1754280" y="6181560"/>
            <a:ext cx="17280" cy="25560"/>
          </a:xfrm>
          <a:custGeom>
            <a:avLst/>
            <a:gdLst/>
            <a:ahLst/>
            <a:rect l="l" t="t" r="r" b="b"/>
            <a:pathLst>
              <a:path w="20" h="31">
                <a:moveTo>
                  <a:pt x="20" y="19"/>
                </a:moveTo>
                <a:lnTo>
                  <a:pt x="0" y="31"/>
                </a:lnTo>
                <a:lnTo>
                  <a:pt x="4" y="0"/>
                </a:lnTo>
                <a:lnTo>
                  <a:pt x="20" y="1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4" name="Freeform 41"/>
          <p:cNvSpPr/>
          <p:nvPr/>
        </p:nvSpPr>
        <p:spPr>
          <a:xfrm>
            <a:off x="1766880" y="6153120"/>
            <a:ext cx="60480" cy="36720"/>
          </a:xfrm>
          <a:custGeom>
            <a:avLst/>
            <a:gdLst/>
            <a:ahLst/>
            <a:rect l="l" t="t" r="r" b="b"/>
            <a:pathLst>
              <a:path w="76" h="46">
                <a:moveTo>
                  <a:pt x="0" y="20"/>
                </a:moveTo>
                <a:lnTo>
                  <a:pt x="25" y="46"/>
                </a:lnTo>
                <a:lnTo>
                  <a:pt x="76" y="26"/>
                </a:lnTo>
                <a:lnTo>
                  <a:pt x="41" y="0"/>
                </a:lnTo>
                <a:lnTo>
                  <a:pt x="0" y="2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5" name="Freeform 42"/>
          <p:cNvSpPr/>
          <p:nvPr/>
        </p:nvSpPr>
        <p:spPr>
          <a:xfrm>
            <a:off x="1817640" y="6132600"/>
            <a:ext cx="28800" cy="36360"/>
          </a:xfrm>
          <a:custGeom>
            <a:avLst/>
            <a:gdLst/>
            <a:ahLst/>
            <a:rect l="l" t="t" r="r" b="b"/>
            <a:pathLst>
              <a:path w="36" h="46">
                <a:moveTo>
                  <a:pt x="36" y="35"/>
                </a:moveTo>
                <a:lnTo>
                  <a:pt x="27" y="46"/>
                </a:lnTo>
                <a:lnTo>
                  <a:pt x="0" y="18"/>
                </a:lnTo>
                <a:lnTo>
                  <a:pt x="17" y="0"/>
                </a:lnTo>
                <a:lnTo>
                  <a:pt x="20" y="8"/>
                </a:lnTo>
                <a:lnTo>
                  <a:pt x="23" y="19"/>
                </a:lnTo>
                <a:lnTo>
                  <a:pt x="30" y="28"/>
                </a:lnTo>
                <a:lnTo>
                  <a:pt x="36" y="3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6" name="Freeform 43"/>
          <p:cNvSpPr/>
          <p:nvPr/>
        </p:nvSpPr>
        <p:spPr>
          <a:xfrm>
            <a:off x="1790640" y="6108840"/>
            <a:ext cx="23760" cy="31680"/>
          </a:xfrm>
          <a:custGeom>
            <a:avLst/>
            <a:gdLst/>
            <a:ahLst/>
            <a:rect l="l" t="t" r="r" b="b"/>
            <a:pathLst>
              <a:path w="29" h="40">
                <a:moveTo>
                  <a:pt x="29" y="24"/>
                </a:moveTo>
                <a:lnTo>
                  <a:pt x="12" y="40"/>
                </a:lnTo>
                <a:lnTo>
                  <a:pt x="0" y="26"/>
                </a:lnTo>
                <a:lnTo>
                  <a:pt x="19" y="0"/>
                </a:lnTo>
                <a:lnTo>
                  <a:pt x="29" y="2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7" name="Freeform 44"/>
          <p:cNvSpPr/>
          <p:nvPr/>
        </p:nvSpPr>
        <p:spPr>
          <a:xfrm>
            <a:off x="1758960" y="6140520"/>
            <a:ext cx="27000" cy="15840"/>
          </a:xfrm>
          <a:custGeom>
            <a:avLst/>
            <a:gdLst/>
            <a:ahLst/>
            <a:rect l="l" t="t" r="r" b="b"/>
            <a:pathLst>
              <a:path w="34" h="20">
                <a:moveTo>
                  <a:pt x="28" y="0"/>
                </a:moveTo>
                <a:lnTo>
                  <a:pt x="34" y="9"/>
                </a:lnTo>
                <a:lnTo>
                  <a:pt x="0" y="20"/>
                </a:lnTo>
                <a:lnTo>
                  <a:pt x="7" y="16"/>
                </a:lnTo>
                <a:lnTo>
                  <a:pt x="17" y="10"/>
                </a:lnTo>
                <a:lnTo>
                  <a:pt x="23" y="4"/>
                </a:lnTo>
                <a:lnTo>
                  <a:pt x="2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8" name="Freeform 45"/>
          <p:cNvSpPr/>
          <p:nvPr/>
        </p:nvSpPr>
        <p:spPr>
          <a:xfrm>
            <a:off x="2273400" y="5419800"/>
            <a:ext cx="236520" cy="839880"/>
          </a:xfrm>
          <a:custGeom>
            <a:avLst/>
            <a:gdLst/>
            <a:ahLst/>
            <a:rect l="l" t="t" r="r" b="b"/>
            <a:pathLst>
              <a:path w="298" h="1058">
                <a:moveTo>
                  <a:pt x="14" y="0"/>
                </a:moveTo>
                <a:lnTo>
                  <a:pt x="21" y="3"/>
                </a:lnTo>
                <a:lnTo>
                  <a:pt x="29" y="6"/>
                </a:lnTo>
                <a:lnTo>
                  <a:pt x="39" y="9"/>
                </a:lnTo>
                <a:lnTo>
                  <a:pt x="52" y="11"/>
                </a:lnTo>
                <a:lnTo>
                  <a:pt x="64" y="15"/>
                </a:lnTo>
                <a:lnTo>
                  <a:pt x="79" y="17"/>
                </a:lnTo>
                <a:lnTo>
                  <a:pt x="95" y="18"/>
                </a:lnTo>
                <a:lnTo>
                  <a:pt x="113" y="21"/>
                </a:lnTo>
                <a:lnTo>
                  <a:pt x="130" y="22"/>
                </a:lnTo>
                <a:lnTo>
                  <a:pt x="148" y="23"/>
                </a:lnTo>
                <a:lnTo>
                  <a:pt x="168" y="23"/>
                </a:lnTo>
                <a:lnTo>
                  <a:pt x="186" y="22"/>
                </a:lnTo>
                <a:lnTo>
                  <a:pt x="206" y="21"/>
                </a:lnTo>
                <a:lnTo>
                  <a:pt x="226" y="20"/>
                </a:lnTo>
                <a:lnTo>
                  <a:pt x="245" y="16"/>
                </a:lnTo>
                <a:lnTo>
                  <a:pt x="265" y="13"/>
                </a:lnTo>
                <a:lnTo>
                  <a:pt x="256" y="55"/>
                </a:lnTo>
                <a:lnTo>
                  <a:pt x="250" y="102"/>
                </a:lnTo>
                <a:lnTo>
                  <a:pt x="249" y="151"/>
                </a:lnTo>
                <a:lnTo>
                  <a:pt x="251" y="195"/>
                </a:lnTo>
                <a:lnTo>
                  <a:pt x="254" y="220"/>
                </a:lnTo>
                <a:lnTo>
                  <a:pt x="258" y="252"/>
                </a:lnTo>
                <a:lnTo>
                  <a:pt x="261" y="291"/>
                </a:lnTo>
                <a:lnTo>
                  <a:pt x="261" y="333"/>
                </a:lnTo>
                <a:lnTo>
                  <a:pt x="257" y="377"/>
                </a:lnTo>
                <a:lnTo>
                  <a:pt x="244" y="417"/>
                </a:lnTo>
                <a:lnTo>
                  <a:pt x="222" y="453"/>
                </a:lnTo>
                <a:lnTo>
                  <a:pt x="190" y="483"/>
                </a:lnTo>
                <a:lnTo>
                  <a:pt x="199" y="487"/>
                </a:lnTo>
                <a:lnTo>
                  <a:pt x="211" y="488"/>
                </a:lnTo>
                <a:lnTo>
                  <a:pt x="223" y="486"/>
                </a:lnTo>
                <a:lnTo>
                  <a:pt x="237" y="483"/>
                </a:lnTo>
                <a:lnTo>
                  <a:pt x="250" y="477"/>
                </a:lnTo>
                <a:lnTo>
                  <a:pt x="263" y="471"/>
                </a:lnTo>
                <a:lnTo>
                  <a:pt x="273" y="464"/>
                </a:lnTo>
                <a:lnTo>
                  <a:pt x="281" y="458"/>
                </a:lnTo>
                <a:lnTo>
                  <a:pt x="294" y="511"/>
                </a:lnTo>
                <a:lnTo>
                  <a:pt x="298" y="581"/>
                </a:lnTo>
                <a:lnTo>
                  <a:pt x="296" y="662"/>
                </a:lnTo>
                <a:lnTo>
                  <a:pt x="288" y="750"/>
                </a:lnTo>
                <a:lnTo>
                  <a:pt x="275" y="836"/>
                </a:lnTo>
                <a:lnTo>
                  <a:pt x="259" y="917"/>
                </a:lnTo>
                <a:lnTo>
                  <a:pt x="241" y="986"/>
                </a:lnTo>
                <a:lnTo>
                  <a:pt x="222" y="1037"/>
                </a:lnTo>
                <a:lnTo>
                  <a:pt x="210" y="1043"/>
                </a:lnTo>
                <a:lnTo>
                  <a:pt x="193" y="1048"/>
                </a:lnTo>
                <a:lnTo>
                  <a:pt x="176" y="1054"/>
                </a:lnTo>
                <a:lnTo>
                  <a:pt x="155" y="1056"/>
                </a:lnTo>
                <a:lnTo>
                  <a:pt x="135" y="1058"/>
                </a:lnTo>
                <a:lnTo>
                  <a:pt x="113" y="1053"/>
                </a:lnTo>
                <a:lnTo>
                  <a:pt x="90" y="1044"/>
                </a:lnTo>
                <a:lnTo>
                  <a:pt x="68" y="1029"/>
                </a:lnTo>
                <a:lnTo>
                  <a:pt x="69" y="967"/>
                </a:lnTo>
                <a:lnTo>
                  <a:pt x="67" y="901"/>
                </a:lnTo>
                <a:lnTo>
                  <a:pt x="62" y="838"/>
                </a:lnTo>
                <a:lnTo>
                  <a:pt x="54" y="781"/>
                </a:lnTo>
                <a:lnTo>
                  <a:pt x="46" y="719"/>
                </a:lnTo>
                <a:lnTo>
                  <a:pt x="42" y="643"/>
                </a:lnTo>
                <a:lnTo>
                  <a:pt x="45" y="569"/>
                </a:lnTo>
                <a:lnTo>
                  <a:pt x="54" y="511"/>
                </a:lnTo>
                <a:lnTo>
                  <a:pt x="46" y="485"/>
                </a:lnTo>
                <a:lnTo>
                  <a:pt x="37" y="452"/>
                </a:lnTo>
                <a:lnTo>
                  <a:pt x="27" y="412"/>
                </a:lnTo>
                <a:lnTo>
                  <a:pt x="17" y="372"/>
                </a:lnTo>
                <a:lnTo>
                  <a:pt x="9" y="331"/>
                </a:lnTo>
                <a:lnTo>
                  <a:pt x="3" y="290"/>
                </a:lnTo>
                <a:lnTo>
                  <a:pt x="0" y="256"/>
                </a:lnTo>
                <a:lnTo>
                  <a:pt x="1" y="227"/>
                </a:lnTo>
                <a:lnTo>
                  <a:pt x="7" y="169"/>
                </a:lnTo>
                <a:lnTo>
                  <a:pt x="11" y="102"/>
                </a:lnTo>
                <a:lnTo>
                  <a:pt x="15" y="43"/>
                </a:lnTo>
                <a:lnTo>
                  <a:pt x="14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9" name="Freeform 46"/>
          <p:cNvSpPr/>
          <p:nvPr/>
        </p:nvSpPr>
        <p:spPr>
          <a:xfrm>
            <a:off x="2311560" y="6256440"/>
            <a:ext cx="144360" cy="141120"/>
          </a:xfrm>
          <a:custGeom>
            <a:avLst/>
            <a:gdLst/>
            <a:ahLst/>
            <a:rect l="l" t="t" r="r" b="b"/>
            <a:pathLst>
              <a:path w="181" h="177">
                <a:moveTo>
                  <a:pt x="170" y="11"/>
                </a:moveTo>
                <a:lnTo>
                  <a:pt x="160" y="16"/>
                </a:lnTo>
                <a:lnTo>
                  <a:pt x="144" y="21"/>
                </a:lnTo>
                <a:lnTo>
                  <a:pt x="125" y="26"/>
                </a:lnTo>
                <a:lnTo>
                  <a:pt x="102" y="30"/>
                </a:lnTo>
                <a:lnTo>
                  <a:pt x="76" y="30"/>
                </a:lnTo>
                <a:lnTo>
                  <a:pt x="51" y="26"/>
                </a:lnTo>
                <a:lnTo>
                  <a:pt x="27" y="16"/>
                </a:lnTo>
                <a:lnTo>
                  <a:pt x="5" y="0"/>
                </a:lnTo>
                <a:lnTo>
                  <a:pt x="1" y="9"/>
                </a:lnTo>
                <a:lnTo>
                  <a:pt x="0" y="24"/>
                </a:lnTo>
                <a:lnTo>
                  <a:pt x="4" y="43"/>
                </a:lnTo>
                <a:lnTo>
                  <a:pt x="12" y="60"/>
                </a:lnTo>
                <a:lnTo>
                  <a:pt x="19" y="74"/>
                </a:lnTo>
                <a:lnTo>
                  <a:pt x="21" y="84"/>
                </a:lnTo>
                <a:lnTo>
                  <a:pt x="19" y="92"/>
                </a:lnTo>
                <a:lnTo>
                  <a:pt x="12" y="101"/>
                </a:lnTo>
                <a:lnTo>
                  <a:pt x="5" y="114"/>
                </a:lnTo>
                <a:lnTo>
                  <a:pt x="3" y="128"/>
                </a:lnTo>
                <a:lnTo>
                  <a:pt x="6" y="143"/>
                </a:lnTo>
                <a:lnTo>
                  <a:pt x="15" y="155"/>
                </a:lnTo>
                <a:lnTo>
                  <a:pt x="21" y="160"/>
                </a:lnTo>
                <a:lnTo>
                  <a:pt x="26" y="165"/>
                </a:lnTo>
                <a:lnTo>
                  <a:pt x="31" y="168"/>
                </a:lnTo>
                <a:lnTo>
                  <a:pt x="36" y="172"/>
                </a:lnTo>
                <a:lnTo>
                  <a:pt x="41" y="174"/>
                </a:lnTo>
                <a:lnTo>
                  <a:pt x="46" y="175"/>
                </a:lnTo>
                <a:lnTo>
                  <a:pt x="52" y="175"/>
                </a:lnTo>
                <a:lnTo>
                  <a:pt x="59" y="175"/>
                </a:lnTo>
                <a:lnTo>
                  <a:pt x="67" y="175"/>
                </a:lnTo>
                <a:lnTo>
                  <a:pt x="76" y="174"/>
                </a:lnTo>
                <a:lnTo>
                  <a:pt x="85" y="173"/>
                </a:lnTo>
                <a:lnTo>
                  <a:pt x="96" y="173"/>
                </a:lnTo>
                <a:lnTo>
                  <a:pt x="105" y="173"/>
                </a:lnTo>
                <a:lnTo>
                  <a:pt x="115" y="173"/>
                </a:lnTo>
                <a:lnTo>
                  <a:pt x="125" y="174"/>
                </a:lnTo>
                <a:lnTo>
                  <a:pt x="134" y="175"/>
                </a:lnTo>
                <a:lnTo>
                  <a:pt x="142" y="177"/>
                </a:lnTo>
                <a:lnTo>
                  <a:pt x="151" y="177"/>
                </a:lnTo>
                <a:lnTo>
                  <a:pt x="160" y="176"/>
                </a:lnTo>
                <a:lnTo>
                  <a:pt x="168" y="173"/>
                </a:lnTo>
                <a:lnTo>
                  <a:pt x="174" y="168"/>
                </a:lnTo>
                <a:lnTo>
                  <a:pt x="179" y="160"/>
                </a:lnTo>
                <a:lnTo>
                  <a:pt x="181" y="151"/>
                </a:lnTo>
                <a:lnTo>
                  <a:pt x="181" y="139"/>
                </a:lnTo>
                <a:lnTo>
                  <a:pt x="173" y="143"/>
                </a:lnTo>
                <a:lnTo>
                  <a:pt x="163" y="146"/>
                </a:lnTo>
                <a:lnTo>
                  <a:pt x="151" y="149"/>
                </a:lnTo>
                <a:lnTo>
                  <a:pt x="136" y="150"/>
                </a:lnTo>
                <a:lnTo>
                  <a:pt x="121" y="150"/>
                </a:lnTo>
                <a:lnTo>
                  <a:pt x="106" y="149"/>
                </a:lnTo>
                <a:lnTo>
                  <a:pt x="91" y="145"/>
                </a:lnTo>
                <a:lnTo>
                  <a:pt x="77" y="139"/>
                </a:lnTo>
                <a:lnTo>
                  <a:pt x="88" y="139"/>
                </a:lnTo>
                <a:lnTo>
                  <a:pt x="100" y="137"/>
                </a:lnTo>
                <a:lnTo>
                  <a:pt x="115" y="135"/>
                </a:lnTo>
                <a:lnTo>
                  <a:pt x="129" y="131"/>
                </a:lnTo>
                <a:lnTo>
                  <a:pt x="142" y="127"/>
                </a:lnTo>
                <a:lnTo>
                  <a:pt x="151" y="120"/>
                </a:lnTo>
                <a:lnTo>
                  <a:pt x="156" y="112"/>
                </a:lnTo>
                <a:lnTo>
                  <a:pt x="153" y="101"/>
                </a:lnTo>
                <a:lnTo>
                  <a:pt x="143" y="104"/>
                </a:lnTo>
                <a:lnTo>
                  <a:pt x="132" y="105"/>
                </a:lnTo>
                <a:lnTo>
                  <a:pt x="119" y="106"/>
                </a:lnTo>
                <a:lnTo>
                  <a:pt x="106" y="105"/>
                </a:lnTo>
                <a:lnTo>
                  <a:pt x="94" y="104"/>
                </a:lnTo>
                <a:lnTo>
                  <a:pt x="81" y="100"/>
                </a:lnTo>
                <a:lnTo>
                  <a:pt x="69" y="96"/>
                </a:lnTo>
                <a:lnTo>
                  <a:pt x="59" y="90"/>
                </a:lnTo>
                <a:lnTo>
                  <a:pt x="72" y="89"/>
                </a:lnTo>
                <a:lnTo>
                  <a:pt x="91" y="86"/>
                </a:lnTo>
                <a:lnTo>
                  <a:pt x="113" y="82"/>
                </a:lnTo>
                <a:lnTo>
                  <a:pt x="135" y="75"/>
                </a:lnTo>
                <a:lnTo>
                  <a:pt x="155" y="66"/>
                </a:lnTo>
                <a:lnTo>
                  <a:pt x="170" y="52"/>
                </a:lnTo>
                <a:lnTo>
                  <a:pt x="175" y="35"/>
                </a:lnTo>
                <a:lnTo>
                  <a:pt x="170" y="1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0" name="Freeform 47"/>
          <p:cNvSpPr/>
          <p:nvPr/>
        </p:nvSpPr>
        <p:spPr>
          <a:xfrm>
            <a:off x="2332080" y="6610320"/>
            <a:ext cx="61920" cy="58680"/>
          </a:xfrm>
          <a:custGeom>
            <a:avLst/>
            <a:gdLst/>
            <a:ahLst/>
            <a:rect l="l" t="t" r="r" b="b"/>
            <a:pathLst>
              <a:path w="78" h="73">
                <a:moveTo>
                  <a:pt x="78" y="0"/>
                </a:moveTo>
                <a:lnTo>
                  <a:pt x="0" y="30"/>
                </a:lnTo>
                <a:lnTo>
                  <a:pt x="51" y="73"/>
                </a:lnTo>
                <a:lnTo>
                  <a:pt x="59" y="60"/>
                </a:lnTo>
                <a:lnTo>
                  <a:pt x="69" y="40"/>
                </a:lnTo>
                <a:lnTo>
                  <a:pt x="76" y="18"/>
                </a:lnTo>
                <a:lnTo>
                  <a:pt x="7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1" name="Freeform 48"/>
          <p:cNvSpPr/>
          <p:nvPr/>
        </p:nvSpPr>
        <p:spPr>
          <a:xfrm>
            <a:off x="2274840" y="6648480"/>
            <a:ext cx="81000" cy="39600"/>
          </a:xfrm>
          <a:custGeom>
            <a:avLst/>
            <a:gdLst/>
            <a:ahLst/>
            <a:rect l="l" t="t" r="r" b="b"/>
            <a:pathLst>
              <a:path w="103" h="52">
                <a:moveTo>
                  <a:pt x="103" y="38"/>
                </a:moveTo>
                <a:lnTo>
                  <a:pt x="54" y="0"/>
                </a:lnTo>
                <a:lnTo>
                  <a:pt x="0" y="27"/>
                </a:lnTo>
                <a:lnTo>
                  <a:pt x="5" y="35"/>
                </a:lnTo>
                <a:lnTo>
                  <a:pt x="14" y="42"/>
                </a:lnTo>
                <a:lnTo>
                  <a:pt x="25" y="47"/>
                </a:lnTo>
                <a:lnTo>
                  <a:pt x="39" y="51"/>
                </a:lnTo>
                <a:lnTo>
                  <a:pt x="55" y="52"/>
                </a:lnTo>
                <a:lnTo>
                  <a:pt x="71" y="51"/>
                </a:lnTo>
                <a:lnTo>
                  <a:pt x="88" y="46"/>
                </a:lnTo>
                <a:lnTo>
                  <a:pt x="103" y="3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2" name="Freeform 49"/>
          <p:cNvSpPr/>
          <p:nvPr/>
        </p:nvSpPr>
        <p:spPr>
          <a:xfrm>
            <a:off x="2263680" y="6603840"/>
            <a:ext cx="36720" cy="46080"/>
          </a:xfrm>
          <a:custGeom>
            <a:avLst/>
            <a:gdLst/>
            <a:ahLst/>
            <a:rect l="l" t="t" r="r" b="b"/>
            <a:pathLst>
              <a:path w="46" h="56">
                <a:moveTo>
                  <a:pt x="0" y="56"/>
                </a:moveTo>
                <a:lnTo>
                  <a:pt x="46" y="34"/>
                </a:lnTo>
                <a:lnTo>
                  <a:pt x="6" y="0"/>
                </a:lnTo>
                <a:lnTo>
                  <a:pt x="1" y="11"/>
                </a:lnTo>
                <a:lnTo>
                  <a:pt x="0" y="28"/>
                </a:lnTo>
                <a:lnTo>
                  <a:pt x="0" y="45"/>
                </a:lnTo>
                <a:lnTo>
                  <a:pt x="0" y="5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3" name="Freeform 50"/>
          <p:cNvSpPr/>
          <p:nvPr/>
        </p:nvSpPr>
        <p:spPr>
          <a:xfrm>
            <a:off x="2287440" y="6578640"/>
            <a:ext cx="79560" cy="46080"/>
          </a:xfrm>
          <a:custGeom>
            <a:avLst/>
            <a:gdLst/>
            <a:ahLst/>
            <a:rect l="l" t="t" r="r" b="b"/>
            <a:pathLst>
              <a:path w="100" h="58">
                <a:moveTo>
                  <a:pt x="43" y="58"/>
                </a:moveTo>
                <a:lnTo>
                  <a:pt x="100" y="33"/>
                </a:lnTo>
                <a:lnTo>
                  <a:pt x="57" y="0"/>
                </a:lnTo>
                <a:lnTo>
                  <a:pt x="0" y="28"/>
                </a:lnTo>
                <a:lnTo>
                  <a:pt x="43" y="5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4" name="Freeform 51"/>
          <p:cNvSpPr/>
          <p:nvPr/>
        </p:nvSpPr>
        <p:spPr>
          <a:xfrm>
            <a:off x="2349360" y="6541920"/>
            <a:ext cx="65160" cy="54000"/>
          </a:xfrm>
          <a:custGeom>
            <a:avLst/>
            <a:gdLst/>
            <a:ahLst/>
            <a:rect l="l" t="t" r="r" b="b"/>
            <a:pathLst>
              <a:path w="82" h="68">
                <a:moveTo>
                  <a:pt x="68" y="68"/>
                </a:moveTo>
                <a:lnTo>
                  <a:pt x="0" y="33"/>
                </a:lnTo>
                <a:lnTo>
                  <a:pt x="82" y="0"/>
                </a:lnTo>
                <a:lnTo>
                  <a:pt x="80" y="15"/>
                </a:lnTo>
                <a:lnTo>
                  <a:pt x="75" y="36"/>
                </a:lnTo>
                <a:lnTo>
                  <a:pt x="71" y="57"/>
                </a:lnTo>
                <a:lnTo>
                  <a:pt x="68" y="6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5" name="Freeform 52"/>
          <p:cNvSpPr/>
          <p:nvPr/>
        </p:nvSpPr>
        <p:spPr>
          <a:xfrm>
            <a:off x="2270160" y="6543720"/>
            <a:ext cx="50760" cy="41400"/>
          </a:xfrm>
          <a:custGeom>
            <a:avLst/>
            <a:gdLst/>
            <a:ahLst/>
            <a:rect l="l" t="t" r="r" b="b"/>
            <a:pathLst>
              <a:path w="66" h="52">
                <a:moveTo>
                  <a:pt x="7" y="14"/>
                </a:moveTo>
                <a:lnTo>
                  <a:pt x="5" y="25"/>
                </a:lnTo>
                <a:lnTo>
                  <a:pt x="3" y="35"/>
                </a:lnTo>
                <a:lnTo>
                  <a:pt x="1" y="45"/>
                </a:lnTo>
                <a:lnTo>
                  <a:pt x="0" y="52"/>
                </a:lnTo>
                <a:lnTo>
                  <a:pt x="66" y="24"/>
                </a:lnTo>
                <a:lnTo>
                  <a:pt x="35" y="0"/>
                </a:lnTo>
                <a:lnTo>
                  <a:pt x="32" y="2"/>
                </a:lnTo>
                <a:lnTo>
                  <a:pt x="27" y="5"/>
                </a:lnTo>
                <a:lnTo>
                  <a:pt x="18" y="10"/>
                </a:lnTo>
                <a:lnTo>
                  <a:pt x="7" y="1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6" name="Freeform 53"/>
          <p:cNvSpPr/>
          <p:nvPr/>
        </p:nvSpPr>
        <p:spPr>
          <a:xfrm>
            <a:off x="2274840" y="6483240"/>
            <a:ext cx="66600" cy="39960"/>
          </a:xfrm>
          <a:custGeom>
            <a:avLst/>
            <a:gdLst/>
            <a:ahLst/>
            <a:rect l="l" t="t" r="r" b="b"/>
            <a:pathLst>
              <a:path w="83" h="50">
                <a:moveTo>
                  <a:pt x="19" y="50"/>
                </a:moveTo>
                <a:lnTo>
                  <a:pt x="0" y="37"/>
                </a:lnTo>
                <a:lnTo>
                  <a:pt x="12" y="33"/>
                </a:lnTo>
                <a:lnTo>
                  <a:pt x="24" y="27"/>
                </a:lnTo>
                <a:lnTo>
                  <a:pt x="36" y="22"/>
                </a:lnTo>
                <a:lnTo>
                  <a:pt x="47" y="15"/>
                </a:lnTo>
                <a:lnTo>
                  <a:pt x="57" y="9"/>
                </a:lnTo>
                <a:lnTo>
                  <a:pt x="65" y="4"/>
                </a:lnTo>
                <a:lnTo>
                  <a:pt x="69" y="1"/>
                </a:lnTo>
                <a:lnTo>
                  <a:pt x="72" y="0"/>
                </a:lnTo>
                <a:lnTo>
                  <a:pt x="75" y="1"/>
                </a:lnTo>
                <a:lnTo>
                  <a:pt x="80" y="2"/>
                </a:lnTo>
                <a:lnTo>
                  <a:pt x="82" y="3"/>
                </a:lnTo>
                <a:lnTo>
                  <a:pt x="83" y="3"/>
                </a:lnTo>
                <a:lnTo>
                  <a:pt x="76" y="12"/>
                </a:lnTo>
                <a:lnTo>
                  <a:pt x="68" y="20"/>
                </a:lnTo>
                <a:lnTo>
                  <a:pt x="59" y="27"/>
                </a:lnTo>
                <a:lnTo>
                  <a:pt x="49" y="34"/>
                </a:lnTo>
                <a:lnTo>
                  <a:pt x="39" y="40"/>
                </a:lnTo>
                <a:lnTo>
                  <a:pt x="31" y="45"/>
                </a:lnTo>
                <a:lnTo>
                  <a:pt x="23" y="48"/>
                </a:lnTo>
                <a:lnTo>
                  <a:pt x="19" y="5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7" name="Freeform 54"/>
          <p:cNvSpPr/>
          <p:nvPr/>
        </p:nvSpPr>
        <p:spPr>
          <a:xfrm>
            <a:off x="2317680" y="6488280"/>
            <a:ext cx="76320" cy="55440"/>
          </a:xfrm>
          <a:custGeom>
            <a:avLst/>
            <a:gdLst/>
            <a:ahLst/>
            <a:rect l="l" t="t" r="r" b="b"/>
            <a:pathLst>
              <a:path w="96" h="69">
                <a:moveTo>
                  <a:pt x="46" y="3"/>
                </a:moveTo>
                <a:lnTo>
                  <a:pt x="44" y="8"/>
                </a:lnTo>
                <a:lnTo>
                  <a:pt x="39" y="13"/>
                </a:lnTo>
                <a:lnTo>
                  <a:pt x="35" y="21"/>
                </a:lnTo>
                <a:lnTo>
                  <a:pt x="28" y="28"/>
                </a:lnTo>
                <a:lnTo>
                  <a:pt x="21" y="36"/>
                </a:lnTo>
                <a:lnTo>
                  <a:pt x="14" y="44"/>
                </a:lnTo>
                <a:lnTo>
                  <a:pt x="7" y="50"/>
                </a:lnTo>
                <a:lnTo>
                  <a:pt x="0" y="55"/>
                </a:lnTo>
                <a:lnTo>
                  <a:pt x="29" y="69"/>
                </a:lnTo>
                <a:lnTo>
                  <a:pt x="96" y="47"/>
                </a:lnTo>
                <a:lnTo>
                  <a:pt x="92" y="42"/>
                </a:lnTo>
                <a:lnTo>
                  <a:pt x="83" y="31"/>
                </a:lnTo>
                <a:lnTo>
                  <a:pt x="74" y="16"/>
                </a:lnTo>
                <a:lnTo>
                  <a:pt x="66" y="0"/>
                </a:lnTo>
                <a:lnTo>
                  <a:pt x="64" y="4"/>
                </a:lnTo>
                <a:lnTo>
                  <a:pt x="60" y="4"/>
                </a:lnTo>
                <a:lnTo>
                  <a:pt x="54" y="4"/>
                </a:lnTo>
                <a:lnTo>
                  <a:pt x="46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8" name="Freeform 55"/>
          <p:cNvSpPr/>
          <p:nvPr/>
        </p:nvSpPr>
        <p:spPr>
          <a:xfrm>
            <a:off x="2295360" y="6453360"/>
            <a:ext cx="34920" cy="29880"/>
          </a:xfrm>
          <a:custGeom>
            <a:avLst/>
            <a:gdLst/>
            <a:ahLst/>
            <a:rect l="l" t="t" r="r" b="b"/>
            <a:pathLst>
              <a:path w="45" h="38">
                <a:moveTo>
                  <a:pt x="0" y="38"/>
                </a:moveTo>
                <a:lnTo>
                  <a:pt x="6" y="34"/>
                </a:lnTo>
                <a:lnTo>
                  <a:pt x="13" y="31"/>
                </a:lnTo>
                <a:lnTo>
                  <a:pt x="20" y="26"/>
                </a:lnTo>
                <a:lnTo>
                  <a:pt x="27" y="22"/>
                </a:lnTo>
                <a:lnTo>
                  <a:pt x="33" y="17"/>
                </a:lnTo>
                <a:lnTo>
                  <a:pt x="39" y="12"/>
                </a:lnTo>
                <a:lnTo>
                  <a:pt x="42" y="9"/>
                </a:lnTo>
                <a:lnTo>
                  <a:pt x="45" y="7"/>
                </a:lnTo>
                <a:lnTo>
                  <a:pt x="39" y="4"/>
                </a:lnTo>
                <a:lnTo>
                  <a:pt x="30" y="2"/>
                </a:lnTo>
                <a:lnTo>
                  <a:pt x="24" y="1"/>
                </a:lnTo>
                <a:lnTo>
                  <a:pt x="15" y="0"/>
                </a:lnTo>
                <a:lnTo>
                  <a:pt x="11" y="8"/>
                </a:lnTo>
                <a:lnTo>
                  <a:pt x="7" y="18"/>
                </a:lnTo>
                <a:lnTo>
                  <a:pt x="4" y="30"/>
                </a:lnTo>
                <a:lnTo>
                  <a:pt x="0" y="3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9" name="Freeform 56"/>
          <p:cNvSpPr/>
          <p:nvPr/>
        </p:nvSpPr>
        <p:spPr>
          <a:xfrm>
            <a:off x="2428920" y="6459480"/>
            <a:ext cx="41400" cy="52560"/>
          </a:xfrm>
          <a:custGeom>
            <a:avLst/>
            <a:gdLst/>
            <a:ahLst/>
            <a:rect l="l" t="t" r="r" b="b"/>
            <a:pathLst>
              <a:path w="52" h="67">
                <a:moveTo>
                  <a:pt x="0" y="67"/>
                </a:moveTo>
                <a:lnTo>
                  <a:pt x="3" y="67"/>
                </a:lnTo>
                <a:lnTo>
                  <a:pt x="8" y="67"/>
                </a:lnTo>
                <a:lnTo>
                  <a:pt x="13" y="65"/>
                </a:lnTo>
                <a:lnTo>
                  <a:pt x="17" y="64"/>
                </a:lnTo>
                <a:lnTo>
                  <a:pt x="23" y="62"/>
                </a:lnTo>
                <a:lnTo>
                  <a:pt x="27" y="60"/>
                </a:lnTo>
                <a:lnTo>
                  <a:pt x="32" y="57"/>
                </a:lnTo>
                <a:lnTo>
                  <a:pt x="37" y="55"/>
                </a:lnTo>
                <a:lnTo>
                  <a:pt x="46" y="48"/>
                </a:lnTo>
                <a:lnTo>
                  <a:pt x="51" y="41"/>
                </a:lnTo>
                <a:lnTo>
                  <a:pt x="52" y="33"/>
                </a:lnTo>
                <a:lnTo>
                  <a:pt x="49" y="25"/>
                </a:lnTo>
                <a:lnTo>
                  <a:pt x="42" y="18"/>
                </a:lnTo>
                <a:lnTo>
                  <a:pt x="33" y="11"/>
                </a:lnTo>
                <a:lnTo>
                  <a:pt x="21" y="4"/>
                </a:lnTo>
                <a:lnTo>
                  <a:pt x="6" y="0"/>
                </a:lnTo>
                <a:lnTo>
                  <a:pt x="4" y="15"/>
                </a:lnTo>
                <a:lnTo>
                  <a:pt x="3" y="33"/>
                </a:lnTo>
                <a:lnTo>
                  <a:pt x="2" y="52"/>
                </a:lnTo>
                <a:lnTo>
                  <a:pt x="0" y="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0" name="Freeform 57"/>
          <p:cNvSpPr/>
          <p:nvPr/>
        </p:nvSpPr>
        <p:spPr>
          <a:xfrm>
            <a:off x="2384280" y="6456240"/>
            <a:ext cx="27000" cy="38160"/>
          </a:xfrm>
          <a:custGeom>
            <a:avLst/>
            <a:gdLst/>
            <a:ahLst/>
            <a:rect l="l" t="t" r="r" b="b"/>
            <a:pathLst>
              <a:path w="36" h="48">
                <a:moveTo>
                  <a:pt x="27" y="48"/>
                </a:moveTo>
                <a:lnTo>
                  <a:pt x="19" y="37"/>
                </a:lnTo>
                <a:lnTo>
                  <a:pt x="12" y="24"/>
                </a:lnTo>
                <a:lnTo>
                  <a:pt x="6" y="13"/>
                </a:lnTo>
                <a:lnTo>
                  <a:pt x="0" y="2"/>
                </a:lnTo>
                <a:lnTo>
                  <a:pt x="5" y="1"/>
                </a:lnTo>
                <a:lnTo>
                  <a:pt x="9" y="1"/>
                </a:lnTo>
                <a:lnTo>
                  <a:pt x="14" y="1"/>
                </a:lnTo>
                <a:lnTo>
                  <a:pt x="19" y="0"/>
                </a:lnTo>
                <a:lnTo>
                  <a:pt x="23" y="0"/>
                </a:lnTo>
                <a:lnTo>
                  <a:pt x="28" y="0"/>
                </a:lnTo>
                <a:lnTo>
                  <a:pt x="32" y="1"/>
                </a:lnTo>
                <a:lnTo>
                  <a:pt x="36" y="1"/>
                </a:lnTo>
                <a:lnTo>
                  <a:pt x="35" y="12"/>
                </a:lnTo>
                <a:lnTo>
                  <a:pt x="34" y="25"/>
                </a:lnTo>
                <a:lnTo>
                  <a:pt x="30" y="38"/>
                </a:lnTo>
                <a:lnTo>
                  <a:pt x="27" y="4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1" name="Freeform 58"/>
          <p:cNvSpPr/>
          <p:nvPr/>
        </p:nvSpPr>
        <p:spPr>
          <a:xfrm>
            <a:off x="2244600" y="6550200"/>
            <a:ext cx="203400" cy="255240"/>
          </a:xfrm>
          <a:custGeom>
            <a:avLst/>
            <a:gdLst/>
            <a:ahLst/>
            <a:rect l="l" t="t" r="r" b="b"/>
            <a:pathLst>
              <a:path w="256" h="322">
                <a:moveTo>
                  <a:pt x="256" y="12"/>
                </a:moveTo>
                <a:lnTo>
                  <a:pt x="248" y="44"/>
                </a:lnTo>
                <a:lnTo>
                  <a:pt x="242" y="77"/>
                </a:lnTo>
                <a:lnTo>
                  <a:pt x="239" y="110"/>
                </a:lnTo>
                <a:lnTo>
                  <a:pt x="241" y="145"/>
                </a:lnTo>
                <a:lnTo>
                  <a:pt x="242" y="159"/>
                </a:lnTo>
                <a:lnTo>
                  <a:pt x="241" y="177"/>
                </a:lnTo>
                <a:lnTo>
                  <a:pt x="237" y="198"/>
                </a:lnTo>
                <a:lnTo>
                  <a:pt x="231" y="221"/>
                </a:lnTo>
                <a:lnTo>
                  <a:pt x="220" y="243"/>
                </a:lnTo>
                <a:lnTo>
                  <a:pt x="207" y="266"/>
                </a:lnTo>
                <a:lnTo>
                  <a:pt x="189" y="287"/>
                </a:lnTo>
                <a:lnTo>
                  <a:pt x="167" y="304"/>
                </a:lnTo>
                <a:lnTo>
                  <a:pt x="144" y="315"/>
                </a:lnTo>
                <a:lnTo>
                  <a:pt x="121" y="321"/>
                </a:lnTo>
                <a:lnTo>
                  <a:pt x="98" y="322"/>
                </a:lnTo>
                <a:lnTo>
                  <a:pt x="76" y="320"/>
                </a:lnTo>
                <a:lnTo>
                  <a:pt x="55" y="314"/>
                </a:lnTo>
                <a:lnTo>
                  <a:pt x="38" y="305"/>
                </a:lnTo>
                <a:lnTo>
                  <a:pt x="23" y="295"/>
                </a:lnTo>
                <a:lnTo>
                  <a:pt x="13" y="283"/>
                </a:lnTo>
                <a:lnTo>
                  <a:pt x="1" y="253"/>
                </a:lnTo>
                <a:lnTo>
                  <a:pt x="0" y="215"/>
                </a:lnTo>
                <a:lnTo>
                  <a:pt x="5" y="181"/>
                </a:lnTo>
                <a:lnTo>
                  <a:pt x="15" y="158"/>
                </a:lnTo>
                <a:lnTo>
                  <a:pt x="37" y="184"/>
                </a:lnTo>
                <a:lnTo>
                  <a:pt x="61" y="199"/>
                </a:lnTo>
                <a:lnTo>
                  <a:pt x="88" y="204"/>
                </a:lnTo>
                <a:lnTo>
                  <a:pt x="113" y="200"/>
                </a:lnTo>
                <a:lnTo>
                  <a:pt x="137" y="191"/>
                </a:lnTo>
                <a:lnTo>
                  <a:pt x="159" y="178"/>
                </a:lnTo>
                <a:lnTo>
                  <a:pt x="176" y="163"/>
                </a:lnTo>
                <a:lnTo>
                  <a:pt x="189" y="150"/>
                </a:lnTo>
                <a:lnTo>
                  <a:pt x="196" y="137"/>
                </a:lnTo>
                <a:lnTo>
                  <a:pt x="203" y="120"/>
                </a:lnTo>
                <a:lnTo>
                  <a:pt x="209" y="101"/>
                </a:lnTo>
                <a:lnTo>
                  <a:pt x="214" y="80"/>
                </a:lnTo>
                <a:lnTo>
                  <a:pt x="219" y="59"/>
                </a:lnTo>
                <a:lnTo>
                  <a:pt x="224" y="38"/>
                </a:lnTo>
                <a:lnTo>
                  <a:pt x="227" y="17"/>
                </a:lnTo>
                <a:lnTo>
                  <a:pt x="231" y="0"/>
                </a:lnTo>
                <a:lnTo>
                  <a:pt x="234" y="3"/>
                </a:lnTo>
                <a:lnTo>
                  <a:pt x="241" y="8"/>
                </a:lnTo>
                <a:lnTo>
                  <a:pt x="248" y="11"/>
                </a:lnTo>
                <a:lnTo>
                  <a:pt x="256" y="1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2" name="Freeform 59"/>
          <p:cNvSpPr/>
          <p:nvPr/>
        </p:nvSpPr>
        <p:spPr>
          <a:xfrm>
            <a:off x="2316240" y="6405480"/>
            <a:ext cx="95040" cy="38160"/>
          </a:xfrm>
          <a:custGeom>
            <a:avLst/>
            <a:gdLst/>
            <a:ahLst/>
            <a:rect l="l" t="t" r="r" b="b"/>
            <a:pathLst>
              <a:path w="120" h="47">
                <a:moveTo>
                  <a:pt x="0" y="30"/>
                </a:moveTo>
                <a:lnTo>
                  <a:pt x="8" y="32"/>
                </a:lnTo>
                <a:lnTo>
                  <a:pt x="17" y="36"/>
                </a:lnTo>
                <a:lnTo>
                  <a:pt x="25" y="40"/>
                </a:lnTo>
                <a:lnTo>
                  <a:pt x="33" y="47"/>
                </a:lnTo>
                <a:lnTo>
                  <a:pt x="38" y="45"/>
                </a:lnTo>
                <a:lnTo>
                  <a:pt x="43" y="41"/>
                </a:lnTo>
                <a:lnTo>
                  <a:pt x="48" y="39"/>
                </a:lnTo>
                <a:lnTo>
                  <a:pt x="55" y="37"/>
                </a:lnTo>
                <a:lnTo>
                  <a:pt x="61" y="36"/>
                </a:lnTo>
                <a:lnTo>
                  <a:pt x="68" y="36"/>
                </a:lnTo>
                <a:lnTo>
                  <a:pt x="74" y="37"/>
                </a:lnTo>
                <a:lnTo>
                  <a:pt x="79" y="40"/>
                </a:lnTo>
                <a:lnTo>
                  <a:pt x="85" y="40"/>
                </a:lnTo>
                <a:lnTo>
                  <a:pt x="91" y="39"/>
                </a:lnTo>
                <a:lnTo>
                  <a:pt x="97" y="38"/>
                </a:lnTo>
                <a:lnTo>
                  <a:pt x="101" y="37"/>
                </a:lnTo>
                <a:lnTo>
                  <a:pt x="106" y="37"/>
                </a:lnTo>
                <a:lnTo>
                  <a:pt x="111" y="36"/>
                </a:lnTo>
                <a:lnTo>
                  <a:pt x="115" y="37"/>
                </a:lnTo>
                <a:lnTo>
                  <a:pt x="120" y="37"/>
                </a:lnTo>
                <a:lnTo>
                  <a:pt x="116" y="26"/>
                </a:lnTo>
                <a:lnTo>
                  <a:pt x="113" y="18"/>
                </a:lnTo>
                <a:lnTo>
                  <a:pt x="109" y="13"/>
                </a:lnTo>
                <a:lnTo>
                  <a:pt x="104" y="8"/>
                </a:lnTo>
                <a:lnTo>
                  <a:pt x="98" y="6"/>
                </a:lnTo>
                <a:lnTo>
                  <a:pt x="91" y="3"/>
                </a:lnTo>
                <a:lnTo>
                  <a:pt x="83" y="2"/>
                </a:lnTo>
                <a:lnTo>
                  <a:pt x="75" y="2"/>
                </a:lnTo>
                <a:lnTo>
                  <a:pt x="67" y="2"/>
                </a:lnTo>
                <a:lnTo>
                  <a:pt x="58" y="3"/>
                </a:lnTo>
                <a:lnTo>
                  <a:pt x="51" y="4"/>
                </a:lnTo>
                <a:lnTo>
                  <a:pt x="43" y="4"/>
                </a:lnTo>
                <a:lnTo>
                  <a:pt x="36" y="6"/>
                </a:lnTo>
                <a:lnTo>
                  <a:pt x="29" y="4"/>
                </a:lnTo>
                <a:lnTo>
                  <a:pt x="23" y="3"/>
                </a:lnTo>
                <a:lnTo>
                  <a:pt x="17" y="0"/>
                </a:lnTo>
                <a:lnTo>
                  <a:pt x="10" y="4"/>
                </a:lnTo>
                <a:lnTo>
                  <a:pt x="5" y="13"/>
                </a:lnTo>
                <a:lnTo>
                  <a:pt x="1" y="21"/>
                </a:lnTo>
                <a:lnTo>
                  <a:pt x="0" y="3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3" name="Freeform 60"/>
          <p:cNvSpPr/>
          <p:nvPr/>
        </p:nvSpPr>
        <p:spPr>
          <a:xfrm>
            <a:off x="2427120" y="6405480"/>
            <a:ext cx="44640" cy="50760"/>
          </a:xfrm>
          <a:custGeom>
            <a:avLst/>
            <a:gdLst/>
            <a:ahLst/>
            <a:rect l="l" t="t" r="r" b="b"/>
            <a:pathLst>
              <a:path w="57" h="62">
                <a:moveTo>
                  <a:pt x="0" y="10"/>
                </a:moveTo>
                <a:lnTo>
                  <a:pt x="4" y="18"/>
                </a:lnTo>
                <a:lnTo>
                  <a:pt x="7" y="28"/>
                </a:lnTo>
                <a:lnTo>
                  <a:pt x="10" y="36"/>
                </a:lnTo>
                <a:lnTo>
                  <a:pt x="11" y="43"/>
                </a:lnTo>
                <a:lnTo>
                  <a:pt x="18" y="45"/>
                </a:lnTo>
                <a:lnTo>
                  <a:pt x="25" y="47"/>
                </a:lnTo>
                <a:lnTo>
                  <a:pt x="31" y="49"/>
                </a:lnTo>
                <a:lnTo>
                  <a:pt x="37" y="52"/>
                </a:lnTo>
                <a:lnTo>
                  <a:pt x="42" y="54"/>
                </a:lnTo>
                <a:lnTo>
                  <a:pt x="48" y="56"/>
                </a:lnTo>
                <a:lnTo>
                  <a:pt x="51" y="59"/>
                </a:lnTo>
                <a:lnTo>
                  <a:pt x="55" y="62"/>
                </a:lnTo>
                <a:lnTo>
                  <a:pt x="57" y="48"/>
                </a:lnTo>
                <a:lnTo>
                  <a:pt x="56" y="33"/>
                </a:lnTo>
                <a:lnTo>
                  <a:pt x="51" y="17"/>
                </a:lnTo>
                <a:lnTo>
                  <a:pt x="42" y="0"/>
                </a:lnTo>
                <a:lnTo>
                  <a:pt x="38" y="2"/>
                </a:lnTo>
                <a:lnTo>
                  <a:pt x="35" y="4"/>
                </a:lnTo>
                <a:lnTo>
                  <a:pt x="30" y="7"/>
                </a:lnTo>
                <a:lnTo>
                  <a:pt x="25" y="8"/>
                </a:lnTo>
                <a:lnTo>
                  <a:pt x="20" y="10"/>
                </a:lnTo>
                <a:lnTo>
                  <a:pt x="13" y="11"/>
                </a:lnTo>
                <a:lnTo>
                  <a:pt x="7" y="11"/>
                </a:lnTo>
                <a:lnTo>
                  <a:pt x="0" y="1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4" name="Freeform 61"/>
          <p:cNvSpPr/>
          <p:nvPr/>
        </p:nvSpPr>
        <p:spPr>
          <a:xfrm>
            <a:off x="1793880" y="6070680"/>
            <a:ext cx="22320" cy="31680"/>
          </a:xfrm>
          <a:custGeom>
            <a:avLst/>
            <a:gdLst/>
            <a:ahLst/>
            <a:rect l="l" t="t" r="r" b="b"/>
            <a:pathLst>
              <a:path w="29" h="40">
                <a:moveTo>
                  <a:pt x="15" y="0"/>
                </a:moveTo>
                <a:lnTo>
                  <a:pt x="7" y="7"/>
                </a:lnTo>
                <a:lnTo>
                  <a:pt x="1" y="20"/>
                </a:lnTo>
                <a:lnTo>
                  <a:pt x="0" y="32"/>
                </a:lnTo>
                <a:lnTo>
                  <a:pt x="7" y="40"/>
                </a:lnTo>
                <a:lnTo>
                  <a:pt x="13" y="40"/>
                </a:lnTo>
                <a:lnTo>
                  <a:pt x="20" y="37"/>
                </a:lnTo>
                <a:lnTo>
                  <a:pt x="24" y="32"/>
                </a:lnTo>
                <a:lnTo>
                  <a:pt x="28" y="27"/>
                </a:lnTo>
                <a:lnTo>
                  <a:pt x="29" y="20"/>
                </a:lnTo>
                <a:lnTo>
                  <a:pt x="28" y="13"/>
                </a:lnTo>
                <a:lnTo>
                  <a:pt x="23" y="6"/>
                </a:lnTo>
                <a:lnTo>
                  <a:pt x="15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5" name="Freeform 62"/>
          <p:cNvSpPr/>
          <p:nvPr/>
        </p:nvSpPr>
        <p:spPr>
          <a:xfrm>
            <a:off x="2344680" y="6450120"/>
            <a:ext cx="28800" cy="27000"/>
          </a:xfrm>
          <a:custGeom>
            <a:avLst/>
            <a:gdLst/>
            <a:ahLst/>
            <a:rect l="l" t="t" r="r" b="b"/>
            <a:pathLst>
              <a:path w="37" h="36">
                <a:moveTo>
                  <a:pt x="24" y="1"/>
                </a:moveTo>
                <a:lnTo>
                  <a:pt x="15" y="0"/>
                </a:lnTo>
                <a:lnTo>
                  <a:pt x="8" y="5"/>
                </a:lnTo>
                <a:lnTo>
                  <a:pt x="2" y="12"/>
                </a:lnTo>
                <a:lnTo>
                  <a:pt x="0" y="18"/>
                </a:lnTo>
                <a:lnTo>
                  <a:pt x="2" y="25"/>
                </a:lnTo>
                <a:lnTo>
                  <a:pt x="9" y="31"/>
                </a:lnTo>
                <a:lnTo>
                  <a:pt x="17" y="36"/>
                </a:lnTo>
                <a:lnTo>
                  <a:pt x="26" y="35"/>
                </a:lnTo>
                <a:lnTo>
                  <a:pt x="33" y="28"/>
                </a:lnTo>
                <a:lnTo>
                  <a:pt x="37" y="20"/>
                </a:lnTo>
                <a:lnTo>
                  <a:pt x="34" y="9"/>
                </a:lnTo>
                <a:lnTo>
                  <a:pt x="24" y="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6" name="Freeform 63"/>
          <p:cNvSpPr/>
          <p:nvPr/>
        </p:nvSpPr>
        <p:spPr>
          <a:xfrm>
            <a:off x="2440080" y="6518160"/>
            <a:ext cx="27000" cy="19080"/>
          </a:xfrm>
          <a:custGeom>
            <a:avLst/>
            <a:gdLst/>
            <a:ahLst/>
            <a:rect l="l" t="t" r="r" b="b"/>
            <a:pathLst>
              <a:path w="34" h="26">
                <a:moveTo>
                  <a:pt x="34" y="0"/>
                </a:moveTo>
                <a:lnTo>
                  <a:pt x="32" y="3"/>
                </a:lnTo>
                <a:lnTo>
                  <a:pt x="28" y="5"/>
                </a:lnTo>
                <a:lnTo>
                  <a:pt x="24" y="7"/>
                </a:lnTo>
                <a:lnTo>
                  <a:pt x="19" y="10"/>
                </a:lnTo>
                <a:lnTo>
                  <a:pt x="13" y="12"/>
                </a:lnTo>
                <a:lnTo>
                  <a:pt x="9" y="14"/>
                </a:lnTo>
                <a:lnTo>
                  <a:pt x="4" y="15"/>
                </a:lnTo>
                <a:lnTo>
                  <a:pt x="0" y="17"/>
                </a:lnTo>
                <a:lnTo>
                  <a:pt x="4" y="19"/>
                </a:lnTo>
                <a:lnTo>
                  <a:pt x="11" y="22"/>
                </a:lnTo>
                <a:lnTo>
                  <a:pt x="19" y="25"/>
                </a:lnTo>
                <a:lnTo>
                  <a:pt x="25" y="26"/>
                </a:lnTo>
                <a:lnTo>
                  <a:pt x="28" y="21"/>
                </a:lnTo>
                <a:lnTo>
                  <a:pt x="31" y="14"/>
                </a:lnTo>
                <a:lnTo>
                  <a:pt x="33" y="6"/>
                </a:lnTo>
                <a:lnTo>
                  <a:pt x="34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7" name="Oval 64"/>
          <p:cNvSpPr/>
          <p:nvPr/>
        </p:nvSpPr>
        <p:spPr>
          <a:xfrm>
            <a:off x="6705720" y="3657600"/>
            <a:ext cx="533160" cy="533520"/>
          </a:xfrm>
          <a:prstGeom prst="ellipse">
            <a:avLst/>
          </a:prstGeom>
          <a:solidFill>
            <a:srgbClr val="eaeaea"/>
          </a:solidFill>
          <a:ln cap="sq" w="1260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8" name="Oval 65"/>
          <p:cNvSpPr/>
          <p:nvPr/>
        </p:nvSpPr>
        <p:spPr>
          <a:xfrm>
            <a:off x="6858000" y="3657600"/>
            <a:ext cx="228600" cy="533520"/>
          </a:xfrm>
          <a:prstGeom prst="ellipse">
            <a:avLst/>
          </a:prstGeom>
          <a:solidFill>
            <a:srgbClr val="eaeaea"/>
          </a:solidFill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9" name="文本框 8200"/>
          <p:cNvSpPr/>
          <p:nvPr/>
        </p:nvSpPr>
        <p:spPr>
          <a:xfrm>
            <a:off x="755640" y="170172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ff33cc"/>
                </a:solidFill>
                <a:uFillTx/>
                <a:latin typeface="Arial"/>
                <a:ea typeface="宋体"/>
                <a:hlinkClick r:id="rId1"/>
              </a:rPr>
              <a:t>免费ppt模板下载</a:t>
            </a:r>
            <a:r>
              <a:rPr b="0" lang="zh-CN" sz="1600" spc="-1" strike="noStrike">
                <a:solidFill>
                  <a:srgbClr val="eaeaea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eaeaea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Freeform 3"/>
          <p:cNvSpPr/>
          <p:nvPr/>
        </p:nvSpPr>
        <p:spPr>
          <a:xfrm>
            <a:off x="1600200" y="2703600"/>
            <a:ext cx="1063800" cy="4154400"/>
          </a:xfrm>
          <a:custGeom>
            <a:avLst/>
            <a:gdLst/>
            <a:ahLst/>
            <a:rect l="l" t="t" r="r" b="b"/>
            <a:pathLst>
              <a:path w="1341" h="5235">
                <a:moveTo>
                  <a:pt x="844" y="4745"/>
                </a:moveTo>
                <a:lnTo>
                  <a:pt x="831" y="4745"/>
                </a:lnTo>
                <a:lnTo>
                  <a:pt x="818" y="4748"/>
                </a:lnTo>
                <a:lnTo>
                  <a:pt x="808" y="4750"/>
                </a:lnTo>
                <a:lnTo>
                  <a:pt x="799" y="4755"/>
                </a:lnTo>
                <a:lnTo>
                  <a:pt x="792" y="4759"/>
                </a:lnTo>
                <a:lnTo>
                  <a:pt x="788" y="4765"/>
                </a:lnTo>
                <a:lnTo>
                  <a:pt x="786" y="4773"/>
                </a:lnTo>
                <a:lnTo>
                  <a:pt x="788" y="4781"/>
                </a:lnTo>
                <a:lnTo>
                  <a:pt x="791" y="4786"/>
                </a:lnTo>
                <a:lnTo>
                  <a:pt x="793" y="4789"/>
                </a:lnTo>
                <a:lnTo>
                  <a:pt x="797" y="4793"/>
                </a:lnTo>
                <a:lnTo>
                  <a:pt x="801" y="4795"/>
                </a:lnTo>
                <a:lnTo>
                  <a:pt x="807" y="4796"/>
                </a:lnTo>
                <a:lnTo>
                  <a:pt x="811" y="4796"/>
                </a:lnTo>
                <a:lnTo>
                  <a:pt x="818" y="4796"/>
                </a:lnTo>
                <a:lnTo>
                  <a:pt x="824" y="4795"/>
                </a:lnTo>
                <a:lnTo>
                  <a:pt x="827" y="4783"/>
                </a:lnTo>
                <a:lnTo>
                  <a:pt x="833" y="4770"/>
                </a:lnTo>
                <a:lnTo>
                  <a:pt x="839" y="4756"/>
                </a:lnTo>
                <a:lnTo>
                  <a:pt x="844" y="4745"/>
                </a:lnTo>
                <a:lnTo>
                  <a:pt x="854" y="4720"/>
                </a:lnTo>
                <a:lnTo>
                  <a:pt x="860" y="4708"/>
                </a:lnTo>
                <a:lnTo>
                  <a:pt x="865" y="4699"/>
                </a:lnTo>
                <a:lnTo>
                  <a:pt x="871" y="4690"/>
                </a:lnTo>
                <a:lnTo>
                  <a:pt x="877" y="4683"/>
                </a:lnTo>
                <a:lnTo>
                  <a:pt x="880" y="4676"/>
                </a:lnTo>
                <a:lnTo>
                  <a:pt x="882" y="4669"/>
                </a:lnTo>
                <a:lnTo>
                  <a:pt x="880" y="4664"/>
                </a:lnTo>
                <a:lnTo>
                  <a:pt x="875" y="4658"/>
                </a:lnTo>
                <a:lnTo>
                  <a:pt x="864" y="4643"/>
                </a:lnTo>
                <a:lnTo>
                  <a:pt x="862" y="4626"/>
                </a:lnTo>
                <a:lnTo>
                  <a:pt x="867" y="4606"/>
                </a:lnTo>
                <a:lnTo>
                  <a:pt x="875" y="4590"/>
                </a:lnTo>
                <a:lnTo>
                  <a:pt x="877" y="4581"/>
                </a:lnTo>
                <a:lnTo>
                  <a:pt x="875" y="4570"/>
                </a:lnTo>
                <a:lnTo>
                  <a:pt x="870" y="4558"/>
                </a:lnTo>
                <a:lnTo>
                  <a:pt x="865" y="4544"/>
                </a:lnTo>
                <a:lnTo>
                  <a:pt x="861" y="4529"/>
                </a:lnTo>
                <a:lnTo>
                  <a:pt x="857" y="4514"/>
                </a:lnTo>
                <a:lnTo>
                  <a:pt x="857" y="4499"/>
                </a:lnTo>
                <a:lnTo>
                  <a:pt x="862" y="4485"/>
                </a:lnTo>
                <a:lnTo>
                  <a:pt x="872" y="4439"/>
                </a:lnTo>
                <a:lnTo>
                  <a:pt x="875" y="4382"/>
                </a:lnTo>
                <a:lnTo>
                  <a:pt x="869" y="4323"/>
                </a:lnTo>
                <a:lnTo>
                  <a:pt x="858" y="4265"/>
                </a:lnTo>
                <a:lnTo>
                  <a:pt x="850" y="4196"/>
                </a:lnTo>
                <a:lnTo>
                  <a:pt x="849" y="4109"/>
                </a:lnTo>
                <a:lnTo>
                  <a:pt x="850" y="4023"/>
                </a:lnTo>
                <a:lnTo>
                  <a:pt x="854" y="3954"/>
                </a:lnTo>
                <a:lnTo>
                  <a:pt x="847" y="3926"/>
                </a:lnTo>
                <a:lnTo>
                  <a:pt x="839" y="3893"/>
                </a:lnTo>
                <a:lnTo>
                  <a:pt x="829" y="3855"/>
                </a:lnTo>
                <a:lnTo>
                  <a:pt x="820" y="3814"/>
                </a:lnTo>
                <a:lnTo>
                  <a:pt x="812" y="3773"/>
                </a:lnTo>
                <a:lnTo>
                  <a:pt x="807" y="3734"/>
                </a:lnTo>
                <a:lnTo>
                  <a:pt x="804" y="3697"/>
                </a:lnTo>
                <a:lnTo>
                  <a:pt x="807" y="3666"/>
                </a:lnTo>
                <a:lnTo>
                  <a:pt x="812" y="3602"/>
                </a:lnTo>
                <a:lnTo>
                  <a:pt x="816" y="3535"/>
                </a:lnTo>
                <a:lnTo>
                  <a:pt x="817" y="3473"/>
                </a:lnTo>
                <a:lnTo>
                  <a:pt x="818" y="3433"/>
                </a:lnTo>
                <a:lnTo>
                  <a:pt x="811" y="3431"/>
                </a:lnTo>
                <a:lnTo>
                  <a:pt x="804" y="3426"/>
                </a:lnTo>
                <a:lnTo>
                  <a:pt x="799" y="3422"/>
                </a:lnTo>
                <a:lnTo>
                  <a:pt x="793" y="3416"/>
                </a:lnTo>
                <a:lnTo>
                  <a:pt x="788" y="3410"/>
                </a:lnTo>
                <a:lnTo>
                  <a:pt x="785" y="3405"/>
                </a:lnTo>
                <a:lnTo>
                  <a:pt x="784" y="3402"/>
                </a:lnTo>
                <a:lnTo>
                  <a:pt x="782" y="3401"/>
                </a:lnTo>
                <a:lnTo>
                  <a:pt x="787" y="3365"/>
                </a:lnTo>
                <a:lnTo>
                  <a:pt x="787" y="3320"/>
                </a:lnTo>
                <a:lnTo>
                  <a:pt x="780" y="3271"/>
                </a:lnTo>
                <a:lnTo>
                  <a:pt x="766" y="3221"/>
                </a:lnTo>
                <a:lnTo>
                  <a:pt x="761" y="3203"/>
                </a:lnTo>
                <a:lnTo>
                  <a:pt x="754" y="3180"/>
                </a:lnTo>
                <a:lnTo>
                  <a:pt x="748" y="3154"/>
                </a:lnTo>
                <a:lnTo>
                  <a:pt x="742" y="3127"/>
                </a:lnTo>
                <a:lnTo>
                  <a:pt x="734" y="3070"/>
                </a:lnTo>
                <a:lnTo>
                  <a:pt x="731" y="3010"/>
                </a:lnTo>
                <a:lnTo>
                  <a:pt x="733" y="2953"/>
                </a:lnTo>
                <a:lnTo>
                  <a:pt x="742" y="2901"/>
                </a:lnTo>
                <a:lnTo>
                  <a:pt x="729" y="2917"/>
                </a:lnTo>
                <a:lnTo>
                  <a:pt x="720" y="2941"/>
                </a:lnTo>
                <a:lnTo>
                  <a:pt x="713" y="2972"/>
                </a:lnTo>
                <a:lnTo>
                  <a:pt x="710" y="3007"/>
                </a:lnTo>
                <a:lnTo>
                  <a:pt x="709" y="3045"/>
                </a:lnTo>
                <a:lnTo>
                  <a:pt x="710" y="3082"/>
                </a:lnTo>
                <a:lnTo>
                  <a:pt x="713" y="3116"/>
                </a:lnTo>
                <a:lnTo>
                  <a:pt x="718" y="3146"/>
                </a:lnTo>
                <a:lnTo>
                  <a:pt x="705" y="3158"/>
                </a:lnTo>
                <a:lnTo>
                  <a:pt x="691" y="3179"/>
                </a:lnTo>
                <a:lnTo>
                  <a:pt x="676" y="3205"/>
                </a:lnTo>
                <a:lnTo>
                  <a:pt x="662" y="3235"/>
                </a:lnTo>
                <a:lnTo>
                  <a:pt x="647" y="3266"/>
                </a:lnTo>
                <a:lnTo>
                  <a:pt x="632" y="3296"/>
                </a:lnTo>
                <a:lnTo>
                  <a:pt x="619" y="3323"/>
                </a:lnTo>
                <a:lnTo>
                  <a:pt x="607" y="3341"/>
                </a:lnTo>
                <a:lnTo>
                  <a:pt x="596" y="3341"/>
                </a:lnTo>
                <a:lnTo>
                  <a:pt x="584" y="3339"/>
                </a:lnTo>
                <a:lnTo>
                  <a:pt x="574" y="3336"/>
                </a:lnTo>
                <a:lnTo>
                  <a:pt x="564" y="3333"/>
                </a:lnTo>
                <a:lnTo>
                  <a:pt x="554" y="3329"/>
                </a:lnTo>
                <a:lnTo>
                  <a:pt x="544" y="3325"/>
                </a:lnTo>
                <a:lnTo>
                  <a:pt x="534" y="3319"/>
                </a:lnTo>
                <a:lnTo>
                  <a:pt x="523" y="3313"/>
                </a:lnTo>
                <a:lnTo>
                  <a:pt x="513" y="3329"/>
                </a:lnTo>
                <a:lnTo>
                  <a:pt x="499" y="3349"/>
                </a:lnTo>
                <a:lnTo>
                  <a:pt x="483" y="3370"/>
                </a:lnTo>
                <a:lnTo>
                  <a:pt x="466" y="3392"/>
                </a:lnTo>
                <a:lnTo>
                  <a:pt x="448" y="3415"/>
                </a:lnTo>
                <a:lnTo>
                  <a:pt x="431" y="3435"/>
                </a:lnTo>
                <a:lnTo>
                  <a:pt x="415" y="3456"/>
                </a:lnTo>
                <a:lnTo>
                  <a:pt x="400" y="3473"/>
                </a:lnTo>
                <a:lnTo>
                  <a:pt x="385" y="3490"/>
                </a:lnTo>
                <a:lnTo>
                  <a:pt x="369" y="3507"/>
                </a:lnTo>
                <a:lnTo>
                  <a:pt x="352" y="3524"/>
                </a:lnTo>
                <a:lnTo>
                  <a:pt x="337" y="3541"/>
                </a:lnTo>
                <a:lnTo>
                  <a:pt x="324" y="3560"/>
                </a:lnTo>
                <a:lnTo>
                  <a:pt x="317" y="3577"/>
                </a:lnTo>
                <a:lnTo>
                  <a:pt x="315" y="3596"/>
                </a:lnTo>
                <a:lnTo>
                  <a:pt x="319" y="3613"/>
                </a:lnTo>
                <a:lnTo>
                  <a:pt x="330" y="3637"/>
                </a:lnTo>
                <a:lnTo>
                  <a:pt x="341" y="3672"/>
                </a:lnTo>
                <a:lnTo>
                  <a:pt x="353" y="3714"/>
                </a:lnTo>
                <a:lnTo>
                  <a:pt x="363" y="3764"/>
                </a:lnTo>
                <a:lnTo>
                  <a:pt x="372" y="3817"/>
                </a:lnTo>
                <a:lnTo>
                  <a:pt x="377" y="3871"/>
                </a:lnTo>
                <a:lnTo>
                  <a:pt x="377" y="3925"/>
                </a:lnTo>
                <a:lnTo>
                  <a:pt x="371" y="3977"/>
                </a:lnTo>
                <a:lnTo>
                  <a:pt x="379" y="3979"/>
                </a:lnTo>
                <a:lnTo>
                  <a:pt x="388" y="3984"/>
                </a:lnTo>
                <a:lnTo>
                  <a:pt x="397" y="3990"/>
                </a:lnTo>
                <a:lnTo>
                  <a:pt x="403" y="3996"/>
                </a:lnTo>
                <a:lnTo>
                  <a:pt x="410" y="4005"/>
                </a:lnTo>
                <a:lnTo>
                  <a:pt x="415" y="4014"/>
                </a:lnTo>
                <a:lnTo>
                  <a:pt x="416" y="4023"/>
                </a:lnTo>
                <a:lnTo>
                  <a:pt x="415" y="4033"/>
                </a:lnTo>
                <a:lnTo>
                  <a:pt x="428" y="4043"/>
                </a:lnTo>
                <a:lnTo>
                  <a:pt x="436" y="4055"/>
                </a:lnTo>
                <a:lnTo>
                  <a:pt x="440" y="4071"/>
                </a:lnTo>
                <a:lnTo>
                  <a:pt x="444" y="4090"/>
                </a:lnTo>
                <a:lnTo>
                  <a:pt x="461" y="4096"/>
                </a:lnTo>
                <a:lnTo>
                  <a:pt x="481" y="4104"/>
                </a:lnTo>
                <a:lnTo>
                  <a:pt x="501" y="4116"/>
                </a:lnTo>
                <a:lnTo>
                  <a:pt x="523" y="4131"/>
                </a:lnTo>
                <a:lnTo>
                  <a:pt x="545" y="4153"/>
                </a:lnTo>
                <a:lnTo>
                  <a:pt x="566" y="4179"/>
                </a:lnTo>
                <a:lnTo>
                  <a:pt x="585" y="4211"/>
                </a:lnTo>
                <a:lnTo>
                  <a:pt x="604" y="4250"/>
                </a:lnTo>
                <a:lnTo>
                  <a:pt x="598" y="4267"/>
                </a:lnTo>
                <a:lnTo>
                  <a:pt x="587" y="4287"/>
                </a:lnTo>
                <a:lnTo>
                  <a:pt x="572" y="4309"/>
                </a:lnTo>
                <a:lnTo>
                  <a:pt x="554" y="4331"/>
                </a:lnTo>
                <a:lnTo>
                  <a:pt x="535" y="4352"/>
                </a:lnTo>
                <a:lnTo>
                  <a:pt x="515" y="4372"/>
                </a:lnTo>
                <a:lnTo>
                  <a:pt x="496" y="4387"/>
                </a:lnTo>
                <a:lnTo>
                  <a:pt x="480" y="4397"/>
                </a:lnTo>
                <a:lnTo>
                  <a:pt x="466" y="4405"/>
                </a:lnTo>
                <a:lnTo>
                  <a:pt x="454" y="4414"/>
                </a:lnTo>
                <a:lnTo>
                  <a:pt x="446" y="4422"/>
                </a:lnTo>
                <a:lnTo>
                  <a:pt x="439" y="4432"/>
                </a:lnTo>
                <a:lnTo>
                  <a:pt x="433" y="4443"/>
                </a:lnTo>
                <a:lnTo>
                  <a:pt x="429" y="4455"/>
                </a:lnTo>
                <a:lnTo>
                  <a:pt x="425" y="4470"/>
                </a:lnTo>
                <a:lnTo>
                  <a:pt x="423" y="4485"/>
                </a:lnTo>
                <a:lnTo>
                  <a:pt x="414" y="4525"/>
                </a:lnTo>
                <a:lnTo>
                  <a:pt x="401" y="4560"/>
                </a:lnTo>
                <a:lnTo>
                  <a:pt x="385" y="4588"/>
                </a:lnTo>
                <a:lnTo>
                  <a:pt x="365" y="4611"/>
                </a:lnTo>
                <a:lnTo>
                  <a:pt x="345" y="4629"/>
                </a:lnTo>
                <a:lnTo>
                  <a:pt x="323" y="4644"/>
                </a:lnTo>
                <a:lnTo>
                  <a:pt x="301" y="4655"/>
                </a:lnTo>
                <a:lnTo>
                  <a:pt x="279" y="4666"/>
                </a:lnTo>
                <a:lnTo>
                  <a:pt x="257" y="4674"/>
                </a:lnTo>
                <a:lnTo>
                  <a:pt x="233" y="4681"/>
                </a:lnTo>
                <a:lnTo>
                  <a:pt x="208" y="4684"/>
                </a:lnTo>
                <a:lnTo>
                  <a:pt x="185" y="4685"/>
                </a:lnTo>
                <a:lnTo>
                  <a:pt x="162" y="4682"/>
                </a:lnTo>
                <a:lnTo>
                  <a:pt x="143" y="4673"/>
                </a:lnTo>
                <a:lnTo>
                  <a:pt x="128" y="4659"/>
                </a:lnTo>
                <a:lnTo>
                  <a:pt x="120" y="4637"/>
                </a:lnTo>
                <a:lnTo>
                  <a:pt x="115" y="4600"/>
                </a:lnTo>
                <a:lnTo>
                  <a:pt x="119" y="4563"/>
                </a:lnTo>
                <a:lnTo>
                  <a:pt x="128" y="4526"/>
                </a:lnTo>
                <a:lnTo>
                  <a:pt x="139" y="4492"/>
                </a:lnTo>
                <a:lnTo>
                  <a:pt x="149" y="4458"/>
                </a:lnTo>
                <a:lnTo>
                  <a:pt x="157" y="4429"/>
                </a:lnTo>
                <a:lnTo>
                  <a:pt x="160" y="4403"/>
                </a:lnTo>
                <a:lnTo>
                  <a:pt x="156" y="4381"/>
                </a:lnTo>
                <a:lnTo>
                  <a:pt x="136" y="4384"/>
                </a:lnTo>
                <a:lnTo>
                  <a:pt x="118" y="4382"/>
                </a:lnTo>
                <a:lnTo>
                  <a:pt x="104" y="4378"/>
                </a:lnTo>
                <a:lnTo>
                  <a:pt x="92" y="4370"/>
                </a:lnTo>
                <a:lnTo>
                  <a:pt x="84" y="4361"/>
                </a:lnTo>
                <a:lnTo>
                  <a:pt x="80" y="4349"/>
                </a:lnTo>
                <a:lnTo>
                  <a:pt x="81" y="4339"/>
                </a:lnTo>
                <a:lnTo>
                  <a:pt x="86" y="4327"/>
                </a:lnTo>
                <a:lnTo>
                  <a:pt x="94" y="4317"/>
                </a:lnTo>
                <a:lnTo>
                  <a:pt x="104" y="4306"/>
                </a:lnTo>
                <a:lnTo>
                  <a:pt x="115" y="4297"/>
                </a:lnTo>
                <a:lnTo>
                  <a:pt x="127" y="4289"/>
                </a:lnTo>
                <a:lnTo>
                  <a:pt x="140" y="4281"/>
                </a:lnTo>
                <a:lnTo>
                  <a:pt x="152" y="4274"/>
                </a:lnTo>
                <a:lnTo>
                  <a:pt x="164" y="4268"/>
                </a:lnTo>
                <a:lnTo>
                  <a:pt x="175" y="4265"/>
                </a:lnTo>
                <a:lnTo>
                  <a:pt x="173" y="4286"/>
                </a:lnTo>
                <a:lnTo>
                  <a:pt x="158" y="4291"/>
                </a:lnTo>
                <a:lnTo>
                  <a:pt x="145" y="4297"/>
                </a:lnTo>
                <a:lnTo>
                  <a:pt x="134" y="4305"/>
                </a:lnTo>
                <a:lnTo>
                  <a:pt x="124" y="4313"/>
                </a:lnTo>
                <a:lnTo>
                  <a:pt x="115" y="4321"/>
                </a:lnTo>
                <a:lnTo>
                  <a:pt x="110" y="4331"/>
                </a:lnTo>
                <a:lnTo>
                  <a:pt x="106" y="4340"/>
                </a:lnTo>
                <a:lnTo>
                  <a:pt x="105" y="4348"/>
                </a:lnTo>
                <a:lnTo>
                  <a:pt x="107" y="4352"/>
                </a:lnTo>
                <a:lnTo>
                  <a:pt x="111" y="4356"/>
                </a:lnTo>
                <a:lnTo>
                  <a:pt x="117" y="4357"/>
                </a:lnTo>
                <a:lnTo>
                  <a:pt x="124" y="4358"/>
                </a:lnTo>
                <a:lnTo>
                  <a:pt x="132" y="4358"/>
                </a:lnTo>
                <a:lnTo>
                  <a:pt x="141" y="4356"/>
                </a:lnTo>
                <a:lnTo>
                  <a:pt x="150" y="4354"/>
                </a:lnTo>
                <a:lnTo>
                  <a:pt x="160" y="4349"/>
                </a:lnTo>
                <a:lnTo>
                  <a:pt x="158" y="4335"/>
                </a:lnTo>
                <a:lnTo>
                  <a:pt x="160" y="4318"/>
                </a:lnTo>
                <a:lnTo>
                  <a:pt x="165" y="4299"/>
                </a:lnTo>
                <a:lnTo>
                  <a:pt x="173" y="4286"/>
                </a:lnTo>
                <a:lnTo>
                  <a:pt x="175" y="4265"/>
                </a:lnTo>
                <a:lnTo>
                  <a:pt x="177" y="4236"/>
                </a:lnTo>
                <a:lnTo>
                  <a:pt x="181" y="4214"/>
                </a:lnTo>
                <a:lnTo>
                  <a:pt x="189" y="4195"/>
                </a:lnTo>
                <a:lnTo>
                  <a:pt x="200" y="4177"/>
                </a:lnTo>
                <a:lnTo>
                  <a:pt x="194" y="4167"/>
                </a:lnTo>
                <a:lnTo>
                  <a:pt x="188" y="4154"/>
                </a:lnTo>
                <a:lnTo>
                  <a:pt x="182" y="4143"/>
                </a:lnTo>
                <a:lnTo>
                  <a:pt x="179" y="4129"/>
                </a:lnTo>
                <a:lnTo>
                  <a:pt x="177" y="4116"/>
                </a:lnTo>
                <a:lnTo>
                  <a:pt x="178" y="4105"/>
                </a:lnTo>
                <a:lnTo>
                  <a:pt x="181" y="4092"/>
                </a:lnTo>
                <a:lnTo>
                  <a:pt x="188" y="4082"/>
                </a:lnTo>
                <a:lnTo>
                  <a:pt x="171" y="4046"/>
                </a:lnTo>
                <a:lnTo>
                  <a:pt x="153" y="4009"/>
                </a:lnTo>
                <a:lnTo>
                  <a:pt x="135" y="3971"/>
                </a:lnTo>
                <a:lnTo>
                  <a:pt x="118" y="3932"/>
                </a:lnTo>
                <a:lnTo>
                  <a:pt x="101" y="3894"/>
                </a:lnTo>
                <a:lnTo>
                  <a:pt x="83" y="3856"/>
                </a:lnTo>
                <a:lnTo>
                  <a:pt x="67" y="3820"/>
                </a:lnTo>
                <a:lnTo>
                  <a:pt x="51" y="3786"/>
                </a:lnTo>
                <a:lnTo>
                  <a:pt x="37" y="3752"/>
                </a:lnTo>
                <a:lnTo>
                  <a:pt x="24" y="3721"/>
                </a:lnTo>
                <a:lnTo>
                  <a:pt x="14" y="3689"/>
                </a:lnTo>
                <a:lnTo>
                  <a:pt x="6" y="3658"/>
                </a:lnTo>
                <a:lnTo>
                  <a:pt x="1" y="3627"/>
                </a:lnTo>
                <a:lnTo>
                  <a:pt x="0" y="3596"/>
                </a:lnTo>
                <a:lnTo>
                  <a:pt x="4" y="3564"/>
                </a:lnTo>
                <a:lnTo>
                  <a:pt x="12" y="3533"/>
                </a:lnTo>
                <a:lnTo>
                  <a:pt x="23" y="3499"/>
                </a:lnTo>
                <a:lnTo>
                  <a:pt x="36" y="3458"/>
                </a:lnTo>
                <a:lnTo>
                  <a:pt x="50" y="3415"/>
                </a:lnTo>
                <a:lnTo>
                  <a:pt x="64" y="3371"/>
                </a:lnTo>
                <a:lnTo>
                  <a:pt x="77" y="3328"/>
                </a:lnTo>
                <a:lnTo>
                  <a:pt x="90" y="3289"/>
                </a:lnTo>
                <a:lnTo>
                  <a:pt x="102" y="3255"/>
                </a:lnTo>
                <a:lnTo>
                  <a:pt x="112" y="3229"/>
                </a:lnTo>
                <a:lnTo>
                  <a:pt x="102" y="3219"/>
                </a:lnTo>
                <a:lnTo>
                  <a:pt x="90" y="3207"/>
                </a:lnTo>
                <a:lnTo>
                  <a:pt x="80" y="3196"/>
                </a:lnTo>
                <a:lnTo>
                  <a:pt x="71" y="3184"/>
                </a:lnTo>
                <a:lnTo>
                  <a:pt x="62" y="3174"/>
                </a:lnTo>
                <a:lnTo>
                  <a:pt x="57" y="3166"/>
                </a:lnTo>
                <a:lnTo>
                  <a:pt x="52" y="3160"/>
                </a:lnTo>
                <a:lnTo>
                  <a:pt x="51" y="3158"/>
                </a:lnTo>
                <a:lnTo>
                  <a:pt x="62" y="3128"/>
                </a:lnTo>
                <a:lnTo>
                  <a:pt x="76" y="3098"/>
                </a:lnTo>
                <a:lnTo>
                  <a:pt x="91" y="3068"/>
                </a:lnTo>
                <a:lnTo>
                  <a:pt x="107" y="3037"/>
                </a:lnTo>
                <a:lnTo>
                  <a:pt x="126" y="3007"/>
                </a:lnTo>
                <a:lnTo>
                  <a:pt x="147" y="2977"/>
                </a:lnTo>
                <a:lnTo>
                  <a:pt x="168" y="2947"/>
                </a:lnTo>
                <a:lnTo>
                  <a:pt x="192" y="2917"/>
                </a:lnTo>
                <a:lnTo>
                  <a:pt x="215" y="2886"/>
                </a:lnTo>
                <a:lnTo>
                  <a:pt x="236" y="2855"/>
                </a:lnTo>
                <a:lnTo>
                  <a:pt x="257" y="2821"/>
                </a:lnTo>
                <a:lnTo>
                  <a:pt x="274" y="2788"/>
                </a:lnTo>
                <a:lnTo>
                  <a:pt x="289" y="2756"/>
                </a:lnTo>
                <a:lnTo>
                  <a:pt x="300" y="2723"/>
                </a:lnTo>
                <a:lnTo>
                  <a:pt x="308" y="2692"/>
                </a:lnTo>
                <a:lnTo>
                  <a:pt x="311" y="2662"/>
                </a:lnTo>
                <a:lnTo>
                  <a:pt x="316" y="2630"/>
                </a:lnTo>
                <a:lnTo>
                  <a:pt x="326" y="2592"/>
                </a:lnTo>
                <a:lnTo>
                  <a:pt x="340" y="2552"/>
                </a:lnTo>
                <a:lnTo>
                  <a:pt x="356" y="2510"/>
                </a:lnTo>
                <a:lnTo>
                  <a:pt x="375" y="2471"/>
                </a:lnTo>
                <a:lnTo>
                  <a:pt x="394" y="2438"/>
                </a:lnTo>
                <a:lnTo>
                  <a:pt x="414" y="2410"/>
                </a:lnTo>
                <a:lnTo>
                  <a:pt x="431" y="2394"/>
                </a:lnTo>
                <a:lnTo>
                  <a:pt x="436" y="2371"/>
                </a:lnTo>
                <a:lnTo>
                  <a:pt x="425" y="2367"/>
                </a:lnTo>
                <a:lnTo>
                  <a:pt x="417" y="2362"/>
                </a:lnTo>
                <a:lnTo>
                  <a:pt x="410" y="2354"/>
                </a:lnTo>
                <a:lnTo>
                  <a:pt x="405" y="2343"/>
                </a:lnTo>
                <a:lnTo>
                  <a:pt x="401" y="2329"/>
                </a:lnTo>
                <a:lnTo>
                  <a:pt x="400" y="2312"/>
                </a:lnTo>
                <a:lnTo>
                  <a:pt x="400" y="2293"/>
                </a:lnTo>
                <a:lnTo>
                  <a:pt x="403" y="2271"/>
                </a:lnTo>
                <a:lnTo>
                  <a:pt x="409" y="2244"/>
                </a:lnTo>
                <a:lnTo>
                  <a:pt x="418" y="2214"/>
                </a:lnTo>
                <a:lnTo>
                  <a:pt x="428" y="2181"/>
                </a:lnTo>
                <a:lnTo>
                  <a:pt x="438" y="2146"/>
                </a:lnTo>
                <a:lnTo>
                  <a:pt x="447" y="2112"/>
                </a:lnTo>
                <a:lnTo>
                  <a:pt x="453" y="2076"/>
                </a:lnTo>
                <a:lnTo>
                  <a:pt x="455" y="2043"/>
                </a:lnTo>
                <a:lnTo>
                  <a:pt x="452" y="2010"/>
                </a:lnTo>
                <a:lnTo>
                  <a:pt x="444" y="1980"/>
                </a:lnTo>
                <a:lnTo>
                  <a:pt x="435" y="1952"/>
                </a:lnTo>
                <a:lnTo>
                  <a:pt x="422" y="1923"/>
                </a:lnTo>
                <a:lnTo>
                  <a:pt x="409" y="1894"/>
                </a:lnTo>
                <a:lnTo>
                  <a:pt x="395" y="1869"/>
                </a:lnTo>
                <a:lnTo>
                  <a:pt x="382" y="1844"/>
                </a:lnTo>
                <a:lnTo>
                  <a:pt x="370" y="1823"/>
                </a:lnTo>
                <a:lnTo>
                  <a:pt x="360" y="1803"/>
                </a:lnTo>
                <a:lnTo>
                  <a:pt x="346" y="1765"/>
                </a:lnTo>
                <a:lnTo>
                  <a:pt x="339" y="1725"/>
                </a:lnTo>
                <a:lnTo>
                  <a:pt x="341" y="1681"/>
                </a:lnTo>
                <a:lnTo>
                  <a:pt x="352" y="1635"/>
                </a:lnTo>
                <a:lnTo>
                  <a:pt x="372" y="1594"/>
                </a:lnTo>
                <a:lnTo>
                  <a:pt x="393" y="1552"/>
                </a:lnTo>
                <a:lnTo>
                  <a:pt x="413" y="1510"/>
                </a:lnTo>
                <a:lnTo>
                  <a:pt x="432" y="1469"/>
                </a:lnTo>
                <a:lnTo>
                  <a:pt x="447" y="1431"/>
                </a:lnTo>
                <a:lnTo>
                  <a:pt x="459" y="1397"/>
                </a:lnTo>
                <a:lnTo>
                  <a:pt x="465" y="1369"/>
                </a:lnTo>
                <a:lnTo>
                  <a:pt x="463" y="1347"/>
                </a:lnTo>
                <a:lnTo>
                  <a:pt x="468" y="1342"/>
                </a:lnTo>
                <a:lnTo>
                  <a:pt x="473" y="1338"/>
                </a:lnTo>
                <a:lnTo>
                  <a:pt x="478" y="1334"/>
                </a:lnTo>
                <a:lnTo>
                  <a:pt x="483" y="1331"/>
                </a:lnTo>
                <a:lnTo>
                  <a:pt x="489" y="1327"/>
                </a:lnTo>
                <a:lnTo>
                  <a:pt x="496" y="1324"/>
                </a:lnTo>
                <a:lnTo>
                  <a:pt x="504" y="1321"/>
                </a:lnTo>
                <a:lnTo>
                  <a:pt x="512" y="1318"/>
                </a:lnTo>
                <a:lnTo>
                  <a:pt x="498" y="1309"/>
                </a:lnTo>
                <a:lnTo>
                  <a:pt x="485" y="1294"/>
                </a:lnTo>
                <a:lnTo>
                  <a:pt x="474" y="1274"/>
                </a:lnTo>
                <a:lnTo>
                  <a:pt x="463" y="1250"/>
                </a:lnTo>
                <a:lnTo>
                  <a:pt x="456" y="1223"/>
                </a:lnTo>
                <a:lnTo>
                  <a:pt x="452" y="1195"/>
                </a:lnTo>
                <a:lnTo>
                  <a:pt x="452" y="1165"/>
                </a:lnTo>
                <a:lnTo>
                  <a:pt x="456" y="1136"/>
                </a:lnTo>
                <a:lnTo>
                  <a:pt x="448" y="1116"/>
                </a:lnTo>
                <a:lnTo>
                  <a:pt x="445" y="1096"/>
                </a:lnTo>
                <a:lnTo>
                  <a:pt x="447" y="1075"/>
                </a:lnTo>
                <a:lnTo>
                  <a:pt x="453" y="1055"/>
                </a:lnTo>
                <a:lnTo>
                  <a:pt x="462" y="1037"/>
                </a:lnTo>
                <a:lnTo>
                  <a:pt x="471" y="1020"/>
                </a:lnTo>
                <a:lnTo>
                  <a:pt x="482" y="1006"/>
                </a:lnTo>
                <a:lnTo>
                  <a:pt x="491" y="994"/>
                </a:lnTo>
                <a:lnTo>
                  <a:pt x="499" y="982"/>
                </a:lnTo>
                <a:lnTo>
                  <a:pt x="505" y="963"/>
                </a:lnTo>
                <a:lnTo>
                  <a:pt x="511" y="942"/>
                </a:lnTo>
                <a:lnTo>
                  <a:pt x="516" y="920"/>
                </a:lnTo>
                <a:lnTo>
                  <a:pt x="522" y="900"/>
                </a:lnTo>
                <a:lnTo>
                  <a:pt x="530" y="882"/>
                </a:lnTo>
                <a:lnTo>
                  <a:pt x="539" y="871"/>
                </a:lnTo>
                <a:lnTo>
                  <a:pt x="553" y="866"/>
                </a:lnTo>
                <a:lnTo>
                  <a:pt x="567" y="866"/>
                </a:lnTo>
                <a:lnTo>
                  <a:pt x="577" y="865"/>
                </a:lnTo>
                <a:lnTo>
                  <a:pt x="585" y="863"/>
                </a:lnTo>
                <a:lnTo>
                  <a:pt x="594" y="858"/>
                </a:lnTo>
                <a:lnTo>
                  <a:pt x="599" y="854"/>
                </a:lnTo>
                <a:lnTo>
                  <a:pt x="604" y="848"/>
                </a:lnTo>
                <a:lnTo>
                  <a:pt x="610" y="840"/>
                </a:lnTo>
                <a:lnTo>
                  <a:pt x="615" y="831"/>
                </a:lnTo>
                <a:lnTo>
                  <a:pt x="621" y="820"/>
                </a:lnTo>
                <a:lnTo>
                  <a:pt x="627" y="810"/>
                </a:lnTo>
                <a:lnTo>
                  <a:pt x="633" y="801"/>
                </a:lnTo>
                <a:lnTo>
                  <a:pt x="640" y="793"/>
                </a:lnTo>
                <a:lnTo>
                  <a:pt x="647" y="787"/>
                </a:lnTo>
                <a:lnTo>
                  <a:pt x="655" y="782"/>
                </a:lnTo>
                <a:lnTo>
                  <a:pt x="664" y="781"/>
                </a:lnTo>
                <a:lnTo>
                  <a:pt x="675" y="782"/>
                </a:lnTo>
                <a:lnTo>
                  <a:pt x="687" y="787"/>
                </a:lnTo>
                <a:lnTo>
                  <a:pt x="696" y="793"/>
                </a:lnTo>
                <a:lnTo>
                  <a:pt x="704" y="798"/>
                </a:lnTo>
                <a:lnTo>
                  <a:pt x="711" y="804"/>
                </a:lnTo>
                <a:lnTo>
                  <a:pt x="718" y="809"/>
                </a:lnTo>
                <a:lnTo>
                  <a:pt x="725" y="810"/>
                </a:lnTo>
                <a:lnTo>
                  <a:pt x="733" y="809"/>
                </a:lnTo>
                <a:lnTo>
                  <a:pt x="742" y="802"/>
                </a:lnTo>
                <a:lnTo>
                  <a:pt x="753" y="794"/>
                </a:lnTo>
                <a:lnTo>
                  <a:pt x="763" y="789"/>
                </a:lnTo>
                <a:lnTo>
                  <a:pt x="774" y="786"/>
                </a:lnTo>
                <a:lnTo>
                  <a:pt x="784" y="785"/>
                </a:lnTo>
                <a:lnTo>
                  <a:pt x="794" y="785"/>
                </a:lnTo>
                <a:lnTo>
                  <a:pt x="802" y="787"/>
                </a:lnTo>
                <a:lnTo>
                  <a:pt x="809" y="791"/>
                </a:lnTo>
                <a:lnTo>
                  <a:pt x="815" y="798"/>
                </a:lnTo>
                <a:lnTo>
                  <a:pt x="819" y="805"/>
                </a:lnTo>
                <a:lnTo>
                  <a:pt x="823" y="812"/>
                </a:lnTo>
                <a:lnTo>
                  <a:pt x="826" y="818"/>
                </a:lnTo>
                <a:lnTo>
                  <a:pt x="830" y="823"/>
                </a:lnTo>
                <a:lnTo>
                  <a:pt x="833" y="827"/>
                </a:lnTo>
                <a:lnTo>
                  <a:pt x="838" y="829"/>
                </a:lnTo>
                <a:lnTo>
                  <a:pt x="844" y="831"/>
                </a:lnTo>
                <a:lnTo>
                  <a:pt x="850" y="831"/>
                </a:lnTo>
                <a:lnTo>
                  <a:pt x="858" y="831"/>
                </a:lnTo>
                <a:lnTo>
                  <a:pt x="867" y="832"/>
                </a:lnTo>
                <a:lnTo>
                  <a:pt x="875" y="836"/>
                </a:lnTo>
                <a:lnTo>
                  <a:pt x="882" y="842"/>
                </a:lnTo>
                <a:lnTo>
                  <a:pt x="888" y="849"/>
                </a:lnTo>
                <a:lnTo>
                  <a:pt x="894" y="857"/>
                </a:lnTo>
                <a:lnTo>
                  <a:pt x="898" y="865"/>
                </a:lnTo>
                <a:lnTo>
                  <a:pt x="899" y="874"/>
                </a:lnTo>
                <a:lnTo>
                  <a:pt x="901" y="889"/>
                </a:lnTo>
                <a:lnTo>
                  <a:pt x="908" y="901"/>
                </a:lnTo>
                <a:lnTo>
                  <a:pt x="918" y="914"/>
                </a:lnTo>
                <a:lnTo>
                  <a:pt x="930" y="931"/>
                </a:lnTo>
                <a:lnTo>
                  <a:pt x="931" y="911"/>
                </a:lnTo>
                <a:lnTo>
                  <a:pt x="928" y="891"/>
                </a:lnTo>
                <a:lnTo>
                  <a:pt x="921" y="868"/>
                </a:lnTo>
                <a:lnTo>
                  <a:pt x="914" y="843"/>
                </a:lnTo>
                <a:lnTo>
                  <a:pt x="906" y="818"/>
                </a:lnTo>
                <a:lnTo>
                  <a:pt x="900" y="791"/>
                </a:lnTo>
                <a:lnTo>
                  <a:pt x="895" y="765"/>
                </a:lnTo>
                <a:lnTo>
                  <a:pt x="894" y="738"/>
                </a:lnTo>
                <a:lnTo>
                  <a:pt x="895" y="707"/>
                </a:lnTo>
                <a:lnTo>
                  <a:pt x="895" y="672"/>
                </a:lnTo>
                <a:lnTo>
                  <a:pt x="893" y="631"/>
                </a:lnTo>
                <a:lnTo>
                  <a:pt x="888" y="589"/>
                </a:lnTo>
                <a:lnTo>
                  <a:pt x="880" y="546"/>
                </a:lnTo>
                <a:lnTo>
                  <a:pt x="870" y="505"/>
                </a:lnTo>
                <a:lnTo>
                  <a:pt x="856" y="465"/>
                </a:lnTo>
                <a:lnTo>
                  <a:pt x="839" y="432"/>
                </a:lnTo>
                <a:lnTo>
                  <a:pt x="824" y="452"/>
                </a:lnTo>
                <a:lnTo>
                  <a:pt x="808" y="471"/>
                </a:lnTo>
                <a:lnTo>
                  <a:pt x="789" y="487"/>
                </a:lnTo>
                <a:lnTo>
                  <a:pt x="770" y="503"/>
                </a:lnTo>
                <a:lnTo>
                  <a:pt x="749" y="517"/>
                </a:lnTo>
                <a:lnTo>
                  <a:pt x="727" y="529"/>
                </a:lnTo>
                <a:lnTo>
                  <a:pt x="704" y="538"/>
                </a:lnTo>
                <a:lnTo>
                  <a:pt x="680" y="546"/>
                </a:lnTo>
                <a:lnTo>
                  <a:pt x="667" y="554"/>
                </a:lnTo>
                <a:lnTo>
                  <a:pt x="652" y="561"/>
                </a:lnTo>
                <a:lnTo>
                  <a:pt x="636" y="568"/>
                </a:lnTo>
                <a:lnTo>
                  <a:pt x="620" y="574"/>
                </a:lnTo>
                <a:lnTo>
                  <a:pt x="603" y="578"/>
                </a:lnTo>
                <a:lnTo>
                  <a:pt x="587" y="583"/>
                </a:lnTo>
                <a:lnTo>
                  <a:pt x="572" y="589"/>
                </a:lnTo>
                <a:lnTo>
                  <a:pt x="559" y="594"/>
                </a:lnTo>
                <a:lnTo>
                  <a:pt x="547" y="603"/>
                </a:lnTo>
                <a:lnTo>
                  <a:pt x="536" y="615"/>
                </a:lnTo>
                <a:lnTo>
                  <a:pt x="526" y="630"/>
                </a:lnTo>
                <a:lnTo>
                  <a:pt x="514" y="647"/>
                </a:lnTo>
                <a:lnTo>
                  <a:pt x="504" y="667"/>
                </a:lnTo>
                <a:lnTo>
                  <a:pt x="494" y="687"/>
                </a:lnTo>
                <a:lnTo>
                  <a:pt x="485" y="705"/>
                </a:lnTo>
                <a:lnTo>
                  <a:pt x="476" y="722"/>
                </a:lnTo>
                <a:lnTo>
                  <a:pt x="466" y="741"/>
                </a:lnTo>
                <a:lnTo>
                  <a:pt x="454" y="763"/>
                </a:lnTo>
                <a:lnTo>
                  <a:pt x="441" y="786"/>
                </a:lnTo>
                <a:lnTo>
                  <a:pt x="428" y="811"/>
                </a:lnTo>
                <a:lnTo>
                  <a:pt x="416" y="836"/>
                </a:lnTo>
                <a:lnTo>
                  <a:pt x="405" y="861"/>
                </a:lnTo>
                <a:lnTo>
                  <a:pt x="397" y="882"/>
                </a:lnTo>
                <a:lnTo>
                  <a:pt x="392" y="902"/>
                </a:lnTo>
                <a:lnTo>
                  <a:pt x="388" y="924"/>
                </a:lnTo>
                <a:lnTo>
                  <a:pt x="384" y="953"/>
                </a:lnTo>
                <a:lnTo>
                  <a:pt x="378" y="986"/>
                </a:lnTo>
                <a:lnTo>
                  <a:pt x="372" y="1021"/>
                </a:lnTo>
                <a:lnTo>
                  <a:pt x="365" y="1055"/>
                </a:lnTo>
                <a:lnTo>
                  <a:pt x="359" y="1086"/>
                </a:lnTo>
                <a:lnTo>
                  <a:pt x="350" y="1112"/>
                </a:lnTo>
                <a:lnTo>
                  <a:pt x="344" y="1130"/>
                </a:lnTo>
                <a:lnTo>
                  <a:pt x="355" y="1146"/>
                </a:lnTo>
                <a:lnTo>
                  <a:pt x="370" y="1169"/>
                </a:lnTo>
                <a:lnTo>
                  <a:pt x="387" y="1197"/>
                </a:lnTo>
                <a:lnTo>
                  <a:pt x="407" y="1228"/>
                </a:lnTo>
                <a:lnTo>
                  <a:pt x="424" y="1260"/>
                </a:lnTo>
                <a:lnTo>
                  <a:pt x="441" y="1293"/>
                </a:lnTo>
                <a:lnTo>
                  <a:pt x="454" y="1321"/>
                </a:lnTo>
                <a:lnTo>
                  <a:pt x="463" y="1347"/>
                </a:lnTo>
                <a:lnTo>
                  <a:pt x="465" y="1369"/>
                </a:lnTo>
                <a:lnTo>
                  <a:pt x="459" y="1397"/>
                </a:lnTo>
                <a:lnTo>
                  <a:pt x="447" y="1431"/>
                </a:lnTo>
                <a:lnTo>
                  <a:pt x="432" y="1469"/>
                </a:lnTo>
                <a:lnTo>
                  <a:pt x="413" y="1510"/>
                </a:lnTo>
                <a:lnTo>
                  <a:pt x="393" y="1552"/>
                </a:lnTo>
                <a:lnTo>
                  <a:pt x="372" y="1594"/>
                </a:lnTo>
                <a:lnTo>
                  <a:pt x="352" y="1635"/>
                </a:lnTo>
                <a:lnTo>
                  <a:pt x="331" y="1606"/>
                </a:lnTo>
                <a:lnTo>
                  <a:pt x="312" y="1576"/>
                </a:lnTo>
                <a:lnTo>
                  <a:pt x="294" y="1546"/>
                </a:lnTo>
                <a:lnTo>
                  <a:pt x="277" y="1515"/>
                </a:lnTo>
                <a:lnTo>
                  <a:pt x="261" y="1486"/>
                </a:lnTo>
                <a:lnTo>
                  <a:pt x="243" y="1457"/>
                </a:lnTo>
                <a:lnTo>
                  <a:pt x="226" y="1431"/>
                </a:lnTo>
                <a:lnTo>
                  <a:pt x="209" y="1406"/>
                </a:lnTo>
                <a:lnTo>
                  <a:pt x="182" y="1367"/>
                </a:lnTo>
                <a:lnTo>
                  <a:pt x="159" y="1328"/>
                </a:lnTo>
                <a:lnTo>
                  <a:pt x="140" y="1289"/>
                </a:lnTo>
                <a:lnTo>
                  <a:pt x="124" y="1250"/>
                </a:lnTo>
                <a:lnTo>
                  <a:pt x="112" y="1212"/>
                </a:lnTo>
                <a:lnTo>
                  <a:pt x="104" y="1174"/>
                </a:lnTo>
                <a:lnTo>
                  <a:pt x="102" y="1139"/>
                </a:lnTo>
                <a:lnTo>
                  <a:pt x="104" y="1106"/>
                </a:lnTo>
                <a:lnTo>
                  <a:pt x="109" y="1076"/>
                </a:lnTo>
                <a:lnTo>
                  <a:pt x="115" y="1050"/>
                </a:lnTo>
                <a:lnTo>
                  <a:pt x="125" y="1025"/>
                </a:lnTo>
                <a:lnTo>
                  <a:pt x="135" y="1003"/>
                </a:lnTo>
                <a:lnTo>
                  <a:pt x="147" y="982"/>
                </a:lnTo>
                <a:lnTo>
                  <a:pt x="160" y="959"/>
                </a:lnTo>
                <a:lnTo>
                  <a:pt x="175" y="934"/>
                </a:lnTo>
                <a:lnTo>
                  <a:pt x="193" y="909"/>
                </a:lnTo>
                <a:lnTo>
                  <a:pt x="213" y="880"/>
                </a:lnTo>
                <a:lnTo>
                  <a:pt x="238" y="847"/>
                </a:lnTo>
                <a:lnTo>
                  <a:pt x="263" y="811"/>
                </a:lnTo>
                <a:lnTo>
                  <a:pt x="291" y="772"/>
                </a:lnTo>
                <a:lnTo>
                  <a:pt x="316" y="733"/>
                </a:lnTo>
                <a:lnTo>
                  <a:pt x="340" y="692"/>
                </a:lnTo>
                <a:lnTo>
                  <a:pt x="361" y="652"/>
                </a:lnTo>
                <a:lnTo>
                  <a:pt x="376" y="614"/>
                </a:lnTo>
                <a:lnTo>
                  <a:pt x="385" y="575"/>
                </a:lnTo>
                <a:lnTo>
                  <a:pt x="386" y="541"/>
                </a:lnTo>
                <a:lnTo>
                  <a:pt x="383" y="515"/>
                </a:lnTo>
                <a:lnTo>
                  <a:pt x="376" y="492"/>
                </a:lnTo>
                <a:lnTo>
                  <a:pt x="370" y="472"/>
                </a:lnTo>
                <a:lnTo>
                  <a:pt x="365" y="454"/>
                </a:lnTo>
                <a:lnTo>
                  <a:pt x="365" y="438"/>
                </a:lnTo>
                <a:lnTo>
                  <a:pt x="372" y="419"/>
                </a:lnTo>
                <a:lnTo>
                  <a:pt x="364" y="403"/>
                </a:lnTo>
                <a:lnTo>
                  <a:pt x="356" y="387"/>
                </a:lnTo>
                <a:lnTo>
                  <a:pt x="349" y="370"/>
                </a:lnTo>
                <a:lnTo>
                  <a:pt x="344" y="353"/>
                </a:lnTo>
                <a:lnTo>
                  <a:pt x="339" y="334"/>
                </a:lnTo>
                <a:lnTo>
                  <a:pt x="336" y="316"/>
                </a:lnTo>
                <a:lnTo>
                  <a:pt x="334" y="297"/>
                </a:lnTo>
                <a:lnTo>
                  <a:pt x="333" y="278"/>
                </a:lnTo>
                <a:lnTo>
                  <a:pt x="334" y="249"/>
                </a:lnTo>
                <a:lnTo>
                  <a:pt x="339" y="221"/>
                </a:lnTo>
                <a:lnTo>
                  <a:pt x="346" y="195"/>
                </a:lnTo>
                <a:lnTo>
                  <a:pt x="355" y="169"/>
                </a:lnTo>
                <a:lnTo>
                  <a:pt x="367" y="145"/>
                </a:lnTo>
                <a:lnTo>
                  <a:pt x="380" y="122"/>
                </a:lnTo>
                <a:lnTo>
                  <a:pt x="397" y="101"/>
                </a:lnTo>
                <a:lnTo>
                  <a:pt x="415" y="82"/>
                </a:lnTo>
                <a:lnTo>
                  <a:pt x="435" y="63"/>
                </a:lnTo>
                <a:lnTo>
                  <a:pt x="455" y="47"/>
                </a:lnTo>
                <a:lnTo>
                  <a:pt x="478" y="33"/>
                </a:lnTo>
                <a:lnTo>
                  <a:pt x="503" y="22"/>
                </a:lnTo>
                <a:lnTo>
                  <a:pt x="528" y="13"/>
                </a:lnTo>
                <a:lnTo>
                  <a:pt x="554" y="6"/>
                </a:lnTo>
                <a:lnTo>
                  <a:pt x="582" y="1"/>
                </a:lnTo>
                <a:lnTo>
                  <a:pt x="611" y="0"/>
                </a:lnTo>
                <a:lnTo>
                  <a:pt x="620" y="0"/>
                </a:lnTo>
                <a:lnTo>
                  <a:pt x="629" y="1"/>
                </a:lnTo>
                <a:lnTo>
                  <a:pt x="638" y="1"/>
                </a:lnTo>
                <a:lnTo>
                  <a:pt x="647" y="2"/>
                </a:lnTo>
                <a:lnTo>
                  <a:pt x="656" y="3"/>
                </a:lnTo>
                <a:lnTo>
                  <a:pt x="665" y="6"/>
                </a:lnTo>
                <a:lnTo>
                  <a:pt x="673" y="7"/>
                </a:lnTo>
                <a:lnTo>
                  <a:pt x="682" y="9"/>
                </a:lnTo>
                <a:lnTo>
                  <a:pt x="688" y="8"/>
                </a:lnTo>
                <a:lnTo>
                  <a:pt x="695" y="7"/>
                </a:lnTo>
                <a:lnTo>
                  <a:pt x="703" y="8"/>
                </a:lnTo>
                <a:lnTo>
                  <a:pt x="713" y="9"/>
                </a:lnTo>
                <a:lnTo>
                  <a:pt x="723" y="12"/>
                </a:lnTo>
                <a:lnTo>
                  <a:pt x="732" y="14"/>
                </a:lnTo>
                <a:lnTo>
                  <a:pt x="740" y="18"/>
                </a:lnTo>
                <a:lnTo>
                  <a:pt x="747" y="24"/>
                </a:lnTo>
                <a:lnTo>
                  <a:pt x="758" y="21"/>
                </a:lnTo>
                <a:lnTo>
                  <a:pt x="772" y="18"/>
                </a:lnTo>
                <a:lnTo>
                  <a:pt x="787" y="17"/>
                </a:lnTo>
                <a:lnTo>
                  <a:pt x="803" y="20"/>
                </a:lnTo>
                <a:lnTo>
                  <a:pt x="818" y="24"/>
                </a:lnTo>
                <a:lnTo>
                  <a:pt x="832" y="31"/>
                </a:lnTo>
                <a:lnTo>
                  <a:pt x="844" y="41"/>
                </a:lnTo>
                <a:lnTo>
                  <a:pt x="853" y="55"/>
                </a:lnTo>
                <a:lnTo>
                  <a:pt x="863" y="56"/>
                </a:lnTo>
                <a:lnTo>
                  <a:pt x="873" y="61"/>
                </a:lnTo>
                <a:lnTo>
                  <a:pt x="884" y="69"/>
                </a:lnTo>
                <a:lnTo>
                  <a:pt x="893" y="79"/>
                </a:lnTo>
                <a:lnTo>
                  <a:pt x="901" y="92"/>
                </a:lnTo>
                <a:lnTo>
                  <a:pt x="908" y="107"/>
                </a:lnTo>
                <a:lnTo>
                  <a:pt x="914" y="123"/>
                </a:lnTo>
                <a:lnTo>
                  <a:pt x="917" y="141"/>
                </a:lnTo>
                <a:lnTo>
                  <a:pt x="921" y="180"/>
                </a:lnTo>
                <a:lnTo>
                  <a:pt x="926" y="221"/>
                </a:lnTo>
                <a:lnTo>
                  <a:pt x="936" y="262"/>
                </a:lnTo>
                <a:lnTo>
                  <a:pt x="950" y="298"/>
                </a:lnTo>
                <a:lnTo>
                  <a:pt x="961" y="324"/>
                </a:lnTo>
                <a:lnTo>
                  <a:pt x="977" y="362"/>
                </a:lnTo>
                <a:lnTo>
                  <a:pt x="999" y="410"/>
                </a:lnTo>
                <a:lnTo>
                  <a:pt x="1021" y="462"/>
                </a:lnTo>
                <a:lnTo>
                  <a:pt x="1044" y="514"/>
                </a:lnTo>
                <a:lnTo>
                  <a:pt x="1066" y="561"/>
                </a:lnTo>
                <a:lnTo>
                  <a:pt x="1083" y="599"/>
                </a:lnTo>
                <a:lnTo>
                  <a:pt x="1096" y="623"/>
                </a:lnTo>
                <a:lnTo>
                  <a:pt x="1105" y="644"/>
                </a:lnTo>
                <a:lnTo>
                  <a:pt x="1114" y="670"/>
                </a:lnTo>
                <a:lnTo>
                  <a:pt x="1122" y="703"/>
                </a:lnTo>
                <a:lnTo>
                  <a:pt x="1130" y="738"/>
                </a:lnTo>
                <a:lnTo>
                  <a:pt x="1137" y="774"/>
                </a:lnTo>
                <a:lnTo>
                  <a:pt x="1143" y="809"/>
                </a:lnTo>
                <a:lnTo>
                  <a:pt x="1146" y="839"/>
                </a:lnTo>
                <a:lnTo>
                  <a:pt x="1149" y="864"/>
                </a:lnTo>
                <a:lnTo>
                  <a:pt x="1150" y="886"/>
                </a:lnTo>
                <a:lnTo>
                  <a:pt x="1152" y="909"/>
                </a:lnTo>
                <a:lnTo>
                  <a:pt x="1155" y="932"/>
                </a:lnTo>
                <a:lnTo>
                  <a:pt x="1158" y="956"/>
                </a:lnTo>
                <a:lnTo>
                  <a:pt x="1163" y="979"/>
                </a:lnTo>
                <a:lnTo>
                  <a:pt x="1168" y="1001"/>
                </a:lnTo>
                <a:lnTo>
                  <a:pt x="1175" y="1022"/>
                </a:lnTo>
                <a:lnTo>
                  <a:pt x="1183" y="1039"/>
                </a:lnTo>
                <a:lnTo>
                  <a:pt x="1194" y="1062"/>
                </a:lnTo>
                <a:lnTo>
                  <a:pt x="1204" y="1097"/>
                </a:lnTo>
                <a:lnTo>
                  <a:pt x="1214" y="1141"/>
                </a:lnTo>
                <a:lnTo>
                  <a:pt x="1225" y="1188"/>
                </a:lnTo>
                <a:lnTo>
                  <a:pt x="1233" y="1238"/>
                </a:lnTo>
                <a:lnTo>
                  <a:pt x="1239" y="1287"/>
                </a:lnTo>
                <a:lnTo>
                  <a:pt x="1241" y="1329"/>
                </a:lnTo>
                <a:lnTo>
                  <a:pt x="1240" y="1365"/>
                </a:lnTo>
                <a:lnTo>
                  <a:pt x="1255" y="1374"/>
                </a:lnTo>
                <a:lnTo>
                  <a:pt x="1273" y="1386"/>
                </a:lnTo>
                <a:lnTo>
                  <a:pt x="1292" y="1400"/>
                </a:lnTo>
                <a:lnTo>
                  <a:pt x="1309" y="1415"/>
                </a:lnTo>
                <a:lnTo>
                  <a:pt x="1324" y="1431"/>
                </a:lnTo>
                <a:lnTo>
                  <a:pt x="1335" y="1448"/>
                </a:lnTo>
                <a:lnTo>
                  <a:pt x="1341" y="1464"/>
                </a:lnTo>
                <a:lnTo>
                  <a:pt x="1339" y="1479"/>
                </a:lnTo>
                <a:lnTo>
                  <a:pt x="1331" y="1501"/>
                </a:lnTo>
                <a:lnTo>
                  <a:pt x="1323" y="1529"/>
                </a:lnTo>
                <a:lnTo>
                  <a:pt x="1316" y="1562"/>
                </a:lnTo>
                <a:lnTo>
                  <a:pt x="1309" y="1599"/>
                </a:lnTo>
                <a:lnTo>
                  <a:pt x="1303" y="1637"/>
                </a:lnTo>
                <a:lnTo>
                  <a:pt x="1300" y="1675"/>
                </a:lnTo>
                <a:lnTo>
                  <a:pt x="1297" y="1712"/>
                </a:lnTo>
                <a:lnTo>
                  <a:pt x="1299" y="1744"/>
                </a:lnTo>
                <a:lnTo>
                  <a:pt x="1297" y="1776"/>
                </a:lnTo>
                <a:lnTo>
                  <a:pt x="1293" y="1814"/>
                </a:lnTo>
                <a:lnTo>
                  <a:pt x="1286" y="1857"/>
                </a:lnTo>
                <a:lnTo>
                  <a:pt x="1278" y="1902"/>
                </a:lnTo>
                <a:lnTo>
                  <a:pt x="1270" y="1948"/>
                </a:lnTo>
                <a:lnTo>
                  <a:pt x="1265" y="1997"/>
                </a:lnTo>
                <a:lnTo>
                  <a:pt x="1265" y="2044"/>
                </a:lnTo>
                <a:lnTo>
                  <a:pt x="1271" y="2091"/>
                </a:lnTo>
                <a:lnTo>
                  <a:pt x="1276" y="2115"/>
                </a:lnTo>
                <a:lnTo>
                  <a:pt x="1278" y="2141"/>
                </a:lnTo>
                <a:lnTo>
                  <a:pt x="1277" y="2166"/>
                </a:lnTo>
                <a:lnTo>
                  <a:pt x="1271" y="2191"/>
                </a:lnTo>
                <a:lnTo>
                  <a:pt x="1259" y="2218"/>
                </a:lnTo>
                <a:lnTo>
                  <a:pt x="1242" y="2243"/>
                </a:lnTo>
                <a:lnTo>
                  <a:pt x="1217" y="2271"/>
                </a:lnTo>
                <a:lnTo>
                  <a:pt x="1181" y="2298"/>
                </a:lnTo>
                <a:lnTo>
                  <a:pt x="1187" y="2379"/>
                </a:lnTo>
                <a:lnTo>
                  <a:pt x="1202" y="2399"/>
                </a:lnTo>
                <a:lnTo>
                  <a:pt x="1214" y="2424"/>
                </a:lnTo>
                <a:lnTo>
                  <a:pt x="1226" y="2454"/>
                </a:lnTo>
                <a:lnTo>
                  <a:pt x="1234" y="2487"/>
                </a:lnTo>
                <a:lnTo>
                  <a:pt x="1241" y="2522"/>
                </a:lnTo>
                <a:lnTo>
                  <a:pt x="1247" y="2558"/>
                </a:lnTo>
                <a:lnTo>
                  <a:pt x="1249" y="2592"/>
                </a:lnTo>
                <a:lnTo>
                  <a:pt x="1250" y="2623"/>
                </a:lnTo>
                <a:lnTo>
                  <a:pt x="1249" y="2690"/>
                </a:lnTo>
                <a:lnTo>
                  <a:pt x="1247" y="2764"/>
                </a:lnTo>
                <a:lnTo>
                  <a:pt x="1244" y="2841"/>
                </a:lnTo>
                <a:lnTo>
                  <a:pt x="1240" y="2916"/>
                </a:lnTo>
                <a:lnTo>
                  <a:pt x="1240" y="2957"/>
                </a:lnTo>
                <a:lnTo>
                  <a:pt x="1242" y="3009"/>
                </a:lnTo>
                <a:lnTo>
                  <a:pt x="1248" y="3067"/>
                </a:lnTo>
                <a:lnTo>
                  <a:pt x="1256" y="3128"/>
                </a:lnTo>
                <a:lnTo>
                  <a:pt x="1265" y="3189"/>
                </a:lnTo>
                <a:lnTo>
                  <a:pt x="1277" y="3247"/>
                </a:lnTo>
                <a:lnTo>
                  <a:pt x="1289" y="3297"/>
                </a:lnTo>
                <a:lnTo>
                  <a:pt x="1303" y="3338"/>
                </a:lnTo>
                <a:lnTo>
                  <a:pt x="1293" y="3348"/>
                </a:lnTo>
                <a:lnTo>
                  <a:pt x="1282" y="3358"/>
                </a:lnTo>
                <a:lnTo>
                  <a:pt x="1272" y="3369"/>
                </a:lnTo>
                <a:lnTo>
                  <a:pt x="1261" y="3379"/>
                </a:lnTo>
                <a:lnTo>
                  <a:pt x="1247" y="3389"/>
                </a:lnTo>
                <a:lnTo>
                  <a:pt x="1233" y="3400"/>
                </a:lnTo>
                <a:lnTo>
                  <a:pt x="1216" y="3409"/>
                </a:lnTo>
                <a:lnTo>
                  <a:pt x="1197" y="3417"/>
                </a:lnTo>
                <a:lnTo>
                  <a:pt x="1186" y="3450"/>
                </a:lnTo>
                <a:lnTo>
                  <a:pt x="1175" y="3487"/>
                </a:lnTo>
                <a:lnTo>
                  <a:pt x="1166" y="3525"/>
                </a:lnTo>
                <a:lnTo>
                  <a:pt x="1159" y="3564"/>
                </a:lnTo>
                <a:lnTo>
                  <a:pt x="1153" y="3602"/>
                </a:lnTo>
                <a:lnTo>
                  <a:pt x="1150" y="3638"/>
                </a:lnTo>
                <a:lnTo>
                  <a:pt x="1149" y="3672"/>
                </a:lnTo>
                <a:lnTo>
                  <a:pt x="1149" y="3700"/>
                </a:lnTo>
                <a:lnTo>
                  <a:pt x="1153" y="3753"/>
                </a:lnTo>
                <a:lnTo>
                  <a:pt x="1159" y="3811"/>
                </a:lnTo>
                <a:lnTo>
                  <a:pt x="1166" y="3873"/>
                </a:lnTo>
                <a:lnTo>
                  <a:pt x="1175" y="3940"/>
                </a:lnTo>
                <a:lnTo>
                  <a:pt x="1182" y="4032"/>
                </a:lnTo>
                <a:lnTo>
                  <a:pt x="1176" y="4124"/>
                </a:lnTo>
                <a:lnTo>
                  <a:pt x="1163" y="4215"/>
                </a:lnTo>
                <a:lnTo>
                  <a:pt x="1144" y="4298"/>
                </a:lnTo>
                <a:lnTo>
                  <a:pt x="1125" y="4372"/>
                </a:lnTo>
                <a:lnTo>
                  <a:pt x="1107" y="4431"/>
                </a:lnTo>
                <a:lnTo>
                  <a:pt x="1096" y="4471"/>
                </a:lnTo>
                <a:lnTo>
                  <a:pt x="1095" y="4490"/>
                </a:lnTo>
                <a:lnTo>
                  <a:pt x="1100" y="4503"/>
                </a:lnTo>
                <a:lnTo>
                  <a:pt x="1099" y="4518"/>
                </a:lnTo>
                <a:lnTo>
                  <a:pt x="1096" y="4536"/>
                </a:lnTo>
                <a:lnTo>
                  <a:pt x="1090" y="4553"/>
                </a:lnTo>
                <a:lnTo>
                  <a:pt x="1089" y="4563"/>
                </a:lnTo>
                <a:lnTo>
                  <a:pt x="1090" y="4575"/>
                </a:lnTo>
                <a:lnTo>
                  <a:pt x="1094" y="4588"/>
                </a:lnTo>
                <a:lnTo>
                  <a:pt x="1098" y="4601"/>
                </a:lnTo>
                <a:lnTo>
                  <a:pt x="1100" y="4615"/>
                </a:lnTo>
                <a:lnTo>
                  <a:pt x="1103" y="4629"/>
                </a:lnTo>
                <a:lnTo>
                  <a:pt x="1102" y="4643"/>
                </a:lnTo>
                <a:lnTo>
                  <a:pt x="1096" y="4654"/>
                </a:lnTo>
                <a:lnTo>
                  <a:pt x="1103" y="4674"/>
                </a:lnTo>
                <a:lnTo>
                  <a:pt x="1110" y="4693"/>
                </a:lnTo>
                <a:lnTo>
                  <a:pt x="1118" y="4713"/>
                </a:lnTo>
                <a:lnTo>
                  <a:pt x="1123" y="4733"/>
                </a:lnTo>
                <a:lnTo>
                  <a:pt x="1128" y="4752"/>
                </a:lnTo>
                <a:lnTo>
                  <a:pt x="1130" y="4772"/>
                </a:lnTo>
                <a:lnTo>
                  <a:pt x="1129" y="4791"/>
                </a:lnTo>
                <a:lnTo>
                  <a:pt x="1122" y="4810"/>
                </a:lnTo>
                <a:lnTo>
                  <a:pt x="1117" y="4821"/>
                </a:lnTo>
                <a:lnTo>
                  <a:pt x="1111" y="4834"/>
                </a:lnTo>
                <a:lnTo>
                  <a:pt x="1104" y="4848"/>
                </a:lnTo>
                <a:lnTo>
                  <a:pt x="1098" y="4862"/>
                </a:lnTo>
                <a:lnTo>
                  <a:pt x="1105" y="4865"/>
                </a:lnTo>
                <a:lnTo>
                  <a:pt x="1113" y="4869"/>
                </a:lnTo>
                <a:lnTo>
                  <a:pt x="1119" y="4871"/>
                </a:lnTo>
                <a:lnTo>
                  <a:pt x="1121" y="4872"/>
                </a:lnTo>
                <a:lnTo>
                  <a:pt x="1114" y="4900"/>
                </a:lnTo>
                <a:lnTo>
                  <a:pt x="1111" y="4900"/>
                </a:lnTo>
                <a:lnTo>
                  <a:pt x="1103" y="4899"/>
                </a:lnTo>
                <a:lnTo>
                  <a:pt x="1094" y="4896"/>
                </a:lnTo>
                <a:lnTo>
                  <a:pt x="1085" y="4892"/>
                </a:lnTo>
                <a:lnTo>
                  <a:pt x="1079" y="4914"/>
                </a:lnTo>
                <a:lnTo>
                  <a:pt x="1073" y="4935"/>
                </a:lnTo>
                <a:lnTo>
                  <a:pt x="1070" y="4957"/>
                </a:lnTo>
                <a:lnTo>
                  <a:pt x="1070" y="4977"/>
                </a:lnTo>
                <a:lnTo>
                  <a:pt x="1070" y="5000"/>
                </a:lnTo>
                <a:lnTo>
                  <a:pt x="1069" y="5028"/>
                </a:lnTo>
                <a:lnTo>
                  <a:pt x="1066" y="5059"/>
                </a:lnTo>
                <a:lnTo>
                  <a:pt x="1060" y="5091"/>
                </a:lnTo>
                <a:lnTo>
                  <a:pt x="1051" y="5123"/>
                </a:lnTo>
                <a:lnTo>
                  <a:pt x="1039" y="5153"/>
                </a:lnTo>
                <a:lnTo>
                  <a:pt x="1023" y="5180"/>
                </a:lnTo>
                <a:lnTo>
                  <a:pt x="1002" y="5199"/>
                </a:lnTo>
                <a:lnTo>
                  <a:pt x="991" y="5207"/>
                </a:lnTo>
                <a:lnTo>
                  <a:pt x="977" y="5214"/>
                </a:lnTo>
                <a:lnTo>
                  <a:pt x="963" y="5220"/>
                </a:lnTo>
                <a:lnTo>
                  <a:pt x="948" y="5226"/>
                </a:lnTo>
                <a:lnTo>
                  <a:pt x="932" y="5229"/>
                </a:lnTo>
                <a:lnTo>
                  <a:pt x="916" y="5233"/>
                </a:lnTo>
                <a:lnTo>
                  <a:pt x="900" y="5234"/>
                </a:lnTo>
                <a:lnTo>
                  <a:pt x="884" y="5235"/>
                </a:lnTo>
                <a:lnTo>
                  <a:pt x="868" y="5234"/>
                </a:lnTo>
                <a:lnTo>
                  <a:pt x="852" y="5230"/>
                </a:lnTo>
                <a:lnTo>
                  <a:pt x="838" y="5226"/>
                </a:lnTo>
                <a:lnTo>
                  <a:pt x="824" y="5220"/>
                </a:lnTo>
                <a:lnTo>
                  <a:pt x="811" y="5211"/>
                </a:lnTo>
                <a:lnTo>
                  <a:pt x="800" y="5200"/>
                </a:lnTo>
                <a:lnTo>
                  <a:pt x="791" y="5189"/>
                </a:lnTo>
                <a:lnTo>
                  <a:pt x="782" y="5174"/>
                </a:lnTo>
                <a:lnTo>
                  <a:pt x="773" y="5145"/>
                </a:lnTo>
                <a:lnTo>
                  <a:pt x="770" y="5112"/>
                </a:lnTo>
                <a:lnTo>
                  <a:pt x="770" y="5075"/>
                </a:lnTo>
                <a:lnTo>
                  <a:pt x="773" y="5036"/>
                </a:lnTo>
                <a:lnTo>
                  <a:pt x="778" y="4995"/>
                </a:lnTo>
                <a:lnTo>
                  <a:pt x="785" y="4956"/>
                </a:lnTo>
                <a:lnTo>
                  <a:pt x="793" y="4917"/>
                </a:lnTo>
                <a:lnTo>
                  <a:pt x="801" y="4881"/>
                </a:lnTo>
                <a:lnTo>
                  <a:pt x="795" y="4884"/>
                </a:lnTo>
                <a:lnTo>
                  <a:pt x="789" y="4885"/>
                </a:lnTo>
                <a:lnTo>
                  <a:pt x="784" y="4885"/>
                </a:lnTo>
                <a:lnTo>
                  <a:pt x="778" y="4885"/>
                </a:lnTo>
                <a:lnTo>
                  <a:pt x="771" y="4884"/>
                </a:lnTo>
                <a:lnTo>
                  <a:pt x="766" y="4881"/>
                </a:lnTo>
                <a:lnTo>
                  <a:pt x="761" y="4880"/>
                </a:lnTo>
                <a:lnTo>
                  <a:pt x="757" y="4878"/>
                </a:lnTo>
                <a:lnTo>
                  <a:pt x="759" y="4861"/>
                </a:lnTo>
                <a:lnTo>
                  <a:pt x="761" y="4861"/>
                </a:lnTo>
                <a:lnTo>
                  <a:pt x="764" y="4862"/>
                </a:lnTo>
                <a:lnTo>
                  <a:pt x="770" y="4862"/>
                </a:lnTo>
                <a:lnTo>
                  <a:pt x="777" y="4862"/>
                </a:lnTo>
                <a:lnTo>
                  <a:pt x="785" y="4861"/>
                </a:lnTo>
                <a:lnTo>
                  <a:pt x="794" y="4859"/>
                </a:lnTo>
                <a:lnTo>
                  <a:pt x="802" y="4857"/>
                </a:lnTo>
                <a:lnTo>
                  <a:pt x="810" y="4852"/>
                </a:lnTo>
                <a:lnTo>
                  <a:pt x="811" y="4846"/>
                </a:lnTo>
                <a:lnTo>
                  <a:pt x="812" y="4840"/>
                </a:lnTo>
                <a:lnTo>
                  <a:pt x="814" y="4835"/>
                </a:lnTo>
                <a:lnTo>
                  <a:pt x="815" y="4829"/>
                </a:lnTo>
                <a:lnTo>
                  <a:pt x="796" y="4829"/>
                </a:lnTo>
                <a:lnTo>
                  <a:pt x="781" y="4826"/>
                </a:lnTo>
                <a:lnTo>
                  <a:pt x="770" y="4820"/>
                </a:lnTo>
                <a:lnTo>
                  <a:pt x="761" y="4813"/>
                </a:lnTo>
                <a:lnTo>
                  <a:pt x="755" y="4804"/>
                </a:lnTo>
                <a:lnTo>
                  <a:pt x="751" y="4793"/>
                </a:lnTo>
                <a:lnTo>
                  <a:pt x="751" y="4781"/>
                </a:lnTo>
                <a:lnTo>
                  <a:pt x="755" y="4770"/>
                </a:lnTo>
                <a:lnTo>
                  <a:pt x="761" y="4758"/>
                </a:lnTo>
                <a:lnTo>
                  <a:pt x="770" y="4748"/>
                </a:lnTo>
                <a:lnTo>
                  <a:pt x="781" y="4738"/>
                </a:lnTo>
                <a:lnTo>
                  <a:pt x="794" y="4730"/>
                </a:lnTo>
                <a:lnTo>
                  <a:pt x="808" y="4725"/>
                </a:lnTo>
                <a:lnTo>
                  <a:pt x="824" y="4721"/>
                </a:lnTo>
                <a:lnTo>
                  <a:pt x="839" y="4720"/>
                </a:lnTo>
                <a:lnTo>
                  <a:pt x="854" y="4720"/>
                </a:lnTo>
                <a:lnTo>
                  <a:pt x="844" y="474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1" name="Freeform 4"/>
          <p:cNvSpPr/>
          <p:nvPr/>
        </p:nvSpPr>
        <p:spPr>
          <a:xfrm>
            <a:off x="2176560" y="4986360"/>
            <a:ext cx="27000" cy="195120"/>
          </a:xfrm>
          <a:custGeom>
            <a:avLst/>
            <a:gdLst/>
            <a:ahLst/>
            <a:rect l="l" t="t" r="r" b="b"/>
            <a:pathLst>
              <a:path w="33" h="245">
                <a:moveTo>
                  <a:pt x="33" y="226"/>
                </a:moveTo>
                <a:lnTo>
                  <a:pt x="25" y="169"/>
                </a:lnTo>
                <a:lnTo>
                  <a:pt x="22" y="109"/>
                </a:lnTo>
                <a:lnTo>
                  <a:pt x="24" y="52"/>
                </a:lnTo>
                <a:lnTo>
                  <a:pt x="33" y="0"/>
                </a:lnTo>
                <a:lnTo>
                  <a:pt x="20" y="16"/>
                </a:lnTo>
                <a:lnTo>
                  <a:pt x="11" y="40"/>
                </a:lnTo>
                <a:lnTo>
                  <a:pt x="4" y="71"/>
                </a:lnTo>
                <a:lnTo>
                  <a:pt x="1" y="106"/>
                </a:lnTo>
                <a:lnTo>
                  <a:pt x="0" y="144"/>
                </a:lnTo>
                <a:lnTo>
                  <a:pt x="1" y="181"/>
                </a:lnTo>
                <a:lnTo>
                  <a:pt x="4" y="215"/>
                </a:lnTo>
                <a:lnTo>
                  <a:pt x="9" y="245"/>
                </a:lnTo>
                <a:lnTo>
                  <a:pt x="15" y="241"/>
                </a:lnTo>
                <a:lnTo>
                  <a:pt x="22" y="234"/>
                </a:lnTo>
                <a:lnTo>
                  <a:pt x="27" y="228"/>
                </a:lnTo>
                <a:lnTo>
                  <a:pt x="33" y="22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2" name="Freeform 6"/>
          <p:cNvSpPr/>
          <p:nvPr/>
        </p:nvSpPr>
        <p:spPr>
          <a:xfrm>
            <a:off x="2122560" y="2711520"/>
            <a:ext cx="33120" cy="28440"/>
          </a:xfrm>
          <a:custGeom>
            <a:avLst/>
            <a:gdLst/>
            <a:ahLst/>
            <a:rect l="l" t="t" r="r" b="b"/>
            <a:pathLst>
              <a:path w="41" h="35">
                <a:moveTo>
                  <a:pt x="41" y="35"/>
                </a:moveTo>
                <a:lnTo>
                  <a:pt x="38" y="26"/>
                </a:lnTo>
                <a:lnTo>
                  <a:pt x="34" y="17"/>
                </a:lnTo>
                <a:lnTo>
                  <a:pt x="31" y="9"/>
                </a:lnTo>
                <a:lnTo>
                  <a:pt x="26" y="0"/>
                </a:lnTo>
                <a:lnTo>
                  <a:pt x="18" y="3"/>
                </a:lnTo>
                <a:lnTo>
                  <a:pt x="10" y="10"/>
                </a:lnTo>
                <a:lnTo>
                  <a:pt x="3" y="16"/>
                </a:lnTo>
                <a:lnTo>
                  <a:pt x="0" y="18"/>
                </a:lnTo>
                <a:lnTo>
                  <a:pt x="41" y="3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3" name="Freeform 9"/>
          <p:cNvSpPr/>
          <p:nvPr/>
        </p:nvSpPr>
        <p:spPr>
          <a:xfrm rot="7740600">
            <a:off x="2572200" y="3519720"/>
            <a:ext cx="318960" cy="895320"/>
          </a:xfrm>
          <a:custGeom>
            <a:avLst/>
            <a:gdLst/>
            <a:ahLst/>
            <a:rect l="l" t="t" r="r" b="b"/>
            <a:pathLst>
              <a:path w="404" h="1128">
                <a:moveTo>
                  <a:pt x="404" y="117"/>
                </a:moveTo>
                <a:lnTo>
                  <a:pt x="390" y="135"/>
                </a:lnTo>
                <a:lnTo>
                  <a:pt x="370" y="167"/>
                </a:lnTo>
                <a:lnTo>
                  <a:pt x="346" y="208"/>
                </a:lnTo>
                <a:lnTo>
                  <a:pt x="321" y="253"/>
                </a:lnTo>
                <a:lnTo>
                  <a:pt x="295" y="299"/>
                </a:lnTo>
                <a:lnTo>
                  <a:pt x="273" y="342"/>
                </a:lnTo>
                <a:lnTo>
                  <a:pt x="256" y="380"/>
                </a:lnTo>
                <a:lnTo>
                  <a:pt x="247" y="408"/>
                </a:lnTo>
                <a:lnTo>
                  <a:pt x="241" y="433"/>
                </a:lnTo>
                <a:lnTo>
                  <a:pt x="233" y="468"/>
                </a:lnTo>
                <a:lnTo>
                  <a:pt x="224" y="507"/>
                </a:lnTo>
                <a:lnTo>
                  <a:pt x="214" y="549"/>
                </a:lnTo>
                <a:lnTo>
                  <a:pt x="201" y="590"/>
                </a:lnTo>
                <a:lnTo>
                  <a:pt x="188" y="627"/>
                </a:lnTo>
                <a:lnTo>
                  <a:pt x="176" y="658"/>
                </a:lnTo>
                <a:lnTo>
                  <a:pt x="162" y="680"/>
                </a:lnTo>
                <a:lnTo>
                  <a:pt x="156" y="685"/>
                </a:lnTo>
                <a:lnTo>
                  <a:pt x="149" y="690"/>
                </a:lnTo>
                <a:lnTo>
                  <a:pt x="143" y="697"/>
                </a:lnTo>
                <a:lnTo>
                  <a:pt x="138" y="703"/>
                </a:lnTo>
                <a:lnTo>
                  <a:pt x="133" y="710"/>
                </a:lnTo>
                <a:lnTo>
                  <a:pt x="131" y="716"/>
                </a:lnTo>
                <a:lnTo>
                  <a:pt x="131" y="720"/>
                </a:lnTo>
                <a:lnTo>
                  <a:pt x="135" y="725"/>
                </a:lnTo>
                <a:lnTo>
                  <a:pt x="142" y="727"/>
                </a:lnTo>
                <a:lnTo>
                  <a:pt x="151" y="729"/>
                </a:lnTo>
                <a:lnTo>
                  <a:pt x="162" y="731"/>
                </a:lnTo>
                <a:lnTo>
                  <a:pt x="173" y="732"/>
                </a:lnTo>
                <a:lnTo>
                  <a:pt x="185" y="735"/>
                </a:lnTo>
                <a:lnTo>
                  <a:pt x="196" y="740"/>
                </a:lnTo>
                <a:lnTo>
                  <a:pt x="206" y="749"/>
                </a:lnTo>
                <a:lnTo>
                  <a:pt x="215" y="763"/>
                </a:lnTo>
                <a:lnTo>
                  <a:pt x="224" y="779"/>
                </a:lnTo>
                <a:lnTo>
                  <a:pt x="235" y="797"/>
                </a:lnTo>
                <a:lnTo>
                  <a:pt x="248" y="816"/>
                </a:lnTo>
                <a:lnTo>
                  <a:pt x="261" y="834"/>
                </a:lnTo>
                <a:lnTo>
                  <a:pt x="273" y="855"/>
                </a:lnTo>
                <a:lnTo>
                  <a:pt x="286" y="876"/>
                </a:lnTo>
                <a:lnTo>
                  <a:pt x="295" y="897"/>
                </a:lnTo>
                <a:lnTo>
                  <a:pt x="303" y="918"/>
                </a:lnTo>
                <a:lnTo>
                  <a:pt x="300" y="947"/>
                </a:lnTo>
                <a:lnTo>
                  <a:pt x="292" y="976"/>
                </a:lnTo>
                <a:lnTo>
                  <a:pt x="283" y="1003"/>
                </a:lnTo>
                <a:lnTo>
                  <a:pt x="272" y="1028"/>
                </a:lnTo>
                <a:lnTo>
                  <a:pt x="260" y="1054"/>
                </a:lnTo>
                <a:lnTo>
                  <a:pt x="247" y="1079"/>
                </a:lnTo>
                <a:lnTo>
                  <a:pt x="235" y="1104"/>
                </a:lnTo>
                <a:lnTo>
                  <a:pt x="224" y="1128"/>
                </a:lnTo>
                <a:lnTo>
                  <a:pt x="209" y="1099"/>
                </a:lnTo>
                <a:lnTo>
                  <a:pt x="188" y="1065"/>
                </a:lnTo>
                <a:lnTo>
                  <a:pt x="164" y="1027"/>
                </a:lnTo>
                <a:lnTo>
                  <a:pt x="139" y="986"/>
                </a:lnTo>
                <a:lnTo>
                  <a:pt x="112" y="946"/>
                </a:lnTo>
                <a:lnTo>
                  <a:pt x="87" y="908"/>
                </a:lnTo>
                <a:lnTo>
                  <a:pt x="65" y="872"/>
                </a:lnTo>
                <a:lnTo>
                  <a:pt x="47" y="842"/>
                </a:lnTo>
                <a:lnTo>
                  <a:pt x="36" y="823"/>
                </a:lnTo>
                <a:lnTo>
                  <a:pt x="27" y="800"/>
                </a:lnTo>
                <a:lnTo>
                  <a:pt x="19" y="774"/>
                </a:lnTo>
                <a:lnTo>
                  <a:pt x="12" y="749"/>
                </a:lnTo>
                <a:lnTo>
                  <a:pt x="6" y="723"/>
                </a:lnTo>
                <a:lnTo>
                  <a:pt x="2" y="696"/>
                </a:lnTo>
                <a:lnTo>
                  <a:pt x="0" y="670"/>
                </a:lnTo>
                <a:lnTo>
                  <a:pt x="0" y="645"/>
                </a:lnTo>
                <a:lnTo>
                  <a:pt x="4" y="621"/>
                </a:lnTo>
                <a:lnTo>
                  <a:pt x="10" y="596"/>
                </a:lnTo>
                <a:lnTo>
                  <a:pt x="19" y="570"/>
                </a:lnTo>
                <a:lnTo>
                  <a:pt x="30" y="545"/>
                </a:lnTo>
                <a:lnTo>
                  <a:pt x="44" y="520"/>
                </a:lnTo>
                <a:lnTo>
                  <a:pt x="59" y="497"/>
                </a:lnTo>
                <a:lnTo>
                  <a:pt x="75" y="474"/>
                </a:lnTo>
                <a:lnTo>
                  <a:pt x="93" y="453"/>
                </a:lnTo>
                <a:lnTo>
                  <a:pt x="110" y="431"/>
                </a:lnTo>
                <a:lnTo>
                  <a:pt x="128" y="406"/>
                </a:lnTo>
                <a:lnTo>
                  <a:pt x="148" y="378"/>
                </a:lnTo>
                <a:lnTo>
                  <a:pt x="165" y="350"/>
                </a:lnTo>
                <a:lnTo>
                  <a:pt x="182" y="324"/>
                </a:lnTo>
                <a:lnTo>
                  <a:pt x="199" y="299"/>
                </a:lnTo>
                <a:lnTo>
                  <a:pt x="211" y="277"/>
                </a:lnTo>
                <a:lnTo>
                  <a:pt x="220" y="261"/>
                </a:lnTo>
                <a:lnTo>
                  <a:pt x="233" y="238"/>
                </a:lnTo>
                <a:lnTo>
                  <a:pt x="246" y="212"/>
                </a:lnTo>
                <a:lnTo>
                  <a:pt x="257" y="182"/>
                </a:lnTo>
                <a:lnTo>
                  <a:pt x="268" y="151"/>
                </a:lnTo>
                <a:lnTo>
                  <a:pt x="275" y="117"/>
                </a:lnTo>
                <a:lnTo>
                  <a:pt x="277" y="81"/>
                </a:lnTo>
                <a:lnTo>
                  <a:pt x="273" y="43"/>
                </a:lnTo>
                <a:lnTo>
                  <a:pt x="263" y="5"/>
                </a:lnTo>
                <a:lnTo>
                  <a:pt x="265" y="1"/>
                </a:lnTo>
                <a:lnTo>
                  <a:pt x="268" y="0"/>
                </a:lnTo>
                <a:lnTo>
                  <a:pt x="272" y="3"/>
                </a:lnTo>
                <a:lnTo>
                  <a:pt x="278" y="6"/>
                </a:lnTo>
                <a:lnTo>
                  <a:pt x="284" y="12"/>
                </a:lnTo>
                <a:lnTo>
                  <a:pt x="291" y="19"/>
                </a:lnTo>
                <a:lnTo>
                  <a:pt x="298" y="26"/>
                </a:lnTo>
                <a:lnTo>
                  <a:pt x="303" y="35"/>
                </a:lnTo>
                <a:lnTo>
                  <a:pt x="311" y="45"/>
                </a:lnTo>
                <a:lnTo>
                  <a:pt x="322" y="57"/>
                </a:lnTo>
                <a:lnTo>
                  <a:pt x="335" y="70"/>
                </a:lnTo>
                <a:lnTo>
                  <a:pt x="350" y="83"/>
                </a:lnTo>
                <a:lnTo>
                  <a:pt x="364" y="96"/>
                </a:lnTo>
                <a:lnTo>
                  <a:pt x="379" y="106"/>
                </a:lnTo>
                <a:lnTo>
                  <a:pt x="392" y="113"/>
                </a:lnTo>
                <a:lnTo>
                  <a:pt x="404" y="11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4" name="Freeform 10"/>
          <p:cNvSpPr/>
          <p:nvPr/>
        </p:nvSpPr>
        <p:spPr>
          <a:xfrm>
            <a:off x="1981080" y="3429000"/>
            <a:ext cx="317520" cy="474840"/>
          </a:xfrm>
          <a:custGeom>
            <a:avLst/>
            <a:gdLst/>
            <a:ahLst/>
            <a:rect l="l" t="t" r="r" b="b"/>
            <a:pathLst>
              <a:path w="399" h="597">
                <a:moveTo>
                  <a:pt x="117" y="264"/>
                </a:moveTo>
                <a:lnTo>
                  <a:pt x="126" y="265"/>
                </a:lnTo>
                <a:lnTo>
                  <a:pt x="134" y="265"/>
                </a:lnTo>
                <a:lnTo>
                  <a:pt x="144" y="264"/>
                </a:lnTo>
                <a:lnTo>
                  <a:pt x="152" y="262"/>
                </a:lnTo>
                <a:lnTo>
                  <a:pt x="161" y="259"/>
                </a:lnTo>
                <a:lnTo>
                  <a:pt x="169" y="255"/>
                </a:lnTo>
                <a:lnTo>
                  <a:pt x="178" y="249"/>
                </a:lnTo>
                <a:lnTo>
                  <a:pt x="186" y="242"/>
                </a:lnTo>
                <a:lnTo>
                  <a:pt x="195" y="234"/>
                </a:lnTo>
                <a:lnTo>
                  <a:pt x="208" y="227"/>
                </a:lnTo>
                <a:lnTo>
                  <a:pt x="222" y="221"/>
                </a:lnTo>
                <a:lnTo>
                  <a:pt x="238" y="218"/>
                </a:lnTo>
                <a:lnTo>
                  <a:pt x="253" y="216"/>
                </a:lnTo>
                <a:lnTo>
                  <a:pt x="268" y="216"/>
                </a:lnTo>
                <a:lnTo>
                  <a:pt x="282" y="219"/>
                </a:lnTo>
                <a:lnTo>
                  <a:pt x="293" y="225"/>
                </a:lnTo>
                <a:lnTo>
                  <a:pt x="304" y="232"/>
                </a:lnTo>
                <a:lnTo>
                  <a:pt x="314" y="239"/>
                </a:lnTo>
                <a:lnTo>
                  <a:pt x="324" y="243"/>
                </a:lnTo>
                <a:lnTo>
                  <a:pt x="334" y="248"/>
                </a:lnTo>
                <a:lnTo>
                  <a:pt x="343" y="251"/>
                </a:lnTo>
                <a:lnTo>
                  <a:pt x="352" y="253"/>
                </a:lnTo>
                <a:lnTo>
                  <a:pt x="359" y="253"/>
                </a:lnTo>
                <a:lnTo>
                  <a:pt x="366" y="250"/>
                </a:lnTo>
                <a:lnTo>
                  <a:pt x="372" y="247"/>
                </a:lnTo>
                <a:lnTo>
                  <a:pt x="379" y="241"/>
                </a:lnTo>
                <a:lnTo>
                  <a:pt x="385" y="233"/>
                </a:lnTo>
                <a:lnTo>
                  <a:pt x="392" y="224"/>
                </a:lnTo>
                <a:lnTo>
                  <a:pt x="397" y="212"/>
                </a:lnTo>
                <a:lnTo>
                  <a:pt x="399" y="198"/>
                </a:lnTo>
                <a:lnTo>
                  <a:pt x="399" y="181"/>
                </a:lnTo>
                <a:lnTo>
                  <a:pt x="396" y="163"/>
                </a:lnTo>
                <a:lnTo>
                  <a:pt x="390" y="143"/>
                </a:lnTo>
                <a:lnTo>
                  <a:pt x="384" y="124"/>
                </a:lnTo>
                <a:lnTo>
                  <a:pt x="379" y="105"/>
                </a:lnTo>
                <a:lnTo>
                  <a:pt x="370" y="87"/>
                </a:lnTo>
                <a:lnTo>
                  <a:pt x="360" y="69"/>
                </a:lnTo>
                <a:lnTo>
                  <a:pt x="347" y="53"/>
                </a:lnTo>
                <a:lnTo>
                  <a:pt x="330" y="38"/>
                </a:lnTo>
                <a:lnTo>
                  <a:pt x="309" y="24"/>
                </a:lnTo>
                <a:lnTo>
                  <a:pt x="285" y="13"/>
                </a:lnTo>
                <a:lnTo>
                  <a:pt x="261" y="6"/>
                </a:lnTo>
                <a:lnTo>
                  <a:pt x="238" y="1"/>
                </a:lnTo>
                <a:lnTo>
                  <a:pt x="216" y="0"/>
                </a:lnTo>
                <a:lnTo>
                  <a:pt x="194" y="3"/>
                </a:lnTo>
                <a:lnTo>
                  <a:pt x="173" y="7"/>
                </a:lnTo>
                <a:lnTo>
                  <a:pt x="155" y="13"/>
                </a:lnTo>
                <a:lnTo>
                  <a:pt x="139" y="22"/>
                </a:lnTo>
                <a:lnTo>
                  <a:pt x="124" y="32"/>
                </a:lnTo>
                <a:lnTo>
                  <a:pt x="110" y="43"/>
                </a:lnTo>
                <a:lnTo>
                  <a:pt x="97" y="54"/>
                </a:lnTo>
                <a:lnTo>
                  <a:pt x="88" y="66"/>
                </a:lnTo>
                <a:lnTo>
                  <a:pt x="80" y="77"/>
                </a:lnTo>
                <a:lnTo>
                  <a:pt x="76" y="90"/>
                </a:lnTo>
                <a:lnTo>
                  <a:pt x="73" y="102"/>
                </a:lnTo>
                <a:lnTo>
                  <a:pt x="74" y="114"/>
                </a:lnTo>
                <a:lnTo>
                  <a:pt x="80" y="143"/>
                </a:lnTo>
                <a:lnTo>
                  <a:pt x="84" y="178"/>
                </a:lnTo>
                <a:lnTo>
                  <a:pt x="79" y="205"/>
                </a:lnTo>
                <a:lnTo>
                  <a:pt x="64" y="220"/>
                </a:lnTo>
                <a:lnTo>
                  <a:pt x="55" y="220"/>
                </a:lnTo>
                <a:lnTo>
                  <a:pt x="48" y="218"/>
                </a:lnTo>
                <a:lnTo>
                  <a:pt x="42" y="215"/>
                </a:lnTo>
                <a:lnTo>
                  <a:pt x="39" y="209"/>
                </a:lnTo>
                <a:lnTo>
                  <a:pt x="34" y="204"/>
                </a:lnTo>
                <a:lnTo>
                  <a:pt x="29" y="200"/>
                </a:lnTo>
                <a:lnTo>
                  <a:pt x="24" y="196"/>
                </a:lnTo>
                <a:lnTo>
                  <a:pt x="17" y="196"/>
                </a:lnTo>
                <a:lnTo>
                  <a:pt x="4" y="205"/>
                </a:lnTo>
                <a:lnTo>
                  <a:pt x="0" y="224"/>
                </a:lnTo>
                <a:lnTo>
                  <a:pt x="0" y="244"/>
                </a:lnTo>
                <a:lnTo>
                  <a:pt x="4" y="264"/>
                </a:lnTo>
                <a:lnTo>
                  <a:pt x="8" y="273"/>
                </a:lnTo>
                <a:lnTo>
                  <a:pt x="11" y="284"/>
                </a:lnTo>
                <a:lnTo>
                  <a:pt x="16" y="295"/>
                </a:lnTo>
                <a:lnTo>
                  <a:pt x="20" y="306"/>
                </a:lnTo>
                <a:lnTo>
                  <a:pt x="25" y="316"/>
                </a:lnTo>
                <a:lnTo>
                  <a:pt x="31" y="324"/>
                </a:lnTo>
                <a:lnTo>
                  <a:pt x="36" y="330"/>
                </a:lnTo>
                <a:lnTo>
                  <a:pt x="42" y="331"/>
                </a:lnTo>
                <a:lnTo>
                  <a:pt x="48" y="330"/>
                </a:lnTo>
                <a:lnTo>
                  <a:pt x="55" y="326"/>
                </a:lnTo>
                <a:lnTo>
                  <a:pt x="59" y="322"/>
                </a:lnTo>
                <a:lnTo>
                  <a:pt x="65" y="316"/>
                </a:lnTo>
                <a:lnTo>
                  <a:pt x="69" y="309"/>
                </a:lnTo>
                <a:lnTo>
                  <a:pt x="72" y="301"/>
                </a:lnTo>
                <a:lnTo>
                  <a:pt x="73" y="293"/>
                </a:lnTo>
                <a:lnTo>
                  <a:pt x="72" y="285"/>
                </a:lnTo>
                <a:lnTo>
                  <a:pt x="79" y="294"/>
                </a:lnTo>
                <a:lnTo>
                  <a:pt x="84" y="306"/>
                </a:lnTo>
                <a:lnTo>
                  <a:pt x="84" y="319"/>
                </a:lnTo>
                <a:lnTo>
                  <a:pt x="80" y="332"/>
                </a:lnTo>
                <a:lnTo>
                  <a:pt x="87" y="340"/>
                </a:lnTo>
                <a:lnTo>
                  <a:pt x="94" y="348"/>
                </a:lnTo>
                <a:lnTo>
                  <a:pt x="100" y="357"/>
                </a:lnTo>
                <a:lnTo>
                  <a:pt x="104" y="368"/>
                </a:lnTo>
                <a:lnTo>
                  <a:pt x="108" y="379"/>
                </a:lnTo>
                <a:lnTo>
                  <a:pt x="111" y="391"/>
                </a:lnTo>
                <a:lnTo>
                  <a:pt x="114" y="403"/>
                </a:lnTo>
                <a:lnTo>
                  <a:pt x="115" y="418"/>
                </a:lnTo>
                <a:lnTo>
                  <a:pt x="115" y="450"/>
                </a:lnTo>
                <a:lnTo>
                  <a:pt x="112" y="482"/>
                </a:lnTo>
                <a:lnTo>
                  <a:pt x="107" y="512"/>
                </a:lnTo>
                <a:lnTo>
                  <a:pt x="99" y="536"/>
                </a:lnTo>
                <a:lnTo>
                  <a:pt x="93" y="556"/>
                </a:lnTo>
                <a:lnTo>
                  <a:pt x="91" y="572"/>
                </a:lnTo>
                <a:lnTo>
                  <a:pt x="91" y="584"/>
                </a:lnTo>
                <a:lnTo>
                  <a:pt x="88" y="596"/>
                </a:lnTo>
                <a:lnTo>
                  <a:pt x="99" y="597"/>
                </a:lnTo>
                <a:lnTo>
                  <a:pt x="107" y="597"/>
                </a:lnTo>
                <a:lnTo>
                  <a:pt x="114" y="596"/>
                </a:lnTo>
                <a:lnTo>
                  <a:pt x="119" y="595"/>
                </a:lnTo>
                <a:lnTo>
                  <a:pt x="125" y="592"/>
                </a:lnTo>
                <a:lnTo>
                  <a:pt x="131" y="588"/>
                </a:lnTo>
                <a:lnTo>
                  <a:pt x="138" y="581"/>
                </a:lnTo>
                <a:lnTo>
                  <a:pt x="145" y="573"/>
                </a:lnTo>
                <a:lnTo>
                  <a:pt x="153" y="562"/>
                </a:lnTo>
                <a:lnTo>
                  <a:pt x="161" y="553"/>
                </a:lnTo>
                <a:lnTo>
                  <a:pt x="170" y="545"/>
                </a:lnTo>
                <a:lnTo>
                  <a:pt x="178" y="536"/>
                </a:lnTo>
                <a:lnTo>
                  <a:pt x="187" y="529"/>
                </a:lnTo>
                <a:lnTo>
                  <a:pt x="195" y="523"/>
                </a:lnTo>
                <a:lnTo>
                  <a:pt x="202" y="518"/>
                </a:lnTo>
                <a:lnTo>
                  <a:pt x="208" y="514"/>
                </a:lnTo>
                <a:lnTo>
                  <a:pt x="214" y="509"/>
                </a:lnTo>
                <a:lnTo>
                  <a:pt x="221" y="504"/>
                </a:lnTo>
                <a:lnTo>
                  <a:pt x="228" y="496"/>
                </a:lnTo>
                <a:lnTo>
                  <a:pt x="235" y="486"/>
                </a:lnTo>
                <a:lnTo>
                  <a:pt x="241" y="476"/>
                </a:lnTo>
                <a:lnTo>
                  <a:pt x="247" y="465"/>
                </a:lnTo>
                <a:lnTo>
                  <a:pt x="253" y="453"/>
                </a:lnTo>
                <a:lnTo>
                  <a:pt x="258" y="440"/>
                </a:lnTo>
                <a:lnTo>
                  <a:pt x="261" y="428"/>
                </a:lnTo>
                <a:lnTo>
                  <a:pt x="266" y="414"/>
                </a:lnTo>
                <a:lnTo>
                  <a:pt x="271" y="400"/>
                </a:lnTo>
                <a:lnTo>
                  <a:pt x="277" y="386"/>
                </a:lnTo>
                <a:lnTo>
                  <a:pt x="284" y="372"/>
                </a:lnTo>
                <a:lnTo>
                  <a:pt x="291" y="360"/>
                </a:lnTo>
                <a:lnTo>
                  <a:pt x="298" y="349"/>
                </a:lnTo>
                <a:lnTo>
                  <a:pt x="305" y="340"/>
                </a:lnTo>
                <a:lnTo>
                  <a:pt x="313" y="333"/>
                </a:lnTo>
                <a:lnTo>
                  <a:pt x="320" y="326"/>
                </a:lnTo>
                <a:lnTo>
                  <a:pt x="328" y="319"/>
                </a:lnTo>
                <a:lnTo>
                  <a:pt x="335" y="312"/>
                </a:lnTo>
                <a:lnTo>
                  <a:pt x="342" y="306"/>
                </a:lnTo>
                <a:lnTo>
                  <a:pt x="347" y="297"/>
                </a:lnTo>
                <a:lnTo>
                  <a:pt x="352" y="287"/>
                </a:lnTo>
                <a:lnTo>
                  <a:pt x="355" y="277"/>
                </a:lnTo>
                <a:lnTo>
                  <a:pt x="345" y="276"/>
                </a:lnTo>
                <a:lnTo>
                  <a:pt x="336" y="273"/>
                </a:lnTo>
                <a:lnTo>
                  <a:pt x="328" y="272"/>
                </a:lnTo>
                <a:lnTo>
                  <a:pt x="320" y="270"/>
                </a:lnTo>
                <a:lnTo>
                  <a:pt x="312" y="268"/>
                </a:lnTo>
                <a:lnTo>
                  <a:pt x="304" y="263"/>
                </a:lnTo>
                <a:lnTo>
                  <a:pt x="296" y="258"/>
                </a:lnTo>
                <a:lnTo>
                  <a:pt x="288" y="253"/>
                </a:lnTo>
                <a:lnTo>
                  <a:pt x="278" y="247"/>
                </a:lnTo>
                <a:lnTo>
                  <a:pt x="269" y="242"/>
                </a:lnTo>
                <a:lnTo>
                  <a:pt x="259" y="239"/>
                </a:lnTo>
                <a:lnTo>
                  <a:pt x="248" y="238"/>
                </a:lnTo>
                <a:lnTo>
                  <a:pt x="238" y="239"/>
                </a:lnTo>
                <a:lnTo>
                  <a:pt x="226" y="242"/>
                </a:lnTo>
                <a:lnTo>
                  <a:pt x="215" y="247"/>
                </a:lnTo>
                <a:lnTo>
                  <a:pt x="205" y="255"/>
                </a:lnTo>
                <a:lnTo>
                  <a:pt x="193" y="263"/>
                </a:lnTo>
                <a:lnTo>
                  <a:pt x="183" y="269"/>
                </a:lnTo>
                <a:lnTo>
                  <a:pt x="172" y="273"/>
                </a:lnTo>
                <a:lnTo>
                  <a:pt x="161" y="276"/>
                </a:lnTo>
                <a:lnTo>
                  <a:pt x="150" y="277"/>
                </a:lnTo>
                <a:lnTo>
                  <a:pt x="140" y="274"/>
                </a:lnTo>
                <a:lnTo>
                  <a:pt x="129" y="271"/>
                </a:lnTo>
                <a:lnTo>
                  <a:pt x="117" y="26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5" name="Freeform 11"/>
          <p:cNvSpPr/>
          <p:nvPr/>
        </p:nvSpPr>
        <p:spPr>
          <a:xfrm>
            <a:off x="2101680" y="3416400"/>
            <a:ext cx="195480" cy="58680"/>
          </a:xfrm>
          <a:custGeom>
            <a:avLst/>
            <a:gdLst/>
            <a:ahLst/>
            <a:rect l="l" t="t" r="r" b="b"/>
            <a:pathLst>
              <a:path w="246" h="73">
                <a:moveTo>
                  <a:pt x="76" y="27"/>
                </a:moveTo>
                <a:lnTo>
                  <a:pt x="71" y="25"/>
                </a:lnTo>
                <a:lnTo>
                  <a:pt x="65" y="24"/>
                </a:lnTo>
                <a:lnTo>
                  <a:pt x="59" y="23"/>
                </a:lnTo>
                <a:lnTo>
                  <a:pt x="53" y="22"/>
                </a:lnTo>
                <a:lnTo>
                  <a:pt x="48" y="20"/>
                </a:lnTo>
                <a:lnTo>
                  <a:pt x="42" y="20"/>
                </a:lnTo>
                <a:lnTo>
                  <a:pt x="37" y="20"/>
                </a:lnTo>
                <a:lnTo>
                  <a:pt x="33" y="22"/>
                </a:lnTo>
                <a:lnTo>
                  <a:pt x="22" y="25"/>
                </a:lnTo>
                <a:lnTo>
                  <a:pt x="12" y="31"/>
                </a:lnTo>
                <a:lnTo>
                  <a:pt x="3" y="40"/>
                </a:lnTo>
                <a:lnTo>
                  <a:pt x="0" y="53"/>
                </a:lnTo>
                <a:lnTo>
                  <a:pt x="6" y="48"/>
                </a:lnTo>
                <a:lnTo>
                  <a:pt x="12" y="42"/>
                </a:lnTo>
                <a:lnTo>
                  <a:pt x="18" y="38"/>
                </a:lnTo>
                <a:lnTo>
                  <a:pt x="23" y="37"/>
                </a:lnTo>
                <a:lnTo>
                  <a:pt x="26" y="43"/>
                </a:lnTo>
                <a:lnTo>
                  <a:pt x="28" y="49"/>
                </a:lnTo>
                <a:lnTo>
                  <a:pt x="32" y="53"/>
                </a:lnTo>
                <a:lnTo>
                  <a:pt x="37" y="54"/>
                </a:lnTo>
                <a:lnTo>
                  <a:pt x="44" y="51"/>
                </a:lnTo>
                <a:lnTo>
                  <a:pt x="51" y="47"/>
                </a:lnTo>
                <a:lnTo>
                  <a:pt x="55" y="41"/>
                </a:lnTo>
                <a:lnTo>
                  <a:pt x="57" y="34"/>
                </a:lnTo>
                <a:lnTo>
                  <a:pt x="60" y="34"/>
                </a:lnTo>
                <a:lnTo>
                  <a:pt x="64" y="37"/>
                </a:lnTo>
                <a:lnTo>
                  <a:pt x="67" y="39"/>
                </a:lnTo>
                <a:lnTo>
                  <a:pt x="68" y="40"/>
                </a:lnTo>
                <a:lnTo>
                  <a:pt x="66" y="48"/>
                </a:lnTo>
                <a:lnTo>
                  <a:pt x="64" y="58"/>
                </a:lnTo>
                <a:lnTo>
                  <a:pt x="66" y="68"/>
                </a:lnTo>
                <a:lnTo>
                  <a:pt x="75" y="73"/>
                </a:lnTo>
                <a:lnTo>
                  <a:pt x="73" y="65"/>
                </a:lnTo>
                <a:lnTo>
                  <a:pt x="72" y="56"/>
                </a:lnTo>
                <a:lnTo>
                  <a:pt x="74" y="47"/>
                </a:lnTo>
                <a:lnTo>
                  <a:pt x="79" y="40"/>
                </a:lnTo>
                <a:lnTo>
                  <a:pt x="86" y="35"/>
                </a:lnTo>
                <a:lnTo>
                  <a:pt x="94" y="32"/>
                </a:lnTo>
                <a:lnTo>
                  <a:pt x="100" y="27"/>
                </a:lnTo>
                <a:lnTo>
                  <a:pt x="104" y="23"/>
                </a:lnTo>
                <a:lnTo>
                  <a:pt x="109" y="18"/>
                </a:lnTo>
                <a:lnTo>
                  <a:pt x="114" y="15"/>
                </a:lnTo>
                <a:lnTo>
                  <a:pt x="120" y="12"/>
                </a:lnTo>
                <a:lnTo>
                  <a:pt x="126" y="12"/>
                </a:lnTo>
                <a:lnTo>
                  <a:pt x="132" y="15"/>
                </a:lnTo>
                <a:lnTo>
                  <a:pt x="136" y="16"/>
                </a:lnTo>
                <a:lnTo>
                  <a:pt x="141" y="19"/>
                </a:lnTo>
                <a:lnTo>
                  <a:pt x="143" y="24"/>
                </a:lnTo>
                <a:lnTo>
                  <a:pt x="146" y="28"/>
                </a:lnTo>
                <a:lnTo>
                  <a:pt x="150" y="31"/>
                </a:lnTo>
                <a:lnTo>
                  <a:pt x="156" y="33"/>
                </a:lnTo>
                <a:lnTo>
                  <a:pt x="163" y="34"/>
                </a:lnTo>
                <a:lnTo>
                  <a:pt x="171" y="38"/>
                </a:lnTo>
                <a:lnTo>
                  <a:pt x="177" y="47"/>
                </a:lnTo>
                <a:lnTo>
                  <a:pt x="179" y="57"/>
                </a:lnTo>
                <a:lnTo>
                  <a:pt x="174" y="68"/>
                </a:lnTo>
                <a:lnTo>
                  <a:pt x="181" y="64"/>
                </a:lnTo>
                <a:lnTo>
                  <a:pt x="186" y="56"/>
                </a:lnTo>
                <a:lnTo>
                  <a:pt x="187" y="46"/>
                </a:lnTo>
                <a:lnTo>
                  <a:pt x="184" y="37"/>
                </a:lnTo>
                <a:lnTo>
                  <a:pt x="189" y="42"/>
                </a:lnTo>
                <a:lnTo>
                  <a:pt x="194" y="48"/>
                </a:lnTo>
                <a:lnTo>
                  <a:pt x="197" y="53"/>
                </a:lnTo>
                <a:lnTo>
                  <a:pt x="203" y="55"/>
                </a:lnTo>
                <a:lnTo>
                  <a:pt x="209" y="54"/>
                </a:lnTo>
                <a:lnTo>
                  <a:pt x="215" y="50"/>
                </a:lnTo>
                <a:lnTo>
                  <a:pt x="218" y="45"/>
                </a:lnTo>
                <a:lnTo>
                  <a:pt x="218" y="37"/>
                </a:lnTo>
                <a:lnTo>
                  <a:pt x="226" y="35"/>
                </a:lnTo>
                <a:lnTo>
                  <a:pt x="233" y="35"/>
                </a:lnTo>
                <a:lnTo>
                  <a:pt x="240" y="37"/>
                </a:lnTo>
                <a:lnTo>
                  <a:pt x="246" y="40"/>
                </a:lnTo>
                <a:lnTo>
                  <a:pt x="242" y="35"/>
                </a:lnTo>
                <a:lnTo>
                  <a:pt x="238" y="31"/>
                </a:lnTo>
                <a:lnTo>
                  <a:pt x="230" y="26"/>
                </a:lnTo>
                <a:lnTo>
                  <a:pt x="222" y="24"/>
                </a:lnTo>
                <a:lnTo>
                  <a:pt x="211" y="22"/>
                </a:lnTo>
                <a:lnTo>
                  <a:pt x="201" y="22"/>
                </a:lnTo>
                <a:lnTo>
                  <a:pt x="189" y="24"/>
                </a:lnTo>
                <a:lnTo>
                  <a:pt x="178" y="28"/>
                </a:lnTo>
                <a:lnTo>
                  <a:pt x="171" y="25"/>
                </a:lnTo>
                <a:lnTo>
                  <a:pt x="163" y="24"/>
                </a:lnTo>
                <a:lnTo>
                  <a:pt x="155" y="20"/>
                </a:lnTo>
                <a:lnTo>
                  <a:pt x="148" y="12"/>
                </a:lnTo>
                <a:lnTo>
                  <a:pt x="143" y="8"/>
                </a:lnTo>
                <a:lnTo>
                  <a:pt x="138" y="4"/>
                </a:lnTo>
                <a:lnTo>
                  <a:pt x="131" y="2"/>
                </a:lnTo>
                <a:lnTo>
                  <a:pt x="124" y="0"/>
                </a:lnTo>
                <a:lnTo>
                  <a:pt x="117" y="1"/>
                </a:lnTo>
                <a:lnTo>
                  <a:pt x="111" y="2"/>
                </a:lnTo>
                <a:lnTo>
                  <a:pt x="105" y="4"/>
                </a:lnTo>
                <a:lnTo>
                  <a:pt x="102" y="9"/>
                </a:lnTo>
                <a:lnTo>
                  <a:pt x="96" y="17"/>
                </a:lnTo>
                <a:lnTo>
                  <a:pt x="89" y="23"/>
                </a:lnTo>
                <a:lnTo>
                  <a:pt x="82" y="26"/>
                </a:lnTo>
                <a:lnTo>
                  <a:pt x="76" y="2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6" name="Freeform 12"/>
          <p:cNvSpPr/>
          <p:nvPr/>
        </p:nvSpPr>
        <p:spPr>
          <a:xfrm>
            <a:off x="2022480" y="3559320"/>
            <a:ext cx="20520" cy="48960"/>
          </a:xfrm>
          <a:custGeom>
            <a:avLst/>
            <a:gdLst/>
            <a:ahLst/>
            <a:rect l="l" t="t" r="r" b="b"/>
            <a:pathLst>
              <a:path w="26" h="62">
                <a:moveTo>
                  <a:pt x="26" y="9"/>
                </a:moveTo>
                <a:lnTo>
                  <a:pt x="17" y="2"/>
                </a:lnTo>
                <a:lnTo>
                  <a:pt x="12" y="0"/>
                </a:lnTo>
                <a:lnTo>
                  <a:pt x="8" y="3"/>
                </a:lnTo>
                <a:lnTo>
                  <a:pt x="5" y="9"/>
                </a:lnTo>
                <a:lnTo>
                  <a:pt x="1" y="18"/>
                </a:lnTo>
                <a:lnTo>
                  <a:pt x="0" y="32"/>
                </a:lnTo>
                <a:lnTo>
                  <a:pt x="4" y="47"/>
                </a:lnTo>
                <a:lnTo>
                  <a:pt x="13" y="62"/>
                </a:lnTo>
                <a:lnTo>
                  <a:pt x="8" y="41"/>
                </a:lnTo>
                <a:lnTo>
                  <a:pt x="7" y="23"/>
                </a:lnTo>
                <a:lnTo>
                  <a:pt x="12" y="11"/>
                </a:lnTo>
                <a:lnTo>
                  <a:pt x="26" y="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7" name="Freeform 13"/>
          <p:cNvSpPr/>
          <p:nvPr/>
        </p:nvSpPr>
        <p:spPr>
          <a:xfrm>
            <a:off x="2168640" y="3449520"/>
            <a:ext cx="21960" cy="17640"/>
          </a:xfrm>
          <a:custGeom>
            <a:avLst/>
            <a:gdLst/>
            <a:ahLst/>
            <a:rect l="l" t="t" r="r" b="b"/>
            <a:pathLst>
              <a:path w="26" h="22">
                <a:moveTo>
                  <a:pt x="24" y="0"/>
                </a:moveTo>
                <a:lnTo>
                  <a:pt x="16" y="1"/>
                </a:lnTo>
                <a:lnTo>
                  <a:pt x="6" y="5"/>
                </a:lnTo>
                <a:lnTo>
                  <a:pt x="0" y="12"/>
                </a:lnTo>
                <a:lnTo>
                  <a:pt x="2" y="20"/>
                </a:lnTo>
                <a:lnTo>
                  <a:pt x="10" y="22"/>
                </a:lnTo>
                <a:lnTo>
                  <a:pt x="20" y="16"/>
                </a:lnTo>
                <a:lnTo>
                  <a:pt x="26" y="7"/>
                </a:lnTo>
                <a:lnTo>
                  <a:pt x="2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8" name="Freeform 14"/>
          <p:cNvSpPr/>
          <p:nvPr/>
        </p:nvSpPr>
        <p:spPr>
          <a:xfrm>
            <a:off x="2216160" y="3449520"/>
            <a:ext cx="19080" cy="17640"/>
          </a:xfrm>
          <a:custGeom>
            <a:avLst/>
            <a:gdLst/>
            <a:ahLst/>
            <a:rect l="l" t="t" r="r" b="b"/>
            <a:pathLst>
              <a:path w="24" h="21">
                <a:moveTo>
                  <a:pt x="0" y="0"/>
                </a:moveTo>
                <a:lnTo>
                  <a:pt x="9" y="0"/>
                </a:lnTo>
                <a:lnTo>
                  <a:pt x="19" y="4"/>
                </a:lnTo>
                <a:lnTo>
                  <a:pt x="24" y="9"/>
                </a:lnTo>
                <a:lnTo>
                  <a:pt x="22" y="18"/>
                </a:lnTo>
                <a:lnTo>
                  <a:pt x="15" y="21"/>
                </a:lnTo>
                <a:lnTo>
                  <a:pt x="8" y="18"/>
                </a:lnTo>
                <a:lnTo>
                  <a:pt x="4" y="9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9" name="Freeform 15"/>
          <p:cNvSpPr/>
          <p:nvPr/>
        </p:nvSpPr>
        <p:spPr>
          <a:xfrm>
            <a:off x="2149560" y="3473280"/>
            <a:ext cx="108000" cy="46080"/>
          </a:xfrm>
          <a:custGeom>
            <a:avLst/>
            <a:gdLst/>
            <a:ahLst/>
            <a:rect l="l" t="t" r="r" b="b"/>
            <a:pathLst>
              <a:path w="136" h="58">
                <a:moveTo>
                  <a:pt x="0" y="34"/>
                </a:moveTo>
                <a:lnTo>
                  <a:pt x="4" y="30"/>
                </a:lnTo>
                <a:lnTo>
                  <a:pt x="8" y="24"/>
                </a:lnTo>
                <a:lnTo>
                  <a:pt x="14" y="20"/>
                </a:lnTo>
                <a:lnTo>
                  <a:pt x="22" y="14"/>
                </a:lnTo>
                <a:lnTo>
                  <a:pt x="29" y="9"/>
                </a:lnTo>
                <a:lnTo>
                  <a:pt x="37" y="6"/>
                </a:lnTo>
                <a:lnTo>
                  <a:pt x="45" y="4"/>
                </a:lnTo>
                <a:lnTo>
                  <a:pt x="52" y="5"/>
                </a:lnTo>
                <a:lnTo>
                  <a:pt x="61" y="7"/>
                </a:lnTo>
                <a:lnTo>
                  <a:pt x="68" y="7"/>
                </a:lnTo>
                <a:lnTo>
                  <a:pt x="73" y="6"/>
                </a:lnTo>
                <a:lnTo>
                  <a:pt x="80" y="3"/>
                </a:lnTo>
                <a:lnTo>
                  <a:pt x="87" y="0"/>
                </a:lnTo>
                <a:lnTo>
                  <a:pt x="95" y="1"/>
                </a:lnTo>
                <a:lnTo>
                  <a:pt x="102" y="4"/>
                </a:lnTo>
                <a:lnTo>
                  <a:pt x="110" y="7"/>
                </a:lnTo>
                <a:lnTo>
                  <a:pt x="117" y="12"/>
                </a:lnTo>
                <a:lnTo>
                  <a:pt x="125" y="18"/>
                </a:lnTo>
                <a:lnTo>
                  <a:pt x="131" y="23"/>
                </a:lnTo>
                <a:lnTo>
                  <a:pt x="136" y="28"/>
                </a:lnTo>
                <a:lnTo>
                  <a:pt x="133" y="32"/>
                </a:lnTo>
                <a:lnTo>
                  <a:pt x="127" y="37"/>
                </a:lnTo>
                <a:lnTo>
                  <a:pt x="120" y="43"/>
                </a:lnTo>
                <a:lnTo>
                  <a:pt x="112" y="47"/>
                </a:lnTo>
                <a:lnTo>
                  <a:pt x="103" y="52"/>
                </a:lnTo>
                <a:lnTo>
                  <a:pt x="91" y="56"/>
                </a:lnTo>
                <a:lnTo>
                  <a:pt x="79" y="58"/>
                </a:lnTo>
                <a:lnTo>
                  <a:pt x="64" y="58"/>
                </a:lnTo>
                <a:lnTo>
                  <a:pt x="50" y="57"/>
                </a:lnTo>
                <a:lnTo>
                  <a:pt x="37" y="56"/>
                </a:lnTo>
                <a:lnTo>
                  <a:pt x="28" y="54"/>
                </a:lnTo>
                <a:lnTo>
                  <a:pt x="20" y="52"/>
                </a:lnTo>
                <a:lnTo>
                  <a:pt x="14" y="49"/>
                </a:lnTo>
                <a:lnTo>
                  <a:pt x="8" y="44"/>
                </a:lnTo>
                <a:lnTo>
                  <a:pt x="4" y="39"/>
                </a:lnTo>
                <a:lnTo>
                  <a:pt x="0" y="3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0" name="Freeform 16"/>
          <p:cNvSpPr/>
          <p:nvPr/>
        </p:nvSpPr>
        <p:spPr>
          <a:xfrm>
            <a:off x="2157480" y="3486240"/>
            <a:ext cx="90360" cy="12600"/>
          </a:xfrm>
          <a:custGeom>
            <a:avLst/>
            <a:gdLst/>
            <a:ahLst/>
            <a:rect l="l" t="t" r="r" b="b"/>
            <a:pathLst>
              <a:path w="114" h="16">
                <a:moveTo>
                  <a:pt x="0" y="16"/>
                </a:moveTo>
                <a:lnTo>
                  <a:pt x="3" y="15"/>
                </a:lnTo>
                <a:lnTo>
                  <a:pt x="8" y="14"/>
                </a:lnTo>
                <a:lnTo>
                  <a:pt x="14" y="12"/>
                </a:lnTo>
                <a:lnTo>
                  <a:pt x="19" y="8"/>
                </a:lnTo>
                <a:lnTo>
                  <a:pt x="26" y="6"/>
                </a:lnTo>
                <a:lnTo>
                  <a:pt x="34" y="4"/>
                </a:lnTo>
                <a:lnTo>
                  <a:pt x="42" y="2"/>
                </a:lnTo>
                <a:lnTo>
                  <a:pt x="52" y="0"/>
                </a:lnTo>
                <a:lnTo>
                  <a:pt x="61" y="0"/>
                </a:lnTo>
                <a:lnTo>
                  <a:pt x="69" y="2"/>
                </a:lnTo>
                <a:lnTo>
                  <a:pt x="77" y="3"/>
                </a:lnTo>
                <a:lnTo>
                  <a:pt x="84" y="5"/>
                </a:lnTo>
                <a:lnTo>
                  <a:pt x="91" y="7"/>
                </a:lnTo>
                <a:lnTo>
                  <a:pt x="99" y="8"/>
                </a:lnTo>
                <a:lnTo>
                  <a:pt x="106" y="11"/>
                </a:lnTo>
                <a:lnTo>
                  <a:pt x="114" y="12"/>
                </a:lnTo>
                <a:lnTo>
                  <a:pt x="108" y="13"/>
                </a:lnTo>
                <a:lnTo>
                  <a:pt x="101" y="12"/>
                </a:lnTo>
                <a:lnTo>
                  <a:pt x="94" y="12"/>
                </a:lnTo>
                <a:lnTo>
                  <a:pt x="87" y="11"/>
                </a:lnTo>
                <a:lnTo>
                  <a:pt x="79" y="10"/>
                </a:lnTo>
                <a:lnTo>
                  <a:pt x="72" y="8"/>
                </a:lnTo>
                <a:lnTo>
                  <a:pt x="64" y="7"/>
                </a:lnTo>
                <a:lnTo>
                  <a:pt x="56" y="7"/>
                </a:lnTo>
                <a:lnTo>
                  <a:pt x="49" y="8"/>
                </a:lnTo>
                <a:lnTo>
                  <a:pt x="42" y="10"/>
                </a:lnTo>
                <a:lnTo>
                  <a:pt x="34" y="11"/>
                </a:lnTo>
                <a:lnTo>
                  <a:pt x="27" y="13"/>
                </a:lnTo>
                <a:lnTo>
                  <a:pt x="19" y="15"/>
                </a:lnTo>
                <a:lnTo>
                  <a:pt x="12" y="16"/>
                </a:lnTo>
                <a:lnTo>
                  <a:pt x="5" y="16"/>
                </a:lnTo>
                <a:lnTo>
                  <a:pt x="0" y="1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1" name="Freeform 17"/>
          <p:cNvSpPr/>
          <p:nvPr/>
        </p:nvSpPr>
        <p:spPr>
          <a:xfrm rot="13365600">
            <a:off x="1523880" y="3733200"/>
            <a:ext cx="309600" cy="1128600"/>
          </a:xfrm>
          <a:custGeom>
            <a:avLst/>
            <a:gdLst/>
            <a:ahLst/>
            <a:rect l="l" t="t" r="r" b="b"/>
            <a:pathLst>
              <a:path w="583" h="1421">
                <a:moveTo>
                  <a:pt x="231" y="47"/>
                </a:moveTo>
                <a:lnTo>
                  <a:pt x="242" y="56"/>
                </a:lnTo>
                <a:lnTo>
                  <a:pt x="251" y="71"/>
                </a:lnTo>
                <a:lnTo>
                  <a:pt x="259" y="91"/>
                </a:lnTo>
                <a:lnTo>
                  <a:pt x="265" y="112"/>
                </a:lnTo>
                <a:lnTo>
                  <a:pt x="269" y="137"/>
                </a:lnTo>
                <a:lnTo>
                  <a:pt x="273" y="162"/>
                </a:lnTo>
                <a:lnTo>
                  <a:pt x="274" y="185"/>
                </a:lnTo>
                <a:lnTo>
                  <a:pt x="274" y="207"/>
                </a:lnTo>
                <a:lnTo>
                  <a:pt x="275" y="231"/>
                </a:lnTo>
                <a:lnTo>
                  <a:pt x="282" y="260"/>
                </a:lnTo>
                <a:lnTo>
                  <a:pt x="292" y="293"/>
                </a:lnTo>
                <a:lnTo>
                  <a:pt x="306" y="327"/>
                </a:lnTo>
                <a:lnTo>
                  <a:pt x="320" y="360"/>
                </a:lnTo>
                <a:lnTo>
                  <a:pt x="334" y="391"/>
                </a:lnTo>
                <a:lnTo>
                  <a:pt x="346" y="418"/>
                </a:lnTo>
                <a:lnTo>
                  <a:pt x="356" y="436"/>
                </a:lnTo>
                <a:lnTo>
                  <a:pt x="366" y="456"/>
                </a:lnTo>
                <a:lnTo>
                  <a:pt x="380" y="483"/>
                </a:lnTo>
                <a:lnTo>
                  <a:pt x="396" y="517"/>
                </a:lnTo>
                <a:lnTo>
                  <a:pt x="413" y="554"/>
                </a:lnTo>
                <a:lnTo>
                  <a:pt x="431" y="593"/>
                </a:lnTo>
                <a:lnTo>
                  <a:pt x="444" y="632"/>
                </a:lnTo>
                <a:lnTo>
                  <a:pt x="456" y="670"/>
                </a:lnTo>
                <a:lnTo>
                  <a:pt x="463" y="703"/>
                </a:lnTo>
                <a:lnTo>
                  <a:pt x="465" y="754"/>
                </a:lnTo>
                <a:lnTo>
                  <a:pt x="466" y="816"/>
                </a:lnTo>
                <a:lnTo>
                  <a:pt x="471" y="884"/>
                </a:lnTo>
                <a:lnTo>
                  <a:pt x="487" y="951"/>
                </a:lnTo>
                <a:lnTo>
                  <a:pt x="495" y="973"/>
                </a:lnTo>
                <a:lnTo>
                  <a:pt x="505" y="1000"/>
                </a:lnTo>
                <a:lnTo>
                  <a:pt x="516" y="1030"/>
                </a:lnTo>
                <a:lnTo>
                  <a:pt x="527" y="1062"/>
                </a:lnTo>
                <a:lnTo>
                  <a:pt x="538" y="1094"/>
                </a:lnTo>
                <a:lnTo>
                  <a:pt x="547" y="1127"/>
                </a:lnTo>
                <a:lnTo>
                  <a:pt x="554" y="1159"/>
                </a:lnTo>
                <a:lnTo>
                  <a:pt x="556" y="1188"/>
                </a:lnTo>
                <a:lnTo>
                  <a:pt x="558" y="1250"/>
                </a:lnTo>
                <a:lnTo>
                  <a:pt x="564" y="1314"/>
                </a:lnTo>
                <a:lnTo>
                  <a:pt x="572" y="1374"/>
                </a:lnTo>
                <a:lnTo>
                  <a:pt x="583" y="1421"/>
                </a:lnTo>
                <a:lnTo>
                  <a:pt x="572" y="1420"/>
                </a:lnTo>
                <a:lnTo>
                  <a:pt x="561" y="1418"/>
                </a:lnTo>
                <a:lnTo>
                  <a:pt x="550" y="1415"/>
                </a:lnTo>
                <a:lnTo>
                  <a:pt x="540" y="1412"/>
                </a:lnTo>
                <a:lnTo>
                  <a:pt x="530" y="1409"/>
                </a:lnTo>
                <a:lnTo>
                  <a:pt x="519" y="1404"/>
                </a:lnTo>
                <a:lnTo>
                  <a:pt x="508" y="1399"/>
                </a:lnTo>
                <a:lnTo>
                  <a:pt x="497" y="1394"/>
                </a:lnTo>
                <a:lnTo>
                  <a:pt x="499" y="1374"/>
                </a:lnTo>
                <a:lnTo>
                  <a:pt x="499" y="1353"/>
                </a:lnTo>
                <a:lnTo>
                  <a:pt x="496" y="1331"/>
                </a:lnTo>
                <a:lnTo>
                  <a:pt x="493" y="1309"/>
                </a:lnTo>
                <a:lnTo>
                  <a:pt x="487" y="1288"/>
                </a:lnTo>
                <a:lnTo>
                  <a:pt x="481" y="1267"/>
                </a:lnTo>
                <a:lnTo>
                  <a:pt x="473" y="1248"/>
                </a:lnTo>
                <a:lnTo>
                  <a:pt x="465" y="1231"/>
                </a:lnTo>
                <a:lnTo>
                  <a:pt x="455" y="1215"/>
                </a:lnTo>
                <a:lnTo>
                  <a:pt x="443" y="1197"/>
                </a:lnTo>
                <a:lnTo>
                  <a:pt x="431" y="1179"/>
                </a:lnTo>
                <a:lnTo>
                  <a:pt x="418" y="1160"/>
                </a:lnTo>
                <a:lnTo>
                  <a:pt x="406" y="1141"/>
                </a:lnTo>
                <a:lnTo>
                  <a:pt x="397" y="1122"/>
                </a:lnTo>
                <a:lnTo>
                  <a:pt x="390" y="1103"/>
                </a:lnTo>
                <a:lnTo>
                  <a:pt x="388" y="1085"/>
                </a:lnTo>
                <a:lnTo>
                  <a:pt x="386" y="1095"/>
                </a:lnTo>
                <a:lnTo>
                  <a:pt x="384" y="1110"/>
                </a:lnTo>
                <a:lnTo>
                  <a:pt x="386" y="1126"/>
                </a:lnTo>
                <a:lnTo>
                  <a:pt x="389" y="1144"/>
                </a:lnTo>
                <a:lnTo>
                  <a:pt x="394" y="1161"/>
                </a:lnTo>
                <a:lnTo>
                  <a:pt x="399" y="1178"/>
                </a:lnTo>
                <a:lnTo>
                  <a:pt x="405" y="1194"/>
                </a:lnTo>
                <a:lnTo>
                  <a:pt x="412" y="1207"/>
                </a:lnTo>
                <a:lnTo>
                  <a:pt x="420" y="1222"/>
                </a:lnTo>
                <a:lnTo>
                  <a:pt x="428" y="1239"/>
                </a:lnTo>
                <a:lnTo>
                  <a:pt x="437" y="1261"/>
                </a:lnTo>
                <a:lnTo>
                  <a:pt x="444" y="1284"/>
                </a:lnTo>
                <a:lnTo>
                  <a:pt x="451" y="1307"/>
                </a:lnTo>
                <a:lnTo>
                  <a:pt x="454" y="1331"/>
                </a:lnTo>
                <a:lnTo>
                  <a:pt x="454" y="1353"/>
                </a:lnTo>
                <a:lnTo>
                  <a:pt x="449" y="1373"/>
                </a:lnTo>
                <a:lnTo>
                  <a:pt x="434" y="1365"/>
                </a:lnTo>
                <a:lnTo>
                  <a:pt x="416" y="1351"/>
                </a:lnTo>
                <a:lnTo>
                  <a:pt x="396" y="1334"/>
                </a:lnTo>
                <a:lnTo>
                  <a:pt x="376" y="1311"/>
                </a:lnTo>
                <a:lnTo>
                  <a:pt x="359" y="1284"/>
                </a:lnTo>
                <a:lnTo>
                  <a:pt x="343" y="1253"/>
                </a:lnTo>
                <a:lnTo>
                  <a:pt x="331" y="1218"/>
                </a:lnTo>
                <a:lnTo>
                  <a:pt x="325" y="1180"/>
                </a:lnTo>
                <a:lnTo>
                  <a:pt x="318" y="1111"/>
                </a:lnTo>
                <a:lnTo>
                  <a:pt x="315" y="1057"/>
                </a:lnTo>
                <a:lnTo>
                  <a:pt x="315" y="1008"/>
                </a:lnTo>
                <a:lnTo>
                  <a:pt x="319" y="951"/>
                </a:lnTo>
                <a:lnTo>
                  <a:pt x="321" y="894"/>
                </a:lnTo>
                <a:lnTo>
                  <a:pt x="318" y="845"/>
                </a:lnTo>
                <a:lnTo>
                  <a:pt x="310" y="804"/>
                </a:lnTo>
                <a:lnTo>
                  <a:pt x="297" y="767"/>
                </a:lnTo>
                <a:lnTo>
                  <a:pt x="288" y="732"/>
                </a:lnTo>
                <a:lnTo>
                  <a:pt x="287" y="697"/>
                </a:lnTo>
                <a:lnTo>
                  <a:pt x="288" y="663"/>
                </a:lnTo>
                <a:lnTo>
                  <a:pt x="289" y="631"/>
                </a:lnTo>
                <a:lnTo>
                  <a:pt x="288" y="612"/>
                </a:lnTo>
                <a:lnTo>
                  <a:pt x="285" y="587"/>
                </a:lnTo>
                <a:lnTo>
                  <a:pt x="281" y="557"/>
                </a:lnTo>
                <a:lnTo>
                  <a:pt x="275" y="524"/>
                </a:lnTo>
                <a:lnTo>
                  <a:pt x="267" y="489"/>
                </a:lnTo>
                <a:lnTo>
                  <a:pt x="259" y="453"/>
                </a:lnTo>
                <a:lnTo>
                  <a:pt x="249" y="420"/>
                </a:lnTo>
                <a:lnTo>
                  <a:pt x="238" y="389"/>
                </a:lnTo>
                <a:lnTo>
                  <a:pt x="228" y="361"/>
                </a:lnTo>
                <a:lnTo>
                  <a:pt x="216" y="336"/>
                </a:lnTo>
                <a:lnTo>
                  <a:pt x="206" y="313"/>
                </a:lnTo>
                <a:lnTo>
                  <a:pt x="194" y="291"/>
                </a:lnTo>
                <a:lnTo>
                  <a:pt x="183" y="270"/>
                </a:lnTo>
                <a:lnTo>
                  <a:pt x="170" y="250"/>
                </a:lnTo>
                <a:lnTo>
                  <a:pt x="158" y="229"/>
                </a:lnTo>
                <a:lnTo>
                  <a:pt x="143" y="207"/>
                </a:lnTo>
                <a:lnTo>
                  <a:pt x="126" y="185"/>
                </a:lnTo>
                <a:lnTo>
                  <a:pt x="108" y="162"/>
                </a:lnTo>
                <a:lnTo>
                  <a:pt x="90" y="140"/>
                </a:lnTo>
                <a:lnTo>
                  <a:pt x="70" y="118"/>
                </a:lnTo>
                <a:lnTo>
                  <a:pt x="52" y="100"/>
                </a:lnTo>
                <a:lnTo>
                  <a:pt x="35" y="83"/>
                </a:lnTo>
                <a:lnTo>
                  <a:pt x="22" y="70"/>
                </a:lnTo>
                <a:lnTo>
                  <a:pt x="10" y="61"/>
                </a:lnTo>
                <a:lnTo>
                  <a:pt x="0" y="48"/>
                </a:lnTo>
                <a:lnTo>
                  <a:pt x="0" y="38"/>
                </a:lnTo>
                <a:lnTo>
                  <a:pt x="7" y="33"/>
                </a:lnTo>
                <a:lnTo>
                  <a:pt x="18" y="36"/>
                </a:lnTo>
                <a:lnTo>
                  <a:pt x="26" y="41"/>
                </a:lnTo>
                <a:lnTo>
                  <a:pt x="37" y="48"/>
                </a:lnTo>
                <a:lnTo>
                  <a:pt x="50" y="55"/>
                </a:lnTo>
                <a:lnTo>
                  <a:pt x="64" y="63"/>
                </a:lnTo>
                <a:lnTo>
                  <a:pt x="79" y="72"/>
                </a:lnTo>
                <a:lnTo>
                  <a:pt x="93" y="80"/>
                </a:lnTo>
                <a:lnTo>
                  <a:pt x="106" y="87"/>
                </a:lnTo>
                <a:lnTo>
                  <a:pt x="116" y="93"/>
                </a:lnTo>
                <a:lnTo>
                  <a:pt x="113" y="84"/>
                </a:lnTo>
                <a:lnTo>
                  <a:pt x="108" y="73"/>
                </a:lnTo>
                <a:lnTo>
                  <a:pt x="102" y="62"/>
                </a:lnTo>
                <a:lnTo>
                  <a:pt x="95" y="49"/>
                </a:lnTo>
                <a:lnTo>
                  <a:pt x="88" y="36"/>
                </a:lnTo>
                <a:lnTo>
                  <a:pt x="80" y="24"/>
                </a:lnTo>
                <a:lnTo>
                  <a:pt x="71" y="11"/>
                </a:lnTo>
                <a:lnTo>
                  <a:pt x="61" y="0"/>
                </a:lnTo>
                <a:lnTo>
                  <a:pt x="72" y="1"/>
                </a:lnTo>
                <a:lnTo>
                  <a:pt x="86" y="6"/>
                </a:lnTo>
                <a:lnTo>
                  <a:pt x="100" y="17"/>
                </a:lnTo>
                <a:lnTo>
                  <a:pt x="115" y="30"/>
                </a:lnTo>
                <a:lnTo>
                  <a:pt x="129" y="44"/>
                </a:lnTo>
                <a:lnTo>
                  <a:pt x="143" y="61"/>
                </a:lnTo>
                <a:lnTo>
                  <a:pt x="154" y="78"/>
                </a:lnTo>
                <a:lnTo>
                  <a:pt x="164" y="95"/>
                </a:lnTo>
                <a:lnTo>
                  <a:pt x="166" y="79"/>
                </a:lnTo>
                <a:lnTo>
                  <a:pt x="163" y="61"/>
                </a:lnTo>
                <a:lnTo>
                  <a:pt x="153" y="39"/>
                </a:lnTo>
                <a:lnTo>
                  <a:pt x="137" y="12"/>
                </a:lnTo>
                <a:lnTo>
                  <a:pt x="146" y="12"/>
                </a:lnTo>
                <a:lnTo>
                  <a:pt x="158" y="17"/>
                </a:lnTo>
                <a:lnTo>
                  <a:pt x="170" y="25"/>
                </a:lnTo>
                <a:lnTo>
                  <a:pt x="183" y="36"/>
                </a:lnTo>
                <a:lnTo>
                  <a:pt x="197" y="51"/>
                </a:lnTo>
                <a:lnTo>
                  <a:pt x="209" y="69"/>
                </a:lnTo>
                <a:lnTo>
                  <a:pt x="221" y="88"/>
                </a:lnTo>
                <a:lnTo>
                  <a:pt x="231" y="109"/>
                </a:lnTo>
                <a:lnTo>
                  <a:pt x="235" y="95"/>
                </a:lnTo>
                <a:lnTo>
                  <a:pt x="236" y="79"/>
                </a:lnTo>
                <a:lnTo>
                  <a:pt x="235" y="62"/>
                </a:lnTo>
                <a:lnTo>
                  <a:pt x="231" y="4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2" name="Freeform 18"/>
          <p:cNvSpPr/>
          <p:nvPr/>
        </p:nvSpPr>
        <p:spPr>
          <a:xfrm>
            <a:off x="1901880" y="3621240"/>
            <a:ext cx="722160" cy="917280"/>
          </a:xfrm>
          <a:custGeom>
            <a:avLst/>
            <a:gdLst/>
            <a:ahLst/>
            <a:rect l="l" t="t" r="r" b="b"/>
            <a:pathLst>
              <a:path w="909" h="1155">
                <a:moveTo>
                  <a:pt x="221" y="128"/>
                </a:moveTo>
                <a:lnTo>
                  <a:pt x="228" y="142"/>
                </a:lnTo>
                <a:lnTo>
                  <a:pt x="232" y="160"/>
                </a:lnTo>
                <a:lnTo>
                  <a:pt x="232" y="181"/>
                </a:lnTo>
                <a:lnTo>
                  <a:pt x="225" y="203"/>
                </a:lnTo>
                <a:lnTo>
                  <a:pt x="217" y="227"/>
                </a:lnTo>
                <a:lnTo>
                  <a:pt x="212" y="251"/>
                </a:lnTo>
                <a:lnTo>
                  <a:pt x="210" y="273"/>
                </a:lnTo>
                <a:lnTo>
                  <a:pt x="206" y="290"/>
                </a:lnTo>
                <a:lnTo>
                  <a:pt x="202" y="288"/>
                </a:lnTo>
                <a:lnTo>
                  <a:pt x="195" y="287"/>
                </a:lnTo>
                <a:lnTo>
                  <a:pt x="188" y="283"/>
                </a:lnTo>
                <a:lnTo>
                  <a:pt x="180" y="280"/>
                </a:lnTo>
                <a:lnTo>
                  <a:pt x="172" y="275"/>
                </a:lnTo>
                <a:lnTo>
                  <a:pt x="165" y="268"/>
                </a:lnTo>
                <a:lnTo>
                  <a:pt x="159" y="260"/>
                </a:lnTo>
                <a:lnTo>
                  <a:pt x="156" y="251"/>
                </a:lnTo>
                <a:lnTo>
                  <a:pt x="156" y="265"/>
                </a:lnTo>
                <a:lnTo>
                  <a:pt x="159" y="279"/>
                </a:lnTo>
                <a:lnTo>
                  <a:pt x="166" y="291"/>
                </a:lnTo>
                <a:lnTo>
                  <a:pt x="174" y="304"/>
                </a:lnTo>
                <a:lnTo>
                  <a:pt x="184" y="316"/>
                </a:lnTo>
                <a:lnTo>
                  <a:pt x="196" y="326"/>
                </a:lnTo>
                <a:lnTo>
                  <a:pt x="209" y="333"/>
                </a:lnTo>
                <a:lnTo>
                  <a:pt x="221" y="336"/>
                </a:lnTo>
                <a:lnTo>
                  <a:pt x="235" y="337"/>
                </a:lnTo>
                <a:lnTo>
                  <a:pt x="248" y="335"/>
                </a:lnTo>
                <a:lnTo>
                  <a:pt x="260" y="332"/>
                </a:lnTo>
                <a:lnTo>
                  <a:pt x="273" y="327"/>
                </a:lnTo>
                <a:lnTo>
                  <a:pt x="285" y="321"/>
                </a:lnTo>
                <a:lnTo>
                  <a:pt x="294" y="314"/>
                </a:lnTo>
                <a:lnTo>
                  <a:pt x="303" y="306"/>
                </a:lnTo>
                <a:lnTo>
                  <a:pt x="310" y="298"/>
                </a:lnTo>
                <a:lnTo>
                  <a:pt x="316" y="290"/>
                </a:lnTo>
                <a:lnTo>
                  <a:pt x="323" y="283"/>
                </a:lnTo>
                <a:lnTo>
                  <a:pt x="330" y="276"/>
                </a:lnTo>
                <a:lnTo>
                  <a:pt x="338" y="269"/>
                </a:lnTo>
                <a:lnTo>
                  <a:pt x="345" y="264"/>
                </a:lnTo>
                <a:lnTo>
                  <a:pt x="353" y="259"/>
                </a:lnTo>
                <a:lnTo>
                  <a:pt x="360" y="254"/>
                </a:lnTo>
                <a:lnTo>
                  <a:pt x="368" y="251"/>
                </a:lnTo>
                <a:lnTo>
                  <a:pt x="376" y="246"/>
                </a:lnTo>
                <a:lnTo>
                  <a:pt x="384" y="241"/>
                </a:lnTo>
                <a:lnTo>
                  <a:pt x="392" y="231"/>
                </a:lnTo>
                <a:lnTo>
                  <a:pt x="401" y="222"/>
                </a:lnTo>
                <a:lnTo>
                  <a:pt x="408" y="211"/>
                </a:lnTo>
                <a:lnTo>
                  <a:pt x="415" y="198"/>
                </a:lnTo>
                <a:lnTo>
                  <a:pt x="422" y="184"/>
                </a:lnTo>
                <a:lnTo>
                  <a:pt x="426" y="170"/>
                </a:lnTo>
                <a:lnTo>
                  <a:pt x="430" y="157"/>
                </a:lnTo>
                <a:lnTo>
                  <a:pt x="434" y="143"/>
                </a:lnTo>
                <a:lnTo>
                  <a:pt x="439" y="129"/>
                </a:lnTo>
                <a:lnTo>
                  <a:pt x="444" y="116"/>
                </a:lnTo>
                <a:lnTo>
                  <a:pt x="448" y="104"/>
                </a:lnTo>
                <a:lnTo>
                  <a:pt x="454" y="93"/>
                </a:lnTo>
                <a:lnTo>
                  <a:pt x="461" y="84"/>
                </a:lnTo>
                <a:lnTo>
                  <a:pt x="469" y="77"/>
                </a:lnTo>
                <a:lnTo>
                  <a:pt x="477" y="69"/>
                </a:lnTo>
                <a:lnTo>
                  <a:pt x="486" y="59"/>
                </a:lnTo>
                <a:lnTo>
                  <a:pt x="494" y="46"/>
                </a:lnTo>
                <a:lnTo>
                  <a:pt x="504" y="32"/>
                </a:lnTo>
                <a:lnTo>
                  <a:pt x="510" y="21"/>
                </a:lnTo>
                <a:lnTo>
                  <a:pt x="516" y="9"/>
                </a:lnTo>
                <a:lnTo>
                  <a:pt x="521" y="2"/>
                </a:lnTo>
                <a:lnTo>
                  <a:pt x="522" y="0"/>
                </a:lnTo>
                <a:lnTo>
                  <a:pt x="525" y="21"/>
                </a:lnTo>
                <a:lnTo>
                  <a:pt x="530" y="42"/>
                </a:lnTo>
                <a:lnTo>
                  <a:pt x="538" y="67"/>
                </a:lnTo>
                <a:lnTo>
                  <a:pt x="547" y="90"/>
                </a:lnTo>
                <a:lnTo>
                  <a:pt x="558" y="114"/>
                </a:lnTo>
                <a:lnTo>
                  <a:pt x="570" y="137"/>
                </a:lnTo>
                <a:lnTo>
                  <a:pt x="584" y="159"/>
                </a:lnTo>
                <a:lnTo>
                  <a:pt x="599" y="178"/>
                </a:lnTo>
                <a:lnTo>
                  <a:pt x="607" y="188"/>
                </a:lnTo>
                <a:lnTo>
                  <a:pt x="618" y="198"/>
                </a:lnTo>
                <a:lnTo>
                  <a:pt x="629" y="208"/>
                </a:lnTo>
                <a:lnTo>
                  <a:pt x="642" y="219"/>
                </a:lnTo>
                <a:lnTo>
                  <a:pt x="656" y="230"/>
                </a:lnTo>
                <a:lnTo>
                  <a:pt x="671" y="241"/>
                </a:lnTo>
                <a:lnTo>
                  <a:pt x="688" y="251"/>
                </a:lnTo>
                <a:lnTo>
                  <a:pt x="706" y="260"/>
                </a:lnTo>
                <a:lnTo>
                  <a:pt x="726" y="271"/>
                </a:lnTo>
                <a:lnTo>
                  <a:pt x="748" y="279"/>
                </a:lnTo>
                <a:lnTo>
                  <a:pt x="770" y="288"/>
                </a:lnTo>
                <a:lnTo>
                  <a:pt x="795" y="295"/>
                </a:lnTo>
                <a:lnTo>
                  <a:pt x="820" y="302"/>
                </a:lnTo>
                <a:lnTo>
                  <a:pt x="848" y="307"/>
                </a:lnTo>
                <a:lnTo>
                  <a:pt x="878" y="311"/>
                </a:lnTo>
                <a:lnTo>
                  <a:pt x="909" y="314"/>
                </a:lnTo>
                <a:lnTo>
                  <a:pt x="904" y="343"/>
                </a:lnTo>
                <a:lnTo>
                  <a:pt x="899" y="378"/>
                </a:lnTo>
                <a:lnTo>
                  <a:pt x="895" y="418"/>
                </a:lnTo>
                <a:lnTo>
                  <a:pt x="898" y="462"/>
                </a:lnTo>
                <a:lnTo>
                  <a:pt x="892" y="447"/>
                </a:lnTo>
                <a:lnTo>
                  <a:pt x="885" y="431"/>
                </a:lnTo>
                <a:lnTo>
                  <a:pt x="877" y="415"/>
                </a:lnTo>
                <a:lnTo>
                  <a:pt x="866" y="398"/>
                </a:lnTo>
                <a:lnTo>
                  <a:pt x="855" y="383"/>
                </a:lnTo>
                <a:lnTo>
                  <a:pt x="841" y="370"/>
                </a:lnTo>
                <a:lnTo>
                  <a:pt x="826" y="357"/>
                </a:lnTo>
                <a:lnTo>
                  <a:pt x="808" y="347"/>
                </a:lnTo>
                <a:lnTo>
                  <a:pt x="815" y="363"/>
                </a:lnTo>
                <a:lnTo>
                  <a:pt x="822" y="379"/>
                </a:lnTo>
                <a:lnTo>
                  <a:pt x="830" y="396"/>
                </a:lnTo>
                <a:lnTo>
                  <a:pt x="838" y="412"/>
                </a:lnTo>
                <a:lnTo>
                  <a:pt x="846" y="430"/>
                </a:lnTo>
                <a:lnTo>
                  <a:pt x="854" y="446"/>
                </a:lnTo>
                <a:lnTo>
                  <a:pt x="861" y="461"/>
                </a:lnTo>
                <a:lnTo>
                  <a:pt x="866" y="475"/>
                </a:lnTo>
                <a:lnTo>
                  <a:pt x="872" y="493"/>
                </a:lnTo>
                <a:lnTo>
                  <a:pt x="871" y="502"/>
                </a:lnTo>
                <a:lnTo>
                  <a:pt x="865" y="514"/>
                </a:lnTo>
                <a:lnTo>
                  <a:pt x="860" y="538"/>
                </a:lnTo>
                <a:lnTo>
                  <a:pt x="845" y="516"/>
                </a:lnTo>
                <a:lnTo>
                  <a:pt x="826" y="489"/>
                </a:lnTo>
                <a:lnTo>
                  <a:pt x="804" y="462"/>
                </a:lnTo>
                <a:lnTo>
                  <a:pt x="781" y="433"/>
                </a:lnTo>
                <a:lnTo>
                  <a:pt x="759" y="409"/>
                </a:lnTo>
                <a:lnTo>
                  <a:pt x="739" y="389"/>
                </a:lnTo>
                <a:lnTo>
                  <a:pt x="722" y="379"/>
                </a:lnTo>
                <a:lnTo>
                  <a:pt x="711" y="379"/>
                </a:lnTo>
                <a:lnTo>
                  <a:pt x="704" y="387"/>
                </a:lnTo>
                <a:lnTo>
                  <a:pt x="701" y="395"/>
                </a:lnTo>
                <a:lnTo>
                  <a:pt x="701" y="405"/>
                </a:lnTo>
                <a:lnTo>
                  <a:pt x="704" y="418"/>
                </a:lnTo>
                <a:lnTo>
                  <a:pt x="710" y="432"/>
                </a:lnTo>
                <a:lnTo>
                  <a:pt x="720" y="447"/>
                </a:lnTo>
                <a:lnTo>
                  <a:pt x="734" y="464"/>
                </a:lnTo>
                <a:lnTo>
                  <a:pt x="751" y="483"/>
                </a:lnTo>
                <a:lnTo>
                  <a:pt x="772" y="503"/>
                </a:lnTo>
                <a:lnTo>
                  <a:pt x="793" y="525"/>
                </a:lnTo>
                <a:lnTo>
                  <a:pt x="813" y="549"/>
                </a:lnTo>
                <a:lnTo>
                  <a:pt x="831" y="577"/>
                </a:lnTo>
                <a:lnTo>
                  <a:pt x="846" y="607"/>
                </a:lnTo>
                <a:lnTo>
                  <a:pt x="855" y="643"/>
                </a:lnTo>
                <a:lnTo>
                  <a:pt x="858" y="682"/>
                </a:lnTo>
                <a:lnTo>
                  <a:pt x="855" y="726"/>
                </a:lnTo>
                <a:lnTo>
                  <a:pt x="848" y="707"/>
                </a:lnTo>
                <a:lnTo>
                  <a:pt x="842" y="696"/>
                </a:lnTo>
                <a:lnTo>
                  <a:pt x="836" y="688"/>
                </a:lnTo>
                <a:lnTo>
                  <a:pt x="832" y="682"/>
                </a:lnTo>
                <a:lnTo>
                  <a:pt x="826" y="678"/>
                </a:lnTo>
                <a:lnTo>
                  <a:pt x="819" y="675"/>
                </a:lnTo>
                <a:lnTo>
                  <a:pt x="810" y="669"/>
                </a:lnTo>
                <a:lnTo>
                  <a:pt x="800" y="661"/>
                </a:lnTo>
                <a:lnTo>
                  <a:pt x="789" y="651"/>
                </a:lnTo>
                <a:lnTo>
                  <a:pt x="780" y="642"/>
                </a:lnTo>
                <a:lnTo>
                  <a:pt x="773" y="631"/>
                </a:lnTo>
                <a:lnTo>
                  <a:pt x="767" y="620"/>
                </a:lnTo>
                <a:lnTo>
                  <a:pt x="763" y="609"/>
                </a:lnTo>
                <a:lnTo>
                  <a:pt x="758" y="597"/>
                </a:lnTo>
                <a:lnTo>
                  <a:pt x="752" y="585"/>
                </a:lnTo>
                <a:lnTo>
                  <a:pt x="745" y="571"/>
                </a:lnTo>
                <a:lnTo>
                  <a:pt x="739" y="557"/>
                </a:lnTo>
                <a:lnTo>
                  <a:pt x="731" y="546"/>
                </a:lnTo>
                <a:lnTo>
                  <a:pt x="722" y="536"/>
                </a:lnTo>
                <a:lnTo>
                  <a:pt x="713" y="526"/>
                </a:lnTo>
                <a:lnTo>
                  <a:pt x="704" y="519"/>
                </a:lnTo>
                <a:lnTo>
                  <a:pt x="694" y="514"/>
                </a:lnTo>
                <a:lnTo>
                  <a:pt x="683" y="509"/>
                </a:lnTo>
                <a:lnTo>
                  <a:pt x="672" y="507"/>
                </a:lnTo>
                <a:lnTo>
                  <a:pt x="682" y="521"/>
                </a:lnTo>
                <a:lnTo>
                  <a:pt x="691" y="534"/>
                </a:lnTo>
                <a:lnTo>
                  <a:pt x="701" y="548"/>
                </a:lnTo>
                <a:lnTo>
                  <a:pt x="709" y="563"/>
                </a:lnTo>
                <a:lnTo>
                  <a:pt x="716" y="579"/>
                </a:lnTo>
                <a:lnTo>
                  <a:pt x="721" y="597"/>
                </a:lnTo>
                <a:lnTo>
                  <a:pt x="725" y="616"/>
                </a:lnTo>
                <a:lnTo>
                  <a:pt x="727" y="637"/>
                </a:lnTo>
                <a:lnTo>
                  <a:pt x="728" y="658"/>
                </a:lnTo>
                <a:lnTo>
                  <a:pt x="731" y="677"/>
                </a:lnTo>
                <a:lnTo>
                  <a:pt x="734" y="696"/>
                </a:lnTo>
                <a:lnTo>
                  <a:pt x="739" y="712"/>
                </a:lnTo>
                <a:lnTo>
                  <a:pt x="744" y="728"/>
                </a:lnTo>
                <a:lnTo>
                  <a:pt x="752" y="743"/>
                </a:lnTo>
                <a:lnTo>
                  <a:pt x="762" y="758"/>
                </a:lnTo>
                <a:lnTo>
                  <a:pt x="773" y="773"/>
                </a:lnTo>
                <a:lnTo>
                  <a:pt x="786" y="788"/>
                </a:lnTo>
                <a:lnTo>
                  <a:pt x="800" y="805"/>
                </a:lnTo>
                <a:lnTo>
                  <a:pt x="811" y="822"/>
                </a:lnTo>
                <a:lnTo>
                  <a:pt x="822" y="841"/>
                </a:lnTo>
                <a:lnTo>
                  <a:pt x="830" y="863"/>
                </a:lnTo>
                <a:lnTo>
                  <a:pt x="833" y="886"/>
                </a:lnTo>
                <a:lnTo>
                  <a:pt x="832" y="912"/>
                </a:lnTo>
                <a:lnTo>
                  <a:pt x="826" y="941"/>
                </a:lnTo>
                <a:lnTo>
                  <a:pt x="815" y="933"/>
                </a:lnTo>
                <a:lnTo>
                  <a:pt x="803" y="925"/>
                </a:lnTo>
                <a:lnTo>
                  <a:pt x="793" y="919"/>
                </a:lnTo>
                <a:lnTo>
                  <a:pt x="782" y="913"/>
                </a:lnTo>
                <a:lnTo>
                  <a:pt x="773" y="909"/>
                </a:lnTo>
                <a:lnTo>
                  <a:pt x="764" y="905"/>
                </a:lnTo>
                <a:lnTo>
                  <a:pt x="755" y="903"/>
                </a:lnTo>
                <a:lnTo>
                  <a:pt x="745" y="902"/>
                </a:lnTo>
                <a:lnTo>
                  <a:pt x="757" y="917"/>
                </a:lnTo>
                <a:lnTo>
                  <a:pt x="766" y="933"/>
                </a:lnTo>
                <a:lnTo>
                  <a:pt x="772" y="951"/>
                </a:lnTo>
                <a:lnTo>
                  <a:pt x="775" y="969"/>
                </a:lnTo>
                <a:lnTo>
                  <a:pt x="775" y="988"/>
                </a:lnTo>
                <a:lnTo>
                  <a:pt x="774" y="1008"/>
                </a:lnTo>
                <a:lnTo>
                  <a:pt x="770" y="1029"/>
                </a:lnTo>
                <a:lnTo>
                  <a:pt x="764" y="1049"/>
                </a:lnTo>
                <a:lnTo>
                  <a:pt x="759" y="1060"/>
                </a:lnTo>
                <a:lnTo>
                  <a:pt x="752" y="1070"/>
                </a:lnTo>
                <a:lnTo>
                  <a:pt x="744" y="1080"/>
                </a:lnTo>
                <a:lnTo>
                  <a:pt x="735" y="1091"/>
                </a:lnTo>
                <a:lnTo>
                  <a:pt x="724" y="1100"/>
                </a:lnTo>
                <a:lnTo>
                  <a:pt x="711" y="1109"/>
                </a:lnTo>
                <a:lnTo>
                  <a:pt x="697" y="1117"/>
                </a:lnTo>
                <a:lnTo>
                  <a:pt x="682" y="1125"/>
                </a:lnTo>
                <a:lnTo>
                  <a:pt x="666" y="1132"/>
                </a:lnTo>
                <a:lnTo>
                  <a:pt x="649" y="1138"/>
                </a:lnTo>
                <a:lnTo>
                  <a:pt x="631" y="1143"/>
                </a:lnTo>
                <a:lnTo>
                  <a:pt x="613" y="1147"/>
                </a:lnTo>
                <a:lnTo>
                  <a:pt x="595" y="1150"/>
                </a:lnTo>
                <a:lnTo>
                  <a:pt x="575" y="1151"/>
                </a:lnTo>
                <a:lnTo>
                  <a:pt x="555" y="1151"/>
                </a:lnTo>
                <a:lnTo>
                  <a:pt x="536" y="1150"/>
                </a:lnTo>
                <a:lnTo>
                  <a:pt x="524" y="1147"/>
                </a:lnTo>
                <a:lnTo>
                  <a:pt x="513" y="1145"/>
                </a:lnTo>
                <a:lnTo>
                  <a:pt x="501" y="1142"/>
                </a:lnTo>
                <a:lnTo>
                  <a:pt x="490" y="1138"/>
                </a:lnTo>
                <a:lnTo>
                  <a:pt x="478" y="1135"/>
                </a:lnTo>
                <a:lnTo>
                  <a:pt x="467" y="1130"/>
                </a:lnTo>
                <a:lnTo>
                  <a:pt x="455" y="1125"/>
                </a:lnTo>
                <a:lnTo>
                  <a:pt x="444" y="1122"/>
                </a:lnTo>
                <a:lnTo>
                  <a:pt x="431" y="1119"/>
                </a:lnTo>
                <a:lnTo>
                  <a:pt x="419" y="1115"/>
                </a:lnTo>
                <a:lnTo>
                  <a:pt x="408" y="1113"/>
                </a:lnTo>
                <a:lnTo>
                  <a:pt x="395" y="1112"/>
                </a:lnTo>
                <a:lnTo>
                  <a:pt x="383" y="1110"/>
                </a:lnTo>
                <a:lnTo>
                  <a:pt x="370" y="1112"/>
                </a:lnTo>
                <a:lnTo>
                  <a:pt x="357" y="1114"/>
                </a:lnTo>
                <a:lnTo>
                  <a:pt x="345" y="1117"/>
                </a:lnTo>
                <a:lnTo>
                  <a:pt x="355" y="1104"/>
                </a:lnTo>
                <a:lnTo>
                  <a:pt x="365" y="1093"/>
                </a:lnTo>
                <a:lnTo>
                  <a:pt x="376" y="1084"/>
                </a:lnTo>
                <a:lnTo>
                  <a:pt x="386" y="1077"/>
                </a:lnTo>
                <a:lnTo>
                  <a:pt x="399" y="1071"/>
                </a:lnTo>
                <a:lnTo>
                  <a:pt x="413" y="1067"/>
                </a:lnTo>
                <a:lnTo>
                  <a:pt x="429" y="1062"/>
                </a:lnTo>
                <a:lnTo>
                  <a:pt x="447" y="1059"/>
                </a:lnTo>
                <a:lnTo>
                  <a:pt x="468" y="1053"/>
                </a:lnTo>
                <a:lnTo>
                  <a:pt x="489" y="1045"/>
                </a:lnTo>
                <a:lnTo>
                  <a:pt x="508" y="1033"/>
                </a:lnTo>
                <a:lnTo>
                  <a:pt x="528" y="1018"/>
                </a:lnTo>
                <a:lnTo>
                  <a:pt x="544" y="1000"/>
                </a:lnTo>
                <a:lnTo>
                  <a:pt x="558" y="977"/>
                </a:lnTo>
                <a:lnTo>
                  <a:pt x="569" y="949"/>
                </a:lnTo>
                <a:lnTo>
                  <a:pt x="575" y="917"/>
                </a:lnTo>
                <a:lnTo>
                  <a:pt x="560" y="931"/>
                </a:lnTo>
                <a:lnTo>
                  <a:pt x="545" y="946"/>
                </a:lnTo>
                <a:lnTo>
                  <a:pt x="530" y="961"/>
                </a:lnTo>
                <a:lnTo>
                  <a:pt x="515" y="976"/>
                </a:lnTo>
                <a:lnTo>
                  <a:pt x="498" y="989"/>
                </a:lnTo>
                <a:lnTo>
                  <a:pt x="479" y="1001"/>
                </a:lnTo>
                <a:lnTo>
                  <a:pt x="457" y="1010"/>
                </a:lnTo>
                <a:lnTo>
                  <a:pt x="431" y="1016"/>
                </a:lnTo>
                <a:lnTo>
                  <a:pt x="404" y="1021"/>
                </a:lnTo>
                <a:lnTo>
                  <a:pt x="378" y="1025"/>
                </a:lnTo>
                <a:lnTo>
                  <a:pt x="352" y="1032"/>
                </a:lnTo>
                <a:lnTo>
                  <a:pt x="327" y="1039"/>
                </a:lnTo>
                <a:lnTo>
                  <a:pt x="305" y="1048"/>
                </a:lnTo>
                <a:lnTo>
                  <a:pt x="285" y="1059"/>
                </a:lnTo>
                <a:lnTo>
                  <a:pt x="266" y="1070"/>
                </a:lnTo>
                <a:lnTo>
                  <a:pt x="251" y="1083"/>
                </a:lnTo>
                <a:lnTo>
                  <a:pt x="237" y="1098"/>
                </a:lnTo>
                <a:lnTo>
                  <a:pt x="221" y="1113"/>
                </a:lnTo>
                <a:lnTo>
                  <a:pt x="205" y="1128"/>
                </a:lnTo>
                <a:lnTo>
                  <a:pt x="187" y="1140"/>
                </a:lnTo>
                <a:lnTo>
                  <a:pt x="168" y="1151"/>
                </a:lnTo>
                <a:lnTo>
                  <a:pt x="146" y="1155"/>
                </a:lnTo>
                <a:lnTo>
                  <a:pt x="125" y="1154"/>
                </a:lnTo>
                <a:lnTo>
                  <a:pt x="100" y="1145"/>
                </a:lnTo>
                <a:lnTo>
                  <a:pt x="100" y="1137"/>
                </a:lnTo>
                <a:lnTo>
                  <a:pt x="102" y="1129"/>
                </a:lnTo>
                <a:lnTo>
                  <a:pt x="104" y="1120"/>
                </a:lnTo>
                <a:lnTo>
                  <a:pt x="110" y="1109"/>
                </a:lnTo>
                <a:lnTo>
                  <a:pt x="118" y="1099"/>
                </a:lnTo>
                <a:lnTo>
                  <a:pt x="128" y="1087"/>
                </a:lnTo>
                <a:lnTo>
                  <a:pt x="142" y="1075"/>
                </a:lnTo>
                <a:lnTo>
                  <a:pt x="158" y="1061"/>
                </a:lnTo>
                <a:lnTo>
                  <a:pt x="176" y="1046"/>
                </a:lnTo>
                <a:lnTo>
                  <a:pt x="193" y="1027"/>
                </a:lnTo>
                <a:lnTo>
                  <a:pt x="208" y="1008"/>
                </a:lnTo>
                <a:lnTo>
                  <a:pt x="220" y="985"/>
                </a:lnTo>
                <a:lnTo>
                  <a:pt x="229" y="960"/>
                </a:lnTo>
                <a:lnTo>
                  <a:pt x="233" y="933"/>
                </a:lnTo>
                <a:lnTo>
                  <a:pt x="232" y="904"/>
                </a:lnTo>
                <a:lnTo>
                  <a:pt x="225" y="874"/>
                </a:lnTo>
                <a:lnTo>
                  <a:pt x="221" y="893"/>
                </a:lnTo>
                <a:lnTo>
                  <a:pt x="216" y="913"/>
                </a:lnTo>
                <a:lnTo>
                  <a:pt x="209" y="935"/>
                </a:lnTo>
                <a:lnTo>
                  <a:pt x="202" y="956"/>
                </a:lnTo>
                <a:lnTo>
                  <a:pt x="193" y="976"/>
                </a:lnTo>
                <a:lnTo>
                  <a:pt x="182" y="993"/>
                </a:lnTo>
                <a:lnTo>
                  <a:pt x="171" y="1006"/>
                </a:lnTo>
                <a:lnTo>
                  <a:pt x="158" y="1014"/>
                </a:lnTo>
                <a:lnTo>
                  <a:pt x="145" y="1018"/>
                </a:lnTo>
                <a:lnTo>
                  <a:pt x="135" y="1023"/>
                </a:lnTo>
                <a:lnTo>
                  <a:pt x="125" y="1026"/>
                </a:lnTo>
                <a:lnTo>
                  <a:pt x="117" y="1032"/>
                </a:lnTo>
                <a:lnTo>
                  <a:pt x="107" y="1038"/>
                </a:lnTo>
                <a:lnTo>
                  <a:pt x="100" y="1045"/>
                </a:lnTo>
                <a:lnTo>
                  <a:pt x="92" y="1054"/>
                </a:lnTo>
                <a:lnTo>
                  <a:pt x="85" y="1064"/>
                </a:lnTo>
                <a:lnTo>
                  <a:pt x="87" y="1031"/>
                </a:lnTo>
                <a:lnTo>
                  <a:pt x="93" y="1000"/>
                </a:lnTo>
                <a:lnTo>
                  <a:pt x="103" y="968"/>
                </a:lnTo>
                <a:lnTo>
                  <a:pt x="113" y="933"/>
                </a:lnTo>
                <a:lnTo>
                  <a:pt x="117" y="913"/>
                </a:lnTo>
                <a:lnTo>
                  <a:pt x="120" y="890"/>
                </a:lnTo>
                <a:lnTo>
                  <a:pt x="122" y="865"/>
                </a:lnTo>
                <a:lnTo>
                  <a:pt x="122" y="839"/>
                </a:lnTo>
                <a:lnTo>
                  <a:pt x="120" y="811"/>
                </a:lnTo>
                <a:lnTo>
                  <a:pt x="114" y="784"/>
                </a:lnTo>
                <a:lnTo>
                  <a:pt x="105" y="758"/>
                </a:lnTo>
                <a:lnTo>
                  <a:pt x="91" y="734"/>
                </a:lnTo>
                <a:lnTo>
                  <a:pt x="75" y="710"/>
                </a:lnTo>
                <a:lnTo>
                  <a:pt x="58" y="683"/>
                </a:lnTo>
                <a:lnTo>
                  <a:pt x="42" y="655"/>
                </a:lnTo>
                <a:lnTo>
                  <a:pt x="27" y="625"/>
                </a:lnTo>
                <a:lnTo>
                  <a:pt x="14" y="595"/>
                </a:lnTo>
                <a:lnTo>
                  <a:pt x="5" y="566"/>
                </a:lnTo>
                <a:lnTo>
                  <a:pt x="0" y="536"/>
                </a:lnTo>
                <a:lnTo>
                  <a:pt x="0" y="507"/>
                </a:lnTo>
                <a:lnTo>
                  <a:pt x="5" y="480"/>
                </a:lnTo>
                <a:lnTo>
                  <a:pt x="11" y="455"/>
                </a:lnTo>
                <a:lnTo>
                  <a:pt x="17" y="432"/>
                </a:lnTo>
                <a:lnTo>
                  <a:pt x="27" y="410"/>
                </a:lnTo>
                <a:lnTo>
                  <a:pt x="35" y="390"/>
                </a:lnTo>
                <a:lnTo>
                  <a:pt x="45" y="372"/>
                </a:lnTo>
                <a:lnTo>
                  <a:pt x="54" y="355"/>
                </a:lnTo>
                <a:lnTo>
                  <a:pt x="62" y="339"/>
                </a:lnTo>
                <a:lnTo>
                  <a:pt x="70" y="321"/>
                </a:lnTo>
                <a:lnTo>
                  <a:pt x="78" y="302"/>
                </a:lnTo>
                <a:lnTo>
                  <a:pt x="88" y="281"/>
                </a:lnTo>
                <a:lnTo>
                  <a:pt x="95" y="259"/>
                </a:lnTo>
                <a:lnTo>
                  <a:pt x="102" y="238"/>
                </a:lnTo>
                <a:lnTo>
                  <a:pt x="106" y="218"/>
                </a:lnTo>
                <a:lnTo>
                  <a:pt x="110" y="199"/>
                </a:lnTo>
                <a:lnTo>
                  <a:pt x="110" y="184"/>
                </a:lnTo>
                <a:lnTo>
                  <a:pt x="119" y="180"/>
                </a:lnTo>
                <a:lnTo>
                  <a:pt x="133" y="173"/>
                </a:lnTo>
                <a:lnTo>
                  <a:pt x="149" y="165"/>
                </a:lnTo>
                <a:lnTo>
                  <a:pt x="167" y="155"/>
                </a:lnTo>
                <a:lnTo>
                  <a:pt x="184" y="146"/>
                </a:lnTo>
                <a:lnTo>
                  <a:pt x="201" y="138"/>
                </a:lnTo>
                <a:lnTo>
                  <a:pt x="213" y="131"/>
                </a:lnTo>
                <a:lnTo>
                  <a:pt x="221" y="12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3" name="Freeform 19"/>
          <p:cNvSpPr/>
          <p:nvPr/>
        </p:nvSpPr>
        <p:spPr>
          <a:xfrm>
            <a:off x="2014560" y="4151160"/>
            <a:ext cx="217440" cy="198720"/>
          </a:xfrm>
          <a:custGeom>
            <a:avLst/>
            <a:gdLst/>
            <a:ahLst/>
            <a:rect l="l" t="t" r="r" b="b"/>
            <a:pathLst>
              <a:path w="274" h="250">
                <a:moveTo>
                  <a:pt x="0" y="0"/>
                </a:moveTo>
                <a:lnTo>
                  <a:pt x="15" y="2"/>
                </a:lnTo>
                <a:lnTo>
                  <a:pt x="36" y="3"/>
                </a:lnTo>
                <a:lnTo>
                  <a:pt x="59" y="5"/>
                </a:lnTo>
                <a:lnTo>
                  <a:pt x="84" y="7"/>
                </a:lnTo>
                <a:lnTo>
                  <a:pt x="109" y="11"/>
                </a:lnTo>
                <a:lnTo>
                  <a:pt x="135" y="16"/>
                </a:lnTo>
                <a:lnTo>
                  <a:pt x="159" y="24"/>
                </a:lnTo>
                <a:lnTo>
                  <a:pt x="181" y="34"/>
                </a:lnTo>
                <a:lnTo>
                  <a:pt x="203" y="48"/>
                </a:lnTo>
                <a:lnTo>
                  <a:pt x="224" y="66"/>
                </a:lnTo>
                <a:lnTo>
                  <a:pt x="245" y="87"/>
                </a:lnTo>
                <a:lnTo>
                  <a:pt x="262" y="113"/>
                </a:lnTo>
                <a:lnTo>
                  <a:pt x="273" y="142"/>
                </a:lnTo>
                <a:lnTo>
                  <a:pt x="274" y="174"/>
                </a:lnTo>
                <a:lnTo>
                  <a:pt x="264" y="210"/>
                </a:lnTo>
                <a:lnTo>
                  <a:pt x="238" y="250"/>
                </a:lnTo>
                <a:lnTo>
                  <a:pt x="243" y="228"/>
                </a:lnTo>
                <a:lnTo>
                  <a:pt x="245" y="205"/>
                </a:lnTo>
                <a:lnTo>
                  <a:pt x="248" y="181"/>
                </a:lnTo>
                <a:lnTo>
                  <a:pt x="245" y="157"/>
                </a:lnTo>
                <a:lnTo>
                  <a:pt x="239" y="134"/>
                </a:lnTo>
                <a:lnTo>
                  <a:pt x="228" y="111"/>
                </a:lnTo>
                <a:lnTo>
                  <a:pt x="211" y="90"/>
                </a:lnTo>
                <a:lnTo>
                  <a:pt x="186" y="71"/>
                </a:lnTo>
                <a:lnTo>
                  <a:pt x="171" y="63"/>
                </a:lnTo>
                <a:lnTo>
                  <a:pt x="158" y="56"/>
                </a:lnTo>
                <a:lnTo>
                  <a:pt x="144" y="49"/>
                </a:lnTo>
                <a:lnTo>
                  <a:pt x="129" y="44"/>
                </a:lnTo>
                <a:lnTo>
                  <a:pt x="115" y="39"/>
                </a:lnTo>
                <a:lnTo>
                  <a:pt x="102" y="34"/>
                </a:lnTo>
                <a:lnTo>
                  <a:pt x="89" y="30"/>
                </a:lnTo>
                <a:lnTo>
                  <a:pt x="76" y="26"/>
                </a:lnTo>
                <a:lnTo>
                  <a:pt x="64" y="23"/>
                </a:lnTo>
                <a:lnTo>
                  <a:pt x="53" y="19"/>
                </a:lnTo>
                <a:lnTo>
                  <a:pt x="41" y="17"/>
                </a:lnTo>
                <a:lnTo>
                  <a:pt x="32" y="14"/>
                </a:lnTo>
                <a:lnTo>
                  <a:pt x="23" y="10"/>
                </a:lnTo>
                <a:lnTo>
                  <a:pt x="14" y="7"/>
                </a:lnTo>
                <a:lnTo>
                  <a:pt x="7" y="3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4" name="Freeform 20"/>
          <p:cNvSpPr/>
          <p:nvPr/>
        </p:nvSpPr>
        <p:spPr>
          <a:xfrm>
            <a:off x="2130480" y="4246560"/>
            <a:ext cx="169920" cy="185760"/>
          </a:xfrm>
          <a:custGeom>
            <a:avLst/>
            <a:gdLst/>
            <a:ahLst/>
            <a:rect l="l" t="t" r="r" b="b"/>
            <a:pathLst>
              <a:path w="214" h="235">
                <a:moveTo>
                  <a:pt x="0" y="235"/>
                </a:moveTo>
                <a:lnTo>
                  <a:pt x="11" y="221"/>
                </a:lnTo>
                <a:lnTo>
                  <a:pt x="21" y="209"/>
                </a:lnTo>
                <a:lnTo>
                  <a:pt x="32" y="200"/>
                </a:lnTo>
                <a:lnTo>
                  <a:pt x="45" y="192"/>
                </a:lnTo>
                <a:lnTo>
                  <a:pt x="60" y="184"/>
                </a:lnTo>
                <a:lnTo>
                  <a:pt x="76" y="176"/>
                </a:lnTo>
                <a:lnTo>
                  <a:pt x="93" y="168"/>
                </a:lnTo>
                <a:lnTo>
                  <a:pt x="114" y="158"/>
                </a:lnTo>
                <a:lnTo>
                  <a:pt x="135" y="145"/>
                </a:lnTo>
                <a:lnTo>
                  <a:pt x="155" y="131"/>
                </a:lnTo>
                <a:lnTo>
                  <a:pt x="171" y="114"/>
                </a:lnTo>
                <a:lnTo>
                  <a:pt x="182" y="95"/>
                </a:lnTo>
                <a:lnTo>
                  <a:pt x="190" y="75"/>
                </a:lnTo>
                <a:lnTo>
                  <a:pt x="193" y="52"/>
                </a:lnTo>
                <a:lnTo>
                  <a:pt x="188" y="26"/>
                </a:lnTo>
                <a:lnTo>
                  <a:pt x="178" y="0"/>
                </a:lnTo>
                <a:lnTo>
                  <a:pt x="194" y="15"/>
                </a:lnTo>
                <a:lnTo>
                  <a:pt x="205" y="34"/>
                </a:lnTo>
                <a:lnTo>
                  <a:pt x="212" y="58"/>
                </a:lnTo>
                <a:lnTo>
                  <a:pt x="214" y="83"/>
                </a:lnTo>
                <a:lnTo>
                  <a:pt x="211" y="108"/>
                </a:lnTo>
                <a:lnTo>
                  <a:pt x="201" y="132"/>
                </a:lnTo>
                <a:lnTo>
                  <a:pt x="182" y="154"/>
                </a:lnTo>
                <a:lnTo>
                  <a:pt x="157" y="170"/>
                </a:lnTo>
                <a:lnTo>
                  <a:pt x="137" y="178"/>
                </a:lnTo>
                <a:lnTo>
                  <a:pt x="116" y="186"/>
                </a:lnTo>
                <a:lnTo>
                  <a:pt x="97" y="193"/>
                </a:lnTo>
                <a:lnTo>
                  <a:pt x="76" y="199"/>
                </a:lnTo>
                <a:lnTo>
                  <a:pt x="57" y="207"/>
                </a:lnTo>
                <a:lnTo>
                  <a:pt x="37" y="214"/>
                </a:lnTo>
                <a:lnTo>
                  <a:pt x="17" y="223"/>
                </a:lnTo>
                <a:lnTo>
                  <a:pt x="0" y="23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5" name="Freeform 21"/>
          <p:cNvSpPr/>
          <p:nvPr/>
        </p:nvSpPr>
        <p:spPr>
          <a:xfrm>
            <a:off x="2214720" y="4098960"/>
            <a:ext cx="214200" cy="66600"/>
          </a:xfrm>
          <a:custGeom>
            <a:avLst/>
            <a:gdLst/>
            <a:ahLst/>
            <a:rect l="l" t="t" r="r" b="b"/>
            <a:pathLst>
              <a:path w="270" h="83">
                <a:moveTo>
                  <a:pt x="0" y="13"/>
                </a:moveTo>
                <a:lnTo>
                  <a:pt x="9" y="18"/>
                </a:lnTo>
                <a:lnTo>
                  <a:pt x="20" y="22"/>
                </a:lnTo>
                <a:lnTo>
                  <a:pt x="34" y="27"/>
                </a:lnTo>
                <a:lnTo>
                  <a:pt x="47" y="30"/>
                </a:lnTo>
                <a:lnTo>
                  <a:pt x="63" y="34"/>
                </a:lnTo>
                <a:lnTo>
                  <a:pt x="80" y="37"/>
                </a:lnTo>
                <a:lnTo>
                  <a:pt x="98" y="39"/>
                </a:lnTo>
                <a:lnTo>
                  <a:pt x="116" y="41"/>
                </a:lnTo>
                <a:lnTo>
                  <a:pt x="136" y="42"/>
                </a:lnTo>
                <a:lnTo>
                  <a:pt x="156" y="41"/>
                </a:lnTo>
                <a:lnTo>
                  <a:pt x="175" y="38"/>
                </a:lnTo>
                <a:lnTo>
                  <a:pt x="195" y="35"/>
                </a:lnTo>
                <a:lnTo>
                  <a:pt x="214" y="29"/>
                </a:lnTo>
                <a:lnTo>
                  <a:pt x="234" y="22"/>
                </a:lnTo>
                <a:lnTo>
                  <a:pt x="252" y="12"/>
                </a:lnTo>
                <a:lnTo>
                  <a:pt x="270" y="0"/>
                </a:lnTo>
                <a:lnTo>
                  <a:pt x="259" y="18"/>
                </a:lnTo>
                <a:lnTo>
                  <a:pt x="245" y="34"/>
                </a:lnTo>
                <a:lnTo>
                  <a:pt x="232" y="47"/>
                </a:lnTo>
                <a:lnTo>
                  <a:pt x="214" y="59"/>
                </a:lnTo>
                <a:lnTo>
                  <a:pt x="197" y="68"/>
                </a:lnTo>
                <a:lnTo>
                  <a:pt x="179" y="75"/>
                </a:lnTo>
                <a:lnTo>
                  <a:pt x="160" y="81"/>
                </a:lnTo>
                <a:lnTo>
                  <a:pt x="141" y="83"/>
                </a:lnTo>
                <a:lnTo>
                  <a:pt x="120" y="83"/>
                </a:lnTo>
                <a:lnTo>
                  <a:pt x="100" y="81"/>
                </a:lnTo>
                <a:lnTo>
                  <a:pt x="81" y="76"/>
                </a:lnTo>
                <a:lnTo>
                  <a:pt x="62" y="68"/>
                </a:lnTo>
                <a:lnTo>
                  <a:pt x="45" y="59"/>
                </a:lnTo>
                <a:lnTo>
                  <a:pt x="29" y="46"/>
                </a:lnTo>
                <a:lnTo>
                  <a:pt x="14" y="31"/>
                </a:lnTo>
                <a:lnTo>
                  <a:pt x="0" y="1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6" name="Freeform 22"/>
          <p:cNvSpPr/>
          <p:nvPr/>
        </p:nvSpPr>
        <p:spPr>
          <a:xfrm>
            <a:off x="2028960" y="3930480"/>
            <a:ext cx="145800" cy="209880"/>
          </a:xfrm>
          <a:custGeom>
            <a:avLst/>
            <a:gdLst/>
            <a:ahLst/>
            <a:rect l="l" t="t" r="r" b="b"/>
            <a:pathLst>
              <a:path w="185" h="264">
                <a:moveTo>
                  <a:pt x="0" y="75"/>
                </a:moveTo>
                <a:lnTo>
                  <a:pt x="22" y="144"/>
                </a:lnTo>
                <a:lnTo>
                  <a:pt x="99" y="102"/>
                </a:lnTo>
                <a:lnTo>
                  <a:pt x="96" y="117"/>
                </a:lnTo>
                <a:lnTo>
                  <a:pt x="92" y="134"/>
                </a:lnTo>
                <a:lnTo>
                  <a:pt x="90" y="153"/>
                </a:lnTo>
                <a:lnTo>
                  <a:pt x="90" y="175"/>
                </a:lnTo>
                <a:lnTo>
                  <a:pt x="91" y="197"/>
                </a:lnTo>
                <a:lnTo>
                  <a:pt x="97" y="220"/>
                </a:lnTo>
                <a:lnTo>
                  <a:pt x="106" y="242"/>
                </a:lnTo>
                <a:lnTo>
                  <a:pt x="120" y="264"/>
                </a:lnTo>
                <a:lnTo>
                  <a:pt x="171" y="243"/>
                </a:lnTo>
                <a:lnTo>
                  <a:pt x="165" y="226"/>
                </a:lnTo>
                <a:lnTo>
                  <a:pt x="158" y="208"/>
                </a:lnTo>
                <a:lnTo>
                  <a:pt x="151" y="188"/>
                </a:lnTo>
                <a:lnTo>
                  <a:pt x="147" y="166"/>
                </a:lnTo>
                <a:lnTo>
                  <a:pt x="147" y="143"/>
                </a:lnTo>
                <a:lnTo>
                  <a:pt x="151" y="119"/>
                </a:lnTo>
                <a:lnTo>
                  <a:pt x="164" y="94"/>
                </a:lnTo>
                <a:lnTo>
                  <a:pt x="185" y="67"/>
                </a:lnTo>
                <a:lnTo>
                  <a:pt x="163" y="0"/>
                </a:lnTo>
                <a:lnTo>
                  <a:pt x="0" y="7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7" name="Freeform 23"/>
          <p:cNvSpPr/>
          <p:nvPr/>
        </p:nvSpPr>
        <p:spPr>
          <a:xfrm>
            <a:off x="2027160" y="4530600"/>
            <a:ext cx="490680" cy="84240"/>
          </a:xfrm>
          <a:custGeom>
            <a:avLst/>
            <a:gdLst/>
            <a:ahLst/>
            <a:rect l="l" t="t" r="r" b="b"/>
            <a:pathLst>
              <a:path w="617" h="106">
                <a:moveTo>
                  <a:pt x="0" y="47"/>
                </a:moveTo>
                <a:lnTo>
                  <a:pt x="7" y="45"/>
                </a:lnTo>
                <a:lnTo>
                  <a:pt x="16" y="41"/>
                </a:lnTo>
                <a:lnTo>
                  <a:pt x="25" y="38"/>
                </a:lnTo>
                <a:lnTo>
                  <a:pt x="37" y="33"/>
                </a:lnTo>
                <a:lnTo>
                  <a:pt x="48" y="30"/>
                </a:lnTo>
                <a:lnTo>
                  <a:pt x="61" y="27"/>
                </a:lnTo>
                <a:lnTo>
                  <a:pt x="74" y="23"/>
                </a:lnTo>
                <a:lnTo>
                  <a:pt x="88" y="20"/>
                </a:lnTo>
                <a:lnTo>
                  <a:pt x="101" y="17"/>
                </a:lnTo>
                <a:lnTo>
                  <a:pt x="115" y="15"/>
                </a:lnTo>
                <a:lnTo>
                  <a:pt x="129" y="14"/>
                </a:lnTo>
                <a:lnTo>
                  <a:pt x="143" y="14"/>
                </a:lnTo>
                <a:lnTo>
                  <a:pt x="155" y="14"/>
                </a:lnTo>
                <a:lnTo>
                  <a:pt x="168" y="16"/>
                </a:lnTo>
                <a:lnTo>
                  <a:pt x="181" y="18"/>
                </a:lnTo>
                <a:lnTo>
                  <a:pt x="192" y="23"/>
                </a:lnTo>
                <a:lnTo>
                  <a:pt x="204" y="28"/>
                </a:lnTo>
                <a:lnTo>
                  <a:pt x="217" y="32"/>
                </a:lnTo>
                <a:lnTo>
                  <a:pt x="229" y="38"/>
                </a:lnTo>
                <a:lnTo>
                  <a:pt x="244" y="41"/>
                </a:lnTo>
                <a:lnTo>
                  <a:pt x="259" y="46"/>
                </a:lnTo>
                <a:lnTo>
                  <a:pt x="275" y="50"/>
                </a:lnTo>
                <a:lnTo>
                  <a:pt x="291" y="53"/>
                </a:lnTo>
                <a:lnTo>
                  <a:pt x="309" y="56"/>
                </a:lnTo>
                <a:lnTo>
                  <a:pt x="325" y="59"/>
                </a:lnTo>
                <a:lnTo>
                  <a:pt x="342" y="61"/>
                </a:lnTo>
                <a:lnTo>
                  <a:pt x="359" y="63"/>
                </a:lnTo>
                <a:lnTo>
                  <a:pt x="376" y="63"/>
                </a:lnTo>
                <a:lnTo>
                  <a:pt x="392" y="63"/>
                </a:lnTo>
                <a:lnTo>
                  <a:pt x="408" y="63"/>
                </a:lnTo>
                <a:lnTo>
                  <a:pt x="423" y="62"/>
                </a:lnTo>
                <a:lnTo>
                  <a:pt x="437" y="60"/>
                </a:lnTo>
                <a:lnTo>
                  <a:pt x="463" y="55"/>
                </a:lnTo>
                <a:lnTo>
                  <a:pt x="488" y="52"/>
                </a:lnTo>
                <a:lnTo>
                  <a:pt x="514" y="48"/>
                </a:lnTo>
                <a:lnTo>
                  <a:pt x="538" y="44"/>
                </a:lnTo>
                <a:lnTo>
                  <a:pt x="560" y="37"/>
                </a:lnTo>
                <a:lnTo>
                  <a:pt x="582" y="28"/>
                </a:lnTo>
                <a:lnTo>
                  <a:pt x="600" y="16"/>
                </a:lnTo>
                <a:lnTo>
                  <a:pt x="617" y="0"/>
                </a:lnTo>
                <a:lnTo>
                  <a:pt x="617" y="48"/>
                </a:lnTo>
                <a:lnTo>
                  <a:pt x="609" y="53"/>
                </a:lnTo>
                <a:lnTo>
                  <a:pt x="597" y="59"/>
                </a:lnTo>
                <a:lnTo>
                  <a:pt x="581" y="67"/>
                </a:lnTo>
                <a:lnTo>
                  <a:pt x="561" y="76"/>
                </a:lnTo>
                <a:lnTo>
                  <a:pt x="539" y="85"/>
                </a:lnTo>
                <a:lnTo>
                  <a:pt x="515" y="93"/>
                </a:lnTo>
                <a:lnTo>
                  <a:pt x="490" y="99"/>
                </a:lnTo>
                <a:lnTo>
                  <a:pt x="463" y="104"/>
                </a:lnTo>
                <a:lnTo>
                  <a:pt x="449" y="105"/>
                </a:lnTo>
                <a:lnTo>
                  <a:pt x="434" y="106"/>
                </a:lnTo>
                <a:lnTo>
                  <a:pt x="418" y="106"/>
                </a:lnTo>
                <a:lnTo>
                  <a:pt x="402" y="106"/>
                </a:lnTo>
                <a:lnTo>
                  <a:pt x="385" y="106"/>
                </a:lnTo>
                <a:lnTo>
                  <a:pt x="367" y="106"/>
                </a:lnTo>
                <a:lnTo>
                  <a:pt x="350" y="105"/>
                </a:lnTo>
                <a:lnTo>
                  <a:pt x="332" y="103"/>
                </a:lnTo>
                <a:lnTo>
                  <a:pt x="314" y="101"/>
                </a:lnTo>
                <a:lnTo>
                  <a:pt x="297" y="99"/>
                </a:lnTo>
                <a:lnTo>
                  <a:pt x="280" y="96"/>
                </a:lnTo>
                <a:lnTo>
                  <a:pt x="264" y="92"/>
                </a:lnTo>
                <a:lnTo>
                  <a:pt x="249" y="88"/>
                </a:lnTo>
                <a:lnTo>
                  <a:pt x="234" y="83"/>
                </a:lnTo>
                <a:lnTo>
                  <a:pt x="220" y="77"/>
                </a:lnTo>
                <a:lnTo>
                  <a:pt x="207" y="71"/>
                </a:lnTo>
                <a:lnTo>
                  <a:pt x="196" y="66"/>
                </a:lnTo>
                <a:lnTo>
                  <a:pt x="183" y="60"/>
                </a:lnTo>
                <a:lnTo>
                  <a:pt x="170" y="55"/>
                </a:lnTo>
                <a:lnTo>
                  <a:pt x="157" y="52"/>
                </a:lnTo>
                <a:lnTo>
                  <a:pt x="144" y="48"/>
                </a:lnTo>
                <a:lnTo>
                  <a:pt x="130" y="46"/>
                </a:lnTo>
                <a:lnTo>
                  <a:pt x="117" y="45"/>
                </a:lnTo>
                <a:lnTo>
                  <a:pt x="104" y="44"/>
                </a:lnTo>
                <a:lnTo>
                  <a:pt x="90" y="43"/>
                </a:lnTo>
                <a:lnTo>
                  <a:pt x="77" y="43"/>
                </a:lnTo>
                <a:lnTo>
                  <a:pt x="63" y="43"/>
                </a:lnTo>
                <a:lnTo>
                  <a:pt x="51" y="43"/>
                </a:lnTo>
                <a:lnTo>
                  <a:pt x="37" y="44"/>
                </a:lnTo>
                <a:lnTo>
                  <a:pt x="24" y="45"/>
                </a:lnTo>
                <a:lnTo>
                  <a:pt x="11" y="46"/>
                </a:lnTo>
                <a:lnTo>
                  <a:pt x="0" y="4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8" name="Freeform 24"/>
          <p:cNvSpPr/>
          <p:nvPr/>
        </p:nvSpPr>
        <p:spPr>
          <a:xfrm>
            <a:off x="2349360" y="4637160"/>
            <a:ext cx="38160" cy="264960"/>
          </a:xfrm>
          <a:custGeom>
            <a:avLst/>
            <a:gdLst/>
            <a:ahLst/>
            <a:rect l="l" t="t" r="r" b="b"/>
            <a:pathLst>
              <a:path w="47" h="333">
                <a:moveTo>
                  <a:pt x="13" y="0"/>
                </a:moveTo>
                <a:lnTo>
                  <a:pt x="19" y="26"/>
                </a:lnTo>
                <a:lnTo>
                  <a:pt x="23" y="70"/>
                </a:lnTo>
                <a:lnTo>
                  <a:pt x="20" y="122"/>
                </a:lnTo>
                <a:lnTo>
                  <a:pt x="10" y="170"/>
                </a:lnTo>
                <a:lnTo>
                  <a:pt x="1" y="213"/>
                </a:lnTo>
                <a:lnTo>
                  <a:pt x="0" y="253"/>
                </a:lnTo>
                <a:lnTo>
                  <a:pt x="7" y="294"/>
                </a:lnTo>
                <a:lnTo>
                  <a:pt x="22" y="333"/>
                </a:lnTo>
                <a:lnTo>
                  <a:pt x="18" y="298"/>
                </a:lnTo>
                <a:lnTo>
                  <a:pt x="17" y="257"/>
                </a:lnTo>
                <a:lnTo>
                  <a:pt x="19" y="218"/>
                </a:lnTo>
                <a:lnTo>
                  <a:pt x="30" y="184"/>
                </a:lnTo>
                <a:lnTo>
                  <a:pt x="41" y="148"/>
                </a:lnTo>
                <a:lnTo>
                  <a:pt x="47" y="101"/>
                </a:lnTo>
                <a:lnTo>
                  <a:pt x="46" y="49"/>
                </a:lnTo>
                <a:lnTo>
                  <a:pt x="40" y="0"/>
                </a:lnTo>
                <a:lnTo>
                  <a:pt x="13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9" name="Freeform 25"/>
          <p:cNvSpPr/>
          <p:nvPr/>
        </p:nvSpPr>
        <p:spPr>
          <a:xfrm>
            <a:off x="2486160" y="4606920"/>
            <a:ext cx="55440" cy="179280"/>
          </a:xfrm>
          <a:custGeom>
            <a:avLst/>
            <a:gdLst/>
            <a:ahLst/>
            <a:rect l="l" t="t" r="r" b="b"/>
            <a:pathLst>
              <a:path w="70" h="225">
                <a:moveTo>
                  <a:pt x="22" y="0"/>
                </a:moveTo>
                <a:lnTo>
                  <a:pt x="0" y="8"/>
                </a:lnTo>
                <a:lnTo>
                  <a:pt x="8" y="24"/>
                </a:lnTo>
                <a:lnTo>
                  <a:pt x="17" y="43"/>
                </a:lnTo>
                <a:lnTo>
                  <a:pt x="28" y="66"/>
                </a:lnTo>
                <a:lnTo>
                  <a:pt x="39" y="92"/>
                </a:lnTo>
                <a:lnTo>
                  <a:pt x="48" y="122"/>
                </a:lnTo>
                <a:lnTo>
                  <a:pt x="54" y="154"/>
                </a:lnTo>
                <a:lnTo>
                  <a:pt x="57" y="189"/>
                </a:lnTo>
                <a:lnTo>
                  <a:pt x="54" y="225"/>
                </a:lnTo>
                <a:lnTo>
                  <a:pt x="65" y="200"/>
                </a:lnTo>
                <a:lnTo>
                  <a:pt x="70" y="172"/>
                </a:lnTo>
                <a:lnTo>
                  <a:pt x="70" y="142"/>
                </a:lnTo>
                <a:lnTo>
                  <a:pt x="67" y="111"/>
                </a:lnTo>
                <a:lnTo>
                  <a:pt x="59" y="81"/>
                </a:lnTo>
                <a:lnTo>
                  <a:pt x="48" y="51"/>
                </a:lnTo>
                <a:lnTo>
                  <a:pt x="36" y="24"/>
                </a:lnTo>
                <a:lnTo>
                  <a:pt x="22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0" name="Freeform 26"/>
          <p:cNvSpPr/>
          <p:nvPr/>
        </p:nvSpPr>
        <p:spPr>
          <a:xfrm>
            <a:off x="2206800" y="4621320"/>
            <a:ext cx="36360" cy="177840"/>
          </a:xfrm>
          <a:custGeom>
            <a:avLst/>
            <a:gdLst/>
            <a:ahLst/>
            <a:rect l="l" t="t" r="r" b="b"/>
            <a:pathLst>
              <a:path w="47" h="224">
                <a:moveTo>
                  <a:pt x="45" y="13"/>
                </a:moveTo>
                <a:lnTo>
                  <a:pt x="46" y="31"/>
                </a:lnTo>
                <a:lnTo>
                  <a:pt x="47" y="54"/>
                </a:lnTo>
                <a:lnTo>
                  <a:pt x="45" y="82"/>
                </a:lnTo>
                <a:lnTo>
                  <a:pt x="41" y="111"/>
                </a:lnTo>
                <a:lnTo>
                  <a:pt x="35" y="142"/>
                </a:lnTo>
                <a:lnTo>
                  <a:pt x="26" y="172"/>
                </a:lnTo>
                <a:lnTo>
                  <a:pt x="15" y="199"/>
                </a:lnTo>
                <a:lnTo>
                  <a:pt x="0" y="224"/>
                </a:lnTo>
                <a:lnTo>
                  <a:pt x="8" y="174"/>
                </a:lnTo>
                <a:lnTo>
                  <a:pt x="17" y="116"/>
                </a:lnTo>
                <a:lnTo>
                  <a:pt x="22" y="57"/>
                </a:lnTo>
                <a:lnTo>
                  <a:pt x="18" y="0"/>
                </a:lnTo>
                <a:lnTo>
                  <a:pt x="45" y="1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1" name="Freeform 27"/>
          <p:cNvSpPr/>
          <p:nvPr/>
        </p:nvSpPr>
        <p:spPr>
          <a:xfrm>
            <a:off x="1978200" y="4597560"/>
            <a:ext cx="93600" cy="271440"/>
          </a:xfrm>
          <a:custGeom>
            <a:avLst/>
            <a:gdLst/>
            <a:ahLst/>
            <a:rect l="l" t="t" r="r" b="b"/>
            <a:pathLst>
              <a:path w="117" h="341">
                <a:moveTo>
                  <a:pt x="117" y="4"/>
                </a:moveTo>
                <a:lnTo>
                  <a:pt x="90" y="0"/>
                </a:lnTo>
                <a:lnTo>
                  <a:pt x="78" y="14"/>
                </a:lnTo>
                <a:lnTo>
                  <a:pt x="66" y="34"/>
                </a:lnTo>
                <a:lnTo>
                  <a:pt x="54" y="57"/>
                </a:lnTo>
                <a:lnTo>
                  <a:pt x="45" y="82"/>
                </a:lnTo>
                <a:lnTo>
                  <a:pt x="36" y="111"/>
                </a:lnTo>
                <a:lnTo>
                  <a:pt x="30" y="140"/>
                </a:lnTo>
                <a:lnTo>
                  <a:pt x="26" y="169"/>
                </a:lnTo>
                <a:lnTo>
                  <a:pt x="26" y="198"/>
                </a:lnTo>
                <a:lnTo>
                  <a:pt x="29" y="247"/>
                </a:lnTo>
                <a:lnTo>
                  <a:pt x="25" y="285"/>
                </a:lnTo>
                <a:lnTo>
                  <a:pt x="17" y="315"/>
                </a:lnTo>
                <a:lnTo>
                  <a:pt x="0" y="341"/>
                </a:lnTo>
                <a:lnTo>
                  <a:pt x="15" y="331"/>
                </a:lnTo>
                <a:lnTo>
                  <a:pt x="26" y="318"/>
                </a:lnTo>
                <a:lnTo>
                  <a:pt x="34" y="302"/>
                </a:lnTo>
                <a:lnTo>
                  <a:pt x="40" y="282"/>
                </a:lnTo>
                <a:lnTo>
                  <a:pt x="44" y="263"/>
                </a:lnTo>
                <a:lnTo>
                  <a:pt x="45" y="241"/>
                </a:lnTo>
                <a:lnTo>
                  <a:pt x="45" y="219"/>
                </a:lnTo>
                <a:lnTo>
                  <a:pt x="45" y="198"/>
                </a:lnTo>
                <a:lnTo>
                  <a:pt x="45" y="175"/>
                </a:lnTo>
                <a:lnTo>
                  <a:pt x="48" y="148"/>
                </a:lnTo>
                <a:lnTo>
                  <a:pt x="55" y="119"/>
                </a:lnTo>
                <a:lnTo>
                  <a:pt x="63" y="90"/>
                </a:lnTo>
                <a:lnTo>
                  <a:pt x="74" y="62"/>
                </a:lnTo>
                <a:lnTo>
                  <a:pt x="86" y="37"/>
                </a:lnTo>
                <a:lnTo>
                  <a:pt x="101" y="17"/>
                </a:lnTo>
                <a:lnTo>
                  <a:pt x="117" y="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2" name="Freeform 28"/>
          <p:cNvSpPr/>
          <p:nvPr/>
        </p:nvSpPr>
        <p:spPr>
          <a:xfrm>
            <a:off x="1639800" y="5267160"/>
            <a:ext cx="316080" cy="648000"/>
          </a:xfrm>
          <a:custGeom>
            <a:avLst/>
            <a:gdLst/>
            <a:ahLst/>
            <a:rect l="l" t="t" r="r" b="b"/>
            <a:pathLst>
              <a:path w="397" h="817">
                <a:moveTo>
                  <a:pt x="14" y="284"/>
                </a:moveTo>
                <a:lnTo>
                  <a:pt x="10" y="300"/>
                </a:lnTo>
                <a:lnTo>
                  <a:pt x="5" y="316"/>
                </a:lnTo>
                <a:lnTo>
                  <a:pt x="1" y="336"/>
                </a:lnTo>
                <a:lnTo>
                  <a:pt x="0" y="356"/>
                </a:lnTo>
                <a:lnTo>
                  <a:pt x="0" y="382"/>
                </a:lnTo>
                <a:lnTo>
                  <a:pt x="4" y="411"/>
                </a:lnTo>
                <a:lnTo>
                  <a:pt x="14" y="445"/>
                </a:lnTo>
                <a:lnTo>
                  <a:pt x="30" y="484"/>
                </a:lnTo>
                <a:lnTo>
                  <a:pt x="46" y="519"/>
                </a:lnTo>
                <a:lnTo>
                  <a:pt x="64" y="563"/>
                </a:lnTo>
                <a:lnTo>
                  <a:pt x="86" y="610"/>
                </a:lnTo>
                <a:lnTo>
                  <a:pt x="108" y="661"/>
                </a:lnTo>
                <a:lnTo>
                  <a:pt x="130" y="710"/>
                </a:lnTo>
                <a:lnTo>
                  <a:pt x="148" y="754"/>
                </a:lnTo>
                <a:lnTo>
                  <a:pt x="163" y="791"/>
                </a:lnTo>
                <a:lnTo>
                  <a:pt x="172" y="817"/>
                </a:lnTo>
                <a:lnTo>
                  <a:pt x="189" y="817"/>
                </a:lnTo>
                <a:lnTo>
                  <a:pt x="205" y="816"/>
                </a:lnTo>
                <a:lnTo>
                  <a:pt x="220" y="815"/>
                </a:lnTo>
                <a:lnTo>
                  <a:pt x="236" y="810"/>
                </a:lnTo>
                <a:lnTo>
                  <a:pt x="251" y="805"/>
                </a:lnTo>
                <a:lnTo>
                  <a:pt x="267" y="796"/>
                </a:lnTo>
                <a:lnTo>
                  <a:pt x="284" y="785"/>
                </a:lnTo>
                <a:lnTo>
                  <a:pt x="302" y="769"/>
                </a:lnTo>
                <a:lnTo>
                  <a:pt x="303" y="740"/>
                </a:lnTo>
                <a:lnTo>
                  <a:pt x="304" y="700"/>
                </a:lnTo>
                <a:lnTo>
                  <a:pt x="304" y="650"/>
                </a:lnTo>
                <a:lnTo>
                  <a:pt x="300" y="595"/>
                </a:lnTo>
                <a:lnTo>
                  <a:pt x="295" y="538"/>
                </a:lnTo>
                <a:lnTo>
                  <a:pt x="285" y="482"/>
                </a:lnTo>
                <a:lnTo>
                  <a:pt x="270" y="431"/>
                </a:lnTo>
                <a:lnTo>
                  <a:pt x="250" y="389"/>
                </a:lnTo>
                <a:lnTo>
                  <a:pt x="243" y="398"/>
                </a:lnTo>
                <a:lnTo>
                  <a:pt x="236" y="406"/>
                </a:lnTo>
                <a:lnTo>
                  <a:pt x="229" y="413"/>
                </a:lnTo>
                <a:lnTo>
                  <a:pt x="221" y="420"/>
                </a:lnTo>
                <a:lnTo>
                  <a:pt x="210" y="426"/>
                </a:lnTo>
                <a:lnTo>
                  <a:pt x="198" y="430"/>
                </a:lnTo>
                <a:lnTo>
                  <a:pt x="182" y="434"/>
                </a:lnTo>
                <a:lnTo>
                  <a:pt x="161" y="436"/>
                </a:lnTo>
                <a:lnTo>
                  <a:pt x="175" y="424"/>
                </a:lnTo>
                <a:lnTo>
                  <a:pt x="190" y="411"/>
                </a:lnTo>
                <a:lnTo>
                  <a:pt x="205" y="398"/>
                </a:lnTo>
                <a:lnTo>
                  <a:pt x="219" y="383"/>
                </a:lnTo>
                <a:lnTo>
                  <a:pt x="230" y="368"/>
                </a:lnTo>
                <a:lnTo>
                  <a:pt x="239" y="353"/>
                </a:lnTo>
                <a:lnTo>
                  <a:pt x="244" y="337"/>
                </a:lnTo>
                <a:lnTo>
                  <a:pt x="245" y="321"/>
                </a:lnTo>
                <a:lnTo>
                  <a:pt x="245" y="303"/>
                </a:lnTo>
                <a:lnTo>
                  <a:pt x="249" y="286"/>
                </a:lnTo>
                <a:lnTo>
                  <a:pt x="253" y="269"/>
                </a:lnTo>
                <a:lnTo>
                  <a:pt x="261" y="250"/>
                </a:lnTo>
                <a:lnTo>
                  <a:pt x="270" y="233"/>
                </a:lnTo>
                <a:lnTo>
                  <a:pt x="282" y="216"/>
                </a:lnTo>
                <a:lnTo>
                  <a:pt x="295" y="200"/>
                </a:lnTo>
                <a:lnTo>
                  <a:pt x="310" y="185"/>
                </a:lnTo>
                <a:lnTo>
                  <a:pt x="325" y="170"/>
                </a:lnTo>
                <a:lnTo>
                  <a:pt x="338" y="156"/>
                </a:lnTo>
                <a:lnTo>
                  <a:pt x="351" y="143"/>
                </a:lnTo>
                <a:lnTo>
                  <a:pt x="363" y="129"/>
                </a:lnTo>
                <a:lnTo>
                  <a:pt x="373" y="114"/>
                </a:lnTo>
                <a:lnTo>
                  <a:pt x="382" y="99"/>
                </a:lnTo>
                <a:lnTo>
                  <a:pt x="390" y="83"/>
                </a:lnTo>
                <a:lnTo>
                  <a:pt x="397" y="65"/>
                </a:lnTo>
                <a:lnTo>
                  <a:pt x="383" y="68"/>
                </a:lnTo>
                <a:lnTo>
                  <a:pt x="368" y="71"/>
                </a:lnTo>
                <a:lnTo>
                  <a:pt x="353" y="73"/>
                </a:lnTo>
                <a:lnTo>
                  <a:pt x="336" y="75"/>
                </a:lnTo>
                <a:lnTo>
                  <a:pt x="318" y="75"/>
                </a:lnTo>
                <a:lnTo>
                  <a:pt x="299" y="75"/>
                </a:lnTo>
                <a:lnTo>
                  <a:pt x="280" y="74"/>
                </a:lnTo>
                <a:lnTo>
                  <a:pt x="260" y="72"/>
                </a:lnTo>
                <a:lnTo>
                  <a:pt x="239" y="68"/>
                </a:lnTo>
                <a:lnTo>
                  <a:pt x="220" y="63"/>
                </a:lnTo>
                <a:lnTo>
                  <a:pt x="199" y="57"/>
                </a:lnTo>
                <a:lnTo>
                  <a:pt x="178" y="49"/>
                </a:lnTo>
                <a:lnTo>
                  <a:pt x="159" y="40"/>
                </a:lnTo>
                <a:lnTo>
                  <a:pt x="139" y="28"/>
                </a:lnTo>
                <a:lnTo>
                  <a:pt x="119" y="15"/>
                </a:lnTo>
                <a:lnTo>
                  <a:pt x="101" y="0"/>
                </a:lnTo>
                <a:lnTo>
                  <a:pt x="92" y="23"/>
                </a:lnTo>
                <a:lnTo>
                  <a:pt x="80" y="57"/>
                </a:lnTo>
                <a:lnTo>
                  <a:pt x="68" y="96"/>
                </a:lnTo>
                <a:lnTo>
                  <a:pt x="54" y="138"/>
                </a:lnTo>
                <a:lnTo>
                  <a:pt x="41" y="180"/>
                </a:lnTo>
                <a:lnTo>
                  <a:pt x="30" y="222"/>
                </a:lnTo>
                <a:lnTo>
                  <a:pt x="19" y="256"/>
                </a:lnTo>
                <a:lnTo>
                  <a:pt x="14" y="28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3" name="Freeform 29"/>
          <p:cNvSpPr/>
          <p:nvPr/>
        </p:nvSpPr>
        <p:spPr>
          <a:xfrm>
            <a:off x="1776240" y="5881680"/>
            <a:ext cx="149400" cy="144360"/>
          </a:xfrm>
          <a:custGeom>
            <a:avLst/>
            <a:gdLst/>
            <a:ahLst/>
            <a:rect l="l" t="t" r="r" b="b"/>
            <a:pathLst>
              <a:path w="189" h="183">
                <a:moveTo>
                  <a:pt x="157" y="0"/>
                </a:moveTo>
                <a:lnTo>
                  <a:pt x="149" y="11"/>
                </a:lnTo>
                <a:lnTo>
                  <a:pt x="136" y="25"/>
                </a:lnTo>
                <a:lnTo>
                  <a:pt x="120" y="38"/>
                </a:lnTo>
                <a:lnTo>
                  <a:pt x="100" y="49"/>
                </a:lnTo>
                <a:lnTo>
                  <a:pt x="79" y="60"/>
                </a:lnTo>
                <a:lnTo>
                  <a:pt x="54" y="66"/>
                </a:lnTo>
                <a:lnTo>
                  <a:pt x="29" y="69"/>
                </a:lnTo>
                <a:lnTo>
                  <a:pt x="2" y="66"/>
                </a:lnTo>
                <a:lnTo>
                  <a:pt x="0" y="79"/>
                </a:lnTo>
                <a:lnTo>
                  <a:pt x="5" y="96"/>
                </a:lnTo>
                <a:lnTo>
                  <a:pt x="12" y="118"/>
                </a:lnTo>
                <a:lnTo>
                  <a:pt x="19" y="141"/>
                </a:lnTo>
                <a:lnTo>
                  <a:pt x="21" y="153"/>
                </a:lnTo>
                <a:lnTo>
                  <a:pt x="21" y="162"/>
                </a:lnTo>
                <a:lnTo>
                  <a:pt x="21" y="169"/>
                </a:lnTo>
                <a:lnTo>
                  <a:pt x="22" y="175"/>
                </a:lnTo>
                <a:lnTo>
                  <a:pt x="23" y="179"/>
                </a:lnTo>
                <a:lnTo>
                  <a:pt x="28" y="182"/>
                </a:lnTo>
                <a:lnTo>
                  <a:pt x="35" y="183"/>
                </a:lnTo>
                <a:lnTo>
                  <a:pt x="45" y="182"/>
                </a:lnTo>
                <a:lnTo>
                  <a:pt x="57" y="178"/>
                </a:lnTo>
                <a:lnTo>
                  <a:pt x="67" y="174"/>
                </a:lnTo>
                <a:lnTo>
                  <a:pt x="76" y="168"/>
                </a:lnTo>
                <a:lnTo>
                  <a:pt x="83" y="162"/>
                </a:lnTo>
                <a:lnTo>
                  <a:pt x="90" y="156"/>
                </a:lnTo>
                <a:lnTo>
                  <a:pt x="97" y="152"/>
                </a:lnTo>
                <a:lnTo>
                  <a:pt x="104" y="148"/>
                </a:lnTo>
                <a:lnTo>
                  <a:pt x="112" y="147"/>
                </a:lnTo>
                <a:lnTo>
                  <a:pt x="121" y="147"/>
                </a:lnTo>
                <a:lnTo>
                  <a:pt x="132" y="145"/>
                </a:lnTo>
                <a:lnTo>
                  <a:pt x="143" y="142"/>
                </a:lnTo>
                <a:lnTo>
                  <a:pt x="155" y="137"/>
                </a:lnTo>
                <a:lnTo>
                  <a:pt x="166" y="129"/>
                </a:lnTo>
                <a:lnTo>
                  <a:pt x="175" y="116"/>
                </a:lnTo>
                <a:lnTo>
                  <a:pt x="183" y="101"/>
                </a:lnTo>
                <a:lnTo>
                  <a:pt x="189" y="80"/>
                </a:lnTo>
                <a:lnTo>
                  <a:pt x="178" y="88"/>
                </a:lnTo>
                <a:lnTo>
                  <a:pt x="165" y="98"/>
                </a:lnTo>
                <a:lnTo>
                  <a:pt x="150" y="106"/>
                </a:lnTo>
                <a:lnTo>
                  <a:pt x="133" y="113"/>
                </a:lnTo>
                <a:lnTo>
                  <a:pt x="114" y="118"/>
                </a:lnTo>
                <a:lnTo>
                  <a:pt x="93" y="121"/>
                </a:lnTo>
                <a:lnTo>
                  <a:pt x="73" y="121"/>
                </a:lnTo>
                <a:lnTo>
                  <a:pt x="50" y="117"/>
                </a:lnTo>
                <a:lnTo>
                  <a:pt x="66" y="113"/>
                </a:lnTo>
                <a:lnTo>
                  <a:pt x="83" y="107"/>
                </a:lnTo>
                <a:lnTo>
                  <a:pt x="102" y="100"/>
                </a:lnTo>
                <a:lnTo>
                  <a:pt x="120" y="91"/>
                </a:lnTo>
                <a:lnTo>
                  <a:pt x="137" y="81"/>
                </a:lnTo>
                <a:lnTo>
                  <a:pt x="152" y="69"/>
                </a:lnTo>
                <a:lnTo>
                  <a:pt x="164" y="53"/>
                </a:lnTo>
                <a:lnTo>
                  <a:pt x="171" y="34"/>
                </a:lnTo>
                <a:lnTo>
                  <a:pt x="172" y="25"/>
                </a:lnTo>
                <a:lnTo>
                  <a:pt x="170" y="16"/>
                </a:lnTo>
                <a:lnTo>
                  <a:pt x="165" y="7"/>
                </a:lnTo>
                <a:lnTo>
                  <a:pt x="157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4" name="Freeform 30"/>
          <p:cNvSpPr/>
          <p:nvPr/>
        </p:nvSpPr>
        <p:spPr>
          <a:xfrm>
            <a:off x="1731960" y="5965920"/>
            <a:ext cx="324000" cy="411120"/>
          </a:xfrm>
          <a:custGeom>
            <a:avLst/>
            <a:gdLst/>
            <a:ahLst/>
            <a:rect l="l" t="t" r="r" b="b"/>
            <a:pathLst>
              <a:path w="409" h="517">
                <a:moveTo>
                  <a:pt x="289" y="0"/>
                </a:moveTo>
                <a:lnTo>
                  <a:pt x="288" y="10"/>
                </a:lnTo>
                <a:lnTo>
                  <a:pt x="284" y="22"/>
                </a:lnTo>
                <a:lnTo>
                  <a:pt x="279" y="33"/>
                </a:lnTo>
                <a:lnTo>
                  <a:pt x="269" y="45"/>
                </a:lnTo>
                <a:lnTo>
                  <a:pt x="259" y="56"/>
                </a:lnTo>
                <a:lnTo>
                  <a:pt x="245" y="65"/>
                </a:lnTo>
                <a:lnTo>
                  <a:pt x="230" y="71"/>
                </a:lnTo>
                <a:lnTo>
                  <a:pt x="214" y="75"/>
                </a:lnTo>
                <a:lnTo>
                  <a:pt x="216" y="90"/>
                </a:lnTo>
                <a:lnTo>
                  <a:pt x="215" y="108"/>
                </a:lnTo>
                <a:lnTo>
                  <a:pt x="211" y="128"/>
                </a:lnTo>
                <a:lnTo>
                  <a:pt x="204" y="144"/>
                </a:lnTo>
                <a:lnTo>
                  <a:pt x="214" y="150"/>
                </a:lnTo>
                <a:lnTo>
                  <a:pt x="223" y="156"/>
                </a:lnTo>
                <a:lnTo>
                  <a:pt x="231" y="166"/>
                </a:lnTo>
                <a:lnTo>
                  <a:pt x="238" y="177"/>
                </a:lnTo>
                <a:lnTo>
                  <a:pt x="243" y="189"/>
                </a:lnTo>
                <a:lnTo>
                  <a:pt x="245" y="201"/>
                </a:lnTo>
                <a:lnTo>
                  <a:pt x="245" y="214"/>
                </a:lnTo>
                <a:lnTo>
                  <a:pt x="241" y="227"/>
                </a:lnTo>
                <a:lnTo>
                  <a:pt x="235" y="237"/>
                </a:lnTo>
                <a:lnTo>
                  <a:pt x="228" y="246"/>
                </a:lnTo>
                <a:lnTo>
                  <a:pt x="221" y="253"/>
                </a:lnTo>
                <a:lnTo>
                  <a:pt x="212" y="257"/>
                </a:lnTo>
                <a:lnTo>
                  <a:pt x="203" y="259"/>
                </a:lnTo>
                <a:lnTo>
                  <a:pt x="193" y="260"/>
                </a:lnTo>
                <a:lnTo>
                  <a:pt x="182" y="259"/>
                </a:lnTo>
                <a:lnTo>
                  <a:pt x="169" y="255"/>
                </a:lnTo>
                <a:lnTo>
                  <a:pt x="166" y="277"/>
                </a:lnTo>
                <a:lnTo>
                  <a:pt x="161" y="300"/>
                </a:lnTo>
                <a:lnTo>
                  <a:pt x="155" y="322"/>
                </a:lnTo>
                <a:lnTo>
                  <a:pt x="148" y="344"/>
                </a:lnTo>
                <a:lnTo>
                  <a:pt x="139" y="363"/>
                </a:lnTo>
                <a:lnTo>
                  <a:pt x="130" y="380"/>
                </a:lnTo>
                <a:lnTo>
                  <a:pt x="119" y="394"/>
                </a:lnTo>
                <a:lnTo>
                  <a:pt x="105" y="403"/>
                </a:lnTo>
                <a:lnTo>
                  <a:pt x="91" y="409"/>
                </a:lnTo>
                <a:lnTo>
                  <a:pt x="79" y="414"/>
                </a:lnTo>
                <a:lnTo>
                  <a:pt x="67" y="418"/>
                </a:lnTo>
                <a:lnTo>
                  <a:pt x="56" y="420"/>
                </a:lnTo>
                <a:lnTo>
                  <a:pt x="45" y="423"/>
                </a:lnTo>
                <a:lnTo>
                  <a:pt x="32" y="423"/>
                </a:lnTo>
                <a:lnTo>
                  <a:pt x="21" y="423"/>
                </a:lnTo>
                <a:lnTo>
                  <a:pt x="7" y="421"/>
                </a:lnTo>
                <a:lnTo>
                  <a:pt x="3" y="439"/>
                </a:lnTo>
                <a:lnTo>
                  <a:pt x="1" y="457"/>
                </a:lnTo>
                <a:lnTo>
                  <a:pt x="0" y="473"/>
                </a:lnTo>
                <a:lnTo>
                  <a:pt x="1" y="488"/>
                </a:lnTo>
                <a:lnTo>
                  <a:pt x="3" y="500"/>
                </a:lnTo>
                <a:lnTo>
                  <a:pt x="10" y="510"/>
                </a:lnTo>
                <a:lnTo>
                  <a:pt x="21" y="516"/>
                </a:lnTo>
                <a:lnTo>
                  <a:pt x="36" y="517"/>
                </a:lnTo>
                <a:lnTo>
                  <a:pt x="54" y="516"/>
                </a:lnTo>
                <a:lnTo>
                  <a:pt x="74" y="512"/>
                </a:lnTo>
                <a:lnTo>
                  <a:pt x="93" y="509"/>
                </a:lnTo>
                <a:lnTo>
                  <a:pt x="112" y="502"/>
                </a:lnTo>
                <a:lnTo>
                  <a:pt x="130" y="494"/>
                </a:lnTo>
                <a:lnTo>
                  <a:pt x="146" y="484"/>
                </a:lnTo>
                <a:lnTo>
                  <a:pt x="160" y="470"/>
                </a:lnTo>
                <a:lnTo>
                  <a:pt x="172" y="454"/>
                </a:lnTo>
                <a:lnTo>
                  <a:pt x="182" y="435"/>
                </a:lnTo>
                <a:lnTo>
                  <a:pt x="192" y="418"/>
                </a:lnTo>
                <a:lnTo>
                  <a:pt x="201" y="401"/>
                </a:lnTo>
                <a:lnTo>
                  <a:pt x="212" y="382"/>
                </a:lnTo>
                <a:lnTo>
                  <a:pt x="220" y="365"/>
                </a:lnTo>
                <a:lnTo>
                  <a:pt x="227" y="348"/>
                </a:lnTo>
                <a:lnTo>
                  <a:pt x="231" y="332"/>
                </a:lnTo>
                <a:lnTo>
                  <a:pt x="234" y="314"/>
                </a:lnTo>
                <a:lnTo>
                  <a:pt x="236" y="297"/>
                </a:lnTo>
                <a:lnTo>
                  <a:pt x="243" y="280"/>
                </a:lnTo>
                <a:lnTo>
                  <a:pt x="251" y="262"/>
                </a:lnTo>
                <a:lnTo>
                  <a:pt x="263" y="245"/>
                </a:lnTo>
                <a:lnTo>
                  <a:pt x="274" y="231"/>
                </a:lnTo>
                <a:lnTo>
                  <a:pt x="288" y="219"/>
                </a:lnTo>
                <a:lnTo>
                  <a:pt x="301" y="209"/>
                </a:lnTo>
                <a:lnTo>
                  <a:pt x="313" y="205"/>
                </a:lnTo>
                <a:lnTo>
                  <a:pt x="326" y="201"/>
                </a:lnTo>
                <a:lnTo>
                  <a:pt x="340" y="194"/>
                </a:lnTo>
                <a:lnTo>
                  <a:pt x="354" y="186"/>
                </a:lnTo>
                <a:lnTo>
                  <a:pt x="367" y="177"/>
                </a:lnTo>
                <a:lnTo>
                  <a:pt x="380" y="164"/>
                </a:lnTo>
                <a:lnTo>
                  <a:pt x="392" y="151"/>
                </a:lnTo>
                <a:lnTo>
                  <a:pt x="402" y="133"/>
                </a:lnTo>
                <a:lnTo>
                  <a:pt x="409" y="115"/>
                </a:lnTo>
                <a:lnTo>
                  <a:pt x="403" y="98"/>
                </a:lnTo>
                <a:lnTo>
                  <a:pt x="397" y="80"/>
                </a:lnTo>
                <a:lnTo>
                  <a:pt x="388" y="64"/>
                </a:lnTo>
                <a:lnTo>
                  <a:pt x="377" y="49"/>
                </a:lnTo>
                <a:lnTo>
                  <a:pt x="362" y="35"/>
                </a:lnTo>
                <a:lnTo>
                  <a:pt x="342" y="22"/>
                </a:lnTo>
                <a:lnTo>
                  <a:pt x="318" y="10"/>
                </a:lnTo>
                <a:lnTo>
                  <a:pt x="289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5" name="Freeform 31"/>
          <p:cNvSpPr/>
          <p:nvPr/>
        </p:nvSpPr>
        <p:spPr>
          <a:xfrm>
            <a:off x="1758960" y="6081840"/>
            <a:ext cx="20520" cy="47520"/>
          </a:xfrm>
          <a:custGeom>
            <a:avLst/>
            <a:gdLst/>
            <a:ahLst/>
            <a:rect l="l" t="t" r="r" b="b"/>
            <a:pathLst>
              <a:path w="26" h="60">
                <a:moveTo>
                  <a:pt x="25" y="24"/>
                </a:moveTo>
                <a:lnTo>
                  <a:pt x="26" y="18"/>
                </a:lnTo>
                <a:lnTo>
                  <a:pt x="25" y="13"/>
                </a:lnTo>
                <a:lnTo>
                  <a:pt x="25" y="7"/>
                </a:lnTo>
                <a:lnTo>
                  <a:pt x="25" y="0"/>
                </a:lnTo>
                <a:lnTo>
                  <a:pt x="17" y="13"/>
                </a:lnTo>
                <a:lnTo>
                  <a:pt x="7" y="30"/>
                </a:lnTo>
                <a:lnTo>
                  <a:pt x="2" y="46"/>
                </a:lnTo>
                <a:lnTo>
                  <a:pt x="0" y="60"/>
                </a:lnTo>
                <a:lnTo>
                  <a:pt x="10" y="52"/>
                </a:lnTo>
                <a:lnTo>
                  <a:pt x="17" y="43"/>
                </a:lnTo>
                <a:lnTo>
                  <a:pt x="22" y="33"/>
                </a:lnTo>
                <a:lnTo>
                  <a:pt x="25" y="2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6" name="Freeform 32"/>
          <p:cNvSpPr/>
          <p:nvPr/>
        </p:nvSpPr>
        <p:spPr>
          <a:xfrm>
            <a:off x="1824120" y="6078600"/>
            <a:ext cx="77760" cy="66600"/>
          </a:xfrm>
          <a:custGeom>
            <a:avLst/>
            <a:gdLst/>
            <a:ahLst/>
            <a:rect l="l" t="t" r="r" b="b"/>
            <a:pathLst>
              <a:path w="98" h="85">
                <a:moveTo>
                  <a:pt x="3" y="26"/>
                </a:moveTo>
                <a:lnTo>
                  <a:pt x="0" y="19"/>
                </a:lnTo>
                <a:lnTo>
                  <a:pt x="0" y="13"/>
                </a:lnTo>
                <a:lnTo>
                  <a:pt x="0" y="7"/>
                </a:lnTo>
                <a:lnTo>
                  <a:pt x="0" y="0"/>
                </a:lnTo>
                <a:lnTo>
                  <a:pt x="15" y="4"/>
                </a:lnTo>
                <a:lnTo>
                  <a:pt x="34" y="11"/>
                </a:lnTo>
                <a:lnTo>
                  <a:pt x="52" y="20"/>
                </a:lnTo>
                <a:lnTo>
                  <a:pt x="69" y="32"/>
                </a:lnTo>
                <a:lnTo>
                  <a:pt x="84" y="44"/>
                </a:lnTo>
                <a:lnTo>
                  <a:pt x="95" y="58"/>
                </a:lnTo>
                <a:lnTo>
                  <a:pt x="98" y="70"/>
                </a:lnTo>
                <a:lnTo>
                  <a:pt x="94" y="80"/>
                </a:lnTo>
                <a:lnTo>
                  <a:pt x="84" y="85"/>
                </a:lnTo>
                <a:lnTo>
                  <a:pt x="73" y="85"/>
                </a:lnTo>
                <a:lnTo>
                  <a:pt x="60" y="81"/>
                </a:lnTo>
                <a:lnTo>
                  <a:pt x="47" y="74"/>
                </a:lnTo>
                <a:lnTo>
                  <a:pt x="35" y="65"/>
                </a:lnTo>
                <a:lnTo>
                  <a:pt x="22" y="53"/>
                </a:lnTo>
                <a:lnTo>
                  <a:pt x="12" y="40"/>
                </a:lnTo>
                <a:lnTo>
                  <a:pt x="3" y="2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7" name="Freeform 33"/>
          <p:cNvSpPr/>
          <p:nvPr/>
        </p:nvSpPr>
        <p:spPr>
          <a:xfrm>
            <a:off x="1776240" y="6018120"/>
            <a:ext cx="108000" cy="55800"/>
          </a:xfrm>
          <a:custGeom>
            <a:avLst/>
            <a:gdLst/>
            <a:ahLst/>
            <a:rect l="l" t="t" r="r" b="b"/>
            <a:pathLst>
              <a:path w="135" h="72">
                <a:moveTo>
                  <a:pt x="10" y="15"/>
                </a:moveTo>
                <a:lnTo>
                  <a:pt x="15" y="20"/>
                </a:lnTo>
                <a:lnTo>
                  <a:pt x="22" y="24"/>
                </a:lnTo>
                <a:lnTo>
                  <a:pt x="31" y="27"/>
                </a:lnTo>
                <a:lnTo>
                  <a:pt x="41" y="28"/>
                </a:lnTo>
                <a:lnTo>
                  <a:pt x="51" y="29"/>
                </a:lnTo>
                <a:lnTo>
                  <a:pt x="61" y="28"/>
                </a:lnTo>
                <a:lnTo>
                  <a:pt x="71" y="26"/>
                </a:lnTo>
                <a:lnTo>
                  <a:pt x="79" y="21"/>
                </a:lnTo>
                <a:lnTo>
                  <a:pt x="86" y="15"/>
                </a:lnTo>
                <a:lnTo>
                  <a:pt x="95" y="9"/>
                </a:lnTo>
                <a:lnTo>
                  <a:pt x="103" y="5"/>
                </a:lnTo>
                <a:lnTo>
                  <a:pt x="112" y="1"/>
                </a:lnTo>
                <a:lnTo>
                  <a:pt x="119" y="0"/>
                </a:lnTo>
                <a:lnTo>
                  <a:pt x="126" y="1"/>
                </a:lnTo>
                <a:lnTo>
                  <a:pt x="131" y="6"/>
                </a:lnTo>
                <a:lnTo>
                  <a:pt x="134" y="15"/>
                </a:lnTo>
                <a:lnTo>
                  <a:pt x="135" y="37"/>
                </a:lnTo>
                <a:lnTo>
                  <a:pt x="133" y="56"/>
                </a:lnTo>
                <a:lnTo>
                  <a:pt x="129" y="67"/>
                </a:lnTo>
                <a:lnTo>
                  <a:pt x="127" y="72"/>
                </a:lnTo>
                <a:lnTo>
                  <a:pt x="121" y="69"/>
                </a:lnTo>
                <a:lnTo>
                  <a:pt x="113" y="68"/>
                </a:lnTo>
                <a:lnTo>
                  <a:pt x="105" y="66"/>
                </a:lnTo>
                <a:lnTo>
                  <a:pt x="96" y="65"/>
                </a:lnTo>
                <a:lnTo>
                  <a:pt x="87" y="64"/>
                </a:lnTo>
                <a:lnTo>
                  <a:pt x="76" y="62"/>
                </a:lnTo>
                <a:lnTo>
                  <a:pt x="66" y="60"/>
                </a:lnTo>
                <a:lnTo>
                  <a:pt x="57" y="59"/>
                </a:lnTo>
                <a:lnTo>
                  <a:pt x="51" y="54"/>
                </a:lnTo>
                <a:lnTo>
                  <a:pt x="44" y="52"/>
                </a:lnTo>
                <a:lnTo>
                  <a:pt x="37" y="51"/>
                </a:lnTo>
                <a:lnTo>
                  <a:pt x="29" y="52"/>
                </a:lnTo>
                <a:lnTo>
                  <a:pt x="21" y="53"/>
                </a:lnTo>
                <a:lnTo>
                  <a:pt x="13" y="56"/>
                </a:lnTo>
                <a:lnTo>
                  <a:pt x="6" y="59"/>
                </a:lnTo>
                <a:lnTo>
                  <a:pt x="0" y="61"/>
                </a:lnTo>
                <a:lnTo>
                  <a:pt x="0" y="50"/>
                </a:lnTo>
                <a:lnTo>
                  <a:pt x="1" y="37"/>
                </a:lnTo>
                <a:lnTo>
                  <a:pt x="5" y="26"/>
                </a:lnTo>
                <a:lnTo>
                  <a:pt x="10" y="1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8" name="Freeform 34"/>
          <p:cNvSpPr/>
          <p:nvPr/>
        </p:nvSpPr>
        <p:spPr>
          <a:xfrm>
            <a:off x="1787400" y="6226200"/>
            <a:ext cx="44640" cy="39600"/>
          </a:xfrm>
          <a:custGeom>
            <a:avLst/>
            <a:gdLst/>
            <a:ahLst/>
            <a:rect l="l" t="t" r="r" b="b"/>
            <a:pathLst>
              <a:path w="58" h="49">
                <a:moveTo>
                  <a:pt x="36" y="0"/>
                </a:moveTo>
                <a:lnTo>
                  <a:pt x="58" y="8"/>
                </a:lnTo>
                <a:lnTo>
                  <a:pt x="53" y="22"/>
                </a:lnTo>
                <a:lnTo>
                  <a:pt x="46" y="34"/>
                </a:lnTo>
                <a:lnTo>
                  <a:pt x="38" y="44"/>
                </a:lnTo>
                <a:lnTo>
                  <a:pt x="30" y="49"/>
                </a:lnTo>
                <a:lnTo>
                  <a:pt x="0" y="22"/>
                </a:lnTo>
                <a:lnTo>
                  <a:pt x="3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9" name="Freeform 35"/>
          <p:cNvSpPr/>
          <p:nvPr/>
        </p:nvSpPr>
        <p:spPr>
          <a:xfrm>
            <a:off x="1743120" y="6253200"/>
            <a:ext cx="52200" cy="30240"/>
          </a:xfrm>
          <a:custGeom>
            <a:avLst/>
            <a:gdLst/>
            <a:ahLst/>
            <a:rect l="l" t="t" r="r" b="b"/>
            <a:pathLst>
              <a:path w="66" h="40">
                <a:moveTo>
                  <a:pt x="31" y="0"/>
                </a:moveTo>
                <a:lnTo>
                  <a:pt x="66" y="22"/>
                </a:lnTo>
                <a:lnTo>
                  <a:pt x="59" y="27"/>
                </a:lnTo>
                <a:lnTo>
                  <a:pt x="49" y="30"/>
                </a:lnTo>
                <a:lnTo>
                  <a:pt x="40" y="34"/>
                </a:lnTo>
                <a:lnTo>
                  <a:pt x="30" y="37"/>
                </a:lnTo>
                <a:lnTo>
                  <a:pt x="21" y="40"/>
                </a:lnTo>
                <a:lnTo>
                  <a:pt x="11" y="40"/>
                </a:lnTo>
                <a:lnTo>
                  <a:pt x="6" y="37"/>
                </a:lnTo>
                <a:lnTo>
                  <a:pt x="1" y="33"/>
                </a:lnTo>
                <a:lnTo>
                  <a:pt x="0" y="23"/>
                </a:lnTo>
                <a:lnTo>
                  <a:pt x="1" y="18"/>
                </a:lnTo>
                <a:lnTo>
                  <a:pt x="4" y="15"/>
                </a:lnTo>
                <a:lnTo>
                  <a:pt x="6" y="14"/>
                </a:lnTo>
                <a:lnTo>
                  <a:pt x="31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0" name="Freeform 36"/>
          <p:cNvSpPr/>
          <p:nvPr/>
        </p:nvSpPr>
        <p:spPr>
          <a:xfrm>
            <a:off x="1758960" y="6207120"/>
            <a:ext cx="44280" cy="27000"/>
          </a:xfrm>
          <a:custGeom>
            <a:avLst/>
            <a:gdLst/>
            <a:ahLst/>
            <a:rect l="l" t="t" r="r" b="b"/>
            <a:pathLst>
              <a:path w="58" h="34">
                <a:moveTo>
                  <a:pt x="0" y="16"/>
                </a:moveTo>
                <a:lnTo>
                  <a:pt x="23" y="34"/>
                </a:lnTo>
                <a:lnTo>
                  <a:pt x="58" y="16"/>
                </a:lnTo>
                <a:lnTo>
                  <a:pt x="29" y="0"/>
                </a:lnTo>
                <a:lnTo>
                  <a:pt x="0" y="1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1" name="Freeform 37"/>
          <p:cNvSpPr/>
          <p:nvPr/>
        </p:nvSpPr>
        <p:spPr>
          <a:xfrm>
            <a:off x="1746360" y="6229440"/>
            <a:ext cx="17280" cy="20520"/>
          </a:xfrm>
          <a:custGeom>
            <a:avLst/>
            <a:gdLst/>
            <a:ahLst/>
            <a:rect l="l" t="t" r="r" b="b"/>
            <a:pathLst>
              <a:path w="21" h="27">
                <a:moveTo>
                  <a:pt x="5" y="0"/>
                </a:moveTo>
                <a:lnTo>
                  <a:pt x="21" y="17"/>
                </a:lnTo>
                <a:lnTo>
                  <a:pt x="0" y="27"/>
                </a:lnTo>
                <a:lnTo>
                  <a:pt x="5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2" name="Freeform 38"/>
          <p:cNvSpPr/>
          <p:nvPr/>
        </p:nvSpPr>
        <p:spPr>
          <a:xfrm>
            <a:off x="1797120" y="6183360"/>
            <a:ext cx="41040" cy="33120"/>
          </a:xfrm>
          <a:custGeom>
            <a:avLst/>
            <a:gdLst/>
            <a:ahLst/>
            <a:rect l="l" t="t" r="r" b="b"/>
            <a:pathLst>
              <a:path w="53" h="41">
                <a:moveTo>
                  <a:pt x="43" y="41"/>
                </a:moveTo>
                <a:lnTo>
                  <a:pt x="0" y="21"/>
                </a:lnTo>
                <a:lnTo>
                  <a:pt x="53" y="0"/>
                </a:lnTo>
                <a:lnTo>
                  <a:pt x="52" y="9"/>
                </a:lnTo>
                <a:lnTo>
                  <a:pt x="49" y="22"/>
                </a:lnTo>
                <a:lnTo>
                  <a:pt x="46" y="34"/>
                </a:lnTo>
                <a:lnTo>
                  <a:pt x="43" y="4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3" name="Freeform 39"/>
          <p:cNvSpPr/>
          <p:nvPr/>
        </p:nvSpPr>
        <p:spPr>
          <a:xfrm>
            <a:off x="1754280" y="6181560"/>
            <a:ext cx="17280" cy="25560"/>
          </a:xfrm>
          <a:custGeom>
            <a:avLst/>
            <a:gdLst/>
            <a:ahLst/>
            <a:rect l="l" t="t" r="r" b="b"/>
            <a:pathLst>
              <a:path w="20" h="31">
                <a:moveTo>
                  <a:pt x="20" y="19"/>
                </a:moveTo>
                <a:lnTo>
                  <a:pt x="0" y="31"/>
                </a:lnTo>
                <a:lnTo>
                  <a:pt x="4" y="0"/>
                </a:lnTo>
                <a:lnTo>
                  <a:pt x="20" y="1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4" name="Freeform 40"/>
          <p:cNvSpPr/>
          <p:nvPr/>
        </p:nvSpPr>
        <p:spPr>
          <a:xfrm>
            <a:off x="1766880" y="6153120"/>
            <a:ext cx="60480" cy="36720"/>
          </a:xfrm>
          <a:custGeom>
            <a:avLst/>
            <a:gdLst/>
            <a:ahLst/>
            <a:rect l="l" t="t" r="r" b="b"/>
            <a:pathLst>
              <a:path w="76" h="46">
                <a:moveTo>
                  <a:pt x="0" y="20"/>
                </a:moveTo>
                <a:lnTo>
                  <a:pt x="25" y="46"/>
                </a:lnTo>
                <a:lnTo>
                  <a:pt x="76" y="26"/>
                </a:lnTo>
                <a:lnTo>
                  <a:pt x="41" y="0"/>
                </a:lnTo>
                <a:lnTo>
                  <a:pt x="0" y="2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5" name="Freeform 41"/>
          <p:cNvSpPr/>
          <p:nvPr/>
        </p:nvSpPr>
        <p:spPr>
          <a:xfrm>
            <a:off x="1817640" y="6132600"/>
            <a:ext cx="28800" cy="36360"/>
          </a:xfrm>
          <a:custGeom>
            <a:avLst/>
            <a:gdLst/>
            <a:ahLst/>
            <a:rect l="l" t="t" r="r" b="b"/>
            <a:pathLst>
              <a:path w="36" h="46">
                <a:moveTo>
                  <a:pt x="36" y="35"/>
                </a:moveTo>
                <a:lnTo>
                  <a:pt x="27" y="46"/>
                </a:lnTo>
                <a:lnTo>
                  <a:pt x="0" y="18"/>
                </a:lnTo>
                <a:lnTo>
                  <a:pt x="17" y="0"/>
                </a:lnTo>
                <a:lnTo>
                  <a:pt x="20" y="8"/>
                </a:lnTo>
                <a:lnTo>
                  <a:pt x="23" y="19"/>
                </a:lnTo>
                <a:lnTo>
                  <a:pt x="30" y="28"/>
                </a:lnTo>
                <a:lnTo>
                  <a:pt x="36" y="3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6" name="Freeform 42"/>
          <p:cNvSpPr/>
          <p:nvPr/>
        </p:nvSpPr>
        <p:spPr>
          <a:xfrm>
            <a:off x="1790640" y="6108840"/>
            <a:ext cx="23760" cy="31680"/>
          </a:xfrm>
          <a:custGeom>
            <a:avLst/>
            <a:gdLst/>
            <a:ahLst/>
            <a:rect l="l" t="t" r="r" b="b"/>
            <a:pathLst>
              <a:path w="29" h="40">
                <a:moveTo>
                  <a:pt x="29" y="24"/>
                </a:moveTo>
                <a:lnTo>
                  <a:pt x="12" y="40"/>
                </a:lnTo>
                <a:lnTo>
                  <a:pt x="0" y="26"/>
                </a:lnTo>
                <a:lnTo>
                  <a:pt x="19" y="0"/>
                </a:lnTo>
                <a:lnTo>
                  <a:pt x="29" y="2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7" name="Freeform 43"/>
          <p:cNvSpPr/>
          <p:nvPr/>
        </p:nvSpPr>
        <p:spPr>
          <a:xfrm>
            <a:off x="1758960" y="6140520"/>
            <a:ext cx="27000" cy="15840"/>
          </a:xfrm>
          <a:custGeom>
            <a:avLst/>
            <a:gdLst/>
            <a:ahLst/>
            <a:rect l="l" t="t" r="r" b="b"/>
            <a:pathLst>
              <a:path w="34" h="20">
                <a:moveTo>
                  <a:pt x="28" y="0"/>
                </a:moveTo>
                <a:lnTo>
                  <a:pt x="34" y="9"/>
                </a:lnTo>
                <a:lnTo>
                  <a:pt x="0" y="20"/>
                </a:lnTo>
                <a:lnTo>
                  <a:pt x="7" y="16"/>
                </a:lnTo>
                <a:lnTo>
                  <a:pt x="17" y="10"/>
                </a:lnTo>
                <a:lnTo>
                  <a:pt x="23" y="4"/>
                </a:lnTo>
                <a:lnTo>
                  <a:pt x="2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8" name="Freeform 44"/>
          <p:cNvSpPr/>
          <p:nvPr/>
        </p:nvSpPr>
        <p:spPr>
          <a:xfrm>
            <a:off x="2273400" y="5419800"/>
            <a:ext cx="236520" cy="839880"/>
          </a:xfrm>
          <a:custGeom>
            <a:avLst/>
            <a:gdLst/>
            <a:ahLst/>
            <a:rect l="l" t="t" r="r" b="b"/>
            <a:pathLst>
              <a:path w="298" h="1058">
                <a:moveTo>
                  <a:pt x="14" y="0"/>
                </a:moveTo>
                <a:lnTo>
                  <a:pt x="21" y="3"/>
                </a:lnTo>
                <a:lnTo>
                  <a:pt x="29" y="6"/>
                </a:lnTo>
                <a:lnTo>
                  <a:pt x="39" y="9"/>
                </a:lnTo>
                <a:lnTo>
                  <a:pt x="52" y="11"/>
                </a:lnTo>
                <a:lnTo>
                  <a:pt x="64" y="15"/>
                </a:lnTo>
                <a:lnTo>
                  <a:pt x="79" y="17"/>
                </a:lnTo>
                <a:lnTo>
                  <a:pt x="95" y="18"/>
                </a:lnTo>
                <a:lnTo>
                  <a:pt x="113" y="21"/>
                </a:lnTo>
                <a:lnTo>
                  <a:pt x="130" y="22"/>
                </a:lnTo>
                <a:lnTo>
                  <a:pt x="148" y="23"/>
                </a:lnTo>
                <a:lnTo>
                  <a:pt x="168" y="23"/>
                </a:lnTo>
                <a:lnTo>
                  <a:pt x="186" y="22"/>
                </a:lnTo>
                <a:lnTo>
                  <a:pt x="206" y="21"/>
                </a:lnTo>
                <a:lnTo>
                  <a:pt x="226" y="20"/>
                </a:lnTo>
                <a:lnTo>
                  <a:pt x="245" y="16"/>
                </a:lnTo>
                <a:lnTo>
                  <a:pt x="265" y="13"/>
                </a:lnTo>
                <a:lnTo>
                  <a:pt x="256" y="55"/>
                </a:lnTo>
                <a:lnTo>
                  <a:pt x="250" y="102"/>
                </a:lnTo>
                <a:lnTo>
                  <a:pt x="249" y="151"/>
                </a:lnTo>
                <a:lnTo>
                  <a:pt x="251" y="195"/>
                </a:lnTo>
                <a:lnTo>
                  <a:pt x="254" y="220"/>
                </a:lnTo>
                <a:lnTo>
                  <a:pt x="258" y="252"/>
                </a:lnTo>
                <a:lnTo>
                  <a:pt x="261" y="291"/>
                </a:lnTo>
                <a:lnTo>
                  <a:pt x="261" y="333"/>
                </a:lnTo>
                <a:lnTo>
                  <a:pt x="257" y="377"/>
                </a:lnTo>
                <a:lnTo>
                  <a:pt x="244" y="417"/>
                </a:lnTo>
                <a:lnTo>
                  <a:pt x="222" y="453"/>
                </a:lnTo>
                <a:lnTo>
                  <a:pt x="190" y="483"/>
                </a:lnTo>
                <a:lnTo>
                  <a:pt x="199" y="487"/>
                </a:lnTo>
                <a:lnTo>
                  <a:pt x="211" y="488"/>
                </a:lnTo>
                <a:lnTo>
                  <a:pt x="223" y="486"/>
                </a:lnTo>
                <a:lnTo>
                  <a:pt x="237" y="483"/>
                </a:lnTo>
                <a:lnTo>
                  <a:pt x="250" y="477"/>
                </a:lnTo>
                <a:lnTo>
                  <a:pt x="263" y="471"/>
                </a:lnTo>
                <a:lnTo>
                  <a:pt x="273" y="464"/>
                </a:lnTo>
                <a:lnTo>
                  <a:pt x="281" y="458"/>
                </a:lnTo>
                <a:lnTo>
                  <a:pt x="294" y="511"/>
                </a:lnTo>
                <a:lnTo>
                  <a:pt x="298" y="581"/>
                </a:lnTo>
                <a:lnTo>
                  <a:pt x="296" y="662"/>
                </a:lnTo>
                <a:lnTo>
                  <a:pt x="288" y="750"/>
                </a:lnTo>
                <a:lnTo>
                  <a:pt x="275" y="836"/>
                </a:lnTo>
                <a:lnTo>
                  <a:pt x="259" y="917"/>
                </a:lnTo>
                <a:lnTo>
                  <a:pt x="241" y="986"/>
                </a:lnTo>
                <a:lnTo>
                  <a:pt x="222" y="1037"/>
                </a:lnTo>
                <a:lnTo>
                  <a:pt x="210" y="1043"/>
                </a:lnTo>
                <a:lnTo>
                  <a:pt x="193" y="1048"/>
                </a:lnTo>
                <a:lnTo>
                  <a:pt x="176" y="1054"/>
                </a:lnTo>
                <a:lnTo>
                  <a:pt x="155" y="1056"/>
                </a:lnTo>
                <a:lnTo>
                  <a:pt x="135" y="1058"/>
                </a:lnTo>
                <a:lnTo>
                  <a:pt x="113" y="1053"/>
                </a:lnTo>
                <a:lnTo>
                  <a:pt x="90" y="1044"/>
                </a:lnTo>
                <a:lnTo>
                  <a:pt x="68" y="1029"/>
                </a:lnTo>
                <a:lnTo>
                  <a:pt x="69" y="967"/>
                </a:lnTo>
                <a:lnTo>
                  <a:pt x="67" y="901"/>
                </a:lnTo>
                <a:lnTo>
                  <a:pt x="62" y="838"/>
                </a:lnTo>
                <a:lnTo>
                  <a:pt x="54" y="781"/>
                </a:lnTo>
                <a:lnTo>
                  <a:pt x="46" y="719"/>
                </a:lnTo>
                <a:lnTo>
                  <a:pt x="42" y="643"/>
                </a:lnTo>
                <a:lnTo>
                  <a:pt x="45" y="569"/>
                </a:lnTo>
                <a:lnTo>
                  <a:pt x="54" y="511"/>
                </a:lnTo>
                <a:lnTo>
                  <a:pt x="46" y="485"/>
                </a:lnTo>
                <a:lnTo>
                  <a:pt x="37" y="452"/>
                </a:lnTo>
                <a:lnTo>
                  <a:pt x="27" y="412"/>
                </a:lnTo>
                <a:lnTo>
                  <a:pt x="17" y="372"/>
                </a:lnTo>
                <a:lnTo>
                  <a:pt x="9" y="331"/>
                </a:lnTo>
                <a:lnTo>
                  <a:pt x="3" y="290"/>
                </a:lnTo>
                <a:lnTo>
                  <a:pt x="0" y="256"/>
                </a:lnTo>
                <a:lnTo>
                  <a:pt x="1" y="227"/>
                </a:lnTo>
                <a:lnTo>
                  <a:pt x="7" y="169"/>
                </a:lnTo>
                <a:lnTo>
                  <a:pt x="11" y="102"/>
                </a:lnTo>
                <a:lnTo>
                  <a:pt x="15" y="43"/>
                </a:lnTo>
                <a:lnTo>
                  <a:pt x="14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9" name="Freeform 45"/>
          <p:cNvSpPr/>
          <p:nvPr/>
        </p:nvSpPr>
        <p:spPr>
          <a:xfrm>
            <a:off x="2311560" y="6256440"/>
            <a:ext cx="144360" cy="141120"/>
          </a:xfrm>
          <a:custGeom>
            <a:avLst/>
            <a:gdLst/>
            <a:ahLst/>
            <a:rect l="l" t="t" r="r" b="b"/>
            <a:pathLst>
              <a:path w="181" h="177">
                <a:moveTo>
                  <a:pt x="170" y="11"/>
                </a:moveTo>
                <a:lnTo>
                  <a:pt x="160" y="16"/>
                </a:lnTo>
                <a:lnTo>
                  <a:pt x="144" y="21"/>
                </a:lnTo>
                <a:lnTo>
                  <a:pt x="125" y="26"/>
                </a:lnTo>
                <a:lnTo>
                  <a:pt x="102" y="30"/>
                </a:lnTo>
                <a:lnTo>
                  <a:pt x="76" y="30"/>
                </a:lnTo>
                <a:lnTo>
                  <a:pt x="51" y="26"/>
                </a:lnTo>
                <a:lnTo>
                  <a:pt x="27" y="16"/>
                </a:lnTo>
                <a:lnTo>
                  <a:pt x="5" y="0"/>
                </a:lnTo>
                <a:lnTo>
                  <a:pt x="1" y="9"/>
                </a:lnTo>
                <a:lnTo>
                  <a:pt x="0" y="24"/>
                </a:lnTo>
                <a:lnTo>
                  <a:pt x="4" y="43"/>
                </a:lnTo>
                <a:lnTo>
                  <a:pt x="12" y="60"/>
                </a:lnTo>
                <a:lnTo>
                  <a:pt x="19" y="74"/>
                </a:lnTo>
                <a:lnTo>
                  <a:pt x="21" y="84"/>
                </a:lnTo>
                <a:lnTo>
                  <a:pt x="19" y="92"/>
                </a:lnTo>
                <a:lnTo>
                  <a:pt x="12" y="101"/>
                </a:lnTo>
                <a:lnTo>
                  <a:pt x="5" y="114"/>
                </a:lnTo>
                <a:lnTo>
                  <a:pt x="3" y="128"/>
                </a:lnTo>
                <a:lnTo>
                  <a:pt x="6" y="143"/>
                </a:lnTo>
                <a:lnTo>
                  <a:pt x="15" y="155"/>
                </a:lnTo>
                <a:lnTo>
                  <a:pt x="21" y="160"/>
                </a:lnTo>
                <a:lnTo>
                  <a:pt x="26" y="165"/>
                </a:lnTo>
                <a:lnTo>
                  <a:pt x="31" y="168"/>
                </a:lnTo>
                <a:lnTo>
                  <a:pt x="36" y="172"/>
                </a:lnTo>
                <a:lnTo>
                  <a:pt x="41" y="174"/>
                </a:lnTo>
                <a:lnTo>
                  <a:pt x="46" y="175"/>
                </a:lnTo>
                <a:lnTo>
                  <a:pt x="52" y="175"/>
                </a:lnTo>
                <a:lnTo>
                  <a:pt x="59" y="175"/>
                </a:lnTo>
                <a:lnTo>
                  <a:pt x="67" y="175"/>
                </a:lnTo>
                <a:lnTo>
                  <a:pt x="76" y="174"/>
                </a:lnTo>
                <a:lnTo>
                  <a:pt x="85" y="173"/>
                </a:lnTo>
                <a:lnTo>
                  <a:pt x="96" y="173"/>
                </a:lnTo>
                <a:lnTo>
                  <a:pt x="105" y="173"/>
                </a:lnTo>
                <a:lnTo>
                  <a:pt x="115" y="173"/>
                </a:lnTo>
                <a:lnTo>
                  <a:pt x="125" y="174"/>
                </a:lnTo>
                <a:lnTo>
                  <a:pt x="134" y="175"/>
                </a:lnTo>
                <a:lnTo>
                  <a:pt x="142" y="177"/>
                </a:lnTo>
                <a:lnTo>
                  <a:pt x="151" y="177"/>
                </a:lnTo>
                <a:lnTo>
                  <a:pt x="160" y="176"/>
                </a:lnTo>
                <a:lnTo>
                  <a:pt x="168" y="173"/>
                </a:lnTo>
                <a:lnTo>
                  <a:pt x="174" y="168"/>
                </a:lnTo>
                <a:lnTo>
                  <a:pt x="179" y="160"/>
                </a:lnTo>
                <a:lnTo>
                  <a:pt x="181" y="151"/>
                </a:lnTo>
                <a:lnTo>
                  <a:pt x="181" y="139"/>
                </a:lnTo>
                <a:lnTo>
                  <a:pt x="173" y="143"/>
                </a:lnTo>
                <a:lnTo>
                  <a:pt x="163" y="146"/>
                </a:lnTo>
                <a:lnTo>
                  <a:pt x="151" y="149"/>
                </a:lnTo>
                <a:lnTo>
                  <a:pt x="136" y="150"/>
                </a:lnTo>
                <a:lnTo>
                  <a:pt x="121" y="150"/>
                </a:lnTo>
                <a:lnTo>
                  <a:pt x="106" y="149"/>
                </a:lnTo>
                <a:lnTo>
                  <a:pt x="91" y="145"/>
                </a:lnTo>
                <a:lnTo>
                  <a:pt x="77" y="139"/>
                </a:lnTo>
                <a:lnTo>
                  <a:pt x="88" y="139"/>
                </a:lnTo>
                <a:lnTo>
                  <a:pt x="100" y="137"/>
                </a:lnTo>
                <a:lnTo>
                  <a:pt x="115" y="135"/>
                </a:lnTo>
                <a:lnTo>
                  <a:pt x="129" y="131"/>
                </a:lnTo>
                <a:lnTo>
                  <a:pt x="142" y="127"/>
                </a:lnTo>
                <a:lnTo>
                  <a:pt x="151" y="120"/>
                </a:lnTo>
                <a:lnTo>
                  <a:pt x="156" y="112"/>
                </a:lnTo>
                <a:lnTo>
                  <a:pt x="153" y="101"/>
                </a:lnTo>
                <a:lnTo>
                  <a:pt x="143" y="104"/>
                </a:lnTo>
                <a:lnTo>
                  <a:pt x="132" y="105"/>
                </a:lnTo>
                <a:lnTo>
                  <a:pt x="119" y="106"/>
                </a:lnTo>
                <a:lnTo>
                  <a:pt x="106" y="105"/>
                </a:lnTo>
                <a:lnTo>
                  <a:pt x="94" y="104"/>
                </a:lnTo>
                <a:lnTo>
                  <a:pt x="81" y="100"/>
                </a:lnTo>
                <a:lnTo>
                  <a:pt x="69" y="96"/>
                </a:lnTo>
                <a:lnTo>
                  <a:pt x="59" y="90"/>
                </a:lnTo>
                <a:lnTo>
                  <a:pt x="72" y="89"/>
                </a:lnTo>
                <a:lnTo>
                  <a:pt x="91" y="86"/>
                </a:lnTo>
                <a:lnTo>
                  <a:pt x="113" y="82"/>
                </a:lnTo>
                <a:lnTo>
                  <a:pt x="135" y="75"/>
                </a:lnTo>
                <a:lnTo>
                  <a:pt x="155" y="66"/>
                </a:lnTo>
                <a:lnTo>
                  <a:pt x="170" y="52"/>
                </a:lnTo>
                <a:lnTo>
                  <a:pt x="175" y="35"/>
                </a:lnTo>
                <a:lnTo>
                  <a:pt x="170" y="1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0" name="Freeform 46"/>
          <p:cNvSpPr/>
          <p:nvPr/>
        </p:nvSpPr>
        <p:spPr>
          <a:xfrm>
            <a:off x="2332080" y="6610320"/>
            <a:ext cx="61920" cy="58680"/>
          </a:xfrm>
          <a:custGeom>
            <a:avLst/>
            <a:gdLst/>
            <a:ahLst/>
            <a:rect l="l" t="t" r="r" b="b"/>
            <a:pathLst>
              <a:path w="78" h="73">
                <a:moveTo>
                  <a:pt x="78" y="0"/>
                </a:moveTo>
                <a:lnTo>
                  <a:pt x="0" y="30"/>
                </a:lnTo>
                <a:lnTo>
                  <a:pt x="51" y="73"/>
                </a:lnTo>
                <a:lnTo>
                  <a:pt x="59" y="60"/>
                </a:lnTo>
                <a:lnTo>
                  <a:pt x="69" y="40"/>
                </a:lnTo>
                <a:lnTo>
                  <a:pt x="76" y="18"/>
                </a:lnTo>
                <a:lnTo>
                  <a:pt x="7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1" name="Freeform 47"/>
          <p:cNvSpPr/>
          <p:nvPr/>
        </p:nvSpPr>
        <p:spPr>
          <a:xfrm>
            <a:off x="2274840" y="6648480"/>
            <a:ext cx="81000" cy="39600"/>
          </a:xfrm>
          <a:custGeom>
            <a:avLst/>
            <a:gdLst/>
            <a:ahLst/>
            <a:rect l="l" t="t" r="r" b="b"/>
            <a:pathLst>
              <a:path w="103" h="52">
                <a:moveTo>
                  <a:pt x="103" y="38"/>
                </a:moveTo>
                <a:lnTo>
                  <a:pt x="54" y="0"/>
                </a:lnTo>
                <a:lnTo>
                  <a:pt x="0" y="27"/>
                </a:lnTo>
                <a:lnTo>
                  <a:pt x="5" y="35"/>
                </a:lnTo>
                <a:lnTo>
                  <a:pt x="14" y="42"/>
                </a:lnTo>
                <a:lnTo>
                  <a:pt x="25" y="47"/>
                </a:lnTo>
                <a:lnTo>
                  <a:pt x="39" y="51"/>
                </a:lnTo>
                <a:lnTo>
                  <a:pt x="55" y="52"/>
                </a:lnTo>
                <a:lnTo>
                  <a:pt x="71" y="51"/>
                </a:lnTo>
                <a:lnTo>
                  <a:pt x="88" y="46"/>
                </a:lnTo>
                <a:lnTo>
                  <a:pt x="103" y="3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2" name="Freeform 48"/>
          <p:cNvSpPr/>
          <p:nvPr/>
        </p:nvSpPr>
        <p:spPr>
          <a:xfrm>
            <a:off x="2263680" y="6603840"/>
            <a:ext cx="36720" cy="46080"/>
          </a:xfrm>
          <a:custGeom>
            <a:avLst/>
            <a:gdLst/>
            <a:ahLst/>
            <a:rect l="l" t="t" r="r" b="b"/>
            <a:pathLst>
              <a:path w="46" h="56">
                <a:moveTo>
                  <a:pt x="0" y="56"/>
                </a:moveTo>
                <a:lnTo>
                  <a:pt x="46" y="34"/>
                </a:lnTo>
                <a:lnTo>
                  <a:pt x="6" y="0"/>
                </a:lnTo>
                <a:lnTo>
                  <a:pt x="1" y="11"/>
                </a:lnTo>
                <a:lnTo>
                  <a:pt x="0" y="28"/>
                </a:lnTo>
                <a:lnTo>
                  <a:pt x="0" y="45"/>
                </a:lnTo>
                <a:lnTo>
                  <a:pt x="0" y="5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3" name="Freeform 49"/>
          <p:cNvSpPr/>
          <p:nvPr/>
        </p:nvSpPr>
        <p:spPr>
          <a:xfrm>
            <a:off x="2287440" y="6578640"/>
            <a:ext cx="79560" cy="46080"/>
          </a:xfrm>
          <a:custGeom>
            <a:avLst/>
            <a:gdLst/>
            <a:ahLst/>
            <a:rect l="l" t="t" r="r" b="b"/>
            <a:pathLst>
              <a:path w="100" h="58">
                <a:moveTo>
                  <a:pt x="43" y="58"/>
                </a:moveTo>
                <a:lnTo>
                  <a:pt x="100" y="33"/>
                </a:lnTo>
                <a:lnTo>
                  <a:pt x="57" y="0"/>
                </a:lnTo>
                <a:lnTo>
                  <a:pt x="0" y="28"/>
                </a:lnTo>
                <a:lnTo>
                  <a:pt x="43" y="5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4" name="Freeform 50"/>
          <p:cNvSpPr/>
          <p:nvPr/>
        </p:nvSpPr>
        <p:spPr>
          <a:xfrm>
            <a:off x="2349360" y="6541920"/>
            <a:ext cx="65160" cy="54000"/>
          </a:xfrm>
          <a:custGeom>
            <a:avLst/>
            <a:gdLst/>
            <a:ahLst/>
            <a:rect l="l" t="t" r="r" b="b"/>
            <a:pathLst>
              <a:path w="82" h="68">
                <a:moveTo>
                  <a:pt x="68" y="68"/>
                </a:moveTo>
                <a:lnTo>
                  <a:pt x="0" y="33"/>
                </a:lnTo>
                <a:lnTo>
                  <a:pt x="82" y="0"/>
                </a:lnTo>
                <a:lnTo>
                  <a:pt x="80" y="15"/>
                </a:lnTo>
                <a:lnTo>
                  <a:pt x="75" y="36"/>
                </a:lnTo>
                <a:lnTo>
                  <a:pt x="71" y="57"/>
                </a:lnTo>
                <a:lnTo>
                  <a:pt x="68" y="6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5" name="Freeform 51"/>
          <p:cNvSpPr/>
          <p:nvPr/>
        </p:nvSpPr>
        <p:spPr>
          <a:xfrm>
            <a:off x="2270160" y="6543720"/>
            <a:ext cx="50760" cy="41400"/>
          </a:xfrm>
          <a:custGeom>
            <a:avLst/>
            <a:gdLst/>
            <a:ahLst/>
            <a:rect l="l" t="t" r="r" b="b"/>
            <a:pathLst>
              <a:path w="66" h="52">
                <a:moveTo>
                  <a:pt x="7" y="14"/>
                </a:moveTo>
                <a:lnTo>
                  <a:pt x="5" y="25"/>
                </a:lnTo>
                <a:lnTo>
                  <a:pt x="3" y="35"/>
                </a:lnTo>
                <a:lnTo>
                  <a:pt x="1" y="45"/>
                </a:lnTo>
                <a:lnTo>
                  <a:pt x="0" y="52"/>
                </a:lnTo>
                <a:lnTo>
                  <a:pt x="66" y="24"/>
                </a:lnTo>
                <a:lnTo>
                  <a:pt x="35" y="0"/>
                </a:lnTo>
                <a:lnTo>
                  <a:pt x="32" y="2"/>
                </a:lnTo>
                <a:lnTo>
                  <a:pt x="27" y="5"/>
                </a:lnTo>
                <a:lnTo>
                  <a:pt x="18" y="10"/>
                </a:lnTo>
                <a:lnTo>
                  <a:pt x="7" y="1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6" name="Freeform 52"/>
          <p:cNvSpPr/>
          <p:nvPr/>
        </p:nvSpPr>
        <p:spPr>
          <a:xfrm>
            <a:off x="2274840" y="6483240"/>
            <a:ext cx="66600" cy="39960"/>
          </a:xfrm>
          <a:custGeom>
            <a:avLst/>
            <a:gdLst/>
            <a:ahLst/>
            <a:rect l="l" t="t" r="r" b="b"/>
            <a:pathLst>
              <a:path w="83" h="50">
                <a:moveTo>
                  <a:pt x="19" y="50"/>
                </a:moveTo>
                <a:lnTo>
                  <a:pt x="0" y="37"/>
                </a:lnTo>
                <a:lnTo>
                  <a:pt x="12" y="33"/>
                </a:lnTo>
                <a:lnTo>
                  <a:pt x="24" y="27"/>
                </a:lnTo>
                <a:lnTo>
                  <a:pt x="36" y="22"/>
                </a:lnTo>
                <a:lnTo>
                  <a:pt x="47" y="15"/>
                </a:lnTo>
                <a:lnTo>
                  <a:pt x="57" y="9"/>
                </a:lnTo>
                <a:lnTo>
                  <a:pt x="65" y="4"/>
                </a:lnTo>
                <a:lnTo>
                  <a:pt x="69" y="1"/>
                </a:lnTo>
                <a:lnTo>
                  <a:pt x="72" y="0"/>
                </a:lnTo>
                <a:lnTo>
                  <a:pt x="75" y="1"/>
                </a:lnTo>
                <a:lnTo>
                  <a:pt x="80" y="2"/>
                </a:lnTo>
                <a:lnTo>
                  <a:pt x="82" y="3"/>
                </a:lnTo>
                <a:lnTo>
                  <a:pt x="83" y="3"/>
                </a:lnTo>
                <a:lnTo>
                  <a:pt x="76" y="12"/>
                </a:lnTo>
                <a:lnTo>
                  <a:pt x="68" y="20"/>
                </a:lnTo>
                <a:lnTo>
                  <a:pt x="59" y="27"/>
                </a:lnTo>
                <a:lnTo>
                  <a:pt x="49" y="34"/>
                </a:lnTo>
                <a:lnTo>
                  <a:pt x="39" y="40"/>
                </a:lnTo>
                <a:lnTo>
                  <a:pt x="31" y="45"/>
                </a:lnTo>
                <a:lnTo>
                  <a:pt x="23" y="48"/>
                </a:lnTo>
                <a:lnTo>
                  <a:pt x="19" y="5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7" name="Freeform 53"/>
          <p:cNvSpPr/>
          <p:nvPr/>
        </p:nvSpPr>
        <p:spPr>
          <a:xfrm>
            <a:off x="2317680" y="6488280"/>
            <a:ext cx="76320" cy="55440"/>
          </a:xfrm>
          <a:custGeom>
            <a:avLst/>
            <a:gdLst/>
            <a:ahLst/>
            <a:rect l="l" t="t" r="r" b="b"/>
            <a:pathLst>
              <a:path w="96" h="69">
                <a:moveTo>
                  <a:pt x="46" y="3"/>
                </a:moveTo>
                <a:lnTo>
                  <a:pt x="44" y="8"/>
                </a:lnTo>
                <a:lnTo>
                  <a:pt x="39" y="13"/>
                </a:lnTo>
                <a:lnTo>
                  <a:pt x="35" y="21"/>
                </a:lnTo>
                <a:lnTo>
                  <a:pt x="28" y="28"/>
                </a:lnTo>
                <a:lnTo>
                  <a:pt x="21" y="36"/>
                </a:lnTo>
                <a:lnTo>
                  <a:pt x="14" y="44"/>
                </a:lnTo>
                <a:lnTo>
                  <a:pt x="7" y="50"/>
                </a:lnTo>
                <a:lnTo>
                  <a:pt x="0" y="55"/>
                </a:lnTo>
                <a:lnTo>
                  <a:pt x="29" y="69"/>
                </a:lnTo>
                <a:lnTo>
                  <a:pt x="96" y="47"/>
                </a:lnTo>
                <a:lnTo>
                  <a:pt x="92" y="42"/>
                </a:lnTo>
                <a:lnTo>
                  <a:pt x="83" y="31"/>
                </a:lnTo>
                <a:lnTo>
                  <a:pt x="74" y="16"/>
                </a:lnTo>
                <a:lnTo>
                  <a:pt x="66" y="0"/>
                </a:lnTo>
                <a:lnTo>
                  <a:pt x="64" y="4"/>
                </a:lnTo>
                <a:lnTo>
                  <a:pt x="60" y="4"/>
                </a:lnTo>
                <a:lnTo>
                  <a:pt x="54" y="4"/>
                </a:lnTo>
                <a:lnTo>
                  <a:pt x="46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8" name="Freeform 54"/>
          <p:cNvSpPr/>
          <p:nvPr/>
        </p:nvSpPr>
        <p:spPr>
          <a:xfrm>
            <a:off x="2295360" y="6453360"/>
            <a:ext cx="34920" cy="29880"/>
          </a:xfrm>
          <a:custGeom>
            <a:avLst/>
            <a:gdLst/>
            <a:ahLst/>
            <a:rect l="l" t="t" r="r" b="b"/>
            <a:pathLst>
              <a:path w="45" h="38">
                <a:moveTo>
                  <a:pt x="0" y="38"/>
                </a:moveTo>
                <a:lnTo>
                  <a:pt x="6" y="34"/>
                </a:lnTo>
                <a:lnTo>
                  <a:pt x="13" y="31"/>
                </a:lnTo>
                <a:lnTo>
                  <a:pt x="20" y="26"/>
                </a:lnTo>
                <a:lnTo>
                  <a:pt x="27" y="22"/>
                </a:lnTo>
                <a:lnTo>
                  <a:pt x="33" y="17"/>
                </a:lnTo>
                <a:lnTo>
                  <a:pt x="39" y="12"/>
                </a:lnTo>
                <a:lnTo>
                  <a:pt x="42" y="9"/>
                </a:lnTo>
                <a:lnTo>
                  <a:pt x="45" y="7"/>
                </a:lnTo>
                <a:lnTo>
                  <a:pt x="39" y="4"/>
                </a:lnTo>
                <a:lnTo>
                  <a:pt x="30" y="2"/>
                </a:lnTo>
                <a:lnTo>
                  <a:pt x="24" y="1"/>
                </a:lnTo>
                <a:lnTo>
                  <a:pt x="15" y="0"/>
                </a:lnTo>
                <a:lnTo>
                  <a:pt x="11" y="8"/>
                </a:lnTo>
                <a:lnTo>
                  <a:pt x="7" y="18"/>
                </a:lnTo>
                <a:lnTo>
                  <a:pt x="4" y="30"/>
                </a:lnTo>
                <a:lnTo>
                  <a:pt x="0" y="3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9" name="Freeform 55"/>
          <p:cNvSpPr/>
          <p:nvPr/>
        </p:nvSpPr>
        <p:spPr>
          <a:xfrm>
            <a:off x="2428920" y="6459480"/>
            <a:ext cx="41400" cy="52560"/>
          </a:xfrm>
          <a:custGeom>
            <a:avLst/>
            <a:gdLst/>
            <a:ahLst/>
            <a:rect l="l" t="t" r="r" b="b"/>
            <a:pathLst>
              <a:path w="52" h="67">
                <a:moveTo>
                  <a:pt x="0" y="67"/>
                </a:moveTo>
                <a:lnTo>
                  <a:pt x="3" y="67"/>
                </a:lnTo>
                <a:lnTo>
                  <a:pt x="8" y="67"/>
                </a:lnTo>
                <a:lnTo>
                  <a:pt x="13" y="65"/>
                </a:lnTo>
                <a:lnTo>
                  <a:pt x="17" y="64"/>
                </a:lnTo>
                <a:lnTo>
                  <a:pt x="23" y="62"/>
                </a:lnTo>
                <a:lnTo>
                  <a:pt x="27" y="60"/>
                </a:lnTo>
                <a:lnTo>
                  <a:pt x="32" y="57"/>
                </a:lnTo>
                <a:lnTo>
                  <a:pt x="37" y="55"/>
                </a:lnTo>
                <a:lnTo>
                  <a:pt x="46" y="48"/>
                </a:lnTo>
                <a:lnTo>
                  <a:pt x="51" y="41"/>
                </a:lnTo>
                <a:lnTo>
                  <a:pt x="52" y="33"/>
                </a:lnTo>
                <a:lnTo>
                  <a:pt x="49" y="25"/>
                </a:lnTo>
                <a:lnTo>
                  <a:pt x="42" y="18"/>
                </a:lnTo>
                <a:lnTo>
                  <a:pt x="33" y="11"/>
                </a:lnTo>
                <a:lnTo>
                  <a:pt x="21" y="4"/>
                </a:lnTo>
                <a:lnTo>
                  <a:pt x="6" y="0"/>
                </a:lnTo>
                <a:lnTo>
                  <a:pt x="4" y="15"/>
                </a:lnTo>
                <a:lnTo>
                  <a:pt x="3" y="33"/>
                </a:lnTo>
                <a:lnTo>
                  <a:pt x="2" y="52"/>
                </a:lnTo>
                <a:lnTo>
                  <a:pt x="0" y="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0" name="Freeform 56"/>
          <p:cNvSpPr/>
          <p:nvPr/>
        </p:nvSpPr>
        <p:spPr>
          <a:xfrm>
            <a:off x="2384280" y="6456240"/>
            <a:ext cx="27000" cy="38160"/>
          </a:xfrm>
          <a:custGeom>
            <a:avLst/>
            <a:gdLst/>
            <a:ahLst/>
            <a:rect l="l" t="t" r="r" b="b"/>
            <a:pathLst>
              <a:path w="36" h="48">
                <a:moveTo>
                  <a:pt x="27" y="48"/>
                </a:moveTo>
                <a:lnTo>
                  <a:pt x="19" y="37"/>
                </a:lnTo>
                <a:lnTo>
                  <a:pt x="12" y="24"/>
                </a:lnTo>
                <a:lnTo>
                  <a:pt x="6" y="13"/>
                </a:lnTo>
                <a:lnTo>
                  <a:pt x="0" y="2"/>
                </a:lnTo>
                <a:lnTo>
                  <a:pt x="5" y="1"/>
                </a:lnTo>
                <a:lnTo>
                  <a:pt x="9" y="1"/>
                </a:lnTo>
                <a:lnTo>
                  <a:pt x="14" y="1"/>
                </a:lnTo>
                <a:lnTo>
                  <a:pt x="19" y="0"/>
                </a:lnTo>
                <a:lnTo>
                  <a:pt x="23" y="0"/>
                </a:lnTo>
                <a:lnTo>
                  <a:pt x="28" y="0"/>
                </a:lnTo>
                <a:lnTo>
                  <a:pt x="32" y="1"/>
                </a:lnTo>
                <a:lnTo>
                  <a:pt x="36" y="1"/>
                </a:lnTo>
                <a:lnTo>
                  <a:pt x="35" y="12"/>
                </a:lnTo>
                <a:lnTo>
                  <a:pt x="34" y="25"/>
                </a:lnTo>
                <a:lnTo>
                  <a:pt x="30" y="38"/>
                </a:lnTo>
                <a:lnTo>
                  <a:pt x="27" y="4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1" name="Freeform 57"/>
          <p:cNvSpPr/>
          <p:nvPr/>
        </p:nvSpPr>
        <p:spPr>
          <a:xfrm>
            <a:off x="2244600" y="6550200"/>
            <a:ext cx="203400" cy="255240"/>
          </a:xfrm>
          <a:custGeom>
            <a:avLst/>
            <a:gdLst/>
            <a:ahLst/>
            <a:rect l="l" t="t" r="r" b="b"/>
            <a:pathLst>
              <a:path w="256" h="322">
                <a:moveTo>
                  <a:pt x="256" y="12"/>
                </a:moveTo>
                <a:lnTo>
                  <a:pt x="248" y="44"/>
                </a:lnTo>
                <a:lnTo>
                  <a:pt x="242" y="77"/>
                </a:lnTo>
                <a:lnTo>
                  <a:pt x="239" y="110"/>
                </a:lnTo>
                <a:lnTo>
                  <a:pt x="241" y="145"/>
                </a:lnTo>
                <a:lnTo>
                  <a:pt x="242" y="159"/>
                </a:lnTo>
                <a:lnTo>
                  <a:pt x="241" y="177"/>
                </a:lnTo>
                <a:lnTo>
                  <a:pt x="237" y="198"/>
                </a:lnTo>
                <a:lnTo>
                  <a:pt x="231" y="221"/>
                </a:lnTo>
                <a:lnTo>
                  <a:pt x="220" y="243"/>
                </a:lnTo>
                <a:lnTo>
                  <a:pt x="207" y="266"/>
                </a:lnTo>
                <a:lnTo>
                  <a:pt x="189" y="287"/>
                </a:lnTo>
                <a:lnTo>
                  <a:pt x="167" y="304"/>
                </a:lnTo>
                <a:lnTo>
                  <a:pt x="144" y="315"/>
                </a:lnTo>
                <a:lnTo>
                  <a:pt x="121" y="321"/>
                </a:lnTo>
                <a:lnTo>
                  <a:pt x="98" y="322"/>
                </a:lnTo>
                <a:lnTo>
                  <a:pt x="76" y="320"/>
                </a:lnTo>
                <a:lnTo>
                  <a:pt x="55" y="314"/>
                </a:lnTo>
                <a:lnTo>
                  <a:pt x="38" y="305"/>
                </a:lnTo>
                <a:lnTo>
                  <a:pt x="23" y="295"/>
                </a:lnTo>
                <a:lnTo>
                  <a:pt x="13" y="283"/>
                </a:lnTo>
                <a:lnTo>
                  <a:pt x="1" y="253"/>
                </a:lnTo>
                <a:lnTo>
                  <a:pt x="0" y="215"/>
                </a:lnTo>
                <a:lnTo>
                  <a:pt x="5" y="181"/>
                </a:lnTo>
                <a:lnTo>
                  <a:pt x="15" y="158"/>
                </a:lnTo>
                <a:lnTo>
                  <a:pt x="37" y="184"/>
                </a:lnTo>
                <a:lnTo>
                  <a:pt x="61" y="199"/>
                </a:lnTo>
                <a:lnTo>
                  <a:pt x="88" y="204"/>
                </a:lnTo>
                <a:lnTo>
                  <a:pt x="113" y="200"/>
                </a:lnTo>
                <a:lnTo>
                  <a:pt x="137" y="191"/>
                </a:lnTo>
                <a:lnTo>
                  <a:pt x="159" y="178"/>
                </a:lnTo>
                <a:lnTo>
                  <a:pt x="176" y="163"/>
                </a:lnTo>
                <a:lnTo>
                  <a:pt x="189" y="150"/>
                </a:lnTo>
                <a:lnTo>
                  <a:pt x="196" y="137"/>
                </a:lnTo>
                <a:lnTo>
                  <a:pt x="203" y="120"/>
                </a:lnTo>
                <a:lnTo>
                  <a:pt x="209" y="101"/>
                </a:lnTo>
                <a:lnTo>
                  <a:pt x="214" y="80"/>
                </a:lnTo>
                <a:lnTo>
                  <a:pt x="219" y="59"/>
                </a:lnTo>
                <a:lnTo>
                  <a:pt x="224" y="38"/>
                </a:lnTo>
                <a:lnTo>
                  <a:pt x="227" y="17"/>
                </a:lnTo>
                <a:lnTo>
                  <a:pt x="231" y="0"/>
                </a:lnTo>
                <a:lnTo>
                  <a:pt x="234" y="3"/>
                </a:lnTo>
                <a:lnTo>
                  <a:pt x="241" y="8"/>
                </a:lnTo>
                <a:lnTo>
                  <a:pt x="248" y="11"/>
                </a:lnTo>
                <a:lnTo>
                  <a:pt x="256" y="1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2" name="Freeform 58"/>
          <p:cNvSpPr/>
          <p:nvPr/>
        </p:nvSpPr>
        <p:spPr>
          <a:xfrm>
            <a:off x="2316240" y="6405480"/>
            <a:ext cx="95040" cy="38160"/>
          </a:xfrm>
          <a:custGeom>
            <a:avLst/>
            <a:gdLst/>
            <a:ahLst/>
            <a:rect l="l" t="t" r="r" b="b"/>
            <a:pathLst>
              <a:path w="120" h="47">
                <a:moveTo>
                  <a:pt x="0" y="30"/>
                </a:moveTo>
                <a:lnTo>
                  <a:pt x="8" y="32"/>
                </a:lnTo>
                <a:lnTo>
                  <a:pt x="17" y="36"/>
                </a:lnTo>
                <a:lnTo>
                  <a:pt x="25" y="40"/>
                </a:lnTo>
                <a:lnTo>
                  <a:pt x="33" y="47"/>
                </a:lnTo>
                <a:lnTo>
                  <a:pt x="38" y="45"/>
                </a:lnTo>
                <a:lnTo>
                  <a:pt x="43" y="41"/>
                </a:lnTo>
                <a:lnTo>
                  <a:pt x="48" y="39"/>
                </a:lnTo>
                <a:lnTo>
                  <a:pt x="55" y="37"/>
                </a:lnTo>
                <a:lnTo>
                  <a:pt x="61" y="36"/>
                </a:lnTo>
                <a:lnTo>
                  <a:pt x="68" y="36"/>
                </a:lnTo>
                <a:lnTo>
                  <a:pt x="74" y="37"/>
                </a:lnTo>
                <a:lnTo>
                  <a:pt x="79" y="40"/>
                </a:lnTo>
                <a:lnTo>
                  <a:pt x="85" y="40"/>
                </a:lnTo>
                <a:lnTo>
                  <a:pt x="91" y="39"/>
                </a:lnTo>
                <a:lnTo>
                  <a:pt x="97" y="38"/>
                </a:lnTo>
                <a:lnTo>
                  <a:pt x="101" y="37"/>
                </a:lnTo>
                <a:lnTo>
                  <a:pt x="106" y="37"/>
                </a:lnTo>
                <a:lnTo>
                  <a:pt x="111" y="36"/>
                </a:lnTo>
                <a:lnTo>
                  <a:pt x="115" y="37"/>
                </a:lnTo>
                <a:lnTo>
                  <a:pt x="120" y="37"/>
                </a:lnTo>
                <a:lnTo>
                  <a:pt x="116" y="26"/>
                </a:lnTo>
                <a:lnTo>
                  <a:pt x="113" y="18"/>
                </a:lnTo>
                <a:lnTo>
                  <a:pt x="109" y="13"/>
                </a:lnTo>
                <a:lnTo>
                  <a:pt x="104" y="8"/>
                </a:lnTo>
                <a:lnTo>
                  <a:pt x="98" y="6"/>
                </a:lnTo>
                <a:lnTo>
                  <a:pt x="91" y="3"/>
                </a:lnTo>
                <a:lnTo>
                  <a:pt x="83" y="2"/>
                </a:lnTo>
                <a:lnTo>
                  <a:pt x="75" y="2"/>
                </a:lnTo>
                <a:lnTo>
                  <a:pt x="67" y="2"/>
                </a:lnTo>
                <a:lnTo>
                  <a:pt x="58" y="3"/>
                </a:lnTo>
                <a:lnTo>
                  <a:pt x="51" y="4"/>
                </a:lnTo>
                <a:lnTo>
                  <a:pt x="43" y="4"/>
                </a:lnTo>
                <a:lnTo>
                  <a:pt x="36" y="6"/>
                </a:lnTo>
                <a:lnTo>
                  <a:pt x="29" y="4"/>
                </a:lnTo>
                <a:lnTo>
                  <a:pt x="23" y="3"/>
                </a:lnTo>
                <a:lnTo>
                  <a:pt x="17" y="0"/>
                </a:lnTo>
                <a:lnTo>
                  <a:pt x="10" y="4"/>
                </a:lnTo>
                <a:lnTo>
                  <a:pt x="5" y="13"/>
                </a:lnTo>
                <a:lnTo>
                  <a:pt x="1" y="21"/>
                </a:lnTo>
                <a:lnTo>
                  <a:pt x="0" y="3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3" name="Freeform 59"/>
          <p:cNvSpPr/>
          <p:nvPr/>
        </p:nvSpPr>
        <p:spPr>
          <a:xfrm>
            <a:off x="2427120" y="6405480"/>
            <a:ext cx="44640" cy="50760"/>
          </a:xfrm>
          <a:custGeom>
            <a:avLst/>
            <a:gdLst/>
            <a:ahLst/>
            <a:rect l="l" t="t" r="r" b="b"/>
            <a:pathLst>
              <a:path w="57" h="62">
                <a:moveTo>
                  <a:pt x="0" y="10"/>
                </a:moveTo>
                <a:lnTo>
                  <a:pt x="4" y="18"/>
                </a:lnTo>
                <a:lnTo>
                  <a:pt x="7" y="28"/>
                </a:lnTo>
                <a:lnTo>
                  <a:pt x="10" y="36"/>
                </a:lnTo>
                <a:lnTo>
                  <a:pt x="11" y="43"/>
                </a:lnTo>
                <a:lnTo>
                  <a:pt x="18" y="45"/>
                </a:lnTo>
                <a:lnTo>
                  <a:pt x="25" y="47"/>
                </a:lnTo>
                <a:lnTo>
                  <a:pt x="31" y="49"/>
                </a:lnTo>
                <a:lnTo>
                  <a:pt x="37" y="52"/>
                </a:lnTo>
                <a:lnTo>
                  <a:pt x="42" y="54"/>
                </a:lnTo>
                <a:lnTo>
                  <a:pt x="48" y="56"/>
                </a:lnTo>
                <a:lnTo>
                  <a:pt x="51" y="59"/>
                </a:lnTo>
                <a:lnTo>
                  <a:pt x="55" y="62"/>
                </a:lnTo>
                <a:lnTo>
                  <a:pt x="57" y="48"/>
                </a:lnTo>
                <a:lnTo>
                  <a:pt x="56" y="33"/>
                </a:lnTo>
                <a:lnTo>
                  <a:pt x="51" y="17"/>
                </a:lnTo>
                <a:lnTo>
                  <a:pt x="42" y="0"/>
                </a:lnTo>
                <a:lnTo>
                  <a:pt x="38" y="2"/>
                </a:lnTo>
                <a:lnTo>
                  <a:pt x="35" y="4"/>
                </a:lnTo>
                <a:lnTo>
                  <a:pt x="30" y="7"/>
                </a:lnTo>
                <a:lnTo>
                  <a:pt x="25" y="8"/>
                </a:lnTo>
                <a:lnTo>
                  <a:pt x="20" y="10"/>
                </a:lnTo>
                <a:lnTo>
                  <a:pt x="13" y="11"/>
                </a:lnTo>
                <a:lnTo>
                  <a:pt x="7" y="11"/>
                </a:lnTo>
                <a:lnTo>
                  <a:pt x="0" y="1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4" name="Freeform 60"/>
          <p:cNvSpPr/>
          <p:nvPr/>
        </p:nvSpPr>
        <p:spPr>
          <a:xfrm>
            <a:off x="1793880" y="6070680"/>
            <a:ext cx="22320" cy="31680"/>
          </a:xfrm>
          <a:custGeom>
            <a:avLst/>
            <a:gdLst/>
            <a:ahLst/>
            <a:rect l="l" t="t" r="r" b="b"/>
            <a:pathLst>
              <a:path w="29" h="40">
                <a:moveTo>
                  <a:pt x="15" y="0"/>
                </a:moveTo>
                <a:lnTo>
                  <a:pt x="7" y="7"/>
                </a:lnTo>
                <a:lnTo>
                  <a:pt x="1" y="20"/>
                </a:lnTo>
                <a:lnTo>
                  <a:pt x="0" y="32"/>
                </a:lnTo>
                <a:lnTo>
                  <a:pt x="7" y="40"/>
                </a:lnTo>
                <a:lnTo>
                  <a:pt x="13" y="40"/>
                </a:lnTo>
                <a:lnTo>
                  <a:pt x="20" y="37"/>
                </a:lnTo>
                <a:lnTo>
                  <a:pt x="24" y="32"/>
                </a:lnTo>
                <a:lnTo>
                  <a:pt x="28" y="27"/>
                </a:lnTo>
                <a:lnTo>
                  <a:pt x="29" y="20"/>
                </a:lnTo>
                <a:lnTo>
                  <a:pt x="28" y="13"/>
                </a:lnTo>
                <a:lnTo>
                  <a:pt x="23" y="6"/>
                </a:lnTo>
                <a:lnTo>
                  <a:pt x="15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5" name="Freeform 61"/>
          <p:cNvSpPr/>
          <p:nvPr/>
        </p:nvSpPr>
        <p:spPr>
          <a:xfrm>
            <a:off x="2344680" y="6450120"/>
            <a:ext cx="28800" cy="27000"/>
          </a:xfrm>
          <a:custGeom>
            <a:avLst/>
            <a:gdLst/>
            <a:ahLst/>
            <a:rect l="l" t="t" r="r" b="b"/>
            <a:pathLst>
              <a:path w="37" h="36">
                <a:moveTo>
                  <a:pt x="24" y="1"/>
                </a:moveTo>
                <a:lnTo>
                  <a:pt x="15" y="0"/>
                </a:lnTo>
                <a:lnTo>
                  <a:pt x="8" y="5"/>
                </a:lnTo>
                <a:lnTo>
                  <a:pt x="2" y="12"/>
                </a:lnTo>
                <a:lnTo>
                  <a:pt x="0" y="18"/>
                </a:lnTo>
                <a:lnTo>
                  <a:pt x="2" y="25"/>
                </a:lnTo>
                <a:lnTo>
                  <a:pt x="9" y="31"/>
                </a:lnTo>
                <a:lnTo>
                  <a:pt x="17" y="36"/>
                </a:lnTo>
                <a:lnTo>
                  <a:pt x="26" y="35"/>
                </a:lnTo>
                <a:lnTo>
                  <a:pt x="33" y="28"/>
                </a:lnTo>
                <a:lnTo>
                  <a:pt x="37" y="20"/>
                </a:lnTo>
                <a:lnTo>
                  <a:pt x="34" y="9"/>
                </a:lnTo>
                <a:lnTo>
                  <a:pt x="24" y="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6" name="Freeform 62"/>
          <p:cNvSpPr/>
          <p:nvPr/>
        </p:nvSpPr>
        <p:spPr>
          <a:xfrm>
            <a:off x="2440080" y="6518160"/>
            <a:ext cx="27000" cy="19080"/>
          </a:xfrm>
          <a:custGeom>
            <a:avLst/>
            <a:gdLst/>
            <a:ahLst/>
            <a:rect l="l" t="t" r="r" b="b"/>
            <a:pathLst>
              <a:path w="34" h="26">
                <a:moveTo>
                  <a:pt x="34" y="0"/>
                </a:moveTo>
                <a:lnTo>
                  <a:pt x="32" y="3"/>
                </a:lnTo>
                <a:lnTo>
                  <a:pt x="28" y="5"/>
                </a:lnTo>
                <a:lnTo>
                  <a:pt x="24" y="7"/>
                </a:lnTo>
                <a:lnTo>
                  <a:pt x="19" y="10"/>
                </a:lnTo>
                <a:lnTo>
                  <a:pt x="13" y="12"/>
                </a:lnTo>
                <a:lnTo>
                  <a:pt x="9" y="14"/>
                </a:lnTo>
                <a:lnTo>
                  <a:pt x="4" y="15"/>
                </a:lnTo>
                <a:lnTo>
                  <a:pt x="0" y="17"/>
                </a:lnTo>
                <a:lnTo>
                  <a:pt x="4" y="19"/>
                </a:lnTo>
                <a:lnTo>
                  <a:pt x="11" y="22"/>
                </a:lnTo>
                <a:lnTo>
                  <a:pt x="19" y="25"/>
                </a:lnTo>
                <a:lnTo>
                  <a:pt x="25" y="26"/>
                </a:lnTo>
                <a:lnTo>
                  <a:pt x="28" y="21"/>
                </a:lnTo>
                <a:lnTo>
                  <a:pt x="31" y="14"/>
                </a:lnTo>
                <a:lnTo>
                  <a:pt x="33" y="6"/>
                </a:lnTo>
                <a:lnTo>
                  <a:pt x="34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7" name="Oval 63"/>
          <p:cNvSpPr/>
          <p:nvPr/>
        </p:nvSpPr>
        <p:spPr>
          <a:xfrm>
            <a:off x="7848720" y="4648320"/>
            <a:ext cx="609480" cy="533160"/>
          </a:xfrm>
          <a:prstGeom prst="ellipse">
            <a:avLst/>
          </a:prstGeom>
          <a:solidFill>
            <a:srgbClr val="eaeaea"/>
          </a:solidFill>
          <a:ln cap="sq" w="1260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8" name="Oval 64"/>
          <p:cNvSpPr/>
          <p:nvPr/>
        </p:nvSpPr>
        <p:spPr>
          <a:xfrm>
            <a:off x="8001000" y="4648320"/>
            <a:ext cx="304920" cy="533160"/>
          </a:xfrm>
          <a:prstGeom prst="ellipse">
            <a:avLst/>
          </a:prstGeom>
          <a:solidFill>
            <a:srgbClr val="eaeaea"/>
          </a:solidFill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aeaea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2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A4BBC-3E32-4891-8669-97CE01427F24}" type="slidenum">
              <a:rPr b="0" lang="zh-CN" sz="1400" spc="-1" strike="noStrike">
                <a:solidFill>
                  <a:srgbClr val="eaeaea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Freeform 3"/>
          <p:cNvSpPr/>
          <p:nvPr/>
        </p:nvSpPr>
        <p:spPr>
          <a:xfrm>
            <a:off x="1676520" y="2703600"/>
            <a:ext cx="1063440" cy="4154400"/>
          </a:xfrm>
          <a:custGeom>
            <a:avLst/>
            <a:gdLst/>
            <a:ahLst/>
            <a:rect l="l" t="t" r="r" b="b"/>
            <a:pathLst>
              <a:path w="1341" h="5235">
                <a:moveTo>
                  <a:pt x="844" y="4745"/>
                </a:moveTo>
                <a:lnTo>
                  <a:pt x="831" y="4745"/>
                </a:lnTo>
                <a:lnTo>
                  <a:pt x="818" y="4748"/>
                </a:lnTo>
                <a:lnTo>
                  <a:pt x="808" y="4750"/>
                </a:lnTo>
                <a:lnTo>
                  <a:pt x="799" y="4755"/>
                </a:lnTo>
                <a:lnTo>
                  <a:pt x="792" y="4759"/>
                </a:lnTo>
                <a:lnTo>
                  <a:pt x="788" y="4765"/>
                </a:lnTo>
                <a:lnTo>
                  <a:pt x="786" y="4773"/>
                </a:lnTo>
                <a:lnTo>
                  <a:pt x="788" y="4781"/>
                </a:lnTo>
                <a:lnTo>
                  <a:pt x="791" y="4786"/>
                </a:lnTo>
                <a:lnTo>
                  <a:pt x="793" y="4789"/>
                </a:lnTo>
                <a:lnTo>
                  <a:pt x="797" y="4793"/>
                </a:lnTo>
                <a:lnTo>
                  <a:pt x="801" y="4795"/>
                </a:lnTo>
                <a:lnTo>
                  <a:pt x="807" y="4796"/>
                </a:lnTo>
                <a:lnTo>
                  <a:pt x="811" y="4796"/>
                </a:lnTo>
                <a:lnTo>
                  <a:pt x="818" y="4796"/>
                </a:lnTo>
                <a:lnTo>
                  <a:pt x="824" y="4795"/>
                </a:lnTo>
                <a:lnTo>
                  <a:pt x="827" y="4783"/>
                </a:lnTo>
                <a:lnTo>
                  <a:pt x="833" y="4770"/>
                </a:lnTo>
                <a:lnTo>
                  <a:pt x="839" y="4756"/>
                </a:lnTo>
                <a:lnTo>
                  <a:pt x="844" y="4745"/>
                </a:lnTo>
                <a:lnTo>
                  <a:pt x="854" y="4720"/>
                </a:lnTo>
                <a:lnTo>
                  <a:pt x="860" y="4708"/>
                </a:lnTo>
                <a:lnTo>
                  <a:pt x="865" y="4699"/>
                </a:lnTo>
                <a:lnTo>
                  <a:pt x="871" y="4690"/>
                </a:lnTo>
                <a:lnTo>
                  <a:pt x="877" y="4683"/>
                </a:lnTo>
                <a:lnTo>
                  <a:pt x="880" y="4676"/>
                </a:lnTo>
                <a:lnTo>
                  <a:pt x="882" y="4669"/>
                </a:lnTo>
                <a:lnTo>
                  <a:pt x="880" y="4664"/>
                </a:lnTo>
                <a:lnTo>
                  <a:pt x="875" y="4658"/>
                </a:lnTo>
                <a:lnTo>
                  <a:pt x="864" y="4643"/>
                </a:lnTo>
                <a:lnTo>
                  <a:pt x="862" y="4626"/>
                </a:lnTo>
                <a:lnTo>
                  <a:pt x="867" y="4606"/>
                </a:lnTo>
                <a:lnTo>
                  <a:pt x="875" y="4590"/>
                </a:lnTo>
                <a:lnTo>
                  <a:pt x="877" y="4581"/>
                </a:lnTo>
                <a:lnTo>
                  <a:pt x="875" y="4570"/>
                </a:lnTo>
                <a:lnTo>
                  <a:pt x="870" y="4558"/>
                </a:lnTo>
                <a:lnTo>
                  <a:pt x="865" y="4544"/>
                </a:lnTo>
                <a:lnTo>
                  <a:pt x="861" y="4529"/>
                </a:lnTo>
                <a:lnTo>
                  <a:pt x="857" y="4514"/>
                </a:lnTo>
                <a:lnTo>
                  <a:pt x="857" y="4499"/>
                </a:lnTo>
                <a:lnTo>
                  <a:pt x="862" y="4485"/>
                </a:lnTo>
                <a:lnTo>
                  <a:pt x="872" y="4439"/>
                </a:lnTo>
                <a:lnTo>
                  <a:pt x="875" y="4382"/>
                </a:lnTo>
                <a:lnTo>
                  <a:pt x="869" y="4323"/>
                </a:lnTo>
                <a:lnTo>
                  <a:pt x="858" y="4265"/>
                </a:lnTo>
                <a:lnTo>
                  <a:pt x="850" y="4196"/>
                </a:lnTo>
                <a:lnTo>
                  <a:pt x="849" y="4109"/>
                </a:lnTo>
                <a:lnTo>
                  <a:pt x="850" y="4023"/>
                </a:lnTo>
                <a:lnTo>
                  <a:pt x="854" y="3954"/>
                </a:lnTo>
                <a:lnTo>
                  <a:pt x="847" y="3926"/>
                </a:lnTo>
                <a:lnTo>
                  <a:pt x="839" y="3893"/>
                </a:lnTo>
                <a:lnTo>
                  <a:pt x="829" y="3855"/>
                </a:lnTo>
                <a:lnTo>
                  <a:pt x="820" y="3814"/>
                </a:lnTo>
                <a:lnTo>
                  <a:pt x="812" y="3773"/>
                </a:lnTo>
                <a:lnTo>
                  <a:pt x="807" y="3734"/>
                </a:lnTo>
                <a:lnTo>
                  <a:pt x="804" y="3697"/>
                </a:lnTo>
                <a:lnTo>
                  <a:pt x="807" y="3666"/>
                </a:lnTo>
                <a:lnTo>
                  <a:pt x="812" y="3602"/>
                </a:lnTo>
                <a:lnTo>
                  <a:pt x="816" y="3535"/>
                </a:lnTo>
                <a:lnTo>
                  <a:pt x="817" y="3473"/>
                </a:lnTo>
                <a:lnTo>
                  <a:pt x="818" y="3433"/>
                </a:lnTo>
                <a:lnTo>
                  <a:pt x="811" y="3431"/>
                </a:lnTo>
                <a:lnTo>
                  <a:pt x="804" y="3426"/>
                </a:lnTo>
                <a:lnTo>
                  <a:pt x="799" y="3422"/>
                </a:lnTo>
                <a:lnTo>
                  <a:pt x="793" y="3416"/>
                </a:lnTo>
                <a:lnTo>
                  <a:pt x="788" y="3410"/>
                </a:lnTo>
                <a:lnTo>
                  <a:pt x="785" y="3405"/>
                </a:lnTo>
                <a:lnTo>
                  <a:pt x="784" y="3402"/>
                </a:lnTo>
                <a:lnTo>
                  <a:pt x="782" y="3401"/>
                </a:lnTo>
                <a:lnTo>
                  <a:pt x="787" y="3365"/>
                </a:lnTo>
                <a:lnTo>
                  <a:pt x="787" y="3320"/>
                </a:lnTo>
                <a:lnTo>
                  <a:pt x="780" y="3271"/>
                </a:lnTo>
                <a:lnTo>
                  <a:pt x="766" y="3221"/>
                </a:lnTo>
                <a:lnTo>
                  <a:pt x="761" y="3203"/>
                </a:lnTo>
                <a:lnTo>
                  <a:pt x="754" y="3180"/>
                </a:lnTo>
                <a:lnTo>
                  <a:pt x="748" y="3154"/>
                </a:lnTo>
                <a:lnTo>
                  <a:pt x="742" y="3127"/>
                </a:lnTo>
                <a:lnTo>
                  <a:pt x="734" y="3070"/>
                </a:lnTo>
                <a:lnTo>
                  <a:pt x="731" y="3010"/>
                </a:lnTo>
                <a:lnTo>
                  <a:pt x="733" y="2953"/>
                </a:lnTo>
                <a:lnTo>
                  <a:pt x="742" y="2901"/>
                </a:lnTo>
                <a:lnTo>
                  <a:pt x="729" y="2917"/>
                </a:lnTo>
                <a:lnTo>
                  <a:pt x="720" y="2941"/>
                </a:lnTo>
                <a:lnTo>
                  <a:pt x="713" y="2972"/>
                </a:lnTo>
                <a:lnTo>
                  <a:pt x="710" y="3007"/>
                </a:lnTo>
                <a:lnTo>
                  <a:pt x="709" y="3045"/>
                </a:lnTo>
                <a:lnTo>
                  <a:pt x="710" y="3082"/>
                </a:lnTo>
                <a:lnTo>
                  <a:pt x="713" y="3116"/>
                </a:lnTo>
                <a:lnTo>
                  <a:pt x="718" y="3146"/>
                </a:lnTo>
                <a:lnTo>
                  <a:pt x="705" y="3158"/>
                </a:lnTo>
                <a:lnTo>
                  <a:pt x="691" y="3179"/>
                </a:lnTo>
                <a:lnTo>
                  <a:pt x="676" y="3205"/>
                </a:lnTo>
                <a:lnTo>
                  <a:pt x="662" y="3235"/>
                </a:lnTo>
                <a:lnTo>
                  <a:pt x="647" y="3266"/>
                </a:lnTo>
                <a:lnTo>
                  <a:pt x="632" y="3296"/>
                </a:lnTo>
                <a:lnTo>
                  <a:pt x="619" y="3323"/>
                </a:lnTo>
                <a:lnTo>
                  <a:pt x="607" y="3341"/>
                </a:lnTo>
                <a:lnTo>
                  <a:pt x="596" y="3341"/>
                </a:lnTo>
                <a:lnTo>
                  <a:pt x="584" y="3339"/>
                </a:lnTo>
                <a:lnTo>
                  <a:pt x="574" y="3336"/>
                </a:lnTo>
                <a:lnTo>
                  <a:pt x="564" y="3333"/>
                </a:lnTo>
                <a:lnTo>
                  <a:pt x="554" y="3329"/>
                </a:lnTo>
                <a:lnTo>
                  <a:pt x="544" y="3325"/>
                </a:lnTo>
                <a:lnTo>
                  <a:pt x="534" y="3319"/>
                </a:lnTo>
                <a:lnTo>
                  <a:pt x="523" y="3313"/>
                </a:lnTo>
                <a:lnTo>
                  <a:pt x="513" y="3329"/>
                </a:lnTo>
                <a:lnTo>
                  <a:pt x="499" y="3349"/>
                </a:lnTo>
                <a:lnTo>
                  <a:pt x="483" y="3370"/>
                </a:lnTo>
                <a:lnTo>
                  <a:pt x="466" y="3392"/>
                </a:lnTo>
                <a:lnTo>
                  <a:pt x="448" y="3415"/>
                </a:lnTo>
                <a:lnTo>
                  <a:pt x="431" y="3435"/>
                </a:lnTo>
                <a:lnTo>
                  <a:pt x="415" y="3456"/>
                </a:lnTo>
                <a:lnTo>
                  <a:pt x="400" y="3473"/>
                </a:lnTo>
                <a:lnTo>
                  <a:pt x="385" y="3490"/>
                </a:lnTo>
                <a:lnTo>
                  <a:pt x="369" y="3507"/>
                </a:lnTo>
                <a:lnTo>
                  <a:pt x="352" y="3524"/>
                </a:lnTo>
                <a:lnTo>
                  <a:pt x="337" y="3541"/>
                </a:lnTo>
                <a:lnTo>
                  <a:pt x="324" y="3560"/>
                </a:lnTo>
                <a:lnTo>
                  <a:pt x="317" y="3577"/>
                </a:lnTo>
                <a:lnTo>
                  <a:pt x="315" y="3596"/>
                </a:lnTo>
                <a:lnTo>
                  <a:pt x="319" y="3613"/>
                </a:lnTo>
                <a:lnTo>
                  <a:pt x="330" y="3637"/>
                </a:lnTo>
                <a:lnTo>
                  <a:pt x="341" y="3672"/>
                </a:lnTo>
                <a:lnTo>
                  <a:pt x="353" y="3714"/>
                </a:lnTo>
                <a:lnTo>
                  <a:pt x="363" y="3764"/>
                </a:lnTo>
                <a:lnTo>
                  <a:pt x="372" y="3817"/>
                </a:lnTo>
                <a:lnTo>
                  <a:pt x="377" y="3871"/>
                </a:lnTo>
                <a:lnTo>
                  <a:pt x="377" y="3925"/>
                </a:lnTo>
                <a:lnTo>
                  <a:pt x="371" y="3977"/>
                </a:lnTo>
                <a:lnTo>
                  <a:pt x="379" y="3979"/>
                </a:lnTo>
                <a:lnTo>
                  <a:pt x="388" y="3984"/>
                </a:lnTo>
                <a:lnTo>
                  <a:pt x="397" y="3990"/>
                </a:lnTo>
                <a:lnTo>
                  <a:pt x="403" y="3996"/>
                </a:lnTo>
                <a:lnTo>
                  <a:pt x="410" y="4005"/>
                </a:lnTo>
                <a:lnTo>
                  <a:pt x="415" y="4014"/>
                </a:lnTo>
                <a:lnTo>
                  <a:pt x="416" y="4023"/>
                </a:lnTo>
                <a:lnTo>
                  <a:pt x="415" y="4033"/>
                </a:lnTo>
                <a:lnTo>
                  <a:pt x="428" y="4043"/>
                </a:lnTo>
                <a:lnTo>
                  <a:pt x="436" y="4055"/>
                </a:lnTo>
                <a:lnTo>
                  <a:pt x="440" y="4071"/>
                </a:lnTo>
                <a:lnTo>
                  <a:pt x="444" y="4090"/>
                </a:lnTo>
                <a:lnTo>
                  <a:pt x="461" y="4096"/>
                </a:lnTo>
                <a:lnTo>
                  <a:pt x="481" y="4104"/>
                </a:lnTo>
                <a:lnTo>
                  <a:pt x="501" y="4116"/>
                </a:lnTo>
                <a:lnTo>
                  <a:pt x="523" y="4131"/>
                </a:lnTo>
                <a:lnTo>
                  <a:pt x="545" y="4153"/>
                </a:lnTo>
                <a:lnTo>
                  <a:pt x="566" y="4179"/>
                </a:lnTo>
                <a:lnTo>
                  <a:pt x="585" y="4211"/>
                </a:lnTo>
                <a:lnTo>
                  <a:pt x="604" y="4250"/>
                </a:lnTo>
                <a:lnTo>
                  <a:pt x="598" y="4267"/>
                </a:lnTo>
                <a:lnTo>
                  <a:pt x="587" y="4287"/>
                </a:lnTo>
                <a:lnTo>
                  <a:pt x="572" y="4309"/>
                </a:lnTo>
                <a:lnTo>
                  <a:pt x="554" y="4331"/>
                </a:lnTo>
                <a:lnTo>
                  <a:pt x="535" y="4352"/>
                </a:lnTo>
                <a:lnTo>
                  <a:pt x="515" y="4372"/>
                </a:lnTo>
                <a:lnTo>
                  <a:pt x="496" y="4387"/>
                </a:lnTo>
                <a:lnTo>
                  <a:pt x="480" y="4397"/>
                </a:lnTo>
                <a:lnTo>
                  <a:pt x="466" y="4405"/>
                </a:lnTo>
                <a:lnTo>
                  <a:pt x="454" y="4414"/>
                </a:lnTo>
                <a:lnTo>
                  <a:pt x="446" y="4422"/>
                </a:lnTo>
                <a:lnTo>
                  <a:pt x="439" y="4432"/>
                </a:lnTo>
                <a:lnTo>
                  <a:pt x="433" y="4443"/>
                </a:lnTo>
                <a:lnTo>
                  <a:pt x="429" y="4455"/>
                </a:lnTo>
                <a:lnTo>
                  <a:pt x="425" y="4470"/>
                </a:lnTo>
                <a:lnTo>
                  <a:pt x="423" y="4485"/>
                </a:lnTo>
                <a:lnTo>
                  <a:pt x="414" y="4525"/>
                </a:lnTo>
                <a:lnTo>
                  <a:pt x="401" y="4560"/>
                </a:lnTo>
                <a:lnTo>
                  <a:pt x="385" y="4588"/>
                </a:lnTo>
                <a:lnTo>
                  <a:pt x="365" y="4611"/>
                </a:lnTo>
                <a:lnTo>
                  <a:pt x="345" y="4629"/>
                </a:lnTo>
                <a:lnTo>
                  <a:pt x="323" y="4644"/>
                </a:lnTo>
                <a:lnTo>
                  <a:pt x="301" y="4655"/>
                </a:lnTo>
                <a:lnTo>
                  <a:pt x="279" y="4666"/>
                </a:lnTo>
                <a:lnTo>
                  <a:pt x="257" y="4674"/>
                </a:lnTo>
                <a:lnTo>
                  <a:pt x="233" y="4681"/>
                </a:lnTo>
                <a:lnTo>
                  <a:pt x="208" y="4684"/>
                </a:lnTo>
                <a:lnTo>
                  <a:pt x="185" y="4685"/>
                </a:lnTo>
                <a:lnTo>
                  <a:pt x="162" y="4682"/>
                </a:lnTo>
                <a:lnTo>
                  <a:pt x="143" y="4673"/>
                </a:lnTo>
                <a:lnTo>
                  <a:pt x="128" y="4659"/>
                </a:lnTo>
                <a:lnTo>
                  <a:pt x="120" y="4637"/>
                </a:lnTo>
                <a:lnTo>
                  <a:pt x="115" y="4600"/>
                </a:lnTo>
                <a:lnTo>
                  <a:pt x="119" y="4563"/>
                </a:lnTo>
                <a:lnTo>
                  <a:pt x="128" y="4526"/>
                </a:lnTo>
                <a:lnTo>
                  <a:pt x="139" y="4492"/>
                </a:lnTo>
                <a:lnTo>
                  <a:pt x="149" y="4458"/>
                </a:lnTo>
                <a:lnTo>
                  <a:pt x="157" y="4429"/>
                </a:lnTo>
                <a:lnTo>
                  <a:pt x="160" y="4403"/>
                </a:lnTo>
                <a:lnTo>
                  <a:pt x="156" y="4381"/>
                </a:lnTo>
                <a:lnTo>
                  <a:pt x="136" y="4384"/>
                </a:lnTo>
                <a:lnTo>
                  <a:pt x="118" y="4382"/>
                </a:lnTo>
                <a:lnTo>
                  <a:pt x="104" y="4378"/>
                </a:lnTo>
                <a:lnTo>
                  <a:pt x="92" y="4370"/>
                </a:lnTo>
                <a:lnTo>
                  <a:pt x="84" y="4361"/>
                </a:lnTo>
                <a:lnTo>
                  <a:pt x="80" y="4349"/>
                </a:lnTo>
                <a:lnTo>
                  <a:pt x="81" y="4339"/>
                </a:lnTo>
                <a:lnTo>
                  <a:pt x="86" y="4327"/>
                </a:lnTo>
                <a:lnTo>
                  <a:pt x="94" y="4317"/>
                </a:lnTo>
                <a:lnTo>
                  <a:pt x="104" y="4306"/>
                </a:lnTo>
                <a:lnTo>
                  <a:pt x="115" y="4297"/>
                </a:lnTo>
                <a:lnTo>
                  <a:pt x="127" y="4289"/>
                </a:lnTo>
                <a:lnTo>
                  <a:pt x="140" y="4281"/>
                </a:lnTo>
                <a:lnTo>
                  <a:pt x="152" y="4274"/>
                </a:lnTo>
                <a:lnTo>
                  <a:pt x="164" y="4268"/>
                </a:lnTo>
                <a:lnTo>
                  <a:pt x="175" y="4265"/>
                </a:lnTo>
                <a:lnTo>
                  <a:pt x="173" y="4286"/>
                </a:lnTo>
                <a:lnTo>
                  <a:pt x="158" y="4291"/>
                </a:lnTo>
                <a:lnTo>
                  <a:pt x="145" y="4297"/>
                </a:lnTo>
                <a:lnTo>
                  <a:pt x="134" y="4305"/>
                </a:lnTo>
                <a:lnTo>
                  <a:pt x="124" y="4313"/>
                </a:lnTo>
                <a:lnTo>
                  <a:pt x="115" y="4321"/>
                </a:lnTo>
                <a:lnTo>
                  <a:pt x="110" y="4331"/>
                </a:lnTo>
                <a:lnTo>
                  <a:pt x="106" y="4340"/>
                </a:lnTo>
                <a:lnTo>
                  <a:pt x="105" y="4348"/>
                </a:lnTo>
                <a:lnTo>
                  <a:pt x="107" y="4352"/>
                </a:lnTo>
                <a:lnTo>
                  <a:pt x="111" y="4356"/>
                </a:lnTo>
                <a:lnTo>
                  <a:pt x="117" y="4357"/>
                </a:lnTo>
                <a:lnTo>
                  <a:pt x="124" y="4358"/>
                </a:lnTo>
                <a:lnTo>
                  <a:pt x="132" y="4358"/>
                </a:lnTo>
                <a:lnTo>
                  <a:pt x="141" y="4356"/>
                </a:lnTo>
                <a:lnTo>
                  <a:pt x="150" y="4354"/>
                </a:lnTo>
                <a:lnTo>
                  <a:pt x="160" y="4349"/>
                </a:lnTo>
                <a:lnTo>
                  <a:pt x="158" y="4335"/>
                </a:lnTo>
                <a:lnTo>
                  <a:pt x="160" y="4318"/>
                </a:lnTo>
                <a:lnTo>
                  <a:pt x="165" y="4299"/>
                </a:lnTo>
                <a:lnTo>
                  <a:pt x="173" y="4286"/>
                </a:lnTo>
                <a:lnTo>
                  <a:pt x="175" y="4265"/>
                </a:lnTo>
                <a:lnTo>
                  <a:pt x="177" y="4236"/>
                </a:lnTo>
                <a:lnTo>
                  <a:pt x="181" y="4214"/>
                </a:lnTo>
                <a:lnTo>
                  <a:pt x="189" y="4195"/>
                </a:lnTo>
                <a:lnTo>
                  <a:pt x="200" y="4177"/>
                </a:lnTo>
                <a:lnTo>
                  <a:pt x="194" y="4167"/>
                </a:lnTo>
                <a:lnTo>
                  <a:pt x="188" y="4154"/>
                </a:lnTo>
                <a:lnTo>
                  <a:pt x="182" y="4143"/>
                </a:lnTo>
                <a:lnTo>
                  <a:pt x="179" y="4129"/>
                </a:lnTo>
                <a:lnTo>
                  <a:pt x="177" y="4116"/>
                </a:lnTo>
                <a:lnTo>
                  <a:pt x="178" y="4105"/>
                </a:lnTo>
                <a:lnTo>
                  <a:pt x="181" y="4092"/>
                </a:lnTo>
                <a:lnTo>
                  <a:pt x="188" y="4082"/>
                </a:lnTo>
                <a:lnTo>
                  <a:pt x="171" y="4046"/>
                </a:lnTo>
                <a:lnTo>
                  <a:pt x="153" y="4009"/>
                </a:lnTo>
                <a:lnTo>
                  <a:pt x="135" y="3971"/>
                </a:lnTo>
                <a:lnTo>
                  <a:pt x="118" y="3932"/>
                </a:lnTo>
                <a:lnTo>
                  <a:pt x="101" y="3894"/>
                </a:lnTo>
                <a:lnTo>
                  <a:pt x="83" y="3856"/>
                </a:lnTo>
                <a:lnTo>
                  <a:pt x="67" y="3820"/>
                </a:lnTo>
                <a:lnTo>
                  <a:pt x="51" y="3786"/>
                </a:lnTo>
                <a:lnTo>
                  <a:pt x="37" y="3752"/>
                </a:lnTo>
                <a:lnTo>
                  <a:pt x="24" y="3721"/>
                </a:lnTo>
                <a:lnTo>
                  <a:pt x="14" y="3689"/>
                </a:lnTo>
                <a:lnTo>
                  <a:pt x="6" y="3658"/>
                </a:lnTo>
                <a:lnTo>
                  <a:pt x="1" y="3627"/>
                </a:lnTo>
                <a:lnTo>
                  <a:pt x="0" y="3596"/>
                </a:lnTo>
                <a:lnTo>
                  <a:pt x="4" y="3564"/>
                </a:lnTo>
                <a:lnTo>
                  <a:pt x="12" y="3533"/>
                </a:lnTo>
                <a:lnTo>
                  <a:pt x="23" y="3499"/>
                </a:lnTo>
                <a:lnTo>
                  <a:pt x="36" y="3458"/>
                </a:lnTo>
                <a:lnTo>
                  <a:pt x="50" y="3415"/>
                </a:lnTo>
                <a:lnTo>
                  <a:pt x="64" y="3371"/>
                </a:lnTo>
                <a:lnTo>
                  <a:pt x="77" y="3328"/>
                </a:lnTo>
                <a:lnTo>
                  <a:pt x="90" y="3289"/>
                </a:lnTo>
                <a:lnTo>
                  <a:pt x="102" y="3255"/>
                </a:lnTo>
                <a:lnTo>
                  <a:pt x="112" y="3229"/>
                </a:lnTo>
                <a:lnTo>
                  <a:pt x="102" y="3219"/>
                </a:lnTo>
                <a:lnTo>
                  <a:pt x="90" y="3207"/>
                </a:lnTo>
                <a:lnTo>
                  <a:pt x="80" y="3196"/>
                </a:lnTo>
                <a:lnTo>
                  <a:pt x="71" y="3184"/>
                </a:lnTo>
                <a:lnTo>
                  <a:pt x="62" y="3174"/>
                </a:lnTo>
                <a:lnTo>
                  <a:pt x="57" y="3166"/>
                </a:lnTo>
                <a:lnTo>
                  <a:pt x="52" y="3160"/>
                </a:lnTo>
                <a:lnTo>
                  <a:pt x="51" y="3158"/>
                </a:lnTo>
                <a:lnTo>
                  <a:pt x="62" y="3128"/>
                </a:lnTo>
                <a:lnTo>
                  <a:pt x="76" y="3098"/>
                </a:lnTo>
                <a:lnTo>
                  <a:pt x="91" y="3068"/>
                </a:lnTo>
                <a:lnTo>
                  <a:pt x="107" y="3037"/>
                </a:lnTo>
                <a:lnTo>
                  <a:pt x="126" y="3007"/>
                </a:lnTo>
                <a:lnTo>
                  <a:pt x="147" y="2977"/>
                </a:lnTo>
                <a:lnTo>
                  <a:pt x="168" y="2947"/>
                </a:lnTo>
                <a:lnTo>
                  <a:pt x="192" y="2917"/>
                </a:lnTo>
                <a:lnTo>
                  <a:pt x="215" y="2886"/>
                </a:lnTo>
                <a:lnTo>
                  <a:pt x="236" y="2855"/>
                </a:lnTo>
                <a:lnTo>
                  <a:pt x="257" y="2821"/>
                </a:lnTo>
                <a:lnTo>
                  <a:pt x="274" y="2788"/>
                </a:lnTo>
                <a:lnTo>
                  <a:pt x="289" y="2756"/>
                </a:lnTo>
                <a:lnTo>
                  <a:pt x="300" y="2723"/>
                </a:lnTo>
                <a:lnTo>
                  <a:pt x="308" y="2692"/>
                </a:lnTo>
                <a:lnTo>
                  <a:pt x="311" y="2662"/>
                </a:lnTo>
                <a:lnTo>
                  <a:pt x="316" y="2630"/>
                </a:lnTo>
                <a:lnTo>
                  <a:pt x="326" y="2592"/>
                </a:lnTo>
                <a:lnTo>
                  <a:pt x="340" y="2552"/>
                </a:lnTo>
                <a:lnTo>
                  <a:pt x="356" y="2510"/>
                </a:lnTo>
                <a:lnTo>
                  <a:pt x="375" y="2471"/>
                </a:lnTo>
                <a:lnTo>
                  <a:pt x="394" y="2438"/>
                </a:lnTo>
                <a:lnTo>
                  <a:pt x="414" y="2410"/>
                </a:lnTo>
                <a:lnTo>
                  <a:pt x="431" y="2394"/>
                </a:lnTo>
                <a:lnTo>
                  <a:pt x="436" y="2371"/>
                </a:lnTo>
                <a:lnTo>
                  <a:pt x="425" y="2367"/>
                </a:lnTo>
                <a:lnTo>
                  <a:pt x="417" y="2362"/>
                </a:lnTo>
                <a:lnTo>
                  <a:pt x="410" y="2354"/>
                </a:lnTo>
                <a:lnTo>
                  <a:pt x="405" y="2343"/>
                </a:lnTo>
                <a:lnTo>
                  <a:pt x="401" y="2329"/>
                </a:lnTo>
                <a:lnTo>
                  <a:pt x="400" y="2312"/>
                </a:lnTo>
                <a:lnTo>
                  <a:pt x="400" y="2293"/>
                </a:lnTo>
                <a:lnTo>
                  <a:pt x="403" y="2271"/>
                </a:lnTo>
                <a:lnTo>
                  <a:pt x="409" y="2244"/>
                </a:lnTo>
                <a:lnTo>
                  <a:pt x="418" y="2214"/>
                </a:lnTo>
                <a:lnTo>
                  <a:pt x="428" y="2181"/>
                </a:lnTo>
                <a:lnTo>
                  <a:pt x="438" y="2146"/>
                </a:lnTo>
                <a:lnTo>
                  <a:pt x="447" y="2112"/>
                </a:lnTo>
                <a:lnTo>
                  <a:pt x="453" y="2076"/>
                </a:lnTo>
                <a:lnTo>
                  <a:pt x="455" y="2043"/>
                </a:lnTo>
                <a:lnTo>
                  <a:pt x="452" y="2010"/>
                </a:lnTo>
                <a:lnTo>
                  <a:pt x="444" y="1980"/>
                </a:lnTo>
                <a:lnTo>
                  <a:pt x="435" y="1952"/>
                </a:lnTo>
                <a:lnTo>
                  <a:pt x="422" y="1923"/>
                </a:lnTo>
                <a:lnTo>
                  <a:pt x="409" y="1894"/>
                </a:lnTo>
                <a:lnTo>
                  <a:pt x="395" y="1869"/>
                </a:lnTo>
                <a:lnTo>
                  <a:pt x="382" y="1844"/>
                </a:lnTo>
                <a:lnTo>
                  <a:pt x="370" y="1823"/>
                </a:lnTo>
                <a:lnTo>
                  <a:pt x="360" y="1803"/>
                </a:lnTo>
                <a:lnTo>
                  <a:pt x="346" y="1765"/>
                </a:lnTo>
                <a:lnTo>
                  <a:pt x="339" y="1725"/>
                </a:lnTo>
                <a:lnTo>
                  <a:pt x="341" y="1681"/>
                </a:lnTo>
                <a:lnTo>
                  <a:pt x="352" y="1635"/>
                </a:lnTo>
                <a:lnTo>
                  <a:pt x="372" y="1594"/>
                </a:lnTo>
                <a:lnTo>
                  <a:pt x="393" y="1552"/>
                </a:lnTo>
                <a:lnTo>
                  <a:pt x="413" y="1510"/>
                </a:lnTo>
                <a:lnTo>
                  <a:pt x="432" y="1469"/>
                </a:lnTo>
                <a:lnTo>
                  <a:pt x="447" y="1431"/>
                </a:lnTo>
                <a:lnTo>
                  <a:pt x="459" y="1397"/>
                </a:lnTo>
                <a:lnTo>
                  <a:pt x="465" y="1369"/>
                </a:lnTo>
                <a:lnTo>
                  <a:pt x="463" y="1347"/>
                </a:lnTo>
                <a:lnTo>
                  <a:pt x="468" y="1342"/>
                </a:lnTo>
                <a:lnTo>
                  <a:pt x="473" y="1338"/>
                </a:lnTo>
                <a:lnTo>
                  <a:pt x="478" y="1334"/>
                </a:lnTo>
                <a:lnTo>
                  <a:pt x="483" y="1331"/>
                </a:lnTo>
                <a:lnTo>
                  <a:pt x="489" y="1327"/>
                </a:lnTo>
                <a:lnTo>
                  <a:pt x="496" y="1324"/>
                </a:lnTo>
                <a:lnTo>
                  <a:pt x="504" y="1321"/>
                </a:lnTo>
                <a:lnTo>
                  <a:pt x="512" y="1318"/>
                </a:lnTo>
                <a:lnTo>
                  <a:pt x="498" y="1309"/>
                </a:lnTo>
                <a:lnTo>
                  <a:pt x="485" y="1294"/>
                </a:lnTo>
                <a:lnTo>
                  <a:pt x="474" y="1274"/>
                </a:lnTo>
                <a:lnTo>
                  <a:pt x="463" y="1250"/>
                </a:lnTo>
                <a:lnTo>
                  <a:pt x="456" y="1223"/>
                </a:lnTo>
                <a:lnTo>
                  <a:pt x="452" y="1195"/>
                </a:lnTo>
                <a:lnTo>
                  <a:pt x="452" y="1165"/>
                </a:lnTo>
                <a:lnTo>
                  <a:pt x="456" y="1136"/>
                </a:lnTo>
                <a:lnTo>
                  <a:pt x="448" y="1116"/>
                </a:lnTo>
                <a:lnTo>
                  <a:pt x="445" y="1096"/>
                </a:lnTo>
                <a:lnTo>
                  <a:pt x="447" y="1075"/>
                </a:lnTo>
                <a:lnTo>
                  <a:pt x="453" y="1055"/>
                </a:lnTo>
                <a:lnTo>
                  <a:pt x="462" y="1037"/>
                </a:lnTo>
                <a:lnTo>
                  <a:pt x="471" y="1020"/>
                </a:lnTo>
                <a:lnTo>
                  <a:pt x="482" y="1006"/>
                </a:lnTo>
                <a:lnTo>
                  <a:pt x="491" y="994"/>
                </a:lnTo>
                <a:lnTo>
                  <a:pt x="499" y="982"/>
                </a:lnTo>
                <a:lnTo>
                  <a:pt x="505" y="963"/>
                </a:lnTo>
                <a:lnTo>
                  <a:pt x="511" y="942"/>
                </a:lnTo>
                <a:lnTo>
                  <a:pt x="516" y="920"/>
                </a:lnTo>
                <a:lnTo>
                  <a:pt x="522" y="900"/>
                </a:lnTo>
                <a:lnTo>
                  <a:pt x="530" y="882"/>
                </a:lnTo>
                <a:lnTo>
                  <a:pt x="539" y="871"/>
                </a:lnTo>
                <a:lnTo>
                  <a:pt x="553" y="866"/>
                </a:lnTo>
                <a:lnTo>
                  <a:pt x="567" y="866"/>
                </a:lnTo>
                <a:lnTo>
                  <a:pt x="577" y="865"/>
                </a:lnTo>
                <a:lnTo>
                  <a:pt x="585" y="863"/>
                </a:lnTo>
                <a:lnTo>
                  <a:pt x="594" y="858"/>
                </a:lnTo>
                <a:lnTo>
                  <a:pt x="599" y="854"/>
                </a:lnTo>
                <a:lnTo>
                  <a:pt x="604" y="848"/>
                </a:lnTo>
                <a:lnTo>
                  <a:pt x="610" y="840"/>
                </a:lnTo>
                <a:lnTo>
                  <a:pt x="615" y="831"/>
                </a:lnTo>
                <a:lnTo>
                  <a:pt x="621" y="820"/>
                </a:lnTo>
                <a:lnTo>
                  <a:pt x="627" y="810"/>
                </a:lnTo>
                <a:lnTo>
                  <a:pt x="633" y="801"/>
                </a:lnTo>
                <a:lnTo>
                  <a:pt x="640" y="793"/>
                </a:lnTo>
                <a:lnTo>
                  <a:pt x="647" y="787"/>
                </a:lnTo>
                <a:lnTo>
                  <a:pt x="655" y="782"/>
                </a:lnTo>
                <a:lnTo>
                  <a:pt x="664" y="781"/>
                </a:lnTo>
                <a:lnTo>
                  <a:pt x="675" y="782"/>
                </a:lnTo>
                <a:lnTo>
                  <a:pt x="687" y="787"/>
                </a:lnTo>
                <a:lnTo>
                  <a:pt x="696" y="793"/>
                </a:lnTo>
                <a:lnTo>
                  <a:pt x="704" y="798"/>
                </a:lnTo>
                <a:lnTo>
                  <a:pt x="711" y="804"/>
                </a:lnTo>
                <a:lnTo>
                  <a:pt x="718" y="809"/>
                </a:lnTo>
                <a:lnTo>
                  <a:pt x="725" y="810"/>
                </a:lnTo>
                <a:lnTo>
                  <a:pt x="733" y="809"/>
                </a:lnTo>
                <a:lnTo>
                  <a:pt x="742" y="802"/>
                </a:lnTo>
                <a:lnTo>
                  <a:pt x="753" y="794"/>
                </a:lnTo>
                <a:lnTo>
                  <a:pt x="763" y="789"/>
                </a:lnTo>
                <a:lnTo>
                  <a:pt x="774" y="786"/>
                </a:lnTo>
                <a:lnTo>
                  <a:pt x="784" y="785"/>
                </a:lnTo>
                <a:lnTo>
                  <a:pt x="794" y="785"/>
                </a:lnTo>
                <a:lnTo>
                  <a:pt x="802" y="787"/>
                </a:lnTo>
                <a:lnTo>
                  <a:pt x="809" y="791"/>
                </a:lnTo>
                <a:lnTo>
                  <a:pt x="815" y="798"/>
                </a:lnTo>
                <a:lnTo>
                  <a:pt x="819" y="805"/>
                </a:lnTo>
                <a:lnTo>
                  <a:pt x="823" y="812"/>
                </a:lnTo>
                <a:lnTo>
                  <a:pt x="826" y="818"/>
                </a:lnTo>
                <a:lnTo>
                  <a:pt x="830" y="823"/>
                </a:lnTo>
                <a:lnTo>
                  <a:pt x="833" y="827"/>
                </a:lnTo>
                <a:lnTo>
                  <a:pt x="838" y="829"/>
                </a:lnTo>
                <a:lnTo>
                  <a:pt x="844" y="831"/>
                </a:lnTo>
                <a:lnTo>
                  <a:pt x="850" y="831"/>
                </a:lnTo>
                <a:lnTo>
                  <a:pt x="858" y="831"/>
                </a:lnTo>
                <a:lnTo>
                  <a:pt x="867" y="832"/>
                </a:lnTo>
                <a:lnTo>
                  <a:pt x="875" y="836"/>
                </a:lnTo>
                <a:lnTo>
                  <a:pt x="882" y="842"/>
                </a:lnTo>
                <a:lnTo>
                  <a:pt x="888" y="849"/>
                </a:lnTo>
                <a:lnTo>
                  <a:pt x="894" y="857"/>
                </a:lnTo>
                <a:lnTo>
                  <a:pt x="898" y="865"/>
                </a:lnTo>
                <a:lnTo>
                  <a:pt x="899" y="874"/>
                </a:lnTo>
                <a:lnTo>
                  <a:pt x="901" y="889"/>
                </a:lnTo>
                <a:lnTo>
                  <a:pt x="908" y="901"/>
                </a:lnTo>
                <a:lnTo>
                  <a:pt x="918" y="914"/>
                </a:lnTo>
                <a:lnTo>
                  <a:pt x="930" y="931"/>
                </a:lnTo>
                <a:lnTo>
                  <a:pt x="931" y="911"/>
                </a:lnTo>
                <a:lnTo>
                  <a:pt x="928" y="891"/>
                </a:lnTo>
                <a:lnTo>
                  <a:pt x="921" y="868"/>
                </a:lnTo>
                <a:lnTo>
                  <a:pt x="914" y="843"/>
                </a:lnTo>
                <a:lnTo>
                  <a:pt x="906" y="818"/>
                </a:lnTo>
                <a:lnTo>
                  <a:pt x="900" y="791"/>
                </a:lnTo>
                <a:lnTo>
                  <a:pt x="895" y="765"/>
                </a:lnTo>
                <a:lnTo>
                  <a:pt x="894" y="738"/>
                </a:lnTo>
                <a:lnTo>
                  <a:pt x="895" y="707"/>
                </a:lnTo>
                <a:lnTo>
                  <a:pt x="895" y="672"/>
                </a:lnTo>
                <a:lnTo>
                  <a:pt x="893" y="631"/>
                </a:lnTo>
                <a:lnTo>
                  <a:pt x="888" y="589"/>
                </a:lnTo>
                <a:lnTo>
                  <a:pt x="880" y="546"/>
                </a:lnTo>
                <a:lnTo>
                  <a:pt x="870" y="505"/>
                </a:lnTo>
                <a:lnTo>
                  <a:pt x="856" y="465"/>
                </a:lnTo>
                <a:lnTo>
                  <a:pt x="839" y="432"/>
                </a:lnTo>
                <a:lnTo>
                  <a:pt x="824" y="452"/>
                </a:lnTo>
                <a:lnTo>
                  <a:pt x="808" y="471"/>
                </a:lnTo>
                <a:lnTo>
                  <a:pt x="789" y="487"/>
                </a:lnTo>
                <a:lnTo>
                  <a:pt x="770" y="503"/>
                </a:lnTo>
                <a:lnTo>
                  <a:pt x="749" y="517"/>
                </a:lnTo>
                <a:lnTo>
                  <a:pt x="727" y="529"/>
                </a:lnTo>
                <a:lnTo>
                  <a:pt x="704" y="538"/>
                </a:lnTo>
                <a:lnTo>
                  <a:pt x="680" y="546"/>
                </a:lnTo>
                <a:lnTo>
                  <a:pt x="667" y="554"/>
                </a:lnTo>
                <a:lnTo>
                  <a:pt x="652" y="561"/>
                </a:lnTo>
                <a:lnTo>
                  <a:pt x="636" y="568"/>
                </a:lnTo>
                <a:lnTo>
                  <a:pt x="620" y="574"/>
                </a:lnTo>
                <a:lnTo>
                  <a:pt x="603" y="578"/>
                </a:lnTo>
                <a:lnTo>
                  <a:pt x="587" y="583"/>
                </a:lnTo>
                <a:lnTo>
                  <a:pt x="572" y="589"/>
                </a:lnTo>
                <a:lnTo>
                  <a:pt x="559" y="594"/>
                </a:lnTo>
                <a:lnTo>
                  <a:pt x="547" y="603"/>
                </a:lnTo>
                <a:lnTo>
                  <a:pt x="536" y="615"/>
                </a:lnTo>
                <a:lnTo>
                  <a:pt x="526" y="630"/>
                </a:lnTo>
                <a:lnTo>
                  <a:pt x="514" y="647"/>
                </a:lnTo>
                <a:lnTo>
                  <a:pt x="504" y="667"/>
                </a:lnTo>
                <a:lnTo>
                  <a:pt x="494" y="687"/>
                </a:lnTo>
                <a:lnTo>
                  <a:pt x="485" y="705"/>
                </a:lnTo>
                <a:lnTo>
                  <a:pt x="476" y="722"/>
                </a:lnTo>
                <a:lnTo>
                  <a:pt x="466" y="741"/>
                </a:lnTo>
                <a:lnTo>
                  <a:pt x="454" y="763"/>
                </a:lnTo>
                <a:lnTo>
                  <a:pt x="441" y="786"/>
                </a:lnTo>
                <a:lnTo>
                  <a:pt x="428" y="811"/>
                </a:lnTo>
                <a:lnTo>
                  <a:pt x="416" y="836"/>
                </a:lnTo>
                <a:lnTo>
                  <a:pt x="405" y="861"/>
                </a:lnTo>
                <a:lnTo>
                  <a:pt x="397" y="882"/>
                </a:lnTo>
                <a:lnTo>
                  <a:pt x="392" y="902"/>
                </a:lnTo>
                <a:lnTo>
                  <a:pt x="388" y="924"/>
                </a:lnTo>
                <a:lnTo>
                  <a:pt x="384" y="953"/>
                </a:lnTo>
                <a:lnTo>
                  <a:pt x="378" y="986"/>
                </a:lnTo>
                <a:lnTo>
                  <a:pt x="372" y="1021"/>
                </a:lnTo>
                <a:lnTo>
                  <a:pt x="365" y="1055"/>
                </a:lnTo>
                <a:lnTo>
                  <a:pt x="359" y="1086"/>
                </a:lnTo>
                <a:lnTo>
                  <a:pt x="350" y="1112"/>
                </a:lnTo>
                <a:lnTo>
                  <a:pt x="344" y="1130"/>
                </a:lnTo>
                <a:lnTo>
                  <a:pt x="355" y="1146"/>
                </a:lnTo>
                <a:lnTo>
                  <a:pt x="370" y="1169"/>
                </a:lnTo>
                <a:lnTo>
                  <a:pt x="387" y="1197"/>
                </a:lnTo>
                <a:lnTo>
                  <a:pt x="407" y="1228"/>
                </a:lnTo>
                <a:lnTo>
                  <a:pt x="424" y="1260"/>
                </a:lnTo>
                <a:lnTo>
                  <a:pt x="441" y="1293"/>
                </a:lnTo>
                <a:lnTo>
                  <a:pt x="454" y="1321"/>
                </a:lnTo>
                <a:lnTo>
                  <a:pt x="463" y="1347"/>
                </a:lnTo>
                <a:lnTo>
                  <a:pt x="465" y="1369"/>
                </a:lnTo>
                <a:lnTo>
                  <a:pt x="459" y="1397"/>
                </a:lnTo>
                <a:lnTo>
                  <a:pt x="447" y="1431"/>
                </a:lnTo>
                <a:lnTo>
                  <a:pt x="432" y="1469"/>
                </a:lnTo>
                <a:lnTo>
                  <a:pt x="413" y="1510"/>
                </a:lnTo>
                <a:lnTo>
                  <a:pt x="393" y="1552"/>
                </a:lnTo>
                <a:lnTo>
                  <a:pt x="372" y="1594"/>
                </a:lnTo>
                <a:lnTo>
                  <a:pt x="352" y="1635"/>
                </a:lnTo>
                <a:lnTo>
                  <a:pt x="331" y="1606"/>
                </a:lnTo>
                <a:lnTo>
                  <a:pt x="312" y="1576"/>
                </a:lnTo>
                <a:lnTo>
                  <a:pt x="294" y="1546"/>
                </a:lnTo>
                <a:lnTo>
                  <a:pt x="277" y="1515"/>
                </a:lnTo>
                <a:lnTo>
                  <a:pt x="261" y="1486"/>
                </a:lnTo>
                <a:lnTo>
                  <a:pt x="243" y="1457"/>
                </a:lnTo>
                <a:lnTo>
                  <a:pt x="226" y="1431"/>
                </a:lnTo>
                <a:lnTo>
                  <a:pt x="209" y="1406"/>
                </a:lnTo>
                <a:lnTo>
                  <a:pt x="182" y="1367"/>
                </a:lnTo>
                <a:lnTo>
                  <a:pt x="159" y="1328"/>
                </a:lnTo>
                <a:lnTo>
                  <a:pt x="140" y="1289"/>
                </a:lnTo>
                <a:lnTo>
                  <a:pt x="124" y="1250"/>
                </a:lnTo>
                <a:lnTo>
                  <a:pt x="112" y="1212"/>
                </a:lnTo>
                <a:lnTo>
                  <a:pt x="104" y="1174"/>
                </a:lnTo>
                <a:lnTo>
                  <a:pt x="102" y="1139"/>
                </a:lnTo>
                <a:lnTo>
                  <a:pt x="104" y="1106"/>
                </a:lnTo>
                <a:lnTo>
                  <a:pt x="109" y="1076"/>
                </a:lnTo>
                <a:lnTo>
                  <a:pt x="115" y="1050"/>
                </a:lnTo>
                <a:lnTo>
                  <a:pt x="125" y="1025"/>
                </a:lnTo>
                <a:lnTo>
                  <a:pt x="135" y="1003"/>
                </a:lnTo>
                <a:lnTo>
                  <a:pt x="147" y="982"/>
                </a:lnTo>
                <a:lnTo>
                  <a:pt x="160" y="959"/>
                </a:lnTo>
                <a:lnTo>
                  <a:pt x="175" y="934"/>
                </a:lnTo>
                <a:lnTo>
                  <a:pt x="193" y="909"/>
                </a:lnTo>
                <a:lnTo>
                  <a:pt x="213" y="880"/>
                </a:lnTo>
                <a:lnTo>
                  <a:pt x="238" y="847"/>
                </a:lnTo>
                <a:lnTo>
                  <a:pt x="263" y="811"/>
                </a:lnTo>
                <a:lnTo>
                  <a:pt x="291" y="772"/>
                </a:lnTo>
                <a:lnTo>
                  <a:pt x="316" y="733"/>
                </a:lnTo>
                <a:lnTo>
                  <a:pt x="340" y="692"/>
                </a:lnTo>
                <a:lnTo>
                  <a:pt x="361" y="652"/>
                </a:lnTo>
                <a:lnTo>
                  <a:pt x="376" y="614"/>
                </a:lnTo>
                <a:lnTo>
                  <a:pt x="385" y="575"/>
                </a:lnTo>
                <a:lnTo>
                  <a:pt x="386" y="541"/>
                </a:lnTo>
                <a:lnTo>
                  <a:pt x="383" y="515"/>
                </a:lnTo>
                <a:lnTo>
                  <a:pt x="376" y="492"/>
                </a:lnTo>
                <a:lnTo>
                  <a:pt x="370" y="472"/>
                </a:lnTo>
                <a:lnTo>
                  <a:pt x="365" y="454"/>
                </a:lnTo>
                <a:lnTo>
                  <a:pt x="365" y="438"/>
                </a:lnTo>
                <a:lnTo>
                  <a:pt x="372" y="419"/>
                </a:lnTo>
                <a:lnTo>
                  <a:pt x="364" y="403"/>
                </a:lnTo>
                <a:lnTo>
                  <a:pt x="356" y="387"/>
                </a:lnTo>
                <a:lnTo>
                  <a:pt x="349" y="370"/>
                </a:lnTo>
                <a:lnTo>
                  <a:pt x="344" y="353"/>
                </a:lnTo>
                <a:lnTo>
                  <a:pt x="339" y="334"/>
                </a:lnTo>
                <a:lnTo>
                  <a:pt x="336" y="316"/>
                </a:lnTo>
                <a:lnTo>
                  <a:pt x="334" y="297"/>
                </a:lnTo>
                <a:lnTo>
                  <a:pt x="333" y="278"/>
                </a:lnTo>
                <a:lnTo>
                  <a:pt x="334" y="249"/>
                </a:lnTo>
                <a:lnTo>
                  <a:pt x="339" y="221"/>
                </a:lnTo>
                <a:lnTo>
                  <a:pt x="346" y="195"/>
                </a:lnTo>
                <a:lnTo>
                  <a:pt x="355" y="169"/>
                </a:lnTo>
                <a:lnTo>
                  <a:pt x="367" y="145"/>
                </a:lnTo>
                <a:lnTo>
                  <a:pt x="380" y="122"/>
                </a:lnTo>
                <a:lnTo>
                  <a:pt x="397" y="101"/>
                </a:lnTo>
                <a:lnTo>
                  <a:pt x="415" y="82"/>
                </a:lnTo>
                <a:lnTo>
                  <a:pt x="435" y="63"/>
                </a:lnTo>
                <a:lnTo>
                  <a:pt x="455" y="47"/>
                </a:lnTo>
                <a:lnTo>
                  <a:pt x="478" y="33"/>
                </a:lnTo>
                <a:lnTo>
                  <a:pt x="503" y="22"/>
                </a:lnTo>
                <a:lnTo>
                  <a:pt x="528" y="13"/>
                </a:lnTo>
                <a:lnTo>
                  <a:pt x="554" y="6"/>
                </a:lnTo>
                <a:lnTo>
                  <a:pt x="582" y="1"/>
                </a:lnTo>
                <a:lnTo>
                  <a:pt x="611" y="0"/>
                </a:lnTo>
                <a:lnTo>
                  <a:pt x="620" y="0"/>
                </a:lnTo>
                <a:lnTo>
                  <a:pt x="629" y="1"/>
                </a:lnTo>
                <a:lnTo>
                  <a:pt x="638" y="1"/>
                </a:lnTo>
                <a:lnTo>
                  <a:pt x="647" y="2"/>
                </a:lnTo>
                <a:lnTo>
                  <a:pt x="656" y="3"/>
                </a:lnTo>
                <a:lnTo>
                  <a:pt x="665" y="6"/>
                </a:lnTo>
                <a:lnTo>
                  <a:pt x="673" y="7"/>
                </a:lnTo>
                <a:lnTo>
                  <a:pt x="682" y="9"/>
                </a:lnTo>
                <a:lnTo>
                  <a:pt x="688" y="8"/>
                </a:lnTo>
                <a:lnTo>
                  <a:pt x="695" y="7"/>
                </a:lnTo>
                <a:lnTo>
                  <a:pt x="703" y="8"/>
                </a:lnTo>
                <a:lnTo>
                  <a:pt x="713" y="9"/>
                </a:lnTo>
                <a:lnTo>
                  <a:pt x="723" y="12"/>
                </a:lnTo>
                <a:lnTo>
                  <a:pt x="732" y="14"/>
                </a:lnTo>
                <a:lnTo>
                  <a:pt x="740" y="18"/>
                </a:lnTo>
                <a:lnTo>
                  <a:pt x="747" y="24"/>
                </a:lnTo>
                <a:lnTo>
                  <a:pt x="758" y="21"/>
                </a:lnTo>
                <a:lnTo>
                  <a:pt x="772" y="18"/>
                </a:lnTo>
                <a:lnTo>
                  <a:pt x="787" y="17"/>
                </a:lnTo>
                <a:lnTo>
                  <a:pt x="803" y="20"/>
                </a:lnTo>
                <a:lnTo>
                  <a:pt x="818" y="24"/>
                </a:lnTo>
                <a:lnTo>
                  <a:pt x="832" y="31"/>
                </a:lnTo>
                <a:lnTo>
                  <a:pt x="844" y="41"/>
                </a:lnTo>
                <a:lnTo>
                  <a:pt x="853" y="55"/>
                </a:lnTo>
                <a:lnTo>
                  <a:pt x="863" y="56"/>
                </a:lnTo>
                <a:lnTo>
                  <a:pt x="873" y="61"/>
                </a:lnTo>
                <a:lnTo>
                  <a:pt x="884" y="69"/>
                </a:lnTo>
                <a:lnTo>
                  <a:pt x="893" y="79"/>
                </a:lnTo>
                <a:lnTo>
                  <a:pt x="901" y="92"/>
                </a:lnTo>
                <a:lnTo>
                  <a:pt x="908" y="107"/>
                </a:lnTo>
                <a:lnTo>
                  <a:pt x="914" y="123"/>
                </a:lnTo>
                <a:lnTo>
                  <a:pt x="917" y="141"/>
                </a:lnTo>
                <a:lnTo>
                  <a:pt x="921" y="180"/>
                </a:lnTo>
                <a:lnTo>
                  <a:pt x="926" y="221"/>
                </a:lnTo>
                <a:lnTo>
                  <a:pt x="936" y="262"/>
                </a:lnTo>
                <a:lnTo>
                  <a:pt x="950" y="298"/>
                </a:lnTo>
                <a:lnTo>
                  <a:pt x="961" y="324"/>
                </a:lnTo>
                <a:lnTo>
                  <a:pt x="977" y="362"/>
                </a:lnTo>
                <a:lnTo>
                  <a:pt x="999" y="410"/>
                </a:lnTo>
                <a:lnTo>
                  <a:pt x="1021" y="462"/>
                </a:lnTo>
                <a:lnTo>
                  <a:pt x="1044" y="514"/>
                </a:lnTo>
                <a:lnTo>
                  <a:pt x="1066" y="561"/>
                </a:lnTo>
                <a:lnTo>
                  <a:pt x="1083" y="599"/>
                </a:lnTo>
                <a:lnTo>
                  <a:pt x="1096" y="623"/>
                </a:lnTo>
                <a:lnTo>
                  <a:pt x="1105" y="644"/>
                </a:lnTo>
                <a:lnTo>
                  <a:pt x="1114" y="670"/>
                </a:lnTo>
                <a:lnTo>
                  <a:pt x="1122" y="703"/>
                </a:lnTo>
                <a:lnTo>
                  <a:pt x="1130" y="738"/>
                </a:lnTo>
                <a:lnTo>
                  <a:pt x="1137" y="774"/>
                </a:lnTo>
                <a:lnTo>
                  <a:pt x="1143" y="809"/>
                </a:lnTo>
                <a:lnTo>
                  <a:pt x="1146" y="839"/>
                </a:lnTo>
                <a:lnTo>
                  <a:pt x="1149" y="864"/>
                </a:lnTo>
                <a:lnTo>
                  <a:pt x="1150" y="886"/>
                </a:lnTo>
                <a:lnTo>
                  <a:pt x="1152" y="909"/>
                </a:lnTo>
                <a:lnTo>
                  <a:pt x="1155" y="932"/>
                </a:lnTo>
                <a:lnTo>
                  <a:pt x="1158" y="956"/>
                </a:lnTo>
                <a:lnTo>
                  <a:pt x="1163" y="979"/>
                </a:lnTo>
                <a:lnTo>
                  <a:pt x="1168" y="1001"/>
                </a:lnTo>
                <a:lnTo>
                  <a:pt x="1175" y="1022"/>
                </a:lnTo>
                <a:lnTo>
                  <a:pt x="1183" y="1039"/>
                </a:lnTo>
                <a:lnTo>
                  <a:pt x="1194" y="1062"/>
                </a:lnTo>
                <a:lnTo>
                  <a:pt x="1204" y="1097"/>
                </a:lnTo>
                <a:lnTo>
                  <a:pt x="1214" y="1141"/>
                </a:lnTo>
                <a:lnTo>
                  <a:pt x="1225" y="1188"/>
                </a:lnTo>
                <a:lnTo>
                  <a:pt x="1233" y="1238"/>
                </a:lnTo>
                <a:lnTo>
                  <a:pt x="1239" y="1287"/>
                </a:lnTo>
                <a:lnTo>
                  <a:pt x="1241" y="1329"/>
                </a:lnTo>
                <a:lnTo>
                  <a:pt x="1240" y="1365"/>
                </a:lnTo>
                <a:lnTo>
                  <a:pt x="1255" y="1374"/>
                </a:lnTo>
                <a:lnTo>
                  <a:pt x="1273" y="1386"/>
                </a:lnTo>
                <a:lnTo>
                  <a:pt x="1292" y="1400"/>
                </a:lnTo>
                <a:lnTo>
                  <a:pt x="1309" y="1415"/>
                </a:lnTo>
                <a:lnTo>
                  <a:pt x="1324" y="1431"/>
                </a:lnTo>
                <a:lnTo>
                  <a:pt x="1335" y="1448"/>
                </a:lnTo>
                <a:lnTo>
                  <a:pt x="1341" y="1464"/>
                </a:lnTo>
                <a:lnTo>
                  <a:pt x="1339" y="1479"/>
                </a:lnTo>
                <a:lnTo>
                  <a:pt x="1331" y="1501"/>
                </a:lnTo>
                <a:lnTo>
                  <a:pt x="1323" y="1529"/>
                </a:lnTo>
                <a:lnTo>
                  <a:pt x="1316" y="1562"/>
                </a:lnTo>
                <a:lnTo>
                  <a:pt x="1309" y="1599"/>
                </a:lnTo>
                <a:lnTo>
                  <a:pt x="1303" y="1637"/>
                </a:lnTo>
                <a:lnTo>
                  <a:pt x="1300" y="1675"/>
                </a:lnTo>
                <a:lnTo>
                  <a:pt x="1297" y="1712"/>
                </a:lnTo>
                <a:lnTo>
                  <a:pt x="1299" y="1744"/>
                </a:lnTo>
                <a:lnTo>
                  <a:pt x="1297" y="1776"/>
                </a:lnTo>
                <a:lnTo>
                  <a:pt x="1293" y="1814"/>
                </a:lnTo>
                <a:lnTo>
                  <a:pt x="1286" y="1857"/>
                </a:lnTo>
                <a:lnTo>
                  <a:pt x="1278" y="1902"/>
                </a:lnTo>
                <a:lnTo>
                  <a:pt x="1270" y="1948"/>
                </a:lnTo>
                <a:lnTo>
                  <a:pt x="1265" y="1997"/>
                </a:lnTo>
                <a:lnTo>
                  <a:pt x="1265" y="2044"/>
                </a:lnTo>
                <a:lnTo>
                  <a:pt x="1271" y="2091"/>
                </a:lnTo>
                <a:lnTo>
                  <a:pt x="1276" y="2115"/>
                </a:lnTo>
                <a:lnTo>
                  <a:pt x="1278" y="2141"/>
                </a:lnTo>
                <a:lnTo>
                  <a:pt x="1277" y="2166"/>
                </a:lnTo>
                <a:lnTo>
                  <a:pt x="1271" y="2191"/>
                </a:lnTo>
                <a:lnTo>
                  <a:pt x="1259" y="2218"/>
                </a:lnTo>
                <a:lnTo>
                  <a:pt x="1242" y="2243"/>
                </a:lnTo>
                <a:lnTo>
                  <a:pt x="1217" y="2271"/>
                </a:lnTo>
                <a:lnTo>
                  <a:pt x="1181" y="2298"/>
                </a:lnTo>
                <a:lnTo>
                  <a:pt x="1187" y="2379"/>
                </a:lnTo>
                <a:lnTo>
                  <a:pt x="1202" y="2399"/>
                </a:lnTo>
                <a:lnTo>
                  <a:pt x="1214" y="2424"/>
                </a:lnTo>
                <a:lnTo>
                  <a:pt x="1226" y="2454"/>
                </a:lnTo>
                <a:lnTo>
                  <a:pt x="1234" y="2487"/>
                </a:lnTo>
                <a:lnTo>
                  <a:pt x="1241" y="2522"/>
                </a:lnTo>
                <a:lnTo>
                  <a:pt x="1247" y="2558"/>
                </a:lnTo>
                <a:lnTo>
                  <a:pt x="1249" y="2592"/>
                </a:lnTo>
                <a:lnTo>
                  <a:pt x="1250" y="2623"/>
                </a:lnTo>
                <a:lnTo>
                  <a:pt x="1249" y="2690"/>
                </a:lnTo>
                <a:lnTo>
                  <a:pt x="1247" y="2764"/>
                </a:lnTo>
                <a:lnTo>
                  <a:pt x="1244" y="2841"/>
                </a:lnTo>
                <a:lnTo>
                  <a:pt x="1240" y="2916"/>
                </a:lnTo>
                <a:lnTo>
                  <a:pt x="1240" y="2957"/>
                </a:lnTo>
                <a:lnTo>
                  <a:pt x="1242" y="3009"/>
                </a:lnTo>
                <a:lnTo>
                  <a:pt x="1248" y="3067"/>
                </a:lnTo>
                <a:lnTo>
                  <a:pt x="1256" y="3128"/>
                </a:lnTo>
                <a:lnTo>
                  <a:pt x="1265" y="3189"/>
                </a:lnTo>
                <a:lnTo>
                  <a:pt x="1277" y="3247"/>
                </a:lnTo>
                <a:lnTo>
                  <a:pt x="1289" y="3297"/>
                </a:lnTo>
                <a:lnTo>
                  <a:pt x="1303" y="3338"/>
                </a:lnTo>
                <a:lnTo>
                  <a:pt x="1293" y="3348"/>
                </a:lnTo>
                <a:lnTo>
                  <a:pt x="1282" y="3358"/>
                </a:lnTo>
                <a:lnTo>
                  <a:pt x="1272" y="3369"/>
                </a:lnTo>
                <a:lnTo>
                  <a:pt x="1261" y="3379"/>
                </a:lnTo>
                <a:lnTo>
                  <a:pt x="1247" y="3389"/>
                </a:lnTo>
                <a:lnTo>
                  <a:pt x="1233" y="3400"/>
                </a:lnTo>
                <a:lnTo>
                  <a:pt x="1216" y="3409"/>
                </a:lnTo>
                <a:lnTo>
                  <a:pt x="1197" y="3417"/>
                </a:lnTo>
                <a:lnTo>
                  <a:pt x="1186" y="3450"/>
                </a:lnTo>
                <a:lnTo>
                  <a:pt x="1175" y="3487"/>
                </a:lnTo>
                <a:lnTo>
                  <a:pt x="1166" y="3525"/>
                </a:lnTo>
                <a:lnTo>
                  <a:pt x="1159" y="3564"/>
                </a:lnTo>
                <a:lnTo>
                  <a:pt x="1153" y="3602"/>
                </a:lnTo>
                <a:lnTo>
                  <a:pt x="1150" y="3638"/>
                </a:lnTo>
                <a:lnTo>
                  <a:pt x="1149" y="3672"/>
                </a:lnTo>
                <a:lnTo>
                  <a:pt x="1149" y="3700"/>
                </a:lnTo>
                <a:lnTo>
                  <a:pt x="1153" y="3753"/>
                </a:lnTo>
                <a:lnTo>
                  <a:pt x="1159" y="3811"/>
                </a:lnTo>
                <a:lnTo>
                  <a:pt x="1166" y="3873"/>
                </a:lnTo>
                <a:lnTo>
                  <a:pt x="1175" y="3940"/>
                </a:lnTo>
                <a:lnTo>
                  <a:pt x="1182" y="4032"/>
                </a:lnTo>
                <a:lnTo>
                  <a:pt x="1176" y="4124"/>
                </a:lnTo>
                <a:lnTo>
                  <a:pt x="1163" y="4215"/>
                </a:lnTo>
                <a:lnTo>
                  <a:pt x="1144" y="4298"/>
                </a:lnTo>
                <a:lnTo>
                  <a:pt x="1125" y="4372"/>
                </a:lnTo>
                <a:lnTo>
                  <a:pt x="1107" y="4431"/>
                </a:lnTo>
                <a:lnTo>
                  <a:pt x="1096" y="4471"/>
                </a:lnTo>
                <a:lnTo>
                  <a:pt x="1095" y="4490"/>
                </a:lnTo>
                <a:lnTo>
                  <a:pt x="1100" y="4503"/>
                </a:lnTo>
                <a:lnTo>
                  <a:pt x="1099" y="4518"/>
                </a:lnTo>
                <a:lnTo>
                  <a:pt x="1096" y="4536"/>
                </a:lnTo>
                <a:lnTo>
                  <a:pt x="1090" y="4553"/>
                </a:lnTo>
                <a:lnTo>
                  <a:pt x="1089" y="4563"/>
                </a:lnTo>
                <a:lnTo>
                  <a:pt x="1090" y="4575"/>
                </a:lnTo>
                <a:lnTo>
                  <a:pt x="1094" y="4588"/>
                </a:lnTo>
                <a:lnTo>
                  <a:pt x="1098" y="4601"/>
                </a:lnTo>
                <a:lnTo>
                  <a:pt x="1100" y="4615"/>
                </a:lnTo>
                <a:lnTo>
                  <a:pt x="1103" y="4629"/>
                </a:lnTo>
                <a:lnTo>
                  <a:pt x="1102" y="4643"/>
                </a:lnTo>
                <a:lnTo>
                  <a:pt x="1096" y="4654"/>
                </a:lnTo>
                <a:lnTo>
                  <a:pt x="1103" y="4674"/>
                </a:lnTo>
                <a:lnTo>
                  <a:pt x="1110" y="4693"/>
                </a:lnTo>
                <a:lnTo>
                  <a:pt x="1118" y="4713"/>
                </a:lnTo>
                <a:lnTo>
                  <a:pt x="1123" y="4733"/>
                </a:lnTo>
                <a:lnTo>
                  <a:pt x="1128" y="4752"/>
                </a:lnTo>
                <a:lnTo>
                  <a:pt x="1130" y="4772"/>
                </a:lnTo>
                <a:lnTo>
                  <a:pt x="1129" y="4791"/>
                </a:lnTo>
                <a:lnTo>
                  <a:pt x="1122" y="4810"/>
                </a:lnTo>
                <a:lnTo>
                  <a:pt x="1117" y="4821"/>
                </a:lnTo>
                <a:lnTo>
                  <a:pt x="1111" y="4834"/>
                </a:lnTo>
                <a:lnTo>
                  <a:pt x="1104" y="4848"/>
                </a:lnTo>
                <a:lnTo>
                  <a:pt x="1098" y="4862"/>
                </a:lnTo>
                <a:lnTo>
                  <a:pt x="1105" y="4865"/>
                </a:lnTo>
                <a:lnTo>
                  <a:pt x="1113" y="4869"/>
                </a:lnTo>
                <a:lnTo>
                  <a:pt x="1119" y="4871"/>
                </a:lnTo>
                <a:lnTo>
                  <a:pt x="1121" y="4872"/>
                </a:lnTo>
                <a:lnTo>
                  <a:pt x="1114" y="4900"/>
                </a:lnTo>
                <a:lnTo>
                  <a:pt x="1111" y="4900"/>
                </a:lnTo>
                <a:lnTo>
                  <a:pt x="1103" y="4899"/>
                </a:lnTo>
                <a:lnTo>
                  <a:pt x="1094" y="4896"/>
                </a:lnTo>
                <a:lnTo>
                  <a:pt x="1085" y="4892"/>
                </a:lnTo>
                <a:lnTo>
                  <a:pt x="1079" y="4914"/>
                </a:lnTo>
                <a:lnTo>
                  <a:pt x="1073" y="4935"/>
                </a:lnTo>
                <a:lnTo>
                  <a:pt x="1070" y="4957"/>
                </a:lnTo>
                <a:lnTo>
                  <a:pt x="1070" y="4977"/>
                </a:lnTo>
                <a:lnTo>
                  <a:pt x="1070" y="5000"/>
                </a:lnTo>
                <a:lnTo>
                  <a:pt x="1069" y="5028"/>
                </a:lnTo>
                <a:lnTo>
                  <a:pt x="1066" y="5059"/>
                </a:lnTo>
                <a:lnTo>
                  <a:pt x="1060" y="5091"/>
                </a:lnTo>
                <a:lnTo>
                  <a:pt x="1051" y="5123"/>
                </a:lnTo>
                <a:lnTo>
                  <a:pt x="1039" y="5153"/>
                </a:lnTo>
                <a:lnTo>
                  <a:pt x="1023" y="5180"/>
                </a:lnTo>
                <a:lnTo>
                  <a:pt x="1002" y="5199"/>
                </a:lnTo>
                <a:lnTo>
                  <a:pt x="991" y="5207"/>
                </a:lnTo>
                <a:lnTo>
                  <a:pt x="977" y="5214"/>
                </a:lnTo>
                <a:lnTo>
                  <a:pt x="963" y="5220"/>
                </a:lnTo>
                <a:lnTo>
                  <a:pt x="948" y="5226"/>
                </a:lnTo>
                <a:lnTo>
                  <a:pt x="932" y="5229"/>
                </a:lnTo>
                <a:lnTo>
                  <a:pt x="916" y="5233"/>
                </a:lnTo>
                <a:lnTo>
                  <a:pt x="900" y="5234"/>
                </a:lnTo>
                <a:lnTo>
                  <a:pt x="884" y="5235"/>
                </a:lnTo>
                <a:lnTo>
                  <a:pt x="868" y="5234"/>
                </a:lnTo>
                <a:lnTo>
                  <a:pt x="852" y="5230"/>
                </a:lnTo>
                <a:lnTo>
                  <a:pt x="838" y="5226"/>
                </a:lnTo>
                <a:lnTo>
                  <a:pt x="824" y="5220"/>
                </a:lnTo>
                <a:lnTo>
                  <a:pt x="811" y="5211"/>
                </a:lnTo>
                <a:lnTo>
                  <a:pt x="800" y="5200"/>
                </a:lnTo>
                <a:lnTo>
                  <a:pt x="791" y="5189"/>
                </a:lnTo>
                <a:lnTo>
                  <a:pt x="782" y="5174"/>
                </a:lnTo>
                <a:lnTo>
                  <a:pt x="773" y="5145"/>
                </a:lnTo>
                <a:lnTo>
                  <a:pt x="770" y="5112"/>
                </a:lnTo>
                <a:lnTo>
                  <a:pt x="770" y="5075"/>
                </a:lnTo>
                <a:lnTo>
                  <a:pt x="773" y="5036"/>
                </a:lnTo>
                <a:lnTo>
                  <a:pt x="778" y="4995"/>
                </a:lnTo>
                <a:lnTo>
                  <a:pt x="785" y="4956"/>
                </a:lnTo>
                <a:lnTo>
                  <a:pt x="793" y="4917"/>
                </a:lnTo>
                <a:lnTo>
                  <a:pt x="801" y="4881"/>
                </a:lnTo>
                <a:lnTo>
                  <a:pt x="795" y="4884"/>
                </a:lnTo>
                <a:lnTo>
                  <a:pt x="789" y="4885"/>
                </a:lnTo>
                <a:lnTo>
                  <a:pt x="784" y="4885"/>
                </a:lnTo>
                <a:lnTo>
                  <a:pt x="778" y="4885"/>
                </a:lnTo>
                <a:lnTo>
                  <a:pt x="771" y="4884"/>
                </a:lnTo>
                <a:lnTo>
                  <a:pt x="766" y="4881"/>
                </a:lnTo>
                <a:lnTo>
                  <a:pt x="761" y="4880"/>
                </a:lnTo>
                <a:lnTo>
                  <a:pt x="757" y="4878"/>
                </a:lnTo>
                <a:lnTo>
                  <a:pt x="759" y="4861"/>
                </a:lnTo>
                <a:lnTo>
                  <a:pt x="761" y="4861"/>
                </a:lnTo>
                <a:lnTo>
                  <a:pt x="764" y="4862"/>
                </a:lnTo>
                <a:lnTo>
                  <a:pt x="770" y="4862"/>
                </a:lnTo>
                <a:lnTo>
                  <a:pt x="777" y="4862"/>
                </a:lnTo>
                <a:lnTo>
                  <a:pt x="785" y="4861"/>
                </a:lnTo>
                <a:lnTo>
                  <a:pt x="794" y="4859"/>
                </a:lnTo>
                <a:lnTo>
                  <a:pt x="802" y="4857"/>
                </a:lnTo>
                <a:lnTo>
                  <a:pt x="810" y="4852"/>
                </a:lnTo>
                <a:lnTo>
                  <a:pt x="811" y="4846"/>
                </a:lnTo>
                <a:lnTo>
                  <a:pt x="812" y="4840"/>
                </a:lnTo>
                <a:lnTo>
                  <a:pt x="814" y="4835"/>
                </a:lnTo>
                <a:lnTo>
                  <a:pt x="815" y="4829"/>
                </a:lnTo>
                <a:lnTo>
                  <a:pt x="796" y="4829"/>
                </a:lnTo>
                <a:lnTo>
                  <a:pt x="781" y="4826"/>
                </a:lnTo>
                <a:lnTo>
                  <a:pt x="770" y="4820"/>
                </a:lnTo>
                <a:lnTo>
                  <a:pt x="761" y="4813"/>
                </a:lnTo>
                <a:lnTo>
                  <a:pt x="755" y="4804"/>
                </a:lnTo>
                <a:lnTo>
                  <a:pt x="751" y="4793"/>
                </a:lnTo>
                <a:lnTo>
                  <a:pt x="751" y="4781"/>
                </a:lnTo>
                <a:lnTo>
                  <a:pt x="755" y="4770"/>
                </a:lnTo>
                <a:lnTo>
                  <a:pt x="761" y="4758"/>
                </a:lnTo>
                <a:lnTo>
                  <a:pt x="770" y="4748"/>
                </a:lnTo>
                <a:lnTo>
                  <a:pt x="781" y="4738"/>
                </a:lnTo>
                <a:lnTo>
                  <a:pt x="794" y="4730"/>
                </a:lnTo>
                <a:lnTo>
                  <a:pt x="808" y="4725"/>
                </a:lnTo>
                <a:lnTo>
                  <a:pt x="824" y="4721"/>
                </a:lnTo>
                <a:lnTo>
                  <a:pt x="839" y="4720"/>
                </a:lnTo>
                <a:lnTo>
                  <a:pt x="854" y="4720"/>
                </a:lnTo>
                <a:lnTo>
                  <a:pt x="844" y="474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4" name="Freeform 4"/>
          <p:cNvSpPr/>
          <p:nvPr/>
        </p:nvSpPr>
        <p:spPr>
          <a:xfrm>
            <a:off x="2176560" y="4986360"/>
            <a:ext cx="27000" cy="195120"/>
          </a:xfrm>
          <a:custGeom>
            <a:avLst/>
            <a:gdLst/>
            <a:ahLst/>
            <a:rect l="l" t="t" r="r" b="b"/>
            <a:pathLst>
              <a:path w="33" h="245">
                <a:moveTo>
                  <a:pt x="33" y="226"/>
                </a:moveTo>
                <a:lnTo>
                  <a:pt x="25" y="169"/>
                </a:lnTo>
                <a:lnTo>
                  <a:pt x="22" y="109"/>
                </a:lnTo>
                <a:lnTo>
                  <a:pt x="24" y="52"/>
                </a:lnTo>
                <a:lnTo>
                  <a:pt x="33" y="0"/>
                </a:lnTo>
                <a:lnTo>
                  <a:pt x="20" y="16"/>
                </a:lnTo>
                <a:lnTo>
                  <a:pt x="11" y="40"/>
                </a:lnTo>
                <a:lnTo>
                  <a:pt x="4" y="71"/>
                </a:lnTo>
                <a:lnTo>
                  <a:pt x="1" y="106"/>
                </a:lnTo>
                <a:lnTo>
                  <a:pt x="0" y="144"/>
                </a:lnTo>
                <a:lnTo>
                  <a:pt x="1" y="181"/>
                </a:lnTo>
                <a:lnTo>
                  <a:pt x="4" y="215"/>
                </a:lnTo>
                <a:lnTo>
                  <a:pt x="9" y="245"/>
                </a:lnTo>
                <a:lnTo>
                  <a:pt x="15" y="241"/>
                </a:lnTo>
                <a:lnTo>
                  <a:pt x="22" y="234"/>
                </a:lnTo>
                <a:lnTo>
                  <a:pt x="27" y="228"/>
                </a:lnTo>
                <a:lnTo>
                  <a:pt x="33" y="22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5" name="Freeform 6"/>
          <p:cNvSpPr/>
          <p:nvPr/>
        </p:nvSpPr>
        <p:spPr>
          <a:xfrm>
            <a:off x="2122560" y="2711520"/>
            <a:ext cx="33120" cy="28440"/>
          </a:xfrm>
          <a:custGeom>
            <a:avLst/>
            <a:gdLst/>
            <a:ahLst/>
            <a:rect l="l" t="t" r="r" b="b"/>
            <a:pathLst>
              <a:path w="41" h="35">
                <a:moveTo>
                  <a:pt x="41" y="35"/>
                </a:moveTo>
                <a:lnTo>
                  <a:pt x="38" y="26"/>
                </a:lnTo>
                <a:lnTo>
                  <a:pt x="34" y="17"/>
                </a:lnTo>
                <a:lnTo>
                  <a:pt x="31" y="9"/>
                </a:lnTo>
                <a:lnTo>
                  <a:pt x="26" y="0"/>
                </a:lnTo>
                <a:lnTo>
                  <a:pt x="18" y="3"/>
                </a:lnTo>
                <a:lnTo>
                  <a:pt x="10" y="10"/>
                </a:lnTo>
                <a:lnTo>
                  <a:pt x="3" y="16"/>
                </a:lnTo>
                <a:lnTo>
                  <a:pt x="0" y="18"/>
                </a:lnTo>
                <a:lnTo>
                  <a:pt x="41" y="3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6" name="Freeform 9"/>
          <p:cNvSpPr/>
          <p:nvPr/>
        </p:nvSpPr>
        <p:spPr>
          <a:xfrm rot="8443800">
            <a:off x="2514240" y="3580920"/>
            <a:ext cx="318960" cy="895320"/>
          </a:xfrm>
          <a:custGeom>
            <a:avLst/>
            <a:gdLst/>
            <a:ahLst/>
            <a:rect l="l" t="t" r="r" b="b"/>
            <a:pathLst>
              <a:path w="404" h="1128">
                <a:moveTo>
                  <a:pt x="404" y="117"/>
                </a:moveTo>
                <a:lnTo>
                  <a:pt x="390" y="135"/>
                </a:lnTo>
                <a:lnTo>
                  <a:pt x="370" y="167"/>
                </a:lnTo>
                <a:lnTo>
                  <a:pt x="346" y="208"/>
                </a:lnTo>
                <a:lnTo>
                  <a:pt x="321" y="253"/>
                </a:lnTo>
                <a:lnTo>
                  <a:pt x="295" y="299"/>
                </a:lnTo>
                <a:lnTo>
                  <a:pt x="273" y="342"/>
                </a:lnTo>
                <a:lnTo>
                  <a:pt x="256" y="380"/>
                </a:lnTo>
                <a:lnTo>
                  <a:pt x="247" y="408"/>
                </a:lnTo>
                <a:lnTo>
                  <a:pt x="241" y="433"/>
                </a:lnTo>
                <a:lnTo>
                  <a:pt x="233" y="468"/>
                </a:lnTo>
                <a:lnTo>
                  <a:pt x="224" y="507"/>
                </a:lnTo>
                <a:lnTo>
                  <a:pt x="214" y="549"/>
                </a:lnTo>
                <a:lnTo>
                  <a:pt x="201" y="590"/>
                </a:lnTo>
                <a:lnTo>
                  <a:pt x="188" y="627"/>
                </a:lnTo>
                <a:lnTo>
                  <a:pt x="176" y="658"/>
                </a:lnTo>
                <a:lnTo>
                  <a:pt x="162" y="680"/>
                </a:lnTo>
                <a:lnTo>
                  <a:pt x="156" y="685"/>
                </a:lnTo>
                <a:lnTo>
                  <a:pt x="149" y="690"/>
                </a:lnTo>
                <a:lnTo>
                  <a:pt x="143" y="697"/>
                </a:lnTo>
                <a:lnTo>
                  <a:pt x="138" y="703"/>
                </a:lnTo>
                <a:lnTo>
                  <a:pt x="133" y="710"/>
                </a:lnTo>
                <a:lnTo>
                  <a:pt x="131" y="716"/>
                </a:lnTo>
                <a:lnTo>
                  <a:pt x="131" y="720"/>
                </a:lnTo>
                <a:lnTo>
                  <a:pt x="135" y="725"/>
                </a:lnTo>
                <a:lnTo>
                  <a:pt x="142" y="727"/>
                </a:lnTo>
                <a:lnTo>
                  <a:pt x="151" y="729"/>
                </a:lnTo>
                <a:lnTo>
                  <a:pt x="162" y="731"/>
                </a:lnTo>
                <a:lnTo>
                  <a:pt x="173" y="732"/>
                </a:lnTo>
                <a:lnTo>
                  <a:pt x="185" y="735"/>
                </a:lnTo>
                <a:lnTo>
                  <a:pt x="196" y="740"/>
                </a:lnTo>
                <a:lnTo>
                  <a:pt x="206" y="749"/>
                </a:lnTo>
                <a:lnTo>
                  <a:pt x="215" y="763"/>
                </a:lnTo>
                <a:lnTo>
                  <a:pt x="224" y="779"/>
                </a:lnTo>
                <a:lnTo>
                  <a:pt x="235" y="797"/>
                </a:lnTo>
                <a:lnTo>
                  <a:pt x="248" y="816"/>
                </a:lnTo>
                <a:lnTo>
                  <a:pt x="261" y="834"/>
                </a:lnTo>
                <a:lnTo>
                  <a:pt x="273" y="855"/>
                </a:lnTo>
                <a:lnTo>
                  <a:pt x="286" y="876"/>
                </a:lnTo>
                <a:lnTo>
                  <a:pt x="295" y="897"/>
                </a:lnTo>
                <a:lnTo>
                  <a:pt x="303" y="918"/>
                </a:lnTo>
                <a:lnTo>
                  <a:pt x="300" y="947"/>
                </a:lnTo>
                <a:lnTo>
                  <a:pt x="292" y="976"/>
                </a:lnTo>
                <a:lnTo>
                  <a:pt x="283" y="1003"/>
                </a:lnTo>
                <a:lnTo>
                  <a:pt x="272" y="1028"/>
                </a:lnTo>
                <a:lnTo>
                  <a:pt x="260" y="1054"/>
                </a:lnTo>
                <a:lnTo>
                  <a:pt x="247" y="1079"/>
                </a:lnTo>
                <a:lnTo>
                  <a:pt x="235" y="1104"/>
                </a:lnTo>
                <a:lnTo>
                  <a:pt x="224" y="1128"/>
                </a:lnTo>
                <a:lnTo>
                  <a:pt x="209" y="1099"/>
                </a:lnTo>
                <a:lnTo>
                  <a:pt x="188" y="1065"/>
                </a:lnTo>
                <a:lnTo>
                  <a:pt x="164" y="1027"/>
                </a:lnTo>
                <a:lnTo>
                  <a:pt x="139" y="986"/>
                </a:lnTo>
                <a:lnTo>
                  <a:pt x="112" y="946"/>
                </a:lnTo>
                <a:lnTo>
                  <a:pt x="87" y="908"/>
                </a:lnTo>
                <a:lnTo>
                  <a:pt x="65" y="872"/>
                </a:lnTo>
                <a:lnTo>
                  <a:pt x="47" y="842"/>
                </a:lnTo>
                <a:lnTo>
                  <a:pt x="36" y="823"/>
                </a:lnTo>
                <a:lnTo>
                  <a:pt x="27" y="800"/>
                </a:lnTo>
                <a:lnTo>
                  <a:pt x="19" y="774"/>
                </a:lnTo>
                <a:lnTo>
                  <a:pt x="12" y="749"/>
                </a:lnTo>
                <a:lnTo>
                  <a:pt x="6" y="723"/>
                </a:lnTo>
                <a:lnTo>
                  <a:pt x="2" y="696"/>
                </a:lnTo>
                <a:lnTo>
                  <a:pt x="0" y="670"/>
                </a:lnTo>
                <a:lnTo>
                  <a:pt x="0" y="645"/>
                </a:lnTo>
                <a:lnTo>
                  <a:pt x="4" y="621"/>
                </a:lnTo>
                <a:lnTo>
                  <a:pt x="10" y="596"/>
                </a:lnTo>
                <a:lnTo>
                  <a:pt x="19" y="570"/>
                </a:lnTo>
                <a:lnTo>
                  <a:pt x="30" y="545"/>
                </a:lnTo>
                <a:lnTo>
                  <a:pt x="44" y="520"/>
                </a:lnTo>
                <a:lnTo>
                  <a:pt x="59" y="497"/>
                </a:lnTo>
                <a:lnTo>
                  <a:pt x="75" y="474"/>
                </a:lnTo>
                <a:lnTo>
                  <a:pt x="93" y="453"/>
                </a:lnTo>
                <a:lnTo>
                  <a:pt x="110" y="431"/>
                </a:lnTo>
                <a:lnTo>
                  <a:pt x="128" y="406"/>
                </a:lnTo>
                <a:lnTo>
                  <a:pt x="148" y="378"/>
                </a:lnTo>
                <a:lnTo>
                  <a:pt x="165" y="350"/>
                </a:lnTo>
                <a:lnTo>
                  <a:pt x="182" y="324"/>
                </a:lnTo>
                <a:lnTo>
                  <a:pt x="199" y="299"/>
                </a:lnTo>
                <a:lnTo>
                  <a:pt x="211" y="277"/>
                </a:lnTo>
                <a:lnTo>
                  <a:pt x="220" y="261"/>
                </a:lnTo>
                <a:lnTo>
                  <a:pt x="233" y="238"/>
                </a:lnTo>
                <a:lnTo>
                  <a:pt x="246" y="212"/>
                </a:lnTo>
                <a:lnTo>
                  <a:pt x="257" y="182"/>
                </a:lnTo>
                <a:lnTo>
                  <a:pt x="268" y="151"/>
                </a:lnTo>
                <a:lnTo>
                  <a:pt x="275" y="117"/>
                </a:lnTo>
                <a:lnTo>
                  <a:pt x="277" y="81"/>
                </a:lnTo>
                <a:lnTo>
                  <a:pt x="273" y="43"/>
                </a:lnTo>
                <a:lnTo>
                  <a:pt x="263" y="5"/>
                </a:lnTo>
                <a:lnTo>
                  <a:pt x="265" y="1"/>
                </a:lnTo>
                <a:lnTo>
                  <a:pt x="268" y="0"/>
                </a:lnTo>
                <a:lnTo>
                  <a:pt x="272" y="3"/>
                </a:lnTo>
                <a:lnTo>
                  <a:pt x="278" y="6"/>
                </a:lnTo>
                <a:lnTo>
                  <a:pt x="284" y="12"/>
                </a:lnTo>
                <a:lnTo>
                  <a:pt x="291" y="19"/>
                </a:lnTo>
                <a:lnTo>
                  <a:pt x="298" y="26"/>
                </a:lnTo>
                <a:lnTo>
                  <a:pt x="303" y="35"/>
                </a:lnTo>
                <a:lnTo>
                  <a:pt x="311" y="45"/>
                </a:lnTo>
                <a:lnTo>
                  <a:pt x="322" y="57"/>
                </a:lnTo>
                <a:lnTo>
                  <a:pt x="335" y="70"/>
                </a:lnTo>
                <a:lnTo>
                  <a:pt x="350" y="83"/>
                </a:lnTo>
                <a:lnTo>
                  <a:pt x="364" y="96"/>
                </a:lnTo>
                <a:lnTo>
                  <a:pt x="379" y="106"/>
                </a:lnTo>
                <a:lnTo>
                  <a:pt x="392" y="113"/>
                </a:lnTo>
                <a:lnTo>
                  <a:pt x="404" y="11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7" name="Freeform 10"/>
          <p:cNvSpPr/>
          <p:nvPr/>
        </p:nvSpPr>
        <p:spPr>
          <a:xfrm>
            <a:off x="2013120" y="3389400"/>
            <a:ext cx="317160" cy="474480"/>
          </a:xfrm>
          <a:custGeom>
            <a:avLst/>
            <a:gdLst/>
            <a:ahLst/>
            <a:rect l="l" t="t" r="r" b="b"/>
            <a:pathLst>
              <a:path w="399" h="597">
                <a:moveTo>
                  <a:pt x="117" y="264"/>
                </a:moveTo>
                <a:lnTo>
                  <a:pt x="126" y="265"/>
                </a:lnTo>
                <a:lnTo>
                  <a:pt x="134" y="265"/>
                </a:lnTo>
                <a:lnTo>
                  <a:pt x="144" y="264"/>
                </a:lnTo>
                <a:lnTo>
                  <a:pt x="152" y="262"/>
                </a:lnTo>
                <a:lnTo>
                  <a:pt x="161" y="259"/>
                </a:lnTo>
                <a:lnTo>
                  <a:pt x="169" y="255"/>
                </a:lnTo>
                <a:lnTo>
                  <a:pt x="178" y="249"/>
                </a:lnTo>
                <a:lnTo>
                  <a:pt x="186" y="242"/>
                </a:lnTo>
                <a:lnTo>
                  <a:pt x="195" y="234"/>
                </a:lnTo>
                <a:lnTo>
                  <a:pt x="208" y="227"/>
                </a:lnTo>
                <a:lnTo>
                  <a:pt x="222" y="221"/>
                </a:lnTo>
                <a:lnTo>
                  <a:pt x="238" y="218"/>
                </a:lnTo>
                <a:lnTo>
                  <a:pt x="253" y="216"/>
                </a:lnTo>
                <a:lnTo>
                  <a:pt x="268" y="216"/>
                </a:lnTo>
                <a:lnTo>
                  <a:pt x="282" y="219"/>
                </a:lnTo>
                <a:lnTo>
                  <a:pt x="293" y="225"/>
                </a:lnTo>
                <a:lnTo>
                  <a:pt x="304" y="232"/>
                </a:lnTo>
                <a:lnTo>
                  <a:pt x="314" y="239"/>
                </a:lnTo>
                <a:lnTo>
                  <a:pt x="324" y="243"/>
                </a:lnTo>
                <a:lnTo>
                  <a:pt x="334" y="248"/>
                </a:lnTo>
                <a:lnTo>
                  <a:pt x="343" y="251"/>
                </a:lnTo>
                <a:lnTo>
                  <a:pt x="352" y="253"/>
                </a:lnTo>
                <a:lnTo>
                  <a:pt x="359" y="253"/>
                </a:lnTo>
                <a:lnTo>
                  <a:pt x="366" y="250"/>
                </a:lnTo>
                <a:lnTo>
                  <a:pt x="372" y="247"/>
                </a:lnTo>
                <a:lnTo>
                  <a:pt x="379" y="241"/>
                </a:lnTo>
                <a:lnTo>
                  <a:pt x="385" y="233"/>
                </a:lnTo>
                <a:lnTo>
                  <a:pt x="392" y="224"/>
                </a:lnTo>
                <a:lnTo>
                  <a:pt x="397" y="212"/>
                </a:lnTo>
                <a:lnTo>
                  <a:pt x="399" y="198"/>
                </a:lnTo>
                <a:lnTo>
                  <a:pt x="399" y="181"/>
                </a:lnTo>
                <a:lnTo>
                  <a:pt x="396" y="163"/>
                </a:lnTo>
                <a:lnTo>
                  <a:pt x="390" y="143"/>
                </a:lnTo>
                <a:lnTo>
                  <a:pt x="384" y="124"/>
                </a:lnTo>
                <a:lnTo>
                  <a:pt x="379" y="105"/>
                </a:lnTo>
                <a:lnTo>
                  <a:pt x="370" y="87"/>
                </a:lnTo>
                <a:lnTo>
                  <a:pt x="360" y="69"/>
                </a:lnTo>
                <a:lnTo>
                  <a:pt x="347" y="53"/>
                </a:lnTo>
                <a:lnTo>
                  <a:pt x="330" y="38"/>
                </a:lnTo>
                <a:lnTo>
                  <a:pt x="309" y="24"/>
                </a:lnTo>
                <a:lnTo>
                  <a:pt x="285" y="13"/>
                </a:lnTo>
                <a:lnTo>
                  <a:pt x="261" y="6"/>
                </a:lnTo>
                <a:lnTo>
                  <a:pt x="238" y="1"/>
                </a:lnTo>
                <a:lnTo>
                  <a:pt x="216" y="0"/>
                </a:lnTo>
                <a:lnTo>
                  <a:pt x="194" y="3"/>
                </a:lnTo>
                <a:lnTo>
                  <a:pt x="173" y="7"/>
                </a:lnTo>
                <a:lnTo>
                  <a:pt x="155" y="13"/>
                </a:lnTo>
                <a:lnTo>
                  <a:pt x="139" y="22"/>
                </a:lnTo>
                <a:lnTo>
                  <a:pt x="124" y="32"/>
                </a:lnTo>
                <a:lnTo>
                  <a:pt x="110" y="43"/>
                </a:lnTo>
                <a:lnTo>
                  <a:pt x="97" y="54"/>
                </a:lnTo>
                <a:lnTo>
                  <a:pt x="88" y="66"/>
                </a:lnTo>
                <a:lnTo>
                  <a:pt x="80" y="77"/>
                </a:lnTo>
                <a:lnTo>
                  <a:pt x="76" y="90"/>
                </a:lnTo>
                <a:lnTo>
                  <a:pt x="73" y="102"/>
                </a:lnTo>
                <a:lnTo>
                  <a:pt x="74" y="114"/>
                </a:lnTo>
                <a:lnTo>
                  <a:pt x="80" y="143"/>
                </a:lnTo>
                <a:lnTo>
                  <a:pt x="84" y="178"/>
                </a:lnTo>
                <a:lnTo>
                  <a:pt x="79" y="205"/>
                </a:lnTo>
                <a:lnTo>
                  <a:pt x="64" y="220"/>
                </a:lnTo>
                <a:lnTo>
                  <a:pt x="55" y="220"/>
                </a:lnTo>
                <a:lnTo>
                  <a:pt x="48" y="218"/>
                </a:lnTo>
                <a:lnTo>
                  <a:pt x="42" y="215"/>
                </a:lnTo>
                <a:lnTo>
                  <a:pt x="39" y="209"/>
                </a:lnTo>
                <a:lnTo>
                  <a:pt x="34" y="204"/>
                </a:lnTo>
                <a:lnTo>
                  <a:pt x="29" y="200"/>
                </a:lnTo>
                <a:lnTo>
                  <a:pt x="24" y="196"/>
                </a:lnTo>
                <a:lnTo>
                  <a:pt x="17" y="196"/>
                </a:lnTo>
                <a:lnTo>
                  <a:pt x="4" y="205"/>
                </a:lnTo>
                <a:lnTo>
                  <a:pt x="0" y="224"/>
                </a:lnTo>
                <a:lnTo>
                  <a:pt x="0" y="244"/>
                </a:lnTo>
                <a:lnTo>
                  <a:pt x="4" y="264"/>
                </a:lnTo>
                <a:lnTo>
                  <a:pt x="8" y="273"/>
                </a:lnTo>
                <a:lnTo>
                  <a:pt x="11" y="284"/>
                </a:lnTo>
                <a:lnTo>
                  <a:pt x="16" y="295"/>
                </a:lnTo>
                <a:lnTo>
                  <a:pt x="20" y="306"/>
                </a:lnTo>
                <a:lnTo>
                  <a:pt x="25" y="316"/>
                </a:lnTo>
                <a:lnTo>
                  <a:pt x="31" y="324"/>
                </a:lnTo>
                <a:lnTo>
                  <a:pt x="36" y="330"/>
                </a:lnTo>
                <a:lnTo>
                  <a:pt x="42" y="331"/>
                </a:lnTo>
                <a:lnTo>
                  <a:pt x="48" y="330"/>
                </a:lnTo>
                <a:lnTo>
                  <a:pt x="55" y="326"/>
                </a:lnTo>
                <a:lnTo>
                  <a:pt x="59" y="322"/>
                </a:lnTo>
                <a:lnTo>
                  <a:pt x="65" y="316"/>
                </a:lnTo>
                <a:lnTo>
                  <a:pt x="69" y="309"/>
                </a:lnTo>
                <a:lnTo>
                  <a:pt x="72" y="301"/>
                </a:lnTo>
                <a:lnTo>
                  <a:pt x="73" y="293"/>
                </a:lnTo>
                <a:lnTo>
                  <a:pt x="72" y="285"/>
                </a:lnTo>
                <a:lnTo>
                  <a:pt x="79" y="294"/>
                </a:lnTo>
                <a:lnTo>
                  <a:pt x="84" y="306"/>
                </a:lnTo>
                <a:lnTo>
                  <a:pt x="84" y="319"/>
                </a:lnTo>
                <a:lnTo>
                  <a:pt x="80" y="332"/>
                </a:lnTo>
                <a:lnTo>
                  <a:pt x="87" y="340"/>
                </a:lnTo>
                <a:lnTo>
                  <a:pt x="94" y="348"/>
                </a:lnTo>
                <a:lnTo>
                  <a:pt x="100" y="357"/>
                </a:lnTo>
                <a:lnTo>
                  <a:pt x="104" y="368"/>
                </a:lnTo>
                <a:lnTo>
                  <a:pt x="108" y="379"/>
                </a:lnTo>
                <a:lnTo>
                  <a:pt x="111" y="391"/>
                </a:lnTo>
                <a:lnTo>
                  <a:pt x="114" y="403"/>
                </a:lnTo>
                <a:lnTo>
                  <a:pt x="115" y="418"/>
                </a:lnTo>
                <a:lnTo>
                  <a:pt x="115" y="450"/>
                </a:lnTo>
                <a:lnTo>
                  <a:pt x="112" y="482"/>
                </a:lnTo>
                <a:lnTo>
                  <a:pt x="107" y="512"/>
                </a:lnTo>
                <a:lnTo>
                  <a:pt x="99" y="536"/>
                </a:lnTo>
                <a:lnTo>
                  <a:pt x="93" y="556"/>
                </a:lnTo>
                <a:lnTo>
                  <a:pt x="91" y="572"/>
                </a:lnTo>
                <a:lnTo>
                  <a:pt x="91" y="584"/>
                </a:lnTo>
                <a:lnTo>
                  <a:pt x="88" y="596"/>
                </a:lnTo>
                <a:lnTo>
                  <a:pt x="99" y="597"/>
                </a:lnTo>
                <a:lnTo>
                  <a:pt x="107" y="597"/>
                </a:lnTo>
                <a:lnTo>
                  <a:pt x="114" y="596"/>
                </a:lnTo>
                <a:lnTo>
                  <a:pt x="119" y="595"/>
                </a:lnTo>
                <a:lnTo>
                  <a:pt x="125" y="592"/>
                </a:lnTo>
                <a:lnTo>
                  <a:pt x="131" y="588"/>
                </a:lnTo>
                <a:lnTo>
                  <a:pt x="138" y="581"/>
                </a:lnTo>
                <a:lnTo>
                  <a:pt x="145" y="573"/>
                </a:lnTo>
                <a:lnTo>
                  <a:pt x="153" y="562"/>
                </a:lnTo>
                <a:lnTo>
                  <a:pt x="161" y="553"/>
                </a:lnTo>
                <a:lnTo>
                  <a:pt x="170" y="545"/>
                </a:lnTo>
                <a:lnTo>
                  <a:pt x="178" y="536"/>
                </a:lnTo>
                <a:lnTo>
                  <a:pt x="187" y="529"/>
                </a:lnTo>
                <a:lnTo>
                  <a:pt x="195" y="523"/>
                </a:lnTo>
                <a:lnTo>
                  <a:pt x="202" y="518"/>
                </a:lnTo>
                <a:lnTo>
                  <a:pt x="208" y="514"/>
                </a:lnTo>
                <a:lnTo>
                  <a:pt x="214" y="509"/>
                </a:lnTo>
                <a:lnTo>
                  <a:pt x="221" y="504"/>
                </a:lnTo>
                <a:lnTo>
                  <a:pt x="228" y="496"/>
                </a:lnTo>
                <a:lnTo>
                  <a:pt x="235" y="486"/>
                </a:lnTo>
                <a:lnTo>
                  <a:pt x="241" y="476"/>
                </a:lnTo>
                <a:lnTo>
                  <a:pt x="247" y="465"/>
                </a:lnTo>
                <a:lnTo>
                  <a:pt x="253" y="453"/>
                </a:lnTo>
                <a:lnTo>
                  <a:pt x="258" y="440"/>
                </a:lnTo>
                <a:lnTo>
                  <a:pt x="261" y="428"/>
                </a:lnTo>
                <a:lnTo>
                  <a:pt x="266" y="414"/>
                </a:lnTo>
                <a:lnTo>
                  <a:pt x="271" y="400"/>
                </a:lnTo>
                <a:lnTo>
                  <a:pt x="277" y="386"/>
                </a:lnTo>
                <a:lnTo>
                  <a:pt x="284" y="372"/>
                </a:lnTo>
                <a:lnTo>
                  <a:pt x="291" y="360"/>
                </a:lnTo>
                <a:lnTo>
                  <a:pt x="298" y="349"/>
                </a:lnTo>
                <a:lnTo>
                  <a:pt x="305" y="340"/>
                </a:lnTo>
                <a:lnTo>
                  <a:pt x="313" y="333"/>
                </a:lnTo>
                <a:lnTo>
                  <a:pt x="320" y="326"/>
                </a:lnTo>
                <a:lnTo>
                  <a:pt x="328" y="319"/>
                </a:lnTo>
                <a:lnTo>
                  <a:pt x="335" y="312"/>
                </a:lnTo>
                <a:lnTo>
                  <a:pt x="342" y="306"/>
                </a:lnTo>
                <a:lnTo>
                  <a:pt x="347" y="297"/>
                </a:lnTo>
                <a:lnTo>
                  <a:pt x="352" y="287"/>
                </a:lnTo>
                <a:lnTo>
                  <a:pt x="355" y="277"/>
                </a:lnTo>
                <a:lnTo>
                  <a:pt x="345" y="276"/>
                </a:lnTo>
                <a:lnTo>
                  <a:pt x="336" y="273"/>
                </a:lnTo>
                <a:lnTo>
                  <a:pt x="328" y="272"/>
                </a:lnTo>
                <a:lnTo>
                  <a:pt x="320" y="270"/>
                </a:lnTo>
                <a:lnTo>
                  <a:pt x="312" y="268"/>
                </a:lnTo>
                <a:lnTo>
                  <a:pt x="304" y="263"/>
                </a:lnTo>
                <a:lnTo>
                  <a:pt x="296" y="258"/>
                </a:lnTo>
                <a:lnTo>
                  <a:pt x="288" y="253"/>
                </a:lnTo>
                <a:lnTo>
                  <a:pt x="278" y="247"/>
                </a:lnTo>
                <a:lnTo>
                  <a:pt x="269" y="242"/>
                </a:lnTo>
                <a:lnTo>
                  <a:pt x="259" y="239"/>
                </a:lnTo>
                <a:lnTo>
                  <a:pt x="248" y="238"/>
                </a:lnTo>
                <a:lnTo>
                  <a:pt x="238" y="239"/>
                </a:lnTo>
                <a:lnTo>
                  <a:pt x="226" y="242"/>
                </a:lnTo>
                <a:lnTo>
                  <a:pt x="215" y="247"/>
                </a:lnTo>
                <a:lnTo>
                  <a:pt x="205" y="255"/>
                </a:lnTo>
                <a:lnTo>
                  <a:pt x="193" y="263"/>
                </a:lnTo>
                <a:lnTo>
                  <a:pt x="183" y="269"/>
                </a:lnTo>
                <a:lnTo>
                  <a:pt x="172" y="273"/>
                </a:lnTo>
                <a:lnTo>
                  <a:pt x="161" y="276"/>
                </a:lnTo>
                <a:lnTo>
                  <a:pt x="150" y="277"/>
                </a:lnTo>
                <a:lnTo>
                  <a:pt x="140" y="274"/>
                </a:lnTo>
                <a:lnTo>
                  <a:pt x="129" y="271"/>
                </a:lnTo>
                <a:lnTo>
                  <a:pt x="117" y="26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8" name="Freeform 11"/>
          <p:cNvSpPr/>
          <p:nvPr/>
        </p:nvSpPr>
        <p:spPr>
          <a:xfrm>
            <a:off x="2101680" y="3416400"/>
            <a:ext cx="195480" cy="58680"/>
          </a:xfrm>
          <a:custGeom>
            <a:avLst/>
            <a:gdLst/>
            <a:ahLst/>
            <a:rect l="l" t="t" r="r" b="b"/>
            <a:pathLst>
              <a:path w="246" h="73">
                <a:moveTo>
                  <a:pt x="76" y="27"/>
                </a:moveTo>
                <a:lnTo>
                  <a:pt x="71" y="25"/>
                </a:lnTo>
                <a:lnTo>
                  <a:pt x="65" y="24"/>
                </a:lnTo>
                <a:lnTo>
                  <a:pt x="59" y="23"/>
                </a:lnTo>
                <a:lnTo>
                  <a:pt x="53" y="22"/>
                </a:lnTo>
                <a:lnTo>
                  <a:pt x="48" y="20"/>
                </a:lnTo>
                <a:lnTo>
                  <a:pt x="42" y="20"/>
                </a:lnTo>
                <a:lnTo>
                  <a:pt x="37" y="20"/>
                </a:lnTo>
                <a:lnTo>
                  <a:pt x="33" y="22"/>
                </a:lnTo>
                <a:lnTo>
                  <a:pt x="22" y="25"/>
                </a:lnTo>
                <a:lnTo>
                  <a:pt x="12" y="31"/>
                </a:lnTo>
                <a:lnTo>
                  <a:pt x="3" y="40"/>
                </a:lnTo>
                <a:lnTo>
                  <a:pt x="0" y="53"/>
                </a:lnTo>
                <a:lnTo>
                  <a:pt x="6" y="48"/>
                </a:lnTo>
                <a:lnTo>
                  <a:pt x="12" y="42"/>
                </a:lnTo>
                <a:lnTo>
                  <a:pt x="18" y="38"/>
                </a:lnTo>
                <a:lnTo>
                  <a:pt x="23" y="37"/>
                </a:lnTo>
                <a:lnTo>
                  <a:pt x="26" y="43"/>
                </a:lnTo>
                <a:lnTo>
                  <a:pt x="28" y="49"/>
                </a:lnTo>
                <a:lnTo>
                  <a:pt x="32" y="53"/>
                </a:lnTo>
                <a:lnTo>
                  <a:pt x="37" y="54"/>
                </a:lnTo>
                <a:lnTo>
                  <a:pt x="44" y="51"/>
                </a:lnTo>
                <a:lnTo>
                  <a:pt x="51" y="47"/>
                </a:lnTo>
                <a:lnTo>
                  <a:pt x="55" y="41"/>
                </a:lnTo>
                <a:lnTo>
                  <a:pt x="57" y="34"/>
                </a:lnTo>
                <a:lnTo>
                  <a:pt x="60" y="34"/>
                </a:lnTo>
                <a:lnTo>
                  <a:pt x="64" y="37"/>
                </a:lnTo>
                <a:lnTo>
                  <a:pt x="67" y="39"/>
                </a:lnTo>
                <a:lnTo>
                  <a:pt x="68" y="40"/>
                </a:lnTo>
                <a:lnTo>
                  <a:pt x="66" y="48"/>
                </a:lnTo>
                <a:lnTo>
                  <a:pt x="64" y="58"/>
                </a:lnTo>
                <a:lnTo>
                  <a:pt x="66" y="68"/>
                </a:lnTo>
                <a:lnTo>
                  <a:pt x="75" y="73"/>
                </a:lnTo>
                <a:lnTo>
                  <a:pt x="73" y="65"/>
                </a:lnTo>
                <a:lnTo>
                  <a:pt x="72" y="56"/>
                </a:lnTo>
                <a:lnTo>
                  <a:pt x="74" y="47"/>
                </a:lnTo>
                <a:lnTo>
                  <a:pt x="79" y="40"/>
                </a:lnTo>
                <a:lnTo>
                  <a:pt x="86" y="35"/>
                </a:lnTo>
                <a:lnTo>
                  <a:pt x="94" y="32"/>
                </a:lnTo>
                <a:lnTo>
                  <a:pt x="100" y="27"/>
                </a:lnTo>
                <a:lnTo>
                  <a:pt x="104" y="23"/>
                </a:lnTo>
                <a:lnTo>
                  <a:pt x="109" y="18"/>
                </a:lnTo>
                <a:lnTo>
                  <a:pt x="114" y="15"/>
                </a:lnTo>
                <a:lnTo>
                  <a:pt x="120" y="12"/>
                </a:lnTo>
                <a:lnTo>
                  <a:pt x="126" y="12"/>
                </a:lnTo>
                <a:lnTo>
                  <a:pt x="132" y="15"/>
                </a:lnTo>
                <a:lnTo>
                  <a:pt x="136" y="16"/>
                </a:lnTo>
                <a:lnTo>
                  <a:pt x="141" y="19"/>
                </a:lnTo>
                <a:lnTo>
                  <a:pt x="143" y="24"/>
                </a:lnTo>
                <a:lnTo>
                  <a:pt x="146" y="28"/>
                </a:lnTo>
                <a:lnTo>
                  <a:pt x="150" y="31"/>
                </a:lnTo>
                <a:lnTo>
                  <a:pt x="156" y="33"/>
                </a:lnTo>
                <a:lnTo>
                  <a:pt x="163" y="34"/>
                </a:lnTo>
                <a:lnTo>
                  <a:pt x="171" y="38"/>
                </a:lnTo>
                <a:lnTo>
                  <a:pt x="177" y="47"/>
                </a:lnTo>
                <a:lnTo>
                  <a:pt x="179" y="57"/>
                </a:lnTo>
                <a:lnTo>
                  <a:pt x="174" y="68"/>
                </a:lnTo>
                <a:lnTo>
                  <a:pt x="181" y="64"/>
                </a:lnTo>
                <a:lnTo>
                  <a:pt x="186" y="56"/>
                </a:lnTo>
                <a:lnTo>
                  <a:pt x="187" y="46"/>
                </a:lnTo>
                <a:lnTo>
                  <a:pt x="184" y="37"/>
                </a:lnTo>
                <a:lnTo>
                  <a:pt x="189" y="42"/>
                </a:lnTo>
                <a:lnTo>
                  <a:pt x="194" y="48"/>
                </a:lnTo>
                <a:lnTo>
                  <a:pt x="197" y="53"/>
                </a:lnTo>
                <a:lnTo>
                  <a:pt x="203" y="55"/>
                </a:lnTo>
                <a:lnTo>
                  <a:pt x="209" y="54"/>
                </a:lnTo>
                <a:lnTo>
                  <a:pt x="215" y="50"/>
                </a:lnTo>
                <a:lnTo>
                  <a:pt x="218" y="45"/>
                </a:lnTo>
                <a:lnTo>
                  <a:pt x="218" y="37"/>
                </a:lnTo>
                <a:lnTo>
                  <a:pt x="226" y="35"/>
                </a:lnTo>
                <a:lnTo>
                  <a:pt x="233" y="35"/>
                </a:lnTo>
                <a:lnTo>
                  <a:pt x="240" y="37"/>
                </a:lnTo>
                <a:lnTo>
                  <a:pt x="246" y="40"/>
                </a:lnTo>
                <a:lnTo>
                  <a:pt x="242" y="35"/>
                </a:lnTo>
                <a:lnTo>
                  <a:pt x="238" y="31"/>
                </a:lnTo>
                <a:lnTo>
                  <a:pt x="230" y="26"/>
                </a:lnTo>
                <a:lnTo>
                  <a:pt x="222" y="24"/>
                </a:lnTo>
                <a:lnTo>
                  <a:pt x="211" y="22"/>
                </a:lnTo>
                <a:lnTo>
                  <a:pt x="201" y="22"/>
                </a:lnTo>
                <a:lnTo>
                  <a:pt x="189" y="24"/>
                </a:lnTo>
                <a:lnTo>
                  <a:pt x="178" y="28"/>
                </a:lnTo>
                <a:lnTo>
                  <a:pt x="171" y="25"/>
                </a:lnTo>
                <a:lnTo>
                  <a:pt x="163" y="24"/>
                </a:lnTo>
                <a:lnTo>
                  <a:pt x="155" y="20"/>
                </a:lnTo>
                <a:lnTo>
                  <a:pt x="148" y="12"/>
                </a:lnTo>
                <a:lnTo>
                  <a:pt x="143" y="8"/>
                </a:lnTo>
                <a:lnTo>
                  <a:pt x="138" y="4"/>
                </a:lnTo>
                <a:lnTo>
                  <a:pt x="131" y="2"/>
                </a:lnTo>
                <a:lnTo>
                  <a:pt x="124" y="0"/>
                </a:lnTo>
                <a:lnTo>
                  <a:pt x="117" y="1"/>
                </a:lnTo>
                <a:lnTo>
                  <a:pt x="111" y="2"/>
                </a:lnTo>
                <a:lnTo>
                  <a:pt x="105" y="4"/>
                </a:lnTo>
                <a:lnTo>
                  <a:pt x="102" y="9"/>
                </a:lnTo>
                <a:lnTo>
                  <a:pt x="96" y="17"/>
                </a:lnTo>
                <a:lnTo>
                  <a:pt x="89" y="23"/>
                </a:lnTo>
                <a:lnTo>
                  <a:pt x="82" y="26"/>
                </a:lnTo>
                <a:lnTo>
                  <a:pt x="76" y="2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9" name="Freeform 12"/>
          <p:cNvSpPr/>
          <p:nvPr/>
        </p:nvSpPr>
        <p:spPr>
          <a:xfrm>
            <a:off x="2022480" y="3559320"/>
            <a:ext cx="20520" cy="48960"/>
          </a:xfrm>
          <a:custGeom>
            <a:avLst/>
            <a:gdLst/>
            <a:ahLst/>
            <a:rect l="l" t="t" r="r" b="b"/>
            <a:pathLst>
              <a:path w="26" h="62">
                <a:moveTo>
                  <a:pt x="26" y="9"/>
                </a:moveTo>
                <a:lnTo>
                  <a:pt x="17" y="2"/>
                </a:lnTo>
                <a:lnTo>
                  <a:pt x="12" y="0"/>
                </a:lnTo>
                <a:lnTo>
                  <a:pt x="8" y="3"/>
                </a:lnTo>
                <a:lnTo>
                  <a:pt x="5" y="9"/>
                </a:lnTo>
                <a:lnTo>
                  <a:pt x="1" y="18"/>
                </a:lnTo>
                <a:lnTo>
                  <a:pt x="0" y="32"/>
                </a:lnTo>
                <a:lnTo>
                  <a:pt x="4" y="47"/>
                </a:lnTo>
                <a:lnTo>
                  <a:pt x="13" y="62"/>
                </a:lnTo>
                <a:lnTo>
                  <a:pt x="8" y="41"/>
                </a:lnTo>
                <a:lnTo>
                  <a:pt x="7" y="23"/>
                </a:lnTo>
                <a:lnTo>
                  <a:pt x="12" y="11"/>
                </a:lnTo>
                <a:lnTo>
                  <a:pt x="26" y="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0" name="Freeform 13"/>
          <p:cNvSpPr/>
          <p:nvPr/>
        </p:nvSpPr>
        <p:spPr>
          <a:xfrm>
            <a:off x="2168640" y="3449520"/>
            <a:ext cx="21960" cy="17640"/>
          </a:xfrm>
          <a:custGeom>
            <a:avLst/>
            <a:gdLst/>
            <a:ahLst/>
            <a:rect l="l" t="t" r="r" b="b"/>
            <a:pathLst>
              <a:path w="26" h="22">
                <a:moveTo>
                  <a:pt x="24" y="0"/>
                </a:moveTo>
                <a:lnTo>
                  <a:pt x="16" y="1"/>
                </a:lnTo>
                <a:lnTo>
                  <a:pt x="6" y="5"/>
                </a:lnTo>
                <a:lnTo>
                  <a:pt x="0" y="12"/>
                </a:lnTo>
                <a:lnTo>
                  <a:pt x="2" y="20"/>
                </a:lnTo>
                <a:lnTo>
                  <a:pt x="10" y="22"/>
                </a:lnTo>
                <a:lnTo>
                  <a:pt x="20" y="16"/>
                </a:lnTo>
                <a:lnTo>
                  <a:pt x="26" y="7"/>
                </a:lnTo>
                <a:lnTo>
                  <a:pt x="2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1" name="Freeform 14"/>
          <p:cNvSpPr/>
          <p:nvPr/>
        </p:nvSpPr>
        <p:spPr>
          <a:xfrm>
            <a:off x="2216160" y="3449520"/>
            <a:ext cx="19080" cy="17640"/>
          </a:xfrm>
          <a:custGeom>
            <a:avLst/>
            <a:gdLst/>
            <a:ahLst/>
            <a:rect l="l" t="t" r="r" b="b"/>
            <a:pathLst>
              <a:path w="24" h="21">
                <a:moveTo>
                  <a:pt x="0" y="0"/>
                </a:moveTo>
                <a:lnTo>
                  <a:pt x="9" y="0"/>
                </a:lnTo>
                <a:lnTo>
                  <a:pt x="19" y="4"/>
                </a:lnTo>
                <a:lnTo>
                  <a:pt x="24" y="9"/>
                </a:lnTo>
                <a:lnTo>
                  <a:pt x="22" y="18"/>
                </a:lnTo>
                <a:lnTo>
                  <a:pt x="15" y="21"/>
                </a:lnTo>
                <a:lnTo>
                  <a:pt x="8" y="18"/>
                </a:lnTo>
                <a:lnTo>
                  <a:pt x="4" y="9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2" name="Freeform 15"/>
          <p:cNvSpPr/>
          <p:nvPr/>
        </p:nvSpPr>
        <p:spPr>
          <a:xfrm>
            <a:off x="2149560" y="3473280"/>
            <a:ext cx="108000" cy="46080"/>
          </a:xfrm>
          <a:custGeom>
            <a:avLst/>
            <a:gdLst/>
            <a:ahLst/>
            <a:rect l="l" t="t" r="r" b="b"/>
            <a:pathLst>
              <a:path w="136" h="58">
                <a:moveTo>
                  <a:pt x="0" y="34"/>
                </a:moveTo>
                <a:lnTo>
                  <a:pt x="4" y="30"/>
                </a:lnTo>
                <a:lnTo>
                  <a:pt x="8" y="24"/>
                </a:lnTo>
                <a:lnTo>
                  <a:pt x="14" y="20"/>
                </a:lnTo>
                <a:lnTo>
                  <a:pt x="22" y="14"/>
                </a:lnTo>
                <a:lnTo>
                  <a:pt x="29" y="9"/>
                </a:lnTo>
                <a:lnTo>
                  <a:pt x="37" y="6"/>
                </a:lnTo>
                <a:lnTo>
                  <a:pt x="45" y="4"/>
                </a:lnTo>
                <a:lnTo>
                  <a:pt x="52" y="5"/>
                </a:lnTo>
                <a:lnTo>
                  <a:pt x="61" y="7"/>
                </a:lnTo>
                <a:lnTo>
                  <a:pt x="68" y="7"/>
                </a:lnTo>
                <a:lnTo>
                  <a:pt x="73" y="6"/>
                </a:lnTo>
                <a:lnTo>
                  <a:pt x="80" y="3"/>
                </a:lnTo>
                <a:lnTo>
                  <a:pt x="87" y="0"/>
                </a:lnTo>
                <a:lnTo>
                  <a:pt x="95" y="1"/>
                </a:lnTo>
                <a:lnTo>
                  <a:pt x="102" y="4"/>
                </a:lnTo>
                <a:lnTo>
                  <a:pt x="110" y="7"/>
                </a:lnTo>
                <a:lnTo>
                  <a:pt x="117" y="12"/>
                </a:lnTo>
                <a:lnTo>
                  <a:pt x="125" y="18"/>
                </a:lnTo>
                <a:lnTo>
                  <a:pt x="131" y="23"/>
                </a:lnTo>
                <a:lnTo>
                  <a:pt x="136" y="28"/>
                </a:lnTo>
                <a:lnTo>
                  <a:pt x="133" y="32"/>
                </a:lnTo>
                <a:lnTo>
                  <a:pt x="127" y="37"/>
                </a:lnTo>
                <a:lnTo>
                  <a:pt x="120" y="43"/>
                </a:lnTo>
                <a:lnTo>
                  <a:pt x="112" y="47"/>
                </a:lnTo>
                <a:lnTo>
                  <a:pt x="103" y="52"/>
                </a:lnTo>
                <a:lnTo>
                  <a:pt x="91" y="56"/>
                </a:lnTo>
                <a:lnTo>
                  <a:pt x="79" y="58"/>
                </a:lnTo>
                <a:lnTo>
                  <a:pt x="64" y="58"/>
                </a:lnTo>
                <a:lnTo>
                  <a:pt x="50" y="57"/>
                </a:lnTo>
                <a:lnTo>
                  <a:pt x="37" y="56"/>
                </a:lnTo>
                <a:lnTo>
                  <a:pt x="28" y="54"/>
                </a:lnTo>
                <a:lnTo>
                  <a:pt x="20" y="52"/>
                </a:lnTo>
                <a:lnTo>
                  <a:pt x="14" y="49"/>
                </a:lnTo>
                <a:lnTo>
                  <a:pt x="8" y="44"/>
                </a:lnTo>
                <a:lnTo>
                  <a:pt x="4" y="39"/>
                </a:lnTo>
                <a:lnTo>
                  <a:pt x="0" y="3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3" name="Freeform 16"/>
          <p:cNvSpPr/>
          <p:nvPr/>
        </p:nvSpPr>
        <p:spPr>
          <a:xfrm>
            <a:off x="2157480" y="3486240"/>
            <a:ext cx="90360" cy="12600"/>
          </a:xfrm>
          <a:custGeom>
            <a:avLst/>
            <a:gdLst/>
            <a:ahLst/>
            <a:rect l="l" t="t" r="r" b="b"/>
            <a:pathLst>
              <a:path w="114" h="16">
                <a:moveTo>
                  <a:pt x="0" y="16"/>
                </a:moveTo>
                <a:lnTo>
                  <a:pt x="3" y="15"/>
                </a:lnTo>
                <a:lnTo>
                  <a:pt x="8" y="14"/>
                </a:lnTo>
                <a:lnTo>
                  <a:pt x="14" y="12"/>
                </a:lnTo>
                <a:lnTo>
                  <a:pt x="19" y="8"/>
                </a:lnTo>
                <a:lnTo>
                  <a:pt x="26" y="6"/>
                </a:lnTo>
                <a:lnTo>
                  <a:pt x="34" y="4"/>
                </a:lnTo>
                <a:lnTo>
                  <a:pt x="42" y="2"/>
                </a:lnTo>
                <a:lnTo>
                  <a:pt x="52" y="0"/>
                </a:lnTo>
                <a:lnTo>
                  <a:pt x="61" y="0"/>
                </a:lnTo>
                <a:lnTo>
                  <a:pt x="69" y="2"/>
                </a:lnTo>
                <a:lnTo>
                  <a:pt x="77" y="3"/>
                </a:lnTo>
                <a:lnTo>
                  <a:pt x="84" y="5"/>
                </a:lnTo>
                <a:lnTo>
                  <a:pt x="91" y="7"/>
                </a:lnTo>
                <a:lnTo>
                  <a:pt x="99" y="8"/>
                </a:lnTo>
                <a:lnTo>
                  <a:pt x="106" y="11"/>
                </a:lnTo>
                <a:lnTo>
                  <a:pt x="114" y="12"/>
                </a:lnTo>
                <a:lnTo>
                  <a:pt x="108" y="13"/>
                </a:lnTo>
                <a:lnTo>
                  <a:pt x="101" y="12"/>
                </a:lnTo>
                <a:lnTo>
                  <a:pt x="94" y="12"/>
                </a:lnTo>
                <a:lnTo>
                  <a:pt x="87" y="11"/>
                </a:lnTo>
                <a:lnTo>
                  <a:pt x="79" y="10"/>
                </a:lnTo>
                <a:lnTo>
                  <a:pt x="72" y="8"/>
                </a:lnTo>
                <a:lnTo>
                  <a:pt x="64" y="7"/>
                </a:lnTo>
                <a:lnTo>
                  <a:pt x="56" y="7"/>
                </a:lnTo>
                <a:lnTo>
                  <a:pt x="49" y="8"/>
                </a:lnTo>
                <a:lnTo>
                  <a:pt x="42" y="10"/>
                </a:lnTo>
                <a:lnTo>
                  <a:pt x="34" y="11"/>
                </a:lnTo>
                <a:lnTo>
                  <a:pt x="27" y="13"/>
                </a:lnTo>
                <a:lnTo>
                  <a:pt x="19" y="15"/>
                </a:lnTo>
                <a:lnTo>
                  <a:pt x="12" y="16"/>
                </a:lnTo>
                <a:lnTo>
                  <a:pt x="5" y="16"/>
                </a:lnTo>
                <a:lnTo>
                  <a:pt x="0" y="1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4" name="Freeform 17"/>
          <p:cNvSpPr/>
          <p:nvPr/>
        </p:nvSpPr>
        <p:spPr>
          <a:xfrm rot="12391800">
            <a:off x="1676160" y="3885480"/>
            <a:ext cx="461880" cy="1128600"/>
          </a:xfrm>
          <a:custGeom>
            <a:avLst/>
            <a:gdLst/>
            <a:ahLst/>
            <a:rect l="l" t="t" r="r" b="b"/>
            <a:pathLst>
              <a:path w="583" h="1421">
                <a:moveTo>
                  <a:pt x="231" y="47"/>
                </a:moveTo>
                <a:lnTo>
                  <a:pt x="242" y="56"/>
                </a:lnTo>
                <a:lnTo>
                  <a:pt x="251" y="71"/>
                </a:lnTo>
                <a:lnTo>
                  <a:pt x="259" y="91"/>
                </a:lnTo>
                <a:lnTo>
                  <a:pt x="265" y="112"/>
                </a:lnTo>
                <a:lnTo>
                  <a:pt x="269" y="137"/>
                </a:lnTo>
                <a:lnTo>
                  <a:pt x="273" y="162"/>
                </a:lnTo>
                <a:lnTo>
                  <a:pt x="274" y="185"/>
                </a:lnTo>
                <a:lnTo>
                  <a:pt x="274" y="207"/>
                </a:lnTo>
                <a:lnTo>
                  <a:pt x="275" y="231"/>
                </a:lnTo>
                <a:lnTo>
                  <a:pt x="282" y="260"/>
                </a:lnTo>
                <a:lnTo>
                  <a:pt x="292" y="293"/>
                </a:lnTo>
                <a:lnTo>
                  <a:pt x="306" y="327"/>
                </a:lnTo>
                <a:lnTo>
                  <a:pt x="320" y="360"/>
                </a:lnTo>
                <a:lnTo>
                  <a:pt x="334" y="391"/>
                </a:lnTo>
                <a:lnTo>
                  <a:pt x="346" y="418"/>
                </a:lnTo>
                <a:lnTo>
                  <a:pt x="356" y="436"/>
                </a:lnTo>
                <a:lnTo>
                  <a:pt x="366" y="456"/>
                </a:lnTo>
                <a:lnTo>
                  <a:pt x="380" y="483"/>
                </a:lnTo>
                <a:lnTo>
                  <a:pt x="396" y="517"/>
                </a:lnTo>
                <a:lnTo>
                  <a:pt x="413" y="554"/>
                </a:lnTo>
                <a:lnTo>
                  <a:pt x="431" y="593"/>
                </a:lnTo>
                <a:lnTo>
                  <a:pt x="444" y="632"/>
                </a:lnTo>
                <a:lnTo>
                  <a:pt x="456" y="670"/>
                </a:lnTo>
                <a:lnTo>
                  <a:pt x="463" y="703"/>
                </a:lnTo>
                <a:lnTo>
                  <a:pt x="465" y="754"/>
                </a:lnTo>
                <a:lnTo>
                  <a:pt x="466" y="816"/>
                </a:lnTo>
                <a:lnTo>
                  <a:pt x="471" y="884"/>
                </a:lnTo>
                <a:lnTo>
                  <a:pt x="487" y="951"/>
                </a:lnTo>
                <a:lnTo>
                  <a:pt x="495" y="973"/>
                </a:lnTo>
                <a:lnTo>
                  <a:pt x="505" y="1000"/>
                </a:lnTo>
                <a:lnTo>
                  <a:pt x="516" y="1030"/>
                </a:lnTo>
                <a:lnTo>
                  <a:pt x="527" y="1062"/>
                </a:lnTo>
                <a:lnTo>
                  <a:pt x="538" y="1094"/>
                </a:lnTo>
                <a:lnTo>
                  <a:pt x="547" y="1127"/>
                </a:lnTo>
                <a:lnTo>
                  <a:pt x="554" y="1159"/>
                </a:lnTo>
                <a:lnTo>
                  <a:pt x="556" y="1188"/>
                </a:lnTo>
                <a:lnTo>
                  <a:pt x="558" y="1250"/>
                </a:lnTo>
                <a:lnTo>
                  <a:pt x="564" y="1314"/>
                </a:lnTo>
                <a:lnTo>
                  <a:pt x="572" y="1374"/>
                </a:lnTo>
                <a:lnTo>
                  <a:pt x="583" y="1421"/>
                </a:lnTo>
                <a:lnTo>
                  <a:pt x="572" y="1420"/>
                </a:lnTo>
                <a:lnTo>
                  <a:pt x="561" y="1418"/>
                </a:lnTo>
                <a:lnTo>
                  <a:pt x="550" y="1415"/>
                </a:lnTo>
                <a:lnTo>
                  <a:pt x="540" y="1412"/>
                </a:lnTo>
                <a:lnTo>
                  <a:pt x="530" y="1409"/>
                </a:lnTo>
                <a:lnTo>
                  <a:pt x="519" y="1404"/>
                </a:lnTo>
                <a:lnTo>
                  <a:pt x="508" y="1399"/>
                </a:lnTo>
                <a:lnTo>
                  <a:pt x="497" y="1394"/>
                </a:lnTo>
                <a:lnTo>
                  <a:pt x="499" y="1374"/>
                </a:lnTo>
                <a:lnTo>
                  <a:pt x="499" y="1353"/>
                </a:lnTo>
                <a:lnTo>
                  <a:pt x="496" y="1331"/>
                </a:lnTo>
                <a:lnTo>
                  <a:pt x="493" y="1309"/>
                </a:lnTo>
                <a:lnTo>
                  <a:pt x="487" y="1288"/>
                </a:lnTo>
                <a:lnTo>
                  <a:pt x="481" y="1267"/>
                </a:lnTo>
                <a:lnTo>
                  <a:pt x="473" y="1248"/>
                </a:lnTo>
                <a:lnTo>
                  <a:pt x="465" y="1231"/>
                </a:lnTo>
                <a:lnTo>
                  <a:pt x="455" y="1215"/>
                </a:lnTo>
                <a:lnTo>
                  <a:pt x="443" y="1197"/>
                </a:lnTo>
                <a:lnTo>
                  <a:pt x="431" y="1179"/>
                </a:lnTo>
                <a:lnTo>
                  <a:pt x="418" y="1160"/>
                </a:lnTo>
                <a:lnTo>
                  <a:pt x="406" y="1141"/>
                </a:lnTo>
                <a:lnTo>
                  <a:pt x="397" y="1122"/>
                </a:lnTo>
                <a:lnTo>
                  <a:pt x="390" y="1103"/>
                </a:lnTo>
                <a:lnTo>
                  <a:pt x="388" y="1085"/>
                </a:lnTo>
                <a:lnTo>
                  <a:pt x="386" y="1095"/>
                </a:lnTo>
                <a:lnTo>
                  <a:pt x="384" y="1110"/>
                </a:lnTo>
                <a:lnTo>
                  <a:pt x="386" y="1126"/>
                </a:lnTo>
                <a:lnTo>
                  <a:pt x="389" y="1144"/>
                </a:lnTo>
                <a:lnTo>
                  <a:pt x="394" y="1161"/>
                </a:lnTo>
                <a:lnTo>
                  <a:pt x="399" y="1178"/>
                </a:lnTo>
                <a:lnTo>
                  <a:pt x="405" y="1194"/>
                </a:lnTo>
                <a:lnTo>
                  <a:pt x="412" y="1207"/>
                </a:lnTo>
                <a:lnTo>
                  <a:pt x="420" y="1222"/>
                </a:lnTo>
                <a:lnTo>
                  <a:pt x="428" y="1239"/>
                </a:lnTo>
                <a:lnTo>
                  <a:pt x="437" y="1261"/>
                </a:lnTo>
                <a:lnTo>
                  <a:pt x="444" y="1284"/>
                </a:lnTo>
                <a:lnTo>
                  <a:pt x="451" y="1307"/>
                </a:lnTo>
                <a:lnTo>
                  <a:pt x="454" y="1331"/>
                </a:lnTo>
                <a:lnTo>
                  <a:pt x="454" y="1353"/>
                </a:lnTo>
                <a:lnTo>
                  <a:pt x="449" y="1373"/>
                </a:lnTo>
                <a:lnTo>
                  <a:pt x="434" y="1365"/>
                </a:lnTo>
                <a:lnTo>
                  <a:pt x="416" y="1351"/>
                </a:lnTo>
                <a:lnTo>
                  <a:pt x="396" y="1334"/>
                </a:lnTo>
                <a:lnTo>
                  <a:pt x="376" y="1311"/>
                </a:lnTo>
                <a:lnTo>
                  <a:pt x="359" y="1284"/>
                </a:lnTo>
                <a:lnTo>
                  <a:pt x="343" y="1253"/>
                </a:lnTo>
                <a:lnTo>
                  <a:pt x="331" y="1218"/>
                </a:lnTo>
                <a:lnTo>
                  <a:pt x="325" y="1180"/>
                </a:lnTo>
                <a:lnTo>
                  <a:pt x="318" y="1111"/>
                </a:lnTo>
                <a:lnTo>
                  <a:pt x="315" y="1057"/>
                </a:lnTo>
                <a:lnTo>
                  <a:pt x="315" y="1008"/>
                </a:lnTo>
                <a:lnTo>
                  <a:pt x="319" y="951"/>
                </a:lnTo>
                <a:lnTo>
                  <a:pt x="321" y="894"/>
                </a:lnTo>
                <a:lnTo>
                  <a:pt x="318" y="845"/>
                </a:lnTo>
                <a:lnTo>
                  <a:pt x="310" y="804"/>
                </a:lnTo>
                <a:lnTo>
                  <a:pt x="297" y="767"/>
                </a:lnTo>
                <a:lnTo>
                  <a:pt x="288" y="732"/>
                </a:lnTo>
                <a:lnTo>
                  <a:pt x="287" y="697"/>
                </a:lnTo>
                <a:lnTo>
                  <a:pt x="288" y="663"/>
                </a:lnTo>
                <a:lnTo>
                  <a:pt x="289" y="631"/>
                </a:lnTo>
                <a:lnTo>
                  <a:pt x="288" y="612"/>
                </a:lnTo>
                <a:lnTo>
                  <a:pt x="285" y="587"/>
                </a:lnTo>
                <a:lnTo>
                  <a:pt x="281" y="557"/>
                </a:lnTo>
                <a:lnTo>
                  <a:pt x="275" y="524"/>
                </a:lnTo>
                <a:lnTo>
                  <a:pt x="267" y="489"/>
                </a:lnTo>
                <a:lnTo>
                  <a:pt x="259" y="453"/>
                </a:lnTo>
                <a:lnTo>
                  <a:pt x="249" y="420"/>
                </a:lnTo>
                <a:lnTo>
                  <a:pt x="238" y="389"/>
                </a:lnTo>
                <a:lnTo>
                  <a:pt x="228" y="361"/>
                </a:lnTo>
                <a:lnTo>
                  <a:pt x="216" y="336"/>
                </a:lnTo>
                <a:lnTo>
                  <a:pt x="206" y="313"/>
                </a:lnTo>
                <a:lnTo>
                  <a:pt x="194" y="291"/>
                </a:lnTo>
                <a:lnTo>
                  <a:pt x="183" y="270"/>
                </a:lnTo>
                <a:lnTo>
                  <a:pt x="170" y="250"/>
                </a:lnTo>
                <a:lnTo>
                  <a:pt x="158" y="229"/>
                </a:lnTo>
                <a:lnTo>
                  <a:pt x="143" y="207"/>
                </a:lnTo>
                <a:lnTo>
                  <a:pt x="126" y="185"/>
                </a:lnTo>
                <a:lnTo>
                  <a:pt x="108" y="162"/>
                </a:lnTo>
                <a:lnTo>
                  <a:pt x="90" y="140"/>
                </a:lnTo>
                <a:lnTo>
                  <a:pt x="70" y="118"/>
                </a:lnTo>
                <a:lnTo>
                  <a:pt x="52" y="100"/>
                </a:lnTo>
                <a:lnTo>
                  <a:pt x="35" y="83"/>
                </a:lnTo>
                <a:lnTo>
                  <a:pt x="22" y="70"/>
                </a:lnTo>
                <a:lnTo>
                  <a:pt x="10" y="61"/>
                </a:lnTo>
                <a:lnTo>
                  <a:pt x="0" y="48"/>
                </a:lnTo>
                <a:lnTo>
                  <a:pt x="0" y="38"/>
                </a:lnTo>
                <a:lnTo>
                  <a:pt x="7" y="33"/>
                </a:lnTo>
                <a:lnTo>
                  <a:pt x="18" y="36"/>
                </a:lnTo>
                <a:lnTo>
                  <a:pt x="26" y="41"/>
                </a:lnTo>
                <a:lnTo>
                  <a:pt x="37" y="48"/>
                </a:lnTo>
                <a:lnTo>
                  <a:pt x="50" y="55"/>
                </a:lnTo>
                <a:lnTo>
                  <a:pt x="64" y="63"/>
                </a:lnTo>
                <a:lnTo>
                  <a:pt x="79" y="72"/>
                </a:lnTo>
                <a:lnTo>
                  <a:pt x="93" y="80"/>
                </a:lnTo>
                <a:lnTo>
                  <a:pt x="106" y="87"/>
                </a:lnTo>
                <a:lnTo>
                  <a:pt x="116" y="93"/>
                </a:lnTo>
                <a:lnTo>
                  <a:pt x="113" y="84"/>
                </a:lnTo>
                <a:lnTo>
                  <a:pt x="108" y="73"/>
                </a:lnTo>
                <a:lnTo>
                  <a:pt x="102" y="62"/>
                </a:lnTo>
                <a:lnTo>
                  <a:pt x="95" y="49"/>
                </a:lnTo>
                <a:lnTo>
                  <a:pt x="88" y="36"/>
                </a:lnTo>
                <a:lnTo>
                  <a:pt x="80" y="24"/>
                </a:lnTo>
                <a:lnTo>
                  <a:pt x="71" y="11"/>
                </a:lnTo>
                <a:lnTo>
                  <a:pt x="61" y="0"/>
                </a:lnTo>
                <a:lnTo>
                  <a:pt x="72" y="1"/>
                </a:lnTo>
                <a:lnTo>
                  <a:pt x="86" y="6"/>
                </a:lnTo>
                <a:lnTo>
                  <a:pt x="100" y="17"/>
                </a:lnTo>
                <a:lnTo>
                  <a:pt x="115" y="30"/>
                </a:lnTo>
                <a:lnTo>
                  <a:pt x="129" y="44"/>
                </a:lnTo>
                <a:lnTo>
                  <a:pt x="143" y="61"/>
                </a:lnTo>
                <a:lnTo>
                  <a:pt x="154" y="78"/>
                </a:lnTo>
                <a:lnTo>
                  <a:pt x="164" y="95"/>
                </a:lnTo>
                <a:lnTo>
                  <a:pt x="166" y="79"/>
                </a:lnTo>
                <a:lnTo>
                  <a:pt x="163" y="61"/>
                </a:lnTo>
                <a:lnTo>
                  <a:pt x="153" y="39"/>
                </a:lnTo>
                <a:lnTo>
                  <a:pt x="137" y="12"/>
                </a:lnTo>
                <a:lnTo>
                  <a:pt x="146" y="12"/>
                </a:lnTo>
                <a:lnTo>
                  <a:pt x="158" y="17"/>
                </a:lnTo>
                <a:lnTo>
                  <a:pt x="170" y="25"/>
                </a:lnTo>
                <a:lnTo>
                  <a:pt x="183" y="36"/>
                </a:lnTo>
                <a:lnTo>
                  <a:pt x="197" y="51"/>
                </a:lnTo>
                <a:lnTo>
                  <a:pt x="209" y="69"/>
                </a:lnTo>
                <a:lnTo>
                  <a:pt x="221" y="88"/>
                </a:lnTo>
                <a:lnTo>
                  <a:pt x="231" y="109"/>
                </a:lnTo>
                <a:lnTo>
                  <a:pt x="235" y="95"/>
                </a:lnTo>
                <a:lnTo>
                  <a:pt x="236" y="79"/>
                </a:lnTo>
                <a:lnTo>
                  <a:pt x="235" y="62"/>
                </a:lnTo>
                <a:lnTo>
                  <a:pt x="231" y="4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5" name="Freeform 18"/>
          <p:cNvSpPr/>
          <p:nvPr/>
        </p:nvSpPr>
        <p:spPr>
          <a:xfrm>
            <a:off x="1905120" y="3657600"/>
            <a:ext cx="722160" cy="917640"/>
          </a:xfrm>
          <a:custGeom>
            <a:avLst/>
            <a:gdLst/>
            <a:ahLst/>
            <a:rect l="l" t="t" r="r" b="b"/>
            <a:pathLst>
              <a:path w="909" h="1155">
                <a:moveTo>
                  <a:pt x="221" y="128"/>
                </a:moveTo>
                <a:lnTo>
                  <a:pt x="228" y="142"/>
                </a:lnTo>
                <a:lnTo>
                  <a:pt x="232" y="160"/>
                </a:lnTo>
                <a:lnTo>
                  <a:pt x="232" y="181"/>
                </a:lnTo>
                <a:lnTo>
                  <a:pt x="225" y="203"/>
                </a:lnTo>
                <a:lnTo>
                  <a:pt x="217" y="227"/>
                </a:lnTo>
                <a:lnTo>
                  <a:pt x="212" y="251"/>
                </a:lnTo>
                <a:lnTo>
                  <a:pt x="210" y="273"/>
                </a:lnTo>
                <a:lnTo>
                  <a:pt x="206" y="290"/>
                </a:lnTo>
                <a:lnTo>
                  <a:pt x="202" y="288"/>
                </a:lnTo>
                <a:lnTo>
                  <a:pt x="195" y="287"/>
                </a:lnTo>
                <a:lnTo>
                  <a:pt x="188" y="283"/>
                </a:lnTo>
                <a:lnTo>
                  <a:pt x="180" y="280"/>
                </a:lnTo>
                <a:lnTo>
                  <a:pt x="172" y="275"/>
                </a:lnTo>
                <a:lnTo>
                  <a:pt x="165" y="268"/>
                </a:lnTo>
                <a:lnTo>
                  <a:pt x="159" y="260"/>
                </a:lnTo>
                <a:lnTo>
                  <a:pt x="156" y="251"/>
                </a:lnTo>
                <a:lnTo>
                  <a:pt x="156" y="265"/>
                </a:lnTo>
                <a:lnTo>
                  <a:pt x="159" y="279"/>
                </a:lnTo>
                <a:lnTo>
                  <a:pt x="166" y="291"/>
                </a:lnTo>
                <a:lnTo>
                  <a:pt x="174" y="304"/>
                </a:lnTo>
                <a:lnTo>
                  <a:pt x="184" y="316"/>
                </a:lnTo>
                <a:lnTo>
                  <a:pt x="196" y="326"/>
                </a:lnTo>
                <a:lnTo>
                  <a:pt x="209" y="333"/>
                </a:lnTo>
                <a:lnTo>
                  <a:pt x="221" y="336"/>
                </a:lnTo>
                <a:lnTo>
                  <a:pt x="235" y="337"/>
                </a:lnTo>
                <a:lnTo>
                  <a:pt x="248" y="335"/>
                </a:lnTo>
                <a:lnTo>
                  <a:pt x="260" y="332"/>
                </a:lnTo>
                <a:lnTo>
                  <a:pt x="273" y="327"/>
                </a:lnTo>
                <a:lnTo>
                  <a:pt x="285" y="321"/>
                </a:lnTo>
                <a:lnTo>
                  <a:pt x="294" y="314"/>
                </a:lnTo>
                <a:lnTo>
                  <a:pt x="303" y="306"/>
                </a:lnTo>
                <a:lnTo>
                  <a:pt x="310" y="298"/>
                </a:lnTo>
                <a:lnTo>
                  <a:pt x="316" y="290"/>
                </a:lnTo>
                <a:lnTo>
                  <a:pt x="323" y="283"/>
                </a:lnTo>
                <a:lnTo>
                  <a:pt x="330" y="276"/>
                </a:lnTo>
                <a:lnTo>
                  <a:pt x="338" y="269"/>
                </a:lnTo>
                <a:lnTo>
                  <a:pt x="345" y="264"/>
                </a:lnTo>
                <a:lnTo>
                  <a:pt x="353" y="259"/>
                </a:lnTo>
                <a:lnTo>
                  <a:pt x="360" y="254"/>
                </a:lnTo>
                <a:lnTo>
                  <a:pt x="368" y="251"/>
                </a:lnTo>
                <a:lnTo>
                  <a:pt x="376" y="246"/>
                </a:lnTo>
                <a:lnTo>
                  <a:pt x="384" y="241"/>
                </a:lnTo>
                <a:lnTo>
                  <a:pt x="392" y="231"/>
                </a:lnTo>
                <a:lnTo>
                  <a:pt x="401" y="222"/>
                </a:lnTo>
                <a:lnTo>
                  <a:pt x="408" y="211"/>
                </a:lnTo>
                <a:lnTo>
                  <a:pt x="415" y="198"/>
                </a:lnTo>
                <a:lnTo>
                  <a:pt x="422" y="184"/>
                </a:lnTo>
                <a:lnTo>
                  <a:pt x="426" y="170"/>
                </a:lnTo>
                <a:lnTo>
                  <a:pt x="430" y="157"/>
                </a:lnTo>
                <a:lnTo>
                  <a:pt x="434" y="143"/>
                </a:lnTo>
                <a:lnTo>
                  <a:pt x="439" y="129"/>
                </a:lnTo>
                <a:lnTo>
                  <a:pt x="444" y="116"/>
                </a:lnTo>
                <a:lnTo>
                  <a:pt x="448" y="104"/>
                </a:lnTo>
                <a:lnTo>
                  <a:pt x="454" y="93"/>
                </a:lnTo>
                <a:lnTo>
                  <a:pt x="461" y="84"/>
                </a:lnTo>
                <a:lnTo>
                  <a:pt x="469" y="77"/>
                </a:lnTo>
                <a:lnTo>
                  <a:pt x="477" y="69"/>
                </a:lnTo>
                <a:lnTo>
                  <a:pt x="486" y="59"/>
                </a:lnTo>
                <a:lnTo>
                  <a:pt x="494" y="46"/>
                </a:lnTo>
                <a:lnTo>
                  <a:pt x="504" y="32"/>
                </a:lnTo>
                <a:lnTo>
                  <a:pt x="510" y="21"/>
                </a:lnTo>
                <a:lnTo>
                  <a:pt x="516" y="9"/>
                </a:lnTo>
                <a:lnTo>
                  <a:pt x="521" y="2"/>
                </a:lnTo>
                <a:lnTo>
                  <a:pt x="522" y="0"/>
                </a:lnTo>
                <a:lnTo>
                  <a:pt x="525" y="21"/>
                </a:lnTo>
                <a:lnTo>
                  <a:pt x="530" y="42"/>
                </a:lnTo>
                <a:lnTo>
                  <a:pt x="538" y="67"/>
                </a:lnTo>
                <a:lnTo>
                  <a:pt x="547" y="90"/>
                </a:lnTo>
                <a:lnTo>
                  <a:pt x="558" y="114"/>
                </a:lnTo>
                <a:lnTo>
                  <a:pt x="570" y="137"/>
                </a:lnTo>
                <a:lnTo>
                  <a:pt x="584" y="159"/>
                </a:lnTo>
                <a:lnTo>
                  <a:pt x="599" y="178"/>
                </a:lnTo>
                <a:lnTo>
                  <a:pt x="607" y="188"/>
                </a:lnTo>
                <a:lnTo>
                  <a:pt x="618" y="198"/>
                </a:lnTo>
                <a:lnTo>
                  <a:pt x="629" y="208"/>
                </a:lnTo>
                <a:lnTo>
                  <a:pt x="642" y="219"/>
                </a:lnTo>
                <a:lnTo>
                  <a:pt x="656" y="230"/>
                </a:lnTo>
                <a:lnTo>
                  <a:pt x="671" y="241"/>
                </a:lnTo>
                <a:lnTo>
                  <a:pt x="688" y="251"/>
                </a:lnTo>
                <a:lnTo>
                  <a:pt x="706" y="260"/>
                </a:lnTo>
                <a:lnTo>
                  <a:pt x="726" y="271"/>
                </a:lnTo>
                <a:lnTo>
                  <a:pt x="748" y="279"/>
                </a:lnTo>
                <a:lnTo>
                  <a:pt x="770" y="288"/>
                </a:lnTo>
                <a:lnTo>
                  <a:pt x="795" y="295"/>
                </a:lnTo>
                <a:lnTo>
                  <a:pt x="820" y="302"/>
                </a:lnTo>
                <a:lnTo>
                  <a:pt x="848" y="307"/>
                </a:lnTo>
                <a:lnTo>
                  <a:pt x="878" y="311"/>
                </a:lnTo>
                <a:lnTo>
                  <a:pt x="909" y="314"/>
                </a:lnTo>
                <a:lnTo>
                  <a:pt x="904" y="343"/>
                </a:lnTo>
                <a:lnTo>
                  <a:pt x="899" y="378"/>
                </a:lnTo>
                <a:lnTo>
                  <a:pt x="895" y="418"/>
                </a:lnTo>
                <a:lnTo>
                  <a:pt x="898" y="462"/>
                </a:lnTo>
                <a:lnTo>
                  <a:pt x="892" y="447"/>
                </a:lnTo>
                <a:lnTo>
                  <a:pt x="885" y="431"/>
                </a:lnTo>
                <a:lnTo>
                  <a:pt x="877" y="415"/>
                </a:lnTo>
                <a:lnTo>
                  <a:pt x="866" y="398"/>
                </a:lnTo>
                <a:lnTo>
                  <a:pt x="855" y="383"/>
                </a:lnTo>
                <a:lnTo>
                  <a:pt x="841" y="370"/>
                </a:lnTo>
                <a:lnTo>
                  <a:pt x="826" y="357"/>
                </a:lnTo>
                <a:lnTo>
                  <a:pt x="808" y="347"/>
                </a:lnTo>
                <a:lnTo>
                  <a:pt x="815" y="363"/>
                </a:lnTo>
                <a:lnTo>
                  <a:pt x="822" y="379"/>
                </a:lnTo>
                <a:lnTo>
                  <a:pt x="830" y="396"/>
                </a:lnTo>
                <a:lnTo>
                  <a:pt x="838" y="412"/>
                </a:lnTo>
                <a:lnTo>
                  <a:pt x="846" y="430"/>
                </a:lnTo>
                <a:lnTo>
                  <a:pt x="854" y="446"/>
                </a:lnTo>
                <a:lnTo>
                  <a:pt x="861" y="461"/>
                </a:lnTo>
                <a:lnTo>
                  <a:pt x="866" y="475"/>
                </a:lnTo>
                <a:lnTo>
                  <a:pt x="872" y="493"/>
                </a:lnTo>
                <a:lnTo>
                  <a:pt x="871" y="502"/>
                </a:lnTo>
                <a:lnTo>
                  <a:pt x="865" y="514"/>
                </a:lnTo>
                <a:lnTo>
                  <a:pt x="860" y="538"/>
                </a:lnTo>
                <a:lnTo>
                  <a:pt x="845" y="516"/>
                </a:lnTo>
                <a:lnTo>
                  <a:pt x="826" y="489"/>
                </a:lnTo>
                <a:lnTo>
                  <a:pt x="804" y="462"/>
                </a:lnTo>
                <a:lnTo>
                  <a:pt x="781" y="433"/>
                </a:lnTo>
                <a:lnTo>
                  <a:pt x="759" y="409"/>
                </a:lnTo>
                <a:lnTo>
                  <a:pt x="739" y="389"/>
                </a:lnTo>
                <a:lnTo>
                  <a:pt x="722" y="379"/>
                </a:lnTo>
                <a:lnTo>
                  <a:pt x="711" y="379"/>
                </a:lnTo>
                <a:lnTo>
                  <a:pt x="704" y="387"/>
                </a:lnTo>
                <a:lnTo>
                  <a:pt x="701" y="395"/>
                </a:lnTo>
                <a:lnTo>
                  <a:pt x="701" y="405"/>
                </a:lnTo>
                <a:lnTo>
                  <a:pt x="704" y="418"/>
                </a:lnTo>
                <a:lnTo>
                  <a:pt x="710" y="432"/>
                </a:lnTo>
                <a:lnTo>
                  <a:pt x="720" y="447"/>
                </a:lnTo>
                <a:lnTo>
                  <a:pt x="734" y="464"/>
                </a:lnTo>
                <a:lnTo>
                  <a:pt x="751" y="483"/>
                </a:lnTo>
                <a:lnTo>
                  <a:pt x="772" y="503"/>
                </a:lnTo>
                <a:lnTo>
                  <a:pt x="793" y="525"/>
                </a:lnTo>
                <a:lnTo>
                  <a:pt x="813" y="549"/>
                </a:lnTo>
                <a:lnTo>
                  <a:pt x="831" y="577"/>
                </a:lnTo>
                <a:lnTo>
                  <a:pt x="846" y="607"/>
                </a:lnTo>
                <a:lnTo>
                  <a:pt x="855" y="643"/>
                </a:lnTo>
                <a:lnTo>
                  <a:pt x="858" y="682"/>
                </a:lnTo>
                <a:lnTo>
                  <a:pt x="855" y="726"/>
                </a:lnTo>
                <a:lnTo>
                  <a:pt x="848" y="707"/>
                </a:lnTo>
                <a:lnTo>
                  <a:pt x="842" y="696"/>
                </a:lnTo>
                <a:lnTo>
                  <a:pt x="836" y="688"/>
                </a:lnTo>
                <a:lnTo>
                  <a:pt x="832" y="682"/>
                </a:lnTo>
                <a:lnTo>
                  <a:pt x="826" y="678"/>
                </a:lnTo>
                <a:lnTo>
                  <a:pt x="819" y="675"/>
                </a:lnTo>
                <a:lnTo>
                  <a:pt x="810" y="669"/>
                </a:lnTo>
                <a:lnTo>
                  <a:pt x="800" y="661"/>
                </a:lnTo>
                <a:lnTo>
                  <a:pt x="789" y="651"/>
                </a:lnTo>
                <a:lnTo>
                  <a:pt x="780" y="642"/>
                </a:lnTo>
                <a:lnTo>
                  <a:pt x="773" y="631"/>
                </a:lnTo>
                <a:lnTo>
                  <a:pt x="767" y="620"/>
                </a:lnTo>
                <a:lnTo>
                  <a:pt x="763" y="609"/>
                </a:lnTo>
                <a:lnTo>
                  <a:pt x="758" y="597"/>
                </a:lnTo>
                <a:lnTo>
                  <a:pt x="752" y="585"/>
                </a:lnTo>
                <a:lnTo>
                  <a:pt x="745" y="571"/>
                </a:lnTo>
                <a:lnTo>
                  <a:pt x="739" y="557"/>
                </a:lnTo>
                <a:lnTo>
                  <a:pt x="731" y="546"/>
                </a:lnTo>
                <a:lnTo>
                  <a:pt x="722" y="536"/>
                </a:lnTo>
                <a:lnTo>
                  <a:pt x="713" y="526"/>
                </a:lnTo>
                <a:lnTo>
                  <a:pt x="704" y="519"/>
                </a:lnTo>
                <a:lnTo>
                  <a:pt x="694" y="514"/>
                </a:lnTo>
                <a:lnTo>
                  <a:pt x="683" y="509"/>
                </a:lnTo>
                <a:lnTo>
                  <a:pt x="672" y="507"/>
                </a:lnTo>
                <a:lnTo>
                  <a:pt x="682" y="521"/>
                </a:lnTo>
                <a:lnTo>
                  <a:pt x="691" y="534"/>
                </a:lnTo>
                <a:lnTo>
                  <a:pt x="701" y="548"/>
                </a:lnTo>
                <a:lnTo>
                  <a:pt x="709" y="563"/>
                </a:lnTo>
                <a:lnTo>
                  <a:pt x="716" y="579"/>
                </a:lnTo>
                <a:lnTo>
                  <a:pt x="721" y="597"/>
                </a:lnTo>
                <a:lnTo>
                  <a:pt x="725" y="616"/>
                </a:lnTo>
                <a:lnTo>
                  <a:pt x="727" y="637"/>
                </a:lnTo>
                <a:lnTo>
                  <a:pt x="728" y="658"/>
                </a:lnTo>
                <a:lnTo>
                  <a:pt x="731" y="677"/>
                </a:lnTo>
                <a:lnTo>
                  <a:pt x="734" y="696"/>
                </a:lnTo>
                <a:lnTo>
                  <a:pt x="739" y="712"/>
                </a:lnTo>
                <a:lnTo>
                  <a:pt x="744" y="728"/>
                </a:lnTo>
                <a:lnTo>
                  <a:pt x="752" y="743"/>
                </a:lnTo>
                <a:lnTo>
                  <a:pt x="762" y="758"/>
                </a:lnTo>
                <a:lnTo>
                  <a:pt x="773" y="773"/>
                </a:lnTo>
                <a:lnTo>
                  <a:pt x="786" y="788"/>
                </a:lnTo>
                <a:lnTo>
                  <a:pt x="800" y="805"/>
                </a:lnTo>
                <a:lnTo>
                  <a:pt x="811" y="822"/>
                </a:lnTo>
                <a:lnTo>
                  <a:pt x="822" y="841"/>
                </a:lnTo>
                <a:lnTo>
                  <a:pt x="830" y="863"/>
                </a:lnTo>
                <a:lnTo>
                  <a:pt x="833" y="886"/>
                </a:lnTo>
                <a:lnTo>
                  <a:pt x="832" y="912"/>
                </a:lnTo>
                <a:lnTo>
                  <a:pt x="826" y="941"/>
                </a:lnTo>
                <a:lnTo>
                  <a:pt x="815" y="933"/>
                </a:lnTo>
                <a:lnTo>
                  <a:pt x="803" y="925"/>
                </a:lnTo>
                <a:lnTo>
                  <a:pt x="793" y="919"/>
                </a:lnTo>
                <a:lnTo>
                  <a:pt x="782" y="913"/>
                </a:lnTo>
                <a:lnTo>
                  <a:pt x="773" y="909"/>
                </a:lnTo>
                <a:lnTo>
                  <a:pt x="764" y="905"/>
                </a:lnTo>
                <a:lnTo>
                  <a:pt x="755" y="903"/>
                </a:lnTo>
                <a:lnTo>
                  <a:pt x="745" y="902"/>
                </a:lnTo>
                <a:lnTo>
                  <a:pt x="757" y="917"/>
                </a:lnTo>
                <a:lnTo>
                  <a:pt x="766" y="933"/>
                </a:lnTo>
                <a:lnTo>
                  <a:pt x="772" y="951"/>
                </a:lnTo>
                <a:lnTo>
                  <a:pt x="775" y="969"/>
                </a:lnTo>
                <a:lnTo>
                  <a:pt x="775" y="988"/>
                </a:lnTo>
                <a:lnTo>
                  <a:pt x="774" y="1008"/>
                </a:lnTo>
                <a:lnTo>
                  <a:pt x="770" y="1029"/>
                </a:lnTo>
                <a:lnTo>
                  <a:pt x="764" y="1049"/>
                </a:lnTo>
                <a:lnTo>
                  <a:pt x="759" y="1060"/>
                </a:lnTo>
                <a:lnTo>
                  <a:pt x="752" y="1070"/>
                </a:lnTo>
                <a:lnTo>
                  <a:pt x="744" y="1080"/>
                </a:lnTo>
                <a:lnTo>
                  <a:pt x="735" y="1091"/>
                </a:lnTo>
                <a:lnTo>
                  <a:pt x="724" y="1100"/>
                </a:lnTo>
                <a:lnTo>
                  <a:pt x="711" y="1109"/>
                </a:lnTo>
                <a:lnTo>
                  <a:pt x="697" y="1117"/>
                </a:lnTo>
                <a:lnTo>
                  <a:pt x="682" y="1125"/>
                </a:lnTo>
                <a:lnTo>
                  <a:pt x="666" y="1132"/>
                </a:lnTo>
                <a:lnTo>
                  <a:pt x="649" y="1138"/>
                </a:lnTo>
                <a:lnTo>
                  <a:pt x="631" y="1143"/>
                </a:lnTo>
                <a:lnTo>
                  <a:pt x="613" y="1147"/>
                </a:lnTo>
                <a:lnTo>
                  <a:pt x="595" y="1150"/>
                </a:lnTo>
                <a:lnTo>
                  <a:pt x="575" y="1151"/>
                </a:lnTo>
                <a:lnTo>
                  <a:pt x="555" y="1151"/>
                </a:lnTo>
                <a:lnTo>
                  <a:pt x="536" y="1150"/>
                </a:lnTo>
                <a:lnTo>
                  <a:pt x="524" y="1147"/>
                </a:lnTo>
                <a:lnTo>
                  <a:pt x="513" y="1145"/>
                </a:lnTo>
                <a:lnTo>
                  <a:pt x="501" y="1142"/>
                </a:lnTo>
                <a:lnTo>
                  <a:pt x="490" y="1138"/>
                </a:lnTo>
                <a:lnTo>
                  <a:pt x="478" y="1135"/>
                </a:lnTo>
                <a:lnTo>
                  <a:pt x="467" y="1130"/>
                </a:lnTo>
                <a:lnTo>
                  <a:pt x="455" y="1125"/>
                </a:lnTo>
                <a:lnTo>
                  <a:pt x="444" y="1122"/>
                </a:lnTo>
                <a:lnTo>
                  <a:pt x="431" y="1119"/>
                </a:lnTo>
                <a:lnTo>
                  <a:pt x="419" y="1115"/>
                </a:lnTo>
                <a:lnTo>
                  <a:pt x="408" y="1113"/>
                </a:lnTo>
                <a:lnTo>
                  <a:pt x="395" y="1112"/>
                </a:lnTo>
                <a:lnTo>
                  <a:pt x="383" y="1110"/>
                </a:lnTo>
                <a:lnTo>
                  <a:pt x="370" y="1112"/>
                </a:lnTo>
                <a:lnTo>
                  <a:pt x="357" y="1114"/>
                </a:lnTo>
                <a:lnTo>
                  <a:pt x="345" y="1117"/>
                </a:lnTo>
                <a:lnTo>
                  <a:pt x="355" y="1104"/>
                </a:lnTo>
                <a:lnTo>
                  <a:pt x="365" y="1093"/>
                </a:lnTo>
                <a:lnTo>
                  <a:pt x="376" y="1084"/>
                </a:lnTo>
                <a:lnTo>
                  <a:pt x="386" y="1077"/>
                </a:lnTo>
                <a:lnTo>
                  <a:pt x="399" y="1071"/>
                </a:lnTo>
                <a:lnTo>
                  <a:pt x="413" y="1067"/>
                </a:lnTo>
                <a:lnTo>
                  <a:pt x="429" y="1062"/>
                </a:lnTo>
                <a:lnTo>
                  <a:pt x="447" y="1059"/>
                </a:lnTo>
                <a:lnTo>
                  <a:pt x="468" y="1053"/>
                </a:lnTo>
                <a:lnTo>
                  <a:pt x="489" y="1045"/>
                </a:lnTo>
                <a:lnTo>
                  <a:pt x="508" y="1033"/>
                </a:lnTo>
                <a:lnTo>
                  <a:pt x="528" y="1018"/>
                </a:lnTo>
                <a:lnTo>
                  <a:pt x="544" y="1000"/>
                </a:lnTo>
                <a:lnTo>
                  <a:pt x="558" y="977"/>
                </a:lnTo>
                <a:lnTo>
                  <a:pt x="569" y="949"/>
                </a:lnTo>
                <a:lnTo>
                  <a:pt x="575" y="917"/>
                </a:lnTo>
                <a:lnTo>
                  <a:pt x="560" y="931"/>
                </a:lnTo>
                <a:lnTo>
                  <a:pt x="545" y="946"/>
                </a:lnTo>
                <a:lnTo>
                  <a:pt x="530" y="961"/>
                </a:lnTo>
                <a:lnTo>
                  <a:pt x="515" y="976"/>
                </a:lnTo>
                <a:lnTo>
                  <a:pt x="498" y="989"/>
                </a:lnTo>
                <a:lnTo>
                  <a:pt x="479" y="1001"/>
                </a:lnTo>
                <a:lnTo>
                  <a:pt x="457" y="1010"/>
                </a:lnTo>
                <a:lnTo>
                  <a:pt x="431" y="1016"/>
                </a:lnTo>
                <a:lnTo>
                  <a:pt x="404" y="1021"/>
                </a:lnTo>
                <a:lnTo>
                  <a:pt x="378" y="1025"/>
                </a:lnTo>
                <a:lnTo>
                  <a:pt x="352" y="1032"/>
                </a:lnTo>
                <a:lnTo>
                  <a:pt x="327" y="1039"/>
                </a:lnTo>
                <a:lnTo>
                  <a:pt x="305" y="1048"/>
                </a:lnTo>
                <a:lnTo>
                  <a:pt x="285" y="1059"/>
                </a:lnTo>
                <a:lnTo>
                  <a:pt x="266" y="1070"/>
                </a:lnTo>
                <a:lnTo>
                  <a:pt x="251" y="1083"/>
                </a:lnTo>
                <a:lnTo>
                  <a:pt x="237" y="1098"/>
                </a:lnTo>
                <a:lnTo>
                  <a:pt x="221" y="1113"/>
                </a:lnTo>
                <a:lnTo>
                  <a:pt x="205" y="1128"/>
                </a:lnTo>
                <a:lnTo>
                  <a:pt x="187" y="1140"/>
                </a:lnTo>
                <a:lnTo>
                  <a:pt x="168" y="1151"/>
                </a:lnTo>
                <a:lnTo>
                  <a:pt x="146" y="1155"/>
                </a:lnTo>
                <a:lnTo>
                  <a:pt x="125" y="1154"/>
                </a:lnTo>
                <a:lnTo>
                  <a:pt x="100" y="1145"/>
                </a:lnTo>
                <a:lnTo>
                  <a:pt x="100" y="1137"/>
                </a:lnTo>
                <a:lnTo>
                  <a:pt x="102" y="1129"/>
                </a:lnTo>
                <a:lnTo>
                  <a:pt x="104" y="1120"/>
                </a:lnTo>
                <a:lnTo>
                  <a:pt x="110" y="1109"/>
                </a:lnTo>
                <a:lnTo>
                  <a:pt x="118" y="1099"/>
                </a:lnTo>
                <a:lnTo>
                  <a:pt x="128" y="1087"/>
                </a:lnTo>
                <a:lnTo>
                  <a:pt x="142" y="1075"/>
                </a:lnTo>
                <a:lnTo>
                  <a:pt x="158" y="1061"/>
                </a:lnTo>
                <a:lnTo>
                  <a:pt x="176" y="1046"/>
                </a:lnTo>
                <a:lnTo>
                  <a:pt x="193" y="1027"/>
                </a:lnTo>
                <a:lnTo>
                  <a:pt x="208" y="1008"/>
                </a:lnTo>
                <a:lnTo>
                  <a:pt x="220" y="985"/>
                </a:lnTo>
                <a:lnTo>
                  <a:pt x="229" y="960"/>
                </a:lnTo>
                <a:lnTo>
                  <a:pt x="233" y="933"/>
                </a:lnTo>
                <a:lnTo>
                  <a:pt x="232" y="904"/>
                </a:lnTo>
                <a:lnTo>
                  <a:pt x="225" y="874"/>
                </a:lnTo>
                <a:lnTo>
                  <a:pt x="221" y="893"/>
                </a:lnTo>
                <a:lnTo>
                  <a:pt x="216" y="913"/>
                </a:lnTo>
                <a:lnTo>
                  <a:pt x="209" y="935"/>
                </a:lnTo>
                <a:lnTo>
                  <a:pt x="202" y="956"/>
                </a:lnTo>
                <a:lnTo>
                  <a:pt x="193" y="976"/>
                </a:lnTo>
                <a:lnTo>
                  <a:pt x="182" y="993"/>
                </a:lnTo>
                <a:lnTo>
                  <a:pt x="171" y="1006"/>
                </a:lnTo>
                <a:lnTo>
                  <a:pt x="158" y="1014"/>
                </a:lnTo>
                <a:lnTo>
                  <a:pt x="145" y="1018"/>
                </a:lnTo>
                <a:lnTo>
                  <a:pt x="135" y="1023"/>
                </a:lnTo>
                <a:lnTo>
                  <a:pt x="125" y="1026"/>
                </a:lnTo>
                <a:lnTo>
                  <a:pt x="117" y="1032"/>
                </a:lnTo>
                <a:lnTo>
                  <a:pt x="107" y="1038"/>
                </a:lnTo>
                <a:lnTo>
                  <a:pt x="100" y="1045"/>
                </a:lnTo>
                <a:lnTo>
                  <a:pt x="92" y="1054"/>
                </a:lnTo>
                <a:lnTo>
                  <a:pt x="85" y="1064"/>
                </a:lnTo>
                <a:lnTo>
                  <a:pt x="87" y="1031"/>
                </a:lnTo>
                <a:lnTo>
                  <a:pt x="93" y="1000"/>
                </a:lnTo>
                <a:lnTo>
                  <a:pt x="103" y="968"/>
                </a:lnTo>
                <a:lnTo>
                  <a:pt x="113" y="933"/>
                </a:lnTo>
                <a:lnTo>
                  <a:pt x="117" y="913"/>
                </a:lnTo>
                <a:lnTo>
                  <a:pt x="120" y="890"/>
                </a:lnTo>
                <a:lnTo>
                  <a:pt x="122" y="865"/>
                </a:lnTo>
                <a:lnTo>
                  <a:pt x="122" y="839"/>
                </a:lnTo>
                <a:lnTo>
                  <a:pt x="120" y="811"/>
                </a:lnTo>
                <a:lnTo>
                  <a:pt x="114" y="784"/>
                </a:lnTo>
                <a:lnTo>
                  <a:pt x="105" y="758"/>
                </a:lnTo>
                <a:lnTo>
                  <a:pt x="91" y="734"/>
                </a:lnTo>
                <a:lnTo>
                  <a:pt x="75" y="710"/>
                </a:lnTo>
                <a:lnTo>
                  <a:pt x="58" y="683"/>
                </a:lnTo>
                <a:lnTo>
                  <a:pt x="42" y="655"/>
                </a:lnTo>
                <a:lnTo>
                  <a:pt x="27" y="625"/>
                </a:lnTo>
                <a:lnTo>
                  <a:pt x="14" y="595"/>
                </a:lnTo>
                <a:lnTo>
                  <a:pt x="5" y="566"/>
                </a:lnTo>
                <a:lnTo>
                  <a:pt x="0" y="536"/>
                </a:lnTo>
                <a:lnTo>
                  <a:pt x="0" y="507"/>
                </a:lnTo>
                <a:lnTo>
                  <a:pt x="5" y="480"/>
                </a:lnTo>
                <a:lnTo>
                  <a:pt x="11" y="455"/>
                </a:lnTo>
                <a:lnTo>
                  <a:pt x="17" y="432"/>
                </a:lnTo>
                <a:lnTo>
                  <a:pt x="27" y="410"/>
                </a:lnTo>
                <a:lnTo>
                  <a:pt x="35" y="390"/>
                </a:lnTo>
                <a:lnTo>
                  <a:pt x="45" y="372"/>
                </a:lnTo>
                <a:lnTo>
                  <a:pt x="54" y="355"/>
                </a:lnTo>
                <a:lnTo>
                  <a:pt x="62" y="339"/>
                </a:lnTo>
                <a:lnTo>
                  <a:pt x="70" y="321"/>
                </a:lnTo>
                <a:lnTo>
                  <a:pt x="78" y="302"/>
                </a:lnTo>
                <a:lnTo>
                  <a:pt x="88" y="281"/>
                </a:lnTo>
                <a:lnTo>
                  <a:pt x="95" y="259"/>
                </a:lnTo>
                <a:lnTo>
                  <a:pt x="102" y="238"/>
                </a:lnTo>
                <a:lnTo>
                  <a:pt x="106" y="218"/>
                </a:lnTo>
                <a:lnTo>
                  <a:pt x="110" y="199"/>
                </a:lnTo>
                <a:lnTo>
                  <a:pt x="110" y="184"/>
                </a:lnTo>
                <a:lnTo>
                  <a:pt x="119" y="180"/>
                </a:lnTo>
                <a:lnTo>
                  <a:pt x="133" y="173"/>
                </a:lnTo>
                <a:lnTo>
                  <a:pt x="149" y="165"/>
                </a:lnTo>
                <a:lnTo>
                  <a:pt x="167" y="155"/>
                </a:lnTo>
                <a:lnTo>
                  <a:pt x="184" y="146"/>
                </a:lnTo>
                <a:lnTo>
                  <a:pt x="201" y="138"/>
                </a:lnTo>
                <a:lnTo>
                  <a:pt x="213" y="131"/>
                </a:lnTo>
                <a:lnTo>
                  <a:pt x="221" y="12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6" name="Freeform 19"/>
          <p:cNvSpPr/>
          <p:nvPr/>
        </p:nvSpPr>
        <p:spPr>
          <a:xfrm>
            <a:off x="2014560" y="4151160"/>
            <a:ext cx="217440" cy="198720"/>
          </a:xfrm>
          <a:custGeom>
            <a:avLst/>
            <a:gdLst/>
            <a:ahLst/>
            <a:rect l="l" t="t" r="r" b="b"/>
            <a:pathLst>
              <a:path w="274" h="250">
                <a:moveTo>
                  <a:pt x="0" y="0"/>
                </a:moveTo>
                <a:lnTo>
                  <a:pt x="15" y="2"/>
                </a:lnTo>
                <a:lnTo>
                  <a:pt x="36" y="3"/>
                </a:lnTo>
                <a:lnTo>
                  <a:pt x="59" y="5"/>
                </a:lnTo>
                <a:lnTo>
                  <a:pt x="84" y="7"/>
                </a:lnTo>
                <a:lnTo>
                  <a:pt x="109" y="11"/>
                </a:lnTo>
                <a:lnTo>
                  <a:pt x="135" y="16"/>
                </a:lnTo>
                <a:lnTo>
                  <a:pt x="159" y="24"/>
                </a:lnTo>
                <a:lnTo>
                  <a:pt x="181" y="34"/>
                </a:lnTo>
                <a:lnTo>
                  <a:pt x="203" y="48"/>
                </a:lnTo>
                <a:lnTo>
                  <a:pt x="224" y="66"/>
                </a:lnTo>
                <a:lnTo>
                  <a:pt x="245" y="87"/>
                </a:lnTo>
                <a:lnTo>
                  <a:pt x="262" y="113"/>
                </a:lnTo>
                <a:lnTo>
                  <a:pt x="273" y="142"/>
                </a:lnTo>
                <a:lnTo>
                  <a:pt x="274" y="174"/>
                </a:lnTo>
                <a:lnTo>
                  <a:pt x="264" y="210"/>
                </a:lnTo>
                <a:lnTo>
                  <a:pt x="238" y="250"/>
                </a:lnTo>
                <a:lnTo>
                  <a:pt x="243" y="228"/>
                </a:lnTo>
                <a:lnTo>
                  <a:pt x="245" y="205"/>
                </a:lnTo>
                <a:lnTo>
                  <a:pt x="248" y="181"/>
                </a:lnTo>
                <a:lnTo>
                  <a:pt x="245" y="157"/>
                </a:lnTo>
                <a:lnTo>
                  <a:pt x="239" y="134"/>
                </a:lnTo>
                <a:lnTo>
                  <a:pt x="228" y="111"/>
                </a:lnTo>
                <a:lnTo>
                  <a:pt x="211" y="90"/>
                </a:lnTo>
                <a:lnTo>
                  <a:pt x="186" y="71"/>
                </a:lnTo>
                <a:lnTo>
                  <a:pt x="171" y="63"/>
                </a:lnTo>
                <a:lnTo>
                  <a:pt x="158" y="56"/>
                </a:lnTo>
                <a:lnTo>
                  <a:pt x="144" y="49"/>
                </a:lnTo>
                <a:lnTo>
                  <a:pt x="129" y="44"/>
                </a:lnTo>
                <a:lnTo>
                  <a:pt x="115" y="39"/>
                </a:lnTo>
                <a:lnTo>
                  <a:pt x="102" y="34"/>
                </a:lnTo>
                <a:lnTo>
                  <a:pt x="89" y="30"/>
                </a:lnTo>
                <a:lnTo>
                  <a:pt x="76" y="26"/>
                </a:lnTo>
                <a:lnTo>
                  <a:pt x="64" y="23"/>
                </a:lnTo>
                <a:lnTo>
                  <a:pt x="53" y="19"/>
                </a:lnTo>
                <a:lnTo>
                  <a:pt x="41" y="17"/>
                </a:lnTo>
                <a:lnTo>
                  <a:pt x="32" y="14"/>
                </a:lnTo>
                <a:lnTo>
                  <a:pt x="23" y="10"/>
                </a:lnTo>
                <a:lnTo>
                  <a:pt x="14" y="7"/>
                </a:lnTo>
                <a:lnTo>
                  <a:pt x="7" y="3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7" name="Freeform 20"/>
          <p:cNvSpPr/>
          <p:nvPr/>
        </p:nvSpPr>
        <p:spPr>
          <a:xfrm>
            <a:off x="2130480" y="4246560"/>
            <a:ext cx="169920" cy="185760"/>
          </a:xfrm>
          <a:custGeom>
            <a:avLst/>
            <a:gdLst/>
            <a:ahLst/>
            <a:rect l="l" t="t" r="r" b="b"/>
            <a:pathLst>
              <a:path w="214" h="235">
                <a:moveTo>
                  <a:pt x="0" y="235"/>
                </a:moveTo>
                <a:lnTo>
                  <a:pt x="11" y="221"/>
                </a:lnTo>
                <a:lnTo>
                  <a:pt x="21" y="209"/>
                </a:lnTo>
                <a:lnTo>
                  <a:pt x="32" y="200"/>
                </a:lnTo>
                <a:lnTo>
                  <a:pt x="45" y="192"/>
                </a:lnTo>
                <a:lnTo>
                  <a:pt x="60" y="184"/>
                </a:lnTo>
                <a:lnTo>
                  <a:pt x="76" y="176"/>
                </a:lnTo>
                <a:lnTo>
                  <a:pt x="93" y="168"/>
                </a:lnTo>
                <a:lnTo>
                  <a:pt x="114" y="158"/>
                </a:lnTo>
                <a:lnTo>
                  <a:pt x="135" y="145"/>
                </a:lnTo>
                <a:lnTo>
                  <a:pt x="155" y="131"/>
                </a:lnTo>
                <a:lnTo>
                  <a:pt x="171" y="114"/>
                </a:lnTo>
                <a:lnTo>
                  <a:pt x="182" y="95"/>
                </a:lnTo>
                <a:lnTo>
                  <a:pt x="190" y="75"/>
                </a:lnTo>
                <a:lnTo>
                  <a:pt x="193" y="52"/>
                </a:lnTo>
                <a:lnTo>
                  <a:pt x="188" y="26"/>
                </a:lnTo>
                <a:lnTo>
                  <a:pt x="178" y="0"/>
                </a:lnTo>
                <a:lnTo>
                  <a:pt x="194" y="15"/>
                </a:lnTo>
                <a:lnTo>
                  <a:pt x="205" y="34"/>
                </a:lnTo>
                <a:lnTo>
                  <a:pt x="212" y="58"/>
                </a:lnTo>
                <a:lnTo>
                  <a:pt x="214" y="83"/>
                </a:lnTo>
                <a:lnTo>
                  <a:pt x="211" y="108"/>
                </a:lnTo>
                <a:lnTo>
                  <a:pt x="201" y="132"/>
                </a:lnTo>
                <a:lnTo>
                  <a:pt x="182" y="154"/>
                </a:lnTo>
                <a:lnTo>
                  <a:pt x="157" y="170"/>
                </a:lnTo>
                <a:lnTo>
                  <a:pt x="137" y="178"/>
                </a:lnTo>
                <a:lnTo>
                  <a:pt x="116" y="186"/>
                </a:lnTo>
                <a:lnTo>
                  <a:pt x="97" y="193"/>
                </a:lnTo>
                <a:lnTo>
                  <a:pt x="76" y="199"/>
                </a:lnTo>
                <a:lnTo>
                  <a:pt x="57" y="207"/>
                </a:lnTo>
                <a:lnTo>
                  <a:pt x="37" y="214"/>
                </a:lnTo>
                <a:lnTo>
                  <a:pt x="17" y="223"/>
                </a:lnTo>
                <a:lnTo>
                  <a:pt x="0" y="23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8" name="Freeform 21"/>
          <p:cNvSpPr/>
          <p:nvPr/>
        </p:nvSpPr>
        <p:spPr>
          <a:xfrm>
            <a:off x="2214720" y="4098960"/>
            <a:ext cx="214200" cy="66600"/>
          </a:xfrm>
          <a:custGeom>
            <a:avLst/>
            <a:gdLst/>
            <a:ahLst/>
            <a:rect l="l" t="t" r="r" b="b"/>
            <a:pathLst>
              <a:path w="270" h="83">
                <a:moveTo>
                  <a:pt x="0" y="13"/>
                </a:moveTo>
                <a:lnTo>
                  <a:pt x="9" y="18"/>
                </a:lnTo>
                <a:lnTo>
                  <a:pt x="20" y="22"/>
                </a:lnTo>
                <a:lnTo>
                  <a:pt x="34" y="27"/>
                </a:lnTo>
                <a:lnTo>
                  <a:pt x="47" y="30"/>
                </a:lnTo>
                <a:lnTo>
                  <a:pt x="63" y="34"/>
                </a:lnTo>
                <a:lnTo>
                  <a:pt x="80" y="37"/>
                </a:lnTo>
                <a:lnTo>
                  <a:pt x="98" y="39"/>
                </a:lnTo>
                <a:lnTo>
                  <a:pt x="116" y="41"/>
                </a:lnTo>
                <a:lnTo>
                  <a:pt x="136" y="42"/>
                </a:lnTo>
                <a:lnTo>
                  <a:pt x="156" y="41"/>
                </a:lnTo>
                <a:lnTo>
                  <a:pt x="175" y="38"/>
                </a:lnTo>
                <a:lnTo>
                  <a:pt x="195" y="35"/>
                </a:lnTo>
                <a:lnTo>
                  <a:pt x="214" y="29"/>
                </a:lnTo>
                <a:lnTo>
                  <a:pt x="234" y="22"/>
                </a:lnTo>
                <a:lnTo>
                  <a:pt x="252" y="12"/>
                </a:lnTo>
                <a:lnTo>
                  <a:pt x="270" y="0"/>
                </a:lnTo>
                <a:lnTo>
                  <a:pt x="259" y="18"/>
                </a:lnTo>
                <a:lnTo>
                  <a:pt x="245" y="34"/>
                </a:lnTo>
                <a:lnTo>
                  <a:pt x="232" y="47"/>
                </a:lnTo>
                <a:lnTo>
                  <a:pt x="214" y="59"/>
                </a:lnTo>
                <a:lnTo>
                  <a:pt x="197" y="68"/>
                </a:lnTo>
                <a:lnTo>
                  <a:pt x="179" y="75"/>
                </a:lnTo>
                <a:lnTo>
                  <a:pt x="160" y="81"/>
                </a:lnTo>
                <a:lnTo>
                  <a:pt x="141" y="83"/>
                </a:lnTo>
                <a:lnTo>
                  <a:pt x="120" y="83"/>
                </a:lnTo>
                <a:lnTo>
                  <a:pt x="100" y="81"/>
                </a:lnTo>
                <a:lnTo>
                  <a:pt x="81" y="76"/>
                </a:lnTo>
                <a:lnTo>
                  <a:pt x="62" y="68"/>
                </a:lnTo>
                <a:lnTo>
                  <a:pt x="45" y="59"/>
                </a:lnTo>
                <a:lnTo>
                  <a:pt x="29" y="46"/>
                </a:lnTo>
                <a:lnTo>
                  <a:pt x="14" y="31"/>
                </a:lnTo>
                <a:lnTo>
                  <a:pt x="0" y="1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9" name="Freeform 22"/>
          <p:cNvSpPr/>
          <p:nvPr/>
        </p:nvSpPr>
        <p:spPr>
          <a:xfrm>
            <a:off x="2028960" y="3930480"/>
            <a:ext cx="145800" cy="209880"/>
          </a:xfrm>
          <a:custGeom>
            <a:avLst/>
            <a:gdLst/>
            <a:ahLst/>
            <a:rect l="l" t="t" r="r" b="b"/>
            <a:pathLst>
              <a:path w="185" h="264">
                <a:moveTo>
                  <a:pt x="0" y="75"/>
                </a:moveTo>
                <a:lnTo>
                  <a:pt x="22" y="144"/>
                </a:lnTo>
                <a:lnTo>
                  <a:pt x="99" y="102"/>
                </a:lnTo>
                <a:lnTo>
                  <a:pt x="96" y="117"/>
                </a:lnTo>
                <a:lnTo>
                  <a:pt x="92" y="134"/>
                </a:lnTo>
                <a:lnTo>
                  <a:pt x="90" y="153"/>
                </a:lnTo>
                <a:lnTo>
                  <a:pt x="90" y="175"/>
                </a:lnTo>
                <a:lnTo>
                  <a:pt x="91" y="197"/>
                </a:lnTo>
                <a:lnTo>
                  <a:pt x="97" y="220"/>
                </a:lnTo>
                <a:lnTo>
                  <a:pt x="106" y="242"/>
                </a:lnTo>
                <a:lnTo>
                  <a:pt x="120" y="264"/>
                </a:lnTo>
                <a:lnTo>
                  <a:pt x="171" y="243"/>
                </a:lnTo>
                <a:lnTo>
                  <a:pt x="165" y="226"/>
                </a:lnTo>
                <a:lnTo>
                  <a:pt x="158" y="208"/>
                </a:lnTo>
                <a:lnTo>
                  <a:pt x="151" y="188"/>
                </a:lnTo>
                <a:lnTo>
                  <a:pt x="147" y="166"/>
                </a:lnTo>
                <a:lnTo>
                  <a:pt x="147" y="143"/>
                </a:lnTo>
                <a:lnTo>
                  <a:pt x="151" y="119"/>
                </a:lnTo>
                <a:lnTo>
                  <a:pt x="164" y="94"/>
                </a:lnTo>
                <a:lnTo>
                  <a:pt x="185" y="67"/>
                </a:lnTo>
                <a:lnTo>
                  <a:pt x="163" y="0"/>
                </a:lnTo>
                <a:lnTo>
                  <a:pt x="0" y="7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0" name="Freeform 23"/>
          <p:cNvSpPr/>
          <p:nvPr/>
        </p:nvSpPr>
        <p:spPr>
          <a:xfrm>
            <a:off x="2027160" y="4530600"/>
            <a:ext cx="490680" cy="84240"/>
          </a:xfrm>
          <a:custGeom>
            <a:avLst/>
            <a:gdLst/>
            <a:ahLst/>
            <a:rect l="l" t="t" r="r" b="b"/>
            <a:pathLst>
              <a:path w="617" h="106">
                <a:moveTo>
                  <a:pt x="0" y="47"/>
                </a:moveTo>
                <a:lnTo>
                  <a:pt x="7" y="45"/>
                </a:lnTo>
                <a:lnTo>
                  <a:pt x="16" y="41"/>
                </a:lnTo>
                <a:lnTo>
                  <a:pt x="25" y="38"/>
                </a:lnTo>
                <a:lnTo>
                  <a:pt x="37" y="33"/>
                </a:lnTo>
                <a:lnTo>
                  <a:pt x="48" y="30"/>
                </a:lnTo>
                <a:lnTo>
                  <a:pt x="61" y="27"/>
                </a:lnTo>
                <a:lnTo>
                  <a:pt x="74" y="23"/>
                </a:lnTo>
                <a:lnTo>
                  <a:pt x="88" y="20"/>
                </a:lnTo>
                <a:lnTo>
                  <a:pt x="101" y="17"/>
                </a:lnTo>
                <a:lnTo>
                  <a:pt x="115" y="15"/>
                </a:lnTo>
                <a:lnTo>
                  <a:pt x="129" y="14"/>
                </a:lnTo>
                <a:lnTo>
                  <a:pt x="143" y="14"/>
                </a:lnTo>
                <a:lnTo>
                  <a:pt x="155" y="14"/>
                </a:lnTo>
                <a:lnTo>
                  <a:pt x="168" y="16"/>
                </a:lnTo>
                <a:lnTo>
                  <a:pt x="181" y="18"/>
                </a:lnTo>
                <a:lnTo>
                  <a:pt x="192" y="23"/>
                </a:lnTo>
                <a:lnTo>
                  <a:pt x="204" y="28"/>
                </a:lnTo>
                <a:lnTo>
                  <a:pt x="217" y="32"/>
                </a:lnTo>
                <a:lnTo>
                  <a:pt x="229" y="38"/>
                </a:lnTo>
                <a:lnTo>
                  <a:pt x="244" y="41"/>
                </a:lnTo>
                <a:lnTo>
                  <a:pt x="259" y="46"/>
                </a:lnTo>
                <a:lnTo>
                  <a:pt x="275" y="50"/>
                </a:lnTo>
                <a:lnTo>
                  <a:pt x="291" y="53"/>
                </a:lnTo>
                <a:lnTo>
                  <a:pt x="309" y="56"/>
                </a:lnTo>
                <a:lnTo>
                  <a:pt x="325" y="59"/>
                </a:lnTo>
                <a:lnTo>
                  <a:pt x="342" y="61"/>
                </a:lnTo>
                <a:lnTo>
                  <a:pt x="359" y="63"/>
                </a:lnTo>
                <a:lnTo>
                  <a:pt x="376" y="63"/>
                </a:lnTo>
                <a:lnTo>
                  <a:pt x="392" y="63"/>
                </a:lnTo>
                <a:lnTo>
                  <a:pt x="408" y="63"/>
                </a:lnTo>
                <a:lnTo>
                  <a:pt x="423" y="62"/>
                </a:lnTo>
                <a:lnTo>
                  <a:pt x="437" y="60"/>
                </a:lnTo>
                <a:lnTo>
                  <a:pt x="463" y="55"/>
                </a:lnTo>
                <a:lnTo>
                  <a:pt x="488" y="52"/>
                </a:lnTo>
                <a:lnTo>
                  <a:pt x="514" y="48"/>
                </a:lnTo>
                <a:lnTo>
                  <a:pt x="538" y="44"/>
                </a:lnTo>
                <a:lnTo>
                  <a:pt x="560" y="37"/>
                </a:lnTo>
                <a:lnTo>
                  <a:pt x="582" y="28"/>
                </a:lnTo>
                <a:lnTo>
                  <a:pt x="600" y="16"/>
                </a:lnTo>
                <a:lnTo>
                  <a:pt x="617" y="0"/>
                </a:lnTo>
                <a:lnTo>
                  <a:pt x="617" y="48"/>
                </a:lnTo>
                <a:lnTo>
                  <a:pt x="609" y="53"/>
                </a:lnTo>
                <a:lnTo>
                  <a:pt x="597" y="59"/>
                </a:lnTo>
                <a:lnTo>
                  <a:pt x="581" y="67"/>
                </a:lnTo>
                <a:lnTo>
                  <a:pt x="561" y="76"/>
                </a:lnTo>
                <a:lnTo>
                  <a:pt x="539" y="85"/>
                </a:lnTo>
                <a:lnTo>
                  <a:pt x="515" y="93"/>
                </a:lnTo>
                <a:lnTo>
                  <a:pt x="490" y="99"/>
                </a:lnTo>
                <a:lnTo>
                  <a:pt x="463" y="104"/>
                </a:lnTo>
                <a:lnTo>
                  <a:pt x="449" y="105"/>
                </a:lnTo>
                <a:lnTo>
                  <a:pt x="434" y="106"/>
                </a:lnTo>
                <a:lnTo>
                  <a:pt x="418" y="106"/>
                </a:lnTo>
                <a:lnTo>
                  <a:pt x="402" y="106"/>
                </a:lnTo>
                <a:lnTo>
                  <a:pt x="385" y="106"/>
                </a:lnTo>
                <a:lnTo>
                  <a:pt x="367" y="106"/>
                </a:lnTo>
                <a:lnTo>
                  <a:pt x="350" y="105"/>
                </a:lnTo>
                <a:lnTo>
                  <a:pt x="332" y="103"/>
                </a:lnTo>
                <a:lnTo>
                  <a:pt x="314" y="101"/>
                </a:lnTo>
                <a:lnTo>
                  <a:pt x="297" y="99"/>
                </a:lnTo>
                <a:lnTo>
                  <a:pt x="280" y="96"/>
                </a:lnTo>
                <a:lnTo>
                  <a:pt x="264" y="92"/>
                </a:lnTo>
                <a:lnTo>
                  <a:pt x="249" y="88"/>
                </a:lnTo>
                <a:lnTo>
                  <a:pt x="234" y="83"/>
                </a:lnTo>
                <a:lnTo>
                  <a:pt x="220" y="77"/>
                </a:lnTo>
                <a:lnTo>
                  <a:pt x="207" y="71"/>
                </a:lnTo>
                <a:lnTo>
                  <a:pt x="196" y="66"/>
                </a:lnTo>
                <a:lnTo>
                  <a:pt x="183" y="60"/>
                </a:lnTo>
                <a:lnTo>
                  <a:pt x="170" y="55"/>
                </a:lnTo>
                <a:lnTo>
                  <a:pt x="157" y="52"/>
                </a:lnTo>
                <a:lnTo>
                  <a:pt x="144" y="48"/>
                </a:lnTo>
                <a:lnTo>
                  <a:pt x="130" y="46"/>
                </a:lnTo>
                <a:lnTo>
                  <a:pt x="117" y="45"/>
                </a:lnTo>
                <a:lnTo>
                  <a:pt x="104" y="44"/>
                </a:lnTo>
                <a:lnTo>
                  <a:pt x="90" y="43"/>
                </a:lnTo>
                <a:lnTo>
                  <a:pt x="77" y="43"/>
                </a:lnTo>
                <a:lnTo>
                  <a:pt x="63" y="43"/>
                </a:lnTo>
                <a:lnTo>
                  <a:pt x="51" y="43"/>
                </a:lnTo>
                <a:lnTo>
                  <a:pt x="37" y="44"/>
                </a:lnTo>
                <a:lnTo>
                  <a:pt x="24" y="45"/>
                </a:lnTo>
                <a:lnTo>
                  <a:pt x="11" y="46"/>
                </a:lnTo>
                <a:lnTo>
                  <a:pt x="0" y="4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1" name="Freeform 24"/>
          <p:cNvSpPr/>
          <p:nvPr/>
        </p:nvSpPr>
        <p:spPr>
          <a:xfrm>
            <a:off x="2349360" y="4637160"/>
            <a:ext cx="38160" cy="264960"/>
          </a:xfrm>
          <a:custGeom>
            <a:avLst/>
            <a:gdLst/>
            <a:ahLst/>
            <a:rect l="l" t="t" r="r" b="b"/>
            <a:pathLst>
              <a:path w="47" h="333">
                <a:moveTo>
                  <a:pt x="13" y="0"/>
                </a:moveTo>
                <a:lnTo>
                  <a:pt x="19" y="26"/>
                </a:lnTo>
                <a:lnTo>
                  <a:pt x="23" y="70"/>
                </a:lnTo>
                <a:lnTo>
                  <a:pt x="20" y="122"/>
                </a:lnTo>
                <a:lnTo>
                  <a:pt x="10" y="170"/>
                </a:lnTo>
                <a:lnTo>
                  <a:pt x="1" y="213"/>
                </a:lnTo>
                <a:lnTo>
                  <a:pt x="0" y="253"/>
                </a:lnTo>
                <a:lnTo>
                  <a:pt x="7" y="294"/>
                </a:lnTo>
                <a:lnTo>
                  <a:pt x="22" y="333"/>
                </a:lnTo>
                <a:lnTo>
                  <a:pt x="18" y="298"/>
                </a:lnTo>
                <a:lnTo>
                  <a:pt x="17" y="257"/>
                </a:lnTo>
                <a:lnTo>
                  <a:pt x="19" y="218"/>
                </a:lnTo>
                <a:lnTo>
                  <a:pt x="30" y="184"/>
                </a:lnTo>
                <a:lnTo>
                  <a:pt x="41" y="148"/>
                </a:lnTo>
                <a:lnTo>
                  <a:pt x="47" y="101"/>
                </a:lnTo>
                <a:lnTo>
                  <a:pt x="46" y="49"/>
                </a:lnTo>
                <a:lnTo>
                  <a:pt x="40" y="0"/>
                </a:lnTo>
                <a:lnTo>
                  <a:pt x="13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2" name="Freeform 25"/>
          <p:cNvSpPr/>
          <p:nvPr/>
        </p:nvSpPr>
        <p:spPr>
          <a:xfrm>
            <a:off x="2486160" y="4606920"/>
            <a:ext cx="55440" cy="179280"/>
          </a:xfrm>
          <a:custGeom>
            <a:avLst/>
            <a:gdLst/>
            <a:ahLst/>
            <a:rect l="l" t="t" r="r" b="b"/>
            <a:pathLst>
              <a:path w="70" h="225">
                <a:moveTo>
                  <a:pt x="22" y="0"/>
                </a:moveTo>
                <a:lnTo>
                  <a:pt x="0" y="8"/>
                </a:lnTo>
                <a:lnTo>
                  <a:pt x="8" y="24"/>
                </a:lnTo>
                <a:lnTo>
                  <a:pt x="17" y="43"/>
                </a:lnTo>
                <a:lnTo>
                  <a:pt x="28" y="66"/>
                </a:lnTo>
                <a:lnTo>
                  <a:pt x="39" y="92"/>
                </a:lnTo>
                <a:lnTo>
                  <a:pt x="48" y="122"/>
                </a:lnTo>
                <a:lnTo>
                  <a:pt x="54" y="154"/>
                </a:lnTo>
                <a:lnTo>
                  <a:pt x="57" y="189"/>
                </a:lnTo>
                <a:lnTo>
                  <a:pt x="54" y="225"/>
                </a:lnTo>
                <a:lnTo>
                  <a:pt x="65" y="200"/>
                </a:lnTo>
                <a:lnTo>
                  <a:pt x="70" y="172"/>
                </a:lnTo>
                <a:lnTo>
                  <a:pt x="70" y="142"/>
                </a:lnTo>
                <a:lnTo>
                  <a:pt x="67" y="111"/>
                </a:lnTo>
                <a:lnTo>
                  <a:pt x="59" y="81"/>
                </a:lnTo>
                <a:lnTo>
                  <a:pt x="48" y="51"/>
                </a:lnTo>
                <a:lnTo>
                  <a:pt x="36" y="24"/>
                </a:lnTo>
                <a:lnTo>
                  <a:pt x="22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3" name="Freeform 26"/>
          <p:cNvSpPr/>
          <p:nvPr/>
        </p:nvSpPr>
        <p:spPr>
          <a:xfrm>
            <a:off x="2206800" y="4621320"/>
            <a:ext cx="36360" cy="177840"/>
          </a:xfrm>
          <a:custGeom>
            <a:avLst/>
            <a:gdLst/>
            <a:ahLst/>
            <a:rect l="l" t="t" r="r" b="b"/>
            <a:pathLst>
              <a:path w="47" h="224">
                <a:moveTo>
                  <a:pt x="45" y="13"/>
                </a:moveTo>
                <a:lnTo>
                  <a:pt x="46" y="31"/>
                </a:lnTo>
                <a:lnTo>
                  <a:pt x="47" y="54"/>
                </a:lnTo>
                <a:lnTo>
                  <a:pt x="45" y="82"/>
                </a:lnTo>
                <a:lnTo>
                  <a:pt x="41" y="111"/>
                </a:lnTo>
                <a:lnTo>
                  <a:pt x="35" y="142"/>
                </a:lnTo>
                <a:lnTo>
                  <a:pt x="26" y="172"/>
                </a:lnTo>
                <a:lnTo>
                  <a:pt x="15" y="199"/>
                </a:lnTo>
                <a:lnTo>
                  <a:pt x="0" y="224"/>
                </a:lnTo>
                <a:lnTo>
                  <a:pt x="8" y="174"/>
                </a:lnTo>
                <a:lnTo>
                  <a:pt x="17" y="116"/>
                </a:lnTo>
                <a:lnTo>
                  <a:pt x="22" y="57"/>
                </a:lnTo>
                <a:lnTo>
                  <a:pt x="18" y="0"/>
                </a:lnTo>
                <a:lnTo>
                  <a:pt x="45" y="1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4" name="Freeform 27"/>
          <p:cNvSpPr/>
          <p:nvPr/>
        </p:nvSpPr>
        <p:spPr>
          <a:xfrm>
            <a:off x="1978200" y="4597560"/>
            <a:ext cx="93600" cy="271440"/>
          </a:xfrm>
          <a:custGeom>
            <a:avLst/>
            <a:gdLst/>
            <a:ahLst/>
            <a:rect l="l" t="t" r="r" b="b"/>
            <a:pathLst>
              <a:path w="117" h="341">
                <a:moveTo>
                  <a:pt x="117" y="4"/>
                </a:moveTo>
                <a:lnTo>
                  <a:pt x="90" y="0"/>
                </a:lnTo>
                <a:lnTo>
                  <a:pt x="78" y="14"/>
                </a:lnTo>
                <a:lnTo>
                  <a:pt x="66" y="34"/>
                </a:lnTo>
                <a:lnTo>
                  <a:pt x="54" y="57"/>
                </a:lnTo>
                <a:lnTo>
                  <a:pt x="45" y="82"/>
                </a:lnTo>
                <a:lnTo>
                  <a:pt x="36" y="111"/>
                </a:lnTo>
                <a:lnTo>
                  <a:pt x="30" y="140"/>
                </a:lnTo>
                <a:lnTo>
                  <a:pt x="26" y="169"/>
                </a:lnTo>
                <a:lnTo>
                  <a:pt x="26" y="198"/>
                </a:lnTo>
                <a:lnTo>
                  <a:pt x="29" y="247"/>
                </a:lnTo>
                <a:lnTo>
                  <a:pt x="25" y="285"/>
                </a:lnTo>
                <a:lnTo>
                  <a:pt x="17" y="315"/>
                </a:lnTo>
                <a:lnTo>
                  <a:pt x="0" y="341"/>
                </a:lnTo>
                <a:lnTo>
                  <a:pt x="15" y="331"/>
                </a:lnTo>
                <a:lnTo>
                  <a:pt x="26" y="318"/>
                </a:lnTo>
                <a:lnTo>
                  <a:pt x="34" y="302"/>
                </a:lnTo>
                <a:lnTo>
                  <a:pt x="40" y="282"/>
                </a:lnTo>
                <a:lnTo>
                  <a:pt x="44" y="263"/>
                </a:lnTo>
                <a:lnTo>
                  <a:pt x="45" y="241"/>
                </a:lnTo>
                <a:lnTo>
                  <a:pt x="45" y="219"/>
                </a:lnTo>
                <a:lnTo>
                  <a:pt x="45" y="198"/>
                </a:lnTo>
                <a:lnTo>
                  <a:pt x="45" y="175"/>
                </a:lnTo>
                <a:lnTo>
                  <a:pt x="48" y="148"/>
                </a:lnTo>
                <a:lnTo>
                  <a:pt x="55" y="119"/>
                </a:lnTo>
                <a:lnTo>
                  <a:pt x="63" y="90"/>
                </a:lnTo>
                <a:lnTo>
                  <a:pt x="74" y="62"/>
                </a:lnTo>
                <a:lnTo>
                  <a:pt x="86" y="37"/>
                </a:lnTo>
                <a:lnTo>
                  <a:pt x="101" y="17"/>
                </a:lnTo>
                <a:lnTo>
                  <a:pt x="117" y="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5" name="Freeform 28"/>
          <p:cNvSpPr/>
          <p:nvPr/>
        </p:nvSpPr>
        <p:spPr>
          <a:xfrm>
            <a:off x="1639800" y="5267160"/>
            <a:ext cx="316080" cy="648000"/>
          </a:xfrm>
          <a:custGeom>
            <a:avLst/>
            <a:gdLst/>
            <a:ahLst/>
            <a:rect l="l" t="t" r="r" b="b"/>
            <a:pathLst>
              <a:path w="397" h="817">
                <a:moveTo>
                  <a:pt x="14" y="284"/>
                </a:moveTo>
                <a:lnTo>
                  <a:pt x="10" y="300"/>
                </a:lnTo>
                <a:lnTo>
                  <a:pt x="5" y="316"/>
                </a:lnTo>
                <a:lnTo>
                  <a:pt x="1" y="336"/>
                </a:lnTo>
                <a:lnTo>
                  <a:pt x="0" y="356"/>
                </a:lnTo>
                <a:lnTo>
                  <a:pt x="0" y="382"/>
                </a:lnTo>
                <a:lnTo>
                  <a:pt x="4" y="411"/>
                </a:lnTo>
                <a:lnTo>
                  <a:pt x="14" y="445"/>
                </a:lnTo>
                <a:lnTo>
                  <a:pt x="30" y="484"/>
                </a:lnTo>
                <a:lnTo>
                  <a:pt x="46" y="519"/>
                </a:lnTo>
                <a:lnTo>
                  <a:pt x="64" y="563"/>
                </a:lnTo>
                <a:lnTo>
                  <a:pt x="86" y="610"/>
                </a:lnTo>
                <a:lnTo>
                  <a:pt x="108" y="661"/>
                </a:lnTo>
                <a:lnTo>
                  <a:pt x="130" y="710"/>
                </a:lnTo>
                <a:lnTo>
                  <a:pt x="148" y="754"/>
                </a:lnTo>
                <a:lnTo>
                  <a:pt x="163" y="791"/>
                </a:lnTo>
                <a:lnTo>
                  <a:pt x="172" y="817"/>
                </a:lnTo>
                <a:lnTo>
                  <a:pt x="189" y="817"/>
                </a:lnTo>
                <a:lnTo>
                  <a:pt x="205" y="816"/>
                </a:lnTo>
                <a:lnTo>
                  <a:pt x="220" y="815"/>
                </a:lnTo>
                <a:lnTo>
                  <a:pt x="236" y="810"/>
                </a:lnTo>
                <a:lnTo>
                  <a:pt x="251" y="805"/>
                </a:lnTo>
                <a:lnTo>
                  <a:pt x="267" y="796"/>
                </a:lnTo>
                <a:lnTo>
                  <a:pt x="284" y="785"/>
                </a:lnTo>
                <a:lnTo>
                  <a:pt x="302" y="769"/>
                </a:lnTo>
                <a:lnTo>
                  <a:pt x="303" y="740"/>
                </a:lnTo>
                <a:lnTo>
                  <a:pt x="304" y="700"/>
                </a:lnTo>
                <a:lnTo>
                  <a:pt x="304" y="650"/>
                </a:lnTo>
                <a:lnTo>
                  <a:pt x="300" y="595"/>
                </a:lnTo>
                <a:lnTo>
                  <a:pt x="295" y="538"/>
                </a:lnTo>
                <a:lnTo>
                  <a:pt x="285" y="482"/>
                </a:lnTo>
                <a:lnTo>
                  <a:pt x="270" y="431"/>
                </a:lnTo>
                <a:lnTo>
                  <a:pt x="250" y="389"/>
                </a:lnTo>
                <a:lnTo>
                  <a:pt x="243" y="398"/>
                </a:lnTo>
                <a:lnTo>
                  <a:pt x="236" y="406"/>
                </a:lnTo>
                <a:lnTo>
                  <a:pt x="229" y="413"/>
                </a:lnTo>
                <a:lnTo>
                  <a:pt x="221" y="420"/>
                </a:lnTo>
                <a:lnTo>
                  <a:pt x="210" y="426"/>
                </a:lnTo>
                <a:lnTo>
                  <a:pt x="198" y="430"/>
                </a:lnTo>
                <a:lnTo>
                  <a:pt x="182" y="434"/>
                </a:lnTo>
                <a:lnTo>
                  <a:pt x="161" y="436"/>
                </a:lnTo>
                <a:lnTo>
                  <a:pt x="175" y="424"/>
                </a:lnTo>
                <a:lnTo>
                  <a:pt x="190" y="411"/>
                </a:lnTo>
                <a:lnTo>
                  <a:pt x="205" y="398"/>
                </a:lnTo>
                <a:lnTo>
                  <a:pt x="219" y="383"/>
                </a:lnTo>
                <a:lnTo>
                  <a:pt x="230" y="368"/>
                </a:lnTo>
                <a:lnTo>
                  <a:pt x="239" y="353"/>
                </a:lnTo>
                <a:lnTo>
                  <a:pt x="244" y="337"/>
                </a:lnTo>
                <a:lnTo>
                  <a:pt x="245" y="321"/>
                </a:lnTo>
                <a:lnTo>
                  <a:pt x="245" y="303"/>
                </a:lnTo>
                <a:lnTo>
                  <a:pt x="249" y="286"/>
                </a:lnTo>
                <a:lnTo>
                  <a:pt x="253" y="269"/>
                </a:lnTo>
                <a:lnTo>
                  <a:pt x="261" y="250"/>
                </a:lnTo>
                <a:lnTo>
                  <a:pt x="270" y="233"/>
                </a:lnTo>
                <a:lnTo>
                  <a:pt x="282" y="216"/>
                </a:lnTo>
                <a:lnTo>
                  <a:pt x="295" y="200"/>
                </a:lnTo>
                <a:lnTo>
                  <a:pt x="310" y="185"/>
                </a:lnTo>
                <a:lnTo>
                  <a:pt x="325" y="170"/>
                </a:lnTo>
                <a:lnTo>
                  <a:pt x="338" y="156"/>
                </a:lnTo>
                <a:lnTo>
                  <a:pt x="351" y="143"/>
                </a:lnTo>
                <a:lnTo>
                  <a:pt x="363" y="129"/>
                </a:lnTo>
                <a:lnTo>
                  <a:pt x="373" y="114"/>
                </a:lnTo>
                <a:lnTo>
                  <a:pt x="382" y="99"/>
                </a:lnTo>
                <a:lnTo>
                  <a:pt x="390" y="83"/>
                </a:lnTo>
                <a:lnTo>
                  <a:pt x="397" y="65"/>
                </a:lnTo>
                <a:lnTo>
                  <a:pt x="383" y="68"/>
                </a:lnTo>
                <a:lnTo>
                  <a:pt x="368" y="71"/>
                </a:lnTo>
                <a:lnTo>
                  <a:pt x="353" y="73"/>
                </a:lnTo>
                <a:lnTo>
                  <a:pt x="336" y="75"/>
                </a:lnTo>
                <a:lnTo>
                  <a:pt x="318" y="75"/>
                </a:lnTo>
                <a:lnTo>
                  <a:pt x="299" y="75"/>
                </a:lnTo>
                <a:lnTo>
                  <a:pt x="280" y="74"/>
                </a:lnTo>
                <a:lnTo>
                  <a:pt x="260" y="72"/>
                </a:lnTo>
                <a:lnTo>
                  <a:pt x="239" y="68"/>
                </a:lnTo>
                <a:lnTo>
                  <a:pt x="220" y="63"/>
                </a:lnTo>
                <a:lnTo>
                  <a:pt x="199" y="57"/>
                </a:lnTo>
                <a:lnTo>
                  <a:pt x="178" y="49"/>
                </a:lnTo>
                <a:lnTo>
                  <a:pt x="159" y="40"/>
                </a:lnTo>
                <a:lnTo>
                  <a:pt x="139" y="28"/>
                </a:lnTo>
                <a:lnTo>
                  <a:pt x="119" y="15"/>
                </a:lnTo>
                <a:lnTo>
                  <a:pt x="101" y="0"/>
                </a:lnTo>
                <a:lnTo>
                  <a:pt x="92" y="23"/>
                </a:lnTo>
                <a:lnTo>
                  <a:pt x="80" y="57"/>
                </a:lnTo>
                <a:lnTo>
                  <a:pt x="68" y="96"/>
                </a:lnTo>
                <a:lnTo>
                  <a:pt x="54" y="138"/>
                </a:lnTo>
                <a:lnTo>
                  <a:pt x="41" y="180"/>
                </a:lnTo>
                <a:lnTo>
                  <a:pt x="30" y="222"/>
                </a:lnTo>
                <a:lnTo>
                  <a:pt x="19" y="256"/>
                </a:lnTo>
                <a:lnTo>
                  <a:pt x="14" y="28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6" name="Freeform 29"/>
          <p:cNvSpPr/>
          <p:nvPr/>
        </p:nvSpPr>
        <p:spPr>
          <a:xfrm>
            <a:off x="1776240" y="5881680"/>
            <a:ext cx="149400" cy="144360"/>
          </a:xfrm>
          <a:custGeom>
            <a:avLst/>
            <a:gdLst/>
            <a:ahLst/>
            <a:rect l="l" t="t" r="r" b="b"/>
            <a:pathLst>
              <a:path w="189" h="183">
                <a:moveTo>
                  <a:pt x="157" y="0"/>
                </a:moveTo>
                <a:lnTo>
                  <a:pt x="149" y="11"/>
                </a:lnTo>
                <a:lnTo>
                  <a:pt x="136" y="25"/>
                </a:lnTo>
                <a:lnTo>
                  <a:pt x="120" y="38"/>
                </a:lnTo>
                <a:lnTo>
                  <a:pt x="100" y="49"/>
                </a:lnTo>
                <a:lnTo>
                  <a:pt x="79" y="60"/>
                </a:lnTo>
                <a:lnTo>
                  <a:pt x="54" y="66"/>
                </a:lnTo>
                <a:lnTo>
                  <a:pt x="29" y="69"/>
                </a:lnTo>
                <a:lnTo>
                  <a:pt x="2" y="66"/>
                </a:lnTo>
                <a:lnTo>
                  <a:pt x="0" y="79"/>
                </a:lnTo>
                <a:lnTo>
                  <a:pt x="5" y="96"/>
                </a:lnTo>
                <a:lnTo>
                  <a:pt x="12" y="118"/>
                </a:lnTo>
                <a:lnTo>
                  <a:pt x="19" y="141"/>
                </a:lnTo>
                <a:lnTo>
                  <a:pt x="21" y="153"/>
                </a:lnTo>
                <a:lnTo>
                  <a:pt x="21" y="162"/>
                </a:lnTo>
                <a:lnTo>
                  <a:pt x="21" y="169"/>
                </a:lnTo>
                <a:lnTo>
                  <a:pt x="22" y="175"/>
                </a:lnTo>
                <a:lnTo>
                  <a:pt x="23" y="179"/>
                </a:lnTo>
                <a:lnTo>
                  <a:pt x="28" y="182"/>
                </a:lnTo>
                <a:lnTo>
                  <a:pt x="35" y="183"/>
                </a:lnTo>
                <a:lnTo>
                  <a:pt x="45" y="182"/>
                </a:lnTo>
                <a:lnTo>
                  <a:pt x="57" y="178"/>
                </a:lnTo>
                <a:lnTo>
                  <a:pt x="67" y="174"/>
                </a:lnTo>
                <a:lnTo>
                  <a:pt x="76" y="168"/>
                </a:lnTo>
                <a:lnTo>
                  <a:pt x="83" y="162"/>
                </a:lnTo>
                <a:lnTo>
                  <a:pt x="90" y="156"/>
                </a:lnTo>
                <a:lnTo>
                  <a:pt x="97" y="152"/>
                </a:lnTo>
                <a:lnTo>
                  <a:pt x="104" y="148"/>
                </a:lnTo>
                <a:lnTo>
                  <a:pt x="112" y="147"/>
                </a:lnTo>
                <a:lnTo>
                  <a:pt x="121" y="147"/>
                </a:lnTo>
                <a:lnTo>
                  <a:pt x="132" y="145"/>
                </a:lnTo>
                <a:lnTo>
                  <a:pt x="143" y="142"/>
                </a:lnTo>
                <a:lnTo>
                  <a:pt x="155" y="137"/>
                </a:lnTo>
                <a:lnTo>
                  <a:pt x="166" y="129"/>
                </a:lnTo>
                <a:lnTo>
                  <a:pt x="175" y="116"/>
                </a:lnTo>
                <a:lnTo>
                  <a:pt x="183" y="101"/>
                </a:lnTo>
                <a:lnTo>
                  <a:pt x="189" y="80"/>
                </a:lnTo>
                <a:lnTo>
                  <a:pt x="178" y="88"/>
                </a:lnTo>
                <a:lnTo>
                  <a:pt x="165" y="98"/>
                </a:lnTo>
                <a:lnTo>
                  <a:pt x="150" y="106"/>
                </a:lnTo>
                <a:lnTo>
                  <a:pt x="133" y="113"/>
                </a:lnTo>
                <a:lnTo>
                  <a:pt x="114" y="118"/>
                </a:lnTo>
                <a:lnTo>
                  <a:pt x="93" y="121"/>
                </a:lnTo>
                <a:lnTo>
                  <a:pt x="73" y="121"/>
                </a:lnTo>
                <a:lnTo>
                  <a:pt x="50" y="117"/>
                </a:lnTo>
                <a:lnTo>
                  <a:pt x="66" y="113"/>
                </a:lnTo>
                <a:lnTo>
                  <a:pt x="83" y="107"/>
                </a:lnTo>
                <a:lnTo>
                  <a:pt x="102" y="100"/>
                </a:lnTo>
                <a:lnTo>
                  <a:pt x="120" y="91"/>
                </a:lnTo>
                <a:lnTo>
                  <a:pt x="137" y="81"/>
                </a:lnTo>
                <a:lnTo>
                  <a:pt x="152" y="69"/>
                </a:lnTo>
                <a:lnTo>
                  <a:pt x="164" y="53"/>
                </a:lnTo>
                <a:lnTo>
                  <a:pt x="171" y="34"/>
                </a:lnTo>
                <a:lnTo>
                  <a:pt x="172" y="25"/>
                </a:lnTo>
                <a:lnTo>
                  <a:pt x="170" y="16"/>
                </a:lnTo>
                <a:lnTo>
                  <a:pt x="165" y="7"/>
                </a:lnTo>
                <a:lnTo>
                  <a:pt x="157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7" name="Freeform 30"/>
          <p:cNvSpPr/>
          <p:nvPr/>
        </p:nvSpPr>
        <p:spPr>
          <a:xfrm>
            <a:off x="1731960" y="5965920"/>
            <a:ext cx="324000" cy="411120"/>
          </a:xfrm>
          <a:custGeom>
            <a:avLst/>
            <a:gdLst/>
            <a:ahLst/>
            <a:rect l="l" t="t" r="r" b="b"/>
            <a:pathLst>
              <a:path w="409" h="517">
                <a:moveTo>
                  <a:pt x="289" y="0"/>
                </a:moveTo>
                <a:lnTo>
                  <a:pt x="288" y="10"/>
                </a:lnTo>
                <a:lnTo>
                  <a:pt x="284" y="22"/>
                </a:lnTo>
                <a:lnTo>
                  <a:pt x="279" y="33"/>
                </a:lnTo>
                <a:lnTo>
                  <a:pt x="269" y="45"/>
                </a:lnTo>
                <a:lnTo>
                  <a:pt x="259" y="56"/>
                </a:lnTo>
                <a:lnTo>
                  <a:pt x="245" y="65"/>
                </a:lnTo>
                <a:lnTo>
                  <a:pt x="230" y="71"/>
                </a:lnTo>
                <a:lnTo>
                  <a:pt x="214" y="75"/>
                </a:lnTo>
                <a:lnTo>
                  <a:pt x="216" y="90"/>
                </a:lnTo>
                <a:lnTo>
                  <a:pt x="215" y="108"/>
                </a:lnTo>
                <a:lnTo>
                  <a:pt x="211" y="128"/>
                </a:lnTo>
                <a:lnTo>
                  <a:pt x="204" y="144"/>
                </a:lnTo>
                <a:lnTo>
                  <a:pt x="214" y="150"/>
                </a:lnTo>
                <a:lnTo>
                  <a:pt x="223" y="156"/>
                </a:lnTo>
                <a:lnTo>
                  <a:pt x="231" y="166"/>
                </a:lnTo>
                <a:lnTo>
                  <a:pt x="238" y="177"/>
                </a:lnTo>
                <a:lnTo>
                  <a:pt x="243" y="189"/>
                </a:lnTo>
                <a:lnTo>
                  <a:pt x="245" y="201"/>
                </a:lnTo>
                <a:lnTo>
                  <a:pt x="245" y="214"/>
                </a:lnTo>
                <a:lnTo>
                  <a:pt x="241" y="227"/>
                </a:lnTo>
                <a:lnTo>
                  <a:pt x="235" y="237"/>
                </a:lnTo>
                <a:lnTo>
                  <a:pt x="228" y="246"/>
                </a:lnTo>
                <a:lnTo>
                  <a:pt x="221" y="253"/>
                </a:lnTo>
                <a:lnTo>
                  <a:pt x="212" y="257"/>
                </a:lnTo>
                <a:lnTo>
                  <a:pt x="203" y="259"/>
                </a:lnTo>
                <a:lnTo>
                  <a:pt x="193" y="260"/>
                </a:lnTo>
                <a:lnTo>
                  <a:pt x="182" y="259"/>
                </a:lnTo>
                <a:lnTo>
                  <a:pt x="169" y="255"/>
                </a:lnTo>
                <a:lnTo>
                  <a:pt x="166" y="277"/>
                </a:lnTo>
                <a:lnTo>
                  <a:pt x="161" y="300"/>
                </a:lnTo>
                <a:lnTo>
                  <a:pt x="155" y="322"/>
                </a:lnTo>
                <a:lnTo>
                  <a:pt x="148" y="344"/>
                </a:lnTo>
                <a:lnTo>
                  <a:pt x="139" y="363"/>
                </a:lnTo>
                <a:lnTo>
                  <a:pt x="130" y="380"/>
                </a:lnTo>
                <a:lnTo>
                  <a:pt x="119" y="394"/>
                </a:lnTo>
                <a:lnTo>
                  <a:pt x="105" y="403"/>
                </a:lnTo>
                <a:lnTo>
                  <a:pt x="91" y="409"/>
                </a:lnTo>
                <a:lnTo>
                  <a:pt x="79" y="414"/>
                </a:lnTo>
                <a:lnTo>
                  <a:pt x="67" y="418"/>
                </a:lnTo>
                <a:lnTo>
                  <a:pt x="56" y="420"/>
                </a:lnTo>
                <a:lnTo>
                  <a:pt x="45" y="423"/>
                </a:lnTo>
                <a:lnTo>
                  <a:pt x="32" y="423"/>
                </a:lnTo>
                <a:lnTo>
                  <a:pt x="21" y="423"/>
                </a:lnTo>
                <a:lnTo>
                  <a:pt x="7" y="421"/>
                </a:lnTo>
                <a:lnTo>
                  <a:pt x="3" y="439"/>
                </a:lnTo>
                <a:lnTo>
                  <a:pt x="1" y="457"/>
                </a:lnTo>
                <a:lnTo>
                  <a:pt x="0" y="473"/>
                </a:lnTo>
                <a:lnTo>
                  <a:pt x="1" y="488"/>
                </a:lnTo>
                <a:lnTo>
                  <a:pt x="3" y="500"/>
                </a:lnTo>
                <a:lnTo>
                  <a:pt x="10" y="510"/>
                </a:lnTo>
                <a:lnTo>
                  <a:pt x="21" y="516"/>
                </a:lnTo>
                <a:lnTo>
                  <a:pt x="36" y="517"/>
                </a:lnTo>
                <a:lnTo>
                  <a:pt x="54" y="516"/>
                </a:lnTo>
                <a:lnTo>
                  <a:pt x="74" y="512"/>
                </a:lnTo>
                <a:lnTo>
                  <a:pt x="93" y="509"/>
                </a:lnTo>
                <a:lnTo>
                  <a:pt x="112" y="502"/>
                </a:lnTo>
                <a:lnTo>
                  <a:pt x="130" y="494"/>
                </a:lnTo>
                <a:lnTo>
                  <a:pt x="146" y="484"/>
                </a:lnTo>
                <a:lnTo>
                  <a:pt x="160" y="470"/>
                </a:lnTo>
                <a:lnTo>
                  <a:pt x="172" y="454"/>
                </a:lnTo>
                <a:lnTo>
                  <a:pt x="182" y="435"/>
                </a:lnTo>
                <a:lnTo>
                  <a:pt x="192" y="418"/>
                </a:lnTo>
                <a:lnTo>
                  <a:pt x="201" y="401"/>
                </a:lnTo>
                <a:lnTo>
                  <a:pt x="212" y="382"/>
                </a:lnTo>
                <a:lnTo>
                  <a:pt x="220" y="365"/>
                </a:lnTo>
                <a:lnTo>
                  <a:pt x="227" y="348"/>
                </a:lnTo>
                <a:lnTo>
                  <a:pt x="231" y="332"/>
                </a:lnTo>
                <a:lnTo>
                  <a:pt x="234" y="314"/>
                </a:lnTo>
                <a:lnTo>
                  <a:pt x="236" y="297"/>
                </a:lnTo>
                <a:lnTo>
                  <a:pt x="243" y="280"/>
                </a:lnTo>
                <a:lnTo>
                  <a:pt x="251" y="262"/>
                </a:lnTo>
                <a:lnTo>
                  <a:pt x="263" y="245"/>
                </a:lnTo>
                <a:lnTo>
                  <a:pt x="274" y="231"/>
                </a:lnTo>
                <a:lnTo>
                  <a:pt x="288" y="219"/>
                </a:lnTo>
                <a:lnTo>
                  <a:pt x="301" y="209"/>
                </a:lnTo>
                <a:lnTo>
                  <a:pt x="313" y="205"/>
                </a:lnTo>
                <a:lnTo>
                  <a:pt x="326" y="201"/>
                </a:lnTo>
                <a:lnTo>
                  <a:pt x="340" y="194"/>
                </a:lnTo>
                <a:lnTo>
                  <a:pt x="354" y="186"/>
                </a:lnTo>
                <a:lnTo>
                  <a:pt x="367" y="177"/>
                </a:lnTo>
                <a:lnTo>
                  <a:pt x="380" y="164"/>
                </a:lnTo>
                <a:lnTo>
                  <a:pt x="392" y="151"/>
                </a:lnTo>
                <a:lnTo>
                  <a:pt x="402" y="133"/>
                </a:lnTo>
                <a:lnTo>
                  <a:pt x="409" y="115"/>
                </a:lnTo>
                <a:lnTo>
                  <a:pt x="403" y="98"/>
                </a:lnTo>
                <a:lnTo>
                  <a:pt x="397" y="80"/>
                </a:lnTo>
                <a:lnTo>
                  <a:pt x="388" y="64"/>
                </a:lnTo>
                <a:lnTo>
                  <a:pt x="377" y="49"/>
                </a:lnTo>
                <a:lnTo>
                  <a:pt x="362" y="35"/>
                </a:lnTo>
                <a:lnTo>
                  <a:pt x="342" y="22"/>
                </a:lnTo>
                <a:lnTo>
                  <a:pt x="318" y="10"/>
                </a:lnTo>
                <a:lnTo>
                  <a:pt x="289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8" name="Freeform 31"/>
          <p:cNvSpPr/>
          <p:nvPr/>
        </p:nvSpPr>
        <p:spPr>
          <a:xfrm>
            <a:off x="1758960" y="6081840"/>
            <a:ext cx="20520" cy="47520"/>
          </a:xfrm>
          <a:custGeom>
            <a:avLst/>
            <a:gdLst/>
            <a:ahLst/>
            <a:rect l="l" t="t" r="r" b="b"/>
            <a:pathLst>
              <a:path w="26" h="60">
                <a:moveTo>
                  <a:pt x="25" y="24"/>
                </a:moveTo>
                <a:lnTo>
                  <a:pt x="26" y="18"/>
                </a:lnTo>
                <a:lnTo>
                  <a:pt x="25" y="13"/>
                </a:lnTo>
                <a:lnTo>
                  <a:pt x="25" y="7"/>
                </a:lnTo>
                <a:lnTo>
                  <a:pt x="25" y="0"/>
                </a:lnTo>
                <a:lnTo>
                  <a:pt x="17" y="13"/>
                </a:lnTo>
                <a:lnTo>
                  <a:pt x="7" y="30"/>
                </a:lnTo>
                <a:lnTo>
                  <a:pt x="2" y="46"/>
                </a:lnTo>
                <a:lnTo>
                  <a:pt x="0" y="60"/>
                </a:lnTo>
                <a:lnTo>
                  <a:pt x="10" y="52"/>
                </a:lnTo>
                <a:lnTo>
                  <a:pt x="17" y="43"/>
                </a:lnTo>
                <a:lnTo>
                  <a:pt x="22" y="33"/>
                </a:lnTo>
                <a:lnTo>
                  <a:pt x="25" y="2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9" name="Freeform 32"/>
          <p:cNvSpPr/>
          <p:nvPr/>
        </p:nvSpPr>
        <p:spPr>
          <a:xfrm>
            <a:off x="1824120" y="6078600"/>
            <a:ext cx="77760" cy="66600"/>
          </a:xfrm>
          <a:custGeom>
            <a:avLst/>
            <a:gdLst/>
            <a:ahLst/>
            <a:rect l="l" t="t" r="r" b="b"/>
            <a:pathLst>
              <a:path w="98" h="85">
                <a:moveTo>
                  <a:pt x="3" y="26"/>
                </a:moveTo>
                <a:lnTo>
                  <a:pt x="0" y="19"/>
                </a:lnTo>
                <a:lnTo>
                  <a:pt x="0" y="13"/>
                </a:lnTo>
                <a:lnTo>
                  <a:pt x="0" y="7"/>
                </a:lnTo>
                <a:lnTo>
                  <a:pt x="0" y="0"/>
                </a:lnTo>
                <a:lnTo>
                  <a:pt x="15" y="4"/>
                </a:lnTo>
                <a:lnTo>
                  <a:pt x="34" y="11"/>
                </a:lnTo>
                <a:lnTo>
                  <a:pt x="52" y="20"/>
                </a:lnTo>
                <a:lnTo>
                  <a:pt x="69" y="32"/>
                </a:lnTo>
                <a:lnTo>
                  <a:pt x="84" y="44"/>
                </a:lnTo>
                <a:lnTo>
                  <a:pt x="95" y="58"/>
                </a:lnTo>
                <a:lnTo>
                  <a:pt x="98" y="70"/>
                </a:lnTo>
                <a:lnTo>
                  <a:pt x="94" y="80"/>
                </a:lnTo>
                <a:lnTo>
                  <a:pt x="84" y="85"/>
                </a:lnTo>
                <a:lnTo>
                  <a:pt x="73" y="85"/>
                </a:lnTo>
                <a:lnTo>
                  <a:pt x="60" y="81"/>
                </a:lnTo>
                <a:lnTo>
                  <a:pt x="47" y="74"/>
                </a:lnTo>
                <a:lnTo>
                  <a:pt x="35" y="65"/>
                </a:lnTo>
                <a:lnTo>
                  <a:pt x="22" y="53"/>
                </a:lnTo>
                <a:lnTo>
                  <a:pt x="12" y="40"/>
                </a:lnTo>
                <a:lnTo>
                  <a:pt x="3" y="2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0" name="Freeform 33"/>
          <p:cNvSpPr/>
          <p:nvPr/>
        </p:nvSpPr>
        <p:spPr>
          <a:xfrm>
            <a:off x="1776240" y="6018120"/>
            <a:ext cx="108000" cy="55800"/>
          </a:xfrm>
          <a:custGeom>
            <a:avLst/>
            <a:gdLst/>
            <a:ahLst/>
            <a:rect l="l" t="t" r="r" b="b"/>
            <a:pathLst>
              <a:path w="135" h="72">
                <a:moveTo>
                  <a:pt x="10" y="15"/>
                </a:moveTo>
                <a:lnTo>
                  <a:pt x="15" y="20"/>
                </a:lnTo>
                <a:lnTo>
                  <a:pt x="22" y="24"/>
                </a:lnTo>
                <a:lnTo>
                  <a:pt x="31" y="27"/>
                </a:lnTo>
                <a:lnTo>
                  <a:pt x="41" y="28"/>
                </a:lnTo>
                <a:lnTo>
                  <a:pt x="51" y="29"/>
                </a:lnTo>
                <a:lnTo>
                  <a:pt x="61" y="28"/>
                </a:lnTo>
                <a:lnTo>
                  <a:pt x="71" y="26"/>
                </a:lnTo>
                <a:lnTo>
                  <a:pt x="79" y="21"/>
                </a:lnTo>
                <a:lnTo>
                  <a:pt x="86" y="15"/>
                </a:lnTo>
                <a:lnTo>
                  <a:pt x="95" y="9"/>
                </a:lnTo>
                <a:lnTo>
                  <a:pt x="103" y="5"/>
                </a:lnTo>
                <a:lnTo>
                  <a:pt x="112" y="1"/>
                </a:lnTo>
                <a:lnTo>
                  <a:pt x="119" y="0"/>
                </a:lnTo>
                <a:lnTo>
                  <a:pt x="126" y="1"/>
                </a:lnTo>
                <a:lnTo>
                  <a:pt x="131" y="6"/>
                </a:lnTo>
                <a:lnTo>
                  <a:pt x="134" y="15"/>
                </a:lnTo>
                <a:lnTo>
                  <a:pt x="135" y="37"/>
                </a:lnTo>
                <a:lnTo>
                  <a:pt x="133" y="56"/>
                </a:lnTo>
                <a:lnTo>
                  <a:pt x="129" y="67"/>
                </a:lnTo>
                <a:lnTo>
                  <a:pt x="127" y="72"/>
                </a:lnTo>
                <a:lnTo>
                  <a:pt x="121" y="69"/>
                </a:lnTo>
                <a:lnTo>
                  <a:pt x="113" y="68"/>
                </a:lnTo>
                <a:lnTo>
                  <a:pt x="105" y="66"/>
                </a:lnTo>
                <a:lnTo>
                  <a:pt x="96" y="65"/>
                </a:lnTo>
                <a:lnTo>
                  <a:pt x="87" y="64"/>
                </a:lnTo>
                <a:lnTo>
                  <a:pt x="76" y="62"/>
                </a:lnTo>
                <a:lnTo>
                  <a:pt x="66" y="60"/>
                </a:lnTo>
                <a:lnTo>
                  <a:pt x="57" y="59"/>
                </a:lnTo>
                <a:lnTo>
                  <a:pt x="51" y="54"/>
                </a:lnTo>
                <a:lnTo>
                  <a:pt x="44" y="52"/>
                </a:lnTo>
                <a:lnTo>
                  <a:pt x="37" y="51"/>
                </a:lnTo>
                <a:lnTo>
                  <a:pt x="29" y="52"/>
                </a:lnTo>
                <a:lnTo>
                  <a:pt x="21" y="53"/>
                </a:lnTo>
                <a:lnTo>
                  <a:pt x="13" y="56"/>
                </a:lnTo>
                <a:lnTo>
                  <a:pt x="6" y="59"/>
                </a:lnTo>
                <a:lnTo>
                  <a:pt x="0" y="61"/>
                </a:lnTo>
                <a:lnTo>
                  <a:pt x="0" y="50"/>
                </a:lnTo>
                <a:lnTo>
                  <a:pt x="1" y="37"/>
                </a:lnTo>
                <a:lnTo>
                  <a:pt x="5" y="26"/>
                </a:lnTo>
                <a:lnTo>
                  <a:pt x="10" y="1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1" name="Freeform 34"/>
          <p:cNvSpPr/>
          <p:nvPr/>
        </p:nvSpPr>
        <p:spPr>
          <a:xfrm>
            <a:off x="1787400" y="6226200"/>
            <a:ext cx="44640" cy="39600"/>
          </a:xfrm>
          <a:custGeom>
            <a:avLst/>
            <a:gdLst/>
            <a:ahLst/>
            <a:rect l="l" t="t" r="r" b="b"/>
            <a:pathLst>
              <a:path w="58" h="49">
                <a:moveTo>
                  <a:pt x="36" y="0"/>
                </a:moveTo>
                <a:lnTo>
                  <a:pt x="58" y="8"/>
                </a:lnTo>
                <a:lnTo>
                  <a:pt x="53" y="22"/>
                </a:lnTo>
                <a:lnTo>
                  <a:pt x="46" y="34"/>
                </a:lnTo>
                <a:lnTo>
                  <a:pt x="38" y="44"/>
                </a:lnTo>
                <a:lnTo>
                  <a:pt x="30" y="49"/>
                </a:lnTo>
                <a:lnTo>
                  <a:pt x="0" y="22"/>
                </a:lnTo>
                <a:lnTo>
                  <a:pt x="3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2" name="Freeform 35"/>
          <p:cNvSpPr/>
          <p:nvPr/>
        </p:nvSpPr>
        <p:spPr>
          <a:xfrm>
            <a:off x="1743120" y="6253200"/>
            <a:ext cx="52200" cy="30240"/>
          </a:xfrm>
          <a:custGeom>
            <a:avLst/>
            <a:gdLst/>
            <a:ahLst/>
            <a:rect l="l" t="t" r="r" b="b"/>
            <a:pathLst>
              <a:path w="66" h="40">
                <a:moveTo>
                  <a:pt x="31" y="0"/>
                </a:moveTo>
                <a:lnTo>
                  <a:pt x="66" y="22"/>
                </a:lnTo>
                <a:lnTo>
                  <a:pt x="59" y="27"/>
                </a:lnTo>
                <a:lnTo>
                  <a:pt x="49" y="30"/>
                </a:lnTo>
                <a:lnTo>
                  <a:pt x="40" y="34"/>
                </a:lnTo>
                <a:lnTo>
                  <a:pt x="30" y="37"/>
                </a:lnTo>
                <a:lnTo>
                  <a:pt x="21" y="40"/>
                </a:lnTo>
                <a:lnTo>
                  <a:pt x="11" y="40"/>
                </a:lnTo>
                <a:lnTo>
                  <a:pt x="6" y="37"/>
                </a:lnTo>
                <a:lnTo>
                  <a:pt x="1" y="33"/>
                </a:lnTo>
                <a:lnTo>
                  <a:pt x="0" y="23"/>
                </a:lnTo>
                <a:lnTo>
                  <a:pt x="1" y="18"/>
                </a:lnTo>
                <a:lnTo>
                  <a:pt x="4" y="15"/>
                </a:lnTo>
                <a:lnTo>
                  <a:pt x="6" y="14"/>
                </a:lnTo>
                <a:lnTo>
                  <a:pt x="31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3" name="Freeform 36"/>
          <p:cNvSpPr/>
          <p:nvPr/>
        </p:nvSpPr>
        <p:spPr>
          <a:xfrm>
            <a:off x="1758960" y="6207120"/>
            <a:ext cx="44280" cy="27000"/>
          </a:xfrm>
          <a:custGeom>
            <a:avLst/>
            <a:gdLst/>
            <a:ahLst/>
            <a:rect l="l" t="t" r="r" b="b"/>
            <a:pathLst>
              <a:path w="58" h="34">
                <a:moveTo>
                  <a:pt x="0" y="16"/>
                </a:moveTo>
                <a:lnTo>
                  <a:pt x="23" y="34"/>
                </a:lnTo>
                <a:lnTo>
                  <a:pt x="58" y="16"/>
                </a:lnTo>
                <a:lnTo>
                  <a:pt x="29" y="0"/>
                </a:lnTo>
                <a:lnTo>
                  <a:pt x="0" y="1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4" name="Freeform 37"/>
          <p:cNvSpPr/>
          <p:nvPr/>
        </p:nvSpPr>
        <p:spPr>
          <a:xfrm>
            <a:off x="1746360" y="6229440"/>
            <a:ext cx="17280" cy="20520"/>
          </a:xfrm>
          <a:custGeom>
            <a:avLst/>
            <a:gdLst/>
            <a:ahLst/>
            <a:rect l="l" t="t" r="r" b="b"/>
            <a:pathLst>
              <a:path w="21" h="27">
                <a:moveTo>
                  <a:pt x="5" y="0"/>
                </a:moveTo>
                <a:lnTo>
                  <a:pt x="21" y="17"/>
                </a:lnTo>
                <a:lnTo>
                  <a:pt x="0" y="27"/>
                </a:lnTo>
                <a:lnTo>
                  <a:pt x="5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5" name="Freeform 38"/>
          <p:cNvSpPr/>
          <p:nvPr/>
        </p:nvSpPr>
        <p:spPr>
          <a:xfrm>
            <a:off x="1797120" y="6183360"/>
            <a:ext cx="41040" cy="33120"/>
          </a:xfrm>
          <a:custGeom>
            <a:avLst/>
            <a:gdLst/>
            <a:ahLst/>
            <a:rect l="l" t="t" r="r" b="b"/>
            <a:pathLst>
              <a:path w="53" h="41">
                <a:moveTo>
                  <a:pt x="43" y="41"/>
                </a:moveTo>
                <a:lnTo>
                  <a:pt x="0" y="21"/>
                </a:lnTo>
                <a:lnTo>
                  <a:pt x="53" y="0"/>
                </a:lnTo>
                <a:lnTo>
                  <a:pt x="52" y="9"/>
                </a:lnTo>
                <a:lnTo>
                  <a:pt x="49" y="22"/>
                </a:lnTo>
                <a:lnTo>
                  <a:pt x="46" y="34"/>
                </a:lnTo>
                <a:lnTo>
                  <a:pt x="43" y="4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6" name="Freeform 39"/>
          <p:cNvSpPr/>
          <p:nvPr/>
        </p:nvSpPr>
        <p:spPr>
          <a:xfrm>
            <a:off x="1754280" y="6181560"/>
            <a:ext cx="17280" cy="25560"/>
          </a:xfrm>
          <a:custGeom>
            <a:avLst/>
            <a:gdLst/>
            <a:ahLst/>
            <a:rect l="l" t="t" r="r" b="b"/>
            <a:pathLst>
              <a:path w="20" h="31">
                <a:moveTo>
                  <a:pt x="20" y="19"/>
                </a:moveTo>
                <a:lnTo>
                  <a:pt x="0" y="31"/>
                </a:lnTo>
                <a:lnTo>
                  <a:pt x="4" y="0"/>
                </a:lnTo>
                <a:lnTo>
                  <a:pt x="20" y="1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7" name="Freeform 40"/>
          <p:cNvSpPr/>
          <p:nvPr/>
        </p:nvSpPr>
        <p:spPr>
          <a:xfrm>
            <a:off x="1766880" y="6153120"/>
            <a:ext cx="60480" cy="36720"/>
          </a:xfrm>
          <a:custGeom>
            <a:avLst/>
            <a:gdLst/>
            <a:ahLst/>
            <a:rect l="l" t="t" r="r" b="b"/>
            <a:pathLst>
              <a:path w="76" h="46">
                <a:moveTo>
                  <a:pt x="0" y="20"/>
                </a:moveTo>
                <a:lnTo>
                  <a:pt x="25" y="46"/>
                </a:lnTo>
                <a:lnTo>
                  <a:pt x="76" y="26"/>
                </a:lnTo>
                <a:lnTo>
                  <a:pt x="41" y="0"/>
                </a:lnTo>
                <a:lnTo>
                  <a:pt x="0" y="2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8" name="Freeform 41"/>
          <p:cNvSpPr/>
          <p:nvPr/>
        </p:nvSpPr>
        <p:spPr>
          <a:xfrm>
            <a:off x="1817640" y="6132600"/>
            <a:ext cx="28800" cy="36360"/>
          </a:xfrm>
          <a:custGeom>
            <a:avLst/>
            <a:gdLst/>
            <a:ahLst/>
            <a:rect l="l" t="t" r="r" b="b"/>
            <a:pathLst>
              <a:path w="36" h="46">
                <a:moveTo>
                  <a:pt x="36" y="35"/>
                </a:moveTo>
                <a:lnTo>
                  <a:pt x="27" y="46"/>
                </a:lnTo>
                <a:lnTo>
                  <a:pt x="0" y="18"/>
                </a:lnTo>
                <a:lnTo>
                  <a:pt x="17" y="0"/>
                </a:lnTo>
                <a:lnTo>
                  <a:pt x="20" y="8"/>
                </a:lnTo>
                <a:lnTo>
                  <a:pt x="23" y="19"/>
                </a:lnTo>
                <a:lnTo>
                  <a:pt x="30" y="28"/>
                </a:lnTo>
                <a:lnTo>
                  <a:pt x="36" y="3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9" name="Freeform 42"/>
          <p:cNvSpPr/>
          <p:nvPr/>
        </p:nvSpPr>
        <p:spPr>
          <a:xfrm>
            <a:off x="1790640" y="6108840"/>
            <a:ext cx="23760" cy="31680"/>
          </a:xfrm>
          <a:custGeom>
            <a:avLst/>
            <a:gdLst/>
            <a:ahLst/>
            <a:rect l="l" t="t" r="r" b="b"/>
            <a:pathLst>
              <a:path w="29" h="40">
                <a:moveTo>
                  <a:pt x="29" y="24"/>
                </a:moveTo>
                <a:lnTo>
                  <a:pt x="12" y="40"/>
                </a:lnTo>
                <a:lnTo>
                  <a:pt x="0" y="26"/>
                </a:lnTo>
                <a:lnTo>
                  <a:pt x="19" y="0"/>
                </a:lnTo>
                <a:lnTo>
                  <a:pt x="29" y="2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0" name="Freeform 43"/>
          <p:cNvSpPr/>
          <p:nvPr/>
        </p:nvSpPr>
        <p:spPr>
          <a:xfrm>
            <a:off x="1758960" y="6140520"/>
            <a:ext cx="27000" cy="15840"/>
          </a:xfrm>
          <a:custGeom>
            <a:avLst/>
            <a:gdLst/>
            <a:ahLst/>
            <a:rect l="l" t="t" r="r" b="b"/>
            <a:pathLst>
              <a:path w="34" h="20">
                <a:moveTo>
                  <a:pt x="28" y="0"/>
                </a:moveTo>
                <a:lnTo>
                  <a:pt x="34" y="9"/>
                </a:lnTo>
                <a:lnTo>
                  <a:pt x="0" y="20"/>
                </a:lnTo>
                <a:lnTo>
                  <a:pt x="7" y="16"/>
                </a:lnTo>
                <a:lnTo>
                  <a:pt x="17" y="10"/>
                </a:lnTo>
                <a:lnTo>
                  <a:pt x="23" y="4"/>
                </a:lnTo>
                <a:lnTo>
                  <a:pt x="2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1" name="Freeform 44"/>
          <p:cNvSpPr/>
          <p:nvPr/>
        </p:nvSpPr>
        <p:spPr>
          <a:xfrm>
            <a:off x="2273400" y="5419800"/>
            <a:ext cx="236520" cy="839880"/>
          </a:xfrm>
          <a:custGeom>
            <a:avLst/>
            <a:gdLst/>
            <a:ahLst/>
            <a:rect l="l" t="t" r="r" b="b"/>
            <a:pathLst>
              <a:path w="298" h="1058">
                <a:moveTo>
                  <a:pt x="14" y="0"/>
                </a:moveTo>
                <a:lnTo>
                  <a:pt x="21" y="3"/>
                </a:lnTo>
                <a:lnTo>
                  <a:pt x="29" y="6"/>
                </a:lnTo>
                <a:lnTo>
                  <a:pt x="39" y="9"/>
                </a:lnTo>
                <a:lnTo>
                  <a:pt x="52" y="11"/>
                </a:lnTo>
                <a:lnTo>
                  <a:pt x="64" y="15"/>
                </a:lnTo>
                <a:lnTo>
                  <a:pt x="79" y="17"/>
                </a:lnTo>
                <a:lnTo>
                  <a:pt x="95" y="18"/>
                </a:lnTo>
                <a:lnTo>
                  <a:pt x="113" y="21"/>
                </a:lnTo>
                <a:lnTo>
                  <a:pt x="130" y="22"/>
                </a:lnTo>
                <a:lnTo>
                  <a:pt x="148" y="23"/>
                </a:lnTo>
                <a:lnTo>
                  <a:pt x="168" y="23"/>
                </a:lnTo>
                <a:lnTo>
                  <a:pt x="186" y="22"/>
                </a:lnTo>
                <a:lnTo>
                  <a:pt x="206" y="21"/>
                </a:lnTo>
                <a:lnTo>
                  <a:pt x="226" y="20"/>
                </a:lnTo>
                <a:lnTo>
                  <a:pt x="245" y="16"/>
                </a:lnTo>
                <a:lnTo>
                  <a:pt x="265" y="13"/>
                </a:lnTo>
                <a:lnTo>
                  <a:pt x="256" y="55"/>
                </a:lnTo>
                <a:lnTo>
                  <a:pt x="250" y="102"/>
                </a:lnTo>
                <a:lnTo>
                  <a:pt x="249" y="151"/>
                </a:lnTo>
                <a:lnTo>
                  <a:pt x="251" y="195"/>
                </a:lnTo>
                <a:lnTo>
                  <a:pt x="254" y="220"/>
                </a:lnTo>
                <a:lnTo>
                  <a:pt x="258" y="252"/>
                </a:lnTo>
                <a:lnTo>
                  <a:pt x="261" y="291"/>
                </a:lnTo>
                <a:lnTo>
                  <a:pt x="261" y="333"/>
                </a:lnTo>
                <a:lnTo>
                  <a:pt x="257" y="377"/>
                </a:lnTo>
                <a:lnTo>
                  <a:pt x="244" y="417"/>
                </a:lnTo>
                <a:lnTo>
                  <a:pt x="222" y="453"/>
                </a:lnTo>
                <a:lnTo>
                  <a:pt x="190" y="483"/>
                </a:lnTo>
                <a:lnTo>
                  <a:pt x="199" y="487"/>
                </a:lnTo>
                <a:lnTo>
                  <a:pt x="211" y="488"/>
                </a:lnTo>
                <a:lnTo>
                  <a:pt x="223" y="486"/>
                </a:lnTo>
                <a:lnTo>
                  <a:pt x="237" y="483"/>
                </a:lnTo>
                <a:lnTo>
                  <a:pt x="250" y="477"/>
                </a:lnTo>
                <a:lnTo>
                  <a:pt x="263" y="471"/>
                </a:lnTo>
                <a:lnTo>
                  <a:pt x="273" y="464"/>
                </a:lnTo>
                <a:lnTo>
                  <a:pt x="281" y="458"/>
                </a:lnTo>
                <a:lnTo>
                  <a:pt x="294" y="511"/>
                </a:lnTo>
                <a:lnTo>
                  <a:pt x="298" y="581"/>
                </a:lnTo>
                <a:lnTo>
                  <a:pt x="296" y="662"/>
                </a:lnTo>
                <a:lnTo>
                  <a:pt x="288" y="750"/>
                </a:lnTo>
                <a:lnTo>
                  <a:pt x="275" y="836"/>
                </a:lnTo>
                <a:lnTo>
                  <a:pt x="259" y="917"/>
                </a:lnTo>
                <a:lnTo>
                  <a:pt x="241" y="986"/>
                </a:lnTo>
                <a:lnTo>
                  <a:pt x="222" y="1037"/>
                </a:lnTo>
                <a:lnTo>
                  <a:pt x="210" y="1043"/>
                </a:lnTo>
                <a:lnTo>
                  <a:pt x="193" y="1048"/>
                </a:lnTo>
                <a:lnTo>
                  <a:pt x="176" y="1054"/>
                </a:lnTo>
                <a:lnTo>
                  <a:pt x="155" y="1056"/>
                </a:lnTo>
                <a:lnTo>
                  <a:pt x="135" y="1058"/>
                </a:lnTo>
                <a:lnTo>
                  <a:pt x="113" y="1053"/>
                </a:lnTo>
                <a:lnTo>
                  <a:pt x="90" y="1044"/>
                </a:lnTo>
                <a:lnTo>
                  <a:pt x="68" y="1029"/>
                </a:lnTo>
                <a:lnTo>
                  <a:pt x="69" y="967"/>
                </a:lnTo>
                <a:lnTo>
                  <a:pt x="67" y="901"/>
                </a:lnTo>
                <a:lnTo>
                  <a:pt x="62" y="838"/>
                </a:lnTo>
                <a:lnTo>
                  <a:pt x="54" y="781"/>
                </a:lnTo>
                <a:lnTo>
                  <a:pt x="46" y="719"/>
                </a:lnTo>
                <a:lnTo>
                  <a:pt x="42" y="643"/>
                </a:lnTo>
                <a:lnTo>
                  <a:pt x="45" y="569"/>
                </a:lnTo>
                <a:lnTo>
                  <a:pt x="54" y="511"/>
                </a:lnTo>
                <a:lnTo>
                  <a:pt x="46" y="485"/>
                </a:lnTo>
                <a:lnTo>
                  <a:pt x="37" y="452"/>
                </a:lnTo>
                <a:lnTo>
                  <a:pt x="27" y="412"/>
                </a:lnTo>
                <a:lnTo>
                  <a:pt x="17" y="372"/>
                </a:lnTo>
                <a:lnTo>
                  <a:pt x="9" y="331"/>
                </a:lnTo>
                <a:lnTo>
                  <a:pt x="3" y="290"/>
                </a:lnTo>
                <a:lnTo>
                  <a:pt x="0" y="256"/>
                </a:lnTo>
                <a:lnTo>
                  <a:pt x="1" y="227"/>
                </a:lnTo>
                <a:lnTo>
                  <a:pt x="7" y="169"/>
                </a:lnTo>
                <a:lnTo>
                  <a:pt x="11" y="102"/>
                </a:lnTo>
                <a:lnTo>
                  <a:pt x="15" y="43"/>
                </a:lnTo>
                <a:lnTo>
                  <a:pt x="14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2" name="Freeform 45"/>
          <p:cNvSpPr/>
          <p:nvPr/>
        </p:nvSpPr>
        <p:spPr>
          <a:xfrm>
            <a:off x="2311560" y="6256440"/>
            <a:ext cx="144360" cy="141120"/>
          </a:xfrm>
          <a:custGeom>
            <a:avLst/>
            <a:gdLst/>
            <a:ahLst/>
            <a:rect l="l" t="t" r="r" b="b"/>
            <a:pathLst>
              <a:path w="181" h="177">
                <a:moveTo>
                  <a:pt x="170" y="11"/>
                </a:moveTo>
                <a:lnTo>
                  <a:pt x="160" y="16"/>
                </a:lnTo>
                <a:lnTo>
                  <a:pt x="144" y="21"/>
                </a:lnTo>
                <a:lnTo>
                  <a:pt x="125" y="26"/>
                </a:lnTo>
                <a:lnTo>
                  <a:pt x="102" y="30"/>
                </a:lnTo>
                <a:lnTo>
                  <a:pt x="76" y="30"/>
                </a:lnTo>
                <a:lnTo>
                  <a:pt x="51" y="26"/>
                </a:lnTo>
                <a:lnTo>
                  <a:pt x="27" y="16"/>
                </a:lnTo>
                <a:lnTo>
                  <a:pt x="5" y="0"/>
                </a:lnTo>
                <a:lnTo>
                  <a:pt x="1" y="9"/>
                </a:lnTo>
                <a:lnTo>
                  <a:pt x="0" y="24"/>
                </a:lnTo>
                <a:lnTo>
                  <a:pt x="4" y="43"/>
                </a:lnTo>
                <a:lnTo>
                  <a:pt x="12" y="60"/>
                </a:lnTo>
                <a:lnTo>
                  <a:pt x="19" y="74"/>
                </a:lnTo>
                <a:lnTo>
                  <a:pt x="21" y="84"/>
                </a:lnTo>
                <a:lnTo>
                  <a:pt x="19" y="92"/>
                </a:lnTo>
                <a:lnTo>
                  <a:pt x="12" y="101"/>
                </a:lnTo>
                <a:lnTo>
                  <a:pt x="5" y="114"/>
                </a:lnTo>
                <a:lnTo>
                  <a:pt x="3" y="128"/>
                </a:lnTo>
                <a:lnTo>
                  <a:pt x="6" y="143"/>
                </a:lnTo>
                <a:lnTo>
                  <a:pt x="15" y="155"/>
                </a:lnTo>
                <a:lnTo>
                  <a:pt x="21" y="160"/>
                </a:lnTo>
                <a:lnTo>
                  <a:pt x="26" y="165"/>
                </a:lnTo>
                <a:lnTo>
                  <a:pt x="31" y="168"/>
                </a:lnTo>
                <a:lnTo>
                  <a:pt x="36" y="172"/>
                </a:lnTo>
                <a:lnTo>
                  <a:pt x="41" y="174"/>
                </a:lnTo>
                <a:lnTo>
                  <a:pt x="46" y="175"/>
                </a:lnTo>
                <a:lnTo>
                  <a:pt x="52" y="175"/>
                </a:lnTo>
                <a:lnTo>
                  <a:pt x="59" y="175"/>
                </a:lnTo>
                <a:lnTo>
                  <a:pt x="67" y="175"/>
                </a:lnTo>
                <a:lnTo>
                  <a:pt x="76" y="174"/>
                </a:lnTo>
                <a:lnTo>
                  <a:pt x="85" y="173"/>
                </a:lnTo>
                <a:lnTo>
                  <a:pt x="96" y="173"/>
                </a:lnTo>
                <a:lnTo>
                  <a:pt x="105" y="173"/>
                </a:lnTo>
                <a:lnTo>
                  <a:pt x="115" y="173"/>
                </a:lnTo>
                <a:lnTo>
                  <a:pt x="125" y="174"/>
                </a:lnTo>
                <a:lnTo>
                  <a:pt x="134" y="175"/>
                </a:lnTo>
                <a:lnTo>
                  <a:pt x="142" y="177"/>
                </a:lnTo>
                <a:lnTo>
                  <a:pt x="151" y="177"/>
                </a:lnTo>
                <a:lnTo>
                  <a:pt x="160" y="176"/>
                </a:lnTo>
                <a:lnTo>
                  <a:pt x="168" y="173"/>
                </a:lnTo>
                <a:lnTo>
                  <a:pt x="174" y="168"/>
                </a:lnTo>
                <a:lnTo>
                  <a:pt x="179" y="160"/>
                </a:lnTo>
                <a:lnTo>
                  <a:pt x="181" y="151"/>
                </a:lnTo>
                <a:lnTo>
                  <a:pt x="181" y="139"/>
                </a:lnTo>
                <a:lnTo>
                  <a:pt x="173" y="143"/>
                </a:lnTo>
                <a:lnTo>
                  <a:pt x="163" y="146"/>
                </a:lnTo>
                <a:lnTo>
                  <a:pt x="151" y="149"/>
                </a:lnTo>
                <a:lnTo>
                  <a:pt x="136" y="150"/>
                </a:lnTo>
                <a:lnTo>
                  <a:pt x="121" y="150"/>
                </a:lnTo>
                <a:lnTo>
                  <a:pt x="106" y="149"/>
                </a:lnTo>
                <a:lnTo>
                  <a:pt x="91" y="145"/>
                </a:lnTo>
                <a:lnTo>
                  <a:pt x="77" y="139"/>
                </a:lnTo>
                <a:lnTo>
                  <a:pt x="88" y="139"/>
                </a:lnTo>
                <a:lnTo>
                  <a:pt x="100" y="137"/>
                </a:lnTo>
                <a:lnTo>
                  <a:pt x="115" y="135"/>
                </a:lnTo>
                <a:lnTo>
                  <a:pt x="129" y="131"/>
                </a:lnTo>
                <a:lnTo>
                  <a:pt x="142" y="127"/>
                </a:lnTo>
                <a:lnTo>
                  <a:pt x="151" y="120"/>
                </a:lnTo>
                <a:lnTo>
                  <a:pt x="156" y="112"/>
                </a:lnTo>
                <a:lnTo>
                  <a:pt x="153" y="101"/>
                </a:lnTo>
                <a:lnTo>
                  <a:pt x="143" y="104"/>
                </a:lnTo>
                <a:lnTo>
                  <a:pt x="132" y="105"/>
                </a:lnTo>
                <a:lnTo>
                  <a:pt x="119" y="106"/>
                </a:lnTo>
                <a:lnTo>
                  <a:pt x="106" y="105"/>
                </a:lnTo>
                <a:lnTo>
                  <a:pt x="94" y="104"/>
                </a:lnTo>
                <a:lnTo>
                  <a:pt x="81" y="100"/>
                </a:lnTo>
                <a:lnTo>
                  <a:pt x="69" y="96"/>
                </a:lnTo>
                <a:lnTo>
                  <a:pt x="59" y="90"/>
                </a:lnTo>
                <a:lnTo>
                  <a:pt x="72" y="89"/>
                </a:lnTo>
                <a:lnTo>
                  <a:pt x="91" y="86"/>
                </a:lnTo>
                <a:lnTo>
                  <a:pt x="113" y="82"/>
                </a:lnTo>
                <a:lnTo>
                  <a:pt x="135" y="75"/>
                </a:lnTo>
                <a:lnTo>
                  <a:pt x="155" y="66"/>
                </a:lnTo>
                <a:lnTo>
                  <a:pt x="170" y="52"/>
                </a:lnTo>
                <a:lnTo>
                  <a:pt x="175" y="35"/>
                </a:lnTo>
                <a:lnTo>
                  <a:pt x="170" y="1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3" name="Freeform 46"/>
          <p:cNvSpPr/>
          <p:nvPr/>
        </p:nvSpPr>
        <p:spPr>
          <a:xfrm>
            <a:off x="2332080" y="6610320"/>
            <a:ext cx="61920" cy="58680"/>
          </a:xfrm>
          <a:custGeom>
            <a:avLst/>
            <a:gdLst/>
            <a:ahLst/>
            <a:rect l="l" t="t" r="r" b="b"/>
            <a:pathLst>
              <a:path w="78" h="73">
                <a:moveTo>
                  <a:pt x="78" y="0"/>
                </a:moveTo>
                <a:lnTo>
                  <a:pt x="0" y="30"/>
                </a:lnTo>
                <a:lnTo>
                  <a:pt x="51" y="73"/>
                </a:lnTo>
                <a:lnTo>
                  <a:pt x="59" y="60"/>
                </a:lnTo>
                <a:lnTo>
                  <a:pt x="69" y="40"/>
                </a:lnTo>
                <a:lnTo>
                  <a:pt x="76" y="18"/>
                </a:lnTo>
                <a:lnTo>
                  <a:pt x="7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4" name="Freeform 47"/>
          <p:cNvSpPr/>
          <p:nvPr/>
        </p:nvSpPr>
        <p:spPr>
          <a:xfrm>
            <a:off x="2274840" y="6648480"/>
            <a:ext cx="81000" cy="39600"/>
          </a:xfrm>
          <a:custGeom>
            <a:avLst/>
            <a:gdLst/>
            <a:ahLst/>
            <a:rect l="l" t="t" r="r" b="b"/>
            <a:pathLst>
              <a:path w="103" h="52">
                <a:moveTo>
                  <a:pt x="103" y="38"/>
                </a:moveTo>
                <a:lnTo>
                  <a:pt x="54" y="0"/>
                </a:lnTo>
                <a:lnTo>
                  <a:pt x="0" y="27"/>
                </a:lnTo>
                <a:lnTo>
                  <a:pt x="5" y="35"/>
                </a:lnTo>
                <a:lnTo>
                  <a:pt x="14" y="42"/>
                </a:lnTo>
                <a:lnTo>
                  <a:pt x="25" y="47"/>
                </a:lnTo>
                <a:lnTo>
                  <a:pt x="39" y="51"/>
                </a:lnTo>
                <a:lnTo>
                  <a:pt x="55" y="52"/>
                </a:lnTo>
                <a:lnTo>
                  <a:pt x="71" y="51"/>
                </a:lnTo>
                <a:lnTo>
                  <a:pt x="88" y="46"/>
                </a:lnTo>
                <a:lnTo>
                  <a:pt x="103" y="3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5" name="Freeform 48"/>
          <p:cNvSpPr/>
          <p:nvPr/>
        </p:nvSpPr>
        <p:spPr>
          <a:xfrm>
            <a:off x="2263680" y="6603840"/>
            <a:ext cx="36720" cy="46080"/>
          </a:xfrm>
          <a:custGeom>
            <a:avLst/>
            <a:gdLst/>
            <a:ahLst/>
            <a:rect l="l" t="t" r="r" b="b"/>
            <a:pathLst>
              <a:path w="46" h="56">
                <a:moveTo>
                  <a:pt x="0" y="56"/>
                </a:moveTo>
                <a:lnTo>
                  <a:pt x="46" y="34"/>
                </a:lnTo>
                <a:lnTo>
                  <a:pt x="6" y="0"/>
                </a:lnTo>
                <a:lnTo>
                  <a:pt x="1" y="11"/>
                </a:lnTo>
                <a:lnTo>
                  <a:pt x="0" y="28"/>
                </a:lnTo>
                <a:lnTo>
                  <a:pt x="0" y="45"/>
                </a:lnTo>
                <a:lnTo>
                  <a:pt x="0" y="5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6" name="Freeform 49"/>
          <p:cNvSpPr/>
          <p:nvPr/>
        </p:nvSpPr>
        <p:spPr>
          <a:xfrm>
            <a:off x="2287440" y="6578640"/>
            <a:ext cx="79560" cy="46080"/>
          </a:xfrm>
          <a:custGeom>
            <a:avLst/>
            <a:gdLst/>
            <a:ahLst/>
            <a:rect l="l" t="t" r="r" b="b"/>
            <a:pathLst>
              <a:path w="100" h="58">
                <a:moveTo>
                  <a:pt x="43" y="58"/>
                </a:moveTo>
                <a:lnTo>
                  <a:pt x="100" y="33"/>
                </a:lnTo>
                <a:lnTo>
                  <a:pt x="57" y="0"/>
                </a:lnTo>
                <a:lnTo>
                  <a:pt x="0" y="28"/>
                </a:lnTo>
                <a:lnTo>
                  <a:pt x="43" y="5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7" name="Freeform 50"/>
          <p:cNvSpPr/>
          <p:nvPr/>
        </p:nvSpPr>
        <p:spPr>
          <a:xfrm>
            <a:off x="2349360" y="6541920"/>
            <a:ext cx="65160" cy="54000"/>
          </a:xfrm>
          <a:custGeom>
            <a:avLst/>
            <a:gdLst/>
            <a:ahLst/>
            <a:rect l="l" t="t" r="r" b="b"/>
            <a:pathLst>
              <a:path w="82" h="68">
                <a:moveTo>
                  <a:pt x="68" y="68"/>
                </a:moveTo>
                <a:lnTo>
                  <a:pt x="0" y="33"/>
                </a:lnTo>
                <a:lnTo>
                  <a:pt x="82" y="0"/>
                </a:lnTo>
                <a:lnTo>
                  <a:pt x="80" y="15"/>
                </a:lnTo>
                <a:lnTo>
                  <a:pt x="75" y="36"/>
                </a:lnTo>
                <a:lnTo>
                  <a:pt x="71" y="57"/>
                </a:lnTo>
                <a:lnTo>
                  <a:pt x="68" y="6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8" name="Freeform 51"/>
          <p:cNvSpPr/>
          <p:nvPr/>
        </p:nvSpPr>
        <p:spPr>
          <a:xfrm>
            <a:off x="2270160" y="6543720"/>
            <a:ext cx="50760" cy="41400"/>
          </a:xfrm>
          <a:custGeom>
            <a:avLst/>
            <a:gdLst/>
            <a:ahLst/>
            <a:rect l="l" t="t" r="r" b="b"/>
            <a:pathLst>
              <a:path w="66" h="52">
                <a:moveTo>
                  <a:pt x="7" y="14"/>
                </a:moveTo>
                <a:lnTo>
                  <a:pt x="5" y="25"/>
                </a:lnTo>
                <a:lnTo>
                  <a:pt x="3" y="35"/>
                </a:lnTo>
                <a:lnTo>
                  <a:pt x="1" y="45"/>
                </a:lnTo>
                <a:lnTo>
                  <a:pt x="0" y="52"/>
                </a:lnTo>
                <a:lnTo>
                  <a:pt x="66" y="24"/>
                </a:lnTo>
                <a:lnTo>
                  <a:pt x="35" y="0"/>
                </a:lnTo>
                <a:lnTo>
                  <a:pt x="32" y="2"/>
                </a:lnTo>
                <a:lnTo>
                  <a:pt x="27" y="5"/>
                </a:lnTo>
                <a:lnTo>
                  <a:pt x="18" y="10"/>
                </a:lnTo>
                <a:lnTo>
                  <a:pt x="7" y="1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9" name="Freeform 52"/>
          <p:cNvSpPr/>
          <p:nvPr/>
        </p:nvSpPr>
        <p:spPr>
          <a:xfrm>
            <a:off x="2274840" y="6483240"/>
            <a:ext cx="66600" cy="39960"/>
          </a:xfrm>
          <a:custGeom>
            <a:avLst/>
            <a:gdLst/>
            <a:ahLst/>
            <a:rect l="l" t="t" r="r" b="b"/>
            <a:pathLst>
              <a:path w="83" h="50">
                <a:moveTo>
                  <a:pt x="19" y="50"/>
                </a:moveTo>
                <a:lnTo>
                  <a:pt x="0" y="37"/>
                </a:lnTo>
                <a:lnTo>
                  <a:pt x="12" y="33"/>
                </a:lnTo>
                <a:lnTo>
                  <a:pt x="24" y="27"/>
                </a:lnTo>
                <a:lnTo>
                  <a:pt x="36" y="22"/>
                </a:lnTo>
                <a:lnTo>
                  <a:pt x="47" y="15"/>
                </a:lnTo>
                <a:lnTo>
                  <a:pt x="57" y="9"/>
                </a:lnTo>
                <a:lnTo>
                  <a:pt x="65" y="4"/>
                </a:lnTo>
                <a:lnTo>
                  <a:pt x="69" y="1"/>
                </a:lnTo>
                <a:lnTo>
                  <a:pt x="72" y="0"/>
                </a:lnTo>
                <a:lnTo>
                  <a:pt x="75" y="1"/>
                </a:lnTo>
                <a:lnTo>
                  <a:pt x="80" y="2"/>
                </a:lnTo>
                <a:lnTo>
                  <a:pt x="82" y="3"/>
                </a:lnTo>
                <a:lnTo>
                  <a:pt x="83" y="3"/>
                </a:lnTo>
                <a:lnTo>
                  <a:pt x="76" y="12"/>
                </a:lnTo>
                <a:lnTo>
                  <a:pt x="68" y="20"/>
                </a:lnTo>
                <a:lnTo>
                  <a:pt x="59" y="27"/>
                </a:lnTo>
                <a:lnTo>
                  <a:pt x="49" y="34"/>
                </a:lnTo>
                <a:lnTo>
                  <a:pt x="39" y="40"/>
                </a:lnTo>
                <a:lnTo>
                  <a:pt x="31" y="45"/>
                </a:lnTo>
                <a:lnTo>
                  <a:pt x="23" y="48"/>
                </a:lnTo>
                <a:lnTo>
                  <a:pt x="19" y="5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0" name="Freeform 53"/>
          <p:cNvSpPr/>
          <p:nvPr/>
        </p:nvSpPr>
        <p:spPr>
          <a:xfrm>
            <a:off x="2317680" y="6488280"/>
            <a:ext cx="76320" cy="55440"/>
          </a:xfrm>
          <a:custGeom>
            <a:avLst/>
            <a:gdLst/>
            <a:ahLst/>
            <a:rect l="l" t="t" r="r" b="b"/>
            <a:pathLst>
              <a:path w="96" h="69">
                <a:moveTo>
                  <a:pt x="46" y="3"/>
                </a:moveTo>
                <a:lnTo>
                  <a:pt x="44" y="8"/>
                </a:lnTo>
                <a:lnTo>
                  <a:pt x="39" y="13"/>
                </a:lnTo>
                <a:lnTo>
                  <a:pt x="35" y="21"/>
                </a:lnTo>
                <a:lnTo>
                  <a:pt x="28" y="28"/>
                </a:lnTo>
                <a:lnTo>
                  <a:pt x="21" y="36"/>
                </a:lnTo>
                <a:lnTo>
                  <a:pt x="14" y="44"/>
                </a:lnTo>
                <a:lnTo>
                  <a:pt x="7" y="50"/>
                </a:lnTo>
                <a:lnTo>
                  <a:pt x="0" y="55"/>
                </a:lnTo>
                <a:lnTo>
                  <a:pt x="29" y="69"/>
                </a:lnTo>
                <a:lnTo>
                  <a:pt x="96" y="47"/>
                </a:lnTo>
                <a:lnTo>
                  <a:pt x="92" y="42"/>
                </a:lnTo>
                <a:lnTo>
                  <a:pt x="83" y="31"/>
                </a:lnTo>
                <a:lnTo>
                  <a:pt x="74" y="16"/>
                </a:lnTo>
                <a:lnTo>
                  <a:pt x="66" y="0"/>
                </a:lnTo>
                <a:lnTo>
                  <a:pt x="64" y="4"/>
                </a:lnTo>
                <a:lnTo>
                  <a:pt x="60" y="4"/>
                </a:lnTo>
                <a:lnTo>
                  <a:pt x="54" y="4"/>
                </a:lnTo>
                <a:lnTo>
                  <a:pt x="46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1" name="Freeform 54"/>
          <p:cNvSpPr/>
          <p:nvPr/>
        </p:nvSpPr>
        <p:spPr>
          <a:xfrm>
            <a:off x="2295360" y="6453360"/>
            <a:ext cx="34920" cy="29880"/>
          </a:xfrm>
          <a:custGeom>
            <a:avLst/>
            <a:gdLst/>
            <a:ahLst/>
            <a:rect l="l" t="t" r="r" b="b"/>
            <a:pathLst>
              <a:path w="45" h="38">
                <a:moveTo>
                  <a:pt x="0" y="38"/>
                </a:moveTo>
                <a:lnTo>
                  <a:pt x="6" y="34"/>
                </a:lnTo>
                <a:lnTo>
                  <a:pt x="13" y="31"/>
                </a:lnTo>
                <a:lnTo>
                  <a:pt x="20" y="26"/>
                </a:lnTo>
                <a:lnTo>
                  <a:pt x="27" y="22"/>
                </a:lnTo>
                <a:lnTo>
                  <a:pt x="33" y="17"/>
                </a:lnTo>
                <a:lnTo>
                  <a:pt x="39" y="12"/>
                </a:lnTo>
                <a:lnTo>
                  <a:pt x="42" y="9"/>
                </a:lnTo>
                <a:lnTo>
                  <a:pt x="45" y="7"/>
                </a:lnTo>
                <a:lnTo>
                  <a:pt x="39" y="4"/>
                </a:lnTo>
                <a:lnTo>
                  <a:pt x="30" y="2"/>
                </a:lnTo>
                <a:lnTo>
                  <a:pt x="24" y="1"/>
                </a:lnTo>
                <a:lnTo>
                  <a:pt x="15" y="0"/>
                </a:lnTo>
                <a:lnTo>
                  <a:pt x="11" y="8"/>
                </a:lnTo>
                <a:lnTo>
                  <a:pt x="7" y="18"/>
                </a:lnTo>
                <a:lnTo>
                  <a:pt x="4" y="30"/>
                </a:lnTo>
                <a:lnTo>
                  <a:pt x="0" y="3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2" name="Freeform 55"/>
          <p:cNvSpPr/>
          <p:nvPr/>
        </p:nvSpPr>
        <p:spPr>
          <a:xfrm>
            <a:off x="2428920" y="6459480"/>
            <a:ext cx="41400" cy="52560"/>
          </a:xfrm>
          <a:custGeom>
            <a:avLst/>
            <a:gdLst/>
            <a:ahLst/>
            <a:rect l="l" t="t" r="r" b="b"/>
            <a:pathLst>
              <a:path w="52" h="67">
                <a:moveTo>
                  <a:pt x="0" y="67"/>
                </a:moveTo>
                <a:lnTo>
                  <a:pt x="3" y="67"/>
                </a:lnTo>
                <a:lnTo>
                  <a:pt x="8" y="67"/>
                </a:lnTo>
                <a:lnTo>
                  <a:pt x="13" y="65"/>
                </a:lnTo>
                <a:lnTo>
                  <a:pt x="17" y="64"/>
                </a:lnTo>
                <a:lnTo>
                  <a:pt x="23" y="62"/>
                </a:lnTo>
                <a:lnTo>
                  <a:pt x="27" y="60"/>
                </a:lnTo>
                <a:lnTo>
                  <a:pt x="32" y="57"/>
                </a:lnTo>
                <a:lnTo>
                  <a:pt x="37" y="55"/>
                </a:lnTo>
                <a:lnTo>
                  <a:pt x="46" y="48"/>
                </a:lnTo>
                <a:lnTo>
                  <a:pt x="51" y="41"/>
                </a:lnTo>
                <a:lnTo>
                  <a:pt x="52" y="33"/>
                </a:lnTo>
                <a:lnTo>
                  <a:pt x="49" y="25"/>
                </a:lnTo>
                <a:lnTo>
                  <a:pt x="42" y="18"/>
                </a:lnTo>
                <a:lnTo>
                  <a:pt x="33" y="11"/>
                </a:lnTo>
                <a:lnTo>
                  <a:pt x="21" y="4"/>
                </a:lnTo>
                <a:lnTo>
                  <a:pt x="6" y="0"/>
                </a:lnTo>
                <a:lnTo>
                  <a:pt x="4" y="15"/>
                </a:lnTo>
                <a:lnTo>
                  <a:pt x="3" y="33"/>
                </a:lnTo>
                <a:lnTo>
                  <a:pt x="2" y="52"/>
                </a:lnTo>
                <a:lnTo>
                  <a:pt x="0" y="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3" name="Freeform 56"/>
          <p:cNvSpPr/>
          <p:nvPr/>
        </p:nvSpPr>
        <p:spPr>
          <a:xfrm>
            <a:off x="2384280" y="6456240"/>
            <a:ext cx="27000" cy="38160"/>
          </a:xfrm>
          <a:custGeom>
            <a:avLst/>
            <a:gdLst/>
            <a:ahLst/>
            <a:rect l="l" t="t" r="r" b="b"/>
            <a:pathLst>
              <a:path w="36" h="48">
                <a:moveTo>
                  <a:pt x="27" y="48"/>
                </a:moveTo>
                <a:lnTo>
                  <a:pt x="19" y="37"/>
                </a:lnTo>
                <a:lnTo>
                  <a:pt x="12" y="24"/>
                </a:lnTo>
                <a:lnTo>
                  <a:pt x="6" y="13"/>
                </a:lnTo>
                <a:lnTo>
                  <a:pt x="0" y="2"/>
                </a:lnTo>
                <a:lnTo>
                  <a:pt x="5" y="1"/>
                </a:lnTo>
                <a:lnTo>
                  <a:pt x="9" y="1"/>
                </a:lnTo>
                <a:lnTo>
                  <a:pt x="14" y="1"/>
                </a:lnTo>
                <a:lnTo>
                  <a:pt x="19" y="0"/>
                </a:lnTo>
                <a:lnTo>
                  <a:pt x="23" y="0"/>
                </a:lnTo>
                <a:lnTo>
                  <a:pt x="28" y="0"/>
                </a:lnTo>
                <a:lnTo>
                  <a:pt x="32" y="1"/>
                </a:lnTo>
                <a:lnTo>
                  <a:pt x="36" y="1"/>
                </a:lnTo>
                <a:lnTo>
                  <a:pt x="35" y="12"/>
                </a:lnTo>
                <a:lnTo>
                  <a:pt x="34" y="25"/>
                </a:lnTo>
                <a:lnTo>
                  <a:pt x="30" y="38"/>
                </a:lnTo>
                <a:lnTo>
                  <a:pt x="27" y="4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4" name="Freeform 57"/>
          <p:cNvSpPr/>
          <p:nvPr/>
        </p:nvSpPr>
        <p:spPr>
          <a:xfrm>
            <a:off x="2244600" y="6550200"/>
            <a:ext cx="203400" cy="255240"/>
          </a:xfrm>
          <a:custGeom>
            <a:avLst/>
            <a:gdLst/>
            <a:ahLst/>
            <a:rect l="l" t="t" r="r" b="b"/>
            <a:pathLst>
              <a:path w="256" h="322">
                <a:moveTo>
                  <a:pt x="256" y="12"/>
                </a:moveTo>
                <a:lnTo>
                  <a:pt x="248" y="44"/>
                </a:lnTo>
                <a:lnTo>
                  <a:pt x="242" y="77"/>
                </a:lnTo>
                <a:lnTo>
                  <a:pt x="239" y="110"/>
                </a:lnTo>
                <a:lnTo>
                  <a:pt x="241" y="145"/>
                </a:lnTo>
                <a:lnTo>
                  <a:pt x="242" y="159"/>
                </a:lnTo>
                <a:lnTo>
                  <a:pt x="241" y="177"/>
                </a:lnTo>
                <a:lnTo>
                  <a:pt x="237" y="198"/>
                </a:lnTo>
                <a:lnTo>
                  <a:pt x="231" y="221"/>
                </a:lnTo>
                <a:lnTo>
                  <a:pt x="220" y="243"/>
                </a:lnTo>
                <a:lnTo>
                  <a:pt x="207" y="266"/>
                </a:lnTo>
                <a:lnTo>
                  <a:pt x="189" y="287"/>
                </a:lnTo>
                <a:lnTo>
                  <a:pt x="167" y="304"/>
                </a:lnTo>
                <a:lnTo>
                  <a:pt x="144" y="315"/>
                </a:lnTo>
                <a:lnTo>
                  <a:pt x="121" y="321"/>
                </a:lnTo>
                <a:lnTo>
                  <a:pt x="98" y="322"/>
                </a:lnTo>
                <a:lnTo>
                  <a:pt x="76" y="320"/>
                </a:lnTo>
                <a:lnTo>
                  <a:pt x="55" y="314"/>
                </a:lnTo>
                <a:lnTo>
                  <a:pt x="38" y="305"/>
                </a:lnTo>
                <a:lnTo>
                  <a:pt x="23" y="295"/>
                </a:lnTo>
                <a:lnTo>
                  <a:pt x="13" y="283"/>
                </a:lnTo>
                <a:lnTo>
                  <a:pt x="1" y="253"/>
                </a:lnTo>
                <a:lnTo>
                  <a:pt x="0" y="215"/>
                </a:lnTo>
                <a:lnTo>
                  <a:pt x="5" y="181"/>
                </a:lnTo>
                <a:lnTo>
                  <a:pt x="15" y="158"/>
                </a:lnTo>
                <a:lnTo>
                  <a:pt x="37" y="184"/>
                </a:lnTo>
                <a:lnTo>
                  <a:pt x="61" y="199"/>
                </a:lnTo>
                <a:lnTo>
                  <a:pt x="88" y="204"/>
                </a:lnTo>
                <a:lnTo>
                  <a:pt x="113" y="200"/>
                </a:lnTo>
                <a:lnTo>
                  <a:pt x="137" y="191"/>
                </a:lnTo>
                <a:lnTo>
                  <a:pt x="159" y="178"/>
                </a:lnTo>
                <a:lnTo>
                  <a:pt x="176" y="163"/>
                </a:lnTo>
                <a:lnTo>
                  <a:pt x="189" y="150"/>
                </a:lnTo>
                <a:lnTo>
                  <a:pt x="196" y="137"/>
                </a:lnTo>
                <a:lnTo>
                  <a:pt x="203" y="120"/>
                </a:lnTo>
                <a:lnTo>
                  <a:pt x="209" y="101"/>
                </a:lnTo>
                <a:lnTo>
                  <a:pt x="214" y="80"/>
                </a:lnTo>
                <a:lnTo>
                  <a:pt x="219" y="59"/>
                </a:lnTo>
                <a:lnTo>
                  <a:pt x="224" y="38"/>
                </a:lnTo>
                <a:lnTo>
                  <a:pt x="227" y="17"/>
                </a:lnTo>
                <a:lnTo>
                  <a:pt x="231" y="0"/>
                </a:lnTo>
                <a:lnTo>
                  <a:pt x="234" y="3"/>
                </a:lnTo>
                <a:lnTo>
                  <a:pt x="241" y="8"/>
                </a:lnTo>
                <a:lnTo>
                  <a:pt x="248" y="11"/>
                </a:lnTo>
                <a:lnTo>
                  <a:pt x="256" y="1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5" name="Freeform 58"/>
          <p:cNvSpPr/>
          <p:nvPr/>
        </p:nvSpPr>
        <p:spPr>
          <a:xfrm>
            <a:off x="2316240" y="6405480"/>
            <a:ext cx="95040" cy="38160"/>
          </a:xfrm>
          <a:custGeom>
            <a:avLst/>
            <a:gdLst/>
            <a:ahLst/>
            <a:rect l="l" t="t" r="r" b="b"/>
            <a:pathLst>
              <a:path w="120" h="47">
                <a:moveTo>
                  <a:pt x="0" y="30"/>
                </a:moveTo>
                <a:lnTo>
                  <a:pt x="8" y="32"/>
                </a:lnTo>
                <a:lnTo>
                  <a:pt x="17" y="36"/>
                </a:lnTo>
                <a:lnTo>
                  <a:pt x="25" y="40"/>
                </a:lnTo>
                <a:lnTo>
                  <a:pt x="33" y="47"/>
                </a:lnTo>
                <a:lnTo>
                  <a:pt x="38" y="45"/>
                </a:lnTo>
                <a:lnTo>
                  <a:pt x="43" y="41"/>
                </a:lnTo>
                <a:lnTo>
                  <a:pt x="48" y="39"/>
                </a:lnTo>
                <a:lnTo>
                  <a:pt x="55" y="37"/>
                </a:lnTo>
                <a:lnTo>
                  <a:pt x="61" y="36"/>
                </a:lnTo>
                <a:lnTo>
                  <a:pt x="68" y="36"/>
                </a:lnTo>
                <a:lnTo>
                  <a:pt x="74" y="37"/>
                </a:lnTo>
                <a:lnTo>
                  <a:pt x="79" y="40"/>
                </a:lnTo>
                <a:lnTo>
                  <a:pt x="85" y="40"/>
                </a:lnTo>
                <a:lnTo>
                  <a:pt x="91" y="39"/>
                </a:lnTo>
                <a:lnTo>
                  <a:pt x="97" y="38"/>
                </a:lnTo>
                <a:lnTo>
                  <a:pt x="101" y="37"/>
                </a:lnTo>
                <a:lnTo>
                  <a:pt x="106" y="37"/>
                </a:lnTo>
                <a:lnTo>
                  <a:pt x="111" y="36"/>
                </a:lnTo>
                <a:lnTo>
                  <a:pt x="115" y="37"/>
                </a:lnTo>
                <a:lnTo>
                  <a:pt x="120" y="37"/>
                </a:lnTo>
                <a:lnTo>
                  <a:pt x="116" y="26"/>
                </a:lnTo>
                <a:lnTo>
                  <a:pt x="113" y="18"/>
                </a:lnTo>
                <a:lnTo>
                  <a:pt x="109" y="13"/>
                </a:lnTo>
                <a:lnTo>
                  <a:pt x="104" y="8"/>
                </a:lnTo>
                <a:lnTo>
                  <a:pt x="98" y="6"/>
                </a:lnTo>
                <a:lnTo>
                  <a:pt x="91" y="3"/>
                </a:lnTo>
                <a:lnTo>
                  <a:pt x="83" y="2"/>
                </a:lnTo>
                <a:lnTo>
                  <a:pt x="75" y="2"/>
                </a:lnTo>
                <a:lnTo>
                  <a:pt x="67" y="2"/>
                </a:lnTo>
                <a:lnTo>
                  <a:pt x="58" y="3"/>
                </a:lnTo>
                <a:lnTo>
                  <a:pt x="51" y="4"/>
                </a:lnTo>
                <a:lnTo>
                  <a:pt x="43" y="4"/>
                </a:lnTo>
                <a:lnTo>
                  <a:pt x="36" y="6"/>
                </a:lnTo>
                <a:lnTo>
                  <a:pt x="29" y="4"/>
                </a:lnTo>
                <a:lnTo>
                  <a:pt x="23" y="3"/>
                </a:lnTo>
                <a:lnTo>
                  <a:pt x="17" y="0"/>
                </a:lnTo>
                <a:lnTo>
                  <a:pt x="10" y="4"/>
                </a:lnTo>
                <a:lnTo>
                  <a:pt x="5" y="13"/>
                </a:lnTo>
                <a:lnTo>
                  <a:pt x="1" y="21"/>
                </a:lnTo>
                <a:lnTo>
                  <a:pt x="0" y="3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6" name="Freeform 59"/>
          <p:cNvSpPr/>
          <p:nvPr/>
        </p:nvSpPr>
        <p:spPr>
          <a:xfrm>
            <a:off x="2427120" y="6405480"/>
            <a:ext cx="44640" cy="50760"/>
          </a:xfrm>
          <a:custGeom>
            <a:avLst/>
            <a:gdLst/>
            <a:ahLst/>
            <a:rect l="l" t="t" r="r" b="b"/>
            <a:pathLst>
              <a:path w="57" h="62">
                <a:moveTo>
                  <a:pt x="0" y="10"/>
                </a:moveTo>
                <a:lnTo>
                  <a:pt x="4" y="18"/>
                </a:lnTo>
                <a:lnTo>
                  <a:pt x="7" y="28"/>
                </a:lnTo>
                <a:lnTo>
                  <a:pt x="10" y="36"/>
                </a:lnTo>
                <a:lnTo>
                  <a:pt x="11" y="43"/>
                </a:lnTo>
                <a:lnTo>
                  <a:pt x="18" y="45"/>
                </a:lnTo>
                <a:lnTo>
                  <a:pt x="25" y="47"/>
                </a:lnTo>
                <a:lnTo>
                  <a:pt x="31" y="49"/>
                </a:lnTo>
                <a:lnTo>
                  <a:pt x="37" y="52"/>
                </a:lnTo>
                <a:lnTo>
                  <a:pt x="42" y="54"/>
                </a:lnTo>
                <a:lnTo>
                  <a:pt x="48" y="56"/>
                </a:lnTo>
                <a:lnTo>
                  <a:pt x="51" y="59"/>
                </a:lnTo>
                <a:lnTo>
                  <a:pt x="55" y="62"/>
                </a:lnTo>
                <a:lnTo>
                  <a:pt x="57" y="48"/>
                </a:lnTo>
                <a:lnTo>
                  <a:pt x="56" y="33"/>
                </a:lnTo>
                <a:lnTo>
                  <a:pt x="51" y="17"/>
                </a:lnTo>
                <a:lnTo>
                  <a:pt x="42" y="0"/>
                </a:lnTo>
                <a:lnTo>
                  <a:pt x="38" y="2"/>
                </a:lnTo>
                <a:lnTo>
                  <a:pt x="35" y="4"/>
                </a:lnTo>
                <a:lnTo>
                  <a:pt x="30" y="7"/>
                </a:lnTo>
                <a:lnTo>
                  <a:pt x="25" y="8"/>
                </a:lnTo>
                <a:lnTo>
                  <a:pt x="20" y="10"/>
                </a:lnTo>
                <a:lnTo>
                  <a:pt x="13" y="11"/>
                </a:lnTo>
                <a:lnTo>
                  <a:pt x="7" y="11"/>
                </a:lnTo>
                <a:lnTo>
                  <a:pt x="0" y="1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7" name="Freeform 60"/>
          <p:cNvSpPr/>
          <p:nvPr/>
        </p:nvSpPr>
        <p:spPr>
          <a:xfrm>
            <a:off x="1793880" y="6070680"/>
            <a:ext cx="22320" cy="31680"/>
          </a:xfrm>
          <a:custGeom>
            <a:avLst/>
            <a:gdLst/>
            <a:ahLst/>
            <a:rect l="l" t="t" r="r" b="b"/>
            <a:pathLst>
              <a:path w="29" h="40">
                <a:moveTo>
                  <a:pt x="15" y="0"/>
                </a:moveTo>
                <a:lnTo>
                  <a:pt x="7" y="7"/>
                </a:lnTo>
                <a:lnTo>
                  <a:pt x="1" y="20"/>
                </a:lnTo>
                <a:lnTo>
                  <a:pt x="0" y="32"/>
                </a:lnTo>
                <a:lnTo>
                  <a:pt x="7" y="40"/>
                </a:lnTo>
                <a:lnTo>
                  <a:pt x="13" y="40"/>
                </a:lnTo>
                <a:lnTo>
                  <a:pt x="20" y="37"/>
                </a:lnTo>
                <a:lnTo>
                  <a:pt x="24" y="32"/>
                </a:lnTo>
                <a:lnTo>
                  <a:pt x="28" y="27"/>
                </a:lnTo>
                <a:lnTo>
                  <a:pt x="29" y="20"/>
                </a:lnTo>
                <a:lnTo>
                  <a:pt x="28" y="13"/>
                </a:lnTo>
                <a:lnTo>
                  <a:pt x="23" y="6"/>
                </a:lnTo>
                <a:lnTo>
                  <a:pt x="15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8" name="Freeform 61"/>
          <p:cNvSpPr/>
          <p:nvPr/>
        </p:nvSpPr>
        <p:spPr>
          <a:xfrm>
            <a:off x="2344680" y="6450120"/>
            <a:ext cx="28800" cy="27000"/>
          </a:xfrm>
          <a:custGeom>
            <a:avLst/>
            <a:gdLst/>
            <a:ahLst/>
            <a:rect l="l" t="t" r="r" b="b"/>
            <a:pathLst>
              <a:path w="37" h="36">
                <a:moveTo>
                  <a:pt x="24" y="1"/>
                </a:moveTo>
                <a:lnTo>
                  <a:pt x="15" y="0"/>
                </a:lnTo>
                <a:lnTo>
                  <a:pt x="8" y="5"/>
                </a:lnTo>
                <a:lnTo>
                  <a:pt x="2" y="12"/>
                </a:lnTo>
                <a:lnTo>
                  <a:pt x="0" y="18"/>
                </a:lnTo>
                <a:lnTo>
                  <a:pt x="2" y="25"/>
                </a:lnTo>
                <a:lnTo>
                  <a:pt x="9" y="31"/>
                </a:lnTo>
                <a:lnTo>
                  <a:pt x="17" y="36"/>
                </a:lnTo>
                <a:lnTo>
                  <a:pt x="26" y="35"/>
                </a:lnTo>
                <a:lnTo>
                  <a:pt x="33" y="28"/>
                </a:lnTo>
                <a:lnTo>
                  <a:pt x="37" y="20"/>
                </a:lnTo>
                <a:lnTo>
                  <a:pt x="34" y="9"/>
                </a:lnTo>
                <a:lnTo>
                  <a:pt x="24" y="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9" name="Freeform 62"/>
          <p:cNvSpPr/>
          <p:nvPr/>
        </p:nvSpPr>
        <p:spPr>
          <a:xfrm>
            <a:off x="2440080" y="6518160"/>
            <a:ext cx="27000" cy="19080"/>
          </a:xfrm>
          <a:custGeom>
            <a:avLst/>
            <a:gdLst/>
            <a:ahLst/>
            <a:rect l="l" t="t" r="r" b="b"/>
            <a:pathLst>
              <a:path w="34" h="26">
                <a:moveTo>
                  <a:pt x="34" y="0"/>
                </a:moveTo>
                <a:lnTo>
                  <a:pt x="32" y="3"/>
                </a:lnTo>
                <a:lnTo>
                  <a:pt x="28" y="5"/>
                </a:lnTo>
                <a:lnTo>
                  <a:pt x="24" y="7"/>
                </a:lnTo>
                <a:lnTo>
                  <a:pt x="19" y="10"/>
                </a:lnTo>
                <a:lnTo>
                  <a:pt x="13" y="12"/>
                </a:lnTo>
                <a:lnTo>
                  <a:pt x="9" y="14"/>
                </a:lnTo>
                <a:lnTo>
                  <a:pt x="4" y="15"/>
                </a:lnTo>
                <a:lnTo>
                  <a:pt x="0" y="17"/>
                </a:lnTo>
                <a:lnTo>
                  <a:pt x="4" y="19"/>
                </a:lnTo>
                <a:lnTo>
                  <a:pt x="11" y="22"/>
                </a:lnTo>
                <a:lnTo>
                  <a:pt x="19" y="25"/>
                </a:lnTo>
                <a:lnTo>
                  <a:pt x="25" y="26"/>
                </a:lnTo>
                <a:lnTo>
                  <a:pt x="28" y="21"/>
                </a:lnTo>
                <a:lnTo>
                  <a:pt x="31" y="14"/>
                </a:lnTo>
                <a:lnTo>
                  <a:pt x="33" y="6"/>
                </a:lnTo>
                <a:lnTo>
                  <a:pt x="34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0" name="Oval 63"/>
          <p:cNvSpPr/>
          <p:nvPr/>
        </p:nvSpPr>
        <p:spPr>
          <a:xfrm>
            <a:off x="8381880" y="5943600"/>
            <a:ext cx="609840" cy="533520"/>
          </a:xfrm>
          <a:prstGeom prst="ellipse">
            <a:avLst/>
          </a:prstGeom>
          <a:solidFill>
            <a:srgbClr val="eaeaea"/>
          </a:solidFill>
          <a:ln cap="sq" w="1260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1" name="Oval 64"/>
          <p:cNvSpPr/>
          <p:nvPr/>
        </p:nvSpPr>
        <p:spPr>
          <a:xfrm>
            <a:off x="8534520" y="5943600"/>
            <a:ext cx="304560" cy="533520"/>
          </a:xfrm>
          <a:prstGeom prst="ellipse">
            <a:avLst/>
          </a:prstGeom>
          <a:solidFill>
            <a:srgbClr val="eaeaea"/>
          </a:solidFill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2" name="AutoShape 65">
            <a:hlinkClick r:id="" action="ppaction://hlinkshowjump?jump=firstslide"/>
          </p:cNvPr>
          <p:cNvSpPr/>
          <p:nvPr/>
        </p:nvSpPr>
        <p:spPr>
          <a:xfrm>
            <a:off x="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eeb00b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3" name="AutoShape 66"/>
          <p:cNvSpPr/>
          <p:nvPr/>
        </p:nvSpPr>
        <p:spPr>
          <a:xfrm>
            <a:off x="380880" y="6477120"/>
            <a:ext cx="304920" cy="3808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6975">
                <a:moveTo>
                  <a:pt x="0" y="0"/>
                </a:moveTo>
                <a:lnTo>
                  <a:pt x="21600" y="0"/>
                </a:lnTo>
                <a:lnTo>
                  <a:pt x="21600" y="26975"/>
                </a:lnTo>
                <a:lnTo>
                  <a:pt x="0" y="26975"/>
                </a:lnTo>
                <a:close/>
              </a:path>
              <a:path fill="lightenLess" w="21600" h="269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75">
                <a:moveTo>
                  <a:pt x="21600" y="0"/>
                </a:moveTo>
                <a:lnTo>
                  <a:pt x="21600" y="26975"/>
                </a:lnTo>
                <a:lnTo>
                  <a:pt x="20200" y="25575"/>
                </a:lnTo>
                <a:lnTo>
                  <a:pt x="20200" y="1400"/>
                </a:lnTo>
                <a:close/>
              </a:path>
              <a:path fill="darkenLess" w="21600" h="26975">
                <a:moveTo>
                  <a:pt x="21600" y="26975"/>
                </a:moveTo>
                <a:lnTo>
                  <a:pt x="0" y="26975"/>
                </a:lnTo>
                <a:lnTo>
                  <a:pt x="1400" y="25575"/>
                </a:lnTo>
                <a:lnTo>
                  <a:pt x="20200" y="25575"/>
                </a:lnTo>
                <a:close/>
              </a:path>
              <a:path fill="lighten" w="21600" h="26975">
                <a:moveTo>
                  <a:pt x="0" y="269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75"/>
                </a:lnTo>
                <a:close/>
              </a:path>
              <a:path fill="darken" w="21600" h="26975">
                <a:moveTo>
                  <a:pt x="3794" y="13487"/>
                </a:moveTo>
                <a:lnTo>
                  <a:pt x="17806" y="6481"/>
                </a:lnTo>
                <a:lnTo>
                  <a:pt x="17806" y="20494"/>
                </a:lnTo>
                <a:close/>
              </a:path>
            </a:pathLst>
          </a:custGeom>
          <a:solidFill>
            <a:srgbClr val="eeb00b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矩形 23"/>
          <p:cNvSpPr/>
          <p:nvPr/>
        </p:nvSpPr>
        <p:spPr>
          <a:xfrm>
            <a:off x="958680" y="6248520"/>
            <a:ext cx="648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模板下载：</a:t>
            </a:r>
            <a:r>
              <a:rPr b="0" lang="en-US" sz="100" spc="-1" strike="noStrike" u="sng">
                <a:solidFill>
                  <a:srgbClr val="ff33cc"/>
                </a:solidFill>
                <a:uFillTx/>
                <a:latin typeface="Calibri"/>
                <a:ea typeface="宋体"/>
                <a:hlinkClick r:id="rId1"/>
              </a:rPr>
              <a:t>www.1ppt.com/moba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行业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 u="sng">
                <a:solidFill>
                  <a:srgbClr val="ff33cc"/>
                </a:solidFill>
                <a:uFillTx/>
                <a:latin typeface="Calibri"/>
                <a:ea typeface="宋体"/>
                <a:hlinkClick r:id="rId2"/>
              </a:rPr>
              <a:t>www.1ppt.com/hangye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</a:t>
            </a:r>
            <a:endParaRPr b="0" lang="en-US" sz="1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节日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 u="sng">
                <a:solidFill>
                  <a:srgbClr val="ff33cc"/>
                </a:solidFill>
                <a:uFillTx/>
                <a:latin typeface="Calibri"/>
                <a:ea typeface="宋体"/>
                <a:hlinkClick r:id="rId3"/>
              </a:rPr>
              <a:t>www.1ppt.com/jieri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素材下载：</a:t>
            </a:r>
            <a:r>
              <a:rPr b="0" lang="en-US" sz="100" spc="-1" strike="noStrike" u="sng">
                <a:solidFill>
                  <a:srgbClr val="ff33cc"/>
                </a:solidFill>
                <a:uFillTx/>
                <a:latin typeface="Calibri"/>
                <a:ea typeface="宋体"/>
                <a:hlinkClick r:id="rId4"/>
              </a:rPr>
              <a:t>www.1ppt.com/sucai/</a:t>
            </a:r>
            <a:endParaRPr b="0" lang="en-US" sz="1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背景图片：</a:t>
            </a:r>
            <a:r>
              <a:rPr b="0" lang="en-US" sz="100" spc="-1" strike="noStrike" u="sng">
                <a:solidFill>
                  <a:srgbClr val="ff33cc"/>
                </a:solidFill>
                <a:uFillTx/>
                <a:latin typeface="Calibri"/>
                <a:ea typeface="宋体"/>
                <a:hlinkClick r:id="rId5"/>
              </a:rPr>
              <a:t>www.1ppt.com/beijing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图表下载：</a:t>
            </a:r>
            <a:r>
              <a:rPr b="0" lang="en-US" sz="100" spc="-1" strike="noStrike" u="sng">
                <a:solidFill>
                  <a:srgbClr val="ff33cc"/>
                </a:solidFill>
                <a:uFillTx/>
                <a:latin typeface="Calibri"/>
                <a:ea typeface="宋体"/>
                <a:hlinkClick r:id="rId6"/>
              </a:rPr>
              <a:t>www.1ppt.com/tubiao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</a:t>
            </a:r>
            <a:endParaRPr b="0" lang="en-US" sz="1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优秀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 u="sng">
                <a:solidFill>
                  <a:srgbClr val="ff33cc"/>
                </a:solidFill>
                <a:uFillTx/>
                <a:latin typeface="Calibri"/>
                <a:ea typeface="宋体"/>
                <a:hlinkClick r:id="rId7"/>
              </a:rPr>
              <a:t>www.1ppt.com/xiazai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 u="sng">
                <a:solidFill>
                  <a:srgbClr val="ff33cc"/>
                </a:solidFill>
                <a:uFillTx/>
                <a:latin typeface="Calibri"/>
                <a:ea typeface="宋体"/>
                <a:hlinkClick r:id="rId8"/>
              </a:rPr>
              <a:t>www.1ppt.com/powerpoint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</a:t>
            </a:r>
            <a:endParaRPr b="0" lang="en-US" sz="1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Word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 u="sng">
                <a:solidFill>
                  <a:srgbClr val="ff33cc"/>
                </a:solidFill>
                <a:uFillTx/>
                <a:latin typeface="Calibri"/>
                <a:ea typeface="宋体"/>
                <a:hlinkClick r:id="rId9"/>
              </a:rPr>
              <a:t>www.1ppt.com/word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        Excel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教程：</a:t>
            </a:r>
            <a:r>
              <a:rPr b="0" lang="en-US" sz="100" spc="-1" strike="noStrike" u="sng">
                <a:solidFill>
                  <a:srgbClr val="ff33cc"/>
                </a:solidFill>
                <a:uFillTx/>
                <a:latin typeface="Calibri"/>
                <a:ea typeface="宋体"/>
                <a:hlinkClick r:id="rId10"/>
              </a:rPr>
              <a:t>www.1ppt.com/excel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 u="sng">
                <a:solidFill>
                  <a:srgbClr val="ff33cc"/>
                </a:solidFill>
                <a:uFillTx/>
                <a:latin typeface="Calibri"/>
                <a:ea typeface="宋体"/>
                <a:hlinkClick r:id="rId11"/>
              </a:rPr>
              <a:t>www.1ppt.com/ziliao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    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课件下载：</a:t>
            </a:r>
            <a:r>
              <a:rPr b="0" lang="en-US" sz="100" spc="-1" strike="noStrike" u="sng">
                <a:solidFill>
                  <a:srgbClr val="ff33cc"/>
                </a:solidFill>
                <a:uFillTx/>
                <a:latin typeface="Calibri"/>
                <a:ea typeface="宋体"/>
                <a:hlinkClick r:id="rId12"/>
              </a:rPr>
              <a:t>www.1ppt.com/kejia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</a:t>
            </a:r>
            <a:endParaRPr b="0" lang="en-US" sz="1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 u="sng">
                <a:solidFill>
                  <a:srgbClr val="ff33cc"/>
                </a:solidFill>
                <a:uFillTx/>
                <a:latin typeface="Calibri"/>
                <a:ea typeface="宋体"/>
                <a:hlinkClick r:id="rId13"/>
              </a:rPr>
              <a:t>www.1ppt.com/fanwe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       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 u="sng">
                <a:solidFill>
                  <a:srgbClr val="ff33cc"/>
                </a:solidFill>
                <a:uFillTx/>
                <a:latin typeface="Calibri"/>
                <a:ea typeface="宋体"/>
                <a:hlinkClick r:id="rId14"/>
              </a:rPr>
              <a:t>www.1ppt.com/shiti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 u="sng">
                <a:solidFill>
                  <a:srgbClr val="ff33cc"/>
                </a:solidFill>
                <a:uFillTx/>
                <a:latin typeface="Calibri"/>
                <a:ea typeface="宋体"/>
                <a:hlinkClick r:id="rId15"/>
              </a:rPr>
              <a:t>www.1ppt.com/jiaoa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41" name="Picture 3" descr="NA01441_"/>
          <p:cNvPicPr/>
          <p:nvPr/>
        </p:nvPicPr>
        <p:blipFill>
          <a:blip r:embed="rId16"/>
          <a:stretch/>
        </p:blipFill>
        <p:spPr>
          <a:xfrm>
            <a:off x="4419720" y="609480"/>
            <a:ext cx="4387680" cy="49532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9" descr="tuzi1"/>
          <p:cNvPicPr/>
          <p:nvPr/>
        </p:nvPicPr>
        <p:blipFill>
          <a:blip r:embed="rId17"/>
          <a:stretch/>
        </p:blipFill>
        <p:spPr>
          <a:xfrm>
            <a:off x="1828800" y="3352680"/>
            <a:ext cx="3505320" cy="25956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1" descr="houzi6"/>
          <p:cNvPicPr/>
          <p:nvPr/>
        </p:nvPicPr>
        <p:blipFill>
          <a:blip r:embed="rId18"/>
          <a:stretch/>
        </p:blipFill>
        <p:spPr>
          <a:xfrm>
            <a:off x="4419720" y="152280"/>
            <a:ext cx="1714320" cy="1737000"/>
          </a:xfrm>
          <a:prstGeom prst="rect">
            <a:avLst/>
          </a:prstGeom>
          <a:ln w="0">
            <a:noFill/>
          </a:ln>
        </p:spPr>
      </p:pic>
      <p:sp>
        <p:nvSpPr>
          <p:cNvPr id="144" name="AutoShape 19"/>
          <p:cNvSpPr/>
          <p:nvPr/>
        </p:nvSpPr>
        <p:spPr>
          <a:xfrm rot="11788800">
            <a:off x="4876560" y="1066320"/>
            <a:ext cx="685800" cy="6098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99cc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5" name="Freeform 20"/>
          <p:cNvSpPr/>
          <p:nvPr/>
        </p:nvSpPr>
        <p:spPr>
          <a:xfrm>
            <a:off x="0" y="4267080"/>
            <a:ext cx="9215280" cy="2845080"/>
          </a:xfrm>
          <a:custGeom>
            <a:avLst/>
            <a:gdLst/>
            <a:ahLst/>
            <a:rect l="l" t="t" r="r" b="b"/>
            <a:pathLst>
              <a:path w="5805" h="1792">
                <a:moveTo>
                  <a:pt x="0" y="165"/>
                </a:moveTo>
                <a:cubicBezTo>
                  <a:pt x="30" y="119"/>
                  <a:pt x="80" y="106"/>
                  <a:pt x="128" y="82"/>
                </a:cubicBezTo>
                <a:cubicBezTo>
                  <a:pt x="171" y="60"/>
                  <a:pt x="141" y="55"/>
                  <a:pt x="173" y="28"/>
                </a:cubicBezTo>
                <a:cubicBezTo>
                  <a:pt x="184" y="19"/>
                  <a:pt x="198" y="15"/>
                  <a:pt x="210" y="9"/>
                </a:cubicBezTo>
                <a:cubicBezTo>
                  <a:pt x="243" y="44"/>
                  <a:pt x="246" y="19"/>
                  <a:pt x="283" y="0"/>
                </a:cubicBezTo>
                <a:lnTo>
                  <a:pt x="18" y="39"/>
                </a:lnTo>
                <a:cubicBezTo>
                  <a:pt x="27" y="270"/>
                  <a:pt x="28" y="501"/>
                  <a:pt x="45" y="732"/>
                </a:cubicBezTo>
                <a:cubicBezTo>
                  <a:pt x="47" y="758"/>
                  <a:pt x="50" y="793"/>
                  <a:pt x="73" y="805"/>
                </a:cubicBezTo>
                <a:cubicBezTo>
                  <a:pt x="116" y="828"/>
                  <a:pt x="219" y="823"/>
                  <a:pt x="219" y="823"/>
                </a:cubicBezTo>
                <a:cubicBezTo>
                  <a:pt x="279" y="813"/>
                  <a:pt x="342" y="819"/>
                  <a:pt x="402" y="805"/>
                </a:cubicBezTo>
                <a:cubicBezTo>
                  <a:pt x="442" y="796"/>
                  <a:pt x="475" y="768"/>
                  <a:pt x="512" y="750"/>
                </a:cubicBezTo>
                <a:cubicBezTo>
                  <a:pt x="540" y="736"/>
                  <a:pt x="573" y="739"/>
                  <a:pt x="603" y="732"/>
                </a:cubicBezTo>
                <a:cubicBezTo>
                  <a:pt x="694" y="735"/>
                  <a:pt x="789" y="717"/>
                  <a:pt x="877" y="741"/>
                </a:cubicBezTo>
                <a:cubicBezTo>
                  <a:pt x="1184" y="825"/>
                  <a:pt x="814" y="851"/>
                  <a:pt x="1042" y="823"/>
                </a:cubicBezTo>
                <a:cubicBezTo>
                  <a:pt x="1064" y="812"/>
                  <a:pt x="1197" y="734"/>
                  <a:pt x="1225" y="732"/>
                </a:cubicBezTo>
                <a:cubicBezTo>
                  <a:pt x="1329" y="726"/>
                  <a:pt x="1432" y="719"/>
                  <a:pt x="1536" y="713"/>
                </a:cubicBezTo>
                <a:cubicBezTo>
                  <a:pt x="1586" y="700"/>
                  <a:pt x="1654" y="681"/>
                  <a:pt x="1700" y="695"/>
                </a:cubicBezTo>
                <a:cubicBezTo>
                  <a:pt x="1720" y="701"/>
                  <a:pt x="1719" y="732"/>
                  <a:pt x="1728" y="750"/>
                </a:cubicBezTo>
                <a:cubicBezTo>
                  <a:pt x="1816" y="706"/>
                  <a:pt x="1883" y="710"/>
                  <a:pt x="1984" y="704"/>
                </a:cubicBezTo>
                <a:cubicBezTo>
                  <a:pt x="2049" y="688"/>
                  <a:pt x="2185" y="704"/>
                  <a:pt x="2185" y="704"/>
                </a:cubicBezTo>
                <a:cubicBezTo>
                  <a:pt x="2103" y="674"/>
                  <a:pt x="2020" y="646"/>
                  <a:pt x="1938" y="615"/>
                </a:cubicBezTo>
                <a:cubicBezTo>
                  <a:pt x="1920" y="608"/>
                  <a:pt x="1976" y="622"/>
                  <a:pt x="1993" y="631"/>
                </a:cubicBezTo>
                <a:cubicBezTo>
                  <a:pt x="2004" y="637"/>
                  <a:pt x="2011" y="649"/>
                  <a:pt x="2020" y="658"/>
                </a:cubicBezTo>
                <a:cubicBezTo>
                  <a:pt x="2026" y="795"/>
                  <a:pt x="1972" y="884"/>
                  <a:pt x="2093" y="914"/>
                </a:cubicBezTo>
                <a:cubicBezTo>
                  <a:pt x="2392" y="905"/>
                  <a:pt x="2690" y="893"/>
                  <a:pt x="2989" y="878"/>
                </a:cubicBezTo>
                <a:cubicBezTo>
                  <a:pt x="3157" y="837"/>
                  <a:pt x="3395" y="853"/>
                  <a:pt x="3538" y="850"/>
                </a:cubicBezTo>
                <a:cubicBezTo>
                  <a:pt x="3550" y="847"/>
                  <a:pt x="3563" y="845"/>
                  <a:pt x="3575" y="841"/>
                </a:cubicBezTo>
                <a:cubicBezTo>
                  <a:pt x="3588" y="836"/>
                  <a:pt x="3598" y="827"/>
                  <a:pt x="3611" y="823"/>
                </a:cubicBezTo>
                <a:cubicBezTo>
                  <a:pt x="3635" y="815"/>
                  <a:pt x="3684" y="805"/>
                  <a:pt x="3684" y="805"/>
                </a:cubicBezTo>
                <a:cubicBezTo>
                  <a:pt x="3801" y="746"/>
                  <a:pt x="3803" y="743"/>
                  <a:pt x="3940" y="732"/>
                </a:cubicBezTo>
                <a:cubicBezTo>
                  <a:pt x="4094" y="655"/>
                  <a:pt x="4194" y="661"/>
                  <a:pt x="4361" y="649"/>
                </a:cubicBezTo>
                <a:cubicBezTo>
                  <a:pt x="4474" y="677"/>
                  <a:pt x="4316" y="646"/>
                  <a:pt x="4434" y="640"/>
                </a:cubicBezTo>
                <a:cubicBezTo>
                  <a:pt x="4483" y="638"/>
                  <a:pt x="4531" y="646"/>
                  <a:pt x="4580" y="649"/>
                </a:cubicBezTo>
                <a:cubicBezTo>
                  <a:pt x="4938" y="736"/>
                  <a:pt x="5345" y="520"/>
                  <a:pt x="5677" y="686"/>
                </a:cubicBezTo>
                <a:cubicBezTo>
                  <a:pt x="5706" y="727"/>
                  <a:pt x="5714" y="773"/>
                  <a:pt x="5741" y="814"/>
                </a:cubicBezTo>
                <a:cubicBezTo>
                  <a:pt x="5785" y="971"/>
                  <a:pt x="5741" y="800"/>
                  <a:pt x="5741" y="1216"/>
                </a:cubicBezTo>
                <a:cubicBezTo>
                  <a:pt x="5741" y="1277"/>
                  <a:pt x="5738" y="1329"/>
                  <a:pt x="5778" y="1372"/>
                </a:cubicBezTo>
                <a:cubicBezTo>
                  <a:pt x="5785" y="1459"/>
                  <a:pt x="5798" y="1541"/>
                  <a:pt x="5805" y="1628"/>
                </a:cubicBezTo>
                <a:cubicBezTo>
                  <a:pt x="5799" y="1640"/>
                  <a:pt x="5792" y="1652"/>
                  <a:pt x="5787" y="1664"/>
                </a:cubicBezTo>
                <a:cubicBezTo>
                  <a:pt x="5780" y="1679"/>
                  <a:pt x="5783" y="1701"/>
                  <a:pt x="5769" y="1710"/>
                </a:cubicBezTo>
                <a:cubicBezTo>
                  <a:pt x="5748" y="1723"/>
                  <a:pt x="5720" y="1716"/>
                  <a:pt x="5696" y="1719"/>
                </a:cubicBezTo>
                <a:cubicBezTo>
                  <a:pt x="5603" y="1631"/>
                  <a:pt x="5421" y="1749"/>
                  <a:pt x="5293" y="1765"/>
                </a:cubicBezTo>
                <a:cubicBezTo>
                  <a:pt x="4896" y="1758"/>
                  <a:pt x="4820" y="1792"/>
                  <a:pt x="4525" y="1682"/>
                </a:cubicBezTo>
                <a:cubicBezTo>
                  <a:pt x="4420" y="1696"/>
                  <a:pt x="4320" y="1740"/>
                  <a:pt x="4215" y="1746"/>
                </a:cubicBezTo>
                <a:cubicBezTo>
                  <a:pt x="4069" y="1754"/>
                  <a:pt x="3922" y="1734"/>
                  <a:pt x="3776" y="1728"/>
                </a:cubicBezTo>
                <a:cubicBezTo>
                  <a:pt x="3571" y="1753"/>
                  <a:pt x="3321" y="1715"/>
                  <a:pt x="3117" y="1710"/>
                </a:cubicBezTo>
                <a:cubicBezTo>
                  <a:pt x="2545" y="1663"/>
                  <a:pt x="2971" y="1691"/>
                  <a:pt x="1837" y="1710"/>
                </a:cubicBezTo>
                <a:cubicBezTo>
                  <a:pt x="1471" y="1701"/>
                  <a:pt x="1106" y="1679"/>
                  <a:pt x="740" y="1664"/>
                </a:cubicBezTo>
                <a:cubicBezTo>
                  <a:pt x="667" y="1657"/>
                  <a:pt x="593" y="1658"/>
                  <a:pt x="521" y="1646"/>
                </a:cubicBezTo>
                <a:cubicBezTo>
                  <a:pt x="507" y="1644"/>
                  <a:pt x="497" y="1631"/>
                  <a:pt x="484" y="1628"/>
                </a:cubicBezTo>
                <a:cubicBezTo>
                  <a:pt x="449" y="1619"/>
                  <a:pt x="324" y="1611"/>
                  <a:pt x="301" y="1609"/>
                </a:cubicBezTo>
                <a:cubicBezTo>
                  <a:pt x="217" y="1588"/>
                  <a:pt x="136" y="1596"/>
                  <a:pt x="55" y="1564"/>
                </a:cubicBezTo>
                <a:cubicBezTo>
                  <a:pt x="43" y="1363"/>
                  <a:pt x="43" y="1160"/>
                  <a:pt x="18" y="960"/>
                </a:cubicBezTo>
                <a:cubicBezTo>
                  <a:pt x="13" y="745"/>
                  <a:pt x="18" y="618"/>
                  <a:pt x="18" y="430"/>
                </a:cubicBezTo>
              </a:path>
            </a:pathLst>
          </a:custGeom>
          <a:solidFill>
            <a:srgbClr val="33cc33"/>
          </a:solidFill>
          <a:ln cap="sq" w="1260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6" name="Freeform 21"/>
          <p:cNvSpPr/>
          <p:nvPr/>
        </p:nvSpPr>
        <p:spPr>
          <a:xfrm>
            <a:off x="-14400" y="4859280"/>
            <a:ext cx="609840" cy="771480"/>
          </a:xfrm>
          <a:custGeom>
            <a:avLst/>
            <a:gdLst/>
            <a:ahLst/>
            <a:rect l="l" t="t" r="r" b="b"/>
            <a:pathLst>
              <a:path w="384" h="486">
                <a:moveTo>
                  <a:pt x="128" y="459"/>
                </a:moveTo>
                <a:cubicBezTo>
                  <a:pt x="122" y="403"/>
                  <a:pt x="123" y="330"/>
                  <a:pt x="100" y="276"/>
                </a:cubicBezTo>
                <a:cubicBezTo>
                  <a:pt x="70" y="204"/>
                  <a:pt x="34" y="135"/>
                  <a:pt x="0" y="66"/>
                </a:cubicBezTo>
                <a:cubicBezTo>
                  <a:pt x="32" y="0"/>
                  <a:pt x="4" y="34"/>
                  <a:pt x="36" y="66"/>
                </a:cubicBezTo>
                <a:cubicBezTo>
                  <a:pt x="46" y="76"/>
                  <a:pt x="61" y="78"/>
                  <a:pt x="73" y="84"/>
                </a:cubicBezTo>
                <a:cubicBezTo>
                  <a:pt x="102" y="129"/>
                  <a:pt x="131" y="174"/>
                  <a:pt x="155" y="221"/>
                </a:cubicBezTo>
                <a:cubicBezTo>
                  <a:pt x="164" y="258"/>
                  <a:pt x="174" y="294"/>
                  <a:pt x="183" y="331"/>
                </a:cubicBezTo>
                <a:cubicBezTo>
                  <a:pt x="186" y="361"/>
                  <a:pt x="183" y="393"/>
                  <a:pt x="192" y="422"/>
                </a:cubicBezTo>
                <a:cubicBezTo>
                  <a:pt x="196" y="434"/>
                  <a:pt x="199" y="398"/>
                  <a:pt x="201" y="386"/>
                </a:cubicBezTo>
                <a:cubicBezTo>
                  <a:pt x="208" y="337"/>
                  <a:pt x="197" y="284"/>
                  <a:pt x="219" y="240"/>
                </a:cubicBezTo>
                <a:cubicBezTo>
                  <a:pt x="275" y="132"/>
                  <a:pt x="278" y="131"/>
                  <a:pt x="384" y="102"/>
                </a:cubicBezTo>
                <a:cubicBezTo>
                  <a:pt x="349" y="139"/>
                  <a:pt x="380" y="100"/>
                  <a:pt x="356" y="157"/>
                </a:cubicBezTo>
                <a:cubicBezTo>
                  <a:pt x="345" y="182"/>
                  <a:pt x="320" y="230"/>
                  <a:pt x="320" y="230"/>
                </a:cubicBezTo>
                <a:cubicBezTo>
                  <a:pt x="294" y="338"/>
                  <a:pt x="311" y="254"/>
                  <a:pt x="311" y="486"/>
                </a:cubicBezTo>
                <a:lnTo>
                  <a:pt x="297" y="299"/>
                </a:lnTo>
              </a:path>
            </a:pathLst>
          </a:custGeom>
          <a:solidFill>
            <a:srgbClr val="33cc33"/>
          </a:solidFill>
          <a:ln cap="sq" w="1260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7" name="Freeform 22"/>
          <p:cNvSpPr/>
          <p:nvPr/>
        </p:nvSpPr>
        <p:spPr>
          <a:xfrm>
            <a:off x="708120" y="5038560"/>
            <a:ext cx="898560" cy="535320"/>
          </a:xfrm>
          <a:custGeom>
            <a:avLst/>
            <a:gdLst/>
            <a:ahLst/>
            <a:rect l="l" t="t" r="r" b="b"/>
            <a:pathLst>
              <a:path w="566" h="337">
                <a:moveTo>
                  <a:pt x="185" y="236"/>
                </a:moveTo>
                <a:cubicBezTo>
                  <a:pt x="173" y="142"/>
                  <a:pt x="193" y="179"/>
                  <a:pt x="130" y="117"/>
                </a:cubicBezTo>
                <a:cubicBezTo>
                  <a:pt x="118" y="105"/>
                  <a:pt x="93" y="81"/>
                  <a:pt x="93" y="81"/>
                </a:cubicBezTo>
                <a:cubicBezTo>
                  <a:pt x="87" y="69"/>
                  <a:pt x="85" y="53"/>
                  <a:pt x="75" y="44"/>
                </a:cubicBezTo>
                <a:cubicBezTo>
                  <a:pt x="48" y="21"/>
                  <a:pt x="0" y="38"/>
                  <a:pt x="20" y="90"/>
                </a:cubicBezTo>
                <a:cubicBezTo>
                  <a:pt x="25" y="102"/>
                  <a:pt x="45" y="84"/>
                  <a:pt x="57" y="81"/>
                </a:cubicBezTo>
                <a:cubicBezTo>
                  <a:pt x="102" y="92"/>
                  <a:pt x="143" y="97"/>
                  <a:pt x="185" y="117"/>
                </a:cubicBezTo>
                <a:cubicBezTo>
                  <a:pt x="205" y="200"/>
                  <a:pt x="177" y="111"/>
                  <a:pt x="221" y="181"/>
                </a:cubicBezTo>
                <a:cubicBezTo>
                  <a:pt x="236" y="204"/>
                  <a:pt x="258" y="255"/>
                  <a:pt x="258" y="255"/>
                </a:cubicBezTo>
                <a:cubicBezTo>
                  <a:pt x="271" y="202"/>
                  <a:pt x="298" y="157"/>
                  <a:pt x="322" y="108"/>
                </a:cubicBezTo>
                <a:cubicBezTo>
                  <a:pt x="332" y="87"/>
                  <a:pt x="344" y="55"/>
                  <a:pt x="368" y="44"/>
                </a:cubicBezTo>
                <a:cubicBezTo>
                  <a:pt x="396" y="31"/>
                  <a:pt x="429" y="33"/>
                  <a:pt x="459" y="26"/>
                </a:cubicBezTo>
                <a:cubicBezTo>
                  <a:pt x="441" y="23"/>
                  <a:pt x="391" y="30"/>
                  <a:pt x="404" y="17"/>
                </a:cubicBezTo>
                <a:cubicBezTo>
                  <a:pt x="421" y="0"/>
                  <a:pt x="453" y="7"/>
                  <a:pt x="477" y="8"/>
                </a:cubicBezTo>
                <a:cubicBezTo>
                  <a:pt x="502" y="10"/>
                  <a:pt x="526" y="20"/>
                  <a:pt x="551" y="26"/>
                </a:cubicBezTo>
                <a:cubicBezTo>
                  <a:pt x="563" y="97"/>
                  <a:pt x="566" y="99"/>
                  <a:pt x="496" y="117"/>
                </a:cubicBezTo>
                <a:cubicBezTo>
                  <a:pt x="490" y="126"/>
                  <a:pt x="480" y="134"/>
                  <a:pt x="477" y="145"/>
                </a:cubicBezTo>
                <a:cubicBezTo>
                  <a:pt x="470" y="169"/>
                  <a:pt x="483" y="198"/>
                  <a:pt x="468" y="218"/>
                </a:cubicBezTo>
                <a:cubicBezTo>
                  <a:pt x="452" y="240"/>
                  <a:pt x="395" y="255"/>
                  <a:pt x="395" y="255"/>
                </a:cubicBezTo>
                <a:cubicBezTo>
                  <a:pt x="380" y="285"/>
                  <a:pt x="376" y="337"/>
                  <a:pt x="340" y="337"/>
                </a:cubicBezTo>
                <a:lnTo>
                  <a:pt x="370" y="282"/>
                </a:lnTo>
                <a:lnTo>
                  <a:pt x="418" y="138"/>
                </a:lnTo>
              </a:path>
            </a:pathLst>
          </a:custGeom>
          <a:solidFill>
            <a:srgbClr val="33cc33"/>
          </a:solidFill>
          <a:ln cap="sq" w="1260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8" name="Freeform 23"/>
          <p:cNvSpPr/>
          <p:nvPr/>
        </p:nvSpPr>
        <p:spPr>
          <a:xfrm>
            <a:off x="1582560" y="5078520"/>
            <a:ext cx="1063800" cy="380880"/>
          </a:xfrm>
          <a:custGeom>
            <a:avLst/>
            <a:gdLst/>
            <a:ahLst/>
            <a:rect l="l" t="t" r="r" b="b"/>
            <a:pathLst>
              <a:path w="670" h="240">
                <a:moveTo>
                  <a:pt x="256" y="175"/>
                </a:moveTo>
                <a:cubicBezTo>
                  <a:pt x="227" y="119"/>
                  <a:pt x="198" y="98"/>
                  <a:pt x="137" y="83"/>
                </a:cubicBezTo>
                <a:cubicBezTo>
                  <a:pt x="125" y="86"/>
                  <a:pt x="112" y="87"/>
                  <a:pt x="100" y="92"/>
                </a:cubicBezTo>
                <a:cubicBezTo>
                  <a:pt x="75" y="103"/>
                  <a:pt x="27" y="129"/>
                  <a:pt x="27" y="129"/>
                </a:cubicBezTo>
                <a:cubicBezTo>
                  <a:pt x="18" y="141"/>
                  <a:pt x="0" y="151"/>
                  <a:pt x="0" y="166"/>
                </a:cubicBezTo>
                <a:cubicBezTo>
                  <a:pt x="0" y="176"/>
                  <a:pt x="23" y="165"/>
                  <a:pt x="27" y="156"/>
                </a:cubicBezTo>
                <a:cubicBezTo>
                  <a:pt x="40" y="128"/>
                  <a:pt x="39" y="95"/>
                  <a:pt x="45" y="65"/>
                </a:cubicBezTo>
                <a:cubicBezTo>
                  <a:pt x="48" y="47"/>
                  <a:pt x="43" y="25"/>
                  <a:pt x="54" y="10"/>
                </a:cubicBezTo>
                <a:cubicBezTo>
                  <a:pt x="61" y="0"/>
                  <a:pt x="79" y="4"/>
                  <a:pt x="91" y="1"/>
                </a:cubicBezTo>
                <a:cubicBezTo>
                  <a:pt x="121" y="4"/>
                  <a:pt x="153" y="2"/>
                  <a:pt x="182" y="10"/>
                </a:cubicBezTo>
                <a:cubicBezTo>
                  <a:pt x="209" y="17"/>
                  <a:pt x="256" y="47"/>
                  <a:pt x="256" y="47"/>
                </a:cubicBezTo>
                <a:cubicBezTo>
                  <a:pt x="262" y="83"/>
                  <a:pt x="268" y="120"/>
                  <a:pt x="274" y="156"/>
                </a:cubicBezTo>
                <a:cubicBezTo>
                  <a:pt x="276" y="171"/>
                  <a:pt x="293" y="133"/>
                  <a:pt x="301" y="120"/>
                </a:cubicBezTo>
                <a:cubicBezTo>
                  <a:pt x="344" y="47"/>
                  <a:pt x="330" y="47"/>
                  <a:pt x="393" y="1"/>
                </a:cubicBezTo>
                <a:cubicBezTo>
                  <a:pt x="475" y="11"/>
                  <a:pt x="550" y="36"/>
                  <a:pt x="630" y="56"/>
                </a:cubicBezTo>
                <a:cubicBezTo>
                  <a:pt x="639" y="65"/>
                  <a:pt x="670" y="79"/>
                  <a:pt x="658" y="83"/>
                </a:cubicBezTo>
                <a:cubicBezTo>
                  <a:pt x="628" y="91"/>
                  <a:pt x="597" y="74"/>
                  <a:pt x="566" y="74"/>
                </a:cubicBezTo>
                <a:cubicBezTo>
                  <a:pt x="495" y="74"/>
                  <a:pt x="432" y="113"/>
                  <a:pt x="365" y="129"/>
                </a:cubicBezTo>
                <a:cubicBezTo>
                  <a:pt x="353" y="135"/>
                  <a:pt x="337" y="137"/>
                  <a:pt x="329" y="147"/>
                </a:cubicBezTo>
                <a:cubicBezTo>
                  <a:pt x="254" y="240"/>
                  <a:pt x="333" y="209"/>
                  <a:pt x="256" y="230"/>
                </a:cubicBezTo>
                <a:cubicBezTo>
                  <a:pt x="245" y="172"/>
                  <a:pt x="227" y="175"/>
                  <a:pt x="256" y="175"/>
                </a:cubicBezTo>
                <a:close/>
              </a:path>
            </a:pathLst>
          </a:custGeom>
          <a:solidFill>
            <a:srgbClr val="33cc33"/>
          </a:solidFill>
          <a:ln cap="sq" w="1260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9" name="Freeform 24"/>
          <p:cNvSpPr/>
          <p:nvPr/>
        </p:nvSpPr>
        <p:spPr>
          <a:xfrm>
            <a:off x="2394000" y="5070600"/>
            <a:ext cx="880920" cy="517320"/>
          </a:xfrm>
          <a:custGeom>
            <a:avLst/>
            <a:gdLst/>
            <a:ahLst/>
            <a:rect l="l" t="t" r="r" b="b"/>
            <a:pathLst>
              <a:path w="555" h="326">
                <a:moveTo>
                  <a:pt x="284" y="152"/>
                </a:moveTo>
                <a:cubicBezTo>
                  <a:pt x="281" y="140"/>
                  <a:pt x="280" y="127"/>
                  <a:pt x="275" y="116"/>
                </a:cubicBezTo>
                <a:cubicBezTo>
                  <a:pt x="264" y="91"/>
                  <a:pt x="238" y="43"/>
                  <a:pt x="238" y="43"/>
                </a:cubicBezTo>
                <a:cubicBezTo>
                  <a:pt x="238" y="43"/>
                  <a:pt x="201" y="48"/>
                  <a:pt x="183" y="52"/>
                </a:cubicBezTo>
                <a:cubicBezTo>
                  <a:pt x="171" y="54"/>
                  <a:pt x="159" y="58"/>
                  <a:pt x="147" y="61"/>
                </a:cubicBezTo>
                <a:cubicBezTo>
                  <a:pt x="150" y="43"/>
                  <a:pt x="167" y="21"/>
                  <a:pt x="156" y="6"/>
                </a:cubicBezTo>
                <a:cubicBezTo>
                  <a:pt x="152" y="0"/>
                  <a:pt x="96" y="39"/>
                  <a:pt x="92" y="43"/>
                </a:cubicBezTo>
                <a:cubicBezTo>
                  <a:pt x="81" y="54"/>
                  <a:pt x="75" y="68"/>
                  <a:pt x="65" y="79"/>
                </a:cubicBezTo>
                <a:cubicBezTo>
                  <a:pt x="51" y="95"/>
                  <a:pt x="0" y="135"/>
                  <a:pt x="19" y="125"/>
                </a:cubicBezTo>
                <a:cubicBezTo>
                  <a:pt x="56" y="106"/>
                  <a:pt x="89" y="80"/>
                  <a:pt x="129" y="70"/>
                </a:cubicBezTo>
                <a:cubicBezTo>
                  <a:pt x="153" y="64"/>
                  <a:pt x="202" y="52"/>
                  <a:pt x="202" y="52"/>
                </a:cubicBezTo>
                <a:cubicBezTo>
                  <a:pt x="220" y="55"/>
                  <a:pt x="247" y="45"/>
                  <a:pt x="257" y="61"/>
                </a:cubicBezTo>
                <a:cubicBezTo>
                  <a:pt x="292" y="116"/>
                  <a:pt x="241" y="201"/>
                  <a:pt x="284" y="116"/>
                </a:cubicBezTo>
                <a:cubicBezTo>
                  <a:pt x="287" y="128"/>
                  <a:pt x="281" y="148"/>
                  <a:pt x="293" y="152"/>
                </a:cubicBezTo>
                <a:cubicBezTo>
                  <a:pt x="303" y="155"/>
                  <a:pt x="302" y="131"/>
                  <a:pt x="311" y="125"/>
                </a:cubicBezTo>
                <a:cubicBezTo>
                  <a:pt x="353" y="96"/>
                  <a:pt x="407" y="73"/>
                  <a:pt x="458" y="61"/>
                </a:cubicBezTo>
                <a:cubicBezTo>
                  <a:pt x="528" y="96"/>
                  <a:pt x="518" y="116"/>
                  <a:pt x="549" y="180"/>
                </a:cubicBezTo>
                <a:cubicBezTo>
                  <a:pt x="543" y="189"/>
                  <a:pt x="531" y="196"/>
                  <a:pt x="531" y="207"/>
                </a:cubicBezTo>
                <a:cubicBezTo>
                  <a:pt x="531" y="226"/>
                  <a:pt x="555" y="244"/>
                  <a:pt x="549" y="262"/>
                </a:cubicBezTo>
                <a:cubicBezTo>
                  <a:pt x="545" y="274"/>
                  <a:pt x="533" y="242"/>
                  <a:pt x="522" y="235"/>
                </a:cubicBezTo>
                <a:cubicBezTo>
                  <a:pt x="462" y="197"/>
                  <a:pt x="422" y="196"/>
                  <a:pt x="357" y="180"/>
                </a:cubicBezTo>
                <a:cubicBezTo>
                  <a:pt x="351" y="174"/>
                  <a:pt x="348" y="162"/>
                  <a:pt x="339" y="161"/>
                </a:cubicBezTo>
                <a:cubicBezTo>
                  <a:pt x="326" y="159"/>
                  <a:pt x="313" y="178"/>
                  <a:pt x="302" y="171"/>
                </a:cubicBezTo>
                <a:cubicBezTo>
                  <a:pt x="288" y="162"/>
                  <a:pt x="290" y="140"/>
                  <a:pt x="284" y="125"/>
                </a:cubicBezTo>
                <a:cubicBezTo>
                  <a:pt x="268" y="192"/>
                  <a:pt x="247" y="257"/>
                  <a:pt x="247" y="326"/>
                </a:cubicBezTo>
                <a:lnTo>
                  <a:pt x="220" y="166"/>
                </a:lnTo>
              </a:path>
            </a:pathLst>
          </a:custGeom>
          <a:solidFill>
            <a:srgbClr val="33cc33"/>
          </a:solidFill>
          <a:ln cap="sq" w="1260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0" name="AutoShape 87"/>
          <p:cNvSpPr/>
          <p:nvPr/>
        </p:nvSpPr>
        <p:spPr>
          <a:xfrm rot="11788800">
            <a:off x="5486040" y="2285280"/>
            <a:ext cx="6858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99cc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1" name="AutoShape 88"/>
          <p:cNvSpPr/>
          <p:nvPr/>
        </p:nvSpPr>
        <p:spPr>
          <a:xfrm rot="11788800">
            <a:off x="6019560" y="837720"/>
            <a:ext cx="685800" cy="6098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99cc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2" name="AutoShape 89"/>
          <p:cNvSpPr/>
          <p:nvPr/>
        </p:nvSpPr>
        <p:spPr>
          <a:xfrm rot="11788800">
            <a:off x="6400440" y="1980720"/>
            <a:ext cx="685800" cy="6098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99cc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3" name="AutoShape 90"/>
          <p:cNvSpPr/>
          <p:nvPr/>
        </p:nvSpPr>
        <p:spPr>
          <a:xfrm rot="11788800">
            <a:off x="7772040" y="2056680"/>
            <a:ext cx="6858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99cc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4" name="AutoShape 91"/>
          <p:cNvSpPr/>
          <p:nvPr/>
        </p:nvSpPr>
        <p:spPr>
          <a:xfrm rot="11788800">
            <a:off x="4723920" y="1980720"/>
            <a:ext cx="685800" cy="6098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99cc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5" name="AutoShape 92"/>
          <p:cNvSpPr/>
          <p:nvPr/>
        </p:nvSpPr>
        <p:spPr>
          <a:xfrm rot="11788800">
            <a:off x="7086240" y="913680"/>
            <a:ext cx="6858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99cc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6" name="AutoShape 101">
            <a:hlinkClick r:id="" action="ppaction://hlinkshowjump?jump=firstslide"/>
          </p:cNvPr>
          <p:cNvSpPr/>
          <p:nvPr/>
        </p:nvSpPr>
        <p:spPr>
          <a:xfrm>
            <a:off x="8534520" y="62485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eeb00b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7" name="AutoShape 102">
            <a:hlinkClick r:id="" action="ppaction://hlinkshowjump?jump=nextslide"/>
          </p:cNvPr>
          <p:cNvSpPr/>
          <p:nvPr/>
        </p:nvSpPr>
        <p:spPr>
          <a:xfrm>
            <a:off x="8077320" y="62485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eeb00b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8" name="AutoShape 103"/>
          <p:cNvSpPr/>
          <p:nvPr/>
        </p:nvSpPr>
        <p:spPr>
          <a:xfrm flipV="1" rot="21008400">
            <a:off x="761760" y="1294200"/>
            <a:ext cx="3047760" cy="1219320"/>
          </a:xfrm>
          <a:prstGeom prst="cloudCallout">
            <a:avLst>
              <a:gd name="adj1" fmla="val -44750"/>
              <a:gd name="adj2" fmla="val -44319"/>
            </a:avLst>
          </a:prstGeom>
          <a:solidFill>
            <a:srgbClr val="eaeaea"/>
          </a:solidFill>
          <a:ln cap="sq" w="1260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小兔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9" name="Text Box 104"/>
          <p:cNvSpPr/>
          <p:nvPr/>
        </p:nvSpPr>
        <p:spPr>
          <a:xfrm>
            <a:off x="1219320" y="1600200"/>
            <a:ext cx="228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小兔，我请你吃桃子，好吗？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60" name="小兔.wav" descr=""/>
          <p:cNvPicPr/>
          <p:nvPr/>
        </p:nvPicPr>
        <p:blipFill>
          <a:blip r:embed="rId19"/>
          <a:stretch/>
        </p:blipFill>
        <p:spPr>
          <a:xfrm>
            <a:off x="7696080" y="62485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08" descr="pic001"/>
          <p:cNvPicPr/>
          <p:nvPr/>
        </p:nvPicPr>
        <p:blipFill>
          <a:blip r:embed="rId20"/>
          <a:stretch/>
        </p:blipFill>
        <p:spPr>
          <a:xfrm>
            <a:off x="272880" y="2708280"/>
            <a:ext cx="1909800" cy="24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" restart="whenNotActive" nodeType="interactiveSeq" fill="hold">
                <p:stCondLst>
                  <p:cond evt="onClick">
                    <p:tgtEl>
                      <p:spTgt spid="160"/>
                    </p:tgtEl>
                  </p:cond>
                </p:stCondLst>
                <p:childTnLst>
                  <p:par>
                    <p:cTn id="28" fill="hold">
                      <p:stCondLst>
                        <p:cond evt="onClick">
                          <p:tgtEl>
                            <p:spTgt spid="160"/>
                          </p:tgtEl>
                        </p:cond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" dur="1" fill="hold"/>
                                        <p:tgtEl>
                                          <p:spTgt spid="1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2" descr="NA01441_"/>
          <p:cNvPicPr/>
          <p:nvPr/>
        </p:nvPicPr>
        <p:blipFill>
          <a:blip r:embed="rId1"/>
          <a:stretch/>
        </p:blipFill>
        <p:spPr>
          <a:xfrm>
            <a:off x="2209680" y="457200"/>
            <a:ext cx="3694320" cy="5719680"/>
          </a:xfrm>
          <a:prstGeom prst="rect">
            <a:avLst/>
          </a:prstGeom>
          <a:ln w="0">
            <a:noFill/>
          </a:ln>
        </p:spPr>
      </p:pic>
      <p:sp>
        <p:nvSpPr>
          <p:cNvPr id="163" name="AutoShape 7"/>
          <p:cNvSpPr/>
          <p:nvPr/>
        </p:nvSpPr>
        <p:spPr>
          <a:xfrm rot="11788800">
            <a:off x="3276360" y="2513880"/>
            <a:ext cx="6858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99cc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4" name="AutoShape 8"/>
          <p:cNvSpPr/>
          <p:nvPr/>
        </p:nvSpPr>
        <p:spPr>
          <a:xfrm rot="11788800">
            <a:off x="3123720" y="1599480"/>
            <a:ext cx="6858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99cc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5" name="AutoShape 9"/>
          <p:cNvSpPr/>
          <p:nvPr/>
        </p:nvSpPr>
        <p:spPr>
          <a:xfrm rot="11788800">
            <a:off x="4266720" y="2285280"/>
            <a:ext cx="6858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99cc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6" name="AutoShape 10"/>
          <p:cNvSpPr/>
          <p:nvPr/>
        </p:nvSpPr>
        <p:spPr>
          <a:xfrm rot="11788800">
            <a:off x="4876560" y="1370880"/>
            <a:ext cx="6858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99cc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7" name="AutoShape 11"/>
          <p:cNvSpPr/>
          <p:nvPr/>
        </p:nvSpPr>
        <p:spPr>
          <a:xfrm rot="12261000">
            <a:off x="3733560" y="1065960"/>
            <a:ext cx="304560" cy="3812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99cc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8" name="AutoShape 12"/>
          <p:cNvSpPr/>
          <p:nvPr/>
        </p:nvSpPr>
        <p:spPr>
          <a:xfrm rot="12261000">
            <a:off x="3733560" y="1065960"/>
            <a:ext cx="304560" cy="3812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99cc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9" name="AutoShape 13"/>
          <p:cNvSpPr/>
          <p:nvPr/>
        </p:nvSpPr>
        <p:spPr>
          <a:xfrm rot="11788800">
            <a:off x="4190760" y="913680"/>
            <a:ext cx="6858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99cc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0" name="AutoShape 14"/>
          <p:cNvSpPr/>
          <p:nvPr/>
        </p:nvSpPr>
        <p:spPr>
          <a:xfrm rot="12261000">
            <a:off x="3809160" y="456840"/>
            <a:ext cx="304920" cy="380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99cc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1" name="AutoShape 15"/>
          <p:cNvSpPr/>
          <p:nvPr/>
        </p:nvSpPr>
        <p:spPr>
          <a:xfrm rot="12261000">
            <a:off x="2513880" y="2361960"/>
            <a:ext cx="304920" cy="380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99cc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72" name="Picture 16" descr="houzi6"/>
          <p:cNvPicPr/>
          <p:nvPr/>
        </p:nvPicPr>
        <p:blipFill>
          <a:blip r:embed="rId2"/>
          <a:stretch/>
        </p:blipFill>
        <p:spPr>
          <a:xfrm>
            <a:off x="1752480" y="0"/>
            <a:ext cx="1714680" cy="173664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8" descr="tuzi1"/>
          <p:cNvPicPr/>
          <p:nvPr/>
        </p:nvPicPr>
        <p:blipFill>
          <a:blip r:embed="rId3"/>
          <a:stretch/>
        </p:blipFill>
        <p:spPr>
          <a:xfrm>
            <a:off x="6477120" y="3886200"/>
            <a:ext cx="2666880" cy="2641680"/>
          </a:xfrm>
          <a:prstGeom prst="rect">
            <a:avLst/>
          </a:prstGeom>
          <a:ln w="0">
            <a:noFill/>
          </a:ln>
        </p:spPr>
      </p:pic>
      <p:sp>
        <p:nvSpPr>
          <p:cNvPr id="174" name="AutoShape 19"/>
          <p:cNvSpPr/>
          <p:nvPr/>
        </p:nvSpPr>
        <p:spPr>
          <a:xfrm rot="11788800">
            <a:off x="4876560" y="1828080"/>
            <a:ext cx="6858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99cc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5" name="AutoShape 30"/>
          <p:cNvSpPr/>
          <p:nvPr/>
        </p:nvSpPr>
        <p:spPr>
          <a:xfrm rot="11788800">
            <a:off x="4876560" y="2437920"/>
            <a:ext cx="685800" cy="6098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99cc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AutoShape 31"/>
          <p:cNvSpPr/>
          <p:nvPr/>
        </p:nvSpPr>
        <p:spPr>
          <a:xfrm rot="11788800">
            <a:off x="4952520" y="3047400"/>
            <a:ext cx="6858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99cc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AutoShape 32"/>
          <p:cNvSpPr/>
          <p:nvPr/>
        </p:nvSpPr>
        <p:spPr>
          <a:xfrm rot="11788800">
            <a:off x="5028840" y="3656880"/>
            <a:ext cx="6858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99cc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AutoShape 33"/>
          <p:cNvSpPr/>
          <p:nvPr/>
        </p:nvSpPr>
        <p:spPr>
          <a:xfrm rot="11788800">
            <a:off x="4952520" y="4419000"/>
            <a:ext cx="6858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99cc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AutoShape 34"/>
          <p:cNvSpPr/>
          <p:nvPr/>
        </p:nvSpPr>
        <p:spPr>
          <a:xfrm rot="11788800">
            <a:off x="4952520" y="5181120"/>
            <a:ext cx="685800" cy="6098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99cc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0" name="AutoShape 35"/>
          <p:cNvSpPr/>
          <p:nvPr/>
        </p:nvSpPr>
        <p:spPr>
          <a:xfrm rot="11788800">
            <a:off x="4876560" y="5562000"/>
            <a:ext cx="6858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99cc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1" name="AutoShape 36"/>
          <p:cNvSpPr/>
          <p:nvPr/>
        </p:nvSpPr>
        <p:spPr>
          <a:xfrm rot="11788800">
            <a:off x="3200040" y="5485680"/>
            <a:ext cx="6858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99cc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2" name="AutoShape 37"/>
          <p:cNvSpPr/>
          <p:nvPr/>
        </p:nvSpPr>
        <p:spPr>
          <a:xfrm rot="11788800">
            <a:off x="3200040" y="3199680"/>
            <a:ext cx="6858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99cc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3" name="AutoShape 38"/>
          <p:cNvSpPr/>
          <p:nvPr/>
        </p:nvSpPr>
        <p:spPr>
          <a:xfrm rot="11788800">
            <a:off x="3200040" y="3885480"/>
            <a:ext cx="6858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99cc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4" name="AutoShape 39"/>
          <p:cNvSpPr/>
          <p:nvPr/>
        </p:nvSpPr>
        <p:spPr>
          <a:xfrm rot="11788800">
            <a:off x="3200040" y="4571280"/>
            <a:ext cx="6858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99cc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5" name="Freeform 41"/>
          <p:cNvSpPr/>
          <p:nvPr/>
        </p:nvSpPr>
        <p:spPr>
          <a:xfrm>
            <a:off x="-115920" y="5337000"/>
            <a:ext cx="9318600" cy="2062440"/>
          </a:xfrm>
          <a:custGeom>
            <a:avLst/>
            <a:gdLst/>
            <a:ahLst/>
            <a:rect l="l" t="t" r="r" b="b"/>
            <a:pathLst>
              <a:path w="5870" h="1299">
                <a:moveTo>
                  <a:pt x="128" y="286"/>
                </a:moveTo>
                <a:cubicBezTo>
                  <a:pt x="182" y="273"/>
                  <a:pt x="217" y="257"/>
                  <a:pt x="274" y="249"/>
                </a:cubicBezTo>
                <a:cubicBezTo>
                  <a:pt x="305" y="252"/>
                  <a:pt x="336" y="251"/>
                  <a:pt x="366" y="259"/>
                </a:cubicBezTo>
                <a:cubicBezTo>
                  <a:pt x="392" y="266"/>
                  <a:pt x="439" y="295"/>
                  <a:pt x="439" y="295"/>
                </a:cubicBezTo>
                <a:cubicBezTo>
                  <a:pt x="620" y="286"/>
                  <a:pt x="810" y="251"/>
                  <a:pt x="987" y="295"/>
                </a:cubicBezTo>
                <a:cubicBezTo>
                  <a:pt x="1208" y="268"/>
                  <a:pt x="1546" y="301"/>
                  <a:pt x="1719" y="304"/>
                </a:cubicBezTo>
                <a:cubicBezTo>
                  <a:pt x="1749" y="307"/>
                  <a:pt x="1780" y="309"/>
                  <a:pt x="1810" y="313"/>
                </a:cubicBezTo>
                <a:cubicBezTo>
                  <a:pt x="1877" y="322"/>
                  <a:pt x="2011" y="341"/>
                  <a:pt x="2011" y="341"/>
                </a:cubicBezTo>
                <a:cubicBezTo>
                  <a:pt x="2056" y="384"/>
                  <a:pt x="2039" y="456"/>
                  <a:pt x="2094" y="487"/>
                </a:cubicBezTo>
                <a:cubicBezTo>
                  <a:pt x="2157" y="523"/>
                  <a:pt x="2514" y="511"/>
                  <a:pt x="2606" y="515"/>
                </a:cubicBezTo>
                <a:cubicBezTo>
                  <a:pt x="2645" y="533"/>
                  <a:pt x="2682" y="560"/>
                  <a:pt x="2724" y="569"/>
                </a:cubicBezTo>
                <a:cubicBezTo>
                  <a:pt x="2872" y="599"/>
                  <a:pt x="2792" y="525"/>
                  <a:pt x="2843" y="579"/>
                </a:cubicBezTo>
                <a:cubicBezTo>
                  <a:pt x="2869" y="497"/>
                  <a:pt x="2990" y="510"/>
                  <a:pt x="3054" y="505"/>
                </a:cubicBezTo>
                <a:cubicBezTo>
                  <a:pt x="3102" y="514"/>
                  <a:pt x="3139" y="521"/>
                  <a:pt x="3182" y="542"/>
                </a:cubicBezTo>
                <a:cubicBezTo>
                  <a:pt x="3220" y="532"/>
                  <a:pt x="3253" y="516"/>
                  <a:pt x="3291" y="505"/>
                </a:cubicBezTo>
                <a:cubicBezTo>
                  <a:pt x="3315" y="508"/>
                  <a:pt x="3340" y="511"/>
                  <a:pt x="3364" y="515"/>
                </a:cubicBezTo>
                <a:cubicBezTo>
                  <a:pt x="3377" y="517"/>
                  <a:pt x="3389" y="527"/>
                  <a:pt x="3401" y="524"/>
                </a:cubicBezTo>
                <a:cubicBezTo>
                  <a:pt x="3427" y="517"/>
                  <a:pt x="3450" y="499"/>
                  <a:pt x="3474" y="487"/>
                </a:cubicBezTo>
                <a:cubicBezTo>
                  <a:pt x="3486" y="481"/>
                  <a:pt x="3499" y="475"/>
                  <a:pt x="3511" y="469"/>
                </a:cubicBezTo>
                <a:cubicBezTo>
                  <a:pt x="3523" y="463"/>
                  <a:pt x="3547" y="451"/>
                  <a:pt x="3547" y="451"/>
                </a:cubicBezTo>
                <a:cubicBezTo>
                  <a:pt x="3589" y="388"/>
                  <a:pt x="3686" y="369"/>
                  <a:pt x="3748" y="323"/>
                </a:cubicBezTo>
                <a:cubicBezTo>
                  <a:pt x="3642" y="0"/>
                  <a:pt x="4340" y="268"/>
                  <a:pt x="4590" y="286"/>
                </a:cubicBezTo>
                <a:cubicBezTo>
                  <a:pt x="4666" y="305"/>
                  <a:pt x="4742" y="314"/>
                  <a:pt x="4818" y="332"/>
                </a:cubicBezTo>
                <a:cubicBezTo>
                  <a:pt x="4832" y="387"/>
                  <a:pt x="4854" y="418"/>
                  <a:pt x="4910" y="432"/>
                </a:cubicBezTo>
                <a:cubicBezTo>
                  <a:pt x="5141" y="374"/>
                  <a:pt x="5455" y="407"/>
                  <a:pt x="5696" y="414"/>
                </a:cubicBezTo>
                <a:cubicBezTo>
                  <a:pt x="5759" y="430"/>
                  <a:pt x="5823" y="449"/>
                  <a:pt x="5860" y="505"/>
                </a:cubicBezTo>
                <a:cubicBezTo>
                  <a:pt x="5863" y="530"/>
                  <a:pt x="5870" y="554"/>
                  <a:pt x="5870" y="579"/>
                </a:cubicBezTo>
                <a:cubicBezTo>
                  <a:pt x="5867" y="704"/>
                  <a:pt x="5868" y="829"/>
                  <a:pt x="5851" y="953"/>
                </a:cubicBezTo>
                <a:cubicBezTo>
                  <a:pt x="5849" y="966"/>
                  <a:pt x="5826" y="965"/>
                  <a:pt x="5815" y="972"/>
                </a:cubicBezTo>
                <a:cubicBezTo>
                  <a:pt x="5747" y="1015"/>
                  <a:pt x="5675" y="1026"/>
                  <a:pt x="5595" y="1036"/>
                </a:cubicBezTo>
                <a:cubicBezTo>
                  <a:pt x="5360" y="1095"/>
                  <a:pt x="5105" y="1088"/>
                  <a:pt x="4864" y="1100"/>
                </a:cubicBezTo>
                <a:cubicBezTo>
                  <a:pt x="4496" y="1119"/>
                  <a:pt x="4139" y="1131"/>
                  <a:pt x="3767" y="1136"/>
                </a:cubicBezTo>
                <a:cubicBezTo>
                  <a:pt x="3743" y="1142"/>
                  <a:pt x="3719" y="1155"/>
                  <a:pt x="3694" y="1155"/>
                </a:cubicBezTo>
                <a:cubicBezTo>
                  <a:pt x="3680" y="1155"/>
                  <a:pt x="3671" y="1137"/>
                  <a:pt x="3657" y="1136"/>
                </a:cubicBezTo>
                <a:cubicBezTo>
                  <a:pt x="3627" y="1134"/>
                  <a:pt x="3596" y="1142"/>
                  <a:pt x="3566" y="1145"/>
                </a:cubicBezTo>
                <a:cubicBezTo>
                  <a:pt x="3504" y="1268"/>
                  <a:pt x="3527" y="1299"/>
                  <a:pt x="3346" y="1273"/>
                </a:cubicBezTo>
                <a:cubicBezTo>
                  <a:pt x="3314" y="1268"/>
                  <a:pt x="3296" y="1225"/>
                  <a:pt x="3264" y="1219"/>
                </a:cubicBezTo>
                <a:cubicBezTo>
                  <a:pt x="3162" y="1200"/>
                  <a:pt x="3057" y="1206"/>
                  <a:pt x="2953" y="1200"/>
                </a:cubicBezTo>
                <a:cubicBezTo>
                  <a:pt x="2621" y="1101"/>
                  <a:pt x="2129" y="1140"/>
                  <a:pt x="1783" y="1127"/>
                </a:cubicBezTo>
                <a:cubicBezTo>
                  <a:pt x="1735" y="897"/>
                  <a:pt x="1808" y="1106"/>
                  <a:pt x="1390" y="981"/>
                </a:cubicBezTo>
                <a:cubicBezTo>
                  <a:pt x="1361" y="972"/>
                  <a:pt x="1365" y="914"/>
                  <a:pt x="1335" y="908"/>
                </a:cubicBezTo>
                <a:cubicBezTo>
                  <a:pt x="1197" y="881"/>
                  <a:pt x="1054" y="895"/>
                  <a:pt x="914" y="889"/>
                </a:cubicBezTo>
                <a:cubicBezTo>
                  <a:pt x="871" y="907"/>
                  <a:pt x="799" y="899"/>
                  <a:pt x="786" y="944"/>
                </a:cubicBezTo>
                <a:cubicBezTo>
                  <a:pt x="776" y="979"/>
                  <a:pt x="860" y="946"/>
                  <a:pt x="896" y="953"/>
                </a:cubicBezTo>
                <a:cubicBezTo>
                  <a:pt x="920" y="958"/>
                  <a:pt x="936" y="984"/>
                  <a:pt x="960" y="990"/>
                </a:cubicBezTo>
                <a:cubicBezTo>
                  <a:pt x="1123" y="1030"/>
                  <a:pt x="1286" y="1037"/>
                  <a:pt x="1454" y="1045"/>
                </a:cubicBezTo>
                <a:cubicBezTo>
                  <a:pt x="1509" y="1054"/>
                  <a:pt x="1564" y="1059"/>
                  <a:pt x="1618" y="1072"/>
                </a:cubicBezTo>
                <a:cubicBezTo>
                  <a:pt x="1705" y="1131"/>
                  <a:pt x="1519" y="1145"/>
                  <a:pt x="1481" y="1155"/>
                </a:cubicBezTo>
                <a:cubicBezTo>
                  <a:pt x="1304" y="1152"/>
                  <a:pt x="1128" y="1151"/>
                  <a:pt x="951" y="1145"/>
                </a:cubicBezTo>
                <a:cubicBezTo>
                  <a:pt x="938" y="1145"/>
                  <a:pt x="921" y="1147"/>
                  <a:pt x="914" y="1136"/>
                </a:cubicBezTo>
                <a:cubicBezTo>
                  <a:pt x="894" y="1103"/>
                  <a:pt x="916" y="1032"/>
                  <a:pt x="878" y="1027"/>
                </a:cubicBezTo>
                <a:cubicBezTo>
                  <a:pt x="767" y="1012"/>
                  <a:pt x="660" y="997"/>
                  <a:pt x="548" y="990"/>
                </a:cubicBezTo>
                <a:cubicBezTo>
                  <a:pt x="495" y="977"/>
                  <a:pt x="453" y="956"/>
                  <a:pt x="402" y="944"/>
                </a:cubicBezTo>
                <a:cubicBezTo>
                  <a:pt x="250" y="959"/>
                  <a:pt x="175" y="960"/>
                  <a:pt x="0" y="953"/>
                </a:cubicBezTo>
                <a:cubicBezTo>
                  <a:pt x="3" y="758"/>
                  <a:pt x="3" y="563"/>
                  <a:pt x="9" y="368"/>
                </a:cubicBezTo>
                <a:cubicBezTo>
                  <a:pt x="9" y="356"/>
                  <a:pt x="10" y="341"/>
                  <a:pt x="18" y="332"/>
                </a:cubicBezTo>
                <a:cubicBezTo>
                  <a:pt x="38" y="309"/>
                  <a:pt x="101" y="299"/>
                  <a:pt x="128" y="286"/>
                </a:cubicBezTo>
                <a:close/>
              </a:path>
            </a:pathLst>
          </a:custGeom>
          <a:solidFill>
            <a:srgbClr val="33cc33"/>
          </a:solidFill>
          <a:ln cap="sq" w="1260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6" name="Freeform 42"/>
          <p:cNvSpPr/>
          <p:nvPr/>
        </p:nvSpPr>
        <p:spPr>
          <a:xfrm>
            <a:off x="41400" y="5202360"/>
            <a:ext cx="927000" cy="623880"/>
          </a:xfrm>
          <a:custGeom>
            <a:avLst/>
            <a:gdLst/>
            <a:ahLst/>
            <a:rect l="l" t="t" r="r" b="b"/>
            <a:pathLst>
              <a:path w="584" h="393">
                <a:moveTo>
                  <a:pt x="212" y="344"/>
                </a:moveTo>
                <a:cubicBezTo>
                  <a:pt x="209" y="332"/>
                  <a:pt x="204" y="320"/>
                  <a:pt x="203" y="307"/>
                </a:cubicBezTo>
                <a:cubicBezTo>
                  <a:pt x="197" y="222"/>
                  <a:pt x="190" y="136"/>
                  <a:pt x="193" y="51"/>
                </a:cubicBezTo>
                <a:cubicBezTo>
                  <a:pt x="193" y="37"/>
                  <a:pt x="212" y="0"/>
                  <a:pt x="212" y="14"/>
                </a:cubicBezTo>
                <a:cubicBezTo>
                  <a:pt x="212" y="96"/>
                  <a:pt x="122" y="88"/>
                  <a:pt x="65" y="97"/>
                </a:cubicBezTo>
                <a:cubicBezTo>
                  <a:pt x="53" y="103"/>
                  <a:pt x="39" y="106"/>
                  <a:pt x="29" y="115"/>
                </a:cubicBezTo>
                <a:cubicBezTo>
                  <a:pt x="21" y="122"/>
                  <a:pt x="0" y="144"/>
                  <a:pt x="11" y="142"/>
                </a:cubicBezTo>
                <a:cubicBezTo>
                  <a:pt x="38" y="138"/>
                  <a:pt x="84" y="106"/>
                  <a:pt x="84" y="106"/>
                </a:cubicBezTo>
                <a:cubicBezTo>
                  <a:pt x="96" y="109"/>
                  <a:pt x="109" y="110"/>
                  <a:pt x="120" y="115"/>
                </a:cubicBezTo>
                <a:cubicBezTo>
                  <a:pt x="145" y="126"/>
                  <a:pt x="193" y="152"/>
                  <a:pt x="193" y="152"/>
                </a:cubicBezTo>
                <a:cubicBezTo>
                  <a:pt x="199" y="164"/>
                  <a:pt x="198" y="188"/>
                  <a:pt x="212" y="188"/>
                </a:cubicBezTo>
                <a:cubicBezTo>
                  <a:pt x="224" y="188"/>
                  <a:pt x="216" y="163"/>
                  <a:pt x="221" y="152"/>
                </a:cubicBezTo>
                <a:cubicBezTo>
                  <a:pt x="235" y="118"/>
                  <a:pt x="243" y="122"/>
                  <a:pt x="276" y="106"/>
                </a:cubicBezTo>
                <a:cubicBezTo>
                  <a:pt x="373" y="112"/>
                  <a:pt x="473" y="102"/>
                  <a:pt x="568" y="124"/>
                </a:cubicBezTo>
                <a:cubicBezTo>
                  <a:pt x="584" y="128"/>
                  <a:pt x="562" y="159"/>
                  <a:pt x="550" y="170"/>
                </a:cubicBezTo>
                <a:cubicBezTo>
                  <a:pt x="529" y="189"/>
                  <a:pt x="436" y="226"/>
                  <a:pt x="404" y="234"/>
                </a:cubicBezTo>
                <a:cubicBezTo>
                  <a:pt x="368" y="243"/>
                  <a:pt x="294" y="252"/>
                  <a:pt x="294" y="252"/>
                </a:cubicBezTo>
                <a:cubicBezTo>
                  <a:pt x="264" y="266"/>
                  <a:pt x="248" y="269"/>
                  <a:pt x="230" y="298"/>
                </a:cubicBezTo>
                <a:cubicBezTo>
                  <a:pt x="215" y="321"/>
                  <a:pt x="177" y="393"/>
                  <a:pt x="193" y="371"/>
                </a:cubicBezTo>
                <a:cubicBezTo>
                  <a:pt x="199" y="362"/>
                  <a:pt x="206" y="353"/>
                  <a:pt x="212" y="344"/>
                </a:cubicBezTo>
                <a:close/>
              </a:path>
            </a:pathLst>
          </a:custGeom>
          <a:solidFill>
            <a:srgbClr val="33cc33"/>
          </a:solidFill>
          <a:ln cap="sq" w="1260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7" name="Freeform 43"/>
          <p:cNvSpPr/>
          <p:nvPr/>
        </p:nvSpPr>
        <p:spPr>
          <a:xfrm>
            <a:off x="1511280" y="5443560"/>
            <a:ext cx="1052640" cy="333360"/>
          </a:xfrm>
          <a:custGeom>
            <a:avLst/>
            <a:gdLst/>
            <a:ahLst/>
            <a:rect l="l" t="t" r="r" b="b"/>
            <a:pathLst>
              <a:path w="663" h="210">
                <a:moveTo>
                  <a:pt x="401" y="210"/>
                </a:moveTo>
                <a:cubicBezTo>
                  <a:pt x="381" y="128"/>
                  <a:pt x="391" y="113"/>
                  <a:pt x="374" y="164"/>
                </a:cubicBezTo>
                <a:cubicBezTo>
                  <a:pt x="328" y="99"/>
                  <a:pt x="227" y="76"/>
                  <a:pt x="154" y="54"/>
                </a:cubicBezTo>
                <a:cubicBezTo>
                  <a:pt x="136" y="57"/>
                  <a:pt x="117" y="58"/>
                  <a:pt x="99" y="64"/>
                </a:cubicBezTo>
                <a:cubicBezTo>
                  <a:pt x="73" y="73"/>
                  <a:pt x="0" y="106"/>
                  <a:pt x="26" y="100"/>
                </a:cubicBezTo>
                <a:cubicBezTo>
                  <a:pt x="38" y="97"/>
                  <a:pt x="51" y="94"/>
                  <a:pt x="63" y="91"/>
                </a:cubicBezTo>
                <a:cubicBezTo>
                  <a:pt x="120" y="62"/>
                  <a:pt x="103" y="49"/>
                  <a:pt x="136" y="0"/>
                </a:cubicBezTo>
                <a:cubicBezTo>
                  <a:pt x="133" y="12"/>
                  <a:pt x="118" y="27"/>
                  <a:pt x="127" y="36"/>
                </a:cubicBezTo>
                <a:cubicBezTo>
                  <a:pt x="136" y="45"/>
                  <a:pt x="151" y="27"/>
                  <a:pt x="163" y="27"/>
                </a:cubicBezTo>
                <a:cubicBezTo>
                  <a:pt x="218" y="27"/>
                  <a:pt x="273" y="33"/>
                  <a:pt x="328" y="36"/>
                </a:cubicBezTo>
                <a:cubicBezTo>
                  <a:pt x="381" y="49"/>
                  <a:pt x="396" y="44"/>
                  <a:pt x="410" y="100"/>
                </a:cubicBezTo>
                <a:cubicBezTo>
                  <a:pt x="433" y="57"/>
                  <a:pt x="440" y="49"/>
                  <a:pt x="483" y="27"/>
                </a:cubicBezTo>
                <a:cubicBezTo>
                  <a:pt x="483" y="27"/>
                  <a:pt x="532" y="33"/>
                  <a:pt x="557" y="36"/>
                </a:cubicBezTo>
                <a:cubicBezTo>
                  <a:pt x="610" y="49"/>
                  <a:pt x="625" y="44"/>
                  <a:pt x="639" y="100"/>
                </a:cubicBezTo>
                <a:cubicBezTo>
                  <a:pt x="650" y="188"/>
                  <a:pt x="663" y="195"/>
                  <a:pt x="575" y="173"/>
                </a:cubicBezTo>
                <a:cubicBezTo>
                  <a:pt x="570" y="165"/>
                  <a:pt x="540" y="117"/>
                  <a:pt x="529" y="118"/>
                </a:cubicBezTo>
                <a:cubicBezTo>
                  <a:pt x="502" y="120"/>
                  <a:pt x="480" y="143"/>
                  <a:pt x="456" y="155"/>
                </a:cubicBezTo>
                <a:cubicBezTo>
                  <a:pt x="444" y="161"/>
                  <a:pt x="419" y="173"/>
                  <a:pt x="419" y="173"/>
                </a:cubicBezTo>
                <a:cubicBezTo>
                  <a:pt x="389" y="204"/>
                  <a:pt x="383" y="192"/>
                  <a:pt x="401" y="210"/>
                </a:cubicBezTo>
                <a:close/>
              </a:path>
            </a:pathLst>
          </a:custGeom>
          <a:solidFill>
            <a:srgbClr val="33cc33"/>
          </a:solidFill>
          <a:ln cap="sq" w="1260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8" name="Text Box 47"/>
          <p:cNvSpPr/>
          <p:nvPr/>
        </p:nvSpPr>
        <p:spPr>
          <a:xfrm>
            <a:off x="6629400" y="3962520"/>
            <a:ext cx="129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？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9" name="AutoShape 48">
            <a:hlinkClick r:id="" action="ppaction://hlinkshowjump?jump=firstslide"/>
          </p:cNvPr>
          <p:cNvSpPr/>
          <p:nvPr/>
        </p:nvSpPr>
        <p:spPr>
          <a:xfrm>
            <a:off x="8610480" y="6477120"/>
            <a:ext cx="304920" cy="3808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6975">
                <a:moveTo>
                  <a:pt x="0" y="0"/>
                </a:moveTo>
                <a:lnTo>
                  <a:pt x="21600" y="0"/>
                </a:lnTo>
                <a:lnTo>
                  <a:pt x="21600" y="26975"/>
                </a:lnTo>
                <a:lnTo>
                  <a:pt x="0" y="26975"/>
                </a:lnTo>
                <a:close/>
              </a:path>
              <a:path fill="lightenLess" w="21600" h="269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75">
                <a:moveTo>
                  <a:pt x="21600" y="0"/>
                </a:moveTo>
                <a:lnTo>
                  <a:pt x="21600" y="26975"/>
                </a:lnTo>
                <a:lnTo>
                  <a:pt x="20200" y="25575"/>
                </a:lnTo>
                <a:lnTo>
                  <a:pt x="20200" y="1400"/>
                </a:lnTo>
                <a:close/>
              </a:path>
              <a:path fill="darkenLess" w="21600" h="26975">
                <a:moveTo>
                  <a:pt x="21600" y="26975"/>
                </a:moveTo>
                <a:lnTo>
                  <a:pt x="0" y="26975"/>
                </a:lnTo>
                <a:lnTo>
                  <a:pt x="1400" y="25575"/>
                </a:lnTo>
                <a:lnTo>
                  <a:pt x="20200" y="25575"/>
                </a:lnTo>
                <a:close/>
              </a:path>
              <a:path fill="lighten" w="21600" h="26975">
                <a:moveTo>
                  <a:pt x="0" y="269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75"/>
                </a:lnTo>
                <a:close/>
              </a:path>
              <a:path fill="darken" w="21600" h="26975">
                <a:moveTo>
                  <a:pt x="10800" y="6524"/>
                </a:moveTo>
                <a:lnTo>
                  <a:pt x="13376" y="9135"/>
                </a:lnTo>
                <a:lnTo>
                  <a:pt x="13376" y="7395"/>
                </a:lnTo>
                <a:lnTo>
                  <a:pt x="15152" y="7395"/>
                </a:lnTo>
                <a:lnTo>
                  <a:pt x="15152" y="10911"/>
                </a:lnTo>
                <a:lnTo>
                  <a:pt x="17763" y="13487"/>
                </a:lnTo>
                <a:lnTo>
                  <a:pt x="16109" y="13487"/>
                </a:lnTo>
                <a:lnTo>
                  <a:pt x="16109" y="20677"/>
                </a:lnTo>
                <a:lnTo>
                  <a:pt x="5491" y="20677"/>
                </a:lnTo>
                <a:lnTo>
                  <a:pt x="5491" y="13487"/>
                </a:lnTo>
                <a:lnTo>
                  <a:pt x="3837" y="13487"/>
                </a:lnTo>
                <a:close/>
              </a:path>
              <a:path fill="darkenLess" w="21600" h="26975">
                <a:moveTo>
                  <a:pt x="13376" y="9135"/>
                </a:moveTo>
                <a:lnTo>
                  <a:pt x="13376" y="7395"/>
                </a:lnTo>
                <a:lnTo>
                  <a:pt x="15152" y="7395"/>
                </a:lnTo>
                <a:lnTo>
                  <a:pt x="15152" y="10911"/>
                </a:lnTo>
                <a:close/>
              </a:path>
              <a:path fill="darkenLess" w="21600" h="26975">
                <a:moveTo>
                  <a:pt x="9877" y="16986"/>
                </a:moveTo>
                <a:lnTo>
                  <a:pt x="11723" y="16986"/>
                </a:lnTo>
                <a:lnTo>
                  <a:pt x="11723" y="20677"/>
                </a:lnTo>
                <a:lnTo>
                  <a:pt x="16109" y="20677"/>
                </a:lnTo>
                <a:lnTo>
                  <a:pt x="16109" y="13487"/>
                </a:lnTo>
                <a:lnTo>
                  <a:pt x="5491" y="13487"/>
                </a:lnTo>
                <a:lnTo>
                  <a:pt x="5491" y="20677"/>
                </a:lnTo>
                <a:lnTo>
                  <a:pt x="9877" y="20677"/>
                </a:lnTo>
                <a:close/>
              </a:path>
            </a:pathLst>
          </a:custGeom>
          <a:solidFill>
            <a:srgbClr val="eeb00b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0" name="AutoShape 49">
            <a:hlinkClick r:id="" action="ppaction://hlinkshowjump?jump=nextslide"/>
          </p:cNvPr>
          <p:cNvSpPr/>
          <p:nvPr/>
        </p:nvSpPr>
        <p:spPr>
          <a:xfrm>
            <a:off x="822960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eeb00b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1" name="AutoShape 51"/>
          <p:cNvSpPr/>
          <p:nvPr/>
        </p:nvSpPr>
        <p:spPr>
          <a:xfrm>
            <a:off x="609480" y="2057400"/>
            <a:ext cx="1905120" cy="144792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eaeaea"/>
          </a:solidFill>
          <a:ln cap="sq" w="1260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2" name="AutoShape 52"/>
          <p:cNvSpPr/>
          <p:nvPr/>
        </p:nvSpPr>
        <p:spPr>
          <a:xfrm>
            <a:off x="304920" y="2057400"/>
            <a:ext cx="2209680" cy="1447920"/>
          </a:xfrm>
          <a:prstGeom prst="cloudCallout">
            <a:avLst>
              <a:gd name="adj1" fmla="val -30819"/>
              <a:gd name="adj2" fmla="val 69958"/>
            </a:avLst>
          </a:prstGeom>
          <a:solidFill>
            <a:srgbClr val="eaeaea"/>
          </a:solidFill>
          <a:ln cap="sq" w="1260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3" name="Text Box 54"/>
          <p:cNvSpPr/>
          <p:nvPr/>
        </p:nvSpPr>
        <p:spPr>
          <a:xfrm>
            <a:off x="609480" y="2133720"/>
            <a:ext cx="18288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爸爸，请您给我们摘几个桃子，好吗？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4" name="AutoShape 56">
            <a:hlinkClick r:id="" action="ppaction://hlinkshowjump?jump=previousslide"/>
          </p:cNvPr>
          <p:cNvSpPr/>
          <p:nvPr/>
        </p:nvSpPr>
        <p:spPr>
          <a:xfrm>
            <a:off x="784872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eeb00b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95" name="Picture 61" descr="pic001"/>
          <p:cNvPicPr/>
          <p:nvPr/>
        </p:nvPicPr>
        <p:blipFill>
          <a:blip r:embed="rId4"/>
          <a:stretch/>
        </p:blipFill>
        <p:spPr>
          <a:xfrm>
            <a:off x="426960" y="3500280"/>
            <a:ext cx="1684440" cy="2154240"/>
          </a:xfrm>
          <a:prstGeom prst="rect">
            <a:avLst/>
          </a:prstGeom>
          <a:ln w="0">
            <a:noFill/>
          </a:ln>
        </p:spPr>
      </p:pic>
      <p:pic>
        <p:nvPicPr>
          <p:cNvPr id="196" name="小兔2.wav" descr=""/>
          <p:cNvPicPr/>
          <p:nvPr/>
        </p:nvPicPr>
        <p:blipFill>
          <a:blip r:embed="rId5"/>
          <a:stretch/>
        </p:blipFill>
        <p:spPr>
          <a:xfrm>
            <a:off x="754380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" dur="1" fill="hold"/>
                                        <p:tgtEl>
                                          <p:spTgt spid="1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501"/>
                            </p:stCondLst>
                            <p:childTnLst>
                              <p:par>
                                <p:cTn id="42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4" dur="1" fill="hold">
                                    <p:stCondLst>
                                      <p:cond evt="end">
                                        <p:tn val="42"/>
                                      </p:cond>
                                    </p:stCondLst>
                                  </p:cTn>
                                  <p:tgtEl>
                                    <p:spTgt spid="16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6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8" dur="1" fill="hold">
                                    <p:stCondLst>
                                      <p:cond evt="end">
                                        <p:tn val="46"/>
                                      </p:cond>
                                    </p:stCondLst>
                                  </p:cTn>
                                  <p:tgtEl>
                                    <p:spTgt spid="17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501"/>
                            </p:stCondLst>
                            <p:childTnLst>
                              <p:par>
                                <p:cTn id="50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2" dur="1" fill="hold">
                                    <p:stCondLst>
                                      <p:cond evt="end">
                                        <p:tn val="50"/>
                                      </p:cond>
                                    </p:stCondLst>
                                  </p:cTn>
                                  <p:tgtEl>
                                    <p:spTgt spid="17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2001"/>
                            </p:stCondLst>
                            <p:childTnLst>
                              <p:par>
                                <p:cTn id="54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6" dur="1" fill="hold">
                                    <p:stCondLst>
                                      <p:cond evt="end">
                                        <p:tn val="54"/>
                                      </p:cond>
                                    </p:stCondLst>
                                  </p:cTn>
                                  <p:tgtEl>
                                    <p:spTgt spid="17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2501"/>
                            </p:stCondLst>
                            <p:childTnLst>
                              <p:par>
                                <p:cTn id="58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0" dur="1" fill="hold">
                                    <p:stCondLst>
                                      <p:cond evt="end">
                                        <p:tn val="58"/>
                                      </p:cond>
                                    </p:stCondLst>
                                  </p:cTn>
                                  <p:tgtEl>
                                    <p:spTgt spid="17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3001"/>
                            </p:stCondLst>
                            <p:childTnLst>
                              <p:par>
                                <p:cTn id="62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4" dur="1" fill="hold">
                                    <p:stCondLst>
                                      <p:cond evt="end">
                                        <p:tn val="62"/>
                                      </p:cond>
                                    </p:stCondLst>
                                  </p:cTn>
                                  <p:tgtEl>
                                    <p:spTgt spid="17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3501"/>
                            </p:stCondLst>
                            <p:childTnLst>
                              <p:par>
                                <p:cTn id="66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8" dur="1" fill="hold">
                                    <p:stCondLst>
                                      <p:cond evt="end">
                                        <p:tn val="66"/>
                                      </p:cond>
                                    </p:stCondLst>
                                  </p:cTn>
                                  <p:tgtEl>
                                    <p:spTgt spid="17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4001"/>
                            </p:stCondLst>
                            <p:childTnLst>
                              <p:par>
                                <p:cTn id="70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4501"/>
                            </p:stCondLst>
                            <p:childTnLst>
                              <p:par>
                                <p:cTn id="73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5" dur="1" fill="hold">
                                    <p:stCondLst>
                                      <p:cond evt="end">
                                        <p:tn val="73"/>
                                      </p:cond>
                                    </p:stCondLst>
                                  </p:cTn>
                                  <p:tgtEl>
                                    <p:spTgt spid="16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5001"/>
                            </p:stCondLst>
                            <p:childTnLst>
                              <p:par>
                                <p:cTn id="77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9" dur="1" fill="hold">
                                    <p:stCondLst>
                                      <p:cond evt="end">
                                        <p:tn val="77"/>
                                      </p:cond>
                                    </p:stCondLst>
                                  </p:cTn>
                                  <p:tgtEl>
                                    <p:spTgt spid="1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501"/>
                            </p:stCondLst>
                            <p:childTnLst>
                              <p:par>
                                <p:cTn id="81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3" dur="1" fill="hold">
                                    <p:stCondLst>
                                      <p:cond evt="end">
                                        <p:tn val="81"/>
                                      </p:cond>
                                    </p:stCondLst>
                                  </p:cTn>
                                  <p:tgtEl>
                                    <p:spTgt spid="1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6001"/>
                            </p:stCondLst>
                            <p:childTnLst>
                              <p:par>
                                <p:cTn id="85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7" dur="1" fill="hold">
                                    <p:stCondLst>
                                      <p:cond evt="end">
                                        <p:tn val="85"/>
                                      </p:cond>
                                    </p:stCondLst>
                                  </p:cTn>
                                  <p:tgtEl>
                                    <p:spTgt spid="18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6501"/>
                            </p:stCondLst>
                            <p:childTnLst>
                              <p:par>
                                <p:cTn id="89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MP00640_"/>
          <p:cNvPicPr/>
          <p:nvPr/>
        </p:nvPicPr>
        <p:blipFill>
          <a:blip r:embed="rId1"/>
          <a:stretch/>
        </p:blipFill>
        <p:spPr>
          <a:xfrm>
            <a:off x="304920" y="1828800"/>
            <a:ext cx="5181480" cy="4054320"/>
          </a:xfrm>
          <a:prstGeom prst="rect">
            <a:avLst/>
          </a:prstGeom>
          <a:ln w="0">
            <a:noFill/>
          </a:ln>
        </p:spPr>
      </p:pic>
      <p:sp>
        <p:nvSpPr>
          <p:cNvPr id="198" name="Freeform 3"/>
          <p:cNvSpPr/>
          <p:nvPr/>
        </p:nvSpPr>
        <p:spPr>
          <a:xfrm>
            <a:off x="2057400" y="2819520"/>
            <a:ext cx="963720" cy="188640"/>
          </a:xfrm>
          <a:custGeom>
            <a:avLst/>
            <a:gdLst/>
            <a:ahLst/>
            <a:rect l="l" t="t" r="r" b="b"/>
            <a:pathLst>
              <a:path w="607" h="119">
                <a:moveTo>
                  <a:pt x="0" y="119"/>
                </a:moveTo>
                <a:cubicBezTo>
                  <a:pt x="41" y="63"/>
                  <a:pt x="61" y="52"/>
                  <a:pt x="128" y="18"/>
                </a:cubicBezTo>
                <a:cubicBezTo>
                  <a:pt x="140" y="12"/>
                  <a:pt x="164" y="0"/>
                  <a:pt x="164" y="0"/>
                </a:cubicBezTo>
                <a:cubicBezTo>
                  <a:pt x="298" y="6"/>
                  <a:pt x="433" y="7"/>
                  <a:pt x="567" y="18"/>
                </a:cubicBezTo>
                <a:cubicBezTo>
                  <a:pt x="580" y="19"/>
                  <a:pt x="594" y="27"/>
                  <a:pt x="603" y="36"/>
                </a:cubicBezTo>
                <a:cubicBezTo>
                  <a:pt x="607" y="40"/>
                  <a:pt x="591" y="36"/>
                  <a:pt x="585" y="36"/>
                </a:cubicBezTo>
                <a:lnTo>
                  <a:pt x="0" y="119"/>
                </a:lnTo>
                <a:close/>
              </a:path>
            </a:pathLst>
          </a:custGeom>
          <a:solidFill>
            <a:srgbClr val="eeb00b"/>
          </a:solidFill>
          <a:ln cap="sq" w="1260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9" name="Freeform 4"/>
          <p:cNvSpPr/>
          <p:nvPr/>
        </p:nvSpPr>
        <p:spPr>
          <a:xfrm>
            <a:off x="4038480" y="2590920"/>
            <a:ext cx="744480" cy="245880"/>
          </a:xfrm>
          <a:custGeom>
            <a:avLst/>
            <a:gdLst/>
            <a:ahLst/>
            <a:rect l="l" t="t" r="r" b="b"/>
            <a:pathLst>
              <a:path w="469" h="155">
                <a:moveTo>
                  <a:pt x="27" y="64"/>
                </a:moveTo>
                <a:cubicBezTo>
                  <a:pt x="39" y="55"/>
                  <a:pt x="50" y="45"/>
                  <a:pt x="63" y="37"/>
                </a:cubicBezTo>
                <a:cubicBezTo>
                  <a:pt x="75" y="30"/>
                  <a:pt x="110" y="8"/>
                  <a:pt x="100" y="18"/>
                </a:cubicBezTo>
                <a:cubicBezTo>
                  <a:pt x="78" y="40"/>
                  <a:pt x="49" y="52"/>
                  <a:pt x="27" y="73"/>
                </a:cubicBezTo>
                <a:cubicBezTo>
                  <a:pt x="21" y="79"/>
                  <a:pt x="0" y="94"/>
                  <a:pt x="8" y="91"/>
                </a:cubicBezTo>
                <a:cubicBezTo>
                  <a:pt x="47" y="78"/>
                  <a:pt x="81" y="55"/>
                  <a:pt x="118" y="37"/>
                </a:cubicBezTo>
                <a:cubicBezTo>
                  <a:pt x="130" y="31"/>
                  <a:pt x="143" y="24"/>
                  <a:pt x="155" y="18"/>
                </a:cubicBezTo>
                <a:cubicBezTo>
                  <a:pt x="167" y="12"/>
                  <a:pt x="191" y="0"/>
                  <a:pt x="191" y="0"/>
                </a:cubicBezTo>
                <a:cubicBezTo>
                  <a:pt x="311" y="8"/>
                  <a:pt x="341" y="9"/>
                  <a:pt x="429" y="73"/>
                </a:cubicBezTo>
                <a:cubicBezTo>
                  <a:pt x="469" y="155"/>
                  <a:pt x="410" y="85"/>
                  <a:pt x="374" y="82"/>
                </a:cubicBezTo>
                <a:cubicBezTo>
                  <a:pt x="259" y="71"/>
                  <a:pt x="143" y="70"/>
                  <a:pt x="27" y="64"/>
                </a:cubicBezTo>
                <a:close/>
              </a:path>
            </a:pathLst>
          </a:custGeom>
          <a:solidFill>
            <a:srgbClr val="eeb00b"/>
          </a:solidFill>
          <a:ln cap="sq" w="1260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0" name="Freeform 5"/>
          <p:cNvSpPr/>
          <p:nvPr/>
        </p:nvSpPr>
        <p:spPr>
          <a:xfrm>
            <a:off x="3352680" y="3352680"/>
            <a:ext cx="841320" cy="609840"/>
          </a:xfrm>
          <a:custGeom>
            <a:avLst/>
            <a:gdLst/>
            <a:ahLst/>
            <a:rect l="l" t="t" r="r" b="b"/>
            <a:pathLst>
              <a:path w="530" h="384">
                <a:moveTo>
                  <a:pt x="0" y="0"/>
                </a:moveTo>
                <a:cubicBezTo>
                  <a:pt x="9" y="6"/>
                  <a:pt x="20" y="9"/>
                  <a:pt x="27" y="18"/>
                </a:cubicBezTo>
                <a:cubicBezTo>
                  <a:pt x="33" y="26"/>
                  <a:pt x="28" y="41"/>
                  <a:pt x="36" y="46"/>
                </a:cubicBezTo>
                <a:cubicBezTo>
                  <a:pt x="76" y="70"/>
                  <a:pt x="121" y="83"/>
                  <a:pt x="164" y="101"/>
                </a:cubicBezTo>
                <a:cubicBezTo>
                  <a:pt x="298" y="95"/>
                  <a:pt x="433" y="121"/>
                  <a:pt x="530" y="18"/>
                </a:cubicBezTo>
                <a:cubicBezTo>
                  <a:pt x="520" y="95"/>
                  <a:pt x="513" y="139"/>
                  <a:pt x="466" y="201"/>
                </a:cubicBezTo>
                <a:cubicBezTo>
                  <a:pt x="454" y="244"/>
                  <a:pt x="442" y="286"/>
                  <a:pt x="429" y="329"/>
                </a:cubicBezTo>
                <a:cubicBezTo>
                  <a:pt x="423" y="347"/>
                  <a:pt x="411" y="384"/>
                  <a:pt x="411" y="384"/>
                </a:cubicBezTo>
                <a:cubicBezTo>
                  <a:pt x="387" y="372"/>
                  <a:pt x="353" y="370"/>
                  <a:pt x="338" y="347"/>
                </a:cubicBezTo>
                <a:cubicBezTo>
                  <a:pt x="312" y="309"/>
                  <a:pt x="330" y="325"/>
                  <a:pt x="283" y="302"/>
                </a:cubicBezTo>
                <a:cubicBezTo>
                  <a:pt x="240" y="236"/>
                  <a:pt x="296" y="315"/>
                  <a:pt x="228" y="247"/>
                </a:cubicBezTo>
                <a:cubicBezTo>
                  <a:pt x="201" y="220"/>
                  <a:pt x="187" y="170"/>
                  <a:pt x="173" y="137"/>
                </a:cubicBezTo>
                <a:cubicBezTo>
                  <a:pt x="125" y="153"/>
                  <a:pt x="166" y="146"/>
                  <a:pt x="109" y="128"/>
                </a:cubicBezTo>
                <a:cubicBezTo>
                  <a:pt x="85" y="120"/>
                  <a:pt x="36" y="110"/>
                  <a:pt x="36" y="110"/>
                </a:cubicBezTo>
                <a:lnTo>
                  <a:pt x="0" y="0"/>
                </a:lnTo>
                <a:close/>
              </a:path>
            </a:pathLst>
          </a:custGeom>
          <a:solidFill>
            <a:srgbClr val="ff3300"/>
          </a:solidFill>
          <a:ln cap="sq" w="1260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1" name="Text Box 7"/>
          <p:cNvSpPr/>
          <p:nvPr/>
        </p:nvSpPr>
        <p:spPr>
          <a:xfrm>
            <a:off x="5638680" y="1295280"/>
            <a:ext cx="31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   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2" name="Text Box 11"/>
          <p:cNvSpPr/>
          <p:nvPr/>
        </p:nvSpPr>
        <p:spPr>
          <a:xfrm>
            <a:off x="5181480" y="373392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3" name="AutoShape 13">
            <a:hlinkClick r:id="" action="ppaction://hlinkshowjump?jump=firstslide"/>
          </p:cNvPr>
          <p:cNvSpPr/>
          <p:nvPr/>
        </p:nvSpPr>
        <p:spPr>
          <a:xfrm>
            <a:off x="868680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eeb00b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4" name="AutoShape 14">
            <a:hlinkClick r:id="" action="ppaction://hlinkshowjump?jump=nextslide"/>
          </p:cNvPr>
          <p:cNvSpPr/>
          <p:nvPr/>
        </p:nvSpPr>
        <p:spPr>
          <a:xfrm>
            <a:off x="830592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eeb00b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5" name="AutoShape 15"/>
          <p:cNvSpPr/>
          <p:nvPr/>
        </p:nvSpPr>
        <p:spPr>
          <a:xfrm>
            <a:off x="4952880" y="0"/>
            <a:ext cx="4191120" cy="2971800"/>
          </a:xfrm>
          <a:prstGeom prst="cloudCallout">
            <a:avLst>
              <a:gd name="adj1" fmla="val -49356"/>
              <a:gd name="adj2" fmla="val 32851"/>
            </a:avLst>
          </a:prstGeom>
          <a:solidFill>
            <a:srgbClr val="eaeaea"/>
          </a:solidFill>
          <a:ln cap="sq" w="1260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6" name="Text Box 17"/>
          <p:cNvSpPr/>
          <p:nvPr/>
        </p:nvSpPr>
        <p:spPr>
          <a:xfrm>
            <a:off x="5562720" y="152280"/>
            <a:ext cx="3200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不，我有手，而且有很大很大的力气，能让成熟的桃子掉下来，能让踢到半空的足球掉下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---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我的手，就是你们看不见的地心引力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07" name="地球.wav" descr=""/>
          <p:cNvPicPr/>
          <p:nvPr/>
        </p:nvPicPr>
        <p:blipFill>
          <a:blip r:embed="rId2"/>
          <a:stretch/>
        </p:blipFill>
        <p:spPr>
          <a:xfrm>
            <a:off x="754380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08" name="AutoShape 19">
            <a:hlinkClick r:id="" action="ppaction://hlinkshowjump?jump=previousslide"/>
          </p:cNvPr>
          <p:cNvSpPr/>
          <p:nvPr/>
        </p:nvSpPr>
        <p:spPr>
          <a:xfrm>
            <a:off x="7924680" y="64771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3804" y="10800"/>
                </a:moveTo>
                <a:lnTo>
                  <a:pt x="17817" y="3794"/>
                </a:lnTo>
                <a:lnTo>
                  <a:pt x="17817" y="17806"/>
                </a:lnTo>
                <a:close/>
              </a:path>
            </a:pathLst>
          </a:custGeom>
          <a:solidFill>
            <a:srgbClr val="eeb00b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09" name="地球.wav" descr=""/>
          <p:cNvPicPr/>
          <p:nvPr/>
        </p:nvPicPr>
        <p:blipFill>
          <a:blip r:embed="rId3"/>
          <a:stretch/>
        </p:blipFill>
        <p:spPr>
          <a:xfrm>
            <a:off x="754380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restart="whenNotActive" nodeType="interactiveSeq" fill="hold">
                <p:stCondLst>
                  <p:cond evt="onClick">
                    <p:tgtEl>
                      <p:spTgt spid="207"/>
                    </p:tgtEl>
                  </p:cond>
                </p:stCondLst>
                <p:childTnLst>
                  <p:par>
                    <p:cTn id="93" fill="hold">
                      <p:stCondLst>
                        <p:cond evt="onClick">
                          <p:tgtEl>
                            <p:spTgt spid="207"/>
                          </p:tgtEl>
                        </p:cond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6" dur="1" fill="hold"/>
                                        <p:tgtEl>
                                          <p:spTgt spid="2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7" restart="whenNotActive" nodeType="interactiveSeq" fill="hold">
                <p:stCondLst>
                  <p:cond evt="onClick">
                    <p:tgtEl>
                      <p:spTgt spid="209"/>
                    </p:tgtEl>
                  </p:cond>
                </p:stCondLst>
                <p:childTnLst>
                  <p:par>
                    <p:cTn id="98" fill="hold">
                      <p:stCondLst>
                        <p:cond evt="onClick">
                          <p:tgtEl>
                            <p:spTgt spid="209"/>
                          </p:tgtEl>
                        </p:cond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1" dur="1" fill="hold"/>
                                        <p:tgtEl>
                                          <p:spTgt spid="2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2" descr="NA01441_"/>
          <p:cNvPicPr/>
          <p:nvPr/>
        </p:nvPicPr>
        <p:blipFill>
          <a:blip r:embed="rId1"/>
          <a:stretch/>
        </p:blipFill>
        <p:spPr>
          <a:xfrm>
            <a:off x="2514600" y="762120"/>
            <a:ext cx="4648320" cy="5643360"/>
          </a:xfrm>
          <a:prstGeom prst="rect">
            <a:avLst/>
          </a:prstGeom>
          <a:ln w="0">
            <a:noFill/>
          </a:ln>
        </p:spPr>
      </p:pic>
      <p:sp>
        <p:nvSpPr>
          <p:cNvPr id="211" name="AutoShape 3"/>
          <p:cNvSpPr/>
          <p:nvPr/>
        </p:nvSpPr>
        <p:spPr>
          <a:xfrm rot="12483600">
            <a:off x="3504600" y="2666520"/>
            <a:ext cx="685800" cy="457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99cc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2" name="AutoShape 4"/>
          <p:cNvSpPr/>
          <p:nvPr/>
        </p:nvSpPr>
        <p:spPr>
          <a:xfrm rot="12483600">
            <a:off x="3504600" y="3428640"/>
            <a:ext cx="685800" cy="457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99cc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3" name="AutoShape 5"/>
          <p:cNvSpPr/>
          <p:nvPr/>
        </p:nvSpPr>
        <p:spPr>
          <a:xfrm rot="12483600">
            <a:off x="3504600" y="4190760"/>
            <a:ext cx="685800" cy="457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99cc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4" name="AutoShape 6"/>
          <p:cNvSpPr/>
          <p:nvPr/>
        </p:nvSpPr>
        <p:spPr>
          <a:xfrm rot="12483600">
            <a:off x="3428280" y="4952520"/>
            <a:ext cx="685800" cy="457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99cc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5" name="AutoShape 7"/>
          <p:cNvSpPr/>
          <p:nvPr/>
        </p:nvSpPr>
        <p:spPr>
          <a:xfrm rot="12483600">
            <a:off x="3276000" y="5638320"/>
            <a:ext cx="685800" cy="457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99cc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6" name="AutoShape 8"/>
          <p:cNvSpPr/>
          <p:nvPr/>
        </p:nvSpPr>
        <p:spPr>
          <a:xfrm rot="12483600">
            <a:off x="3276000" y="5943240"/>
            <a:ext cx="685800" cy="457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99cc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7" name="AutoShape 9"/>
          <p:cNvSpPr/>
          <p:nvPr/>
        </p:nvSpPr>
        <p:spPr>
          <a:xfrm rot="12483600">
            <a:off x="5180760" y="2666520"/>
            <a:ext cx="685800" cy="457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99cc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8" name="AutoShape 10"/>
          <p:cNvSpPr/>
          <p:nvPr/>
        </p:nvSpPr>
        <p:spPr>
          <a:xfrm rot="12483600">
            <a:off x="5257080" y="3428640"/>
            <a:ext cx="685800" cy="457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99cc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9" name="AutoShape 11"/>
          <p:cNvSpPr/>
          <p:nvPr/>
        </p:nvSpPr>
        <p:spPr>
          <a:xfrm rot="12483600">
            <a:off x="5333400" y="4266720"/>
            <a:ext cx="685800" cy="457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99cc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0" name="AutoShape 12"/>
          <p:cNvSpPr/>
          <p:nvPr/>
        </p:nvSpPr>
        <p:spPr>
          <a:xfrm rot="12483600">
            <a:off x="5257080" y="5105160"/>
            <a:ext cx="685800" cy="457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99cc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1" name="AutoShape 13"/>
          <p:cNvSpPr/>
          <p:nvPr/>
        </p:nvSpPr>
        <p:spPr>
          <a:xfrm rot="12483600">
            <a:off x="5333400" y="5943240"/>
            <a:ext cx="685800" cy="457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99cc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2" name="AutoShape 14"/>
          <p:cNvSpPr/>
          <p:nvPr/>
        </p:nvSpPr>
        <p:spPr>
          <a:xfrm rot="11238600">
            <a:off x="4419000" y="1447560"/>
            <a:ext cx="533160" cy="457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99cc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3" name="AutoShape 15"/>
          <p:cNvSpPr/>
          <p:nvPr/>
        </p:nvSpPr>
        <p:spPr>
          <a:xfrm rot="11238600">
            <a:off x="6019200" y="2514240"/>
            <a:ext cx="533160" cy="457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99cc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4" name="AutoShape 16"/>
          <p:cNvSpPr/>
          <p:nvPr/>
        </p:nvSpPr>
        <p:spPr>
          <a:xfrm rot="11238600">
            <a:off x="3504600" y="1904760"/>
            <a:ext cx="533160" cy="457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99cc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5" name="AutoShape 17"/>
          <p:cNvSpPr/>
          <p:nvPr/>
        </p:nvSpPr>
        <p:spPr>
          <a:xfrm rot="11238600">
            <a:off x="5181120" y="1371240"/>
            <a:ext cx="533520" cy="457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99cc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6" name="AutoShape 18"/>
          <p:cNvSpPr/>
          <p:nvPr/>
        </p:nvSpPr>
        <p:spPr>
          <a:xfrm rot="11238600">
            <a:off x="4647600" y="2361960"/>
            <a:ext cx="533160" cy="457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99cc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27" name="Picture 19" descr="houzi6"/>
          <p:cNvPicPr/>
          <p:nvPr/>
        </p:nvPicPr>
        <p:blipFill>
          <a:blip r:embed="rId2"/>
          <a:stretch/>
        </p:blipFill>
        <p:spPr>
          <a:xfrm>
            <a:off x="2666880" y="228600"/>
            <a:ext cx="1714680" cy="1736640"/>
          </a:xfrm>
          <a:prstGeom prst="rect">
            <a:avLst/>
          </a:prstGeom>
          <a:ln w="0">
            <a:noFill/>
          </a:ln>
        </p:spPr>
      </p:pic>
      <p:sp>
        <p:nvSpPr>
          <p:cNvPr id="228" name="AutoShape 20"/>
          <p:cNvSpPr/>
          <p:nvPr/>
        </p:nvSpPr>
        <p:spPr>
          <a:xfrm rot="11238600">
            <a:off x="3123720" y="1218960"/>
            <a:ext cx="533520" cy="457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99cc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29" name="Picture 22" descr="tuzi1"/>
          <p:cNvPicPr/>
          <p:nvPr/>
        </p:nvPicPr>
        <p:blipFill>
          <a:blip r:embed="rId3"/>
          <a:stretch/>
        </p:blipFill>
        <p:spPr>
          <a:xfrm flipH="1" rot="10800000">
            <a:off x="6629400" y="3504960"/>
            <a:ext cx="2895480" cy="3352680"/>
          </a:xfrm>
          <a:prstGeom prst="rect">
            <a:avLst/>
          </a:prstGeom>
          <a:ln w="0">
            <a:noFill/>
          </a:ln>
        </p:spPr>
      </p:pic>
      <p:sp>
        <p:nvSpPr>
          <p:cNvPr id="230" name="Freeform 23"/>
          <p:cNvSpPr/>
          <p:nvPr/>
        </p:nvSpPr>
        <p:spPr>
          <a:xfrm>
            <a:off x="-195120" y="5619600"/>
            <a:ext cx="9426600" cy="1695600"/>
          </a:xfrm>
          <a:custGeom>
            <a:avLst/>
            <a:gdLst/>
            <a:ahLst/>
            <a:rect l="l" t="t" r="r" b="b"/>
            <a:pathLst>
              <a:path w="5938" h="1068">
                <a:moveTo>
                  <a:pt x="1321" y="26"/>
                </a:moveTo>
                <a:cubicBezTo>
                  <a:pt x="1423" y="0"/>
                  <a:pt x="1563" y="37"/>
                  <a:pt x="1668" y="44"/>
                </a:cubicBezTo>
                <a:cubicBezTo>
                  <a:pt x="1921" y="61"/>
                  <a:pt x="1909" y="57"/>
                  <a:pt x="2272" y="71"/>
                </a:cubicBezTo>
                <a:cubicBezTo>
                  <a:pt x="2185" y="93"/>
                  <a:pt x="2209" y="67"/>
                  <a:pt x="2180" y="126"/>
                </a:cubicBezTo>
                <a:cubicBezTo>
                  <a:pt x="2189" y="217"/>
                  <a:pt x="2188" y="224"/>
                  <a:pt x="2244" y="282"/>
                </a:cubicBezTo>
                <a:cubicBezTo>
                  <a:pt x="2163" y="322"/>
                  <a:pt x="2190" y="298"/>
                  <a:pt x="2153" y="337"/>
                </a:cubicBezTo>
                <a:cubicBezTo>
                  <a:pt x="2171" y="409"/>
                  <a:pt x="2153" y="405"/>
                  <a:pt x="2208" y="437"/>
                </a:cubicBezTo>
                <a:cubicBezTo>
                  <a:pt x="2232" y="451"/>
                  <a:pt x="2281" y="474"/>
                  <a:pt x="2281" y="474"/>
                </a:cubicBezTo>
                <a:cubicBezTo>
                  <a:pt x="2346" y="458"/>
                  <a:pt x="2333" y="470"/>
                  <a:pt x="2381" y="501"/>
                </a:cubicBezTo>
                <a:cubicBezTo>
                  <a:pt x="2404" y="516"/>
                  <a:pt x="2430" y="526"/>
                  <a:pt x="2454" y="538"/>
                </a:cubicBezTo>
                <a:cubicBezTo>
                  <a:pt x="2476" y="549"/>
                  <a:pt x="2503" y="544"/>
                  <a:pt x="2528" y="547"/>
                </a:cubicBezTo>
                <a:cubicBezTo>
                  <a:pt x="2540" y="550"/>
                  <a:pt x="2552" y="559"/>
                  <a:pt x="2564" y="556"/>
                </a:cubicBezTo>
                <a:cubicBezTo>
                  <a:pt x="2590" y="549"/>
                  <a:pt x="2610" y="525"/>
                  <a:pt x="2637" y="519"/>
                </a:cubicBezTo>
                <a:cubicBezTo>
                  <a:pt x="2649" y="516"/>
                  <a:pt x="2662" y="513"/>
                  <a:pt x="2674" y="510"/>
                </a:cubicBezTo>
                <a:cubicBezTo>
                  <a:pt x="2931" y="382"/>
                  <a:pt x="2654" y="514"/>
                  <a:pt x="3442" y="483"/>
                </a:cubicBezTo>
                <a:cubicBezTo>
                  <a:pt x="3456" y="482"/>
                  <a:pt x="3391" y="466"/>
                  <a:pt x="3405" y="465"/>
                </a:cubicBezTo>
                <a:cubicBezTo>
                  <a:pt x="3484" y="461"/>
                  <a:pt x="3564" y="471"/>
                  <a:pt x="3643" y="474"/>
                </a:cubicBezTo>
                <a:cubicBezTo>
                  <a:pt x="3676" y="540"/>
                  <a:pt x="3673" y="566"/>
                  <a:pt x="3744" y="583"/>
                </a:cubicBezTo>
                <a:cubicBezTo>
                  <a:pt x="3830" y="572"/>
                  <a:pt x="3894" y="553"/>
                  <a:pt x="3963" y="501"/>
                </a:cubicBezTo>
                <a:cubicBezTo>
                  <a:pt x="3989" y="450"/>
                  <a:pt x="4008" y="395"/>
                  <a:pt x="4073" y="382"/>
                </a:cubicBezTo>
                <a:cubicBezTo>
                  <a:pt x="4121" y="372"/>
                  <a:pt x="4219" y="364"/>
                  <a:pt x="4219" y="364"/>
                </a:cubicBezTo>
                <a:cubicBezTo>
                  <a:pt x="4297" y="307"/>
                  <a:pt x="4382" y="293"/>
                  <a:pt x="4475" y="282"/>
                </a:cubicBezTo>
                <a:cubicBezTo>
                  <a:pt x="4449" y="203"/>
                  <a:pt x="4449" y="226"/>
                  <a:pt x="4521" y="209"/>
                </a:cubicBezTo>
                <a:cubicBezTo>
                  <a:pt x="4618" y="212"/>
                  <a:pt x="4716" y="207"/>
                  <a:pt x="4813" y="218"/>
                </a:cubicBezTo>
                <a:cubicBezTo>
                  <a:pt x="4877" y="225"/>
                  <a:pt x="4784" y="388"/>
                  <a:pt x="4877" y="391"/>
                </a:cubicBezTo>
                <a:cubicBezTo>
                  <a:pt x="5206" y="400"/>
                  <a:pt x="5536" y="398"/>
                  <a:pt x="5865" y="401"/>
                </a:cubicBezTo>
                <a:cubicBezTo>
                  <a:pt x="5862" y="410"/>
                  <a:pt x="5855" y="419"/>
                  <a:pt x="5856" y="428"/>
                </a:cubicBezTo>
                <a:cubicBezTo>
                  <a:pt x="5858" y="442"/>
                  <a:pt x="5869" y="452"/>
                  <a:pt x="5874" y="465"/>
                </a:cubicBezTo>
                <a:cubicBezTo>
                  <a:pt x="5887" y="501"/>
                  <a:pt x="5891" y="520"/>
                  <a:pt x="5920" y="547"/>
                </a:cubicBezTo>
                <a:cubicBezTo>
                  <a:pt x="5911" y="598"/>
                  <a:pt x="5913" y="651"/>
                  <a:pt x="5901" y="702"/>
                </a:cubicBezTo>
                <a:cubicBezTo>
                  <a:pt x="5899" y="711"/>
                  <a:pt x="5874" y="721"/>
                  <a:pt x="5883" y="721"/>
                </a:cubicBezTo>
                <a:cubicBezTo>
                  <a:pt x="5902" y="721"/>
                  <a:pt x="5920" y="708"/>
                  <a:pt x="5938" y="702"/>
                </a:cubicBezTo>
                <a:cubicBezTo>
                  <a:pt x="5661" y="1068"/>
                  <a:pt x="4566" y="812"/>
                  <a:pt x="4566" y="812"/>
                </a:cubicBezTo>
                <a:cubicBezTo>
                  <a:pt x="4043" y="801"/>
                  <a:pt x="3517" y="799"/>
                  <a:pt x="2994" y="775"/>
                </a:cubicBezTo>
                <a:cubicBezTo>
                  <a:pt x="2915" y="781"/>
                  <a:pt x="2835" y="786"/>
                  <a:pt x="2756" y="794"/>
                </a:cubicBezTo>
                <a:cubicBezTo>
                  <a:pt x="2744" y="795"/>
                  <a:pt x="2732" y="805"/>
                  <a:pt x="2720" y="803"/>
                </a:cubicBezTo>
                <a:cubicBezTo>
                  <a:pt x="2709" y="801"/>
                  <a:pt x="2702" y="790"/>
                  <a:pt x="2692" y="785"/>
                </a:cubicBezTo>
                <a:cubicBezTo>
                  <a:pt x="2668" y="772"/>
                  <a:pt x="2643" y="760"/>
                  <a:pt x="2619" y="748"/>
                </a:cubicBezTo>
                <a:cubicBezTo>
                  <a:pt x="2607" y="742"/>
                  <a:pt x="2582" y="730"/>
                  <a:pt x="2582" y="730"/>
                </a:cubicBezTo>
                <a:cubicBezTo>
                  <a:pt x="2521" y="736"/>
                  <a:pt x="2460" y="751"/>
                  <a:pt x="2400" y="757"/>
                </a:cubicBezTo>
                <a:cubicBezTo>
                  <a:pt x="2327" y="765"/>
                  <a:pt x="2180" y="775"/>
                  <a:pt x="2180" y="775"/>
                </a:cubicBezTo>
                <a:cubicBezTo>
                  <a:pt x="976" y="743"/>
                  <a:pt x="1509" y="743"/>
                  <a:pt x="580" y="757"/>
                </a:cubicBezTo>
                <a:cubicBezTo>
                  <a:pt x="406" y="751"/>
                  <a:pt x="202" y="838"/>
                  <a:pt x="59" y="739"/>
                </a:cubicBezTo>
                <a:cubicBezTo>
                  <a:pt x="0" y="698"/>
                  <a:pt x="13" y="336"/>
                  <a:pt x="86" y="227"/>
                </a:cubicBezTo>
                <a:cubicBezTo>
                  <a:pt x="103" y="163"/>
                  <a:pt x="158" y="115"/>
                  <a:pt x="224" y="99"/>
                </a:cubicBezTo>
                <a:cubicBezTo>
                  <a:pt x="248" y="93"/>
                  <a:pt x="297" y="81"/>
                  <a:pt x="297" y="81"/>
                </a:cubicBezTo>
                <a:cubicBezTo>
                  <a:pt x="352" y="95"/>
                  <a:pt x="335" y="108"/>
                  <a:pt x="370" y="145"/>
                </a:cubicBezTo>
                <a:cubicBezTo>
                  <a:pt x="453" y="130"/>
                  <a:pt x="523" y="115"/>
                  <a:pt x="608" y="108"/>
                </a:cubicBezTo>
                <a:cubicBezTo>
                  <a:pt x="544" y="149"/>
                  <a:pt x="471" y="189"/>
                  <a:pt x="397" y="209"/>
                </a:cubicBezTo>
                <a:cubicBezTo>
                  <a:pt x="390" y="220"/>
                  <a:pt x="361" y="257"/>
                  <a:pt x="370" y="273"/>
                </a:cubicBezTo>
                <a:cubicBezTo>
                  <a:pt x="376" y="284"/>
                  <a:pt x="394" y="279"/>
                  <a:pt x="406" y="282"/>
                </a:cubicBezTo>
                <a:cubicBezTo>
                  <a:pt x="461" y="273"/>
                  <a:pt x="517" y="276"/>
                  <a:pt x="571" y="263"/>
                </a:cubicBezTo>
                <a:cubicBezTo>
                  <a:pt x="611" y="253"/>
                  <a:pt x="645" y="227"/>
                  <a:pt x="681" y="209"/>
                </a:cubicBezTo>
                <a:cubicBezTo>
                  <a:pt x="717" y="191"/>
                  <a:pt x="754" y="172"/>
                  <a:pt x="790" y="154"/>
                </a:cubicBezTo>
                <a:cubicBezTo>
                  <a:pt x="802" y="148"/>
                  <a:pt x="827" y="135"/>
                  <a:pt x="827" y="135"/>
                </a:cubicBezTo>
                <a:cubicBezTo>
                  <a:pt x="900" y="148"/>
                  <a:pt x="958" y="189"/>
                  <a:pt x="1028" y="209"/>
                </a:cubicBezTo>
                <a:cubicBezTo>
                  <a:pt x="1133" y="195"/>
                  <a:pt x="1138" y="213"/>
                  <a:pt x="1229" y="236"/>
                </a:cubicBezTo>
                <a:cubicBezTo>
                  <a:pt x="1244" y="230"/>
                  <a:pt x="1263" y="229"/>
                  <a:pt x="1275" y="218"/>
                </a:cubicBezTo>
                <a:cubicBezTo>
                  <a:pt x="1317" y="182"/>
                  <a:pt x="1286" y="128"/>
                  <a:pt x="1257" y="99"/>
                </a:cubicBezTo>
                <a:cubicBezTo>
                  <a:pt x="1269" y="90"/>
                  <a:pt x="1280" y="79"/>
                  <a:pt x="1293" y="71"/>
                </a:cubicBezTo>
                <a:cubicBezTo>
                  <a:pt x="1305" y="64"/>
                  <a:pt x="1323" y="65"/>
                  <a:pt x="1330" y="53"/>
                </a:cubicBezTo>
                <a:cubicBezTo>
                  <a:pt x="1335" y="45"/>
                  <a:pt x="1324" y="35"/>
                  <a:pt x="1321" y="26"/>
                </a:cubicBezTo>
                <a:close/>
              </a:path>
            </a:pathLst>
          </a:custGeom>
          <a:solidFill>
            <a:srgbClr val="33cc33"/>
          </a:solidFill>
          <a:ln cap="sq" w="1260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1980720" y="5334120"/>
            <a:ext cx="304920" cy="380880"/>
            <a:chOff x="1980720" y="5334120"/>
            <a:chExt cx="304920" cy="380880"/>
          </a:xfrm>
        </p:grpSpPr>
        <p:sp>
          <p:nvSpPr>
            <p:cNvPr id="232" name="Line 24"/>
            <p:cNvSpPr/>
            <p:nvPr/>
          </p:nvSpPr>
          <p:spPr>
            <a:xfrm flipH="1" flipV="1">
              <a:off x="1980720" y="5334120"/>
              <a:ext cx="304920" cy="380880"/>
            </a:xfrm>
            <a:prstGeom prst="line">
              <a:avLst/>
            </a:prstGeom>
            <a:ln cap="sq" w="12600">
              <a:solidFill>
                <a:srgbClr val="eaeae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3" name=""/>
            <p:cNvSpPr txBox="1"/>
            <p:nvPr/>
          </p:nvSpPr>
          <p:spPr>
            <a:xfrm rot="10800000">
              <a:off x="1980720" y="5334120"/>
              <a:ext cx="304920" cy="38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234" name="Freeform 25"/>
          <p:cNvSpPr/>
          <p:nvPr/>
        </p:nvSpPr>
        <p:spPr>
          <a:xfrm>
            <a:off x="1790640" y="5283360"/>
            <a:ext cx="1027080" cy="581040"/>
          </a:xfrm>
          <a:custGeom>
            <a:avLst/>
            <a:gdLst/>
            <a:ahLst/>
            <a:rect l="l" t="t" r="r" b="b"/>
            <a:pathLst>
              <a:path w="647" h="366">
                <a:moveTo>
                  <a:pt x="335" y="265"/>
                </a:moveTo>
                <a:cubicBezTo>
                  <a:pt x="332" y="216"/>
                  <a:pt x="336" y="167"/>
                  <a:pt x="326" y="119"/>
                </a:cubicBezTo>
                <a:cubicBezTo>
                  <a:pt x="322" y="101"/>
                  <a:pt x="227" y="47"/>
                  <a:pt x="207" y="37"/>
                </a:cubicBezTo>
                <a:cubicBezTo>
                  <a:pt x="195" y="40"/>
                  <a:pt x="182" y="41"/>
                  <a:pt x="170" y="46"/>
                </a:cubicBezTo>
                <a:cubicBezTo>
                  <a:pt x="145" y="56"/>
                  <a:pt x="97" y="82"/>
                  <a:pt x="97" y="82"/>
                </a:cubicBezTo>
                <a:cubicBezTo>
                  <a:pt x="79" y="101"/>
                  <a:pt x="65" y="114"/>
                  <a:pt x="51" y="137"/>
                </a:cubicBezTo>
                <a:cubicBezTo>
                  <a:pt x="44" y="149"/>
                  <a:pt x="23" y="165"/>
                  <a:pt x="33" y="174"/>
                </a:cubicBezTo>
                <a:cubicBezTo>
                  <a:pt x="43" y="183"/>
                  <a:pt x="53" y="157"/>
                  <a:pt x="61" y="146"/>
                </a:cubicBezTo>
                <a:cubicBezTo>
                  <a:pt x="132" y="48"/>
                  <a:pt x="0" y="189"/>
                  <a:pt x="125" y="64"/>
                </a:cubicBezTo>
                <a:cubicBezTo>
                  <a:pt x="140" y="49"/>
                  <a:pt x="177" y="25"/>
                  <a:pt x="198" y="18"/>
                </a:cubicBezTo>
                <a:cubicBezTo>
                  <a:pt x="222" y="10"/>
                  <a:pt x="271" y="0"/>
                  <a:pt x="271" y="0"/>
                </a:cubicBezTo>
                <a:cubicBezTo>
                  <a:pt x="309" y="19"/>
                  <a:pt x="307" y="10"/>
                  <a:pt x="326" y="46"/>
                </a:cubicBezTo>
                <a:cubicBezTo>
                  <a:pt x="339" y="70"/>
                  <a:pt x="362" y="119"/>
                  <a:pt x="362" y="119"/>
                </a:cubicBezTo>
                <a:cubicBezTo>
                  <a:pt x="446" y="56"/>
                  <a:pt x="408" y="77"/>
                  <a:pt x="472" y="46"/>
                </a:cubicBezTo>
                <a:cubicBezTo>
                  <a:pt x="596" y="66"/>
                  <a:pt x="566" y="31"/>
                  <a:pt x="600" y="101"/>
                </a:cubicBezTo>
                <a:cubicBezTo>
                  <a:pt x="606" y="152"/>
                  <a:pt x="647" y="307"/>
                  <a:pt x="609" y="366"/>
                </a:cubicBezTo>
                <a:cubicBezTo>
                  <a:pt x="559" y="314"/>
                  <a:pt x="604" y="212"/>
                  <a:pt x="536" y="174"/>
                </a:cubicBezTo>
                <a:cubicBezTo>
                  <a:pt x="525" y="168"/>
                  <a:pt x="511" y="168"/>
                  <a:pt x="499" y="165"/>
                </a:cubicBezTo>
                <a:cubicBezTo>
                  <a:pt x="481" y="168"/>
                  <a:pt x="462" y="168"/>
                  <a:pt x="445" y="174"/>
                </a:cubicBezTo>
                <a:cubicBezTo>
                  <a:pt x="419" y="183"/>
                  <a:pt x="371" y="210"/>
                  <a:pt x="371" y="210"/>
                </a:cubicBezTo>
                <a:cubicBezTo>
                  <a:pt x="365" y="216"/>
                  <a:pt x="358" y="222"/>
                  <a:pt x="353" y="229"/>
                </a:cubicBezTo>
                <a:cubicBezTo>
                  <a:pt x="346" y="240"/>
                  <a:pt x="335" y="265"/>
                  <a:pt x="335" y="265"/>
                </a:cubicBezTo>
                <a:close/>
              </a:path>
            </a:pathLst>
          </a:custGeom>
          <a:solidFill>
            <a:srgbClr val="33cc33"/>
          </a:solidFill>
          <a:ln cap="sq" w="1260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5" name="Text Box 26"/>
          <p:cNvSpPr/>
          <p:nvPr/>
        </p:nvSpPr>
        <p:spPr>
          <a:xfrm>
            <a:off x="1143000" y="2971800"/>
            <a:ext cx="1447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!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6" name="Text Box 27"/>
          <p:cNvSpPr/>
          <p:nvPr/>
        </p:nvSpPr>
        <p:spPr>
          <a:xfrm>
            <a:off x="6934320" y="4191120"/>
            <a:ext cx="761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!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7" name="AutoShape 28">
            <a:hlinkClick r:id="" action="ppaction://hlinkshowjump?jump=firstslide"/>
          </p:cNvPr>
          <p:cNvSpPr/>
          <p:nvPr/>
        </p:nvSpPr>
        <p:spPr>
          <a:xfrm>
            <a:off x="8839080" y="63244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eeb00b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8" name="AutoShape 29">
            <a:hlinkClick r:id="" action="ppaction://hlinkshowjump?jump=nextslide"/>
          </p:cNvPr>
          <p:cNvSpPr/>
          <p:nvPr/>
        </p:nvSpPr>
        <p:spPr>
          <a:xfrm>
            <a:off x="8534520" y="6324480"/>
            <a:ext cx="304560" cy="30492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26">
                <a:moveTo>
                  <a:pt x="0" y="0"/>
                </a:moveTo>
                <a:lnTo>
                  <a:pt x="21600" y="0"/>
                </a:lnTo>
                <a:lnTo>
                  <a:pt x="21600" y="21626"/>
                </a:lnTo>
                <a:lnTo>
                  <a:pt x="0" y="21626"/>
                </a:lnTo>
                <a:close/>
              </a:path>
              <a:path fill="lightenLess" w="21600" h="2162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6">
                <a:moveTo>
                  <a:pt x="21600" y="0"/>
                </a:moveTo>
                <a:lnTo>
                  <a:pt x="21600" y="21626"/>
                </a:lnTo>
                <a:lnTo>
                  <a:pt x="20200" y="20226"/>
                </a:lnTo>
                <a:lnTo>
                  <a:pt x="20200" y="1400"/>
                </a:lnTo>
                <a:close/>
              </a:path>
              <a:path fill="darkenLess" w="21600" h="21626">
                <a:moveTo>
                  <a:pt x="21600" y="21626"/>
                </a:moveTo>
                <a:lnTo>
                  <a:pt x="0" y="21626"/>
                </a:lnTo>
                <a:lnTo>
                  <a:pt x="1400" y="20226"/>
                </a:lnTo>
                <a:lnTo>
                  <a:pt x="20200" y="20226"/>
                </a:lnTo>
                <a:close/>
              </a:path>
              <a:path fill="lighten" w="21600" h="21626">
                <a:moveTo>
                  <a:pt x="0" y="2162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6"/>
                </a:lnTo>
                <a:close/>
              </a:path>
              <a:path fill="darken" w="21600" h="21626">
                <a:moveTo>
                  <a:pt x="3794" y="3806"/>
                </a:moveTo>
                <a:lnTo>
                  <a:pt x="17806" y="10813"/>
                </a:lnTo>
                <a:lnTo>
                  <a:pt x="3794" y="17819"/>
                </a:lnTo>
                <a:close/>
              </a:path>
            </a:pathLst>
          </a:custGeom>
          <a:solidFill>
            <a:srgbClr val="eeb00b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9" name="AutoShape 31">
            <a:hlinkClick r:id="" action="ppaction://hlinkshowjump?jump=previousslide"/>
          </p:cNvPr>
          <p:cNvSpPr/>
          <p:nvPr/>
        </p:nvSpPr>
        <p:spPr>
          <a:xfrm>
            <a:off x="8153280" y="6324480"/>
            <a:ext cx="381240" cy="304920"/>
          </a:xfrm>
          <a:custGeom>
            <a:avLst/>
            <a:gdLst>
              <a:gd name="textAreaLeft" fmla="*/ 19440 w 381240"/>
              <a:gd name="textAreaRight" fmla="*/ 361800 w 38124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7000" h="21600">
                <a:moveTo>
                  <a:pt x="0" y="0"/>
                </a:moveTo>
                <a:lnTo>
                  <a:pt x="27000" y="0"/>
                </a:lnTo>
                <a:lnTo>
                  <a:pt x="27000" y="21600"/>
                </a:lnTo>
                <a:lnTo>
                  <a:pt x="0" y="21600"/>
                </a:lnTo>
                <a:close/>
              </a:path>
              <a:path fill="lightenLess" w="27000" h="21600">
                <a:moveTo>
                  <a:pt x="0" y="0"/>
                </a:moveTo>
                <a:lnTo>
                  <a:pt x="27000" y="0"/>
                </a:lnTo>
                <a:lnTo>
                  <a:pt x="25600" y="1400"/>
                </a:lnTo>
                <a:lnTo>
                  <a:pt x="1400" y="1400"/>
                </a:lnTo>
                <a:close/>
              </a:path>
              <a:path fill="darken" w="27000" h="21600">
                <a:moveTo>
                  <a:pt x="27000" y="0"/>
                </a:moveTo>
                <a:lnTo>
                  <a:pt x="27000" y="21600"/>
                </a:lnTo>
                <a:lnTo>
                  <a:pt x="25600" y="20200"/>
                </a:lnTo>
                <a:lnTo>
                  <a:pt x="25600" y="1400"/>
                </a:lnTo>
                <a:close/>
              </a:path>
              <a:path fill="darkenLess" w="27000" h="21600">
                <a:moveTo>
                  <a:pt x="27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0" y="20200"/>
                </a:lnTo>
                <a:close/>
              </a:path>
              <a:path fill="lighten" w="27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0" h="21600">
                <a:moveTo>
                  <a:pt x="6494" y="10800"/>
                </a:moveTo>
                <a:lnTo>
                  <a:pt x="20506" y="3794"/>
                </a:lnTo>
                <a:lnTo>
                  <a:pt x="20506" y="17806"/>
                </a:lnTo>
                <a:close/>
              </a:path>
            </a:pathLst>
          </a:custGeom>
          <a:solidFill>
            <a:srgbClr val="eeb00b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40" name="Picture 32" descr="pic001"/>
          <p:cNvPicPr/>
          <p:nvPr/>
        </p:nvPicPr>
        <p:blipFill>
          <a:blip r:embed="rId4"/>
          <a:stretch/>
        </p:blipFill>
        <p:spPr>
          <a:xfrm>
            <a:off x="250920" y="3429000"/>
            <a:ext cx="1852560" cy="2370240"/>
          </a:xfrm>
          <a:prstGeom prst="rect">
            <a:avLst/>
          </a:prstGeom>
          <a:ln w="0">
            <a:noFill/>
          </a:ln>
        </p:spPr>
      </p:pic>
      <p:sp>
        <p:nvSpPr>
          <p:cNvPr id="241" name="文本框 8200"/>
          <p:cNvSpPr/>
          <p:nvPr/>
        </p:nvSpPr>
        <p:spPr>
          <a:xfrm>
            <a:off x="971640" y="638172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ff33cc"/>
                </a:solidFill>
                <a:uFillTx/>
                <a:latin typeface="Arial"/>
                <a:ea typeface="宋体"/>
                <a:hlinkClick r:id="rId5"/>
              </a:rPr>
              <a:t>免费ppt模板下载</a:t>
            </a:r>
            <a:r>
              <a:rPr b="0" lang="zh-CN" sz="1600" spc="-1" strike="noStrike">
                <a:solidFill>
                  <a:srgbClr val="eaeaea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eaeaea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8" dur="1" fill="hold">
                                    <p:stCondLst>
                                      <p:cond evt="end">
                                        <p:tn val="106"/>
                                      </p:cond>
                                    </p:stCondLst>
                                  </p:cTn>
                                  <p:tgtEl>
                                    <p:spTgt spid="21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500"/>
                            </p:stCondLst>
                            <p:childTnLst>
                              <p:par>
                                <p:cTn id="110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2" dur="1" fill="hold">
                                    <p:stCondLst>
                                      <p:cond evt="end">
                                        <p:tn val="110"/>
                                      </p:cond>
                                    </p:stCondLst>
                                  </p:cTn>
                                  <p:tgtEl>
                                    <p:spTgt spid="21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6" dur="1" fill="hold">
                                    <p:stCondLst>
                                      <p:cond evt="end">
                                        <p:tn val="114"/>
                                      </p:cond>
                                    </p:stCondLst>
                                  </p:cTn>
                                  <p:tgtEl>
                                    <p:spTgt spid="21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500"/>
                            </p:stCondLst>
                            <p:childTnLst>
                              <p:par>
                                <p:cTn id="118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0" dur="1" fill="hold">
                                    <p:stCondLst>
                                      <p:cond evt="end">
                                        <p:tn val="118"/>
                                      </p:cond>
                                    </p:stCondLst>
                                  </p:cTn>
                                  <p:tgtEl>
                                    <p:spTgt spid="21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2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4" dur="1" fill="hold">
                                    <p:stCondLst>
                                      <p:cond evt="end">
                                        <p:tn val="122"/>
                                      </p:cond>
                                    </p:stCondLst>
                                  </p:cTn>
                                  <p:tgtEl>
                                    <p:spTgt spid="21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2500"/>
                            </p:stCondLst>
                            <p:childTnLst>
                              <p:par>
                                <p:cTn id="126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3000"/>
                            </p:stCondLst>
                            <p:childTnLst>
                              <p:par>
                                <p:cTn id="129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1" dur="1" fill="hold">
                                    <p:stCondLst>
                                      <p:cond evt="end">
                                        <p:tn val="129"/>
                                      </p:cond>
                                    </p:stCondLst>
                                  </p:cTn>
                                  <p:tgtEl>
                                    <p:spTgt spid="21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3500"/>
                            </p:stCondLst>
                            <p:childTnLst>
                              <p:par>
                                <p:cTn id="133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5" dur="1" fill="hold">
                                    <p:stCondLst>
                                      <p:cond evt="end">
                                        <p:tn val="133"/>
                                      </p:cond>
                                    </p:stCondLst>
                                  </p:cTn>
                                  <p:tgtEl>
                                    <p:spTgt spid="21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4000"/>
                            </p:stCondLst>
                            <p:childTnLst>
                              <p:par>
                                <p:cTn id="137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9" dur="1" fill="hold">
                                    <p:stCondLst>
                                      <p:cond evt="end">
                                        <p:tn val="137"/>
                                      </p:cond>
                                    </p:stCondLst>
                                  </p:cTn>
                                  <p:tgtEl>
                                    <p:spTgt spid="21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4500"/>
                            </p:stCondLst>
                            <p:childTnLst>
                              <p:par>
                                <p:cTn id="141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3" dur="1" fill="hold">
                                    <p:stCondLst>
                                      <p:cond evt="end">
                                        <p:tn val="141"/>
                                      </p:cond>
                                    </p:stCondLst>
                                  </p:cTn>
                                  <p:tgtEl>
                                    <p:spTgt spid="22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5000"/>
                            </p:stCondLst>
                            <p:childTnLst>
                              <p:par>
                                <p:cTn id="145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2" descr="NA01441_"/>
          <p:cNvPicPr/>
          <p:nvPr/>
        </p:nvPicPr>
        <p:blipFill>
          <a:blip r:embed="rId1"/>
          <a:stretch/>
        </p:blipFill>
        <p:spPr>
          <a:xfrm>
            <a:off x="2133720" y="914400"/>
            <a:ext cx="4387680" cy="5410080"/>
          </a:xfrm>
          <a:prstGeom prst="rect">
            <a:avLst/>
          </a:prstGeom>
          <a:ln w="0">
            <a:noFill/>
          </a:ln>
        </p:spPr>
      </p:pic>
      <p:sp>
        <p:nvSpPr>
          <p:cNvPr id="243" name="AutoShape 3"/>
          <p:cNvSpPr/>
          <p:nvPr/>
        </p:nvSpPr>
        <p:spPr>
          <a:xfrm rot="11788800">
            <a:off x="3200040" y="2057400"/>
            <a:ext cx="685800" cy="990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99cc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4" name="AutoShape 4"/>
          <p:cNvSpPr/>
          <p:nvPr/>
        </p:nvSpPr>
        <p:spPr>
          <a:xfrm rot="11788800">
            <a:off x="3733560" y="990360"/>
            <a:ext cx="685800" cy="914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99cc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5" name="AutoShape 5"/>
          <p:cNvSpPr/>
          <p:nvPr/>
        </p:nvSpPr>
        <p:spPr>
          <a:xfrm rot="11788800">
            <a:off x="4800240" y="2362320"/>
            <a:ext cx="685800" cy="761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99cc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6" name="AutoShape 6"/>
          <p:cNvSpPr/>
          <p:nvPr/>
        </p:nvSpPr>
        <p:spPr>
          <a:xfrm rot="11788800">
            <a:off x="4952520" y="1218960"/>
            <a:ext cx="685800" cy="838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99cc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7" name="AutoShape 7"/>
          <p:cNvSpPr/>
          <p:nvPr/>
        </p:nvSpPr>
        <p:spPr>
          <a:xfrm rot="11788800">
            <a:off x="2209320" y="1980360"/>
            <a:ext cx="685800" cy="838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99cc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8" name="AutoShape 9"/>
          <p:cNvSpPr/>
          <p:nvPr/>
        </p:nvSpPr>
        <p:spPr>
          <a:xfrm rot="11788800">
            <a:off x="4038120" y="2133360"/>
            <a:ext cx="685800" cy="838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99cc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9" name="AutoShape 10"/>
          <p:cNvSpPr/>
          <p:nvPr/>
        </p:nvSpPr>
        <p:spPr>
          <a:xfrm rot="11788800">
            <a:off x="5943240" y="2514240"/>
            <a:ext cx="685800" cy="838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99cc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0" name="Text Box 12"/>
          <p:cNvSpPr/>
          <p:nvPr/>
        </p:nvSpPr>
        <p:spPr>
          <a:xfrm>
            <a:off x="2286000" y="22096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俩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1" name="Text Box 15"/>
          <p:cNvSpPr/>
          <p:nvPr/>
        </p:nvSpPr>
        <p:spPr>
          <a:xfrm>
            <a:off x="3276720" y="25146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摘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2" name="Text Box 16"/>
          <p:cNvSpPr/>
          <p:nvPr/>
        </p:nvSpPr>
        <p:spPr>
          <a:xfrm>
            <a:off x="3886200" y="1295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伯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3" name="Text Box 17"/>
          <p:cNvSpPr/>
          <p:nvPr/>
        </p:nvSpPr>
        <p:spPr>
          <a:xfrm>
            <a:off x="4952880" y="15238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而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4" name="Text Box 18"/>
          <p:cNvSpPr/>
          <p:nvPr/>
        </p:nvSpPr>
        <p:spPr>
          <a:xfrm>
            <a:off x="4114800" y="266688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5" name="Text Box 19"/>
          <p:cNvSpPr/>
          <p:nvPr/>
        </p:nvSpPr>
        <p:spPr>
          <a:xfrm>
            <a:off x="4038480" y="24382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且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6" name="Text Box 20"/>
          <p:cNvSpPr/>
          <p:nvPr/>
        </p:nvSpPr>
        <p:spPr>
          <a:xfrm>
            <a:off x="4876920" y="25146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踢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7" name="Text Box 21"/>
          <p:cNvSpPr/>
          <p:nvPr/>
        </p:nvSpPr>
        <p:spPr>
          <a:xfrm>
            <a:off x="5943600" y="28195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引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8" name="Text Box 22"/>
          <p:cNvSpPr/>
          <p:nvPr/>
        </p:nvSpPr>
        <p:spPr>
          <a:xfrm>
            <a:off x="152280" y="533520"/>
            <a:ext cx="281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比一比，摘桃子。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9" name="AutoShape 23">
            <a:hlinkClick r:id="" action="ppaction://hlinkshowjump?jump=nextslide"/>
          </p:cNvPr>
          <p:cNvSpPr/>
          <p:nvPr/>
        </p:nvSpPr>
        <p:spPr>
          <a:xfrm>
            <a:off x="8763120" y="6553080"/>
            <a:ext cx="380880" cy="30492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6975" h="21600">
                <a:moveTo>
                  <a:pt x="0" y="0"/>
                </a:moveTo>
                <a:lnTo>
                  <a:pt x="26975" y="0"/>
                </a:lnTo>
                <a:lnTo>
                  <a:pt x="26975" y="21600"/>
                </a:lnTo>
                <a:lnTo>
                  <a:pt x="0" y="21600"/>
                </a:lnTo>
                <a:close/>
              </a:path>
              <a:path fill="lightenLess" w="26975" h="21600">
                <a:moveTo>
                  <a:pt x="0" y="0"/>
                </a:moveTo>
                <a:lnTo>
                  <a:pt x="26975" y="0"/>
                </a:lnTo>
                <a:lnTo>
                  <a:pt x="25575" y="1400"/>
                </a:lnTo>
                <a:lnTo>
                  <a:pt x="1400" y="1400"/>
                </a:lnTo>
                <a:close/>
              </a:path>
              <a:path fill="darken" w="26975" h="21600">
                <a:moveTo>
                  <a:pt x="26975" y="0"/>
                </a:moveTo>
                <a:lnTo>
                  <a:pt x="26975" y="21600"/>
                </a:lnTo>
                <a:lnTo>
                  <a:pt x="25575" y="20200"/>
                </a:lnTo>
                <a:lnTo>
                  <a:pt x="25575" y="1400"/>
                </a:lnTo>
                <a:close/>
              </a:path>
              <a:path fill="darkenLess" w="26975" h="21600">
                <a:moveTo>
                  <a:pt x="2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75" y="20200"/>
                </a:lnTo>
                <a:close/>
              </a:path>
              <a:path fill="lighten" w="2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75" h="21600">
                <a:moveTo>
                  <a:pt x="6481" y="3794"/>
                </a:moveTo>
                <a:lnTo>
                  <a:pt x="20494" y="10800"/>
                </a:lnTo>
                <a:lnTo>
                  <a:pt x="6481" y="17806"/>
                </a:lnTo>
                <a:close/>
              </a:path>
            </a:pathLst>
          </a:custGeom>
          <a:solidFill>
            <a:srgbClr val="eeb00b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3">
            <a:hlinkClick r:id="rId1"/>
          </p:cNvPr>
          <p:cNvSpPr/>
          <p:nvPr/>
        </p:nvSpPr>
        <p:spPr>
          <a:xfrm>
            <a:off x="175248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1" name="Text Box 4"/>
          <p:cNvSpPr/>
          <p:nvPr/>
        </p:nvSpPr>
        <p:spPr>
          <a:xfrm>
            <a:off x="1371600" y="304920"/>
            <a:ext cx="7238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62" name="Picture 6" descr="meigui"/>
          <p:cNvPicPr/>
          <p:nvPr/>
        </p:nvPicPr>
        <p:blipFill>
          <a:blip r:embed="rId2"/>
          <a:stretch/>
        </p:blipFill>
        <p:spPr>
          <a:xfrm>
            <a:off x="-22860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263" name="AutoShape 7">
            <a:hlinkClick r:id="" action="ppaction://hlinkshowjump?jump=firstslide"/>
          </p:cNvPr>
          <p:cNvSpPr/>
          <p:nvPr/>
        </p:nvSpPr>
        <p:spPr>
          <a:xfrm>
            <a:off x="8610480" y="6324480"/>
            <a:ext cx="381240" cy="304920"/>
          </a:xfrm>
          <a:custGeom>
            <a:avLst/>
            <a:gdLst>
              <a:gd name="textAreaLeft" fmla="*/ 19440 w 381240"/>
              <a:gd name="textAreaRight" fmla="*/ 361800 w 38124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7000" h="21600">
                <a:moveTo>
                  <a:pt x="0" y="0"/>
                </a:moveTo>
                <a:lnTo>
                  <a:pt x="27000" y="0"/>
                </a:lnTo>
                <a:lnTo>
                  <a:pt x="27000" y="21600"/>
                </a:lnTo>
                <a:lnTo>
                  <a:pt x="0" y="21600"/>
                </a:lnTo>
                <a:close/>
              </a:path>
              <a:path fill="lightenLess" w="27000" h="21600">
                <a:moveTo>
                  <a:pt x="0" y="0"/>
                </a:moveTo>
                <a:lnTo>
                  <a:pt x="27000" y="0"/>
                </a:lnTo>
                <a:lnTo>
                  <a:pt x="25600" y="1400"/>
                </a:lnTo>
                <a:lnTo>
                  <a:pt x="1400" y="1400"/>
                </a:lnTo>
                <a:close/>
              </a:path>
              <a:path fill="darken" w="27000" h="21600">
                <a:moveTo>
                  <a:pt x="27000" y="0"/>
                </a:moveTo>
                <a:lnTo>
                  <a:pt x="27000" y="21600"/>
                </a:lnTo>
                <a:lnTo>
                  <a:pt x="25600" y="20200"/>
                </a:lnTo>
                <a:lnTo>
                  <a:pt x="25600" y="1400"/>
                </a:lnTo>
                <a:close/>
              </a:path>
              <a:path fill="darkenLess" w="27000" h="21600">
                <a:moveTo>
                  <a:pt x="27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0" y="20200"/>
                </a:lnTo>
                <a:close/>
              </a:path>
              <a:path fill="lighten" w="27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0" h="21600">
                <a:moveTo>
                  <a:pt x="13500" y="3837"/>
                </a:moveTo>
                <a:lnTo>
                  <a:pt x="16076" y="6448"/>
                </a:lnTo>
                <a:lnTo>
                  <a:pt x="16076" y="4707"/>
                </a:lnTo>
                <a:lnTo>
                  <a:pt x="17852" y="4707"/>
                </a:lnTo>
                <a:lnTo>
                  <a:pt x="17852" y="8224"/>
                </a:lnTo>
                <a:lnTo>
                  <a:pt x="20463" y="10800"/>
                </a:lnTo>
                <a:lnTo>
                  <a:pt x="18809" y="10800"/>
                </a:lnTo>
                <a:lnTo>
                  <a:pt x="18809" y="17989"/>
                </a:lnTo>
                <a:lnTo>
                  <a:pt x="8191" y="17989"/>
                </a:lnTo>
                <a:lnTo>
                  <a:pt x="8191" y="10800"/>
                </a:lnTo>
                <a:lnTo>
                  <a:pt x="6537" y="10800"/>
                </a:lnTo>
                <a:close/>
              </a:path>
              <a:path fill="darkenLess" w="27000" h="21600">
                <a:moveTo>
                  <a:pt x="16076" y="6448"/>
                </a:moveTo>
                <a:lnTo>
                  <a:pt x="16076" y="4707"/>
                </a:lnTo>
                <a:lnTo>
                  <a:pt x="17852" y="4707"/>
                </a:lnTo>
                <a:lnTo>
                  <a:pt x="17852" y="8224"/>
                </a:lnTo>
                <a:close/>
              </a:path>
              <a:path fill="darkenLess" w="27000" h="21600">
                <a:moveTo>
                  <a:pt x="12577" y="14299"/>
                </a:moveTo>
                <a:lnTo>
                  <a:pt x="14423" y="14299"/>
                </a:lnTo>
                <a:lnTo>
                  <a:pt x="14423" y="17989"/>
                </a:lnTo>
                <a:lnTo>
                  <a:pt x="18809" y="17989"/>
                </a:lnTo>
                <a:lnTo>
                  <a:pt x="18809" y="10800"/>
                </a:lnTo>
                <a:lnTo>
                  <a:pt x="8191" y="10800"/>
                </a:lnTo>
                <a:lnTo>
                  <a:pt x="8191" y="17989"/>
                </a:lnTo>
                <a:lnTo>
                  <a:pt x="12577" y="17989"/>
                </a:lnTo>
                <a:close/>
              </a:path>
            </a:pathLst>
          </a:custGeom>
          <a:solidFill>
            <a:srgbClr val="eeb00b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4" name="AutoShape 8">
            <a:hlinkClick r:id="" action="ppaction://hlinkshowjump?jump=nextslide"/>
          </p:cNvPr>
          <p:cNvSpPr/>
          <p:nvPr/>
        </p:nvSpPr>
        <p:spPr>
          <a:xfrm>
            <a:off x="8229600" y="6324480"/>
            <a:ext cx="380880" cy="30492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6975" h="21600">
                <a:moveTo>
                  <a:pt x="0" y="0"/>
                </a:moveTo>
                <a:lnTo>
                  <a:pt x="26975" y="0"/>
                </a:lnTo>
                <a:lnTo>
                  <a:pt x="26975" y="21600"/>
                </a:lnTo>
                <a:lnTo>
                  <a:pt x="0" y="21600"/>
                </a:lnTo>
                <a:close/>
              </a:path>
              <a:path fill="lightenLess" w="26975" h="21600">
                <a:moveTo>
                  <a:pt x="0" y="0"/>
                </a:moveTo>
                <a:lnTo>
                  <a:pt x="26975" y="0"/>
                </a:lnTo>
                <a:lnTo>
                  <a:pt x="25575" y="1400"/>
                </a:lnTo>
                <a:lnTo>
                  <a:pt x="1400" y="1400"/>
                </a:lnTo>
                <a:close/>
              </a:path>
              <a:path fill="darken" w="26975" h="21600">
                <a:moveTo>
                  <a:pt x="26975" y="0"/>
                </a:moveTo>
                <a:lnTo>
                  <a:pt x="26975" y="21600"/>
                </a:lnTo>
                <a:lnTo>
                  <a:pt x="25575" y="20200"/>
                </a:lnTo>
                <a:lnTo>
                  <a:pt x="25575" y="1400"/>
                </a:lnTo>
                <a:close/>
              </a:path>
              <a:path fill="darkenLess" w="26975" h="21600">
                <a:moveTo>
                  <a:pt x="2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75" y="20200"/>
                </a:lnTo>
                <a:close/>
              </a:path>
              <a:path fill="lighten" w="2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75" h="21600">
                <a:moveTo>
                  <a:pt x="6481" y="3794"/>
                </a:moveTo>
                <a:lnTo>
                  <a:pt x="20494" y="10800"/>
                </a:lnTo>
                <a:lnTo>
                  <a:pt x="6481" y="17806"/>
                </a:lnTo>
                <a:close/>
              </a:path>
            </a:pathLst>
          </a:custGeom>
          <a:solidFill>
            <a:srgbClr val="eeb00b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5" name="Text Box 9"/>
          <p:cNvSpPr/>
          <p:nvPr/>
        </p:nvSpPr>
        <p:spPr>
          <a:xfrm>
            <a:off x="505440" y="1066680"/>
            <a:ext cx="109476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000000"/>
                </a:solidFill>
                <a:latin typeface="Times New Roman"/>
              </a:rPr>
              <a:t>你  真  棒！</a:t>
            </a:r>
            <a:endParaRPr b="0" lang="en-US" sz="6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6" name="AutoShape 10">
            <a:hlinkClick r:id="" action="ppaction://hlinkshowjump?jump=previousslide"/>
          </p:cNvPr>
          <p:cNvSpPr/>
          <p:nvPr/>
        </p:nvSpPr>
        <p:spPr>
          <a:xfrm>
            <a:off x="7924680" y="63244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eeb00b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Picture 4" descr="NA01441_"/>
          <p:cNvPicPr/>
          <p:nvPr/>
        </p:nvPicPr>
        <p:blipFill>
          <a:blip r:embed="rId1"/>
          <a:stretch/>
        </p:blipFill>
        <p:spPr>
          <a:xfrm>
            <a:off x="457200" y="1295280"/>
            <a:ext cx="3489480" cy="4953240"/>
          </a:xfrm>
          <a:prstGeom prst="rect">
            <a:avLst/>
          </a:prstGeom>
          <a:ln w="0">
            <a:noFill/>
          </a:ln>
        </p:spPr>
      </p:pic>
      <p:sp>
        <p:nvSpPr>
          <p:cNvPr id="268" name="Rectangle 6"/>
          <p:cNvSpPr/>
          <p:nvPr/>
        </p:nvSpPr>
        <p:spPr>
          <a:xfrm>
            <a:off x="1295280" y="3809880"/>
            <a:ext cx="5693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9" name="AutoShape 7">
            <a:hlinkClick r:id="" action="ppaction://hlinkshowjump?jump=firstslide"/>
          </p:cNvPr>
          <p:cNvSpPr/>
          <p:nvPr/>
        </p:nvSpPr>
        <p:spPr>
          <a:xfrm>
            <a:off x="8610480" y="6477120"/>
            <a:ext cx="533520" cy="38088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48" h="21600">
                <a:moveTo>
                  <a:pt x="0" y="0"/>
                </a:moveTo>
                <a:lnTo>
                  <a:pt x="30248" y="0"/>
                </a:lnTo>
                <a:lnTo>
                  <a:pt x="30248" y="21600"/>
                </a:lnTo>
                <a:lnTo>
                  <a:pt x="0" y="21600"/>
                </a:lnTo>
                <a:close/>
              </a:path>
              <a:path fill="lightenLess" w="30248" h="21600">
                <a:moveTo>
                  <a:pt x="0" y="0"/>
                </a:moveTo>
                <a:lnTo>
                  <a:pt x="30248" y="0"/>
                </a:lnTo>
                <a:lnTo>
                  <a:pt x="28848" y="1400"/>
                </a:lnTo>
                <a:lnTo>
                  <a:pt x="1400" y="1400"/>
                </a:lnTo>
                <a:close/>
              </a:path>
              <a:path fill="darken" w="30248" h="21600">
                <a:moveTo>
                  <a:pt x="30248" y="0"/>
                </a:moveTo>
                <a:lnTo>
                  <a:pt x="30248" y="21600"/>
                </a:lnTo>
                <a:lnTo>
                  <a:pt x="28848" y="20200"/>
                </a:lnTo>
                <a:lnTo>
                  <a:pt x="28848" y="1400"/>
                </a:lnTo>
                <a:close/>
              </a:path>
              <a:path fill="darkenLess" w="30248" h="21600">
                <a:moveTo>
                  <a:pt x="30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8" y="20200"/>
                </a:lnTo>
                <a:close/>
              </a:path>
              <a:path fill="lighten" w="30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8" h="21600">
                <a:moveTo>
                  <a:pt x="15124" y="3837"/>
                </a:moveTo>
                <a:lnTo>
                  <a:pt x="17700" y="6448"/>
                </a:lnTo>
                <a:lnTo>
                  <a:pt x="17700" y="4707"/>
                </a:lnTo>
                <a:lnTo>
                  <a:pt x="19476" y="4707"/>
                </a:lnTo>
                <a:lnTo>
                  <a:pt x="19476" y="8224"/>
                </a:lnTo>
                <a:lnTo>
                  <a:pt x="22087" y="10800"/>
                </a:lnTo>
                <a:lnTo>
                  <a:pt x="20433" y="10800"/>
                </a:lnTo>
                <a:lnTo>
                  <a:pt x="20433" y="17989"/>
                </a:lnTo>
                <a:lnTo>
                  <a:pt x="9815" y="17989"/>
                </a:lnTo>
                <a:lnTo>
                  <a:pt x="9815" y="10800"/>
                </a:lnTo>
                <a:lnTo>
                  <a:pt x="8161" y="10800"/>
                </a:lnTo>
                <a:close/>
              </a:path>
              <a:path fill="darkenLess" w="30248" h="21600">
                <a:moveTo>
                  <a:pt x="17700" y="6448"/>
                </a:moveTo>
                <a:lnTo>
                  <a:pt x="17700" y="4707"/>
                </a:lnTo>
                <a:lnTo>
                  <a:pt x="19476" y="4707"/>
                </a:lnTo>
                <a:lnTo>
                  <a:pt x="19476" y="8224"/>
                </a:lnTo>
                <a:close/>
              </a:path>
              <a:path fill="darkenLess" w="30248" h="21600">
                <a:moveTo>
                  <a:pt x="14201" y="14299"/>
                </a:moveTo>
                <a:lnTo>
                  <a:pt x="16047" y="14299"/>
                </a:lnTo>
                <a:lnTo>
                  <a:pt x="16047" y="17989"/>
                </a:lnTo>
                <a:lnTo>
                  <a:pt x="20433" y="17989"/>
                </a:lnTo>
                <a:lnTo>
                  <a:pt x="20433" y="10800"/>
                </a:lnTo>
                <a:lnTo>
                  <a:pt x="9815" y="10800"/>
                </a:lnTo>
                <a:lnTo>
                  <a:pt x="9815" y="17989"/>
                </a:lnTo>
                <a:lnTo>
                  <a:pt x="14201" y="17989"/>
                </a:lnTo>
                <a:close/>
              </a:path>
            </a:pathLst>
          </a:custGeom>
          <a:solidFill>
            <a:srgbClr val="eeb00b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0" name="AutoShape 8">
            <a:hlinkClick r:id="" action="ppaction://hlinkshowjump?jump=nextslide"/>
          </p:cNvPr>
          <p:cNvSpPr/>
          <p:nvPr/>
        </p:nvSpPr>
        <p:spPr>
          <a:xfrm>
            <a:off x="815328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3794"/>
                </a:moveTo>
                <a:lnTo>
                  <a:pt x="19969" y="10800"/>
                </a:lnTo>
                <a:lnTo>
                  <a:pt x="5956" y="17806"/>
                </a:lnTo>
                <a:close/>
              </a:path>
            </a:pathLst>
          </a:custGeom>
          <a:solidFill>
            <a:srgbClr val="eeb00b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1" name="AutoShape 9"/>
          <p:cNvSpPr/>
          <p:nvPr/>
        </p:nvSpPr>
        <p:spPr>
          <a:xfrm>
            <a:off x="3962520" y="380880"/>
            <a:ext cx="3124080" cy="1905120"/>
          </a:xfrm>
          <a:prstGeom prst="cloudCallout">
            <a:avLst>
              <a:gd name="adj1" fmla="val 42782"/>
              <a:gd name="adj2" fmla="val 73833"/>
            </a:avLst>
          </a:prstGeom>
          <a:solidFill>
            <a:srgbClr val="eaeaea"/>
          </a:solidFill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-"/>
              </a:rPr>
              <a:t>你还能举出例子说明地球爷爷是有手的吗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？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72" name="问题.wav" descr=""/>
          <p:cNvPicPr/>
          <p:nvPr/>
        </p:nvPicPr>
        <p:blipFill>
          <a:blip r:embed="rId2"/>
          <a:stretch/>
        </p:blipFill>
        <p:spPr>
          <a:xfrm>
            <a:off x="7848720" y="65530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12" descr="pic002"/>
          <p:cNvPicPr/>
          <p:nvPr/>
        </p:nvPicPr>
        <p:blipFill>
          <a:blip r:embed="rId3"/>
          <a:stretch/>
        </p:blipFill>
        <p:spPr>
          <a:xfrm>
            <a:off x="6095880" y="2997360"/>
            <a:ext cx="2459160" cy="2917800"/>
          </a:xfrm>
          <a:prstGeom prst="rect">
            <a:avLst/>
          </a:prstGeom>
          <a:ln w="0">
            <a:noFill/>
          </a:ln>
        </p:spPr>
      </p:pic>
      <p:pic>
        <p:nvPicPr>
          <p:cNvPr id="274" name="地球2.wav" descr=""/>
          <p:cNvPicPr/>
          <p:nvPr/>
        </p:nvPicPr>
        <p:blipFill>
          <a:blip r:embed="rId4"/>
          <a:stretch/>
        </p:blipFill>
        <p:spPr>
          <a:xfrm>
            <a:off x="784872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3" dur="1" fill="hold"/>
                                        <p:tgtEl>
                                          <p:spTgt spid="2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4" restart="whenNotActive" nodeType="interactiveSeq" fill="hold">
                <p:stCondLst>
                  <p:cond evt="onClick">
                    <p:tgtEl>
                      <p:spTgt spid="274"/>
                    </p:tgtEl>
                  </p:cond>
                </p:stCondLst>
                <p:childTnLst>
                  <p:par>
                    <p:cTn id="195" fill="hold">
                      <p:stCondLst>
                        <p:cond evt="onClick">
                          <p:tgtEl>
                            <p:spTgt spid="274"/>
                          </p:tgtEl>
                        </p:cond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8" dur="1" fill="hold"/>
                                        <p:tgtEl>
                                          <p:spTgt spid="2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66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Picture 2" descr="PE01981_"/>
          <p:cNvPicPr/>
          <p:nvPr/>
        </p:nvPicPr>
        <p:blipFill>
          <a:blip r:embed="rId1"/>
          <a:stretch/>
        </p:blipFill>
        <p:spPr>
          <a:xfrm>
            <a:off x="0" y="0"/>
            <a:ext cx="3363840" cy="346860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3" descr="PE01981_"/>
          <p:cNvPicPr/>
          <p:nvPr/>
        </p:nvPicPr>
        <p:blipFill>
          <a:blip r:embed="rId2"/>
          <a:stretch/>
        </p:blipFill>
        <p:spPr>
          <a:xfrm>
            <a:off x="1828800" y="609480"/>
            <a:ext cx="3363840" cy="346896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4" descr="PE01981_"/>
          <p:cNvPicPr/>
          <p:nvPr/>
        </p:nvPicPr>
        <p:blipFill>
          <a:blip r:embed="rId3"/>
          <a:stretch/>
        </p:blipFill>
        <p:spPr>
          <a:xfrm>
            <a:off x="3733920" y="1828800"/>
            <a:ext cx="3363840" cy="346860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5" descr="PE01981_"/>
          <p:cNvPicPr/>
          <p:nvPr/>
        </p:nvPicPr>
        <p:blipFill>
          <a:blip r:embed="rId4"/>
          <a:stretch/>
        </p:blipFill>
        <p:spPr>
          <a:xfrm>
            <a:off x="5780160" y="3389400"/>
            <a:ext cx="3363840" cy="3468600"/>
          </a:xfrm>
          <a:prstGeom prst="rect">
            <a:avLst/>
          </a:prstGeom>
          <a:ln w="0">
            <a:noFill/>
          </a:ln>
        </p:spPr>
      </p:pic>
      <p:sp>
        <p:nvSpPr>
          <p:cNvPr id="279" name="AutoShape 6">
            <a:hlinkClick r:id="" action="ppaction://hlinkshowjump?jump=firstslide"/>
          </p:cNvPr>
          <p:cNvSpPr/>
          <p:nvPr/>
        </p:nvSpPr>
        <p:spPr>
          <a:xfrm>
            <a:off x="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eeb00b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0" name="AutoShape 7">
            <a:hlinkClick r:id="" action="ppaction://hlinkshowjump?jump=previousslide"/>
          </p:cNvPr>
          <p:cNvSpPr/>
          <p:nvPr/>
        </p:nvSpPr>
        <p:spPr>
          <a:xfrm>
            <a:off x="380880" y="65530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eeb00b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1" name="文本框 8200"/>
          <p:cNvSpPr/>
          <p:nvPr/>
        </p:nvSpPr>
        <p:spPr>
          <a:xfrm>
            <a:off x="539640" y="4653000"/>
            <a:ext cx="4434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ff33cc"/>
                </a:solidFill>
                <a:uFillTx/>
                <a:latin typeface="Arial"/>
                <a:ea typeface="宋体"/>
                <a:hlinkClick r:id="rId5"/>
              </a:rPr>
              <a:t>免费ppt模板下载</a:t>
            </a:r>
            <a:r>
              <a:rPr b="0" lang="zh-CN" sz="1600" spc="-1" strike="noStrike">
                <a:solidFill>
                  <a:srgbClr val="eaeaea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eaeaea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0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05" dur="1" fill="hold">
                                    <p:stCondLst>
                                      <p:cond evt="end">
                                        <p:tn val="203"/>
                                      </p:cond>
                                    </p:stCondLst>
                                  </p:cTn>
                                  <p:tgtEl>
                                    <p:spTgt spid="27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500"/>
                            </p:stCondLst>
                            <p:childTnLst>
                              <p:par>
                                <p:cTn id="207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09" dur="1" fill="hold">
                                    <p:stCondLst>
                                      <p:cond evt="end">
                                        <p:tn val="207"/>
                                      </p:cond>
                                    </p:stCondLst>
                                  </p:cTn>
                                  <p:tgtEl>
                                    <p:spTgt spid="27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1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13" dur="1" fill="hold">
                                    <p:stCondLst>
                                      <p:cond evt="end">
                                        <p:tn val="211"/>
                                      </p:cond>
                                    </p:stCondLst>
                                  </p:cTn>
                                  <p:tgtEl>
                                    <p:spTgt spid="27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1500"/>
                            </p:stCondLst>
                            <p:childTnLst>
                              <p:par>
                                <p:cTn id="215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8T08:33:08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1-24T03:32:07Z</dcterms:modified>
  <cp:revision>44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58</vt:lpwstr>
  </property>
</Properties>
</file>