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94B-9C4F-45E8-868A-12E9FDAB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E54-A3F3-4676-9A97-02A2FD33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B01-6E6F-45E9-A115-305E0670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A7E-C9E6-4189-ACBE-750680F7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9C95-1AAA-4C37-9AD7-931A3E80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5A34-C8AC-45EB-8934-86A1667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71DB-56BA-473B-8FA1-F1A57E12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7066-E846-4664-B4CF-43DDA8AD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0F4B-6D19-4FFD-AB9F-B97DB8F4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691-03DE-434E-A5D5-283CD56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E70F-690D-4A2A-96C8-8BCC196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7AB-AC27-4FFD-B055-6F713F1E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4DC-4FFA-48AB-8E42-48EC46F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EA9-F0AA-49E4-875A-460C223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EF12-4185-4F37-97AB-B52716D4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C774-F2DD-4034-938B-BDB24E0B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D841-382D-41E7-81BF-1FB49342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85C-70DF-46A3-867D-63B9A187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876-B310-4671-A117-A3E57AF3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F57-A228-49DA-A4FC-171D4DB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54B-54D2-4FCF-90C7-B047ABB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D8B-B024-496D-8243-E2B7833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351-C5BF-419D-AA70-3BF261E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DC1-F22C-4CC3-A2A5-96FE95D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45B-B77C-4147-9518-23AA488B3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CC7-A188-46A5-8550-4C419DEB68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AF4F-C404-417E-8D9D-DDE3AB3871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60560" y="148428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动态扁平化毕业答辩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180"/>
                            </p:stCondLst>
                            <p:childTnLst>
                              <p:par>
                                <p:cTn id="3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80"/>
                            </p:stCondLst>
                            <p:childTnLst>
                              <p:par>
                                <p:cTn id="4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499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0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50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51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515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518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0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52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523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524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527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9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3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541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4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54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55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556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557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560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56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566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569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71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63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63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58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58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588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591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3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59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596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597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600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2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603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0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23"/>
          <p:cNvGrpSpPr/>
          <p:nvPr/>
        </p:nvGrpSpPr>
        <p:grpSpPr>
          <a:xfrm>
            <a:off x="2386800" y="2075040"/>
            <a:ext cx="4537440" cy="498600"/>
            <a:chOff x="2386800" y="2075040"/>
            <a:chExt cx="4537440" cy="498600"/>
          </a:xfrm>
        </p:grpSpPr>
        <p:cxnSp>
          <p:nvCxnSpPr>
            <p:cNvPr id="611" name="AutoShape 20"/>
            <p:cNvCxnSpPr/>
            <p:nvPr/>
          </p:nvCxnSpPr>
          <p:spPr>
            <a:xfrm flipH="1">
              <a:off x="2386800" y="2075040"/>
              <a:ext cx="572760" cy="49896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612" name="AutoShape 21"/>
            <p:cNvCxnSpPr/>
            <p:nvPr/>
          </p:nvCxnSpPr>
          <p:spPr>
            <a:xfrm>
              <a:off x="2942280" y="2075040"/>
              <a:ext cx="1698120" cy="49896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613" name="AutoShape 22"/>
            <p:cNvCxnSpPr/>
            <p:nvPr/>
          </p:nvCxnSpPr>
          <p:spPr>
            <a:xfrm>
              <a:off x="2943360" y="2075040"/>
              <a:ext cx="3981240" cy="49896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614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617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621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2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23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624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628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9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631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635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3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4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645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646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649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655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658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60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661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6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669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694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/>
              <a:ahLst/>
              <a:rect l="l" t="t" r="r" b="b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699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/>
              <a:ahLst/>
              <a:rect l="l" t="t" r="r" b="b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704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729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730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/>
                <a:ahLst/>
                <a:rect l="l" t="t" r="r" b="b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734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759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762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/>
              <a:ahLst/>
              <a:rect l="l" t="t" r="r" b="b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767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770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773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774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/>
                <a:ahLst/>
                <a:rect l="l" t="t" r="r" b="b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778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779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/>
                <a:ahLst/>
                <a:rect l="l" t="t" r="r" b="b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845320" y="3719520"/>
            <a:ext cx="2361960" cy="360"/>
            <a:chOff x="5845320" y="3719520"/>
            <a:chExt cx="2361960" cy="360"/>
          </a:xfrm>
        </p:grpSpPr>
        <p:sp>
          <p:nvSpPr>
            <p:cNvPr id="787" name="Line 141"/>
            <p:cNvSpPr/>
            <p:nvPr/>
          </p:nvSpPr>
          <p:spPr>
            <a:xfrm>
              <a:off x="5845320" y="3719520"/>
              <a:ext cx="23619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5845320" y="371952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9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9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798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801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3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0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807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810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12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813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1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821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822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/>
                <a:ahLst/>
                <a:rect l="l" t="t" r="r" b="b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/>
                <a:ahLst/>
                <a:rect l="l" t="t" r="r" b="b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/>
                <a:ahLst/>
                <a:rect l="l" t="t" r="r" b="b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/>
                <a:ahLst/>
                <a:rect l="l" t="t" r="r" b="b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/>
                <a:ahLst/>
                <a:rect l="l" t="t" r="r" b="b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/>
              <a:ahLst/>
              <a:rect l="l" t="t" r="r" b="b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/>
              <a:ahLst/>
              <a:rect l="l" t="t" r="r" b="b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/>
              <a:ahLst/>
              <a:rect l="l" t="t" r="r" b="b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/>
              <a:ahLst/>
              <a:rect l="l" t="t" r="r" b="b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/>
              <a:ahLst/>
              <a:rect l="l" t="t" r="r" b="b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/>
              <a:ahLst/>
              <a:rect l="l" t="t" r="r" b="b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/>
              <a:ahLst/>
              <a:rect l="l" t="t" r="r" b="b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/>
              <a:ahLst/>
              <a:rect l="l" t="t" r="r" b="b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/>
              <a:ahLst/>
              <a:rect l="l" t="t" r="r" b="b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/>
              <a:ahLst/>
              <a:rect l="l" t="t" r="r" b="b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/>
              <a:ahLst/>
              <a:rect l="l" t="t" r="r" b="b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/>
              <a:ahLst/>
              <a:rect l="l" t="t" r="r" b="b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/>
              <a:ahLst/>
              <a:rect l="l" t="t" r="r" b="b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/>
              <a:ahLst/>
              <a:rect l="l" t="t" r="r" b="b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/>
              <a:ahLst/>
              <a:rect l="l" t="t" r="r" b="b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/>
              <a:ahLst/>
              <a:rect l="l" t="t" r="r" b="b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/>
              <a:ahLst/>
              <a:rect l="l" t="t" r="r" b="b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/>
              <a:ahLst/>
              <a:rect l="l" t="t" r="r" b="b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/>
              <a:ahLst/>
              <a:rect l="l" t="t" r="r" b="b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/>
              <a:ahLst/>
              <a:rect l="l" t="t" r="r" b="b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/>
              <a:ahLst/>
              <a:rect l="l" t="t" r="r" b="b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/>
              <a:ahLst/>
              <a:rect l="l" t="t" r="r" b="b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853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/>
              <a:ahLst/>
              <a:rect l="l" t="t" r="r" b="b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/>
              <a:ahLst/>
              <a:rect l="l" t="t" r="r" b="b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/>
              <a:ahLst/>
              <a:rect l="l" t="t" r="r" b="b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/>
              <a:ahLst/>
              <a:rect l="l" t="t" r="r" b="b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/>
              <a:ahLst/>
              <a:rect l="l" t="t" r="r" b="b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862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7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880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881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884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8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889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890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893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95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896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23"/>
          <p:cNvGrpSpPr/>
          <p:nvPr/>
        </p:nvGrpSpPr>
        <p:grpSpPr>
          <a:xfrm>
            <a:off x="2313720" y="2145960"/>
            <a:ext cx="4537440" cy="498960"/>
            <a:chOff x="2313720" y="2145960"/>
            <a:chExt cx="4537440" cy="498960"/>
          </a:xfrm>
        </p:grpSpPr>
        <p:cxnSp>
          <p:nvCxnSpPr>
            <p:cNvPr id="904" name="AutoShape 20"/>
            <p:cNvCxnSpPr/>
            <p:nvPr/>
          </p:nvCxnSpPr>
          <p:spPr>
            <a:xfrm flipH="1">
              <a:off x="2313720" y="2145960"/>
              <a:ext cx="572760" cy="49932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905" name="AutoShape 21"/>
            <p:cNvCxnSpPr/>
            <p:nvPr/>
          </p:nvCxnSpPr>
          <p:spPr>
            <a:xfrm>
              <a:off x="2869200" y="2145960"/>
              <a:ext cx="1698120" cy="49932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906" name="AutoShape 22"/>
            <p:cNvCxnSpPr/>
            <p:nvPr/>
          </p:nvCxnSpPr>
          <p:spPr>
            <a:xfrm>
              <a:off x="2870280" y="2145960"/>
              <a:ext cx="3981240" cy="49932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907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910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914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5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16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917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921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2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23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924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928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9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3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3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938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939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942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4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947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948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951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53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954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5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962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KMA1D1FEAF"/>
            <p:cNvSpPr/>
            <p:nvPr/>
          </p:nvSpPr>
          <p:spPr>
            <a:xfrm rot="3600000">
              <a:off x="5171400" y="37422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965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KMA1D1FEAF"/>
            <p:cNvSpPr/>
            <p:nvPr/>
          </p:nvSpPr>
          <p:spPr>
            <a:xfrm rot="18000000">
              <a:off x="3606120" y="338976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968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971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975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979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990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991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994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9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000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003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05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006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1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grpSp>
          <p:nvGrpSpPr>
            <p:cNvPr id="1014" name=""/>
            <p:cNvGrpSpPr/>
            <p:nvPr/>
          </p:nvGrpSpPr>
          <p:grpSpPr>
            <a:xfrm>
              <a:off x="5955840" y="1767960"/>
              <a:ext cx="456840" cy="609480"/>
              <a:chOff x="5955840" y="1767960"/>
              <a:chExt cx="456840" cy="609480"/>
            </a:xfrm>
          </p:grpSpPr>
          <p:sp>
            <p:nvSpPr>
              <p:cNvPr id="1015" name="Line 24"/>
              <p:cNvSpPr/>
              <p:nvPr/>
            </p:nvSpPr>
            <p:spPr>
              <a:xfrm flipH="1" flipV="1">
                <a:off x="5955840" y="1767960"/>
                <a:ext cx="456840" cy="609480"/>
              </a:xfrm>
              <a:prstGeom prst="line">
                <a:avLst/>
              </a:prstGeom>
              <a:ln w="19080">
                <a:solidFill>
                  <a:srgbClr val="fe7f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 rot="10800000">
                <a:off x="5955840" y="1767960"/>
                <a:ext cx="4568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3671640" y="1767960"/>
              <a:ext cx="2284200" cy="360"/>
              <a:chOff x="3671640" y="1767960"/>
              <a:chExt cx="2284200" cy="360"/>
            </a:xfrm>
          </p:grpSpPr>
          <p:sp>
            <p:nvSpPr>
              <p:cNvPr id="1018" name="Line 25"/>
              <p:cNvSpPr/>
              <p:nvPr/>
            </p:nvSpPr>
            <p:spPr>
              <a:xfrm flipH="1">
                <a:off x="3671640" y="1768320"/>
                <a:ext cx="2284200" cy="0"/>
              </a:xfrm>
              <a:prstGeom prst="line">
                <a:avLst/>
              </a:prstGeom>
              <a:ln w="19080">
                <a:solidFill>
                  <a:srgbClr val="fe7f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 rot="10800000">
                <a:off x="3671640" y="1767960"/>
                <a:ext cx="2284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0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grpSp>
          <p:nvGrpSpPr>
            <p:cNvPr id="1023" name=""/>
            <p:cNvGrpSpPr/>
            <p:nvPr/>
          </p:nvGrpSpPr>
          <p:grpSpPr>
            <a:xfrm>
              <a:off x="5546880" y="2334960"/>
              <a:ext cx="457200" cy="609480"/>
              <a:chOff x="5546880" y="2334960"/>
              <a:chExt cx="457200" cy="609480"/>
            </a:xfrm>
          </p:grpSpPr>
          <p:sp>
            <p:nvSpPr>
              <p:cNvPr id="1024" name="Line 29"/>
              <p:cNvSpPr/>
              <p:nvPr/>
            </p:nvSpPr>
            <p:spPr>
              <a:xfrm flipH="1" flipV="1">
                <a:off x="5546880" y="2334960"/>
                <a:ext cx="457200" cy="609480"/>
              </a:xfrm>
              <a:prstGeom prst="line">
                <a:avLst/>
              </a:prstGeom>
              <a:ln w="19080">
                <a:solidFill>
                  <a:srgbClr val="fe7f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 txBox="1"/>
              <p:nvPr/>
            </p:nvSpPr>
            <p:spPr>
              <a:xfrm rot="10800000">
                <a:off x="5546880" y="233496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3262320" y="2334960"/>
              <a:ext cx="2284560" cy="360"/>
              <a:chOff x="3262320" y="2334960"/>
              <a:chExt cx="2284560" cy="360"/>
            </a:xfrm>
          </p:grpSpPr>
          <p:sp>
            <p:nvSpPr>
              <p:cNvPr id="1027" name="Line 30"/>
              <p:cNvSpPr/>
              <p:nvPr/>
            </p:nvSpPr>
            <p:spPr>
              <a:xfrm flipH="1">
                <a:off x="3262320" y="2335320"/>
                <a:ext cx="2284560" cy="0"/>
              </a:xfrm>
              <a:prstGeom prst="line">
                <a:avLst/>
              </a:prstGeom>
              <a:ln w="19080">
                <a:solidFill>
                  <a:srgbClr val="fe7f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 txBox="1"/>
              <p:nvPr/>
            </p:nvSpPr>
            <p:spPr>
              <a:xfrm rot="10800000">
                <a:off x="3262320" y="2334960"/>
                <a:ext cx="228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9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grpSp>
          <p:nvGrpSpPr>
            <p:cNvPr id="1032" name=""/>
            <p:cNvGrpSpPr/>
            <p:nvPr/>
          </p:nvGrpSpPr>
          <p:grpSpPr>
            <a:xfrm>
              <a:off x="5546880" y="3616920"/>
              <a:ext cx="457200" cy="609480"/>
              <a:chOff x="5546880" y="3616920"/>
              <a:chExt cx="457200" cy="609480"/>
            </a:xfrm>
          </p:grpSpPr>
          <p:sp>
            <p:nvSpPr>
              <p:cNvPr id="1033" name="Line 34"/>
              <p:cNvSpPr/>
              <p:nvPr/>
            </p:nvSpPr>
            <p:spPr>
              <a:xfrm flipH="1">
                <a:off x="5546880" y="3616920"/>
                <a:ext cx="457200" cy="609480"/>
              </a:xfrm>
              <a:prstGeom prst="line">
                <a:avLst/>
              </a:prstGeom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>
                <a:off x="5546880" y="3616920"/>
                <a:ext cx="45720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3262320" y="4226040"/>
              <a:ext cx="2284560" cy="360"/>
              <a:chOff x="3262320" y="4226040"/>
              <a:chExt cx="2284560" cy="360"/>
            </a:xfrm>
          </p:grpSpPr>
          <p:sp>
            <p:nvSpPr>
              <p:cNvPr id="1036" name="Line 35"/>
              <p:cNvSpPr/>
              <p:nvPr/>
            </p:nvSpPr>
            <p:spPr>
              <a:xfrm flipH="1">
                <a:off x="3262320" y="4226040"/>
                <a:ext cx="2284560" cy="0"/>
              </a:xfrm>
              <a:prstGeom prst="line">
                <a:avLst/>
              </a:prstGeom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 txBox="1"/>
              <p:nvPr/>
            </p:nvSpPr>
            <p:spPr>
              <a:xfrm>
                <a:off x="3262320" y="4226040"/>
                <a:ext cx="228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8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grpSp>
          <p:nvGrpSpPr>
            <p:cNvPr id="1041" name=""/>
            <p:cNvGrpSpPr/>
            <p:nvPr/>
          </p:nvGrpSpPr>
          <p:grpSpPr>
            <a:xfrm>
              <a:off x="5955840" y="4130640"/>
              <a:ext cx="456840" cy="609480"/>
              <a:chOff x="5955840" y="4130640"/>
              <a:chExt cx="456840" cy="609480"/>
            </a:xfrm>
          </p:grpSpPr>
          <p:sp>
            <p:nvSpPr>
              <p:cNvPr id="1042" name="Line 39"/>
              <p:cNvSpPr/>
              <p:nvPr/>
            </p:nvSpPr>
            <p:spPr>
              <a:xfrm flipH="1">
                <a:off x="5955840" y="4130640"/>
                <a:ext cx="456840" cy="609480"/>
              </a:xfrm>
              <a:prstGeom prst="line">
                <a:avLst/>
              </a:prstGeom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>
                <a:off x="5955840" y="4130640"/>
                <a:ext cx="4568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3671640" y="4739760"/>
              <a:ext cx="2284200" cy="360"/>
              <a:chOff x="3671640" y="4739760"/>
              <a:chExt cx="2284200" cy="360"/>
            </a:xfrm>
          </p:grpSpPr>
          <p:sp>
            <p:nvSpPr>
              <p:cNvPr id="1045" name="Line 40"/>
              <p:cNvSpPr/>
              <p:nvPr/>
            </p:nvSpPr>
            <p:spPr>
              <a:xfrm flipH="1">
                <a:off x="3671640" y="4739760"/>
                <a:ext cx="2284200" cy="0"/>
              </a:xfrm>
              <a:prstGeom prst="line">
                <a:avLst/>
              </a:prstGeom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3671640" y="4739760"/>
                <a:ext cx="2284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5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9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060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061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064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6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069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070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073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75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076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8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549360" y="3465360"/>
            <a:ext cx="2274840" cy="360"/>
            <a:chOff x="549360" y="3465360"/>
            <a:chExt cx="2274840" cy="360"/>
          </a:xfrm>
        </p:grpSpPr>
        <p:sp>
          <p:nvSpPr>
            <p:cNvPr id="1088" name="Line 27"/>
            <p:cNvSpPr/>
            <p:nvPr/>
          </p:nvSpPr>
          <p:spPr>
            <a:xfrm>
              <a:off x="549360" y="3465360"/>
              <a:ext cx="22748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549360" y="3465360"/>
              <a:ext cx="227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3495600" y="2932200"/>
            <a:ext cx="2274840" cy="360"/>
            <a:chOff x="3495600" y="2932200"/>
            <a:chExt cx="2274840" cy="360"/>
          </a:xfrm>
        </p:grpSpPr>
        <p:sp>
          <p:nvSpPr>
            <p:cNvPr id="1095" name="Line 32"/>
            <p:cNvSpPr/>
            <p:nvPr/>
          </p:nvSpPr>
          <p:spPr>
            <a:xfrm>
              <a:off x="3495600" y="2932200"/>
              <a:ext cx="227484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3495600" y="2932200"/>
              <a:ext cx="227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6429240" y="3465360"/>
            <a:ext cx="2275200" cy="360"/>
            <a:chOff x="6429240" y="3465360"/>
            <a:chExt cx="2275200" cy="360"/>
          </a:xfrm>
        </p:grpSpPr>
        <p:sp>
          <p:nvSpPr>
            <p:cNvPr id="1102" name="Line 37"/>
            <p:cNvSpPr/>
            <p:nvPr/>
          </p:nvSpPr>
          <p:spPr>
            <a:xfrm>
              <a:off x="6429240" y="3465360"/>
              <a:ext cx="2275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6429240" y="3465360"/>
              <a:ext cx="227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0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112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113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5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116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121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122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125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27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128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1136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1141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1144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93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100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102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/>
                <a:ahLst/>
                <a:rect l="l" t="t" r="r" b="b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106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/>
              <a:ahLst/>
              <a:rect l="l" t="t" r="r" b="b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110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/>
              <a:ahLst/>
              <a:rect l="l" t="t" r="r" b="b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114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/>
              <a:ahLst/>
              <a:rect l="l" t="t" r="r" b="b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2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25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28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34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37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9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140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5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155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156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159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164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165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7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168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70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171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7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698400" y="5070600"/>
            <a:ext cx="7921800" cy="360"/>
            <a:chOff x="698400" y="5070600"/>
            <a:chExt cx="7921800" cy="360"/>
          </a:xfrm>
        </p:grpSpPr>
        <p:sp>
          <p:nvSpPr>
            <p:cNvPr id="1179" name="Line 23"/>
            <p:cNvSpPr/>
            <p:nvPr/>
          </p:nvSpPr>
          <p:spPr>
            <a:xfrm>
              <a:off x="698400" y="5070600"/>
              <a:ext cx="7921800" cy="0"/>
            </a:xfrm>
            <a:prstGeom prst="line">
              <a:avLst/>
            </a:prstGeom>
            <a:ln w="12600">
              <a:solidFill>
                <a:srgbClr val="00808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698400" y="5070600"/>
              <a:ext cx="792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1076040" y="2176560"/>
            <a:ext cx="360" cy="3117600"/>
            <a:chOff x="1076040" y="2176560"/>
            <a:chExt cx="360" cy="3117600"/>
          </a:xfrm>
        </p:grpSpPr>
        <p:sp>
          <p:nvSpPr>
            <p:cNvPr id="1182" name="Line 24"/>
            <p:cNvSpPr/>
            <p:nvPr/>
          </p:nvSpPr>
          <p:spPr>
            <a:xfrm flipV="1">
              <a:off x="1076400" y="2176560"/>
              <a:ext cx="0" cy="3117600"/>
            </a:xfrm>
            <a:prstGeom prst="line">
              <a:avLst/>
            </a:prstGeom>
            <a:ln w="12600">
              <a:solidFill>
                <a:srgbClr val="00808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5400000">
              <a:off x="-482400" y="3735000"/>
              <a:ext cx="311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9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9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199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200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203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0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20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208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209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212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4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215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21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1223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81" y="0"/>
                  </a:lnTo>
                  <a:lnTo>
                    <a:pt x="21600" y="10800"/>
                  </a:lnTo>
                  <a:lnTo>
                    <a:pt x="133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1226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5" y="0"/>
                  </a:lnTo>
                  <a:lnTo>
                    <a:pt x="21600" y="10800"/>
                  </a:lnTo>
                  <a:lnTo>
                    <a:pt x="1723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741760" y="2806560"/>
            <a:ext cx="1301760" cy="360"/>
            <a:chOff x="2741760" y="2806560"/>
            <a:chExt cx="1301760" cy="360"/>
          </a:xfrm>
        </p:grpSpPr>
        <p:sp>
          <p:nvSpPr>
            <p:cNvPr id="1229" name="Line 29"/>
            <p:cNvSpPr/>
            <p:nvPr/>
          </p:nvSpPr>
          <p:spPr>
            <a:xfrm flipH="1">
              <a:off x="2741760" y="2806560"/>
              <a:ext cx="1301760" cy="0"/>
            </a:xfrm>
            <a:prstGeom prst="line">
              <a:avLst/>
            </a:prstGeom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2741760" y="2806560"/>
              <a:ext cx="130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1020600" y="3419640"/>
            <a:ext cx="2362320" cy="360"/>
            <a:chOff x="1020600" y="3419640"/>
            <a:chExt cx="2362320" cy="360"/>
          </a:xfrm>
        </p:grpSpPr>
        <p:sp>
          <p:nvSpPr>
            <p:cNvPr id="1235" name="Line 33"/>
            <p:cNvSpPr/>
            <p:nvPr/>
          </p:nvSpPr>
          <p:spPr>
            <a:xfrm>
              <a:off x="1020600" y="341964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 txBox="1"/>
            <p:nvPr/>
          </p:nvSpPr>
          <p:spPr>
            <a:xfrm>
              <a:off x="1020600" y="341964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775480" y="3419640"/>
            <a:ext cx="2361960" cy="360"/>
            <a:chOff x="5775480" y="3419640"/>
            <a:chExt cx="2361960" cy="360"/>
          </a:xfrm>
        </p:grpSpPr>
        <p:sp>
          <p:nvSpPr>
            <p:cNvPr id="1241" name="Line 37"/>
            <p:cNvSpPr/>
            <p:nvPr/>
          </p:nvSpPr>
          <p:spPr>
            <a:xfrm>
              <a:off x="5775480" y="3419640"/>
              <a:ext cx="23619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5775480" y="341964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154480" y="4175280"/>
            <a:ext cx="1162080" cy="360"/>
            <a:chOff x="5154480" y="4175280"/>
            <a:chExt cx="1162080" cy="360"/>
          </a:xfrm>
        </p:grpSpPr>
        <p:sp>
          <p:nvSpPr>
            <p:cNvPr id="1244" name="Line 38"/>
            <p:cNvSpPr/>
            <p:nvPr/>
          </p:nvSpPr>
          <p:spPr>
            <a:xfrm flipH="1">
              <a:off x="5154480" y="4175280"/>
              <a:ext cx="1162080" cy="0"/>
            </a:xfrm>
            <a:prstGeom prst="line">
              <a:avLst/>
            </a:prstGeom>
            <a:ln w="1908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 txBox="1"/>
            <p:nvPr/>
          </p:nvSpPr>
          <p:spPr>
            <a:xfrm>
              <a:off x="5154480" y="4175280"/>
              <a:ext cx="1162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2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2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254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255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7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258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26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263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264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267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69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270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27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23"/>
          <p:cNvGrpSpPr/>
          <p:nvPr/>
        </p:nvGrpSpPr>
        <p:grpSpPr>
          <a:xfrm>
            <a:off x="1676160" y="4403520"/>
            <a:ext cx="5866200" cy="229320"/>
            <a:chOff x="1676160" y="4403520"/>
            <a:chExt cx="5866200" cy="229320"/>
          </a:xfrm>
        </p:grpSpPr>
        <p:grpSp>
          <p:nvGrpSpPr>
            <p:cNvPr id="1278" name=""/>
            <p:cNvGrpSpPr/>
            <p:nvPr/>
          </p:nvGrpSpPr>
          <p:grpSpPr>
            <a:xfrm>
              <a:off x="1676520" y="4632480"/>
              <a:ext cx="5865840" cy="360"/>
              <a:chOff x="1676520" y="4632480"/>
              <a:chExt cx="5865840" cy="360"/>
            </a:xfrm>
          </p:grpSpPr>
          <p:sp>
            <p:nvSpPr>
              <p:cNvPr id="1279" name="Line 24"/>
              <p:cNvSpPr/>
              <p:nvPr/>
            </p:nvSpPr>
            <p:spPr>
              <a:xfrm>
                <a:off x="1676520" y="4632480"/>
                <a:ext cx="5865840" cy="0"/>
              </a:xfrm>
              <a:prstGeom prst="line">
                <a:avLst/>
              </a:prstGeom>
              <a:ln w="1908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1676520" y="4632480"/>
                <a:ext cx="586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1676160" y="4403520"/>
              <a:ext cx="360" cy="228600"/>
              <a:chOff x="1676160" y="4403520"/>
              <a:chExt cx="360" cy="228600"/>
            </a:xfrm>
          </p:grpSpPr>
          <p:sp>
            <p:nvSpPr>
              <p:cNvPr id="1282" name="Line 25"/>
              <p:cNvSpPr/>
              <p:nvPr/>
            </p:nvSpPr>
            <p:spPr>
              <a:xfrm flipV="1">
                <a:off x="1676520" y="4403520"/>
                <a:ext cx="0" cy="228600"/>
              </a:xfrm>
              <a:prstGeom prst="line">
                <a:avLst/>
              </a:prstGeom>
              <a:ln w="1908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 txBox="1"/>
              <p:nvPr/>
            </p:nvSpPr>
            <p:spPr>
              <a:xfrm rot="10800000">
                <a:off x="1676160" y="4403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7542000" y="4403520"/>
              <a:ext cx="360" cy="228600"/>
              <a:chOff x="7542000" y="4403520"/>
              <a:chExt cx="360" cy="228600"/>
            </a:xfrm>
          </p:grpSpPr>
          <p:sp>
            <p:nvSpPr>
              <p:cNvPr id="1285" name="Line 26"/>
              <p:cNvSpPr/>
              <p:nvPr/>
            </p:nvSpPr>
            <p:spPr>
              <a:xfrm flipV="1">
                <a:off x="7542360" y="4403520"/>
                <a:ext cx="0" cy="228600"/>
              </a:xfrm>
              <a:prstGeom prst="line">
                <a:avLst/>
              </a:prstGeom>
              <a:ln w="1908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 rot="10800000">
                <a:off x="7542000" y="4403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3630240" y="4403520"/>
              <a:ext cx="360" cy="228600"/>
              <a:chOff x="3630240" y="4403520"/>
              <a:chExt cx="360" cy="228600"/>
            </a:xfrm>
          </p:grpSpPr>
          <p:sp>
            <p:nvSpPr>
              <p:cNvPr id="1288" name="Line 27"/>
              <p:cNvSpPr/>
              <p:nvPr/>
            </p:nvSpPr>
            <p:spPr>
              <a:xfrm flipV="1">
                <a:off x="3630600" y="4403520"/>
                <a:ext cx="0" cy="228600"/>
              </a:xfrm>
              <a:prstGeom prst="line">
                <a:avLst/>
              </a:prstGeom>
              <a:ln w="1908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 rot="10800000">
                <a:off x="3630240" y="4403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5586120" y="4403520"/>
              <a:ext cx="360" cy="228600"/>
              <a:chOff x="5586120" y="4403520"/>
              <a:chExt cx="360" cy="228600"/>
            </a:xfrm>
          </p:grpSpPr>
          <p:sp>
            <p:nvSpPr>
              <p:cNvPr id="1291" name="Line 28"/>
              <p:cNvSpPr/>
              <p:nvPr/>
            </p:nvSpPr>
            <p:spPr>
              <a:xfrm flipV="1">
                <a:off x="5586480" y="4403520"/>
                <a:ext cx="0" cy="228600"/>
              </a:xfrm>
              <a:prstGeom prst="line">
                <a:avLst/>
              </a:prstGeom>
              <a:ln w="1908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 rot="10800000">
                <a:off x="5586120" y="44035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3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314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6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317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3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322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323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326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28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329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4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34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9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350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351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354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3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359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360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363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65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366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3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390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2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393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9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39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398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399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402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4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405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40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49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49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419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422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4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4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437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438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441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4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446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447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9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450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52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4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473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474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477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7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8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483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486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88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489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49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9" y="0"/>
                </a:lnTo>
                <a:lnTo>
                  <a:pt x="21600" y="10800"/>
                </a:lnTo>
                <a:lnTo>
                  <a:pt x="10259" y="21600"/>
                </a:lnTo>
                <a:lnTo>
                  <a:pt x="0" y="21600"/>
                </a:lnTo>
                <a:lnTo>
                  <a:pt x="11341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267A-68DA-4DE8-AE89-AE5A3BBB20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51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51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519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520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523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5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528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529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532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34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535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53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Group 25"/>
          <p:cNvGrpSpPr/>
          <p:nvPr/>
        </p:nvGrpSpPr>
        <p:grpSpPr>
          <a:xfrm>
            <a:off x="3688200" y="1628280"/>
            <a:ext cx="2856240" cy="2811240"/>
            <a:chOff x="3688200" y="1628280"/>
            <a:chExt cx="2856240" cy="2811240"/>
          </a:xfrm>
        </p:grpSpPr>
        <p:grpSp>
          <p:nvGrpSpPr>
            <p:cNvPr id="1545" name="Group 26"/>
            <p:cNvGrpSpPr/>
            <p:nvPr/>
          </p:nvGrpSpPr>
          <p:grpSpPr>
            <a:xfrm>
              <a:off x="4724280" y="2591280"/>
              <a:ext cx="1820160" cy="1848240"/>
              <a:chOff x="4724280" y="2591280"/>
              <a:chExt cx="1820160" cy="1848240"/>
            </a:xfrm>
          </p:grpSpPr>
          <p:sp>
            <p:nvSpPr>
              <p:cNvPr id="1546" name="Freeform 20"/>
              <p:cNvSpPr/>
              <p:nvPr/>
            </p:nvSpPr>
            <p:spPr>
              <a:xfrm rot="18766800">
                <a:off x="4820760" y="289944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21"/>
              <p:cNvSpPr/>
              <p:nvPr/>
            </p:nvSpPr>
            <p:spPr>
              <a:xfrm rot="18766800">
                <a:off x="4991400" y="336816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22"/>
              <p:cNvSpPr/>
              <p:nvPr/>
            </p:nvSpPr>
            <p:spPr>
              <a:xfrm rot="18766800">
                <a:off x="5029560" y="341748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WordArt 23"/>
              <p:cNvSpPr txBox="1"/>
              <p:nvPr/>
            </p:nvSpPr>
            <p:spPr>
              <a:xfrm rot="18766800">
                <a:off x="5189760" y="354636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550" name="Rectangle 24"/>
            <p:cNvSpPr/>
            <p:nvPr/>
          </p:nvSpPr>
          <p:spPr>
            <a:xfrm rot="18766800">
              <a:off x="3873960" y="2021400"/>
              <a:ext cx="159840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55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55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55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0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dur="indefinite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dur="indefinite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5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55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dur="indefinite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46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162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165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6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171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174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76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79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84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89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192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208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211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217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220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2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223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227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231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235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240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4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4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256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259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1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265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268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0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53920" y="3421080"/>
            <a:ext cx="2024280" cy="360"/>
            <a:chOff x="853920" y="3421080"/>
            <a:chExt cx="2024280" cy="360"/>
          </a:xfrm>
        </p:grpSpPr>
        <p:sp>
          <p:nvSpPr>
            <p:cNvPr id="275" name="Line 27"/>
            <p:cNvSpPr/>
            <p:nvPr/>
          </p:nvSpPr>
          <p:spPr>
            <a:xfrm>
              <a:off x="853920" y="3421080"/>
              <a:ext cx="202428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853920" y="3421080"/>
              <a:ext cx="20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6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287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91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9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0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303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306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0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312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315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7" name="Group 23"/>
          <p:cNvGrpSpPr/>
          <p:nvPr/>
        </p:nvGrpSpPr>
        <p:grpSpPr>
          <a:xfrm>
            <a:off x="3093840" y="1379160"/>
            <a:ext cx="2954160" cy="2718720"/>
            <a:chOff x="3093840" y="1379160"/>
            <a:chExt cx="2954160" cy="2718720"/>
          </a:xfrm>
        </p:grpSpPr>
        <p:sp>
          <p:nvSpPr>
            <p:cNvPr id="318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5"/>
            <p:cNvGrpSpPr/>
            <p:nvPr/>
          </p:nvGrpSpPr>
          <p:grpSpPr>
            <a:xfrm>
              <a:off x="3093840" y="1379160"/>
              <a:ext cx="2954160" cy="2184120"/>
              <a:chOff x="3093840" y="1379160"/>
              <a:chExt cx="2954160" cy="2184120"/>
            </a:xfrm>
          </p:grpSpPr>
          <p:sp>
            <p:nvSpPr>
              <p:cNvPr id="320" name="未知"/>
              <p:cNvSpPr/>
              <p:nvPr/>
            </p:nvSpPr>
            <p:spPr>
              <a:xfrm rot="7200000">
                <a:off x="4775040" y="187848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27"/>
              <p:cNvSpPr/>
              <p:nvPr/>
            </p:nvSpPr>
            <p:spPr>
              <a:xfrm rot="1800000">
                <a:off x="4843800" y="2631960"/>
                <a:ext cx="91836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8"/>
              <p:cNvSpPr/>
              <p:nvPr/>
            </p:nvSpPr>
            <p:spPr>
              <a:xfrm rot="9000000">
                <a:off x="3468600" y="2847600"/>
                <a:ext cx="91836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29"/>
              <p:cNvGrpSpPr/>
              <p:nvPr/>
            </p:nvGrpSpPr>
            <p:grpSpPr>
              <a:xfrm>
                <a:off x="3093840" y="1558440"/>
                <a:ext cx="1479240" cy="1611720"/>
                <a:chOff x="3093840" y="1558440"/>
                <a:chExt cx="1479240" cy="1611720"/>
              </a:xfrm>
            </p:grpSpPr>
            <p:sp>
              <p:nvSpPr>
                <p:cNvPr id="324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3487680" y="1558440"/>
                  <a:ext cx="108540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AutoShape 32"/>
              <p:cNvSpPr/>
              <p:nvPr/>
            </p:nvSpPr>
            <p:spPr>
              <a:xfrm rot="16200000">
                <a:off x="398664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 rot="5400000">
                <a:off x="4578120" y="1542600"/>
                <a:ext cx="1068480" cy="1088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330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334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338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342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4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5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5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358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361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367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370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72" name=""/>
          <p:cNvGrpSpPr/>
          <p:nvPr/>
        </p:nvGrpSpPr>
        <p:grpSpPr>
          <a:xfrm>
            <a:off x="596880" y="3456000"/>
            <a:ext cx="7950240" cy="360"/>
            <a:chOff x="596880" y="3456000"/>
            <a:chExt cx="7950240" cy="360"/>
          </a:xfrm>
        </p:grpSpPr>
        <p:sp>
          <p:nvSpPr>
            <p:cNvPr id="373" name="Line 23"/>
            <p:cNvSpPr/>
            <p:nvPr/>
          </p:nvSpPr>
          <p:spPr>
            <a:xfrm>
              <a:off x="596880" y="3456000"/>
              <a:ext cx="795024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96880" y="3456000"/>
              <a:ext cx="7950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377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383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389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395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401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407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11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422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423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426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2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432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435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37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25640" y="2416320"/>
            <a:ext cx="5295960" cy="360"/>
            <a:chOff x="1925640" y="2416320"/>
            <a:chExt cx="5295960" cy="360"/>
          </a:xfrm>
        </p:grpSpPr>
        <p:sp>
          <p:nvSpPr>
            <p:cNvPr id="439" name="Line 24"/>
            <p:cNvSpPr/>
            <p:nvPr/>
          </p:nvSpPr>
          <p:spPr>
            <a:xfrm>
              <a:off x="1925640" y="2416320"/>
              <a:ext cx="5295960" cy="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925640" y="2416320"/>
              <a:ext cx="5295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981080" y="2333520"/>
            <a:ext cx="360" cy="628920"/>
            <a:chOff x="1981080" y="2333520"/>
            <a:chExt cx="360" cy="628920"/>
          </a:xfrm>
        </p:grpSpPr>
        <p:sp>
          <p:nvSpPr>
            <p:cNvPr id="442" name="Line 25"/>
            <p:cNvSpPr/>
            <p:nvPr/>
          </p:nvSpPr>
          <p:spPr>
            <a:xfrm>
              <a:off x="1981080" y="2333520"/>
              <a:ext cx="0" cy="62892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1981080" y="2333520"/>
              <a:ext cx="360" cy="62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72000" y="2187720"/>
            <a:ext cx="360" cy="569880"/>
            <a:chOff x="4572000" y="2187720"/>
            <a:chExt cx="360" cy="569880"/>
          </a:xfrm>
        </p:grpSpPr>
        <p:sp>
          <p:nvSpPr>
            <p:cNvPr id="445" name="Line 26"/>
            <p:cNvSpPr/>
            <p:nvPr/>
          </p:nvSpPr>
          <p:spPr>
            <a:xfrm>
              <a:off x="4572000" y="2187720"/>
              <a:ext cx="0" cy="56988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4572000" y="2187720"/>
              <a:ext cx="360" cy="56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164360" y="2333520"/>
            <a:ext cx="360" cy="628920"/>
            <a:chOff x="7164360" y="2333520"/>
            <a:chExt cx="360" cy="628920"/>
          </a:xfrm>
        </p:grpSpPr>
        <p:sp>
          <p:nvSpPr>
            <p:cNvPr id="448" name="Line 27"/>
            <p:cNvSpPr/>
            <p:nvPr/>
          </p:nvSpPr>
          <p:spPr>
            <a:xfrm>
              <a:off x="7164360" y="2333520"/>
              <a:ext cx="0" cy="62892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7164360" y="2333520"/>
              <a:ext cx="360" cy="62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572000" y="3468600"/>
            <a:ext cx="360" cy="569880"/>
            <a:chOff x="4572000" y="3468600"/>
            <a:chExt cx="360" cy="569880"/>
          </a:xfrm>
        </p:grpSpPr>
        <p:sp>
          <p:nvSpPr>
            <p:cNvPr id="455" name="Line 32"/>
            <p:cNvSpPr/>
            <p:nvPr/>
          </p:nvSpPr>
          <p:spPr>
            <a:xfrm>
              <a:off x="4572000" y="3468600"/>
              <a:ext cx="0" cy="56988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4572000" y="3468600"/>
              <a:ext cx="360" cy="56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2451240" y="563400"/>
            <a:ext cx="6664320" cy="360"/>
            <a:chOff x="2451240" y="563400"/>
            <a:chExt cx="6664320" cy="360"/>
          </a:xfrm>
        </p:grpSpPr>
        <p:sp>
          <p:nvSpPr>
            <p:cNvPr id="458" name="直接连接符 16"/>
            <p:cNvSpPr/>
            <p:nvPr/>
          </p:nvSpPr>
          <p:spPr>
            <a:xfrm>
              <a:off x="2451240" y="563400"/>
              <a:ext cx="666432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2451240" y="563400"/>
              <a:ext cx="666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4000680" y="6373800"/>
                  <a:ext cx="82800" cy="59400"/>
                  <a:chOff x="4000680" y="6373800"/>
                  <a:chExt cx="82800" cy="59400"/>
                </a:xfrm>
              </p:grpSpPr>
              <p:sp>
                <p:nvSpPr>
                  <p:cNvPr id="474" name="直接连接符 22"/>
                  <p:cNvSpPr/>
                  <p:nvPr/>
                </p:nvSpPr>
                <p:spPr>
                  <a:xfrm flipH="1">
                    <a:off x="400068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 txBox="1"/>
                  <p:nvPr/>
                </p:nvSpPr>
                <p:spPr>
                  <a:xfrm>
                    <a:off x="400104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4001040" y="6433200"/>
                  <a:ext cx="84960" cy="55800"/>
                  <a:chOff x="4001040" y="6433200"/>
                  <a:chExt cx="84960" cy="55800"/>
                </a:xfrm>
              </p:grpSpPr>
              <p:sp>
                <p:nvSpPr>
                  <p:cNvPr id="477" name="直接连接符 23"/>
                  <p:cNvSpPr/>
                  <p:nvPr/>
                </p:nvSpPr>
                <p:spPr>
                  <a:xfrm>
                    <a:off x="400104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 txBox="1"/>
                  <p:nvPr/>
                </p:nvSpPr>
                <p:spPr>
                  <a:xfrm>
                    <a:off x="400104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8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5065200" y="6373800"/>
                  <a:ext cx="82800" cy="59400"/>
                  <a:chOff x="5065200" y="6373800"/>
                  <a:chExt cx="82800" cy="59400"/>
                </a:xfrm>
              </p:grpSpPr>
              <p:sp>
                <p:nvSpPr>
                  <p:cNvPr id="483" name="直接连接符 27"/>
                  <p:cNvSpPr/>
                  <p:nvPr/>
                </p:nvSpPr>
                <p:spPr>
                  <a:xfrm>
                    <a:off x="5065560" y="6373800"/>
                    <a:ext cx="82440" cy="594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>
                    <a:off x="5065200" y="6373800"/>
                    <a:ext cx="82440" cy="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062680" y="6433200"/>
                  <a:ext cx="84960" cy="55800"/>
                  <a:chOff x="5062680" y="6433200"/>
                  <a:chExt cx="84960" cy="55800"/>
                </a:xfrm>
              </p:grpSpPr>
              <p:sp>
                <p:nvSpPr>
                  <p:cNvPr id="486" name="直接连接符 28"/>
                  <p:cNvSpPr/>
                  <p:nvPr/>
                </p:nvSpPr>
                <p:spPr>
                  <a:xfrm flipH="1">
                    <a:off x="5062680" y="6433200"/>
                    <a:ext cx="84960" cy="5580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 txBox="1"/>
                  <p:nvPr/>
                </p:nvSpPr>
                <p:spPr>
                  <a:xfrm>
                    <a:off x="5062680" y="6433200"/>
                    <a:ext cx="84960" cy="5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88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589720" y="3192480"/>
            <a:ext cx="2361960" cy="360"/>
            <a:chOff x="5589720" y="3192480"/>
            <a:chExt cx="2361960" cy="360"/>
          </a:xfrm>
        </p:grpSpPr>
        <p:sp>
          <p:nvSpPr>
            <p:cNvPr id="496" name="Line 30"/>
            <p:cNvSpPr/>
            <p:nvPr/>
          </p:nvSpPr>
          <p:spPr>
            <a:xfrm>
              <a:off x="5589720" y="3192480"/>
              <a:ext cx="236196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589720" y="3192480"/>
              <a:ext cx="2361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0:4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