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E7D6B-247E-4D60-8087-D98AD210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B61F6-BE7D-4BE0-9EEA-16283E9F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F8692-4EF0-40BE-A3E7-4A7DFA79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1644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46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0456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1644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46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0CBBD-08D5-4214-AAC8-BF2AC92B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508F-290D-4A3D-8246-B4347143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BB43-2D70-4D43-ADB5-86D548A6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70A9-826D-4719-AC1B-CDF5844E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5FD9-EA61-4335-A04C-EA5574FF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E022-CB81-42D3-8597-C1F03B94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DD10-661A-470A-9831-0641E49E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E533-B704-4088-8786-B029D824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1B5B3-17CF-404A-881F-54AE1C06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D8F0-CB56-4EE8-99C8-0AD0290D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789C-AA8B-4920-B49B-3CF34262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E0A8-B7F9-42D3-9A5C-641D5B32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AEDE-824E-4967-9521-2FD16820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644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46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56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644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46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439F-EBD9-4C80-B0DC-E5439244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EED0C-DEF1-4623-8775-8089F632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16CAD-F496-4048-85AF-D9D994A3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FF99E-3D35-4F05-9011-34F5536D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85903-DA2C-405D-9EF9-45142641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6594A4-EF9A-4969-B974-CEDFDC0E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015D9-46CE-40E7-8619-2C31E1C7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60B7A-2668-47D2-83BC-8B5D73CE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87873-510E-47EE-962B-4216A13C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15E9D-71E3-4B8E-88DE-05ECD361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187CB-366D-4227-B507-50BAD0F0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56073-F8B9-4539-A8C8-BC0E1EB3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3AB22-0BB8-431B-A680-CAF87375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1644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46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30456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1644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46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5BC6D-B8F3-424C-BB65-19C2CD34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0E60A-1F63-46BA-A7AD-3CAFE350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1C223-5948-4A21-94C5-F99DF8CE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9104F-BA2D-4E1B-88B0-810C0A6B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5583F-9C22-45B2-89A5-D1F187F7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8F40E-3B69-4D97-BEF9-1C1C292A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3F941-CDC5-4DF7-8F41-F51595F7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191"/>
          <p:cNvSpPr/>
          <p:nvPr/>
        </p:nvSpPr>
        <p:spPr>
          <a:xfrm>
            <a:off x="0" y="723960"/>
            <a:ext cx="9144000" cy="12384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1156"/>
          <p:cNvSpPr/>
          <p:nvPr/>
        </p:nvSpPr>
        <p:spPr>
          <a:xfrm>
            <a:off x="0" y="0"/>
            <a:ext cx="6867360" cy="72396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任意多边形 1149"/>
          <p:cNvSpPr/>
          <p:nvPr/>
        </p:nvSpPr>
        <p:spPr>
          <a:xfrm>
            <a:off x="-12600" y="343080"/>
            <a:ext cx="6032520" cy="679320"/>
          </a:xfrm>
          <a:custGeom>
            <a:avLst/>
            <a:gdLst/>
            <a:ahLst/>
            <a:rect l="l" t="t" r="r" b="b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1150"/>
          <p:cNvSpPr/>
          <p:nvPr/>
        </p:nvSpPr>
        <p:spPr>
          <a:xfrm>
            <a:off x="7365960" y="6448320"/>
            <a:ext cx="1371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7181f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5778000" y="6530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2"/>
          </p:nvPr>
        </p:nvSpPr>
        <p:spPr>
          <a:xfrm>
            <a:off x="388620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D394-6A6F-4072-8BC3-AD2CDDA28B9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3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240" y="728640"/>
            <a:ext cx="9140760" cy="360"/>
            <a:chOff x="3240" y="728640"/>
            <a:chExt cx="9140760" cy="360"/>
          </a:xfrm>
        </p:grpSpPr>
        <p:sp>
          <p:nvSpPr>
            <p:cNvPr id="8" name="直接连接符 1187"/>
            <p:cNvSpPr/>
            <p:nvPr/>
          </p:nvSpPr>
          <p:spPr>
            <a:xfrm>
              <a:off x="3240" y="728640"/>
              <a:ext cx="9140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 txBox="1"/>
            <p:nvPr/>
          </p:nvSpPr>
          <p:spPr>
            <a:xfrm>
              <a:off x="3240" y="728640"/>
              <a:ext cx="9140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" name="图片 1202" descr="8"/>
          <p:cNvPicPr/>
          <p:nvPr/>
        </p:nvPicPr>
        <p:blipFill>
          <a:blip r:embed="rId2"/>
          <a:stretch/>
        </p:blipFill>
        <p:spPr>
          <a:xfrm>
            <a:off x="7640640" y="782640"/>
            <a:ext cx="1503360" cy="546120"/>
          </a:xfrm>
          <a:prstGeom prst="rect">
            <a:avLst/>
          </a:prstGeom>
          <a:ln w="0">
            <a:noFill/>
          </a:ln>
        </p:spPr>
      </p:pic>
      <p:sp>
        <p:nvSpPr>
          <p:cNvPr id="11" name="矩形 1203"/>
          <p:cNvSpPr/>
          <p:nvPr/>
        </p:nvSpPr>
        <p:spPr>
          <a:xfrm>
            <a:off x="6873840" y="0"/>
            <a:ext cx="776160" cy="725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1204"/>
          <p:cNvSpPr/>
          <p:nvPr/>
        </p:nvSpPr>
        <p:spPr>
          <a:xfrm>
            <a:off x="7647120" y="1440"/>
            <a:ext cx="738000" cy="7239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矩形 1205"/>
          <p:cNvSpPr/>
          <p:nvPr/>
        </p:nvSpPr>
        <p:spPr>
          <a:xfrm>
            <a:off x="8388360" y="0"/>
            <a:ext cx="755640" cy="722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body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80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93c05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643880" y="0"/>
            <a:ext cx="360" cy="723960"/>
            <a:chOff x="7643880" y="0"/>
            <a:chExt cx="360" cy="723960"/>
          </a:xfrm>
        </p:grpSpPr>
        <p:sp>
          <p:nvSpPr>
            <p:cNvPr id="17" name="直接连接符 1206"/>
            <p:cNvSpPr/>
            <p:nvPr/>
          </p:nvSpPr>
          <p:spPr>
            <a:xfrm>
              <a:off x="7643880" y="0"/>
              <a:ext cx="0" cy="72396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 txBox="1"/>
            <p:nvPr/>
          </p:nvSpPr>
          <p:spPr>
            <a:xfrm>
              <a:off x="7643880" y="0"/>
              <a:ext cx="360" cy="72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8386920" y="0"/>
            <a:ext cx="360" cy="723960"/>
            <a:chOff x="8386920" y="0"/>
            <a:chExt cx="360" cy="723960"/>
          </a:xfrm>
        </p:grpSpPr>
        <p:sp>
          <p:nvSpPr>
            <p:cNvPr id="20" name="直接连接符 1207"/>
            <p:cNvSpPr/>
            <p:nvPr/>
          </p:nvSpPr>
          <p:spPr>
            <a:xfrm>
              <a:off x="8386920" y="0"/>
              <a:ext cx="0" cy="72396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 txBox="1"/>
            <p:nvPr/>
          </p:nvSpPr>
          <p:spPr>
            <a:xfrm>
              <a:off x="8386920" y="0"/>
              <a:ext cx="360" cy="72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C151-34DE-4623-9554-6639E2BE604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4364-15D6-4254-AF3C-E2CAAD24F4D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3365" descr="06"/>
          <p:cNvPicPr/>
          <p:nvPr/>
        </p:nvPicPr>
        <p:blipFill>
          <a:blip r:embed="rId2"/>
          <a:stretch/>
        </p:blipFill>
        <p:spPr>
          <a:xfrm>
            <a:off x="0" y="2516040"/>
            <a:ext cx="9144000" cy="2970360"/>
          </a:xfrm>
          <a:prstGeom prst="rect">
            <a:avLst/>
          </a:prstGeom>
          <a:ln w="0">
            <a:noFill/>
          </a:ln>
        </p:spPr>
      </p:pic>
      <p:sp>
        <p:nvSpPr>
          <p:cNvPr id="100" name="矩形 3359"/>
          <p:cNvSpPr/>
          <p:nvPr/>
        </p:nvSpPr>
        <p:spPr>
          <a:xfrm>
            <a:off x="0" y="2797200"/>
            <a:ext cx="9144000" cy="275436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3085"/>
          <p:cNvSpPr/>
          <p:nvPr/>
        </p:nvSpPr>
        <p:spPr>
          <a:xfrm>
            <a:off x="7848720" y="5943600"/>
            <a:ext cx="1066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Arial Black"/>
                <a:ea typeface="Arial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362"/>
          <p:cNvSpPr/>
          <p:nvPr/>
        </p:nvSpPr>
        <p:spPr>
          <a:xfrm>
            <a:off x="0" y="0"/>
            <a:ext cx="3048120" cy="280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363"/>
          <p:cNvSpPr/>
          <p:nvPr/>
        </p:nvSpPr>
        <p:spPr>
          <a:xfrm>
            <a:off x="3048120" y="0"/>
            <a:ext cx="3124080" cy="28004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364"/>
          <p:cNvSpPr/>
          <p:nvPr/>
        </p:nvSpPr>
        <p:spPr>
          <a:xfrm>
            <a:off x="6172200" y="0"/>
            <a:ext cx="2971800" cy="28004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80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93c05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152280" y="65527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8"/>
          </p:nvPr>
        </p:nvSpPr>
        <p:spPr>
          <a:xfrm>
            <a:off x="4723920" y="6552720"/>
            <a:ext cx="381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1117-DE4C-4303-984C-073229A45B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9"/>
          </p:nvPr>
        </p:nvSpPr>
        <p:spPr>
          <a:xfrm>
            <a:off x="685764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100" spc="-1" strike="noStrike">
                <a:solidFill>
                  <a:srgbClr val="d7181f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d7181f"/>
                </a:solidFill>
                <a:latin typeface="Arial Black"/>
                <a:ea typeface="Arial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2971440"/>
            <a:ext cx="79246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儿童企业幻灯片完整版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31244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company slo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3739"/>
          <p:cNvSpPr/>
          <p:nvPr/>
        </p:nvSpPr>
        <p:spPr>
          <a:xfrm>
            <a:off x="2786040" y="3821040"/>
            <a:ext cx="76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73740" descr="8"/>
          <p:cNvPicPr/>
          <p:nvPr/>
        </p:nvPicPr>
        <p:blipFill>
          <a:blip r:embed="rId1"/>
          <a:stretch/>
        </p:blipFill>
        <p:spPr>
          <a:xfrm>
            <a:off x="457200" y="4535640"/>
            <a:ext cx="5751360" cy="209376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组合 290817"/>
          <p:cNvGrpSpPr/>
          <p:nvPr/>
        </p:nvGrpSpPr>
        <p:grpSpPr>
          <a:xfrm>
            <a:off x="3319560" y="1793880"/>
            <a:ext cx="1123920" cy="942840"/>
            <a:chOff x="3319560" y="1793880"/>
            <a:chExt cx="1123920" cy="942840"/>
          </a:xfrm>
        </p:grpSpPr>
        <p:sp>
          <p:nvSpPr>
            <p:cNvPr id="613" name="任意多边形 290818"/>
            <p:cNvSpPr/>
            <p:nvPr/>
          </p:nvSpPr>
          <p:spPr>
            <a:xfrm>
              <a:off x="3319560" y="2050920"/>
              <a:ext cx="1123920" cy="685800"/>
            </a:xfrm>
            <a:custGeom>
              <a:avLst/>
              <a:gdLst/>
              <a:ahLst/>
              <a:rect l="l" t="t" r="r" b="b"/>
              <a:pathLst>
                <a:path w="708" h="432">
                  <a:moveTo>
                    <a:pt x="8" y="211"/>
                  </a:moveTo>
                  <a:cubicBezTo>
                    <a:pt x="8" y="211"/>
                    <a:pt x="265" y="380"/>
                    <a:pt x="324" y="417"/>
                  </a:cubicBezTo>
                  <a:cubicBezTo>
                    <a:pt x="336" y="423"/>
                    <a:pt x="342" y="432"/>
                    <a:pt x="360" y="432"/>
                  </a:cubicBezTo>
                  <a:cubicBezTo>
                    <a:pt x="378" y="432"/>
                    <a:pt x="386" y="423"/>
                    <a:pt x="404" y="412"/>
                  </a:cubicBezTo>
                  <a:cubicBezTo>
                    <a:pt x="560" y="311"/>
                    <a:pt x="705" y="216"/>
                    <a:pt x="705" y="216"/>
                  </a:cubicBezTo>
                  <a:lnTo>
                    <a:pt x="708" y="198"/>
                  </a:lnTo>
                  <a:lnTo>
                    <a:pt x="671" y="4"/>
                  </a:lnTo>
                  <a:lnTo>
                    <a:pt x="383" y="190"/>
                  </a:lnTo>
                  <a:lnTo>
                    <a:pt x="354" y="187"/>
                  </a:lnTo>
                  <a:lnTo>
                    <a:pt x="39" y="0"/>
                  </a:lnTo>
                  <a:lnTo>
                    <a:pt x="0" y="195"/>
                  </a:lnTo>
                  <a:lnTo>
                    <a:pt x="8" y="211"/>
                  </a:lnTo>
                  <a:close/>
                </a:path>
              </a:pathLst>
            </a:custGeom>
            <a:gradFill rotWithShape="0">
              <a:gsLst>
                <a:gs pos="0">
                  <a:srgbClr val="fdfdfd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 290819"/>
            <p:cNvSpPr/>
            <p:nvPr/>
          </p:nvSpPr>
          <p:spPr>
            <a:xfrm>
              <a:off x="3367080" y="1793880"/>
              <a:ext cx="1025280" cy="581040"/>
            </a:xfrm>
            <a:custGeom>
              <a:avLst/>
              <a:gdLst/>
              <a:ahLst/>
              <a:rect l="l" t="t" r="r" b="b"/>
              <a:pathLst>
                <a:path w="646" h="366">
                  <a:moveTo>
                    <a:pt x="346" y="0"/>
                  </a:moveTo>
                  <a:cubicBezTo>
                    <a:pt x="331" y="0"/>
                    <a:pt x="317" y="12"/>
                    <a:pt x="288" y="27"/>
                  </a:cubicBezTo>
                  <a:lnTo>
                    <a:pt x="171" y="89"/>
                  </a:lnTo>
                  <a:lnTo>
                    <a:pt x="21" y="158"/>
                  </a:lnTo>
                  <a:cubicBezTo>
                    <a:pt x="21" y="158"/>
                    <a:pt x="0" y="167"/>
                    <a:pt x="15" y="182"/>
                  </a:cubicBezTo>
                  <a:cubicBezTo>
                    <a:pt x="151" y="265"/>
                    <a:pt x="188" y="289"/>
                    <a:pt x="241" y="320"/>
                  </a:cubicBezTo>
                  <a:cubicBezTo>
                    <a:pt x="294" y="351"/>
                    <a:pt x="308" y="361"/>
                    <a:pt x="333" y="366"/>
                  </a:cubicBezTo>
                  <a:cubicBezTo>
                    <a:pt x="349" y="365"/>
                    <a:pt x="355" y="366"/>
                    <a:pt x="391" y="347"/>
                  </a:cubicBezTo>
                  <a:lnTo>
                    <a:pt x="552" y="251"/>
                  </a:lnTo>
                  <a:lnTo>
                    <a:pt x="618" y="204"/>
                  </a:lnTo>
                  <a:cubicBezTo>
                    <a:pt x="633" y="192"/>
                    <a:pt x="643" y="187"/>
                    <a:pt x="643" y="179"/>
                  </a:cubicBezTo>
                  <a:cubicBezTo>
                    <a:pt x="643" y="171"/>
                    <a:pt x="646" y="171"/>
                    <a:pt x="619" y="153"/>
                  </a:cubicBezTo>
                  <a:lnTo>
                    <a:pt x="478" y="69"/>
                  </a:lnTo>
                  <a:cubicBezTo>
                    <a:pt x="433" y="44"/>
                    <a:pt x="361" y="0"/>
                    <a:pt x="34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 290820"/>
            <p:cNvSpPr/>
            <p:nvPr/>
          </p:nvSpPr>
          <p:spPr>
            <a:xfrm>
              <a:off x="3490920" y="2141280"/>
              <a:ext cx="403200" cy="497160"/>
            </a:xfrm>
            <a:custGeom>
              <a:avLst/>
              <a:gdLst/>
              <a:ahLst/>
              <a:rect l="l" t="t" r="r" b="b"/>
              <a:pathLst>
                <a:path w="254" h="313">
                  <a:moveTo>
                    <a:pt x="0" y="0"/>
                  </a:moveTo>
                  <a:lnTo>
                    <a:pt x="134" y="82"/>
                  </a:lnTo>
                  <a:cubicBezTo>
                    <a:pt x="172" y="105"/>
                    <a:pt x="208" y="121"/>
                    <a:pt x="228" y="135"/>
                  </a:cubicBezTo>
                  <a:cubicBezTo>
                    <a:pt x="245" y="144"/>
                    <a:pt x="253" y="141"/>
                    <a:pt x="254" y="166"/>
                  </a:cubicBezTo>
                  <a:lnTo>
                    <a:pt x="254" y="313"/>
                  </a:lnTo>
                  <a:cubicBezTo>
                    <a:pt x="244" y="310"/>
                    <a:pt x="233" y="202"/>
                    <a:pt x="191" y="150"/>
                  </a:cubicBezTo>
                  <a:cubicBezTo>
                    <a:pt x="149" y="98"/>
                    <a:pt x="38" y="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3730320" y="1972800"/>
              <a:ext cx="301320" cy="168120"/>
              <a:chOff x="3730320" y="1972800"/>
              <a:chExt cx="301320" cy="168120"/>
            </a:xfrm>
          </p:grpSpPr>
          <p:sp>
            <p:nvSpPr>
              <p:cNvPr id="617" name="直接连接符 290821"/>
              <p:cNvSpPr/>
              <p:nvPr/>
            </p:nvSpPr>
            <p:spPr>
              <a:xfrm flipH="1" flipV="1">
                <a:off x="3730320" y="1972800"/>
                <a:ext cx="301320" cy="16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 txBox="1"/>
              <p:nvPr/>
            </p:nvSpPr>
            <p:spPr>
              <a:xfrm rot="10800000">
                <a:off x="3730320" y="1972800"/>
                <a:ext cx="301320" cy="168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9" name="矩形 290822"/>
          <p:cNvSpPr/>
          <p:nvPr/>
        </p:nvSpPr>
        <p:spPr>
          <a:xfrm>
            <a:off x="762120" y="4114800"/>
            <a:ext cx="7335720" cy="2259000"/>
          </a:xfrm>
          <a:prstGeom prst="rect">
            <a:avLst/>
          </a:prstGeom>
          <a:noFill/>
          <a:ln w="9360">
            <a:solidFill>
              <a:srgbClr val="93c0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290823"/>
          <p:cNvSpPr/>
          <p:nvPr/>
        </p:nvSpPr>
        <p:spPr>
          <a:xfrm>
            <a:off x="1184400" y="4191120"/>
            <a:ext cx="6567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duc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290824"/>
          <p:cNvSpPr/>
          <p:nvPr/>
        </p:nvSpPr>
        <p:spPr>
          <a:xfrm>
            <a:off x="1176480" y="3359160"/>
            <a:ext cx="19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a2"/>
                </a:solidFill>
                <a:latin typeface="Arial"/>
                <a:ea typeface="Arial"/>
              </a:rPr>
              <a:t>Produc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290825"/>
          <p:cNvSpPr/>
          <p:nvPr/>
        </p:nvSpPr>
        <p:spPr>
          <a:xfrm>
            <a:off x="3116160" y="3413160"/>
            <a:ext cx="36720" cy="43668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棱台 290826"/>
          <p:cNvSpPr/>
          <p:nvPr/>
        </p:nvSpPr>
        <p:spPr>
          <a:xfrm>
            <a:off x="1079640" y="4272120"/>
            <a:ext cx="123840" cy="126720"/>
          </a:xfrm>
          <a:prstGeom prst="bevel">
            <a:avLst>
              <a:gd name="adj" fmla="val 12500"/>
            </a:avLst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290827"/>
          <p:cNvSpPr/>
          <p:nvPr/>
        </p:nvSpPr>
        <p:spPr>
          <a:xfrm>
            <a:off x="1184400" y="4722840"/>
            <a:ext cx="6567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duc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棱台 290828"/>
          <p:cNvSpPr/>
          <p:nvPr/>
        </p:nvSpPr>
        <p:spPr>
          <a:xfrm>
            <a:off x="1079640" y="4803840"/>
            <a:ext cx="123840" cy="127080"/>
          </a:xfrm>
          <a:prstGeom prst="bevel">
            <a:avLst>
              <a:gd name="adj" fmla="val 12500"/>
            </a:avLst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290829"/>
          <p:cNvSpPr/>
          <p:nvPr/>
        </p:nvSpPr>
        <p:spPr>
          <a:xfrm>
            <a:off x="1184400" y="5264280"/>
            <a:ext cx="6567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duc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棱台 290830"/>
          <p:cNvSpPr/>
          <p:nvPr/>
        </p:nvSpPr>
        <p:spPr>
          <a:xfrm>
            <a:off x="1079640" y="5345280"/>
            <a:ext cx="123840" cy="126720"/>
          </a:xfrm>
          <a:prstGeom prst="bevel">
            <a:avLst>
              <a:gd name="adj" fmla="val 12500"/>
            </a:avLst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290831"/>
          <p:cNvSpPr/>
          <p:nvPr/>
        </p:nvSpPr>
        <p:spPr>
          <a:xfrm>
            <a:off x="1192320" y="1400040"/>
            <a:ext cx="19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a2"/>
                </a:solidFill>
                <a:latin typeface="Arial"/>
                <a:ea typeface="Arial"/>
              </a:rPr>
              <a:t>Produc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290832"/>
          <p:cNvSpPr/>
          <p:nvPr/>
        </p:nvSpPr>
        <p:spPr>
          <a:xfrm>
            <a:off x="3112920" y="1450800"/>
            <a:ext cx="36720" cy="43668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组合 290833"/>
          <p:cNvGrpSpPr/>
          <p:nvPr/>
        </p:nvGrpSpPr>
        <p:grpSpPr>
          <a:xfrm>
            <a:off x="4537080" y="1793880"/>
            <a:ext cx="1123920" cy="942840"/>
            <a:chOff x="4537080" y="1793880"/>
            <a:chExt cx="1123920" cy="942840"/>
          </a:xfrm>
        </p:grpSpPr>
        <p:sp>
          <p:nvSpPr>
            <p:cNvPr id="631" name="任意多边形 290834"/>
            <p:cNvSpPr/>
            <p:nvPr/>
          </p:nvSpPr>
          <p:spPr>
            <a:xfrm>
              <a:off x="4537080" y="2050920"/>
              <a:ext cx="1123920" cy="685800"/>
            </a:xfrm>
            <a:custGeom>
              <a:avLst/>
              <a:gdLst/>
              <a:ahLst/>
              <a:rect l="l" t="t" r="r" b="b"/>
              <a:pathLst>
                <a:path w="708" h="432">
                  <a:moveTo>
                    <a:pt x="8" y="211"/>
                  </a:moveTo>
                  <a:cubicBezTo>
                    <a:pt x="8" y="211"/>
                    <a:pt x="265" y="380"/>
                    <a:pt x="324" y="417"/>
                  </a:cubicBezTo>
                  <a:cubicBezTo>
                    <a:pt x="336" y="423"/>
                    <a:pt x="342" y="432"/>
                    <a:pt x="360" y="432"/>
                  </a:cubicBezTo>
                  <a:cubicBezTo>
                    <a:pt x="378" y="432"/>
                    <a:pt x="386" y="423"/>
                    <a:pt x="404" y="412"/>
                  </a:cubicBezTo>
                  <a:cubicBezTo>
                    <a:pt x="560" y="311"/>
                    <a:pt x="705" y="216"/>
                    <a:pt x="705" y="216"/>
                  </a:cubicBezTo>
                  <a:lnTo>
                    <a:pt x="708" y="198"/>
                  </a:lnTo>
                  <a:lnTo>
                    <a:pt x="671" y="4"/>
                  </a:lnTo>
                  <a:lnTo>
                    <a:pt x="383" y="190"/>
                  </a:lnTo>
                  <a:lnTo>
                    <a:pt x="354" y="187"/>
                  </a:lnTo>
                  <a:lnTo>
                    <a:pt x="39" y="0"/>
                  </a:lnTo>
                  <a:lnTo>
                    <a:pt x="0" y="195"/>
                  </a:lnTo>
                  <a:lnTo>
                    <a:pt x="8" y="211"/>
                  </a:lnTo>
                  <a:close/>
                </a:path>
              </a:pathLst>
            </a:custGeom>
            <a:gradFill rotWithShape="0">
              <a:gsLst>
                <a:gs pos="0">
                  <a:srgbClr val="fdfdfd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290835"/>
            <p:cNvSpPr/>
            <p:nvPr/>
          </p:nvSpPr>
          <p:spPr>
            <a:xfrm>
              <a:off x="4584600" y="1793880"/>
              <a:ext cx="1025280" cy="581040"/>
            </a:xfrm>
            <a:custGeom>
              <a:avLst/>
              <a:gdLst/>
              <a:ahLst/>
              <a:rect l="l" t="t" r="r" b="b"/>
              <a:pathLst>
                <a:path w="646" h="366">
                  <a:moveTo>
                    <a:pt x="346" y="0"/>
                  </a:moveTo>
                  <a:cubicBezTo>
                    <a:pt x="331" y="0"/>
                    <a:pt x="317" y="12"/>
                    <a:pt x="288" y="27"/>
                  </a:cubicBezTo>
                  <a:lnTo>
                    <a:pt x="171" y="89"/>
                  </a:lnTo>
                  <a:lnTo>
                    <a:pt x="21" y="158"/>
                  </a:lnTo>
                  <a:cubicBezTo>
                    <a:pt x="21" y="158"/>
                    <a:pt x="0" y="167"/>
                    <a:pt x="15" y="182"/>
                  </a:cubicBezTo>
                  <a:cubicBezTo>
                    <a:pt x="151" y="265"/>
                    <a:pt x="188" y="289"/>
                    <a:pt x="241" y="320"/>
                  </a:cubicBezTo>
                  <a:cubicBezTo>
                    <a:pt x="294" y="351"/>
                    <a:pt x="308" y="361"/>
                    <a:pt x="333" y="366"/>
                  </a:cubicBezTo>
                  <a:cubicBezTo>
                    <a:pt x="349" y="365"/>
                    <a:pt x="355" y="366"/>
                    <a:pt x="391" y="347"/>
                  </a:cubicBezTo>
                  <a:lnTo>
                    <a:pt x="552" y="251"/>
                  </a:lnTo>
                  <a:lnTo>
                    <a:pt x="618" y="204"/>
                  </a:lnTo>
                  <a:cubicBezTo>
                    <a:pt x="633" y="192"/>
                    <a:pt x="643" y="187"/>
                    <a:pt x="643" y="179"/>
                  </a:cubicBezTo>
                  <a:cubicBezTo>
                    <a:pt x="643" y="171"/>
                    <a:pt x="646" y="171"/>
                    <a:pt x="619" y="153"/>
                  </a:cubicBezTo>
                  <a:lnTo>
                    <a:pt x="478" y="69"/>
                  </a:lnTo>
                  <a:cubicBezTo>
                    <a:pt x="433" y="44"/>
                    <a:pt x="361" y="0"/>
                    <a:pt x="34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290836"/>
            <p:cNvSpPr/>
            <p:nvPr/>
          </p:nvSpPr>
          <p:spPr>
            <a:xfrm>
              <a:off x="4708440" y="2141280"/>
              <a:ext cx="403200" cy="497160"/>
            </a:xfrm>
            <a:custGeom>
              <a:avLst/>
              <a:gdLst/>
              <a:ahLst/>
              <a:rect l="l" t="t" r="r" b="b"/>
              <a:pathLst>
                <a:path w="254" h="313">
                  <a:moveTo>
                    <a:pt x="0" y="0"/>
                  </a:moveTo>
                  <a:lnTo>
                    <a:pt x="134" y="82"/>
                  </a:lnTo>
                  <a:cubicBezTo>
                    <a:pt x="172" y="105"/>
                    <a:pt x="208" y="121"/>
                    <a:pt x="228" y="135"/>
                  </a:cubicBezTo>
                  <a:cubicBezTo>
                    <a:pt x="245" y="144"/>
                    <a:pt x="253" y="141"/>
                    <a:pt x="254" y="166"/>
                  </a:cubicBezTo>
                  <a:lnTo>
                    <a:pt x="254" y="313"/>
                  </a:lnTo>
                  <a:cubicBezTo>
                    <a:pt x="244" y="310"/>
                    <a:pt x="233" y="202"/>
                    <a:pt x="191" y="150"/>
                  </a:cubicBezTo>
                  <a:cubicBezTo>
                    <a:pt x="149" y="98"/>
                    <a:pt x="38" y="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4947840" y="1972800"/>
              <a:ext cx="301680" cy="168120"/>
              <a:chOff x="4947840" y="1972800"/>
              <a:chExt cx="301680" cy="168120"/>
            </a:xfrm>
          </p:grpSpPr>
          <p:sp>
            <p:nvSpPr>
              <p:cNvPr id="635" name="直接连接符 290837"/>
              <p:cNvSpPr/>
              <p:nvPr/>
            </p:nvSpPr>
            <p:spPr>
              <a:xfrm flipV="1">
                <a:off x="4948200" y="1972800"/>
                <a:ext cx="301320" cy="16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 txBox="1"/>
              <p:nvPr/>
            </p:nvSpPr>
            <p:spPr>
              <a:xfrm rot="10800000">
                <a:off x="4947840" y="1972800"/>
                <a:ext cx="301320" cy="168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7" name="组合 290838"/>
          <p:cNvGrpSpPr/>
          <p:nvPr/>
        </p:nvGrpSpPr>
        <p:grpSpPr>
          <a:xfrm>
            <a:off x="3319560" y="2600280"/>
            <a:ext cx="1123920" cy="942840"/>
            <a:chOff x="3319560" y="2600280"/>
            <a:chExt cx="1123920" cy="942840"/>
          </a:xfrm>
        </p:grpSpPr>
        <p:sp>
          <p:nvSpPr>
            <p:cNvPr id="638" name="任意多边形 290839"/>
            <p:cNvSpPr/>
            <p:nvPr/>
          </p:nvSpPr>
          <p:spPr>
            <a:xfrm>
              <a:off x="3319560" y="2857320"/>
              <a:ext cx="1123920" cy="685800"/>
            </a:xfrm>
            <a:custGeom>
              <a:avLst/>
              <a:gdLst/>
              <a:ahLst/>
              <a:rect l="l" t="t" r="r" b="b"/>
              <a:pathLst>
                <a:path w="708" h="432">
                  <a:moveTo>
                    <a:pt x="8" y="211"/>
                  </a:moveTo>
                  <a:cubicBezTo>
                    <a:pt x="8" y="211"/>
                    <a:pt x="265" y="380"/>
                    <a:pt x="324" y="417"/>
                  </a:cubicBezTo>
                  <a:cubicBezTo>
                    <a:pt x="336" y="423"/>
                    <a:pt x="342" y="432"/>
                    <a:pt x="360" y="432"/>
                  </a:cubicBezTo>
                  <a:cubicBezTo>
                    <a:pt x="378" y="432"/>
                    <a:pt x="386" y="423"/>
                    <a:pt x="404" y="412"/>
                  </a:cubicBezTo>
                  <a:cubicBezTo>
                    <a:pt x="560" y="311"/>
                    <a:pt x="705" y="216"/>
                    <a:pt x="705" y="216"/>
                  </a:cubicBezTo>
                  <a:lnTo>
                    <a:pt x="708" y="198"/>
                  </a:lnTo>
                  <a:lnTo>
                    <a:pt x="671" y="4"/>
                  </a:lnTo>
                  <a:lnTo>
                    <a:pt x="383" y="190"/>
                  </a:lnTo>
                  <a:lnTo>
                    <a:pt x="354" y="187"/>
                  </a:lnTo>
                  <a:lnTo>
                    <a:pt x="39" y="0"/>
                  </a:lnTo>
                  <a:lnTo>
                    <a:pt x="0" y="195"/>
                  </a:lnTo>
                  <a:lnTo>
                    <a:pt x="8" y="211"/>
                  </a:lnTo>
                  <a:close/>
                </a:path>
              </a:pathLst>
            </a:custGeom>
            <a:gradFill rotWithShape="0">
              <a:gsLst>
                <a:gs pos="0">
                  <a:srgbClr val="fdfdfd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290840"/>
            <p:cNvSpPr/>
            <p:nvPr/>
          </p:nvSpPr>
          <p:spPr>
            <a:xfrm>
              <a:off x="3367080" y="2600280"/>
              <a:ext cx="1025280" cy="581040"/>
            </a:xfrm>
            <a:custGeom>
              <a:avLst/>
              <a:gdLst/>
              <a:ahLst/>
              <a:rect l="l" t="t" r="r" b="b"/>
              <a:pathLst>
                <a:path w="646" h="366">
                  <a:moveTo>
                    <a:pt x="346" y="0"/>
                  </a:moveTo>
                  <a:cubicBezTo>
                    <a:pt x="331" y="0"/>
                    <a:pt x="317" y="12"/>
                    <a:pt x="288" y="27"/>
                  </a:cubicBezTo>
                  <a:lnTo>
                    <a:pt x="171" y="89"/>
                  </a:lnTo>
                  <a:lnTo>
                    <a:pt x="21" y="158"/>
                  </a:lnTo>
                  <a:cubicBezTo>
                    <a:pt x="21" y="158"/>
                    <a:pt x="0" y="167"/>
                    <a:pt x="15" y="182"/>
                  </a:cubicBezTo>
                  <a:cubicBezTo>
                    <a:pt x="151" y="265"/>
                    <a:pt x="188" y="289"/>
                    <a:pt x="241" y="320"/>
                  </a:cubicBezTo>
                  <a:cubicBezTo>
                    <a:pt x="294" y="351"/>
                    <a:pt x="308" y="361"/>
                    <a:pt x="333" y="366"/>
                  </a:cubicBezTo>
                  <a:cubicBezTo>
                    <a:pt x="349" y="365"/>
                    <a:pt x="355" y="366"/>
                    <a:pt x="391" y="347"/>
                  </a:cubicBezTo>
                  <a:lnTo>
                    <a:pt x="552" y="251"/>
                  </a:lnTo>
                  <a:lnTo>
                    <a:pt x="618" y="204"/>
                  </a:lnTo>
                  <a:cubicBezTo>
                    <a:pt x="633" y="192"/>
                    <a:pt x="643" y="187"/>
                    <a:pt x="643" y="179"/>
                  </a:cubicBezTo>
                  <a:cubicBezTo>
                    <a:pt x="643" y="171"/>
                    <a:pt x="646" y="171"/>
                    <a:pt x="619" y="153"/>
                  </a:cubicBezTo>
                  <a:lnTo>
                    <a:pt x="478" y="69"/>
                  </a:lnTo>
                  <a:cubicBezTo>
                    <a:pt x="433" y="44"/>
                    <a:pt x="361" y="0"/>
                    <a:pt x="34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290841"/>
            <p:cNvSpPr/>
            <p:nvPr/>
          </p:nvSpPr>
          <p:spPr>
            <a:xfrm>
              <a:off x="3490920" y="2947680"/>
              <a:ext cx="403200" cy="497160"/>
            </a:xfrm>
            <a:custGeom>
              <a:avLst/>
              <a:gdLst/>
              <a:ahLst/>
              <a:rect l="l" t="t" r="r" b="b"/>
              <a:pathLst>
                <a:path w="254" h="313">
                  <a:moveTo>
                    <a:pt x="0" y="0"/>
                  </a:moveTo>
                  <a:lnTo>
                    <a:pt x="134" y="82"/>
                  </a:lnTo>
                  <a:cubicBezTo>
                    <a:pt x="172" y="105"/>
                    <a:pt x="208" y="121"/>
                    <a:pt x="228" y="135"/>
                  </a:cubicBezTo>
                  <a:cubicBezTo>
                    <a:pt x="245" y="144"/>
                    <a:pt x="253" y="141"/>
                    <a:pt x="254" y="166"/>
                  </a:cubicBezTo>
                  <a:lnTo>
                    <a:pt x="254" y="313"/>
                  </a:lnTo>
                  <a:cubicBezTo>
                    <a:pt x="244" y="310"/>
                    <a:pt x="233" y="202"/>
                    <a:pt x="191" y="150"/>
                  </a:cubicBezTo>
                  <a:cubicBezTo>
                    <a:pt x="149" y="98"/>
                    <a:pt x="38" y="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3730320" y="2779560"/>
              <a:ext cx="301680" cy="168120"/>
              <a:chOff x="3730320" y="2779560"/>
              <a:chExt cx="301680" cy="168120"/>
            </a:xfrm>
          </p:grpSpPr>
          <p:sp>
            <p:nvSpPr>
              <p:cNvPr id="642" name="直接连接符 290842"/>
              <p:cNvSpPr/>
              <p:nvPr/>
            </p:nvSpPr>
            <p:spPr>
              <a:xfrm flipH="1">
                <a:off x="3730320" y="2779560"/>
                <a:ext cx="301320" cy="16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 txBox="1"/>
              <p:nvPr/>
            </p:nvSpPr>
            <p:spPr>
              <a:xfrm>
                <a:off x="3730680" y="2779560"/>
                <a:ext cx="301320" cy="168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组合 290843"/>
          <p:cNvGrpSpPr/>
          <p:nvPr/>
        </p:nvGrpSpPr>
        <p:grpSpPr>
          <a:xfrm>
            <a:off x="4537080" y="2600280"/>
            <a:ext cx="1123920" cy="942840"/>
            <a:chOff x="4537080" y="2600280"/>
            <a:chExt cx="1123920" cy="942840"/>
          </a:xfrm>
        </p:grpSpPr>
        <p:sp>
          <p:nvSpPr>
            <p:cNvPr id="645" name="任意多边形 290844"/>
            <p:cNvSpPr/>
            <p:nvPr/>
          </p:nvSpPr>
          <p:spPr>
            <a:xfrm>
              <a:off x="4537080" y="2857320"/>
              <a:ext cx="1123920" cy="685800"/>
            </a:xfrm>
            <a:custGeom>
              <a:avLst/>
              <a:gdLst/>
              <a:ahLst/>
              <a:rect l="l" t="t" r="r" b="b"/>
              <a:pathLst>
                <a:path w="708" h="432">
                  <a:moveTo>
                    <a:pt x="8" y="211"/>
                  </a:moveTo>
                  <a:cubicBezTo>
                    <a:pt x="8" y="211"/>
                    <a:pt x="265" y="380"/>
                    <a:pt x="324" y="417"/>
                  </a:cubicBezTo>
                  <a:cubicBezTo>
                    <a:pt x="336" y="423"/>
                    <a:pt x="342" y="432"/>
                    <a:pt x="360" y="432"/>
                  </a:cubicBezTo>
                  <a:cubicBezTo>
                    <a:pt x="378" y="432"/>
                    <a:pt x="386" y="423"/>
                    <a:pt x="404" y="412"/>
                  </a:cubicBezTo>
                  <a:cubicBezTo>
                    <a:pt x="560" y="311"/>
                    <a:pt x="705" y="216"/>
                    <a:pt x="705" y="216"/>
                  </a:cubicBezTo>
                  <a:lnTo>
                    <a:pt x="708" y="198"/>
                  </a:lnTo>
                  <a:lnTo>
                    <a:pt x="671" y="4"/>
                  </a:lnTo>
                  <a:lnTo>
                    <a:pt x="383" y="190"/>
                  </a:lnTo>
                  <a:lnTo>
                    <a:pt x="354" y="187"/>
                  </a:lnTo>
                  <a:lnTo>
                    <a:pt x="39" y="0"/>
                  </a:lnTo>
                  <a:lnTo>
                    <a:pt x="0" y="195"/>
                  </a:lnTo>
                  <a:lnTo>
                    <a:pt x="8" y="211"/>
                  </a:lnTo>
                  <a:close/>
                </a:path>
              </a:pathLst>
            </a:custGeom>
            <a:gradFill rotWithShape="0">
              <a:gsLst>
                <a:gs pos="0">
                  <a:srgbClr val="fdfdfd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290845"/>
            <p:cNvSpPr/>
            <p:nvPr/>
          </p:nvSpPr>
          <p:spPr>
            <a:xfrm>
              <a:off x="4584600" y="2600280"/>
              <a:ext cx="1025280" cy="581040"/>
            </a:xfrm>
            <a:custGeom>
              <a:avLst/>
              <a:gdLst/>
              <a:ahLst/>
              <a:rect l="l" t="t" r="r" b="b"/>
              <a:pathLst>
                <a:path w="646" h="366">
                  <a:moveTo>
                    <a:pt x="346" y="0"/>
                  </a:moveTo>
                  <a:cubicBezTo>
                    <a:pt x="331" y="0"/>
                    <a:pt x="317" y="12"/>
                    <a:pt x="288" y="27"/>
                  </a:cubicBezTo>
                  <a:lnTo>
                    <a:pt x="171" y="89"/>
                  </a:lnTo>
                  <a:lnTo>
                    <a:pt x="21" y="158"/>
                  </a:lnTo>
                  <a:cubicBezTo>
                    <a:pt x="21" y="158"/>
                    <a:pt x="0" y="167"/>
                    <a:pt x="15" y="182"/>
                  </a:cubicBezTo>
                  <a:cubicBezTo>
                    <a:pt x="151" y="265"/>
                    <a:pt x="188" y="289"/>
                    <a:pt x="241" y="320"/>
                  </a:cubicBezTo>
                  <a:cubicBezTo>
                    <a:pt x="294" y="351"/>
                    <a:pt x="308" y="361"/>
                    <a:pt x="333" y="366"/>
                  </a:cubicBezTo>
                  <a:cubicBezTo>
                    <a:pt x="349" y="365"/>
                    <a:pt x="355" y="366"/>
                    <a:pt x="391" y="347"/>
                  </a:cubicBezTo>
                  <a:lnTo>
                    <a:pt x="552" y="251"/>
                  </a:lnTo>
                  <a:lnTo>
                    <a:pt x="618" y="204"/>
                  </a:lnTo>
                  <a:cubicBezTo>
                    <a:pt x="633" y="192"/>
                    <a:pt x="643" y="187"/>
                    <a:pt x="643" y="179"/>
                  </a:cubicBezTo>
                  <a:cubicBezTo>
                    <a:pt x="643" y="171"/>
                    <a:pt x="646" y="171"/>
                    <a:pt x="619" y="153"/>
                  </a:cubicBezTo>
                  <a:lnTo>
                    <a:pt x="478" y="69"/>
                  </a:lnTo>
                  <a:cubicBezTo>
                    <a:pt x="433" y="44"/>
                    <a:pt x="361" y="0"/>
                    <a:pt x="34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任意多边形 290846"/>
            <p:cNvSpPr/>
            <p:nvPr/>
          </p:nvSpPr>
          <p:spPr>
            <a:xfrm>
              <a:off x="4708440" y="2947680"/>
              <a:ext cx="403200" cy="497160"/>
            </a:xfrm>
            <a:custGeom>
              <a:avLst/>
              <a:gdLst/>
              <a:ahLst/>
              <a:rect l="l" t="t" r="r" b="b"/>
              <a:pathLst>
                <a:path w="254" h="313">
                  <a:moveTo>
                    <a:pt x="0" y="0"/>
                  </a:moveTo>
                  <a:lnTo>
                    <a:pt x="134" y="82"/>
                  </a:lnTo>
                  <a:cubicBezTo>
                    <a:pt x="172" y="105"/>
                    <a:pt x="208" y="121"/>
                    <a:pt x="228" y="135"/>
                  </a:cubicBezTo>
                  <a:cubicBezTo>
                    <a:pt x="245" y="144"/>
                    <a:pt x="253" y="141"/>
                    <a:pt x="254" y="166"/>
                  </a:cubicBezTo>
                  <a:lnTo>
                    <a:pt x="254" y="313"/>
                  </a:lnTo>
                  <a:cubicBezTo>
                    <a:pt x="244" y="310"/>
                    <a:pt x="233" y="202"/>
                    <a:pt x="191" y="150"/>
                  </a:cubicBezTo>
                  <a:cubicBezTo>
                    <a:pt x="149" y="98"/>
                    <a:pt x="38" y="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4948200" y="2779560"/>
              <a:ext cx="301320" cy="168120"/>
              <a:chOff x="4948200" y="2779560"/>
              <a:chExt cx="301320" cy="168120"/>
            </a:xfrm>
          </p:grpSpPr>
          <p:sp>
            <p:nvSpPr>
              <p:cNvPr id="649" name="直接连接符 290847"/>
              <p:cNvSpPr/>
              <p:nvPr/>
            </p:nvSpPr>
            <p:spPr>
              <a:xfrm>
                <a:off x="4948200" y="2779560"/>
                <a:ext cx="301320" cy="16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 txBox="1"/>
              <p:nvPr/>
            </p:nvSpPr>
            <p:spPr>
              <a:xfrm>
                <a:off x="4948200" y="2779560"/>
                <a:ext cx="301320" cy="168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1" name="矩形 290848"/>
          <p:cNvSpPr/>
          <p:nvPr/>
        </p:nvSpPr>
        <p:spPr>
          <a:xfrm>
            <a:off x="5848200" y="1371600"/>
            <a:ext cx="19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a2"/>
                </a:solidFill>
                <a:latin typeface="Arial"/>
                <a:ea typeface="Arial"/>
              </a:rPr>
              <a:t>Produc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290849"/>
          <p:cNvSpPr/>
          <p:nvPr/>
        </p:nvSpPr>
        <p:spPr>
          <a:xfrm>
            <a:off x="5802480" y="1422360"/>
            <a:ext cx="36360" cy="43668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290850"/>
          <p:cNvSpPr/>
          <p:nvPr/>
        </p:nvSpPr>
        <p:spPr>
          <a:xfrm>
            <a:off x="5877000" y="3359160"/>
            <a:ext cx="19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a2"/>
                </a:solidFill>
                <a:latin typeface="Arial"/>
                <a:ea typeface="Arial"/>
              </a:rPr>
              <a:t>Produc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290851"/>
          <p:cNvSpPr/>
          <p:nvPr/>
        </p:nvSpPr>
        <p:spPr>
          <a:xfrm>
            <a:off x="5842080" y="3413160"/>
            <a:ext cx="36360" cy="43668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290852"/>
          <p:cNvSpPr/>
          <p:nvPr/>
        </p:nvSpPr>
        <p:spPr>
          <a:xfrm>
            <a:off x="1184400" y="5796000"/>
            <a:ext cx="6567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duc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棱台 290853"/>
          <p:cNvSpPr/>
          <p:nvPr/>
        </p:nvSpPr>
        <p:spPr>
          <a:xfrm>
            <a:off x="1079640" y="5877000"/>
            <a:ext cx="123840" cy="127080"/>
          </a:xfrm>
          <a:prstGeom prst="bevel">
            <a:avLst>
              <a:gd name="adj" fmla="val 12500"/>
            </a:avLst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右箭头 223234"/>
          <p:cNvSpPr/>
          <p:nvPr/>
        </p:nvSpPr>
        <p:spPr>
          <a:xfrm>
            <a:off x="142920" y="1600200"/>
            <a:ext cx="2743200" cy="4419720"/>
          </a:xfrm>
          <a:prstGeom prst="rightArrow">
            <a:avLst>
              <a:gd name="adj1" fmla="val 62787"/>
              <a:gd name="adj2" fmla="val 412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223235"/>
          <p:cNvSpPr/>
          <p:nvPr/>
        </p:nvSpPr>
        <p:spPr>
          <a:xfrm>
            <a:off x="219240" y="2590920"/>
            <a:ext cx="22096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3c052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93c052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圆角矩形 223236"/>
          <p:cNvSpPr/>
          <p:nvPr/>
        </p:nvSpPr>
        <p:spPr>
          <a:xfrm>
            <a:off x="30384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组合 223237"/>
          <p:cNvGrpSpPr/>
          <p:nvPr/>
        </p:nvGrpSpPr>
        <p:grpSpPr>
          <a:xfrm>
            <a:off x="3114720" y="1828800"/>
            <a:ext cx="4924440" cy="1228680"/>
            <a:chOff x="3114720" y="1828800"/>
            <a:chExt cx="4924440" cy="1228680"/>
          </a:xfrm>
        </p:grpSpPr>
        <p:sp>
          <p:nvSpPr>
            <p:cNvPr id="663" name="圆角矩形 223238"/>
            <p:cNvSpPr/>
            <p:nvPr/>
          </p:nvSpPr>
          <p:spPr>
            <a:xfrm>
              <a:off x="31622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0080a2"/>
                </a:gs>
                <a:gs pos="100000">
                  <a:srgbClr val="c9e4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右箭头 223239"/>
            <p:cNvSpPr/>
            <p:nvPr/>
          </p:nvSpPr>
          <p:spPr>
            <a:xfrm>
              <a:off x="3114720" y="2286000"/>
              <a:ext cx="533520" cy="380880"/>
            </a:xfrm>
            <a:prstGeom prst="rightArrow">
              <a:avLst>
                <a:gd name="adj1" fmla="val 50000"/>
                <a:gd name="adj2" fmla="val 58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组合 223240"/>
          <p:cNvGrpSpPr/>
          <p:nvPr/>
        </p:nvGrpSpPr>
        <p:grpSpPr>
          <a:xfrm>
            <a:off x="3114720" y="3191040"/>
            <a:ext cx="4924440" cy="1228680"/>
            <a:chOff x="3114720" y="3191040"/>
            <a:chExt cx="4924440" cy="1228680"/>
          </a:xfrm>
        </p:grpSpPr>
        <p:sp>
          <p:nvSpPr>
            <p:cNvPr id="666" name="圆角矩形 223241"/>
            <p:cNvSpPr/>
            <p:nvPr/>
          </p:nvSpPr>
          <p:spPr>
            <a:xfrm>
              <a:off x="31622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e9e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右箭头 223242"/>
            <p:cNvSpPr/>
            <p:nvPr/>
          </p:nvSpPr>
          <p:spPr>
            <a:xfrm>
              <a:off x="3114720" y="3657960"/>
              <a:ext cx="533520" cy="380880"/>
            </a:xfrm>
            <a:prstGeom prst="rightArrow">
              <a:avLst>
                <a:gd name="adj1" fmla="val 50000"/>
                <a:gd name="adj2" fmla="val 58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组合 223243"/>
          <p:cNvGrpSpPr/>
          <p:nvPr/>
        </p:nvGrpSpPr>
        <p:grpSpPr>
          <a:xfrm>
            <a:off x="3114720" y="4495680"/>
            <a:ext cx="4924440" cy="1228680"/>
            <a:chOff x="3114720" y="4495680"/>
            <a:chExt cx="4924440" cy="1228680"/>
          </a:xfrm>
        </p:grpSpPr>
        <p:sp>
          <p:nvSpPr>
            <p:cNvPr id="669" name="圆角矩形 223244"/>
            <p:cNvSpPr/>
            <p:nvPr/>
          </p:nvSpPr>
          <p:spPr>
            <a:xfrm>
              <a:off x="31622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e8f2d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右箭头 223245"/>
            <p:cNvSpPr/>
            <p:nvPr/>
          </p:nvSpPr>
          <p:spPr>
            <a:xfrm>
              <a:off x="3114720" y="4952880"/>
              <a:ext cx="533520" cy="380880"/>
            </a:xfrm>
            <a:prstGeom prst="rightArrow">
              <a:avLst>
                <a:gd name="adj1" fmla="val 50000"/>
                <a:gd name="adj2" fmla="val 58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文本框 223246"/>
          <p:cNvSpPr/>
          <p:nvPr/>
        </p:nvSpPr>
        <p:spPr>
          <a:xfrm>
            <a:off x="3800520" y="4660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223247"/>
          <p:cNvSpPr/>
          <p:nvPr/>
        </p:nvSpPr>
        <p:spPr>
          <a:xfrm>
            <a:off x="3800520" y="3355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文本框 223248"/>
          <p:cNvSpPr/>
          <p:nvPr/>
        </p:nvSpPr>
        <p:spPr>
          <a:xfrm>
            <a:off x="3800520" y="199404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椭圆 224258"/>
          <p:cNvSpPr/>
          <p:nvPr/>
        </p:nvSpPr>
        <p:spPr>
          <a:xfrm>
            <a:off x="3114720" y="1535040"/>
            <a:ext cx="2641680" cy="2644920"/>
          </a:xfrm>
          <a:prstGeom prst="ellipse">
            <a:avLst/>
          </a:prstGeom>
          <a:solidFill>
            <a:srgbClr val="93c05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椭圆 224259"/>
          <p:cNvSpPr/>
          <p:nvPr/>
        </p:nvSpPr>
        <p:spPr>
          <a:xfrm>
            <a:off x="4054320" y="2927520"/>
            <a:ext cx="2643480" cy="2643120"/>
          </a:xfrm>
          <a:prstGeom prst="ellipse">
            <a:avLst/>
          </a:prstGeom>
          <a:solidFill>
            <a:srgbClr val="4ea7ea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椭圆 224260"/>
          <p:cNvSpPr/>
          <p:nvPr/>
        </p:nvSpPr>
        <p:spPr>
          <a:xfrm>
            <a:off x="2071800" y="2892600"/>
            <a:ext cx="2644560" cy="2643120"/>
          </a:xfrm>
          <a:prstGeom prst="ellipse">
            <a:avLst/>
          </a:prstGeom>
          <a:solidFill>
            <a:srgbClr val="0080a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660760" y="2579400"/>
            <a:ext cx="1149120" cy="833400"/>
            <a:chOff x="2660760" y="2579400"/>
            <a:chExt cx="1149120" cy="833400"/>
          </a:xfrm>
        </p:grpSpPr>
        <p:sp>
          <p:nvSpPr>
            <p:cNvPr id="679" name="直接连接符 224261"/>
            <p:cNvSpPr/>
            <p:nvPr/>
          </p:nvSpPr>
          <p:spPr>
            <a:xfrm flipH="1" flipV="1">
              <a:off x="2660760" y="2579400"/>
              <a:ext cx="1149120" cy="83340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 txBox="1"/>
            <p:nvPr/>
          </p:nvSpPr>
          <p:spPr>
            <a:xfrm rot="10800000">
              <a:off x="2660760" y="2579400"/>
              <a:ext cx="1149120" cy="83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165640" y="2612880"/>
            <a:ext cx="1217520" cy="765360"/>
            <a:chOff x="5165640" y="2612880"/>
            <a:chExt cx="1217520" cy="765360"/>
          </a:xfrm>
        </p:grpSpPr>
        <p:sp>
          <p:nvSpPr>
            <p:cNvPr id="682" name="直接连接符 224262"/>
            <p:cNvSpPr/>
            <p:nvPr/>
          </p:nvSpPr>
          <p:spPr>
            <a:xfrm flipV="1">
              <a:off x="5165640" y="2612880"/>
              <a:ext cx="1217520" cy="76536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 txBox="1"/>
            <p:nvPr/>
          </p:nvSpPr>
          <p:spPr>
            <a:xfrm rot="10800000">
              <a:off x="5165640" y="2612880"/>
              <a:ext cx="1217520" cy="76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4366800" y="4562640"/>
            <a:ext cx="25920" cy="1042920"/>
            <a:chOff x="4366800" y="4562640"/>
            <a:chExt cx="25920" cy="1042920"/>
          </a:xfrm>
        </p:grpSpPr>
        <p:sp>
          <p:nvSpPr>
            <p:cNvPr id="685" name="直接连接符 224263"/>
            <p:cNvSpPr/>
            <p:nvPr/>
          </p:nvSpPr>
          <p:spPr>
            <a:xfrm flipH="1">
              <a:off x="4366800" y="4562640"/>
              <a:ext cx="25560" cy="104292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4367160" y="4562640"/>
              <a:ext cx="25560" cy="10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矩形 224264"/>
          <p:cNvSpPr/>
          <p:nvPr/>
        </p:nvSpPr>
        <p:spPr>
          <a:xfrm>
            <a:off x="3642840" y="350820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224265"/>
          <p:cNvSpPr/>
          <p:nvPr/>
        </p:nvSpPr>
        <p:spPr>
          <a:xfrm>
            <a:off x="60948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3c052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93c052"/>
                </a:solidFill>
                <a:latin typeface="Arial"/>
                <a:ea typeface="Arial"/>
              </a:rPr>
              <a:t>01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文本框 224266"/>
          <p:cNvSpPr/>
          <p:nvPr/>
        </p:nvSpPr>
        <p:spPr>
          <a:xfrm>
            <a:off x="631512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80a2"/>
                </a:solidFill>
                <a:latin typeface="Arial"/>
                <a:ea typeface="Arial"/>
              </a:rPr>
              <a:t>02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文本框 224267"/>
          <p:cNvSpPr/>
          <p:nvPr/>
        </p:nvSpPr>
        <p:spPr>
          <a:xfrm>
            <a:off x="3252960" y="554832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9999ff"/>
                </a:solidFill>
                <a:latin typeface="Arial"/>
                <a:ea typeface="Arial"/>
              </a:rPr>
              <a:t>03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文本框 224268"/>
          <p:cNvSpPr/>
          <p:nvPr/>
        </p:nvSpPr>
        <p:spPr>
          <a:xfrm>
            <a:off x="3529080" y="187164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224269"/>
          <p:cNvSpPr/>
          <p:nvPr/>
        </p:nvSpPr>
        <p:spPr>
          <a:xfrm>
            <a:off x="2276640" y="39816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224270"/>
          <p:cNvSpPr/>
          <p:nvPr/>
        </p:nvSpPr>
        <p:spPr>
          <a:xfrm>
            <a:off x="4710240" y="40212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椭圆 225295"/>
          <p:cNvSpPr/>
          <p:nvPr/>
        </p:nvSpPr>
        <p:spPr>
          <a:xfrm>
            <a:off x="2827440" y="2092320"/>
            <a:ext cx="3457440" cy="345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93c052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圆角矩形 225296"/>
          <p:cNvSpPr/>
          <p:nvPr/>
        </p:nvSpPr>
        <p:spPr>
          <a:xfrm>
            <a:off x="3622680" y="1665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80a2"/>
              </a:gs>
              <a:gs pos="100000">
                <a:srgbClr val="00627c"/>
              </a:gs>
            </a:gsLst>
            <a:lin ang="5400000"/>
          </a:gradFill>
          <a:ln w="57240">
            <a:solidFill>
              <a:srgbClr val="0080a2"/>
            </a:solidFill>
            <a:round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圆角矩形 225297"/>
          <p:cNvSpPr/>
          <p:nvPr/>
        </p:nvSpPr>
        <p:spPr>
          <a:xfrm>
            <a:off x="135720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80a2"/>
              </a:gs>
              <a:gs pos="100000">
                <a:srgbClr val="00627c"/>
              </a:gs>
            </a:gsLst>
            <a:lin ang="5400000"/>
          </a:gradFill>
          <a:ln w="57240">
            <a:solidFill>
              <a:srgbClr val="0080a2"/>
            </a:solidFill>
            <a:round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圆角矩形 225298"/>
          <p:cNvSpPr/>
          <p:nvPr/>
        </p:nvSpPr>
        <p:spPr>
          <a:xfrm>
            <a:off x="586728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80a2"/>
              </a:gs>
              <a:gs pos="100000">
                <a:srgbClr val="00627c"/>
              </a:gs>
            </a:gsLst>
            <a:lin ang="5400000"/>
          </a:gradFill>
          <a:ln w="57240">
            <a:solidFill>
              <a:srgbClr val="0080a2"/>
            </a:solidFill>
            <a:round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圆角矩形 225299"/>
          <p:cNvSpPr/>
          <p:nvPr/>
        </p:nvSpPr>
        <p:spPr>
          <a:xfrm>
            <a:off x="1940040" y="4743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80a2"/>
              </a:gs>
              <a:gs pos="100000">
                <a:srgbClr val="00627c"/>
              </a:gs>
            </a:gsLst>
            <a:lin ang="5400000"/>
          </a:gradFill>
          <a:ln w="57240">
            <a:solidFill>
              <a:srgbClr val="0080a2"/>
            </a:solidFill>
            <a:round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圆角矩形 225300"/>
          <p:cNvSpPr/>
          <p:nvPr/>
        </p:nvSpPr>
        <p:spPr>
          <a:xfrm>
            <a:off x="5234040" y="475632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80a2"/>
              </a:gs>
              <a:gs pos="100000">
                <a:srgbClr val="00627c"/>
              </a:gs>
            </a:gsLst>
            <a:lin ang="5400000"/>
          </a:gradFill>
          <a:ln w="57240">
            <a:solidFill>
              <a:srgbClr val="0080a2"/>
            </a:solidFill>
            <a:round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225301"/>
          <p:cNvSpPr/>
          <p:nvPr/>
        </p:nvSpPr>
        <p:spPr>
          <a:xfrm>
            <a:off x="5649840" y="1724040"/>
            <a:ext cx="218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225302"/>
          <p:cNvSpPr/>
          <p:nvPr/>
        </p:nvSpPr>
        <p:spPr>
          <a:xfrm>
            <a:off x="6262560" y="3716280"/>
            <a:ext cx="1497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225303"/>
          <p:cNvSpPr/>
          <p:nvPr/>
        </p:nvSpPr>
        <p:spPr>
          <a:xfrm>
            <a:off x="5170320" y="5451480"/>
            <a:ext cx="2281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225304"/>
          <p:cNvSpPr/>
          <p:nvPr/>
        </p:nvSpPr>
        <p:spPr>
          <a:xfrm>
            <a:off x="1482840" y="3720960"/>
            <a:ext cx="154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225305"/>
          <p:cNvSpPr/>
          <p:nvPr/>
        </p:nvSpPr>
        <p:spPr>
          <a:xfrm>
            <a:off x="1825560" y="5451480"/>
            <a:ext cx="219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225306"/>
          <p:cNvSpPr/>
          <p:nvPr/>
        </p:nvSpPr>
        <p:spPr>
          <a:xfrm>
            <a:off x="3840120" y="1806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225307"/>
          <p:cNvSpPr/>
          <p:nvPr/>
        </p:nvSpPr>
        <p:spPr>
          <a:xfrm>
            <a:off x="156204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矩形 225308"/>
          <p:cNvSpPr/>
          <p:nvPr/>
        </p:nvSpPr>
        <p:spPr>
          <a:xfrm>
            <a:off x="610056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225309"/>
          <p:cNvSpPr/>
          <p:nvPr/>
        </p:nvSpPr>
        <p:spPr>
          <a:xfrm>
            <a:off x="5416560" y="4902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矩形 225310"/>
          <p:cNvSpPr/>
          <p:nvPr/>
        </p:nvSpPr>
        <p:spPr>
          <a:xfrm>
            <a:off x="2193840" y="48387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225311"/>
          <p:cNvSpPr txBox="1"/>
          <p:nvPr/>
        </p:nvSpPr>
        <p:spPr>
          <a:xfrm>
            <a:off x="3997440" y="3543480"/>
            <a:ext cx="118260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232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itle</a:t>
            </a:r>
            <a:endParaRPr b="1" lang="en-US" sz="2000" spc="1" strike="noStrike">
              <a:ln w="2232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2" name="文本框 8194"/>
          <p:cNvSpPr/>
          <p:nvPr/>
        </p:nvSpPr>
        <p:spPr>
          <a:xfrm>
            <a:off x="0" y="1143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圆角矩形 226306"/>
          <p:cNvSpPr/>
          <p:nvPr/>
        </p:nvSpPr>
        <p:spPr>
          <a:xfrm rot="5400000">
            <a:off x="7855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任意多边形 226307"/>
          <p:cNvSpPr/>
          <p:nvPr/>
        </p:nvSpPr>
        <p:spPr>
          <a:xfrm>
            <a:off x="873000" y="3763800"/>
            <a:ext cx="2006640" cy="48132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93c05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226308"/>
          <p:cNvSpPr/>
          <p:nvPr/>
        </p:nvSpPr>
        <p:spPr>
          <a:xfrm>
            <a:off x="11386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226309"/>
          <p:cNvSpPr/>
          <p:nvPr/>
        </p:nvSpPr>
        <p:spPr>
          <a:xfrm>
            <a:off x="8618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圆角矩形 226310"/>
          <p:cNvSpPr/>
          <p:nvPr/>
        </p:nvSpPr>
        <p:spPr>
          <a:xfrm rot="5400000">
            <a:off x="35287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任意多边形 226311"/>
          <p:cNvSpPr/>
          <p:nvPr/>
        </p:nvSpPr>
        <p:spPr>
          <a:xfrm>
            <a:off x="3621240" y="3762360"/>
            <a:ext cx="200160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0080a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226312"/>
          <p:cNvSpPr/>
          <p:nvPr/>
        </p:nvSpPr>
        <p:spPr>
          <a:xfrm>
            <a:off x="38818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226313"/>
          <p:cNvSpPr/>
          <p:nvPr/>
        </p:nvSpPr>
        <p:spPr>
          <a:xfrm>
            <a:off x="36050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圆角矩形 226314"/>
          <p:cNvSpPr/>
          <p:nvPr/>
        </p:nvSpPr>
        <p:spPr>
          <a:xfrm rot="5400000">
            <a:off x="6233760" y="384192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任意多边形 226315"/>
          <p:cNvSpPr/>
          <p:nvPr/>
        </p:nvSpPr>
        <p:spPr>
          <a:xfrm>
            <a:off x="6319800" y="376236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226316"/>
          <p:cNvSpPr/>
          <p:nvPr/>
        </p:nvSpPr>
        <p:spPr>
          <a:xfrm>
            <a:off x="658692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226317"/>
          <p:cNvSpPr/>
          <p:nvPr/>
        </p:nvSpPr>
        <p:spPr>
          <a:xfrm>
            <a:off x="631044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组合 226318"/>
          <p:cNvGrpSpPr/>
          <p:nvPr/>
        </p:nvGrpSpPr>
        <p:grpSpPr>
          <a:xfrm>
            <a:off x="3422520" y="1787400"/>
            <a:ext cx="2382840" cy="538200"/>
            <a:chOff x="3422520" y="1787400"/>
            <a:chExt cx="2382840" cy="538200"/>
          </a:xfrm>
        </p:grpSpPr>
        <p:sp>
          <p:nvSpPr>
            <p:cNvPr id="727" name="圆角矩形 226319"/>
            <p:cNvSpPr/>
            <p:nvPr/>
          </p:nvSpPr>
          <p:spPr>
            <a:xfrm>
              <a:off x="3422520" y="17874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圆角矩形 226320"/>
            <p:cNvSpPr/>
            <p:nvPr/>
          </p:nvSpPr>
          <p:spPr>
            <a:xfrm>
              <a:off x="3451320" y="181764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80a2">
                    <a:alpha val="90196"/>
                  </a:srgbClr>
                </a:gs>
                <a:gs pos="50000">
                  <a:srgbClr val="a9d4e0"/>
                </a:gs>
                <a:gs pos="100000">
                  <a:srgbClr val="0080a2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矩形 226321"/>
          <p:cNvSpPr/>
          <p:nvPr/>
        </p:nvSpPr>
        <p:spPr>
          <a:xfrm>
            <a:off x="389340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组合 226322"/>
          <p:cNvGrpSpPr/>
          <p:nvPr/>
        </p:nvGrpSpPr>
        <p:grpSpPr>
          <a:xfrm>
            <a:off x="6149880" y="1787400"/>
            <a:ext cx="2384640" cy="538200"/>
            <a:chOff x="6149880" y="1787400"/>
            <a:chExt cx="2384640" cy="538200"/>
          </a:xfrm>
        </p:grpSpPr>
        <p:sp>
          <p:nvSpPr>
            <p:cNvPr id="731" name="圆角矩形 226323"/>
            <p:cNvSpPr/>
            <p:nvPr/>
          </p:nvSpPr>
          <p:spPr>
            <a:xfrm>
              <a:off x="6149880" y="1787400"/>
              <a:ext cx="23846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圆角矩形 226324"/>
            <p:cNvSpPr/>
            <p:nvPr/>
          </p:nvSpPr>
          <p:spPr>
            <a:xfrm>
              <a:off x="61801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>
                    <a:alpha val="90196"/>
                  </a:srgbClr>
                </a:gs>
                <a:gs pos="50000">
                  <a:srgbClr val="ddddff"/>
                </a:gs>
                <a:gs pos="100000">
                  <a:srgbClr val="9999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矩形 226325"/>
          <p:cNvSpPr/>
          <p:nvPr/>
        </p:nvSpPr>
        <p:spPr>
          <a:xfrm>
            <a:off x="66229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组合 226326"/>
          <p:cNvGrpSpPr/>
          <p:nvPr/>
        </p:nvGrpSpPr>
        <p:grpSpPr>
          <a:xfrm>
            <a:off x="730080" y="1787400"/>
            <a:ext cx="2384640" cy="538200"/>
            <a:chOff x="730080" y="1787400"/>
            <a:chExt cx="2384640" cy="538200"/>
          </a:xfrm>
        </p:grpSpPr>
        <p:sp>
          <p:nvSpPr>
            <p:cNvPr id="735" name="圆角矩形 226327"/>
            <p:cNvSpPr/>
            <p:nvPr/>
          </p:nvSpPr>
          <p:spPr>
            <a:xfrm>
              <a:off x="730080" y="1787400"/>
              <a:ext cx="23846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5451e"/>
                </a:gs>
                <a:gs pos="50000">
                  <a:srgbClr val="93c052"/>
                </a:gs>
                <a:gs pos="100000">
                  <a:srgbClr val="35451e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圆角矩形 226328"/>
            <p:cNvSpPr/>
            <p:nvPr/>
          </p:nvSpPr>
          <p:spPr>
            <a:xfrm>
              <a:off x="7603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>
                    <a:alpha val="90196"/>
                  </a:srgbClr>
                </a:gs>
                <a:gs pos="50000">
                  <a:srgbClr val="dbeac5"/>
                </a:gs>
                <a:gs pos="100000">
                  <a:srgbClr val="93c052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矩形 226329"/>
          <p:cNvSpPr/>
          <p:nvPr/>
        </p:nvSpPr>
        <p:spPr>
          <a:xfrm>
            <a:off x="12031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等腰三角形 226330"/>
          <p:cNvSpPr/>
          <p:nvPr/>
        </p:nvSpPr>
        <p:spPr>
          <a:xfrm flipV="1">
            <a:off x="9158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3c05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等腰三角形 226331"/>
          <p:cNvSpPr/>
          <p:nvPr/>
        </p:nvSpPr>
        <p:spPr>
          <a:xfrm flipV="1">
            <a:off x="35830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80a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等腰三角形 226332"/>
          <p:cNvSpPr/>
          <p:nvPr/>
        </p:nvSpPr>
        <p:spPr>
          <a:xfrm flipV="1">
            <a:off x="63262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2" name="组合 227330"/>
          <p:cNvGrpSpPr/>
          <p:nvPr/>
        </p:nvGrpSpPr>
        <p:grpSpPr>
          <a:xfrm>
            <a:off x="2324880" y="1933560"/>
            <a:ext cx="4218480" cy="4162320"/>
            <a:chOff x="2324880" y="1933560"/>
            <a:chExt cx="4218480" cy="4162320"/>
          </a:xfrm>
        </p:grpSpPr>
        <p:sp>
          <p:nvSpPr>
            <p:cNvPr id="743" name="等腰三角形 227331"/>
            <p:cNvSpPr/>
            <p:nvPr/>
          </p:nvSpPr>
          <p:spPr>
            <a:xfrm rot="10800000">
              <a:off x="3816000" y="5043240"/>
              <a:ext cx="1192320" cy="1052640"/>
            </a:xfrm>
            <a:prstGeom prst="triangle">
              <a:avLst>
                <a:gd name="adj" fmla="val 50000"/>
              </a:avLst>
            </a:prstGeom>
            <a:solidFill>
              <a:srgbClr val="4ea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等腰三角形 227332"/>
            <p:cNvSpPr/>
            <p:nvPr/>
          </p:nvSpPr>
          <p:spPr>
            <a:xfrm>
              <a:off x="3833640" y="1933560"/>
              <a:ext cx="1192320" cy="1052280"/>
            </a:xfrm>
            <a:prstGeom prst="triangle">
              <a:avLst>
                <a:gd name="adj" fmla="val 50000"/>
              </a:avLst>
            </a:prstGeom>
            <a:solidFill>
              <a:srgbClr val="0080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等腰三角形 227333"/>
            <p:cNvSpPr/>
            <p:nvPr/>
          </p:nvSpPr>
          <p:spPr>
            <a:xfrm rot="7186200">
              <a:off x="5193000" y="4247280"/>
              <a:ext cx="1193760" cy="1052640"/>
            </a:xfrm>
            <a:prstGeom prst="triangle">
              <a:avLst>
                <a:gd name="adj" fmla="val 50000"/>
              </a:avLst>
            </a:prstGeom>
            <a:solidFill>
              <a:srgbClr val="0080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等腰三角形 227334"/>
            <p:cNvSpPr/>
            <p:nvPr/>
          </p:nvSpPr>
          <p:spPr>
            <a:xfrm rot="3597000">
              <a:off x="5189400" y="2713680"/>
              <a:ext cx="1192320" cy="1050840"/>
            </a:xfrm>
            <a:prstGeom prst="triangle">
              <a:avLst>
                <a:gd name="adj" fmla="val 50000"/>
              </a:avLst>
            </a:prstGeom>
            <a:solidFill>
              <a:srgbClr val="4ea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等腰三角形 227335"/>
            <p:cNvSpPr/>
            <p:nvPr/>
          </p:nvSpPr>
          <p:spPr>
            <a:xfrm rot="14374200">
              <a:off x="2484000" y="4255920"/>
              <a:ext cx="1192320" cy="1052280"/>
            </a:xfrm>
            <a:prstGeom prst="triangle">
              <a:avLst>
                <a:gd name="adj" fmla="val 50000"/>
              </a:avLst>
            </a:prstGeom>
            <a:solidFill>
              <a:srgbClr val="0080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等腰三角形 227336"/>
            <p:cNvSpPr/>
            <p:nvPr/>
          </p:nvSpPr>
          <p:spPr>
            <a:xfrm rot="17985000">
              <a:off x="2487960" y="2709360"/>
              <a:ext cx="1193760" cy="1052280"/>
            </a:xfrm>
            <a:prstGeom prst="triangle">
              <a:avLst>
                <a:gd name="adj" fmla="val 50000"/>
              </a:avLst>
            </a:prstGeom>
            <a:solidFill>
              <a:srgbClr val="4ea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3159000" y="5429160"/>
              <a:ext cx="1182600" cy="360"/>
              <a:chOff x="3159000" y="5429160"/>
              <a:chExt cx="1182600" cy="360"/>
            </a:xfrm>
          </p:grpSpPr>
          <p:sp>
            <p:nvSpPr>
              <p:cNvPr id="750" name="直接连接符 227337"/>
              <p:cNvSpPr/>
              <p:nvPr/>
            </p:nvSpPr>
            <p:spPr>
              <a:xfrm>
                <a:off x="3159000" y="5429160"/>
                <a:ext cx="11826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 txBox="1"/>
              <p:nvPr/>
            </p:nvSpPr>
            <p:spPr>
              <a:xfrm>
                <a:off x="3159000" y="5429160"/>
                <a:ext cx="1182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2" name="矩形 227338"/>
          <p:cNvSpPr/>
          <p:nvPr/>
        </p:nvSpPr>
        <p:spPr>
          <a:xfrm>
            <a:off x="1692720" y="5286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227339"/>
          <p:cNvSpPr/>
          <p:nvPr/>
        </p:nvSpPr>
        <p:spPr>
          <a:xfrm>
            <a:off x="614880" y="3135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227340"/>
          <p:cNvSpPr/>
          <p:nvPr/>
        </p:nvSpPr>
        <p:spPr>
          <a:xfrm>
            <a:off x="614880" y="45561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227341"/>
          <p:cNvSpPr/>
          <p:nvPr/>
        </p:nvSpPr>
        <p:spPr>
          <a:xfrm>
            <a:off x="6969600" y="31338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227342"/>
          <p:cNvSpPr/>
          <p:nvPr/>
        </p:nvSpPr>
        <p:spPr>
          <a:xfrm>
            <a:off x="6969600" y="45054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227343"/>
          <p:cNvSpPr/>
          <p:nvPr/>
        </p:nvSpPr>
        <p:spPr>
          <a:xfrm>
            <a:off x="5740920" y="228132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六边形 227344"/>
          <p:cNvSpPr/>
          <p:nvPr/>
        </p:nvSpPr>
        <p:spPr>
          <a:xfrm>
            <a:off x="3411360" y="3081240"/>
            <a:ext cx="2094120" cy="1811520"/>
          </a:xfrm>
          <a:prstGeom prst="hexagon">
            <a:avLst>
              <a:gd name="adj" fmla="val 28900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3181320" y="5457960"/>
            <a:ext cx="1228680" cy="360"/>
            <a:chOff x="3181320" y="5457960"/>
            <a:chExt cx="1228680" cy="360"/>
          </a:xfrm>
        </p:grpSpPr>
        <p:sp>
          <p:nvSpPr>
            <p:cNvPr id="760" name="直接连接符 227345"/>
            <p:cNvSpPr/>
            <p:nvPr/>
          </p:nvSpPr>
          <p:spPr>
            <a:xfrm>
              <a:off x="3181320" y="545796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 txBox="1"/>
            <p:nvPr/>
          </p:nvSpPr>
          <p:spPr>
            <a:xfrm>
              <a:off x="3181320" y="545796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4516200" y="2451240"/>
            <a:ext cx="1229040" cy="360"/>
            <a:chOff x="4516200" y="2451240"/>
            <a:chExt cx="1229040" cy="360"/>
          </a:xfrm>
        </p:grpSpPr>
        <p:sp>
          <p:nvSpPr>
            <p:cNvPr id="763" name="直接连接符 227346"/>
            <p:cNvSpPr/>
            <p:nvPr/>
          </p:nvSpPr>
          <p:spPr>
            <a:xfrm flipH="1">
              <a:off x="4516200" y="245124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 txBox="1"/>
            <p:nvPr/>
          </p:nvSpPr>
          <p:spPr>
            <a:xfrm>
              <a:off x="4516560" y="245124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文本框 227347"/>
          <p:cNvSpPr/>
          <p:nvPr/>
        </p:nvSpPr>
        <p:spPr>
          <a:xfrm>
            <a:off x="3373560" y="381960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2103480" y="3286080"/>
            <a:ext cx="1228680" cy="360"/>
            <a:chOff x="2103480" y="3286080"/>
            <a:chExt cx="1228680" cy="360"/>
          </a:xfrm>
        </p:grpSpPr>
        <p:sp>
          <p:nvSpPr>
            <p:cNvPr id="767" name="直接连接符 227348"/>
            <p:cNvSpPr/>
            <p:nvPr/>
          </p:nvSpPr>
          <p:spPr>
            <a:xfrm>
              <a:off x="2103480" y="328608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 txBox="1"/>
            <p:nvPr/>
          </p:nvSpPr>
          <p:spPr>
            <a:xfrm>
              <a:off x="2103480" y="328608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2103480" y="4705200"/>
            <a:ext cx="1228680" cy="360"/>
            <a:chOff x="2103480" y="4705200"/>
            <a:chExt cx="1228680" cy="360"/>
          </a:xfrm>
        </p:grpSpPr>
        <p:sp>
          <p:nvSpPr>
            <p:cNvPr id="770" name="直接连接符 227349"/>
            <p:cNvSpPr/>
            <p:nvPr/>
          </p:nvSpPr>
          <p:spPr>
            <a:xfrm>
              <a:off x="2103480" y="470520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 txBox="1"/>
            <p:nvPr/>
          </p:nvSpPr>
          <p:spPr>
            <a:xfrm>
              <a:off x="2103480" y="470520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5744880" y="3303720"/>
            <a:ext cx="1229040" cy="360"/>
            <a:chOff x="5744880" y="3303720"/>
            <a:chExt cx="1229040" cy="360"/>
          </a:xfrm>
        </p:grpSpPr>
        <p:sp>
          <p:nvSpPr>
            <p:cNvPr id="773" name="直接连接符 227350"/>
            <p:cNvSpPr/>
            <p:nvPr/>
          </p:nvSpPr>
          <p:spPr>
            <a:xfrm flipH="1">
              <a:off x="5744880" y="330372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 txBox="1"/>
            <p:nvPr/>
          </p:nvSpPr>
          <p:spPr>
            <a:xfrm>
              <a:off x="5745240" y="330372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5744880" y="4675320"/>
            <a:ext cx="1229040" cy="360"/>
            <a:chOff x="5744880" y="4675320"/>
            <a:chExt cx="1229040" cy="360"/>
          </a:xfrm>
        </p:grpSpPr>
        <p:sp>
          <p:nvSpPr>
            <p:cNvPr id="776" name="直接连接符 227351"/>
            <p:cNvSpPr/>
            <p:nvPr/>
          </p:nvSpPr>
          <p:spPr>
            <a:xfrm flipH="1">
              <a:off x="5744880" y="467532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 txBox="1"/>
            <p:nvPr/>
          </p:nvSpPr>
          <p:spPr>
            <a:xfrm>
              <a:off x="5745240" y="467532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圆角矩形 227354"/>
          <p:cNvSpPr/>
          <p:nvPr/>
        </p:nvSpPr>
        <p:spPr>
          <a:xfrm>
            <a:off x="533520" y="15238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9999ff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圆角矩形 227355"/>
          <p:cNvSpPr/>
          <p:nvPr/>
        </p:nvSpPr>
        <p:spPr>
          <a:xfrm>
            <a:off x="533520" y="19810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93c0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3c052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93c052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8194"/>
          <p:cNvSpPr/>
          <p:nvPr/>
        </p:nvSpPr>
        <p:spPr>
          <a:xfrm>
            <a:off x="762120" y="10666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任意多边形 229454"/>
          <p:cNvSpPr/>
          <p:nvPr/>
        </p:nvSpPr>
        <p:spPr>
          <a:xfrm rot="18900000">
            <a:off x="3216240" y="2809800"/>
            <a:ext cx="2454480" cy="2455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229455"/>
          <p:cNvSpPr/>
          <p:nvPr/>
        </p:nvSpPr>
        <p:spPr>
          <a:xfrm>
            <a:off x="568440" y="226548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Arial"/>
                <a:ea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229456"/>
          <p:cNvSpPr/>
          <p:nvPr/>
        </p:nvSpPr>
        <p:spPr>
          <a:xfrm>
            <a:off x="6518160" y="495288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Arial"/>
                <a:ea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229457"/>
          <p:cNvSpPr/>
          <p:nvPr/>
        </p:nvSpPr>
        <p:spPr>
          <a:xfrm>
            <a:off x="382680" y="498780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a2"/>
                </a:solidFill>
                <a:latin typeface="Arial"/>
                <a:ea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229458"/>
          <p:cNvSpPr/>
          <p:nvPr/>
        </p:nvSpPr>
        <p:spPr>
          <a:xfrm>
            <a:off x="6510240" y="220500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a2"/>
                </a:solidFill>
                <a:latin typeface="Arial"/>
                <a:ea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图片 229459" descr="circuler_1"/>
          <p:cNvPicPr/>
          <p:nvPr/>
        </p:nvPicPr>
        <p:blipFill>
          <a:blip r:embed="rId2"/>
          <a:stretch/>
        </p:blipFill>
        <p:spPr>
          <a:xfrm>
            <a:off x="2309760" y="2070000"/>
            <a:ext cx="1222560" cy="1225800"/>
          </a:xfrm>
          <a:prstGeom prst="rect">
            <a:avLst/>
          </a:prstGeom>
          <a:ln w="0">
            <a:noFill/>
          </a:ln>
        </p:spPr>
      </p:pic>
      <p:sp>
        <p:nvSpPr>
          <p:cNvPr id="788" name="椭圆 229460"/>
          <p:cNvSpPr/>
          <p:nvPr/>
        </p:nvSpPr>
        <p:spPr>
          <a:xfrm>
            <a:off x="2309760" y="2066760"/>
            <a:ext cx="1214640" cy="1233720"/>
          </a:xfrm>
          <a:prstGeom prst="ellipse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图片 229461" descr="circuler_1"/>
          <p:cNvPicPr/>
          <p:nvPr/>
        </p:nvPicPr>
        <p:blipFill>
          <a:blip r:embed="rId3"/>
          <a:stretch/>
        </p:blipFill>
        <p:spPr>
          <a:xfrm>
            <a:off x="2309760" y="4799160"/>
            <a:ext cx="1220760" cy="1225440"/>
          </a:xfrm>
          <a:prstGeom prst="rect">
            <a:avLst/>
          </a:prstGeom>
          <a:ln w="0">
            <a:noFill/>
          </a:ln>
        </p:spPr>
      </p:pic>
      <p:sp>
        <p:nvSpPr>
          <p:cNvPr id="790" name="椭圆 229462"/>
          <p:cNvSpPr/>
          <p:nvPr/>
        </p:nvSpPr>
        <p:spPr>
          <a:xfrm>
            <a:off x="2309760" y="4795920"/>
            <a:ext cx="1216080" cy="1233360"/>
          </a:xfrm>
          <a:prstGeom prst="ellipse">
            <a:avLst/>
          </a:prstGeom>
          <a:solidFill>
            <a:srgbClr val="0080a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图片 229463" descr="circuler_1"/>
          <p:cNvPicPr/>
          <p:nvPr/>
        </p:nvPicPr>
        <p:blipFill>
          <a:blip r:embed="rId4"/>
          <a:stretch/>
        </p:blipFill>
        <p:spPr>
          <a:xfrm>
            <a:off x="5294160" y="4788000"/>
            <a:ext cx="1222560" cy="1225440"/>
          </a:xfrm>
          <a:prstGeom prst="rect">
            <a:avLst/>
          </a:prstGeom>
          <a:ln w="0">
            <a:noFill/>
          </a:ln>
        </p:spPr>
      </p:pic>
      <p:sp>
        <p:nvSpPr>
          <p:cNvPr id="792" name="椭圆 229464"/>
          <p:cNvSpPr/>
          <p:nvPr/>
        </p:nvSpPr>
        <p:spPr>
          <a:xfrm>
            <a:off x="5294160" y="4775040"/>
            <a:ext cx="1216080" cy="1233720"/>
          </a:xfrm>
          <a:prstGeom prst="ellipse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图片 229465" descr="circuler_1"/>
          <p:cNvPicPr/>
          <p:nvPr/>
        </p:nvPicPr>
        <p:blipFill>
          <a:blip r:embed="rId5"/>
          <a:stretch/>
        </p:blipFill>
        <p:spPr>
          <a:xfrm>
            <a:off x="5294160" y="2055960"/>
            <a:ext cx="1221120" cy="1226880"/>
          </a:xfrm>
          <a:prstGeom prst="rect">
            <a:avLst/>
          </a:prstGeom>
          <a:ln w="0">
            <a:noFill/>
          </a:ln>
        </p:spPr>
      </p:pic>
      <p:sp>
        <p:nvSpPr>
          <p:cNvPr id="794" name="椭圆 229466"/>
          <p:cNvSpPr/>
          <p:nvPr/>
        </p:nvSpPr>
        <p:spPr>
          <a:xfrm>
            <a:off x="5294160" y="2054160"/>
            <a:ext cx="1216080" cy="1233720"/>
          </a:xfrm>
          <a:prstGeom prst="ellipse">
            <a:avLst/>
          </a:prstGeom>
          <a:solidFill>
            <a:srgbClr val="0080a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文本框 229467"/>
          <p:cNvSpPr/>
          <p:nvPr/>
        </p:nvSpPr>
        <p:spPr>
          <a:xfrm>
            <a:off x="2546280" y="27306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组合 229468"/>
          <p:cNvGrpSpPr/>
          <p:nvPr/>
        </p:nvGrpSpPr>
        <p:grpSpPr>
          <a:xfrm>
            <a:off x="2733840" y="2319480"/>
            <a:ext cx="360360" cy="362880"/>
            <a:chOff x="2733840" y="2319480"/>
            <a:chExt cx="360360" cy="362880"/>
          </a:xfrm>
        </p:grpSpPr>
        <p:sp>
          <p:nvSpPr>
            <p:cNvPr id="797" name="椭圆 229469"/>
            <p:cNvSpPr/>
            <p:nvPr/>
          </p:nvSpPr>
          <p:spPr>
            <a:xfrm>
              <a:off x="2733840" y="2319480"/>
              <a:ext cx="360360" cy="3607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2915280" y="2319480"/>
              <a:ext cx="360" cy="358200"/>
              <a:chOff x="2915280" y="2319480"/>
              <a:chExt cx="360" cy="358200"/>
            </a:xfrm>
          </p:grpSpPr>
          <p:sp>
            <p:nvSpPr>
              <p:cNvPr id="799" name="直接连接符 229470"/>
              <p:cNvSpPr/>
              <p:nvPr/>
            </p:nvSpPr>
            <p:spPr>
              <a:xfrm>
                <a:off x="2915280" y="2319480"/>
                <a:ext cx="0" cy="35820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 txBox="1"/>
              <p:nvPr/>
            </p:nvSpPr>
            <p:spPr>
              <a:xfrm>
                <a:off x="2915280" y="2319480"/>
                <a:ext cx="360" cy="358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2733840" y="2498400"/>
              <a:ext cx="360360" cy="360"/>
              <a:chOff x="2733840" y="2498400"/>
              <a:chExt cx="360360" cy="360"/>
            </a:xfrm>
          </p:grpSpPr>
          <p:sp>
            <p:nvSpPr>
              <p:cNvPr id="802" name="直接连接符 229471"/>
              <p:cNvSpPr/>
              <p:nvPr/>
            </p:nvSpPr>
            <p:spPr>
              <a:xfrm>
                <a:off x="2733840" y="2498400"/>
                <a:ext cx="360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 txBox="1"/>
              <p:nvPr/>
            </p:nvSpPr>
            <p:spPr>
              <a:xfrm>
                <a:off x="2733840" y="249840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任意多边形 229472"/>
            <p:cNvSpPr/>
            <p:nvPr/>
          </p:nvSpPr>
          <p:spPr>
            <a:xfrm>
              <a:off x="2939400" y="2321640"/>
              <a:ext cx="74880" cy="35604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任意多边形 229473"/>
            <p:cNvSpPr/>
            <p:nvPr/>
          </p:nvSpPr>
          <p:spPr>
            <a:xfrm>
              <a:off x="2817360" y="2324160"/>
              <a:ext cx="81000" cy="358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任意多边形 229474"/>
            <p:cNvSpPr/>
            <p:nvPr/>
          </p:nvSpPr>
          <p:spPr>
            <a:xfrm rot="5400000">
              <a:off x="2884320" y="246816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任意多边形 229475"/>
            <p:cNvSpPr/>
            <p:nvPr/>
          </p:nvSpPr>
          <p:spPr>
            <a:xfrm flipV="1" rot="16200000">
              <a:off x="2887920" y="226080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组合 229476"/>
          <p:cNvGrpSpPr/>
          <p:nvPr/>
        </p:nvGrpSpPr>
        <p:grpSpPr>
          <a:xfrm>
            <a:off x="5694480" y="5033880"/>
            <a:ext cx="486720" cy="390240"/>
            <a:chOff x="5694480" y="5033880"/>
            <a:chExt cx="486720" cy="390240"/>
          </a:xfrm>
        </p:grpSpPr>
        <p:sp>
          <p:nvSpPr>
            <p:cNvPr id="809" name="任意多边形 229477"/>
            <p:cNvSpPr/>
            <p:nvPr/>
          </p:nvSpPr>
          <p:spPr>
            <a:xfrm>
              <a:off x="6047280" y="5033880"/>
              <a:ext cx="133920" cy="13536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任意多边形 229478"/>
            <p:cNvSpPr/>
            <p:nvPr/>
          </p:nvSpPr>
          <p:spPr>
            <a:xfrm>
              <a:off x="5798160" y="5110200"/>
              <a:ext cx="314640" cy="26424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任意多边形 229479"/>
            <p:cNvSpPr/>
            <p:nvPr/>
          </p:nvSpPr>
          <p:spPr>
            <a:xfrm>
              <a:off x="5798160" y="5033880"/>
              <a:ext cx="262800" cy="27468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任意多边形 229480"/>
            <p:cNvSpPr/>
            <p:nvPr/>
          </p:nvSpPr>
          <p:spPr>
            <a:xfrm>
              <a:off x="5850000" y="5155560"/>
              <a:ext cx="324000" cy="21924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任意多边形 229481"/>
            <p:cNvSpPr/>
            <p:nvPr/>
          </p:nvSpPr>
          <p:spPr>
            <a:xfrm>
              <a:off x="5718240" y="5228640"/>
              <a:ext cx="185760" cy="1890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任意多边形 229482"/>
            <p:cNvSpPr/>
            <p:nvPr/>
          </p:nvSpPr>
          <p:spPr>
            <a:xfrm>
              <a:off x="5694480" y="5386320"/>
              <a:ext cx="45000" cy="378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5727600" y="5304960"/>
              <a:ext cx="76320" cy="83520"/>
              <a:chOff x="5727600" y="5304960"/>
              <a:chExt cx="76320" cy="83520"/>
            </a:xfrm>
          </p:grpSpPr>
          <p:sp>
            <p:nvSpPr>
              <p:cNvPr id="816" name="直接连接符 229483"/>
              <p:cNvSpPr/>
              <p:nvPr/>
            </p:nvSpPr>
            <p:spPr>
              <a:xfrm flipV="1">
                <a:off x="5727960" y="5304960"/>
                <a:ext cx="75960" cy="8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 txBox="1"/>
              <p:nvPr/>
            </p:nvSpPr>
            <p:spPr>
              <a:xfrm rot="10800000">
                <a:off x="5727600" y="5304960"/>
                <a:ext cx="75960" cy="8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5738040" y="5371200"/>
              <a:ext cx="115200" cy="38880"/>
              <a:chOff x="5738040" y="5371200"/>
              <a:chExt cx="115200" cy="38880"/>
            </a:xfrm>
          </p:grpSpPr>
          <p:sp>
            <p:nvSpPr>
              <p:cNvPr id="819" name="直接连接符 229484"/>
              <p:cNvSpPr/>
              <p:nvPr/>
            </p:nvSpPr>
            <p:spPr>
              <a:xfrm flipV="1">
                <a:off x="5738040" y="5371200"/>
                <a:ext cx="115200" cy="3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 txBox="1"/>
              <p:nvPr/>
            </p:nvSpPr>
            <p:spPr>
              <a:xfrm rot="10800000">
                <a:off x="5738040" y="5371200"/>
                <a:ext cx="115200" cy="38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1" name="椭圆 229485"/>
            <p:cNvSpPr/>
            <p:nvPr/>
          </p:nvSpPr>
          <p:spPr>
            <a:xfrm rot="1507200">
              <a:off x="6095880" y="5078880"/>
              <a:ext cx="49680" cy="3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组合 229486"/>
          <p:cNvGrpSpPr/>
          <p:nvPr/>
        </p:nvGrpSpPr>
        <p:grpSpPr>
          <a:xfrm>
            <a:off x="2727360" y="5035680"/>
            <a:ext cx="409680" cy="354960"/>
            <a:chOff x="2727360" y="5035680"/>
            <a:chExt cx="409680" cy="354960"/>
          </a:xfrm>
        </p:grpSpPr>
        <p:sp>
          <p:nvSpPr>
            <p:cNvPr id="823" name="圆角矩形 229487"/>
            <p:cNvSpPr/>
            <p:nvPr/>
          </p:nvSpPr>
          <p:spPr>
            <a:xfrm>
              <a:off x="2811600" y="5035680"/>
              <a:ext cx="244080" cy="245880"/>
            </a:xfrm>
            <a:custGeom>
              <a:avLst/>
              <a:gdLst>
                <a:gd name="textAreaLeft" fmla="*/ 4320 w 244080"/>
                <a:gd name="textAreaRight" fmla="*/ 239760 w 244080"/>
                <a:gd name="textAreaTop" fmla="*/ 4320 h 245880"/>
                <a:gd name="textAreaBottom" fmla="*/ 241560 h 245880"/>
              </a:gdLst>
              <a:ahLst/>
              <a:rect l="textAreaLeft" t="textAreaTop" r="textAreaRight" b="textAreaBottom"/>
              <a:pathLst>
                <a:path w="21600" h="21759">
                  <a:moveTo>
                    <a:pt x="1350" y="0"/>
                  </a:moveTo>
                  <a:arcTo wR="1350" hR="1350" stAng="16200000" swAng="-5400000"/>
                  <a:lnTo>
                    <a:pt x="0" y="20409"/>
                  </a:lnTo>
                  <a:arcTo wR="1350" hR="1350" stAng="10800000" swAng="-5400000"/>
                  <a:lnTo>
                    <a:pt x="20250" y="21759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圆角矩形 229488"/>
            <p:cNvSpPr/>
            <p:nvPr/>
          </p:nvSpPr>
          <p:spPr>
            <a:xfrm>
              <a:off x="2727360" y="5281560"/>
              <a:ext cx="409680" cy="109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圆角矩形 229489"/>
            <p:cNvSpPr/>
            <p:nvPr/>
          </p:nvSpPr>
          <p:spPr>
            <a:xfrm>
              <a:off x="2832120" y="5059440"/>
              <a:ext cx="201960" cy="193320"/>
            </a:xfrm>
            <a:prstGeom prst="roundRect">
              <a:avLst>
                <a:gd name="adj" fmla="val 797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"/>
            <p:cNvGrpSpPr/>
            <p:nvPr/>
          </p:nvGrpSpPr>
          <p:grpSpPr>
            <a:xfrm>
              <a:off x="3016080" y="5334120"/>
              <a:ext cx="61920" cy="360"/>
              <a:chOff x="3016080" y="5334120"/>
              <a:chExt cx="61920" cy="360"/>
            </a:xfrm>
          </p:grpSpPr>
          <p:sp>
            <p:nvSpPr>
              <p:cNvPr id="827" name="直接连接符 229490"/>
              <p:cNvSpPr/>
              <p:nvPr/>
            </p:nvSpPr>
            <p:spPr>
              <a:xfrm flipH="1">
                <a:off x="3016080" y="5334120"/>
                <a:ext cx="615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 txBox="1"/>
              <p:nvPr/>
            </p:nvSpPr>
            <p:spPr>
              <a:xfrm>
                <a:off x="3016440" y="5334120"/>
                <a:ext cx="61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9" name=""/>
            <p:cNvGrpSpPr/>
            <p:nvPr/>
          </p:nvGrpSpPr>
          <p:grpSpPr>
            <a:xfrm>
              <a:off x="2907360" y="5109120"/>
              <a:ext cx="102240" cy="360"/>
              <a:chOff x="2907360" y="5109120"/>
              <a:chExt cx="102240" cy="360"/>
            </a:xfrm>
          </p:grpSpPr>
          <p:sp>
            <p:nvSpPr>
              <p:cNvPr id="830" name="直接连接符 229491"/>
              <p:cNvSpPr/>
              <p:nvPr/>
            </p:nvSpPr>
            <p:spPr>
              <a:xfrm flipH="1">
                <a:off x="2907360" y="5109120"/>
                <a:ext cx="102240" cy="0"/>
              </a:xfrm>
              <a:prstGeom prst="line">
                <a:avLst/>
              </a:prstGeom>
              <a:ln w="255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 txBox="1"/>
              <p:nvPr/>
            </p:nvSpPr>
            <p:spPr>
              <a:xfrm>
                <a:off x="2907360" y="5109120"/>
                <a:ext cx="102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2933640" y="5135400"/>
              <a:ext cx="62640" cy="360"/>
              <a:chOff x="2933640" y="5135400"/>
              <a:chExt cx="62640" cy="360"/>
            </a:xfrm>
          </p:grpSpPr>
          <p:sp>
            <p:nvSpPr>
              <p:cNvPr id="833" name="直接连接符 229492"/>
              <p:cNvSpPr/>
              <p:nvPr/>
            </p:nvSpPr>
            <p:spPr>
              <a:xfrm flipH="1">
                <a:off x="2933640" y="5135400"/>
                <a:ext cx="62640" cy="0"/>
              </a:xfrm>
              <a:prstGeom prst="line">
                <a:avLst/>
              </a:prstGeom>
              <a:ln w="255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 txBox="1"/>
              <p:nvPr/>
            </p:nvSpPr>
            <p:spPr>
              <a:xfrm>
                <a:off x="2933640" y="5135400"/>
                <a:ext cx="6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2950560" y="5217120"/>
              <a:ext cx="44640" cy="360"/>
              <a:chOff x="2950560" y="5217120"/>
              <a:chExt cx="44640" cy="360"/>
            </a:xfrm>
          </p:grpSpPr>
          <p:sp>
            <p:nvSpPr>
              <p:cNvPr id="836" name="直接连接符 229493"/>
              <p:cNvSpPr/>
              <p:nvPr/>
            </p:nvSpPr>
            <p:spPr>
              <a:xfrm flipH="1">
                <a:off x="2950560" y="5217120"/>
                <a:ext cx="44640" cy="0"/>
              </a:xfrm>
              <a:prstGeom prst="line">
                <a:avLst/>
              </a:prstGeom>
              <a:ln w="255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 txBox="1"/>
              <p:nvPr/>
            </p:nvSpPr>
            <p:spPr>
              <a:xfrm>
                <a:off x="2950560" y="5217120"/>
                <a:ext cx="44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8" name="组合 229494"/>
          <p:cNvGrpSpPr/>
          <p:nvPr/>
        </p:nvGrpSpPr>
        <p:grpSpPr>
          <a:xfrm>
            <a:off x="5684760" y="2319480"/>
            <a:ext cx="519120" cy="330120"/>
            <a:chOff x="5684760" y="2319480"/>
            <a:chExt cx="519120" cy="330120"/>
          </a:xfrm>
        </p:grpSpPr>
        <p:grpSp>
          <p:nvGrpSpPr>
            <p:cNvPr id="839" name="组合 229495"/>
            <p:cNvGrpSpPr/>
            <p:nvPr/>
          </p:nvGrpSpPr>
          <p:grpSpPr>
            <a:xfrm>
              <a:off x="5684760" y="2319480"/>
              <a:ext cx="519120" cy="330120"/>
              <a:chOff x="5684760" y="2319480"/>
              <a:chExt cx="519120" cy="330120"/>
            </a:xfrm>
          </p:grpSpPr>
          <p:sp>
            <p:nvSpPr>
              <p:cNvPr id="840" name="任意多边形 229496"/>
              <p:cNvSpPr/>
              <p:nvPr/>
            </p:nvSpPr>
            <p:spPr>
              <a:xfrm>
                <a:off x="5684760" y="2319480"/>
                <a:ext cx="519120" cy="330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000000">
                  <a:alpha val="60000"/>
                </a:srgbClr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任意多边形 229497"/>
              <p:cNvSpPr/>
              <p:nvPr/>
            </p:nvSpPr>
            <p:spPr>
              <a:xfrm>
                <a:off x="5968080" y="2459160"/>
                <a:ext cx="227160" cy="18072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2" name=""/>
              <p:cNvGrpSpPr/>
              <p:nvPr/>
            </p:nvGrpSpPr>
            <p:grpSpPr>
              <a:xfrm>
                <a:off x="5706720" y="2431800"/>
                <a:ext cx="267120" cy="144720"/>
                <a:chOff x="5706720" y="2431800"/>
                <a:chExt cx="267120" cy="144720"/>
              </a:xfrm>
            </p:grpSpPr>
            <p:sp>
              <p:nvSpPr>
                <p:cNvPr id="843" name="直接连接符 229498"/>
                <p:cNvSpPr/>
                <p:nvPr/>
              </p:nvSpPr>
              <p:spPr>
                <a:xfrm>
                  <a:off x="5706720" y="2431800"/>
                  <a:ext cx="267120" cy="1447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 txBox="1"/>
                <p:nvPr/>
              </p:nvSpPr>
              <p:spPr>
                <a:xfrm>
                  <a:off x="5706720" y="2431800"/>
                  <a:ext cx="267120" cy="1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5" name="任意多边形 229499"/>
            <p:cNvSpPr/>
            <p:nvPr/>
          </p:nvSpPr>
          <p:spPr>
            <a:xfrm>
              <a:off x="6049440" y="2565000"/>
              <a:ext cx="50760" cy="464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文本框 229500"/>
          <p:cNvSpPr/>
          <p:nvPr/>
        </p:nvSpPr>
        <p:spPr>
          <a:xfrm>
            <a:off x="5530680" y="27306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文本框 229501"/>
          <p:cNvSpPr/>
          <p:nvPr/>
        </p:nvSpPr>
        <p:spPr>
          <a:xfrm>
            <a:off x="2546280" y="548964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文本框 229502"/>
          <p:cNvSpPr/>
          <p:nvPr/>
        </p:nvSpPr>
        <p:spPr>
          <a:xfrm>
            <a:off x="5530680" y="548964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图片 229503" descr="M_SB0048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3152880" y="1066680"/>
            <a:ext cx="23716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椭圆 231426"/>
          <p:cNvSpPr/>
          <p:nvPr/>
        </p:nvSpPr>
        <p:spPr>
          <a:xfrm>
            <a:off x="638280" y="3703680"/>
            <a:ext cx="4362480" cy="12650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任意多边形 231427"/>
          <p:cNvSpPr/>
          <p:nvPr/>
        </p:nvSpPr>
        <p:spPr>
          <a:xfrm rot="16200000">
            <a:off x="2260440" y="1744560"/>
            <a:ext cx="153648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79" y="39705"/>
                </a:moveTo>
                <a:cubicBezTo>
                  <a:pt x="29993" y="41916"/>
                  <a:pt x="2594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6722"/>
                  <a:pt x="41417" y="31427"/>
                  <a:pt x="38439" y="35130"/>
                </a:cubicBezTo>
              </a:path>
              <a:path stroke="0" w="43200" h="43200">
                <a:moveTo>
                  <a:pt x="38438" y="35129"/>
                </a:moveTo>
                <a:cubicBezTo>
                  <a:pt x="35745" y="35121"/>
                  <a:pt x="33569" y="34342"/>
                  <a:pt x="33569" y="33382"/>
                </a:cubicBezTo>
                <a:cubicBezTo>
                  <a:pt x="33569" y="32417"/>
                  <a:pt x="35767" y="31635"/>
                  <a:pt x="38479" y="31635"/>
                </a:cubicBezTo>
                <a:cubicBezTo>
                  <a:pt x="41191" y="31635"/>
                  <a:pt x="43389" y="32417"/>
                  <a:pt x="43389" y="33382"/>
                </a:cubicBezTo>
                <a:cubicBezTo>
                  <a:pt x="43389" y="34156"/>
                  <a:pt x="41974" y="34813"/>
                  <a:pt x="40014" y="35042"/>
                </a:cubicBezTo>
                <a:lnTo>
                  <a:pt x="33379" y="39705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任意多边形 231428"/>
          <p:cNvSpPr/>
          <p:nvPr/>
        </p:nvSpPr>
        <p:spPr>
          <a:xfrm rot="16200000">
            <a:off x="2396880" y="164304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74" y="42780"/>
                  <a:pt x="2408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3200">
                <a:moveTo>
                  <a:pt x="31489" y="40802"/>
                </a:moveTo>
                <a:cubicBezTo>
                  <a:pt x="31180" y="40807"/>
                  <a:pt x="30863" y="40811"/>
                  <a:pt x="30541" y="40813"/>
                </a:cubicBezTo>
                <a:lnTo>
                  <a:pt x="28692" y="42002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4d4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任意多边形 231429"/>
          <p:cNvSpPr/>
          <p:nvPr/>
        </p:nvSpPr>
        <p:spPr>
          <a:xfrm rot="16200000">
            <a:off x="2288880" y="1788480"/>
            <a:ext cx="137988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306" y="39394"/>
                  <a:pt x="0" y="31233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2175">
                <a:moveTo>
                  <a:pt x="31489" y="40802"/>
                </a:moveTo>
                <a:cubicBezTo>
                  <a:pt x="24007" y="40790"/>
                  <a:pt x="18047" y="40566"/>
                  <a:pt x="18047" y="40291"/>
                </a:cubicBezTo>
                <a:cubicBezTo>
                  <a:pt x="18047" y="40008"/>
                  <a:pt x="24354" y="39779"/>
                  <a:pt x="32134" y="39779"/>
                </a:cubicBezTo>
                <a:cubicBezTo>
                  <a:pt x="39914" y="39779"/>
                  <a:pt x="46221" y="40008"/>
                  <a:pt x="46221" y="40291"/>
                </a:cubicBezTo>
                <a:cubicBezTo>
                  <a:pt x="46221" y="40570"/>
                  <a:pt x="40102" y="40796"/>
                  <a:pt x="32485" y="40803"/>
                </a:cubicBezTo>
                <a:lnTo>
                  <a:pt x="15026" y="42175"/>
                </a:lnTo>
                <a:close/>
              </a:path>
            </a:pathLst>
          </a:custGeom>
          <a:gradFill rotWithShape="0">
            <a:gsLst>
              <a:gs pos="0">
                <a:srgbClr val="a9d4f5"/>
              </a:gs>
              <a:gs pos="100000">
                <a:srgbClr val="4ea7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任意多边形 231430"/>
          <p:cNvSpPr/>
          <p:nvPr/>
        </p:nvSpPr>
        <p:spPr>
          <a:xfrm rot="16200000">
            <a:off x="2217600" y="1836360"/>
            <a:ext cx="141300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5"/>
                </a:moveTo>
                <a:cubicBezTo>
                  <a:pt x="2673" y="33519"/>
                  <a:pt x="0" y="27872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0803">
                <a:moveTo>
                  <a:pt x="31489" y="40802"/>
                </a:moveTo>
                <a:cubicBezTo>
                  <a:pt x="34366" y="39820"/>
                  <a:pt x="40651" y="39140"/>
                  <a:pt x="47940" y="39140"/>
                </a:cubicBezTo>
                <a:cubicBezTo>
                  <a:pt x="57952" y="39140"/>
                  <a:pt x="66069" y="40424"/>
                  <a:pt x="66069" y="42007"/>
                </a:cubicBezTo>
                <a:cubicBezTo>
                  <a:pt x="66069" y="43496"/>
                  <a:pt x="58894" y="44719"/>
                  <a:pt x="49720" y="44860"/>
                </a:cubicBezTo>
                <a:lnTo>
                  <a:pt x="6942" y="37465"/>
                </a:lnTo>
                <a:close/>
              </a:path>
            </a:pathLst>
          </a:custGeom>
          <a:gradFill rotWithShape="0">
            <a:gsLst>
              <a:gs pos="0">
                <a:srgbClr val="93c052"/>
              </a:gs>
              <a:gs pos="100000">
                <a:srgbClr val="d3e6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文本框 231431"/>
          <p:cNvSpPr/>
          <p:nvPr/>
        </p:nvSpPr>
        <p:spPr>
          <a:xfrm>
            <a:off x="3938760" y="37512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文本框 231432"/>
          <p:cNvSpPr/>
          <p:nvPr/>
        </p:nvSpPr>
        <p:spPr>
          <a:xfrm>
            <a:off x="4438800" y="34448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4857840" y="3884760"/>
            <a:ext cx="360" cy="115920"/>
            <a:chOff x="4857840" y="3884760"/>
            <a:chExt cx="360" cy="115920"/>
          </a:xfrm>
        </p:grpSpPr>
        <p:sp>
          <p:nvSpPr>
            <p:cNvPr id="859" name="直接连接符 231433"/>
            <p:cNvSpPr/>
            <p:nvPr/>
          </p:nvSpPr>
          <p:spPr>
            <a:xfrm>
              <a:off x="4857840" y="388476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 txBox="1"/>
            <p:nvPr/>
          </p:nvSpPr>
          <p:spPr>
            <a:xfrm>
              <a:off x="4857840" y="388476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4443480" y="4143240"/>
            <a:ext cx="360" cy="69840"/>
            <a:chOff x="4443480" y="4143240"/>
            <a:chExt cx="360" cy="69840"/>
          </a:xfrm>
        </p:grpSpPr>
        <p:sp>
          <p:nvSpPr>
            <p:cNvPr id="862" name="直接连接符 231434"/>
            <p:cNvSpPr/>
            <p:nvPr/>
          </p:nvSpPr>
          <p:spPr>
            <a:xfrm>
              <a:off x="4443480" y="414324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 txBox="1"/>
            <p:nvPr/>
          </p:nvSpPr>
          <p:spPr>
            <a:xfrm>
              <a:off x="4443480" y="414324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2200320" y="3635280"/>
            <a:ext cx="1014480" cy="830520"/>
            <a:chOff x="2200320" y="3635280"/>
            <a:chExt cx="1014480" cy="830520"/>
          </a:xfrm>
        </p:grpSpPr>
        <p:sp>
          <p:nvSpPr>
            <p:cNvPr id="865" name="直接连接符 231435"/>
            <p:cNvSpPr/>
            <p:nvPr/>
          </p:nvSpPr>
          <p:spPr>
            <a:xfrm flipH="1">
              <a:off x="2200320" y="3635280"/>
              <a:ext cx="1014480" cy="83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 txBox="1"/>
            <p:nvPr/>
          </p:nvSpPr>
          <p:spPr>
            <a:xfrm>
              <a:off x="2200320" y="3635280"/>
              <a:ext cx="1014480" cy="83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任意多边形 231436"/>
          <p:cNvSpPr/>
          <p:nvPr/>
        </p:nvSpPr>
        <p:spPr>
          <a:xfrm rot="16200000">
            <a:off x="2239920" y="1411200"/>
            <a:ext cx="1768320" cy="45306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324" y="5344"/>
                  <a:pt x="10944" y="0"/>
                  <a:pt x="19812" y="0"/>
                </a:cubicBezTo>
                <a:cubicBezTo>
                  <a:pt x="31741" y="0"/>
                  <a:pt x="41412" y="9671"/>
                  <a:pt x="41412" y="21600"/>
                </a:cubicBezTo>
                <a:cubicBezTo>
                  <a:pt x="41412" y="30616"/>
                  <a:pt x="35888" y="38342"/>
                  <a:pt x="28043" y="41576"/>
                </a:cubicBezTo>
              </a:path>
              <a:path stroke="0" w="41412" h="41573">
                <a:moveTo>
                  <a:pt x="28035" y="41573"/>
                </a:moveTo>
                <a:cubicBezTo>
                  <a:pt x="30394" y="40885"/>
                  <a:pt x="32972" y="40509"/>
                  <a:pt x="35670" y="40509"/>
                </a:cubicBezTo>
                <a:cubicBezTo>
                  <a:pt x="47106" y="40509"/>
                  <a:pt x="56376" y="47271"/>
                  <a:pt x="56376" y="55612"/>
                </a:cubicBezTo>
                <a:cubicBezTo>
                  <a:pt x="56376" y="61175"/>
                  <a:pt x="52253" y="66035"/>
                  <a:pt x="46115" y="68656"/>
                </a:cubicBez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004253"/>
              </a:gs>
              <a:gs pos="100000">
                <a:srgbClr val="0080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任意多边形 231437"/>
          <p:cNvSpPr/>
          <p:nvPr/>
        </p:nvSpPr>
        <p:spPr>
          <a:xfrm>
            <a:off x="5210280" y="309420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008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任意多边形 231438"/>
          <p:cNvSpPr/>
          <p:nvPr/>
        </p:nvSpPr>
        <p:spPr>
          <a:xfrm rot="16200000">
            <a:off x="2253600" y="123876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0" y="12381"/>
                </a:moveTo>
                <a:cubicBezTo>
                  <a:pt x="3458" y="5060"/>
                  <a:pt x="10905" y="0"/>
                  <a:pt x="19534" y="0"/>
                </a:cubicBezTo>
                <a:cubicBezTo>
                  <a:pt x="31463" y="0"/>
                  <a:pt x="41134" y="9671"/>
                  <a:pt x="41134" y="21600"/>
                </a:cubicBezTo>
                <a:cubicBezTo>
                  <a:pt x="41134" y="30616"/>
                  <a:pt x="35610" y="38342"/>
                  <a:pt x="27765" y="41576"/>
                </a:cubicBezTo>
              </a:path>
              <a:path stroke="0" w="41134" h="41573">
                <a:moveTo>
                  <a:pt x="27757" y="41573"/>
                </a:moveTo>
                <a:cubicBezTo>
                  <a:pt x="30074" y="40890"/>
                  <a:pt x="32601" y="40516"/>
                  <a:pt x="35244" y="40516"/>
                </a:cubicBezTo>
                <a:cubicBezTo>
                  <a:pt x="46603" y="40516"/>
                  <a:pt x="55811" y="47415"/>
                  <a:pt x="55811" y="55925"/>
                </a:cubicBezTo>
                <a:cubicBezTo>
                  <a:pt x="55811" y="61494"/>
                  <a:pt x="51868" y="66373"/>
                  <a:pt x="45960" y="69080"/>
                </a:cubicBezTo>
                <a:lnTo>
                  <a:pt x="0" y="12381"/>
                </a:lnTo>
                <a:close/>
              </a:path>
            </a:pathLst>
          </a:custGeom>
          <a:gradFill rotWithShape="0">
            <a:gsLst>
              <a:gs pos="0">
                <a:srgbClr val="0080a2"/>
              </a:gs>
              <a:gs pos="100000">
                <a:srgbClr val="0070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231439"/>
          <p:cNvSpPr/>
          <p:nvPr/>
        </p:nvSpPr>
        <p:spPr>
          <a:xfrm>
            <a:off x="2695680" y="28656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1" name="肘形连接符 231440"/>
          <p:cNvCxnSpPr>
            <a:endCxn id="870" idx="3"/>
          </p:cNvCxnSpPr>
          <p:nvPr/>
        </p:nvCxnSpPr>
        <p:spPr>
          <a:xfrm flipH="1">
            <a:off x="3631680" y="2179800"/>
            <a:ext cx="2417040" cy="88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2" name="肘形连接符 231441"/>
          <p:cNvCxnSpPr>
            <a:endCxn id="857" idx="3"/>
          </p:cNvCxnSpPr>
          <p:nvPr/>
        </p:nvCxnSpPr>
        <p:spPr>
          <a:xfrm flipH="1" flipV="1">
            <a:off x="4974840" y="3596760"/>
            <a:ext cx="1226160" cy="18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3" name="文本框 231442"/>
          <p:cNvSpPr/>
          <p:nvPr/>
        </p:nvSpPr>
        <p:spPr>
          <a:xfrm>
            <a:off x="3006720" y="386568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矩形 231443"/>
          <p:cNvSpPr/>
          <p:nvPr/>
        </p:nvSpPr>
        <p:spPr>
          <a:xfrm>
            <a:off x="333360" y="137160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组合 231444"/>
          <p:cNvGrpSpPr/>
          <p:nvPr/>
        </p:nvGrpSpPr>
        <p:grpSpPr>
          <a:xfrm>
            <a:off x="6048360" y="1996920"/>
            <a:ext cx="2028960" cy="482400"/>
            <a:chOff x="6048360" y="1996920"/>
            <a:chExt cx="2028960" cy="482400"/>
          </a:xfrm>
        </p:grpSpPr>
        <p:sp>
          <p:nvSpPr>
            <p:cNvPr id="876" name="任意多边形 231445"/>
            <p:cNvSpPr/>
            <p:nvPr/>
          </p:nvSpPr>
          <p:spPr>
            <a:xfrm>
              <a:off x="6167880" y="227484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矩形 231446"/>
            <p:cNvSpPr/>
            <p:nvPr/>
          </p:nvSpPr>
          <p:spPr>
            <a:xfrm>
              <a:off x="6048360" y="19969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0080a2"/>
                </a:gs>
                <a:gs pos="100000">
                  <a:srgbClr val="0065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231447"/>
          <p:cNvGrpSpPr/>
          <p:nvPr/>
        </p:nvGrpSpPr>
        <p:grpSpPr>
          <a:xfrm>
            <a:off x="6048360" y="3551400"/>
            <a:ext cx="2028960" cy="482040"/>
            <a:chOff x="6048360" y="3551400"/>
            <a:chExt cx="2028960" cy="482040"/>
          </a:xfrm>
        </p:grpSpPr>
        <p:sp>
          <p:nvSpPr>
            <p:cNvPr id="879" name="任意多边形 231448"/>
            <p:cNvSpPr/>
            <p:nvPr/>
          </p:nvSpPr>
          <p:spPr>
            <a:xfrm>
              <a:off x="6167880" y="38289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矩形 231449"/>
            <p:cNvSpPr/>
            <p:nvPr/>
          </p:nvSpPr>
          <p:spPr>
            <a:xfrm>
              <a:off x="6048360" y="35514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797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组合 231450"/>
          <p:cNvGrpSpPr/>
          <p:nvPr/>
        </p:nvGrpSpPr>
        <p:grpSpPr>
          <a:xfrm>
            <a:off x="6048360" y="4923000"/>
            <a:ext cx="2028960" cy="482040"/>
            <a:chOff x="6048360" y="4923000"/>
            <a:chExt cx="2028960" cy="482040"/>
          </a:xfrm>
        </p:grpSpPr>
        <p:sp>
          <p:nvSpPr>
            <p:cNvPr id="882" name="任意多边形 231451"/>
            <p:cNvSpPr/>
            <p:nvPr/>
          </p:nvSpPr>
          <p:spPr>
            <a:xfrm>
              <a:off x="6167880" y="52005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矩形 231452"/>
            <p:cNvSpPr/>
            <p:nvPr/>
          </p:nvSpPr>
          <p:spPr>
            <a:xfrm>
              <a:off x="604836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4ea7ea"/>
                </a:gs>
                <a:gs pos="100000">
                  <a:srgbClr val="3d84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组合 231453"/>
          <p:cNvGrpSpPr/>
          <p:nvPr/>
        </p:nvGrpSpPr>
        <p:grpSpPr>
          <a:xfrm>
            <a:off x="866880" y="5151600"/>
            <a:ext cx="2028600" cy="482040"/>
            <a:chOff x="866880" y="5151600"/>
            <a:chExt cx="2028600" cy="482040"/>
          </a:xfrm>
        </p:grpSpPr>
        <p:sp>
          <p:nvSpPr>
            <p:cNvPr id="885" name="任意多边形 231454"/>
            <p:cNvSpPr/>
            <p:nvPr/>
          </p:nvSpPr>
          <p:spPr>
            <a:xfrm>
              <a:off x="986400" y="54291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矩形 231455"/>
            <p:cNvSpPr/>
            <p:nvPr/>
          </p:nvSpPr>
          <p:spPr>
            <a:xfrm>
              <a:off x="866880" y="515160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93c052"/>
                </a:gs>
                <a:gs pos="100000">
                  <a:srgbClr val="74974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87" name="肘形连接符 231456"/>
          <p:cNvCxnSpPr/>
          <p:nvPr/>
        </p:nvCxnSpPr>
        <p:spPr>
          <a:xfrm flipH="1" flipV="1">
            <a:off x="4523760" y="3931560"/>
            <a:ext cx="15246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8" name="肘形连接符 231457"/>
          <p:cNvCxnSpPr/>
          <p:nvPr/>
        </p:nvCxnSpPr>
        <p:spPr>
          <a:xfrm flipV="1">
            <a:off x="2895120" y="4160520"/>
            <a:ext cx="25812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9" name="矩形 231458"/>
          <p:cNvSpPr/>
          <p:nvPr/>
        </p:nvSpPr>
        <p:spPr>
          <a:xfrm>
            <a:off x="6351840" y="40086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矩形 231459"/>
          <p:cNvSpPr/>
          <p:nvPr/>
        </p:nvSpPr>
        <p:spPr>
          <a:xfrm>
            <a:off x="6399720" y="24541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矩形 231460"/>
          <p:cNvSpPr/>
          <p:nvPr/>
        </p:nvSpPr>
        <p:spPr>
          <a:xfrm>
            <a:off x="6428160" y="53802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组合 231461"/>
          <p:cNvGrpSpPr/>
          <p:nvPr/>
        </p:nvGrpSpPr>
        <p:grpSpPr>
          <a:xfrm>
            <a:off x="1775520" y="2149560"/>
            <a:ext cx="995760" cy="1294200"/>
            <a:chOff x="1775520" y="2149560"/>
            <a:chExt cx="995760" cy="1294200"/>
          </a:xfrm>
        </p:grpSpPr>
        <p:grpSp>
          <p:nvGrpSpPr>
            <p:cNvPr id="893" name="组合 231462"/>
            <p:cNvGrpSpPr/>
            <p:nvPr/>
          </p:nvGrpSpPr>
          <p:grpSpPr>
            <a:xfrm>
              <a:off x="1775520" y="2152080"/>
              <a:ext cx="990720" cy="1291680"/>
              <a:chOff x="1775520" y="2152080"/>
              <a:chExt cx="990720" cy="1291680"/>
            </a:xfrm>
          </p:grpSpPr>
          <p:sp>
            <p:nvSpPr>
              <p:cNvPr id="894" name="任意多边形 231463"/>
              <p:cNvSpPr/>
              <p:nvPr/>
            </p:nvSpPr>
            <p:spPr>
              <a:xfrm>
                <a:off x="1775520" y="2658600"/>
                <a:ext cx="99072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椭圆 231464"/>
              <p:cNvSpPr/>
              <p:nvPr/>
            </p:nvSpPr>
            <p:spPr>
              <a:xfrm>
                <a:off x="2043360" y="2152080"/>
                <a:ext cx="48024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6" name="任意多边形 231465"/>
            <p:cNvSpPr/>
            <p:nvPr/>
          </p:nvSpPr>
          <p:spPr>
            <a:xfrm>
              <a:off x="1781280" y="2653920"/>
              <a:ext cx="99000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任意多边形 231466"/>
            <p:cNvSpPr/>
            <p:nvPr/>
          </p:nvSpPr>
          <p:spPr>
            <a:xfrm>
              <a:off x="197532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椭圆 231467"/>
            <p:cNvSpPr/>
            <p:nvPr/>
          </p:nvSpPr>
          <p:spPr>
            <a:xfrm>
              <a:off x="204840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任意多边形 231468"/>
            <p:cNvSpPr/>
            <p:nvPr/>
          </p:nvSpPr>
          <p:spPr>
            <a:xfrm>
              <a:off x="209736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0" name="组合 231469"/>
            <p:cNvGrpSpPr/>
            <p:nvPr/>
          </p:nvGrpSpPr>
          <p:grpSpPr>
            <a:xfrm>
              <a:off x="2028600" y="2155680"/>
              <a:ext cx="345600" cy="359280"/>
              <a:chOff x="2028600" y="2155680"/>
              <a:chExt cx="345600" cy="359280"/>
            </a:xfrm>
          </p:grpSpPr>
          <p:grpSp>
            <p:nvGrpSpPr>
              <p:cNvPr id="901" name="组合 231470"/>
              <p:cNvGrpSpPr/>
              <p:nvPr/>
            </p:nvGrpSpPr>
            <p:grpSpPr>
              <a:xfrm>
                <a:off x="2037960" y="2155680"/>
                <a:ext cx="336240" cy="273960"/>
                <a:chOff x="2037960" y="2155680"/>
                <a:chExt cx="336240" cy="273960"/>
              </a:xfrm>
            </p:grpSpPr>
            <p:sp>
              <p:nvSpPr>
                <p:cNvPr id="902" name="新月形 231471"/>
                <p:cNvSpPr/>
                <p:nvPr/>
              </p:nvSpPr>
              <p:spPr>
                <a:xfrm flipH="1" rot="15040200">
                  <a:off x="219024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新月形 231472"/>
                <p:cNvSpPr/>
                <p:nvPr/>
              </p:nvSpPr>
              <p:spPr>
                <a:xfrm flipH="1" rot="14224200">
                  <a:off x="215100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新月形 231473"/>
                <p:cNvSpPr/>
                <p:nvPr/>
              </p:nvSpPr>
              <p:spPr>
                <a:xfrm flipH="1" rot="13928400">
                  <a:off x="213264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新月形 231474"/>
                <p:cNvSpPr/>
                <p:nvPr/>
              </p:nvSpPr>
              <p:spPr>
                <a:xfrm flipH="1" rot="13396200">
                  <a:off x="2111040" y="2178000"/>
                  <a:ext cx="95760" cy="25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6" name="组合 231475"/>
              <p:cNvGrpSpPr/>
              <p:nvPr/>
            </p:nvGrpSpPr>
            <p:grpSpPr>
              <a:xfrm>
                <a:off x="2028600" y="2177640"/>
                <a:ext cx="272160" cy="337320"/>
                <a:chOff x="2028600" y="2177640"/>
                <a:chExt cx="272160" cy="337320"/>
              </a:xfrm>
            </p:grpSpPr>
            <p:sp>
              <p:nvSpPr>
                <p:cNvPr id="907" name="新月形 231476"/>
                <p:cNvSpPr/>
                <p:nvPr/>
              </p:nvSpPr>
              <p:spPr>
                <a:xfrm flipH="1" rot="13687200">
                  <a:off x="2125440" y="217116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新月形 231477"/>
                <p:cNvSpPr/>
                <p:nvPr/>
              </p:nvSpPr>
              <p:spPr>
                <a:xfrm flipH="1" rot="12871200">
                  <a:off x="2095560" y="22003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新月形 231478"/>
                <p:cNvSpPr/>
                <p:nvPr/>
              </p:nvSpPr>
              <p:spPr>
                <a:xfrm flipH="1" rot="12576000">
                  <a:off x="2084400" y="22230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新月形 231479"/>
                <p:cNvSpPr/>
                <p:nvPr/>
              </p:nvSpPr>
              <p:spPr>
                <a:xfrm flipH="1" rot="12043800">
                  <a:off x="207360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11" name="组合 231480"/>
            <p:cNvGrpSpPr/>
            <p:nvPr/>
          </p:nvGrpSpPr>
          <p:grpSpPr>
            <a:xfrm>
              <a:off x="1849320" y="2691720"/>
              <a:ext cx="429480" cy="517320"/>
              <a:chOff x="1849320" y="2691720"/>
              <a:chExt cx="429480" cy="517320"/>
            </a:xfrm>
          </p:grpSpPr>
          <p:grpSp>
            <p:nvGrpSpPr>
              <p:cNvPr id="912" name="组合 231481"/>
              <p:cNvGrpSpPr/>
              <p:nvPr/>
            </p:nvGrpSpPr>
            <p:grpSpPr>
              <a:xfrm>
                <a:off x="1849320" y="2691720"/>
                <a:ext cx="429480" cy="404280"/>
                <a:chOff x="1849320" y="2691720"/>
                <a:chExt cx="429480" cy="404280"/>
              </a:xfrm>
            </p:grpSpPr>
            <p:sp>
              <p:nvSpPr>
                <p:cNvPr id="913" name="新月形 231482"/>
                <p:cNvSpPr/>
                <p:nvPr/>
              </p:nvSpPr>
              <p:spPr>
                <a:xfrm flipH="1" rot="14424600">
                  <a:off x="2045880" y="2639520"/>
                  <a:ext cx="96480" cy="36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新月形 231483"/>
                <p:cNvSpPr/>
                <p:nvPr/>
              </p:nvSpPr>
              <p:spPr>
                <a:xfrm flipH="1" rot="13608600">
                  <a:off x="1993680" y="2671920"/>
                  <a:ext cx="9612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新月形 231484"/>
                <p:cNvSpPr/>
                <p:nvPr/>
              </p:nvSpPr>
              <p:spPr>
                <a:xfrm flipH="1" rot="13313400">
                  <a:off x="1969200" y="2698200"/>
                  <a:ext cx="9648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新月形 231485"/>
                <p:cNvSpPr/>
                <p:nvPr/>
              </p:nvSpPr>
              <p:spPr>
                <a:xfrm flipH="1" rot="12781200">
                  <a:off x="1941480" y="2730600"/>
                  <a:ext cx="96480" cy="36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7" name="组合 231486"/>
              <p:cNvGrpSpPr/>
              <p:nvPr/>
            </p:nvGrpSpPr>
            <p:grpSpPr>
              <a:xfrm>
                <a:off x="1850400" y="2719800"/>
                <a:ext cx="308160" cy="489240"/>
                <a:chOff x="1850400" y="2719800"/>
                <a:chExt cx="308160" cy="489240"/>
              </a:xfrm>
            </p:grpSpPr>
            <p:sp>
              <p:nvSpPr>
                <p:cNvPr id="918" name="新月形 231487"/>
                <p:cNvSpPr/>
                <p:nvPr/>
              </p:nvSpPr>
              <p:spPr>
                <a:xfrm flipH="1" rot="13071600">
                  <a:off x="195804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新月形 231488"/>
                <p:cNvSpPr/>
                <p:nvPr/>
              </p:nvSpPr>
              <p:spPr>
                <a:xfrm flipH="1" rot="12256200">
                  <a:off x="1922040" y="27601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新月形 231489"/>
                <p:cNvSpPr/>
                <p:nvPr/>
              </p:nvSpPr>
              <p:spPr>
                <a:xfrm flipH="1" rot="11960400">
                  <a:off x="1908720" y="279360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新月形 231490"/>
                <p:cNvSpPr/>
                <p:nvPr/>
              </p:nvSpPr>
              <p:spPr>
                <a:xfrm flipH="1" rot="11428200">
                  <a:off x="1896840" y="28339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22" name="矩形 231491"/>
          <p:cNvSpPr/>
          <p:nvPr/>
        </p:nvSpPr>
        <p:spPr>
          <a:xfrm>
            <a:off x="1320120" y="3444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组合 231492"/>
          <p:cNvGrpSpPr/>
          <p:nvPr/>
        </p:nvGrpSpPr>
        <p:grpSpPr>
          <a:xfrm>
            <a:off x="1242000" y="2149560"/>
            <a:ext cx="996120" cy="1294200"/>
            <a:chOff x="1242000" y="2149560"/>
            <a:chExt cx="996120" cy="1294200"/>
          </a:xfrm>
        </p:grpSpPr>
        <p:grpSp>
          <p:nvGrpSpPr>
            <p:cNvPr id="924" name="组合 231493"/>
            <p:cNvGrpSpPr/>
            <p:nvPr/>
          </p:nvGrpSpPr>
          <p:grpSpPr>
            <a:xfrm>
              <a:off x="1242000" y="2152080"/>
              <a:ext cx="991080" cy="1291680"/>
              <a:chOff x="1242000" y="2152080"/>
              <a:chExt cx="991080" cy="1291680"/>
            </a:xfrm>
          </p:grpSpPr>
          <p:sp>
            <p:nvSpPr>
              <p:cNvPr id="925" name="任意多边形 231494"/>
              <p:cNvSpPr/>
              <p:nvPr/>
            </p:nvSpPr>
            <p:spPr>
              <a:xfrm>
                <a:off x="1242000" y="2658600"/>
                <a:ext cx="99108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椭圆 231495"/>
              <p:cNvSpPr/>
              <p:nvPr/>
            </p:nvSpPr>
            <p:spPr>
              <a:xfrm>
                <a:off x="1510200" y="2152080"/>
                <a:ext cx="48024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任意多边形 231496"/>
            <p:cNvSpPr/>
            <p:nvPr/>
          </p:nvSpPr>
          <p:spPr>
            <a:xfrm>
              <a:off x="1247760" y="2653920"/>
              <a:ext cx="99036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273216"/>
                </a:gs>
                <a:gs pos="100000">
                  <a:srgbClr val="93c0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任意多边形 231497"/>
            <p:cNvSpPr/>
            <p:nvPr/>
          </p:nvSpPr>
          <p:spPr>
            <a:xfrm>
              <a:off x="144216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椭圆 231498"/>
            <p:cNvSpPr/>
            <p:nvPr/>
          </p:nvSpPr>
          <p:spPr>
            <a:xfrm>
              <a:off x="151524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526c2e"/>
                </a:gs>
                <a:gs pos="50000">
                  <a:srgbClr val="93c052"/>
                </a:gs>
                <a:gs pos="100000">
                  <a:srgbClr val="526c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任意多边形 231499"/>
            <p:cNvSpPr/>
            <p:nvPr/>
          </p:nvSpPr>
          <p:spPr>
            <a:xfrm>
              <a:off x="156384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1" name="组合 231500"/>
            <p:cNvGrpSpPr/>
            <p:nvPr/>
          </p:nvGrpSpPr>
          <p:grpSpPr>
            <a:xfrm>
              <a:off x="1495080" y="2155680"/>
              <a:ext cx="345960" cy="359640"/>
              <a:chOff x="1495080" y="2155680"/>
              <a:chExt cx="345960" cy="359640"/>
            </a:xfrm>
          </p:grpSpPr>
          <p:grpSp>
            <p:nvGrpSpPr>
              <p:cNvPr id="932" name="组合 231501"/>
              <p:cNvGrpSpPr/>
              <p:nvPr/>
            </p:nvGrpSpPr>
            <p:grpSpPr>
              <a:xfrm>
                <a:off x="1504440" y="2155680"/>
                <a:ext cx="336600" cy="273960"/>
                <a:chOff x="1504440" y="2155680"/>
                <a:chExt cx="336600" cy="273960"/>
              </a:xfrm>
            </p:grpSpPr>
            <p:sp>
              <p:nvSpPr>
                <p:cNvPr id="933" name="新月形 231502"/>
                <p:cNvSpPr/>
                <p:nvPr/>
              </p:nvSpPr>
              <p:spPr>
                <a:xfrm flipH="1" rot="15040200">
                  <a:off x="165708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新月形 231503"/>
                <p:cNvSpPr/>
                <p:nvPr/>
              </p:nvSpPr>
              <p:spPr>
                <a:xfrm flipH="1" rot="14224200">
                  <a:off x="161784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新月形 231504"/>
                <p:cNvSpPr/>
                <p:nvPr/>
              </p:nvSpPr>
              <p:spPr>
                <a:xfrm flipH="1" rot="13928400">
                  <a:off x="159948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新月形 231505"/>
                <p:cNvSpPr/>
                <p:nvPr/>
              </p:nvSpPr>
              <p:spPr>
                <a:xfrm flipH="1" rot="13396200">
                  <a:off x="1577880" y="217728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7" name="组合 231506"/>
              <p:cNvGrpSpPr/>
              <p:nvPr/>
            </p:nvGrpSpPr>
            <p:grpSpPr>
              <a:xfrm>
                <a:off x="1495080" y="2177640"/>
                <a:ext cx="272520" cy="337680"/>
                <a:chOff x="1495080" y="2177640"/>
                <a:chExt cx="272520" cy="337680"/>
              </a:xfrm>
            </p:grpSpPr>
            <p:sp>
              <p:nvSpPr>
                <p:cNvPr id="938" name="新月形 231507"/>
                <p:cNvSpPr/>
                <p:nvPr/>
              </p:nvSpPr>
              <p:spPr>
                <a:xfrm flipH="1" rot="13687200">
                  <a:off x="1592280" y="217116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新月形 231508"/>
                <p:cNvSpPr/>
                <p:nvPr/>
              </p:nvSpPr>
              <p:spPr>
                <a:xfrm flipH="1" rot="12871200">
                  <a:off x="1562040" y="22003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新月形 231509"/>
                <p:cNvSpPr/>
                <p:nvPr/>
              </p:nvSpPr>
              <p:spPr>
                <a:xfrm flipH="1" rot="12576000">
                  <a:off x="1550880" y="222264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新月形 231510"/>
                <p:cNvSpPr/>
                <p:nvPr/>
              </p:nvSpPr>
              <p:spPr>
                <a:xfrm flipH="1" rot="12043800">
                  <a:off x="1540080" y="225288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2" name="组合 231511"/>
            <p:cNvGrpSpPr/>
            <p:nvPr/>
          </p:nvGrpSpPr>
          <p:grpSpPr>
            <a:xfrm>
              <a:off x="1315800" y="2691720"/>
              <a:ext cx="429480" cy="517320"/>
              <a:chOff x="1315800" y="2691720"/>
              <a:chExt cx="429480" cy="517320"/>
            </a:xfrm>
          </p:grpSpPr>
          <p:grpSp>
            <p:nvGrpSpPr>
              <p:cNvPr id="943" name="组合 231512"/>
              <p:cNvGrpSpPr/>
              <p:nvPr/>
            </p:nvGrpSpPr>
            <p:grpSpPr>
              <a:xfrm>
                <a:off x="1315800" y="2691720"/>
                <a:ext cx="429480" cy="404280"/>
                <a:chOff x="1315800" y="2691720"/>
                <a:chExt cx="429480" cy="404280"/>
              </a:xfrm>
            </p:grpSpPr>
            <p:sp>
              <p:nvSpPr>
                <p:cNvPr id="944" name="新月形 231513"/>
                <p:cNvSpPr/>
                <p:nvPr/>
              </p:nvSpPr>
              <p:spPr>
                <a:xfrm flipH="1" rot="14424600">
                  <a:off x="1512360" y="2639520"/>
                  <a:ext cx="96480" cy="36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新月形 231514"/>
                <p:cNvSpPr/>
                <p:nvPr/>
              </p:nvSpPr>
              <p:spPr>
                <a:xfrm flipH="1" rot="13608600">
                  <a:off x="1460160" y="2671920"/>
                  <a:ext cx="9612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新月形 231515"/>
                <p:cNvSpPr/>
                <p:nvPr/>
              </p:nvSpPr>
              <p:spPr>
                <a:xfrm flipH="1" rot="13313400">
                  <a:off x="1435680" y="2698200"/>
                  <a:ext cx="9648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新月形 231516"/>
                <p:cNvSpPr/>
                <p:nvPr/>
              </p:nvSpPr>
              <p:spPr>
                <a:xfrm flipH="1" rot="12781200">
                  <a:off x="1407960" y="2730600"/>
                  <a:ext cx="96480" cy="36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8" name="组合 231517"/>
              <p:cNvGrpSpPr/>
              <p:nvPr/>
            </p:nvGrpSpPr>
            <p:grpSpPr>
              <a:xfrm>
                <a:off x="1316880" y="2719800"/>
                <a:ext cx="308160" cy="489240"/>
                <a:chOff x="1316880" y="2719800"/>
                <a:chExt cx="308160" cy="489240"/>
              </a:xfrm>
            </p:grpSpPr>
            <p:sp>
              <p:nvSpPr>
                <p:cNvPr id="949" name="新月形 231518"/>
                <p:cNvSpPr/>
                <p:nvPr/>
              </p:nvSpPr>
              <p:spPr>
                <a:xfrm flipH="1" rot="13071600">
                  <a:off x="142452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新月形 231519"/>
                <p:cNvSpPr/>
                <p:nvPr/>
              </p:nvSpPr>
              <p:spPr>
                <a:xfrm flipH="1" rot="12256200">
                  <a:off x="1388520" y="27601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新月形 231520"/>
                <p:cNvSpPr/>
                <p:nvPr/>
              </p:nvSpPr>
              <p:spPr>
                <a:xfrm flipH="1" rot="11960400">
                  <a:off x="1375200" y="279360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新月形 231521"/>
                <p:cNvSpPr/>
                <p:nvPr/>
              </p:nvSpPr>
              <p:spPr>
                <a:xfrm flipH="1" rot="11428200">
                  <a:off x="1363320" y="28339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53" name="矩形 231522"/>
          <p:cNvSpPr/>
          <p:nvPr/>
        </p:nvSpPr>
        <p:spPr>
          <a:xfrm>
            <a:off x="1170360" y="563868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椭圆 235522"/>
          <p:cNvSpPr/>
          <p:nvPr/>
        </p:nvSpPr>
        <p:spPr>
          <a:xfrm>
            <a:off x="3105000" y="2244600"/>
            <a:ext cx="3063960" cy="3032280"/>
          </a:xfrm>
          <a:prstGeom prst="ellipse">
            <a:avLst/>
          </a:prstGeom>
          <a:noFill/>
          <a:ln cap="rnd" w="28440">
            <a:solidFill>
              <a:srgbClr val="003366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矩形 235523"/>
          <p:cNvSpPr/>
          <p:nvPr/>
        </p:nvSpPr>
        <p:spPr>
          <a:xfrm>
            <a:off x="685800" y="1905120"/>
            <a:ext cx="2163600" cy="3865320"/>
          </a:xfrm>
          <a:prstGeom prst="rect">
            <a:avLst/>
          </a:prstGeom>
          <a:solidFill>
            <a:srgbClr val="ffffff">
              <a:alpha val="10000"/>
            </a:srgbClr>
          </a:solidFill>
          <a:ln w="9360">
            <a:solidFill>
              <a:srgbClr val="5f5f5f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组合 235524"/>
          <p:cNvGrpSpPr/>
          <p:nvPr/>
        </p:nvGrpSpPr>
        <p:grpSpPr>
          <a:xfrm>
            <a:off x="981000" y="2642760"/>
            <a:ext cx="1773360" cy="2409840"/>
            <a:chOff x="981000" y="2642760"/>
            <a:chExt cx="1773360" cy="2409840"/>
          </a:xfrm>
        </p:grpSpPr>
        <p:sp>
          <p:nvSpPr>
            <p:cNvPr id="958" name="任意多边形 235525"/>
            <p:cNvSpPr/>
            <p:nvPr/>
          </p:nvSpPr>
          <p:spPr>
            <a:xfrm flipV="1">
              <a:off x="981000" y="2642400"/>
              <a:ext cx="1773360" cy="101412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78787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任意多边形 235526"/>
            <p:cNvSpPr/>
            <p:nvPr/>
          </p:nvSpPr>
          <p:spPr>
            <a:xfrm>
              <a:off x="984960" y="4038840"/>
              <a:ext cx="1769400" cy="101376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58585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右箭头 235527"/>
          <p:cNvSpPr/>
          <p:nvPr/>
        </p:nvSpPr>
        <p:spPr>
          <a:xfrm>
            <a:off x="685800" y="3432240"/>
            <a:ext cx="2719440" cy="812880"/>
          </a:xfrm>
          <a:prstGeom prst="rightArrow">
            <a:avLst>
              <a:gd name="adj1" fmla="val 54000"/>
              <a:gd name="adj2" fmla="val 68581"/>
            </a:avLst>
          </a:prstGeom>
          <a:gradFill rotWithShape="0">
            <a:gsLst>
              <a:gs pos="0">
                <a:srgbClr val="6a5919"/>
              </a:gs>
              <a:gs pos="100000">
                <a:srgbClr val="e5c037"/>
              </a:gs>
            </a:gsLst>
            <a:lin ang="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235528"/>
          <p:cNvSpPr/>
          <p:nvPr/>
        </p:nvSpPr>
        <p:spPr>
          <a:xfrm>
            <a:off x="781200" y="2637000"/>
            <a:ext cx="1828800" cy="2447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4e4e4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矩形 235529"/>
          <p:cNvSpPr/>
          <p:nvPr/>
        </p:nvSpPr>
        <p:spPr>
          <a:xfrm>
            <a:off x="6307200" y="1905120"/>
            <a:ext cx="2162160" cy="3865320"/>
          </a:xfrm>
          <a:prstGeom prst="rect">
            <a:avLst/>
          </a:prstGeom>
          <a:solidFill>
            <a:srgbClr val="f8f8f8">
              <a:alpha val="10000"/>
            </a:srgbClr>
          </a:solidFill>
          <a:ln w="9360">
            <a:solidFill>
              <a:srgbClr val="5f5f5f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组合 235530"/>
          <p:cNvGrpSpPr/>
          <p:nvPr/>
        </p:nvGrpSpPr>
        <p:grpSpPr>
          <a:xfrm>
            <a:off x="6433920" y="2647440"/>
            <a:ext cx="1819080" cy="2401920"/>
            <a:chOff x="6433920" y="2647440"/>
            <a:chExt cx="1819080" cy="2401920"/>
          </a:xfrm>
        </p:grpSpPr>
        <p:sp>
          <p:nvSpPr>
            <p:cNvPr id="964" name="任意多边形 235531"/>
            <p:cNvSpPr/>
            <p:nvPr/>
          </p:nvSpPr>
          <p:spPr>
            <a:xfrm flipH="1" flipV="1">
              <a:off x="6433560" y="2647080"/>
              <a:ext cx="181908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48484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235532"/>
            <p:cNvSpPr/>
            <p:nvPr/>
          </p:nvSpPr>
          <p:spPr>
            <a:xfrm flipH="1">
              <a:off x="6434280" y="4038120"/>
              <a:ext cx="179856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48484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右箭头 235533"/>
          <p:cNvSpPr/>
          <p:nvPr/>
        </p:nvSpPr>
        <p:spPr>
          <a:xfrm flipH="1">
            <a:off x="5810400" y="3452760"/>
            <a:ext cx="2673360" cy="717480"/>
          </a:xfrm>
          <a:prstGeom prst="rightArrow">
            <a:avLst>
              <a:gd name="adj1" fmla="val 62213"/>
              <a:gd name="adj2" fmla="val 69397"/>
            </a:avLst>
          </a:prstGeom>
          <a:gradFill rotWithShape="0">
            <a:gsLst>
              <a:gs pos="0">
                <a:srgbClr val="445926"/>
              </a:gs>
              <a:gs pos="100000">
                <a:srgbClr val="93c052"/>
              </a:gs>
            </a:gsLst>
            <a:lin ang="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矩形 235534"/>
          <p:cNvSpPr/>
          <p:nvPr/>
        </p:nvSpPr>
        <p:spPr>
          <a:xfrm>
            <a:off x="893880" y="1905120"/>
            <a:ext cx="16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矩形 235535"/>
          <p:cNvSpPr/>
          <p:nvPr/>
        </p:nvSpPr>
        <p:spPr>
          <a:xfrm>
            <a:off x="6580080" y="1905120"/>
            <a:ext cx="16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文本框 235536"/>
          <p:cNvSpPr/>
          <p:nvPr/>
        </p:nvSpPr>
        <p:spPr>
          <a:xfrm>
            <a:off x="750960" y="2967120"/>
            <a:ext cx="18414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矩形 235537"/>
          <p:cNvSpPr/>
          <p:nvPr/>
        </p:nvSpPr>
        <p:spPr>
          <a:xfrm>
            <a:off x="6572160" y="2646360"/>
            <a:ext cx="1828800" cy="2448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aeaea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文本框 235538"/>
          <p:cNvSpPr/>
          <p:nvPr/>
        </p:nvSpPr>
        <p:spPr>
          <a:xfrm>
            <a:off x="6550200" y="2928960"/>
            <a:ext cx="18810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组合 235539"/>
          <p:cNvGrpSpPr/>
          <p:nvPr/>
        </p:nvGrpSpPr>
        <p:grpSpPr>
          <a:xfrm>
            <a:off x="3200400" y="2362320"/>
            <a:ext cx="2819160" cy="2818440"/>
            <a:chOff x="3200400" y="2362320"/>
            <a:chExt cx="2819160" cy="2818440"/>
          </a:xfrm>
        </p:grpSpPr>
        <p:grpSp>
          <p:nvGrpSpPr>
            <p:cNvPr id="973" name="组合 235540"/>
            <p:cNvGrpSpPr/>
            <p:nvPr/>
          </p:nvGrpSpPr>
          <p:grpSpPr>
            <a:xfrm>
              <a:off x="4035960" y="2362320"/>
              <a:ext cx="1147680" cy="938160"/>
              <a:chOff x="4035960" y="2362320"/>
              <a:chExt cx="1147680" cy="938160"/>
            </a:xfrm>
          </p:grpSpPr>
          <p:grpSp>
            <p:nvGrpSpPr>
              <p:cNvPr id="974" name="组合 235541"/>
              <p:cNvGrpSpPr/>
              <p:nvPr/>
            </p:nvGrpSpPr>
            <p:grpSpPr>
              <a:xfrm>
                <a:off x="4035960" y="2362320"/>
                <a:ext cx="1147680" cy="938160"/>
                <a:chOff x="4035960" y="2362320"/>
                <a:chExt cx="1147680" cy="938160"/>
              </a:xfrm>
            </p:grpSpPr>
            <p:sp>
              <p:nvSpPr>
                <p:cNvPr id="975" name="六边形 235542"/>
                <p:cNvSpPr/>
                <p:nvPr/>
              </p:nvSpPr>
              <p:spPr>
                <a:xfrm>
                  <a:off x="4045320" y="2378160"/>
                  <a:ext cx="1138320" cy="922320"/>
                </a:xfrm>
                <a:prstGeom prst="hexagon">
                  <a:avLst>
                    <a:gd name="adj" fmla="val 3085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六边形 235543"/>
                <p:cNvSpPr/>
                <p:nvPr/>
              </p:nvSpPr>
              <p:spPr>
                <a:xfrm>
                  <a:off x="4035960" y="2362320"/>
                  <a:ext cx="1138320" cy="922320"/>
                </a:xfrm>
                <a:prstGeom prst="hexagon">
                  <a:avLst>
                    <a:gd name="adj" fmla="val 3085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六边形 235544"/>
                <p:cNvSpPr/>
                <p:nvPr/>
              </p:nvSpPr>
              <p:spPr>
                <a:xfrm>
                  <a:off x="4102560" y="2417760"/>
                  <a:ext cx="1000440" cy="811440"/>
                </a:xfrm>
                <a:prstGeom prst="hexagon">
                  <a:avLst>
                    <a:gd name="adj" fmla="val 30823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8" name="文本框 235545"/>
              <p:cNvSpPr/>
              <p:nvPr/>
            </p:nvSpPr>
            <p:spPr>
              <a:xfrm>
                <a:off x="4283640" y="26254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9" name="组合 235546"/>
            <p:cNvGrpSpPr/>
            <p:nvPr/>
          </p:nvGrpSpPr>
          <p:grpSpPr>
            <a:xfrm>
              <a:off x="3200400" y="2829960"/>
              <a:ext cx="1148040" cy="938160"/>
              <a:chOff x="3200400" y="2829960"/>
              <a:chExt cx="1148040" cy="938160"/>
            </a:xfrm>
          </p:grpSpPr>
          <p:grpSp>
            <p:nvGrpSpPr>
              <p:cNvPr id="980" name="组合 235547"/>
              <p:cNvGrpSpPr/>
              <p:nvPr/>
            </p:nvGrpSpPr>
            <p:grpSpPr>
              <a:xfrm>
                <a:off x="3200400" y="2829960"/>
                <a:ext cx="1148040" cy="938160"/>
                <a:chOff x="3200400" y="2829960"/>
                <a:chExt cx="1148040" cy="938160"/>
              </a:xfrm>
            </p:grpSpPr>
            <p:sp>
              <p:nvSpPr>
                <p:cNvPr id="981" name="六边形 235548"/>
                <p:cNvSpPr/>
                <p:nvPr/>
              </p:nvSpPr>
              <p:spPr>
                <a:xfrm>
                  <a:off x="3209760" y="284580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六边形 235549"/>
                <p:cNvSpPr/>
                <p:nvPr/>
              </p:nvSpPr>
              <p:spPr>
                <a:xfrm>
                  <a:off x="3200400" y="282996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六边形 235550"/>
                <p:cNvSpPr/>
                <p:nvPr/>
              </p:nvSpPr>
              <p:spPr>
                <a:xfrm>
                  <a:off x="3267000" y="2885400"/>
                  <a:ext cx="1000800" cy="811440"/>
                </a:xfrm>
                <a:prstGeom prst="hexagon">
                  <a:avLst>
                    <a:gd name="adj" fmla="val 30834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4" name="文本框 235551"/>
              <p:cNvSpPr/>
              <p:nvPr/>
            </p:nvSpPr>
            <p:spPr>
              <a:xfrm>
                <a:off x="3455280" y="30873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5" name="组合 235552"/>
            <p:cNvGrpSpPr/>
            <p:nvPr/>
          </p:nvGrpSpPr>
          <p:grpSpPr>
            <a:xfrm>
              <a:off x="4035960" y="3300840"/>
              <a:ext cx="1148040" cy="938160"/>
              <a:chOff x="4035960" y="3300840"/>
              <a:chExt cx="1148040" cy="938160"/>
            </a:xfrm>
          </p:grpSpPr>
          <p:grpSp>
            <p:nvGrpSpPr>
              <p:cNvPr id="986" name="组合 235553"/>
              <p:cNvGrpSpPr/>
              <p:nvPr/>
            </p:nvGrpSpPr>
            <p:grpSpPr>
              <a:xfrm>
                <a:off x="4035960" y="3300840"/>
                <a:ext cx="1148040" cy="938160"/>
                <a:chOff x="4035960" y="3300840"/>
                <a:chExt cx="1148040" cy="938160"/>
              </a:xfrm>
            </p:grpSpPr>
            <p:sp>
              <p:nvSpPr>
                <p:cNvPr id="987" name="六边形 235554"/>
                <p:cNvSpPr/>
                <p:nvPr/>
              </p:nvSpPr>
              <p:spPr>
                <a:xfrm>
                  <a:off x="4045680" y="3316680"/>
                  <a:ext cx="1138320" cy="922320"/>
                </a:xfrm>
                <a:prstGeom prst="hexagon">
                  <a:avLst>
                    <a:gd name="adj" fmla="val 3085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六边形 235555"/>
                <p:cNvSpPr/>
                <p:nvPr/>
              </p:nvSpPr>
              <p:spPr>
                <a:xfrm>
                  <a:off x="4035960" y="3300840"/>
                  <a:ext cx="1138320" cy="922320"/>
                </a:xfrm>
                <a:prstGeom prst="hexagon">
                  <a:avLst>
                    <a:gd name="adj" fmla="val 3085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六边形 235556"/>
                <p:cNvSpPr/>
                <p:nvPr/>
              </p:nvSpPr>
              <p:spPr>
                <a:xfrm>
                  <a:off x="4102560" y="3356280"/>
                  <a:ext cx="1000440" cy="811440"/>
                </a:xfrm>
                <a:prstGeom prst="hexagon">
                  <a:avLst>
                    <a:gd name="adj" fmla="val 30823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0" name="文本框 235557"/>
              <p:cNvSpPr/>
              <p:nvPr/>
            </p:nvSpPr>
            <p:spPr>
              <a:xfrm>
                <a:off x="4264560" y="3569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组合 235558"/>
            <p:cNvGrpSpPr/>
            <p:nvPr/>
          </p:nvGrpSpPr>
          <p:grpSpPr>
            <a:xfrm>
              <a:off x="4871160" y="2829960"/>
              <a:ext cx="1148040" cy="938160"/>
              <a:chOff x="4871160" y="2829960"/>
              <a:chExt cx="1148040" cy="938160"/>
            </a:xfrm>
          </p:grpSpPr>
          <p:grpSp>
            <p:nvGrpSpPr>
              <p:cNvPr id="992" name="组合 235559"/>
              <p:cNvGrpSpPr/>
              <p:nvPr/>
            </p:nvGrpSpPr>
            <p:grpSpPr>
              <a:xfrm>
                <a:off x="4871160" y="2829960"/>
                <a:ext cx="1148040" cy="938160"/>
                <a:chOff x="4871160" y="2829960"/>
                <a:chExt cx="1148040" cy="938160"/>
              </a:xfrm>
            </p:grpSpPr>
            <p:sp>
              <p:nvSpPr>
                <p:cNvPr id="993" name="六边形 235560"/>
                <p:cNvSpPr/>
                <p:nvPr/>
              </p:nvSpPr>
              <p:spPr>
                <a:xfrm>
                  <a:off x="4880520" y="284580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六边形 235561"/>
                <p:cNvSpPr/>
                <p:nvPr/>
              </p:nvSpPr>
              <p:spPr>
                <a:xfrm>
                  <a:off x="4871160" y="282996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六边形 235562"/>
                <p:cNvSpPr/>
                <p:nvPr/>
              </p:nvSpPr>
              <p:spPr>
                <a:xfrm>
                  <a:off x="4937760" y="2885400"/>
                  <a:ext cx="1000800" cy="811440"/>
                </a:xfrm>
                <a:prstGeom prst="hexagon">
                  <a:avLst>
                    <a:gd name="adj" fmla="val 30834"/>
                    <a:gd name="vf" fmla="val 115470"/>
                  </a:avLst>
                </a:prstGeom>
                <a:gradFill rotWithShape="0">
                  <a:gsLst>
                    <a:gs pos="0">
                      <a:srgbClr val="3e565a"/>
                    </a:gs>
                    <a:gs pos="100000">
                      <a:srgbClr val="85b9c3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文本框 235563"/>
              <p:cNvSpPr/>
              <p:nvPr/>
            </p:nvSpPr>
            <p:spPr>
              <a:xfrm>
                <a:off x="5126040" y="30999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7" name="组合 235564"/>
            <p:cNvGrpSpPr/>
            <p:nvPr/>
          </p:nvGrpSpPr>
          <p:grpSpPr>
            <a:xfrm>
              <a:off x="4871160" y="3771720"/>
              <a:ext cx="1148400" cy="938160"/>
              <a:chOff x="4871160" y="3771720"/>
              <a:chExt cx="1148400" cy="938160"/>
            </a:xfrm>
          </p:grpSpPr>
          <p:grpSp>
            <p:nvGrpSpPr>
              <p:cNvPr id="998" name="组合 235565"/>
              <p:cNvGrpSpPr/>
              <p:nvPr/>
            </p:nvGrpSpPr>
            <p:grpSpPr>
              <a:xfrm>
                <a:off x="4871160" y="3771720"/>
                <a:ext cx="1148400" cy="938160"/>
                <a:chOff x="4871160" y="3771720"/>
                <a:chExt cx="1148400" cy="938160"/>
              </a:xfrm>
            </p:grpSpPr>
            <p:sp>
              <p:nvSpPr>
                <p:cNvPr id="999" name="六边形 235566"/>
                <p:cNvSpPr/>
                <p:nvPr/>
              </p:nvSpPr>
              <p:spPr>
                <a:xfrm>
                  <a:off x="4880880" y="378756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六边形 235567"/>
                <p:cNvSpPr/>
                <p:nvPr/>
              </p:nvSpPr>
              <p:spPr>
                <a:xfrm>
                  <a:off x="4871160" y="377172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六边形 235568"/>
                <p:cNvSpPr/>
                <p:nvPr/>
              </p:nvSpPr>
              <p:spPr>
                <a:xfrm>
                  <a:off x="4937760" y="3827160"/>
                  <a:ext cx="1000800" cy="811440"/>
                </a:xfrm>
                <a:prstGeom prst="hexagon">
                  <a:avLst>
                    <a:gd name="adj" fmla="val 30834"/>
                    <a:gd name="vf" fmla="val 115470"/>
                  </a:avLst>
                </a:prstGeom>
                <a:gradFill rotWithShape="0">
                  <a:gsLst>
                    <a:gs pos="0">
                      <a:srgbClr val="245d52"/>
                    </a:gs>
                    <a:gs pos="100000">
                      <a:srgbClr val="4dc9b1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2" name="文本框 235569"/>
              <p:cNvSpPr/>
              <p:nvPr/>
            </p:nvSpPr>
            <p:spPr>
              <a:xfrm>
                <a:off x="5141160" y="4073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3" name="组合 235570"/>
            <p:cNvGrpSpPr/>
            <p:nvPr/>
          </p:nvGrpSpPr>
          <p:grpSpPr>
            <a:xfrm>
              <a:off x="3200400" y="3771720"/>
              <a:ext cx="1148400" cy="938160"/>
              <a:chOff x="3200400" y="3771720"/>
              <a:chExt cx="1148400" cy="938160"/>
            </a:xfrm>
          </p:grpSpPr>
          <p:grpSp>
            <p:nvGrpSpPr>
              <p:cNvPr id="1004" name="组合 235571"/>
              <p:cNvGrpSpPr/>
              <p:nvPr/>
            </p:nvGrpSpPr>
            <p:grpSpPr>
              <a:xfrm>
                <a:off x="3200400" y="3771720"/>
                <a:ext cx="1148400" cy="938160"/>
                <a:chOff x="3200400" y="3771720"/>
                <a:chExt cx="1148400" cy="938160"/>
              </a:xfrm>
            </p:grpSpPr>
            <p:sp>
              <p:nvSpPr>
                <p:cNvPr id="1005" name="六边形 235572"/>
                <p:cNvSpPr/>
                <p:nvPr/>
              </p:nvSpPr>
              <p:spPr>
                <a:xfrm>
                  <a:off x="3210120" y="378756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六边形 235573"/>
                <p:cNvSpPr/>
                <p:nvPr/>
              </p:nvSpPr>
              <p:spPr>
                <a:xfrm>
                  <a:off x="3200400" y="377172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六边形 235574"/>
                <p:cNvSpPr/>
                <p:nvPr/>
              </p:nvSpPr>
              <p:spPr>
                <a:xfrm>
                  <a:off x="3267000" y="3827160"/>
                  <a:ext cx="1000800" cy="811440"/>
                </a:xfrm>
                <a:prstGeom prst="hexagon">
                  <a:avLst>
                    <a:gd name="adj" fmla="val 30834"/>
                    <a:gd name="vf" fmla="val 115470"/>
                  </a:avLst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8" name="文本框 235575"/>
              <p:cNvSpPr/>
              <p:nvPr/>
            </p:nvSpPr>
            <p:spPr>
              <a:xfrm>
                <a:off x="3455280" y="40269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组合 235576"/>
            <p:cNvGrpSpPr/>
            <p:nvPr/>
          </p:nvGrpSpPr>
          <p:grpSpPr>
            <a:xfrm>
              <a:off x="4035960" y="4242600"/>
              <a:ext cx="1148040" cy="938160"/>
              <a:chOff x="4035960" y="4242600"/>
              <a:chExt cx="1148040" cy="938160"/>
            </a:xfrm>
          </p:grpSpPr>
          <p:grpSp>
            <p:nvGrpSpPr>
              <p:cNvPr id="1010" name="组合 235577"/>
              <p:cNvGrpSpPr/>
              <p:nvPr/>
            </p:nvGrpSpPr>
            <p:grpSpPr>
              <a:xfrm>
                <a:off x="4035960" y="4242600"/>
                <a:ext cx="1148040" cy="938160"/>
                <a:chOff x="4035960" y="4242600"/>
                <a:chExt cx="1148040" cy="938160"/>
              </a:xfrm>
            </p:grpSpPr>
            <p:sp>
              <p:nvSpPr>
                <p:cNvPr id="1011" name="六边形 235578"/>
                <p:cNvSpPr/>
                <p:nvPr/>
              </p:nvSpPr>
              <p:spPr>
                <a:xfrm>
                  <a:off x="4045680" y="4258440"/>
                  <a:ext cx="1138320" cy="922320"/>
                </a:xfrm>
                <a:prstGeom prst="hexagon">
                  <a:avLst>
                    <a:gd name="adj" fmla="val 3085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六边形 235579"/>
                <p:cNvSpPr/>
                <p:nvPr/>
              </p:nvSpPr>
              <p:spPr>
                <a:xfrm>
                  <a:off x="4035960" y="4242600"/>
                  <a:ext cx="1138320" cy="922320"/>
                </a:xfrm>
                <a:prstGeom prst="hexagon">
                  <a:avLst>
                    <a:gd name="adj" fmla="val 3085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六边形 235580"/>
                <p:cNvSpPr/>
                <p:nvPr/>
              </p:nvSpPr>
              <p:spPr>
                <a:xfrm>
                  <a:off x="4102560" y="4298040"/>
                  <a:ext cx="1000440" cy="811440"/>
                </a:xfrm>
                <a:prstGeom prst="hexagon">
                  <a:avLst>
                    <a:gd name="adj" fmla="val 30823"/>
                    <a:gd name="vf" fmla="val 115470"/>
                  </a:avLst>
                </a:prstGeom>
                <a:gradFill rotWithShape="0">
                  <a:gsLst>
                    <a:gs pos="0">
                      <a:srgbClr val="584f25"/>
                    </a:gs>
                    <a:gs pos="100000">
                      <a:srgbClr val="bfaa4f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4" name="文本框 235581"/>
              <p:cNvSpPr/>
              <p:nvPr/>
            </p:nvSpPr>
            <p:spPr>
              <a:xfrm>
                <a:off x="4286880" y="45126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组合 270338"/>
          <p:cNvGrpSpPr/>
          <p:nvPr/>
        </p:nvGrpSpPr>
        <p:grpSpPr>
          <a:xfrm>
            <a:off x="2019240" y="2438280"/>
            <a:ext cx="5257080" cy="2895480"/>
            <a:chOff x="2019240" y="2438280"/>
            <a:chExt cx="5257080" cy="2895480"/>
          </a:xfrm>
        </p:grpSpPr>
        <p:sp>
          <p:nvSpPr>
            <p:cNvPr id="1017" name="任意多边形 270339"/>
            <p:cNvSpPr/>
            <p:nvPr/>
          </p:nvSpPr>
          <p:spPr>
            <a:xfrm>
              <a:off x="2811600" y="392832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任意多边形 270340"/>
            <p:cNvSpPr/>
            <p:nvPr/>
          </p:nvSpPr>
          <p:spPr>
            <a:xfrm>
              <a:off x="3647520" y="2438280"/>
              <a:ext cx="3619440" cy="178668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任意多边形 270341"/>
            <p:cNvSpPr/>
            <p:nvPr/>
          </p:nvSpPr>
          <p:spPr>
            <a:xfrm>
              <a:off x="2019240" y="2834640"/>
              <a:ext cx="1977840" cy="201348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组合 270342"/>
          <p:cNvGrpSpPr/>
          <p:nvPr/>
        </p:nvGrpSpPr>
        <p:grpSpPr>
          <a:xfrm>
            <a:off x="1943280" y="2362320"/>
            <a:ext cx="5333400" cy="2818800"/>
            <a:chOff x="1943280" y="2362320"/>
            <a:chExt cx="5333400" cy="2818800"/>
          </a:xfrm>
        </p:grpSpPr>
        <p:sp>
          <p:nvSpPr>
            <p:cNvPr id="1021" name="任意多边形 270343"/>
            <p:cNvSpPr/>
            <p:nvPr/>
          </p:nvSpPr>
          <p:spPr>
            <a:xfrm>
              <a:off x="2747160" y="3812760"/>
              <a:ext cx="4529520" cy="136836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003b4b"/>
                </a:gs>
                <a:gs pos="100000">
                  <a:srgbClr val="0080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任意多边形 270344"/>
            <p:cNvSpPr/>
            <p:nvPr/>
          </p:nvSpPr>
          <p:spPr>
            <a:xfrm>
              <a:off x="3594960" y="2362320"/>
              <a:ext cx="367164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3c052"/>
                </a:gs>
                <a:gs pos="100000">
                  <a:srgbClr val="4459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任意多边形 270345"/>
            <p:cNvSpPr/>
            <p:nvPr/>
          </p:nvSpPr>
          <p:spPr>
            <a:xfrm>
              <a:off x="1943280" y="274824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b5b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线形标注 2(带强调线) 270346"/>
          <p:cNvSpPr/>
          <p:nvPr/>
        </p:nvSpPr>
        <p:spPr>
          <a:xfrm>
            <a:off x="5715000" y="161928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线形标注 2(带强调线) 270347"/>
          <p:cNvSpPr/>
          <p:nvPr/>
        </p:nvSpPr>
        <p:spPr>
          <a:xfrm>
            <a:off x="4762440" y="5334120"/>
            <a:ext cx="3048120" cy="853920"/>
          </a:xfrm>
          <a:noFill/>
          <a:ln w="9360">
            <a:solidFill>
              <a:srgbClr val="0080a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线形标注 2(带强调线) 270348"/>
          <p:cNvSpPr/>
          <p:nvPr/>
        </p:nvSpPr>
        <p:spPr>
          <a:xfrm>
            <a:off x="571680" y="1676520"/>
            <a:ext cx="2192040" cy="96516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圆角矩形 212032"/>
          <p:cNvSpPr/>
          <p:nvPr/>
        </p:nvSpPr>
        <p:spPr>
          <a:xfrm>
            <a:off x="1138320" y="1447920"/>
            <a:ext cx="6248160" cy="4038480"/>
          </a:xfrm>
          <a:prstGeom prst="roundRect">
            <a:avLst>
              <a:gd name="adj" fmla="val 9583"/>
            </a:avLst>
          </a:prstGeom>
          <a:gradFill rotWithShape="0">
            <a:gsLst>
              <a:gs pos="0">
                <a:srgbClr val="0080a2"/>
              </a:gs>
              <a:gs pos="50000">
                <a:srgbClr val="3e9fb9"/>
              </a:gs>
              <a:gs pos="100000">
                <a:srgbClr val="0080a2"/>
              </a:gs>
            </a:gsLst>
            <a:lin ang="2700000"/>
          </a:gradFill>
          <a:ln w="19080">
            <a:solidFill>
              <a:srgbClr val="ffffff"/>
            </a:solidFill>
            <a:round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212033"/>
          <p:cNvGrpSpPr/>
          <p:nvPr/>
        </p:nvGrpSpPr>
        <p:grpSpPr>
          <a:xfrm>
            <a:off x="2052720" y="2000160"/>
            <a:ext cx="4038120" cy="514080"/>
            <a:chOff x="2052720" y="2000160"/>
            <a:chExt cx="4038120" cy="514080"/>
          </a:xfrm>
        </p:grpSpPr>
        <p:grpSp>
          <p:nvGrpSpPr>
            <p:cNvPr id="154" name=""/>
            <p:cNvGrpSpPr/>
            <p:nvPr/>
          </p:nvGrpSpPr>
          <p:grpSpPr>
            <a:xfrm>
              <a:off x="2280960" y="2400120"/>
              <a:ext cx="3809880" cy="360"/>
              <a:chOff x="2280960" y="2400120"/>
              <a:chExt cx="3809880" cy="360"/>
            </a:xfrm>
          </p:grpSpPr>
          <p:sp>
            <p:nvSpPr>
              <p:cNvPr id="155" name="直接连接符 212034"/>
              <p:cNvSpPr/>
              <p:nvPr/>
            </p:nvSpPr>
            <p:spPr>
              <a:xfrm>
                <a:off x="2280960" y="2400120"/>
                <a:ext cx="380988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 txBox="1"/>
              <p:nvPr/>
            </p:nvSpPr>
            <p:spPr>
              <a:xfrm>
                <a:off x="2280960" y="2400120"/>
                <a:ext cx="380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椭圆 212035"/>
            <p:cNvSpPr/>
            <p:nvPr/>
          </p:nvSpPr>
          <p:spPr>
            <a:xfrm>
              <a:off x="2052720" y="228564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e96e29"/>
                </a:gs>
                <a:gs pos="100000">
                  <a:srgbClr val="9b491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212036"/>
            <p:cNvSpPr/>
            <p:nvPr/>
          </p:nvSpPr>
          <p:spPr>
            <a:xfrm>
              <a:off x="2893320" y="200016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212037"/>
          <p:cNvGrpSpPr/>
          <p:nvPr/>
        </p:nvGrpSpPr>
        <p:grpSpPr>
          <a:xfrm>
            <a:off x="2052720" y="2523960"/>
            <a:ext cx="4038120" cy="485640"/>
            <a:chOff x="2052720" y="2523960"/>
            <a:chExt cx="4038120" cy="485640"/>
          </a:xfrm>
        </p:grpSpPr>
        <p:grpSp>
          <p:nvGrpSpPr>
            <p:cNvPr id="160" name=""/>
            <p:cNvGrpSpPr/>
            <p:nvPr/>
          </p:nvGrpSpPr>
          <p:grpSpPr>
            <a:xfrm>
              <a:off x="2280960" y="2895480"/>
              <a:ext cx="3809880" cy="360"/>
              <a:chOff x="2280960" y="2895480"/>
              <a:chExt cx="3809880" cy="360"/>
            </a:xfrm>
          </p:grpSpPr>
          <p:sp>
            <p:nvSpPr>
              <p:cNvPr id="161" name="直接连接符 212038"/>
              <p:cNvSpPr/>
              <p:nvPr/>
            </p:nvSpPr>
            <p:spPr>
              <a:xfrm>
                <a:off x="2280960" y="2895480"/>
                <a:ext cx="380988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2280960" y="2895480"/>
                <a:ext cx="380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椭圆 212039"/>
            <p:cNvSpPr/>
            <p:nvPr/>
          </p:nvSpPr>
          <p:spPr>
            <a:xfrm>
              <a:off x="2052720" y="278100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dcdc48"/>
                </a:gs>
                <a:gs pos="100000">
                  <a:srgbClr val="93933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212040"/>
            <p:cNvSpPr/>
            <p:nvPr/>
          </p:nvSpPr>
          <p:spPr>
            <a:xfrm>
              <a:off x="2893320" y="252396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12041"/>
          <p:cNvGrpSpPr/>
          <p:nvPr/>
        </p:nvGrpSpPr>
        <p:grpSpPr>
          <a:xfrm>
            <a:off x="2052720" y="2995560"/>
            <a:ext cx="4038120" cy="509760"/>
            <a:chOff x="2052720" y="2995560"/>
            <a:chExt cx="4038120" cy="509760"/>
          </a:xfrm>
        </p:grpSpPr>
        <p:grpSp>
          <p:nvGrpSpPr>
            <p:cNvPr id="166" name=""/>
            <p:cNvGrpSpPr/>
            <p:nvPr/>
          </p:nvGrpSpPr>
          <p:grpSpPr>
            <a:xfrm>
              <a:off x="2280960" y="3391200"/>
              <a:ext cx="3809880" cy="360"/>
              <a:chOff x="2280960" y="3391200"/>
              <a:chExt cx="3809880" cy="360"/>
            </a:xfrm>
          </p:grpSpPr>
          <p:sp>
            <p:nvSpPr>
              <p:cNvPr id="167" name="直接连接符 212042"/>
              <p:cNvSpPr/>
              <p:nvPr/>
            </p:nvSpPr>
            <p:spPr>
              <a:xfrm>
                <a:off x="2280960" y="3391200"/>
                <a:ext cx="380988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2280960" y="3391200"/>
                <a:ext cx="380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椭圆 212043"/>
            <p:cNvSpPr/>
            <p:nvPr/>
          </p:nvSpPr>
          <p:spPr>
            <a:xfrm>
              <a:off x="2052720" y="327672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a01dd5"/>
                </a:gs>
                <a:gs pos="100000">
                  <a:srgbClr val="6b138e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212044"/>
            <p:cNvSpPr/>
            <p:nvPr/>
          </p:nvSpPr>
          <p:spPr>
            <a:xfrm>
              <a:off x="2893320" y="299556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212045"/>
          <p:cNvGrpSpPr/>
          <p:nvPr/>
        </p:nvGrpSpPr>
        <p:grpSpPr>
          <a:xfrm>
            <a:off x="2052720" y="3505320"/>
            <a:ext cx="4038120" cy="442800"/>
            <a:chOff x="2052720" y="3505320"/>
            <a:chExt cx="4038120" cy="442800"/>
          </a:xfrm>
        </p:grpSpPr>
        <p:grpSp>
          <p:nvGrpSpPr>
            <p:cNvPr id="172" name=""/>
            <p:cNvGrpSpPr/>
            <p:nvPr/>
          </p:nvGrpSpPr>
          <p:grpSpPr>
            <a:xfrm>
              <a:off x="2280960" y="3834000"/>
              <a:ext cx="3809880" cy="360"/>
              <a:chOff x="2280960" y="3834000"/>
              <a:chExt cx="3809880" cy="360"/>
            </a:xfrm>
          </p:grpSpPr>
          <p:sp>
            <p:nvSpPr>
              <p:cNvPr id="173" name="直接连接符 212046"/>
              <p:cNvSpPr/>
              <p:nvPr/>
            </p:nvSpPr>
            <p:spPr>
              <a:xfrm>
                <a:off x="2280960" y="3834000"/>
                <a:ext cx="380988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2280960" y="3834000"/>
                <a:ext cx="380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椭圆 212047"/>
            <p:cNvSpPr/>
            <p:nvPr/>
          </p:nvSpPr>
          <p:spPr>
            <a:xfrm>
              <a:off x="2052720" y="371952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fcc704"/>
                </a:gs>
                <a:gs pos="100000">
                  <a:srgbClr val="a8850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212048"/>
            <p:cNvSpPr/>
            <p:nvPr/>
          </p:nvSpPr>
          <p:spPr>
            <a:xfrm>
              <a:off x="2893320" y="350532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212049"/>
          <p:cNvGrpSpPr/>
          <p:nvPr/>
        </p:nvGrpSpPr>
        <p:grpSpPr>
          <a:xfrm>
            <a:off x="2052720" y="3976560"/>
            <a:ext cx="4038120" cy="504720"/>
            <a:chOff x="2052720" y="3976560"/>
            <a:chExt cx="4038120" cy="504720"/>
          </a:xfrm>
        </p:grpSpPr>
        <p:grpSp>
          <p:nvGrpSpPr>
            <p:cNvPr id="178" name=""/>
            <p:cNvGrpSpPr/>
            <p:nvPr/>
          </p:nvGrpSpPr>
          <p:grpSpPr>
            <a:xfrm>
              <a:off x="2280960" y="4366800"/>
              <a:ext cx="3809880" cy="360"/>
              <a:chOff x="2280960" y="4366800"/>
              <a:chExt cx="3809880" cy="360"/>
            </a:xfrm>
          </p:grpSpPr>
          <p:sp>
            <p:nvSpPr>
              <p:cNvPr id="179" name="直接连接符 212050"/>
              <p:cNvSpPr/>
              <p:nvPr/>
            </p:nvSpPr>
            <p:spPr>
              <a:xfrm>
                <a:off x="2280960" y="4366800"/>
                <a:ext cx="380988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2280960" y="4366800"/>
                <a:ext cx="380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椭圆 212051"/>
            <p:cNvSpPr/>
            <p:nvPr/>
          </p:nvSpPr>
          <p:spPr>
            <a:xfrm>
              <a:off x="2052720" y="425268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66c5f4"/>
                </a:gs>
                <a:gs pos="100000">
                  <a:srgbClr val="4483a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矩形 212052"/>
            <p:cNvSpPr/>
            <p:nvPr/>
          </p:nvSpPr>
          <p:spPr>
            <a:xfrm>
              <a:off x="2893320" y="397656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图片 212053" descr="4"/>
          <p:cNvPicPr/>
          <p:nvPr/>
        </p:nvPicPr>
        <p:blipFill>
          <a:blip r:embed="rId1"/>
          <a:stretch/>
        </p:blipFill>
        <p:spPr>
          <a:xfrm>
            <a:off x="5762520" y="2629080"/>
            <a:ext cx="178128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DE82-051B-4AF3-A668-91542EA6CB2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2514240" y="3352320"/>
            <a:ext cx="335268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[ Add your company slogan 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59394"/>
          <p:cNvSpPr txBox="1"/>
          <p:nvPr/>
        </p:nvSpPr>
        <p:spPr>
          <a:xfrm>
            <a:off x="2819520" y="3733920"/>
            <a:ext cx="3809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93c052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9999ff"/>
                  </a:gs>
                  <a:gs pos="100000">
                    <a:srgbClr val="93c052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pic>
        <p:nvPicPr>
          <p:cNvPr id="1033" name="图片 59400" descr="8"/>
          <p:cNvPicPr/>
          <p:nvPr/>
        </p:nvPicPr>
        <p:blipFill>
          <a:blip r:embed="rId1"/>
          <a:stretch/>
        </p:blipFill>
        <p:spPr>
          <a:xfrm>
            <a:off x="457200" y="4535640"/>
            <a:ext cx="575136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72680" y="1225440"/>
            <a:ext cx="8040600" cy="33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9480">
              <a:spcBef>
                <a:spcPts val="649"/>
              </a:spcBef>
              <a:buClr>
                <a:srgbClr val="0080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600" spc="-1" strike="noStrike">
                <a:solidFill>
                  <a:srgbClr val="93c052"/>
                </a:solidFill>
                <a:latin typeface="Arial"/>
              </a:rPr>
              <a:t>[View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600" spc="-1" strike="noStrike">
                <a:solidFill>
                  <a:srgbClr val="93c052"/>
                </a:solidFill>
                <a:latin typeface="Arial"/>
              </a:rPr>
              <a:t>[Master]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600" spc="-1" strike="noStrike">
                <a:solidFill>
                  <a:srgbClr val="93c052"/>
                </a:solidFill>
                <a:latin typeface="Arial"/>
              </a:rPr>
              <a:t>[Slide Master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600" spc="-1" strike="noStrike">
                <a:solidFill>
                  <a:srgbClr val="93c052"/>
                </a:solidFill>
                <a:latin typeface="Arial"/>
              </a:rPr>
              <a:t>[Notes Master]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8194"/>
          <p:cNvSpPr/>
          <p:nvPr/>
        </p:nvSpPr>
        <p:spPr>
          <a:xfrm>
            <a:off x="1295280" y="5410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任意多边形 260098"/>
          <p:cNvSpPr/>
          <p:nvPr/>
        </p:nvSpPr>
        <p:spPr>
          <a:xfrm>
            <a:off x="990720" y="509112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080a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任意多边形 260099"/>
          <p:cNvSpPr/>
          <p:nvPr/>
        </p:nvSpPr>
        <p:spPr>
          <a:xfrm rot="10800000">
            <a:off x="6076440" y="41688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080a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60100"/>
          <p:cNvSpPr/>
          <p:nvPr/>
        </p:nvSpPr>
        <p:spPr>
          <a:xfrm>
            <a:off x="1142640" y="1600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60101"/>
          <p:cNvSpPr/>
          <p:nvPr/>
        </p:nvSpPr>
        <p:spPr>
          <a:xfrm>
            <a:off x="1142640" y="40384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任意多边形 260102"/>
          <p:cNvSpPr/>
          <p:nvPr/>
        </p:nvSpPr>
        <p:spPr>
          <a:xfrm>
            <a:off x="990720" y="283356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任意多边形 260103"/>
          <p:cNvSpPr/>
          <p:nvPr/>
        </p:nvSpPr>
        <p:spPr>
          <a:xfrm rot="10800000">
            <a:off x="6039000" y="188136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圆角矩形 260104"/>
          <p:cNvSpPr/>
          <p:nvPr/>
        </p:nvSpPr>
        <p:spPr>
          <a:xfrm>
            <a:off x="1190520" y="227160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bcef"/>
              </a:gs>
              <a:gs pos="50000">
                <a:srgbClr val="4ea7ea"/>
              </a:gs>
              <a:gs pos="100000">
                <a:srgbClr val="79bce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圆角矩形 260105"/>
          <p:cNvSpPr/>
          <p:nvPr/>
        </p:nvSpPr>
        <p:spPr>
          <a:xfrm>
            <a:off x="1266840" y="455760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dcf7c"/>
              </a:gs>
              <a:gs pos="50000">
                <a:srgbClr val="93c052"/>
              </a:gs>
              <a:gs pos="100000">
                <a:srgbClr val="adcf7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圆角矩形 215042"/>
          <p:cNvSpPr/>
          <p:nvPr/>
        </p:nvSpPr>
        <p:spPr>
          <a:xfrm>
            <a:off x="1066680" y="255744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8e8e8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组合 215043"/>
          <p:cNvGrpSpPr/>
          <p:nvPr/>
        </p:nvGrpSpPr>
        <p:grpSpPr>
          <a:xfrm>
            <a:off x="838080" y="2286000"/>
            <a:ext cx="1838520" cy="3309840"/>
            <a:chOff x="838080" y="2286000"/>
            <a:chExt cx="1838520" cy="3309840"/>
          </a:xfrm>
        </p:grpSpPr>
        <p:sp>
          <p:nvSpPr>
            <p:cNvPr id="199" name="圆角矩形 215044"/>
            <p:cNvSpPr/>
            <p:nvPr/>
          </p:nvSpPr>
          <p:spPr>
            <a:xfrm>
              <a:off x="838080" y="2286000"/>
              <a:ext cx="1838520" cy="3309840"/>
            </a:xfrm>
            <a:custGeom>
              <a:avLst/>
              <a:gdLst>
                <a:gd name="textAreaLeft" fmla="*/ 89640 w 1838520"/>
                <a:gd name="textAreaRight" fmla="*/ 1748880 w 183852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83">
                  <a:moveTo>
                    <a:pt x="3600" y="0"/>
                  </a:moveTo>
                  <a:arcTo wR="3600" hR="3600" stAng="16200000" swAng="-5400000"/>
                  <a:lnTo>
                    <a:pt x="0" y="35283"/>
                  </a:lnTo>
                  <a:arcTo wR="3600" hR="3600" stAng="10800000" swAng="-5400000"/>
                  <a:lnTo>
                    <a:pt x="18000" y="388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a2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圆角矩形 215045"/>
            <p:cNvSpPr/>
            <p:nvPr/>
          </p:nvSpPr>
          <p:spPr>
            <a:xfrm>
              <a:off x="914400" y="2323800"/>
              <a:ext cx="1687680" cy="456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80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215046"/>
          <p:cNvGrpSpPr/>
          <p:nvPr/>
        </p:nvGrpSpPr>
        <p:grpSpPr>
          <a:xfrm>
            <a:off x="3630600" y="2286000"/>
            <a:ext cx="1838160" cy="3309840"/>
            <a:chOff x="3630600" y="2286000"/>
            <a:chExt cx="1838160" cy="3309840"/>
          </a:xfrm>
        </p:grpSpPr>
        <p:sp>
          <p:nvSpPr>
            <p:cNvPr id="202" name="圆角矩形 215047"/>
            <p:cNvSpPr/>
            <p:nvPr/>
          </p:nvSpPr>
          <p:spPr>
            <a:xfrm>
              <a:off x="36306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3c052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圆角矩形 215048"/>
            <p:cNvSpPr/>
            <p:nvPr/>
          </p:nvSpPr>
          <p:spPr>
            <a:xfrm>
              <a:off x="3703680" y="2323800"/>
              <a:ext cx="1687320" cy="456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3c0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215049"/>
          <p:cNvGrpSpPr/>
          <p:nvPr/>
        </p:nvGrpSpPr>
        <p:grpSpPr>
          <a:xfrm>
            <a:off x="6467400" y="2286000"/>
            <a:ext cx="1838520" cy="3309840"/>
            <a:chOff x="6467400" y="2286000"/>
            <a:chExt cx="1838520" cy="3309840"/>
          </a:xfrm>
        </p:grpSpPr>
        <p:sp>
          <p:nvSpPr>
            <p:cNvPr id="205" name="圆角矩形 215050"/>
            <p:cNvSpPr/>
            <p:nvPr/>
          </p:nvSpPr>
          <p:spPr>
            <a:xfrm>
              <a:off x="6467400" y="2286000"/>
              <a:ext cx="1838520" cy="3309840"/>
            </a:xfrm>
            <a:custGeom>
              <a:avLst/>
              <a:gdLst>
                <a:gd name="textAreaLeft" fmla="*/ 89640 w 1838520"/>
                <a:gd name="textAreaRight" fmla="*/ 1748880 w 183852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83">
                  <a:moveTo>
                    <a:pt x="3600" y="0"/>
                  </a:moveTo>
                  <a:arcTo wR="3600" hR="3600" stAng="16200000" swAng="-5400000"/>
                  <a:lnTo>
                    <a:pt x="0" y="35283"/>
                  </a:lnTo>
                  <a:arcTo wR="3600" hR="3600" stAng="10800000" swAng="-5400000"/>
                  <a:lnTo>
                    <a:pt x="18000" y="388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a2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圆角矩形 215051"/>
            <p:cNvSpPr/>
            <p:nvPr/>
          </p:nvSpPr>
          <p:spPr>
            <a:xfrm>
              <a:off x="6543720" y="2333520"/>
              <a:ext cx="1687320" cy="456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80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文本框 215052"/>
          <p:cNvSpPr/>
          <p:nvPr/>
        </p:nvSpPr>
        <p:spPr>
          <a:xfrm>
            <a:off x="9144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215053"/>
          <p:cNvSpPr/>
          <p:nvPr/>
        </p:nvSpPr>
        <p:spPr>
          <a:xfrm>
            <a:off x="36576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15054"/>
          <p:cNvSpPr/>
          <p:nvPr/>
        </p:nvSpPr>
        <p:spPr>
          <a:xfrm>
            <a:off x="647712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215055"/>
          <p:cNvGrpSpPr/>
          <p:nvPr/>
        </p:nvGrpSpPr>
        <p:grpSpPr>
          <a:xfrm>
            <a:off x="2971800" y="3809880"/>
            <a:ext cx="504000" cy="496440"/>
            <a:chOff x="2971800" y="3809880"/>
            <a:chExt cx="504000" cy="496440"/>
          </a:xfrm>
        </p:grpSpPr>
        <p:grpSp>
          <p:nvGrpSpPr>
            <p:cNvPr id="211" name="组合 215056"/>
            <p:cNvGrpSpPr/>
            <p:nvPr/>
          </p:nvGrpSpPr>
          <p:grpSpPr>
            <a:xfrm>
              <a:off x="3173400" y="3809880"/>
              <a:ext cx="302400" cy="496440"/>
              <a:chOff x="3173400" y="3809880"/>
              <a:chExt cx="302400" cy="496440"/>
            </a:xfrm>
          </p:grpSpPr>
          <p:sp>
            <p:nvSpPr>
              <p:cNvPr id="212" name="椭圆 215057"/>
              <p:cNvSpPr/>
              <p:nvPr/>
            </p:nvSpPr>
            <p:spPr>
              <a:xfrm>
                <a:off x="3173400" y="380988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椭圆 215058"/>
              <p:cNvSpPr/>
              <p:nvPr/>
            </p:nvSpPr>
            <p:spPr>
              <a:xfrm>
                <a:off x="3274200" y="3908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椭圆 215059"/>
              <p:cNvSpPr/>
              <p:nvPr/>
            </p:nvSpPr>
            <p:spPr>
              <a:xfrm>
                <a:off x="3375360" y="40082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椭圆 215060"/>
              <p:cNvSpPr/>
              <p:nvPr/>
            </p:nvSpPr>
            <p:spPr>
              <a:xfrm>
                <a:off x="3274200" y="410796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椭圆 215061"/>
              <p:cNvSpPr/>
              <p:nvPr/>
            </p:nvSpPr>
            <p:spPr>
              <a:xfrm>
                <a:off x="3173400" y="42069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组合 215062"/>
            <p:cNvGrpSpPr/>
            <p:nvPr/>
          </p:nvGrpSpPr>
          <p:grpSpPr>
            <a:xfrm>
              <a:off x="2971800" y="3809880"/>
              <a:ext cx="302400" cy="496440"/>
              <a:chOff x="2971800" y="3809880"/>
              <a:chExt cx="302400" cy="496440"/>
            </a:xfrm>
          </p:grpSpPr>
          <p:sp>
            <p:nvSpPr>
              <p:cNvPr id="218" name="椭圆 215063"/>
              <p:cNvSpPr/>
              <p:nvPr/>
            </p:nvSpPr>
            <p:spPr>
              <a:xfrm>
                <a:off x="2971800" y="380988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椭圆 215064"/>
              <p:cNvSpPr/>
              <p:nvPr/>
            </p:nvSpPr>
            <p:spPr>
              <a:xfrm>
                <a:off x="3072600" y="3908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椭圆 215065"/>
              <p:cNvSpPr/>
              <p:nvPr/>
            </p:nvSpPr>
            <p:spPr>
              <a:xfrm>
                <a:off x="3173760" y="40082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椭圆 215066"/>
              <p:cNvSpPr/>
              <p:nvPr/>
            </p:nvSpPr>
            <p:spPr>
              <a:xfrm>
                <a:off x="3072600" y="410796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椭圆 215067"/>
              <p:cNvSpPr/>
              <p:nvPr/>
            </p:nvSpPr>
            <p:spPr>
              <a:xfrm>
                <a:off x="2971800" y="42069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组合 215068"/>
          <p:cNvGrpSpPr/>
          <p:nvPr/>
        </p:nvGrpSpPr>
        <p:grpSpPr>
          <a:xfrm>
            <a:off x="5715000" y="3809880"/>
            <a:ext cx="504000" cy="496440"/>
            <a:chOff x="5715000" y="3809880"/>
            <a:chExt cx="504000" cy="496440"/>
          </a:xfrm>
        </p:grpSpPr>
        <p:grpSp>
          <p:nvGrpSpPr>
            <p:cNvPr id="224" name="组合 215069"/>
            <p:cNvGrpSpPr/>
            <p:nvPr/>
          </p:nvGrpSpPr>
          <p:grpSpPr>
            <a:xfrm>
              <a:off x="5916600" y="3809880"/>
              <a:ext cx="302400" cy="496440"/>
              <a:chOff x="5916600" y="3809880"/>
              <a:chExt cx="302400" cy="496440"/>
            </a:xfrm>
          </p:grpSpPr>
          <p:sp>
            <p:nvSpPr>
              <p:cNvPr id="225" name="椭圆 215070"/>
              <p:cNvSpPr/>
              <p:nvPr/>
            </p:nvSpPr>
            <p:spPr>
              <a:xfrm>
                <a:off x="5916600" y="380988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椭圆 215071"/>
              <p:cNvSpPr/>
              <p:nvPr/>
            </p:nvSpPr>
            <p:spPr>
              <a:xfrm>
                <a:off x="6017400" y="3908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椭圆 215072"/>
              <p:cNvSpPr/>
              <p:nvPr/>
            </p:nvSpPr>
            <p:spPr>
              <a:xfrm>
                <a:off x="6118560" y="40082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椭圆 215073"/>
              <p:cNvSpPr/>
              <p:nvPr/>
            </p:nvSpPr>
            <p:spPr>
              <a:xfrm>
                <a:off x="6017400" y="410796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椭圆 215074"/>
              <p:cNvSpPr/>
              <p:nvPr/>
            </p:nvSpPr>
            <p:spPr>
              <a:xfrm>
                <a:off x="5916600" y="42069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15075"/>
            <p:cNvGrpSpPr/>
            <p:nvPr/>
          </p:nvGrpSpPr>
          <p:grpSpPr>
            <a:xfrm>
              <a:off x="5715000" y="3809880"/>
              <a:ext cx="302400" cy="496440"/>
              <a:chOff x="5715000" y="3809880"/>
              <a:chExt cx="302400" cy="496440"/>
            </a:xfrm>
          </p:grpSpPr>
          <p:sp>
            <p:nvSpPr>
              <p:cNvPr id="231" name="椭圆 215076"/>
              <p:cNvSpPr/>
              <p:nvPr/>
            </p:nvSpPr>
            <p:spPr>
              <a:xfrm>
                <a:off x="5715000" y="380988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椭圆 215077"/>
              <p:cNvSpPr/>
              <p:nvPr/>
            </p:nvSpPr>
            <p:spPr>
              <a:xfrm>
                <a:off x="5815800" y="3908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椭圆 215078"/>
              <p:cNvSpPr/>
              <p:nvPr/>
            </p:nvSpPr>
            <p:spPr>
              <a:xfrm>
                <a:off x="5916960" y="40082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椭圆 215079"/>
              <p:cNvSpPr/>
              <p:nvPr/>
            </p:nvSpPr>
            <p:spPr>
              <a:xfrm>
                <a:off x="5815800" y="410796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椭圆 215080"/>
              <p:cNvSpPr/>
              <p:nvPr/>
            </p:nvSpPr>
            <p:spPr>
              <a:xfrm>
                <a:off x="5715000" y="42069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文本框 215081"/>
          <p:cNvSpPr/>
          <p:nvPr/>
        </p:nvSpPr>
        <p:spPr>
          <a:xfrm>
            <a:off x="990720" y="160020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圆角矩形 269314"/>
          <p:cNvSpPr/>
          <p:nvPr/>
        </p:nvSpPr>
        <p:spPr>
          <a:xfrm>
            <a:off x="53352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圆角矩形 269315"/>
          <p:cNvSpPr/>
          <p:nvPr/>
        </p:nvSpPr>
        <p:spPr>
          <a:xfrm>
            <a:off x="622620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圆角矩形 269316"/>
          <p:cNvSpPr/>
          <p:nvPr/>
        </p:nvSpPr>
        <p:spPr>
          <a:xfrm>
            <a:off x="622152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圆角矩形 269317"/>
          <p:cNvSpPr/>
          <p:nvPr/>
        </p:nvSpPr>
        <p:spPr>
          <a:xfrm>
            <a:off x="56196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圆角矩形 269318"/>
          <p:cNvSpPr/>
          <p:nvPr/>
        </p:nvSpPr>
        <p:spPr>
          <a:xfrm>
            <a:off x="251784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任意多边形 269319"/>
          <p:cNvSpPr/>
          <p:nvPr/>
        </p:nvSpPr>
        <p:spPr>
          <a:xfrm flipH="1" flipV="1" rot="5400000">
            <a:off x="3068280" y="4604400"/>
            <a:ext cx="41940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2"/>
                </a:moveTo>
                <a:cubicBezTo>
                  <a:pt x="3" y="21995"/>
                  <a:pt x="0" y="21798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1667"/>
                  <a:pt x="43200" y="21734"/>
                  <a:pt x="43199" y="21800"/>
                </a:cubicBezTo>
              </a:path>
              <a:path stroke="0" w="43200" h="22192">
                <a:moveTo>
                  <a:pt x="43199" y="21800"/>
                </a:moveTo>
                <a:cubicBezTo>
                  <a:pt x="39125" y="19890"/>
                  <a:pt x="36591" y="17208"/>
                  <a:pt x="36591" y="14238"/>
                </a:cubicBezTo>
                <a:cubicBezTo>
                  <a:pt x="36591" y="8437"/>
                  <a:pt x="46260" y="3734"/>
                  <a:pt x="58187" y="3734"/>
                </a:cubicBezTo>
                <a:cubicBezTo>
                  <a:pt x="70114" y="3734"/>
                  <a:pt x="79783" y="8437"/>
                  <a:pt x="79783" y="14238"/>
                </a:cubicBezTo>
                <a:cubicBezTo>
                  <a:pt x="79783" y="18917"/>
                  <a:pt x="73492" y="22882"/>
                  <a:pt x="64804" y="24240"/>
                </a:cubicBezTo>
                <a:lnTo>
                  <a:pt x="8" y="22192"/>
                </a:lnTo>
                <a:close/>
              </a:path>
            </a:pathLst>
          </a:custGeom>
          <a:solidFill>
            <a:srgbClr val="4ea7ea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圆角矩形 269320"/>
          <p:cNvSpPr/>
          <p:nvPr/>
        </p:nvSpPr>
        <p:spPr>
          <a:xfrm>
            <a:off x="250992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269321"/>
          <p:cNvSpPr/>
          <p:nvPr/>
        </p:nvSpPr>
        <p:spPr>
          <a:xfrm rot="9670200">
            <a:off x="3160080" y="5601960"/>
            <a:ext cx="206280" cy="35568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0" y="727"/>
                </a:moveTo>
                <a:cubicBezTo>
                  <a:pt x="1771" y="251"/>
                  <a:pt x="3636" y="-1"/>
                  <a:pt x="5560" y="-1"/>
                </a:cubicBezTo>
                <a:cubicBezTo>
                  <a:pt x="7682" y="-1"/>
                  <a:pt x="9733" y="305"/>
                  <a:pt x="11665" y="874"/>
                </a:cubicBezTo>
              </a:path>
              <a:path stroke="0" w="11660" h="21600">
                <a:moveTo>
                  <a:pt x="11660" y="879"/>
                </a:moveTo>
                <a:cubicBezTo>
                  <a:pt x="11035" y="1019"/>
                  <a:pt x="10395" y="1091"/>
                  <a:pt x="9745" y="1091"/>
                </a:cubicBezTo>
                <a:cubicBezTo>
                  <a:pt x="2245" y="1091"/>
                  <a:pt x="-3835" y="-8417"/>
                  <a:pt x="-3835" y="-20145"/>
                </a:cubicBezTo>
                <a:cubicBezTo>
                  <a:pt x="-3835" y="-31873"/>
                  <a:pt x="2245" y="-41381"/>
                  <a:pt x="9745" y="-41381"/>
                </a:cubicBezTo>
                <a:cubicBezTo>
                  <a:pt x="17245" y="-41381"/>
                  <a:pt x="23325" y="-31873"/>
                  <a:pt x="23325" y="-20145"/>
                </a:cubicBezTo>
                <a:cubicBezTo>
                  <a:pt x="23325" y="-16887"/>
                  <a:pt x="22856" y="-13800"/>
                  <a:pt x="22018" y="-11043"/>
                </a:cubicBezTo>
                <a:lnTo>
                  <a:pt x="0" y="727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c0c0c0"/>
            </a:solidFill>
            <a:round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圆角矩形 269322"/>
          <p:cNvSpPr/>
          <p:nvPr/>
        </p:nvSpPr>
        <p:spPr>
          <a:xfrm>
            <a:off x="5504040" y="554508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圆角矩形 269323"/>
          <p:cNvSpPr/>
          <p:nvPr/>
        </p:nvSpPr>
        <p:spPr>
          <a:xfrm>
            <a:off x="550080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269324"/>
          <p:cNvSpPr/>
          <p:nvPr/>
        </p:nvSpPr>
        <p:spPr>
          <a:xfrm rot="5400000">
            <a:off x="6041520" y="5629320"/>
            <a:ext cx="365040" cy="25380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641" y="1663"/>
                  <a:pt x="8200" y="0"/>
                  <a:pt x="13148" y="0"/>
                </a:cubicBezTo>
                <a:cubicBezTo>
                  <a:pt x="20666" y="0"/>
                  <a:pt x="27287" y="3841"/>
                  <a:pt x="31155" y="9667"/>
                </a:cubicBezTo>
              </a:path>
              <a:path stroke="0" w="31154" h="21600">
                <a:moveTo>
                  <a:pt x="31154" y="9669"/>
                </a:moveTo>
                <a:cubicBezTo>
                  <a:pt x="28298" y="6218"/>
                  <a:pt x="26554" y="1607"/>
                  <a:pt x="26554" y="-3459"/>
                </a:cubicBezTo>
                <a:cubicBezTo>
                  <a:pt x="26554" y="-14156"/>
                  <a:pt x="34333" y="-22828"/>
                  <a:pt x="43928" y="-22828"/>
                </a:cubicBezTo>
                <a:cubicBezTo>
                  <a:pt x="53523" y="-22828"/>
                  <a:pt x="61302" y="-14156"/>
                  <a:pt x="61302" y="-3459"/>
                </a:cubicBezTo>
                <a:cubicBezTo>
                  <a:pt x="61302" y="1235"/>
                  <a:pt x="59804" y="5539"/>
                  <a:pt x="57312" y="8891"/>
                </a:cubicBezTo>
                <a:lnTo>
                  <a:pt x="0" y="446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269325"/>
          <p:cNvSpPr/>
          <p:nvPr/>
        </p:nvSpPr>
        <p:spPr>
          <a:xfrm>
            <a:off x="6127920" y="4503600"/>
            <a:ext cx="272880" cy="34776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0" y="0"/>
                </a:moveTo>
                <a:cubicBezTo>
                  <a:pt x="6929" y="0"/>
                  <a:pt x="13095" y="3262"/>
                  <a:pt x="17048" y="8334"/>
                </a:cubicBezTo>
              </a:path>
              <a:path stroke="0" w="17047" h="21600">
                <a:moveTo>
                  <a:pt x="17047" y="8335"/>
                </a:moveTo>
                <a:cubicBezTo>
                  <a:pt x="14957" y="4396"/>
                  <a:pt x="13652" y="-1192"/>
                  <a:pt x="13652" y="-7389"/>
                </a:cubicBezTo>
                <a:cubicBezTo>
                  <a:pt x="13652" y="-19318"/>
                  <a:pt x="18487" y="-28989"/>
                  <a:pt x="24452" y="-28989"/>
                </a:cubicBezTo>
                <a:cubicBezTo>
                  <a:pt x="30417" y="-28989"/>
                  <a:pt x="35252" y="-19318"/>
                  <a:pt x="35252" y="-7389"/>
                </a:cubicBezTo>
                <a:cubicBezTo>
                  <a:pt x="35252" y="-4998"/>
                  <a:pt x="35058" y="-2699"/>
                  <a:pt x="34700" y="-553"/>
                </a:cubicBezTo>
                <a:lnTo>
                  <a:pt x="0" y="0"/>
                </a:lnTo>
                <a:close/>
              </a:path>
            </a:pathLst>
          </a:custGeom>
          <a:solidFill>
            <a:srgbClr val="93c052"/>
          </a:solidFill>
          <a:ln w="9360">
            <a:solidFill>
              <a:srgbClr val="93c052"/>
            </a:solidFill>
            <a:round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269326"/>
          <p:cNvSpPr/>
          <p:nvPr/>
        </p:nvSpPr>
        <p:spPr>
          <a:xfrm>
            <a:off x="244800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269327"/>
          <p:cNvSpPr/>
          <p:nvPr/>
        </p:nvSpPr>
        <p:spPr>
          <a:xfrm>
            <a:off x="541332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269328"/>
          <p:cNvSpPr/>
          <p:nvPr/>
        </p:nvSpPr>
        <p:spPr>
          <a:xfrm>
            <a:off x="242892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269329"/>
          <p:cNvSpPr/>
          <p:nvPr/>
        </p:nvSpPr>
        <p:spPr>
          <a:xfrm>
            <a:off x="540216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269330"/>
          <p:cNvSpPr/>
          <p:nvPr/>
        </p:nvSpPr>
        <p:spPr>
          <a:xfrm>
            <a:off x="2824200" y="130824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269331" descr="aa"/>
          <p:cNvPicPr/>
          <p:nvPr/>
        </p:nvPicPr>
        <p:blipFill>
          <a:blip r:embed="rId1"/>
          <a:stretch/>
        </p:blipFill>
        <p:spPr>
          <a:xfrm>
            <a:off x="282420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256" name="任意多边形 269332"/>
          <p:cNvSpPr/>
          <p:nvPr/>
        </p:nvSpPr>
        <p:spPr>
          <a:xfrm>
            <a:off x="4448160" y="1303200"/>
            <a:ext cx="1325520" cy="1650960"/>
          </a:xfrm>
          <a:custGeom>
            <a:avLst/>
            <a:gdLst/>
            <a:ahLst/>
            <a:rect l="l" t="t" r="r" b="b"/>
            <a:pathLst>
              <a:path fill="none" w="17369" h="21600">
                <a:moveTo>
                  <a:pt x="0" y="2"/>
                </a:moveTo>
                <a:cubicBezTo>
                  <a:pt x="-215" y="3"/>
                  <a:pt x="-108" y="2"/>
                  <a:pt x="0" y="2"/>
                </a:cubicBezTo>
                <a:cubicBezTo>
                  <a:pt x="6929" y="2"/>
                  <a:pt x="13095" y="3264"/>
                  <a:pt x="17048" y="8336"/>
                </a:cubicBezTo>
              </a:path>
              <a:path stroke="0" w="17369" h="21600">
                <a:moveTo>
                  <a:pt x="17369" y="8335"/>
                </a:moveTo>
                <a:cubicBezTo>
                  <a:pt x="15272" y="4401"/>
                  <a:pt x="13965" y="-1154"/>
                  <a:pt x="13965" y="-7310"/>
                </a:cubicBezTo>
                <a:cubicBezTo>
                  <a:pt x="13965" y="-19239"/>
                  <a:pt x="18872" y="-28909"/>
                  <a:pt x="24926" y="-28909"/>
                </a:cubicBezTo>
                <a:cubicBezTo>
                  <a:pt x="30980" y="-28909"/>
                  <a:pt x="35887" y="-19239"/>
                  <a:pt x="35887" y="-7310"/>
                </a:cubicBezTo>
                <a:cubicBezTo>
                  <a:pt x="35887" y="-4874"/>
                  <a:pt x="35682" y="-2532"/>
                  <a:pt x="35306" y="-352"/>
                </a:cubicBezTo>
                <a:lnTo>
                  <a:pt x="0" y="2"/>
                </a:lnTo>
                <a:close/>
              </a:path>
            </a:pathLst>
          </a:custGeom>
          <a:solidFill>
            <a:srgbClr val="93c052">
              <a:alpha val="50000"/>
            </a:srgbClr>
          </a:solidFill>
          <a:ln w="9360">
            <a:solidFill>
              <a:srgbClr val="93c05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269333"/>
          <p:cNvSpPr/>
          <p:nvPr/>
        </p:nvSpPr>
        <p:spPr>
          <a:xfrm rot="5400000">
            <a:off x="4101840" y="2300040"/>
            <a:ext cx="2411640" cy="1649520"/>
          </a:xfrm>
          <a:custGeom>
            <a:avLst/>
            <a:gdLst/>
            <a:ahLst/>
            <a:rect l="l" t="t" r="r" b="b"/>
            <a:pathLst>
              <a:path fill="none" w="31543" h="21600">
                <a:moveTo>
                  <a:pt x="0" y="4767"/>
                </a:moveTo>
                <a:cubicBezTo>
                  <a:pt x="3703" y="1784"/>
                  <a:pt x="8411" y="-1"/>
                  <a:pt x="13536" y="-1"/>
                </a:cubicBezTo>
                <a:cubicBezTo>
                  <a:pt x="21054" y="-1"/>
                  <a:pt x="27675" y="3840"/>
                  <a:pt x="31543" y="9666"/>
                </a:cubicBezTo>
              </a:path>
              <a:path stroke="0" w="31543" h="21600">
                <a:moveTo>
                  <a:pt x="31543" y="9669"/>
                </a:moveTo>
                <a:cubicBezTo>
                  <a:pt x="28600" y="6233"/>
                  <a:pt x="26798" y="1613"/>
                  <a:pt x="26798" y="-3466"/>
                </a:cubicBezTo>
                <a:cubicBezTo>
                  <a:pt x="26798" y="-14079"/>
                  <a:pt x="34663" y="-22682"/>
                  <a:pt x="44366" y="-22682"/>
                </a:cubicBezTo>
                <a:cubicBezTo>
                  <a:pt x="54069" y="-22682"/>
                  <a:pt x="61934" y="-14079"/>
                  <a:pt x="61934" y="-3466"/>
                </a:cubicBezTo>
                <a:cubicBezTo>
                  <a:pt x="61934" y="1303"/>
                  <a:pt x="60346" y="5667"/>
                  <a:pt x="57716" y="9026"/>
                </a:cubicBezTo>
                <a:lnTo>
                  <a:pt x="0" y="4767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任意多边形 269334"/>
          <p:cNvSpPr/>
          <p:nvPr/>
        </p:nvSpPr>
        <p:spPr>
          <a:xfrm flipH="1" flipV="1" rot="5400000">
            <a:off x="2048400" y="2099520"/>
            <a:ext cx="3284280" cy="171612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8"/>
                  <a:pt x="-1" y="21895"/>
                  <a:pt x="-1" y="21600"/>
                </a:cubicBezTo>
                <a:cubicBezTo>
                  <a:pt x="-1" y="9671"/>
                  <a:pt x="9670" y="0"/>
                  <a:pt x="21599" y="0"/>
                </a:cubicBezTo>
                <a:cubicBezTo>
                  <a:pt x="33398" y="0"/>
                  <a:pt x="42988" y="9461"/>
                  <a:pt x="43196" y="21209"/>
                </a:cubicBezTo>
              </a:path>
              <a:path stroke="0" w="43197" h="22479">
                <a:moveTo>
                  <a:pt x="43196" y="21211"/>
                </a:moveTo>
                <a:cubicBezTo>
                  <a:pt x="38760" y="19313"/>
                  <a:pt x="35967" y="16551"/>
                  <a:pt x="35967" y="13475"/>
                </a:cubicBezTo>
                <a:cubicBezTo>
                  <a:pt x="35967" y="7753"/>
                  <a:pt x="45634" y="3115"/>
                  <a:pt x="57558" y="3115"/>
                </a:cubicBezTo>
                <a:cubicBezTo>
                  <a:pt x="69482" y="3115"/>
                  <a:pt x="79149" y="7753"/>
                  <a:pt x="79149" y="13475"/>
                </a:cubicBezTo>
                <a:cubicBezTo>
                  <a:pt x="79149" y="18109"/>
                  <a:pt x="72809" y="22032"/>
                  <a:pt x="64068" y="23356"/>
                </a:cubicBezTo>
                <a:lnTo>
                  <a:pt x="17" y="22479"/>
                </a:lnTo>
                <a:close/>
              </a:path>
            </a:pathLst>
          </a:custGeom>
          <a:solidFill>
            <a:srgbClr val="4ea7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组合 269335"/>
          <p:cNvGrpSpPr/>
          <p:nvPr/>
        </p:nvGrpSpPr>
        <p:grpSpPr>
          <a:xfrm>
            <a:off x="2783880" y="2987280"/>
            <a:ext cx="1884600" cy="1776600"/>
            <a:chOff x="2783880" y="2987280"/>
            <a:chExt cx="1884600" cy="1776600"/>
          </a:xfrm>
        </p:grpSpPr>
        <p:sp>
          <p:nvSpPr>
            <p:cNvPr id="260" name="新月形 269336"/>
            <p:cNvSpPr/>
            <p:nvPr/>
          </p:nvSpPr>
          <p:spPr>
            <a:xfrm flipV="1" rot="19510800">
              <a:off x="3224880" y="2943360"/>
              <a:ext cx="368640" cy="166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新月形 269337"/>
            <p:cNvSpPr/>
            <p:nvPr/>
          </p:nvSpPr>
          <p:spPr>
            <a:xfrm flipV="1" rot="18694800">
              <a:off x="3391560" y="3164400"/>
              <a:ext cx="369000" cy="166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新月形 269338"/>
            <p:cNvSpPr/>
            <p:nvPr/>
          </p:nvSpPr>
          <p:spPr>
            <a:xfrm flipV="1" rot="18399600">
              <a:off x="3513600" y="3265920"/>
              <a:ext cx="369000" cy="166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新月形 269339"/>
            <p:cNvSpPr/>
            <p:nvPr/>
          </p:nvSpPr>
          <p:spPr>
            <a:xfrm flipV="1" rot="17867400">
              <a:off x="3663000" y="3381840"/>
              <a:ext cx="369000" cy="166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任意多边形 269340"/>
          <p:cNvSpPr/>
          <p:nvPr/>
        </p:nvSpPr>
        <p:spPr>
          <a:xfrm rot="9670200">
            <a:off x="4281480" y="2912760"/>
            <a:ext cx="890640" cy="165096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0" y="727"/>
                </a:moveTo>
                <a:cubicBezTo>
                  <a:pt x="1771" y="251"/>
                  <a:pt x="3636" y="-1"/>
                  <a:pt x="5560" y="-1"/>
                </a:cubicBezTo>
                <a:cubicBezTo>
                  <a:pt x="7682" y="-1"/>
                  <a:pt x="9733" y="305"/>
                  <a:pt x="11665" y="874"/>
                </a:cubicBezTo>
              </a:path>
              <a:path stroke="0" w="11660" h="21600">
                <a:moveTo>
                  <a:pt x="11660" y="879"/>
                </a:moveTo>
                <a:cubicBezTo>
                  <a:pt x="11035" y="1019"/>
                  <a:pt x="10395" y="1091"/>
                  <a:pt x="9745" y="1091"/>
                </a:cubicBezTo>
                <a:cubicBezTo>
                  <a:pt x="2245" y="1091"/>
                  <a:pt x="-3835" y="-8417"/>
                  <a:pt x="-3835" y="-20145"/>
                </a:cubicBezTo>
                <a:cubicBezTo>
                  <a:pt x="-3835" y="-31873"/>
                  <a:pt x="2245" y="-41381"/>
                  <a:pt x="9745" y="-41381"/>
                </a:cubicBezTo>
                <a:cubicBezTo>
                  <a:pt x="17245" y="-41381"/>
                  <a:pt x="23325" y="-31873"/>
                  <a:pt x="23325" y="-20145"/>
                </a:cubicBezTo>
                <a:cubicBezTo>
                  <a:pt x="23325" y="-16887"/>
                  <a:pt x="22856" y="-13800"/>
                  <a:pt x="22018" y="-11043"/>
                </a:cubicBezTo>
                <a:lnTo>
                  <a:pt x="0" y="727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269341"/>
          <p:cNvSpPr/>
          <p:nvPr/>
        </p:nvSpPr>
        <p:spPr>
          <a:xfrm>
            <a:off x="3913200" y="240336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69342"/>
          <p:cNvSpPr/>
          <p:nvPr/>
        </p:nvSpPr>
        <p:spPr>
          <a:xfrm>
            <a:off x="286236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269343"/>
          <p:cNvSpPr/>
          <p:nvPr/>
        </p:nvSpPr>
        <p:spPr>
          <a:xfrm>
            <a:off x="524340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269344"/>
          <p:cNvSpPr/>
          <p:nvPr/>
        </p:nvSpPr>
        <p:spPr>
          <a:xfrm>
            <a:off x="451008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269345"/>
          <p:cNvSpPr/>
          <p:nvPr/>
        </p:nvSpPr>
        <p:spPr>
          <a:xfrm>
            <a:off x="451008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269346"/>
          <p:cNvSpPr/>
          <p:nvPr/>
        </p:nvSpPr>
        <p:spPr>
          <a:xfrm>
            <a:off x="63036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a7ea"/>
                </a:solidFill>
                <a:latin typeface="Arial"/>
                <a:ea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269347"/>
          <p:cNvSpPr/>
          <p:nvPr/>
        </p:nvSpPr>
        <p:spPr>
          <a:xfrm>
            <a:off x="667368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269348"/>
          <p:cNvSpPr/>
          <p:nvPr/>
        </p:nvSpPr>
        <p:spPr>
          <a:xfrm>
            <a:off x="59364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Arial"/>
                <a:ea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69349"/>
          <p:cNvSpPr/>
          <p:nvPr/>
        </p:nvSpPr>
        <p:spPr>
          <a:xfrm>
            <a:off x="668664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3c052"/>
                </a:solidFill>
                <a:latin typeface="Arial"/>
                <a:ea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组合 269350"/>
          <p:cNvGrpSpPr/>
          <p:nvPr/>
        </p:nvGrpSpPr>
        <p:grpSpPr>
          <a:xfrm>
            <a:off x="4241520" y="1308600"/>
            <a:ext cx="1823760" cy="1508400"/>
            <a:chOff x="4241520" y="1308600"/>
            <a:chExt cx="1823760" cy="1508400"/>
          </a:xfrm>
        </p:grpSpPr>
        <p:grpSp>
          <p:nvGrpSpPr>
            <p:cNvPr id="275" name="组合 269351"/>
            <p:cNvGrpSpPr/>
            <p:nvPr/>
          </p:nvGrpSpPr>
          <p:grpSpPr>
            <a:xfrm>
              <a:off x="4639680" y="1308600"/>
              <a:ext cx="1425600" cy="1508400"/>
              <a:chOff x="4639680" y="1308600"/>
              <a:chExt cx="1425600" cy="1508400"/>
            </a:xfrm>
          </p:grpSpPr>
          <p:sp>
            <p:nvSpPr>
              <p:cNvPr id="276" name="新月形 269352"/>
              <p:cNvSpPr/>
              <p:nvPr/>
            </p:nvSpPr>
            <p:spPr>
              <a:xfrm flipV="1" rot="8983800">
                <a:off x="5454000" y="1501920"/>
                <a:ext cx="29592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新月形 269353"/>
              <p:cNvSpPr/>
              <p:nvPr/>
            </p:nvSpPr>
            <p:spPr>
              <a:xfrm flipV="1" rot="8167800">
                <a:off x="5334840" y="1316160"/>
                <a:ext cx="29628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新月形 269354"/>
              <p:cNvSpPr/>
              <p:nvPr/>
            </p:nvSpPr>
            <p:spPr>
              <a:xfrm flipV="1" rot="7872600">
                <a:off x="5243760" y="1226520"/>
                <a:ext cx="29592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新月形 269355"/>
              <p:cNvSpPr/>
              <p:nvPr/>
            </p:nvSpPr>
            <p:spPr>
              <a:xfrm flipV="1" rot="7340400">
                <a:off x="5132520" y="112428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组合 269356"/>
            <p:cNvGrpSpPr/>
            <p:nvPr/>
          </p:nvGrpSpPr>
          <p:grpSpPr>
            <a:xfrm>
              <a:off x="4241520" y="1316520"/>
              <a:ext cx="1742760" cy="1050120"/>
              <a:chOff x="4241520" y="1316520"/>
              <a:chExt cx="1742760" cy="1050120"/>
            </a:xfrm>
          </p:grpSpPr>
          <p:sp>
            <p:nvSpPr>
              <p:cNvPr id="281" name="新月形 269357"/>
              <p:cNvSpPr/>
              <p:nvPr/>
            </p:nvSpPr>
            <p:spPr>
              <a:xfrm flipV="1" rot="7630800">
                <a:off x="5215680" y="1180800"/>
                <a:ext cx="2977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新月形 269358"/>
              <p:cNvSpPr/>
              <p:nvPr/>
            </p:nvSpPr>
            <p:spPr>
              <a:xfrm flipV="1" rot="6814800">
                <a:off x="5034240" y="1053720"/>
                <a:ext cx="2977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新月形 269359"/>
              <p:cNvSpPr/>
              <p:nvPr/>
            </p:nvSpPr>
            <p:spPr>
              <a:xfrm flipV="1" rot="6519600">
                <a:off x="4915800" y="1006200"/>
                <a:ext cx="29808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新月形 269360"/>
              <p:cNvSpPr/>
              <p:nvPr/>
            </p:nvSpPr>
            <p:spPr>
              <a:xfrm flipV="1" rot="5987400">
                <a:off x="4773240" y="954720"/>
                <a:ext cx="2977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组合 219138"/>
          <p:cNvGrpSpPr/>
          <p:nvPr/>
        </p:nvGrpSpPr>
        <p:grpSpPr>
          <a:xfrm>
            <a:off x="2819520" y="2133720"/>
            <a:ext cx="3351960" cy="3514680"/>
            <a:chOff x="2819520" y="2133720"/>
            <a:chExt cx="3351960" cy="3514680"/>
          </a:xfrm>
        </p:grpSpPr>
        <p:sp>
          <p:nvSpPr>
            <p:cNvPr id="287" name="椭圆 219139"/>
            <p:cNvSpPr/>
            <p:nvPr/>
          </p:nvSpPr>
          <p:spPr>
            <a:xfrm>
              <a:off x="2827080" y="2133720"/>
              <a:ext cx="3332880" cy="3322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ff">
                    <a:alpha val="0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图片 219140" descr="aa"/>
            <p:cNvPicPr/>
            <p:nvPr/>
          </p:nvPicPr>
          <p:blipFill>
            <a:blip r:embed="rId1"/>
            <a:stretch/>
          </p:blipFill>
          <p:spPr>
            <a:xfrm>
              <a:off x="2819520" y="2133720"/>
              <a:ext cx="3346560" cy="33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任意多边形 219141"/>
            <p:cNvSpPr/>
            <p:nvPr/>
          </p:nvSpPr>
          <p:spPr>
            <a:xfrm>
              <a:off x="4505400" y="2137680"/>
              <a:ext cx="1664280" cy="1673640"/>
            </a:xfrm>
            <a:custGeom>
              <a:avLst/>
              <a:gdLst/>
              <a:ahLst/>
              <a:rect l="l" t="t" r="r" b="b"/>
              <a:pathLst>
                <a:path fill="none" w="21597" h="21600">
                  <a:moveTo>
                    <a:pt x="0" y="0"/>
                  </a:moveTo>
                  <a:cubicBezTo>
                    <a:pt x="11811" y="0"/>
                    <a:pt x="21408" y="9479"/>
                    <a:pt x="21597" y="21243"/>
                  </a:cubicBezTo>
                </a:path>
                <a:path stroke="0" w="21597" h="21600">
                  <a:moveTo>
                    <a:pt x="21597" y="21245"/>
                  </a:moveTo>
                  <a:cubicBezTo>
                    <a:pt x="21596" y="21127"/>
                    <a:pt x="21596" y="21009"/>
                    <a:pt x="21596" y="20890"/>
                  </a:cubicBezTo>
                  <a:cubicBezTo>
                    <a:pt x="21596" y="8961"/>
                    <a:pt x="26431" y="-710"/>
                    <a:pt x="32396" y="-710"/>
                  </a:cubicBezTo>
                  <a:cubicBezTo>
                    <a:pt x="38361" y="-710"/>
                    <a:pt x="43196" y="8961"/>
                    <a:pt x="43196" y="20890"/>
                  </a:cubicBezTo>
                  <a:cubicBezTo>
                    <a:pt x="43196" y="23281"/>
                    <a:pt x="43002" y="25580"/>
                    <a:pt x="42644" y="277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ea7ea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任意多边形 219142"/>
            <p:cNvSpPr/>
            <p:nvPr/>
          </p:nvSpPr>
          <p:spPr>
            <a:xfrm rot="5400000">
              <a:off x="4482720" y="3786480"/>
              <a:ext cx="1703160" cy="1674360"/>
            </a:xfrm>
            <a:custGeom>
              <a:avLst/>
              <a:gdLst/>
              <a:ahLst/>
              <a:rect l="l" t="t" r="r" b="b"/>
              <a:pathLst>
                <a:path fill="none" w="22011" h="21670">
                  <a:moveTo>
                    <a:pt x="0" y="3"/>
                  </a:moveTo>
                  <a:cubicBezTo>
                    <a:pt x="137" y="0"/>
                    <a:pt x="274" y="-1"/>
                    <a:pt x="411" y="-1"/>
                  </a:cubicBezTo>
                  <a:cubicBezTo>
                    <a:pt x="12340" y="-1"/>
                    <a:pt x="22011" y="9670"/>
                    <a:pt x="22011" y="21599"/>
                  </a:cubicBezTo>
                  <a:cubicBezTo>
                    <a:pt x="22011" y="21622"/>
                    <a:pt x="22011" y="21646"/>
                    <a:pt x="22011" y="21669"/>
                  </a:cubicBezTo>
                </a:path>
                <a:path stroke="0" w="22011" h="21670">
                  <a:moveTo>
                    <a:pt x="22010" y="21670"/>
                  </a:moveTo>
                  <a:cubicBezTo>
                    <a:pt x="22029" y="9773"/>
                    <a:pt x="26949" y="141"/>
                    <a:pt x="33015" y="141"/>
                  </a:cubicBezTo>
                  <a:cubicBezTo>
                    <a:pt x="39093" y="141"/>
                    <a:pt x="44020" y="9811"/>
                    <a:pt x="44020" y="21739"/>
                  </a:cubicBezTo>
                  <a:cubicBezTo>
                    <a:pt x="44020" y="24188"/>
                    <a:pt x="43812" y="26541"/>
                    <a:pt x="43431" y="28731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任意多边形 219143"/>
            <p:cNvSpPr/>
            <p:nvPr/>
          </p:nvSpPr>
          <p:spPr>
            <a:xfrm flipH="1" flipV="1" rot="5400000">
              <a:off x="2837160" y="2139840"/>
              <a:ext cx="1667880" cy="1677960"/>
            </a:xfrm>
            <a:custGeom>
              <a:avLst/>
              <a:gdLst/>
              <a:ahLst/>
              <a:rect l="l" t="t" r="r" b="b"/>
              <a:pathLst>
                <a:path fill="none" w="21600" h="21787">
                  <a:moveTo>
                    <a:pt x="426" y="0"/>
                  </a:moveTo>
                  <a:cubicBezTo>
                    <a:pt x="12160" y="228"/>
                    <a:pt x="21600" y="9810"/>
                    <a:pt x="21600" y="21596"/>
                  </a:cubicBezTo>
                  <a:cubicBezTo>
                    <a:pt x="21600" y="21660"/>
                    <a:pt x="21600" y="21724"/>
                    <a:pt x="21599" y="21787"/>
                  </a:cubicBezTo>
                </a:path>
                <a:path stroke="0" w="21600" h="21787">
                  <a:moveTo>
                    <a:pt x="21599" y="21787"/>
                  </a:moveTo>
                  <a:cubicBezTo>
                    <a:pt x="21649" y="9945"/>
                    <a:pt x="26370" y="378"/>
                    <a:pt x="32186" y="378"/>
                  </a:cubicBezTo>
                  <a:cubicBezTo>
                    <a:pt x="38033" y="378"/>
                    <a:pt x="42773" y="10048"/>
                    <a:pt x="42773" y="21976"/>
                  </a:cubicBezTo>
                  <a:cubicBezTo>
                    <a:pt x="42773" y="24307"/>
                    <a:pt x="42592" y="26552"/>
                    <a:pt x="42258" y="28651"/>
                  </a:cubicBezTo>
                  <a:lnTo>
                    <a:pt x="426" y="0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任意多边形 219144"/>
            <p:cNvSpPr/>
            <p:nvPr/>
          </p:nvSpPr>
          <p:spPr>
            <a:xfrm rot="10419000">
              <a:off x="2920320" y="3676320"/>
              <a:ext cx="1670400" cy="1885320"/>
            </a:xfrm>
            <a:custGeom>
              <a:avLst/>
              <a:gdLst/>
              <a:ahLst/>
              <a:rect l="l" t="t" r="r" b="b"/>
              <a:pathLst>
                <a:path fill="none" w="21600" h="24319">
                  <a:moveTo>
                    <a:pt x="2373" y="0"/>
                  </a:moveTo>
                  <a:cubicBezTo>
                    <a:pt x="13190" y="1184"/>
                    <a:pt x="21600" y="10345"/>
                    <a:pt x="21600" y="21469"/>
                  </a:cubicBezTo>
                  <a:cubicBezTo>
                    <a:pt x="21600" y="22438"/>
                    <a:pt x="21536" y="23392"/>
                    <a:pt x="21413" y="24321"/>
                  </a:cubicBezTo>
                </a:path>
                <a:path stroke="0" w="21600" h="24319">
                  <a:moveTo>
                    <a:pt x="21411" y="24318"/>
                  </a:moveTo>
                  <a:cubicBezTo>
                    <a:pt x="22027" y="13750"/>
                    <a:pt x="26059" y="5599"/>
                    <a:pt x="30941" y="5599"/>
                  </a:cubicBezTo>
                  <a:cubicBezTo>
                    <a:pt x="36250" y="5599"/>
                    <a:pt x="40554" y="15240"/>
                    <a:pt x="40554" y="27133"/>
                  </a:cubicBezTo>
                  <a:cubicBezTo>
                    <a:pt x="40554" y="29204"/>
                    <a:pt x="40423" y="31207"/>
                    <a:pt x="40181" y="33097"/>
                  </a:cubicBezTo>
                  <a:lnTo>
                    <a:pt x="2373" y="0"/>
                  </a:lnTo>
                  <a:close/>
                </a:path>
              </a:pathLst>
            </a:custGeom>
            <a:solidFill>
              <a:srgbClr val="4ea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219145"/>
            <p:cNvSpPr txBox="1"/>
            <p:nvPr/>
          </p:nvSpPr>
          <p:spPr>
            <a:xfrm rot="18976800">
              <a:off x="3210840" y="2752560"/>
              <a:ext cx="168048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94" name="矩形 219146"/>
            <p:cNvSpPr txBox="1"/>
            <p:nvPr/>
          </p:nvSpPr>
          <p:spPr>
            <a:xfrm rot="2686800">
              <a:off x="4171320" y="2773800"/>
              <a:ext cx="167652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95" name="矩形 219147"/>
            <p:cNvSpPr txBox="1"/>
            <p:nvPr/>
          </p:nvSpPr>
          <p:spPr>
            <a:xfrm rot="2760000">
              <a:off x="3084840" y="4132440"/>
              <a:ext cx="1551240" cy="620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96" name="矩形 219148"/>
            <p:cNvSpPr txBox="1"/>
            <p:nvPr/>
          </p:nvSpPr>
          <p:spPr>
            <a:xfrm rot="19083600">
              <a:off x="4379760" y="4107960"/>
              <a:ext cx="1545480" cy="622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grpSp>
          <p:nvGrpSpPr>
            <p:cNvPr id="297" name="组合 219149"/>
            <p:cNvGrpSpPr/>
            <p:nvPr/>
          </p:nvGrpSpPr>
          <p:grpSpPr>
            <a:xfrm>
              <a:off x="3600720" y="2896200"/>
              <a:ext cx="1791360" cy="1841760"/>
              <a:chOff x="3600720" y="2896200"/>
              <a:chExt cx="1791360" cy="1841760"/>
            </a:xfrm>
          </p:grpSpPr>
          <p:pic>
            <p:nvPicPr>
              <p:cNvPr id="298" name="图片 219150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3600720" y="2896200"/>
                <a:ext cx="1791360" cy="17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椭圆 219151"/>
              <p:cNvSpPr/>
              <p:nvPr/>
            </p:nvSpPr>
            <p:spPr>
              <a:xfrm>
                <a:off x="3600720" y="2896200"/>
                <a:ext cx="1779120" cy="1754640"/>
              </a:xfrm>
              <a:prstGeom prst="ellipse">
                <a:avLst/>
              </a:prstGeom>
              <a:gradFill rotWithShape="0">
                <a:gsLst>
                  <a:gs pos="0">
                    <a:srgbClr val="414141">
                      <a:alpha val="90196"/>
                    </a:srgbClr>
                  </a:gs>
                  <a:gs pos="50000">
                    <a:srgbClr val="f8f8f8">
                      <a:alpha val="45098"/>
                    </a:srgbClr>
                  </a:gs>
                  <a:gs pos="100000">
                    <a:srgbClr val="414141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任意多边形 219152"/>
              <p:cNvSpPr/>
              <p:nvPr/>
            </p:nvSpPr>
            <p:spPr>
              <a:xfrm>
                <a:off x="3785400" y="2931840"/>
                <a:ext cx="1397880" cy="6084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组合 219153"/>
              <p:cNvGrpSpPr/>
              <p:nvPr/>
            </p:nvGrpSpPr>
            <p:grpSpPr>
              <a:xfrm>
                <a:off x="3727800" y="4111200"/>
                <a:ext cx="1572120" cy="626760"/>
                <a:chOff x="3727800" y="4111200"/>
                <a:chExt cx="1572120" cy="626760"/>
              </a:xfrm>
            </p:grpSpPr>
            <p:grpSp>
              <p:nvGrpSpPr>
                <p:cNvPr id="302" name="组合 219154"/>
                <p:cNvGrpSpPr/>
                <p:nvPr/>
              </p:nvGrpSpPr>
              <p:grpSpPr>
                <a:xfrm>
                  <a:off x="4002120" y="4111200"/>
                  <a:ext cx="1297800" cy="589320"/>
                  <a:chOff x="4002120" y="4111200"/>
                  <a:chExt cx="1297800" cy="589320"/>
                </a:xfrm>
              </p:grpSpPr>
              <p:sp>
                <p:nvSpPr>
                  <p:cNvPr id="303" name="新月形 219155"/>
                  <p:cNvSpPr/>
                  <p:nvPr/>
                </p:nvSpPr>
                <p:spPr>
                  <a:xfrm flipH="1" flipV="1" rot="3964800">
                    <a:off x="4708800" y="3933720"/>
                    <a:ext cx="226800" cy="9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新月形 219156"/>
                  <p:cNvSpPr/>
                  <p:nvPr/>
                </p:nvSpPr>
                <p:spPr>
                  <a:xfrm flipH="1" flipV="1" rot="4780200">
                    <a:off x="4563360" y="3990960"/>
                    <a:ext cx="226800" cy="9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新月形 219157"/>
                  <p:cNvSpPr/>
                  <p:nvPr/>
                </p:nvSpPr>
                <p:spPr>
                  <a:xfrm flipH="1" flipV="1" rot="5076000">
                    <a:off x="4472640" y="4003200"/>
                    <a:ext cx="226800" cy="9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新月形 219158"/>
                  <p:cNvSpPr/>
                  <p:nvPr/>
                </p:nvSpPr>
                <p:spPr>
                  <a:xfrm flipH="1" flipV="1" rot="5608200">
                    <a:off x="4365720" y="4013640"/>
                    <a:ext cx="22680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组合 219159"/>
                <p:cNvGrpSpPr/>
                <p:nvPr/>
              </p:nvGrpSpPr>
              <p:grpSpPr>
                <a:xfrm>
                  <a:off x="3727800" y="4119480"/>
                  <a:ext cx="1295280" cy="618480"/>
                  <a:chOff x="3727800" y="4119480"/>
                  <a:chExt cx="1295280" cy="618480"/>
                </a:xfrm>
              </p:grpSpPr>
              <p:sp>
                <p:nvSpPr>
                  <p:cNvPr id="308" name="新月形 219160"/>
                  <p:cNvSpPr/>
                  <p:nvPr/>
                </p:nvSpPr>
                <p:spPr>
                  <a:xfrm flipH="1" flipV="1" rot="5317800">
                    <a:off x="4434480" y="4014000"/>
                    <a:ext cx="22788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新月形 219161"/>
                  <p:cNvSpPr/>
                  <p:nvPr/>
                </p:nvSpPr>
                <p:spPr>
                  <a:xfrm flipH="1" flipV="1" rot="6133800">
                    <a:off x="4277520" y="4011480"/>
                    <a:ext cx="22788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新月形 219162"/>
                  <p:cNvSpPr/>
                  <p:nvPr/>
                </p:nvSpPr>
                <p:spPr>
                  <a:xfrm flipH="1" flipV="1" rot="6429000">
                    <a:off x="4190040" y="3988800"/>
                    <a:ext cx="22788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新月形 219163"/>
                  <p:cNvSpPr/>
                  <p:nvPr/>
                </p:nvSpPr>
                <p:spPr>
                  <a:xfrm flipH="1" flipV="1" rot="6961200">
                    <a:off x="4087080" y="3957120"/>
                    <a:ext cx="22788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12" name="矩形 219164"/>
            <p:cNvSpPr/>
            <p:nvPr/>
          </p:nvSpPr>
          <p:spPr>
            <a:xfrm>
              <a:off x="4146840" y="355248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  <a:ea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线形标注 2(带强调线) 219165"/>
          <p:cNvSpPr/>
          <p:nvPr/>
        </p:nvSpPr>
        <p:spPr>
          <a:xfrm>
            <a:off x="6248520" y="1752480"/>
            <a:ext cx="2361960" cy="83844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ea7ea"/>
                </a:solidFill>
                <a:latin typeface="Arial"/>
                <a:ea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线形标注 2(带强调线) 219166"/>
          <p:cNvSpPr/>
          <p:nvPr/>
        </p:nvSpPr>
        <p:spPr>
          <a:xfrm>
            <a:off x="6172200" y="5257800"/>
            <a:ext cx="2362320" cy="83808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3c052"/>
                </a:solidFill>
                <a:latin typeface="Arial"/>
                <a:ea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线形标注 2(带强调线) 219167"/>
          <p:cNvSpPr/>
          <p:nvPr/>
        </p:nvSpPr>
        <p:spPr>
          <a:xfrm flipH="1">
            <a:off x="490680" y="1760400"/>
            <a:ext cx="2286000" cy="83844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3c052"/>
                </a:solidFill>
                <a:latin typeface="Arial"/>
                <a:ea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线形标注 2(带强调线) 219168"/>
          <p:cNvSpPr/>
          <p:nvPr/>
        </p:nvSpPr>
        <p:spPr>
          <a:xfrm>
            <a:off x="457200" y="5292720"/>
            <a:ext cx="2362320" cy="80316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ea7ea"/>
                </a:solidFill>
                <a:latin typeface="Arial"/>
                <a:ea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任意多边形 258050"/>
          <p:cNvSpPr/>
          <p:nvPr/>
        </p:nvSpPr>
        <p:spPr>
          <a:xfrm>
            <a:off x="3192480" y="2022480"/>
            <a:ext cx="2943360" cy="121932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441"/>
                </a:moveTo>
                <a:cubicBezTo>
                  <a:pt x="181" y="610"/>
                  <a:pt x="402" y="750"/>
                  <a:pt x="396" y="762"/>
                </a:cubicBezTo>
                <a:cubicBezTo>
                  <a:pt x="492" y="672"/>
                  <a:pt x="672" y="528"/>
                  <a:pt x="912" y="528"/>
                </a:cubicBezTo>
                <a:cubicBezTo>
                  <a:pt x="1152" y="528"/>
                  <a:pt x="1320" y="642"/>
                  <a:pt x="1446" y="768"/>
                </a:cubicBezTo>
                <a:lnTo>
                  <a:pt x="1854" y="429"/>
                </a:lnTo>
                <a:cubicBezTo>
                  <a:pt x="1732" y="261"/>
                  <a:pt x="1428" y="0"/>
                  <a:pt x="918" y="0"/>
                </a:cubicBezTo>
                <a:cubicBezTo>
                  <a:pt x="408" y="0"/>
                  <a:pt x="138" y="255"/>
                  <a:pt x="0" y="441"/>
                </a:cubicBez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960640" y="2714760"/>
            <a:ext cx="3648240" cy="3147840"/>
            <a:chOff x="2960640" y="2714760"/>
            <a:chExt cx="3648240" cy="3147840"/>
          </a:xfrm>
        </p:grpSpPr>
        <p:sp>
          <p:nvSpPr>
            <p:cNvPr id="321" name="直接连接符 258051"/>
            <p:cNvSpPr/>
            <p:nvPr/>
          </p:nvSpPr>
          <p:spPr>
            <a:xfrm>
              <a:off x="2960640" y="2714760"/>
              <a:ext cx="3648240" cy="3147840"/>
            </a:xfrm>
            <a:prstGeom prst="line">
              <a:avLst/>
            </a:prstGeom>
            <a:ln cap="rnd" w="19080">
              <a:solidFill>
                <a:srgbClr val="96969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2960640" y="2714760"/>
              <a:ext cx="3648240" cy="3147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806560" y="2638440"/>
            <a:ext cx="3648240" cy="3147840"/>
            <a:chOff x="2806560" y="2638440"/>
            <a:chExt cx="3648240" cy="3147840"/>
          </a:xfrm>
        </p:grpSpPr>
        <p:sp>
          <p:nvSpPr>
            <p:cNvPr id="324" name="直接连接符 258052"/>
            <p:cNvSpPr/>
            <p:nvPr/>
          </p:nvSpPr>
          <p:spPr>
            <a:xfrm flipH="1">
              <a:off x="2806560" y="2638440"/>
              <a:ext cx="3648240" cy="3147840"/>
            </a:xfrm>
            <a:prstGeom prst="line">
              <a:avLst/>
            </a:prstGeom>
            <a:ln cap="rnd" w="19080">
              <a:solidFill>
                <a:srgbClr val="96969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2806560" y="2638440"/>
              <a:ext cx="3648240" cy="3147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椭圆 258053"/>
          <p:cNvSpPr/>
          <p:nvPr/>
        </p:nvSpPr>
        <p:spPr>
          <a:xfrm>
            <a:off x="3575160" y="3098880"/>
            <a:ext cx="2151000" cy="2151000"/>
          </a:xfrm>
          <a:prstGeom prst="ellipse">
            <a:avLst/>
          </a:prstGeom>
          <a:gradFill rotWithShape="0">
            <a:gsLst>
              <a:gs pos="0">
                <a:srgbClr val="a9d4e0"/>
              </a:gs>
              <a:gs pos="100000">
                <a:srgbClr val="0080a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258054"/>
          <p:cNvSpPr/>
          <p:nvPr/>
        </p:nvSpPr>
        <p:spPr>
          <a:xfrm>
            <a:off x="3084480" y="3951360"/>
            <a:ext cx="39852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新月形 258055"/>
          <p:cNvSpPr/>
          <p:nvPr/>
        </p:nvSpPr>
        <p:spPr>
          <a:xfrm>
            <a:off x="287496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新月形 258056"/>
          <p:cNvSpPr/>
          <p:nvPr/>
        </p:nvSpPr>
        <p:spPr>
          <a:xfrm>
            <a:off x="2727360" y="3951360"/>
            <a:ext cx="2001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椭圆 258057"/>
          <p:cNvSpPr/>
          <p:nvPr/>
        </p:nvSpPr>
        <p:spPr>
          <a:xfrm flipH="1">
            <a:off x="5815800" y="3951360"/>
            <a:ext cx="39996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新月形 258058"/>
          <p:cNvSpPr/>
          <p:nvPr/>
        </p:nvSpPr>
        <p:spPr>
          <a:xfrm flipH="1">
            <a:off x="6204960" y="3951360"/>
            <a:ext cx="1998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新月形 258059"/>
          <p:cNvSpPr/>
          <p:nvPr/>
        </p:nvSpPr>
        <p:spPr>
          <a:xfrm flipH="1">
            <a:off x="6334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新月形 258060"/>
          <p:cNvSpPr/>
          <p:nvPr/>
        </p:nvSpPr>
        <p:spPr>
          <a:xfrm>
            <a:off x="257652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新月形 258061"/>
          <p:cNvSpPr/>
          <p:nvPr/>
        </p:nvSpPr>
        <p:spPr>
          <a:xfrm flipH="1">
            <a:off x="6469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258062"/>
          <p:cNvSpPr/>
          <p:nvPr/>
        </p:nvSpPr>
        <p:spPr>
          <a:xfrm>
            <a:off x="3192480" y="5105520"/>
            <a:ext cx="2943360" cy="121896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327"/>
                </a:moveTo>
                <a:cubicBezTo>
                  <a:pt x="181" y="158"/>
                  <a:pt x="402" y="18"/>
                  <a:pt x="396" y="6"/>
                </a:cubicBezTo>
                <a:cubicBezTo>
                  <a:pt x="492" y="96"/>
                  <a:pt x="672" y="240"/>
                  <a:pt x="912" y="240"/>
                </a:cubicBezTo>
                <a:cubicBezTo>
                  <a:pt x="1152" y="240"/>
                  <a:pt x="1320" y="126"/>
                  <a:pt x="1446" y="0"/>
                </a:cubicBezTo>
                <a:lnTo>
                  <a:pt x="1854" y="339"/>
                </a:lnTo>
                <a:cubicBezTo>
                  <a:pt x="1732" y="507"/>
                  <a:pt x="1428" y="768"/>
                  <a:pt x="918" y="768"/>
                </a:cubicBezTo>
                <a:cubicBezTo>
                  <a:pt x="408" y="768"/>
                  <a:pt x="138" y="513"/>
                  <a:pt x="0" y="327"/>
                </a:cubicBezTo>
                <a:close/>
              </a:path>
            </a:pathLst>
          </a:cu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58063"/>
          <p:cNvSpPr/>
          <p:nvPr/>
        </p:nvSpPr>
        <p:spPr>
          <a:xfrm>
            <a:off x="3727440" y="3751200"/>
            <a:ext cx="1843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meGallery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258064"/>
          <p:cNvSpPr/>
          <p:nvPr/>
        </p:nvSpPr>
        <p:spPr>
          <a:xfrm>
            <a:off x="3305160" y="24004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58065"/>
          <p:cNvSpPr/>
          <p:nvPr/>
        </p:nvSpPr>
        <p:spPr>
          <a:xfrm>
            <a:off x="3343320" y="56656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258066"/>
          <p:cNvSpPr/>
          <p:nvPr/>
        </p:nvSpPr>
        <p:spPr>
          <a:xfrm>
            <a:off x="533520" y="396252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58067"/>
          <p:cNvSpPr/>
          <p:nvPr/>
        </p:nvSpPr>
        <p:spPr>
          <a:xfrm>
            <a:off x="6683400" y="397188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258068"/>
          <p:cNvSpPr/>
          <p:nvPr/>
        </p:nvSpPr>
        <p:spPr>
          <a:xfrm>
            <a:off x="3276720" y="135576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ents Title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258069"/>
          <p:cNvGrpSpPr/>
          <p:nvPr/>
        </p:nvGrpSpPr>
        <p:grpSpPr>
          <a:xfrm>
            <a:off x="3000240" y="1438200"/>
            <a:ext cx="276480" cy="276480"/>
            <a:chOff x="3000240" y="1438200"/>
            <a:chExt cx="276480" cy="276480"/>
          </a:xfrm>
        </p:grpSpPr>
        <p:grpSp>
          <p:nvGrpSpPr>
            <p:cNvPr id="343" name="组合 258070"/>
            <p:cNvGrpSpPr/>
            <p:nvPr/>
          </p:nvGrpSpPr>
          <p:grpSpPr>
            <a:xfrm>
              <a:off x="3000240" y="1438200"/>
              <a:ext cx="276480" cy="276480"/>
              <a:chOff x="3000240" y="1438200"/>
              <a:chExt cx="276480" cy="276480"/>
            </a:xfrm>
          </p:grpSpPr>
          <p:sp>
            <p:nvSpPr>
              <p:cNvPr id="344" name="椭圆 258071"/>
              <p:cNvSpPr/>
              <p:nvPr/>
            </p:nvSpPr>
            <p:spPr>
              <a:xfrm>
                <a:off x="3000240" y="1438200"/>
                <a:ext cx="276480" cy="2764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椭圆 258072"/>
              <p:cNvSpPr/>
              <p:nvPr/>
            </p:nvSpPr>
            <p:spPr>
              <a:xfrm>
                <a:off x="3007440" y="1443600"/>
                <a:ext cx="263880" cy="265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椭圆 258073"/>
              <p:cNvSpPr/>
              <p:nvPr/>
            </p:nvSpPr>
            <p:spPr>
              <a:xfrm>
                <a:off x="3018240" y="1454400"/>
                <a:ext cx="241920" cy="2437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椭圆 258074"/>
              <p:cNvSpPr/>
              <p:nvPr/>
            </p:nvSpPr>
            <p:spPr>
              <a:xfrm>
                <a:off x="3025440" y="1460160"/>
                <a:ext cx="227520" cy="2289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椭圆 258075"/>
              <p:cNvSpPr/>
              <p:nvPr/>
            </p:nvSpPr>
            <p:spPr>
              <a:xfrm>
                <a:off x="3028680" y="1463760"/>
                <a:ext cx="219960" cy="221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椭圆 258076"/>
            <p:cNvSpPr/>
            <p:nvPr/>
          </p:nvSpPr>
          <p:spPr>
            <a:xfrm>
              <a:off x="3033000" y="1468440"/>
              <a:ext cx="214200" cy="214920"/>
            </a:xfrm>
            <a:prstGeom prst="ellipse">
              <a:avLst/>
            </a:prstGeom>
            <a:gradFill rotWithShape="0">
              <a:gsLst>
                <a:gs pos="0">
                  <a:srgbClr val="182f5e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对象 221287" descr=""/>
          <p:cNvPicPr/>
          <p:nvPr/>
        </p:nvPicPr>
        <p:blipFill>
          <a:blip r:embed="rId1"/>
          <a:stretch/>
        </p:blipFill>
        <p:spPr>
          <a:xfrm>
            <a:off x="235080" y="2987640"/>
            <a:ext cx="4119480" cy="2451240"/>
          </a:xfrm>
          <a:prstGeom prst="rect">
            <a:avLst/>
          </a:prstGeom>
          <a:ln w="0">
            <a:noFill/>
          </a:ln>
        </p:spPr>
      </p:pic>
      <p:pic>
        <p:nvPicPr>
          <p:cNvPr id="352" name="对象 221288" descr=""/>
          <p:cNvPicPr/>
          <p:nvPr/>
        </p:nvPicPr>
        <p:blipFill>
          <a:blip r:embed="rId2"/>
          <a:stretch/>
        </p:blipFill>
        <p:spPr>
          <a:xfrm>
            <a:off x="4843440" y="2963880"/>
            <a:ext cx="4181400" cy="2486160"/>
          </a:xfrm>
          <a:prstGeom prst="rect">
            <a:avLst/>
          </a:prstGeom>
          <a:ln w="0">
            <a:noFill/>
          </a:ln>
        </p:spPr>
      </p:pic>
      <p:sp>
        <p:nvSpPr>
          <p:cNvPr id="353" name="矩形 221289"/>
          <p:cNvSpPr/>
          <p:nvPr/>
        </p:nvSpPr>
        <p:spPr>
          <a:xfrm>
            <a:off x="187200" y="1676520"/>
            <a:ext cx="4572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Arial"/>
              </a:rPr>
              <a:t>1. 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221290"/>
          <p:cNvSpPr/>
          <p:nvPr/>
        </p:nvSpPr>
        <p:spPr>
          <a:xfrm>
            <a:off x="4527720" y="1676520"/>
            <a:ext cx="45720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Arial"/>
              </a:rPr>
              <a:t>2. 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221291"/>
          <p:cNvSpPr/>
          <p:nvPr/>
        </p:nvSpPr>
        <p:spPr>
          <a:xfrm>
            <a:off x="3553560" y="563580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Chart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组合 221292"/>
          <p:cNvGrpSpPr/>
          <p:nvPr/>
        </p:nvGrpSpPr>
        <p:grpSpPr>
          <a:xfrm>
            <a:off x="1266840" y="4581360"/>
            <a:ext cx="415800" cy="451080"/>
            <a:chOff x="1266840" y="4581360"/>
            <a:chExt cx="415800" cy="451080"/>
          </a:xfrm>
        </p:grpSpPr>
        <p:sp>
          <p:nvSpPr>
            <p:cNvPr id="357" name="椭圆 221293"/>
            <p:cNvSpPr/>
            <p:nvPr/>
          </p:nvSpPr>
          <p:spPr>
            <a:xfrm>
              <a:off x="1432080" y="4581360"/>
              <a:ext cx="68040" cy="65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椭圆 221294"/>
            <p:cNvSpPr/>
            <p:nvPr/>
          </p:nvSpPr>
          <p:spPr>
            <a:xfrm>
              <a:off x="1329840" y="475992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椭圆 221295"/>
            <p:cNvSpPr/>
            <p:nvPr/>
          </p:nvSpPr>
          <p:spPr>
            <a:xfrm>
              <a:off x="1510920" y="4689720"/>
              <a:ext cx="7164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椭圆 221296"/>
            <p:cNvSpPr/>
            <p:nvPr/>
          </p:nvSpPr>
          <p:spPr>
            <a:xfrm>
              <a:off x="1358280" y="49842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1378440" y="4851720"/>
              <a:ext cx="360" cy="133200"/>
              <a:chOff x="1378440" y="4851720"/>
              <a:chExt cx="360" cy="133200"/>
            </a:xfrm>
          </p:grpSpPr>
          <p:sp>
            <p:nvSpPr>
              <p:cNvPr id="362" name="直接连接符 221297"/>
              <p:cNvSpPr/>
              <p:nvPr/>
            </p:nvSpPr>
            <p:spPr>
              <a:xfrm>
                <a:off x="1378440" y="4851720"/>
                <a:ext cx="0" cy="13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 txBox="1"/>
              <p:nvPr/>
            </p:nvSpPr>
            <p:spPr>
              <a:xfrm>
                <a:off x="1378440" y="4851720"/>
                <a:ext cx="360" cy="13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1414080" y="4739760"/>
              <a:ext cx="108000" cy="32040"/>
              <a:chOff x="1414080" y="4739760"/>
              <a:chExt cx="108000" cy="32040"/>
            </a:xfrm>
          </p:grpSpPr>
          <p:sp>
            <p:nvSpPr>
              <p:cNvPr id="365" name="直接连接符 221298"/>
              <p:cNvSpPr/>
              <p:nvPr/>
            </p:nvSpPr>
            <p:spPr>
              <a:xfrm flipV="1">
                <a:off x="1414440" y="4739760"/>
                <a:ext cx="107640" cy="320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 txBox="1"/>
              <p:nvPr/>
            </p:nvSpPr>
            <p:spPr>
              <a:xfrm rot="10800000">
                <a:off x="1414080" y="4739760"/>
                <a:ext cx="107640" cy="3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1482480" y="4635360"/>
              <a:ext cx="42120" cy="57600"/>
              <a:chOff x="1482480" y="4635360"/>
              <a:chExt cx="42120" cy="57600"/>
            </a:xfrm>
          </p:grpSpPr>
          <p:sp>
            <p:nvSpPr>
              <p:cNvPr id="368" name="直接连接符 221299"/>
              <p:cNvSpPr/>
              <p:nvPr/>
            </p:nvSpPr>
            <p:spPr>
              <a:xfrm flipH="1" flipV="1">
                <a:off x="1482480" y="4635360"/>
                <a:ext cx="42120" cy="576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 txBox="1"/>
              <p:nvPr/>
            </p:nvSpPr>
            <p:spPr>
              <a:xfrm rot="10800000">
                <a:off x="1482480" y="4635360"/>
                <a:ext cx="42120" cy="57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椭圆 221300"/>
            <p:cNvSpPr/>
            <p:nvPr/>
          </p:nvSpPr>
          <p:spPr>
            <a:xfrm>
              <a:off x="1632240" y="46425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椭圆 221301"/>
            <p:cNvSpPr/>
            <p:nvPr/>
          </p:nvSpPr>
          <p:spPr>
            <a:xfrm>
              <a:off x="1562040" y="482904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1561320" y="4758120"/>
              <a:ext cx="17640" cy="83160"/>
              <a:chOff x="1561320" y="4758120"/>
              <a:chExt cx="17640" cy="83160"/>
            </a:xfrm>
          </p:grpSpPr>
          <p:sp>
            <p:nvSpPr>
              <p:cNvPr id="373" name="直接连接符 221302"/>
              <p:cNvSpPr/>
              <p:nvPr/>
            </p:nvSpPr>
            <p:spPr>
              <a:xfrm>
                <a:off x="1561320" y="4758120"/>
                <a:ext cx="17640" cy="8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 txBox="1"/>
              <p:nvPr/>
            </p:nvSpPr>
            <p:spPr>
              <a:xfrm>
                <a:off x="1561320" y="4758120"/>
                <a:ext cx="17640" cy="8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1582920" y="4664160"/>
              <a:ext cx="53280" cy="46440"/>
              <a:chOff x="1582920" y="4664160"/>
              <a:chExt cx="53280" cy="46440"/>
            </a:xfrm>
          </p:grpSpPr>
          <p:sp>
            <p:nvSpPr>
              <p:cNvPr id="376" name="直接连接符 221303"/>
              <p:cNvSpPr/>
              <p:nvPr/>
            </p:nvSpPr>
            <p:spPr>
              <a:xfrm flipV="1">
                <a:off x="1582920" y="4664160"/>
                <a:ext cx="53280" cy="4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 rot="10800000">
                <a:off x="1582920" y="4664160"/>
                <a:ext cx="53280" cy="4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椭圆 221304"/>
            <p:cNvSpPr/>
            <p:nvPr/>
          </p:nvSpPr>
          <p:spPr>
            <a:xfrm>
              <a:off x="1266840" y="4686120"/>
              <a:ext cx="5004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1296360" y="4728960"/>
              <a:ext cx="42840" cy="43200"/>
              <a:chOff x="1296360" y="4728960"/>
              <a:chExt cx="42840" cy="43200"/>
            </a:xfrm>
          </p:grpSpPr>
          <p:sp>
            <p:nvSpPr>
              <p:cNvPr id="380" name="直接连接符 221305"/>
              <p:cNvSpPr/>
              <p:nvPr/>
            </p:nvSpPr>
            <p:spPr>
              <a:xfrm>
                <a:off x="1296360" y="4728960"/>
                <a:ext cx="42840" cy="4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 txBox="1"/>
              <p:nvPr/>
            </p:nvSpPr>
            <p:spPr>
              <a:xfrm>
                <a:off x="1296360" y="4728960"/>
                <a:ext cx="42840" cy="4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1498320" y="4867920"/>
              <a:ext cx="78480" cy="21960"/>
              <a:chOff x="1498320" y="4867920"/>
              <a:chExt cx="78480" cy="21960"/>
            </a:xfrm>
          </p:grpSpPr>
          <p:sp>
            <p:nvSpPr>
              <p:cNvPr id="383" name="直接连接符 221306"/>
              <p:cNvSpPr/>
              <p:nvPr/>
            </p:nvSpPr>
            <p:spPr>
              <a:xfrm flipH="1">
                <a:off x="1498320" y="4867920"/>
                <a:ext cx="78120" cy="219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 txBox="1"/>
              <p:nvPr/>
            </p:nvSpPr>
            <p:spPr>
              <a:xfrm>
                <a:off x="1498680" y="4867920"/>
                <a:ext cx="78120" cy="21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椭圆 221307"/>
            <p:cNvSpPr/>
            <p:nvPr/>
          </p:nvSpPr>
          <p:spPr>
            <a:xfrm>
              <a:off x="1463400" y="48697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1607760" y="4877280"/>
              <a:ext cx="17640" cy="21600"/>
              <a:chOff x="1607760" y="4877280"/>
              <a:chExt cx="17640" cy="21600"/>
            </a:xfrm>
          </p:grpSpPr>
          <p:sp>
            <p:nvSpPr>
              <p:cNvPr id="387" name="直接连接符 221308"/>
              <p:cNvSpPr/>
              <p:nvPr/>
            </p:nvSpPr>
            <p:spPr>
              <a:xfrm>
                <a:off x="1607760" y="4877280"/>
                <a:ext cx="17640" cy="216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 txBox="1"/>
              <p:nvPr/>
            </p:nvSpPr>
            <p:spPr>
              <a:xfrm>
                <a:off x="1607760" y="4877280"/>
                <a:ext cx="17640" cy="2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椭圆 221309"/>
            <p:cNvSpPr/>
            <p:nvPr/>
          </p:nvSpPr>
          <p:spPr>
            <a:xfrm>
              <a:off x="1615680" y="49039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组合 221310"/>
          <p:cNvGrpSpPr/>
          <p:nvPr/>
        </p:nvGrpSpPr>
        <p:grpSpPr>
          <a:xfrm>
            <a:off x="5897520" y="4567320"/>
            <a:ext cx="415800" cy="450720"/>
            <a:chOff x="5897520" y="4567320"/>
            <a:chExt cx="415800" cy="450720"/>
          </a:xfrm>
        </p:grpSpPr>
        <p:sp>
          <p:nvSpPr>
            <p:cNvPr id="391" name="椭圆 221311"/>
            <p:cNvSpPr/>
            <p:nvPr/>
          </p:nvSpPr>
          <p:spPr>
            <a:xfrm>
              <a:off x="6062760" y="4567320"/>
              <a:ext cx="68040" cy="648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椭圆 221312"/>
            <p:cNvSpPr/>
            <p:nvPr/>
          </p:nvSpPr>
          <p:spPr>
            <a:xfrm>
              <a:off x="5960520" y="474588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椭圆 221313"/>
            <p:cNvSpPr/>
            <p:nvPr/>
          </p:nvSpPr>
          <p:spPr>
            <a:xfrm>
              <a:off x="6141600" y="4675680"/>
              <a:ext cx="7164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椭圆 221314"/>
            <p:cNvSpPr/>
            <p:nvPr/>
          </p:nvSpPr>
          <p:spPr>
            <a:xfrm>
              <a:off x="5988960" y="49698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6009120" y="4837680"/>
              <a:ext cx="360" cy="133200"/>
              <a:chOff x="6009120" y="4837680"/>
              <a:chExt cx="360" cy="133200"/>
            </a:xfrm>
          </p:grpSpPr>
          <p:sp>
            <p:nvSpPr>
              <p:cNvPr id="396" name="直接连接符 221315"/>
              <p:cNvSpPr/>
              <p:nvPr/>
            </p:nvSpPr>
            <p:spPr>
              <a:xfrm>
                <a:off x="6009120" y="4837680"/>
                <a:ext cx="0" cy="13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 txBox="1"/>
              <p:nvPr/>
            </p:nvSpPr>
            <p:spPr>
              <a:xfrm>
                <a:off x="6009120" y="4837680"/>
                <a:ext cx="360" cy="13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6044760" y="4725720"/>
              <a:ext cx="108000" cy="32040"/>
              <a:chOff x="6044760" y="4725720"/>
              <a:chExt cx="108000" cy="32040"/>
            </a:xfrm>
          </p:grpSpPr>
          <p:sp>
            <p:nvSpPr>
              <p:cNvPr id="399" name="直接连接符 221316"/>
              <p:cNvSpPr/>
              <p:nvPr/>
            </p:nvSpPr>
            <p:spPr>
              <a:xfrm flipV="1">
                <a:off x="6045120" y="4725720"/>
                <a:ext cx="107640" cy="320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 txBox="1"/>
              <p:nvPr/>
            </p:nvSpPr>
            <p:spPr>
              <a:xfrm rot="10800000">
                <a:off x="6044760" y="4725720"/>
                <a:ext cx="107640" cy="3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113160" y="4621320"/>
              <a:ext cx="42120" cy="57600"/>
              <a:chOff x="6113160" y="4621320"/>
              <a:chExt cx="42120" cy="57600"/>
            </a:xfrm>
          </p:grpSpPr>
          <p:sp>
            <p:nvSpPr>
              <p:cNvPr id="402" name="直接连接符 221317"/>
              <p:cNvSpPr/>
              <p:nvPr/>
            </p:nvSpPr>
            <p:spPr>
              <a:xfrm flipH="1" flipV="1">
                <a:off x="6113160" y="4621320"/>
                <a:ext cx="42120" cy="576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 txBox="1"/>
              <p:nvPr/>
            </p:nvSpPr>
            <p:spPr>
              <a:xfrm rot="10800000">
                <a:off x="6113160" y="4621320"/>
                <a:ext cx="42120" cy="57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椭圆 221318"/>
            <p:cNvSpPr/>
            <p:nvPr/>
          </p:nvSpPr>
          <p:spPr>
            <a:xfrm>
              <a:off x="6262920" y="4628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椭圆 221319"/>
            <p:cNvSpPr/>
            <p:nvPr/>
          </p:nvSpPr>
          <p:spPr>
            <a:xfrm>
              <a:off x="6192720" y="481464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6192000" y="4744080"/>
              <a:ext cx="17640" cy="82800"/>
              <a:chOff x="6192000" y="4744080"/>
              <a:chExt cx="17640" cy="82800"/>
            </a:xfrm>
          </p:grpSpPr>
          <p:sp>
            <p:nvSpPr>
              <p:cNvPr id="407" name="直接连接符 221320"/>
              <p:cNvSpPr/>
              <p:nvPr/>
            </p:nvSpPr>
            <p:spPr>
              <a:xfrm>
                <a:off x="6192000" y="4744080"/>
                <a:ext cx="17640" cy="828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 txBox="1"/>
              <p:nvPr/>
            </p:nvSpPr>
            <p:spPr>
              <a:xfrm>
                <a:off x="6192000" y="4744080"/>
                <a:ext cx="17640" cy="82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6213600" y="4649760"/>
              <a:ext cx="53280" cy="46440"/>
              <a:chOff x="6213600" y="4649760"/>
              <a:chExt cx="53280" cy="46440"/>
            </a:xfrm>
          </p:grpSpPr>
          <p:sp>
            <p:nvSpPr>
              <p:cNvPr id="410" name="直接连接符 221321"/>
              <p:cNvSpPr/>
              <p:nvPr/>
            </p:nvSpPr>
            <p:spPr>
              <a:xfrm flipV="1">
                <a:off x="6213600" y="4649760"/>
                <a:ext cx="53280" cy="4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 txBox="1"/>
              <p:nvPr/>
            </p:nvSpPr>
            <p:spPr>
              <a:xfrm rot="10800000">
                <a:off x="6213600" y="4649760"/>
                <a:ext cx="53280" cy="4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椭圆 221322"/>
            <p:cNvSpPr/>
            <p:nvPr/>
          </p:nvSpPr>
          <p:spPr>
            <a:xfrm>
              <a:off x="5897520" y="4672080"/>
              <a:ext cx="5004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5927040" y="4714920"/>
              <a:ext cx="42840" cy="43200"/>
              <a:chOff x="5927040" y="4714920"/>
              <a:chExt cx="42840" cy="43200"/>
            </a:xfrm>
          </p:grpSpPr>
          <p:sp>
            <p:nvSpPr>
              <p:cNvPr id="414" name="直接连接符 221323"/>
              <p:cNvSpPr/>
              <p:nvPr/>
            </p:nvSpPr>
            <p:spPr>
              <a:xfrm>
                <a:off x="5927040" y="4714920"/>
                <a:ext cx="42840" cy="4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 txBox="1"/>
              <p:nvPr/>
            </p:nvSpPr>
            <p:spPr>
              <a:xfrm>
                <a:off x="5927040" y="4714920"/>
                <a:ext cx="42840" cy="4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6129000" y="4853880"/>
              <a:ext cx="78480" cy="21960"/>
              <a:chOff x="6129000" y="4853880"/>
              <a:chExt cx="78480" cy="21960"/>
            </a:xfrm>
          </p:grpSpPr>
          <p:sp>
            <p:nvSpPr>
              <p:cNvPr id="417" name="直接连接符 221324"/>
              <p:cNvSpPr/>
              <p:nvPr/>
            </p:nvSpPr>
            <p:spPr>
              <a:xfrm flipH="1">
                <a:off x="6129000" y="4853880"/>
                <a:ext cx="78120" cy="219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 txBox="1"/>
              <p:nvPr/>
            </p:nvSpPr>
            <p:spPr>
              <a:xfrm>
                <a:off x="6129360" y="4853880"/>
                <a:ext cx="78120" cy="21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椭圆 221325"/>
            <p:cNvSpPr/>
            <p:nvPr/>
          </p:nvSpPr>
          <p:spPr>
            <a:xfrm>
              <a:off x="6094080" y="48556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6238440" y="4863240"/>
              <a:ext cx="17640" cy="21600"/>
              <a:chOff x="6238440" y="4863240"/>
              <a:chExt cx="17640" cy="21600"/>
            </a:xfrm>
          </p:grpSpPr>
          <p:sp>
            <p:nvSpPr>
              <p:cNvPr id="421" name="直接连接符 221326"/>
              <p:cNvSpPr/>
              <p:nvPr/>
            </p:nvSpPr>
            <p:spPr>
              <a:xfrm>
                <a:off x="6238440" y="4863240"/>
                <a:ext cx="17640" cy="216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 txBox="1"/>
              <p:nvPr/>
            </p:nvSpPr>
            <p:spPr>
              <a:xfrm>
                <a:off x="6238440" y="4863240"/>
                <a:ext cx="17640" cy="2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椭圆 221327"/>
            <p:cNvSpPr/>
            <p:nvPr/>
          </p:nvSpPr>
          <p:spPr>
            <a:xfrm>
              <a:off x="6246360" y="4889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组合 221328"/>
          <p:cNvGrpSpPr/>
          <p:nvPr/>
        </p:nvGrpSpPr>
        <p:grpSpPr>
          <a:xfrm>
            <a:off x="2043000" y="4442400"/>
            <a:ext cx="235800" cy="574560"/>
            <a:chOff x="2043000" y="4442400"/>
            <a:chExt cx="235800" cy="574560"/>
          </a:xfrm>
        </p:grpSpPr>
        <p:sp>
          <p:nvSpPr>
            <p:cNvPr id="425" name="任意多边形 221329"/>
            <p:cNvSpPr/>
            <p:nvPr/>
          </p:nvSpPr>
          <p:spPr>
            <a:xfrm rot="21490800">
              <a:off x="2048760" y="4729320"/>
              <a:ext cx="225360" cy="28368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任意多边形 221330"/>
            <p:cNvSpPr/>
            <p:nvPr/>
          </p:nvSpPr>
          <p:spPr>
            <a:xfrm rot="21490800">
              <a:off x="2043360" y="4876920"/>
              <a:ext cx="231120" cy="295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任意多边形 221331"/>
            <p:cNvSpPr/>
            <p:nvPr/>
          </p:nvSpPr>
          <p:spPr>
            <a:xfrm rot="21490800">
              <a:off x="2097360" y="4579200"/>
              <a:ext cx="107280" cy="31500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2094840" y="4650480"/>
              <a:ext cx="49320" cy="1800"/>
              <a:chOff x="2094840" y="4650480"/>
              <a:chExt cx="49320" cy="1800"/>
            </a:xfrm>
          </p:grpSpPr>
          <p:sp>
            <p:nvSpPr>
              <p:cNvPr id="429" name="直接连接符 221332"/>
              <p:cNvSpPr/>
              <p:nvPr/>
            </p:nvSpPr>
            <p:spPr>
              <a:xfrm flipV="1">
                <a:off x="2094840" y="4650480"/>
                <a:ext cx="493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 txBox="1"/>
              <p:nvPr/>
            </p:nvSpPr>
            <p:spPr>
              <a:xfrm rot="21490800">
                <a:off x="2094480" y="4650840"/>
                <a:ext cx="4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096280" y="4690080"/>
              <a:ext cx="49320" cy="1800"/>
              <a:chOff x="2096280" y="4690080"/>
              <a:chExt cx="49320" cy="1800"/>
            </a:xfrm>
          </p:grpSpPr>
          <p:sp>
            <p:nvSpPr>
              <p:cNvPr id="432" name="直接连接符 221333"/>
              <p:cNvSpPr/>
              <p:nvPr/>
            </p:nvSpPr>
            <p:spPr>
              <a:xfrm flipV="1">
                <a:off x="2096280" y="4690080"/>
                <a:ext cx="493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 txBox="1"/>
              <p:nvPr/>
            </p:nvSpPr>
            <p:spPr>
              <a:xfrm rot="21490800">
                <a:off x="2095920" y="4690440"/>
                <a:ext cx="4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2097360" y="4725720"/>
              <a:ext cx="49320" cy="1800"/>
              <a:chOff x="2097360" y="4725720"/>
              <a:chExt cx="49320" cy="1800"/>
            </a:xfrm>
          </p:grpSpPr>
          <p:sp>
            <p:nvSpPr>
              <p:cNvPr id="435" name="直接连接符 221334"/>
              <p:cNvSpPr/>
              <p:nvPr/>
            </p:nvSpPr>
            <p:spPr>
              <a:xfrm flipV="1">
                <a:off x="2097360" y="4725720"/>
                <a:ext cx="493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 txBox="1"/>
              <p:nvPr/>
            </p:nvSpPr>
            <p:spPr>
              <a:xfrm rot="21490800">
                <a:off x="2097000" y="4726080"/>
                <a:ext cx="4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2098440" y="4763880"/>
              <a:ext cx="49320" cy="1800"/>
              <a:chOff x="2098440" y="4763880"/>
              <a:chExt cx="49320" cy="1800"/>
            </a:xfrm>
          </p:grpSpPr>
          <p:sp>
            <p:nvSpPr>
              <p:cNvPr id="438" name="直接连接符 221335"/>
              <p:cNvSpPr/>
              <p:nvPr/>
            </p:nvSpPr>
            <p:spPr>
              <a:xfrm flipV="1">
                <a:off x="2098440" y="4763880"/>
                <a:ext cx="493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 txBox="1"/>
              <p:nvPr/>
            </p:nvSpPr>
            <p:spPr>
              <a:xfrm rot="21490800">
                <a:off x="2098080" y="4764240"/>
                <a:ext cx="4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2099520" y="4798080"/>
              <a:ext cx="49320" cy="1800"/>
              <a:chOff x="2099520" y="4798080"/>
              <a:chExt cx="49320" cy="1800"/>
            </a:xfrm>
          </p:grpSpPr>
          <p:sp>
            <p:nvSpPr>
              <p:cNvPr id="441" name="直接连接符 221336"/>
              <p:cNvSpPr/>
              <p:nvPr/>
            </p:nvSpPr>
            <p:spPr>
              <a:xfrm flipV="1">
                <a:off x="2099520" y="4798080"/>
                <a:ext cx="493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 txBox="1"/>
              <p:nvPr/>
            </p:nvSpPr>
            <p:spPr>
              <a:xfrm rot="21490800">
                <a:off x="2099160" y="4798440"/>
                <a:ext cx="4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102040" y="4812840"/>
              <a:ext cx="26280" cy="1440"/>
              <a:chOff x="2102040" y="4812840"/>
              <a:chExt cx="26280" cy="1440"/>
            </a:xfrm>
          </p:grpSpPr>
          <p:sp>
            <p:nvSpPr>
              <p:cNvPr id="444" name="直接连接符 221337"/>
              <p:cNvSpPr/>
              <p:nvPr/>
            </p:nvSpPr>
            <p:spPr>
              <a:xfrm flipV="1">
                <a:off x="2102040" y="4812840"/>
                <a:ext cx="2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 txBox="1"/>
              <p:nvPr/>
            </p:nvSpPr>
            <p:spPr>
              <a:xfrm rot="21490800">
                <a:off x="2101680" y="481320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2102040" y="4821120"/>
              <a:ext cx="26280" cy="1440"/>
              <a:chOff x="2102040" y="4821120"/>
              <a:chExt cx="26280" cy="1440"/>
            </a:xfrm>
          </p:grpSpPr>
          <p:sp>
            <p:nvSpPr>
              <p:cNvPr id="447" name="直接连接符 221338"/>
              <p:cNvSpPr/>
              <p:nvPr/>
            </p:nvSpPr>
            <p:spPr>
              <a:xfrm flipV="1">
                <a:off x="2102040" y="4821120"/>
                <a:ext cx="2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 txBox="1"/>
              <p:nvPr/>
            </p:nvSpPr>
            <p:spPr>
              <a:xfrm rot="21490800">
                <a:off x="2101680" y="482148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2102400" y="4832640"/>
              <a:ext cx="26280" cy="1440"/>
              <a:chOff x="2102400" y="4832640"/>
              <a:chExt cx="26280" cy="1440"/>
            </a:xfrm>
          </p:grpSpPr>
          <p:sp>
            <p:nvSpPr>
              <p:cNvPr id="450" name="直接连接符 221339"/>
              <p:cNvSpPr/>
              <p:nvPr/>
            </p:nvSpPr>
            <p:spPr>
              <a:xfrm flipV="1">
                <a:off x="2102400" y="4832640"/>
                <a:ext cx="2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 txBox="1"/>
              <p:nvPr/>
            </p:nvSpPr>
            <p:spPr>
              <a:xfrm rot="21490800">
                <a:off x="2102040" y="483300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100600" y="4771440"/>
              <a:ext cx="26280" cy="1440"/>
              <a:chOff x="2100600" y="4771440"/>
              <a:chExt cx="26280" cy="1440"/>
            </a:xfrm>
          </p:grpSpPr>
          <p:sp>
            <p:nvSpPr>
              <p:cNvPr id="453" name="直接连接符 221340"/>
              <p:cNvSpPr/>
              <p:nvPr/>
            </p:nvSpPr>
            <p:spPr>
              <a:xfrm flipV="1">
                <a:off x="2100600" y="4771440"/>
                <a:ext cx="2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 txBox="1"/>
              <p:nvPr/>
            </p:nvSpPr>
            <p:spPr>
              <a:xfrm rot="21490800">
                <a:off x="2100240" y="477180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2100960" y="4780080"/>
              <a:ext cx="26280" cy="1440"/>
              <a:chOff x="2100960" y="4780080"/>
              <a:chExt cx="26280" cy="1440"/>
            </a:xfrm>
          </p:grpSpPr>
          <p:sp>
            <p:nvSpPr>
              <p:cNvPr id="456" name="直接连接符 221341"/>
              <p:cNvSpPr/>
              <p:nvPr/>
            </p:nvSpPr>
            <p:spPr>
              <a:xfrm flipV="1">
                <a:off x="2100960" y="4780080"/>
                <a:ext cx="2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 txBox="1"/>
              <p:nvPr/>
            </p:nvSpPr>
            <p:spPr>
              <a:xfrm rot="21490800">
                <a:off x="2100600" y="47804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2101320" y="4791240"/>
              <a:ext cx="26280" cy="1440"/>
              <a:chOff x="2101320" y="4791240"/>
              <a:chExt cx="26280" cy="1440"/>
            </a:xfrm>
          </p:grpSpPr>
          <p:sp>
            <p:nvSpPr>
              <p:cNvPr id="459" name="直接连接符 221342"/>
              <p:cNvSpPr/>
              <p:nvPr/>
            </p:nvSpPr>
            <p:spPr>
              <a:xfrm flipV="1">
                <a:off x="2101320" y="4791240"/>
                <a:ext cx="2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 txBox="1"/>
              <p:nvPr/>
            </p:nvSpPr>
            <p:spPr>
              <a:xfrm rot="21490800">
                <a:off x="2100960" y="479160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099520" y="4733640"/>
              <a:ext cx="26280" cy="1080"/>
              <a:chOff x="2099520" y="4733640"/>
              <a:chExt cx="26280" cy="1080"/>
            </a:xfrm>
          </p:grpSpPr>
          <p:sp>
            <p:nvSpPr>
              <p:cNvPr id="462" name="直接连接符 221343"/>
              <p:cNvSpPr/>
              <p:nvPr/>
            </p:nvSpPr>
            <p:spPr>
              <a:xfrm flipV="1">
                <a:off x="2099520" y="4733640"/>
                <a:ext cx="2592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 txBox="1"/>
              <p:nvPr/>
            </p:nvSpPr>
            <p:spPr>
              <a:xfrm rot="21490800">
                <a:off x="2099160" y="47336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2099520" y="4741920"/>
              <a:ext cx="26280" cy="1080"/>
              <a:chOff x="2099520" y="4741920"/>
              <a:chExt cx="26280" cy="1080"/>
            </a:xfrm>
          </p:grpSpPr>
          <p:sp>
            <p:nvSpPr>
              <p:cNvPr id="465" name="直接连接符 221344"/>
              <p:cNvSpPr/>
              <p:nvPr/>
            </p:nvSpPr>
            <p:spPr>
              <a:xfrm flipV="1">
                <a:off x="2099520" y="474192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 txBox="1"/>
              <p:nvPr/>
            </p:nvSpPr>
            <p:spPr>
              <a:xfrm rot="21490800">
                <a:off x="2099160" y="474192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2099880" y="4753440"/>
              <a:ext cx="26280" cy="1080"/>
              <a:chOff x="2099880" y="4753440"/>
              <a:chExt cx="26280" cy="1080"/>
            </a:xfrm>
          </p:grpSpPr>
          <p:sp>
            <p:nvSpPr>
              <p:cNvPr id="468" name="直接连接符 221345"/>
              <p:cNvSpPr/>
              <p:nvPr/>
            </p:nvSpPr>
            <p:spPr>
              <a:xfrm flipV="1">
                <a:off x="2099880" y="475344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 txBox="1"/>
              <p:nvPr/>
            </p:nvSpPr>
            <p:spPr>
              <a:xfrm rot="21490800">
                <a:off x="2099520" y="47534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2098440" y="4699440"/>
              <a:ext cx="26280" cy="1080"/>
              <a:chOff x="2098440" y="4699440"/>
              <a:chExt cx="26280" cy="1080"/>
            </a:xfrm>
          </p:grpSpPr>
          <p:sp>
            <p:nvSpPr>
              <p:cNvPr id="471" name="直接连接符 221346"/>
              <p:cNvSpPr/>
              <p:nvPr/>
            </p:nvSpPr>
            <p:spPr>
              <a:xfrm flipV="1">
                <a:off x="2098440" y="4699440"/>
                <a:ext cx="2592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 txBox="1"/>
              <p:nvPr/>
            </p:nvSpPr>
            <p:spPr>
              <a:xfrm rot="21490800">
                <a:off x="2098080" y="46994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2098440" y="4708080"/>
              <a:ext cx="26280" cy="1080"/>
              <a:chOff x="2098440" y="4708080"/>
              <a:chExt cx="26280" cy="1080"/>
            </a:xfrm>
          </p:grpSpPr>
          <p:sp>
            <p:nvSpPr>
              <p:cNvPr id="474" name="直接连接符 221347"/>
              <p:cNvSpPr/>
              <p:nvPr/>
            </p:nvSpPr>
            <p:spPr>
              <a:xfrm flipV="1">
                <a:off x="2098440" y="470808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 txBox="1"/>
              <p:nvPr/>
            </p:nvSpPr>
            <p:spPr>
              <a:xfrm rot="21490800">
                <a:off x="2098080" y="470808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2098800" y="4719240"/>
              <a:ext cx="26280" cy="1080"/>
              <a:chOff x="2098800" y="4719240"/>
              <a:chExt cx="26280" cy="1080"/>
            </a:xfrm>
          </p:grpSpPr>
          <p:sp>
            <p:nvSpPr>
              <p:cNvPr id="477" name="直接连接符 221348"/>
              <p:cNvSpPr/>
              <p:nvPr/>
            </p:nvSpPr>
            <p:spPr>
              <a:xfrm flipV="1">
                <a:off x="2098800" y="471924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 txBox="1"/>
              <p:nvPr/>
            </p:nvSpPr>
            <p:spPr>
              <a:xfrm rot="21490800">
                <a:off x="2098440" y="47192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2097000" y="4659840"/>
              <a:ext cx="26280" cy="1080"/>
              <a:chOff x="2097000" y="4659840"/>
              <a:chExt cx="26280" cy="1080"/>
            </a:xfrm>
          </p:grpSpPr>
          <p:sp>
            <p:nvSpPr>
              <p:cNvPr id="480" name="直接连接符 221349"/>
              <p:cNvSpPr/>
              <p:nvPr/>
            </p:nvSpPr>
            <p:spPr>
              <a:xfrm flipV="1">
                <a:off x="2097000" y="465984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 txBox="1"/>
              <p:nvPr/>
            </p:nvSpPr>
            <p:spPr>
              <a:xfrm rot="21490800">
                <a:off x="2096640" y="46598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2097360" y="4668120"/>
              <a:ext cx="26280" cy="1080"/>
              <a:chOff x="2097360" y="4668120"/>
              <a:chExt cx="26280" cy="1080"/>
            </a:xfrm>
          </p:grpSpPr>
          <p:sp>
            <p:nvSpPr>
              <p:cNvPr id="483" name="直接连接符 221350"/>
              <p:cNvSpPr/>
              <p:nvPr/>
            </p:nvSpPr>
            <p:spPr>
              <a:xfrm flipV="1">
                <a:off x="2097360" y="466812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 txBox="1"/>
              <p:nvPr/>
            </p:nvSpPr>
            <p:spPr>
              <a:xfrm rot="21490800">
                <a:off x="2097000" y="466812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2097720" y="4679640"/>
              <a:ext cx="26280" cy="1080"/>
              <a:chOff x="2097720" y="4679640"/>
              <a:chExt cx="26280" cy="1080"/>
            </a:xfrm>
          </p:grpSpPr>
          <p:sp>
            <p:nvSpPr>
              <p:cNvPr id="486" name="直接连接符 221351"/>
              <p:cNvSpPr/>
              <p:nvPr/>
            </p:nvSpPr>
            <p:spPr>
              <a:xfrm flipV="1">
                <a:off x="2097720" y="467964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 txBox="1"/>
              <p:nvPr/>
            </p:nvSpPr>
            <p:spPr>
              <a:xfrm rot="21490800">
                <a:off x="2097360" y="46796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2132640" y="4442400"/>
              <a:ext cx="5760" cy="137520"/>
              <a:chOff x="2132640" y="4442400"/>
              <a:chExt cx="5760" cy="137520"/>
            </a:xfrm>
          </p:grpSpPr>
          <p:sp>
            <p:nvSpPr>
              <p:cNvPr id="489" name="直接连接符 221352"/>
              <p:cNvSpPr/>
              <p:nvPr/>
            </p:nvSpPr>
            <p:spPr>
              <a:xfrm>
                <a:off x="2132640" y="4442400"/>
                <a:ext cx="5760" cy="13716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 txBox="1"/>
              <p:nvPr/>
            </p:nvSpPr>
            <p:spPr>
              <a:xfrm rot="21490800">
                <a:off x="2134800" y="4442040"/>
                <a:ext cx="1440" cy="13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2125080" y="4586040"/>
              <a:ext cx="29880" cy="1440"/>
              <a:chOff x="2125080" y="4586040"/>
              <a:chExt cx="29880" cy="1440"/>
            </a:xfrm>
          </p:grpSpPr>
          <p:sp>
            <p:nvSpPr>
              <p:cNvPr id="492" name="直接连接符 221353"/>
              <p:cNvSpPr/>
              <p:nvPr/>
            </p:nvSpPr>
            <p:spPr>
              <a:xfrm flipV="1">
                <a:off x="2125080" y="4586400"/>
                <a:ext cx="29880" cy="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 txBox="1"/>
              <p:nvPr/>
            </p:nvSpPr>
            <p:spPr>
              <a:xfrm rot="21490800">
                <a:off x="2124720" y="4586400"/>
                <a:ext cx="2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4" name="组合 221354"/>
          <p:cNvGrpSpPr/>
          <p:nvPr/>
        </p:nvGrpSpPr>
        <p:grpSpPr>
          <a:xfrm>
            <a:off x="6678360" y="4484880"/>
            <a:ext cx="219600" cy="539640"/>
            <a:chOff x="6678360" y="4484880"/>
            <a:chExt cx="219600" cy="539640"/>
          </a:xfrm>
        </p:grpSpPr>
        <p:sp>
          <p:nvSpPr>
            <p:cNvPr id="495" name="任意多边形 221355"/>
            <p:cNvSpPr/>
            <p:nvPr/>
          </p:nvSpPr>
          <p:spPr>
            <a:xfrm rot="21490800">
              <a:off x="6683400" y="4754520"/>
              <a:ext cx="210240" cy="26640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任意多边形 221356"/>
            <p:cNvSpPr/>
            <p:nvPr/>
          </p:nvSpPr>
          <p:spPr>
            <a:xfrm rot="21490800">
              <a:off x="6678720" y="4893120"/>
              <a:ext cx="215280" cy="277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任意多边形 221357"/>
            <p:cNvSpPr/>
            <p:nvPr/>
          </p:nvSpPr>
          <p:spPr>
            <a:xfrm rot="21490800">
              <a:off x="6728760" y="4613760"/>
              <a:ext cx="100080" cy="29556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6726600" y="4680720"/>
              <a:ext cx="45720" cy="1800"/>
              <a:chOff x="6726600" y="4680720"/>
              <a:chExt cx="45720" cy="1800"/>
            </a:xfrm>
          </p:grpSpPr>
          <p:sp>
            <p:nvSpPr>
              <p:cNvPr id="499" name="直接连接符 221358"/>
              <p:cNvSpPr/>
              <p:nvPr/>
            </p:nvSpPr>
            <p:spPr>
              <a:xfrm flipV="1">
                <a:off x="6726600" y="4680720"/>
                <a:ext cx="457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 txBox="1"/>
              <p:nvPr/>
            </p:nvSpPr>
            <p:spPr>
              <a:xfrm rot="21490800">
                <a:off x="6726240" y="4681080"/>
                <a:ext cx="45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6727680" y="4717800"/>
              <a:ext cx="45720" cy="1800"/>
              <a:chOff x="6727680" y="4717800"/>
              <a:chExt cx="45720" cy="1800"/>
            </a:xfrm>
          </p:grpSpPr>
          <p:sp>
            <p:nvSpPr>
              <p:cNvPr id="502" name="直接连接符 221359"/>
              <p:cNvSpPr/>
              <p:nvPr/>
            </p:nvSpPr>
            <p:spPr>
              <a:xfrm flipV="1">
                <a:off x="6727680" y="4717800"/>
                <a:ext cx="457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 txBox="1"/>
              <p:nvPr/>
            </p:nvSpPr>
            <p:spPr>
              <a:xfrm rot="21490800">
                <a:off x="6727320" y="4718160"/>
                <a:ext cx="45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728760" y="4751280"/>
              <a:ext cx="45720" cy="1800"/>
              <a:chOff x="6728760" y="4751280"/>
              <a:chExt cx="45720" cy="1800"/>
            </a:xfrm>
          </p:grpSpPr>
          <p:sp>
            <p:nvSpPr>
              <p:cNvPr id="505" name="直接连接符 221360"/>
              <p:cNvSpPr/>
              <p:nvPr/>
            </p:nvSpPr>
            <p:spPr>
              <a:xfrm flipV="1">
                <a:off x="6728760" y="4751280"/>
                <a:ext cx="457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 txBox="1"/>
              <p:nvPr/>
            </p:nvSpPr>
            <p:spPr>
              <a:xfrm rot="21490800">
                <a:off x="6728400" y="4751640"/>
                <a:ext cx="45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6729840" y="4787280"/>
              <a:ext cx="45720" cy="1800"/>
              <a:chOff x="6729840" y="4787280"/>
              <a:chExt cx="45720" cy="1800"/>
            </a:xfrm>
          </p:grpSpPr>
          <p:sp>
            <p:nvSpPr>
              <p:cNvPr id="508" name="直接连接符 221361"/>
              <p:cNvSpPr/>
              <p:nvPr/>
            </p:nvSpPr>
            <p:spPr>
              <a:xfrm flipV="1">
                <a:off x="6729840" y="4787280"/>
                <a:ext cx="457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 txBox="1"/>
              <p:nvPr/>
            </p:nvSpPr>
            <p:spPr>
              <a:xfrm rot="21490800">
                <a:off x="6729480" y="4787640"/>
                <a:ext cx="45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6730920" y="4819320"/>
              <a:ext cx="45720" cy="1800"/>
              <a:chOff x="6730920" y="4819320"/>
              <a:chExt cx="45720" cy="1800"/>
            </a:xfrm>
          </p:grpSpPr>
          <p:sp>
            <p:nvSpPr>
              <p:cNvPr id="511" name="直接连接符 221362"/>
              <p:cNvSpPr/>
              <p:nvPr/>
            </p:nvSpPr>
            <p:spPr>
              <a:xfrm flipV="1">
                <a:off x="6730920" y="4819320"/>
                <a:ext cx="457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 rot="21490800">
                <a:off x="6730560" y="4819680"/>
                <a:ext cx="45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6733080" y="4833000"/>
              <a:ext cx="24480" cy="1080"/>
              <a:chOff x="6733080" y="4833000"/>
              <a:chExt cx="24480" cy="1080"/>
            </a:xfrm>
          </p:grpSpPr>
          <p:sp>
            <p:nvSpPr>
              <p:cNvPr id="514" name="直接连接符 221363"/>
              <p:cNvSpPr/>
              <p:nvPr/>
            </p:nvSpPr>
            <p:spPr>
              <a:xfrm flipV="1">
                <a:off x="6733080" y="483300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 txBox="1"/>
              <p:nvPr/>
            </p:nvSpPr>
            <p:spPr>
              <a:xfrm rot="21490800">
                <a:off x="6732720" y="483300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6733440" y="4840920"/>
              <a:ext cx="24480" cy="1080"/>
              <a:chOff x="6733440" y="4840920"/>
              <a:chExt cx="24480" cy="1080"/>
            </a:xfrm>
          </p:grpSpPr>
          <p:sp>
            <p:nvSpPr>
              <p:cNvPr id="517" name="直接连接符 221364"/>
              <p:cNvSpPr/>
              <p:nvPr/>
            </p:nvSpPr>
            <p:spPr>
              <a:xfrm flipV="1">
                <a:off x="6733440" y="484092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 txBox="1"/>
              <p:nvPr/>
            </p:nvSpPr>
            <p:spPr>
              <a:xfrm rot="21490800">
                <a:off x="6733080" y="484092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6733800" y="4851360"/>
              <a:ext cx="24480" cy="1080"/>
              <a:chOff x="6733800" y="4851360"/>
              <a:chExt cx="24480" cy="1080"/>
            </a:xfrm>
          </p:grpSpPr>
          <p:sp>
            <p:nvSpPr>
              <p:cNvPr id="520" name="直接连接符 221365"/>
              <p:cNvSpPr/>
              <p:nvPr/>
            </p:nvSpPr>
            <p:spPr>
              <a:xfrm flipV="1">
                <a:off x="6733800" y="485136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 txBox="1"/>
              <p:nvPr/>
            </p:nvSpPr>
            <p:spPr>
              <a:xfrm rot="21490800">
                <a:off x="6733440" y="485136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732000" y="4794120"/>
              <a:ext cx="24480" cy="1080"/>
              <a:chOff x="6732000" y="4794120"/>
              <a:chExt cx="24480" cy="1080"/>
            </a:xfrm>
          </p:grpSpPr>
          <p:sp>
            <p:nvSpPr>
              <p:cNvPr id="523" name="直接连接符 221366"/>
              <p:cNvSpPr/>
              <p:nvPr/>
            </p:nvSpPr>
            <p:spPr>
              <a:xfrm flipV="1">
                <a:off x="6732000" y="479412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 txBox="1"/>
              <p:nvPr/>
            </p:nvSpPr>
            <p:spPr>
              <a:xfrm rot="21490800">
                <a:off x="6731640" y="479412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6732000" y="4802400"/>
              <a:ext cx="24480" cy="1080"/>
              <a:chOff x="6732000" y="4802400"/>
              <a:chExt cx="24480" cy="1080"/>
            </a:xfrm>
          </p:grpSpPr>
          <p:sp>
            <p:nvSpPr>
              <p:cNvPr id="526" name="直接连接符 221367"/>
              <p:cNvSpPr/>
              <p:nvPr/>
            </p:nvSpPr>
            <p:spPr>
              <a:xfrm flipV="1">
                <a:off x="6732000" y="480240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 txBox="1"/>
              <p:nvPr/>
            </p:nvSpPr>
            <p:spPr>
              <a:xfrm rot="21490800">
                <a:off x="6731640" y="480240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6732360" y="4812840"/>
              <a:ext cx="24480" cy="1080"/>
              <a:chOff x="6732360" y="4812840"/>
              <a:chExt cx="24480" cy="1080"/>
            </a:xfrm>
          </p:grpSpPr>
          <p:sp>
            <p:nvSpPr>
              <p:cNvPr id="529" name="直接连接符 221368"/>
              <p:cNvSpPr/>
              <p:nvPr/>
            </p:nvSpPr>
            <p:spPr>
              <a:xfrm flipV="1">
                <a:off x="6732360" y="481284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 txBox="1"/>
              <p:nvPr/>
            </p:nvSpPr>
            <p:spPr>
              <a:xfrm rot="21490800">
                <a:off x="6732000" y="481284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6730560" y="4758120"/>
              <a:ext cx="24480" cy="1440"/>
              <a:chOff x="6730560" y="4758120"/>
              <a:chExt cx="24480" cy="1440"/>
            </a:xfrm>
          </p:grpSpPr>
          <p:sp>
            <p:nvSpPr>
              <p:cNvPr id="532" name="直接连接符 221369"/>
              <p:cNvSpPr/>
              <p:nvPr/>
            </p:nvSpPr>
            <p:spPr>
              <a:xfrm flipV="1">
                <a:off x="6730560" y="475812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 txBox="1"/>
              <p:nvPr/>
            </p:nvSpPr>
            <p:spPr>
              <a:xfrm rot="21490800">
                <a:off x="6730200" y="475848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6730920" y="4766400"/>
              <a:ext cx="24480" cy="1080"/>
              <a:chOff x="6730920" y="4766400"/>
              <a:chExt cx="24480" cy="1080"/>
            </a:xfrm>
          </p:grpSpPr>
          <p:sp>
            <p:nvSpPr>
              <p:cNvPr id="535" name="直接连接符 221370"/>
              <p:cNvSpPr/>
              <p:nvPr/>
            </p:nvSpPr>
            <p:spPr>
              <a:xfrm flipV="1">
                <a:off x="6730920" y="476640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 txBox="1"/>
              <p:nvPr/>
            </p:nvSpPr>
            <p:spPr>
              <a:xfrm rot="21490800">
                <a:off x="6730560" y="476640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731280" y="4776840"/>
              <a:ext cx="24480" cy="1080"/>
              <a:chOff x="6731280" y="4776840"/>
              <a:chExt cx="24480" cy="1080"/>
            </a:xfrm>
          </p:grpSpPr>
          <p:sp>
            <p:nvSpPr>
              <p:cNvPr id="538" name="直接连接符 221371"/>
              <p:cNvSpPr/>
              <p:nvPr/>
            </p:nvSpPr>
            <p:spPr>
              <a:xfrm flipV="1">
                <a:off x="6731280" y="477684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 txBox="1"/>
              <p:nvPr/>
            </p:nvSpPr>
            <p:spPr>
              <a:xfrm rot="21490800">
                <a:off x="6730920" y="477684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6729840" y="4726440"/>
              <a:ext cx="24480" cy="1440"/>
              <a:chOff x="6729840" y="4726440"/>
              <a:chExt cx="24480" cy="1440"/>
            </a:xfrm>
          </p:grpSpPr>
          <p:sp>
            <p:nvSpPr>
              <p:cNvPr id="541" name="直接连接符 221372"/>
              <p:cNvSpPr/>
              <p:nvPr/>
            </p:nvSpPr>
            <p:spPr>
              <a:xfrm flipV="1">
                <a:off x="6729840" y="472644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 txBox="1"/>
              <p:nvPr/>
            </p:nvSpPr>
            <p:spPr>
              <a:xfrm rot="21490800">
                <a:off x="6729480" y="472680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6729840" y="4734360"/>
              <a:ext cx="24480" cy="1440"/>
              <a:chOff x="6729840" y="4734360"/>
              <a:chExt cx="24480" cy="1440"/>
            </a:xfrm>
          </p:grpSpPr>
          <p:sp>
            <p:nvSpPr>
              <p:cNvPr id="544" name="直接连接符 221373"/>
              <p:cNvSpPr/>
              <p:nvPr/>
            </p:nvSpPr>
            <p:spPr>
              <a:xfrm flipV="1">
                <a:off x="6729840" y="473436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 txBox="1"/>
              <p:nvPr/>
            </p:nvSpPr>
            <p:spPr>
              <a:xfrm rot="21490800">
                <a:off x="6729480" y="473472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6730200" y="4744800"/>
              <a:ext cx="24480" cy="1440"/>
              <a:chOff x="6730200" y="4744800"/>
              <a:chExt cx="24480" cy="1440"/>
            </a:xfrm>
          </p:grpSpPr>
          <p:sp>
            <p:nvSpPr>
              <p:cNvPr id="547" name="直接连接符 221374"/>
              <p:cNvSpPr/>
              <p:nvPr/>
            </p:nvSpPr>
            <p:spPr>
              <a:xfrm flipV="1">
                <a:off x="6730200" y="474480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 txBox="1"/>
              <p:nvPr/>
            </p:nvSpPr>
            <p:spPr>
              <a:xfrm rot="21490800">
                <a:off x="6729840" y="474516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6728400" y="4689000"/>
              <a:ext cx="24480" cy="1440"/>
              <a:chOff x="6728400" y="4689000"/>
              <a:chExt cx="24480" cy="1440"/>
            </a:xfrm>
          </p:grpSpPr>
          <p:sp>
            <p:nvSpPr>
              <p:cNvPr id="550" name="直接连接符 221375"/>
              <p:cNvSpPr/>
              <p:nvPr/>
            </p:nvSpPr>
            <p:spPr>
              <a:xfrm flipV="1">
                <a:off x="6728400" y="468900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 txBox="1"/>
              <p:nvPr/>
            </p:nvSpPr>
            <p:spPr>
              <a:xfrm rot="21490800">
                <a:off x="6728040" y="468936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6728760" y="4696920"/>
              <a:ext cx="24480" cy="1440"/>
              <a:chOff x="6728760" y="4696920"/>
              <a:chExt cx="24480" cy="1440"/>
            </a:xfrm>
          </p:grpSpPr>
          <p:sp>
            <p:nvSpPr>
              <p:cNvPr id="553" name="直接连接符 221376"/>
              <p:cNvSpPr/>
              <p:nvPr/>
            </p:nvSpPr>
            <p:spPr>
              <a:xfrm flipV="1">
                <a:off x="6728760" y="469692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 txBox="1"/>
              <p:nvPr/>
            </p:nvSpPr>
            <p:spPr>
              <a:xfrm rot="21490800">
                <a:off x="6728400" y="469728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6729120" y="4707720"/>
              <a:ext cx="24480" cy="1440"/>
              <a:chOff x="6729120" y="4707720"/>
              <a:chExt cx="24480" cy="1440"/>
            </a:xfrm>
          </p:grpSpPr>
          <p:sp>
            <p:nvSpPr>
              <p:cNvPr id="556" name="直接连接符 221377"/>
              <p:cNvSpPr/>
              <p:nvPr/>
            </p:nvSpPr>
            <p:spPr>
              <a:xfrm flipV="1">
                <a:off x="6729120" y="470772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 txBox="1"/>
              <p:nvPr/>
            </p:nvSpPr>
            <p:spPr>
              <a:xfrm rot="21490800">
                <a:off x="6728760" y="470808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6761160" y="4484880"/>
              <a:ext cx="5760" cy="129240"/>
              <a:chOff x="6761160" y="4484880"/>
              <a:chExt cx="5760" cy="129240"/>
            </a:xfrm>
          </p:grpSpPr>
          <p:sp>
            <p:nvSpPr>
              <p:cNvPr id="559" name="直接连接符 221378"/>
              <p:cNvSpPr/>
              <p:nvPr/>
            </p:nvSpPr>
            <p:spPr>
              <a:xfrm>
                <a:off x="6761160" y="4484880"/>
                <a:ext cx="5760" cy="129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 txBox="1"/>
              <p:nvPr/>
            </p:nvSpPr>
            <p:spPr>
              <a:xfrm rot="21490800">
                <a:off x="6762960" y="4484520"/>
                <a:ext cx="1440" cy="129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6753960" y="4620240"/>
              <a:ext cx="27720" cy="1080"/>
              <a:chOff x="6753960" y="4620240"/>
              <a:chExt cx="27720" cy="1080"/>
            </a:xfrm>
          </p:grpSpPr>
          <p:sp>
            <p:nvSpPr>
              <p:cNvPr id="562" name="直接连接符 221379"/>
              <p:cNvSpPr/>
              <p:nvPr/>
            </p:nvSpPr>
            <p:spPr>
              <a:xfrm flipV="1">
                <a:off x="6753960" y="4620240"/>
                <a:ext cx="27720" cy="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 txBox="1"/>
              <p:nvPr/>
            </p:nvSpPr>
            <p:spPr>
              <a:xfrm rot="21490800">
                <a:off x="6753600" y="4620240"/>
                <a:ext cx="27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4" name="组合 221380"/>
          <p:cNvGrpSpPr/>
          <p:nvPr/>
        </p:nvGrpSpPr>
        <p:grpSpPr>
          <a:xfrm>
            <a:off x="3153960" y="4548240"/>
            <a:ext cx="611280" cy="485280"/>
            <a:chOff x="3153960" y="4548240"/>
            <a:chExt cx="611280" cy="485280"/>
          </a:xfrm>
        </p:grpSpPr>
        <p:sp>
          <p:nvSpPr>
            <p:cNvPr id="565" name="任意多边形 221381"/>
            <p:cNvSpPr/>
            <p:nvPr/>
          </p:nvSpPr>
          <p:spPr>
            <a:xfrm flipH="1">
              <a:off x="3153600" y="4646880"/>
              <a:ext cx="307800" cy="38664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椭圆 221382"/>
            <p:cNvSpPr/>
            <p:nvPr/>
          </p:nvSpPr>
          <p:spPr>
            <a:xfrm flipH="1">
              <a:off x="3265920" y="4548240"/>
              <a:ext cx="82080" cy="1015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任意多边形 221383"/>
            <p:cNvSpPr/>
            <p:nvPr/>
          </p:nvSpPr>
          <p:spPr>
            <a:xfrm>
              <a:off x="3471120" y="4654080"/>
              <a:ext cx="294120" cy="37116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椭圆 221384"/>
            <p:cNvSpPr/>
            <p:nvPr/>
          </p:nvSpPr>
          <p:spPr>
            <a:xfrm>
              <a:off x="3580560" y="4560840"/>
              <a:ext cx="77760" cy="95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221385"/>
          <p:cNvGrpSpPr/>
          <p:nvPr/>
        </p:nvGrpSpPr>
        <p:grpSpPr>
          <a:xfrm>
            <a:off x="7794720" y="4545000"/>
            <a:ext cx="621720" cy="477360"/>
            <a:chOff x="7794720" y="4545000"/>
            <a:chExt cx="621720" cy="477360"/>
          </a:xfrm>
        </p:grpSpPr>
        <p:sp>
          <p:nvSpPr>
            <p:cNvPr id="570" name="任意多边形 221386"/>
            <p:cNvSpPr/>
            <p:nvPr/>
          </p:nvSpPr>
          <p:spPr>
            <a:xfrm flipH="1">
              <a:off x="7794720" y="4642200"/>
              <a:ext cx="313200" cy="3801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椭圆 221387"/>
            <p:cNvSpPr/>
            <p:nvPr/>
          </p:nvSpPr>
          <p:spPr>
            <a:xfrm flipH="1">
              <a:off x="7908120" y="4545000"/>
              <a:ext cx="83520" cy="100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任意多边形 221388"/>
            <p:cNvSpPr/>
            <p:nvPr/>
          </p:nvSpPr>
          <p:spPr>
            <a:xfrm>
              <a:off x="8117280" y="4649040"/>
              <a:ext cx="299160" cy="36504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椭圆 221389"/>
            <p:cNvSpPr/>
            <p:nvPr/>
          </p:nvSpPr>
          <p:spPr>
            <a:xfrm>
              <a:off x="8228160" y="4557240"/>
              <a:ext cx="79200" cy="943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组合 221390"/>
          <p:cNvGrpSpPr/>
          <p:nvPr/>
        </p:nvGrpSpPr>
        <p:grpSpPr>
          <a:xfrm>
            <a:off x="2581560" y="4448160"/>
            <a:ext cx="437760" cy="577080"/>
            <a:chOff x="2581560" y="4448160"/>
            <a:chExt cx="437760" cy="577080"/>
          </a:xfrm>
        </p:grpSpPr>
        <p:grpSp>
          <p:nvGrpSpPr>
            <p:cNvPr id="575" name="组合 221391"/>
            <p:cNvGrpSpPr/>
            <p:nvPr/>
          </p:nvGrpSpPr>
          <p:grpSpPr>
            <a:xfrm>
              <a:off x="2738880" y="4448160"/>
              <a:ext cx="130680" cy="471240"/>
              <a:chOff x="2738880" y="4448160"/>
              <a:chExt cx="130680" cy="471240"/>
            </a:xfrm>
          </p:grpSpPr>
          <p:sp>
            <p:nvSpPr>
              <p:cNvPr id="576" name="任意多边形 221392"/>
              <p:cNvSpPr/>
              <p:nvPr/>
            </p:nvSpPr>
            <p:spPr>
              <a:xfrm flipH="1">
                <a:off x="277992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任意多边形 221393"/>
              <p:cNvSpPr/>
              <p:nvPr/>
            </p:nvSpPr>
            <p:spPr>
              <a:xfrm flipH="1">
                <a:off x="283140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任意多边形 221394"/>
              <p:cNvSpPr/>
              <p:nvPr/>
            </p:nvSpPr>
            <p:spPr>
              <a:xfrm flipH="1">
                <a:off x="273852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任意多边形 221395"/>
              <p:cNvSpPr/>
              <p:nvPr/>
            </p:nvSpPr>
            <p:spPr>
              <a:xfrm flipH="1">
                <a:off x="277488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任意多边形 221396"/>
              <p:cNvSpPr/>
              <p:nvPr/>
            </p:nvSpPr>
            <p:spPr>
              <a:xfrm flipH="1">
                <a:off x="274176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组合 221397"/>
            <p:cNvGrpSpPr/>
            <p:nvPr/>
          </p:nvGrpSpPr>
          <p:grpSpPr>
            <a:xfrm>
              <a:off x="2888640" y="4538160"/>
              <a:ext cx="130680" cy="471240"/>
              <a:chOff x="2888640" y="4538160"/>
              <a:chExt cx="130680" cy="471240"/>
            </a:xfrm>
          </p:grpSpPr>
          <p:sp>
            <p:nvSpPr>
              <p:cNvPr id="582" name="任意多边形 221398"/>
              <p:cNvSpPr/>
              <p:nvPr/>
            </p:nvSpPr>
            <p:spPr>
              <a:xfrm flipH="1">
                <a:off x="292968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任意多边形 221399"/>
              <p:cNvSpPr/>
              <p:nvPr/>
            </p:nvSpPr>
            <p:spPr>
              <a:xfrm flipH="1">
                <a:off x="298116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任意多边形 221400"/>
              <p:cNvSpPr/>
              <p:nvPr/>
            </p:nvSpPr>
            <p:spPr>
              <a:xfrm flipH="1">
                <a:off x="288828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任意多边形 221401"/>
              <p:cNvSpPr/>
              <p:nvPr/>
            </p:nvSpPr>
            <p:spPr>
              <a:xfrm flipH="1">
                <a:off x="292464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任意多边形 221402"/>
              <p:cNvSpPr/>
              <p:nvPr/>
            </p:nvSpPr>
            <p:spPr>
              <a:xfrm flipH="1">
                <a:off x="289152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组合 221403"/>
            <p:cNvGrpSpPr/>
            <p:nvPr/>
          </p:nvGrpSpPr>
          <p:grpSpPr>
            <a:xfrm>
              <a:off x="2581560" y="4554000"/>
              <a:ext cx="130680" cy="471240"/>
              <a:chOff x="2581560" y="4554000"/>
              <a:chExt cx="130680" cy="471240"/>
            </a:xfrm>
          </p:grpSpPr>
          <p:sp>
            <p:nvSpPr>
              <p:cNvPr id="588" name="任意多边形 221404"/>
              <p:cNvSpPr/>
              <p:nvPr/>
            </p:nvSpPr>
            <p:spPr>
              <a:xfrm flipH="1">
                <a:off x="262260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任意多边形 221405"/>
              <p:cNvSpPr/>
              <p:nvPr/>
            </p:nvSpPr>
            <p:spPr>
              <a:xfrm flipH="1">
                <a:off x="267408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任意多边形 221406"/>
              <p:cNvSpPr/>
              <p:nvPr/>
            </p:nvSpPr>
            <p:spPr>
              <a:xfrm flipH="1">
                <a:off x="258120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任意多边形 221407"/>
              <p:cNvSpPr/>
              <p:nvPr/>
            </p:nvSpPr>
            <p:spPr>
              <a:xfrm flipH="1">
                <a:off x="261756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任意多边形 221408"/>
              <p:cNvSpPr/>
              <p:nvPr/>
            </p:nvSpPr>
            <p:spPr>
              <a:xfrm flipH="1">
                <a:off x="258444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3" name="组合 221409"/>
          <p:cNvGrpSpPr/>
          <p:nvPr/>
        </p:nvGrpSpPr>
        <p:grpSpPr>
          <a:xfrm>
            <a:off x="7183800" y="4448160"/>
            <a:ext cx="437760" cy="577080"/>
            <a:chOff x="7183800" y="4448160"/>
            <a:chExt cx="437760" cy="577080"/>
          </a:xfrm>
        </p:grpSpPr>
        <p:grpSp>
          <p:nvGrpSpPr>
            <p:cNvPr id="594" name="组合 221410"/>
            <p:cNvGrpSpPr/>
            <p:nvPr/>
          </p:nvGrpSpPr>
          <p:grpSpPr>
            <a:xfrm>
              <a:off x="7341120" y="4448160"/>
              <a:ext cx="130680" cy="471240"/>
              <a:chOff x="7341120" y="4448160"/>
              <a:chExt cx="130680" cy="471240"/>
            </a:xfrm>
          </p:grpSpPr>
          <p:sp>
            <p:nvSpPr>
              <p:cNvPr id="595" name="任意多边形 221411"/>
              <p:cNvSpPr/>
              <p:nvPr/>
            </p:nvSpPr>
            <p:spPr>
              <a:xfrm flipH="1">
                <a:off x="738216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任意多边形 221412"/>
              <p:cNvSpPr/>
              <p:nvPr/>
            </p:nvSpPr>
            <p:spPr>
              <a:xfrm flipH="1">
                <a:off x="743364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任意多边形 221413"/>
              <p:cNvSpPr/>
              <p:nvPr/>
            </p:nvSpPr>
            <p:spPr>
              <a:xfrm flipH="1">
                <a:off x="734076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任意多边形 221414"/>
              <p:cNvSpPr/>
              <p:nvPr/>
            </p:nvSpPr>
            <p:spPr>
              <a:xfrm flipH="1">
                <a:off x="737712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任意多边形 221415"/>
              <p:cNvSpPr/>
              <p:nvPr/>
            </p:nvSpPr>
            <p:spPr>
              <a:xfrm flipH="1">
                <a:off x="734400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组合 221416"/>
            <p:cNvGrpSpPr/>
            <p:nvPr/>
          </p:nvGrpSpPr>
          <p:grpSpPr>
            <a:xfrm>
              <a:off x="7490880" y="4538160"/>
              <a:ext cx="130680" cy="471240"/>
              <a:chOff x="7490880" y="4538160"/>
              <a:chExt cx="130680" cy="471240"/>
            </a:xfrm>
          </p:grpSpPr>
          <p:sp>
            <p:nvSpPr>
              <p:cNvPr id="601" name="任意多边形 221417"/>
              <p:cNvSpPr/>
              <p:nvPr/>
            </p:nvSpPr>
            <p:spPr>
              <a:xfrm flipH="1">
                <a:off x="753192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任意多边形 221418"/>
              <p:cNvSpPr/>
              <p:nvPr/>
            </p:nvSpPr>
            <p:spPr>
              <a:xfrm flipH="1">
                <a:off x="758340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任意多边形 221419"/>
              <p:cNvSpPr/>
              <p:nvPr/>
            </p:nvSpPr>
            <p:spPr>
              <a:xfrm flipH="1">
                <a:off x="749052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任意多边形 221420"/>
              <p:cNvSpPr/>
              <p:nvPr/>
            </p:nvSpPr>
            <p:spPr>
              <a:xfrm flipH="1">
                <a:off x="752688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任意多边形 221421"/>
              <p:cNvSpPr/>
              <p:nvPr/>
            </p:nvSpPr>
            <p:spPr>
              <a:xfrm flipH="1">
                <a:off x="749376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组合 221422"/>
            <p:cNvGrpSpPr/>
            <p:nvPr/>
          </p:nvGrpSpPr>
          <p:grpSpPr>
            <a:xfrm>
              <a:off x="7183800" y="4554000"/>
              <a:ext cx="130680" cy="471240"/>
              <a:chOff x="7183800" y="4554000"/>
              <a:chExt cx="130680" cy="471240"/>
            </a:xfrm>
          </p:grpSpPr>
          <p:sp>
            <p:nvSpPr>
              <p:cNvPr id="607" name="任意多边形 221423"/>
              <p:cNvSpPr/>
              <p:nvPr/>
            </p:nvSpPr>
            <p:spPr>
              <a:xfrm flipH="1">
                <a:off x="722484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任意多边形 221424"/>
              <p:cNvSpPr/>
              <p:nvPr/>
            </p:nvSpPr>
            <p:spPr>
              <a:xfrm flipH="1">
                <a:off x="727632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任意多边形 221425"/>
              <p:cNvSpPr/>
              <p:nvPr/>
            </p:nvSpPr>
            <p:spPr>
              <a:xfrm flipH="1">
                <a:off x="718344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任意多边形 221426"/>
              <p:cNvSpPr/>
              <p:nvPr/>
            </p:nvSpPr>
            <p:spPr>
              <a:xfrm flipH="1">
                <a:off x="721980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任意多边形 221427"/>
              <p:cNvSpPr/>
              <p:nvPr/>
            </p:nvSpPr>
            <p:spPr>
              <a:xfrm flipH="1">
                <a:off x="718668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0:00:07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0:24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