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1CC-39A7-46E8-9E3D-DFF2D50D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4C1-DE0C-4123-A8AC-5562BEA6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06B-DC38-4020-8555-F8A14D7C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CC25-B438-4ACC-A32C-D0BD201E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D553-2E27-414B-8927-9C2672B2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2DB7-7808-4F49-BB08-5210F65E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AD59-960B-4365-BA29-F9BF1E1D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8EBA-DB3C-4935-A70F-AD643D2A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44DB-753C-48CC-95EC-070A0C0A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BD7D-CCB0-4E36-8509-6A21CC4C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346B-4CEE-4C61-A4C3-082FC14C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7BA-EE5A-4CC8-82A8-B00BFEDF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B131-866A-441B-A22A-3FE92D67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A4DA-AAF2-4340-B8E0-164582D4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F4FC-C27A-46A3-B365-9F229150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7DFF-6FEE-4A7B-9612-04F7817E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FC81-98CE-47E7-8761-1E7BAFB4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5F7-6376-4AA7-A1D9-4663D6DD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FAD-7553-4126-9756-22114307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D528-589F-450B-8DF7-352B5C6D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697-1E53-4030-8B24-3370072B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3582-9370-4333-988E-9AD0C7CB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8A31-F1B7-438F-85D9-D2614DF0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FC93-5478-433D-86AE-A3F6F58C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FA0A-251E-4F63-9025-85C8058278B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414E-B759-4056-B8DE-1988C2E92DD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45B3-DF42-4990-9F9E-8AB3809702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4436640"/>
            <a:ext cx="403236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360" y="508428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4480560" y="4960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2221560" y="4726080"/>
            <a:ext cx="55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枫叶背景企业幻灯片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8FA8-A8E5-4F0C-9E01-F3A0AD1EFA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3:14Z</dcterms:modified>
  <cp:revision>59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